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87520" y="18720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45480" y="6740640"/>
            <a:ext cx="95256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 - </a:t>
            </a:r>
            <a:fld id="{716CCEE0-26F6-46A2-82FA-B72C6F326A48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55640" y="1160640"/>
            <a:ext cx="6184800" cy="865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 DESIG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89000" y="2790720"/>
            <a:ext cx="5991120" cy="33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Design Fundamen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-Oriented Design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r Interfac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-Ti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070000" y="1019160"/>
            <a:ext cx="4896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volution of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1240" y="3162240"/>
            <a:ext cx="590400" cy="590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65160" y="4038480"/>
            <a:ext cx="590400" cy="590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017800" y="3219480"/>
            <a:ext cx="590400" cy="590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50760" y="4076640"/>
            <a:ext cx="590400" cy="590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46120" y="2552760"/>
            <a:ext cx="590400" cy="590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7600" y="3257640"/>
            <a:ext cx="342720" cy="152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274760" y="3048120"/>
            <a:ext cx="228600" cy="209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1480" y="3086280"/>
            <a:ext cx="20952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208240" y="3809880"/>
            <a:ext cx="38160" cy="266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22480" y="3733920"/>
            <a:ext cx="56880" cy="342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627280" y="3448080"/>
            <a:ext cx="380880" cy="57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55680" y="4648320"/>
            <a:ext cx="1908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036880" y="4648320"/>
            <a:ext cx="38160" cy="266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65800" y="207648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65800" y="310500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80080" y="308628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08640" y="405756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70240" y="405756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27720" y="501012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89320" y="499104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94640" y="401940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94640" y="312408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180040" y="2666880"/>
            <a:ext cx="1447920" cy="438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08880" y="2666880"/>
            <a:ext cx="1466640" cy="476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551480" y="3657600"/>
            <a:ext cx="571320" cy="419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22800" y="3676680"/>
            <a:ext cx="628560" cy="36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51480" y="4629240"/>
            <a:ext cx="0" cy="342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70440" y="4648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27960" y="2629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5520" y="3714840"/>
            <a:ext cx="0" cy="285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27960" y="3695760"/>
            <a:ext cx="146664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532400" y="4648320"/>
            <a:ext cx="1238040" cy="36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170000" y="5607000"/>
            <a:ext cx="565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227560" y="5987880"/>
            <a:ext cx="1771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ure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803240" y="1019160"/>
            <a:ext cx="5429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tructure Chart No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94240" y="211464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94240" y="314316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08160" y="312408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37080" y="409572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98680" y="409572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6160" y="504828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17760" y="502920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23080" y="405756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23080" y="316224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408480" y="2705040"/>
            <a:ext cx="1447560" cy="438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36960" y="2705040"/>
            <a:ext cx="1467000" cy="4762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779560" y="3695760"/>
            <a:ext cx="571680" cy="419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51240" y="3714840"/>
            <a:ext cx="628560" cy="36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9560" y="4667400"/>
            <a:ext cx="0" cy="342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98880" y="46864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56040" y="26668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03960" y="3753000"/>
            <a:ext cx="0" cy="285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6040" y="3733920"/>
            <a:ext cx="146700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760840" y="4686480"/>
            <a:ext cx="1238040" cy="36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198440" y="2133720"/>
            <a:ext cx="3105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198440" y="5600880"/>
            <a:ext cx="1047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89240" y="428616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389240" y="2133720"/>
            <a:ext cx="0" cy="15620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98640" y="3797280"/>
            <a:ext cx="743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p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7265880" y="3625920"/>
            <a:ext cx="781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n-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408720" y="2673360"/>
            <a:ext cx="933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n-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36840" y="577224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47040" y="48769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03720" y="626760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2455920" y="6248520"/>
            <a:ext cx="14666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084560" y="610236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5351400" y="2762280"/>
            <a:ext cx="933480" cy="57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475320" y="3772080"/>
            <a:ext cx="685800" cy="209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543120" y="1019160"/>
            <a:ext cx="1949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od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17760" y="190512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17760" y="293364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32040" y="291456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60600" y="388620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2200" y="388620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79680" y="483876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1280" y="481968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46600" y="384804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46600" y="295272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332000" y="2495520"/>
            <a:ext cx="1447560" cy="438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60840" y="2495520"/>
            <a:ext cx="1466640" cy="4762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703440" y="3486240"/>
            <a:ext cx="571320" cy="419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74760" y="3505320"/>
            <a:ext cx="628560" cy="36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03440" y="4457880"/>
            <a:ext cx="0" cy="342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22400" y="447660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79560" y="245736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27480" y="3543480"/>
            <a:ext cx="0" cy="285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560" y="3524400"/>
            <a:ext cx="146700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84360" y="4476600"/>
            <a:ext cx="1238040" cy="3621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41920" y="2895480"/>
            <a:ext cx="1104840" cy="628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6703920" y="4057560"/>
            <a:ext cx="390600" cy="314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13640" y="4371840"/>
            <a:ext cx="399960" cy="295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113600" y="4371840"/>
            <a:ext cx="390600" cy="295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7113600" y="4057560"/>
            <a:ext cx="399960" cy="2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104240" y="352440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104240" y="4676760"/>
            <a:ext cx="0" cy="523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56640" y="4067280"/>
            <a:ext cx="1104840" cy="628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94520" y="2400480"/>
            <a:ext cx="0" cy="523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70720" y="5219640"/>
            <a:ext cx="1104840" cy="2476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551640" y="2133720"/>
            <a:ext cx="1104840" cy="2476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04200" y="4362480"/>
            <a:ext cx="352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8408880" y="3819600"/>
            <a:ext cx="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7104240" y="3819600"/>
            <a:ext cx="13046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751280" y="2181240"/>
            <a:ext cx="1581120" cy="1571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70360" y="4457880"/>
            <a:ext cx="1609920" cy="1009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455840" y="5759280"/>
            <a:ext cx="1771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ure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46840" y="5797440"/>
            <a:ext cx="15937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low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2986200" y="619200"/>
            <a:ext cx="3524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odular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884160" y="1457280"/>
            <a:ext cx="751536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are three basic types of mod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quenti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referenced and executed without apparent interru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rement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can be interrupted by other software prior to completion and restarted at the point of interru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ll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executes concurrently with other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an example, Ada provides features (sometimes independent of the operating system) which directly support the design and coding of these types of mod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dures and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s with entry points tied to interru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s which may be executed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2330280" y="885960"/>
            <a:ext cx="4413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hesion Spect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12920" y="1981080"/>
            <a:ext cx="380880" cy="441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12920" y="2171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12920" y="236232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22280" y="25430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22280" y="27338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31292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312920" y="30862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322280" y="3267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22280" y="34574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12920" y="36482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12920" y="38386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322280" y="40194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22280" y="421020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312920" y="43718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12920" y="45626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22280" y="474336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22280" y="493380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22280" y="51148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22280" y="530532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32000" y="54864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32000" y="56768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58388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322280" y="60292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32000" y="621036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112760" y="1682640"/>
            <a:ext cx="603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170000" y="6483240"/>
            <a:ext cx="552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274840" y="1933560"/>
            <a:ext cx="644832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al  -  module performs one distinct procedural tas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quential  -  module performs sequence of procedural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unicational  -  module performs all tasks on a single area of a data stru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dural  -  procedural tasks are related and performed in some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mporal  -  All procedural tasks must be performed within a given span of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gical  -  All procedures have some logical relationshi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incidental  -  No relationship exists between the tasks in the mo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2438280" y="847800"/>
            <a:ext cx="4311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upling Spect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312920" y="1981080"/>
            <a:ext cx="380880" cy="441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12920" y="2171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12920" y="236232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22280" y="25430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22280" y="27338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31292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12920" y="30862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322280" y="3267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22280" y="34574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12920" y="36482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312920" y="38386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22280" y="40194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22280" y="421020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312920" y="43718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12920" y="45626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322280" y="474336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322280" y="493380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22280" y="51148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22280" y="530532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332000" y="54864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32000" y="56768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322280" y="58388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22280" y="60292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332000" y="621036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112760" y="1682640"/>
            <a:ext cx="603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170000" y="6483240"/>
            <a:ext cx="552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179800" y="1876320"/>
            <a:ext cx="671508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  -  modules make use of data or control info from each other or has branches into middle of mo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on  -  modules commonly reference a global data a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ernal  -  modules regularly reference an external environment like I/O or comm protoc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  -  modules regularly pass control info between each other, but data access outside of modules is infrequ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mp  -  All, or part, of data structures passed between modules rather than single-value argu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 -  Simple, single-vallues arguments passed between mod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direct coupling  -  modules do not communicate with each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125360" y="870120"/>
            <a:ext cx="6980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rable Attributes of Mod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770040" y="1933560"/>
            <a:ext cx="759132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al Independ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the isolation of particular functions to particular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he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the binding of a single task to a single module without interaction with or side effects from other modules;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ong Cohe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is desi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upl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a measure of the interconnection between modules;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ose Coupl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 usually implemented by exclusive use of interfaces through subprograms, is desi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2209680" y="619200"/>
            <a:ext cx="5073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5120" y="1457280"/>
            <a:ext cx="8220240" cy="48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ocumentation of a design should include the following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th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the data, including the data flow and data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the 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interfaces within the 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interfaces between the program and other elements in its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each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the structure and details of the global data and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 prov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cross-reference between the design and the requirements which drove th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776680" y="679320"/>
            <a:ext cx="3830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I-MCCR-80012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82720" y="1322280"/>
            <a:ext cx="73105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oD-STD-2167A Software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ocu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98320" y="2505240"/>
            <a:ext cx="802944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liminary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SCI Overview, including architecture, system states, and memory and processing time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SCI Design Description, including descriptions of the component CS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ailed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SC Design and Constraints, including I/O data elements, local data elements, interrupts and signals, algorithms, error handling, data conversion, use of external elements, logical flow, data structures, local data files or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lobal CSCI data and data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irements Trac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227240" y="603360"/>
            <a:ext cx="6777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valuation Criteria for Desig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36480" y="1362240"/>
            <a:ext cx="791532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nal consis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derstand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ceability to requirements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priate analysis, design, or coding technique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priate allocation of sizing and timing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equacy of requirements allocation for the CSCIs and CS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istency between data definition and data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uracy and required precision of constants an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 Tools often support the developing of designs by providing automated checking of these and other cri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587760" y="905040"/>
            <a:ext cx="50245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Development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Life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79400" y="121932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98720" y="22096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18040" y="3124080"/>
            <a:ext cx="1828800" cy="685800"/>
          </a:xfrm>
          <a:prstGeom prst="roundRect">
            <a:avLst/>
          </a:prstGeom>
          <a:solidFill>
            <a:srgbClr val="eaec5e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361040" y="40384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04040" y="49528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23000" y="58672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08200" y="16002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89440" y="1600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27520" y="2590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32440" y="25909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46840" y="35053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51400" y="35053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89840" y="44197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94400" y="44197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32840" y="5334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13720" y="5334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60480" y="1284120"/>
            <a:ext cx="1415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179800" y="2351160"/>
            <a:ext cx="1035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398760" y="326556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94400" y="4179960"/>
            <a:ext cx="8827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684760" y="5094360"/>
            <a:ext cx="9079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904080" y="6008760"/>
            <a:ext cx="14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08280" y="387360"/>
            <a:ext cx="95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739880" y="790560"/>
            <a:ext cx="59371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Methodologie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Flow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74640" y="2276640"/>
            <a:ext cx="7839000" cy="33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Structure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-Ti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irst three classes are heavily driven by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88960" y="2228760"/>
            <a:ext cx="4648320" cy="514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1514520" y="1270080"/>
            <a:ext cx="593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Flow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93720" y="2505240"/>
            <a:ext cx="780084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s information flow characteristics to derive the 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are two design analysis techni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 Analysis and 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information flow exhibits distinct boundaries between incoming and outgoing data (i.e., input, processing, and output are the three key elements of the data flo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action Analysis and 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an information item causes the flow to branch along a choice of pa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low Diagrams (DFD's) are the common graphical means to represent the flow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1041480" y="1098720"/>
            <a:ext cx="6954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ransform Analysis an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46040" y="2066760"/>
            <a:ext cx="82771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ew the fundamental system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ew and refine the DFD's for th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ermine the transform and transaction characteristics of the DFD'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olate the transform center by specifying incoming and outgoing f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 "first-level factoring" - derive the mapping from the major parts of the DFD to a 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 "second-level factoring" - map individual bubbles in the DFD into modules in the 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ine the above "first-cut" program structure - maximize cohesion, minimize coupling, and build a structure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1050840" y="984240"/>
            <a:ext cx="7284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ransaction Analysis an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46040" y="2104920"/>
            <a:ext cx="82771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ew the fundamental system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ew and refine the DFD's for th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ermine the transform and transaction characteristics of the DFD'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olate the transaction center and the flow characteristics of each action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p the DFD into a software structure amenable to transaction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 and refine the transaction structure and the structure of each action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ine the above "first-cut" program structure - maximize cohesion, minimize coupling, and build a structure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2635200" y="1251000"/>
            <a:ext cx="3957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Heur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12800" y="2600280"/>
            <a:ext cx="7877160" cy="36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imize coupling and maximize cohe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imize fan-out and strive for fan-in as the depth incr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imize side-effects; keep the scope of the effect of a module within the scope of control of that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e module interfaces to reduce complexity and redundancy; improve consistency of the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e modules whose function is predictable and te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ive for single-entry, single-exit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ckage softwawre based on design constraints and portability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1244520" y="885960"/>
            <a:ext cx="692928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Methodologie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Structure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17400" y="2352600"/>
            <a:ext cx="7839000" cy="33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Structure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-Ti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irst three classes are heavily driven by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27120" y="2838600"/>
            <a:ext cx="5162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225440" y="1384200"/>
            <a:ext cx="6929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Structure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17400" y="2695680"/>
            <a:ext cx="8010360" cy="30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e key metho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ckson System Develop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concentrates on process modeling and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gical Construction of Programs (Warnier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rigorous view of data structure and focus on detailed procedural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Structured System Development (Orr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incorporates data flow analysis with the Logical Construction of Programs and Jackson System Development (JSD to a lesser ext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is 1970's technology and is not covered in 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2106720" y="771480"/>
            <a:ext cx="52023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Methodologie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74640" y="2276640"/>
            <a:ext cx="7839000" cy="33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Structure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-Ti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irst three classes are heavily driven by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27120" y="3390840"/>
            <a:ext cx="42102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1163520" y="1327320"/>
            <a:ext cx="6673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-Oriented Design (OO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98320" y="2733840"/>
            <a:ext cx="8105760" cy="33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rns itself with creating a model of the real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 represent the information domain, and the operations associated with that information are grouped with th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ssages (interfaces) provide a means by which operations are invo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ckaging of objects with their associated operations takes place - data and procedural abstractions are combined in a single program component called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OD representations are more prone than others to programming language depend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1925640" y="1270080"/>
            <a:ext cx="4998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erminology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60520" y="2695680"/>
            <a:ext cx="8163000" cy="28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 component of the real world that is mapped into the software domain or an information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rations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hods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processes which act on objects to transform their internal data structure or provide information on their internal data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ssag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 request to an object to perform one of its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 set of objects which share common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anc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n individual object of a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652840" y="923760"/>
            <a:ext cx="4186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Design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17400" y="1952640"/>
            <a:ext cx="7915320" cy="17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the first step in the development phase for any engineere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es a model of the software which is to be coded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6520" y="4203720"/>
            <a:ext cx="8137440" cy="1685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beginning of wisdom for a computer programmer is to recognize the difference between getting a program to work and getting it right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- M.A. Jackson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nciples of Program 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19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1405080" y="927000"/>
            <a:ext cx="6573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-Oriented Design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55560" y="1990800"/>
            <a:ext cx="789624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ify th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fy the attributes of th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ify the operations that may be applied to th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ablish the interfaces of the objects to the outside world (Ada package specifications may be used if Ada is the implementation langu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lement the objects (Ada package bodies may be used if Ada is the implementation langu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aphical representation may be employed; Booch Diagrams and Object Interaction Diagrams are the recommended diagramming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847800" y="755640"/>
            <a:ext cx="7691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 Interaction Diagrams (OID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65400" y="1600200"/>
            <a:ext cx="2286000" cy="2895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065400" y="2057400"/>
            <a:ext cx="1447920" cy="3808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65400" y="304812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065400" y="373392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70120" y="5257800"/>
            <a:ext cx="25146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037200" y="396252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275440" y="6324480"/>
            <a:ext cx="2819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275440" y="3962520"/>
            <a:ext cx="761760" cy="2361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8094600" y="3962520"/>
            <a:ext cx="762120" cy="2361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7332840" y="5334120"/>
            <a:ext cx="228600" cy="533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5580000" y="533412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5427720" y="58672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170160" y="1665360"/>
            <a:ext cx="10224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332080" y="5551560"/>
            <a:ext cx="1454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066000" y="4027320"/>
            <a:ext cx="6159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170160" y="2046240"/>
            <a:ext cx="1187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94200" y="3112920"/>
            <a:ext cx="1454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94200" y="3798720"/>
            <a:ext cx="1454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5684760" y="5475240"/>
            <a:ext cx="1314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ry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7637400" y="4495680"/>
            <a:ext cx="228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884920" y="44956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5732640" y="50292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989680" y="4637160"/>
            <a:ext cx="1314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ry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227320" y="39625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27320" y="39625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27320" y="365760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455920" y="3809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98360" y="3798720"/>
            <a:ext cx="1924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ocation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e Sub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another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218280" y="1589040"/>
            <a:ext cx="256068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are the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only use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Inte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agrams (OID'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2986200" y="927000"/>
            <a:ext cx="3449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IDs -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808600" y="3048120"/>
            <a:ext cx="2286000" cy="2895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808600" y="3276720"/>
            <a:ext cx="1447920" cy="3808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808600" y="44956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808600" y="51814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808600" y="388620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7361280" y="3036960"/>
            <a:ext cx="488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837400" y="3341520"/>
            <a:ext cx="1314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_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837400" y="4027320"/>
            <a:ext cx="679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5837400" y="4637160"/>
            <a:ext cx="1060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t_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837400" y="5322960"/>
            <a:ext cx="717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989440" y="1905120"/>
            <a:ext cx="2286000" cy="1600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89440" y="236232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084560" y="189396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17880" y="2427120"/>
            <a:ext cx="1073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t_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36600" y="380988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74840" y="6172200"/>
            <a:ext cx="2819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474840" y="3809880"/>
            <a:ext cx="76176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3294000" y="3809880"/>
            <a:ext cx="76212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2332080" y="3875040"/>
            <a:ext cx="1035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79800" y="41148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751200" y="472428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522600" y="54100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1770120" y="25909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770120" y="2590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80040" y="379080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408640" y="3905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303800" y="377172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532400" y="3886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037040" y="388620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199120" y="438156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27720" y="4495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132440" y="438156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361040" y="4495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3865680" y="449568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903840" y="514332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132440" y="5257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637080" y="525780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941480" y="228600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1674720" y="240048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237200" y="3513240"/>
            <a:ext cx="32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084560" y="4103640"/>
            <a:ext cx="32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875040" y="4846680"/>
            <a:ext cx="32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5056200" y="3513240"/>
            <a:ext cx="717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075280" y="4122720"/>
            <a:ext cx="565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703520" y="1989000"/>
            <a:ext cx="565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1703520" y="831960"/>
            <a:ext cx="6014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ooch Diagrams -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932360" y="3733920"/>
            <a:ext cx="2286000" cy="2895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932360" y="3962520"/>
            <a:ext cx="1447920" cy="3808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932360" y="51814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932360" y="58672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932360" y="457200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485040" y="3722760"/>
            <a:ext cx="488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960800" y="4027320"/>
            <a:ext cx="1314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_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960800" y="4713120"/>
            <a:ext cx="679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960800" y="5322960"/>
            <a:ext cx="1060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t_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960800" y="6008760"/>
            <a:ext cx="717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932360" y="1847880"/>
            <a:ext cx="2286000" cy="1600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932360" y="23050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027840" y="183672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960800" y="2370240"/>
            <a:ext cx="1073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t_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065240" y="177156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03120" y="413388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03120" y="1771560"/>
            <a:ext cx="76212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3122640" y="1771560"/>
            <a:ext cx="76212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2160720" y="1836720"/>
            <a:ext cx="1035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08440" y="2019240"/>
            <a:ext cx="1104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218040" y="3867120"/>
            <a:ext cx="1714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522360" y="4618080"/>
            <a:ext cx="3613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och Diagrams use the s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ic symbols as OID's, ex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at they show depend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instead of data flo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ships, and (optional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sequenc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2241720" y="771480"/>
            <a:ext cx="4971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Methodologie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al-Time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74640" y="2276640"/>
            <a:ext cx="7839000" cy="33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Structure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-Ti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irst three classes are heavily driven by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65280" y="3924360"/>
            <a:ext cx="3067200" cy="495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2630520" y="1212840"/>
            <a:ext cx="3932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al-Time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7400" y="2085840"/>
            <a:ext cx="8086680" cy="29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compasses all aspects of conventional software design while simultaneously introducing timing and sizing constraints; these constraints must be satisfied by th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 classes of design (architectural, procedural, and data) become more complex due to the response time required by the real-world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thematical modeling and simulation are common tools used for real-tim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1460520" y="851040"/>
            <a:ext cx="6269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al-Time System Conce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93720" y="1914480"/>
            <a:ext cx="7800840" cy="23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rupt handling and context swi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pons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transfer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PU and system through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 allocation and priority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 synchronization and intertask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2706840" y="1079640"/>
            <a:ext cx="3321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808200" y="2257560"/>
            <a:ext cx="76294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rchitectural Desig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 Relationship among major structural components of the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a Desig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 Transforms the information domain model created during analysis into the data structures required to implement the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cedural Desig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 Transforms structural components into a procedural description of the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2560" y="6091200"/>
            <a:ext cx="722772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design requires all three design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992240" y="1019160"/>
            <a:ext cx="5049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Design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379520" y="2219400"/>
            <a:ext cx="6296040" cy="24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 Preliminary Design  -  The transformation of requirements into a data and procedural archite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 Detailed Design  -  Refining the architectures developed in preliminary de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63480" y="5214960"/>
            <a:ext cx="7194600" cy="115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idea is to transform the structure and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om the problem domain to the implemen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main sufficient for co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525840" y="1479600"/>
            <a:ext cx="1644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Qu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865080" y="2600280"/>
            <a:ext cx="7610400" cy="20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 is the phase whe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built into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quality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an evolving design is identified through a series of formal technical revie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353960" y="1098720"/>
            <a:ext cx="6521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Guidelines for a Goo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36480" y="2257560"/>
            <a:ext cx="7915320" cy="30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should exhibit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ierarchical organiz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should b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dul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leading to an implementation of strongly cohesive, loosely coupled mod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should contain a distinct an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parate repres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data and proced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should b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riv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using a repeatable method driven by information obtained from the requirements analy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shoul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a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losely with the requirements - there should be a mapp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2003400" y="774720"/>
            <a:ext cx="5149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damental Con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55560" y="1685880"/>
            <a:ext cx="776304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epwise Refine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successive definition of levels of 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rchitec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hierarchical structure of procedural components and the structure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 Struc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flow of control between the procedural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ced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processing details of each procedural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Struc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logical relationship between elements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s of Abstr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expression of a design in terms of the problem space, usually employing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epwise Refine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Hi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suppression of unnecessary details at a particular level of abs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449360" y="714240"/>
            <a:ext cx="6597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iagramming Techn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36480" y="1380960"/>
            <a:ext cx="79916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of the diagramming techniques used during requirements analysis may also be used during desig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low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e Transition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ity-Relationship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add several more types of diagrams to specifically support software structu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ure Ch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diagrams (also called flow-diagra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her diagramming techniques are intended specifically for design and are often language-specific.  These techniques are often used when the implementation language supports object oriented programming such as Ada or C++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Interaction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och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