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4069A1-4A03-4F43-A2F6-3A1AE1E21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basic concepts of Software Project Manage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Cost and Timing Est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3480" y="397260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4460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2720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7128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348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2720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7128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3480" y="1731960"/>
            <a:ext cx="870624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870624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3480" y="29628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4460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8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96048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- </a:t>
            </a:r>
            <a:fld id="{960A09AF-03B3-4B80-A079-1151616E94E9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638360" y="915840"/>
            <a:ext cx="671508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89080" y="3403440"/>
            <a:ext cx="753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etr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