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4CA514-2834-4A08-96E0-4548A97B1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fore starting a development project, we mu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. Assess the risk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Develop a strategy for attacking the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. Establish a mechanism for assessing th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Organize people who will be building th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ge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:  Analysis and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: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: 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:  Walkthrou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:  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: 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: Test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r: Test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: Integr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T: Valid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D - </a:t>
            </a:r>
            <a:fld id="{279B93E8-A86B-4D96-B3AF-865D7022EFD6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170160" y="210816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08160" y="4613400"/>
            <a:ext cx="2666880" cy="68580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87360" y="1401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60480" y="2031840"/>
            <a:ext cx="77630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itial Sequent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nalysis and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requirements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rchitecture and data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preliminary design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69560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8736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646280" y="1955880"/>
            <a:ext cx="6391440" cy="54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llel Events for Each Sub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dur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3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61928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6368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12760" y="1955880"/>
            <a:ext cx="7381800" cy="30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ing Activities Can Be Performed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ing Milestone (After Unit Testing)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46700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35080" y="17114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27240" y="2641680"/>
            <a:ext cx="7229520" cy="18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ion Test Milestone - completed after system is assem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idation Test Milestone - completed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924200" y="9111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90960" y="1554120"/>
            <a:ext cx="400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60800" y="2403360"/>
            <a:ext cx="3581280" cy="33526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13280" y="240336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13280" y="400356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494160" y="3230640"/>
            <a:ext cx="1035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40-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018040" y="2849400"/>
            <a:ext cx="1289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bu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30-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941720" y="4830840"/>
            <a:ext cx="1035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15-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30360" y="1325520"/>
            <a:ext cx="4565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79600" y="1955880"/>
            <a:ext cx="83725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Evaluation and Review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PM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93720" y="3022560"/>
            <a:ext cx="829620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and CPM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ly presented pictor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tools for the planner to determ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likely time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ary times (earliest task start time, latest task start time, earliest task finish time, latest task finish time, total float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382840" y="121608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ical Task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60600" y="33177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60600" y="35463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81000" y="2662200"/>
            <a:ext cx="8047080" cy="38559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1589040" y="3611520"/>
            <a:ext cx="87624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36960" y="3611520"/>
            <a:ext cx="776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0840" y="2620800"/>
            <a:ext cx="668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g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06840" y="4525920"/>
            <a:ext cx="836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389640" y="3763800"/>
            <a:ext cx="8460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g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837560" y="3763800"/>
            <a:ext cx="865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36960" y="5821200"/>
            <a:ext cx="9748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 sc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0840" y="5897520"/>
            <a:ext cx="757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465960" y="5897520"/>
            <a:ext cx="10638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890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606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0840" y="33066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484520" y="51354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31332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76124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9606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08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389640" y="6507000"/>
            <a:ext cx="349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512720" y="3306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4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960640" y="338292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408560" y="23922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484520" y="42210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313320" y="345924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8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684920" y="345924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96064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48452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30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389640" y="55926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263600" y="1063800"/>
            <a:ext cx="7005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pproaches to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60480" y="2260440"/>
            <a:ext cx="7610400" cy="36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ing periodic project status meetings in which each team member reports progress and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ng the results of all reviews conducted throughout th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ing whether formal project milestones have been accomplished by the scheduled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ing the actual start date to the planned start date for each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eting informally with software engineers to obtain their subjective assessments of the progress to date and problems on the hor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370240" y="835200"/>
            <a:ext cx="4641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i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646280" y="1727280"/>
            <a:ext cx="639144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ke or bu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o will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 and modif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ct outside contractor to buil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ision based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duce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ier 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enough or properly skilled people to 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ter support out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946080" y="682560"/>
            <a:ext cx="7640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sition Decision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31880" y="1346040"/>
            <a:ext cx="8143920" cy="61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8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icul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7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9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a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out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65160" y="18702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46400" y="1870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46400" y="2327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65160" y="31654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46400" y="3165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46400" y="3622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65160" y="47656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46400" y="476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46400" y="522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65160" y="59850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46400" y="5985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46400" y="6442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61000" y="354636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41880" y="35463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41880" y="40035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51160" y="194616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51160" y="23274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13280" y="31654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94360" y="35463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94360" y="40035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13280" y="48420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13280" y="514656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65560" y="5985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65560" y="64422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238400" y="660240"/>
            <a:ext cx="7512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408400" y="1270080"/>
            <a:ext cx="50198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at Software Project Planning Invo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onitoring -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ical Task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es to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 Decision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tional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hancements to a Good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oftware Project Plan (S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925640" y="987480"/>
            <a:ext cx="553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74600" y="2108160"/>
            <a:ext cx="753444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often-used programs, build a controlled database of components for all to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lude documents, source code, user's guide, maintenance guide, test procedures and data, and a history of use with the com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 may be enhanced by object-oriented design and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255760" y="682560"/>
            <a:ext cx="5327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55560" y="1346040"/>
            <a:ext cx="8296200" cy="55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lots  of human organizational structures for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ssibilities - consider N people working for K years on M different functional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ord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gt; 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lt; N 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Assign N people to T teams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team resp. for 1 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79600" y="1139760"/>
            <a:ext cx="852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nhancements to a Good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112760" y="2413080"/>
            <a:ext cx="761040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hief Programm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oftware Libra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goless programming with a team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379520" y="682560"/>
            <a:ext cx="70819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Software Project Plan (SP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960480" y="1498680"/>
            <a:ext cx="776304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brief document which describes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cope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esources to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ks and risk avoidance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and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all approach to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ment, technical staff, and customer are the primary reads of the SP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PP provides a starting point for the rest of the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343160" y="682560"/>
            <a:ext cx="7004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at Software Project Planning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vo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60480" y="1955880"/>
            <a:ext cx="761040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. 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.  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. 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.  Acquisition Decision M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5. 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6.  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56120" y="835200"/>
            <a:ext cx="306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322360" y="1870200"/>
            <a:ext cx="0" cy="3504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22360" y="5375160"/>
            <a:ext cx="3810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08160" y="2087640"/>
            <a:ext cx="11113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494160" y="5364000"/>
            <a:ext cx="239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Cost 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55880" y="2860560"/>
            <a:ext cx="76320" cy="381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32200" y="324180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08160" y="354636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60800" y="38512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89400" y="415620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93960" y="446076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98880" y="468936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79760" y="4842000"/>
            <a:ext cx="457200" cy="759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36960" y="491796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55880" y="20988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55880" y="3317760"/>
            <a:ext cx="228600" cy="1522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60800" y="2479680"/>
            <a:ext cx="144756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37160" y="2163600"/>
            <a:ext cx="3651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t Point (Cost/Time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rmination Will Occ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851200" y="682560"/>
            <a:ext cx="3983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31880" y="1270080"/>
            <a:ext cx="82202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risk management and monitoring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ach risk triplet, define the risk managemen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incurs additional project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larger projects, there may be 30-40 risks 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u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= High staf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lihood of occurrence = 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act = Increase project time by 15%, project cost by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steps may 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dentify high turnover c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Reduce causes before project st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Develop techniques to assure work continuity in light o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152360" y="911160"/>
            <a:ext cx="7539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onitoring -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027160" y="2336760"/>
            <a:ext cx="5705640" cy="23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if predicted risk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erly apply risk aversion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ect info for future risk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77156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408400" y="2031840"/>
            <a:ext cx="509580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69560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782720" y="1401840"/>
            <a:ext cx="6014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36800" y="2031840"/>
            <a:ext cx="75344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project when behind schedule is counterproductive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late project makes it la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fewer people over a longer period of time is more beneficial than lots of people for a shorter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small, tightly-knit teams is produ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pire creativity and self-motivation within the structure of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619280" y="83520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87360" y="1482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2216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74800" y="38512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27080" y="40035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79360" y="41562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2708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2000" y="43084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84280" y="44607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36560" y="46134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89200" y="47656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1480" y="49179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27080" y="347040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79360" y="36226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93560" y="2281320"/>
            <a:ext cx="8686800" cy="4313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46040" y="307800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081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65572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4845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8561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618240" y="2239920"/>
            <a:ext cx="235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1703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7987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066160" y="3763800"/>
            <a:ext cx="2984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751960" y="37638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223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939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655720" y="62784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484520" y="6278400"/>
            <a:ext cx="476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389640" y="627840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805280" y="3503520"/>
            <a:ext cx="228600" cy="15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