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52440" y="453960"/>
            <a:ext cx="8255160" cy="969840"/>
            <a:chOff x="352440" y="453960"/>
            <a:chExt cx="8255160" cy="969840"/>
          </a:xfrm>
        </p:grpSpPr>
        <p:sp>
          <p:nvSpPr>
            <p:cNvPr id="1" name=""/>
            <p:cNvSpPr/>
            <p:nvPr/>
          </p:nvSpPr>
          <p:spPr>
            <a:xfrm>
              <a:off x="1276200" y="1263600"/>
              <a:ext cx="7331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352440" y="453960"/>
              <a:ext cx="882720" cy="9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7257960" y="95400"/>
            <a:ext cx="16286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con94   09/26/94    </a:t>
            </a:r>
            <a:fld id="{51425727-AD1B-4B1E-8C9D-2FAF7D548E2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60352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ail Enabling Desktop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96920" y="3657600"/>
            <a:ext cx="7178760" cy="27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839"/>
              </a:spcBef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ll Banyan Developer Conference 199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839"/>
              </a:spcBef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839"/>
              </a:spcBef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even So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ager, Messaging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Aft>
                <a:spcPts val="241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yan Systems Incorpo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243080" y="71280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ub-Classing SendMail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6120" y="3035160"/>
            <a:ext cx="1105200" cy="889200"/>
          </a:xfrm>
          <a:custGeom>
            <a:avLst/>
            <a:gdLst/>
            <a:ahLst/>
            <a:rect l="0" t="0" r="r" b="b"/>
            <a:pathLst>
              <a:path fill="none" w="3070" h="2470">
                <a:moveTo>
                  <a:pt x="1534" y="0"/>
                </a:moveTo>
                <a:lnTo>
                  <a:pt x="1689" y="706"/>
                </a:lnTo>
                <a:lnTo>
                  <a:pt x="2292" y="172"/>
                </a:lnTo>
                <a:lnTo>
                  <a:pt x="2014" y="844"/>
                </a:lnTo>
                <a:lnTo>
                  <a:pt x="2870" y="619"/>
                </a:lnTo>
                <a:lnTo>
                  <a:pt x="2206" y="1102"/>
                </a:lnTo>
                <a:lnTo>
                  <a:pt x="3070" y="1234"/>
                </a:lnTo>
                <a:lnTo>
                  <a:pt x="2206" y="1367"/>
                </a:lnTo>
                <a:lnTo>
                  <a:pt x="2870" y="1853"/>
                </a:lnTo>
                <a:lnTo>
                  <a:pt x="2013" y="1644"/>
                </a:lnTo>
                <a:lnTo>
                  <a:pt x="2292" y="2309"/>
                </a:lnTo>
                <a:lnTo>
                  <a:pt x="1713" y="1775"/>
                </a:lnTo>
                <a:lnTo>
                  <a:pt x="1519" y="2470"/>
                </a:lnTo>
                <a:lnTo>
                  <a:pt x="1350" y="1775"/>
                </a:lnTo>
                <a:lnTo>
                  <a:pt x="770" y="2309"/>
                </a:lnTo>
                <a:lnTo>
                  <a:pt x="1049" y="1637"/>
                </a:lnTo>
                <a:lnTo>
                  <a:pt x="193" y="1861"/>
                </a:lnTo>
                <a:lnTo>
                  <a:pt x="856" y="1378"/>
                </a:lnTo>
                <a:lnTo>
                  <a:pt x="0" y="1240"/>
                </a:lnTo>
                <a:lnTo>
                  <a:pt x="856" y="1102"/>
                </a:lnTo>
                <a:lnTo>
                  <a:pt x="193" y="620"/>
                </a:lnTo>
                <a:lnTo>
                  <a:pt x="1049" y="844"/>
                </a:lnTo>
                <a:lnTo>
                  <a:pt x="770" y="170"/>
                </a:lnTo>
                <a:lnTo>
                  <a:pt x="1348" y="706"/>
                </a:lnTo>
                <a:lnTo>
                  <a:pt x="1534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12760" y="1727280"/>
            <a:ext cx="8918640" cy="4140360"/>
            <a:chOff x="212760" y="1727280"/>
            <a:chExt cx="8918640" cy="4140360"/>
          </a:xfrm>
        </p:grpSpPr>
        <p:sp>
          <p:nvSpPr>
            <p:cNvPr id="72" name=""/>
            <p:cNvSpPr txBox="1"/>
            <p:nvPr/>
          </p:nvSpPr>
          <p:spPr>
            <a:xfrm>
              <a:off x="212760" y="1727280"/>
              <a:ext cx="8918640" cy="41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buClr>
                  <a:srgbClr val="fafd00"/>
                </a:buClr>
                <a:buSzPct val="125000"/>
                <a:buFont typeface="Arial"/>
                <a:buChar char=""/>
                <a:tabLst>
                  <a:tab algn="l" pos="1085760"/>
                  <a:tab algn="l" pos="4286160"/>
                  <a:tab algn="l" pos="451476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Mail has two additional API calls for sub-classing.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te the “H” API version includes an new argument for a window handle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llStatus VnsSimpleSendMail</a:t>
              </a:r>
              <a:r>
                <a:rPr b="1" i="1" lang="en-US" sz="3200" spc="-1" strike="noStrike">
                  <a:solidFill>
                    <a:srgbClr val="fe9b03"/>
                  </a:solidFill>
                  <a:latin typeface="Arial"/>
                  <a:ea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HWND hWnd,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LPSTR lpFileName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)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llStatus VnsSimpleSendMailEx</a:t>
              </a:r>
              <a:r>
                <a:rPr b="1" i="1" lang="en-US" sz="3200" spc="-1" strike="noStrike">
                  <a:solidFill>
                    <a:srgbClr val="fe9b03"/>
                  </a:solidFill>
                  <a:latin typeface="Arial"/>
                  <a:ea typeface="Arial"/>
                </a:rPr>
                <a:t>H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85000"/>
                </a:lnSpc>
                <a:spcBef>
                  <a:spcPts val="479"/>
                </a:spcBef>
                <a:spcAft>
                  <a:spcPts val="479"/>
                </a:spcAft>
                <a:tabLst>
                  <a:tab algn="l" pos="1085760"/>
                  <a:tab algn="l" pos="4286160"/>
                  <a:tab algn="l" pos="451476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HWND hWnd,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  <a:ea typeface="Arial"/>
                </a:rPr>
                <a:t>LPBODY_PIECES lpBodyPieces, LPSTR lpRecips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)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79960" y="4635360"/>
              <a:ext cx="1105200" cy="889200"/>
            </a:xfrm>
            <a:custGeom>
              <a:avLst/>
              <a:gdLst/>
              <a:ahLst/>
              <a:rect l="0" t="0" r="r" b="b"/>
              <a:pathLst>
                <a:path fill="none" w="3070" h="2470">
                  <a:moveTo>
                    <a:pt x="1534" y="0"/>
                  </a:moveTo>
                  <a:lnTo>
                    <a:pt x="1689" y="706"/>
                  </a:lnTo>
                  <a:lnTo>
                    <a:pt x="2292" y="172"/>
                  </a:lnTo>
                  <a:lnTo>
                    <a:pt x="2014" y="844"/>
                  </a:lnTo>
                  <a:lnTo>
                    <a:pt x="2870" y="619"/>
                  </a:lnTo>
                  <a:lnTo>
                    <a:pt x="2206" y="1102"/>
                  </a:lnTo>
                  <a:lnTo>
                    <a:pt x="3070" y="1234"/>
                  </a:lnTo>
                  <a:lnTo>
                    <a:pt x="2206" y="1367"/>
                  </a:lnTo>
                  <a:lnTo>
                    <a:pt x="2870" y="1853"/>
                  </a:lnTo>
                  <a:lnTo>
                    <a:pt x="2013" y="1644"/>
                  </a:lnTo>
                  <a:lnTo>
                    <a:pt x="2292" y="2309"/>
                  </a:lnTo>
                  <a:lnTo>
                    <a:pt x="1713" y="1775"/>
                  </a:lnTo>
                  <a:lnTo>
                    <a:pt x="1519" y="2470"/>
                  </a:lnTo>
                  <a:lnTo>
                    <a:pt x="1350" y="1775"/>
                  </a:lnTo>
                  <a:lnTo>
                    <a:pt x="770" y="2309"/>
                  </a:lnTo>
                  <a:lnTo>
                    <a:pt x="1049" y="1637"/>
                  </a:lnTo>
                  <a:lnTo>
                    <a:pt x="193" y="1861"/>
                  </a:lnTo>
                  <a:lnTo>
                    <a:pt x="856" y="1378"/>
                  </a:lnTo>
                  <a:lnTo>
                    <a:pt x="0" y="1240"/>
                  </a:lnTo>
                  <a:lnTo>
                    <a:pt x="856" y="1102"/>
                  </a:lnTo>
                  <a:lnTo>
                    <a:pt x="193" y="620"/>
                  </a:lnTo>
                  <a:lnTo>
                    <a:pt x="1049" y="844"/>
                  </a:lnTo>
                  <a:lnTo>
                    <a:pt x="770" y="170"/>
                  </a:lnTo>
                  <a:lnTo>
                    <a:pt x="1348" y="706"/>
                  </a:lnTo>
                  <a:lnTo>
                    <a:pt x="1534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0920" y="885960"/>
            <a:ext cx="78706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rchitecture of Message structur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4520" y="1909800"/>
            <a:ext cx="90108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55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essage structure has the following developer-controlled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ority f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rtification f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ject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ssage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lder placement after s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umber of attach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ress st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Addressing for “Flexible”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70120" y="4708440"/>
            <a:ext cx="611676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55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developer is responsible for all addressing if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Recip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not N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55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NULL, this intermediate dialog will appear for name selection onl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32080" y="1881360"/>
            <a:ext cx="47451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243080" y="728640"/>
            <a:ext cx="82551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ore About VnsSimpleSendMailEx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320" y="1832040"/>
            <a:ext cx="89186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80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sSimpleSendMailE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ows developers to use their own front end or form instead of using the built-in one provi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0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ame considerations about file locking apply as with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sSimpleSendMai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0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developer is responsible for populating the structure BODY_PIECES with correct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80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 setup examples will be provi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43080" y="839880"/>
            <a:ext cx="82551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New STDA Browser - VNSDL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0600" y="1752480"/>
            <a:ext cx="891864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type of Browser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 and shoot - ergonom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al fe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set by pat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ALL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ursive List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ove selected name from result buf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tabLst>
                <a:tab algn="l" pos="743040"/>
                <a:tab algn="l" pos="3943440"/>
                <a:tab algn="l" pos="417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 in replacement fo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nsDlgStdaSe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nsDlgStdaMultiSe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150920" y="80964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NSDLG API call: Single item se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6360" y="1708200"/>
            <a:ext cx="852948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define incl_ST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define incl_STDA_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"vnsapi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“vnsdlg.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VNSENTRY VnsDlgStdaSelectEx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VNSD hVNSD,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handle to our instance data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WND hWndParent,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handle of parent window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WORD wType,        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ype of STDA object item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DialogTitle,  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itle of browse dialog box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OOL WFAR *pfConfirmed, </a:t>
            </a:r>
            <a:r>
              <a:rPr b="1" i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FALSE if user cancelled dialog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Result        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result buffer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150920" y="80964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NSDLG API call: Multiple item se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18960" y="1488960"/>
            <a:ext cx="852948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define incl_ST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define incl_STDA_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"vnsapi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“vnsdlg.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VNSENTRY VnsDlgStdaMultiSelectEx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VNSD hVNSD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handle to our instance data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HWND hWndParent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handle of parent window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WORD wType,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ype of STDA object items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DialogTitle,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itle of browse dialog box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ResultTitle,   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title of the result list box *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OOL WFAR *pfConfirmed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FALSE if user cancelled dialog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Result,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result buffer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int nResultLen         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  <a:ea typeface="Arial"/>
              </a:rPr>
              <a:t>/* size of result buffer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5680" y="5318280"/>
            <a:ext cx="8140680" cy="317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440" y="6022800"/>
            <a:ext cx="8178840" cy="317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43080" y="839880"/>
            <a:ext cx="82551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Reference for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0600" y="1663560"/>
            <a:ext cx="89186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tailed toolkit information abou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1116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447840"/>
                <a:tab algn="l" pos="3652920"/>
                <a:tab algn="l" pos="3881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nsDlgStdaSel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1116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447840"/>
                <a:tab algn="l" pos="3652920"/>
                <a:tab algn="l" pos="3881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nsDlgStdaMultiSel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9080" indent="-1116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447840"/>
                <a:tab algn="l" pos="3652920"/>
                <a:tab algn="l" pos="3881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be found on pages 9-5 through 9-9 of the VINES StreetTal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™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STDA Programming Interf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der Number: 0037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e: April 19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6360" indent="-468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90560"/>
                <a:tab algn="l" pos="3995640"/>
                <a:tab algn="l" pos="4224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s VINES revision: 5.5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NSDLG Dialog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05160" y="2120760"/>
            <a:ext cx="40813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6534000" y="4626000"/>
            <a:ext cx="1743480" cy="592200"/>
            <a:chOff x="6534000" y="4626000"/>
            <a:chExt cx="1743480" cy="592200"/>
          </a:xfrm>
        </p:grpSpPr>
        <p:sp>
          <p:nvSpPr>
            <p:cNvPr id="94" name=""/>
            <p:cNvSpPr txBox="1"/>
            <p:nvPr/>
          </p:nvSpPr>
          <p:spPr>
            <a:xfrm>
              <a:off x="6883560" y="4626000"/>
              <a:ext cx="1393920" cy="533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and 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34000" y="4979880"/>
              <a:ext cx="352800" cy="238320"/>
            </a:xfrm>
            <a:custGeom>
              <a:avLst/>
              <a:gdLst/>
              <a:ahLst/>
              <a:rect l="0" t="0" r="r" b="b"/>
              <a:pathLst>
                <a:path w="980" h="662">
                  <a:moveTo>
                    <a:pt x="980" y="220"/>
                  </a:moveTo>
                  <a:lnTo>
                    <a:pt x="980" y="441"/>
                  </a:lnTo>
                  <a:lnTo>
                    <a:pt x="294" y="441"/>
                  </a:lnTo>
                  <a:lnTo>
                    <a:pt x="294" y="662"/>
                  </a:lnTo>
                  <a:lnTo>
                    <a:pt x="0" y="330"/>
                  </a:lnTo>
                  <a:lnTo>
                    <a:pt x="294" y="0"/>
                  </a:lnTo>
                  <a:lnTo>
                    <a:pt x="294" y="220"/>
                  </a:lnTo>
                  <a:lnTo>
                    <a:pt x="980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543720" y="2521080"/>
            <a:ext cx="1704960" cy="592200"/>
            <a:chOff x="6543720" y="2521080"/>
            <a:chExt cx="1704960" cy="592200"/>
          </a:xfrm>
        </p:grpSpPr>
        <p:sp>
          <p:nvSpPr>
            <p:cNvPr id="97" name=""/>
            <p:cNvSpPr txBox="1"/>
            <p:nvPr/>
          </p:nvSpPr>
          <p:spPr>
            <a:xfrm>
              <a:off x="6885000" y="2521080"/>
              <a:ext cx="1363680" cy="533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set patter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43720" y="2874960"/>
              <a:ext cx="344880" cy="238320"/>
            </a:xfrm>
            <a:custGeom>
              <a:avLst/>
              <a:gdLst/>
              <a:ahLst/>
              <a:rect l="0" t="0" r="r" b="b"/>
              <a:pathLst>
                <a:path w="958" h="662">
                  <a:moveTo>
                    <a:pt x="958" y="220"/>
                  </a:moveTo>
                  <a:lnTo>
                    <a:pt x="958" y="441"/>
                  </a:lnTo>
                  <a:lnTo>
                    <a:pt x="288" y="441"/>
                  </a:lnTo>
                  <a:lnTo>
                    <a:pt x="288" y="662"/>
                  </a:lnTo>
                  <a:lnTo>
                    <a:pt x="0" y="330"/>
                  </a:lnTo>
                  <a:lnTo>
                    <a:pt x="288" y="0"/>
                  </a:lnTo>
                  <a:lnTo>
                    <a:pt x="288" y="220"/>
                  </a:lnTo>
                  <a:lnTo>
                    <a:pt x="958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553080" y="3521160"/>
            <a:ext cx="1714680" cy="592200"/>
            <a:chOff x="6553080" y="3521160"/>
            <a:chExt cx="1714680" cy="592200"/>
          </a:xfrm>
        </p:grpSpPr>
        <p:sp>
          <p:nvSpPr>
            <p:cNvPr id="100" name=""/>
            <p:cNvSpPr txBox="1"/>
            <p:nvPr/>
          </p:nvSpPr>
          <p:spPr>
            <a:xfrm>
              <a:off x="6896160" y="3521160"/>
              <a:ext cx="1371600" cy="533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AL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bset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53080" y="3875040"/>
              <a:ext cx="346320" cy="238320"/>
            </a:xfrm>
            <a:custGeom>
              <a:avLst/>
              <a:gdLst/>
              <a:ahLst/>
              <a:rect l="0" t="0" r="r" b="b"/>
              <a:pathLst>
                <a:path w="962" h="662">
                  <a:moveTo>
                    <a:pt x="962" y="220"/>
                  </a:moveTo>
                  <a:lnTo>
                    <a:pt x="962" y="441"/>
                  </a:lnTo>
                  <a:lnTo>
                    <a:pt x="288" y="441"/>
                  </a:lnTo>
                  <a:lnTo>
                    <a:pt x="288" y="662"/>
                  </a:lnTo>
                  <a:lnTo>
                    <a:pt x="0" y="330"/>
                  </a:lnTo>
                  <a:lnTo>
                    <a:pt x="288" y="0"/>
                  </a:lnTo>
                  <a:lnTo>
                    <a:pt x="288" y="220"/>
                  </a:lnTo>
                  <a:lnTo>
                    <a:pt x="962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800280" y="2556000"/>
            <a:ext cx="1447920" cy="592200"/>
            <a:chOff x="800280" y="2556000"/>
            <a:chExt cx="1447920" cy="592200"/>
          </a:xfrm>
        </p:grpSpPr>
        <p:sp>
          <p:nvSpPr>
            <p:cNvPr id="103" name=""/>
            <p:cNvSpPr txBox="1"/>
            <p:nvPr/>
          </p:nvSpPr>
          <p:spPr>
            <a:xfrm>
              <a:off x="800280" y="2556000"/>
              <a:ext cx="1158840" cy="533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o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ject 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55880" y="2909880"/>
              <a:ext cx="292320" cy="238320"/>
            </a:xfrm>
            <a:custGeom>
              <a:avLst/>
              <a:gdLst/>
              <a:ahLst/>
              <a:rect l="0" t="0" r="r" b="b"/>
              <a:pathLst>
                <a:path w="812" h="662">
                  <a:moveTo>
                    <a:pt x="0" y="220"/>
                  </a:moveTo>
                  <a:lnTo>
                    <a:pt x="0" y="441"/>
                  </a:lnTo>
                  <a:lnTo>
                    <a:pt x="568" y="441"/>
                  </a:lnTo>
                  <a:lnTo>
                    <a:pt x="568" y="662"/>
                  </a:lnTo>
                  <a:lnTo>
                    <a:pt x="812" y="330"/>
                  </a:lnTo>
                  <a:lnTo>
                    <a:pt x="568" y="0"/>
                  </a:lnTo>
                  <a:lnTo>
                    <a:pt x="568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08800" y="5356080"/>
            <a:ext cx="1768320" cy="624240"/>
            <a:chOff x="6508800" y="5356080"/>
            <a:chExt cx="1768320" cy="624240"/>
          </a:xfrm>
        </p:grpSpPr>
        <p:sp>
          <p:nvSpPr>
            <p:cNvPr id="106" name=""/>
            <p:cNvSpPr txBox="1"/>
            <p:nvPr/>
          </p:nvSpPr>
          <p:spPr>
            <a:xfrm>
              <a:off x="6877080" y="5408640"/>
              <a:ext cx="1400040" cy="5716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mov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 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8800" y="5356080"/>
              <a:ext cx="405000" cy="238320"/>
            </a:xfrm>
            <a:custGeom>
              <a:avLst/>
              <a:gdLst/>
              <a:ahLst/>
              <a:rect l="0" t="0" r="r" b="b"/>
              <a:pathLst>
                <a:path w="1125" h="662">
                  <a:moveTo>
                    <a:pt x="1125" y="220"/>
                  </a:moveTo>
                  <a:lnTo>
                    <a:pt x="1125" y="441"/>
                  </a:lnTo>
                  <a:lnTo>
                    <a:pt x="337" y="441"/>
                  </a:lnTo>
                  <a:lnTo>
                    <a:pt x="337" y="662"/>
                  </a:lnTo>
                  <a:lnTo>
                    <a:pt x="0" y="330"/>
                  </a:lnTo>
                  <a:lnTo>
                    <a:pt x="337" y="0"/>
                  </a:lnTo>
                  <a:lnTo>
                    <a:pt x="337" y="220"/>
                  </a:lnTo>
                  <a:lnTo>
                    <a:pt x="1125" y="22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150920" y="88596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NSDLG Dialog Box: Subset M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4360" y="2511360"/>
            <a:ext cx="3660840" cy="1852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54360" y="1955880"/>
            <a:ext cx="4383000" cy="34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sks can be added “on the fly” by just typing in the List Subset field on the main dialog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ild windows for Subset Dialog allows Name mask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sk patterns are stored for future use in the user’s VINES.INI f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50920" y="88596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3000" y="182880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view of Mail ena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owser VNSDL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m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m Visioneer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m Excel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m Visual Basic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ture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760" y="1943280"/>
            <a:ext cx="8448840" cy="37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SendMail calls VNSDLG, there is a 1K byte limit on address data returned/requ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All with *@*@* mask could tak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pendent on number of STDA e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more than 32K bytes of returned data is allowed if call from other C appl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50920" y="88596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ioneer’s Maxmate Desk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2360" y="1820880"/>
            <a:ext cx="3983040" cy="2917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160960" y="1793880"/>
            <a:ext cx="383076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19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rag image or stack to Banyan drop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k invokes SENDMAIL, and adds image stack as an attach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19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ipient reads message as normal mail message, launching Maxmate viewer to view attached doc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4648320"/>
            <a:ext cx="781200" cy="1495440"/>
          </a:xfrm>
          <a:prstGeom prst="line">
            <a:avLst/>
          </a:prstGeom>
          <a:ln w="38160">
            <a:solidFill>
              <a:srgbClr val="fe9b0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1600" y="5948280"/>
            <a:ext cx="589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yan Intelligent Messaging 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23760" y="2610000"/>
            <a:ext cx="847800" cy="104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c0128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ad adkfas frrrer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klfasjfaslfk w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fasdfklferqr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fkasfasere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fasfasqeerrr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fasfafaaq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19480" y="2629080"/>
            <a:ext cx="847800" cy="104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187800" y="2698920"/>
            <a:ext cx="797040" cy="98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qaz df the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f the ways 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 otr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5403494 59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20600"/>
                <a:tab algn="l" pos="4029120"/>
                <a:tab algn="l" pos="42451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330403945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076480" y="2638440"/>
            <a:ext cx="847800" cy="104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e3 3   230  1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34940  adfl; 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s[0r 334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2042 44 44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\3asfasff fa;l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d;a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62120" y="3657600"/>
            <a:ext cx="457200" cy="53352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2209680"/>
            <a:ext cx="609480" cy="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295280" y="763560"/>
            <a:ext cx="76690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isioneer Development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879560"/>
            <a:ext cx="815328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concept was “born” in looking for a fast way to integrate Visioneer’s Maxmate with 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yan link for the Maxmate desktop was built by Visioneer using their Maxmate SD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s will be freely distributed by Visioneer, or Bany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20600" y="1955880"/>
            <a:ext cx="8918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quires use of REGISTER fun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REGISTER("SENDMAIL.DLL","VnsSimpleSendMailH","HHF","SENDMAIL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43080" y="71280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Integrating SENDMAIL into Excel 4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9800" y="4719600"/>
            <a:ext cx="580392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quires use of CALL fun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CALL (A20,0,“FILENAM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029200" y="3225960"/>
            <a:ext cx="3886200" cy="1371600"/>
          </a:xfrm>
          <a:prstGeom prst="rect">
            <a:avLst/>
          </a:prstGeom>
          <a:noFill/>
          <a:ln w="38160">
            <a:solidFill>
              <a:srgbClr val="fc0128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3rd argument indicates what the function expects for return values as well as the data type of the one DLL argu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” is: unsigned 2 byte integer (return valu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” is: unsigned 2 byte integer (window hand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” is: Null terminated 255 max character st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285768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282" y="1059"/>
                </a:moveTo>
                <a:lnTo>
                  <a:pt x="564" y="1059"/>
                </a:lnTo>
                <a:lnTo>
                  <a:pt x="564" y="317"/>
                </a:lnTo>
                <a:lnTo>
                  <a:pt x="848" y="317"/>
                </a:lnTo>
                <a:lnTo>
                  <a:pt x="424" y="0"/>
                </a:lnTo>
                <a:lnTo>
                  <a:pt x="0" y="317"/>
                </a:lnTo>
                <a:lnTo>
                  <a:pt x="282" y="317"/>
                </a:lnTo>
                <a:lnTo>
                  <a:pt x="282" y="105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49160" y="5816520"/>
            <a:ext cx="4076640" cy="965160"/>
          </a:xfrm>
          <a:prstGeom prst="rect">
            <a:avLst/>
          </a:prstGeom>
          <a:noFill/>
          <a:ln w="38160">
            <a:solidFill>
              <a:srgbClr val="fc0128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20 is the macro cell where the REGISTER statement is exec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0” is the value of the calling window h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371600"/>
                <a:tab algn="l" pos="4572000"/>
                <a:tab algn="l" pos="4800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ILENAME” is the diskfile name that’s being s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54864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282" y="1059"/>
                </a:moveTo>
                <a:lnTo>
                  <a:pt x="564" y="1059"/>
                </a:lnTo>
                <a:lnTo>
                  <a:pt x="564" y="317"/>
                </a:lnTo>
                <a:lnTo>
                  <a:pt x="848" y="317"/>
                </a:lnTo>
                <a:lnTo>
                  <a:pt x="424" y="0"/>
                </a:lnTo>
                <a:lnTo>
                  <a:pt x="0" y="317"/>
                </a:lnTo>
                <a:lnTo>
                  <a:pt x="282" y="317"/>
                </a:lnTo>
                <a:lnTo>
                  <a:pt x="282" y="105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243080" y="71280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Excel Programming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0600" y="1955880"/>
            <a:ext cx="8918640" cy="29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el 5.0 support will differ from Excel 4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rrent sheet must be “temp” saved to disk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et cannot be shared or locked at send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el 4.0 macro code supports this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Using SendMail from V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105520" y="1803240"/>
            <a:ext cx="342900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914400"/>
                <a:tab algn="l" pos="4114800"/>
                <a:tab algn="l" pos="4343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l enabling any application is easy with the SENDMAIL API called from V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914400"/>
                <a:tab algn="l" pos="4114800"/>
                <a:tab algn="l" pos="4343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F.EXE is a simple “file sender” VB application utility that uses a call to the simple form of the SENDMAIL AP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16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914400"/>
                <a:tab algn="l" pos="4114800"/>
                <a:tab algn="l" pos="4343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F sends only 1 file per invok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5960" y="2287440"/>
            <a:ext cx="37782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43080" y="71280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VB Basic code for VnsSimpleSen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0600" y="1955880"/>
            <a:ext cx="8918640" cy="36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clare Function VnsSimpleSendMail Lib "sendmail.dll" (ByVal pszFileName As String) As Inte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meOfFile = Text1.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FileExists(NameOfFile) &lt;&gt; 0 Th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turnCode = VnsSimpleSendMail(NameOfFi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'Text1.Text = "File not found: " + NameOf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d 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65040" y="5929200"/>
            <a:ext cx="7169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VB sample code for DF.EXE i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43080" y="839880"/>
            <a:ext cx="73962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Mail Enabling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0600" y="1955880"/>
            <a:ext cx="891864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ow any application to send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nd current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nd current file, or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nd text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243080" y="839880"/>
            <a:ext cx="82551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What is SendMa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4680" y="1663560"/>
            <a:ext cx="837072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191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is Banyan’s message-enabling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191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simplifies MAIL API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75000"/>
              </a:lnSpc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toolkit needed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75000"/>
              </a:lnSpc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bines messaging and directory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75000"/>
              </a:lnSpc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191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velopers can enable any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241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241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ktop (Word, Excel, Lotus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241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endMail API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0600" y="1955880"/>
            <a:ext cx="891864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has two flav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Simple Send Mai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siest call to use.  Just give it a file name and it does the 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743040"/>
                <a:tab algn="l" pos="3943440"/>
                <a:tab algn="l" pos="4172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F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x</a:t>
            </a:r>
            <a:r>
              <a:rPr b="1" lang="en-US" sz="2400" spc="-1" strike="noStrike">
                <a:solidFill>
                  <a:srgbClr val="b760f9"/>
                </a:solidFill>
                <a:latin typeface="Arial"/>
                <a:ea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 Send Mai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e work to use, but  more control over number of attachments, addressing, and main body cont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89240" y="1905120"/>
            <a:ext cx="4727520" cy="386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243080" y="839880"/>
            <a:ext cx="73929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imple SendMail Form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81200" y="2419200"/>
            <a:ext cx="2428920" cy="952560"/>
            <a:chOff x="781200" y="2419200"/>
            <a:chExt cx="2428920" cy="952560"/>
          </a:xfrm>
        </p:grpSpPr>
        <p:sp>
          <p:nvSpPr>
            <p:cNvPr id="56" name=""/>
            <p:cNvSpPr/>
            <p:nvPr/>
          </p:nvSpPr>
          <p:spPr>
            <a:xfrm>
              <a:off x="2066760" y="2419200"/>
              <a:ext cx="1143360" cy="937080"/>
            </a:xfrm>
            <a:custGeom>
              <a:avLst/>
              <a:gdLst/>
              <a:ahLst/>
              <a:rect l="0" t="0" r="r" b="b"/>
              <a:pathLst>
                <a:path w="3176" h="2603">
                  <a:moveTo>
                    <a:pt x="2428" y="1113"/>
                  </a:moveTo>
                  <a:lnTo>
                    <a:pt x="3176" y="554"/>
                  </a:lnTo>
                  <a:lnTo>
                    <a:pt x="2428" y="0"/>
                  </a:lnTo>
                  <a:lnTo>
                    <a:pt x="2428" y="360"/>
                  </a:lnTo>
                  <a:lnTo>
                    <a:pt x="2341" y="361"/>
                  </a:lnTo>
                  <a:lnTo>
                    <a:pt x="2251" y="367"/>
                  </a:lnTo>
                  <a:lnTo>
                    <a:pt x="2162" y="380"/>
                  </a:lnTo>
                  <a:lnTo>
                    <a:pt x="2077" y="397"/>
                  </a:lnTo>
                  <a:lnTo>
                    <a:pt x="1994" y="419"/>
                  </a:lnTo>
                  <a:lnTo>
                    <a:pt x="1913" y="446"/>
                  </a:lnTo>
                  <a:lnTo>
                    <a:pt x="1831" y="478"/>
                  </a:lnTo>
                  <a:lnTo>
                    <a:pt x="1754" y="513"/>
                  </a:lnTo>
                  <a:lnTo>
                    <a:pt x="1681" y="552"/>
                  </a:lnTo>
                  <a:lnTo>
                    <a:pt x="1612" y="592"/>
                  </a:lnTo>
                  <a:lnTo>
                    <a:pt x="1549" y="643"/>
                  </a:lnTo>
                  <a:lnTo>
                    <a:pt x="1488" y="695"/>
                  </a:lnTo>
                  <a:lnTo>
                    <a:pt x="1433" y="749"/>
                  </a:lnTo>
                  <a:lnTo>
                    <a:pt x="1384" y="806"/>
                  </a:lnTo>
                  <a:lnTo>
                    <a:pt x="1340" y="865"/>
                  </a:lnTo>
                  <a:lnTo>
                    <a:pt x="1299" y="926"/>
                  </a:lnTo>
                  <a:lnTo>
                    <a:pt x="1266" y="990"/>
                  </a:lnTo>
                  <a:lnTo>
                    <a:pt x="1240" y="1057"/>
                  </a:lnTo>
                  <a:lnTo>
                    <a:pt x="1222" y="1113"/>
                  </a:lnTo>
                  <a:lnTo>
                    <a:pt x="0" y="1113"/>
                  </a:lnTo>
                  <a:lnTo>
                    <a:pt x="0" y="1497"/>
                  </a:lnTo>
                  <a:lnTo>
                    <a:pt x="1209" y="1497"/>
                  </a:lnTo>
                  <a:lnTo>
                    <a:pt x="1260" y="1599"/>
                  </a:lnTo>
                  <a:lnTo>
                    <a:pt x="1291" y="1664"/>
                  </a:lnTo>
                  <a:lnTo>
                    <a:pt x="1331" y="1726"/>
                  </a:lnTo>
                  <a:lnTo>
                    <a:pt x="1375" y="1785"/>
                  </a:lnTo>
                  <a:lnTo>
                    <a:pt x="1423" y="1843"/>
                  </a:lnTo>
                  <a:lnTo>
                    <a:pt x="1476" y="1899"/>
                  </a:lnTo>
                  <a:lnTo>
                    <a:pt x="1534" y="1953"/>
                  </a:lnTo>
                  <a:lnTo>
                    <a:pt x="1599" y="2000"/>
                  </a:lnTo>
                  <a:lnTo>
                    <a:pt x="1667" y="2043"/>
                  </a:lnTo>
                  <a:lnTo>
                    <a:pt x="1738" y="2083"/>
                  </a:lnTo>
                  <a:lnTo>
                    <a:pt x="1814" y="2118"/>
                  </a:lnTo>
                  <a:lnTo>
                    <a:pt x="1894" y="2152"/>
                  </a:lnTo>
                  <a:lnTo>
                    <a:pt x="1978" y="2180"/>
                  </a:lnTo>
                  <a:lnTo>
                    <a:pt x="2059" y="2204"/>
                  </a:lnTo>
                  <a:lnTo>
                    <a:pt x="2144" y="2221"/>
                  </a:lnTo>
                  <a:lnTo>
                    <a:pt x="2233" y="2234"/>
                  </a:lnTo>
                  <a:lnTo>
                    <a:pt x="2322" y="2241"/>
                  </a:lnTo>
                  <a:lnTo>
                    <a:pt x="2407" y="2245"/>
                  </a:lnTo>
                  <a:lnTo>
                    <a:pt x="2428" y="2245"/>
                  </a:lnTo>
                  <a:lnTo>
                    <a:pt x="2428" y="2603"/>
                  </a:lnTo>
                  <a:lnTo>
                    <a:pt x="3176" y="2050"/>
                  </a:lnTo>
                  <a:lnTo>
                    <a:pt x="2428" y="1497"/>
                  </a:lnTo>
                  <a:lnTo>
                    <a:pt x="2429" y="1886"/>
                  </a:lnTo>
                  <a:lnTo>
                    <a:pt x="2413" y="1886"/>
                  </a:lnTo>
                  <a:lnTo>
                    <a:pt x="2347" y="1884"/>
                  </a:lnTo>
                  <a:lnTo>
                    <a:pt x="2276" y="1877"/>
                  </a:lnTo>
                  <a:lnTo>
                    <a:pt x="2207" y="1862"/>
                  </a:lnTo>
                  <a:lnTo>
                    <a:pt x="2141" y="1844"/>
                  </a:lnTo>
                  <a:lnTo>
                    <a:pt x="2077" y="1822"/>
                  </a:lnTo>
                  <a:lnTo>
                    <a:pt x="2015" y="1797"/>
                  </a:lnTo>
                  <a:lnTo>
                    <a:pt x="1959" y="1765"/>
                  </a:lnTo>
                  <a:lnTo>
                    <a:pt x="1906" y="1732"/>
                  </a:lnTo>
                  <a:lnTo>
                    <a:pt x="1857" y="1692"/>
                  </a:lnTo>
                  <a:lnTo>
                    <a:pt x="1810" y="1651"/>
                  </a:lnTo>
                  <a:lnTo>
                    <a:pt x="1771" y="1605"/>
                  </a:lnTo>
                  <a:lnTo>
                    <a:pt x="1738" y="1558"/>
                  </a:lnTo>
                  <a:lnTo>
                    <a:pt x="1709" y="1507"/>
                  </a:lnTo>
                  <a:lnTo>
                    <a:pt x="1689" y="1455"/>
                  </a:lnTo>
                  <a:lnTo>
                    <a:pt x="1673" y="1404"/>
                  </a:lnTo>
                  <a:lnTo>
                    <a:pt x="1664" y="1350"/>
                  </a:lnTo>
                  <a:lnTo>
                    <a:pt x="1661" y="1296"/>
                  </a:lnTo>
                  <a:lnTo>
                    <a:pt x="1664" y="1240"/>
                  </a:lnTo>
                  <a:lnTo>
                    <a:pt x="1675" y="1186"/>
                  </a:lnTo>
                  <a:lnTo>
                    <a:pt x="1693" y="1135"/>
                  </a:lnTo>
                  <a:lnTo>
                    <a:pt x="1716" y="1085"/>
                  </a:lnTo>
                  <a:lnTo>
                    <a:pt x="1743" y="1034"/>
                  </a:lnTo>
                  <a:lnTo>
                    <a:pt x="1780" y="986"/>
                  </a:lnTo>
                  <a:lnTo>
                    <a:pt x="1819" y="942"/>
                  </a:lnTo>
                  <a:lnTo>
                    <a:pt x="1865" y="901"/>
                  </a:lnTo>
                  <a:lnTo>
                    <a:pt x="1916" y="861"/>
                  </a:lnTo>
                  <a:lnTo>
                    <a:pt x="1972" y="830"/>
                  </a:lnTo>
                  <a:lnTo>
                    <a:pt x="2027" y="799"/>
                  </a:lnTo>
                  <a:lnTo>
                    <a:pt x="2089" y="773"/>
                  </a:lnTo>
                  <a:lnTo>
                    <a:pt x="2154" y="751"/>
                  </a:lnTo>
                  <a:lnTo>
                    <a:pt x="2221" y="736"/>
                  </a:lnTo>
                  <a:lnTo>
                    <a:pt x="2291" y="723"/>
                  </a:lnTo>
                  <a:lnTo>
                    <a:pt x="2361" y="717"/>
                  </a:lnTo>
                  <a:lnTo>
                    <a:pt x="2429" y="715"/>
                  </a:lnTo>
                  <a:lnTo>
                    <a:pt x="2428" y="1113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781200" y="2503440"/>
              <a:ext cx="1285920" cy="8683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tt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90560" y="4495680"/>
            <a:ext cx="5600880" cy="847800"/>
            <a:chOff x="790560" y="4495680"/>
            <a:chExt cx="5600880" cy="847800"/>
          </a:xfrm>
        </p:grpSpPr>
        <p:sp>
          <p:nvSpPr>
            <p:cNvPr id="59" name=""/>
            <p:cNvSpPr/>
            <p:nvPr/>
          </p:nvSpPr>
          <p:spPr>
            <a:xfrm>
              <a:off x="2082960" y="4495680"/>
              <a:ext cx="3940560" cy="733680"/>
            </a:xfrm>
            <a:custGeom>
              <a:avLst/>
              <a:gdLst/>
              <a:ahLst/>
              <a:rect l="0" t="0" r="r" b="b"/>
              <a:pathLst>
                <a:path w="10946" h="2038">
                  <a:moveTo>
                    <a:pt x="3403" y="1014"/>
                  </a:moveTo>
                  <a:lnTo>
                    <a:pt x="4119" y="507"/>
                  </a:lnTo>
                  <a:lnTo>
                    <a:pt x="3403" y="0"/>
                  </a:lnTo>
                  <a:lnTo>
                    <a:pt x="3403" y="338"/>
                  </a:lnTo>
                  <a:lnTo>
                    <a:pt x="2111" y="327"/>
                  </a:lnTo>
                  <a:lnTo>
                    <a:pt x="2030" y="333"/>
                  </a:lnTo>
                  <a:lnTo>
                    <a:pt x="1950" y="344"/>
                  </a:lnTo>
                  <a:lnTo>
                    <a:pt x="1873" y="360"/>
                  </a:lnTo>
                  <a:lnTo>
                    <a:pt x="1799" y="380"/>
                  </a:lnTo>
                  <a:lnTo>
                    <a:pt x="1725" y="404"/>
                  </a:lnTo>
                  <a:lnTo>
                    <a:pt x="1651" y="433"/>
                  </a:lnTo>
                  <a:lnTo>
                    <a:pt x="1582" y="465"/>
                  </a:lnTo>
                  <a:lnTo>
                    <a:pt x="1516" y="501"/>
                  </a:lnTo>
                  <a:lnTo>
                    <a:pt x="1454" y="538"/>
                  </a:lnTo>
                  <a:lnTo>
                    <a:pt x="1397" y="583"/>
                  </a:lnTo>
                  <a:lnTo>
                    <a:pt x="1343" y="630"/>
                  </a:lnTo>
                  <a:lnTo>
                    <a:pt x="1293" y="679"/>
                  </a:lnTo>
                  <a:lnTo>
                    <a:pt x="1249" y="731"/>
                  </a:lnTo>
                  <a:lnTo>
                    <a:pt x="1210" y="785"/>
                  </a:lnTo>
                  <a:lnTo>
                    <a:pt x="1172" y="841"/>
                  </a:lnTo>
                  <a:lnTo>
                    <a:pt x="1142" y="899"/>
                  </a:lnTo>
                  <a:lnTo>
                    <a:pt x="1119" y="960"/>
                  </a:lnTo>
                  <a:lnTo>
                    <a:pt x="1103" y="1011"/>
                  </a:lnTo>
                  <a:lnTo>
                    <a:pt x="0" y="1011"/>
                  </a:lnTo>
                  <a:lnTo>
                    <a:pt x="0" y="1361"/>
                  </a:lnTo>
                  <a:lnTo>
                    <a:pt x="1091" y="1361"/>
                  </a:lnTo>
                  <a:lnTo>
                    <a:pt x="1137" y="1454"/>
                  </a:lnTo>
                  <a:lnTo>
                    <a:pt x="1165" y="1513"/>
                  </a:lnTo>
                  <a:lnTo>
                    <a:pt x="1201" y="1570"/>
                  </a:lnTo>
                  <a:lnTo>
                    <a:pt x="1241" y="1623"/>
                  </a:lnTo>
                  <a:lnTo>
                    <a:pt x="1284" y="1677"/>
                  </a:lnTo>
                  <a:lnTo>
                    <a:pt x="1332" y="1727"/>
                  </a:lnTo>
                  <a:lnTo>
                    <a:pt x="1385" y="1775"/>
                  </a:lnTo>
                  <a:lnTo>
                    <a:pt x="1442" y="1819"/>
                  </a:lnTo>
                  <a:lnTo>
                    <a:pt x="1503" y="1858"/>
                  </a:lnTo>
                  <a:lnTo>
                    <a:pt x="1567" y="1894"/>
                  </a:lnTo>
                  <a:lnTo>
                    <a:pt x="1636" y="1926"/>
                  </a:lnTo>
                  <a:lnTo>
                    <a:pt x="1708" y="1956"/>
                  </a:lnTo>
                  <a:lnTo>
                    <a:pt x="1784" y="1982"/>
                  </a:lnTo>
                  <a:lnTo>
                    <a:pt x="1857" y="2004"/>
                  </a:lnTo>
                  <a:lnTo>
                    <a:pt x="1934" y="2020"/>
                  </a:lnTo>
                  <a:lnTo>
                    <a:pt x="2014" y="2031"/>
                  </a:lnTo>
                  <a:lnTo>
                    <a:pt x="2094" y="2038"/>
                  </a:lnTo>
                  <a:lnTo>
                    <a:pt x="10943" y="2027"/>
                  </a:lnTo>
                  <a:lnTo>
                    <a:pt x="10946" y="1731"/>
                  </a:lnTo>
                  <a:lnTo>
                    <a:pt x="1991" y="1694"/>
                  </a:lnTo>
                  <a:lnTo>
                    <a:pt x="1931" y="1677"/>
                  </a:lnTo>
                  <a:lnTo>
                    <a:pt x="1873" y="1657"/>
                  </a:lnTo>
                  <a:lnTo>
                    <a:pt x="1818" y="1634"/>
                  </a:lnTo>
                  <a:lnTo>
                    <a:pt x="1767" y="1605"/>
                  </a:lnTo>
                  <a:lnTo>
                    <a:pt x="1719" y="1575"/>
                  </a:lnTo>
                  <a:lnTo>
                    <a:pt x="1675" y="1539"/>
                  </a:lnTo>
                  <a:lnTo>
                    <a:pt x="1632" y="1501"/>
                  </a:lnTo>
                  <a:lnTo>
                    <a:pt x="1597" y="1460"/>
                  </a:lnTo>
                  <a:lnTo>
                    <a:pt x="1567" y="1417"/>
                  </a:lnTo>
                  <a:lnTo>
                    <a:pt x="1541" y="1370"/>
                  </a:lnTo>
                  <a:lnTo>
                    <a:pt x="1523" y="1323"/>
                  </a:lnTo>
                  <a:lnTo>
                    <a:pt x="1508" y="1276"/>
                  </a:lnTo>
                  <a:lnTo>
                    <a:pt x="1501" y="1227"/>
                  </a:lnTo>
                  <a:lnTo>
                    <a:pt x="1498" y="1178"/>
                  </a:lnTo>
                  <a:lnTo>
                    <a:pt x="1501" y="1128"/>
                  </a:lnTo>
                  <a:lnTo>
                    <a:pt x="1510" y="1079"/>
                  </a:lnTo>
                  <a:lnTo>
                    <a:pt x="1526" y="1032"/>
                  </a:lnTo>
                  <a:lnTo>
                    <a:pt x="1548" y="985"/>
                  </a:lnTo>
                  <a:lnTo>
                    <a:pt x="1572" y="939"/>
                  </a:lnTo>
                  <a:lnTo>
                    <a:pt x="1605" y="895"/>
                  </a:lnTo>
                  <a:lnTo>
                    <a:pt x="1641" y="855"/>
                  </a:lnTo>
                  <a:lnTo>
                    <a:pt x="1682" y="818"/>
                  </a:lnTo>
                  <a:lnTo>
                    <a:pt x="1728" y="781"/>
                  </a:lnTo>
                  <a:lnTo>
                    <a:pt x="1778" y="753"/>
                  </a:lnTo>
                  <a:lnTo>
                    <a:pt x="1828" y="725"/>
                  </a:lnTo>
                  <a:lnTo>
                    <a:pt x="1884" y="701"/>
                  </a:lnTo>
                  <a:lnTo>
                    <a:pt x="1943" y="681"/>
                  </a:lnTo>
                  <a:lnTo>
                    <a:pt x="2003" y="667"/>
                  </a:lnTo>
                  <a:lnTo>
                    <a:pt x="2066" y="656"/>
                  </a:lnTo>
                  <a:lnTo>
                    <a:pt x="2129" y="650"/>
                  </a:lnTo>
                  <a:lnTo>
                    <a:pt x="3403" y="676"/>
                  </a:lnTo>
                  <a:lnTo>
                    <a:pt x="3403" y="1014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790560" y="4556160"/>
              <a:ext cx="1292400" cy="7873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i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29280" y="4799160"/>
              <a:ext cx="362160" cy="424080"/>
            </a:xfrm>
            <a:custGeom>
              <a:avLst/>
              <a:gdLst/>
              <a:ahLst/>
              <a:rect l="0" t="0" r="r" b="b"/>
              <a:pathLst>
                <a:path w="1006" h="1178">
                  <a:moveTo>
                    <a:pt x="7" y="1178"/>
                  </a:moveTo>
                  <a:lnTo>
                    <a:pt x="21" y="1178"/>
                  </a:lnTo>
                  <a:lnTo>
                    <a:pt x="115" y="1136"/>
                  </a:lnTo>
                  <a:lnTo>
                    <a:pt x="178" y="1122"/>
                  </a:lnTo>
                  <a:lnTo>
                    <a:pt x="231" y="1095"/>
                  </a:lnTo>
                  <a:lnTo>
                    <a:pt x="280" y="1068"/>
                  </a:lnTo>
                  <a:lnTo>
                    <a:pt x="325" y="1039"/>
                  </a:lnTo>
                  <a:lnTo>
                    <a:pt x="378" y="1010"/>
                  </a:lnTo>
                  <a:lnTo>
                    <a:pt x="423" y="973"/>
                  </a:lnTo>
                  <a:lnTo>
                    <a:pt x="465" y="934"/>
                  </a:lnTo>
                  <a:lnTo>
                    <a:pt x="500" y="893"/>
                  </a:lnTo>
                  <a:lnTo>
                    <a:pt x="543" y="854"/>
                  </a:lnTo>
                  <a:lnTo>
                    <a:pt x="575" y="805"/>
                  </a:lnTo>
                  <a:lnTo>
                    <a:pt x="600" y="756"/>
                  </a:lnTo>
                  <a:lnTo>
                    <a:pt x="628" y="705"/>
                  </a:lnTo>
                  <a:lnTo>
                    <a:pt x="649" y="659"/>
                  </a:lnTo>
                  <a:lnTo>
                    <a:pt x="659" y="610"/>
                  </a:lnTo>
                  <a:lnTo>
                    <a:pt x="677" y="558"/>
                  </a:lnTo>
                  <a:lnTo>
                    <a:pt x="673" y="507"/>
                  </a:lnTo>
                  <a:lnTo>
                    <a:pt x="673" y="455"/>
                  </a:lnTo>
                  <a:lnTo>
                    <a:pt x="680" y="441"/>
                  </a:lnTo>
                  <a:lnTo>
                    <a:pt x="1006" y="438"/>
                  </a:lnTo>
                  <a:lnTo>
                    <a:pt x="490" y="0"/>
                  </a:lnTo>
                  <a:lnTo>
                    <a:pt x="0" y="450"/>
                  </a:lnTo>
                  <a:lnTo>
                    <a:pt x="353" y="446"/>
                  </a:lnTo>
                  <a:lnTo>
                    <a:pt x="350" y="455"/>
                  </a:lnTo>
                  <a:lnTo>
                    <a:pt x="350" y="497"/>
                  </a:lnTo>
                  <a:lnTo>
                    <a:pt x="346" y="538"/>
                  </a:lnTo>
                  <a:lnTo>
                    <a:pt x="332" y="577"/>
                  </a:lnTo>
                  <a:lnTo>
                    <a:pt x="315" y="615"/>
                  </a:lnTo>
                  <a:lnTo>
                    <a:pt x="301" y="649"/>
                  </a:lnTo>
                  <a:lnTo>
                    <a:pt x="276" y="690"/>
                  </a:lnTo>
                  <a:lnTo>
                    <a:pt x="255" y="722"/>
                  </a:lnTo>
                  <a:lnTo>
                    <a:pt x="224" y="754"/>
                  </a:lnTo>
                  <a:lnTo>
                    <a:pt x="192" y="785"/>
                  </a:lnTo>
                  <a:lnTo>
                    <a:pt x="154" y="812"/>
                  </a:lnTo>
                  <a:lnTo>
                    <a:pt x="112" y="834"/>
                  </a:lnTo>
                  <a:lnTo>
                    <a:pt x="70" y="859"/>
                  </a:lnTo>
                  <a:lnTo>
                    <a:pt x="24" y="876"/>
                  </a:lnTo>
                  <a:lnTo>
                    <a:pt x="7" y="944"/>
                  </a:lnTo>
                  <a:lnTo>
                    <a:pt x="7" y="1178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68200" y="1965240"/>
            <a:ext cx="79232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#include "sendmail.h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  iCallRe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VnsSimpleSendMail(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lpFileNam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CallRet = VnsSimpleSendMail( "FILENAME.TXT"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50920" y="809640"/>
            <a:ext cx="84391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Simplest Form of Sen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48240" y="1765440"/>
            <a:ext cx="2260440" cy="119376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olves to char FAR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Considerations for Simple Sen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0600" y="1955880"/>
            <a:ext cx="8918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ing application must create a disk image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Mail will open the file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e sure file is not “lock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ror codes other than zero can be explained using the call VNSERR error:  VNSERR 301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ALT-ENTER to &lt;CR,LF&gt; in message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1440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ssage edit box support 749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43080" y="839880"/>
            <a:ext cx="76867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Flexible SendMail API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0600" y="1955880"/>
            <a:ext cx="891864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llStatus VnsSimpleSendMai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 LPBODY_PIECES lpBodyPieces, LPSTR lpRecips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tabLst>
                <a:tab algn="l" pos="1085760"/>
                <a:tab algn="l" pos="4286160"/>
                <a:tab algn="l" pos="4514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BODY_PIECES  lpBodyPieces;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stead of having SENDMAIL.DLL package up one file to send, this structure allows you to send mutiple files as attachments, or in message bo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afd00"/>
              </a:buClr>
              <a:buSzPct val="125000"/>
              <a:buFont typeface="Arial"/>
              <a:buChar char=""/>
              <a:tabLst>
                <a:tab algn="l" pos="1085760"/>
                <a:tab algn="l" pos="4286160"/>
                <a:tab algn="l" pos="451476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PSTR  lpRecips;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5000"/>
              </a:lnSpc>
              <a:spcBef>
                <a:spcPts val="479"/>
              </a:spcBef>
              <a:spcAft>
                <a:spcPts val="479"/>
              </a:spcAft>
              <a:buClr>
                <a:srgbClr val="ffffff"/>
              </a:buClr>
              <a:buFont typeface="Arial"/>
              <a:buChar char="-"/>
              <a:tabLst>
                <a:tab algn="l" pos="743040"/>
                <a:tab algn="l" pos="3943440"/>
                <a:tab algn="l" pos="417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you pass a pointer to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lpRecip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the VNSDLG browser will NOT come up. A NULL will bring up the addressing dialog box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n Sohn</dc:creator>
  <dc:description/>
  <dc:language>en-US</dc:language>
  <cp:lastModifiedBy>Steven Sohn</cp:lastModifiedBy>
  <cp:revision>0</cp:revision>
  <dc:subject>Banyan 1994 Developer confenence</dc:subject>
  <dc:title>Mail Enabling Desktop Applications</dc:title>
</cp:coreProperties>
</file>