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D6550C3-24A2-4615-AA43-59ED22C16F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An IME unaware program just check sWM_CHAR and ignores WM_IME_RE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Using IR_STRING.  This means you can get  an entire string from the IME, rather than going character by character (IR_STRINGSTART, IR_STRINGEN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is example shows how you can write code that will run on the US version of NT even though the US version of NT does not support the IME APIs.  This kind of technique is useful for handling API-set differenc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MEFunc contains hardcoded function names.  The code in LoadIMEFuncs will replace the NULLs here (point) with procedure addresses if they exist (if the IME APIs are supported).  Otherwise, it will leave them null.  Then you will know whether or not you can “do Japanese stuff.”  Then you can call the IME functions through their addresses rather than hard-coding the API call into your code (in which case your program would not load on US vers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you’d like more information on internationalization concepts, here are some books that can help.  The GRK also contains fliers for several other books, some technical and a couple on market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n the U.S., 44% of all applications sold are Windows-based applications.  This is a pretty phenomenal percentage, considering that it was almost zero a few years ag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percentage of applications sold that are Windows-based is even more phenomenal internation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f they want to know why:) In the U.S. you still have a lot of older machines, like 286’s that primarily run MS-DOS.  Newer PC’s tend to be bundled with Windows.  Our OEM sales of Windows is larg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t;NOTE: This should be a build slide!&g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Migrate your FE 16 bit apps to Win32 today</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Target FE Win 3.1 feature set with Win32s</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Target Windows NT-J for:</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New generation of client-server apps -- </a:t>
            </a:r>
            <a:br>
              <a:rPr sz="1200"/>
            </a:br>
            <a:r>
              <a:rPr b="0" lang="en-US" sz="1200" spc="-1" strike="noStrike">
                <a:solidFill>
                  <a:srgbClr val="000000"/>
                </a:solidFill>
                <a:latin typeface="Arial"/>
                <a:ea typeface="Arial"/>
              </a:rPr>
              <a:t>  </a:t>
            </a:r>
            <a:r>
              <a:rPr b="0" lang="en-US" sz="1200" spc="-1" strike="noStrike" u="sng">
                <a:solidFill>
                  <a:srgbClr val="000000"/>
                </a:solidFill>
                <a:uFillTx/>
                <a:latin typeface="Arial"/>
                <a:ea typeface="Arial"/>
              </a:rPr>
              <a:t>wave is just starting to hit FE</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Mission critical stuff -- </a:t>
            </a:r>
            <a:r>
              <a:rPr b="0" lang="en-US" sz="1200" spc="-1" strike="noStrike" u="sng">
                <a:solidFill>
                  <a:srgbClr val="000000"/>
                </a:solidFill>
                <a:uFillTx/>
                <a:latin typeface="Arial"/>
                <a:ea typeface="Arial"/>
              </a:rPr>
              <a:t>lots of MIS people in Japan</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Graphics-intensive applications -</a:t>
            </a:r>
            <a:r>
              <a:rPr b="0" lang="en-US" sz="1200" spc="-1" strike="noStrike" u="sng">
                <a:solidFill>
                  <a:srgbClr val="000000"/>
                </a:solidFill>
                <a:uFillTx/>
                <a:latin typeface="Arial"/>
                <a:ea typeface="Arial"/>
              </a:rPr>
              <a:t>- advanced GDI in Win32</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Apps suited for portability between x86, SMP and RISC </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Support OLE 2.0 and also get:</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In-place activation</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Automation and scripting</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Drag-and-drop within your app</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Compound fi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buNone/>
              <a:tabLst>
                <a:tab algn="l" pos="1657440"/>
                <a:tab algn="l" pos="3085920"/>
              </a:tabLst>
            </a:pPr>
            <a:r>
              <a:rPr b="0" lang="en-US" sz="1200" spc="-1" strike="noStrike">
                <a:solidFill>
                  <a:srgbClr val="000000"/>
                </a:solidFill>
                <a:latin typeface="Arial"/>
                <a:ea typeface="Arial"/>
              </a:rPr>
              <a:t>Arabic/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ore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Arabic/Fren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inn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rwegi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atal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ren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ortuguese</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E Europ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erm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ol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hinese (PR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ek</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ssi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hinese (Taiw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brew/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pan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ze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ungari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wed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Dan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ali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ai</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Dut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Japane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urkish</a:t>
            </a:r>
            <a:endParaRPr b="0" lang="en-US" sz="1200" spc="-1" strike="noStrike">
              <a:solidFill>
                <a:srgbClr val="000000"/>
              </a:solidFill>
              <a:latin typeface="Arial"/>
            </a:endParaRPr>
          </a:p>
          <a:p>
            <a:pPr indent="0">
              <a:lnSpc>
                <a:spcPct val="90000"/>
              </a:lnSpc>
              <a:spcBef>
                <a:spcPts val="961"/>
              </a:spcBef>
              <a:buNone/>
              <a:tabLst>
                <a:tab algn="l" pos="1657440"/>
                <a:tab algn="l" pos="3085920"/>
              </a:tabLst>
            </a:pPr>
            <a:r>
              <a:rPr b="0" lang="en-US" sz="1200" spc="-1" strike="noStrike">
                <a:solidFill>
                  <a:srgbClr val="000000"/>
                </a:solidFill>
                <a:latin typeface="Arial"/>
                <a:ea typeface="Arial"/>
              </a:rPr>
              <a:t>Windows 3.1 is available in 27 versions. Indonesian documentation is available, and Farsi will soon be in beta.  You can reach a large part of the world with your applications.  Many of these versions are used in more than one countr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Two view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dows 3.1 API stretched to 32-bit</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Subset of Win32 API that is compatible with Win16</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Provide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32-bit equivalents for Windows 3.1 APIs on Windows 3.1</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Adds several powerful Windows NT features for Win32 apps. on Windows 3.1</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Win32s is distributed in toolkits</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Licensed to tool vendor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32s DLL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32s VxD</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ISVs ship DLLs and VxD with their 32-bit Win32 application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DLLs and VxD run on Windows 3.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343320" y="1738440"/>
            <a:ext cx="2427120" cy="2647800"/>
          </a:xfrm>
          <a:prstGeom prst="rect">
            <a:avLst/>
          </a:prstGeom>
          <a:ln w="0">
            <a:noFill/>
          </a:ln>
        </p:spPr>
      </p:pic>
      <p:sp>
        <p:nvSpPr>
          <p:cNvPr id="45" name=""/>
          <p:cNvSpPr txBox="1"/>
          <p:nvPr/>
        </p:nvSpPr>
        <p:spPr>
          <a:xfrm>
            <a:off x="399960" y="4546440"/>
            <a:ext cx="8344080" cy="2181240"/>
          </a:xfrm>
          <a:prstGeom prst="rect">
            <a:avLst/>
          </a:prstGeom>
          <a:noFill/>
          <a:ln w="0">
            <a:noFill/>
          </a:ln>
        </p:spPr>
        <p:txBody>
          <a:bodyPr lIns="0" rIns="0" tIns="0" bIns="0" anchor="t">
            <a:noAutofit/>
          </a:bodyPr>
          <a:p>
            <a:pPr algn="ctr">
              <a:lnSpc>
                <a:spcPct val="95000"/>
              </a:lnSpc>
            </a:pPr>
            <a:r>
              <a:rPr b="1" lang="en-US" sz="3600" spc="-1" strike="noStrike">
                <a:solidFill>
                  <a:srgbClr val="f4d337"/>
                </a:solidFill>
                <a:latin typeface="Times New Roman"/>
                <a:ea typeface="Times New Roman"/>
              </a:rPr>
              <a:t>Ken Fowles</a:t>
            </a:r>
            <a:endParaRPr b="0" lang="en-US" sz="3600" spc="-1" strike="noStrike">
              <a:solidFill>
                <a:srgbClr val="ffffff"/>
              </a:solidFill>
              <a:latin typeface="Arial"/>
            </a:endParaRPr>
          </a:p>
          <a:p>
            <a:pPr algn="ctr">
              <a:lnSpc>
                <a:spcPct val="95000"/>
              </a:lnSpc>
            </a:pPr>
            <a:r>
              <a:rPr b="1" lang="en-US" sz="3600" spc="-1" strike="noStrike">
                <a:solidFill>
                  <a:srgbClr val="f4d337"/>
                </a:solidFill>
                <a:latin typeface="Times New Roman"/>
                <a:ea typeface="Times New Roman"/>
              </a:rPr>
              <a:t>Manager Globalization Evangelism</a:t>
            </a:r>
            <a:br>
              <a:rPr sz="3600"/>
            </a:br>
            <a:r>
              <a:rPr b="1" lang="en-US" sz="3600" spc="-1" strike="noStrike">
                <a:solidFill>
                  <a:srgbClr val="f4d337"/>
                </a:solidFill>
                <a:latin typeface="Times New Roman"/>
                <a:ea typeface="Times New Roman"/>
              </a:rPr>
              <a:t>Developer Relations Group</a:t>
            </a:r>
            <a:br>
              <a:rPr sz="3600"/>
            </a:br>
            <a:r>
              <a:rPr b="1" lang="en-US" sz="3600" spc="-1" strike="noStrike">
                <a:solidFill>
                  <a:srgbClr val="f4d337"/>
                </a:solidFill>
                <a:latin typeface="Times New Roman"/>
                <a:ea typeface="Times New Roman"/>
              </a:rPr>
              <a:t>Microsoft Corporation</a:t>
            </a:r>
            <a:endParaRPr b="0" lang="en-US" sz="3600" spc="-1" strike="noStrike">
              <a:solidFill>
                <a:srgbClr val="ffffff"/>
              </a:solidFill>
              <a:latin typeface="Arial"/>
            </a:endParaRPr>
          </a:p>
        </p:txBody>
      </p:sp>
      <p:sp>
        <p:nvSpPr>
          <p:cNvPr id="46" name=""/>
          <p:cNvSpPr/>
          <p:nvPr/>
        </p:nvSpPr>
        <p:spPr>
          <a:xfrm>
            <a:off x="3343320" y="3513240"/>
            <a:ext cx="2432160" cy="876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3416400" y="3632040"/>
            <a:ext cx="1143000" cy="646200"/>
          </a:xfrm>
          <a:prstGeom prst="rect">
            <a:avLst/>
          </a:prstGeom>
          <a:ln w="0">
            <a:noFill/>
          </a:ln>
        </p:spPr>
      </p:pic>
      <p:pic>
        <p:nvPicPr>
          <p:cNvPr id="48" name="" descr=""/>
          <p:cNvPicPr/>
          <p:nvPr/>
        </p:nvPicPr>
        <p:blipFill>
          <a:blip r:embed="rId3"/>
          <a:stretch/>
        </p:blipFill>
        <p:spPr>
          <a:xfrm>
            <a:off x="4529160" y="3670200"/>
            <a:ext cx="1192320" cy="574560"/>
          </a:xfrm>
          <a:prstGeom prst="rect">
            <a:avLst/>
          </a:prstGeom>
          <a:ln w="0">
            <a:noFill/>
          </a:ln>
        </p:spPr>
      </p:pic>
      <p:sp>
        <p:nvSpPr>
          <p:cNvPr id="49" name=""/>
          <p:cNvSpPr txBox="1"/>
          <p:nvPr/>
        </p:nvSpPr>
        <p:spPr>
          <a:xfrm>
            <a:off x="1033560" y="255600"/>
            <a:ext cx="7077240" cy="1482840"/>
          </a:xfrm>
          <a:prstGeom prst="rect">
            <a:avLst/>
          </a:prstGeom>
          <a:noFill/>
          <a:ln w="0">
            <a:noFill/>
          </a:ln>
        </p:spPr>
        <p:txBody>
          <a:bodyPr lIns="0" rIns="0" tIns="0" bIns="0" anchor="t">
            <a:noAutofit/>
          </a:bodyPr>
          <a:p>
            <a:pPr algn="ctr">
              <a:lnSpc>
                <a:spcPct val="95000"/>
              </a:lnSpc>
            </a:pPr>
            <a:r>
              <a:rPr b="1" lang="en-US" sz="4800" spc="-1" strike="noStrike">
                <a:solidFill>
                  <a:srgbClr val="ffd11a"/>
                </a:solidFill>
                <a:latin typeface="Times New Roman"/>
                <a:ea typeface="Times New Roman"/>
              </a:rPr>
              <a:t>Using Win32</a:t>
            </a:r>
            <a:r>
              <a:rPr b="1" lang="en-US" sz="4000" spc="-1" strike="noStrike" baseline="48000">
                <a:solidFill>
                  <a:srgbClr val="ffd11a"/>
                </a:solidFill>
                <a:latin typeface="Times New Roman"/>
                <a:ea typeface="Times New Roman"/>
              </a:rPr>
              <a:t>®</a:t>
            </a:r>
            <a:r>
              <a:rPr b="1" lang="en-US" sz="4800" spc="-1" strike="noStrike">
                <a:solidFill>
                  <a:srgbClr val="ffd11a"/>
                </a:solidFill>
                <a:latin typeface="Times New Roman"/>
                <a:ea typeface="Times New Roman"/>
              </a:rPr>
              <a:t> To Create </a:t>
            </a:r>
            <a:br>
              <a:rPr sz="4800"/>
            </a:br>
            <a:r>
              <a:rPr b="1" lang="en-US" sz="4800" spc="-1" strike="noStrike">
                <a:solidFill>
                  <a:srgbClr val="ffd11a"/>
                </a:solidFill>
                <a:latin typeface="Times New Roman"/>
                <a:ea typeface="Times New Roman"/>
              </a:rPr>
              <a:t>International Application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9" name=""/>
          <p:cNvSpPr txBox="1"/>
          <p:nvPr/>
        </p:nvSpPr>
        <p:spPr>
          <a:xfrm>
            <a:off x="1062000" y="228600"/>
            <a:ext cx="702000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cript Support In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210" name=""/>
          <p:cNvSpPr txBox="1"/>
          <p:nvPr/>
        </p:nvSpPr>
        <p:spPr>
          <a:xfrm>
            <a:off x="1039680" y="1795320"/>
            <a:ext cx="7064280" cy="4660920"/>
          </a:xfrm>
          <a:prstGeom prst="rect">
            <a:avLst/>
          </a:prstGeom>
          <a:noFill/>
          <a:ln w="0">
            <a:noFill/>
          </a:ln>
        </p:spPr>
        <p:txBody>
          <a:bodyPr lIns="0" rIns="0" tIns="0" bIns="0" anchor="t">
            <a:noAutofit/>
          </a:bodyPr>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NSI APIs (like Windows 3.1)</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code data supported through Win32 conversion APIs</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isplay of multiple scripts</a:t>
            </a:r>
            <a:endParaRPr b="0" lang="en-US" sz="32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BCS:  </a:t>
            </a:r>
            <a:r>
              <a:rPr b="1" lang="en-US" sz="2400" spc="-1" strike="noStrike">
                <a:solidFill>
                  <a:srgbClr val="ffffff"/>
                </a:solidFill>
                <a:latin typeface="Times New Roman"/>
                <a:ea typeface="Times New Roman"/>
              </a:rPr>
              <a:t>Americas, Western Europe, Eastern Europe, Greece, Turkey, Russia</a:t>
            </a:r>
            <a:endParaRPr b="0" lang="en-US" sz="24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BCS:  </a:t>
            </a:r>
            <a:r>
              <a:rPr b="1" lang="en-US" sz="2400" spc="-1" strike="noStrike">
                <a:solidFill>
                  <a:srgbClr val="ffffff"/>
                </a:solidFill>
                <a:latin typeface="Times New Roman"/>
                <a:ea typeface="Times New Roman"/>
              </a:rPr>
              <a:t>One Far East language at a time, plus all SBCS languages (above) </a:t>
            </a:r>
            <a:endParaRPr b="0" lang="en-US" sz="24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idirectional:  </a:t>
            </a:r>
            <a:r>
              <a:rPr b="1" lang="en-US" sz="2400" spc="-1" strike="noStrike">
                <a:solidFill>
                  <a:srgbClr val="ffffff"/>
                </a:solidFill>
                <a:latin typeface="Times New Roman"/>
                <a:ea typeface="Times New Roman"/>
              </a:rPr>
              <a:t>All Middle East languages, plus all SBCS languages (abo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European Script Support</a:t>
            </a:r>
            <a:endParaRPr b="0" lang="en-US" sz="4800" spc="-1" strike="noStrike">
              <a:solidFill>
                <a:srgbClr val="ffffff"/>
              </a:solidFill>
              <a:latin typeface="Arial"/>
            </a:endParaRPr>
          </a:p>
        </p:txBody>
      </p:sp>
      <p:sp>
        <p:nvSpPr>
          <p:cNvPr id="212" name=""/>
          <p:cNvSpPr txBox="1"/>
          <p:nvPr/>
        </p:nvSpPr>
        <p:spPr>
          <a:xfrm>
            <a:off x="851040" y="1190520"/>
            <a:ext cx="7443720" cy="45180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arge fon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600+ glyph European subse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vers the six character sets (code pages) used in Europe and the America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vers the associated MS-DOS code pages used in Europe and the America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rial, Times New Roman, Courier</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Keyboard layout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ocale data for the NLS AP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3" name=""/>
          <p:cNvSpPr txBox="1"/>
          <p:nvPr/>
        </p:nvSpPr>
        <p:spPr>
          <a:xfrm>
            <a:off x="1671480" y="228600"/>
            <a:ext cx="580068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ultilingual And NLS API Support</a:t>
            </a:r>
            <a:endParaRPr b="0" lang="en-US" sz="4800" spc="-1" strike="noStrike">
              <a:solidFill>
                <a:srgbClr val="ffffff"/>
              </a:solidFill>
              <a:latin typeface="Arial"/>
            </a:endParaRPr>
          </a:p>
        </p:txBody>
      </p:sp>
      <p:sp>
        <p:nvSpPr>
          <p:cNvPr id="214" name=""/>
          <p:cNvSpPr txBox="1"/>
          <p:nvPr/>
        </p:nvSpPr>
        <p:spPr>
          <a:xfrm>
            <a:off x="396720" y="2009880"/>
            <a:ext cx="8354880" cy="3235320"/>
          </a:xfrm>
          <a:prstGeom prst="rect">
            <a:avLst/>
          </a:prstGeom>
          <a:gradFill rotWithShape="0">
            <a:gsLst>
              <a:gs pos="0">
                <a:srgbClr val="0c322e"/>
              </a:gs>
              <a:gs pos="100000">
                <a:srgbClr val="29a99b"/>
              </a:gs>
            </a:gsLst>
            <a:lin ang="5400000"/>
          </a:gradFill>
          <a:ln w="12600">
            <a:solidFill>
              <a:srgbClr val="ffffff"/>
            </a:solidFill>
            <a:round/>
          </a:ln>
          <a:effectLst>
            <a:outerShdw dist="0" dir="0" blurRad="0" rotWithShape="0">
              <a:srgbClr val="000000"/>
            </a:outerShdw>
          </a:effectLst>
        </p:spPr>
        <p:txBody>
          <a:bodyPr lIns="0" rIns="0" tIns="0" bIns="0" anchor="t">
            <a:noAutofit/>
          </a:bodyPr>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NSI</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Wide </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Multi- Release</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NLS APIs</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NLS APIs</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lingual</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Windows NT 3.1</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Windows NT 3.5</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hicag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N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endParaRPr b="0" lang="en-US" sz="3200" spc="-1" strike="noStrike">
              <a:solidFill>
                <a:srgbClr val="000000"/>
              </a:solidFill>
              <a:latin typeface="Arial"/>
            </a:endParaRPr>
          </a:p>
        </p:txBody>
      </p:sp>
      <p:sp>
        <p:nvSpPr>
          <p:cNvPr id="215" name=""/>
          <p:cNvSpPr/>
          <p:nvPr/>
        </p:nvSpPr>
        <p:spPr>
          <a:xfrm>
            <a:off x="393840" y="2886120"/>
            <a:ext cx="835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p:nvPr/>
        </p:nvSpPr>
        <p:spPr>
          <a:xfrm flipV="1">
            <a:off x="3594240" y="2886120"/>
            <a:ext cx="0" cy="234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7" name=""/>
          <p:cNvSpPr/>
          <p:nvPr/>
        </p:nvSpPr>
        <p:spPr>
          <a:xfrm flipV="1">
            <a:off x="5172120" y="2895480"/>
            <a:ext cx="0" cy="234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8" name=""/>
          <p:cNvSpPr/>
          <p:nvPr/>
        </p:nvSpPr>
        <p:spPr>
          <a:xfrm flipV="1">
            <a:off x="7113600" y="2881440"/>
            <a:ext cx="0" cy="234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220" name=""/>
          <p:cNvSpPr txBox="1"/>
          <p:nvPr/>
        </p:nvSpPr>
        <p:spPr>
          <a:xfrm>
            <a:off x="1282680" y="1422360"/>
            <a:ext cx="660384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1" name=""/>
          <p:cNvSpPr txBox="1"/>
          <p:nvPr/>
        </p:nvSpPr>
        <p:spPr>
          <a:xfrm>
            <a:off x="214200" y="228600"/>
            <a:ext cx="871524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32 NLS APIs</a:t>
            </a:r>
            <a:br>
              <a:rPr sz="4800"/>
            </a:br>
            <a:r>
              <a:rPr b="1" lang="en-US" sz="3600" spc="-1" strike="noStrike">
                <a:solidFill>
                  <a:srgbClr val="fafd00"/>
                </a:solidFill>
                <a:latin typeface="Times New Roman"/>
                <a:ea typeface="Times New Roman"/>
              </a:rPr>
              <a:t> “Chicago” and Windows NT</a:t>
            </a:r>
            <a:endParaRPr b="0" lang="en-US" sz="3600" spc="-1" strike="noStrike">
              <a:solidFill>
                <a:srgbClr val="ffffff"/>
              </a:solidFill>
              <a:latin typeface="Arial"/>
            </a:endParaRPr>
          </a:p>
        </p:txBody>
      </p:sp>
      <p:sp>
        <p:nvSpPr>
          <p:cNvPr id="222" name=""/>
          <p:cNvSpPr txBox="1"/>
          <p:nvPr/>
        </p:nvSpPr>
        <p:spPr>
          <a:xfrm>
            <a:off x="1371600" y="1819440"/>
            <a:ext cx="6402240" cy="4280040"/>
          </a:xfrm>
          <a:prstGeom prst="rect">
            <a:avLst/>
          </a:prstGeom>
          <a:noFill/>
          <a:ln w="0">
            <a:noFill/>
          </a:ln>
        </p:spPr>
        <p:txBody>
          <a:bodyPr lIns="0" rIns="0" tIns="0" bIns="0" anchor="t">
            <a:noAutofit/>
          </a:bodyPr>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ocale-based</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Unique set of regional setting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retrieving international data</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dividual locale elements </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site date and time formats</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site currency and number format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string comparison</a:t>
            </a:r>
            <a:endParaRPr b="0" lang="en-US" sz="28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string conversion</a:t>
            </a:r>
            <a:endParaRPr b="0" lang="en-US" sz="28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other string process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32 Locale ID (LCID)</a:t>
            </a:r>
            <a:endParaRPr b="0" lang="en-US" sz="4800" spc="-1" strike="noStrike">
              <a:solidFill>
                <a:srgbClr val="ffffff"/>
              </a:solidFill>
              <a:latin typeface="Arial"/>
            </a:endParaRPr>
          </a:p>
        </p:txBody>
      </p:sp>
      <p:sp>
        <p:nvSpPr>
          <p:cNvPr id="224" name=""/>
          <p:cNvSpPr txBox="1"/>
          <p:nvPr/>
        </p:nvSpPr>
        <p:spPr>
          <a:xfrm>
            <a:off x="1184400" y="1571760"/>
            <a:ext cx="6777000" cy="36115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mprised of:</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imary langu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ublangu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ort index</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quely defines a locale:</a:t>
            </a:r>
            <a:endParaRPr b="0" lang="en-US" sz="3200" spc="-1" strike="noStrike">
              <a:solidFill>
                <a:srgbClr val="ffffff"/>
              </a:solidFill>
              <a:latin typeface="Arial"/>
            </a:endParaRPr>
          </a:p>
          <a:p>
            <a:pPr marL="552600" indent="-552600">
              <a:lnSpc>
                <a:spcPct val="90000"/>
              </a:lnSpc>
              <a:spcBef>
                <a:spcPts val="720"/>
              </a:spcBef>
            </a:pPr>
            <a:r>
              <a:rPr b="1" lang="en-US" sz="3000" spc="-1" strike="noStrike">
                <a:solidFill>
                  <a:srgbClr val="ffffff"/>
                </a:solidFill>
                <a:latin typeface="Times New Roman"/>
                <a:ea typeface="Times New Roman"/>
              </a:rPr>
              <a:t>MakeLangID (LANG_FRENCH, </a:t>
            </a:r>
            <a:br>
              <a:rPr sz="3000"/>
            </a:br>
            <a:r>
              <a:rPr b="1" lang="en-US" sz="3000" spc="-1" strike="noStrike">
                <a:solidFill>
                  <a:srgbClr val="ffffff"/>
                </a:solidFill>
                <a:latin typeface="Times New Roman"/>
                <a:ea typeface="Times New Roman"/>
              </a:rPr>
              <a:t>SUBLANG_FRENCH_CANADIA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5"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a:t>
            </a:r>
            <a:endParaRPr b="0" lang="en-US" sz="4800" spc="-1" strike="noStrike">
              <a:solidFill>
                <a:srgbClr val="ffffff"/>
              </a:solidFill>
              <a:latin typeface="Arial"/>
            </a:endParaRPr>
          </a:p>
        </p:txBody>
      </p:sp>
      <p:sp>
        <p:nvSpPr>
          <p:cNvPr id="226" name=""/>
          <p:cNvSpPr txBox="1"/>
          <p:nvPr/>
        </p:nvSpPr>
        <p:spPr>
          <a:xfrm>
            <a:off x="1344600" y="1219320"/>
            <a:ext cx="6454800" cy="5145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nternational data and forma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Locale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etLocale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Time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Date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DateFormats[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TimeFormats[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Calendar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Currency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NumberFormat[W|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7" name=""/>
          <p:cNvSpPr/>
          <p:nvPr/>
        </p:nvSpPr>
        <p:spPr>
          <a:xfrm>
            <a:off x="1235160" y="1571760"/>
            <a:ext cx="6157800" cy="3957480"/>
          </a:xfrm>
          <a:prstGeom prst="rect">
            <a:avLst/>
          </a:prstGeom>
          <a:solidFill>
            <a:srgbClr val="dadada"/>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4964040" y="2014560"/>
            <a:ext cx="2286000" cy="304920"/>
          </a:xfrm>
          <a:prstGeom prst="rect">
            <a:avLst/>
          </a:prstGeom>
          <a:solidFill>
            <a:srgbClr val="dadada"/>
          </a:solid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M    D    M    D    F    S    S</a:t>
            </a:r>
            <a:endParaRPr b="0" lang="en-US" sz="1400" spc="-1" strike="noStrike">
              <a:solidFill>
                <a:srgbClr val="000000"/>
              </a:solidFill>
              <a:latin typeface="Arial"/>
            </a:endParaRPr>
          </a:p>
        </p:txBody>
      </p:sp>
      <p:sp>
        <p:nvSpPr>
          <p:cNvPr id="229" name=""/>
          <p:cNvSpPr/>
          <p:nvPr/>
        </p:nvSpPr>
        <p:spPr>
          <a:xfrm>
            <a:off x="2235240" y="785880"/>
            <a:ext cx="324360" cy="924120"/>
          </a:xfrm>
          <a:custGeom>
            <a:avLst/>
            <a:gdLst/>
            <a:ahLst/>
            <a:rect l="0" t="0" r="r" b="b"/>
            <a:pathLst>
              <a:path w="901" h="2567">
                <a:moveTo>
                  <a:pt x="300" y="0"/>
                </a:moveTo>
                <a:lnTo>
                  <a:pt x="600" y="0"/>
                </a:lnTo>
                <a:lnTo>
                  <a:pt x="600" y="1797"/>
                </a:lnTo>
                <a:lnTo>
                  <a:pt x="901" y="1797"/>
                </a:lnTo>
                <a:lnTo>
                  <a:pt x="450" y="2567"/>
                </a:lnTo>
                <a:lnTo>
                  <a:pt x="0" y="1797"/>
                </a:lnTo>
                <a:lnTo>
                  <a:pt x="300" y="1797"/>
                </a:lnTo>
                <a:lnTo>
                  <a:pt x="300"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592280" y="403200"/>
            <a:ext cx="2643120" cy="4572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Times New Roman"/>
                <a:ea typeface="Times New Roman"/>
              </a:rPr>
              <a:t>GetDateFormat</a:t>
            </a:r>
            <a:endParaRPr b="0" lang="en-US" sz="2400" spc="-1" strike="noStrike">
              <a:solidFill>
                <a:srgbClr val="ffffff"/>
              </a:solidFill>
              <a:latin typeface="Arial"/>
            </a:endParaRPr>
          </a:p>
        </p:txBody>
      </p:sp>
      <p:sp>
        <p:nvSpPr>
          <p:cNvPr id="231" name=""/>
          <p:cNvSpPr txBox="1"/>
          <p:nvPr/>
        </p:nvSpPr>
        <p:spPr>
          <a:xfrm>
            <a:off x="5407200" y="417600"/>
            <a:ext cx="26290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LocaleInfo </a:t>
            </a:r>
            <a:endParaRPr b="0" lang="en-US" sz="2400" spc="-1" strike="noStrike">
              <a:solidFill>
                <a:srgbClr val="ffffff"/>
              </a:solidFill>
              <a:latin typeface="Arial"/>
            </a:endParaRPr>
          </a:p>
        </p:txBody>
      </p:sp>
      <p:sp>
        <p:nvSpPr>
          <p:cNvPr id="232" name=""/>
          <p:cNvSpPr txBox="1"/>
          <p:nvPr/>
        </p:nvSpPr>
        <p:spPr>
          <a:xfrm>
            <a:off x="34920" y="3386160"/>
            <a:ext cx="122724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GetTimeFormat</a:t>
            </a:r>
            <a:endParaRPr b="0" lang="en-US" sz="2000" spc="-1" strike="noStrike">
              <a:solidFill>
                <a:srgbClr val="ffffff"/>
              </a:solidFill>
              <a:latin typeface="Arial"/>
            </a:endParaRPr>
          </a:p>
        </p:txBody>
      </p:sp>
      <p:sp>
        <p:nvSpPr>
          <p:cNvPr id="233" name=""/>
          <p:cNvSpPr/>
          <p:nvPr/>
        </p:nvSpPr>
        <p:spPr>
          <a:xfrm>
            <a:off x="1978200" y="5557680"/>
            <a:ext cx="276480" cy="381240"/>
          </a:xfrm>
          <a:custGeom>
            <a:avLst/>
            <a:gdLst/>
            <a:ahLst/>
            <a:rect l="0" t="0" r="r" b="b"/>
            <a:pathLst>
              <a:path w="768" h="1059">
                <a:moveTo>
                  <a:pt x="255" y="1059"/>
                </a:moveTo>
                <a:lnTo>
                  <a:pt x="512" y="1059"/>
                </a:lnTo>
                <a:lnTo>
                  <a:pt x="512" y="317"/>
                </a:lnTo>
                <a:lnTo>
                  <a:pt x="768" y="317"/>
                </a:lnTo>
                <a:lnTo>
                  <a:pt x="383" y="0"/>
                </a:lnTo>
                <a:lnTo>
                  <a:pt x="0" y="317"/>
                </a:lnTo>
                <a:lnTo>
                  <a:pt x="255" y="317"/>
                </a:lnTo>
                <a:lnTo>
                  <a:pt x="255" y="1059"/>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txBox="1"/>
          <p:nvPr/>
        </p:nvSpPr>
        <p:spPr>
          <a:xfrm>
            <a:off x="1363680" y="5948280"/>
            <a:ext cx="250524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DateFormat</a:t>
            </a:r>
            <a:endParaRPr b="0" lang="en-US" sz="2400" spc="-1" strike="noStrike">
              <a:solidFill>
                <a:srgbClr val="ffffff"/>
              </a:solidFill>
              <a:latin typeface="Arial"/>
            </a:endParaRPr>
          </a:p>
        </p:txBody>
      </p:sp>
      <p:sp>
        <p:nvSpPr>
          <p:cNvPr id="235" name=""/>
          <p:cNvSpPr/>
          <p:nvPr/>
        </p:nvSpPr>
        <p:spPr>
          <a:xfrm>
            <a:off x="4692600" y="5567400"/>
            <a:ext cx="248040" cy="419400"/>
          </a:xfrm>
          <a:custGeom>
            <a:avLst/>
            <a:gdLst/>
            <a:ahLst/>
            <a:rect l="0" t="0" r="r" b="b"/>
            <a:pathLst>
              <a:path w="689" h="1165">
                <a:moveTo>
                  <a:pt x="230" y="1165"/>
                </a:moveTo>
                <a:lnTo>
                  <a:pt x="459" y="1165"/>
                </a:lnTo>
                <a:lnTo>
                  <a:pt x="459" y="349"/>
                </a:lnTo>
                <a:lnTo>
                  <a:pt x="689" y="349"/>
                </a:lnTo>
                <a:lnTo>
                  <a:pt x="344" y="0"/>
                </a:lnTo>
                <a:lnTo>
                  <a:pt x="0" y="349"/>
                </a:lnTo>
                <a:lnTo>
                  <a:pt x="230" y="349"/>
                </a:lnTo>
                <a:lnTo>
                  <a:pt x="230" y="1165"/>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4149720" y="5958000"/>
            <a:ext cx="25290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TimeFormat</a:t>
            </a:r>
            <a:endParaRPr b="0" lang="en-US" sz="2400" spc="-1" strike="noStrike">
              <a:solidFill>
                <a:srgbClr val="ffffff"/>
              </a:solidFill>
              <a:latin typeface="Arial"/>
            </a:endParaRPr>
          </a:p>
        </p:txBody>
      </p:sp>
      <p:sp>
        <p:nvSpPr>
          <p:cNvPr id="237" name=""/>
          <p:cNvSpPr/>
          <p:nvPr/>
        </p:nvSpPr>
        <p:spPr>
          <a:xfrm>
            <a:off x="7068960" y="1986120"/>
            <a:ext cx="357480" cy="305280"/>
          </a:xfrm>
          <a:custGeom>
            <a:avLst/>
            <a:gdLst/>
            <a:ahLst/>
            <a:rect l="0" t="0" r="r" b="b"/>
            <a:pathLst>
              <a:path w="993" h="848">
                <a:moveTo>
                  <a:pt x="993" y="282"/>
                </a:moveTo>
                <a:lnTo>
                  <a:pt x="993" y="564"/>
                </a:lnTo>
                <a:lnTo>
                  <a:pt x="297" y="564"/>
                </a:lnTo>
                <a:lnTo>
                  <a:pt x="297" y="848"/>
                </a:lnTo>
                <a:lnTo>
                  <a:pt x="0" y="424"/>
                </a:lnTo>
                <a:lnTo>
                  <a:pt x="297" y="0"/>
                </a:lnTo>
                <a:lnTo>
                  <a:pt x="297" y="282"/>
                </a:lnTo>
                <a:lnTo>
                  <a:pt x="993" y="282"/>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7342200" y="1952640"/>
            <a:ext cx="176688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GetLocaleInfo</a:t>
            </a:r>
            <a:endParaRPr b="0" lang="en-US" sz="2000" spc="-1" strike="noStrike">
              <a:solidFill>
                <a:srgbClr val="ffffff"/>
              </a:solidFill>
              <a:latin typeface="Arial"/>
            </a:endParaRPr>
          </a:p>
        </p:txBody>
      </p:sp>
      <p:sp>
        <p:nvSpPr>
          <p:cNvPr id="239" name=""/>
          <p:cNvSpPr txBox="1"/>
          <p:nvPr/>
        </p:nvSpPr>
        <p:spPr>
          <a:xfrm>
            <a:off x="1892160" y="1700280"/>
            <a:ext cx="2328840" cy="396720"/>
          </a:xfrm>
          <a:prstGeom prst="rect">
            <a:avLst/>
          </a:prstGeom>
          <a:solidFill>
            <a:srgbClr val="dadad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Di, 9. Mär 1993</a:t>
            </a:r>
            <a:endParaRPr b="0" lang="en-US" sz="2000" spc="-1" strike="noStrike">
              <a:solidFill>
                <a:srgbClr val="000000"/>
              </a:solidFill>
              <a:latin typeface="Arial"/>
            </a:endParaRPr>
          </a:p>
        </p:txBody>
      </p:sp>
      <p:sp>
        <p:nvSpPr>
          <p:cNvPr id="240" name=""/>
          <p:cNvSpPr/>
          <p:nvPr/>
        </p:nvSpPr>
        <p:spPr>
          <a:xfrm>
            <a:off x="4964040" y="2286000"/>
            <a:ext cx="2286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 name=""/>
          <p:cNvSpPr txBox="1"/>
          <p:nvPr/>
        </p:nvSpPr>
        <p:spPr>
          <a:xfrm>
            <a:off x="5249880" y="1571760"/>
            <a:ext cx="2143080" cy="396720"/>
          </a:xfrm>
          <a:prstGeom prst="rect">
            <a:avLst/>
          </a:prstGeom>
          <a:solidFill>
            <a:srgbClr val="dadad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März      1993</a:t>
            </a:r>
            <a:endParaRPr b="0" lang="en-US" sz="2000" spc="-1" strike="noStrike">
              <a:solidFill>
                <a:srgbClr val="000000"/>
              </a:solidFill>
              <a:latin typeface="Arial"/>
            </a:endParaRPr>
          </a:p>
        </p:txBody>
      </p:sp>
      <p:sp>
        <p:nvSpPr>
          <p:cNvPr id="242" name=""/>
          <p:cNvSpPr/>
          <p:nvPr/>
        </p:nvSpPr>
        <p:spPr>
          <a:xfrm>
            <a:off x="5564160" y="771480"/>
            <a:ext cx="267120" cy="895680"/>
          </a:xfrm>
          <a:custGeom>
            <a:avLst/>
            <a:gdLst/>
            <a:ahLst/>
            <a:rect l="0" t="0" r="r" b="b"/>
            <a:pathLst>
              <a:path w="742" h="2488">
                <a:moveTo>
                  <a:pt x="247" y="0"/>
                </a:moveTo>
                <a:lnTo>
                  <a:pt x="494" y="0"/>
                </a:lnTo>
                <a:lnTo>
                  <a:pt x="494" y="1741"/>
                </a:lnTo>
                <a:lnTo>
                  <a:pt x="742" y="1741"/>
                </a:lnTo>
                <a:lnTo>
                  <a:pt x="371" y="2488"/>
                </a:lnTo>
                <a:lnTo>
                  <a:pt x="0" y="1741"/>
                </a:lnTo>
                <a:lnTo>
                  <a:pt x="247" y="1741"/>
                </a:lnTo>
                <a:lnTo>
                  <a:pt x="247"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1778040" y="2357280"/>
            <a:ext cx="2514600" cy="27716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4" name=""/>
          <p:cNvSpPr txBox="1"/>
          <p:nvPr/>
        </p:nvSpPr>
        <p:spPr>
          <a:xfrm>
            <a:off x="4978440" y="2428920"/>
            <a:ext cx="2328840" cy="1592280"/>
          </a:xfrm>
          <a:prstGeom prst="rect">
            <a:avLst/>
          </a:prstGeom>
          <a:solidFill>
            <a:srgbClr val="dadada"/>
          </a:solid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1      2     3      4     5     6     7</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8      9   10    11   12   13   14</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15    16  17    18   19   20   21</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22    23  24    25   26   27   28</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29    30  31</a:t>
            </a:r>
            <a:endParaRPr b="0" lang="en-US" sz="1400" spc="-1" strike="noStrike">
              <a:solidFill>
                <a:srgbClr val="000000"/>
              </a:solidFill>
              <a:latin typeface="Arial"/>
            </a:endParaRPr>
          </a:p>
        </p:txBody>
      </p:sp>
      <p:sp>
        <p:nvSpPr>
          <p:cNvPr id="245" name=""/>
          <p:cNvSpPr/>
          <p:nvPr/>
        </p:nvSpPr>
        <p:spPr>
          <a:xfrm>
            <a:off x="1771560" y="4029120"/>
            <a:ext cx="2492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6" name=""/>
          <p:cNvSpPr txBox="1"/>
          <p:nvPr/>
        </p:nvSpPr>
        <p:spPr>
          <a:xfrm>
            <a:off x="1749600" y="2386080"/>
            <a:ext cx="71424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1:00</a:t>
            </a:r>
            <a:endParaRPr b="0" lang="en-US" sz="1400" spc="-1" strike="noStrike">
              <a:solidFill>
                <a:srgbClr val="ffffff"/>
              </a:solidFill>
              <a:latin typeface="Arial"/>
            </a:endParaRPr>
          </a:p>
        </p:txBody>
      </p:sp>
      <p:sp>
        <p:nvSpPr>
          <p:cNvPr id="247" name=""/>
          <p:cNvSpPr/>
          <p:nvPr/>
        </p:nvSpPr>
        <p:spPr>
          <a:xfrm>
            <a:off x="1785960" y="4386240"/>
            <a:ext cx="2492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8" name=""/>
          <p:cNvSpPr/>
          <p:nvPr/>
        </p:nvSpPr>
        <p:spPr>
          <a:xfrm>
            <a:off x="1814400" y="2657520"/>
            <a:ext cx="2478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1782720" y="2371680"/>
            <a:ext cx="0" cy="385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1892160" y="2714760"/>
            <a:ext cx="57168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51" name=""/>
          <p:cNvSpPr/>
          <p:nvPr/>
        </p:nvSpPr>
        <p:spPr>
          <a:xfrm>
            <a:off x="1778040" y="2957400"/>
            <a:ext cx="2500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2" name=""/>
          <p:cNvSpPr txBox="1"/>
          <p:nvPr/>
        </p:nvSpPr>
        <p:spPr>
          <a:xfrm>
            <a:off x="1763640" y="3014640"/>
            <a:ext cx="70020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2:00</a:t>
            </a:r>
            <a:endParaRPr b="0" lang="en-US" sz="1400" spc="-1" strike="noStrike">
              <a:solidFill>
                <a:srgbClr val="ffffff"/>
              </a:solidFill>
              <a:latin typeface="Arial"/>
            </a:endParaRPr>
          </a:p>
        </p:txBody>
      </p:sp>
      <p:sp>
        <p:nvSpPr>
          <p:cNvPr id="253" name=""/>
          <p:cNvSpPr/>
          <p:nvPr/>
        </p:nvSpPr>
        <p:spPr>
          <a:xfrm>
            <a:off x="1800360" y="3314880"/>
            <a:ext cx="2449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 name=""/>
          <p:cNvSpPr/>
          <p:nvPr/>
        </p:nvSpPr>
        <p:spPr>
          <a:xfrm>
            <a:off x="2492280" y="2371680"/>
            <a:ext cx="0" cy="2714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txBox="1"/>
          <p:nvPr/>
        </p:nvSpPr>
        <p:spPr>
          <a:xfrm>
            <a:off x="1878120" y="3343320"/>
            <a:ext cx="5857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56" name=""/>
          <p:cNvSpPr/>
          <p:nvPr/>
        </p:nvSpPr>
        <p:spPr>
          <a:xfrm>
            <a:off x="1763640" y="365760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txBox="1"/>
          <p:nvPr/>
        </p:nvSpPr>
        <p:spPr>
          <a:xfrm>
            <a:off x="1806480" y="3686040"/>
            <a:ext cx="65736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3:00</a:t>
            </a:r>
            <a:endParaRPr b="0" lang="en-US" sz="1400" spc="-1" strike="noStrike">
              <a:solidFill>
                <a:srgbClr val="ffffff"/>
              </a:solidFill>
              <a:latin typeface="Arial"/>
            </a:endParaRPr>
          </a:p>
        </p:txBody>
      </p:sp>
      <p:sp>
        <p:nvSpPr>
          <p:cNvPr id="258" name=""/>
          <p:cNvSpPr/>
          <p:nvPr/>
        </p:nvSpPr>
        <p:spPr>
          <a:xfrm>
            <a:off x="1116000" y="3633840"/>
            <a:ext cx="795600" cy="219600"/>
          </a:xfrm>
          <a:custGeom>
            <a:avLst/>
            <a:gdLst/>
            <a:ahLst/>
            <a:rect l="0" t="0" r="r" b="b"/>
            <a:pathLst>
              <a:path w="2210" h="610">
                <a:moveTo>
                  <a:pt x="0" y="203"/>
                </a:moveTo>
                <a:lnTo>
                  <a:pt x="0" y="406"/>
                </a:lnTo>
                <a:lnTo>
                  <a:pt x="1547" y="406"/>
                </a:lnTo>
                <a:lnTo>
                  <a:pt x="1547" y="610"/>
                </a:lnTo>
                <a:lnTo>
                  <a:pt x="2210" y="305"/>
                </a:lnTo>
                <a:lnTo>
                  <a:pt x="1547" y="0"/>
                </a:lnTo>
                <a:lnTo>
                  <a:pt x="1547" y="203"/>
                </a:lnTo>
                <a:lnTo>
                  <a:pt x="0" y="203"/>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txBox="1"/>
          <p:nvPr/>
        </p:nvSpPr>
        <p:spPr>
          <a:xfrm>
            <a:off x="1863720" y="4057560"/>
            <a:ext cx="6001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60" name=""/>
          <p:cNvSpPr txBox="1"/>
          <p:nvPr/>
        </p:nvSpPr>
        <p:spPr>
          <a:xfrm>
            <a:off x="1849320" y="4443480"/>
            <a:ext cx="6145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4:00</a:t>
            </a:r>
            <a:endParaRPr b="0" lang="en-US" sz="1400" spc="-1" strike="noStrike">
              <a:solidFill>
                <a:srgbClr val="ffffff"/>
              </a:solidFill>
              <a:latin typeface="Arial"/>
            </a:endParaRPr>
          </a:p>
        </p:txBody>
      </p:sp>
      <p:sp>
        <p:nvSpPr>
          <p:cNvPr id="261" name=""/>
          <p:cNvSpPr txBox="1"/>
          <p:nvPr/>
        </p:nvSpPr>
        <p:spPr>
          <a:xfrm>
            <a:off x="1892160" y="4772160"/>
            <a:ext cx="57168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62" name=""/>
          <p:cNvSpPr/>
          <p:nvPr/>
        </p:nvSpPr>
        <p:spPr>
          <a:xfrm>
            <a:off x="1778040" y="4772160"/>
            <a:ext cx="2486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3" name=""/>
          <p:cNvSpPr txBox="1"/>
          <p:nvPr/>
        </p:nvSpPr>
        <p:spPr>
          <a:xfrm>
            <a:off x="1378080" y="5143320"/>
            <a:ext cx="317196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Dienstag, 9. März 1993</a:t>
            </a:r>
            <a:endParaRPr b="0" lang="en-US" sz="1800" spc="-1" strike="noStrike">
              <a:solidFill>
                <a:srgbClr val="ffffff"/>
              </a:solidFill>
              <a:latin typeface="Arial"/>
            </a:endParaRPr>
          </a:p>
        </p:txBody>
      </p:sp>
      <p:sp>
        <p:nvSpPr>
          <p:cNvPr id="264" name=""/>
          <p:cNvSpPr txBox="1"/>
          <p:nvPr/>
        </p:nvSpPr>
        <p:spPr>
          <a:xfrm>
            <a:off x="4549680" y="5186520"/>
            <a:ext cx="1200240" cy="33660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000000"/>
                </a:solidFill>
                <a:latin typeface="Times New Roman"/>
                <a:ea typeface="Times New Roman"/>
              </a:rPr>
              <a:t>15:44</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a:t>
            </a:r>
            <a:endParaRPr b="0" lang="en-US" sz="4800" spc="-1" strike="noStrike">
              <a:solidFill>
                <a:srgbClr val="ffffff"/>
              </a:solidFill>
              <a:latin typeface="Arial"/>
            </a:endParaRPr>
          </a:p>
        </p:txBody>
      </p:sp>
      <p:sp>
        <p:nvSpPr>
          <p:cNvPr id="266" name=""/>
          <p:cNvSpPr txBox="1"/>
          <p:nvPr/>
        </p:nvSpPr>
        <p:spPr>
          <a:xfrm>
            <a:off x="1187280" y="1058760"/>
            <a:ext cx="6769080" cy="5486400"/>
          </a:xfrm>
          <a:prstGeom prst="rect">
            <a:avLst/>
          </a:prstGeom>
          <a:noFill/>
          <a:ln w="0">
            <a:noFill/>
          </a:ln>
        </p:spPr>
        <p:txBody>
          <a:bodyPr lIns="0" rIns="0" tIns="0" bIns="0" anchor="t">
            <a:noAutofit/>
          </a:bodyPr>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orting, string comparison, and mapping</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CMapString[W|A]</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mpareString[W|A]</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oldStringW</a:t>
            </a:r>
            <a:endParaRPr b="0" lang="en-US" sz="28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haracter/string typing</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StringType[W|A]</a:t>
            </a:r>
            <a:endParaRPr b="0" lang="en-US" sz="28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iscellaneous locale information</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ValidLocale</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nvertDefaultLocale</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SystemLocales[W|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7" name=""/>
          <p:cNvSpPr txBox="1"/>
          <p:nvPr/>
        </p:nvSpPr>
        <p:spPr>
          <a:xfrm>
            <a:off x="1039680" y="254160"/>
            <a:ext cx="135108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Englis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
        <p:nvSpPr>
          <p:cNvPr id="268" name=""/>
          <p:cNvSpPr txBox="1"/>
          <p:nvPr/>
        </p:nvSpPr>
        <p:spPr>
          <a:xfrm>
            <a:off x="2903400" y="257040"/>
            <a:ext cx="134316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Frenc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
        <p:nvSpPr>
          <p:cNvPr id="269" name=""/>
          <p:cNvSpPr txBox="1"/>
          <p:nvPr/>
        </p:nvSpPr>
        <p:spPr>
          <a:xfrm>
            <a:off x="4803840" y="228600"/>
            <a:ext cx="146196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Norwegian:</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p:txBody>
      </p:sp>
      <p:sp>
        <p:nvSpPr>
          <p:cNvPr id="270" name=""/>
          <p:cNvSpPr txBox="1"/>
          <p:nvPr/>
        </p:nvSpPr>
        <p:spPr>
          <a:xfrm>
            <a:off x="6846840" y="228600"/>
            <a:ext cx="140004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Spanis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0"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51" name=""/>
          <p:cNvSpPr txBox="1"/>
          <p:nvPr/>
        </p:nvSpPr>
        <p:spPr>
          <a:xfrm>
            <a:off x="1185840" y="1393920"/>
            <a:ext cx="6773760" cy="2562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7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tring Matching</a:t>
            </a:r>
            <a:endParaRPr b="0" lang="en-US" sz="4800" spc="-1" strike="noStrike">
              <a:solidFill>
                <a:srgbClr val="ffffff"/>
              </a:solidFill>
              <a:latin typeface="Arial"/>
            </a:endParaRPr>
          </a:p>
        </p:txBody>
      </p:sp>
      <p:sp>
        <p:nvSpPr>
          <p:cNvPr id="272" name=""/>
          <p:cNvSpPr txBox="1"/>
          <p:nvPr/>
        </p:nvSpPr>
        <p:spPr>
          <a:xfrm>
            <a:off x="819000" y="5405400"/>
            <a:ext cx="6934320" cy="100656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CompareString using LCID=Standard French</a:t>
            </a:r>
            <a:br>
              <a:rPr sz="2000"/>
            </a:br>
            <a:r>
              <a:rPr b="1" lang="en-US" sz="2000" spc="-1" strike="noStrike">
                <a:solidFill>
                  <a:srgbClr val="ffffff"/>
                </a:solidFill>
                <a:latin typeface="Times New Roman"/>
                <a:ea typeface="Times New Roman"/>
              </a:rPr>
              <a:t>                                      NORM_IGNORECASE</a:t>
            </a:r>
            <a:br>
              <a:rPr sz="2000"/>
            </a:br>
            <a:r>
              <a:rPr b="1" lang="en-US" sz="2000" spc="-1" strike="noStrike">
                <a:solidFill>
                  <a:srgbClr val="ffffff"/>
                </a:solidFill>
                <a:latin typeface="Times New Roman"/>
                <a:ea typeface="Times New Roman"/>
              </a:rPr>
              <a:t>                                      NORM_IGNORENONSPACE  </a:t>
            </a:r>
            <a:endParaRPr b="0" lang="en-US" sz="2000" spc="-1" strike="noStrike">
              <a:solidFill>
                <a:srgbClr val="ffffff"/>
              </a:solidFill>
              <a:latin typeface="Arial"/>
            </a:endParaRPr>
          </a:p>
        </p:txBody>
      </p:sp>
      <p:grpSp>
        <p:nvGrpSpPr>
          <p:cNvPr id="273" name=""/>
          <p:cNvGrpSpPr/>
          <p:nvPr/>
        </p:nvGrpSpPr>
        <p:grpSpPr>
          <a:xfrm>
            <a:off x="700200" y="1314360"/>
            <a:ext cx="3171960" cy="3686040"/>
            <a:chOff x="700200" y="1314360"/>
            <a:chExt cx="3171960" cy="3686040"/>
          </a:xfrm>
        </p:grpSpPr>
        <p:sp>
          <p:nvSpPr>
            <p:cNvPr id="274" name=""/>
            <p:cNvSpPr/>
            <p:nvPr/>
          </p:nvSpPr>
          <p:spPr>
            <a:xfrm>
              <a:off x="700200" y="1314360"/>
              <a:ext cx="3171960" cy="368604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5" name=""/>
            <p:cNvSpPr/>
            <p:nvPr/>
          </p:nvSpPr>
          <p:spPr>
            <a:xfrm>
              <a:off x="1014480" y="1800360"/>
              <a:ext cx="2614680" cy="295740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6" name=""/>
            <p:cNvSpPr txBox="1"/>
            <p:nvPr/>
          </p:nvSpPr>
          <p:spPr>
            <a:xfrm>
              <a:off x="985680" y="1371600"/>
              <a:ext cx="2600280" cy="396720"/>
            </a:xfrm>
            <a:prstGeom prst="rect">
              <a:avLst/>
            </a:prstGeom>
            <a:solidFill>
              <a:srgbClr val="8cf4e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Address Book</a:t>
              </a:r>
              <a:endParaRPr b="0" lang="en-US" sz="2000" spc="-1" strike="noStrike">
                <a:solidFill>
                  <a:srgbClr val="000000"/>
                </a:solidFill>
                <a:latin typeface="Arial"/>
              </a:endParaRPr>
            </a:p>
          </p:txBody>
        </p:sp>
      </p:grpSp>
      <p:sp>
        <p:nvSpPr>
          <p:cNvPr id="277" name=""/>
          <p:cNvSpPr txBox="1"/>
          <p:nvPr/>
        </p:nvSpPr>
        <p:spPr>
          <a:xfrm>
            <a:off x="1071720" y="1871640"/>
            <a:ext cx="2343240" cy="2838600"/>
          </a:xfrm>
          <a:prstGeom prst="rect">
            <a:avLst/>
          </a:prstGeom>
          <a:solidFill>
            <a:srgbClr val="ffffff"/>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Angel Pe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strid Ångströ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ristiane Schönste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lisabeth Schonste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Gérard Laur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örg Straß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ørn H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osé Mendez</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Ólafur Asmundss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ylvia Strasser</a:t>
            </a:r>
            <a:endParaRPr b="0" lang="en-US" sz="1800" spc="-1" strike="noStrike">
              <a:solidFill>
                <a:srgbClr val="000000"/>
              </a:solidFill>
              <a:latin typeface="Arial"/>
            </a:endParaRPr>
          </a:p>
        </p:txBody>
      </p:sp>
      <p:sp>
        <p:nvSpPr>
          <p:cNvPr id="278" name=""/>
          <p:cNvSpPr/>
          <p:nvPr/>
        </p:nvSpPr>
        <p:spPr>
          <a:xfrm>
            <a:off x="4829040" y="1243080"/>
            <a:ext cx="4043520" cy="64296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9" name=""/>
          <p:cNvSpPr txBox="1"/>
          <p:nvPr/>
        </p:nvSpPr>
        <p:spPr>
          <a:xfrm>
            <a:off x="5057640" y="1386000"/>
            <a:ext cx="135720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earch for:</a:t>
            </a:r>
            <a:endParaRPr b="0" lang="en-US" sz="1800" spc="-1" strike="noStrike">
              <a:solidFill>
                <a:srgbClr val="000000"/>
              </a:solidFill>
              <a:latin typeface="Arial"/>
            </a:endParaRPr>
          </a:p>
        </p:txBody>
      </p:sp>
      <p:sp>
        <p:nvSpPr>
          <p:cNvPr id="280" name=""/>
          <p:cNvSpPr/>
          <p:nvPr/>
        </p:nvSpPr>
        <p:spPr>
          <a:xfrm>
            <a:off x="6529320" y="1371600"/>
            <a:ext cx="2185920" cy="38592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1" name=""/>
          <p:cNvSpPr txBox="1"/>
          <p:nvPr/>
        </p:nvSpPr>
        <p:spPr>
          <a:xfrm>
            <a:off x="6472080" y="1386000"/>
            <a:ext cx="137160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or</a:t>
            </a:r>
            <a:endParaRPr b="0" lang="en-US" sz="1800" spc="-1" strike="noStrike">
              <a:solidFill>
                <a:srgbClr val="ffffff"/>
              </a:solidFill>
              <a:latin typeface="Arial"/>
            </a:endParaRPr>
          </a:p>
        </p:txBody>
      </p:sp>
      <p:sp>
        <p:nvSpPr>
          <p:cNvPr id="282" name=""/>
          <p:cNvSpPr/>
          <p:nvPr/>
        </p:nvSpPr>
        <p:spPr>
          <a:xfrm>
            <a:off x="5643720" y="2014560"/>
            <a:ext cx="3228840" cy="104292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3" name=""/>
          <p:cNvSpPr txBox="1"/>
          <p:nvPr/>
        </p:nvSpPr>
        <p:spPr>
          <a:xfrm>
            <a:off x="5700600" y="2100240"/>
            <a:ext cx="12859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Found:</a:t>
            </a:r>
            <a:endParaRPr b="0" lang="en-US" sz="1800" spc="-1" strike="noStrike">
              <a:solidFill>
                <a:srgbClr val="000000"/>
              </a:solidFill>
              <a:latin typeface="Arial"/>
            </a:endParaRPr>
          </a:p>
        </p:txBody>
      </p:sp>
      <p:sp>
        <p:nvSpPr>
          <p:cNvPr id="284" name=""/>
          <p:cNvSpPr/>
          <p:nvPr/>
        </p:nvSpPr>
        <p:spPr>
          <a:xfrm>
            <a:off x="6715080" y="2114640"/>
            <a:ext cx="2000160" cy="85716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5" name=""/>
          <p:cNvSpPr txBox="1"/>
          <p:nvPr/>
        </p:nvSpPr>
        <p:spPr>
          <a:xfrm>
            <a:off x="6800760" y="2171520"/>
            <a:ext cx="1714680" cy="7794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örg Straßer</a:t>
            </a:r>
            <a:endParaRPr b="0" lang="en-US" sz="1800" spc="-1" strike="noStrike">
              <a:solidFill>
                <a:srgbClr val="ffffff"/>
              </a:solidFill>
              <a:latin typeface="Arial"/>
            </a:endParaRPr>
          </a:p>
          <a:p>
            <a:pPr>
              <a:lnSpc>
                <a:spcPct val="100000"/>
              </a:lnSpc>
              <a:spcBef>
                <a:spcPts val="1199"/>
              </a:spcBef>
            </a:pPr>
            <a:r>
              <a:rPr b="1" lang="en-US" sz="1800" spc="-1" strike="noStrike">
                <a:solidFill>
                  <a:srgbClr val="000000"/>
                </a:solidFill>
                <a:latin typeface="Times New Roman"/>
                <a:ea typeface="Times New Roman"/>
              </a:rPr>
              <a:t>Jørn Heger</a:t>
            </a:r>
            <a:endParaRPr b="0" lang="en-US" sz="1800" spc="-1" strike="noStrike">
              <a:solidFill>
                <a:srgbClr val="ffffff"/>
              </a:solidFill>
              <a:latin typeface="Arial"/>
            </a:endParaRPr>
          </a:p>
        </p:txBody>
      </p:sp>
      <p:sp>
        <p:nvSpPr>
          <p:cNvPr id="286" name=""/>
          <p:cNvSpPr/>
          <p:nvPr/>
        </p:nvSpPr>
        <p:spPr>
          <a:xfrm>
            <a:off x="4843440" y="3200400"/>
            <a:ext cx="4029120" cy="71424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7" name=""/>
          <p:cNvSpPr txBox="1"/>
          <p:nvPr/>
        </p:nvSpPr>
        <p:spPr>
          <a:xfrm>
            <a:off x="4929120" y="3343320"/>
            <a:ext cx="15145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earch for:</a:t>
            </a:r>
            <a:endParaRPr b="0" lang="en-US" sz="1800" spc="-1" strike="noStrike">
              <a:solidFill>
                <a:srgbClr val="000000"/>
              </a:solidFill>
              <a:latin typeface="Arial"/>
            </a:endParaRPr>
          </a:p>
        </p:txBody>
      </p:sp>
      <p:sp>
        <p:nvSpPr>
          <p:cNvPr id="288" name=""/>
          <p:cNvSpPr/>
          <p:nvPr/>
        </p:nvSpPr>
        <p:spPr>
          <a:xfrm>
            <a:off x="6515280" y="3338640"/>
            <a:ext cx="2200320" cy="37152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9" name=""/>
          <p:cNvSpPr txBox="1"/>
          <p:nvPr/>
        </p:nvSpPr>
        <p:spPr>
          <a:xfrm>
            <a:off x="6529320" y="3343320"/>
            <a:ext cx="167148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trass</a:t>
            </a:r>
            <a:endParaRPr b="0" lang="en-US" sz="1800" spc="-1" strike="noStrike">
              <a:solidFill>
                <a:srgbClr val="ffffff"/>
              </a:solidFill>
              <a:latin typeface="Arial"/>
            </a:endParaRPr>
          </a:p>
        </p:txBody>
      </p:sp>
      <p:sp>
        <p:nvSpPr>
          <p:cNvPr id="290" name=""/>
          <p:cNvSpPr/>
          <p:nvPr/>
        </p:nvSpPr>
        <p:spPr>
          <a:xfrm>
            <a:off x="5643720" y="4081320"/>
            <a:ext cx="3228840" cy="104292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1" name=""/>
          <p:cNvSpPr txBox="1"/>
          <p:nvPr/>
        </p:nvSpPr>
        <p:spPr>
          <a:xfrm>
            <a:off x="5738760" y="4224240"/>
            <a:ext cx="12859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Found:</a:t>
            </a:r>
            <a:endParaRPr b="0" lang="en-US" sz="1800" spc="-1" strike="noStrike">
              <a:solidFill>
                <a:srgbClr val="000000"/>
              </a:solidFill>
              <a:latin typeface="Arial"/>
            </a:endParaRPr>
          </a:p>
        </p:txBody>
      </p:sp>
      <p:sp>
        <p:nvSpPr>
          <p:cNvPr id="292" name=""/>
          <p:cNvSpPr/>
          <p:nvPr/>
        </p:nvSpPr>
        <p:spPr>
          <a:xfrm>
            <a:off x="6757920" y="4181400"/>
            <a:ext cx="2000160" cy="85716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3" name=""/>
          <p:cNvSpPr txBox="1"/>
          <p:nvPr/>
        </p:nvSpPr>
        <p:spPr>
          <a:xfrm>
            <a:off x="6781680" y="4238640"/>
            <a:ext cx="1714680" cy="7794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örg Straßer</a:t>
            </a:r>
            <a:endParaRPr b="0" lang="en-US" sz="1800" spc="-1" strike="noStrike">
              <a:solidFill>
                <a:srgbClr val="ffffff"/>
              </a:solidFill>
              <a:latin typeface="Arial"/>
            </a:endParaRPr>
          </a:p>
          <a:p>
            <a:pPr>
              <a:lnSpc>
                <a:spcPct val="100000"/>
              </a:lnSpc>
              <a:spcBef>
                <a:spcPts val="1199"/>
              </a:spcBef>
            </a:pPr>
            <a:r>
              <a:rPr b="1" lang="en-US" sz="1800" spc="-1" strike="noStrike">
                <a:solidFill>
                  <a:srgbClr val="000000"/>
                </a:solidFill>
                <a:latin typeface="Times New Roman"/>
                <a:ea typeface="Times New Roman"/>
              </a:rPr>
              <a:t>Sylvia Strass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4"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 And Scripts</a:t>
            </a:r>
            <a:endParaRPr b="0" lang="en-US" sz="4800" spc="-1" strike="noStrike">
              <a:solidFill>
                <a:srgbClr val="ffffff"/>
              </a:solidFill>
              <a:latin typeface="Arial"/>
            </a:endParaRPr>
          </a:p>
        </p:txBody>
      </p:sp>
      <p:sp>
        <p:nvSpPr>
          <p:cNvPr id="295" name=""/>
          <p:cNvSpPr txBox="1"/>
          <p:nvPr/>
        </p:nvSpPr>
        <p:spPr>
          <a:xfrm>
            <a:off x="1935000" y="1133640"/>
            <a:ext cx="5275440" cy="52164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de page information</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ValidCodeP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SystemCodePagesW</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AC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OEMC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CPInfo</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DBCSLeadByte</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de page conversion</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ultiByteToWideChar</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deCharToMultiBy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6" name=""/>
          <p:cNvSpPr txBox="1"/>
          <p:nvPr/>
        </p:nvSpPr>
        <p:spPr>
          <a:xfrm>
            <a:off x="220680" y="228600"/>
            <a:ext cx="87026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Use The Win32 NLS APIs</a:t>
            </a:r>
            <a:endParaRPr b="0" lang="en-US" sz="4800" spc="-1" strike="noStrike">
              <a:solidFill>
                <a:srgbClr val="ffffff"/>
              </a:solidFill>
              <a:latin typeface="Arial"/>
            </a:endParaRPr>
          </a:p>
        </p:txBody>
      </p:sp>
      <p:sp>
        <p:nvSpPr>
          <p:cNvPr id="297" name=""/>
          <p:cNvSpPr txBox="1"/>
          <p:nvPr/>
        </p:nvSpPr>
        <p:spPr>
          <a:xfrm>
            <a:off x="617400" y="1357200"/>
            <a:ext cx="7910640" cy="44053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ccurate international data and sorting</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ier to us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hortcut to greater functionality</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ower development cos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liminates need for proprietary sorting </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void messing with WIN.INI</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ocumented in Windows NT</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vailable in “Chicago” and Windows 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299" name=""/>
          <p:cNvSpPr txBox="1"/>
          <p:nvPr/>
        </p:nvSpPr>
        <p:spPr>
          <a:xfrm>
            <a:off x="1282680" y="1422360"/>
            <a:ext cx="656100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put Method Editors</a:t>
            </a:r>
            <a:endParaRPr b="0" lang="en-US" sz="4800" spc="-1" strike="noStrike">
              <a:solidFill>
                <a:srgbClr val="ffffff"/>
              </a:solidFill>
              <a:latin typeface="Arial"/>
            </a:endParaRPr>
          </a:p>
        </p:txBody>
      </p:sp>
      <p:sp>
        <p:nvSpPr>
          <p:cNvPr id="301" name=""/>
          <p:cNvSpPr txBox="1"/>
          <p:nvPr/>
        </p:nvSpPr>
        <p:spPr>
          <a:xfrm>
            <a:off x="706320" y="1380960"/>
            <a:ext cx="7731000" cy="3152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dows 3.x and Windows NT 3.x </a:t>
            </a:r>
            <a:endParaRPr b="0" lang="en-US" sz="32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Different IME API set per language</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Supports single IME context per system</a:t>
            </a:r>
            <a:endParaRPr b="0" lang="en-US" sz="2800" spc="-1" strike="noStrike">
              <a:solidFill>
                <a:srgbClr val="ffffff"/>
              </a:solidFill>
              <a:latin typeface="Arial"/>
            </a:endParaRPr>
          </a:p>
          <a:p>
            <a:pPr marL="552600" indent="-552600">
              <a:lnSpc>
                <a:spcPct val="80000"/>
              </a:lnSpc>
              <a:spcBef>
                <a:spcPts val="479"/>
              </a:spcBef>
              <a:buClr>
                <a:srgbClr val="f4d337"/>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hicago” has a new IME architecture</a:t>
            </a:r>
            <a:endParaRPr b="0" lang="en-US" sz="32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Common API across the Far East markets</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Provides IME class and IME UI window</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Supports multiple IME contex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 Support For</a:t>
            </a:r>
            <a:br>
              <a:rPr sz="4800"/>
            </a:b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303" name=""/>
          <p:cNvSpPr txBox="1"/>
          <p:nvPr/>
        </p:nvSpPr>
        <p:spPr>
          <a:xfrm>
            <a:off x="838080" y="1938240"/>
            <a:ext cx="7829640" cy="3618000"/>
          </a:xfrm>
          <a:prstGeom prst="rect">
            <a:avLst/>
          </a:prstGeom>
          <a:noFill/>
          <a:ln w="0">
            <a:noFill/>
          </a:ln>
        </p:spPr>
        <p:txBody>
          <a:bodyPr lIns="0" rIns="0" tIns="0" bIns="0" anchor="t">
            <a:noAutofit/>
          </a:bodyPr>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Three levels of IME support for applications</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1:  Global IME class/context</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For applications that are unaware of IMEs</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2:  Application IME class/context</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iest for IME-aware applications to implement</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3:  Direct IME APIs for applications</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Most control for application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ultiple IME context per application</a:t>
            </a:r>
            <a:endParaRPr b="0" lang="en-US" sz="2800" spc="-1" strike="noStrike">
              <a:solidFill>
                <a:srgbClr val="ffffff"/>
              </a:solidFill>
              <a:latin typeface="Arial"/>
            </a:endParaRPr>
          </a:p>
        </p:txBody>
      </p:sp>
      <p:pic>
        <p:nvPicPr>
          <p:cNvPr id="304" name="" descr=""/>
          <p:cNvPicPr/>
          <p:nvPr/>
        </p:nvPicPr>
        <p:blipFill>
          <a:blip r:embed="rId1"/>
          <a:stretch/>
        </p:blipFill>
        <p:spPr>
          <a:xfrm>
            <a:off x="514440" y="380880"/>
            <a:ext cx="1066680" cy="762120"/>
          </a:xfrm>
          <a:prstGeom prst="rect">
            <a:avLst/>
          </a:prstGeom>
          <a:ln w="0">
            <a:noFill/>
          </a:ln>
        </p:spPr>
      </p:pic>
      <p:pic>
        <p:nvPicPr>
          <p:cNvPr id="305" name="" descr=""/>
          <p:cNvPicPr/>
          <p:nvPr/>
        </p:nvPicPr>
        <p:blipFill>
          <a:blip r:embed="rId2"/>
          <a:stretch/>
        </p:blipFill>
        <p:spPr>
          <a:xfrm>
            <a:off x="7593120" y="966960"/>
            <a:ext cx="1131840" cy="790560"/>
          </a:xfrm>
          <a:prstGeom prst="rect">
            <a:avLst/>
          </a:prstGeom>
          <a:ln w="0">
            <a:noFill/>
          </a:ln>
        </p:spPr>
      </p:pic>
      <p:pic>
        <p:nvPicPr>
          <p:cNvPr id="306" name="" descr=""/>
          <p:cNvPicPr/>
          <p:nvPr/>
        </p:nvPicPr>
        <p:blipFill>
          <a:blip r:embed="rId3"/>
          <a:stretch/>
        </p:blipFill>
        <p:spPr>
          <a:xfrm>
            <a:off x="7358040" y="5086440"/>
            <a:ext cx="1214280" cy="844560"/>
          </a:xfrm>
          <a:prstGeom prst="rect">
            <a:avLst/>
          </a:prstGeom>
          <a:ln w="0">
            <a:noFill/>
          </a:ln>
        </p:spPr>
      </p:pic>
      <p:pic>
        <p:nvPicPr>
          <p:cNvPr id="307" name="" descr=""/>
          <p:cNvPicPr/>
          <p:nvPr/>
        </p:nvPicPr>
        <p:blipFill>
          <a:blip r:embed="rId4"/>
          <a:stretch/>
        </p:blipFill>
        <p:spPr>
          <a:xfrm>
            <a:off x="108000" y="3822840"/>
            <a:ext cx="1077840" cy="727200"/>
          </a:xfrm>
          <a:prstGeom prst="rect">
            <a:avLst/>
          </a:prstGeom>
          <a:ln w="0">
            <a:noFill/>
          </a:ln>
        </p:spPr>
      </p:pic>
      <p:pic>
        <p:nvPicPr>
          <p:cNvPr id="308" name="" descr=""/>
          <p:cNvPicPr/>
          <p:nvPr/>
        </p:nvPicPr>
        <p:blipFill>
          <a:blip r:embed="rId5"/>
          <a:stretch/>
        </p:blipFill>
        <p:spPr>
          <a:xfrm>
            <a:off x="3184560" y="5702400"/>
            <a:ext cx="1060560" cy="712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9" name=""/>
          <p:cNvSpPr txBox="1"/>
          <p:nvPr/>
        </p:nvSpPr>
        <p:spPr>
          <a:xfrm>
            <a:off x="228600" y="228600"/>
            <a:ext cx="86868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Unaware Application</a:t>
            </a:r>
            <a:endParaRPr b="0" lang="en-US" sz="4800" spc="-1" strike="noStrike">
              <a:solidFill>
                <a:srgbClr val="ffffff"/>
              </a:solidFill>
              <a:latin typeface="Arial"/>
            </a:endParaRPr>
          </a:p>
        </p:txBody>
      </p:sp>
      <p:sp>
        <p:nvSpPr>
          <p:cNvPr id="310" name=""/>
          <p:cNvSpPr txBox="1"/>
          <p:nvPr/>
        </p:nvSpPr>
        <p:spPr>
          <a:xfrm>
            <a:off x="746280" y="1119240"/>
            <a:ext cx="8232840" cy="6222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Lucida Sans Typewriter"/>
                <a:ea typeface="Lucida Sans Typewriter"/>
              </a:rPr>
              <a:t>case WM_CHA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Courier New"/>
                <a:ea typeface="Courier New"/>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 (!fWaitSecond ) </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0]=wParam;</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1]=0;</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if(IsDBCSLeadByte(wParam))</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fWaitSecond = TRU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break;</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els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szString[1]=wParam;</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2]=0;</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fWaitSecond = FALS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TextOut(hdc, x, y, szString, strlen(szString));</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break;   </a:t>
            </a:r>
            <a:endParaRPr b="0" lang="en-US" sz="1800" spc="-1" strike="noStrike">
              <a:solidFill>
                <a:srgbClr val="ffffff"/>
              </a:solidFill>
              <a:latin typeface="Arial"/>
            </a:endParaRPr>
          </a:p>
          <a:p>
            <a:pPr marL="914400">
              <a:lnSpc>
                <a:spcPct val="100000"/>
              </a:lnSpc>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11"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Aware Applications</a:t>
            </a:r>
            <a:endParaRPr b="0" lang="en-US" sz="4800" spc="-1" strike="noStrike">
              <a:solidFill>
                <a:srgbClr val="ffffff"/>
              </a:solidFill>
              <a:latin typeface="Arial"/>
            </a:endParaRPr>
          </a:p>
        </p:txBody>
      </p:sp>
      <p:sp>
        <p:nvSpPr>
          <p:cNvPr id="312" name=""/>
          <p:cNvSpPr/>
          <p:nvPr/>
        </p:nvSpPr>
        <p:spPr>
          <a:xfrm>
            <a:off x="933480" y="1233360"/>
            <a:ext cx="7467480" cy="5238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3" name=""/>
          <p:cNvSpPr/>
          <p:nvPr/>
        </p:nvSpPr>
        <p:spPr>
          <a:xfrm>
            <a:off x="1346040" y="1481040"/>
            <a:ext cx="2892600" cy="273996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617840" y="5380200"/>
            <a:ext cx="14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5" name=""/>
          <p:cNvSpPr/>
          <p:nvPr/>
        </p:nvSpPr>
        <p:spPr>
          <a:xfrm>
            <a:off x="3316320" y="552456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164040" y="537372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4579920" y="1481040"/>
            <a:ext cx="1263600" cy="2738520"/>
          </a:xfrm>
          <a:prstGeom prst="roundRect">
            <a:avLst/>
          </a:prstGeom>
          <a:gradFill rotWithShape="0">
            <a:gsLst>
              <a:gs pos="0">
                <a:srgbClr val="513fca"/>
              </a:gs>
              <a:gs pos="100000">
                <a:srgbClr val="5b47e1"/>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8" name=""/>
          <p:cNvSpPr txBox="1"/>
          <p:nvPr/>
        </p:nvSpPr>
        <p:spPr>
          <a:xfrm>
            <a:off x="4570560" y="1676520"/>
            <a:ext cx="117144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IME aware</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p:txBody>
      </p:sp>
      <p:sp>
        <p:nvSpPr>
          <p:cNvPr id="319" name=""/>
          <p:cNvSpPr/>
          <p:nvPr/>
        </p:nvSpPr>
        <p:spPr>
          <a:xfrm>
            <a:off x="3011400" y="4460760"/>
            <a:ext cx="1979640" cy="45864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1413000" y="1638360"/>
            <a:ext cx="11955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USER.EXE</a:t>
            </a:r>
            <a:endParaRPr b="0" lang="en-US" sz="1600" spc="-1" strike="noStrike">
              <a:solidFill>
                <a:srgbClr val="ffffff"/>
              </a:solidFill>
              <a:latin typeface="Arial"/>
            </a:endParaRPr>
          </a:p>
        </p:txBody>
      </p:sp>
      <p:sp>
        <p:nvSpPr>
          <p:cNvPr id="321" name=""/>
          <p:cNvSpPr/>
          <p:nvPr/>
        </p:nvSpPr>
        <p:spPr>
          <a:xfrm>
            <a:off x="1617840" y="4300560"/>
            <a:ext cx="0" cy="1065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3011400" y="522144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3011400" y="5264280"/>
            <a:ext cx="10587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DLL</a:t>
            </a:r>
            <a:endParaRPr b="0" lang="en-US" sz="1600" spc="-1" strike="noStrike">
              <a:solidFill>
                <a:srgbClr val="ffffff"/>
              </a:solidFill>
              <a:latin typeface="Arial"/>
            </a:endParaRPr>
          </a:p>
        </p:txBody>
      </p:sp>
      <p:sp>
        <p:nvSpPr>
          <p:cNvPr id="324" name=""/>
          <p:cNvSpPr txBox="1"/>
          <p:nvPr/>
        </p:nvSpPr>
        <p:spPr>
          <a:xfrm>
            <a:off x="3044880" y="4456080"/>
            <a:ext cx="6462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M</a:t>
            </a:r>
            <a:endParaRPr b="0" lang="en-US" sz="1600" spc="-1" strike="noStrike">
              <a:solidFill>
                <a:srgbClr val="ffffff"/>
              </a:solidFill>
              <a:latin typeface="Arial"/>
            </a:endParaRPr>
          </a:p>
        </p:txBody>
      </p:sp>
      <p:sp>
        <p:nvSpPr>
          <p:cNvPr id="325" name=""/>
          <p:cNvSpPr/>
          <p:nvPr/>
        </p:nvSpPr>
        <p:spPr>
          <a:xfrm>
            <a:off x="3881520" y="4919760"/>
            <a:ext cx="4680" cy="280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5902200" y="4308480"/>
            <a:ext cx="1449360" cy="839880"/>
          </a:xfrm>
          <a:prstGeom prst="ellipse">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5934240" y="4546440"/>
            <a:ext cx="13860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ontrol panel</a:t>
            </a:r>
            <a:endParaRPr b="0" lang="en-US" sz="1600" spc="-1" strike="noStrike">
              <a:solidFill>
                <a:srgbClr val="ffffff"/>
              </a:solidFill>
              <a:latin typeface="Arial"/>
            </a:endParaRPr>
          </a:p>
        </p:txBody>
      </p:sp>
      <p:sp>
        <p:nvSpPr>
          <p:cNvPr id="328" name=""/>
          <p:cNvSpPr/>
          <p:nvPr/>
        </p:nvSpPr>
        <p:spPr>
          <a:xfrm flipV="1">
            <a:off x="3825720" y="4214880"/>
            <a:ext cx="3240" cy="243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5010120" y="4770360"/>
            <a:ext cx="8222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flipV="1">
            <a:off x="4229280" y="3881520"/>
            <a:ext cx="552240" cy="581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1460520" y="2031840"/>
            <a:ext cx="1790640" cy="1125360"/>
          </a:xfrm>
          <a:prstGeom prst="rect">
            <a:avLst/>
          </a:prstGeom>
          <a:gradFill rotWithShape="0">
            <a:gsLst>
              <a:gs pos="0">
                <a:srgbClr val="1b1543"/>
              </a:gs>
              <a:gs pos="100000">
                <a:srgbClr val="5b47e1"/>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txBox="1"/>
          <p:nvPr/>
        </p:nvSpPr>
        <p:spPr>
          <a:xfrm>
            <a:off x="1469880" y="2131920"/>
            <a:ext cx="16858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 system class</a:t>
            </a:r>
            <a:endParaRPr b="0" lang="en-US" sz="1600" spc="-1" strike="noStrike">
              <a:solidFill>
                <a:srgbClr val="ffffff"/>
              </a:solidFill>
              <a:latin typeface="Arial"/>
            </a:endParaRPr>
          </a:p>
        </p:txBody>
      </p:sp>
      <p:sp>
        <p:nvSpPr>
          <p:cNvPr id="333" name=""/>
          <p:cNvSpPr/>
          <p:nvPr/>
        </p:nvSpPr>
        <p:spPr>
          <a:xfrm>
            <a:off x="3292560" y="2571840"/>
            <a:ext cx="15033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txBox="1"/>
          <p:nvPr/>
        </p:nvSpPr>
        <p:spPr>
          <a:xfrm>
            <a:off x="4761000" y="2398680"/>
            <a:ext cx="10764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hwndIME</a:t>
            </a:r>
            <a:endParaRPr b="0" lang="en-US" sz="1600" spc="-1" strike="noStrike">
              <a:solidFill>
                <a:srgbClr val="ffffff"/>
              </a:solidFill>
              <a:latin typeface="Arial"/>
            </a:endParaRPr>
          </a:p>
        </p:txBody>
      </p:sp>
      <p:sp>
        <p:nvSpPr>
          <p:cNvPr id="335" name=""/>
          <p:cNvSpPr/>
          <p:nvPr/>
        </p:nvSpPr>
        <p:spPr>
          <a:xfrm>
            <a:off x="1847880" y="3386160"/>
            <a:ext cx="971640" cy="355680"/>
          </a:xfrm>
          <a:prstGeom prst="rect">
            <a:avLst/>
          </a:prstGeom>
          <a:gradFill rotWithShape="0">
            <a:gsLst>
              <a:gs pos="0">
                <a:srgbClr val="2d2370"/>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6564240" y="1619280"/>
            <a:ext cx="1555920" cy="1967040"/>
          </a:xfrm>
          <a:prstGeom prst="rect">
            <a:avLst/>
          </a:prstGeom>
          <a:gradFill rotWithShape="0">
            <a:gsLst>
              <a:gs pos="0">
                <a:srgbClr val="513fca"/>
              </a:gs>
              <a:gs pos="100000">
                <a:srgbClr val="5b47e1"/>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7" name=""/>
          <p:cNvSpPr txBox="1"/>
          <p:nvPr/>
        </p:nvSpPr>
        <p:spPr>
          <a:xfrm>
            <a:off x="6568920" y="1604880"/>
            <a:ext cx="159552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IME UI window</a:t>
            </a:r>
            <a:endParaRPr b="0" lang="en-US" sz="1600" spc="-1" strike="noStrike">
              <a:solidFill>
                <a:srgbClr val="ffffff"/>
              </a:solidFill>
              <a:latin typeface="Arial"/>
            </a:endParaRPr>
          </a:p>
        </p:txBody>
      </p:sp>
      <p:sp>
        <p:nvSpPr>
          <p:cNvPr id="338" name=""/>
          <p:cNvSpPr/>
          <p:nvPr/>
        </p:nvSpPr>
        <p:spPr>
          <a:xfrm>
            <a:off x="6689880" y="2482920"/>
            <a:ext cx="1284120" cy="977760"/>
          </a:xfrm>
          <a:prstGeom prst="roundRect">
            <a:avLst/>
          </a:prstGeom>
          <a:gradFill rotWithShape="0">
            <a:gsLst>
              <a:gs pos="0">
                <a:srgbClr val="5b47e1"/>
              </a:gs>
              <a:gs pos="100000">
                <a:srgbClr val="2d2370"/>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59720" y="2552760"/>
            <a:ext cx="689040" cy="38268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6912000" y="2779560"/>
            <a:ext cx="839880" cy="38412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7140600" y="3008160"/>
            <a:ext cx="762120" cy="38268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6750000" y="2571840"/>
            <a:ext cx="73836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Composition</a:t>
            </a:r>
            <a:endParaRPr b="0" lang="en-US" sz="800" spc="-1" strike="noStrike">
              <a:solidFill>
                <a:srgbClr val="ffffff"/>
              </a:solidFill>
              <a:latin typeface="Arial"/>
            </a:endParaRPr>
          </a:p>
        </p:txBody>
      </p:sp>
      <p:sp>
        <p:nvSpPr>
          <p:cNvPr id="343" name=""/>
          <p:cNvSpPr txBox="1"/>
          <p:nvPr/>
        </p:nvSpPr>
        <p:spPr>
          <a:xfrm>
            <a:off x="6978600" y="2800440"/>
            <a:ext cx="67464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Candidates</a:t>
            </a:r>
            <a:endParaRPr b="0" lang="en-US" sz="800" spc="-1" strike="noStrike">
              <a:solidFill>
                <a:srgbClr val="ffffff"/>
              </a:solidFill>
              <a:latin typeface="Arial"/>
            </a:endParaRPr>
          </a:p>
        </p:txBody>
      </p:sp>
      <p:sp>
        <p:nvSpPr>
          <p:cNvPr id="344" name=""/>
          <p:cNvSpPr txBox="1"/>
          <p:nvPr/>
        </p:nvSpPr>
        <p:spPr>
          <a:xfrm>
            <a:off x="7054920" y="3029040"/>
            <a:ext cx="79704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Mode/System</a:t>
            </a:r>
            <a:endParaRPr b="0" lang="en-US" sz="800" spc="-1" strike="noStrike">
              <a:solidFill>
                <a:srgbClr val="ffffff"/>
              </a:solidFill>
              <a:latin typeface="Arial"/>
            </a:endParaRPr>
          </a:p>
        </p:txBody>
      </p:sp>
      <p:sp>
        <p:nvSpPr>
          <p:cNvPr id="345" name=""/>
          <p:cNvSpPr/>
          <p:nvPr/>
        </p:nvSpPr>
        <p:spPr>
          <a:xfrm>
            <a:off x="5710320" y="2557440"/>
            <a:ext cx="855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a:off x="2274840" y="2900520"/>
            <a:ext cx="42800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7" name=""/>
          <p:cNvSpPr txBox="1"/>
          <p:nvPr/>
        </p:nvSpPr>
        <p:spPr>
          <a:xfrm>
            <a:off x="1409760" y="2739960"/>
            <a:ext cx="8953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hwndUI</a:t>
            </a:r>
            <a:endParaRPr b="0" lang="en-US" sz="1600" spc="-1" strike="noStrike">
              <a:solidFill>
                <a:srgbClr val="ffffff"/>
              </a:solidFill>
              <a:latin typeface="Arial"/>
            </a:endParaRPr>
          </a:p>
        </p:txBody>
      </p:sp>
      <p:sp>
        <p:nvSpPr>
          <p:cNvPr id="348" name=""/>
          <p:cNvSpPr/>
          <p:nvPr/>
        </p:nvSpPr>
        <p:spPr>
          <a:xfrm>
            <a:off x="5097600" y="557064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4944960" y="541800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4792680" y="526572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txBox="1"/>
          <p:nvPr/>
        </p:nvSpPr>
        <p:spPr>
          <a:xfrm>
            <a:off x="4797360" y="5221440"/>
            <a:ext cx="13525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 contexts</a:t>
            </a:r>
            <a:endParaRPr b="0" lang="en-US" sz="1600" spc="-1" strike="noStrike">
              <a:solidFill>
                <a:srgbClr val="ffffff"/>
              </a:solidFill>
              <a:latin typeface="Arial"/>
            </a:endParaRPr>
          </a:p>
        </p:txBody>
      </p:sp>
      <p:sp>
        <p:nvSpPr>
          <p:cNvPr id="352" name=""/>
          <p:cNvSpPr/>
          <p:nvPr/>
        </p:nvSpPr>
        <p:spPr>
          <a:xfrm>
            <a:off x="4792680" y="4927680"/>
            <a:ext cx="628560" cy="338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3" name=""/>
          <p:cNvSpPr/>
          <p:nvPr/>
        </p:nvSpPr>
        <p:spPr>
          <a:xfrm>
            <a:off x="5208480" y="3936960"/>
            <a:ext cx="1675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4" name=""/>
          <p:cNvSpPr/>
          <p:nvPr/>
        </p:nvSpPr>
        <p:spPr>
          <a:xfrm flipV="1">
            <a:off x="6883560" y="3632040"/>
            <a:ext cx="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5" name=""/>
          <p:cNvSpPr/>
          <p:nvPr/>
        </p:nvSpPr>
        <p:spPr>
          <a:xfrm>
            <a:off x="2944800" y="3038400"/>
            <a:ext cx="1946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6" name=""/>
          <p:cNvSpPr txBox="1"/>
          <p:nvPr/>
        </p:nvSpPr>
        <p:spPr>
          <a:xfrm>
            <a:off x="1065240" y="5600520"/>
            <a:ext cx="2035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M_IME_REPORT</a:t>
            </a:r>
            <a:endParaRPr b="0" lang="en-US" sz="1600" spc="-1" strike="noStrike">
              <a:solidFill>
                <a:srgbClr val="ffffff"/>
              </a:solidFill>
              <a:latin typeface="Arial"/>
            </a:endParaRPr>
          </a:p>
        </p:txBody>
      </p:sp>
      <p:sp>
        <p:nvSpPr>
          <p:cNvPr id="357" name=""/>
          <p:cNvSpPr/>
          <p:nvPr/>
        </p:nvSpPr>
        <p:spPr>
          <a:xfrm>
            <a:off x="1104840" y="5592600"/>
            <a:ext cx="1893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8" name=""/>
          <p:cNvSpPr/>
          <p:nvPr/>
        </p:nvSpPr>
        <p:spPr>
          <a:xfrm>
            <a:off x="1104840" y="3311640"/>
            <a:ext cx="0" cy="2280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9" name=""/>
          <p:cNvSpPr/>
          <p:nvPr/>
        </p:nvSpPr>
        <p:spPr>
          <a:xfrm>
            <a:off x="1104840" y="3311640"/>
            <a:ext cx="40449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60" name=""/>
          <p:cNvSpPr/>
          <p:nvPr/>
        </p:nvSpPr>
        <p:spPr>
          <a:xfrm>
            <a:off x="5214960" y="3321000"/>
            <a:ext cx="13874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61" name=""/>
          <p:cNvSpPr/>
          <p:nvPr/>
        </p:nvSpPr>
        <p:spPr>
          <a:xfrm>
            <a:off x="1657440" y="3538440"/>
            <a:ext cx="971640" cy="355680"/>
          </a:xfrm>
          <a:prstGeom prst="rect">
            <a:avLst/>
          </a:prstGeom>
          <a:gradFill rotWithShape="0">
            <a:gsLst>
              <a:gs pos="0">
                <a:srgbClr val="2d2370"/>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txBox="1"/>
          <p:nvPr/>
        </p:nvSpPr>
        <p:spPr>
          <a:xfrm>
            <a:off x="1467000" y="3691080"/>
            <a:ext cx="942840" cy="355680"/>
          </a:xfrm>
          <a:prstGeom prst="rect">
            <a:avLst/>
          </a:prstGeom>
          <a:gradFill rotWithShape="0">
            <a:gsLst>
              <a:gs pos="0">
                <a:srgbClr val="2d2370"/>
              </a:gs>
              <a:gs pos="100000">
                <a:srgbClr val="5b47e1"/>
              </a:gs>
            </a:gsLst>
            <a:lin ang="5400000"/>
          </a:gradFill>
          <a:ln w="12600">
            <a:solidFill>
              <a:srgbClr val="ffffff"/>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UI Class</a:t>
            </a:r>
            <a:endParaRPr b="0" lang="en-US" sz="1600" spc="-1" strike="noStrike">
              <a:solidFill>
                <a:srgbClr val="000000"/>
              </a:solidFill>
              <a:latin typeface="Arial"/>
            </a:endParaRPr>
          </a:p>
        </p:txBody>
      </p:sp>
      <p:sp>
        <p:nvSpPr>
          <p:cNvPr id="363" name=""/>
          <p:cNvSpPr/>
          <p:nvPr/>
        </p:nvSpPr>
        <p:spPr>
          <a:xfrm>
            <a:off x="1646280" y="3046320"/>
            <a:ext cx="0" cy="689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4" name=""/>
          <p:cNvSpPr txBox="1"/>
          <p:nvPr/>
        </p:nvSpPr>
        <p:spPr>
          <a:xfrm>
            <a:off x="76320" y="201600"/>
            <a:ext cx="89917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Aware Application</a:t>
            </a:r>
            <a:br>
              <a:rPr sz="1800"/>
            </a:br>
            <a:r>
              <a:rPr b="1" lang="en-US" sz="3200" spc="-1" strike="noStrike">
                <a:solidFill>
                  <a:srgbClr val="fafd00"/>
                </a:solidFill>
                <a:latin typeface="Times New Roman"/>
                <a:ea typeface="Times New Roman"/>
              </a:rPr>
              <a:t>Use IR_STRING</a:t>
            </a:r>
            <a:endParaRPr b="0" lang="en-US" sz="3200" spc="-1" strike="noStrike">
              <a:solidFill>
                <a:srgbClr val="ffffff"/>
              </a:solidFill>
              <a:latin typeface="Arial"/>
            </a:endParaRPr>
          </a:p>
        </p:txBody>
      </p:sp>
      <p:sp>
        <p:nvSpPr>
          <p:cNvPr id="365" name=""/>
          <p:cNvSpPr txBox="1"/>
          <p:nvPr/>
        </p:nvSpPr>
        <p:spPr>
          <a:xfrm>
            <a:off x="60480" y="1881360"/>
            <a:ext cx="8826480" cy="49770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Lucida Sans Typewriter"/>
                <a:ea typeface="Lucida Sans Typewriter"/>
              </a:rPr>
              <a:t>case WM_IME_REPOR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wParam == IR_STRING)</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marL="4572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 (lpP = GlobalLock((HANDLE)LOWORD(lParam)))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TextOut(hdc, x, y, lpP, lstrlen(lpP));</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GlobalUnlock((HANDLE)LOWORD(lParam));</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return 1L; // processed</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break;</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ystem IME Class</a:t>
            </a:r>
            <a:endParaRPr b="0" lang="en-US" sz="4800" spc="-1" strike="noStrike">
              <a:solidFill>
                <a:srgbClr val="ffffff"/>
              </a:solidFill>
              <a:latin typeface="Arial"/>
            </a:endParaRPr>
          </a:p>
        </p:txBody>
      </p:sp>
      <p:sp>
        <p:nvSpPr>
          <p:cNvPr id="367" name=""/>
          <p:cNvSpPr txBox="1"/>
          <p:nvPr/>
        </p:nvSpPr>
        <p:spPr>
          <a:xfrm>
            <a:off x="600120" y="1190520"/>
            <a:ext cx="7943760" cy="5048280"/>
          </a:xfrm>
          <a:prstGeom prst="rect">
            <a:avLst/>
          </a:prstGeom>
          <a:noFill/>
          <a:ln w="0">
            <a:noFill/>
          </a:ln>
        </p:spPr>
        <p:txBody>
          <a:bodyPr lIns="0" rIns="0" tIns="0" bIns="0" anchor="t">
            <a:noAutofit/>
          </a:bodyPr>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edefined class like EDIT or LISTBOX clas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arries out all IME user interface function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oes not receive direct user input but responds to IME message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ch application can have its own IME window and maintain state at task switch:</a:t>
            </a:r>
            <a:endParaRPr b="0" lang="en-US" sz="28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complete input before conversion</a:t>
            </a:r>
            <a:endParaRPr b="0" lang="en-US" sz="24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andidates list</a:t>
            </a:r>
            <a:endParaRPr b="0" lang="en-US" sz="24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E window will have application’s handle</a:t>
            </a:r>
            <a:endParaRPr b="0" lang="en-US" sz="28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ME can trace caret position</a:t>
            </a:r>
            <a:endParaRPr b="0" lang="en-US" sz="24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ME move with application when mo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2" name=""/>
          <p:cNvSpPr txBox="1"/>
          <p:nvPr/>
        </p:nvSpPr>
        <p:spPr>
          <a:xfrm>
            <a:off x="220680" y="228600"/>
            <a:ext cx="870264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International</a:t>
            </a:r>
            <a:endParaRPr b="0" lang="en-US" sz="4800" spc="-1" strike="noStrike">
              <a:solidFill>
                <a:srgbClr val="ffffff"/>
              </a:solidFill>
              <a:latin typeface="Arial"/>
            </a:endParaRPr>
          </a:p>
        </p:txBody>
      </p:sp>
      <p:sp>
        <p:nvSpPr>
          <p:cNvPr id="53" name=""/>
          <p:cNvSpPr txBox="1"/>
          <p:nvPr/>
        </p:nvSpPr>
        <p:spPr>
          <a:xfrm>
            <a:off x="243000" y="1884240"/>
            <a:ext cx="8658360" cy="3305160"/>
          </a:xfrm>
          <a:prstGeom prst="rect">
            <a:avLst/>
          </a:prstGeom>
          <a:noFill/>
          <a:ln w="0">
            <a:noFill/>
          </a:ln>
        </p:spPr>
        <p:txBody>
          <a:bodyPr lIns="0" rIns="0" tIns="0" bIns="0" anchor="t">
            <a:noAutofit/>
          </a:bodyPr>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ame language versions as for Windows</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3.1</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S/European targets 386/4 MB</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ar East:  U.S. requirements + a couple megs</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fully preemptive multitasking, </a:t>
            </a:r>
            <a:br>
              <a:rPr sz="3200"/>
            </a:br>
            <a:r>
              <a:rPr b="1" lang="en-US" sz="3200" spc="-1" strike="noStrike">
                <a:solidFill>
                  <a:srgbClr val="ffffff"/>
                </a:solidFill>
                <a:latin typeface="Times New Roman"/>
                <a:ea typeface="Times New Roman"/>
              </a:rPr>
              <a:t>does not require MS-DOS</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separately</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Better international suppor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How To Use The IME Class</a:t>
            </a:r>
            <a:endParaRPr b="0" lang="en-US" sz="4800" spc="-1" strike="noStrike">
              <a:solidFill>
                <a:srgbClr val="ffffff"/>
              </a:solidFill>
              <a:latin typeface="Arial"/>
            </a:endParaRPr>
          </a:p>
        </p:txBody>
      </p:sp>
      <p:sp>
        <p:nvSpPr>
          <p:cNvPr id="369" name=""/>
          <p:cNvSpPr txBox="1"/>
          <p:nvPr/>
        </p:nvSpPr>
        <p:spPr>
          <a:xfrm>
            <a:off x="549360" y="1209600"/>
            <a:ext cx="8047080" cy="4422600"/>
          </a:xfrm>
          <a:prstGeom prst="rect">
            <a:avLst/>
          </a:prstGeom>
          <a:noFill/>
          <a:ln w="0">
            <a:noFill/>
          </a:ln>
        </p:spPr>
        <p:txBody>
          <a:bodyPr lIns="0" rIns="0" tIns="0" bIns="0" anchor="t">
            <a:noAutofit/>
          </a:bodyPr>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creates its own IME class </a:t>
            </a:r>
            <a:endParaRPr b="0" lang="en-US" sz="3200" spc="-1" strike="noStrike">
              <a:solidFill>
                <a:srgbClr val="ffffff"/>
              </a:solidFill>
              <a:latin typeface="Arial"/>
            </a:endParaRPr>
          </a:p>
          <a:p>
            <a:pPr lvl="1" marL="914400" indent="-3841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th WS_DISABLE, without WS_VISABLE</a:t>
            </a:r>
            <a:endParaRPr b="0" lang="en-US" sz="2800" spc="-1" strike="noStrike">
              <a:solidFill>
                <a:srgbClr val="ffffff"/>
              </a:solidFill>
              <a:latin typeface="Arial"/>
            </a:endParaRPr>
          </a:p>
          <a:p>
            <a:pPr lvl="1" marL="914400" indent="-3841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plication’s IME class will never handle input</a:t>
            </a:r>
            <a:endParaRPr b="0" lang="en-US" sz="2800" spc="-1" strike="noStrike">
              <a:solidFill>
                <a:srgbClr val="ffffff"/>
              </a:solidFill>
              <a:latin typeface="Arial"/>
            </a:endParaRPr>
          </a:p>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s IME class will create instance of currently selected IME user- interface window</a:t>
            </a:r>
            <a:endParaRPr b="0" lang="en-US" sz="3200" spc="-1" strike="noStrike">
              <a:solidFill>
                <a:srgbClr val="ffffff"/>
              </a:solidFill>
              <a:latin typeface="Arial"/>
            </a:endParaRPr>
          </a:p>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ll IME message can be passed to the application’s IME cl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0" name=""/>
          <p:cNvSpPr txBox="1"/>
          <p:nvPr/>
        </p:nvSpPr>
        <p:spPr>
          <a:xfrm>
            <a:off x="46080" y="1749600"/>
            <a:ext cx="9053640" cy="520920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Lucida Sans Typewriter"/>
                <a:ea typeface="Lucida Sans Typewriter"/>
              </a:rPr>
              <a:t>struct _tagIMEfuncs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LPCHAR   pszName;</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FARPROC *pFunc;</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 IMEFunc[ NUMIMEFUNCS] =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a:t>
            </a:r>
            <a:r>
              <a:rPr b="1" lang="en-US" sz="1600" spc="-1" strike="noStrike">
                <a:solidFill>
                  <a:srgbClr val="ffffff"/>
                </a:solidFill>
                <a:latin typeface="Lucida Sans Typewriter"/>
                <a:ea typeface="Lucida Sans Typewriter"/>
              </a:rPr>
              <a:t>IMPAdd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 “IMPDelet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 “IMPGet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a:t>
            </a:r>
            <a:endParaRPr b="0" lang="en-US" sz="1600" spc="-1" strike="noStrike">
              <a:solidFill>
                <a:srgbClr val="ffffff"/>
              </a:solidFill>
              <a:latin typeface="Arial"/>
            </a:endParaRPr>
          </a:p>
          <a:p>
            <a:pPr>
              <a:lnSpc>
                <a:spcPct val="90000"/>
              </a:lnSpc>
            </a:pP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if ( (hDLL = LoadIMEFuncs( IMEFunc, NUMIMEFUNCS)) )  {</a:t>
            </a:r>
            <a:endParaRPr b="0" lang="en-US" sz="1600" spc="-1" strike="noStrike">
              <a:solidFill>
                <a:srgbClr val="ffffff"/>
              </a:solidFill>
              <a:latin typeface="Arial"/>
            </a:endParaRPr>
          </a:p>
          <a:p>
            <a:pPr marL="914400">
              <a:lnSpc>
                <a:spcPct val="90000"/>
              </a:lnSpc>
            </a:pPr>
            <a:r>
              <a:rPr b="1" lang="en-US" sz="1600" spc="-1" strike="noStrike">
                <a:solidFill>
                  <a:srgbClr val="ffffff"/>
                </a:solidFill>
                <a:latin typeface="Lucida Sans Typewriter"/>
                <a:ea typeface="Lucida Sans Typewriter"/>
              </a:rPr>
              <a:t>//... Do Japanese stuff</a:t>
            </a:r>
            <a:endParaRPr b="0" lang="en-US" sz="1600" spc="-1" strike="noStrike">
              <a:solidFill>
                <a:srgbClr val="ffffff"/>
              </a:solidFill>
              <a:latin typeface="Arial"/>
            </a:endParaRPr>
          </a:p>
          <a:p>
            <a:pPr marL="914400">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914400">
              <a:lnSpc>
                <a:spcPct val="90000"/>
              </a:lnSpc>
            </a:pPr>
            <a:r>
              <a:rPr b="1" lang="en-US" sz="1600" spc="-1" strike="noStrike" u="sng">
                <a:solidFill>
                  <a:srgbClr val="ffffff"/>
                </a:solidFill>
                <a:uFillTx/>
                <a:latin typeface="Lucida Sans Typewriter"/>
                <a:ea typeface="Lucida Sans Typewriter"/>
              </a:rPr>
              <a:t>call FreeLibrary( hDLL);</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HMODULE LoadIMEFuncs( struct _tagIMEFuncs * pIME, int cFuncs)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HMODULE hDLL = </a:t>
            </a:r>
            <a:r>
              <a:rPr b="1" lang="en-US" sz="1600" spc="-1" strike="noStrike" u="sng">
                <a:solidFill>
                  <a:srgbClr val="5b47e1"/>
                </a:solidFill>
                <a:uFillTx/>
                <a:latin typeface="Lucida Sans Typewriter"/>
                <a:ea typeface="Lucida Sans Typewriter"/>
              </a:rPr>
              <a:t>LoadLibrary</a:t>
            </a:r>
            <a:r>
              <a:rPr b="1" lang="en-US" sz="1600" spc="-1" strike="noStrike">
                <a:solidFill>
                  <a:srgbClr val="ffffff"/>
                </a:solidFill>
                <a:latin typeface="Lucida Sans Typewriter"/>
                <a:ea typeface="Lucida Sans Typewriter"/>
              </a:rPr>
              <a:t>( TEXT(”</a:t>
            </a:r>
            <a:r>
              <a:rPr b="1" lang="en-US" sz="1600" spc="-1" strike="noStrike" u="sng">
                <a:solidFill>
                  <a:srgbClr val="ffffff"/>
                </a:solidFill>
                <a:uFillTx/>
                <a:latin typeface="Lucida Sans Typewriter"/>
                <a:ea typeface="Lucida Sans Typewriter"/>
              </a:rPr>
              <a:t>user32</a:t>
            </a: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if ( hDLL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 </a:t>
            </a:r>
            <a:r>
              <a:rPr b="1" lang="en-US" sz="1600" spc="-1" strike="noStrike">
                <a:solidFill>
                  <a:srgbClr val="ffffff"/>
                </a:solidFill>
                <a:latin typeface="Lucida Sans Typewriter"/>
                <a:ea typeface="Lucida Sans Typewriter"/>
              </a:rPr>
              <a:t>while ( cFuncs-- &gt;= 0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   </a:t>
            </a:r>
            <a:r>
              <a:rPr b="1" lang="en-US" sz="1600" spc="-1" strike="noStrike">
                <a:solidFill>
                  <a:srgbClr val="ffffff"/>
                </a:solidFill>
                <a:latin typeface="Lucida Sans Typewriter"/>
                <a:ea typeface="Lucida Sans Typewriter"/>
              </a:rPr>
              <a:t>pIME[cFuncs].pFunc = </a:t>
            </a:r>
            <a:r>
              <a:rPr b="1" lang="en-US" sz="1600" spc="-1" strike="noStrike">
                <a:solidFill>
                  <a:srgbClr val="5b47e1"/>
                </a:solidFill>
                <a:latin typeface="Lucida Sans Typewriter"/>
                <a:ea typeface="Lucida Sans Typewriter"/>
              </a:rPr>
              <a:t>GetProcAddress</a:t>
            </a:r>
            <a:r>
              <a:rPr b="1" lang="en-US" sz="1600" spc="-1" strike="noStrike">
                <a:solidFill>
                  <a:srgbClr val="ffffff"/>
                </a:solidFill>
                <a:latin typeface="Lucida Sans Typewriter"/>
                <a:ea typeface="Lucida Sans Typewriter"/>
              </a:rPr>
              <a:t>( hDLL, pIME[cFuncs].pszName);</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return( hDLL);</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p:txBody>
      </p:sp>
      <p:sp>
        <p:nvSpPr>
          <p:cNvPr id="371" name=""/>
          <p:cNvSpPr txBox="1"/>
          <p:nvPr/>
        </p:nvSpPr>
        <p:spPr>
          <a:xfrm>
            <a:off x="457200" y="255600"/>
            <a:ext cx="822960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s IME Available?</a:t>
            </a:r>
            <a:br>
              <a:rPr sz="4800"/>
            </a:br>
            <a:r>
              <a:rPr b="1" lang="en-US" sz="3600" spc="-1" strike="noStrike">
                <a:solidFill>
                  <a:srgbClr val="f4d337"/>
                </a:solidFill>
                <a:latin typeface="Times New Roman"/>
                <a:ea typeface="Times New Roman"/>
              </a:rPr>
              <a:t>Conditional use of I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2"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373" name=""/>
          <p:cNvSpPr txBox="1"/>
          <p:nvPr/>
        </p:nvSpPr>
        <p:spPr>
          <a:xfrm>
            <a:off x="1282680" y="1422360"/>
            <a:ext cx="660384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4" name=""/>
          <p:cNvSpPr/>
          <p:nvPr/>
        </p:nvSpPr>
        <p:spPr>
          <a:xfrm>
            <a:off x="5834160" y="91440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357880" y="116208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txBox="1"/>
          <p:nvPr/>
        </p:nvSpPr>
        <p:spPr>
          <a:xfrm>
            <a:off x="977760" y="173160"/>
            <a:ext cx="4414680" cy="1571760"/>
          </a:xfrm>
          <a:prstGeom prst="rect">
            <a:avLst/>
          </a:prstGeom>
          <a:noFill/>
          <a:ln w="0">
            <a:noFill/>
          </a:ln>
        </p:spPr>
        <p:txBody>
          <a:bodyPr lIns="0" rIns="0" tIns="0" bIns="0" anchor="t">
            <a:noAutofit/>
          </a:bodyPr>
          <a:p>
            <a:pPr>
              <a:lnSpc>
                <a:spcPct val="90000"/>
              </a:lnSpc>
            </a:pPr>
            <a:r>
              <a:rPr b="1" lang="en-US" sz="5400" spc="-1" strike="noStrike">
                <a:solidFill>
                  <a:srgbClr val="f4d337"/>
                </a:solidFill>
                <a:latin typeface="Times New Roman"/>
                <a:ea typeface="Times New Roman"/>
              </a:rPr>
              <a:t>International Win32</a:t>
            </a:r>
            <a:endParaRPr b="0" lang="en-US" sz="5400" spc="-1" strike="noStrike">
              <a:solidFill>
                <a:srgbClr val="ffffff"/>
              </a:solidFill>
              <a:latin typeface="Arial"/>
            </a:endParaRPr>
          </a:p>
        </p:txBody>
      </p:sp>
      <p:sp>
        <p:nvSpPr>
          <p:cNvPr id="377" name=""/>
          <p:cNvSpPr txBox="1"/>
          <p:nvPr/>
        </p:nvSpPr>
        <p:spPr>
          <a:xfrm>
            <a:off x="636480" y="3762360"/>
            <a:ext cx="7872480" cy="2527200"/>
          </a:xfrm>
          <a:prstGeom prst="rect">
            <a:avLst/>
          </a:prstGeom>
          <a:noFill/>
          <a:ln w="0">
            <a:noFill/>
          </a:ln>
        </p:spPr>
        <p:txBody>
          <a:bodyPr lIns="0" rIns="0" tIns="0" bIns="0" anchor="t">
            <a:noAutofit/>
          </a:bodyPr>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rite to the Win32 API wherever possible</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se the NLS APIs</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se Windows NT or “Chicago” as dev platform</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ntegrate OLE 2.0 now</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nsider direct Windows IME support</a:t>
            </a:r>
            <a:endParaRPr b="0" lang="en-US" sz="2800" spc="-1" strike="noStrike">
              <a:solidFill>
                <a:srgbClr val="ffffff"/>
              </a:solidFill>
              <a:latin typeface="Arial"/>
            </a:endParaRPr>
          </a:p>
        </p:txBody>
      </p:sp>
      <p:sp>
        <p:nvSpPr>
          <p:cNvPr id="378" name=""/>
          <p:cNvSpPr txBox="1"/>
          <p:nvPr/>
        </p:nvSpPr>
        <p:spPr>
          <a:xfrm>
            <a:off x="4862520" y="137160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Application</a:t>
            </a:r>
            <a:endParaRPr b="0" lang="en-US" sz="2400" spc="-1" strike="noStrike">
              <a:solidFill>
                <a:srgbClr val="000000"/>
              </a:solidFill>
              <a:latin typeface="Arial"/>
            </a:endParaRPr>
          </a:p>
        </p:txBody>
      </p:sp>
      <p:sp>
        <p:nvSpPr>
          <p:cNvPr id="379" name=""/>
          <p:cNvSpPr txBox="1"/>
          <p:nvPr/>
        </p:nvSpPr>
        <p:spPr>
          <a:xfrm>
            <a:off x="714240" y="2214720"/>
            <a:ext cx="7791480" cy="428760"/>
          </a:xfrm>
          <a:prstGeom prst="rect">
            <a:avLst/>
          </a:prstGeom>
          <a:gradFill rotWithShape="0">
            <a:gsLst>
              <a:gs pos="0">
                <a:srgbClr val="20877c"/>
              </a:gs>
              <a:gs pos="100000">
                <a:srgbClr val="29a99b"/>
              </a:gs>
            </a:gsLst>
            <a:lin ang="5400000"/>
          </a:gradFill>
          <a:ln w="12600">
            <a:solidFill>
              <a:srgbClr val="ffffff"/>
            </a:solidFill>
            <a:round/>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Win32 and OLE 2.0</a:t>
            </a:r>
            <a:endParaRPr b="0" lang="en-US" sz="2400" spc="-1" strike="noStrike">
              <a:solidFill>
                <a:srgbClr val="000000"/>
              </a:solidFill>
              <a:latin typeface="Arial"/>
            </a:endParaRPr>
          </a:p>
        </p:txBody>
      </p:sp>
      <p:sp>
        <p:nvSpPr>
          <p:cNvPr id="380" name=""/>
          <p:cNvSpPr txBox="1"/>
          <p:nvPr/>
        </p:nvSpPr>
        <p:spPr>
          <a:xfrm>
            <a:off x="723960" y="2757600"/>
            <a:ext cx="1924200" cy="714240"/>
          </a:xfrm>
          <a:prstGeom prst="rect">
            <a:avLst/>
          </a:prstGeom>
          <a:gradFill rotWithShape="0">
            <a:gsLst>
              <a:gs pos="0">
                <a:srgbClr val="4838b4"/>
              </a:gs>
              <a:gs pos="100000">
                <a:srgbClr val="5b47e1"/>
              </a:gs>
            </a:gsLst>
            <a:lin ang="5400000"/>
          </a:gradFill>
          <a:ln w="12600">
            <a:solidFill>
              <a:srgbClr val="ffffff"/>
            </a:solidFill>
            <a:round/>
          </a:ln>
        </p:spPr>
        <p:txBody>
          <a:bodyPr lIns="0" rIns="0" tIns="0" bIns="0" anchor="t">
            <a:noAutofit/>
          </a:bodyPr>
          <a:p>
            <a:pPr algn="ctr">
              <a:lnSpc>
                <a:spcPct val="85000"/>
              </a:lnSpc>
              <a:spcBef>
                <a:spcPts val="241"/>
              </a:spcBef>
            </a:pPr>
            <a:r>
              <a:rPr b="1" lang="en-US" sz="2400" spc="-1" strike="noStrike">
                <a:solidFill>
                  <a:srgbClr val="ffffff"/>
                </a:solidFill>
                <a:latin typeface="Times New Roman"/>
                <a:ea typeface="Times New Roman"/>
              </a:rPr>
              <a:t>Windows  3.1</a:t>
            </a:r>
            <a:endParaRPr b="0" lang="en-US" sz="2400" spc="-1" strike="noStrike">
              <a:solidFill>
                <a:srgbClr val="000000"/>
              </a:solidFill>
              <a:latin typeface="Arial"/>
            </a:endParaRPr>
          </a:p>
        </p:txBody>
      </p:sp>
      <p:sp>
        <p:nvSpPr>
          <p:cNvPr id="381" name=""/>
          <p:cNvSpPr txBox="1"/>
          <p:nvPr/>
        </p:nvSpPr>
        <p:spPr>
          <a:xfrm>
            <a:off x="2747880" y="2743200"/>
            <a:ext cx="1965240" cy="728640"/>
          </a:xfrm>
          <a:prstGeom prst="rect">
            <a:avLst/>
          </a:prstGeom>
          <a:gradFill rotWithShape="0">
            <a:gsLst>
              <a:gs pos="0">
                <a:srgbClr val="4838b4"/>
              </a:gs>
              <a:gs pos="100000">
                <a:srgbClr val="5b47e1"/>
              </a:gs>
            </a:gsLst>
            <a:lin ang="5400000"/>
          </a:gradFill>
          <a:ln w="12600">
            <a:solidFill>
              <a:srgbClr val="ffffff"/>
            </a:solidFill>
            <a:round/>
          </a:ln>
        </p:spPr>
        <p:txBody>
          <a:bodyPr lIns="0" rIns="0" tIns="0" bIns="0" anchor="t">
            <a:noAutofit/>
          </a:bodyPr>
          <a:p>
            <a:pPr algn="ctr">
              <a:lnSpc>
                <a:spcPct val="85000"/>
              </a:lnSpc>
              <a:spcBef>
                <a:spcPts val="241"/>
              </a:spcBef>
            </a:pPr>
            <a:r>
              <a:rPr b="1" lang="en-US" sz="2400" spc="-1" strike="noStrike">
                <a:solidFill>
                  <a:srgbClr val="ffffff"/>
                </a:solidFill>
                <a:latin typeface="Times New Roman"/>
                <a:ea typeface="Times New Roman"/>
              </a:rPr>
              <a:t>Windows NT 3.1</a:t>
            </a:r>
            <a:endParaRPr b="0" lang="en-US" sz="2400" spc="-1" strike="noStrike">
              <a:solidFill>
                <a:srgbClr val="000000"/>
              </a:solidFill>
              <a:latin typeface="Arial"/>
            </a:endParaRPr>
          </a:p>
        </p:txBody>
      </p:sp>
      <p:sp>
        <p:nvSpPr>
          <p:cNvPr id="382" name=""/>
          <p:cNvSpPr txBox="1"/>
          <p:nvPr/>
        </p:nvSpPr>
        <p:spPr>
          <a:xfrm>
            <a:off x="4795920" y="2757600"/>
            <a:ext cx="1809720" cy="71424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85000"/>
              </a:lnSpc>
              <a:spcBef>
                <a:spcPts val="241"/>
              </a:spcBef>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a:t>
            </a:r>
            <a:endParaRPr b="0" lang="en-US" sz="2400" spc="-1" strike="noStrike">
              <a:solidFill>
                <a:srgbClr val="000000"/>
              </a:solidFill>
              <a:latin typeface="Arial"/>
            </a:endParaRPr>
          </a:p>
        </p:txBody>
      </p:sp>
      <p:sp>
        <p:nvSpPr>
          <p:cNvPr id="383" name=""/>
          <p:cNvSpPr txBox="1"/>
          <p:nvPr/>
        </p:nvSpPr>
        <p:spPr>
          <a:xfrm>
            <a:off x="6686640" y="2757600"/>
            <a:ext cx="1809720" cy="714240"/>
          </a:xfrm>
          <a:prstGeom prst="rect">
            <a:avLst/>
          </a:prstGeom>
          <a:gradFill rotWithShape="0">
            <a:gsLst>
              <a:gs pos="0">
                <a:srgbClr val="009284"/>
              </a:gs>
              <a:gs pos="100000">
                <a:srgbClr val="00b7a5"/>
              </a:gs>
            </a:gsLst>
            <a:lin ang="5400000"/>
          </a:gradFill>
          <a:ln w="12600">
            <a:solidFill>
              <a:srgbClr val="ffffff"/>
            </a:solidFill>
            <a:round/>
          </a:ln>
        </p:spPr>
        <p:txBody>
          <a:bodyPr lIns="0" rIns="0" tIns="0" bIns="0" anchor="t">
            <a:noAutofit/>
          </a:bodyPr>
          <a:p>
            <a:pPr>
              <a:lnSpc>
                <a:spcPct val="85000"/>
              </a:lnSpc>
              <a:spcBef>
                <a:spcPts val="241"/>
              </a:spcBef>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84"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Evolution Of Windows</a:t>
            </a:r>
            <a:endParaRPr b="0" lang="en-US" sz="4800" spc="-1" strike="noStrike">
              <a:solidFill>
                <a:srgbClr val="ffffff"/>
              </a:solidFill>
              <a:latin typeface="Arial"/>
            </a:endParaRPr>
          </a:p>
        </p:txBody>
      </p:sp>
      <p:sp>
        <p:nvSpPr>
          <p:cNvPr id="385" name=""/>
          <p:cNvSpPr txBox="1"/>
          <p:nvPr/>
        </p:nvSpPr>
        <p:spPr>
          <a:xfrm>
            <a:off x="1263600" y="4152960"/>
            <a:ext cx="2209680" cy="173340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Windows 3.x</a:t>
            </a:r>
            <a:endParaRPr b="0" lang="en-US" sz="2000" spc="-1" strike="noStrike">
              <a:solidFill>
                <a:srgbClr val="000000"/>
              </a:solidFill>
              <a:latin typeface="Arial"/>
            </a:endParaRPr>
          </a:p>
        </p:txBody>
      </p:sp>
      <p:sp>
        <p:nvSpPr>
          <p:cNvPr id="386" name=""/>
          <p:cNvSpPr txBox="1"/>
          <p:nvPr/>
        </p:nvSpPr>
        <p:spPr>
          <a:xfrm>
            <a:off x="1911240" y="1428840"/>
            <a:ext cx="2647800" cy="230508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Windows NT 3.x</a:t>
            </a:r>
            <a:endParaRPr b="0" lang="en-US" sz="2000" spc="-1" strike="noStrike">
              <a:solidFill>
                <a:srgbClr val="000000"/>
              </a:solidFill>
              <a:latin typeface="Arial"/>
            </a:endParaRPr>
          </a:p>
        </p:txBody>
      </p:sp>
      <p:sp>
        <p:nvSpPr>
          <p:cNvPr id="387" name=""/>
          <p:cNvSpPr txBox="1"/>
          <p:nvPr/>
        </p:nvSpPr>
        <p:spPr>
          <a:xfrm>
            <a:off x="4546440" y="4095720"/>
            <a:ext cx="3170160" cy="182880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a:t>
            </a:r>
            <a:r>
              <a:rPr b="1" lang="en-US" sz="2000" spc="-1" strike="noStrike">
                <a:solidFill>
                  <a:srgbClr val="fafd00"/>
                </a:solidFill>
                <a:latin typeface="Times New Roman"/>
                <a:ea typeface="Times New Roman"/>
              </a:rPr>
              <a:t>Chicago”</a:t>
            </a:r>
            <a:endParaRPr b="0" lang="en-US" sz="2000" spc="-1" strike="noStrike">
              <a:solidFill>
                <a:srgbClr val="000000"/>
              </a:solidFill>
              <a:latin typeface="Arial"/>
            </a:endParaRPr>
          </a:p>
        </p:txBody>
      </p:sp>
      <p:sp>
        <p:nvSpPr>
          <p:cNvPr id="388" name=""/>
          <p:cNvSpPr txBox="1"/>
          <p:nvPr/>
        </p:nvSpPr>
        <p:spPr>
          <a:xfrm>
            <a:off x="5194440" y="1454040"/>
            <a:ext cx="3228840" cy="225108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a:t>
            </a:r>
            <a:r>
              <a:rPr b="1" lang="en-US" sz="2000" spc="-1" strike="noStrike">
                <a:solidFill>
                  <a:srgbClr val="fafd00"/>
                </a:solidFill>
                <a:latin typeface="Times New Roman"/>
                <a:ea typeface="Times New Roman"/>
              </a:rPr>
              <a:t>Cairo”</a:t>
            </a:r>
            <a:endParaRPr b="0" lang="en-US" sz="2000" spc="-1" strike="noStrike">
              <a:solidFill>
                <a:srgbClr val="000000"/>
              </a:solidFill>
              <a:latin typeface="Arial"/>
            </a:endParaRPr>
          </a:p>
        </p:txBody>
      </p:sp>
      <p:sp>
        <p:nvSpPr>
          <p:cNvPr id="389" name=""/>
          <p:cNvSpPr txBox="1"/>
          <p:nvPr/>
        </p:nvSpPr>
        <p:spPr>
          <a:xfrm>
            <a:off x="2933640" y="95076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3</a:t>
            </a:r>
            <a:endParaRPr b="0" lang="en-US" sz="2400" spc="-1" strike="noStrike">
              <a:solidFill>
                <a:srgbClr val="ffffff"/>
              </a:solidFill>
              <a:latin typeface="Arial"/>
            </a:endParaRPr>
          </a:p>
        </p:txBody>
      </p:sp>
      <p:sp>
        <p:nvSpPr>
          <p:cNvPr id="390" name=""/>
          <p:cNvSpPr txBox="1"/>
          <p:nvPr/>
        </p:nvSpPr>
        <p:spPr>
          <a:xfrm>
            <a:off x="5834160" y="932040"/>
            <a:ext cx="1487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4/1995</a:t>
            </a:r>
            <a:endParaRPr b="0" lang="en-US" sz="2400" spc="-1" strike="noStrike">
              <a:solidFill>
                <a:srgbClr val="ffffff"/>
              </a:solidFill>
              <a:latin typeface="Arial"/>
            </a:endParaRPr>
          </a:p>
        </p:txBody>
      </p:sp>
      <p:sp>
        <p:nvSpPr>
          <p:cNvPr id="391" name=""/>
          <p:cNvSpPr txBox="1"/>
          <p:nvPr/>
        </p:nvSpPr>
        <p:spPr>
          <a:xfrm>
            <a:off x="1333440" y="4518000"/>
            <a:ext cx="1930320" cy="44604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E</a:t>
            </a:r>
            <a:endParaRPr b="0" lang="en-US" sz="1800" spc="-1" strike="noStrike">
              <a:solidFill>
                <a:srgbClr val="000000"/>
              </a:solidFill>
              <a:latin typeface="Arial"/>
            </a:endParaRPr>
          </a:p>
        </p:txBody>
      </p:sp>
      <p:sp>
        <p:nvSpPr>
          <p:cNvPr id="392" name=""/>
          <p:cNvSpPr txBox="1"/>
          <p:nvPr/>
        </p:nvSpPr>
        <p:spPr>
          <a:xfrm>
            <a:off x="1940040" y="1876320"/>
            <a:ext cx="2575080" cy="56844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NLS API, IME</a:t>
            </a:r>
            <a:br>
              <a:rPr sz="1800"/>
            </a:br>
            <a:r>
              <a:rPr b="1" lang="en-US" sz="1800" spc="-1" strike="noStrike">
                <a:solidFill>
                  <a:srgbClr val="ffffff"/>
                </a:solidFill>
                <a:latin typeface="Times New Roman"/>
                <a:ea typeface="Times New Roman"/>
              </a:rPr>
              <a:t>Unicode</a:t>
            </a:r>
            <a:endParaRPr b="0" lang="en-US" sz="1800" spc="-1" strike="noStrike">
              <a:solidFill>
                <a:srgbClr val="000000"/>
              </a:solidFill>
              <a:latin typeface="Arial"/>
            </a:endParaRPr>
          </a:p>
        </p:txBody>
      </p:sp>
      <p:sp>
        <p:nvSpPr>
          <p:cNvPr id="393" name=""/>
          <p:cNvSpPr txBox="1"/>
          <p:nvPr/>
        </p:nvSpPr>
        <p:spPr>
          <a:xfrm>
            <a:off x="1940040" y="2489040"/>
            <a:ext cx="2592360" cy="56844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4" name=""/>
          <p:cNvSpPr txBox="1"/>
          <p:nvPr/>
        </p:nvSpPr>
        <p:spPr>
          <a:xfrm>
            <a:off x="4610160" y="5108400"/>
            <a:ext cx="2819520" cy="54936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5" name=""/>
          <p:cNvSpPr txBox="1"/>
          <p:nvPr/>
        </p:nvSpPr>
        <p:spPr>
          <a:xfrm>
            <a:off x="5295960" y="2460600"/>
            <a:ext cx="2590920" cy="56844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6" name=""/>
          <p:cNvSpPr txBox="1"/>
          <p:nvPr/>
        </p:nvSpPr>
        <p:spPr>
          <a:xfrm>
            <a:off x="4610160" y="4479840"/>
            <a:ext cx="2841480" cy="53028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proved NLS API</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Improved IME</a:t>
            </a:r>
            <a:endParaRPr b="0" lang="en-US" sz="1800" spc="-1" strike="noStrike">
              <a:solidFill>
                <a:srgbClr val="000000"/>
              </a:solidFill>
              <a:latin typeface="Arial"/>
            </a:endParaRPr>
          </a:p>
        </p:txBody>
      </p:sp>
      <p:sp>
        <p:nvSpPr>
          <p:cNvPr id="397" name=""/>
          <p:cNvSpPr txBox="1"/>
          <p:nvPr/>
        </p:nvSpPr>
        <p:spPr>
          <a:xfrm>
            <a:off x="5295960" y="1851120"/>
            <a:ext cx="2610000" cy="54936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proved NLS API, IM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Unicode</a:t>
            </a:r>
            <a:endParaRPr b="0" lang="en-US" sz="1800" spc="-1" strike="noStrike">
              <a:solidFill>
                <a:srgbClr val="000000"/>
              </a:solidFill>
              <a:latin typeface="Arial"/>
            </a:endParaRPr>
          </a:p>
        </p:txBody>
      </p:sp>
      <p:sp>
        <p:nvSpPr>
          <p:cNvPr id="398" name=""/>
          <p:cNvSpPr txBox="1"/>
          <p:nvPr/>
        </p:nvSpPr>
        <p:spPr>
          <a:xfrm>
            <a:off x="5315040" y="3108240"/>
            <a:ext cx="2558880" cy="549360"/>
          </a:xfrm>
          <a:prstGeom prst="rect">
            <a:avLst/>
          </a:prstGeom>
          <a:gradFill rotWithShape="0">
            <a:gsLst>
              <a:gs pos="0">
                <a:srgbClr val="7429af"/>
              </a:gs>
              <a:gs pos="100000">
                <a:srgbClr val="9234db"/>
              </a:gs>
            </a:gsLst>
            <a:lin ang="0"/>
          </a:gradFill>
          <a:ln w="12600">
            <a:solidFill>
              <a:srgbClr val="29a99b"/>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Distributed systems</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Object file system/tech.</a:t>
            </a:r>
            <a:endParaRPr b="0" lang="en-US" sz="1800" spc="-1" strike="noStrike">
              <a:solidFill>
                <a:srgbClr val="000000"/>
              </a:solidFill>
              <a:latin typeface="Arial"/>
            </a:endParaRPr>
          </a:p>
        </p:txBody>
      </p:sp>
      <p:sp>
        <p:nvSpPr>
          <p:cNvPr id="399" name=""/>
          <p:cNvSpPr txBox="1"/>
          <p:nvPr/>
        </p:nvSpPr>
        <p:spPr>
          <a:xfrm>
            <a:off x="1314360" y="5089680"/>
            <a:ext cx="1930320" cy="53028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OLE</a:t>
            </a:r>
            <a:endParaRPr b="0" lang="en-US" sz="1800" spc="-1" strike="noStrike">
              <a:solidFill>
                <a:srgbClr val="000000"/>
              </a:solidFill>
              <a:latin typeface="Arial"/>
            </a:endParaRPr>
          </a:p>
        </p:txBody>
      </p:sp>
      <p:sp>
        <p:nvSpPr>
          <p:cNvPr id="400" name=""/>
          <p:cNvSpPr txBox="1"/>
          <p:nvPr/>
        </p:nvSpPr>
        <p:spPr>
          <a:xfrm>
            <a:off x="399960" y="1812960"/>
            <a:ext cx="1862280" cy="16160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erver,</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high-end</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desktop </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newer hardware)</a:t>
            </a:r>
            <a:endParaRPr b="0" lang="en-US" sz="2000" spc="-1" strike="noStrike">
              <a:solidFill>
                <a:srgbClr val="ffffff"/>
              </a:solidFill>
              <a:latin typeface="Arial"/>
            </a:endParaRPr>
          </a:p>
        </p:txBody>
      </p:sp>
      <p:sp>
        <p:nvSpPr>
          <p:cNvPr id="401" name=""/>
          <p:cNvSpPr txBox="1"/>
          <p:nvPr/>
        </p:nvSpPr>
        <p:spPr>
          <a:xfrm>
            <a:off x="185760" y="5278320"/>
            <a:ext cx="2128680" cy="13111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Desktop,</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laptop</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installed base hardware)</a:t>
            </a:r>
            <a:endParaRPr b="0" lang="en-US" sz="2000" spc="-1" strike="noStrike">
              <a:solidFill>
                <a:srgbClr val="ffffff"/>
              </a:solidFill>
              <a:latin typeface="Arial"/>
            </a:endParaRPr>
          </a:p>
        </p:txBody>
      </p:sp>
      <p:sp>
        <p:nvSpPr>
          <p:cNvPr id="402" name=""/>
          <p:cNvSpPr/>
          <p:nvPr/>
        </p:nvSpPr>
        <p:spPr>
          <a:xfrm>
            <a:off x="4471920" y="222084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3" name=""/>
          <p:cNvSpPr/>
          <p:nvPr/>
        </p:nvSpPr>
        <p:spPr>
          <a:xfrm>
            <a:off x="8325000" y="222084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4" name=""/>
          <p:cNvSpPr/>
          <p:nvPr/>
        </p:nvSpPr>
        <p:spPr>
          <a:xfrm>
            <a:off x="3424320" y="467820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7648560" y="467820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06" name=""/>
          <p:cNvSpPr txBox="1"/>
          <p:nvPr/>
        </p:nvSpPr>
        <p:spPr>
          <a:xfrm>
            <a:off x="279360" y="228600"/>
            <a:ext cx="8586720" cy="18478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ernational Win32 Results:  U.S. ISVs</a:t>
            </a:r>
            <a:br>
              <a:rPr sz="4800"/>
            </a:br>
            <a:r>
              <a:rPr b="1" lang="en-US" sz="3200" spc="-1" strike="noStrike">
                <a:solidFill>
                  <a:srgbClr val="fafd00"/>
                </a:solidFill>
                <a:latin typeface="Times New Roman"/>
                <a:ea typeface="Times New Roman"/>
              </a:rPr>
              <a:t>32-bit Japanese public demos on Windows NT</a:t>
            </a:r>
            <a:endParaRPr b="0" lang="en-US" sz="3200" spc="-1" strike="noStrike">
              <a:solidFill>
                <a:srgbClr val="ffffff"/>
              </a:solidFill>
              <a:latin typeface="Arial"/>
            </a:endParaRPr>
          </a:p>
        </p:txBody>
      </p:sp>
      <p:sp>
        <p:nvSpPr>
          <p:cNvPr id="407" name=""/>
          <p:cNvSpPr txBox="1"/>
          <p:nvPr/>
        </p:nvSpPr>
        <p:spPr>
          <a:xfrm>
            <a:off x="884160" y="2346480"/>
            <a:ext cx="7377120" cy="3629160"/>
          </a:xfrm>
          <a:prstGeom prst="rect">
            <a:avLst/>
          </a:prstGeom>
          <a:noFill/>
          <a:ln w="0">
            <a:noFill/>
          </a:ln>
        </p:spPr>
        <p:txBody>
          <a:bodyPr lIns="0" rIns="0" tIns="0" bIns="0" anchor="t">
            <a:noAutofit/>
          </a:bodyPr>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AD/CAM:  </a:t>
            </a:r>
            <a:r>
              <a:rPr b="1" lang="en-US" sz="2400" spc="-1" strike="noStrike">
                <a:solidFill>
                  <a:srgbClr val="dadada"/>
                </a:solidFill>
                <a:latin typeface="Times New Roman"/>
                <a:ea typeface="Times New Roman"/>
              </a:rPr>
              <a:t>Adra, Computervision, Parametric</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munications and network:  </a:t>
            </a:r>
            <a:r>
              <a:rPr b="1" lang="en-US" sz="2400" spc="-1" strike="noStrike">
                <a:solidFill>
                  <a:srgbClr val="dadada"/>
                </a:solidFill>
                <a:latin typeface="Times New Roman"/>
                <a:ea typeface="Times New Roman"/>
              </a:rPr>
              <a:t>Eicon, NetManage</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Database:  </a:t>
            </a:r>
            <a:r>
              <a:rPr b="1" lang="en-US" sz="2400" spc="-1" strike="noStrike">
                <a:solidFill>
                  <a:srgbClr val="dadada"/>
                </a:solidFill>
                <a:latin typeface="Times New Roman"/>
                <a:ea typeface="Times New Roman"/>
              </a:rPr>
              <a:t>Microsoft, ORACLE</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EIS:  </a:t>
            </a:r>
            <a:r>
              <a:rPr b="1" lang="en-US" sz="2400" spc="-1" strike="noStrike">
                <a:solidFill>
                  <a:srgbClr val="dadada"/>
                </a:solidFill>
                <a:latin typeface="Times New Roman"/>
                <a:ea typeface="Times New Roman"/>
              </a:rPr>
              <a:t>Information Resources, SA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Financial:  </a:t>
            </a:r>
            <a:r>
              <a:rPr b="1" lang="en-US" sz="2400" spc="-1" strike="noStrike">
                <a:solidFill>
                  <a:srgbClr val="dadada"/>
                </a:solidFill>
                <a:latin typeface="Times New Roman"/>
                <a:ea typeface="Times New Roman"/>
              </a:rPr>
              <a:t>IMR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Machine translation:  </a:t>
            </a:r>
            <a:r>
              <a:rPr b="1" lang="en-US" sz="2400" spc="-1" strike="noStrike">
                <a:solidFill>
                  <a:srgbClr val="dadada"/>
                </a:solidFill>
                <a:latin typeface="Times New Roman"/>
                <a:ea typeface="Times New Roman"/>
              </a:rPr>
              <a:t>Language Engineering Corp</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Manufacturing/Scientific:</a:t>
            </a:r>
            <a:r>
              <a:rPr b="1" lang="en-US" sz="2400" spc="-1" strike="noStrike">
                <a:solidFill>
                  <a:srgbClr val="dadada"/>
                </a:solidFill>
                <a:latin typeface="Times New Roman"/>
                <a:ea typeface="Times New Roman"/>
              </a:rPr>
              <a:t>  National Instrument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Publishing:  </a:t>
            </a:r>
            <a:r>
              <a:rPr b="1" lang="en-US" sz="2400" spc="-1" strike="noStrike">
                <a:solidFill>
                  <a:srgbClr val="dadada"/>
                </a:solidFill>
                <a:latin typeface="Times New Roman"/>
                <a:ea typeface="Times New Roman"/>
              </a:rPr>
              <a:t>Bitstream, Interleaf</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Other applications not yet publicly demoed</a:t>
            </a:r>
            <a:endParaRPr b="0" lang="en-US" sz="2400" spc="-1" strike="noStrike">
              <a:solidFill>
                <a:srgbClr val="ffffff"/>
              </a:solidFill>
              <a:latin typeface="Arial"/>
            </a:endParaRPr>
          </a:p>
        </p:txBody>
      </p:sp>
      <p:sp>
        <p:nvSpPr>
          <p:cNvPr id="408" name=""/>
          <p:cNvSpPr/>
          <p:nvPr/>
        </p:nvSpPr>
        <p:spPr>
          <a:xfrm>
            <a:off x="6480" y="647640"/>
            <a:ext cx="9067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09" name=""/>
          <p:cNvSpPr/>
          <p:nvPr/>
        </p:nvSpPr>
        <p:spPr>
          <a:xfrm>
            <a:off x="609480" y="1736640"/>
            <a:ext cx="8166240" cy="465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1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hings To Get</a:t>
            </a:r>
            <a:endParaRPr b="0" lang="en-US" sz="4800" spc="-1" strike="noStrike">
              <a:solidFill>
                <a:srgbClr val="ffffff"/>
              </a:solidFill>
              <a:latin typeface="Arial"/>
            </a:endParaRPr>
          </a:p>
        </p:txBody>
      </p:sp>
      <p:sp>
        <p:nvSpPr>
          <p:cNvPr id="411" name=""/>
          <p:cNvSpPr txBox="1"/>
          <p:nvPr/>
        </p:nvSpPr>
        <p:spPr>
          <a:xfrm>
            <a:off x="396720" y="1182600"/>
            <a:ext cx="8350200" cy="4378320"/>
          </a:xfrm>
          <a:prstGeom prst="rect">
            <a:avLst/>
          </a:prstGeom>
          <a:noFill/>
          <a:ln w="0">
            <a:noFill/>
          </a:ln>
        </p:spPr>
        <p:txBody>
          <a:bodyPr lIns="0" rIns="0" tIns="0" bIns="0" anchor="t">
            <a:noAutofit/>
          </a:bodyPr>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All shipped international Windows, Win32, Win32s, SDKs, DDKs, all in one place:  MSDN Level 2, (800) 759-5474</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piler with libraries for ANSI, DBCS, and/or Unicode</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Book:  </a:t>
            </a:r>
            <a:r>
              <a:rPr b="1" i="1" lang="en-US" sz="2400" spc="-1" strike="noStrike">
                <a:solidFill>
                  <a:srgbClr val="ffffff"/>
                </a:solidFill>
                <a:latin typeface="Times New Roman"/>
                <a:ea typeface="Times New Roman"/>
              </a:rPr>
              <a:t>“International Handbook for Software Design,” </a:t>
            </a:r>
            <a:r>
              <a:rPr b="1" lang="en-US" sz="2400" spc="-1" strike="noStrike">
                <a:solidFill>
                  <a:srgbClr val="ffffff"/>
                </a:solidFill>
                <a:latin typeface="Times New Roman"/>
                <a:ea typeface="Times New Roman"/>
              </a:rPr>
              <a:t>on MSDN Level 1</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RLMan, RLTools on MSDN Level 1</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Globalization Resource Kit:  guide to Windows localizers, international consultants, book list, etc. from global@microsoft.com </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UI terminology for Europe:  The GUI Guide International from (800)MS-PRESS</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UI terminology for Far East in SDK glossa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12" name=""/>
          <p:cNvSpPr txBox="1"/>
          <p:nvPr/>
        </p:nvSpPr>
        <p:spPr>
          <a:xfrm>
            <a:off x="741240" y="228600"/>
            <a:ext cx="766296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y It Matters</a:t>
            </a:r>
            <a:br>
              <a:rPr sz="4800"/>
            </a:br>
            <a:r>
              <a:rPr b="1" lang="en-US" sz="3600" spc="-1" strike="noStrike">
                <a:solidFill>
                  <a:srgbClr val="f4d337"/>
                </a:solidFill>
                <a:latin typeface="Times New Roman"/>
                <a:ea typeface="Times New Roman"/>
              </a:rPr>
              <a:t>Applications revenue by platform</a:t>
            </a:r>
            <a:endParaRPr b="0" lang="en-US" sz="3600" spc="-1" strike="noStrike">
              <a:solidFill>
                <a:srgbClr val="ffffff"/>
              </a:solidFill>
              <a:latin typeface="Arial"/>
            </a:endParaRPr>
          </a:p>
        </p:txBody>
      </p:sp>
      <p:sp>
        <p:nvSpPr>
          <p:cNvPr id="413" name=""/>
          <p:cNvSpPr txBox="1"/>
          <p:nvPr/>
        </p:nvSpPr>
        <p:spPr>
          <a:xfrm>
            <a:off x="231840" y="6380280"/>
            <a:ext cx="2521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ource:  SPA Jan.-Jun. ’93</a:t>
            </a:r>
            <a:endParaRPr b="0" lang="en-US" sz="1600" spc="-1" strike="noStrike">
              <a:solidFill>
                <a:srgbClr val="ffffff"/>
              </a:solidFill>
              <a:latin typeface="Arial"/>
            </a:endParaRPr>
          </a:p>
        </p:txBody>
      </p:sp>
      <p:pic>
        <p:nvPicPr>
          <p:cNvPr id="414" name="" descr=""/>
          <p:cNvPicPr/>
          <p:nvPr/>
        </p:nvPicPr>
        <p:blipFill>
          <a:blip r:embed="rId1"/>
          <a:stretch/>
        </p:blipFill>
        <p:spPr>
          <a:xfrm>
            <a:off x="4917960" y="1544760"/>
            <a:ext cx="3819600" cy="3448080"/>
          </a:xfrm>
          <a:prstGeom prst="rect">
            <a:avLst/>
          </a:prstGeom>
          <a:ln w="0">
            <a:noFill/>
          </a:ln>
        </p:spPr>
      </p:pic>
      <p:pic>
        <p:nvPicPr>
          <p:cNvPr id="415" name="" descr=""/>
          <p:cNvPicPr/>
          <p:nvPr/>
        </p:nvPicPr>
        <p:blipFill>
          <a:blip r:embed="rId2"/>
          <a:stretch/>
        </p:blipFill>
        <p:spPr>
          <a:xfrm>
            <a:off x="542880" y="1252440"/>
            <a:ext cx="3743280" cy="4092480"/>
          </a:xfrm>
          <a:prstGeom prst="rect">
            <a:avLst/>
          </a:prstGeom>
          <a:ln w="0">
            <a:noFill/>
          </a:ln>
        </p:spPr>
      </p:pic>
      <p:sp>
        <p:nvSpPr>
          <p:cNvPr id="416" name=""/>
          <p:cNvSpPr txBox="1"/>
          <p:nvPr/>
        </p:nvSpPr>
        <p:spPr>
          <a:xfrm>
            <a:off x="700200" y="2870280"/>
            <a:ext cx="870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9 %</a:t>
            </a:r>
            <a:endParaRPr b="0" lang="en-US" sz="2400" spc="-1" strike="noStrike">
              <a:solidFill>
                <a:srgbClr val="ffffff"/>
              </a:solidFill>
              <a:latin typeface="Arial"/>
            </a:endParaRPr>
          </a:p>
        </p:txBody>
      </p:sp>
      <p:sp>
        <p:nvSpPr>
          <p:cNvPr id="417" name=""/>
          <p:cNvSpPr txBox="1"/>
          <p:nvPr/>
        </p:nvSpPr>
        <p:spPr>
          <a:xfrm>
            <a:off x="2720880" y="3809880"/>
            <a:ext cx="952560" cy="5191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ffffff"/>
                </a:solidFill>
                <a:latin typeface="Times New Roman"/>
                <a:ea typeface="Times New Roman"/>
              </a:rPr>
              <a:t>44%</a:t>
            </a:r>
            <a:endParaRPr b="0" lang="en-US" sz="2800" spc="-1" strike="noStrike">
              <a:solidFill>
                <a:srgbClr val="ffffff"/>
              </a:solidFill>
              <a:latin typeface="Arial"/>
            </a:endParaRPr>
          </a:p>
        </p:txBody>
      </p:sp>
      <p:sp>
        <p:nvSpPr>
          <p:cNvPr id="418" name=""/>
          <p:cNvSpPr txBox="1"/>
          <p:nvPr/>
        </p:nvSpPr>
        <p:spPr>
          <a:xfrm>
            <a:off x="3422520" y="1800360"/>
            <a:ext cx="963720" cy="82224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Other 2% </a:t>
            </a:r>
            <a:endParaRPr b="0" lang="en-US" sz="2400" spc="-1" strike="noStrike">
              <a:solidFill>
                <a:srgbClr val="ffffff"/>
              </a:solidFill>
              <a:latin typeface="Arial"/>
            </a:endParaRPr>
          </a:p>
        </p:txBody>
      </p:sp>
      <p:sp>
        <p:nvSpPr>
          <p:cNvPr id="419" name=""/>
          <p:cNvSpPr txBox="1"/>
          <p:nvPr/>
        </p:nvSpPr>
        <p:spPr>
          <a:xfrm>
            <a:off x="2344680" y="2162160"/>
            <a:ext cx="7938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15%</a:t>
            </a:r>
            <a:endParaRPr b="0" lang="en-US" sz="2400" spc="-1" strike="noStrike">
              <a:solidFill>
                <a:srgbClr val="ffffff"/>
              </a:solidFill>
              <a:latin typeface="Arial"/>
            </a:endParaRPr>
          </a:p>
        </p:txBody>
      </p:sp>
      <p:sp>
        <p:nvSpPr>
          <p:cNvPr id="420" name=""/>
          <p:cNvSpPr txBox="1"/>
          <p:nvPr/>
        </p:nvSpPr>
        <p:spPr>
          <a:xfrm>
            <a:off x="2157480" y="4219560"/>
            <a:ext cx="21286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Windows</a:t>
            </a:r>
            <a:endParaRPr b="0" lang="en-US" sz="2400" spc="-1" strike="noStrike">
              <a:solidFill>
                <a:srgbClr val="ffffff"/>
              </a:solidFill>
              <a:latin typeface="Arial"/>
            </a:endParaRPr>
          </a:p>
        </p:txBody>
      </p:sp>
      <p:sp>
        <p:nvSpPr>
          <p:cNvPr id="421" name=""/>
          <p:cNvSpPr/>
          <p:nvPr/>
        </p:nvSpPr>
        <p:spPr>
          <a:xfrm>
            <a:off x="3473280" y="2909880"/>
            <a:ext cx="15620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22" name=""/>
          <p:cNvSpPr txBox="1"/>
          <p:nvPr/>
        </p:nvSpPr>
        <p:spPr>
          <a:xfrm>
            <a:off x="2368440" y="1685880"/>
            <a:ext cx="10666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ac</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p:txBody>
      </p:sp>
      <p:sp>
        <p:nvSpPr>
          <p:cNvPr id="423" name=""/>
          <p:cNvSpPr txBox="1"/>
          <p:nvPr/>
        </p:nvSpPr>
        <p:spPr>
          <a:xfrm>
            <a:off x="458640" y="2476440"/>
            <a:ext cx="158436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DOS</a:t>
            </a:r>
            <a:endParaRPr b="0" lang="en-US" sz="2400" spc="-1" strike="noStrike">
              <a:solidFill>
                <a:srgbClr val="ffffff"/>
              </a:solidFill>
              <a:latin typeface="Arial"/>
            </a:endParaRPr>
          </a:p>
        </p:txBody>
      </p:sp>
      <p:sp>
        <p:nvSpPr>
          <p:cNvPr id="424" name=""/>
          <p:cNvSpPr txBox="1"/>
          <p:nvPr/>
        </p:nvSpPr>
        <p:spPr>
          <a:xfrm>
            <a:off x="6915240" y="3884760"/>
            <a:ext cx="99684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59%</a:t>
            </a:r>
            <a:endParaRPr b="0" lang="en-US" sz="3200" spc="-1" strike="noStrike">
              <a:solidFill>
                <a:srgbClr val="ffffff"/>
              </a:solidFill>
              <a:latin typeface="Arial"/>
            </a:endParaRPr>
          </a:p>
        </p:txBody>
      </p:sp>
      <p:sp>
        <p:nvSpPr>
          <p:cNvPr id="425" name=""/>
          <p:cNvSpPr txBox="1"/>
          <p:nvPr/>
        </p:nvSpPr>
        <p:spPr>
          <a:xfrm>
            <a:off x="6281640" y="4552920"/>
            <a:ext cx="22287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MS Windows</a:t>
            </a:r>
            <a:endParaRPr b="0" lang="en-US" sz="2800" spc="-1" strike="noStrike">
              <a:solidFill>
                <a:srgbClr val="ffffff"/>
              </a:solidFill>
              <a:latin typeface="Arial"/>
            </a:endParaRPr>
          </a:p>
        </p:txBody>
      </p:sp>
      <p:sp>
        <p:nvSpPr>
          <p:cNvPr id="426" name=""/>
          <p:cNvSpPr txBox="1"/>
          <p:nvPr/>
        </p:nvSpPr>
        <p:spPr>
          <a:xfrm>
            <a:off x="5373720" y="2604960"/>
            <a:ext cx="87012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29 %</a:t>
            </a:r>
            <a:endParaRPr b="0" lang="en-US" sz="2400" spc="-1" strike="noStrike">
              <a:solidFill>
                <a:srgbClr val="ffffff"/>
              </a:solidFill>
              <a:latin typeface="Arial"/>
            </a:endParaRPr>
          </a:p>
        </p:txBody>
      </p:sp>
      <p:sp>
        <p:nvSpPr>
          <p:cNvPr id="427" name=""/>
          <p:cNvSpPr txBox="1"/>
          <p:nvPr/>
        </p:nvSpPr>
        <p:spPr>
          <a:xfrm>
            <a:off x="6772320" y="194616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0%</a:t>
            </a:r>
            <a:endParaRPr b="0" lang="en-US" sz="2400" spc="-1" strike="noStrike">
              <a:solidFill>
                <a:srgbClr val="ffffff"/>
              </a:solidFill>
              <a:latin typeface="Arial"/>
            </a:endParaRPr>
          </a:p>
        </p:txBody>
      </p:sp>
      <p:sp>
        <p:nvSpPr>
          <p:cNvPr id="428" name=""/>
          <p:cNvSpPr txBox="1"/>
          <p:nvPr/>
        </p:nvSpPr>
        <p:spPr>
          <a:xfrm>
            <a:off x="6877080" y="1557360"/>
            <a:ext cx="9684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ac</a:t>
            </a:r>
            <a:endParaRPr b="0" lang="en-US" sz="2400" spc="-1" strike="noStrike">
              <a:solidFill>
                <a:srgbClr val="ffffff"/>
              </a:solidFill>
              <a:latin typeface="Arial"/>
            </a:endParaRPr>
          </a:p>
        </p:txBody>
      </p:sp>
      <p:sp>
        <p:nvSpPr>
          <p:cNvPr id="429" name=""/>
          <p:cNvSpPr txBox="1"/>
          <p:nvPr/>
        </p:nvSpPr>
        <p:spPr>
          <a:xfrm>
            <a:off x="5078520" y="2214720"/>
            <a:ext cx="14652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DOS</a:t>
            </a:r>
            <a:endParaRPr b="0" lang="en-US" sz="2400" spc="-1" strike="noStrike">
              <a:solidFill>
                <a:srgbClr val="ffffff"/>
              </a:solidFill>
              <a:latin typeface="Arial"/>
            </a:endParaRPr>
          </a:p>
        </p:txBody>
      </p:sp>
      <p:sp>
        <p:nvSpPr>
          <p:cNvPr id="430" name=""/>
          <p:cNvSpPr txBox="1"/>
          <p:nvPr/>
        </p:nvSpPr>
        <p:spPr>
          <a:xfrm>
            <a:off x="8016840" y="1743120"/>
            <a:ext cx="87012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Other 2%</a:t>
            </a:r>
            <a:endParaRPr b="0" lang="en-US" sz="2000" spc="-1" strike="noStrike">
              <a:solidFill>
                <a:srgbClr val="ffffff"/>
              </a:solidFill>
              <a:latin typeface="Arial"/>
            </a:endParaRPr>
          </a:p>
        </p:txBody>
      </p:sp>
      <p:sp>
        <p:nvSpPr>
          <p:cNvPr id="431" name=""/>
          <p:cNvSpPr txBox="1"/>
          <p:nvPr/>
        </p:nvSpPr>
        <p:spPr>
          <a:xfrm>
            <a:off x="1565280" y="5241960"/>
            <a:ext cx="1200240" cy="701640"/>
          </a:xfrm>
          <a:prstGeom prst="rect">
            <a:avLst/>
          </a:prstGeom>
          <a:noFill/>
          <a:ln w="0">
            <a:noFill/>
          </a:ln>
        </p:spPr>
        <p:txBody>
          <a:bodyPr lIns="0" rIns="0" tIns="0" bIns="0" anchor="t">
            <a:noAutofit/>
          </a:bodyPr>
          <a:p>
            <a:pPr>
              <a:lnSpc>
                <a:spcPct val="100000"/>
              </a:lnSpc>
            </a:pPr>
            <a:r>
              <a:rPr b="1" lang="en-US" sz="4000" spc="-1" strike="noStrike">
                <a:solidFill>
                  <a:srgbClr val="f4d337"/>
                </a:solidFill>
                <a:latin typeface="Times New Roman"/>
                <a:ea typeface="Times New Roman"/>
              </a:rPr>
              <a:t>USA</a:t>
            </a:r>
            <a:endParaRPr b="0" lang="en-US" sz="4000" spc="-1" strike="noStrike">
              <a:solidFill>
                <a:srgbClr val="ffffff"/>
              </a:solidFill>
              <a:latin typeface="Arial"/>
            </a:endParaRPr>
          </a:p>
        </p:txBody>
      </p:sp>
      <p:sp>
        <p:nvSpPr>
          <p:cNvPr id="432" name=""/>
          <p:cNvSpPr txBox="1"/>
          <p:nvPr/>
        </p:nvSpPr>
        <p:spPr>
          <a:xfrm>
            <a:off x="5051520" y="5241960"/>
            <a:ext cx="3062160" cy="701640"/>
          </a:xfrm>
          <a:prstGeom prst="rect">
            <a:avLst/>
          </a:prstGeom>
          <a:noFill/>
          <a:ln w="0">
            <a:noFill/>
          </a:ln>
        </p:spPr>
        <p:txBody>
          <a:bodyPr lIns="0" rIns="0" tIns="0" bIns="0" anchor="t">
            <a:noAutofit/>
          </a:bodyPr>
          <a:p>
            <a:pPr>
              <a:lnSpc>
                <a:spcPct val="100000"/>
              </a:lnSpc>
            </a:pPr>
            <a:r>
              <a:rPr b="1" lang="en-US" sz="4000" spc="-1" strike="noStrike">
                <a:solidFill>
                  <a:srgbClr val="f4d337"/>
                </a:solidFill>
                <a:latin typeface="Times New Roman"/>
                <a:ea typeface="Times New Roman"/>
              </a:rPr>
              <a:t>Internation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33" name=""/>
          <p:cNvSpPr txBox="1"/>
          <p:nvPr/>
        </p:nvSpPr>
        <p:spPr>
          <a:xfrm>
            <a:off x="990720" y="2286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ummary</a:t>
            </a:r>
            <a:endParaRPr b="0" lang="en-US" sz="4800" spc="-1" strike="noStrike">
              <a:solidFill>
                <a:srgbClr val="ffffff"/>
              </a:solidFill>
              <a:latin typeface="Arial"/>
            </a:endParaRPr>
          </a:p>
        </p:txBody>
      </p:sp>
      <p:sp>
        <p:nvSpPr>
          <p:cNvPr id="434" name=""/>
          <p:cNvSpPr txBox="1"/>
          <p:nvPr/>
        </p:nvSpPr>
        <p:spPr>
          <a:xfrm>
            <a:off x="297000" y="1271520"/>
            <a:ext cx="8551800" cy="4619520"/>
          </a:xfrm>
          <a:prstGeom prst="rect">
            <a:avLst/>
          </a:prstGeom>
          <a:noFill/>
          <a:ln w="0">
            <a:noFill/>
          </a:ln>
        </p:spPr>
        <p:txBody>
          <a:bodyPr lIns="0" rIns="0" tIns="0" bIns="0" anchor="t">
            <a:noAutofit/>
          </a:bodyPr>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echnical barriers to places like the Far East dramatically reduced during the past year </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API unlocks all future versions of Windows and is available today</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is not just for the U.S.</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LE technology is core to “Chicago”, and even more so with “Cairo”</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on’t just run on Windows, exploit its newest technologies to your maximum advantag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echnical Strategy</a:t>
            </a:r>
            <a:endParaRPr b="0" lang="en-US" sz="4800" spc="-1" strike="noStrike">
              <a:solidFill>
                <a:srgbClr val="ffffff"/>
              </a:solidFill>
              <a:latin typeface="Arial"/>
            </a:endParaRPr>
          </a:p>
        </p:txBody>
      </p:sp>
      <p:sp>
        <p:nvSpPr>
          <p:cNvPr id="436" name=""/>
          <p:cNvSpPr txBox="1"/>
          <p:nvPr/>
        </p:nvSpPr>
        <p:spPr>
          <a:xfrm>
            <a:off x="985680" y="1162080"/>
            <a:ext cx="7172280" cy="49118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ort your existing applications to Win32</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ollow the “great application” guidelines Robert Hess presentation tomorrow</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il winbeta@microsoft.com</a:t>
            </a:r>
            <a:br>
              <a:rPr sz="3200"/>
            </a:br>
            <a:r>
              <a:rPr b="1" lang="en-US" sz="3200" spc="-1" strike="noStrike">
                <a:solidFill>
                  <a:srgbClr val="ffffff"/>
                </a:solidFill>
                <a:latin typeface="Times New Roman"/>
                <a:ea typeface="Times New Roman"/>
              </a:rPr>
              <a:t>find out how to become a pre-release candidate</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est your applications across the Windows fami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4" name=""/>
          <p:cNvSpPr txBox="1"/>
          <p:nvPr/>
        </p:nvSpPr>
        <p:spPr>
          <a:xfrm>
            <a:off x="299880" y="228600"/>
            <a:ext cx="854568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ere 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Will Be</a:t>
            </a:r>
            <a:endParaRPr b="0" lang="en-US" sz="4800" spc="-1" strike="noStrike">
              <a:solidFill>
                <a:srgbClr val="ffffff"/>
              </a:solidFill>
              <a:latin typeface="Arial"/>
            </a:endParaRPr>
          </a:p>
        </p:txBody>
      </p:sp>
      <p:sp>
        <p:nvSpPr>
          <p:cNvPr id="55" name=""/>
          <p:cNvSpPr/>
          <p:nvPr/>
        </p:nvSpPr>
        <p:spPr>
          <a:xfrm>
            <a:off x="990720" y="590400"/>
            <a:ext cx="716292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6" name=""/>
          <p:cNvSpPr/>
          <p:nvPr/>
        </p:nvSpPr>
        <p:spPr>
          <a:xfrm>
            <a:off x="2643120" y="4363920"/>
            <a:ext cx="930600" cy="1362600"/>
          </a:xfrm>
          <a:custGeom>
            <a:avLst/>
            <a:gdLst/>
            <a:ahLst/>
            <a:rect l="0" t="0" r="r" b="b"/>
            <a:pathLst>
              <a:path w="2585" h="3785">
                <a:moveTo>
                  <a:pt x="554" y="157"/>
                </a:moveTo>
                <a:lnTo>
                  <a:pt x="516" y="162"/>
                </a:lnTo>
                <a:lnTo>
                  <a:pt x="497" y="145"/>
                </a:lnTo>
                <a:lnTo>
                  <a:pt x="497" y="95"/>
                </a:lnTo>
                <a:lnTo>
                  <a:pt x="476" y="62"/>
                </a:lnTo>
                <a:lnTo>
                  <a:pt x="521" y="17"/>
                </a:lnTo>
                <a:lnTo>
                  <a:pt x="498" y="0"/>
                </a:lnTo>
                <a:lnTo>
                  <a:pt x="370" y="48"/>
                </a:lnTo>
                <a:lnTo>
                  <a:pt x="353" y="81"/>
                </a:lnTo>
                <a:lnTo>
                  <a:pt x="327" y="65"/>
                </a:lnTo>
                <a:lnTo>
                  <a:pt x="289" y="157"/>
                </a:lnTo>
                <a:lnTo>
                  <a:pt x="261" y="171"/>
                </a:lnTo>
                <a:lnTo>
                  <a:pt x="223" y="225"/>
                </a:lnTo>
                <a:lnTo>
                  <a:pt x="173" y="305"/>
                </a:lnTo>
                <a:lnTo>
                  <a:pt x="185" y="308"/>
                </a:lnTo>
                <a:lnTo>
                  <a:pt x="185" y="473"/>
                </a:lnTo>
                <a:lnTo>
                  <a:pt x="93" y="622"/>
                </a:lnTo>
                <a:lnTo>
                  <a:pt x="39" y="632"/>
                </a:lnTo>
                <a:lnTo>
                  <a:pt x="41" y="686"/>
                </a:lnTo>
                <a:lnTo>
                  <a:pt x="0" y="769"/>
                </a:lnTo>
                <a:lnTo>
                  <a:pt x="15" y="830"/>
                </a:lnTo>
                <a:lnTo>
                  <a:pt x="53" y="830"/>
                </a:lnTo>
                <a:lnTo>
                  <a:pt x="62" y="898"/>
                </a:lnTo>
                <a:lnTo>
                  <a:pt x="39" y="887"/>
                </a:lnTo>
                <a:lnTo>
                  <a:pt x="15" y="925"/>
                </a:lnTo>
                <a:lnTo>
                  <a:pt x="15" y="1020"/>
                </a:lnTo>
                <a:lnTo>
                  <a:pt x="31" y="1044"/>
                </a:lnTo>
                <a:lnTo>
                  <a:pt x="62" y="1065"/>
                </a:lnTo>
                <a:lnTo>
                  <a:pt x="157" y="1185"/>
                </a:lnTo>
                <a:lnTo>
                  <a:pt x="197" y="1266"/>
                </a:lnTo>
                <a:lnTo>
                  <a:pt x="240" y="1313"/>
                </a:lnTo>
                <a:lnTo>
                  <a:pt x="275" y="1358"/>
                </a:lnTo>
                <a:lnTo>
                  <a:pt x="290" y="1415"/>
                </a:lnTo>
                <a:lnTo>
                  <a:pt x="325" y="1473"/>
                </a:lnTo>
                <a:lnTo>
                  <a:pt x="384" y="1511"/>
                </a:lnTo>
                <a:lnTo>
                  <a:pt x="469" y="1570"/>
                </a:lnTo>
                <a:lnTo>
                  <a:pt x="581" y="1622"/>
                </a:lnTo>
                <a:lnTo>
                  <a:pt x="668" y="1696"/>
                </a:lnTo>
                <a:lnTo>
                  <a:pt x="682" y="1750"/>
                </a:lnTo>
                <a:lnTo>
                  <a:pt x="684" y="1937"/>
                </a:lnTo>
                <a:lnTo>
                  <a:pt x="659" y="1974"/>
                </a:lnTo>
                <a:lnTo>
                  <a:pt x="684" y="1991"/>
                </a:lnTo>
                <a:lnTo>
                  <a:pt x="684" y="2161"/>
                </a:lnTo>
                <a:lnTo>
                  <a:pt x="675" y="2208"/>
                </a:lnTo>
                <a:lnTo>
                  <a:pt x="668" y="2227"/>
                </a:lnTo>
                <a:lnTo>
                  <a:pt x="670" y="2289"/>
                </a:lnTo>
                <a:lnTo>
                  <a:pt x="692" y="2321"/>
                </a:lnTo>
                <a:lnTo>
                  <a:pt x="694" y="2336"/>
                </a:lnTo>
                <a:lnTo>
                  <a:pt x="668" y="2374"/>
                </a:lnTo>
                <a:lnTo>
                  <a:pt x="670" y="2586"/>
                </a:lnTo>
                <a:lnTo>
                  <a:pt x="644" y="2612"/>
                </a:lnTo>
                <a:lnTo>
                  <a:pt x="646" y="2673"/>
                </a:lnTo>
                <a:lnTo>
                  <a:pt x="626" y="2742"/>
                </a:lnTo>
                <a:lnTo>
                  <a:pt x="618" y="2799"/>
                </a:lnTo>
                <a:lnTo>
                  <a:pt x="632" y="2806"/>
                </a:lnTo>
                <a:lnTo>
                  <a:pt x="632" y="2852"/>
                </a:lnTo>
                <a:lnTo>
                  <a:pt x="616" y="2878"/>
                </a:lnTo>
                <a:lnTo>
                  <a:pt x="616" y="2948"/>
                </a:lnTo>
                <a:lnTo>
                  <a:pt x="646" y="2979"/>
                </a:lnTo>
                <a:lnTo>
                  <a:pt x="682" y="2977"/>
                </a:lnTo>
                <a:lnTo>
                  <a:pt x="682" y="3140"/>
                </a:lnTo>
                <a:lnTo>
                  <a:pt x="694" y="3156"/>
                </a:lnTo>
                <a:lnTo>
                  <a:pt x="723" y="3194"/>
                </a:lnTo>
                <a:lnTo>
                  <a:pt x="696" y="3208"/>
                </a:lnTo>
                <a:lnTo>
                  <a:pt x="711" y="3220"/>
                </a:lnTo>
                <a:lnTo>
                  <a:pt x="710" y="3246"/>
                </a:lnTo>
                <a:lnTo>
                  <a:pt x="694" y="3287"/>
                </a:lnTo>
                <a:lnTo>
                  <a:pt x="711" y="3310"/>
                </a:lnTo>
                <a:lnTo>
                  <a:pt x="682" y="3313"/>
                </a:lnTo>
                <a:lnTo>
                  <a:pt x="649" y="3279"/>
                </a:lnTo>
                <a:lnTo>
                  <a:pt x="647" y="3261"/>
                </a:lnTo>
                <a:lnTo>
                  <a:pt x="620" y="3294"/>
                </a:lnTo>
                <a:lnTo>
                  <a:pt x="600" y="3313"/>
                </a:lnTo>
                <a:lnTo>
                  <a:pt x="637" y="3345"/>
                </a:lnTo>
                <a:lnTo>
                  <a:pt x="656" y="3353"/>
                </a:lnTo>
                <a:lnTo>
                  <a:pt x="668" y="3352"/>
                </a:lnTo>
                <a:lnTo>
                  <a:pt x="678" y="3372"/>
                </a:lnTo>
                <a:lnTo>
                  <a:pt x="720" y="3414"/>
                </a:lnTo>
                <a:lnTo>
                  <a:pt x="694" y="3417"/>
                </a:lnTo>
                <a:lnTo>
                  <a:pt x="682" y="3430"/>
                </a:lnTo>
                <a:lnTo>
                  <a:pt x="710" y="3480"/>
                </a:lnTo>
                <a:lnTo>
                  <a:pt x="711" y="3515"/>
                </a:lnTo>
                <a:lnTo>
                  <a:pt x="729" y="3594"/>
                </a:lnTo>
                <a:lnTo>
                  <a:pt x="758" y="3638"/>
                </a:lnTo>
                <a:lnTo>
                  <a:pt x="758" y="3667"/>
                </a:lnTo>
                <a:lnTo>
                  <a:pt x="775" y="3678"/>
                </a:lnTo>
                <a:lnTo>
                  <a:pt x="815" y="3679"/>
                </a:lnTo>
                <a:lnTo>
                  <a:pt x="824" y="3704"/>
                </a:lnTo>
                <a:lnTo>
                  <a:pt x="840" y="3709"/>
                </a:lnTo>
                <a:lnTo>
                  <a:pt x="845" y="3719"/>
                </a:lnTo>
                <a:lnTo>
                  <a:pt x="829" y="3731"/>
                </a:lnTo>
                <a:lnTo>
                  <a:pt x="891" y="3785"/>
                </a:lnTo>
                <a:lnTo>
                  <a:pt x="891" y="3757"/>
                </a:lnTo>
                <a:lnTo>
                  <a:pt x="909" y="3731"/>
                </a:lnTo>
                <a:lnTo>
                  <a:pt x="935" y="3728"/>
                </a:lnTo>
                <a:lnTo>
                  <a:pt x="985" y="3693"/>
                </a:lnTo>
                <a:lnTo>
                  <a:pt x="943" y="3617"/>
                </a:lnTo>
                <a:lnTo>
                  <a:pt x="959" y="3561"/>
                </a:lnTo>
                <a:lnTo>
                  <a:pt x="987" y="3544"/>
                </a:lnTo>
                <a:lnTo>
                  <a:pt x="1001" y="3525"/>
                </a:lnTo>
                <a:lnTo>
                  <a:pt x="985" y="3499"/>
                </a:lnTo>
                <a:lnTo>
                  <a:pt x="999" y="3468"/>
                </a:lnTo>
                <a:lnTo>
                  <a:pt x="1039" y="3442"/>
                </a:lnTo>
                <a:lnTo>
                  <a:pt x="1077" y="3405"/>
                </a:lnTo>
                <a:lnTo>
                  <a:pt x="1077" y="3353"/>
                </a:lnTo>
                <a:lnTo>
                  <a:pt x="1053" y="3339"/>
                </a:lnTo>
                <a:lnTo>
                  <a:pt x="1001" y="3303"/>
                </a:lnTo>
                <a:lnTo>
                  <a:pt x="985" y="3272"/>
                </a:lnTo>
                <a:lnTo>
                  <a:pt x="999" y="3246"/>
                </a:lnTo>
                <a:lnTo>
                  <a:pt x="1077" y="3168"/>
                </a:lnTo>
                <a:lnTo>
                  <a:pt x="1077" y="3100"/>
                </a:lnTo>
                <a:lnTo>
                  <a:pt x="1085" y="3057"/>
                </a:lnTo>
                <a:lnTo>
                  <a:pt x="1087" y="3036"/>
                </a:lnTo>
                <a:lnTo>
                  <a:pt x="1141" y="3064"/>
                </a:lnTo>
                <a:lnTo>
                  <a:pt x="1165" y="3048"/>
                </a:lnTo>
                <a:lnTo>
                  <a:pt x="1150" y="3022"/>
                </a:lnTo>
                <a:lnTo>
                  <a:pt x="1089" y="3022"/>
                </a:lnTo>
                <a:lnTo>
                  <a:pt x="1077" y="2968"/>
                </a:lnTo>
                <a:lnTo>
                  <a:pt x="1063" y="2930"/>
                </a:lnTo>
                <a:lnTo>
                  <a:pt x="1092" y="2930"/>
                </a:lnTo>
                <a:lnTo>
                  <a:pt x="1136" y="2939"/>
                </a:lnTo>
                <a:lnTo>
                  <a:pt x="1181" y="2939"/>
                </a:lnTo>
                <a:lnTo>
                  <a:pt x="1191" y="2934"/>
                </a:lnTo>
                <a:lnTo>
                  <a:pt x="1208" y="2875"/>
                </a:lnTo>
                <a:lnTo>
                  <a:pt x="1208" y="2850"/>
                </a:lnTo>
                <a:lnTo>
                  <a:pt x="1217" y="2825"/>
                </a:lnTo>
                <a:lnTo>
                  <a:pt x="1233" y="2797"/>
                </a:lnTo>
                <a:lnTo>
                  <a:pt x="1322" y="2797"/>
                </a:lnTo>
                <a:lnTo>
                  <a:pt x="1325" y="2771"/>
                </a:lnTo>
                <a:lnTo>
                  <a:pt x="1353" y="2747"/>
                </a:lnTo>
                <a:lnTo>
                  <a:pt x="1365" y="2706"/>
                </a:lnTo>
                <a:lnTo>
                  <a:pt x="1339" y="2669"/>
                </a:lnTo>
                <a:lnTo>
                  <a:pt x="1339" y="2640"/>
                </a:lnTo>
                <a:lnTo>
                  <a:pt x="1325" y="2588"/>
                </a:lnTo>
                <a:lnTo>
                  <a:pt x="1360" y="2601"/>
                </a:lnTo>
                <a:lnTo>
                  <a:pt x="1381" y="2612"/>
                </a:lnTo>
                <a:lnTo>
                  <a:pt x="1403" y="2598"/>
                </a:lnTo>
                <a:lnTo>
                  <a:pt x="1474" y="2598"/>
                </a:lnTo>
                <a:lnTo>
                  <a:pt x="1493" y="2575"/>
                </a:lnTo>
                <a:lnTo>
                  <a:pt x="1519" y="2549"/>
                </a:lnTo>
                <a:lnTo>
                  <a:pt x="1533" y="2496"/>
                </a:lnTo>
                <a:lnTo>
                  <a:pt x="1590" y="2461"/>
                </a:lnTo>
                <a:lnTo>
                  <a:pt x="1629" y="2425"/>
                </a:lnTo>
                <a:lnTo>
                  <a:pt x="1639" y="2373"/>
                </a:lnTo>
                <a:lnTo>
                  <a:pt x="1656" y="2355"/>
                </a:lnTo>
                <a:lnTo>
                  <a:pt x="1670" y="2348"/>
                </a:lnTo>
                <a:lnTo>
                  <a:pt x="1691" y="2321"/>
                </a:lnTo>
                <a:lnTo>
                  <a:pt x="1717" y="2300"/>
                </a:lnTo>
                <a:lnTo>
                  <a:pt x="1738" y="2277"/>
                </a:lnTo>
                <a:lnTo>
                  <a:pt x="1772" y="2234"/>
                </a:lnTo>
                <a:lnTo>
                  <a:pt x="1772" y="2125"/>
                </a:lnTo>
                <a:lnTo>
                  <a:pt x="1783" y="2095"/>
                </a:lnTo>
                <a:lnTo>
                  <a:pt x="1810" y="2074"/>
                </a:lnTo>
                <a:lnTo>
                  <a:pt x="1850" y="2074"/>
                </a:lnTo>
                <a:lnTo>
                  <a:pt x="1866" y="2048"/>
                </a:lnTo>
                <a:lnTo>
                  <a:pt x="1902" y="2048"/>
                </a:lnTo>
                <a:lnTo>
                  <a:pt x="1944" y="2019"/>
                </a:lnTo>
                <a:lnTo>
                  <a:pt x="1952" y="2008"/>
                </a:lnTo>
                <a:lnTo>
                  <a:pt x="2004" y="1993"/>
                </a:lnTo>
                <a:lnTo>
                  <a:pt x="2046" y="1981"/>
                </a:lnTo>
                <a:lnTo>
                  <a:pt x="2088" y="2008"/>
                </a:lnTo>
                <a:lnTo>
                  <a:pt x="2131" y="1976"/>
                </a:lnTo>
                <a:lnTo>
                  <a:pt x="2136" y="1951"/>
                </a:lnTo>
                <a:lnTo>
                  <a:pt x="2165" y="1929"/>
                </a:lnTo>
                <a:lnTo>
                  <a:pt x="2204" y="1885"/>
                </a:lnTo>
                <a:lnTo>
                  <a:pt x="2219" y="1854"/>
                </a:lnTo>
                <a:lnTo>
                  <a:pt x="2247" y="1833"/>
                </a:lnTo>
                <a:lnTo>
                  <a:pt x="2273" y="1819"/>
                </a:lnTo>
                <a:lnTo>
                  <a:pt x="2273" y="1790"/>
                </a:lnTo>
                <a:lnTo>
                  <a:pt x="2282" y="1729"/>
                </a:lnTo>
                <a:lnTo>
                  <a:pt x="2299" y="1714"/>
                </a:lnTo>
                <a:lnTo>
                  <a:pt x="2299" y="1688"/>
                </a:lnTo>
                <a:lnTo>
                  <a:pt x="2306" y="1665"/>
                </a:lnTo>
                <a:lnTo>
                  <a:pt x="2316" y="1637"/>
                </a:lnTo>
                <a:lnTo>
                  <a:pt x="2318" y="1608"/>
                </a:lnTo>
                <a:lnTo>
                  <a:pt x="2327" y="1578"/>
                </a:lnTo>
                <a:lnTo>
                  <a:pt x="2330" y="1549"/>
                </a:lnTo>
                <a:lnTo>
                  <a:pt x="2333" y="1518"/>
                </a:lnTo>
                <a:lnTo>
                  <a:pt x="2335" y="1487"/>
                </a:lnTo>
                <a:lnTo>
                  <a:pt x="2340" y="1459"/>
                </a:lnTo>
                <a:lnTo>
                  <a:pt x="2351" y="1438"/>
                </a:lnTo>
                <a:lnTo>
                  <a:pt x="2366" y="1438"/>
                </a:lnTo>
                <a:lnTo>
                  <a:pt x="2373" y="1452"/>
                </a:lnTo>
                <a:lnTo>
                  <a:pt x="2417" y="1370"/>
                </a:lnTo>
                <a:lnTo>
                  <a:pt x="2456" y="1339"/>
                </a:lnTo>
                <a:lnTo>
                  <a:pt x="2495" y="1308"/>
                </a:lnTo>
                <a:lnTo>
                  <a:pt x="2517" y="1275"/>
                </a:lnTo>
                <a:lnTo>
                  <a:pt x="2543" y="1242"/>
                </a:lnTo>
                <a:lnTo>
                  <a:pt x="2585" y="1202"/>
                </a:lnTo>
                <a:lnTo>
                  <a:pt x="2585" y="1147"/>
                </a:lnTo>
                <a:lnTo>
                  <a:pt x="2585" y="1117"/>
                </a:lnTo>
                <a:lnTo>
                  <a:pt x="2572" y="1074"/>
                </a:lnTo>
                <a:lnTo>
                  <a:pt x="2571" y="1041"/>
                </a:lnTo>
                <a:lnTo>
                  <a:pt x="2555" y="1027"/>
                </a:lnTo>
                <a:lnTo>
                  <a:pt x="2486" y="994"/>
                </a:lnTo>
                <a:lnTo>
                  <a:pt x="2441" y="975"/>
                </a:lnTo>
                <a:lnTo>
                  <a:pt x="2410" y="947"/>
                </a:lnTo>
                <a:lnTo>
                  <a:pt x="2365" y="884"/>
                </a:lnTo>
                <a:lnTo>
                  <a:pt x="2340" y="858"/>
                </a:lnTo>
                <a:lnTo>
                  <a:pt x="2282" y="858"/>
                </a:lnTo>
                <a:lnTo>
                  <a:pt x="2200" y="832"/>
                </a:lnTo>
                <a:lnTo>
                  <a:pt x="2114" y="804"/>
                </a:lnTo>
                <a:lnTo>
                  <a:pt x="2100" y="821"/>
                </a:lnTo>
                <a:lnTo>
                  <a:pt x="2072" y="832"/>
                </a:lnTo>
                <a:lnTo>
                  <a:pt x="2046" y="820"/>
                </a:lnTo>
                <a:lnTo>
                  <a:pt x="2048" y="790"/>
                </a:lnTo>
                <a:lnTo>
                  <a:pt x="2063" y="762"/>
                </a:lnTo>
                <a:lnTo>
                  <a:pt x="2032" y="762"/>
                </a:lnTo>
                <a:lnTo>
                  <a:pt x="2020" y="736"/>
                </a:lnTo>
                <a:lnTo>
                  <a:pt x="1982" y="721"/>
                </a:lnTo>
                <a:lnTo>
                  <a:pt x="1904" y="700"/>
                </a:lnTo>
                <a:lnTo>
                  <a:pt x="1868" y="724"/>
                </a:lnTo>
                <a:lnTo>
                  <a:pt x="1850" y="712"/>
                </a:lnTo>
                <a:lnTo>
                  <a:pt x="1868" y="671"/>
                </a:lnTo>
                <a:lnTo>
                  <a:pt x="1776" y="660"/>
                </a:lnTo>
                <a:lnTo>
                  <a:pt x="1757" y="660"/>
                </a:lnTo>
                <a:lnTo>
                  <a:pt x="1746" y="674"/>
                </a:lnTo>
                <a:lnTo>
                  <a:pt x="1717" y="660"/>
                </a:lnTo>
                <a:lnTo>
                  <a:pt x="1653" y="686"/>
                </a:lnTo>
                <a:lnTo>
                  <a:pt x="1772" y="568"/>
                </a:lnTo>
                <a:lnTo>
                  <a:pt x="1720" y="516"/>
                </a:lnTo>
                <a:lnTo>
                  <a:pt x="1706" y="457"/>
                </a:lnTo>
                <a:lnTo>
                  <a:pt x="1670" y="428"/>
                </a:lnTo>
                <a:lnTo>
                  <a:pt x="1642" y="397"/>
                </a:lnTo>
                <a:lnTo>
                  <a:pt x="1587" y="371"/>
                </a:lnTo>
                <a:lnTo>
                  <a:pt x="1547" y="319"/>
                </a:lnTo>
                <a:lnTo>
                  <a:pt x="1525" y="332"/>
                </a:lnTo>
                <a:lnTo>
                  <a:pt x="1403" y="332"/>
                </a:lnTo>
                <a:lnTo>
                  <a:pt x="1365" y="317"/>
                </a:lnTo>
                <a:lnTo>
                  <a:pt x="1285" y="268"/>
                </a:lnTo>
                <a:lnTo>
                  <a:pt x="1274" y="279"/>
                </a:lnTo>
                <a:lnTo>
                  <a:pt x="1257" y="235"/>
                </a:lnTo>
                <a:lnTo>
                  <a:pt x="1207" y="189"/>
                </a:lnTo>
                <a:lnTo>
                  <a:pt x="1129" y="171"/>
                </a:lnTo>
                <a:lnTo>
                  <a:pt x="1129" y="131"/>
                </a:lnTo>
                <a:lnTo>
                  <a:pt x="1096" y="119"/>
                </a:lnTo>
                <a:lnTo>
                  <a:pt x="1063" y="95"/>
                </a:lnTo>
                <a:lnTo>
                  <a:pt x="1035" y="81"/>
                </a:lnTo>
                <a:lnTo>
                  <a:pt x="1065" y="53"/>
                </a:lnTo>
                <a:lnTo>
                  <a:pt x="853" y="79"/>
                </a:lnTo>
                <a:lnTo>
                  <a:pt x="807" y="65"/>
                </a:lnTo>
                <a:lnTo>
                  <a:pt x="734" y="65"/>
                </a:lnTo>
                <a:lnTo>
                  <a:pt x="692" y="39"/>
                </a:lnTo>
                <a:lnTo>
                  <a:pt x="620" y="39"/>
                </a:lnTo>
                <a:lnTo>
                  <a:pt x="554" y="65"/>
                </a:lnTo>
                <a:lnTo>
                  <a:pt x="554" y="1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7" name=""/>
          <p:cNvGrpSpPr/>
          <p:nvPr/>
        </p:nvGrpSpPr>
        <p:grpSpPr>
          <a:xfrm>
            <a:off x="4032360" y="3416400"/>
            <a:ext cx="3338640" cy="1762200"/>
            <a:chOff x="4032360" y="3416400"/>
            <a:chExt cx="3338640" cy="1762200"/>
          </a:xfrm>
        </p:grpSpPr>
        <p:sp>
          <p:nvSpPr>
            <p:cNvPr id="58" name=""/>
            <p:cNvSpPr/>
            <p:nvPr/>
          </p:nvSpPr>
          <p:spPr>
            <a:xfrm>
              <a:off x="6300720" y="4540320"/>
              <a:ext cx="55800" cy="52920"/>
            </a:xfrm>
            <a:custGeom>
              <a:avLst/>
              <a:gdLst/>
              <a:ahLst/>
              <a:rect l="0" t="0" r="r" b="b"/>
              <a:pathLst>
                <a:path w="155" h="147">
                  <a:moveTo>
                    <a:pt x="0" y="109"/>
                  </a:moveTo>
                  <a:lnTo>
                    <a:pt x="33" y="136"/>
                  </a:lnTo>
                  <a:lnTo>
                    <a:pt x="63" y="136"/>
                  </a:lnTo>
                  <a:lnTo>
                    <a:pt x="113" y="147"/>
                  </a:lnTo>
                  <a:lnTo>
                    <a:pt x="151" y="147"/>
                  </a:lnTo>
                  <a:lnTo>
                    <a:pt x="155" y="94"/>
                  </a:lnTo>
                  <a:lnTo>
                    <a:pt x="147" y="60"/>
                  </a:lnTo>
                  <a:lnTo>
                    <a:pt x="121" y="22"/>
                  </a:lnTo>
                  <a:lnTo>
                    <a:pt x="91" y="22"/>
                  </a:lnTo>
                  <a:lnTo>
                    <a:pt x="75" y="0"/>
                  </a:lnTo>
                  <a:lnTo>
                    <a:pt x="45" y="0"/>
                  </a:lnTo>
                  <a:lnTo>
                    <a:pt x="45" y="38"/>
                  </a:lnTo>
                  <a:lnTo>
                    <a:pt x="0" y="109"/>
                  </a:lnTo>
                  <a:close/>
                </a:path>
              </a:pathLst>
            </a:custGeom>
            <a:solidFill>
              <a:srgbClr val="00800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59" name=""/>
            <p:cNvSpPr/>
            <p:nvPr/>
          </p:nvSpPr>
          <p:spPr>
            <a:xfrm>
              <a:off x="6481800" y="4432320"/>
              <a:ext cx="52920" cy="66960"/>
            </a:xfrm>
            <a:custGeom>
              <a:avLst/>
              <a:gdLst/>
              <a:ahLst/>
              <a:rect l="0" t="0" r="r" b="b"/>
              <a:pathLst>
                <a:path w="147" h="186">
                  <a:moveTo>
                    <a:pt x="26" y="0"/>
                  </a:moveTo>
                  <a:lnTo>
                    <a:pt x="98" y="3"/>
                  </a:lnTo>
                  <a:lnTo>
                    <a:pt x="121" y="57"/>
                  </a:lnTo>
                  <a:lnTo>
                    <a:pt x="147" y="81"/>
                  </a:lnTo>
                  <a:lnTo>
                    <a:pt x="121" y="109"/>
                  </a:lnTo>
                  <a:lnTo>
                    <a:pt x="147" y="139"/>
                  </a:lnTo>
                  <a:lnTo>
                    <a:pt x="136" y="170"/>
                  </a:lnTo>
                  <a:lnTo>
                    <a:pt x="113" y="186"/>
                  </a:lnTo>
                  <a:lnTo>
                    <a:pt x="68" y="182"/>
                  </a:lnTo>
                  <a:lnTo>
                    <a:pt x="42" y="182"/>
                  </a:lnTo>
                  <a:lnTo>
                    <a:pt x="26" y="155"/>
                  </a:lnTo>
                  <a:lnTo>
                    <a:pt x="0" y="128"/>
                  </a:lnTo>
                  <a:lnTo>
                    <a:pt x="0" y="105"/>
                  </a:lnTo>
                  <a:lnTo>
                    <a:pt x="0" y="65"/>
                  </a:lnTo>
                  <a:lnTo>
                    <a:pt x="26" y="0"/>
                  </a:lnTo>
                  <a:close/>
                </a:path>
              </a:pathLst>
            </a:custGeom>
            <a:solidFill>
              <a:srgbClr val="008000"/>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6469200" y="3998880"/>
              <a:ext cx="100440" cy="62280"/>
            </a:xfrm>
            <a:custGeom>
              <a:avLst/>
              <a:gdLst/>
              <a:ahLst/>
              <a:rect l="0" t="0" r="r" b="b"/>
              <a:pathLst>
                <a:path w="279" h="173">
                  <a:moveTo>
                    <a:pt x="32" y="0"/>
                  </a:moveTo>
                  <a:lnTo>
                    <a:pt x="77" y="22"/>
                  </a:lnTo>
                  <a:lnTo>
                    <a:pt x="113" y="15"/>
                  </a:lnTo>
                  <a:lnTo>
                    <a:pt x="162" y="22"/>
                  </a:lnTo>
                  <a:lnTo>
                    <a:pt x="215" y="22"/>
                  </a:lnTo>
                  <a:lnTo>
                    <a:pt x="239" y="42"/>
                  </a:lnTo>
                  <a:lnTo>
                    <a:pt x="263" y="81"/>
                  </a:lnTo>
                  <a:lnTo>
                    <a:pt x="279" y="96"/>
                  </a:lnTo>
                  <a:lnTo>
                    <a:pt x="219" y="111"/>
                  </a:lnTo>
                  <a:lnTo>
                    <a:pt x="194" y="127"/>
                  </a:lnTo>
                  <a:lnTo>
                    <a:pt x="219" y="151"/>
                  </a:lnTo>
                  <a:lnTo>
                    <a:pt x="219" y="166"/>
                  </a:lnTo>
                  <a:lnTo>
                    <a:pt x="153" y="151"/>
                  </a:lnTo>
                  <a:lnTo>
                    <a:pt x="101" y="131"/>
                  </a:lnTo>
                  <a:lnTo>
                    <a:pt x="77" y="139"/>
                  </a:lnTo>
                  <a:lnTo>
                    <a:pt x="77" y="166"/>
                  </a:lnTo>
                  <a:lnTo>
                    <a:pt x="32" y="173"/>
                  </a:lnTo>
                  <a:lnTo>
                    <a:pt x="20" y="151"/>
                  </a:lnTo>
                  <a:lnTo>
                    <a:pt x="16" y="111"/>
                  </a:lnTo>
                  <a:lnTo>
                    <a:pt x="0" y="100"/>
                  </a:lnTo>
                  <a:lnTo>
                    <a:pt x="16" y="73"/>
                  </a:lnTo>
                  <a:lnTo>
                    <a:pt x="40" y="62"/>
                  </a:lnTo>
                  <a:lnTo>
                    <a:pt x="32"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nvGrpSpPr>
            <p:cNvPr id="61" name=""/>
            <p:cNvGrpSpPr/>
            <p:nvPr/>
          </p:nvGrpSpPr>
          <p:grpSpPr>
            <a:xfrm>
              <a:off x="4067280" y="3706920"/>
              <a:ext cx="186120" cy="187560"/>
              <a:chOff x="4067280" y="3706920"/>
              <a:chExt cx="186120" cy="187560"/>
            </a:xfrm>
          </p:grpSpPr>
          <p:sp>
            <p:nvSpPr>
              <p:cNvPr id="62" name=""/>
              <p:cNvSpPr/>
              <p:nvPr/>
            </p:nvSpPr>
            <p:spPr>
              <a:xfrm>
                <a:off x="4067280" y="3781440"/>
                <a:ext cx="81360" cy="95760"/>
              </a:xfrm>
              <a:custGeom>
                <a:avLst/>
                <a:gdLst/>
                <a:ahLst/>
                <a:rect l="0" t="0" r="r" b="b"/>
                <a:pathLst>
                  <a:path w="226" h="266">
                    <a:moveTo>
                      <a:pt x="51" y="85"/>
                    </a:moveTo>
                    <a:lnTo>
                      <a:pt x="72" y="52"/>
                    </a:lnTo>
                    <a:lnTo>
                      <a:pt x="119" y="52"/>
                    </a:lnTo>
                    <a:lnTo>
                      <a:pt x="166" y="0"/>
                    </a:lnTo>
                    <a:lnTo>
                      <a:pt x="195" y="36"/>
                    </a:lnTo>
                    <a:lnTo>
                      <a:pt x="215" y="36"/>
                    </a:lnTo>
                    <a:lnTo>
                      <a:pt x="226" y="52"/>
                    </a:lnTo>
                    <a:lnTo>
                      <a:pt x="207" y="85"/>
                    </a:lnTo>
                    <a:lnTo>
                      <a:pt x="195" y="97"/>
                    </a:lnTo>
                    <a:lnTo>
                      <a:pt x="195" y="117"/>
                    </a:lnTo>
                    <a:lnTo>
                      <a:pt x="187" y="125"/>
                    </a:lnTo>
                    <a:lnTo>
                      <a:pt x="175" y="153"/>
                    </a:lnTo>
                    <a:lnTo>
                      <a:pt x="195" y="165"/>
                    </a:lnTo>
                    <a:lnTo>
                      <a:pt x="166" y="197"/>
                    </a:lnTo>
                    <a:lnTo>
                      <a:pt x="154" y="206"/>
                    </a:lnTo>
                    <a:lnTo>
                      <a:pt x="135" y="206"/>
                    </a:lnTo>
                    <a:lnTo>
                      <a:pt x="127" y="210"/>
                    </a:lnTo>
                    <a:lnTo>
                      <a:pt x="119" y="238"/>
                    </a:lnTo>
                    <a:lnTo>
                      <a:pt x="95" y="238"/>
                    </a:lnTo>
                    <a:lnTo>
                      <a:pt x="87" y="238"/>
                    </a:lnTo>
                    <a:lnTo>
                      <a:pt x="60" y="246"/>
                    </a:lnTo>
                    <a:lnTo>
                      <a:pt x="60" y="250"/>
                    </a:lnTo>
                    <a:lnTo>
                      <a:pt x="27" y="266"/>
                    </a:lnTo>
                    <a:lnTo>
                      <a:pt x="19" y="266"/>
                    </a:lnTo>
                    <a:lnTo>
                      <a:pt x="11" y="258"/>
                    </a:lnTo>
                    <a:lnTo>
                      <a:pt x="3" y="238"/>
                    </a:lnTo>
                    <a:lnTo>
                      <a:pt x="0" y="226"/>
                    </a:lnTo>
                    <a:lnTo>
                      <a:pt x="0" y="197"/>
                    </a:lnTo>
                    <a:lnTo>
                      <a:pt x="19" y="185"/>
                    </a:lnTo>
                    <a:lnTo>
                      <a:pt x="39" y="177"/>
                    </a:lnTo>
                    <a:lnTo>
                      <a:pt x="47" y="157"/>
                    </a:lnTo>
                    <a:lnTo>
                      <a:pt x="60" y="157"/>
                    </a:lnTo>
                    <a:lnTo>
                      <a:pt x="75" y="161"/>
                    </a:lnTo>
                    <a:lnTo>
                      <a:pt x="95" y="157"/>
                    </a:lnTo>
                    <a:lnTo>
                      <a:pt x="75" y="153"/>
                    </a:lnTo>
                    <a:lnTo>
                      <a:pt x="51" y="85"/>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4149720" y="3706920"/>
                <a:ext cx="103680" cy="187560"/>
              </a:xfrm>
              <a:custGeom>
                <a:avLst/>
                <a:gdLst/>
                <a:ahLst/>
                <a:rect l="0" t="0" r="r" b="b"/>
                <a:pathLst>
                  <a:path w="288" h="521">
                    <a:moveTo>
                      <a:pt x="93" y="79"/>
                    </a:moveTo>
                    <a:lnTo>
                      <a:pt x="110" y="58"/>
                    </a:lnTo>
                    <a:lnTo>
                      <a:pt x="162" y="62"/>
                    </a:lnTo>
                    <a:lnTo>
                      <a:pt x="174" y="50"/>
                    </a:lnTo>
                    <a:lnTo>
                      <a:pt x="182" y="41"/>
                    </a:lnTo>
                    <a:lnTo>
                      <a:pt x="198" y="41"/>
                    </a:lnTo>
                    <a:lnTo>
                      <a:pt x="220" y="37"/>
                    </a:lnTo>
                    <a:lnTo>
                      <a:pt x="228" y="16"/>
                    </a:lnTo>
                    <a:lnTo>
                      <a:pt x="256" y="0"/>
                    </a:lnTo>
                    <a:lnTo>
                      <a:pt x="288" y="8"/>
                    </a:lnTo>
                    <a:lnTo>
                      <a:pt x="280" y="41"/>
                    </a:lnTo>
                    <a:lnTo>
                      <a:pt x="264" y="50"/>
                    </a:lnTo>
                    <a:lnTo>
                      <a:pt x="256" y="58"/>
                    </a:lnTo>
                    <a:lnTo>
                      <a:pt x="240" y="62"/>
                    </a:lnTo>
                    <a:lnTo>
                      <a:pt x="210" y="79"/>
                    </a:lnTo>
                    <a:lnTo>
                      <a:pt x="210" y="109"/>
                    </a:lnTo>
                    <a:lnTo>
                      <a:pt x="220" y="121"/>
                    </a:lnTo>
                    <a:lnTo>
                      <a:pt x="244" y="109"/>
                    </a:lnTo>
                    <a:lnTo>
                      <a:pt x="280" y="88"/>
                    </a:lnTo>
                    <a:lnTo>
                      <a:pt x="288" y="109"/>
                    </a:lnTo>
                    <a:lnTo>
                      <a:pt x="288" y="134"/>
                    </a:lnTo>
                    <a:lnTo>
                      <a:pt x="260" y="146"/>
                    </a:lnTo>
                    <a:lnTo>
                      <a:pt x="236" y="146"/>
                    </a:lnTo>
                    <a:lnTo>
                      <a:pt x="224" y="163"/>
                    </a:lnTo>
                    <a:lnTo>
                      <a:pt x="220" y="176"/>
                    </a:lnTo>
                    <a:lnTo>
                      <a:pt x="220" y="197"/>
                    </a:lnTo>
                    <a:lnTo>
                      <a:pt x="228" y="218"/>
                    </a:lnTo>
                    <a:lnTo>
                      <a:pt x="244" y="239"/>
                    </a:lnTo>
                    <a:lnTo>
                      <a:pt x="260" y="255"/>
                    </a:lnTo>
                    <a:lnTo>
                      <a:pt x="264" y="286"/>
                    </a:lnTo>
                    <a:lnTo>
                      <a:pt x="268" y="303"/>
                    </a:lnTo>
                    <a:lnTo>
                      <a:pt x="288" y="340"/>
                    </a:lnTo>
                    <a:lnTo>
                      <a:pt x="288" y="382"/>
                    </a:lnTo>
                    <a:lnTo>
                      <a:pt x="268" y="403"/>
                    </a:lnTo>
                    <a:lnTo>
                      <a:pt x="244" y="429"/>
                    </a:lnTo>
                    <a:lnTo>
                      <a:pt x="240" y="445"/>
                    </a:lnTo>
                    <a:lnTo>
                      <a:pt x="256" y="458"/>
                    </a:lnTo>
                    <a:lnTo>
                      <a:pt x="264" y="487"/>
                    </a:lnTo>
                    <a:lnTo>
                      <a:pt x="228" y="487"/>
                    </a:lnTo>
                    <a:lnTo>
                      <a:pt x="198" y="487"/>
                    </a:lnTo>
                    <a:lnTo>
                      <a:pt x="182" y="475"/>
                    </a:lnTo>
                    <a:lnTo>
                      <a:pt x="162" y="475"/>
                    </a:lnTo>
                    <a:lnTo>
                      <a:pt x="138" y="487"/>
                    </a:lnTo>
                    <a:lnTo>
                      <a:pt x="110" y="496"/>
                    </a:lnTo>
                    <a:lnTo>
                      <a:pt x="93" y="496"/>
                    </a:lnTo>
                    <a:lnTo>
                      <a:pt x="81" y="508"/>
                    </a:lnTo>
                    <a:lnTo>
                      <a:pt x="56" y="521"/>
                    </a:lnTo>
                    <a:lnTo>
                      <a:pt x="40" y="517"/>
                    </a:lnTo>
                    <a:lnTo>
                      <a:pt x="32" y="496"/>
                    </a:lnTo>
                    <a:lnTo>
                      <a:pt x="12" y="491"/>
                    </a:lnTo>
                    <a:lnTo>
                      <a:pt x="0" y="487"/>
                    </a:lnTo>
                    <a:lnTo>
                      <a:pt x="0" y="458"/>
                    </a:lnTo>
                    <a:lnTo>
                      <a:pt x="12" y="433"/>
                    </a:lnTo>
                    <a:lnTo>
                      <a:pt x="32" y="433"/>
                    </a:lnTo>
                    <a:lnTo>
                      <a:pt x="56" y="429"/>
                    </a:lnTo>
                    <a:lnTo>
                      <a:pt x="73" y="429"/>
                    </a:lnTo>
                    <a:lnTo>
                      <a:pt x="73" y="416"/>
                    </a:lnTo>
                    <a:lnTo>
                      <a:pt x="56" y="403"/>
                    </a:lnTo>
                    <a:lnTo>
                      <a:pt x="56" y="387"/>
                    </a:lnTo>
                    <a:lnTo>
                      <a:pt x="56" y="370"/>
                    </a:lnTo>
                    <a:lnTo>
                      <a:pt x="73" y="366"/>
                    </a:lnTo>
                    <a:lnTo>
                      <a:pt x="81" y="361"/>
                    </a:lnTo>
                    <a:lnTo>
                      <a:pt x="97" y="357"/>
                    </a:lnTo>
                    <a:lnTo>
                      <a:pt x="118" y="357"/>
                    </a:lnTo>
                    <a:lnTo>
                      <a:pt x="134" y="349"/>
                    </a:lnTo>
                    <a:lnTo>
                      <a:pt x="138" y="298"/>
                    </a:lnTo>
                    <a:lnTo>
                      <a:pt x="154" y="255"/>
                    </a:lnTo>
                    <a:lnTo>
                      <a:pt x="154" y="239"/>
                    </a:lnTo>
                    <a:lnTo>
                      <a:pt x="110" y="234"/>
                    </a:lnTo>
                    <a:lnTo>
                      <a:pt x="122" y="205"/>
                    </a:lnTo>
                    <a:lnTo>
                      <a:pt x="93" y="188"/>
                    </a:lnTo>
                    <a:lnTo>
                      <a:pt x="68" y="193"/>
                    </a:lnTo>
                    <a:lnTo>
                      <a:pt x="97" y="146"/>
                    </a:lnTo>
                    <a:lnTo>
                      <a:pt x="93" y="79"/>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4" name=""/>
            <p:cNvSpPr/>
            <p:nvPr/>
          </p:nvSpPr>
          <p:spPr>
            <a:xfrm>
              <a:off x="6380280" y="5095800"/>
              <a:ext cx="424080" cy="70200"/>
            </a:xfrm>
            <a:custGeom>
              <a:avLst/>
              <a:gdLst/>
              <a:ahLst/>
              <a:rect l="0" t="0" r="r" b="b"/>
              <a:pathLst>
                <a:path w="1178" h="195">
                  <a:moveTo>
                    <a:pt x="0" y="0"/>
                  </a:moveTo>
                  <a:lnTo>
                    <a:pt x="90" y="23"/>
                  </a:lnTo>
                  <a:lnTo>
                    <a:pt x="168" y="23"/>
                  </a:lnTo>
                  <a:lnTo>
                    <a:pt x="232" y="23"/>
                  </a:lnTo>
                  <a:lnTo>
                    <a:pt x="276" y="23"/>
                  </a:lnTo>
                  <a:lnTo>
                    <a:pt x="323" y="31"/>
                  </a:lnTo>
                  <a:lnTo>
                    <a:pt x="366" y="50"/>
                  </a:lnTo>
                  <a:lnTo>
                    <a:pt x="396" y="98"/>
                  </a:lnTo>
                  <a:lnTo>
                    <a:pt x="426" y="105"/>
                  </a:lnTo>
                  <a:lnTo>
                    <a:pt x="470" y="101"/>
                  </a:lnTo>
                  <a:lnTo>
                    <a:pt x="521" y="101"/>
                  </a:lnTo>
                  <a:lnTo>
                    <a:pt x="573" y="125"/>
                  </a:lnTo>
                  <a:lnTo>
                    <a:pt x="613" y="136"/>
                  </a:lnTo>
                  <a:lnTo>
                    <a:pt x="639" y="136"/>
                  </a:lnTo>
                  <a:lnTo>
                    <a:pt x="647" y="105"/>
                  </a:lnTo>
                  <a:lnTo>
                    <a:pt x="669" y="98"/>
                  </a:lnTo>
                  <a:lnTo>
                    <a:pt x="742" y="101"/>
                  </a:lnTo>
                  <a:lnTo>
                    <a:pt x="803" y="101"/>
                  </a:lnTo>
                  <a:lnTo>
                    <a:pt x="859" y="101"/>
                  </a:lnTo>
                  <a:lnTo>
                    <a:pt x="902" y="117"/>
                  </a:lnTo>
                  <a:lnTo>
                    <a:pt x="932" y="129"/>
                  </a:lnTo>
                  <a:lnTo>
                    <a:pt x="980" y="125"/>
                  </a:lnTo>
                  <a:lnTo>
                    <a:pt x="1005" y="109"/>
                  </a:lnTo>
                  <a:lnTo>
                    <a:pt x="1027" y="101"/>
                  </a:lnTo>
                  <a:lnTo>
                    <a:pt x="1074" y="101"/>
                  </a:lnTo>
                  <a:lnTo>
                    <a:pt x="1113" y="98"/>
                  </a:lnTo>
                  <a:lnTo>
                    <a:pt x="1152" y="77"/>
                  </a:lnTo>
                  <a:lnTo>
                    <a:pt x="1178" y="77"/>
                  </a:lnTo>
                  <a:lnTo>
                    <a:pt x="1174" y="117"/>
                  </a:lnTo>
                  <a:lnTo>
                    <a:pt x="1156" y="136"/>
                  </a:lnTo>
                  <a:lnTo>
                    <a:pt x="1130" y="148"/>
                  </a:lnTo>
                  <a:lnTo>
                    <a:pt x="1113" y="148"/>
                  </a:lnTo>
                  <a:lnTo>
                    <a:pt x="1100" y="148"/>
                  </a:lnTo>
                  <a:lnTo>
                    <a:pt x="1070" y="160"/>
                  </a:lnTo>
                  <a:lnTo>
                    <a:pt x="1044" y="179"/>
                  </a:lnTo>
                  <a:lnTo>
                    <a:pt x="1023" y="175"/>
                  </a:lnTo>
                  <a:lnTo>
                    <a:pt x="992" y="167"/>
                  </a:lnTo>
                  <a:lnTo>
                    <a:pt x="967" y="175"/>
                  </a:lnTo>
                  <a:lnTo>
                    <a:pt x="941" y="179"/>
                  </a:lnTo>
                  <a:lnTo>
                    <a:pt x="919" y="179"/>
                  </a:lnTo>
                  <a:lnTo>
                    <a:pt x="902" y="195"/>
                  </a:lnTo>
                  <a:lnTo>
                    <a:pt x="854" y="195"/>
                  </a:lnTo>
                  <a:lnTo>
                    <a:pt x="833" y="175"/>
                  </a:lnTo>
                  <a:lnTo>
                    <a:pt x="811" y="148"/>
                  </a:lnTo>
                  <a:lnTo>
                    <a:pt x="781" y="175"/>
                  </a:lnTo>
                  <a:lnTo>
                    <a:pt x="760" y="195"/>
                  </a:lnTo>
                  <a:lnTo>
                    <a:pt x="734" y="195"/>
                  </a:lnTo>
                  <a:lnTo>
                    <a:pt x="691" y="148"/>
                  </a:lnTo>
                  <a:lnTo>
                    <a:pt x="678" y="160"/>
                  </a:lnTo>
                  <a:lnTo>
                    <a:pt x="652" y="160"/>
                  </a:lnTo>
                  <a:lnTo>
                    <a:pt x="630" y="179"/>
                  </a:lnTo>
                  <a:lnTo>
                    <a:pt x="596" y="175"/>
                  </a:lnTo>
                  <a:lnTo>
                    <a:pt x="560" y="175"/>
                  </a:lnTo>
                  <a:lnTo>
                    <a:pt x="530" y="167"/>
                  </a:lnTo>
                  <a:lnTo>
                    <a:pt x="513" y="148"/>
                  </a:lnTo>
                  <a:lnTo>
                    <a:pt x="474" y="160"/>
                  </a:lnTo>
                  <a:lnTo>
                    <a:pt x="435" y="179"/>
                  </a:lnTo>
                  <a:lnTo>
                    <a:pt x="414" y="175"/>
                  </a:lnTo>
                  <a:lnTo>
                    <a:pt x="366" y="167"/>
                  </a:lnTo>
                  <a:lnTo>
                    <a:pt x="327" y="144"/>
                  </a:lnTo>
                  <a:lnTo>
                    <a:pt x="284" y="144"/>
                  </a:lnTo>
                  <a:lnTo>
                    <a:pt x="211" y="129"/>
                  </a:lnTo>
                  <a:lnTo>
                    <a:pt x="168" y="117"/>
                  </a:lnTo>
                  <a:lnTo>
                    <a:pt x="125" y="109"/>
                  </a:lnTo>
                  <a:lnTo>
                    <a:pt x="81" y="105"/>
                  </a:lnTo>
                  <a:lnTo>
                    <a:pt x="43" y="81"/>
                  </a:lnTo>
                  <a:lnTo>
                    <a:pt x="17" y="77"/>
                  </a:lnTo>
                  <a:lnTo>
                    <a:pt x="4" y="69"/>
                  </a:lnTo>
                  <a:lnTo>
                    <a:pt x="0" y="62"/>
                  </a:lnTo>
                  <a:lnTo>
                    <a:pt x="0" y="0"/>
                  </a:lnTo>
                  <a:close/>
                </a:path>
              </a:pathLst>
            </a:custGeom>
            <a:solidFill>
              <a:srgbClr val="00800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5" name=""/>
            <p:cNvSpPr/>
            <p:nvPr/>
          </p:nvSpPr>
          <p:spPr>
            <a:xfrm>
              <a:off x="6618240" y="4938840"/>
              <a:ext cx="186120" cy="141480"/>
            </a:xfrm>
            <a:custGeom>
              <a:avLst/>
              <a:gdLst/>
              <a:ahLst/>
              <a:rect l="0" t="0" r="r" b="b"/>
              <a:pathLst>
                <a:path w="517" h="393">
                  <a:moveTo>
                    <a:pt x="131" y="0"/>
                  </a:moveTo>
                  <a:lnTo>
                    <a:pt x="248" y="8"/>
                  </a:lnTo>
                  <a:lnTo>
                    <a:pt x="370" y="8"/>
                  </a:lnTo>
                  <a:lnTo>
                    <a:pt x="429" y="0"/>
                  </a:lnTo>
                  <a:lnTo>
                    <a:pt x="517" y="33"/>
                  </a:lnTo>
                  <a:lnTo>
                    <a:pt x="471" y="49"/>
                  </a:lnTo>
                  <a:lnTo>
                    <a:pt x="429" y="66"/>
                  </a:lnTo>
                  <a:lnTo>
                    <a:pt x="413" y="78"/>
                  </a:lnTo>
                  <a:lnTo>
                    <a:pt x="400" y="95"/>
                  </a:lnTo>
                  <a:lnTo>
                    <a:pt x="400" y="103"/>
                  </a:lnTo>
                  <a:lnTo>
                    <a:pt x="400" y="123"/>
                  </a:lnTo>
                  <a:lnTo>
                    <a:pt x="365" y="136"/>
                  </a:lnTo>
                  <a:lnTo>
                    <a:pt x="328" y="136"/>
                  </a:lnTo>
                  <a:lnTo>
                    <a:pt x="323" y="136"/>
                  </a:lnTo>
                  <a:lnTo>
                    <a:pt x="286" y="136"/>
                  </a:lnTo>
                  <a:lnTo>
                    <a:pt x="277" y="123"/>
                  </a:lnTo>
                  <a:lnTo>
                    <a:pt x="248" y="95"/>
                  </a:lnTo>
                  <a:lnTo>
                    <a:pt x="223" y="78"/>
                  </a:lnTo>
                  <a:lnTo>
                    <a:pt x="177" y="78"/>
                  </a:lnTo>
                  <a:lnTo>
                    <a:pt x="160" y="78"/>
                  </a:lnTo>
                  <a:lnTo>
                    <a:pt x="152" y="111"/>
                  </a:lnTo>
                  <a:lnTo>
                    <a:pt x="160" y="136"/>
                  </a:lnTo>
                  <a:lnTo>
                    <a:pt x="160" y="156"/>
                  </a:lnTo>
                  <a:lnTo>
                    <a:pt x="160" y="177"/>
                  </a:lnTo>
                  <a:lnTo>
                    <a:pt x="189" y="169"/>
                  </a:lnTo>
                  <a:lnTo>
                    <a:pt x="223" y="152"/>
                  </a:lnTo>
                  <a:lnTo>
                    <a:pt x="248" y="152"/>
                  </a:lnTo>
                  <a:lnTo>
                    <a:pt x="265" y="165"/>
                  </a:lnTo>
                  <a:lnTo>
                    <a:pt x="265" y="177"/>
                  </a:lnTo>
                  <a:lnTo>
                    <a:pt x="261" y="199"/>
                  </a:lnTo>
                  <a:lnTo>
                    <a:pt x="248" y="211"/>
                  </a:lnTo>
                  <a:lnTo>
                    <a:pt x="248" y="228"/>
                  </a:lnTo>
                  <a:lnTo>
                    <a:pt x="244" y="244"/>
                  </a:lnTo>
                  <a:lnTo>
                    <a:pt x="261" y="261"/>
                  </a:lnTo>
                  <a:lnTo>
                    <a:pt x="282" y="286"/>
                  </a:lnTo>
                  <a:lnTo>
                    <a:pt x="286" y="281"/>
                  </a:lnTo>
                  <a:lnTo>
                    <a:pt x="286" y="302"/>
                  </a:lnTo>
                  <a:lnTo>
                    <a:pt x="277" y="323"/>
                  </a:lnTo>
                  <a:lnTo>
                    <a:pt x="265" y="343"/>
                  </a:lnTo>
                  <a:lnTo>
                    <a:pt x="261" y="372"/>
                  </a:lnTo>
                  <a:lnTo>
                    <a:pt x="235" y="385"/>
                  </a:lnTo>
                  <a:lnTo>
                    <a:pt x="219" y="385"/>
                  </a:lnTo>
                  <a:lnTo>
                    <a:pt x="198" y="385"/>
                  </a:lnTo>
                  <a:lnTo>
                    <a:pt x="198" y="360"/>
                  </a:lnTo>
                  <a:lnTo>
                    <a:pt x="189" y="314"/>
                  </a:lnTo>
                  <a:lnTo>
                    <a:pt x="172" y="302"/>
                  </a:lnTo>
                  <a:lnTo>
                    <a:pt x="160" y="286"/>
                  </a:lnTo>
                  <a:lnTo>
                    <a:pt x="172" y="248"/>
                  </a:lnTo>
                  <a:lnTo>
                    <a:pt x="152" y="240"/>
                  </a:lnTo>
                  <a:lnTo>
                    <a:pt x="109" y="248"/>
                  </a:lnTo>
                  <a:lnTo>
                    <a:pt x="92" y="240"/>
                  </a:lnTo>
                  <a:lnTo>
                    <a:pt x="71" y="257"/>
                  </a:lnTo>
                  <a:lnTo>
                    <a:pt x="92" y="269"/>
                  </a:lnTo>
                  <a:lnTo>
                    <a:pt x="117" y="281"/>
                  </a:lnTo>
                  <a:lnTo>
                    <a:pt x="131" y="290"/>
                  </a:lnTo>
                  <a:lnTo>
                    <a:pt x="147" y="314"/>
                  </a:lnTo>
                  <a:lnTo>
                    <a:pt x="147" y="331"/>
                  </a:lnTo>
                  <a:lnTo>
                    <a:pt x="131" y="364"/>
                  </a:lnTo>
                  <a:lnTo>
                    <a:pt x="104" y="389"/>
                  </a:lnTo>
                  <a:lnTo>
                    <a:pt x="92" y="393"/>
                  </a:lnTo>
                  <a:lnTo>
                    <a:pt x="92" y="372"/>
                  </a:lnTo>
                  <a:lnTo>
                    <a:pt x="92" y="360"/>
                  </a:lnTo>
                  <a:lnTo>
                    <a:pt x="96" y="331"/>
                  </a:lnTo>
                  <a:lnTo>
                    <a:pt x="67" y="314"/>
                  </a:lnTo>
                  <a:lnTo>
                    <a:pt x="33" y="302"/>
                  </a:lnTo>
                  <a:lnTo>
                    <a:pt x="29" y="281"/>
                  </a:lnTo>
                  <a:lnTo>
                    <a:pt x="0" y="269"/>
                  </a:lnTo>
                  <a:lnTo>
                    <a:pt x="4" y="240"/>
                  </a:lnTo>
                  <a:lnTo>
                    <a:pt x="29" y="219"/>
                  </a:lnTo>
                  <a:lnTo>
                    <a:pt x="46" y="199"/>
                  </a:lnTo>
                  <a:lnTo>
                    <a:pt x="67" y="156"/>
                  </a:lnTo>
                  <a:lnTo>
                    <a:pt x="71" y="123"/>
                  </a:lnTo>
                  <a:lnTo>
                    <a:pt x="67" y="95"/>
                  </a:lnTo>
                  <a:lnTo>
                    <a:pt x="75" y="82"/>
                  </a:lnTo>
                  <a:lnTo>
                    <a:pt x="92" y="74"/>
                  </a:lnTo>
                  <a:lnTo>
                    <a:pt x="71" y="49"/>
                  </a:lnTo>
                  <a:lnTo>
                    <a:pt x="131"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6410160" y="4871880"/>
              <a:ext cx="208440" cy="200520"/>
            </a:xfrm>
            <a:custGeom>
              <a:avLst/>
              <a:gdLst/>
              <a:ahLst/>
              <a:rect l="0" t="0" r="r" b="b"/>
              <a:pathLst>
                <a:path w="579" h="557">
                  <a:moveTo>
                    <a:pt x="0" y="186"/>
                  </a:moveTo>
                  <a:lnTo>
                    <a:pt x="113" y="96"/>
                  </a:lnTo>
                  <a:lnTo>
                    <a:pt x="178" y="63"/>
                  </a:lnTo>
                  <a:lnTo>
                    <a:pt x="203" y="25"/>
                  </a:lnTo>
                  <a:lnTo>
                    <a:pt x="304" y="0"/>
                  </a:lnTo>
                  <a:lnTo>
                    <a:pt x="355" y="63"/>
                  </a:lnTo>
                  <a:lnTo>
                    <a:pt x="405" y="33"/>
                  </a:lnTo>
                  <a:lnTo>
                    <a:pt x="422" y="16"/>
                  </a:lnTo>
                  <a:lnTo>
                    <a:pt x="470" y="0"/>
                  </a:lnTo>
                  <a:lnTo>
                    <a:pt x="491" y="0"/>
                  </a:lnTo>
                  <a:lnTo>
                    <a:pt x="495" y="21"/>
                  </a:lnTo>
                  <a:lnTo>
                    <a:pt x="495" y="42"/>
                  </a:lnTo>
                  <a:lnTo>
                    <a:pt x="474" y="67"/>
                  </a:lnTo>
                  <a:lnTo>
                    <a:pt x="474" y="88"/>
                  </a:lnTo>
                  <a:lnTo>
                    <a:pt x="537" y="169"/>
                  </a:lnTo>
                  <a:lnTo>
                    <a:pt x="554" y="219"/>
                  </a:lnTo>
                  <a:lnTo>
                    <a:pt x="575" y="219"/>
                  </a:lnTo>
                  <a:lnTo>
                    <a:pt x="579" y="245"/>
                  </a:lnTo>
                  <a:lnTo>
                    <a:pt x="554" y="274"/>
                  </a:lnTo>
                  <a:lnTo>
                    <a:pt x="524" y="257"/>
                  </a:lnTo>
                  <a:lnTo>
                    <a:pt x="491" y="274"/>
                  </a:lnTo>
                  <a:lnTo>
                    <a:pt x="495" y="325"/>
                  </a:lnTo>
                  <a:lnTo>
                    <a:pt x="440" y="358"/>
                  </a:lnTo>
                  <a:lnTo>
                    <a:pt x="440" y="439"/>
                  </a:lnTo>
                  <a:lnTo>
                    <a:pt x="440" y="494"/>
                  </a:lnTo>
                  <a:lnTo>
                    <a:pt x="422" y="515"/>
                  </a:lnTo>
                  <a:lnTo>
                    <a:pt x="405" y="557"/>
                  </a:lnTo>
                  <a:lnTo>
                    <a:pt x="380" y="549"/>
                  </a:lnTo>
                  <a:lnTo>
                    <a:pt x="342" y="536"/>
                  </a:lnTo>
                  <a:lnTo>
                    <a:pt x="308" y="515"/>
                  </a:lnTo>
                  <a:lnTo>
                    <a:pt x="279" y="486"/>
                  </a:lnTo>
                  <a:lnTo>
                    <a:pt x="190" y="486"/>
                  </a:lnTo>
                  <a:lnTo>
                    <a:pt x="113" y="469"/>
                  </a:lnTo>
                  <a:lnTo>
                    <a:pt x="71" y="422"/>
                  </a:lnTo>
                  <a:lnTo>
                    <a:pt x="42" y="379"/>
                  </a:lnTo>
                  <a:lnTo>
                    <a:pt x="21" y="350"/>
                  </a:lnTo>
                  <a:lnTo>
                    <a:pt x="21" y="291"/>
                  </a:lnTo>
                  <a:lnTo>
                    <a:pt x="0" y="18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6870600" y="4991040"/>
              <a:ext cx="408240" cy="187560"/>
            </a:xfrm>
            <a:custGeom>
              <a:avLst/>
              <a:gdLst/>
              <a:ahLst/>
              <a:rect l="0" t="0" r="r" b="b"/>
              <a:pathLst>
                <a:path w="1134" h="521">
                  <a:moveTo>
                    <a:pt x="0" y="0"/>
                  </a:moveTo>
                  <a:lnTo>
                    <a:pt x="107" y="0"/>
                  </a:lnTo>
                  <a:lnTo>
                    <a:pt x="193" y="8"/>
                  </a:lnTo>
                  <a:lnTo>
                    <a:pt x="224" y="83"/>
                  </a:lnTo>
                  <a:lnTo>
                    <a:pt x="232" y="109"/>
                  </a:lnTo>
                  <a:lnTo>
                    <a:pt x="241" y="121"/>
                  </a:lnTo>
                  <a:lnTo>
                    <a:pt x="275" y="104"/>
                  </a:lnTo>
                  <a:lnTo>
                    <a:pt x="310" y="104"/>
                  </a:lnTo>
                  <a:lnTo>
                    <a:pt x="331" y="121"/>
                  </a:lnTo>
                  <a:lnTo>
                    <a:pt x="353" y="113"/>
                  </a:lnTo>
                  <a:lnTo>
                    <a:pt x="387" y="83"/>
                  </a:lnTo>
                  <a:lnTo>
                    <a:pt x="396" y="83"/>
                  </a:lnTo>
                  <a:lnTo>
                    <a:pt x="430" y="62"/>
                  </a:lnTo>
                  <a:lnTo>
                    <a:pt x="461" y="62"/>
                  </a:lnTo>
                  <a:lnTo>
                    <a:pt x="560" y="104"/>
                  </a:lnTo>
                  <a:lnTo>
                    <a:pt x="608" y="104"/>
                  </a:lnTo>
                  <a:lnTo>
                    <a:pt x="651" y="134"/>
                  </a:lnTo>
                  <a:lnTo>
                    <a:pt x="699" y="146"/>
                  </a:lnTo>
                  <a:lnTo>
                    <a:pt x="729" y="167"/>
                  </a:lnTo>
                  <a:lnTo>
                    <a:pt x="768" y="176"/>
                  </a:lnTo>
                  <a:lnTo>
                    <a:pt x="849" y="197"/>
                  </a:lnTo>
                  <a:lnTo>
                    <a:pt x="888" y="239"/>
                  </a:lnTo>
                  <a:lnTo>
                    <a:pt x="897" y="269"/>
                  </a:lnTo>
                  <a:lnTo>
                    <a:pt x="892" y="282"/>
                  </a:lnTo>
                  <a:lnTo>
                    <a:pt x="931" y="303"/>
                  </a:lnTo>
                  <a:lnTo>
                    <a:pt x="957" y="311"/>
                  </a:lnTo>
                  <a:lnTo>
                    <a:pt x="966" y="319"/>
                  </a:lnTo>
                  <a:lnTo>
                    <a:pt x="1005" y="324"/>
                  </a:lnTo>
                  <a:lnTo>
                    <a:pt x="1052" y="361"/>
                  </a:lnTo>
                  <a:lnTo>
                    <a:pt x="1052" y="387"/>
                  </a:lnTo>
                  <a:lnTo>
                    <a:pt x="1082" y="412"/>
                  </a:lnTo>
                  <a:lnTo>
                    <a:pt x="1091" y="424"/>
                  </a:lnTo>
                  <a:lnTo>
                    <a:pt x="1134" y="470"/>
                  </a:lnTo>
                  <a:lnTo>
                    <a:pt x="1095" y="521"/>
                  </a:lnTo>
                  <a:lnTo>
                    <a:pt x="1082" y="521"/>
                  </a:lnTo>
                  <a:lnTo>
                    <a:pt x="1048" y="521"/>
                  </a:lnTo>
                  <a:lnTo>
                    <a:pt x="1030" y="496"/>
                  </a:lnTo>
                  <a:lnTo>
                    <a:pt x="1009" y="496"/>
                  </a:lnTo>
                  <a:lnTo>
                    <a:pt x="992" y="500"/>
                  </a:lnTo>
                  <a:lnTo>
                    <a:pt x="892" y="403"/>
                  </a:lnTo>
                  <a:lnTo>
                    <a:pt x="845" y="412"/>
                  </a:lnTo>
                  <a:lnTo>
                    <a:pt x="785" y="403"/>
                  </a:lnTo>
                  <a:lnTo>
                    <a:pt x="768" y="416"/>
                  </a:lnTo>
                  <a:lnTo>
                    <a:pt x="742" y="433"/>
                  </a:lnTo>
                  <a:lnTo>
                    <a:pt x="737" y="424"/>
                  </a:lnTo>
                  <a:lnTo>
                    <a:pt x="716" y="458"/>
                  </a:lnTo>
                  <a:lnTo>
                    <a:pt x="677" y="496"/>
                  </a:lnTo>
                  <a:lnTo>
                    <a:pt x="638" y="479"/>
                  </a:lnTo>
                  <a:lnTo>
                    <a:pt x="608" y="466"/>
                  </a:lnTo>
                  <a:lnTo>
                    <a:pt x="578" y="466"/>
                  </a:lnTo>
                  <a:lnTo>
                    <a:pt x="547" y="458"/>
                  </a:lnTo>
                  <a:lnTo>
                    <a:pt x="525" y="466"/>
                  </a:lnTo>
                  <a:lnTo>
                    <a:pt x="495" y="403"/>
                  </a:lnTo>
                  <a:lnTo>
                    <a:pt x="456" y="349"/>
                  </a:lnTo>
                  <a:lnTo>
                    <a:pt x="409" y="282"/>
                  </a:lnTo>
                  <a:lnTo>
                    <a:pt x="374" y="239"/>
                  </a:lnTo>
                  <a:lnTo>
                    <a:pt x="331" y="209"/>
                  </a:lnTo>
                  <a:lnTo>
                    <a:pt x="275" y="209"/>
                  </a:lnTo>
                  <a:lnTo>
                    <a:pt x="211" y="226"/>
                  </a:lnTo>
                  <a:lnTo>
                    <a:pt x="172" y="197"/>
                  </a:lnTo>
                  <a:lnTo>
                    <a:pt x="116" y="180"/>
                  </a:lnTo>
                  <a:lnTo>
                    <a:pt x="77" y="167"/>
                  </a:lnTo>
                  <a:lnTo>
                    <a:pt x="77" y="92"/>
                  </a:lnTo>
                  <a:lnTo>
                    <a:pt x="86" y="62"/>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p:nvPr/>
          </p:nvSpPr>
          <p:spPr>
            <a:xfrm>
              <a:off x="7272360" y="5030640"/>
              <a:ext cx="98640" cy="71640"/>
            </a:xfrm>
            <a:custGeom>
              <a:avLst/>
              <a:gdLst/>
              <a:ahLst/>
              <a:rect l="0" t="0" r="r" b="b"/>
              <a:pathLst>
                <a:path w="274" h="199">
                  <a:moveTo>
                    <a:pt x="44" y="70"/>
                  </a:moveTo>
                  <a:lnTo>
                    <a:pt x="0" y="160"/>
                  </a:lnTo>
                  <a:lnTo>
                    <a:pt x="20" y="191"/>
                  </a:lnTo>
                  <a:lnTo>
                    <a:pt x="92" y="199"/>
                  </a:lnTo>
                  <a:lnTo>
                    <a:pt x="161" y="199"/>
                  </a:lnTo>
                  <a:lnTo>
                    <a:pt x="181" y="164"/>
                  </a:lnTo>
                  <a:lnTo>
                    <a:pt x="202" y="125"/>
                  </a:lnTo>
                  <a:lnTo>
                    <a:pt x="274" y="125"/>
                  </a:lnTo>
                  <a:lnTo>
                    <a:pt x="262" y="77"/>
                  </a:lnTo>
                  <a:lnTo>
                    <a:pt x="262" y="27"/>
                  </a:lnTo>
                  <a:lnTo>
                    <a:pt x="189" y="0"/>
                  </a:lnTo>
                  <a:lnTo>
                    <a:pt x="173" y="58"/>
                  </a:lnTo>
                  <a:lnTo>
                    <a:pt x="222" y="85"/>
                  </a:lnTo>
                  <a:lnTo>
                    <a:pt x="149" y="85"/>
                  </a:lnTo>
                  <a:lnTo>
                    <a:pt x="132" y="113"/>
                  </a:lnTo>
                  <a:lnTo>
                    <a:pt x="44" y="70"/>
                  </a:lnTo>
                  <a:close/>
                </a:path>
              </a:pathLst>
            </a:custGeom>
            <a:solidFill>
              <a:srgbClr val="00800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69" name=""/>
            <p:cNvSpPr/>
            <p:nvPr/>
          </p:nvSpPr>
          <p:spPr>
            <a:xfrm>
              <a:off x="6102360" y="4849920"/>
              <a:ext cx="243360" cy="249480"/>
            </a:xfrm>
            <a:custGeom>
              <a:avLst/>
              <a:gdLst/>
              <a:ahLst/>
              <a:rect l="0" t="0" r="r" b="b"/>
              <a:pathLst>
                <a:path w="676" h="693">
                  <a:moveTo>
                    <a:pt x="0" y="16"/>
                  </a:moveTo>
                  <a:lnTo>
                    <a:pt x="67" y="0"/>
                  </a:lnTo>
                  <a:lnTo>
                    <a:pt x="140" y="29"/>
                  </a:lnTo>
                  <a:lnTo>
                    <a:pt x="157" y="63"/>
                  </a:lnTo>
                  <a:lnTo>
                    <a:pt x="157" y="76"/>
                  </a:lnTo>
                  <a:lnTo>
                    <a:pt x="183" y="80"/>
                  </a:lnTo>
                  <a:lnTo>
                    <a:pt x="183" y="93"/>
                  </a:lnTo>
                  <a:lnTo>
                    <a:pt x="204" y="101"/>
                  </a:lnTo>
                  <a:lnTo>
                    <a:pt x="204" y="123"/>
                  </a:lnTo>
                  <a:lnTo>
                    <a:pt x="285" y="199"/>
                  </a:lnTo>
                  <a:lnTo>
                    <a:pt x="293" y="199"/>
                  </a:lnTo>
                  <a:lnTo>
                    <a:pt x="306" y="220"/>
                  </a:lnTo>
                  <a:lnTo>
                    <a:pt x="327" y="237"/>
                  </a:lnTo>
                  <a:lnTo>
                    <a:pt x="340" y="237"/>
                  </a:lnTo>
                  <a:lnTo>
                    <a:pt x="391" y="263"/>
                  </a:lnTo>
                  <a:lnTo>
                    <a:pt x="501" y="271"/>
                  </a:lnTo>
                  <a:lnTo>
                    <a:pt x="505" y="366"/>
                  </a:lnTo>
                  <a:lnTo>
                    <a:pt x="528" y="379"/>
                  </a:lnTo>
                  <a:lnTo>
                    <a:pt x="519" y="408"/>
                  </a:lnTo>
                  <a:lnTo>
                    <a:pt x="591" y="451"/>
                  </a:lnTo>
                  <a:lnTo>
                    <a:pt x="638" y="472"/>
                  </a:lnTo>
                  <a:lnTo>
                    <a:pt x="638" y="612"/>
                  </a:lnTo>
                  <a:lnTo>
                    <a:pt x="676" y="667"/>
                  </a:lnTo>
                  <a:lnTo>
                    <a:pt x="655" y="684"/>
                  </a:lnTo>
                  <a:lnTo>
                    <a:pt x="613" y="693"/>
                  </a:lnTo>
                  <a:lnTo>
                    <a:pt x="608" y="642"/>
                  </a:lnTo>
                  <a:lnTo>
                    <a:pt x="545" y="693"/>
                  </a:lnTo>
                  <a:lnTo>
                    <a:pt x="505" y="621"/>
                  </a:lnTo>
                  <a:lnTo>
                    <a:pt x="476" y="570"/>
                  </a:lnTo>
                  <a:lnTo>
                    <a:pt x="412" y="502"/>
                  </a:lnTo>
                  <a:lnTo>
                    <a:pt x="382" y="502"/>
                  </a:lnTo>
                  <a:lnTo>
                    <a:pt x="310" y="463"/>
                  </a:lnTo>
                  <a:lnTo>
                    <a:pt x="306" y="425"/>
                  </a:lnTo>
                  <a:lnTo>
                    <a:pt x="306" y="400"/>
                  </a:lnTo>
                  <a:lnTo>
                    <a:pt x="251" y="301"/>
                  </a:lnTo>
                  <a:lnTo>
                    <a:pt x="221" y="237"/>
                  </a:lnTo>
                  <a:lnTo>
                    <a:pt x="152" y="182"/>
                  </a:lnTo>
                  <a:lnTo>
                    <a:pt x="55" y="93"/>
                  </a:lnTo>
                  <a:lnTo>
                    <a:pt x="0" y="1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p:nvPr/>
          </p:nvSpPr>
          <p:spPr>
            <a:xfrm>
              <a:off x="6548400" y="4570560"/>
              <a:ext cx="238320" cy="276480"/>
            </a:xfrm>
            <a:custGeom>
              <a:avLst/>
              <a:gdLst/>
              <a:ahLst/>
              <a:rect l="0" t="0" r="r" b="b"/>
              <a:pathLst>
                <a:path w="662" h="768">
                  <a:moveTo>
                    <a:pt x="46" y="0"/>
                  </a:moveTo>
                  <a:lnTo>
                    <a:pt x="106" y="0"/>
                  </a:lnTo>
                  <a:lnTo>
                    <a:pt x="156" y="85"/>
                  </a:lnTo>
                  <a:lnTo>
                    <a:pt x="152" y="157"/>
                  </a:lnTo>
                  <a:lnTo>
                    <a:pt x="190" y="179"/>
                  </a:lnTo>
                  <a:lnTo>
                    <a:pt x="212" y="234"/>
                  </a:lnTo>
                  <a:lnTo>
                    <a:pt x="254" y="255"/>
                  </a:lnTo>
                  <a:lnTo>
                    <a:pt x="301" y="264"/>
                  </a:lnTo>
                  <a:lnTo>
                    <a:pt x="378" y="302"/>
                  </a:lnTo>
                  <a:lnTo>
                    <a:pt x="429" y="349"/>
                  </a:lnTo>
                  <a:lnTo>
                    <a:pt x="437" y="349"/>
                  </a:lnTo>
                  <a:lnTo>
                    <a:pt x="501" y="388"/>
                  </a:lnTo>
                  <a:lnTo>
                    <a:pt x="501" y="482"/>
                  </a:lnTo>
                  <a:lnTo>
                    <a:pt x="518" y="525"/>
                  </a:lnTo>
                  <a:lnTo>
                    <a:pt x="539" y="550"/>
                  </a:lnTo>
                  <a:lnTo>
                    <a:pt x="573" y="572"/>
                  </a:lnTo>
                  <a:lnTo>
                    <a:pt x="590" y="610"/>
                  </a:lnTo>
                  <a:lnTo>
                    <a:pt x="603" y="648"/>
                  </a:lnTo>
                  <a:lnTo>
                    <a:pt x="662" y="678"/>
                  </a:lnTo>
                  <a:lnTo>
                    <a:pt x="649" y="717"/>
                  </a:lnTo>
                  <a:lnTo>
                    <a:pt x="598" y="721"/>
                  </a:lnTo>
                  <a:lnTo>
                    <a:pt x="577" y="691"/>
                  </a:lnTo>
                  <a:lnTo>
                    <a:pt x="539" y="691"/>
                  </a:lnTo>
                  <a:lnTo>
                    <a:pt x="539" y="768"/>
                  </a:lnTo>
                  <a:lnTo>
                    <a:pt x="514" y="768"/>
                  </a:lnTo>
                  <a:lnTo>
                    <a:pt x="471" y="738"/>
                  </a:lnTo>
                  <a:lnTo>
                    <a:pt x="450" y="717"/>
                  </a:lnTo>
                  <a:lnTo>
                    <a:pt x="450" y="674"/>
                  </a:lnTo>
                  <a:lnTo>
                    <a:pt x="391" y="674"/>
                  </a:lnTo>
                  <a:lnTo>
                    <a:pt x="369" y="717"/>
                  </a:lnTo>
                  <a:lnTo>
                    <a:pt x="348" y="674"/>
                  </a:lnTo>
                  <a:lnTo>
                    <a:pt x="348" y="627"/>
                  </a:lnTo>
                  <a:lnTo>
                    <a:pt x="412" y="610"/>
                  </a:lnTo>
                  <a:lnTo>
                    <a:pt x="454" y="614"/>
                  </a:lnTo>
                  <a:lnTo>
                    <a:pt x="454" y="546"/>
                  </a:lnTo>
                  <a:lnTo>
                    <a:pt x="425" y="521"/>
                  </a:lnTo>
                  <a:lnTo>
                    <a:pt x="395" y="452"/>
                  </a:lnTo>
                  <a:lnTo>
                    <a:pt x="378" y="379"/>
                  </a:lnTo>
                  <a:lnTo>
                    <a:pt x="305" y="358"/>
                  </a:lnTo>
                  <a:lnTo>
                    <a:pt x="279" y="319"/>
                  </a:lnTo>
                  <a:lnTo>
                    <a:pt x="220" y="302"/>
                  </a:lnTo>
                  <a:lnTo>
                    <a:pt x="254" y="370"/>
                  </a:lnTo>
                  <a:lnTo>
                    <a:pt x="190" y="410"/>
                  </a:lnTo>
                  <a:lnTo>
                    <a:pt x="152" y="328"/>
                  </a:lnTo>
                  <a:lnTo>
                    <a:pt x="122" y="306"/>
                  </a:lnTo>
                  <a:lnTo>
                    <a:pt x="122" y="264"/>
                  </a:lnTo>
                  <a:lnTo>
                    <a:pt x="72" y="204"/>
                  </a:lnTo>
                  <a:lnTo>
                    <a:pt x="29" y="179"/>
                  </a:lnTo>
                  <a:lnTo>
                    <a:pt x="0" y="149"/>
                  </a:lnTo>
                  <a:lnTo>
                    <a:pt x="16" y="119"/>
                  </a:lnTo>
                  <a:lnTo>
                    <a:pt x="55" y="136"/>
                  </a:lnTo>
                  <a:lnTo>
                    <a:pt x="63" y="106"/>
                  </a:lnTo>
                  <a:lnTo>
                    <a:pt x="55" y="63"/>
                  </a:lnTo>
                  <a:lnTo>
                    <a:pt x="4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6492960" y="4086360"/>
              <a:ext cx="171720" cy="232200"/>
            </a:xfrm>
            <a:custGeom>
              <a:avLst/>
              <a:gdLst/>
              <a:ahLst/>
              <a:rect l="0" t="0" r="r" b="b"/>
              <a:pathLst>
                <a:path w="477" h="645">
                  <a:moveTo>
                    <a:pt x="104" y="0"/>
                  </a:moveTo>
                  <a:lnTo>
                    <a:pt x="192" y="38"/>
                  </a:lnTo>
                  <a:lnTo>
                    <a:pt x="251" y="84"/>
                  </a:lnTo>
                  <a:lnTo>
                    <a:pt x="289" y="139"/>
                  </a:lnTo>
                  <a:lnTo>
                    <a:pt x="314" y="139"/>
                  </a:lnTo>
                  <a:lnTo>
                    <a:pt x="301" y="178"/>
                  </a:lnTo>
                  <a:lnTo>
                    <a:pt x="351" y="200"/>
                  </a:lnTo>
                  <a:lnTo>
                    <a:pt x="372" y="242"/>
                  </a:lnTo>
                  <a:lnTo>
                    <a:pt x="435" y="318"/>
                  </a:lnTo>
                  <a:lnTo>
                    <a:pt x="477" y="403"/>
                  </a:lnTo>
                  <a:lnTo>
                    <a:pt x="397" y="394"/>
                  </a:lnTo>
                  <a:lnTo>
                    <a:pt x="335" y="386"/>
                  </a:lnTo>
                  <a:lnTo>
                    <a:pt x="376" y="441"/>
                  </a:lnTo>
                  <a:lnTo>
                    <a:pt x="376" y="483"/>
                  </a:lnTo>
                  <a:lnTo>
                    <a:pt x="376" y="518"/>
                  </a:lnTo>
                  <a:lnTo>
                    <a:pt x="356" y="506"/>
                  </a:lnTo>
                  <a:lnTo>
                    <a:pt x="322" y="475"/>
                  </a:lnTo>
                  <a:lnTo>
                    <a:pt x="268" y="433"/>
                  </a:lnTo>
                  <a:lnTo>
                    <a:pt x="239" y="416"/>
                  </a:lnTo>
                  <a:lnTo>
                    <a:pt x="187" y="433"/>
                  </a:lnTo>
                  <a:lnTo>
                    <a:pt x="158" y="441"/>
                  </a:lnTo>
                  <a:lnTo>
                    <a:pt x="175" y="475"/>
                  </a:lnTo>
                  <a:lnTo>
                    <a:pt x="217" y="506"/>
                  </a:lnTo>
                  <a:lnTo>
                    <a:pt x="272" y="522"/>
                  </a:lnTo>
                  <a:lnTo>
                    <a:pt x="293" y="569"/>
                  </a:lnTo>
                  <a:lnTo>
                    <a:pt x="289" y="628"/>
                  </a:lnTo>
                  <a:lnTo>
                    <a:pt x="289" y="645"/>
                  </a:lnTo>
                  <a:lnTo>
                    <a:pt x="268" y="645"/>
                  </a:lnTo>
                  <a:lnTo>
                    <a:pt x="239" y="628"/>
                  </a:lnTo>
                  <a:lnTo>
                    <a:pt x="217" y="611"/>
                  </a:lnTo>
                  <a:lnTo>
                    <a:pt x="208" y="603"/>
                  </a:lnTo>
                  <a:lnTo>
                    <a:pt x="187" y="641"/>
                  </a:lnTo>
                  <a:lnTo>
                    <a:pt x="158" y="645"/>
                  </a:lnTo>
                  <a:lnTo>
                    <a:pt x="133" y="611"/>
                  </a:lnTo>
                  <a:lnTo>
                    <a:pt x="133" y="569"/>
                  </a:lnTo>
                  <a:lnTo>
                    <a:pt x="125" y="527"/>
                  </a:lnTo>
                  <a:lnTo>
                    <a:pt x="96" y="510"/>
                  </a:lnTo>
                  <a:lnTo>
                    <a:pt x="58" y="548"/>
                  </a:lnTo>
                  <a:lnTo>
                    <a:pt x="16" y="548"/>
                  </a:lnTo>
                  <a:lnTo>
                    <a:pt x="0" y="518"/>
                  </a:lnTo>
                  <a:lnTo>
                    <a:pt x="16" y="454"/>
                  </a:lnTo>
                  <a:lnTo>
                    <a:pt x="54" y="420"/>
                  </a:lnTo>
                  <a:lnTo>
                    <a:pt x="45" y="327"/>
                  </a:lnTo>
                  <a:lnTo>
                    <a:pt x="45" y="289"/>
                  </a:lnTo>
                  <a:lnTo>
                    <a:pt x="83" y="284"/>
                  </a:lnTo>
                  <a:lnTo>
                    <a:pt x="116" y="318"/>
                  </a:lnTo>
                  <a:lnTo>
                    <a:pt x="167" y="327"/>
                  </a:lnTo>
                  <a:lnTo>
                    <a:pt x="167" y="280"/>
                  </a:lnTo>
                  <a:lnTo>
                    <a:pt x="137" y="263"/>
                  </a:lnTo>
                  <a:lnTo>
                    <a:pt x="133" y="242"/>
                  </a:lnTo>
                  <a:lnTo>
                    <a:pt x="146" y="242"/>
                  </a:lnTo>
                  <a:lnTo>
                    <a:pt x="162" y="242"/>
                  </a:lnTo>
                  <a:lnTo>
                    <a:pt x="175" y="242"/>
                  </a:lnTo>
                  <a:lnTo>
                    <a:pt x="187" y="242"/>
                  </a:lnTo>
                  <a:lnTo>
                    <a:pt x="208" y="221"/>
                  </a:lnTo>
                  <a:lnTo>
                    <a:pt x="200" y="200"/>
                  </a:lnTo>
                  <a:lnTo>
                    <a:pt x="183" y="160"/>
                  </a:lnTo>
                  <a:lnTo>
                    <a:pt x="137" y="110"/>
                  </a:lnTo>
                  <a:lnTo>
                    <a:pt x="96" y="88"/>
                  </a:lnTo>
                  <a:lnTo>
                    <a:pt x="79" y="55"/>
                  </a:lnTo>
                  <a:lnTo>
                    <a:pt x="1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6289560" y="3792600"/>
              <a:ext cx="182880" cy="190800"/>
            </a:xfrm>
            <a:custGeom>
              <a:avLst/>
              <a:gdLst/>
              <a:ahLst/>
              <a:rect l="0" t="0" r="r" b="b"/>
              <a:pathLst>
                <a:path w="508" h="530">
                  <a:moveTo>
                    <a:pt x="0" y="0"/>
                  </a:moveTo>
                  <a:lnTo>
                    <a:pt x="41" y="0"/>
                  </a:lnTo>
                  <a:lnTo>
                    <a:pt x="67" y="41"/>
                  </a:lnTo>
                  <a:lnTo>
                    <a:pt x="129" y="92"/>
                  </a:lnTo>
                  <a:lnTo>
                    <a:pt x="163" y="155"/>
                  </a:lnTo>
                  <a:lnTo>
                    <a:pt x="209" y="159"/>
                  </a:lnTo>
                  <a:lnTo>
                    <a:pt x="256" y="176"/>
                  </a:lnTo>
                  <a:lnTo>
                    <a:pt x="277" y="201"/>
                  </a:lnTo>
                  <a:lnTo>
                    <a:pt x="319" y="201"/>
                  </a:lnTo>
                  <a:lnTo>
                    <a:pt x="361" y="230"/>
                  </a:lnTo>
                  <a:lnTo>
                    <a:pt x="403" y="264"/>
                  </a:lnTo>
                  <a:lnTo>
                    <a:pt x="432" y="290"/>
                  </a:lnTo>
                  <a:lnTo>
                    <a:pt x="432" y="311"/>
                  </a:lnTo>
                  <a:lnTo>
                    <a:pt x="411" y="311"/>
                  </a:lnTo>
                  <a:lnTo>
                    <a:pt x="390" y="311"/>
                  </a:lnTo>
                  <a:lnTo>
                    <a:pt x="369" y="332"/>
                  </a:lnTo>
                  <a:lnTo>
                    <a:pt x="424" y="374"/>
                  </a:lnTo>
                  <a:lnTo>
                    <a:pt x="462" y="408"/>
                  </a:lnTo>
                  <a:lnTo>
                    <a:pt x="508" y="450"/>
                  </a:lnTo>
                  <a:lnTo>
                    <a:pt x="478" y="488"/>
                  </a:lnTo>
                  <a:lnTo>
                    <a:pt x="445" y="500"/>
                  </a:lnTo>
                  <a:lnTo>
                    <a:pt x="449" y="530"/>
                  </a:lnTo>
                  <a:lnTo>
                    <a:pt x="403" y="530"/>
                  </a:lnTo>
                  <a:lnTo>
                    <a:pt x="382" y="504"/>
                  </a:lnTo>
                  <a:lnTo>
                    <a:pt x="340" y="458"/>
                  </a:lnTo>
                  <a:lnTo>
                    <a:pt x="306" y="412"/>
                  </a:lnTo>
                  <a:lnTo>
                    <a:pt x="256" y="336"/>
                  </a:lnTo>
                  <a:lnTo>
                    <a:pt x="196" y="290"/>
                  </a:lnTo>
                  <a:lnTo>
                    <a:pt x="134" y="205"/>
                  </a:lnTo>
                  <a:lnTo>
                    <a:pt x="100" y="176"/>
                  </a:lnTo>
                  <a:lnTo>
                    <a:pt x="71" y="159"/>
                  </a:lnTo>
                  <a:lnTo>
                    <a:pt x="58" y="121"/>
                  </a:lnTo>
                  <a:lnTo>
                    <a:pt x="4" y="75"/>
                  </a:lnTo>
                  <a:lnTo>
                    <a:pt x="4" y="58"/>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4032360" y="3416400"/>
              <a:ext cx="2546640" cy="1492560"/>
            </a:xfrm>
            <a:custGeom>
              <a:avLst/>
              <a:gdLst/>
              <a:ahLst/>
              <a:rect l="0" t="0" r="r" b="b"/>
              <a:pathLst>
                <a:path w="7074" h="4146">
                  <a:moveTo>
                    <a:pt x="0" y="1857"/>
                  </a:moveTo>
                  <a:lnTo>
                    <a:pt x="65" y="1796"/>
                  </a:lnTo>
                  <a:lnTo>
                    <a:pt x="101" y="1757"/>
                  </a:lnTo>
                  <a:lnTo>
                    <a:pt x="184" y="1757"/>
                  </a:lnTo>
                  <a:lnTo>
                    <a:pt x="272" y="1765"/>
                  </a:lnTo>
                  <a:lnTo>
                    <a:pt x="338" y="1739"/>
                  </a:lnTo>
                  <a:lnTo>
                    <a:pt x="412" y="1735"/>
                  </a:lnTo>
                  <a:lnTo>
                    <a:pt x="412" y="1656"/>
                  </a:lnTo>
                  <a:lnTo>
                    <a:pt x="456" y="1608"/>
                  </a:lnTo>
                  <a:lnTo>
                    <a:pt x="360" y="1546"/>
                  </a:lnTo>
                  <a:lnTo>
                    <a:pt x="347" y="1507"/>
                  </a:lnTo>
                  <a:lnTo>
                    <a:pt x="355" y="1441"/>
                  </a:lnTo>
                  <a:lnTo>
                    <a:pt x="426" y="1441"/>
                  </a:lnTo>
                  <a:lnTo>
                    <a:pt x="474" y="1432"/>
                  </a:lnTo>
                  <a:lnTo>
                    <a:pt x="478" y="1441"/>
                  </a:lnTo>
                  <a:lnTo>
                    <a:pt x="522" y="1397"/>
                  </a:lnTo>
                  <a:lnTo>
                    <a:pt x="579" y="1375"/>
                  </a:lnTo>
                  <a:lnTo>
                    <a:pt x="601" y="1375"/>
                  </a:lnTo>
                  <a:lnTo>
                    <a:pt x="637" y="1345"/>
                  </a:lnTo>
                  <a:lnTo>
                    <a:pt x="672" y="1332"/>
                  </a:lnTo>
                  <a:lnTo>
                    <a:pt x="716" y="1266"/>
                  </a:lnTo>
                  <a:lnTo>
                    <a:pt x="738" y="1275"/>
                  </a:lnTo>
                  <a:lnTo>
                    <a:pt x="786" y="1231"/>
                  </a:lnTo>
                  <a:lnTo>
                    <a:pt x="803" y="1231"/>
                  </a:lnTo>
                  <a:lnTo>
                    <a:pt x="856" y="1183"/>
                  </a:lnTo>
                  <a:lnTo>
                    <a:pt x="900" y="1178"/>
                  </a:lnTo>
                  <a:lnTo>
                    <a:pt x="944" y="1178"/>
                  </a:lnTo>
                  <a:lnTo>
                    <a:pt x="988" y="1178"/>
                  </a:lnTo>
                  <a:lnTo>
                    <a:pt x="948" y="1112"/>
                  </a:lnTo>
                  <a:lnTo>
                    <a:pt x="940" y="1051"/>
                  </a:lnTo>
                  <a:lnTo>
                    <a:pt x="926" y="942"/>
                  </a:lnTo>
                  <a:lnTo>
                    <a:pt x="1006" y="942"/>
                  </a:lnTo>
                  <a:lnTo>
                    <a:pt x="1049" y="928"/>
                  </a:lnTo>
                  <a:lnTo>
                    <a:pt x="1023" y="963"/>
                  </a:lnTo>
                  <a:lnTo>
                    <a:pt x="1058" y="1003"/>
                  </a:lnTo>
                  <a:lnTo>
                    <a:pt x="1089" y="1038"/>
                  </a:lnTo>
                  <a:lnTo>
                    <a:pt x="1107" y="1064"/>
                  </a:lnTo>
                  <a:lnTo>
                    <a:pt x="1194" y="1051"/>
                  </a:lnTo>
                  <a:lnTo>
                    <a:pt x="1274" y="959"/>
                  </a:lnTo>
                  <a:lnTo>
                    <a:pt x="1339" y="920"/>
                  </a:lnTo>
                  <a:lnTo>
                    <a:pt x="1361" y="885"/>
                  </a:lnTo>
                  <a:lnTo>
                    <a:pt x="1410" y="850"/>
                  </a:lnTo>
                  <a:lnTo>
                    <a:pt x="1440" y="797"/>
                  </a:lnTo>
                  <a:lnTo>
                    <a:pt x="1480" y="810"/>
                  </a:lnTo>
                  <a:lnTo>
                    <a:pt x="1480" y="779"/>
                  </a:lnTo>
                  <a:lnTo>
                    <a:pt x="1502" y="766"/>
                  </a:lnTo>
                  <a:lnTo>
                    <a:pt x="1559" y="775"/>
                  </a:lnTo>
                  <a:lnTo>
                    <a:pt x="1656" y="854"/>
                  </a:lnTo>
                  <a:lnTo>
                    <a:pt x="1634" y="626"/>
                  </a:lnTo>
                  <a:lnTo>
                    <a:pt x="1550" y="731"/>
                  </a:lnTo>
                  <a:lnTo>
                    <a:pt x="1484" y="722"/>
                  </a:lnTo>
                  <a:lnTo>
                    <a:pt x="1471" y="661"/>
                  </a:lnTo>
                  <a:lnTo>
                    <a:pt x="1471" y="626"/>
                  </a:lnTo>
                  <a:lnTo>
                    <a:pt x="1440" y="604"/>
                  </a:lnTo>
                  <a:lnTo>
                    <a:pt x="1502" y="552"/>
                  </a:lnTo>
                  <a:lnTo>
                    <a:pt x="1524" y="517"/>
                  </a:lnTo>
                  <a:lnTo>
                    <a:pt x="1564" y="508"/>
                  </a:lnTo>
                  <a:lnTo>
                    <a:pt x="1590" y="503"/>
                  </a:lnTo>
                  <a:lnTo>
                    <a:pt x="1603" y="464"/>
                  </a:lnTo>
                  <a:lnTo>
                    <a:pt x="1634" y="460"/>
                  </a:lnTo>
                  <a:lnTo>
                    <a:pt x="1669" y="460"/>
                  </a:lnTo>
                  <a:lnTo>
                    <a:pt x="1603" y="398"/>
                  </a:lnTo>
                  <a:lnTo>
                    <a:pt x="1550" y="420"/>
                  </a:lnTo>
                  <a:lnTo>
                    <a:pt x="1515" y="420"/>
                  </a:lnTo>
                  <a:lnTo>
                    <a:pt x="1480" y="394"/>
                  </a:lnTo>
                  <a:lnTo>
                    <a:pt x="1480" y="429"/>
                  </a:lnTo>
                  <a:lnTo>
                    <a:pt x="1440" y="473"/>
                  </a:lnTo>
                  <a:lnTo>
                    <a:pt x="1405" y="534"/>
                  </a:lnTo>
                  <a:lnTo>
                    <a:pt x="1348" y="560"/>
                  </a:lnTo>
                  <a:lnTo>
                    <a:pt x="1326" y="560"/>
                  </a:lnTo>
                  <a:lnTo>
                    <a:pt x="1317" y="604"/>
                  </a:lnTo>
                  <a:lnTo>
                    <a:pt x="1317" y="626"/>
                  </a:lnTo>
                  <a:lnTo>
                    <a:pt x="1282" y="644"/>
                  </a:lnTo>
                  <a:lnTo>
                    <a:pt x="1317" y="722"/>
                  </a:lnTo>
                  <a:lnTo>
                    <a:pt x="1339" y="766"/>
                  </a:lnTo>
                  <a:lnTo>
                    <a:pt x="1300" y="819"/>
                  </a:lnTo>
                  <a:lnTo>
                    <a:pt x="1252" y="854"/>
                  </a:lnTo>
                  <a:lnTo>
                    <a:pt x="1238" y="920"/>
                  </a:lnTo>
                  <a:lnTo>
                    <a:pt x="1216" y="959"/>
                  </a:lnTo>
                  <a:lnTo>
                    <a:pt x="1186" y="959"/>
                  </a:lnTo>
                  <a:lnTo>
                    <a:pt x="1151" y="963"/>
                  </a:lnTo>
                  <a:lnTo>
                    <a:pt x="1107" y="985"/>
                  </a:lnTo>
                  <a:lnTo>
                    <a:pt x="1098" y="981"/>
                  </a:lnTo>
                  <a:lnTo>
                    <a:pt x="1098" y="942"/>
                  </a:lnTo>
                  <a:lnTo>
                    <a:pt x="1089" y="893"/>
                  </a:lnTo>
                  <a:lnTo>
                    <a:pt x="1058" y="893"/>
                  </a:lnTo>
                  <a:lnTo>
                    <a:pt x="1036" y="863"/>
                  </a:lnTo>
                  <a:lnTo>
                    <a:pt x="1049" y="819"/>
                  </a:lnTo>
                  <a:lnTo>
                    <a:pt x="1054" y="797"/>
                  </a:lnTo>
                  <a:lnTo>
                    <a:pt x="1049" y="779"/>
                  </a:lnTo>
                  <a:lnTo>
                    <a:pt x="1014" y="797"/>
                  </a:lnTo>
                  <a:lnTo>
                    <a:pt x="1006" y="797"/>
                  </a:lnTo>
                  <a:lnTo>
                    <a:pt x="988" y="784"/>
                  </a:lnTo>
                  <a:lnTo>
                    <a:pt x="979" y="779"/>
                  </a:lnTo>
                  <a:lnTo>
                    <a:pt x="940" y="801"/>
                  </a:lnTo>
                  <a:lnTo>
                    <a:pt x="913" y="845"/>
                  </a:lnTo>
                  <a:lnTo>
                    <a:pt x="878" y="867"/>
                  </a:lnTo>
                  <a:lnTo>
                    <a:pt x="812" y="863"/>
                  </a:lnTo>
                  <a:lnTo>
                    <a:pt x="760" y="854"/>
                  </a:lnTo>
                  <a:lnTo>
                    <a:pt x="738" y="832"/>
                  </a:lnTo>
                  <a:lnTo>
                    <a:pt x="738" y="801"/>
                  </a:lnTo>
                  <a:lnTo>
                    <a:pt x="746" y="779"/>
                  </a:lnTo>
                  <a:lnTo>
                    <a:pt x="773" y="766"/>
                  </a:lnTo>
                  <a:lnTo>
                    <a:pt x="803" y="736"/>
                  </a:lnTo>
                  <a:lnTo>
                    <a:pt x="746" y="753"/>
                  </a:lnTo>
                  <a:lnTo>
                    <a:pt x="738" y="714"/>
                  </a:lnTo>
                  <a:lnTo>
                    <a:pt x="738" y="692"/>
                  </a:lnTo>
                  <a:lnTo>
                    <a:pt x="803" y="692"/>
                  </a:lnTo>
                  <a:lnTo>
                    <a:pt x="847" y="683"/>
                  </a:lnTo>
                  <a:lnTo>
                    <a:pt x="817" y="670"/>
                  </a:lnTo>
                  <a:lnTo>
                    <a:pt x="755" y="674"/>
                  </a:lnTo>
                  <a:lnTo>
                    <a:pt x="755" y="630"/>
                  </a:lnTo>
                  <a:lnTo>
                    <a:pt x="782" y="604"/>
                  </a:lnTo>
                  <a:lnTo>
                    <a:pt x="834" y="582"/>
                  </a:lnTo>
                  <a:lnTo>
                    <a:pt x="856" y="552"/>
                  </a:lnTo>
                  <a:lnTo>
                    <a:pt x="878" y="538"/>
                  </a:lnTo>
                  <a:lnTo>
                    <a:pt x="922" y="534"/>
                  </a:lnTo>
                  <a:lnTo>
                    <a:pt x="966" y="538"/>
                  </a:lnTo>
                  <a:lnTo>
                    <a:pt x="988" y="552"/>
                  </a:lnTo>
                  <a:lnTo>
                    <a:pt x="1010" y="534"/>
                  </a:lnTo>
                  <a:lnTo>
                    <a:pt x="988" y="530"/>
                  </a:lnTo>
                  <a:lnTo>
                    <a:pt x="988" y="473"/>
                  </a:lnTo>
                  <a:lnTo>
                    <a:pt x="1067" y="425"/>
                  </a:lnTo>
                  <a:lnTo>
                    <a:pt x="1107" y="381"/>
                  </a:lnTo>
                  <a:lnTo>
                    <a:pt x="1142" y="376"/>
                  </a:lnTo>
                  <a:lnTo>
                    <a:pt x="1133" y="354"/>
                  </a:lnTo>
                  <a:lnTo>
                    <a:pt x="1173" y="311"/>
                  </a:lnTo>
                  <a:lnTo>
                    <a:pt x="1216" y="258"/>
                  </a:lnTo>
                  <a:lnTo>
                    <a:pt x="1260" y="223"/>
                  </a:lnTo>
                  <a:lnTo>
                    <a:pt x="1230" y="201"/>
                  </a:lnTo>
                  <a:lnTo>
                    <a:pt x="1331" y="140"/>
                  </a:lnTo>
                  <a:lnTo>
                    <a:pt x="1379" y="148"/>
                  </a:lnTo>
                  <a:lnTo>
                    <a:pt x="1361" y="113"/>
                  </a:lnTo>
                  <a:lnTo>
                    <a:pt x="1458" y="109"/>
                  </a:lnTo>
                  <a:lnTo>
                    <a:pt x="1629" y="8"/>
                  </a:lnTo>
                  <a:lnTo>
                    <a:pt x="1656" y="0"/>
                  </a:lnTo>
                  <a:lnTo>
                    <a:pt x="1621" y="70"/>
                  </a:lnTo>
                  <a:lnTo>
                    <a:pt x="1656" y="39"/>
                  </a:lnTo>
                  <a:lnTo>
                    <a:pt x="1704" y="21"/>
                  </a:lnTo>
                  <a:lnTo>
                    <a:pt x="1695" y="52"/>
                  </a:lnTo>
                  <a:lnTo>
                    <a:pt x="1827" y="17"/>
                  </a:lnTo>
                  <a:lnTo>
                    <a:pt x="1893" y="43"/>
                  </a:lnTo>
                  <a:lnTo>
                    <a:pt x="1805" y="83"/>
                  </a:lnTo>
                  <a:lnTo>
                    <a:pt x="1836" y="113"/>
                  </a:lnTo>
                  <a:lnTo>
                    <a:pt x="1963" y="109"/>
                  </a:lnTo>
                  <a:lnTo>
                    <a:pt x="2148" y="175"/>
                  </a:lnTo>
                  <a:lnTo>
                    <a:pt x="2139" y="232"/>
                  </a:lnTo>
                  <a:lnTo>
                    <a:pt x="2060" y="289"/>
                  </a:lnTo>
                  <a:lnTo>
                    <a:pt x="1950" y="324"/>
                  </a:lnTo>
                  <a:lnTo>
                    <a:pt x="1924" y="394"/>
                  </a:lnTo>
                  <a:lnTo>
                    <a:pt x="1928" y="460"/>
                  </a:lnTo>
                  <a:lnTo>
                    <a:pt x="1963" y="473"/>
                  </a:lnTo>
                  <a:lnTo>
                    <a:pt x="1968" y="508"/>
                  </a:lnTo>
                  <a:lnTo>
                    <a:pt x="1985" y="517"/>
                  </a:lnTo>
                  <a:lnTo>
                    <a:pt x="2012" y="530"/>
                  </a:lnTo>
                  <a:lnTo>
                    <a:pt x="2016" y="565"/>
                  </a:lnTo>
                  <a:lnTo>
                    <a:pt x="2056" y="613"/>
                  </a:lnTo>
                  <a:lnTo>
                    <a:pt x="2056" y="630"/>
                  </a:lnTo>
                  <a:lnTo>
                    <a:pt x="2095" y="630"/>
                  </a:lnTo>
                  <a:lnTo>
                    <a:pt x="2104" y="644"/>
                  </a:lnTo>
                  <a:lnTo>
                    <a:pt x="2139" y="661"/>
                  </a:lnTo>
                  <a:lnTo>
                    <a:pt x="2157" y="639"/>
                  </a:lnTo>
                  <a:lnTo>
                    <a:pt x="2174" y="604"/>
                  </a:lnTo>
                  <a:lnTo>
                    <a:pt x="2187" y="595"/>
                  </a:lnTo>
                  <a:lnTo>
                    <a:pt x="2218" y="600"/>
                  </a:lnTo>
                  <a:lnTo>
                    <a:pt x="2262" y="552"/>
                  </a:lnTo>
                  <a:lnTo>
                    <a:pt x="2262" y="521"/>
                  </a:lnTo>
                  <a:lnTo>
                    <a:pt x="2280" y="503"/>
                  </a:lnTo>
                  <a:lnTo>
                    <a:pt x="2284" y="473"/>
                  </a:lnTo>
                  <a:lnTo>
                    <a:pt x="2363" y="460"/>
                  </a:lnTo>
                  <a:lnTo>
                    <a:pt x="2420" y="442"/>
                  </a:lnTo>
                  <a:lnTo>
                    <a:pt x="2504" y="420"/>
                  </a:lnTo>
                  <a:lnTo>
                    <a:pt x="2609" y="429"/>
                  </a:lnTo>
                  <a:lnTo>
                    <a:pt x="2701" y="429"/>
                  </a:lnTo>
                  <a:lnTo>
                    <a:pt x="2864" y="429"/>
                  </a:lnTo>
                  <a:lnTo>
                    <a:pt x="2886" y="271"/>
                  </a:lnTo>
                  <a:lnTo>
                    <a:pt x="2983" y="280"/>
                  </a:lnTo>
                  <a:lnTo>
                    <a:pt x="3044" y="398"/>
                  </a:lnTo>
                  <a:lnTo>
                    <a:pt x="3057" y="293"/>
                  </a:lnTo>
                  <a:lnTo>
                    <a:pt x="3356" y="17"/>
                  </a:lnTo>
                  <a:lnTo>
                    <a:pt x="3466" y="17"/>
                  </a:lnTo>
                  <a:lnTo>
                    <a:pt x="3572" y="70"/>
                  </a:lnTo>
                  <a:lnTo>
                    <a:pt x="3708" y="65"/>
                  </a:lnTo>
                  <a:lnTo>
                    <a:pt x="3889" y="175"/>
                  </a:lnTo>
                  <a:lnTo>
                    <a:pt x="4104" y="223"/>
                  </a:lnTo>
                  <a:lnTo>
                    <a:pt x="4244" y="214"/>
                  </a:lnTo>
                  <a:lnTo>
                    <a:pt x="4447" y="280"/>
                  </a:lnTo>
                  <a:lnTo>
                    <a:pt x="4605" y="280"/>
                  </a:lnTo>
                  <a:lnTo>
                    <a:pt x="4684" y="232"/>
                  </a:lnTo>
                  <a:lnTo>
                    <a:pt x="4864" y="232"/>
                  </a:lnTo>
                  <a:lnTo>
                    <a:pt x="4956" y="284"/>
                  </a:lnTo>
                  <a:lnTo>
                    <a:pt x="5207" y="284"/>
                  </a:lnTo>
                  <a:lnTo>
                    <a:pt x="5409" y="376"/>
                  </a:lnTo>
                  <a:lnTo>
                    <a:pt x="5782" y="359"/>
                  </a:lnTo>
                  <a:lnTo>
                    <a:pt x="6384" y="398"/>
                  </a:lnTo>
                  <a:lnTo>
                    <a:pt x="6678" y="521"/>
                  </a:lnTo>
                  <a:lnTo>
                    <a:pt x="6920" y="600"/>
                  </a:lnTo>
                  <a:lnTo>
                    <a:pt x="7074" y="670"/>
                  </a:lnTo>
                  <a:lnTo>
                    <a:pt x="7030" y="683"/>
                  </a:lnTo>
                  <a:lnTo>
                    <a:pt x="6920" y="630"/>
                  </a:lnTo>
                  <a:lnTo>
                    <a:pt x="6670" y="613"/>
                  </a:lnTo>
                  <a:lnTo>
                    <a:pt x="6744" y="670"/>
                  </a:lnTo>
                  <a:lnTo>
                    <a:pt x="6854" y="692"/>
                  </a:lnTo>
                  <a:lnTo>
                    <a:pt x="6823" y="775"/>
                  </a:lnTo>
                  <a:lnTo>
                    <a:pt x="6700" y="832"/>
                  </a:lnTo>
                  <a:lnTo>
                    <a:pt x="6670" y="915"/>
                  </a:lnTo>
                  <a:lnTo>
                    <a:pt x="6823" y="985"/>
                  </a:lnTo>
                  <a:lnTo>
                    <a:pt x="6933" y="1095"/>
                  </a:lnTo>
                  <a:lnTo>
                    <a:pt x="6986" y="1235"/>
                  </a:lnTo>
                  <a:lnTo>
                    <a:pt x="6920" y="1253"/>
                  </a:lnTo>
                  <a:lnTo>
                    <a:pt x="6762" y="1204"/>
                  </a:lnTo>
                  <a:lnTo>
                    <a:pt x="6604" y="1099"/>
                  </a:lnTo>
                  <a:lnTo>
                    <a:pt x="6529" y="1038"/>
                  </a:lnTo>
                  <a:lnTo>
                    <a:pt x="6498" y="959"/>
                  </a:lnTo>
                  <a:lnTo>
                    <a:pt x="6454" y="850"/>
                  </a:lnTo>
                  <a:lnTo>
                    <a:pt x="6388" y="801"/>
                  </a:lnTo>
                  <a:lnTo>
                    <a:pt x="6340" y="801"/>
                  </a:lnTo>
                  <a:lnTo>
                    <a:pt x="6279" y="810"/>
                  </a:lnTo>
                  <a:lnTo>
                    <a:pt x="6344" y="898"/>
                  </a:lnTo>
                  <a:lnTo>
                    <a:pt x="6182" y="920"/>
                  </a:lnTo>
                  <a:lnTo>
                    <a:pt x="6112" y="867"/>
                  </a:lnTo>
                  <a:lnTo>
                    <a:pt x="5980" y="893"/>
                  </a:lnTo>
                  <a:lnTo>
                    <a:pt x="5874" y="963"/>
                  </a:lnTo>
                  <a:lnTo>
                    <a:pt x="5874" y="1007"/>
                  </a:lnTo>
                  <a:lnTo>
                    <a:pt x="5918" y="1069"/>
                  </a:lnTo>
                  <a:lnTo>
                    <a:pt x="6081" y="1095"/>
                  </a:lnTo>
                  <a:lnTo>
                    <a:pt x="6204" y="1174"/>
                  </a:lnTo>
                  <a:lnTo>
                    <a:pt x="6428" y="1375"/>
                  </a:lnTo>
                  <a:lnTo>
                    <a:pt x="6516" y="1524"/>
                  </a:lnTo>
                  <a:lnTo>
                    <a:pt x="6525" y="1673"/>
                  </a:lnTo>
                  <a:lnTo>
                    <a:pt x="6516" y="1787"/>
                  </a:lnTo>
                  <a:lnTo>
                    <a:pt x="6454" y="1787"/>
                  </a:lnTo>
                  <a:lnTo>
                    <a:pt x="6406" y="1752"/>
                  </a:lnTo>
                  <a:lnTo>
                    <a:pt x="6318" y="1805"/>
                  </a:lnTo>
                  <a:lnTo>
                    <a:pt x="6235" y="1857"/>
                  </a:lnTo>
                  <a:lnTo>
                    <a:pt x="6213" y="1949"/>
                  </a:lnTo>
                  <a:lnTo>
                    <a:pt x="6309" y="2046"/>
                  </a:lnTo>
                  <a:lnTo>
                    <a:pt x="6252" y="2134"/>
                  </a:lnTo>
                  <a:lnTo>
                    <a:pt x="6235" y="2279"/>
                  </a:lnTo>
                  <a:lnTo>
                    <a:pt x="6344" y="2371"/>
                  </a:lnTo>
                  <a:lnTo>
                    <a:pt x="6459" y="2389"/>
                  </a:lnTo>
                  <a:lnTo>
                    <a:pt x="6595" y="2481"/>
                  </a:lnTo>
                  <a:lnTo>
                    <a:pt x="6700" y="2621"/>
                  </a:lnTo>
                  <a:lnTo>
                    <a:pt x="6700" y="2809"/>
                  </a:lnTo>
                  <a:lnTo>
                    <a:pt x="6670" y="2897"/>
                  </a:lnTo>
                  <a:lnTo>
                    <a:pt x="6547" y="2971"/>
                  </a:lnTo>
                  <a:lnTo>
                    <a:pt x="6410" y="3015"/>
                  </a:lnTo>
                  <a:lnTo>
                    <a:pt x="6322" y="3072"/>
                  </a:lnTo>
                  <a:lnTo>
                    <a:pt x="6265" y="3041"/>
                  </a:lnTo>
                  <a:lnTo>
                    <a:pt x="6221" y="3072"/>
                  </a:lnTo>
                  <a:lnTo>
                    <a:pt x="6208" y="3217"/>
                  </a:lnTo>
                  <a:lnTo>
                    <a:pt x="6248" y="3304"/>
                  </a:lnTo>
                  <a:lnTo>
                    <a:pt x="6384" y="3392"/>
                  </a:lnTo>
                  <a:lnTo>
                    <a:pt x="6441" y="3497"/>
                  </a:lnTo>
                  <a:lnTo>
                    <a:pt x="6494" y="3554"/>
                  </a:lnTo>
                  <a:lnTo>
                    <a:pt x="6476" y="3651"/>
                  </a:lnTo>
                  <a:lnTo>
                    <a:pt x="6384" y="3729"/>
                  </a:lnTo>
                  <a:lnTo>
                    <a:pt x="6287" y="3729"/>
                  </a:lnTo>
                  <a:lnTo>
                    <a:pt x="6134" y="3620"/>
                  </a:lnTo>
                  <a:lnTo>
                    <a:pt x="6024" y="3567"/>
                  </a:lnTo>
                  <a:lnTo>
                    <a:pt x="5980" y="3545"/>
                  </a:lnTo>
                  <a:lnTo>
                    <a:pt x="5931" y="3611"/>
                  </a:lnTo>
                  <a:lnTo>
                    <a:pt x="5940" y="3703"/>
                  </a:lnTo>
                  <a:lnTo>
                    <a:pt x="5989" y="3773"/>
                  </a:lnTo>
                  <a:lnTo>
                    <a:pt x="6006" y="3883"/>
                  </a:lnTo>
                  <a:lnTo>
                    <a:pt x="6112" y="3922"/>
                  </a:lnTo>
                  <a:lnTo>
                    <a:pt x="6081" y="3975"/>
                  </a:lnTo>
                  <a:lnTo>
                    <a:pt x="6090" y="4062"/>
                  </a:lnTo>
                  <a:lnTo>
                    <a:pt x="6112" y="4146"/>
                  </a:lnTo>
                  <a:lnTo>
                    <a:pt x="6046" y="4141"/>
                  </a:lnTo>
                  <a:lnTo>
                    <a:pt x="5980" y="4040"/>
                  </a:lnTo>
                  <a:lnTo>
                    <a:pt x="5989" y="3944"/>
                  </a:lnTo>
                  <a:lnTo>
                    <a:pt x="5958" y="3900"/>
                  </a:lnTo>
                  <a:lnTo>
                    <a:pt x="5931" y="3791"/>
                  </a:lnTo>
                  <a:lnTo>
                    <a:pt x="5909" y="3760"/>
                  </a:lnTo>
                  <a:lnTo>
                    <a:pt x="5888" y="3598"/>
                  </a:lnTo>
                  <a:lnTo>
                    <a:pt x="5844" y="3497"/>
                  </a:lnTo>
                  <a:lnTo>
                    <a:pt x="5764" y="3396"/>
                  </a:lnTo>
                  <a:lnTo>
                    <a:pt x="5624" y="3353"/>
                  </a:lnTo>
                  <a:lnTo>
                    <a:pt x="5518" y="3274"/>
                  </a:lnTo>
                  <a:lnTo>
                    <a:pt x="5483" y="3208"/>
                  </a:lnTo>
                  <a:lnTo>
                    <a:pt x="5409" y="3133"/>
                  </a:lnTo>
                  <a:lnTo>
                    <a:pt x="5299" y="2967"/>
                  </a:lnTo>
                  <a:lnTo>
                    <a:pt x="5207" y="2980"/>
                  </a:lnTo>
                  <a:lnTo>
                    <a:pt x="5066" y="3059"/>
                  </a:lnTo>
                  <a:lnTo>
                    <a:pt x="5022" y="3129"/>
                  </a:lnTo>
                  <a:lnTo>
                    <a:pt x="4895" y="3252"/>
                  </a:lnTo>
                  <a:lnTo>
                    <a:pt x="4807" y="3379"/>
                  </a:lnTo>
                  <a:lnTo>
                    <a:pt x="4785" y="3427"/>
                  </a:lnTo>
                  <a:lnTo>
                    <a:pt x="4807" y="3576"/>
                  </a:lnTo>
                  <a:lnTo>
                    <a:pt x="4802" y="3725"/>
                  </a:lnTo>
                  <a:lnTo>
                    <a:pt x="4710" y="3830"/>
                  </a:lnTo>
                  <a:lnTo>
                    <a:pt x="4644" y="3835"/>
                  </a:lnTo>
                  <a:lnTo>
                    <a:pt x="4530" y="3620"/>
                  </a:lnTo>
                  <a:lnTo>
                    <a:pt x="4429" y="3471"/>
                  </a:lnTo>
                  <a:lnTo>
                    <a:pt x="4227" y="3186"/>
                  </a:lnTo>
                  <a:lnTo>
                    <a:pt x="4227" y="3072"/>
                  </a:lnTo>
                  <a:lnTo>
                    <a:pt x="4183" y="3028"/>
                  </a:lnTo>
                  <a:lnTo>
                    <a:pt x="4148" y="3098"/>
                  </a:lnTo>
                  <a:lnTo>
                    <a:pt x="3976" y="2936"/>
                  </a:lnTo>
                  <a:lnTo>
                    <a:pt x="3761" y="2809"/>
                  </a:lnTo>
                  <a:lnTo>
                    <a:pt x="3616" y="2840"/>
                  </a:lnTo>
                  <a:lnTo>
                    <a:pt x="3409" y="2818"/>
                  </a:lnTo>
                  <a:lnTo>
                    <a:pt x="3308" y="2730"/>
                  </a:lnTo>
                  <a:lnTo>
                    <a:pt x="3198" y="2748"/>
                  </a:lnTo>
                  <a:lnTo>
                    <a:pt x="3044" y="2713"/>
                  </a:lnTo>
                  <a:lnTo>
                    <a:pt x="2723" y="2406"/>
                  </a:lnTo>
                  <a:lnTo>
                    <a:pt x="2732" y="2529"/>
                  </a:lnTo>
                  <a:lnTo>
                    <a:pt x="2833" y="2700"/>
                  </a:lnTo>
                  <a:lnTo>
                    <a:pt x="2947" y="2818"/>
                  </a:lnTo>
                  <a:lnTo>
                    <a:pt x="3062" y="2884"/>
                  </a:lnTo>
                  <a:lnTo>
                    <a:pt x="3193" y="2840"/>
                  </a:lnTo>
                  <a:lnTo>
                    <a:pt x="3299" y="2840"/>
                  </a:lnTo>
                  <a:lnTo>
                    <a:pt x="3431" y="2949"/>
                  </a:lnTo>
                  <a:lnTo>
                    <a:pt x="3505" y="3033"/>
                  </a:lnTo>
                  <a:lnTo>
                    <a:pt x="3497" y="3081"/>
                  </a:lnTo>
                  <a:lnTo>
                    <a:pt x="3259" y="3317"/>
                  </a:lnTo>
                  <a:lnTo>
                    <a:pt x="3106" y="3414"/>
                  </a:lnTo>
                  <a:lnTo>
                    <a:pt x="2701" y="3589"/>
                  </a:lnTo>
                  <a:lnTo>
                    <a:pt x="2324" y="3028"/>
                  </a:lnTo>
                  <a:lnTo>
                    <a:pt x="2082" y="2651"/>
                  </a:lnTo>
                  <a:lnTo>
                    <a:pt x="1959" y="2472"/>
                  </a:lnTo>
                  <a:lnTo>
                    <a:pt x="2095" y="2393"/>
                  </a:lnTo>
                  <a:lnTo>
                    <a:pt x="2148" y="2231"/>
                  </a:lnTo>
                  <a:lnTo>
                    <a:pt x="2016" y="2187"/>
                  </a:lnTo>
                  <a:lnTo>
                    <a:pt x="1840" y="2209"/>
                  </a:lnTo>
                  <a:lnTo>
                    <a:pt x="1805" y="2191"/>
                  </a:lnTo>
                  <a:lnTo>
                    <a:pt x="1774" y="2191"/>
                  </a:lnTo>
                  <a:lnTo>
                    <a:pt x="1761" y="2191"/>
                  </a:lnTo>
                  <a:lnTo>
                    <a:pt x="1739" y="2191"/>
                  </a:lnTo>
                  <a:lnTo>
                    <a:pt x="1730" y="2165"/>
                  </a:lnTo>
                  <a:lnTo>
                    <a:pt x="1722" y="2134"/>
                  </a:lnTo>
                  <a:lnTo>
                    <a:pt x="1722" y="2091"/>
                  </a:lnTo>
                  <a:lnTo>
                    <a:pt x="1687" y="2055"/>
                  </a:lnTo>
                  <a:lnTo>
                    <a:pt x="1678" y="2028"/>
                  </a:lnTo>
                  <a:lnTo>
                    <a:pt x="1656" y="2024"/>
                  </a:lnTo>
                  <a:lnTo>
                    <a:pt x="1643" y="1993"/>
                  </a:lnTo>
                  <a:lnTo>
                    <a:pt x="1634" y="1963"/>
                  </a:lnTo>
                  <a:lnTo>
                    <a:pt x="1621" y="1941"/>
                  </a:lnTo>
                  <a:lnTo>
                    <a:pt x="1603" y="1923"/>
                  </a:lnTo>
                  <a:lnTo>
                    <a:pt x="1568" y="1923"/>
                  </a:lnTo>
                  <a:lnTo>
                    <a:pt x="1546" y="1923"/>
                  </a:lnTo>
                  <a:lnTo>
                    <a:pt x="1524" y="1923"/>
                  </a:lnTo>
                  <a:lnTo>
                    <a:pt x="1520" y="1958"/>
                  </a:lnTo>
                  <a:lnTo>
                    <a:pt x="1520" y="1993"/>
                  </a:lnTo>
                  <a:lnTo>
                    <a:pt x="1520" y="2033"/>
                  </a:lnTo>
                  <a:lnTo>
                    <a:pt x="1520" y="2068"/>
                  </a:lnTo>
                  <a:lnTo>
                    <a:pt x="1520" y="2099"/>
                  </a:lnTo>
                  <a:lnTo>
                    <a:pt x="1493" y="2113"/>
                  </a:lnTo>
                  <a:lnTo>
                    <a:pt x="1471" y="2134"/>
                  </a:lnTo>
                  <a:lnTo>
                    <a:pt x="1427" y="2099"/>
                  </a:lnTo>
                  <a:lnTo>
                    <a:pt x="1405" y="2046"/>
                  </a:lnTo>
                  <a:lnTo>
                    <a:pt x="1410" y="1984"/>
                  </a:lnTo>
                  <a:lnTo>
                    <a:pt x="1361" y="1897"/>
                  </a:lnTo>
                  <a:lnTo>
                    <a:pt x="1348" y="1853"/>
                  </a:lnTo>
                  <a:lnTo>
                    <a:pt x="1304" y="1814"/>
                  </a:lnTo>
                  <a:lnTo>
                    <a:pt x="1252" y="1783"/>
                  </a:lnTo>
                  <a:lnTo>
                    <a:pt x="1230" y="1739"/>
                  </a:lnTo>
                  <a:lnTo>
                    <a:pt x="1208" y="1708"/>
                  </a:lnTo>
                  <a:lnTo>
                    <a:pt x="1164" y="1700"/>
                  </a:lnTo>
                  <a:lnTo>
                    <a:pt x="1151" y="1686"/>
                  </a:lnTo>
                  <a:lnTo>
                    <a:pt x="1115" y="1686"/>
                  </a:lnTo>
                  <a:lnTo>
                    <a:pt x="1089" y="1713"/>
                  </a:lnTo>
                  <a:lnTo>
                    <a:pt x="1067" y="1739"/>
                  </a:lnTo>
                  <a:lnTo>
                    <a:pt x="1124" y="1778"/>
                  </a:lnTo>
                  <a:lnTo>
                    <a:pt x="1159" y="1814"/>
                  </a:lnTo>
                  <a:lnTo>
                    <a:pt x="1216" y="1875"/>
                  </a:lnTo>
                  <a:lnTo>
                    <a:pt x="1238" y="1897"/>
                  </a:lnTo>
                  <a:lnTo>
                    <a:pt x="1282" y="1923"/>
                  </a:lnTo>
                  <a:lnTo>
                    <a:pt x="1317" y="1963"/>
                  </a:lnTo>
                  <a:lnTo>
                    <a:pt x="1274" y="2015"/>
                  </a:lnTo>
                  <a:lnTo>
                    <a:pt x="1269" y="1993"/>
                  </a:lnTo>
                  <a:lnTo>
                    <a:pt x="1269" y="1963"/>
                  </a:lnTo>
                  <a:lnTo>
                    <a:pt x="1252" y="2028"/>
                  </a:lnTo>
                  <a:lnTo>
                    <a:pt x="1252" y="2077"/>
                  </a:lnTo>
                  <a:lnTo>
                    <a:pt x="1208" y="2091"/>
                  </a:lnTo>
                  <a:lnTo>
                    <a:pt x="1225" y="2028"/>
                  </a:lnTo>
                  <a:lnTo>
                    <a:pt x="1216" y="1993"/>
                  </a:lnTo>
                  <a:lnTo>
                    <a:pt x="1173" y="1967"/>
                  </a:lnTo>
                  <a:lnTo>
                    <a:pt x="1151" y="1958"/>
                  </a:lnTo>
                  <a:lnTo>
                    <a:pt x="1133" y="1936"/>
                  </a:lnTo>
                  <a:lnTo>
                    <a:pt x="1089" y="1919"/>
                  </a:lnTo>
                  <a:lnTo>
                    <a:pt x="1067" y="1892"/>
                  </a:lnTo>
                  <a:lnTo>
                    <a:pt x="1036" y="1857"/>
                  </a:lnTo>
                  <a:lnTo>
                    <a:pt x="1006" y="1844"/>
                  </a:lnTo>
                  <a:lnTo>
                    <a:pt x="988" y="1796"/>
                  </a:lnTo>
                  <a:lnTo>
                    <a:pt x="988" y="1765"/>
                  </a:lnTo>
                  <a:lnTo>
                    <a:pt x="948" y="1757"/>
                  </a:lnTo>
                  <a:lnTo>
                    <a:pt x="926" y="1735"/>
                  </a:lnTo>
                  <a:lnTo>
                    <a:pt x="878" y="1735"/>
                  </a:lnTo>
                  <a:lnTo>
                    <a:pt x="830" y="1739"/>
                  </a:lnTo>
                  <a:lnTo>
                    <a:pt x="782" y="1735"/>
                  </a:lnTo>
                  <a:lnTo>
                    <a:pt x="694" y="1739"/>
                  </a:lnTo>
                  <a:lnTo>
                    <a:pt x="628" y="1752"/>
                  </a:lnTo>
                  <a:lnTo>
                    <a:pt x="606" y="1765"/>
                  </a:lnTo>
                  <a:lnTo>
                    <a:pt x="601" y="1796"/>
                  </a:lnTo>
                  <a:lnTo>
                    <a:pt x="601" y="1849"/>
                  </a:lnTo>
                  <a:lnTo>
                    <a:pt x="566" y="1888"/>
                  </a:lnTo>
                  <a:lnTo>
                    <a:pt x="535" y="1906"/>
                  </a:lnTo>
                  <a:lnTo>
                    <a:pt x="522" y="1923"/>
                  </a:lnTo>
                  <a:lnTo>
                    <a:pt x="500" y="1958"/>
                  </a:lnTo>
                  <a:lnTo>
                    <a:pt x="492" y="1984"/>
                  </a:lnTo>
                  <a:lnTo>
                    <a:pt x="509" y="2006"/>
                  </a:lnTo>
                  <a:lnTo>
                    <a:pt x="509" y="2046"/>
                  </a:lnTo>
                  <a:lnTo>
                    <a:pt x="500" y="2059"/>
                  </a:lnTo>
                  <a:lnTo>
                    <a:pt x="492" y="2091"/>
                  </a:lnTo>
                  <a:lnTo>
                    <a:pt x="456" y="2134"/>
                  </a:lnTo>
                  <a:lnTo>
                    <a:pt x="434" y="2121"/>
                  </a:lnTo>
                  <a:lnTo>
                    <a:pt x="412" y="2126"/>
                  </a:lnTo>
                  <a:lnTo>
                    <a:pt x="399" y="2143"/>
                  </a:lnTo>
                  <a:lnTo>
                    <a:pt x="355" y="2148"/>
                  </a:lnTo>
                  <a:lnTo>
                    <a:pt x="316" y="2187"/>
                  </a:lnTo>
                  <a:lnTo>
                    <a:pt x="272" y="2191"/>
                  </a:lnTo>
                  <a:lnTo>
                    <a:pt x="237" y="2191"/>
                  </a:lnTo>
                  <a:lnTo>
                    <a:pt x="202" y="2191"/>
                  </a:lnTo>
                  <a:lnTo>
                    <a:pt x="118" y="2209"/>
                  </a:lnTo>
                  <a:lnTo>
                    <a:pt x="74" y="2209"/>
                  </a:lnTo>
                  <a:lnTo>
                    <a:pt x="57" y="2169"/>
                  </a:lnTo>
                  <a:lnTo>
                    <a:pt x="35" y="2113"/>
                  </a:lnTo>
                  <a:lnTo>
                    <a:pt x="26" y="2055"/>
                  </a:lnTo>
                  <a:lnTo>
                    <a:pt x="21" y="2006"/>
                  </a:lnTo>
                  <a:lnTo>
                    <a:pt x="21" y="1941"/>
                  </a:lnTo>
                  <a:lnTo>
                    <a:pt x="0" y="18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4417920" y="4160880"/>
              <a:ext cx="25920" cy="24120"/>
            </a:xfrm>
            <a:custGeom>
              <a:avLst/>
              <a:gdLst/>
              <a:ahLst/>
              <a:rect l="0" t="0" r="r" b="b"/>
              <a:pathLst>
                <a:path w="72" h="67">
                  <a:moveTo>
                    <a:pt x="72" y="3"/>
                  </a:moveTo>
                  <a:lnTo>
                    <a:pt x="72" y="63"/>
                  </a:lnTo>
                  <a:lnTo>
                    <a:pt x="49" y="67"/>
                  </a:lnTo>
                  <a:lnTo>
                    <a:pt x="0" y="15"/>
                  </a:lnTo>
                  <a:lnTo>
                    <a:pt x="23" y="0"/>
                  </a:lnTo>
                  <a:lnTo>
                    <a:pt x="72" y="3"/>
                  </a:lnTo>
                  <a:close/>
                </a:path>
              </a:pathLst>
            </a:custGeom>
            <a:solidFill>
              <a:srgbClr val="008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75" name=""/>
            <p:cNvSpPr/>
            <p:nvPr/>
          </p:nvSpPr>
          <p:spPr>
            <a:xfrm>
              <a:off x="4354560" y="4102200"/>
              <a:ext cx="19440" cy="41760"/>
            </a:xfrm>
            <a:custGeom>
              <a:avLst/>
              <a:gdLst/>
              <a:ahLst/>
              <a:rect l="0" t="0" r="r" b="b"/>
              <a:pathLst>
                <a:path w="54" h="116">
                  <a:moveTo>
                    <a:pt x="54" y="0"/>
                  </a:moveTo>
                  <a:lnTo>
                    <a:pt x="0" y="25"/>
                  </a:lnTo>
                  <a:lnTo>
                    <a:pt x="5" y="116"/>
                  </a:lnTo>
                  <a:lnTo>
                    <a:pt x="39" y="109"/>
                  </a:lnTo>
                  <a:lnTo>
                    <a:pt x="54" y="0"/>
                  </a:lnTo>
                  <a:close/>
                </a:path>
              </a:pathLst>
            </a:custGeom>
            <a:solidFill>
              <a:srgbClr val="008000"/>
            </a:solidFill>
            <a:ln w="0">
              <a:noFill/>
            </a:ln>
          </p:spPr>
          <p:txBody>
            <a:bodyPr lIns="90000" rIns="90000" tIns="-3240" bIns="-3240" anchor="t">
              <a:noAutofit/>
            </a:bodyPr>
            <a:p>
              <a:endParaRPr b="0" lang="en-US" sz="1800" spc="-1" strike="noStrike">
                <a:solidFill>
                  <a:srgbClr val="000000"/>
                </a:solidFill>
                <a:latin typeface="Arial"/>
              </a:endParaRPr>
            </a:p>
          </p:txBody>
        </p:sp>
      </p:grpSp>
      <p:sp>
        <p:nvSpPr>
          <p:cNvPr id="76" name=""/>
          <p:cNvSpPr/>
          <p:nvPr/>
        </p:nvSpPr>
        <p:spPr>
          <a:xfrm flipH="1">
            <a:off x="6070680" y="3147840"/>
            <a:ext cx="666720" cy="95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 name=""/>
          <p:cNvSpPr/>
          <p:nvPr/>
        </p:nvSpPr>
        <p:spPr>
          <a:xfrm flipH="1">
            <a:off x="6699240" y="3643200"/>
            <a:ext cx="781200" cy="43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 name=""/>
          <p:cNvSpPr/>
          <p:nvPr/>
        </p:nvSpPr>
        <p:spPr>
          <a:xfrm flipV="1">
            <a:off x="5975280" y="4633920"/>
            <a:ext cx="152640" cy="99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 name=""/>
          <p:cNvSpPr/>
          <p:nvPr/>
        </p:nvSpPr>
        <p:spPr>
          <a:xfrm flipH="1">
            <a:off x="7480440" y="4995720"/>
            <a:ext cx="342720" cy="2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 name=""/>
          <p:cNvSpPr/>
          <p:nvPr/>
        </p:nvSpPr>
        <p:spPr>
          <a:xfrm flipV="1">
            <a:off x="2050920" y="4805280"/>
            <a:ext cx="1314720" cy="57240"/>
          </a:xfrm>
          <a:prstGeom prst="line">
            <a:avLst/>
          </a:prstGeom>
          <a:ln w="12600">
            <a:solidFill>
              <a:srgbClr val="ffffff"/>
            </a:solidFill>
            <a:round/>
            <a:tailEnd len="med" type="triangle" w="med"/>
          </a:ln>
        </p:spPr>
        <p:style>
          <a:lnRef idx="0"/>
          <a:fillRef idx="0"/>
          <a:effectRef idx="0"/>
          <a:fontRef idx="minor"/>
        </p:style>
        <p:txBody>
          <a:bodyPr lIns="96120" rIns="96120" tIns="6120" bIns="6120" anchor="t">
            <a:noAutofit/>
          </a:bodyPr>
          <a:p>
            <a:endParaRPr b="0" lang="en-US" sz="1800" spc="-1" strike="noStrike">
              <a:solidFill>
                <a:srgbClr val="ffffff"/>
              </a:solidFill>
              <a:latin typeface="Arial"/>
            </a:endParaRPr>
          </a:p>
        </p:txBody>
      </p:sp>
      <p:sp>
        <p:nvSpPr>
          <p:cNvPr id="81" name=""/>
          <p:cNvSpPr/>
          <p:nvPr/>
        </p:nvSpPr>
        <p:spPr>
          <a:xfrm flipV="1">
            <a:off x="1994040" y="5281560"/>
            <a:ext cx="97128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2" name=""/>
          <p:cNvSpPr txBox="1"/>
          <p:nvPr/>
        </p:nvSpPr>
        <p:spPr>
          <a:xfrm>
            <a:off x="320760" y="388620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83" name=""/>
          <p:cNvSpPr txBox="1"/>
          <p:nvPr/>
        </p:nvSpPr>
        <p:spPr>
          <a:xfrm>
            <a:off x="682560" y="4686120"/>
            <a:ext cx="1276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ortuguese</a:t>
            </a:r>
            <a:endParaRPr b="0" lang="en-US" sz="1800" spc="-1" strike="noStrike">
              <a:solidFill>
                <a:srgbClr val="ffffff"/>
              </a:solidFill>
              <a:latin typeface="Arial"/>
            </a:endParaRPr>
          </a:p>
        </p:txBody>
      </p:sp>
      <p:sp>
        <p:nvSpPr>
          <p:cNvPr id="84" name=""/>
          <p:cNvSpPr txBox="1"/>
          <p:nvPr/>
        </p:nvSpPr>
        <p:spPr>
          <a:xfrm>
            <a:off x="816120" y="544824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panish</a:t>
            </a:r>
            <a:endParaRPr b="0" lang="en-US" sz="1800" spc="-1" strike="noStrike">
              <a:solidFill>
                <a:srgbClr val="ffffff"/>
              </a:solidFill>
              <a:latin typeface="Arial"/>
            </a:endParaRPr>
          </a:p>
        </p:txBody>
      </p:sp>
      <p:sp>
        <p:nvSpPr>
          <p:cNvPr id="85" name=""/>
          <p:cNvSpPr txBox="1"/>
          <p:nvPr/>
        </p:nvSpPr>
        <p:spPr>
          <a:xfrm>
            <a:off x="6759720" y="278136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hinese</a:t>
            </a:r>
            <a:endParaRPr b="0" lang="en-US" sz="1800" spc="-1" strike="noStrike">
              <a:solidFill>
                <a:srgbClr val="ffffff"/>
              </a:solidFill>
              <a:latin typeface="Arial"/>
            </a:endParaRPr>
          </a:p>
        </p:txBody>
      </p:sp>
      <p:sp>
        <p:nvSpPr>
          <p:cNvPr id="86" name=""/>
          <p:cNvSpPr txBox="1"/>
          <p:nvPr/>
        </p:nvSpPr>
        <p:spPr>
          <a:xfrm>
            <a:off x="7578720" y="3543120"/>
            <a:ext cx="1073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Japanese</a:t>
            </a:r>
            <a:endParaRPr b="0" lang="en-US" sz="1800" spc="-1" strike="noStrike">
              <a:solidFill>
                <a:srgbClr val="ffffff"/>
              </a:solidFill>
              <a:latin typeface="Arial"/>
            </a:endParaRPr>
          </a:p>
        </p:txBody>
      </p:sp>
      <p:sp>
        <p:nvSpPr>
          <p:cNvPr id="87" name=""/>
          <p:cNvSpPr txBox="1"/>
          <p:nvPr/>
        </p:nvSpPr>
        <p:spPr>
          <a:xfrm>
            <a:off x="7521480" y="40575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Korean</a:t>
            </a:r>
            <a:endParaRPr b="0" lang="en-US" sz="1800" spc="-1" strike="noStrike">
              <a:solidFill>
                <a:srgbClr val="ffffff"/>
              </a:solidFill>
              <a:latin typeface="Arial"/>
            </a:endParaRPr>
          </a:p>
        </p:txBody>
      </p:sp>
      <p:sp>
        <p:nvSpPr>
          <p:cNvPr id="88" name=""/>
          <p:cNvSpPr/>
          <p:nvPr/>
        </p:nvSpPr>
        <p:spPr>
          <a:xfrm flipH="1">
            <a:off x="6508800" y="4233960"/>
            <a:ext cx="1009440" cy="19080"/>
          </a:xfrm>
          <a:prstGeom prst="line">
            <a:avLst/>
          </a:prstGeom>
          <a:ln w="12600">
            <a:solidFill>
              <a:srgbClr val="ffffff"/>
            </a:solidFill>
            <a:round/>
            <a:tailEnd len="med" type="triangle" w="me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89" name=""/>
          <p:cNvSpPr txBox="1"/>
          <p:nvPr/>
        </p:nvSpPr>
        <p:spPr>
          <a:xfrm>
            <a:off x="5559480" y="565776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hai</a:t>
            </a:r>
            <a:endParaRPr b="0" lang="en-US" sz="1800" spc="-1" strike="noStrike">
              <a:solidFill>
                <a:srgbClr val="ffffff"/>
              </a:solidFill>
              <a:latin typeface="Arial"/>
            </a:endParaRPr>
          </a:p>
        </p:txBody>
      </p:sp>
      <p:sp>
        <p:nvSpPr>
          <p:cNvPr id="90" name=""/>
          <p:cNvSpPr txBox="1"/>
          <p:nvPr/>
        </p:nvSpPr>
        <p:spPr>
          <a:xfrm>
            <a:off x="7902720" y="480060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91" name=""/>
          <p:cNvSpPr/>
          <p:nvPr/>
        </p:nvSpPr>
        <p:spPr>
          <a:xfrm flipH="1">
            <a:off x="5451480" y="2505240"/>
            <a:ext cx="880920" cy="1323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 name=""/>
          <p:cNvSpPr txBox="1"/>
          <p:nvPr/>
        </p:nvSpPr>
        <p:spPr>
          <a:xfrm>
            <a:off x="6354720" y="215748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ussian</a:t>
            </a:r>
            <a:endParaRPr b="0" lang="en-US" sz="1800" spc="-1" strike="noStrike">
              <a:solidFill>
                <a:srgbClr val="ffffff"/>
              </a:solidFill>
              <a:latin typeface="Arial"/>
            </a:endParaRPr>
          </a:p>
        </p:txBody>
      </p:sp>
      <p:sp>
        <p:nvSpPr>
          <p:cNvPr id="93" name=""/>
          <p:cNvSpPr/>
          <p:nvPr/>
        </p:nvSpPr>
        <p:spPr>
          <a:xfrm>
            <a:off x="3784680" y="2919240"/>
            <a:ext cx="609480" cy="99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 name=""/>
          <p:cNvSpPr txBox="1"/>
          <p:nvPr/>
        </p:nvSpPr>
        <p:spPr>
          <a:xfrm>
            <a:off x="3444840" y="546732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ebrew</a:t>
            </a:r>
            <a:endParaRPr b="0" lang="en-US" sz="1800" spc="-1" strike="noStrike">
              <a:solidFill>
                <a:srgbClr val="ffffff"/>
              </a:solidFill>
              <a:latin typeface="Arial"/>
            </a:endParaRPr>
          </a:p>
        </p:txBody>
      </p:sp>
      <p:sp>
        <p:nvSpPr>
          <p:cNvPr id="95" name=""/>
          <p:cNvSpPr txBox="1"/>
          <p:nvPr/>
        </p:nvSpPr>
        <p:spPr>
          <a:xfrm>
            <a:off x="5211720" y="4743360"/>
            <a:ext cx="6922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arsi</a:t>
            </a:r>
            <a:endParaRPr b="0" lang="en-US" sz="1800" spc="-1" strike="noStrike">
              <a:solidFill>
                <a:srgbClr val="ffffff"/>
              </a:solidFill>
              <a:latin typeface="Arial"/>
            </a:endParaRPr>
          </a:p>
        </p:txBody>
      </p:sp>
      <p:sp>
        <p:nvSpPr>
          <p:cNvPr id="96" name=""/>
          <p:cNvSpPr txBox="1"/>
          <p:nvPr/>
        </p:nvSpPr>
        <p:spPr>
          <a:xfrm>
            <a:off x="5025960" y="5353200"/>
            <a:ext cx="857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rabic</a:t>
            </a:r>
            <a:endParaRPr b="0" lang="en-US" sz="1800" spc="-1" strike="noStrike">
              <a:solidFill>
                <a:srgbClr val="ffffff"/>
              </a:solidFill>
              <a:latin typeface="Arial"/>
            </a:endParaRPr>
          </a:p>
        </p:txBody>
      </p:sp>
      <p:sp>
        <p:nvSpPr>
          <p:cNvPr id="97" name=""/>
          <p:cNvSpPr txBox="1"/>
          <p:nvPr/>
        </p:nvSpPr>
        <p:spPr>
          <a:xfrm>
            <a:off x="415800" y="3486240"/>
            <a:ext cx="8827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rench</a:t>
            </a:r>
            <a:endParaRPr b="0" lang="en-US" sz="1800" spc="-1" strike="noStrike">
              <a:solidFill>
                <a:srgbClr val="ffffff"/>
              </a:solidFill>
              <a:latin typeface="Arial"/>
            </a:endParaRPr>
          </a:p>
        </p:txBody>
      </p:sp>
      <p:sp>
        <p:nvSpPr>
          <p:cNvPr id="98" name=""/>
          <p:cNvSpPr/>
          <p:nvPr/>
        </p:nvSpPr>
        <p:spPr>
          <a:xfrm>
            <a:off x="1612800" y="3719520"/>
            <a:ext cx="1181160" cy="954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 name=""/>
          <p:cNvSpPr/>
          <p:nvPr/>
        </p:nvSpPr>
        <p:spPr>
          <a:xfrm flipH="1" flipV="1">
            <a:off x="6413400" y="5091120"/>
            <a:ext cx="114480" cy="62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txBox="1"/>
          <p:nvPr/>
        </p:nvSpPr>
        <p:spPr>
          <a:xfrm>
            <a:off x="6149880" y="5943600"/>
            <a:ext cx="12636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ndonesian</a:t>
            </a:r>
            <a:endParaRPr b="0" lang="en-US" sz="1800" spc="-1" strike="noStrike">
              <a:solidFill>
                <a:srgbClr val="ffffff"/>
              </a:solidFill>
              <a:latin typeface="Arial"/>
            </a:endParaRPr>
          </a:p>
        </p:txBody>
      </p:sp>
      <p:sp>
        <p:nvSpPr>
          <p:cNvPr id="101" name=""/>
          <p:cNvSpPr/>
          <p:nvPr/>
        </p:nvSpPr>
        <p:spPr>
          <a:xfrm flipH="1" flipV="1">
            <a:off x="5175360" y="4309920"/>
            <a:ext cx="304560" cy="41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flipH="1">
            <a:off x="4579920" y="3157560"/>
            <a:ext cx="30492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 name=""/>
          <p:cNvSpPr txBox="1"/>
          <p:nvPr/>
        </p:nvSpPr>
        <p:spPr>
          <a:xfrm>
            <a:off x="4842000" y="295272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zech</a:t>
            </a:r>
            <a:endParaRPr b="0" lang="en-US" sz="1800" spc="-1" strike="noStrike">
              <a:solidFill>
                <a:srgbClr val="ffffff"/>
              </a:solidFill>
              <a:latin typeface="Arial"/>
            </a:endParaRPr>
          </a:p>
        </p:txBody>
      </p:sp>
      <p:sp>
        <p:nvSpPr>
          <p:cNvPr id="104" name=""/>
          <p:cNvSpPr txBox="1"/>
          <p:nvPr/>
        </p:nvSpPr>
        <p:spPr>
          <a:xfrm>
            <a:off x="3594240" y="2004840"/>
            <a:ext cx="8701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anish</a:t>
            </a:r>
            <a:endParaRPr b="0" lang="en-US" sz="1800" spc="-1" strike="noStrike">
              <a:solidFill>
                <a:srgbClr val="ffffff"/>
              </a:solidFill>
              <a:latin typeface="Arial"/>
            </a:endParaRPr>
          </a:p>
        </p:txBody>
      </p:sp>
      <p:sp>
        <p:nvSpPr>
          <p:cNvPr id="105" name=""/>
          <p:cNvSpPr txBox="1"/>
          <p:nvPr/>
        </p:nvSpPr>
        <p:spPr>
          <a:xfrm>
            <a:off x="3689280" y="5781600"/>
            <a:ext cx="9716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urkish</a:t>
            </a:r>
            <a:endParaRPr b="0" lang="en-US" sz="1800" spc="-1" strike="noStrike">
              <a:solidFill>
                <a:srgbClr val="ffffff"/>
              </a:solidFill>
              <a:latin typeface="Arial"/>
            </a:endParaRPr>
          </a:p>
        </p:txBody>
      </p:sp>
      <p:sp>
        <p:nvSpPr>
          <p:cNvPr id="106" name=""/>
          <p:cNvSpPr txBox="1"/>
          <p:nvPr/>
        </p:nvSpPr>
        <p:spPr>
          <a:xfrm>
            <a:off x="3122640" y="2486160"/>
            <a:ext cx="9968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erman</a:t>
            </a:r>
            <a:endParaRPr b="0" lang="en-US" sz="1800" spc="-1" strike="noStrike">
              <a:solidFill>
                <a:srgbClr val="ffffff"/>
              </a:solidFill>
              <a:latin typeface="Arial"/>
            </a:endParaRPr>
          </a:p>
        </p:txBody>
      </p:sp>
      <p:sp>
        <p:nvSpPr>
          <p:cNvPr id="107" name=""/>
          <p:cNvSpPr txBox="1"/>
          <p:nvPr/>
        </p:nvSpPr>
        <p:spPr>
          <a:xfrm>
            <a:off x="2927520" y="223344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utch</a:t>
            </a:r>
            <a:endParaRPr b="0" lang="en-US" sz="1800" spc="-1" strike="noStrike">
              <a:solidFill>
                <a:srgbClr val="ffffff"/>
              </a:solidFill>
              <a:latin typeface="Arial"/>
            </a:endParaRPr>
          </a:p>
        </p:txBody>
      </p:sp>
      <p:sp>
        <p:nvSpPr>
          <p:cNvPr id="108" name=""/>
          <p:cNvSpPr txBox="1"/>
          <p:nvPr/>
        </p:nvSpPr>
        <p:spPr>
          <a:xfrm>
            <a:off x="4608360" y="17193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innish</a:t>
            </a:r>
            <a:endParaRPr b="0" lang="en-US" sz="1800" spc="-1" strike="noStrike">
              <a:solidFill>
                <a:srgbClr val="ffffff"/>
              </a:solidFill>
              <a:latin typeface="Arial"/>
            </a:endParaRPr>
          </a:p>
        </p:txBody>
      </p:sp>
      <p:sp>
        <p:nvSpPr>
          <p:cNvPr id="109" name=""/>
          <p:cNvSpPr txBox="1"/>
          <p:nvPr/>
        </p:nvSpPr>
        <p:spPr>
          <a:xfrm>
            <a:off x="4836960" y="236232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ungarian</a:t>
            </a:r>
            <a:endParaRPr b="0" lang="en-US" sz="1800" spc="-1" strike="noStrike">
              <a:solidFill>
                <a:srgbClr val="ffffff"/>
              </a:solidFill>
              <a:latin typeface="Arial"/>
            </a:endParaRPr>
          </a:p>
        </p:txBody>
      </p:sp>
      <p:sp>
        <p:nvSpPr>
          <p:cNvPr id="110" name=""/>
          <p:cNvSpPr txBox="1"/>
          <p:nvPr/>
        </p:nvSpPr>
        <p:spPr>
          <a:xfrm>
            <a:off x="3241800" y="175248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Norwegian</a:t>
            </a:r>
            <a:endParaRPr b="0" lang="en-US" sz="1800" spc="-1" strike="noStrike">
              <a:solidFill>
                <a:srgbClr val="ffffff"/>
              </a:solidFill>
              <a:latin typeface="Arial"/>
            </a:endParaRPr>
          </a:p>
        </p:txBody>
      </p:sp>
      <p:sp>
        <p:nvSpPr>
          <p:cNvPr id="111" name=""/>
          <p:cNvSpPr txBox="1"/>
          <p:nvPr/>
        </p:nvSpPr>
        <p:spPr>
          <a:xfrm>
            <a:off x="4836960" y="266220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olish</a:t>
            </a:r>
            <a:endParaRPr b="0" lang="en-US" sz="1800" spc="-1" strike="noStrike">
              <a:solidFill>
                <a:srgbClr val="ffffff"/>
              </a:solidFill>
              <a:latin typeface="Arial"/>
            </a:endParaRPr>
          </a:p>
        </p:txBody>
      </p:sp>
      <p:sp>
        <p:nvSpPr>
          <p:cNvPr id="112" name=""/>
          <p:cNvSpPr txBox="1"/>
          <p:nvPr/>
        </p:nvSpPr>
        <p:spPr>
          <a:xfrm>
            <a:off x="2031840" y="2628720"/>
            <a:ext cx="8319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talian</a:t>
            </a:r>
            <a:endParaRPr b="0" lang="en-US" sz="1800" spc="-1" strike="noStrike">
              <a:solidFill>
                <a:srgbClr val="ffffff"/>
              </a:solidFill>
              <a:latin typeface="Arial"/>
            </a:endParaRPr>
          </a:p>
        </p:txBody>
      </p:sp>
      <p:sp>
        <p:nvSpPr>
          <p:cNvPr id="113" name=""/>
          <p:cNvSpPr txBox="1"/>
          <p:nvPr/>
        </p:nvSpPr>
        <p:spPr>
          <a:xfrm>
            <a:off x="1922400" y="285264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atalan</a:t>
            </a:r>
            <a:endParaRPr b="0" lang="en-US" sz="1800" spc="-1" strike="noStrike">
              <a:solidFill>
                <a:srgbClr val="ffffff"/>
              </a:solidFill>
              <a:latin typeface="Arial"/>
            </a:endParaRPr>
          </a:p>
        </p:txBody>
      </p:sp>
      <p:sp>
        <p:nvSpPr>
          <p:cNvPr id="114" name=""/>
          <p:cNvSpPr txBox="1"/>
          <p:nvPr/>
        </p:nvSpPr>
        <p:spPr>
          <a:xfrm>
            <a:off x="4503600" y="2023920"/>
            <a:ext cx="984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wedish</a:t>
            </a:r>
            <a:endParaRPr b="0" lang="en-US" sz="1800" spc="-1" strike="noStrike">
              <a:solidFill>
                <a:srgbClr val="ffffff"/>
              </a:solidFill>
              <a:latin typeface="Arial"/>
            </a:endParaRPr>
          </a:p>
        </p:txBody>
      </p:sp>
      <p:sp>
        <p:nvSpPr>
          <p:cNvPr id="115" name=""/>
          <p:cNvSpPr txBox="1"/>
          <p:nvPr/>
        </p:nvSpPr>
        <p:spPr>
          <a:xfrm>
            <a:off x="2978280" y="5781600"/>
            <a:ext cx="7938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reek</a:t>
            </a:r>
            <a:endParaRPr b="0" lang="en-US" sz="1800" spc="-1" strike="noStrike">
              <a:solidFill>
                <a:srgbClr val="ffffff"/>
              </a:solidFill>
              <a:latin typeface="Arial"/>
            </a:endParaRPr>
          </a:p>
        </p:txBody>
      </p:sp>
      <p:sp>
        <p:nvSpPr>
          <p:cNvPr id="116" name=""/>
          <p:cNvSpPr/>
          <p:nvPr/>
        </p:nvSpPr>
        <p:spPr>
          <a:xfrm>
            <a:off x="4300560" y="2357280"/>
            <a:ext cx="255600" cy="1138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p:nvPr/>
        </p:nvSpPr>
        <p:spPr>
          <a:xfrm>
            <a:off x="3022560" y="3043080"/>
            <a:ext cx="1290600" cy="1071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18" name=""/>
          <p:cNvGrpSpPr/>
          <p:nvPr/>
        </p:nvGrpSpPr>
        <p:grpSpPr>
          <a:xfrm>
            <a:off x="7399440" y="5743440"/>
            <a:ext cx="557280" cy="255960"/>
            <a:chOff x="7399440" y="5743440"/>
            <a:chExt cx="557280" cy="255960"/>
          </a:xfrm>
        </p:grpSpPr>
        <p:sp>
          <p:nvSpPr>
            <p:cNvPr id="119" name=""/>
            <p:cNvSpPr/>
            <p:nvPr/>
          </p:nvSpPr>
          <p:spPr>
            <a:xfrm>
              <a:off x="7877160" y="5743440"/>
              <a:ext cx="79560" cy="154440"/>
            </a:xfrm>
            <a:custGeom>
              <a:avLst/>
              <a:gdLst/>
              <a:ahLst/>
              <a:rect l="0" t="0" r="r" b="b"/>
              <a:pathLst>
                <a:path w="221" h="429">
                  <a:moveTo>
                    <a:pt x="66" y="0"/>
                  </a:moveTo>
                  <a:lnTo>
                    <a:pt x="94" y="0"/>
                  </a:lnTo>
                  <a:lnTo>
                    <a:pt x="130" y="49"/>
                  </a:lnTo>
                  <a:lnTo>
                    <a:pt x="123" y="179"/>
                  </a:lnTo>
                  <a:lnTo>
                    <a:pt x="158" y="179"/>
                  </a:lnTo>
                  <a:lnTo>
                    <a:pt x="162" y="200"/>
                  </a:lnTo>
                  <a:lnTo>
                    <a:pt x="174" y="225"/>
                  </a:lnTo>
                  <a:lnTo>
                    <a:pt x="178" y="241"/>
                  </a:lnTo>
                  <a:lnTo>
                    <a:pt x="197" y="237"/>
                  </a:lnTo>
                  <a:lnTo>
                    <a:pt x="217" y="212"/>
                  </a:lnTo>
                  <a:lnTo>
                    <a:pt x="221" y="225"/>
                  </a:lnTo>
                  <a:lnTo>
                    <a:pt x="209" y="250"/>
                  </a:lnTo>
                  <a:lnTo>
                    <a:pt x="197" y="270"/>
                  </a:lnTo>
                  <a:lnTo>
                    <a:pt x="189" y="300"/>
                  </a:lnTo>
                  <a:lnTo>
                    <a:pt x="170" y="316"/>
                  </a:lnTo>
                  <a:lnTo>
                    <a:pt x="154" y="325"/>
                  </a:lnTo>
                  <a:lnTo>
                    <a:pt x="123" y="350"/>
                  </a:lnTo>
                  <a:lnTo>
                    <a:pt x="115" y="367"/>
                  </a:lnTo>
                  <a:lnTo>
                    <a:pt x="123" y="375"/>
                  </a:lnTo>
                  <a:lnTo>
                    <a:pt x="130" y="400"/>
                  </a:lnTo>
                  <a:lnTo>
                    <a:pt x="106" y="417"/>
                  </a:lnTo>
                  <a:lnTo>
                    <a:pt x="94" y="425"/>
                  </a:lnTo>
                  <a:lnTo>
                    <a:pt x="66" y="429"/>
                  </a:lnTo>
                  <a:lnTo>
                    <a:pt x="59" y="425"/>
                  </a:lnTo>
                  <a:lnTo>
                    <a:pt x="35" y="417"/>
                  </a:lnTo>
                  <a:lnTo>
                    <a:pt x="23" y="400"/>
                  </a:lnTo>
                  <a:lnTo>
                    <a:pt x="35" y="388"/>
                  </a:lnTo>
                  <a:lnTo>
                    <a:pt x="55" y="375"/>
                  </a:lnTo>
                  <a:lnTo>
                    <a:pt x="66" y="350"/>
                  </a:lnTo>
                  <a:lnTo>
                    <a:pt x="66" y="346"/>
                  </a:lnTo>
                  <a:lnTo>
                    <a:pt x="55" y="325"/>
                  </a:lnTo>
                  <a:lnTo>
                    <a:pt x="35" y="308"/>
                  </a:lnTo>
                  <a:lnTo>
                    <a:pt x="19" y="308"/>
                  </a:lnTo>
                  <a:lnTo>
                    <a:pt x="7" y="300"/>
                  </a:lnTo>
                  <a:lnTo>
                    <a:pt x="0" y="287"/>
                  </a:lnTo>
                  <a:lnTo>
                    <a:pt x="7" y="275"/>
                  </a:lnTo>
                  <a:lnTo>
                    <a:pt x="19" y="275"/>
                  </a:lnTo>
                  <a:lnTo>
                    <a:pt x="35" y="270"/>
                  </a:lnTo>
                  <a:lnTo>
                    <a:pt x="55" y="250"/>
                  </a:lnTo>
                  <a:lnTo>
                    <a:pt x="59" y="241"/>
                  </a:lnTo>
                  <a:lnTo>
                    <a:pt x="78" y="179"/>
                  </a:lnTo>
                  <a:lnTo>
                    <a:pt x="59" y="162"/>
                  </a:lnTo>
                  <a:lnTo>
                    <a:pt x="43" y="150"/>
                  </a:lnTo>
                  <a:lnTo>
                    <a:pt x="39" y="121"/>
                  </a:lnTo>
                  <a:lnTo>
                    <a:pt x="43" y="78"/>
                  </a:lnTo>
                  <a:lnTo>
                    <a:pt x="55" y="62"/>
                  </a:lnTo>
                  <a:lnTo>
                    <a:pt x="6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7702560" y="5875200"/>
              <a:ext cx="157680" cy="124200"/>
            </a:xfrm>
            <a:custGeom>
              <a:avLst/>
              <a:gdLst/>
              <a:ahLst/>
              <a:rect l="0" t="0" r="r" b="b"/>
              <a:pathLst>
                <a:path w="438" h="345">
                  <a:moveTo>
                    <a:pt x="304" y="0"/>
                  </a:moveTo>
                  <a:lnTo>
                    <a:pt x="359" y="0"/>
                  </a:lnTo>
                  <a:lnTo>
                    <a:pt x="438" y="91"/>
                  </a:lnTo>
                  <a:lnTo>
                    <a:pt x="359" y="177"/>
                  </a:lnTo>
                  <a:lnTo>
                    <a:pt x="359" y="205"/>
                  </a:lnTo>
                  <a:lnTo>
                    <a:pt x="342" y="222"/>
                  </a:lnTo>
                  <a:lnTo>
                    <a:pt x="292" y="222"/>
                  </a:lnTo>
                  <a:lnTo>
                    <a:pt x="233" y="264"/>
                  </a:lnTo>
                  <a:lnTo>
                    <a:pt x="183" y="313"/>
                  </a:lnTo>
                  <a:lnTo>
                    <a:pt x="142" y="345"/>
                  </a:lnTo>
                  <a:lnTo>
                    <a:pt x="142" y="325"/>
                  </a:lnTo>
                  <a:lnTo>
                    <a:pt x="78" y="325"/>
                  </a:lnTo>
                  <a:lnTo>
                    <a:pt x="49" y="325"/>
                  </a:lnTo>
                  <a:lnTo>
                    <a:pt x="0" y="325"/>
                  </a:lnTo>
                  <a:lnTo>
                    <a:pt x="70" y="264"/>
                  </a:lnTo>
                  <a:lnTo>
                    <a:pt x="95" y="238"/>
                  </a:lnTo>
                  <a:lnTo>
                    <a:pt x="113" y="238"/>
                  </a:lnTo>
                  <a:lnTo>
                    <a:pt x="163" y="189"/>
                  </a:lnTo>
                  <a:lnTo>
                    <a:pt x="183" y="189"/>
                  </a:lnTo>
                  <a:lnTo>
                    <a:pt x="183" y="181"/>
                  </a:lnTo>
                  <a:lnTo>
                    <a:pt x="200" y="168"/>
                  </a:lnTo>
                  <a:lnTo>
                    <a:pt x="233" y="168"/>
                  </a:lnTo>
                  <a:lnTo>
                    <a:pt x="221" y="111"/>
                  </a:lnTo>
                  <a:lnTo>
                    <a:pt x="258" y="85"/>
                  </a:lnTo>
                  <a:lnTo>
                    <a:pt x="262" y="107"/>
                  </a:lnTo>
                  <a:lnTo>
                    <a:pt x="321" y="69"/>
                  </a:lnTo>
                  <a:lnTo>
                    <a:pt x="3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7399440" y="5883120"/>
              <a:ext cx="52920" cy="62280"/>
            </a:xfrm>
            <a:custGeom>
              <a:avLst/>
              <a:gdLst/>
              <a:ahLst/>
              <a:rect l="0" t="0" r="r" b="b"/>
              <a:pathLst>
                <a:path w="147" h="173">
                  <a:moveTo>
                    <a:pt x="0" y="0"/>
                  </a:moveTo>
                  <a:lnTo>
                    <a:pt x="33" y="0"/>
                  </a:lnTo>
                  <a:lnTo>
                    <a:pt x="68" y="19"/>
                  </a:lnTo>
                  <a:lnTo>
                    <a:pt x="147" y="19"/>
                  </a:lnTo>
                  <a:lnTo>
                    <a:pt x="140" y="54"/>
                  </a:lnTo>
                  <a:lnTo>
                    <a:pt x="147" y="81"/>
                  </a:lnTo>
                  <a:lnTo>
                    <a:pt x="121" y="81"/>
                  </a:lnTo>
                  <a:lnTo>
                    <a:pt x="109" y="85"/>
                  </a:lnTo>
                  <a:lnTo>
                    <a:pt x="101" y="92"/>
                  </a:lnTo>
                  <a:lnTo>
                    <a:pt x="109" y="173"/>
                  </a:lnTo>
                  <a:lnTo>
                    <a:pt x="68" y="170"/>
                  </a:lnTo>
                  <a:lnTo>
                    <a:pt x="29" y="147"/>
                  </a:lnTo>
                  <a:lnTo>
                    <a:pt x="29" y="85"/>
                  </a:lnTo>
                  <a:lnTo>
                    <a:pt x="29" y="65"/>
                  </a:lnTo>
                  <a:lnTo>
                    <a:pt x="0" y="54"/>
                  </a:lnTo>
                  <a:lnTo>
                    <a:pt x="0"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sp>
        <p:nvSpPr>
          <p:cNvPr id="122" name=""/>
          <p:cNvSpPr/>
          <p:nvPr/>
        </p:nvSpPr>
        <p:spPr>
          <a:xfrm>
            <a:off x="6834240" y="5288040"/>
            <a:ext cx="746640" cy="551160"/>
          </a:xfrm>
          <a:custGeom>
            <a:avLst/>
            <a:gdLst/>
            <a:ahLst/>
            <a:rect l="0" t="0" r="r" b="b"/>
            <a:pathLst>
              <a:path w="2074" h="1531">
                <a:moveTo>
                  <a:pt x="1490" y="0"/>
                </a:moveTo>
                <a:lnTo>
                  <a:pt x="1595" y="0"/>
                </a:lnTo>
                <a:lnTo>
                  <a:pt x="1595" y="121"/>
                </a:lnTo>
                <a:lnTo>
                  <a:pt x="1639" y="156"/>
                </a:lnTo>
                <a:lnTo>
                  <a:pt x="1656" y="186"/>
                </a:lnTo>
                <a:lnTo>
                  <a:pt x="1673" y="186"/>
                </a:lnTo>
                <a:lnTo>
                  <a:pt x="1691" y="203"/>
                </a:lnTo>
                <a:lnTo>
                  <a:pt x="1704" y="320"/>
                </a:lnTo>
                <a:lnTo>
                  <a:pt x="1761" y="403"/>
                </a:lnTo>
                <a:lnTo>
                  <a:pt x="1861" y="520"/>
                </a:lnTo>
                <a:lnTo>
                  <a:pt x="1861" y="533"/>
                </a:lnTo>
                <a:lnTo>
                  <a:pt x="1952" y="637"/>
                </a:lnTo>
                <a:lnTo>
                  <a:pt x="1952" y="658"/>
                </a:lnTo>
                <a:lnTo>
                  <a:pt x="2057" y="741"/>
                </a:lnTo>
                <a:lnTo>
                  <a:pt x="2074" y="872"/>
                </a:lnTo>
                <a:lnTo>
                  <a:pt x="2057" y="1002"/>
                </a:lnTo>
                <a:lnTo>
                  <a:pt x="2022" y="1067"/>
                </a:lnTo>
                <a:lnTo>
                  <a:pt x="1991" y="1093"/>
                </a:lnTo>
                <a:lnTo>
                  <a:pt x="1974" y="1154"/>
                </a:lnTo>
                <a:lnTo>
                  <a:pt x="1939" y="1214"/>
                </a:lnTo>
                <a:lnTo>
                  <a:pt x="1909" y="1232"/>
                </a:lnTo>
                <a:lnTo>
                  <a:pt x="1913" y="1249"/>
                </a:lnTo>
                <a:lnTo>
                  <a:pt x="1874" y="1297"/>
                </a:lnTo>
                <a:lnTo>
                  <a:pt x="1861" y="1375"/>
                </a:lnTo>
                <a:lnTo>
                  <a:pt x="1848" y="1414"/>
                </a:lnTo>
                <a:lnTo>
                  <a:pt x="1817" y="1431"/>
                </a:lnTo>
                <a:lnTo>
                  <a:pt x="1804" y="1453"/>
                </a:lnTo>
                <a:lnTo>
                  <a:pt x="1782" y="1483"/>
                </a:lnTo>
                <a:lnTo>
                  <a:pt x="1743" y="1492"/>
                </a:lnTo>
                <a:lnTo>
                  <a:pt x="1713" y="1505"/>
                </a:lnTo>
                <a:lnTo>
                  <a:pt x="1669" y="1531"/>
                </a:lnTo>
                <a:lnTo>
                  <a:pt x="1608" y="1479"/>
                </a:lnTo>
                <a:lnTo>
                  <a:pt x="1551" y="1483"/>
                </a:lnTo>
                <a:lnTo>
                  <a:pt x="1524" y="1483"/>
                </a:lnTo>
                <a:lnTo>
                  <a:pt x="1442" y="1496"/>
                </a:lnTo>
                <a:lnTo>
                  <a:pt x="1394" y="1453"/>
                </a:lnTo>
                <a:lnTo>
                  <a:pt x="1350" y="1401"/>
                </a:lnTo>
                <a:lnTo>
                  <a:pt x="1329" y="1401"/>
                </a:lnTo>
                <a:lnTo>
                  <a:pt x="1307" y="1370"/>
                </a:lnTo>
                <a:lnTo>
                  <a:pt x="1285" y="1327"/>
                </a:lnTo>
                <a:lnTo>
                  <a:pt x="1272" y="1310"/>
                </a:lnTo>
                <a:lnTo>
                  <a:pt x="1272" y="1249"/>
                </a:lnTo>
                <a:lnTo>
                  <a:pt x="1276" y="1223"/>
                </a:lnTo>
                <a:lnTo>
                  <a:pt x="1268" y="1188"/>
                </a:lnTo>
                <a:lnTo>
                  <a:pt x="1224" y="1210"/>
                </a:lnTo>
                <a:lnTo>
                  <a:pt x="1194" y="1214"/>
                </a:lnTo>
                <a:lnTo>
                  <a:pt x="1159" y="1214"/>
                </a:lnTo>
                <a:lnTo>
                  <a:pt x="1128" y="1214"/>
                </a:lnTo>
                <a:lnTo>
                  <a:pt x="1115" y="1214"/>
                </a:lnTo>
                <a:lnTo>
                  <a:pt x="1089" y="1171"/>
                </a:lnTo>
                <a:lnTo>
                  <a:pt x="1054" y="1132"/>
                </a:lnTo>
                <a:lnTo>
                  <a:pt x="1045" y="1136"/>
                </a:lnTo>
                <a:lnTo>
                  <a:pt x="998" y="1136"/>
                </a:lnTo>
                <a:lnTo>
                  <a:pt x="993" y="1110"/>
                </a:lnTo>
                <a:lnTo>
                  <a:pt x="954" y="1136"/>
                </a:lnTo>
                <a:lnTo>
                  <a:pt x="932" y="1132"/>
                </a:lnTo>
                <a:lnTo>
                  <a:pt x="871" y="1132"/>
                </a:lnTo>
                <a:lnTo>
                  <a:pt x="850" y="1110"/>
                </a:lnTo>
                <a:lnTo>
                  <a:pt x="841" y="1136"/>
                </a:lnTo>
                <a:lnTo>
                  <a:pt x="784" y="1145"/>
                </a:lnTo>
                <a:lnTo>
                  <a:pt x="767" y="1132"/>
                </a:lnTo>
                <a:lnTo>
                  <a:pt x="741" y="1154"/>
                </a:lnTo>
                <a:lnTo>
                  <a:pt x="706" y="1184"/>
                </a:lnTo>
                <a:lnTo>
                  <a:pt x="684" y="1184"/>
                </a:lnTo>
                <a:lnTo>
                  <a:pt x="641" y="1227"/>
                </a:lnTo>
                <a:lnTo>
                  <a:pt x="593" y="1227"/>
                </a:lnTo>
                <a:lnTo>
                  <a:pt x="545" y="1232"/>
                </a:lnTo>
                <a:lnTo>
                  <a:pt x="492" y="1249"/>
                </a:lnTo>
                <a:lnTo>
                  <a:pt x="465" y="1288"/>
                </a:lnTo>
                <a:lnTo>
                  <a:pt x="452" y="1271"/>
                </a:lnTo>
                <a:lnTo>
                  <a:pt x="439" y="1301"/>
                </a:lnTo>
                <a:lnTo>
                  <a:pt x="404" y="1310"/>
                </a:lnTo>
                <a:lnTo>
                  <a:pt x="378" y="1331"/>
                </a:lnTo>
                <a:lnTo>
                  <a:pt x="278" y="1331"/>
                </a:lnTo>
                <a:lnTo>
                  <a:pt x="235" y="1297"/>
                </a:lnTo>
                <a:lnTo>
                  <a:pt x="230" y="1271"/>
                </a:lnTo>
                <a:lnTo>
                  <a:pt x="217" y="1297"/>
                </a:lnTo>
                <a:lnTo>
                  <a:pt x="204" y="1258"/>
                </a:lnTo>
                <a:lnTo>
                  <a:pt x="208" y="1180"/>
                </a:lnTo>
                <a:lnTo>
                  <a:pt x="217" y="1136"/>
                </a:lnTo>
                <a:lnTo>
                  <a:pt x="204" y="1093"/>
                </a:lnTo>
                <a:lnTo>
                  <a:pt x="182" y="1063"/>
                </a:lnTo>
                <a:lnTo>
                  <a:pt x="174" y="1015"/>
                </a:lnTo>
                <a:lnTo>
                  <a:pt x="143" y="997"/>
                </a:lnTo>
                <a:lnTo>
                  <a:pt x="139" y="989"/>
                </a:lnTo>
                <a:lnTo>
                  <a:pt x="130" y="976"/>
                </a:lnTo>
                <a:lnTo>
                  <a:pt x="87" y="915"/>
                </a:lnTo>
                <a:lnTo>
                  <a:pt x="26" y="781"/>
                </a:lnTo>
                <a:lnTo>
                  <a:pt x="17" y="693"/>
                </a:lnTo>
                <a:lnTo>
                  <a:pt x="17" y="637"/>
                </a:lnTo>
                <a:lnTo>
                  <a:pt x="0" y="615"/>
                </a:lnTo>
                <a:lnTo>
                  <a:pt x="4" y="572"/>
                </a:lnTo>
                <a:lnTo>
                  <a:pt x="21" y="546"/>
                </a:lnTo>
                <a:lnTo>
                  <a:pt x="87" y="472"/>
                </a:lnTo>
                <a:lnTo>
                  <a:pt x="161" y="485"/>
                </a:lnTo>
                <a:lnTo>
                  <a:pt x="169" y="502"/>
                </a:lnTo>
                <a:lnTo>
                  <a:pt x="256" y="502"/>
                </a:lnTo>
                <a:lnTo>
                  <a:pt x="261" y="472"/>
                </a:lnTo>
                <a:lnTo>
                  <a:pt x="278" y="485"/>
                </a:lnTo>
                <a:lnTo>
                  <a:pt x="300" y="463"/>
                </a:lnTo>
                <a:lnTo>
                  <a:pt x="322" y="468"/>
                </a:lnTo>
                <a:lnTo>
                  <a:pt x="339" y="459"/>
                </a:lnTo>
                <a:lnTo>
                  <a:pt x="339" y="442"/>
                </a:lnTo>
                <a:lnTo>
                  <a:pt x="361" y="398"/>
                </a:lnTo>
                <a:lnTo>
                  <a:pt x="378" y="377"/>
                </a:lnTo>
                <a:lnTo>
                  <a:pt x="361" y="364"/>
                </a:lnTo>
                <a:lnTo>
                  <a:pt x="378" y="355"/>
                </a:lnTo>
                <a:lnTo>
                  <a:pt x="361" y="342"/>
                </a:lnTo>
                <a:lnTo>
                  <a:pt x="404" y="299"/>
                </a:lnTo>
                <a:lnTo>
                  <a:pt x="461" y="299"/>
                </a:lnTo>
                <a:lnTo>
                  <a:pt x="519" y="225"/>
                </a:lnTo>
                <a:lnTo>
                  <a:pt x="580" y="164"/>
                </a:lnTo>
                <a:lnTo>
                  <a:pt x="610" y="156"/>
                </a:lnTo>
                <a:lnTo>
                  <a:pt x="632" y="143"/>
                </a:lnTo>
                <a:lnTo>
                  <a:pt x="662" y="143"/>
                </a:lnTo>
                <a:lnTo>
                  <a:pt x="715" y="195"/>
                </a:lnTo>
                <a:lnTo>
                  <a:pt x="736" y="203"/>
                </a:lnTo>
                <a:lnTo>
                  <a:pt x="758" y="186"/>
                </a:lnTo>
                <a:lnTo>
                  <a:pt x="789" y="143"/>
                </a:lnTo>
                <a:lnTo>
                  <a:pt x="810" y="134"/>
                </a:lnTo>
                <a:lnTo>
                  <a:pt x="845" y="82"/>
                </a:lnTo>
                <a:lnTo>
                  <a:pt x="863" y="82"/>
                </a:lnTo>
                <a:lnTo>
                  <a:pt x="893" y="60"/>
                </a:lnTo>
                <a:lnTo>
                  <a:pt x="932" y="43"/>
                </a:lnTo>
                <a:lnTo>
                  <a:pt x="954" y="43"/>
                </a:lnTo>
                <a:lnTo>
                  <a:pt x="985" y="21"/>
                </a:lnTo>
                <a:lnTo>
                  <a:pt x="1015" y="21"/>
                </a:lnTo>
                <a:lnTo>
                  <a:pt x="1063" y="21"/>
                </a:lnTo>
                <a:lnTo>
                  <a:pt x="1115" y="26"/>
                </a:lnTo>
                <a:lnTo>
                  <a:pt x="1159" y="56"/>
                </a:lnTo>
                <a:lnTo>
                  <a:pt x="1163" y="69"/>
                </a:lnTo>
                <a:lnTo>
                  <a:pt x="1172" y="82"/>
                </a:lnTo>
                <a:lnTo>
                  <a:pt x="1172" y="112"/>
                </a:lnTo>
                <a:lnTo>
                  <a:pt x="1172" y="125"/>
                </a:lnTo>
                <a:lnTo>
                  <a:pt x="1172" y="156"/>
                </a:lnTo>
                <a:lnTo>
                  <a:pt x="1163" y="186"/>
                </a:lnTo>
                <a:lnTo>
                  <a:pt x="1254" y="247"/>
                </a:lnTo>
                <a:lnTo>
                  <a:pt x="1276" y="277"/>
                </a:lnTo>
                <a:lnTo>
                  <a:pt x="1324" y="290"/>
                </a:lnTo>
                <a:lnTo>
                  <a:pt x="1355" y="312"/>
                </a:lnTo>
                <a:lnTo>
                  <a:pt x="1381" y="316"/>
                </a:lnTo>
                <a:lnTo>
                  <a:pt x="1420" y="299"/>
                </a:lnTo>
                <a:lnTo>
                  <a:pt x="1446" y="247"/>
                </a:lnTo>
                <a:lnTo>
                  <a:pt x="1463" y="203"/>
                </a:lnTo>
                <a:lnTo>
                  <a:pt x="1481" y="112"/>
                </a:lnTo>
                <a:lnTo>
                  <a:pt x="1490" y="82"/>
                </a:lnTo>
                <a:lnTo>
                  <a:pt x="149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1573200" y="3294000"/>
            <a:ext cx="1317960" cy="1130760"/>
          </a:xfrm>
          <a:custGeom>
            <a:avLst/>
            <a:gdLst/>
            <a:ahLst/>
            <a:rect l="0" t="0" r="r" b="b"/>
            <a:pathLst>
              <a:path w="3661" h="3141">
                <a:moveTo>
                  <a:pt x="0" y="814"/>
                </a:moveTo>
                <a:lnTo>
                  <a:pt x="179" y="699"/>
                </a:lnTo>
                <a:lnTo>
                  <a:pt x="275" y="660"/>
                </a:lnTo>
                <a:lnTo>
                  <a:pt x="293" y="590"/>
                </a:lnTo>
                <a:lnTo>
                  <a:pt x="210" y="546"/>
                </a:lnTo>
                <a:lnTo>
                  <a:pt x="205" y="472"/>
                </a:lnTo>
                <a:lnTo>
                  <a:pt x="245" y="450"/>
                </a:lnTo>
                <a:lnTo>
                  <a:pt x="240" y="415"/>
                </a:lnTo>
                <a:lnTo>
                  <a:pt x="376" y="402"/>
                </a:lnTo>
                <a:lnTo>
                  <a:pt x="411" y="336"/>
                </a:lnTo>
                <a:lnTo>
                  <a:pt x="415" y="279"/>
                </a:lnTo>
                <a:lnTo>
                  <a:pt x="529" y="271"/>
                </a:lnTo>
                <a:lnTo>
                  <a:pt x="534" y="214"/>
                </a:lnTo>
                <a:lnTo>
                  <a:pt x="424" y="196"/>
                </a:lnTo>
                <a:lnTo>
                  <a:pt x="481" y="161"/>
                </a:lnTo>
                <a:lnTo>
                  <a:pt x="647" y="161"/>
                </a:lnTo>
                <a:lnTo>
                  <a:pt x="704" y="113"/>
                </a:lnTo>
                <a:lnTo>
                  <a:pt x="783" y="104"/>
                </a:lnTo>
                <a:lnTo>
                  <a:pt x="823" y="65"/>
                </a:lnTo>
                <a:lnTo>
                  <a:pt x="879" y="135"/>
                </a:lnTo>
                <a:lnTo>
                  <a:pt x="1098" y="122"/>
                </a:lnTo>
                <a:lnTo>
                  <a:pt x="1199" y="192"/>
                </a:lnTo>
                <a:lnTo>
                  <a:pt x="1532" y="174"/>
                </a:lnTo>
                <a:lnTo>
                  <a:pt x="1580" y="139"/>
                </a:lnTo>
                <a:lnTo>
                  <a:pt x="1703" y="196"/>
                </a:lnTo>
                <a:lnTo>
                  <a:pt x="1835" y="244"/>
                </a:lnTo>
                <a:lnTo>
                  <a:pt x="1896" y="231"/>
                </a:lnTo>
                <a:lnTo>
                  <a:pt x="1931" y="196"/>
                </a:lnTo>
                <a:lnTo>
                  <a:pt x="2045" y="214"/>
                </a:lnTo>
                <a:lnTo>
                  <a:pt x="1971" y="174"/>
                </a:lnTo>
                <a:lnTo>
                  <a:pt x="1901" y="179"/>
                </a:lnTo>
                <a:lnTo>
                  <a:pt x="1795" y="192"/>
                </a:lnTo>
                <a:lnTo>
                  <a:pt x="1751" y="135"/>
                </a:lnTo>
                <a:lnTo>
                  <a:pt x="1694" y="104"/>
                </a:lnTo>
                <a:lnTo>
                  <a:pt x="1694" y="56"/>
                </a:lnTo>
                <a:lnTo>
                  <a:pt x="1703" y="8"/>
                </a:lnTo>
                <a:lnTo>
                  <a:pt x="1759" y="0"/>
                </a:lnTo>
                <a:lnTo>
                  <a:pt x="1816" y="43"/>
                </a:lnTo>
                <a:lnTo>
                  <a:pt x="1835" y="21"/>
                </a:lnTo>
                <a:lnTo>
                  <a:pt x="1887" y="0"/>
                </a:lnTo>
                <a:lnTo>
                  <a:pt x="1940" y="34"/>
                </a:lnTo>
                <a:lnTo>
                  <a:pt x="1979" y="8"/>
                </a:lnTo>
                <a:lnTo>
                  <a:pt x="2010" y="48"/>
                </a:lnTo>
                <a:lnTo>
                  <a:pt x="2014" y="87"/>
                </a:lnTo>
                <a:lnTo>
                  <a:pt x="2111" y="122"/>
                </a:lnTo>
                <a:lnTo>
                  <a:pt x="2071" y="161"/>
                </a:lnTo>
                <a:lnTo>
                  <a:pt x="2071" y="201"/>
                </a:lnTo>
                <a:lnTo>
                  <a:pt x="2225" y="214"/>
                </a:lnTo>
                <a:lnTo>
                  <a:pt x="2268" y="161"/>
                </a:lnTo>
                <a:lnTo>
                  <a:pt x="2242" y="126"/>
                </a:lnTo>
                <a:lnTo>
                  <a:pt x="2172" y="135"/>
                </a:lnTo>
                <a:lnTo>
                  <a:pt x="2190" y="65"/>
                </a:lnTo>
                <a:lnTo>
                  <a:pt x="2325" y="104"/>
                </a:lnTo>
                <a:lnTo>
                  <a:pt x="2356" y="157"/>
                </a:lnTo>
                <a:lnTo>
                  <a:pt x="2465" y="157"/>
                </a:lnTo>
                <a:lnTo>
                  <a:pt x="2570" y="205"/>
                </a:lnTo>
                <a:lnTo>
                  <a:pt x="2627" y="196"/>
                </a:lnTo>
                <a:lnTo>
                  <a:pt x="2693" y="244"/>
                </a:lnTo>
                <a:lnTo>
                  <a:pt x="2627" y="314"/>
                </a:lnTo>
                <a:lnTo>
                  <a:pt x="2579" y="262"/>
                </a:lnTo>
                <a:lnTo>
                  <a:pt x="2540" y="279"/>
                </a:lnTo>
                <a:lnTo>
                  <a:pt x="2496" y="319"/>
                </a:lnTo>
                <a:lnTo>
                  <a:pt x="2422" y="349"/>
                </a:lnTo>
                <a:lnTo>
                  <a:pt x="2457" y="402"/>
                </a:lnTo>
                <a:lnTo>
                  <a:pt x="2395" y="406"/>
                </a:lnTo>
                <a:lnTo>
                  <a:pt x="2338" y="472"/>
                </a:lnTo>
                <a:lnTo>
                  <a:pt x="2281" y="559"/>
                </a:lnTo>
                <a:lnTo>
                  <a:pt x="2365" y="629"/>
                </a:lnTo>
                <a:lnTo>
                  <a:pt x="2435" y="717"/>
                </a:lnTo>
                <a:lnTo>
                  <a:pt x="2553" y="734"/>
                </a:lnTo>
                <a:lnTo>
                  <a:pt x="2671" y="717"/>
                </a:lnTo>
                <a:lnTo>
                  <a:pt x="2719" y="760"/>
                </a:lnTo>
                <a:lnTo>
                  <a:pt x="2693" y="782"/>
                </a:lnTo>
                <a:lnTo>
                  <a:pt x="2662" y="827"/>
                </a:lnTo>
                <a:lnTo>
                  <a:pt x="2711" y="906"/>
                </a:lnTo>
                <a:lnTo>
                  <a:pt x="2728" y="971"/>
                </a:lnTo>
                <a:lnTo>
                  <a:pt x="2789" y="993"/>
                </a:lnTo>
                <a:lnTo>
                  <a:pt x="2873" y="941"/>
                </a:lnTo>
                <a:lnTo>
                  <a:pt x="2851" y="866"/>
                </a:lnTo>
                <a:lnTo>
                  <a:pt x="2776" y="814"/>
                </a:lnTo>
                <a:lnTo>
                  <a:pt x="2864" y="739"/>
                </a:lnTo>
                <a:lnTo>
                  <a:pt x="2789" y="607"/>
                </a:lnTo>
                <a:lnTo>
                  <a:pt x="2724" y="559"/>
                </a:lnTo>
                <a:lnTo>
                  <a:pt x="2776" y="520"/>
                </a:lnTo>
                <a:lnTo>
                  <a:pt x="2767" y="450"/>
                </a:lnTo>
                <a:lnTo>
                  <a:pt x="2811" y="406"/>
                </a:lnTo>
                <a:lnTo>
                  <a:pt x="2873" y="450"/>
                </a:lnTo>
                <a:lnTo>
                  <a:pt x="3039" y="599"/>
                </a:lnTo>
                <a:lnTo>
                  <a:pt x="3126" y="612"/>
                </a:lnTo>
                <a:lnTo>
                  <a:pt x="3157" y="572"/>
                </a:lnTo>
                <a:lnTo>
                  <a:pt x="3135" y="494"/>
                </a:lnTo>
                <a:lnTo>
                  <a:pt x="3196" y="515"/>
                </a:lnTo>
                <a:lnTo>
                  <a:pt x="3284" y="603"/>
                </a:lnTo>
                <a:lnTo>
                  <a:pt x="3302" y="647"/>
                </a:lnTo>
                <a:lnTo>
                  <a:pt x="3358" y="682"/>
                </a:lnTo>
                <a:lnTo>
                  <a:pt x="3472" y="721"/>
                </a:lnTo>
                <a:lnTo>
                  <a:pt x="3529" y="796"/>
                </a:lnTo>
                <a:lnTo>
                  <a:pt x="3617" y="844"/>
                </a:lnTo>
                <a:lnTo>
                  <a:pt x="3656" y="862"/>
                </a:lnTo>
                <a:lnTo>
                  <a:pt x="3661" y="906"/>
                </a:lnTo>
                <a:lnTo>
                  <a:pt x="3595" y="936"/>
                </a:lnTo>
                <a:lnTo>
                  <a:pt x="3560" y="901"/>
                </a:lnTo>
                <a:lnTo>
                  <a:pt x="3525" y="906"/>
                </a:lnTo>
                <a:lnTo>
                  <a:pt x="3512" y="980"/>
                </a:lnTo>
                <a:lnTo>
                  <a:pt x="3455" y="998"/>
                </a:lnTo>
                <a:lnTo>
                  <a:pt x="3398" y="963"/>
                </a:lnTo>
                <a:lnTo>
                  <a:pt x="3271" y="963"/>
                </a:lnTo>
                <a:lnTo>
                  <a:pt x="3253" y="1050"/>
                </a:lnTo>
                <a:lnTo>
                  <a:pt x="3280" y="1098"/>
                </a:lnTo>
                <a:lnTo>
                  <a:pt x="3337" y="1067"/>
                </a:lnTo>
                <a:lnTo>
                  <a:pt x="3380" y="1054"/>
                </a:lnTo>
                <a:lnTo>
                  <a:pt x="3433" y="1081"/>
                </a:lnTo>
                <a:lnTo>
                  <a:pt x="3367" y="1146"/>
                </a:lnTo>
                <a:lnTo>
                  <a:pt x="3433" y="1199"/>
                </a:lnTo>
                <a:lnTo>
                  <a:pt x="3525" y="1216"/>
                </a:lnTo>
                <a:lnTo>
                  <a:pt x="3512" y="1256"/>
                </a:lnTo>
                <a:lnTo>
                  <a:pt x="3485" y="1264"/>
                </a:lnTo>
                <a:lnTo>
                  <a:pt x="3398" y="1448"/>
                </a:lnTo>
                <a:lnTo>
                  <a:pt x="3402" y="1325"/>
                </a:lnTo>
                <a:lnTo>
                  <a:pt x="3437" y="1269"/>
                </a:lnTo>
                <a:lnTo>
                  <a:pt x="3398" y="1234"/>
                </a:lnTo>
                <a:lnTo>
                  <a:pt x="3350" y="1269"/>
                </a:lnTo>
                <a:lnTo>
                  <a:pt x="3372" y="1308"/>
                </a:lnTo>
                <a:lnTo>
                  <a:pt x="3337" y="1334"/>
                </a:lnTo>
                <a:lnTo>
                  <a:pt x="3293" y="1360"/>
                </a:lnTo>
                <a:lnTo>
                  <a:pt x="3297" y="1439"/>
                </a:lnTo>
                <a:lnTo>
                  <a:pt x="3245" y="1479"/>
                </a:lnTo>
                <a:lnTo>
                  <a:pt x="3161" y="1483"/>
                </a:lnTo>
                <a:lnTo>
                  <a:pt x="3196" y="1527"/>
                </a:lnTo>
                <a:lnTo>
                  <a:pt x="3161" y="1575"/>
                </a:lnTo>
                <a:lnTo>
                  <a:pt x="3196" y="1618"/>
                </a:lnTo>
                <a:lnTo>
                  <a:pt x="3144" y="1702"/>
                </a:lnTo>
                <a:lnTo>
                  <a:pt x="3126" y="1780"/>
                </a:lnTo>
                <a:lnTo>
                  <a:pt x="3061" y="1828"/>
                </a:lnTo>
                <a:lnTo>
                  <a:pt x="2978" y="1946"/>
                </a:lnTo>
                <a:lnTo>
                  <a:pt x="2969" y="2030"/>
                </a:lnTo>
                <a:lnTo>
                  <a:pt x="2991" y="2099"/>
                </a:lnTo>
                <a:lnTo>
                  <a:pt x="3039" y="2187"/>
                </a:lnTo>
                <a:lnTo>
                  <a:pt x="3056" y="2279"/>
                </a:lnTo>
                <a:lnTo>
                  <a:pt x="3017" y="2314"/>
                </a:lnTo>
                <a:lnTo>
                  <a:pt x="2969" y="2288"/>
                </a:lnTo>
                <a:lnTo>
                  <a:pt x="2978" y="2239"/>
                </a:lnTo>
                <a:lnTo>
                  <a:pt x="2947" y="2143"/>
                </a:lnTo>
                <a:lnTo>
                  <a:pt x="2912" y="2126"/>
                </a:lnTo>
                <a:lnTo>
                  <a:pt x="2899" y="2064"/>
                </a:lnTo>
                <a:lnTo>
                  <a:pt x="2846" y="2064"/>
                </a:lnTo>
                <a:lnTo>
                  <a:pt x="2794" y="2025"/>
                </a:lnTo>
                <a:lnTo>
                  <a:pt x="2746" y="2043"/>
                </a:lnTo>
                <a:lnTo>
                  <a:pt x="2693" y="2012"/>
                </a:lnTo>
                <a:lnTo>
                  <a:pt x="2627" y="2047"/>
                </a:lnTo>
                <a:lnTo>
                  <a:pt x="2514" y="2021"/>
                </a:lnTo>
                <a:lnTo>
                  <a:pt x="2592" y="2091"/>
                </a:lnTo>
                <a:lnTo>
                  <a:pt x="2496" y="2086"/>
                </a:lnTo>
                <a:lnTo>
                  <a:pt x="2435" y="2030"/>
                </a:lnTo>
                <a:lnTo>
                  <a:pt x="2321" y="2030"/>
                </a:lnTo>
                <a:lnTo>
                  <a:pt x="2338" y="2126"/>
                </a:lnTo>
                <a:lnTo>
                  <a:pt x="2251" y="2091"/>
                </a:lnTo>
                <a:lnTo>
                  <a:pt x="2207" y="2187"/>
                </a:lnTo>
                <a:lnTo>
                  <a:pt x="2242" y="2226"/>
                </a:lnTo>
                <a:lnTo>
                  <a:pt x="2207" y="2336"/>
                </a:lnTo>
                <a:lnTo>
                  <a:pt x="2246" y="2455"/>
                </a:lnTo>
                <a:lnTo>
                  <a:pt x="2290" y="2538"/>
                </a:lnTo>
                <a:lnTo>
                  <a:pt x="2343" y="2621"/>
                </a:lnTo>
                <a:lnTo>
                  <a:pt x="2496" y="2608"/>
                </a:lnTo>
                <a:lnTo>
                  <a:pt x="2562" y="2595"/>
                </a:lnTo>
                <a:lnTo>
                  <a:pt x="2570" y="2538"/>
                </a:lnTo>
                <a:lnTo>
                  <a:pt x="2540" y="2494"/>
                </a:lnTo>
                <a:lnTo>
                  <a:pt x="2540" y="2455"/>
                </a:lnTo>
                <a:lnTo>
                  <a:pt x="2636" y="2463"/>
                </a:lnTo>
                <a:lnTo>
                  <a:pt x="2732" y="2442"/>
                </a:lnTo>
                <a:lnTo>
                  <a:pt x="2732" y="2494"/>
                </a:lnTo>
                <a:lnTo>
                  <a:pt x="2706" y="2568"/>
                </a:lnTo>
                <a:lnTo>
                  <a:pt x="2662" y="2625"/>
                </a:lnTo>
                <a:lnTo>
                  <a:pt x="2649" y="2704"/>
                </a:lnTo>
                <a:lnTo>
                  <a:pt x="2711" y="2735"/>
                </a:lnTo>
                <a:lnTo>
                  <a:pt x="2794" y="2726"/>
                </a:lnTo>
                <a:lnTo>
                  <a:pt x="2846" y="2748"/>
                </a:lnTo>
                <a:lnTo>
                  <a:pt x="2899" y="2743"/>
                </a:lnTo>
                <a:lnTo>
                  <a:pt x="2908" y="2791"/>
                </a:lnTo>
                <a:lnTo>
                  <a:pt x="2868" y="2870"/>
                </a:lnTo>
                <a:lnTo>
                  <a:pt x="2903" y="2918"/>
                </a:lnTo>
                <a:lnTo>
                  <a:pt x="2908" y="3006"/>
                </a:lnTo>
                <a:lnTo>
                  <a:pt x="2969" y="3071"/>
                </a:lnTo>
                <a:lnTo>
                  <a:pt x="3043" y="3084"/>
                </a:lnTo>
                <a:lnTo>
                  <a:pt x="3087" y="3071"/>
                </a:lnTo>
                <a:lnTo>
                  <a:pt x="3118" y="3076"/>
                </a:lnTo>
                <a:lnTo>
                  <a:pt x="3205" y="3076"/>
                </a:lnTo>
                <a:lnTo>
                  <a:pt x="3245" y="3111"/>
                </a:lnTo>
                <a:lnTo>
                  <a:pt x="3196" y="3102"/>
                </a:lnTo>
                <a:lnTo>
                  <a:pt x="3140" y="3111"/>
                </a:lnTo>
                <a:lnTo>
                  <a:pt x="3043" y="3141"/>
                </a:lnTo>
                <a:lnTo>
                  <a:pt x="2960" y="3097"/>
                </a:lnTo>
                <a:lnTo>
                  <a:pt x="2873" y="3071"/>
                </a:lnTo>
                <a:lnTo>
                  <a:pt x="2842" y="3076"/>
                </a:lnTo>
                <a:lnTo>
                  <a:pt x="2846" y="3036"/>
                </a:lnTo>
                <a:lnTo>
                  <a:pt x="2842" y="2966"/>
                </a:lnTo>
                <a:lnTo>
                  <a:pt x="2772" y="2918"/>
                </a:lnTo>
                <a:lnTo>
                  <a:pt x="2636" y="2883"/>
                </a:lnTo>
                <a:lnTo>
                  <a:pt x="2610" y="2857"/>
                </a:lnTo>
                <a:lnTo>
                  <a:pt x="2570" y="2861"/>
                </a:lnTo>
                <a:lnTo>
                  <a:pt x="2535" y="2826"/>
                </a:lnTo>
                <a:lnTo>
                  <a:pt x="2478" y="2805"/>
                </a:lnTo>
                <a:lnTo>
                  <a:pt x="2408" y="2726"/>
                </a:lnTo>
                <a:lnTo>
                  <a:pt x="2330" y="2704"/>
                </a:lnTo>
                <a:lnTo>
                  <a:pt x="2286" y="2748"/>
                </a:lnTo>
                <a:lnTo>
                  <a:pt x="2229" y="2713"/>
                </a:lnTo>
                <a:lnTo>
                  <a:pt x="2172" y="2713"/>
                </a:lnTo>
                <a:lnTo>
                  <a:pt x="2049" y="2682"/>
                </a:lnTo>
                <a:lnTo>
                  <a:pt x="1821" y="2551"/>
                </a:lnTo>
                <a:lnTo>
                  <a:pt x="1808" y="2411"/>
                </a:lnTo>
                <a:lnTo>
                  <a:pt x="1777" y="2358"/>
                </a:lnTo>
                <a:lnTo>
                  <a:pt x="1742" y="2314"/>
                </a:lnTo>
                <a:lnTo>
                  <a:pt x="1694" y="2235"/>
                </a:lnTo>
                <a:lnTo>
                  <a:pt x="1462" y="1968"/>
                </a:lnTo>
                <a:lnTo>
                  <a:pt x="1462" y="2069"/>
                </a:lnTo>
                <a:lnTo>
                  <a:pt x="1606" y="2244"/>
                </a:lnTo>
                <a:lnTo>
                  <a:pt x="1663" y="2398"/>
                </a:lnTo>
                <a:lnTo>
                  <a:pt x="1567" y="2367"/>
                </a:lnTo>
                <a:lnTo>
                  <a:pt x="1558" y="2279"/>
                </a:lnTo>
                <a:lnTo>
                  <a:pt x="1436" y="2222"/>
                </a:lnTo>
                <a:lnTo>
                  <a:pt x="1506" y="2187"/>
                </a:lnTo>
                <a:lnTo>
                  <a:pt x="1348" y="2086"/>
                </a:lnTo>
                <a:lnTo>
                  <a:pt x="1409" y="2030"/>
                </a:lnTo>
                <a:lnTo>
                  <a:pt x="1352" y="1925"/>
                </a:lnTo>
                <a:lnTo>
                  <a:pt x="1168" y="1688"/>
                </a:lnTo>
                <a:lnTo>
                  <a:pt x="1138" y="1553"/>
                </a:lnTo>
                <a:lnTo>
                  <a:pt x="1151" y="1439"/>
                </a:lnTo>
                <a:lnTo>
                  <a:pt x="1199" y="1334"/>
                </a:lnTo>
                <a:lnTo>
                  <a:pt x="1199" y="1216"/>
                </a:lnTo>
                <a:lnTo>
                  <a:pt x="1168" y="1151"/>
                </a:lnTo>
                <a:lnTo>
                  <a:pt x="1269" y="1129"/>
                </a:lnTo>
                <a:lnTo>
                  <a:pt x="1138" y="993"/>
                </a:lnTo>
                <a:lnTo>
                  <a:pt x="1142" y="932"/>
                </a:lnTo>
                <a:lnTo>
                  <a:pt x="1094" y="844"/>
                </a:lnTo>
                <a:lnTo>
                  <a:pt x="1112" y="796"/>
                </a:lnTo>
                <a:lnTo>
                  <a:pt x="1072" y="765"/>
                </a:lnTo>
                <a:lnTo>
                  <a:pt x="1063" y="708"/>
                </a:lnTo>
                <a:lnTo>
                  <a:pt x="1024" y="669"/>
                </a:lnTo>
                <a:lnTo>
                  <a:pt x="1072" y="625"/>
                </a:lnTo>
                <a:lnTo>
                  <a:pt x="1006" y="603"/>
                </a:lnTo>
                <a:lnTo>
                  <a:pt x="958" y="638"/>
                </a:lnTo>
                <a:lnTo>
                  <a:pt x="884" y="559"/>
                </a:lnTo>
                <a:lnTo>
                  <a:pt x="805" y="533"/>
                </a:lnTo>
                <a:lnTo>
                  <a:pt x="691" y="533"/>
                </a:lnTo>
                <a:lnTo>
                  <a:pt x="626" y="607"/>
                </a:lnTo>
                <a:lnTo>
                  <a:pt x="591" y="590"/>
                </a:lnTo>
                <a:lnTo>
                  <a:pt x="643" y="489"/>
                </a:lnTo>
                <a:lnTo>
                  <a:pt x="591" y="515"/>
                </a:lnTo>
                <a:lnTo>
                  <a:pt x="481" y="607"/>
                </a:lnTo>
                <a:lnTo>
                  <a:pt x="359" y="699"/>
                </a:lnTo>
                <a:lnTo>
                  <a:pt x="258" y="721"/>
                </a:lnTo>
                <a:lnTo>
                  <a:pt x="70" y="818"/>
                </a:lnTo>
                <a:lnTo>
                  <a:pt x="0" y="814"/>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24" name=""/>
          <p:cNvGrpSpPr/>
          <p:nvPr/>
        </p:nvGrpSpPr>
        <p:grpSpPr>
          <a:xfrm>
            <a:off x="2563920" y="3205080"/>
            <a:ext cx="536760" cy="1065600"/>
            <a:chOff x="2563920" y="3205080"/>
            <a:chExt cx="536760" cy="1065600"/>
          </a:xfrm>
        </p:grpSpPr>
        <p:sp>
          <p:nvSpPr>
            <p:cNvPr id="125" name=""/>
            <p:cNvSpPr/>
            <p:nvPr/>
          </p:nvSpPr>
          <p:spPr>
            <a:xfrm>
              <a:off x="2657520" y="3205080"/>
              <a:ext cx="443160" cy="290880"/>
            </a:xfrm>
            <a:custGeom>
              <a:avLst/>
              <a:gdLst/>
              <a:ahLst/>
              <a:rect l="0" t="0" r="r" b="b"/>
              <a:pathLst>
                <a:path w="1231" h="808">
                  <a:moveTo>
                    <a:pt x="0" y="162"/>
                  </a:moveTo>
                  <a:lnTo>
                    <a:pt x="25" y="102"/>
                  </a:lnTo>
                  <a:lnTo>
                    <a:pt x="25" y="59"/>
                  </a:lnTo>
                  <a:lnTo>
                    <a:pt x="69" y="0"/>
                  </a:lnTo>
                  <a:lnTo>
                    <a:pt x="293" y="38"/>
                  </a:lnTo>
                  <a:lnTo>
                    <a:pt x="678" y="106"/>
                  </a:lnTo>
                  <a:lnTo>
                    <a:pt x="834" y="166"/>
                  </a:lnTo>
                  <a:lnTo>
                    <a:pt x="1024" y="231"/>
                  </a:lnTo>
                  <a:lnTo>
                    <a:pt x="1127" y="329"/>
                  </a:lnTo>
                  <a:lnTo>
                    <a:pt x="1231" y="385"/>
                  </a:lnTo>
                  <a:lnTo>
                    <a:pt x="1192" y="423"/>
                  </a:lnTo>
                  <a:lnTo>
                    <a:pt x="1192" y="470"/>
                  </a:lnTo>
                  <a:lnTo>
                    <a:pt x="1149" y="483"/>
                  </a:lnTo>
                  <a:lnTo>
                    <a:pt x="1119" y="526"/>
                  </a:lnTo>
                  <a:lnTo>
                    <a:pt x="1149" y="564"/>
                  </a:lnTo>
                  <a:lnTo>
                    <a:pt x="1144" y="603"/>
                  </a:lnTo>
                  <a:lnTo>
                    <a:pt x="1101" y="646"/>
                  </a:lnTo>
                  <a:lnTo>
                    <a:pt x="1110" y="689"/>
                  </a:lnTo>
                  <a:lnTo>
                    <a:pt x="1179" y="740"/>
                  </a:lnTo>
                  <a:lnTo>
                    <a:pt x="1183" y="774"/>
                  </a:lnTo>
                  <a:lnTo>
                    <a:pt x="1162" y="808"/>
                  </a:lnTo>
                  <a:lnTo>
                    <a:pt x="1097" y="808"/>
                  </a:lnTo>
                  <a:lnTo>
                    <a:pt x="1050" y="783"/>
                  </a:lnTo>
                  <a:lnTo>
                    <a:pt x="993" y="732"/>
                  </a:lnTo>
                  <a:lnTo>
                    <a:pt x="976" y="732"/>
                  </a:lnTo>
                  <a:lnTo>
                    <a:pt x="946" y="710"/>
                  </a:lnTo>
                  <a:lnTo>
                    <a:pt x="920" y="642"/>
                  </a:lnTo>
                  <a:lnTo>
                    <a:pt x="881" y="621"/>
                  </a:lnTo>
                  <a:lnTo>
                    <a:pt x="812" y="590"/>
                  </a:lnTo>
                  <a:lnTo>
                    <a:pt x="747" y="564"/>
                  </a:lnTo>
                  <a:lnTo>
                    <a:pt x="661" y="504"/>
                  </a:lnTo>
                  <a:lnTo>
                    <a:pt x="626" y="462"/>
                  </a:lnTo>
                  <a:lnTo>
                    <a:pt x="631" y="427"/>
                  </a:lnTo>
                  <a:lnTo>
                    <a:pt x="665" y="402"/>
                  </a:lnTo>
                  <a:lnTo>
                    <a:pt x="639" y="363"/>
                  </a:lnTo>
                  <a:lnTo>
                    <a:pt x="600" y="385"/>
                  </a:lnTo>
                  <a:lnTo>
                    <a:pt x="548" y="329"/>
                  </a:lnTo>
                  <a:lnTo>
                    <a:pt x="530" y="355"/>
                  </a:lnTo>
                  <a:lnTo>
                    <a:pt x="487" y="355"/>
                  </a:lnTo>
                  <a:lnTo>
                    <a:pt x="474" y="334"/>
                  </a:lnTo>
                  <a:lnTo>
                    <a:pt x="474" y="299"/>
                  </a:lnTo>
                  <a:lnTo>
                    <a:pt x="448" y="274"/>
                  </a:lnTo>
                  <a:lnTo>
                    <a:pt x="418" y="278"/>
                  </a:lnTo>
                  <a:lnTo>
                    <a:pt x="371" y="218"/>
                  </a:lnTo>
                  <a:lnTo>
                    <a:pt x="341" y="214"/>
                  </a:lnTo>
                  <a:lnTo>
                    <a:pt x="284" y="183"/>
                  </a:lnTo>
                  <a:lnTo>
                    <a:pt x="185" y="192"/>
                  </a:lnTo>
                  <a:lnTo>
                    <a:pt x="73" y="183"/>
                  </a:lnTo>
                  <a:lnTo>
                    <a:pt x="0" y="162"/>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2563920" y="3309840"/>
              <a:ext cx="284400" cy="146520"/>
            </a:xfrm>
            <a:custGeom>
              <a:avLst/>
              <a:gdLst/>
              <a:ahLst/>
              <a:rect l="0" t="0" r="r" b="b"/>
              <a:pathLst>
                <a:path w="790" h="407">
                  <a:moveTo>
                    <a:pt x="29" y="0"/>
                  </a:moveTo>
                  <a:lnTo>
                    <a:pt x="0" y="33"/>
                  </a:lnTo>
                  <a:lnTo>
                    <a:pt x="0" y="70"/>
                  </a:lnTo>
                  <a:lnTo>
                    <a:pt x="55" y="116"/>
                  </a:lnTo>
                  <a:lnTo>
                    <a:pt x="81" y="104"/>
                  </a:lnTo>
                  <a:lnTo>
                    <a:pt x="98" y="121"/>
                  </a:lnTo>
                  <a:lnTo>
                    <a:pt x="136" y="125"/>
                  </a:lnTo>
                  <a:lnTo>
                    <a:pt x="157" y="99"/>
                  </a:lnTo>
                  <a:lnTo>
                    <a:pt x="238" y="104"/>
                  </a:lnTo>
                  <a:lnTo>
                    <a:pt x="243" y="129"/>
                  </a:lnTo>
                  <a:lnTo>
                    <a:pt x="277" y="141"/>
                  </a:lnTo>
                  <a:lnTo>
                    <a:pt x="337" y="137"/>
                  </a:lnTo>
                  <a:lnTo>
                    <a:pt x="358" y="158"/>
                  </a:lnTo>
                  <a:lnTo>
                    <a:pt x="392" y="166"/>
                  </a:lnTo>
                  <a:lnTo>
                    <a:pt x="419" y="199"/>
                  </a:lnTo>
                  <a:lnTo>
                    <a:pt x="419" y="241"/>
                  </a:lnTo>
                  <a:lnTo>
                    <a:pt x="397" y="253"/>
                  </a:lnTo>
                  <a:lnTo>
                    <a:pt x="410" y="270"/>
                  </a:lnTo>
                  <a:lnTo>
                    <a:pt x="375" y="299"/>
                  </a:lnTo>
                  <a:lnTo>
                    <a:pt x="375" y="329"/>
                  </a:lnTo>
                  <a:lnTo>
                    <a:pt x="427" y="341"/>
                  </a:lnTo>
                  <a:lnTo>
                    <a:pt x="453" y="329"/>
                  </a:lnTo>
                  <a:lnTo>
                    <a:pt x="466" y="312"/>
                  </a:lnTo>
                  <a:lnTo>
                    <a:pt x="483" y="329"/>
                  </a:lnTo>
                  <a:lnTo>
                    <a:pt x="513" y="320"/>
                  </a:lnTo>
                  <a:lnTo>
                    <a:pt x="568" y="341"/>
                  </a:lnTo>
                  <a:lnTo>
                    <a:pt x="606" y="378"/>
                  </a:lnTo>
                  <a:lnTo>
                    <a:pt x="619" y="378"/>
                  </a:lnTo>
                  <a:lnTo>
                    <a:pt x="623" y="395"/>
                  </a:lnTo>
                  <a:lnTo>
                    <a:pt x="666" y="407"/>
                  </a:lnTo>
                  <a:lnTo>
                    <a:pt x="705" y="407"/>
                  </a:lnTo>
                  <a:lnTo>
                    <a:pt x="679" y="382"/>
                  </a:lnTo>
                  <a:lnTo>
                    <a:pt x="692" y="366"/>
                  </a:lnTo>
                  <a:lnTo>
                    <a:pt x="730" y="382"/>
                  </a:lnTo>
                  <a:lnTo>
                    <a:pt x="760" y="391"/>
                  </a:lnTo>
                  <a:lnTo>
                    <a:pt x="769" y="366"/>
                  </a:lnTo>
                  <a:lnTo>
                    <a:pt x="734" y="329"/>
                  </a:lnTo>
                  <a:lnTo>
                    <a:pt x="700" y="329"/>
                  </a:lnTo>
                  <a:lnTo>
                    <a:pt x="666" y="308"/>
                  </a:lnTo>
                  <a:lnTo>
                    <a:pt x="700" y="308"/>
                  </a:lnTo>
                  <a:lnTo>
                    <a:pt x="734" y="324"/>
                  </a:lnTo>
                  <a:lnTo>
                    <a:pt x="790" y="324"/>
                  </a:lnTo>
                  <a:lnTo>
                    <a:pt x="773" y="294"/>
                  </a:lnTo>
                  <a:lnTo>
                    <a:pt x="730" y="257"/>
                  </a:lnTo>
                  <a:lnTo>
                    <a:pt x="692" y="253"/>
                  </a:lnTo>
                  <a:lnTo>
                    <a:pt x="641" y="216"/>
                  </a:lnTo>
                  <a:lnTo>
                    <a:pt x="585" y="203"/>
                  </a:lnTo>
                  <a:lnTo>
                    <a:pt x="530" y="191"/>
                  </a:lnTo>
                  <a:lnTo>
                    <a:pt x="491" y="141"/>
                  </a:lnTo>
                  <a:lnTo>
                    <a:pt x="466" y="78"/>
                  </a:lnTo>
                  <a:lnTo>
                    <a:pt x="427" y="78"/>
                  </a:lnTo>
                  <a:lnTo>
                    <a:pt x="414" y="62"/>
                  </a:lnTo>
                  <a:lnTo>
                    <a:pt x="392" y="66"/>
                  </a:lnTo>
                  <a:lnTo>
                    <a:pt x="354" y="41"/>
                  </a:lnTo>
                  <a:lnTo>
                    <a:pt x="290" y="28"/>
                  </a:lnTo>
                  <a:lnTo>
                    <a:pt x="264" y="45"/>
                  </a:lnTo>
                  <a:lnTo>
                    <a:pt x="200" y="28"/>
                  </a:lnTo>
                  <a:lnTo>
                    <a:pt x="166" y="28"/>
                  </a:lnTo>
                  <a:lnTo>
                    <a:pt x="145" y="8"/>
                  </a:lnTo>
                  <a:lnTo>
                    <a:pt x="128" y="0"/>
                  </a:lnTo>
                  <a:lnTo>
                    <a:pt x="98" y="8"/>
                  </a:lnTo>
                  <a:lnTo>
                    <a:pt x="29"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2730600" y="4168800"/>
              <a:ext cx="197280" cy="60840"/>
            </a:xfrm>
            <a:custGeom>
              <a:avLst/>
              <a:gdLst/>
              <a:ahLst/>
              <a:rect l="0" t="0" r="r" b="b"/>
              <a:pathLst>
                <a:path w="548" h="169">
                  <a:moveTo>
                    <a:pt x="0" y="84"/>
                  </a:moveTo>
                  <a:lnTo>
                    <a:pt x="42" y="34"/>
                  </a:lnTo>
                  <a:lnTo>
                    <a:pt x="71" y="34"/>
                  </a:lnTo>
                  <a:lnTo>
                    <a:pt x="100" y="11"/>
                  </a:lnTo>
                  <a:lnTo>
                    <a:pt x="148" y="11"/>
                  </a:lnTo>
                  <a:lnTo>
                    <a:pt x="156" y="7"/>
                  </a:lnTo>
                  <a:lnTo>
                    <a:pt x="173" y="0"/>
                  </a:lnTo>
                  <a:lnTo>
                    <a:pt x="228" y="30"/>
                  </a:lnTo>
                  <a:lnTo>
                    <a:pt x="244" y="50"/>
                  </a:lnTo>
                  <a:lnTo>
                    <a:pt x="253" y="41"/>
                  </a:lnTo>
                  <a:lnTo>
                    <a:pt x="299" y="61"/>
                  </a:lnTo>
                  <a:lnTo>
                    <a:pt x="324" y="61"/>
                  </a:lnTo>
                  <a:lnTo>
                    <a:pt x="354" y="73"/>
                  </a:lnTo>
                  <a:lnTo>
                    <a:pt x="383" y="84"/>
                  </a:lnTo>
                  <a:lnTo>
                    <a:pt x="383" y="111"/>
                  </a:lnTo>
                  <a:lnTo>
                    <a:pt x="456" y="111"/>
                  </a:lnTo>
                  <a:lnTo>
                    <a:pt x="477" y="135"/>
                  </a:lnTo>
                  <a:lnTo>
                    <a:pt x="515" y="135"/>
                  </a:lnTo>
                  <a:lnTo>
                    <a:pt x="548" y="158"/>
                  </a:lnTo>
                  <a:lnTo>
                    <a:pt x="527" y="169"/>
                  </a:lnTo>
                  <a:lnTo>
                    <a:pt x="515" y="158"/>
                  </a:lnTo>
                  <a:lnTo>
                    <a:pt x="510" y="150"/>
                  </a:lnTo>
                  <a:lnTo>
                    <a:pt x="477" y="158"/>
                  </a:lnTo>
                  <a:lnTo>
                    <a:pt x="460" y="158"/>
                  </a:lnTo>
                  <a:lnTo>
                    <a:pt x="435" y="169"/>
                  </a:lnTo>
                  <a:lnTo>
                    <a:pt x="379" y="169"/>
                  </a:lnTo>
                  <a:lnTo>
                    <a:pt x="354" y="169"/>
                  </a:lnTo>
                  <a:lnTo>
                    <a:pt x="354" y="150"/>
                  </a:lnTo>
                  <a:lnTo>
                    <a:pt x="299" y="119"/>
                  </a:lnTo>
                  <a:lnTo>
                    <a:pt x="299" y="84"/>
                  </a:lnTo>
                  <a:lnTo>
                    <a:pt x="244" y="84"/>
                  </a:lnTo>
                  <a:lnTo>
                    <a:pt x="223" y="73"/>
                  </a:lnTo>
                  <a:lnTo>
                    <a:pt x="211" y="84"/>
                  </a:lnTo>
                  <a:lnTo>
                    <a:pt x="190" y="73"/>
                  </a:lnTo>
                  <a:lnTo>
                    <a:pt x="173" y="73"/>
                  </a:lnTo>
                  <a:lnTo>
                    <a:pt x="173" y="46"/>
                  </a:lnTo>
                  <a:lnTo>
                    <a:pt x="156" y="34"/>
                  </a:lnTo>
                  <a:lnTo>
                    <a:pt x="109" y="41"/>
                  </a:lnTo>
                  <a:lnTo>
                    <a:pt x="75" y="73"/>
                  </a:lnTo>
                  <a:lnTo>
                    <a:pt x="37" y="73"/>
                  </a:lnTo>
                  <a:lnTo>
                    <a:pt x="0" y="84"/>
                  </a:lnTo>
                  <a:close/>
                </a:path>
              </a:pathLst>
            </a:custGeom>
            <a:solidFill>
              <a:srgbClr val="00800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28" name=""/>
            <p:cNvSpPr/>
            <p:nvPr/>
          </p:nvSpPr>
          <p:spPr>
            <a:xfrm>
              <a:off x="2913120" y="4219560"/>
              <a:ext cx="119520" cy="51120"/>
            </a:xfrm>
            <a:custGeom>
              <a:avLst/>
              <a:gdLst/>
              <a:ahLst/>
              <a:rect l="0" t="0" r="r" b="b"/>
              <a:pathLst>
                <a:path w="332" h="142">
                  <a:moveTo>
                    <a:pt x="0" y="108"/>
                  </a:moveTo>
                  <a:lnTo>
                    <a:pt x="24" y="112"/>
                  </a:lnTo>
                  <a:lnTo>
                    <a:pt x="98" y="108"/>
                  </a:lnTo>
                  <a:lnTo>
                    <a:pt x="135" y="134"/>
                  </a:lnTo>
                  <a:lnTo>
                    <a:pt x="172" y="142"/>
                  </a:lnTo>
                  <a:lnTo>
                    <a:pt x="196" y="108"/>
                  </a:lnTo>
                  <a:lnTo>
                    <a:pt x="184" y="93"/>
                  </a:lnTo>
                  <a:lnTo>
                    <a:pt x="209" y="82"/>
                  </a:lnTo>
                  <a:lnTo>
                    <a:pt x="241" y="108"/>
                  </a:lnTo>
                  <a:lnTo>
                    <a:pt x="279" y="108"/>
                  </a:lnTo>
                  <a:lnTo>
                    <a:pt x="279" y="90"/>
                  </a:lnTo>
                  <a:lnTo>
                    <a:pt x="304" y="90"/>
                  </a:lnTo>
                  <a:lnTo>
                    <a:pt x="332" y="66"/>
                  </a:lnTo>
                  <a:lnTo>
                    <a:pt x="308" y="63"/>
                  </a:lnTo>
                  <a:lnTo>
                    <a:pt x="308" y="33"/>
                  </a:lnTo>
                  <a:lnTo>
                    <a:pt x="308" y="22"/>
                  </a:lnTo>
                  <a:lnTo>
                    <a:pt x="267" y="14"/>
                  </a:lnTo>
                  <a:lnTo>
                    <a:pt x="225" y="22"/>
                  </a:lnTo>
                  <a:lnTo>
                    <a:pt x="196" y="22"/>
                  </a:lnTo>
                  <a:lnTo>
                    <a:pt x="147" y="14"/>
                  </a:lnTo>
                  <a:lnTo>
                    <a:pt x="111" y="0"/>
                  </a:lnTo>
                  <a:lnTo>
                    <a:pt x="98" y="14"/>
                  </a:lnTo>
                  <a:lnTo>
                    <a:pt x="94" y="44"/>
                  </a:lnTo>
                  <a:lnTo>
                    <a:pt x="61" y="44"/>
                  </a:lnTo>
                  <a:lnTo>
                    <a:pt x="44" y="66"/>
                  </a:lnTo>
                  <a:lnTo>
                    <a:pt x="24" y="78"/>
                  </a:lnTo>
                  <a:lnTo>
                    <a:pt x="0" y="108"/>
                  </a:lnTo>
                  <a:close/>
                </a:path>
              </a:pathLst>
            </a:custGeom>
            <a:solidFill>
              <a:srgbClr val="008000"/>
            </a:solidFill>
            <a:ln w="0">
              <a:noFill/>
            </a:ln>
          </p:spPr>
          <p:txBody>
            <a:bodyPr lIns="90000" rIns="90000" tIns="6120" bIns="6120" anchor="t">
              <a:noAutofit/>
            </a:bodyPr>
            <a:p>
              <a:endParaRPr b="0" lang="en-US" sz="1800" spc="-1" strike="noStrike">
                <a:solidFill>
                  <a:srgbClr val="000000"/>
                </a:solidFill>
                <a:latin typeface="Arial"/>
              </a:endParaRPr>
            </a:p>
          </p:txBody>
        </p:sp>
      </p:grpSp>
      <p:sp>
        <p:nvSpPr>
          <p:cNvPr id="129" name=""/>
          <p:cNvSpPr/>
          <p:nvPr/>
        </p:nvSpPr>
        <p:spPr>
          <a:xfrm>
            <a:off x="4183200" y="4483080"/>
            <a:ext cx="290880" cy="343440"/>
          </a:xfrm>
          <a:custGeom>
            <a:avLst/>
            <a:gdLst/>
            <a:ahLst/>
            <a:rect l="0" t="0" r="r" b="b"/>
            <a:pathLst>
              <a:path w="808" h="954">
                <a:moveTo>
                  <a:pt x="703" y="44"/>
                </a:moveTo>
                <a:lnTo>
                  <a:pt x="212" y="216"/>
                </a:lnTo>
                <a:lnTo>
                  <a:pt x="123" y="389"/>
                </a:lnTo>
                <a:lnTo>
                  <a:pt x="35" y="441"/>
                </a:lnTo>
                <a:lnTo>
                  <a:pt x="52" y="583"/>
                </a:lnTo>
                <a:lnTo>
                  <a:pt x="0" y="636"/>
                </a:lnTo>
                <a:lnTo>
                  <a:pt x="66" y="756"/>
                </a:lnTo>
                <a:lnTo>
                  <a:pt x="79" y="954"/>
                </a:lnTo>
                <a:lnTo>
                  <a:pt x="154" y="954"/>
                </a:lnTo>
                <a:lnTo>
                  <a:pt x="145" y="569"/>
                </a:lnTo>
                <a:lnTo>
                  <a:pt x="208" y="525"/>
                </a:lnTo>
                <a:lnTo>
                  <a:pt x="632" y="530"/>
                </a:lnTo>
                <a:lnTo>
                  <a:pt x="738" y="300"/>
                </a:lnTo>
                <a:lnTo>
                  <a:pt x="808" y="0"/>
                </a:lnTo>
                <a:lnTo>
                  <a:pt x="703" y="4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935520" y="4443480"/>
            <a:ext cx="325800" cy="298800"/>
          </a:xfrm>
          <a:custGeom>
            <a:avLst/>
            <a:gdLst/>
            <a:ahLst/>
            <a:rect l="0" t="0" r="r" b="b"/>
            <a:pathLst>
              <a:path w="905" h="830">
                <a:moveTo>
                  <a:pt x="375" y="0"/>
                </a:moveTo>
                <a:lnTo>
                  <a:pt x="269" y="92"/>
                </a:lnTo>
                <a:lnTo>
                  <a:pt x="314" y="512"/>
                </a:lnTo>
                <a:lnTo>
                  <a:pt x="0" y="516"/>
                </a:lnTo>
                <a:lnTo>
                  <a:pt x="8" y="671"/>
                </a:lnTo>
                <a:lnTo>
                  <a:pt x="234" y="684"/>
                </a:lnTo>
                <a:lnTo>
                  <a:pt x="252" y="830"/>
                </a:lnTo>
                <a:lnTo>
                  <a:pt x="353" y="830"/>
                </a:lnTo>
                <a:lnTo>
                  <a:pt x="406" y="680"/>
                </a:lnTo>
                <a:lnTo>
                  <a:pt x="494" y="688"/>
                </a:lnTo>
                <a:lnTo>
                  <a:pt x="813" y="503"/>
                </a:lnTo>
                <a:lnTo>
                  <a:pt x="905" y="335"/>
                </a:lnTo>
                <a:lnTo>
                  <a:pt x="37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4003560" y="4183200"/>
            <a:ext cx="149760" cy="195480"/>
          </a:xfrm>
          <a:custGeom>
            <a:avLst/>
            <a:gdLst/>
            <a:ahLst/>
            <a:rect l="0" t="0" r="r" b="b"/>
            <a:pathLst>
              <a:path w="416" h="543">
                <a:moveTo>
                  <a:pt x="416" y="0"/>
                </a:moveTo>
                <a:lnTo>
                  <a:pt x="350" y="114"/>
                </a:lnTo>
                <a:lnTo>
                  <a:pt x="70" y="309"/>
                </a:lnTo>
                <a:lnTo>
                  <a:pt x="0" y="508"/>
                </a:lnTo>
                <a:lnTo>
                  <a:pt x="106" y="543"/>
                </a:lnTo>
                <a:lnTo>
                  <a:pt x="120" y="481"/>
                </a:lnTo>
                <a:lnTo>
                  <a:pt x="381" y="283"/>
                </a:lnTo>
                <a:lnTo>
                  <a:pt x="41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3878280" y="4365720"/>
            <a:ext cx="165600" cy="159120"/>
          </a:xfrm>
          <a:custGeom>
            <a:avLst/>
            <a:gdLst/>
            <a:ahLst/>
            <a:rect l="0" t="0" r="r" b="b"/>
            <a:pathLst>
              <a:path w="460" h="442">
                <a:moveTo>
                  <a:pt x="350" y="0"/>
                </a:moveTo>
                <a:lnTo>
                  <a:pt x="460" y="30"/>
                </a:lnTo>
                <a:lnTo>
                  <a:pt x="394" y="115"/>
                </a:lnTo>
                <a:lnTo>
                  <a:pt x="340" y="186"/>
                </a:lnTo>
                <a:lnTo>
                  <a:pt x="243" y="186"/>
                </a:lnTo>
                <a:lnTo>
                  <a:pt x="142" y="442"/>
                </a:lnTo>
                <a:lnTo>
                  <a:pt x="0" y="407"/>
                </a:lnTo>
                <a:lnTo>
                  <a:pt x="133" y="133"/>
                </a:lnTo>
                <a:lnTo>
                  <a:pt x="35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309920" y="4216320"/>
            <a:ext cx="78120" cy="132120"/>
          </a:xfrm>
          <a:custGeom>
            <a:avLst/>
            <a:gdLst/>
            <a:ahLst/>
            <a:rect l="0" t="0" r="r" b="b"/>
            <a:pathLst>
              <a:path w="217" h="367">
                <a:moveTo>
                  <a:pt x="4" y="30"/>
                </a:moveTo>
                <a:lnTo>
                  <a:pt x="195" y="0"/>
                </a:lnTo>
                <a:lnTo>
                  <a:pt x="217" y="225"/>
                </a:lnTo>
                <a:lnTo>
                  <a:pt x="146" y="367"/>
                </a:lnTo>
                <a:lnTo>
                  <a:pt x="35" y="230"/>
                </a:lnTo>
                <a:lnTo>
                  <a:pt x="0" y="195"/>
                </a:lnTo>
                <a:lnTo>
                  <a:pt x="30" y="132"/>
                </a:lnTo>
                <a:lnTo>
                  <a:pt x="4" y="3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854520" y="4406760"/>
            <a:ext cx="217800" cy="225720"/>
          </a:xfrm>
          <a:custGeom>
            <a:avLst/>
            <a:gdLst/>
            <a:ahLst/>
            <a:rect l="0" t="0" r="r" b="b"/>
            <a:pathLst>
              <a:path w="605" h="627">
                <a:moveTo>
                  <a:pt x="455" y="0"/>
                </a:moveTo>
                <a:lnTo>
                  <a:pt x="605" y="101"/>
                </a:lnTo>
                <a:lnTo>
                  <a:pt x="499" y="194"/>
                </a:lnTo>
                <a:lnTo>
                  <a:pt x="543" y="622"/>
                </a:lnTo>
                <a:lnTo>
                  <a:pt x="224" y="622"/>
                </a:lnTo>
                <a:lnTo>
                  <a:pt x="145" y="578"/>
                </a:lnTo>
                <a:lnTo>
                  <a:pt x="0" y="627"/>
                </a:lnTo>
                <a:lnTo>
                  <a:pt x="61" y="455"/>
                </a:lnTo>
                <a:lnTo>
                  <a:pt x="66" y="291"/>
                </a:lnTo>
                <a:lnTo>
                  <a:pt x="207" y="322"/>
                </a:lnTo>
                <a:lnTo>
                  <a:pt x="309" y="70"/>
                </a:lnTo>
                <a:lnTo>
                  <a:pt x="406" y="70"/>
                </a:lnTo>
                <a:lnTo>
                  <a:pt x="45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017960" y="4183200"/>
            <a:ext cx="417960" cy="381240"/>
          </a:xfrm>
          <a:custGeom>
            <a:avLst/>
            <a:gdLst/>
            <a:ahLst/>
            <a:rect l="0" t="0" r="r" b="b"/>
            <a:pathLst>
              <a:path w="1161" h="1059">
                <a:moveTo>
                  <a:pt x="375" y="0"/>
                </a:moveTo>
                <a:lnTo>
                  <a:pt x="759" y="132"/>
                </a:lnTo>
                <a:lnTo>
                  <a:pt x="821" y="123"/>
                </a:lnTo>
                <a:lnTo>
                  <a:pt x="847" y="229"/>
                </a:lnTo>
                <a:lnTo>
                  <a:pt x="816" y="286"/>
                </a:lnTo>
                <a:lnTo>
                  <a:pt x="860" y="330"/>
                </a:lnTo>
                <a:lnTo>
                  <a:pt x="967" y="467"/>
                </a:lnTo>
                <a:lnTo>
                  <a:pt x="972" y="591"/>
                </a:lnTo>
                <a:lnTo>
                  <a:pt x="914" y="671"/>
                </a:lnTo>
                <a:lnTo>
                  <a:pt x="1161" y="878"/>
                </a:lnTo>
                <a:lnTo>
                  <a:pt x="671" y="1059"/>
                </a:lnTo>
                <a:lnTo>
                  <a:pt x="154" y="728"/>
                </a:lnTo>
                <a:lnTo>
                  <a:pt x="0" y="622"/>
                </a:lnTo>
                <a:lnTo>
                  <a:pt x="66" y="538"/>
                </a:lnTo>
                <a:lnTo>
                  <a:pt x="74" y="480"/>
                </a:lnTo>
                <a:lnTo>
                  <a:pt x="336" y="282"/>
                </a:lnTo>
                <a:lnTo>
                  <a:pt x="37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4343400" y="4297320"/>
            <a:ext cx="311400" cy="271800"/>
          </a:xfrm>
          <a:custGeom>
            <a:avLst/>
            <a:gdLst/>
            <a:ahLst/>
            <a:rect l="0" t="0" r="r" b="b"/>
            <a:pathLst>
              <a:path w="865" h="755">
                <a:moveTo>
                  <a:pt x="123" y="0"/>
                </a:moveTo>
                <a:lnTo>
                  <a:pt x="52" y="136"/>
                </a:lnTo>
                <a:lnTo>
                  <a:pt x="61" y="273"/>
                </a:lnTo>
                <a:lnTo>
                  <a:pt x="0" y="352"/>
                </a:lnTo>
                <a:lnTo>
                  <a:pt x="251" y="565"/>
                </a:lnTo>
                <a:lnTo>
                  <a:pt x="357" y="521"/>
                </a:lnTo>
                <a:lnTo>
                  <a:pt x="777" y="755"/>
                </a:lnTo>
                <a:lnTo>
                  <a:pt x="860" y="706"/>
                </a:lnTo>
                <a:lnTo>
                  <a:pt x="865" y="569"/>
                </a:lnTo>
                <a:lnTo>
                  <a:pt x="847" y="110"/>
                </a:lnTo>
                <a:lnTo>
                  <a:pt x="640" y="44"/>
                </a:lnTo>
                <a:lnTo>
                  <a:pt x="543" y="123"/>
                </a:lnTo>
                <a:lnTo>
                  <a:pt x="472" y="216"/>
                </a:lnTo>
                <a:lnTo>
                  <a:pt x="286" y="35"/>
                </a:lnTo>
                <a:lnTo>
                  <a:pt x="123"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4646520" y="4335480"/>
            <a:ext cx="197280" cy="170280"/>
          </a:xfrm>
          <a:custGeom>
            <a:avLst/>
            <a:gdLst/>
            <a:ahLst/>
            <a:rect l="0" t="0" r="r" b="b"/>
            <a:pathLst>
              <a:path w="548" h="473">
                <a:moveTo>
                  <a:pt x="0" y="0"/>
                </a:moveTo>
                <a:lnTo>
                  <a:pt x="22" y="473"/>
                </a:lnTo>
                <a:lnTo>
                  <a:pt x="548" y="473"/>
                </a:lnTo>
                <a:lnTo>
                  <a:pt x="322" y="203"/>
                </a:lnTo>
                <a:lnTo>
                  <a:pt x="322" y="22"/>
                </a:lnTo>
                <a:lnTo>
                  <a:pt x="212" y="13"/>
                </a:lnTo>
                <a:lnTo>
                  <a:pt x="132" y="35"/>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570560" y="4500720"/>
            <a:ext cx="314640" cy="356040"/>
          </a:xfrm>
          <a:custGeom>
            <a:avLst/>
            <a:gdLst/>
            <a:ahLst/>
            <a:rect l="0" t="0" r="r" b="b"/>
            <a:pathLst>
              <a:path w="874" h="989">
                <a:moveTo>
                  <a:pt x="233" y="0"/>
                </a:moveTo>
                <a:lnTo>
                  <a:pt x="750" y="0"/>
                </a:lnTo>
                <a:lnTo>
                  <a:pt x="874" y="340"/>
                </a:lnTo>
                <a:lnTo>
                  <a:pt x="746" y="684"/>
                </a:lnTo>
                <a:lnTo>
                  <a:pt x="763" y="892"/>
                </a:lnTo>
                <a:lnTo>
                  <a:pt x="697" y="985"/>
                </a:lnTo>
                <a:lnTo>
                  <a:pt x="499" y="989"/>
                </a:lnTo>
                <a:lnTo>
                  <a:pt x="308" y="928"/>
                </a:lnTo>
                <a:lnTo>
                  <a:pt x="224" y="800"/>
                </a:lnTo>
                <a:lnTo>
                  <a:pt x="145" y="791"/>
                </a:lnTo>
                <a:lnTo>
                  <a:pt x="0" y="516"/>
                </a:lnTo>
                <a:lnTo>
                  <a:pt x="48" y="393"/>
                </a:lnTo>
                <a:lnTo>
                  <a:pt x="114" y="371"/>
                </a:lnTo>
                <a:lnTo>
                  <a:pt x="145" y="185"/>
                </a:lnTo>
                <a:lnTo>
                  <a:pt x="224" y="141"/>
                </a:lnTo>
                <a:lnTo>
                  <a:pt x="233"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4408560" y="4484520"/>
            <a:ext cx="214560" cy="297360"/>
          </a:xfrm>
          <a:custGeom>
            <a:avLst/>
            <a:gdLst/>
            <a:ahLst/>
            <a:rect l="0" t="0" r="r" b="b"/>
            <a:pathLst>
              <a:path w="596" h="826">
                <a:moveTo>
                  <a:pt x="180" y="0"/>
                </a:moveTo>
                <a:lnTo>
                  <a:pt x="596" y="230"/>
                </a:lnTo>
                <a:lnTo>
                  <a:pt x="565" y="415"/>
                </a:lnTo>
                <a:lnTo>
                  <a:pt x="499" y="437"/>
                </a:lnTo>
                <a:lnTo>
                  <a:pt x="455" y="556"/>
                </a:lnTo>
                <a:lnTo>
                  <a:pt x="534" y="707"/>
                </a:lnTo>
                <a:lnTo>
                  <a:pt x="353" y="795"/>
                </a:lnTo>
                <a:lnTo>
                  <a:pt x="154" y="826"/>
                </a:lnTo>
                <a:lnTo>
                  <a:pt x="97" y="782"/>
                </a:lnTo>
                <a:lnTo>
                  <a:pt x="163" y="716"/>
                </a:lnTo>
                <a:lnTo>
                  <a:pt x="114" y="561"/>
                </a:lnTo>
                <a:lnTo>
                  <a:pt x="0" y="525"/>
                </a:lnTo>
                <a:lnTo>
                  <a:pt x="110" y="287"/>
                </a:lnTo>
                <a:lnTo>
                  <a:pt x="18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843360" y="4614840"/>
            <a:ext cx="95760" cy="70200"/>
          </a:xfrm>
          <a:custGeom>
            <a:avLst/>
            <a:gdLst/>
            <a:ahLst/>
            <a:rect l="0" t="0" r="r" b="b"/>
            <a:pathLst>
              <a:path w="266" h="195">
                <a:moveTo>
                  <a:pt x="35" y="48"/>
                </a:moveTo>
                <a:lnTo>
                  <a:pt x="172" y="0"/>
                </a:lnTo>
                <a:lnTo>
                  <a:pt x="257" y="39"/>
                </a:lnTo>
                <a:lnTo>
                  <a:pt x="266" y="195"/>
                </a:lnTo>
                <a:lnTo>
                  <a:pt x="0" y="159"/>
                </a:lnTo>
                <a:lnTo>
                  <a:pt x="35" y="48"/>
                </a:lnTo>
                <a:close/>
              </a:path>
            </a:pathLst>
          </a:custGeom>
          <a:solidFill>
            <a:srgbClr val="008000"/>
          </a:solidFill>
          <a:ln w="12600">
            <a:solidFill>
              <a:srgbClr val="008000"/>
            </a:solidFill>
            <a:round/>
          </a:ln>
        </p:spPr>
        <p:txBody>
          <a:bodyPr lIns="96120" rIns="96120" tIns="19080" bIns="19080" anchor="t">
            <a:noAutofit/>
          </a:bodyPr>
          <a:p>
            <a:endParaRPr b="0" lang="en-US" sz="1800" spc="-1" strike="noStrike">
              <a:solidFill>
                <a:srgbClr val="000000"/>
              </a:solidFill>
              <a:latin typeface="Arial"/>
            </a:endParaRPr>
          </a:p>
        </p:txBody>
      </p:sp>
      <p:sp>
        <p:nvSpPr>
          <p:cNvPr id="141" name=""/>
          <p:cNvSpPr/>
          <p:nvPr/>
        </p:nvSpPr>
        <p:spPr>
          <a:xfrm>
            <a:off x="3843360" y="4670280"/>
            <a:ext cx="95760" cy="44640"/>
          </a:xfrm>
          <a:custGeom>
            <a:avLst/>
            <a:gdLst/>
            <a:ahLst/>
            <a:rect l="0" t="0" r="r" b="b"/>
            <a:pathLst>
              <a:path w="266" h="124">
                <a:moveTo>
                  <a:pt x="0" y="0"/>
                </a:moveTo>
                <a:lnTo>
                  <a:pt x="266" y="39"/>
                </a:lnTo>
                <a:lnTo>
                  <a:pt x="128" y="124"/>
                </a:lnTo>
                <a:lnTo>
                  <a:pt x="0" y="0"/>
                </a:lnTo>
                <a:close/>
              </a:path>
            </a:pathLst>
          </a:custGeom>
          <a:solidFill>
            <a:srgbClr val="008000"/>
          </a:solidFill>
          <a:ln w="12600">
            <a:solidFill>
              <a:srgbClr val="008000"/>
            </a:solidFill>
            <a:round/>
          </a:ln>
        </p:spPr>
        <p:txBody>
          <a:bodyPr lIns="96120" rIns="96120" tIns="-6480" bIns="-6480" anchor="t">
            <a:noAutofit/>
          </a:bodyPr>
          <a:p>
            <a:endParaRPr b="0" lang="en-US" sz="1800" spc="-1" strike="noStrike">
              <a:solidFill>
                <a:srgbClr val="000000"/>
              </a:solidFill>
              <a:latin typeface="Arial"/>
            </a:endParaRPr>
          </a:p>
        </p:txBody>
      </p:sp>
      <p:sp>
        <p:nvSpPr>
          <p:cNvPr id="142" name=""/>
          <p:cNvSpPr/>
          <p:nvPr/>
        </p:nvSpPr>
        <p:spPr>
          <a:xfrm>
            <a:off x="3889440" y="4683240"/>
            <a:ext cx="138600" cy="111600"/>
          </a:xfrm>
          <a:custGeom>
            <a:avLst/>
            <a:gdLst/>
            <a:ahLst/>
            <a:rect l="0" t="0" r="r" b="b"/>
            <a:pathLst>
              <a:path w="385" h="310">
                <a:moveTo>
                  <a:pt x="0" y="84"/>
                </a:moveTo>
                <a:lnTo>
                  <a:pt x="133" y="0"/>
                </a:lnTo>
                <a:lnTo>
                  <a:pt x="363" y="17"/>
                </a:lnTo>
                <a:lnTo>
                  <a:pt x="385" y="172"/>
                </a:lnTo>
                <a:lnTo>
                  <a:pt x="350" y="310"/>
                </a:lnTo>
                <a:lnTo>
                  <a:pt x="243" y="225"/>
                </a:lnTo>
                <a:lnTo>
                  <a:pt x="168" y="142"/>
                </a:lnTo>
                <a:lnTo>
                  <a:pt x="106" y="208"/>
                </a:lnTo>
                <a:lnTo>
                  <a:pt x="0" y="8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3927600" y="4734000"/>
            <a:ext cx="49680" cy="66960"/>
          </a:xfrm>
          <a:custGeom>
            <a:avLst/>
            <a:gdLst/>
            <a:ahLst/>
            <a:rect l="0" t="0" r="r" b="b"/>
            <a:pathLst>
              <a:path w="138" h="186">
                <a:moveTo>
                  <a:pt x="62" y="0"/>
                </a:moveTo>
                <a:lnTo>
                  <a:pt x="0" y="66"/>
                </a:lnTo>
                <a:lnTo>
                  <a:pt x="107" y="186"/>
                </a:lnTo>
                <a:lnTo>
                  <a:pt x="138" y="79"/>
                </a:lnTo>
                <a:lnTo>
                  <a:pt x="62" y="0"/>
                </a:lnTo>
                <a:close/>
              </a:path>
            </a:pathLst>
          </a:custGeom>
          <a:solidFill>
            <a:srgbClr val="008000"/>
          </a:solidFill>
          <a:ln w="12600">
            <a:solidFill>
              <a:srgbClr val="008000"/>
            </a:solidFill>
            <a:round/>
          </a:ln>
        </p:spPr>
        <p:txBody>
          <a:bodyPr lIns="96120" rIns="96120" tIns="15840" bIns="15840" anchor="t">
            <a:noAutofit/>
          </a:bodyPr>
          <a:p>
            <a:endParaRPr b="0" lang="en-US" sz="1800" spc="-1" strike="noStrike">
              <a:solidFill>
                <a:srgbClr val="000000"/>
              </a:solidFill>
              <a:latin typeface="Arial"/>
            </a:endParaRPr>
          </a:p>
        </p:txBody>
      </p:sp>
      <p:sp>
        <p:nvSpPr>
          <p:cNvPr id="144" name=""/>
          <p:cNvSpPr/>
          <p:nvPr/>
        </p:nvSpPr>
        <p:spPr>
          <a:xfrm>
            <a:off x="3963960" y="4762440"/>
            <a:ext cx="51120" cy="84600"/>
          </a:xfrm>
          <a:custGeom>
            <a:avLst/>
            <a:gdLst/>
            <a:ahLst/>
            <a:rect l="0" t="0" r="r" b="b"/>
            <a:pathLst>
              <a:path w="142" h="235">
                <a:moveTo>
                  <a:pt x="30" y="0"/>
                </a:moveTo>
                <a:lnTo>
                  <a:pt x="0" y="106"/>
                </a:lnTo>
                <a:lnTo>
                  <a:pt x="111" y="235"/>
                </a:lnTo>
                <a:lnTo>
                  <a:pt x="142" y="84"/>
                </a:lnTo>
                <a:lnTo>
                  <a:pt x="30" y="0"/>
                </a:lnTo>
                <a:close/>
              </a:path>
            </a:pathLst>
          </a:custGeom>
          <a:solidFill>
            <a:srgbClr val="008000"/>
          </a:solidFill>
          <a:ln w="12600">
            <a:solidFill>
              <a:srgbClr val="008000"/>
            </a:solidFill>
            <a:round/>
          </a:ln>
        </p:spPr>
        <p:txBody>
          <a:bodyPr lIns="96120" rIns="96120" tIns="33480" bIns="33480" anchor="t">
            <a:noAutofit/>
          </a:bodyPr>
          <a:p>
            <a:endParaRPr b="0" lang="en-US" sz="1800" spc="-1" strike="noStrike">
              <a:solidFill>
                <a:srgbClr val="000000"/>
              </a:solidFill>
              <a:latin typeface="Arial"/>
            </a:endParaRPr>
          </a:p>
        </p:txBody>
      </p:sp>
      <p:sp>
        <p:nvSpPr>
          <p:cNvPr id="145" name=""/>
          <p:cNvSpPr/>
          <p:nvPr/>
        </p:nvSpPr>
        <p:spPr>
          <a:xfrm>
            <a:off x="4003560" y="4741920"/>
            <a:ext cx="108360" cy="105120"/>
          </a:xfrm>
          <a:custGeom>
            <a:avLst/>
            <a:gdLst/>
            <a:ahLst/>
            <a:rect l="0" t="0" r="r" b="b"/>
            <a:pathLst>
              <a:path w="301" h="292">
                <a:moveTo>
                  <a:pt x="66" y="0"/>
                </a:moveTo>
                <a:lnTo>
                  <a:pt x="164" y="0"/>
                </a:lnTo>
                <a:lnTo>
                  <a:pt x="301" y="105"/>
                </a:lnTo>
                <a:lnTo>
                  <a:pt x="288" y="234"/>
                </a:lnTo>
                <a:lnTo>
                  <a:pt x="102" y="239"/>
                </a:lnTo>
                <a:lnTo>
                  <a:pt x="0" y="292"/>
                </a:lnTo>
                <a:lnTo>
                  <a:pt x="30" y="141"/>
                </a:lnTo>
                <a:lnTo>
                  <a:pt x="6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106880" y="4729320"/>
            <a:ext cx="66960" cy="98640"/>
          </a:xfrm>
          <a:custGeom>
            <a:avLst/>
            <a:gdLst/>
            <a:ahLst/>
            <a:rect l="0" t="0" r="r" b="b"/>
            <a:pathLst>
              <a:path w="186" h="274">
                <a:moveTo>
                  <a:pt x="22" y="0"/>
                </a:moveTo>
                <a:lnTo>
                  <a:pt x="159" y="4"/>
                </a:lnTo>
                <a:lnTo>
                  <a:pt x="186" y="274"/>
                </a:lnTo>
                <a:lnTo>
                  <a:pt x="0" y="274"/>
                </a:lnTo>
                <a:lnTo>
                  <a:pt x="22" y="0"/>
                </a:lnTo>
                <a:close/>
              </a:path>
            </a:pathLst>
          </a:custGeom>
          <a:solidFill>
            <a:srgbClr val="008000"/>
          </a:solidFill>
          <a:ln w="12600">
            <a:solidFill>
              <a:srgbClr val="008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47" name=""/>
          <p:cNvSpPr/>
          <p:nvPr/>
        </p:nvSpPr>
        <p:spPr>
          <a:xfrm>
            <a:off x="4060800" y="4641840"/>
            <a:ext cx="152640" cy="184680"/>
          </a:xfrm>
          <a:custGeom>
            <a:avLst/>
            <a:gdLst/>
            <a:ahLst/>
            <a:rect l="0" t="0" r="r" b="b"/>
            <a:pathLst>
              <a:path w="424" h="513">
                <a:moveTo>
                  <a:pt x="57" y="123"/>
                </a:moveTo>
                <a:lnTo>
                  <a:pt x="0" y="278"/>
                </a:lnTo>
                <a:lnTo>
                  <a:pt x="141" y="384"/>
                </a:lnTo>
                <a:lnTo>
                  <a:pt x="154" y="247"/>
                </a:lnTo>
                <a:lnTo>
                  <a:pt x="287" y="247"/>
                </a:lnTo>
                <a:lnTo>
                  <a:pt x="309" y="513"/>
                </a:lnTo>
                <a:lnTo>
                  <a:pt x="424" y="513"/>
                </a:lnTo>
                <a:lnTo>
                  <a:pt x="411" y="322"/>
                </a:lnTo>
                <a:lnTo>
                  <a:pt x="340" y="195"/>
                </a:lnTo>
                <a:lnTo>
                  <a:pt x="397" y="146"/>
                </a:lnTo>
                <a:lnTo>
                  <a:pt x="380" y="0"/>
                </a:lnTo>
                <a:lnTo>
                  <a:pt x="145" y="133"/>
                </a:lnTo>
                <a:lnTo>
                  <a:pt x="57" y="12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33960" y="4672080"/>
            <a:ext cx="216360" cy="190800"/>
          </a:xfrm>
          <a:custGeom>
            <a:avLst/>
            <a:gdLst/>
            <a:ahLst/>
            <a:rect l="0" t="0" r="r" b="b"/>
            <a:pathLst>
              <a:path w="601" h="530">
                <a:moveTo>
                  <a:pt x="66" y="0"/>
                </a:moveTo>
                <a:lnTo>
                  <a:pt x="0" y="44"/>
                </a:lnTo>
                <a:lnTo>
                  <a:pt x="13" y="428"/>
                </a:lnTo>
                <a:lnTo>
                  <a:pt x="287" y="530"/>
                </a:lnTo>
                <a:lnTo>
                  <a:pt x="314" y="353"/>
                </a:lnTo>
                <a:lnTo>
                  <a:pt x="509" y="260"/>
                </a:lnTo>
                <a:lnTo>
                  <a:pt x="601" y="35"/>
                </a:lnTo>
                <a:lnTo>
                  <a:pt x="495" y="4"/>
                </a:lnTo>
                <a:lnTo>
                  <a:pt x="6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4335480" y="4684680"/>
            <a:ext cx="136800" cy="192600"/>
          </a:xfrm>
          <a:custGeom>
            <a:avLst/>
            <a:gdLst/>
            <a:ahLst/>
            <a:rect l="0" t="0" r="r" b="b"/>
            <a:pathLst>
              <a:path w="380" h="535">
                <a:moveTo>
                  <a:pt x="318" y="0"/>
                </a:moveTo>
                <a:lnTo>
                  <a:pt x="225" y="221"/>
                </a:lnTo>
                <a:lnTo>
                  <a:pt x="22" y="318"/>
                </a:lnTo>
                <a:lnTo>
                  <a:pt x="0" y="491"/>
                </a:lnTo>
                <a:lnTo>
                  <a:pt x="4" y="535"/>
                </a:lnTo>
                <a:lnTo>
                  <a:pt x="367" y="491"/>
                </a:lnTo>
                <a:lnTo>
                  <a:pt x="380" y="451"/>
                </a:lnTo>
                <a:lnTo>
                  <a:pt x="349" y="429"/>
                </a:lnTo>
                <a:lnTo>
                  <a:pt x="331" y="344"/>
                </a:lnTo>
                <a:lnTo>
                  <a:pt x="367" y="274"/>
                </a:lnTo>
                <a:lnTo>
                  <a:pt x="305" y="230"/>
                </a:lnTo>
                <a:lnTo>
                  <a:pt x="371" y="159"/>
                </a:lnTo>
                <a:lnTo>
                  <a:pt x="318"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4452840" y="4737240"/>
            <a:ext cx="230400" cy="120960"/>
          </a:xfrm>
          <a:custGeom>
            <a:avLst/>
            <a:gdLst/>
            <a:ahLst/>
            <a:rect l="0" t="0" r="r" b="b"/>
            <a:pathLst>
              <a:path w="640" h="336">
                <a:moveTo>
                  <a:pt x="35" y="119"/>
                </a:moveTo>
                <a:lnTo>
                  <a:pt x="0" y="203"/>
                </a:lnTo>
                <a:lnTo>
                  <a:pt x="17" y="292"/>
                </a:lnTo>
                <a:lnTo>
                  <a:pt x="52" y="309"/>
                </a:lnTo>
                <a:lnTo>
                  <a:pt x="97" y="292"/>
                </a:lnTo>
                <a:lnTo>
                  <a:pt x="141" y="336"/>
                </a:lnTo>
                <a:lnTo>
                  <a:pt x="198" y="269"/>
                </a:lnTo>
                <a:lnTo>
                  <a:pt x="304" y="296"/>
                </a:lnTo>
                <a:lnTo>
                  <a:pt x="441" y="296"/>
                </a:lnTo>
                <a:lnTo>
                  <a:pt x="640" y="265"/>
                </a:lnTo>
                <a:lnTo>
                  <a:pt x="556" y="141"/>
                </a:lnTo>
                <a:lnTo>
                  <a:pt x="468" y="127"/>
                </a:lnTo>
                <a:lnTo>
                  <a:pt x="406" y="0"/>
                </a:lnTo>
                <a:lnTo>
                  <a:pt x="224" y="92"/>
                </a:lnTo>
                <a:lnTo>
                  <a:pt x="35" y="119"/>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325760" y="4867200"/>
            <a:ext cx="82800" cy="120960"/>
          </a:xfrm>
          <a:custGeom>
            <a:avLst/>
            <a:gdLst/>
            <a:ahLst/>
            <a:rect l="0" t="0" r="r" b="b"/>
            <a:pathLst>
              <a:path w="230" h="336">
                <a:moveTo>
                  <a:pt x="30" y="22"/>
                </a:moveTo>
                <a:lnTo>
                  <a:pt x="230" y="0"/>
                </a:lnTo>
                <a:lnTo>
                  <a:pt x="225" y="208"/>
                </a:lnTo>
                <a:lnTo>
                  <a:pt x="66" y="265"/>
                </a:lnTo>
                <a:lnTo>
                  <a:pt x="48" y="336"/>
                </a:lnTo>
                <a:lnTo>
                  <a:pt x="0" y="256"/>
                </a:lnTo>
                <a:lnTo>
                  <a:pt x="30" y="22"/>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4341960" y="4840200"/>
            <a:ext cx="162360" cy="170280"/>
          </a:xfrm>
          <a:custGeom>
            <a:avLst/>
            <a:gdLst/>
            <a:ahLst/>
            <a:rect l="0" t="0" r="r" b="b"/>
            <a:pathLst>
              <a:path w="451" h="473">
                <a:moveTo>
                  <a:pt x="186" y="70"/>
                </a:moveTo>
                <a:lnTo>
                  <a:pt x="350" y="57"/>
                </a:lnTo>
                <a:lnTo>
                  <a:pt x="359" y="17"/>
                </a:lnTo>
                <a:lnTo>
                  <a:pt x="407" y="0"/>
                </a:lnTo>
                <a:lnTo>
                  <a:pt x="451" y="48"/>
                </a:lnTo>
                <a:lnTo>
                  <a:pt x="265" y="394"/>
                </a:lnTo>
                <a:lnTo>
                  <a:pt x="35" y="473"/>
                </a:lnTo>
                <a:lnTo>
                  <a:pt x="0" y="407"/>
                </a:lnTo>
                <a:lnTo>
                  <a:pt x="22" y="340"/>
                </a:lnTo>
                <a:lnTo>
                  <a:pt x="181" y="283"/>
                </a:lnTo>
                <a:lnTo>
                  <a:pt x="186" y="7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4352760" y="4830840"/>
            <a:ext cx="421200" cy="338400"/>
          </a:xfrm>
          <a:custGeom>
            <a:avLst/>
            <a:gdLst/>
            <a:ahLst/>
            <a:rect l="0" t="0" r="r" b="b"/>
            <a:pathLst>
              <a:path w="1170" h="940">
                <a:moveTo>
                  <a:pt x="919" y="0"/>
                </a:moveTo>
                <a:lnTo>
                  <a:pt x="1108" y="66"/>
                </a:lnTo>
                <a:lnTo>
                  <a:pt x="1144" y="176"/>
                </a:lnTo>
                <a:lnTo>
                  <a:pt x="1038" y="282"/>
                </a:lnTo>
                <a:lnTo>
                  <a:pt x="1166" y="374"/>
                </a:lnTo>
                <a:lnTo>
                  <a:pt x="1100" y="503"/>
                </a:lnTo>
                <a:lnTo>
                  <a:pt x="1170" y="693"/>
                </a:lnTo>
                <a:lnTo>
                  <a:pt x="905" y="693"/>
                </a:lnTo>
                <a:lnTo>
                  <a:pt x="905" y="807"/>
                </a:lnTo>
                <a:lnTo>
                  <a:pt x="1007" y="904"/>
                </a:lnTo>
                <a:lnTo>
                  <a:pt x="963" y="940"/>
                </a:lnTo>
                <a:lnTo>
                  <a:pt x="569" y="843"/>
                </a:lnTo>
                <a:lnTo>
                  <a:pt x="547" y="583"/>
                </a:lnTo>
                <a:lnTo>
                  <a:pt x="472" y="578"/>
                </a:lnTo>
                <a:lnTo>
                  <a:pt x="397" y="653"/>
                </a:lnTo>
                <a:lnTo>
                  <a:pt x="277" y="644"/>
                </a:lnTo>
                <a:lnTo>
                  <a:pt x="273" y="552"/>
                </a:lnTo>
                <a:lnTo>
                  <a:pt x="52" y="605"/>
                </a:lnTo>
                <a:lnTo>
                  <a:pt x="0" y="494"/>
                </a:lnTo>
                <a:lnTo>
                  <a:pt x="229" y="418"/>
                </a:lnTo>
                <a:lnTo>
                  <a:pt x="419" y="70"/>
                </a:lnTo>
                <a:lnTo>
                  <a:pt x="477" y="4"/>
                </a:lnTo>
                <a:lnTo>
                  <a:pt x="583" y="35"/>
                </a:lnTo>
                <a:lnTo>
                  <a:pt x="719" y="35"/>
                </a:lnTo>
                <a:lnTo>
                  <a:pt x="919"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836960" y="4621320"/>
            <a:ext cx="206640" cy="254520"/>
          </a:xfrm>
          <a:custGeom>
            <a:avLst/>
            <a:gdLst/>
            <a:ahLst/>
            <a:rect l="0" t="0" r="r" b="b"/>
            <a:pathLst>
              <a:path w="574" h="707">
                <a:moveTo>
                  <a:pt x="127" y="0"/>
                </a:moveTo>
                <a:lnTo>
                  <a:pt x="0" y="358"/>
                </a:lnTo>
                <a:lnTo>
                  <a:pt x="22" y="562"/>
                </a:lnTo>
                <a:lnTo>
                  <a:pt x="300" y="707"/>
                </a:lnTo>
                <a:lnTo>
                  <a:pt x="389" y="645"/>
                </a:lnTo>
                <a:lnTo>
                  <a:pt x="530" y="606"/>
                </a:lnTo>
                <a:lnTo>
                  <a:pt x="574" y="494"/>
                </a:lnTo>
                <a:lnTo>
                  <a:pt x="397" y="380"/>
                </a:lnTo>
                <a:lnTo>
                  <a:pt x="406" y="274"/>
                </a:lnTo>
                <a:lnTo>
                  <a:pt x="327" y="256"/>
                </a:lnTo>
                <a:lnTo>
                  <a:pt x="358" y="132"/>
                </a:lnTo>
                <a:lnTo>
                  <a:pt x="127"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4938840" y="4689360"/>
            <a:ext cx="190800" cy="251280"/>
          </a:xfrm>
          <a:custGeom>
            <a:avLst/>
            <a:gdLst/>
            <a:ahLst/>
            <a:rect l="0" t="0" r="r" b="b"/>
            <a:pathLst>
              <a:path w="530" h="698">
                <a:moveTo>
                  <a:pt x="119" y="83"/>
                </a:moveTo>
                <a:lnTo>
                  <a:pt x="114" y="190"/>
                </a:lnTo>
                <a:lnTo>
                  <a:pt x="287" y="305"/>
                </a:lnTo>
                <a:lnTo>
                  <a:pt x="242" y="415"/>
                </a:lnTo>
                <a:lnTo>
                  <a:pt x="105" y="450"/>
                </a:lnTo>
                <a:lnTo>
                  <a:pt x="17" y="512"/>
                </a:lnTo>
                <a:lnTo>
                  <a:pt x="0" y="588"/>
                </a:lnTo>
                <a:lnTo>
                  <a:pt x="70" y="698"/>
                </a:lnTo>
                <a:lnTo>
                  <a:pt x="358" y="508"/>
                </a:lnTo>
                <a:lnTo>
                  <a:pt x="530" y="0"/>
                </a:lnTo>
                <a:lnTo>
                  <a:pt x="274" y="119"/>
                </a:lnTo>
                <a:lnTo>
                  <a:pt x="119" y="8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4819680" y="4821120"/>
            <a:ext cx="144720" cy="195480"/>
          </a:xfrm>
          <a:custGeom>
            <a:avLst/>
            <a:gdLst/>
            <a:ahLst/>
            <a:rect l="0" t="0" r="r" b="b"/>
            <a:pathLst>
              <a:path w="402" h="543">
                <a:moveTo>
                  <a:pt x="70" y="0"/>
                </a:moveTo>
                <a:lnTo>
                  <a:pt x="4" y="92"/>
                </a:lnTo>
                <a:lnTo>
                  <a:pt x="44" y="167"/>
                </a:lnTo>
                <a:lnTo>
                  <a:pt x="0" y="305"/>
                </a:lnTo>
                <a:lnTo>
                  <a:pt x="44" y="380"/>
                </a:lnTo>
                <a:lnTo>
                  <a:pt x="176" y="437"/>
                </a:lnTo>
                <a:lnTo>
                  <a:pt x="309" y="543"/>
                </a:lnTo>
                <a:lnTo>
                  <a:pt x="402" y="446"/>
                </a:lnTo>
                <a:lnTo>
                  <a:pt x="402" y="327"/>
                </a:lnTo>
                <a:lnTo>
                  <a:pt x="331" y="220"/>
                </a:lnTo>
                <a:lnTo>
                  <a:pt x="349" y="145"/>
                </a:lnTo>
                <a:lnTo>
                  <a:pt x="7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724280" y="4854600"/>
            <a:ext cx="206640" cy="270360"/>
          </a:xfrm>
          <a:custGeom>
            <a:avLst/>
            <a:gdLst/>
            <a:ahLst/>
            <a:rect l="0" t="0" r="r" b="b"/>
            <a:pathLst>
              <a:path w="574" h="751">
                <a:moveTo>
                  <a:pt x="70" y="0"/>
                </a:moveTo>
                <a:lnTo>
                  <a:pt x="273" y="0"/>
                </a:lnTo>
                <a:lnTo>
                  <a:pt x="309" y="70"/>
                </a:lnTo>
                <a:lnTo>
                  <a:pt x="264" y="212"/>
                </a:lnTo>
                <a:lnTo>
                  <a:pt x="314" y="283"/>
                </a:lnTo>
                <a:lnTo>
                  <a:pt x="446" y="344"/>
                </a:lnTo>
                <a:lnTo>
                  <a:pt x="574" y="450"/>
                </a:lnTo>
                <a:lnTo>
                  <a:pt x="459" y="575"/>
                </a:lnTo>
                <a:lnTo>
                  <a:pt x="521" y="659"/>
                </a:lnTo>
                <a:lnTo>
                  <a:pt x="490" y="751"/>
                </a:lnTo>
                <a:lnTo>
                  <a:pt x="318" y="751"/>
                </a:lnTo>
                <a:lnTo>
                  <a:pt x="264" y="676"/>
                </a:lnTo>
                <a:lnTo>
                  <a:pt x="132" y="623"/>
                </a:lnTo>
                <a:lnTo>
                  <a:pt x="61" y="441"/>
                </a:lnTo>
                <a:lnTo>
                  <a:pt x="132" y="309"/>
                </a:lnTo>
                <a:lnTo>
                  <a:pt x="0" y="217"/>
                </a:lnTo>
                <a:lnTo>
                  <a:pt x="105" y="110"/>
                </a:lnTo>
                <a:lnTo>
                  <a:pt x="7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4761000" y="5122800"/>
            <a:ext cx="163800" cy="314640"/>
          </a:xfrm>
          <a:custGeom>
            <a:avLst/>
            <a:gdLst/>
            <a:ahLst/>
            <a:rect l="0" t="0" r="r" b="b"/>
            <a:pathLst>
              <a:path w="455" h="874">
                <a:moveTo>
                  <a:pt x="216" y="4"/>
                </a:moveTo>
                <a:lnTo>
                  <a:pt x="384" y="0"/>
                </a:lnTo>
                <a:lnTo>
                  <a:pt x="455" y="83"/>
                </a:lnTo>
                <a:lnTo>
                  <a:pt x="419" y="317"/>
                </a:lnTo>
                <a:lnTo>
                  <a:pt x="239" y="587"/>
                </a:lnTo>
                <a:lnTo>
                  <a:pt x="176" y="777"/>
                </a:lnTo>
                <a:lnTo>
                  <a:pt x="39" y="874"/>
                </a:lnTo>
                <a:lnTo>
                  <a:pt x="0" y="666"/>
                </a:lnTo>
                <a:lnTo>
                  <a:pt x="101" y="357"/>
                </a:lnTo>
                <a:lnTo>
                  <a:pt x="8" y="304"/>
                </a:lnTo>
                <a:lnTo>
                  <a:pt x="119" y="202"/>
                </a:lnTo>
                <a:lnTo>
                  <a:pt x="136" y="251"/>
                </a:lnTo>
                <a:lnTo>
                  <a:pt x="194" y="299"/>
                </a:lnTo>
                <a:lnTo>
                  <a:pt x="269" y="246"/>
                </a:lnTo>
                <a:lnTo>
                  <a:pt x="198" y="127"/>
                </a:lnTo>
                <a:lnTo>
                  <a:pt x="216" y="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4950000" y="5137200"/>
            <a:ext cx="87840" cy="263880"/>
          </a:xfrm>
          <a:custGeom>
            <a:avLst/>
            <a:gdLst/>
            <a:ahLst/>
            <a:rect l="0" t="0" r="r" b="b"/>
            <a:pathLst>
              <a:path w="244" h="733">
                <a:moveTo>
                  <a:pt x="200" y="0"/>
                </a:moveTo>
                <a:lnTo>
                  <a:pt x="133" y="189"/>
                </a:lnTo>
                <a:lnTo>
                  <a:pt x="30" y="255"/>
                </a:lnTo>
                <a:lnTo>
                  <a:pt x="52" y="450"/>
                </a:lnTo>
                <a:lnTo>
                  <a:pt x="0" y="561"/>
                </a:lnTo>
                <a:lnTo>
                  <a:pt x="4" y="733"/>
                </a:lnTo>
                <a:lnTo>
                  <a:pt x="164" y="658"/>
                </a:lnTo>
                <a:lnTo>
                  <a:pt x="244" y="291"/>
                </a:lnTo>
                <a:lnTo>
                  <a:pt x="20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4649760" y="5214960"/>
            <a:ext cx="149760" cy="168480"/>
          </a:xfrm>
          <a:custGeom>
            <a:avLst/>
            <a:gdLst/>
            <a:ahLst/>
            <a:rect l="0" t="0" r="r" b="b"/>
            <a:pathLst>
              <a:path w="416" h="468">
                <a:moveTo>
                  <a:pt x="0" y="216"/>
                </a:moveTo>
                <a:lnTo>
                  <a:pt x="239" y="0"/>
                </a:lnTo>
                <a:lnTo>
                  <a:pt x="416" y="97"/>
                </a:lnTo>
                <a:lnTo>
                  <a:pt x="309" y="411"/>
                </a:lnTo>
                <a:lnTo>
                  <a:pt x="159" y="468"/>
                </a:lnTo>
                <a:lnTo>
                  <a:pt x="0" y="216"/>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4573440" y="5078520"/>
            <a:ext cx="230400" cy="216360"/>
          </a:xfrm>
          <a:custGeom>
            <a:avLst/>
            <a:gdLst/>
            <a:ahLst/>
            <a:rect l="0" t="0" r="r" b="b"/>
            <a:pathLst>
              <a:path w="640" h="601">
                <a:moveTo>
                  <a:pt x="286" y="0"/>
                </a:moveTo>
                <a:lnTo>
                  <a:pt x="552" y="0"/>
                </a:lnTo>
                <a:lnTo>
                  <a:pt x="600" y="114"/>
                </a:lnTo>
                <a:lnTo>
                  <a:pt x="600" y="234"/>
                </a:lnTo>
                <a:lnTo>
                  <a:pt x="640" y="322"/>
                </a:lnTo>
                <a:lnTo>
                  <a:pt x="534" y="428"/>
                </a:lnTo>
                <a:lnTo>
                  <a:pt x="450" y="384"/>
                </a:lnTo>
                <a:lnTo>
                  <a:pt x="211" y="601"/>
                </a:lnTo>
                <a:lnTo>
                  <a:pt x="74" y="526"/>
                </a:lnTo>
                <a:lnTo>
                  <a:pt x="0" y="353"/>
                </a:lnTo>
                <a:lnTo>
                  <a:pt x="123" y="283"/>
                </a:lnTo>
                <a:lnTo>
                  <a:pt x="70" y="181"/>
                </a:lnTo>
                <a:lnTo>
                  <a:pt x="349" y="247"/>
                </a:lnTo>
                <a:lnTo>
                  <a:pt x="389" y="217"/>
                </a:lnTo>
                <a:lnTo>
                  <a:pt x="286" y="123"/>
                </a:lnTo>
                <a:lnTo>
                  <a:pt x="28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4751280" y="5076720"/>
            <a:ext cx="106560" cy="155880"/>
          </a:xfrm>
          <a:custGeom>
            <a:avLst/>
            <a:gdLst/>
            <a:ahLst/>
            <a:rect l="0" t="0" r="r" b="b"/>
            <a:pathLst>
              <a:path w="296" h="433">
                <a:moveTo>
                  <a:pt x="0" y="0"/>
                </a:moveTo>
                <a:lnTo>
                  <a:pt x="172" y="57"/>
                </a:lnTo>
                <a:lnTo>
                  <a:pt x="231" y="132"/>
                </a:lnTo>
                <a:lnTo>
                  <a:pt x="215" y="256"/>
                </a:lnTo>
                <a:lnTo>
                  <a:pt x="296" y="375"/>
                </a:lnTo>
                <a:lnTo>
                  <a:pt x="205" y="433"/>
                </a:lnTo>
                <a:lnTo>
                  <a:pt x="134" y="384"/>
                </a:lnTo>
                <a:lnTo>
                  <a:pt x="107" y="322"/>
                </a:lnTo>
                <a:lnTo>
                  <a:pt x="59" y="239"/>
                </a:lnTo>
                <a:lnTo>
                  <a:pt x="59" y="119"/>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4352760" y="5027760"/>
            <a:ext cx="248040" cy="259200"/>
          </a:xfrm>
          <a:custGeom>
            <a:avLst/>
            <a:gdLst/>
            <a:ahLst/>
            <a:rect l="0" t="0" r="r" b="b"/>
            <a:pathLst>
              <a:path w="689" h="720">
                <a:moveTo>
                  <a:pt x="0" y="57"/>
                </a:moveTo>
                <a:lnTo>
                  <a:pt x="225" y="0"/>
                </a:lnTo>
                <a:lnTo>
                  <a:pt x="225" y="99"/>
                </a:lnTo>
                <a:lnTo>
                  <a:pt x="344" y="109"/>
                </a:lnTo>
                <a:lnTo>
                  <a:pt x="415" y="33"/>
                </a:lnTo>
                <a:lnTo>
                  <a:pt x="499" y="38"/>
                </a:lnTo>
                <a:lnTo>
                  <a:pt x="516" y="319"/>
                </a:lnTo>
                <a:lnTo>
                  <a:pt x="637" y="348"/>
                </a:lnTo>
                <a:lnTo>
                  <a:pt x="689" y="462"/>
                </a:lnTo>
                <a:lnTo>
                  <a:pt x="566" y="534"/>
                </a:lnTo>
                <a:lnTo>
                  <a:pt x="641" y="720"/>
                </a:lnTo>
                <a:lnTo>
                  <a:pt x="13" y="720"/>
                </a:lnTo>
                <a:lnTo>
                  <a:pt x="132" y="448"/>
                </a:lnTo>
                <a:lnTo>
                  <a:pt x="61" y="319"/>
                </a:lnTo>
                <a:lnTo>
                  <a:pt x="74" y="205"/>
                </a:lnTo>
                <a:lnTo>
                  <a:pt x="0" y="57"/>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376880" y="5265720"/>
            <a:ext cx="276480" cy="222480"/>
          </a:xfrm>
          <a:custGeom>
            <a:avLst/>
            <a:gdLst/>
            <a:ahLst/>
            <a:rect l="0" t="0" r="r" b="b"/>
            <a:pathLst>
              <a:path w="768" h="618">
                <a:moveTo>
                  <a:pt x="0" y="0"/>
                </a:moveTo>
                <a:lnTo>
                  <a:pt x="618" y="0"/>
                </a:lnTo>
                <a:lnTo>
                  <a:pt x="768" y="79"/>
                </a:lnTo>
                <a:lnTo>
                  <a:pt x="565" y="92"/>
                </a:lnTo>
                <a:lnTo>
                  <a:pt x="538" y="255"/>
                </a:lnTo>
                <a:lnTo>
                  <a:pt x="468" y="255"/>
                </a:lnTo>
                <a:lnTo>
                  <a:pt x="464" y="618"/>
                </a:lnTo>
                <a:lnTo>
                  <a:pt x="229" y="600"/>
                </a:lnTo>
                <a:lnTo>
                  <a:pt x="145" y="344"/>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4541760" y="5292720"/>
            <a:ext cx="165600" cy="173520"/>
          </a:xfrm>
          <a:custGeom>
            <a:avLst/>
            <a:gdLst/>
            <a:ahLst/>
            <a:rect l="0" t="0" r="r" b="b"/>
            <a:pathLst>
              <a:path w="460" h="482">
                <a:moveTo>
                  <a:pt x="105" y="13"/>
                </a:moveTo>
                <a:lnTo>
                  <a:pt x="300" y="0"/>
                </a:lnTo>
                <a:lnTo>
                  <a:pt x="460" y="252"/>
                </a:lnTo>
                <a:lnTo>
                  <a:pt x="239" y="416"/>
                </a:lnTo>
                <a:lnTo>
                  <a:pt x="168" y="385"/>
                </a:lnTo>
                <a:lnTo>
                  <a:pt x="79" y="482"/>
                </a:lnTo>
                <a:lnTo>
                  <a:pt x="0" y="363"/>
                </a:lnTo>
                <a:lnTo>
                  <a:pt x="0" y="181"/>
                </a:lnTo>
                <a:lnTo>
                  <a:pt x="74" y="177"/>
                </a:lnTo>
                <a:lnTo>
                  <a:pt x="105" y="1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4459320" y="5361120"/>
            <a:ext cx="316440" cy="251280"/>
          </a:xfrm>
          <a:custGeom>
            <a:avLst/>
            <a:gdLst/>
            <a:ahLst/>
            <a:rect l="0" t="0" r="r" b="b"/>
            <a:pathLst>
              <a:path w="879" h="698">
                <a:moveTo>
                  <a:pt x="0" y="331"/>
                </a:moveTo>
                <a:lnTo>
                  <a:pt x="234" y="349"/>
                </a:lnTo>
                <a:lnTo>
                  <a:pt x="234" y="171"/>
                </a:lnTo>
                <a:lnTo>
                  <a:pt x="314" y="287"/>
                </a:lnTo>
                <a:lnTo>
                  <a:pt x="397" y="195"/>
                </a:lnTo>
                <a:lnTo>
                  <a:pt x="464" y="221"/>
                </a:lnTo>
                <a:lnTo>
                  <a:pt x="689" y="57"/>
                </a:lnTo>
                <a:lnTo>
                  <a:pt x="839" y="0"/>
                </a:lnTo>
                <a:lnTo>
                  <a:pt x="879" y="208"/>
                </a:lnTo>
                <a:lnTo>
                  <a:pt x="839" y="344"/>
                </a:lnTo>
                <a:lnTo>
                  <a:pt x="703" y="512"/>
                </a:lnTo>
                <a:lnTo>
                  <a:pt x="375" y="676"/>
                </a:lnTo>
                <a:lnTo>
                  <a:pt x="189" y="698"/>
                </a:lnTo>
                <a:lnTo>
                  <a:pt x="0" y="331"/>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flipV="1">
            <a:off x="1403280" y="3909960"/>
            <a:ext cx="857160" cy="114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 name=""/>
          <p:cNvSpPr/>
          <p:nvPr/>
        </p:nvSpPr>
        <p:spPr>
          <a:xfrm flipV="1">
            <a:off x="3956040" y="4272120"/>
            <a:ext cx="838080" cy="1123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9" name=""/>
          <p:cNvSpPr/>
          <p:nvPr/>
        </p:nvSpPr>
        <p:spPr>
          <a:xfrm flipH="1" flipV="1">
            <a:off x="4946760" y="4386240"/>
            <a:ext cx="399960" cy="971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0" name=""/>
          <p:cNvSpPr/>
          <p:nvPr/>
        </p:nvSpPr>
        <p:spPr>
          <a:xfrm>
            <a:off x="1365120" y="3662280"/>
            <a:ext cx="1181160" cy="114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1" name=""/>
          <p:cNvSpPr txBox="1"/>
          <p:nvPr/>
        </p:nvSpPr>
        <p:spPr>
          <a:xfrm>
            <a:off x="746280" y="228600"/>
            <a:ext cx="765180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en Is International Windows </a:t>
            </a:r>
            <a:r>
              <a:rPr b="1" i="1" lang="en-US" sz="4800" spc="-1" strike="noStrike">
                <a:solidFill>
                  <a:srgbClr val="f4d337"/>
                </a:solidFill>
                <a:latin typeface="Times New Roman"/>
                <a:ea typeface="Times New Roman"/>
              </a:rPr>
              <a:t>“Chicago”</a:t>
            </a:r>
            <a:r>
              <a:rPr b="1" lang="en-US" sz="4800" spc="-1" strike="noStrike">
                <a:solidFill>
                  <a:srgbClr val="f4d337"/>
                </a:solidFill>
                <a:latin typeface="Times New Roman"/>
                <a:ea typeface="Times New Roman"/>
              </a:rPr>
              <a:t>?</a:t>
            </a:r>
            <a:endParaRPr b="0" lang="en-US" sz="4800" spc="-1" strike="noStrike">
              <a:solidFill>
                <a:srgbClr val="ffffff"/>
              </a:solidFill>
              <a:latin typeface="Arial"/>
            </a:endParaRPr>
          </a:p>
        </p:txBody>
      </p:sp>
      <p:sp>
        <p:nvSpPr>
          <p:cNvPr id="172" name=""/>
          <p:cNvSpPr txBox="1"/>
          <p:nvPr/>
        </p:nvSpPr>
        <p:spPr>
          <a:xfrm>
            <a:off x="747720" y="1895400"/>
            <a:ext cx="7648560" cy="25750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S. ships second half 1994</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jor European languages sim-ship or close to sim-ship</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ny Far East and Mid East languages within 3-6 months after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hip With Win32 Right Now</a:t>
            </a:r>
            <a:endParaRPr b="0" lang="en-US" sz="4800" spc="-1" strike="noStrike">
              <a:solidFill>
                <a:srgbClr val="ffffff"/>
              </a:solidFill>
              <a:latin typeface="Arial"/>
            </a:endParaRPr>
          </a:p>
        </p:txBody>
      </p:sp>
      <p:sp>
        <p:nvSpPr>
          <p:cNvPr id="174" name=""/>
          <p:cNvSpPr txBox="1"/>
          <p:nvPr/>
        </p:nvSpPr>
        <p:spPr>
          <a:xfrm>
            <a:off x="584280" y="1114560"/>
            <a:ext cx="7975440" cy="54100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epares you for “Chicago” </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hip today using Win32s</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un on Windows 3.1, free run-time libraries</a:t>
            </a:r>
            <a:endParaRPr b="0" lang="en-US" sz="28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un on Windows NT</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s a native 32-bit application</a:t>
            </a:r>
            <a:endParaRPr b="0" lang="en-US" sz="28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Japan version of Win32s shipped</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rformance and capacity improvements</a:t>
            </a:r>
            <a:endParaRPr b="0" lang="en-US" sz="32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1/2 GB linear address space, no segmentation headache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imitations of Win32s:  shared memory, </a:t>
            </a:r>
            <a:br>
              <a:rPr sz="3200"/>
            </a:br>
            <a:r>
              <a:rPr b="1" lang="en-US" sz="3200" spc="-1" strike="noStrike">
                <a:solidFill>
                  <a:srgbClr val="ffffff"/>
                </a:solidFill>
                <a:latin typeface="Times New Roman"/>
                <a:ea typeface="Times New Roman"/>
              </a:rPr>
              <a:t>no threads, base Win32 API s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5" name=""/>
          <p:cNvSpPr txBox="1"/>
          <p:nvPr/>
        </p:nvSpPr>
        <p:spPr>
          <a:xfrm>
            <a:off x="220680" y="228600"/>
            <a:ext cx="870264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proved International </a:t>
            </a:r>
            <a:br>
              <a:rPr sz="4800"/>
            </a:br>
            <a:r>
              <a:rPr b="1" lang="en-US" sz="4800" spc="-1" strike="noStrike">
                <a:solidFill>
                  <a:srgbClr val="f4d337"/>
                </a:solidFill>
                <a:latin typeface="Times New Roman"/>
                <a:ea typeface="Times New Roman"/>
              </a:rPr>
              <a:t>Services In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176" name=""/>
          <p:cNvSpPr txBox="1"/>
          <p:nvPr/>
        </p:nvSpPr>
        <p:spPr>
          <a:xfrm>
            <a:off x="1076400" y="1747800"/>
            <a:ext cx="6991200" cy="46292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API</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NLS API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ments to Far East IM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en recognition including Japane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graphics and multimedi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OSA, messaging, telephony ser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BCS-enabled ODBC for Japan</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ull set of object-oriented services, that is, OLE techn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7"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2.0</a:t>
            </a:r>
            <a:br>
              <a:rPr sz="4800"/>
            </a:br>
            <a:r>
              <a:rPr b="1" lang="en-US" sz="3600" spc="-1" strike="noStrike">
                <a:solidFill>
                  <a:srgbClr val="fafd00"/>
                </a:solidFill>
                <a:latin typeface="Times New Roman"/>
                <a:ea typeface="Times New Roman"/>
              </a:rPr>
              <a:t>Works well for international</a:t>
            </a:r>
            <a:endParaRPr b="0" lang="en-US" sz="3600" spc="-1" strike="noStrike">
              <a:solidFill>
                <a:srgbClr val="ffffff"/>
              </a:solidFill>
              <a:latin typeface="Arial"/>
            </a:endParaRPr>
          </a:p>
        </p:txBody>
      </p:sp>
      <p:sp>
        <p:nvSpPr>
          <p:cNvPr id="178" name=""/>
          <p:cNvSpPr txBox="1"/>
          <p:nvPr/>
        </p:nvSpPr>
        <p:spPr>
          <a:xfrm>
            <a:off x="171360" y="1751040"/>
            <a:ext cx="5729400" cy="1552680"/>
          </a:xfrm>
          <a:prstGeom prst="rect">
            <a:avLst/>
          </a:prstGeom>
          <a:noFill/>
          <a:ln w="0">
            <a:noFill/>
          </a:ln>
        </p:spPr>
        <p:txBody>
          <a:bodyPr lIns="0" rIns="0" tIns="0" bIns="0" anchor="t">
            <a:noAutofit/>
          </a:bodyPr>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glue</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hortcut to country-specific </a:t>
            </a:r>
            <a:br>
              <a:rPr sz="3200"/>
            </a:br>
            <a:r>
              <a:rPr b="1" lang="en-US" sz="3200" spc="-1" strike="noStrike">
                <a:solidFill>
                  <a:srgbClr val="ffffff"/>
                </a:solidFill>
                <a:latin typeface="Times New Roman"/>
                <a:ea typeface="Times New Roman"/>
              </a:rPr>
              <a:t>features in your application</a:t>
            </a:r>
            <a:endParaRPr b="0" lang="en-US" sz="3200" spc="-1" strike="noStrike">
              <a:solidFill>
                <a:srgbClr val="ffffff"/>
              </a:solidFill>
              <a:latin typeface="Arial"/>
            </a:endParaRPr>
          </a:p>
        </p:txBody>
      </p:sp>
      <p:sp>
        <p:nvSpPr>
          <p:cNvPr id="179" name=""/>
          <p:cNvSpPr txBox="1"/>
          <p:nvPr/>
        </p:nvSpPr>
        <p:spPr>
          <a:xfrm>
            <a:off x="1139760" y="3629160"/>
            <a:ext cx="3448080" cy="229068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Custom form</a:t>
            </a:r>
            <a:endParaRPr b="0" lang="en-US" sz="1800" spc="-1" strike="noStrike">
              <a:solidFill>
                <a:srgbClr val="000000"/>
              </a:solidFill>
              <a:latin typeface="Arial"/>
            </a:endParaRPr>
          </a:p>
        </p:txBody>
      </p:sp>
      <p:sp>
        <p:nvSpPr>
          <p:cNvPr id="180" name=""/>
          <p:cNvSpPr txBox="1"/>
          <p:nvPr/>
        </p:nvSpPr>
        <p:spPr>
          <a:xfrm>
            <a:off x="2606760" y="4638600"/>
            <a:ext cx="1847880" cy="1147680"/>
          </a:xfrm>
          <a:prstGeom prst="rect">
            <a:avLst/>
          </a:prstGeom>
          <a:gradFill rotWithShape="0">
            <a:gsLst>
              <a:gs pos="0">
                <a:srgbClr val="2990cc"/>
              </a:gs>
              <a:gs pos="100000">
                <a:srgbClr val="34b5ff"/>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Draw package</a:t>
            </a:r>
            <a:endParaRPr b="0" lang="en-US" sz="1800" spc="-1" strike="noStrike">
              <a:solidFill>
                <a:srgbClr val="000000"/>
              </a:solidFill>
              <a:latin typeface="Arial"/>
            </a:endParaRPr>
          </a:p>
        </p:txBody>
      </p:sp>
      <p:sp>
        <p:nvSpPr>
          <p:cNvPr id="181" name=""/>
          <p:cNvSpPr/>
          <p:nvPr/>
        </p:nvSpPr>
        <p:spPr>
          <a:xfrm>
            <a:off x="1216080" y="4105440"/>
            <a:ext cx="173340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2" name=""/>
          <p:cNvSpPr/>
          <p:nvPr/>
        </p:nvSpPr>
        <p:spPr>
          <a:xfrm>
            <a:off x="1235160" y="458136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3" name=""/>
          <p:cNvSpPr/>
          <p:nvPr/>
        </p:nvSpPr>
        <p:spPr>
          <a:xfrm>
            <a:off x="1235160" y="486720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1235160" y="517212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a:off x="1235160" y="545796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6" name=""/>
          <p:cNvSpPr txBox="1"/>
          <p:nvPr/>
        </p:nvSpPr>
        <p:spPr>
          <a:xfrm>
            <a:off x="5713560" y="5135400"/>
            <a:ext cx="2400480" cy="1147680"/>
          </a:xfrm>
          <a:prstGeom prst="rect">
            <a:avLst/>
          </a:prstGeom>
          <a:gradFill rotWithShape="0">
            <a:gsLst>
              <a:gs pos="0">
                <a:srgbClr val="2990cc"/>
              </a:gs>
              <a:gs pos="100000">
                <a:srgbClr val="34b5ff"/>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Draw package code</a:t>
            </a:r>
            <a:endParaRPr b="0" lang="en-US" sz="1800" spc="-1" strike="noStrike">
              <a:solidFill>
                <a:srgbClr val="000000"/>
              </a:solidFill>
              <a:latin typeface="Arial"/>
            </a:endParaRPr>
          </a:p>
        </p:txBody>
      </p:sp>
      <p:sp>
        <p:nvSpPr>
          <p:cNvPr id="187" name=""/>
          <p:cNvSpPr txBox="1"/>
          <p:nvPr/>
        </p:nvSpPr>
        <p:spPr>
          <a:xfrm>
            <a:off x="5732640" y="2886120"/>
            <a:ext cx="2400480" cy="114768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Custom form code</a:t>
            </a:r>
            <a:endParaRPr b="0" lang="en-US" sz="1800" spc="-1" strike="noStrike">
              <a:solidFill>
                <a:srgbClr val="000000"/>
              </a:solidFill>
              <a:latin typeface="Arial"/>
            </a:endParaRPr>
          </a:p>
        </p:txBody>
      </p:sp>
      <p:sp>
        <p:nvSpPr>
          <p:cNvPr id="188" name=""/>
          <p:cNvSpPr txBox="1"/>
          <p:nvPr/>
        </p:nvSpPr>
        <p:spPr>
          <a:xfrm>
            <a:off x="6157800" y="3614760"/>
            <a:ext cx="1181160" cy="385920"/>
          </a:xfrm>
          <a:prstGeom prst="rect">
            <a:avLst/>
          </a:prstGeom>
          <a:noFill/>
          <a:ln w="12600">
            <a:solidFill>
              <a:srgbClr val="ffffff"/>
            </a:solidFill>
            <a:round/>
            <a:tailEnd len="med" type="triangle" w="med"/>
          </a:ln>
        </p:spPr>
        <p:txBody>
          <a:bodyPr lIns="0" rIns="0" tIns="0" bIns="0" anchor="t">
            <a:noAutofit/>
          </a:bodyPr>
          <a:p>
            <a:pPr>
              <a:lnSpc>
                <a:spcPct val="100000"/>
              </a:lnSpc>
            </a:pPr>
            <a:r>
              <a:rPr b="1" lang="en-US" sz="1800" spc="-1" strike="noStrike">
                <a:solidFill>
                  <a:srgbClr val="ffffff"/>
                </a:solidFill>
                <a:latin typeface="Times New Roman"/>
                <a:ea typeface="Times New Roman"/>
              </a:rPr>
              <a:t>Interfaces</a:t>
            </a:r>
            <a:endParaRPr b="0" lang="en-US" sz="1800" spc="-1" strike="noStrike">
              <a:solidFill>
                <a:srgbClr val="ffffff"/>
              </a:solidFill>
              <a:latin typeface="Arial"/>
            </a:endParaRPr>
          </a:p>
        </p:txBody>
      </p:sp>
      <p:sp>
        <p:nvSpPr>
          <p:cNvPr id="189" name=""/>
          <p:cNvSpPr txBox="1"/>
          <p:nvPr/>
        </p:nvSpPr>
        <p:spPr>
          <a:xfrm>
            <a:off x="6195960" y="5157720"/>
            <a:ext cx="1181160" cy="385920"/>
          </a:xfrm>
          <a:prstGeom prst="rect">
            <a:avLst/>
          </a:prstGeom>
          <a:noFill/>
          <a:ln w="12600">
            <a:solidFill>
              <a:srgbClr val="ffffff"/>
            </a:solidFill>
            <a:round/>
            <a:tailEnd len="med" type="triangle" w="med"/>
          </a:ln>
        </p:spPr>
        <p:txBody>
          <a:bodyPr lIns="0" rIns="0" tIns="0" bIns="0" anchor="t">
            <a:noAutofit/>
          </a:bodyPr>
          <a:p>
            <a:pPr>
              <a:lnSpc>
                <a:spcPct val="100000"/>
              </a:lnSpc>
            </a:pPr>
            <a:r>
              <a:rPr b="1" lang="en-US" sz="1800" spc="-1" strike="noStrike">
                <a:solidFill>
                  <a:srgbClr val="ffffff"/>
                </a:solidFill>
                <a:latin typeface="Times New Roman"/>
                <a:ea typeface="Times New Roman"/>
              </a:rPr>
              <a:t>Interfaces</a:t>
            </a:r>
            <a:endParaRPr b="0" lang="en-US" sz="1800" spc="-1" strike="noStrike">
              <a:solidFill>
                <a:srgbClr val="ffffff"/>
              </a:solidFill>
              <a:latin typeface="Arial"/>
            </a:endParaRPr>
          </a:p>
        </p:txBody>
      </p:sp>
      <p:sp>
        <p:nvSpPr>
          <p:cNvPr id="190" name=""/>
          <p:cNvSpPr/>
          <p:nvPr/>
        </p:nvSpPr>
        <p:spPr>
          <a:xfrm>
            <a:off x="6373800" y="404820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6640560" y="40291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2" name=""/>
          <p:cNvSpPr/>
          <p:nvPr/>
        </p:nvSpPr>
        <p:spPr>
          <a:xfrm>
            <a:off x="6869160" y="404820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7135920" y="40291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6335640" y="498168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6602400" y="496260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6" name=""/>
          <p:cNvSpPr/>
          <p:nvPr/>
        </p:nvSpPr>
        <p:spPr>
          <a:xfrm>
            <a:off x="6869160" y="498168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7135920" y="496260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6383160" y="4581360"/>
            <a:ext cx="724320" cy="209880"/>
          </a:xfrm>
          <a:custGeom>
            <a:avLst/>
            <a:gdLst/>
            <a:ahLst/>
            <a:rect l="0" t="0" r="r" b="b"/>
            <a:pathLst>
              <a:path w="2012" h="583">
                <a:moveTo>
                  <a:pt x="670" y="0"/>
                </a:moveTo>
                <a:lnTo>
                  <a:pt x="1340" y="0"/>
                </a:lnTo>
                <a:lnTo>
                  <a:pt x="1340" y="408"/>
                </a:lnTo>
                <a:lnTo>
                  <a:pt x="2012" y="408"/>
                </a:lnTo>
                <a:lnTo>
                  <a:pt x="1006" y="583"/>
                </a:lnTo>
                <a:lnTo>
                  <a:pt x="0" y="408"/>
                </a:lnTo>
                <a:lnTo>
                  <a:pt x="670" y="408"/>
                </a:lnTo>
                <a:lnTo>
                  <a:pt x="670"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6383160" y="4314960"/>
            <a:ext cx="724320" cy="209880"/>
          </a:xfrm>
          <a:custGeom>
            <a:avLst/>
            <a:gdLst/>
            <a:ahLst/>
            <a:rect l="0" t="0" r="r" b="b"/>
            <a:pathLst>
              <a:path w="2012" h="583">
                <a:moveTo>
                  <a:pt x="670" y="583"/>
                </a:moveTo>
                <a:lnTo>
                  <a:pt x="1340" y="583"/>
                </a:lnTo>
                <a:lnTo>
                  <a:pt x="1340" y="174"/>
                </a:lnTo>
                <a:lnTo>
                  <a:pt x="2012" y="174"/>
                </a:lnTo>
                <a:lnTo>
                  <a:pt x="1006" y="0"/>
                </a:lnTo>
                <a:lnTo>
                  <a:pt x="0" y="174"/>
                </a:lnTo>
                <a:lnTo>
                  <a:pt x="670" y="174"/>
                </a:lnTo>
                <a:lnTo>
                  <a:pt x="670" y="583"/>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4321080" y="5610240"/>
            <a:ext cx="1390680" cy="0"/>
          </a:xfrm>
          <a:prstGeom prst="line">
            <a:avLst/>
          </a:prstGeom>
          <a:ln w="152280">
            <a:solidFill>
              <a:srgbClr val="ffffff"/>
            </a:solidFill>
            <a:round/>
            <a:headEnd len="med" type="triangle" w="me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201" name=""/>
          <p:cNvSpPr/>
          <p:nvPr/>
        </p:nvSpPr>
        <p:spPr>
          <a:xfrm>
            <a:off x="4454640" y="3819600"/>
            <a:ext cx="1390680" cy="0"/>
          </a:xfrm>
          <a:prstGeom prst="line">
            <a:avLst/>
          </a:prstGeom>
          <a:ln w="152280">
            <a:solidFill>
              <a:srgbClr val="ffffff"/>
            </a:solidFill>
            <a:round/>
            <a:headEnd len="med" type="triangle" w="me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202" name=""/>
          <p:cNvSpPr/>
          <p:nvPr/>
        </p:nvSpPr>
        <p:spPr>
          <a:xfrm>
            <a:off x="2759040" y="5114880"/>
            <a:ext cx="380880" cy="209520"/>
          </a:xfrm>
          <a:prstGeom prst="rect">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3597120" y="5133960"/>
            <a:ext cx="476280" cy="209520"/>
          </a:xfrm>
          <a:prstGeom prst="ellipse">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3235320" y="5477040"/>
            <a:ext cx="361800" cy="171360"/>
          </a:xfrm>
          <a:prstGeom prst="rect">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3139920" y="526716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2930400" y="5324400"/>
            <a:ext cx="305280" cy="228960"/>
          </a:xfrm>
          <a:custGeom>
            <a:avLst/>
            <a:gdLst/>
            <a:ahLst/>
            <a:rect l="0" t="0" r="r" b="b"/>
            <a:pathLst>
              <a:path fill="none" w="848" h="636">
                <a:moveTo>
                  <a:pt x="0" y="0"/>
                </a:moveTo>
                <a:lnTo>
                  <a:pt x="0" y="0"/>
                </a:lnTo>
                <a:cubicBezTo>
                  <a:pt x="0" y="112"/>
                  <a:pt x="39" y="221"/>
                  <a:pt x="114" y="318"/>
                </a:cubicBezTo>
                <a:cubicBezTo>
                  <a:pt x="188" y="415"/>
                  <a:pt x="295" y="495"/>
                  <a:pt x="424" y="551"/>
                </a:cubicBezTo>
                <a:cubicBezTo>
                  <a:pt x="553" y="607"/>
                  <a:pt x="699" y="636"/>
                  <a:pt x="848" y="636"/>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7" name=""/>
          <p:cNvSpPr txBox="1"/>
          <p:nvPr/>
        </p:nvSpPr>
        <p:spPr>
          <a:xfrm>
            <a:off x="220680" y="228600"/>
            <a:ext cx="87026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International</a:t>
            </a:r>
            <a:endParaRPr b="0" lang="en-US" sz="4800" spc="-1" strike="noStrike">
              <a:solidFill>
                <a:srgbClr val="ffffff"/>
              </a:solidFill>
              <a:latin typeface="Arial"/>
            </a:endParaRPr>
          </a:p>
        </p:txBody>
      </p:sp>
      <p:sp>
        <p:nvSpPr>
          <p:cNvPr id="208" name=""/>
          <p:cNvSpPr txBox="1"/>
          <p:nvPr/>
        </p:nvSpPr>
        <p:spPr>
          <a:xfrm>
            <a:off x="1027080" y="1420920"/>
            <a:ext cx="7089840" cy="2428920"/>
          </a:xfrm>
          <a:prstGeom prst="rect">
            <a:avLst/>
          </a:prstGeom>
          <a:noFill/>
          <a:ln w="0">
            <a:noFill/>
          </a:ln>
        </p:spPr>
        <p:txBody>
          <a:bodyPr lIns="0" rIns="0" tIns="0" bIns="0" anchor="t">
            <a:noAutofit/>
          </a:bodyPr>
          <a:p>
            <a:pPr marL="542880" indent="-5428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16 with OLE 2.01 libraries </a:t>
            </a:r>
            <a:br>
              <a:rPr sz="3200"/>
            </a:br>
            <a:r>
              <a:rPr b="1" lang="en-US" sz="3200" spc="-1" strike="noStrike">
                <a:solidFill>
                  <a:srgbClr val="ffffff"/>
                </a:solidFill>
                <a:latin typeface="Times New Roman"/>
                <a:ea typeface="Times New Roman"/>
              </a:rPr>
              <a:t>DBCS-enabled, including in the U.S.</a:t>
            </a:r>
            <a:endParaRPr b="0" lang="en-US" sz="3200" spc="-1" strike="noStrike">
              <a:solidFill>
                <a:srgbClr val="ffffff"/>
              </a:solidFill>
              <a:latin typeface="Arial"/>
            </a:endParaRPr>
          </a:p>
          <a:p>
            <a:pPr marL="542880" indent="-5428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with OLE 2.01 libraries consistently Unicode</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enabled, including in the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n Fowles</dc:creator>
  <dc:description>600x800</dc:description>
  <dc:language>en-US</dc:language>
  <cp:lastModifiedBy>shannon wheeler</cp:lastModifiedBy>
  <cp:revision>0</cp:revision>
  <dc:subject>SD 94</dc:subject>
  <dc:title>using Win32 to Create International Applicat</dc:title>
</cp:coreProperties>
</file>