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95280" y="23760"/>
            <a:ext cx="9921960" cy="6832800"/>
            <a:chOff x="-395280" y="23760"/>
            <a:chExt cx="9921960" cy="6832800"/>
          </a:xfrm>
        </p:grpSpPr>
        <p:sp>
          <p:nvSpPr>
            <p:cNvPr id="1" name=""/>
            <p:cNvSpPr/>
            <p:nvPr/>
          </p:nvSpPr>
          <p:spPr>
            <a:xfrm>
              <a:off x="119160" y="1600200"/>
              <a:ext cx="8001000" cy="7920"/>
            </a:xfrm>
            <a:prstGeom prst="rect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7360" y="1589040"/>
              <a:ext cx="8001000" cy="7920"/>
            </a:xfrm>
            <a:prstGeom prst="rect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075520" y="1362240"/>
              <a:ext cx="565560" cy="545040"/>
            </a:xfrm>
            <a:custGeom>
              <a:avLst/>
              <a:gdLst/>
              <a:ahLst/>
              <a:rect l="0" t="0" r="r" b="b"/>
              <a:pathLst>
                <a:path w="1571" h="1514">
                  <a:moveTo>
                    <a:pt x="603" y="1358"/>
                  </a:moveTo>
                  <a:lnTo>
                    <a:pt x="538" y="1453"/>
                  </a:lnTo>
                  <a:lnTo>
                    <a:pt x="465" y="1432"/>
                  </a:lnTo>
                  <a:lnTo>
                    <a:pt x="478" y="1341"/>
                  </a:lnTo>
                  <a:lnTo>
                    <a:pt x="359" y="1254"/>
                  </a:lnTo>
                  <a:lnTo>
                    <a:pt x="247" y="1306"/>
                  </a:lnTo>
                  <a:lnTo>
                    <a:pt x="199" y="1245"/>
                  </a:lnTo>
                  <a:lnTo>
                    <a:pt x="260" y="1172"/>
                  </a:lnTo>
                  <a:lnTo>
                    <a:pt x="199" y="1045"/>
                  </a:lnTo>
                  <a:lnTo>
                    <a:pt x="78" y="1067"/>
                  </a:lnTo>
                  <a:lnTo>
                    <a:pt x="47" y="997"/>
                  </a:lnTo>
                  <a:lnTo>
                    <a:pt x="134" y="941"/>
                  </a:lnTo>
                  <a:lnTo>
                    <a:pt x="108" y="824"/>
                  </a:lnTo>
                  <a:lnTo>
                    <a:pt x="8" y="811"/>
                  </a:lnTo>
                  <a:lnTo>
                    <a:pt x="0" y="720"/>
                  </a:lnTo>
                  <a:lnTo>
                    <a:pt x="99" y="690"/>
                  </a:lnTo>
                  <a:lnTo>
                    <a:pt x="134" y="599"/>
                  </a:lnTo>
                  <a:lnTo>
                    <a:pt x="34" y="516"/>
                  </a:lnTo>
                  <a:lnTo>
                    <a:pt x="65" y="456"/>
                  </a:lnTo>
                  <a:lnTo>
                    <a:pt x="173" y="460"/>
                  </a:lnTo>
                  <a:lnTo>
                    <a:pt x="212" y="395"/>
                  </a:lnTo>
                  <a:lnTo>
                    <a:pt x="151" y="286"/>
                  </a:lnTo>
                  <a:lnTo>
                    <a:pt x="199" y="242"/>
                  </a:lnTo>
                  <a:lnTo>
                    <a:pt x="303" y="277"/>
                  </a:lnTo>
                  <a:lnTo>
                    <a:pt x="346" y="229"/>
                  </a:lnTo>
                  <a:lnTo>
                    <a:pt x="329" y="130"/>
                  </a:lnTo>
                  <a:lnTo>
                    <a:pt x="390" y="91"/>
                  </a:lnTo>
                  <a:lnTo>
                    <a:pt x="469" y="143"/>
                  </a:lnTo>
                  <a:lnTo>
                    <a:pt x="595" y="112"/>
                  </a:lnTo>
                  <a:lnTo>
                    <a:pt x="608" y="4"/>
                  </a:lnTo>
                  <a:lnTo>
                    <a:pt x="690" y="0"/>
                  </a:lnTo>
                  <a:lnTo>
                    <a:pt x="746" y="86"/>
                  </a:lnTo>
                  <a:lnTo>
                    <a:pt x="785" y="86"/>
                  </a:lnTo>
                  <a:lnTo>
                    <a:pt x="824" y="86"/>
                  </a:lnTo>
                  <a:lnTo>
                    <a:pt x="881" y="0"/>
                  </a:lnTo>
                  <a:lnTo>
                    <a:pt x="955" y="4"/>
                  </a:lnTo>
                  <a:lnTo>
                    <a:pt x="976" y="112"/>
                  </a:lnTo>
                  <a:lnTo>
                    <a:pt x="1098" y="143"/>
                  </a:lnTo>
                  <a:lnTo>
                    <a:pt x="1171" y="91"/>
                  </a:lnTo>
                  <a:lnTo>
                    <a:pt x="1237" y="130"/>
                  </a:lnTo>
                  <a:lnTo>
                    <a:pt x="1216" y="229"/>
                  </a:lnTo>
                  <a:lnTo>
                    <a:pt x="1268" y="277"/>
                  </a:lnTo>
                  <a:lnTo>
                    <a:pt x="1363" y="242"/>
                  </a:lnTo>
                  <a:lnTo>
                    <a:pt x="1415" y="286"/>
                  </a:lnTo>
                  <a:lnTo>
                    <a:pt x="1350" y="395"/>
                  </a:lnTo>
                  <a:lnTo>
                    <a:pt x="1394" y="460"/>
                  </a:lnTo>
                  <a:lnTo>
                    <a:pt x="1502" y="456"/>
                  </a:lnTo>
                  <a:lnTo>
                    <a:pt x="1532" y="516"/>
                  </a:lnTo>
                  <a:lnTo>
                    <a:pt x="1446" y="577"/>
                  </a:lnTo>
                  <a:lnTo>
                    <a:pt x="1467" y="685"/>
                  </a:lnTo>
                  <a:lnTo>
                    <a:pt x="1571" y="720"/>
                  </a:lnTo>
                  <a:lnTo>
                    <a:pt x="1558" y="811"/>
                  </a:lnTo>
                  <a:lnTo>
                    <a:pt x="1459" y="824"/>
                  </a:lnTo>
                  <a:lnTo>
                    <a:pt x="1437" y="941"/>
                  </a:lnTo>
                  <a:lnTo>
                    <a:pt x="1519" y="997"/>
                  </a:lnTo>
                  <a:lnTo>
                    <a:pt x="1493" y="1067"/>
                  </a:lnTo>
                  <a:lnTo>
                    <a:pt x="1368" y="1045"/>
                  </a:lnTo>
                  <a:lnTo>
                    <a:pt x="1307" y="1172"/>
                  </a:lnTo>
                  <a:lnTo>
                    <a:pt x="1368" y="1245"/>
                  </a:lnTo>
                  <a:lnTo>
                    <a:pt x="1320" y="1306"/>
                  </a:lnTo>
                  <a:lnTo>
                    <a:pt x="1211" y="1254"/>
                  </a:lnTo>
                  <a:lnTo>
                    <a:pt x="1085" y="1341"/>
                  </a:lnTo>
                  <a:lnTo>
                    <a:pt x="1102" y="1432"/>
                  </a:lnTo>
                  <a:lnTo>
                    <a:pt x="1028" y="1453"/>
                  </a:lnTo>
                  <a:lnTo>
                    <a:pt x="963" y="1358"/>
                  </a:lnTo>
                  <a:lnTo>
                    <a:pt x="846" y="1388"/>
                  </a:lnTo>
                  <a:lnTo>
                    <a:pt x="807" y="1514"/>
                  </a:lnTo>
                  <a:lnTo>
                    <a:pt x="733" y="1501"/>
                  </a:lnTo>
                  <a:lnTo>
                    <a:pt x="716" y="1393"/>
                  </a:lnTo>
                  <a:lnTo>
                    <a:pt x="603" y="135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91360" y="1338120"/>
              <a:ext cx="567000" cy="546480"/>
            </a:xfrm>
            <a:custGeom>
              <a:avLst/>
              <a:gdLst/>
              <a:ahLst/>
              <a:rect l="0" t="0" r="r" b="b"/>
              <a:pathLst>
                <a:path w="1575" h="1518">
                  <a:moveTo>
                    <a:pt x="607" y="1371"/>
                  </a:moveTo>
                  <a:lnTo>
                    <a:pt x="546" y="1462"/>
                  </a:lnTo>
                  <a:lnTo>
                    <a:pt x="472" y="1440"/>
                  </a:lnTo>
                  <a:lnTo>
                    <a:pt x="490" y="1345"/>
                  </a:lnTo>
                  <a:lnTo>
                    <a:pt x="359" y="1263"/>
                  </a:lnTo>
                  <a:lnTo>
                    <a:pt x="251" y="1310"/>
                  </a:lnTo>
                  <a:lnTo>
                    <a:pt x="203" y="1254"/>
                  </a:lnTo>
                  <a:lnTo>
                    <a:pt x="268" y="1180"/>
                  </a:lnTo>
                  <a:lnTo>
                    <a:pt x="203" y="1058"/>
                  </a:lnTo>
                  <a:lnTo>
                    <a:pt x="86" y="1067"/>
                  </a:lnTo>
                  <a:lnTo>
                    <a:pt x="52" y="1002"/>
                  </a:lnTo>
                  <a:lnTo>
                    <a:pt x="138" y="945"/>
                  </a:lnTo>
                  <a:lnTo>
                    <a:pt x="117" y="833"/>
                  </a:lnTo>
                  <a:lnTo>
                    <a:pt x="13" y="820"/>
                  </a:lnTo>
                  <a:lnTo>
                    <a:pt x="0" y="724"/>
                  </a:lnTo>
                  <a:lnTo>
                    <a:pt x="99" y="698"/>
                  </a:lnTo>
                  <a:lnTo>
                    <a:pt x="138" y="603"/>
                  </a:lnTo>
                  <a:lnTo>
                    <a:pt x="39" y="521"/>
                  </a:lnTo>
                  <a:lnTo>
                    <a:pt x="73" y="460"/>
                  </a:lnTo>
                  <a:lnTo>
                    <a:pt x="182" y="464"/>
                  </a:lnTo>
                  <a:lnTo>
                    <a:pt x="216" y="404"/>
                  </a:lnTo>
                  <a:lnTo>
                    <a:pt x="156" y="290"/>
                  </a:lnTo>
                  <a:lnTo>
                    <a:pt x="203" y="242"/>
                  </a:lnTo>
                  <a:lnTo>
                    <a:pt x="303" y="286"/>
                  </a:lnTo>
                  <a:lnTo>
                    <a:pt x="355" y="234"/>
                  </a:lnTo>
                  <a:lnTo>
                    <a:pt x="333" y="134"/>
                  </a:lnTo>
                  <a:lnTo>
                    <a:pt x="398" y="95"/>
                  </a:lnTo>
                  <a:lnTo>
                    <a:pt x="477" y="151"/>
                  </a:lnTo>
                  <a:lnTo>
                    <a:pt x="598" y="117"/>
                  </a:lnTo>
                  <a:lnTo>
                    <a:pt x="611" y="8"/>
                  </a:lnTo>
                  <a:lnTo>
                    <a:pt x="693" y="0"/>
                  </a:lnTo>
                  <a:lnTo>
                    <a:pt x="745" y="95"/>
                  </a:lnTo>
                  <a:lnTo>
                    <a:pt x="790" y="95"/>
                  </a:lnTo>
                  <a:lnTo>
                    <a:pt x="824" y="95"/>
                  </a:lnTo>
                  <a:lnTo>
                    <a:pt x="881" y="0"/>
                  </a:lnTo>
                  <a:lnTo>
                    <a:pt x="963" y="8"/>
                  </a:lnTo>
                  <a:lnTo>
                    <a:pt x="976" y="117"/>
                  </a:lnTo>
                  <a:lnTo>
                    <a:pt x="1098" y="151"/>
                  </a:lnTo>
                  <a:lnTo>
                    <a:pt x="1180" y="95"/>
                  </a:lnTo>
                  <a:lnTo>
                    <a:pt x="1245" y="134"/>
                  </a:lnTo>
                  <a:lnTo>
                    <a:pt x="1223" y="234"/>
                  </a:lnTo>
                  <a:lnTo>
                    <a:pt x="1271" y="286"/>
                  </a:lnTo>
                  <a:lnTo>
                    <a:pt x="1367" y="242"/>
                  </a:lnTo>
                  <a:lnTo>
                    <a:pt x="1423" y="290"/>
                  </a:lnTo>
                  <a:lnTo>
                    <a:pt x="1358" y="404"/>
                  </a:lnTo>
                  <a:lnTo>
                    <a:pt x="1397" y="464"/>
                  </a:lnTo>
                  <a:lnTo>
                    <a:pt x="1505" y="460"/>
                  </a:lnTo>
                  <a:lnTo>
                    <a:pt x="1536" y="521"/>
                  </a:lnTo>
                  <a:lnTo>
                    <a:pt x="1453" y="577"/>
                  </a:lnTo>
                  <a:lnTo>
                    <a:pt x="1471" y="690"/>
                  </a:lnTo>
                  <a:lnTo>
                    <a:pt x="1575" y="724"/>
                  </a:lnTo>
                  <a:lnTo>
                    <a:pt x="1557" y="820"/>
                  </a:lnTo>
                  <a:lnTo>
                    <a:pt x="1462" y="833"/>
                  </a:lnTo>
                  <a:lnTo>
                    <a:pt x="1436" y="945"/>
                  </a:lnTo>
                  <a:lnTo>
                    <a:pt x="1523" y="1002"/>
                  </a:lnTo>
                  <a:lnTo>
                    <a:pt x="1492" y="1067"/>
                  </a:lnTo>
                  <a:lnTo>
                    <a:pt x="1375" y="1058"/>
                  </a:lnTo>
                  <a:lnTo>
                    <a:pt x="1310" y="1180"/>
                  </a:lnTo>
                  <a:lnTo>
                    <a:pt x="1375" y="1254"/>
                  </a:lnTo>
                  <a:lnTo>
                    <a:pt x="1323" y="1310"/>
                  </a:lnTo>
                  <a:lnTo>
                    <a:pt x="1215" y="1263"/>
                  </a:lnTo>
                  <a:lnTo>
                    <a:pt x="1093" y="1345"/>
                  </a:lnTo>
                  <a:lnTo>
                    <a:pt x="1119" y="1440"/>
                  </a:lnTo>
                  <a:lnTo>
                    <a:pt x="1037" y="1471"/>
                  </a:lnTo>
                  <a:lnTo>
                    <a:pt x="959" y="1371"/>
                  </a:lnTo>
                  <a:lnTo>
                    <a:pt x="851" y="1393"/>
                  </a:lnTo>
                  <a:lnTo>
                    <a:pt x="816" y="1518"/>
                  </a:lnTo>
                  <a:lnTo>
                    <a:pt x="741" y="1510"/>
                  </a:lnTo>
                  <a:lnTo>
                    <a:pt x="724" y="1401"/>
                  </a:lnTo>
                  <a:lnTo>
                    <a:pt x="607" y="1371"/>
                  </a:lnTo>
                  <a:close/>
                </a:path>
              </a:pathLst>
            </a:custGeom>
            <a:solidFill>
              <a:srgbClr val="a0a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73880" y="1515960"/>
              <a:ext cx="201600" cy="185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96200" y="1655640"/>
              <a:ext cx="5040" cy="9720"/>
            </a:xfrm>
            <a:custGeom>
              <a:avLst/>
              <a:gdLst/>
              <a:ahLst/>
              <a:rect l="0" t="0" r="r" b="b"/>
              <a:pathLst>
                <a:path w="14" h="27">
                  <a:moveTo>
                    <a:pt x="12" y="0"/>
                  </a:moveTo>
                  <a:lnTo>
                    <a:pt x="0" y="20"/>
                  </a:lnTo>
                  <a:lnTo>
                    <a:pt x="2" y="27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07360" y="1668600"/>
              <a:ext cx="16200" cy="11520"/>
            </a:xfrm>
            <a:custGeom>
              <a:avLst/>
              <a:gdLst/>
              <a:ahLst/>
              <a:rect l="0" t="0" r="r" b="b"/>
              <a:pathLst>
                <a:path w="45" h="32">
                  <a:moveTo>
                    <a:pt x="25" y="0"/>
                  </a:moveTo>
                  <a:lnTo>
                    <a:pt x="0" y="19"/>
                  </a:lnTo>
                  <a:lnTo>
                    <a:pt x="16" y="32"/>
                  </a:lnTo>
                  <a:lnTo>
                    <a:pt x="45" y="7"/>
                  </a:lnTo>
                  <a:lnTo>
                    <a:pt x="2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91520" y="1527120"/>
              <a:ext cx="168120" cy="160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4680" y="1442880"/>
              <a:ext cx="361800" cy="33192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05760" y="170352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14" y="0"/>
                  </a:moveTo>
                  <a:lnTo>
                    <a:pt x="41" y="49"/>
                  </a:lnTo>
                  <a:lnTo>
                    <a:pt x="129" y="40"/>
                  </a:lnTo>
                  <a:lnTo>
                    <a:pt x="115" y="63"/>
                  </a:lnTo>
                  <a:lnTo>
                    <a:pt x="25" y="76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159760" y="1793880"/>
              <a:ext cx="54360" cy="27360"/>
            </a:xfrm>
            <a:custGeom>
              <a:avLst/>
              <a:gdLst/>
              <a:ahLst/>
              <a:rect l="0" t="0" r="r" b="b"/>
              <a:pathLst>
                <a:path w="151" h="76">
                  <a:moveTo>
                    <a:pt x="14" y="0"/>
                  </a:moveTo>
                  <a:lnTo>
                    <a:pt x="57" y="49"/>
                  </a:lnTo>
                  <a:lnTo>
                    <a:pt x="144" y="0"/>
                  </a:lnTo>
                  <a:lnTo>
                    <a:pt x="151" y="36"/>
                  </a:lnTo>
                  <a:lnTo>
                    <a:pt x="53" y="76"/>
                  </a:lnTo>
                  <a:lnTo>
                    <a:pt x="0" y="1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56600" y="1836720"/>
              <a:ext cx="49680" cy="39960"/>
            </a:xfrm>
            <a:custGeom>
              <a:avLst/>
              <a:gdLst/>
              <a:ahLst/>
              <a:rect l="0" t="0" r="r" b="b"/>
              <a:pathLst>
                <a:path w="138" h="111">
                  <a:moveTo>
                    <a:pt x="11" y="49"/>
                  </a:moveTo>
                  <a:lnTo>
                    <a:pt x="74" y="79"/>
                  </a:lnTo>
                  <a:lnTo>
                    <a:pt x="135" y="0"/>
                  </a:lnTo>
                  <a:lnTo>
                    <a:pt x="138" y="39"/>
                  </a:lnTo>
                  <a:lnTo>
                    <a:pt x="71" y="111"/>
                  </a:lnTo>
                  <a:lnTo>
                    <a:pt x="0" y="86"/>
                  </a:lnTo>
                  <a:lnTo>
                    <a:pt x="11" y="49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59920" y="1841400"/>
              <a:ext cx="35280" cy="52920"/>
            </a:xfrm>
            <a:custGeom>
              <a:avLst/>
              <a:gdLst/>
              <a:ahLst/>
              <a:rect l="0" t="0" r="r" b="b"/>
              <a:pathLst>
                <a:path w="98" h="147">
                  <a:moveTo>
                    <a:pt x="77" y="147"/>
                  </a:moveTo>
                  <a:lnTo>
                    <a:pt x="98" y="42"/>
                  </a:lnTo>
                  <a:lnTo>
                    <a:pt x="84" y="0"/>
                  </a:lnTo>
                  <a:lnTo>
                    <a:pt x="70" y="117"/>
                  </a:lnTo>
                  <a:lnTo>
                    <a:pt x="0" y="117"/>
                  </a:lnTo>
                  <a:lnTo>
                    <a:pt x="10" y="147"/>
                  </a:lnTo>
                  <a:lnTo>
                    <a:pt x="77" y="14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47040" y="1838160"/>
              <a:ext cx="49680" cy="43200"/>
            </a:xfrm>
            <a:custGeom>
              <a:avLst/>
              <a:gdLst/>
              <a:ahLst/>
              <a:rect l="0" t="0" r="r" b="b"/>
              <a:pathLst>
                <a:path w="138" h="120">
                  <a:moveTo>
                    <a:pt x="7" y="0"/>
                  </a:moveTo>
                  <a:lnTo>
                    <a:pt x="56" y="87"/>
                  </a:lnTo>
                  <a:lnTo>
                    <a:pt x="131" y="54"/>
                  </a:lnTo>
                  <a:lnTo>
                    <a:pt x="138" y="83"/>
                  </a:lnTo>
                  <a:lnTo>
                    <a:pt x="60" y="120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42440" y="1789200"/>
              <a:ext cx="44640" cy="32040"/>
            </a:xfrm>
            <a:custGeom>
              <a:avLst/>
              <a:gdLst/>
              <a:ahLst/>
              <a:rect l="0" t="0" r="r" b="b"/>
              <a:pathLst>
                <a:path w="124" h="89">
                  <a:moveTo>
                    <a:pt x="0" y="0"/>
                  </a:moveTo>
                  <a:lnTo>
                    <a:pt x="66" y="58"/>
                  </a:lnTo>
                  <a:lnTo>
                    <a:pt x="120" y="13"/>
                  </a:lnTo>
                  <a:lnTo>
                    <a:pt x="124" y="30"/>
                  </a:lnTo>
                  <a:lnTo>
                    <a:pt x="61" y="89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91400" y="1704960"/>
              <a:ext cx="52920" cy="24120"/>
            </a:xfrm>
            <a:custGeom>
              <a:avLst/>
              <a:gdLst/>
              <a:ahLst/>
              <a:rect l="0" t="0" r="r" b="b"/>
              <a:pathLst>
                <a:path w="147" h="67">
                  <a:moveTo>
                    <a:pt x="11" y="25"/>
                  </a:moveTo>
                  <a:lnTo>
                    <a:pt x="109" y="45"/>
                  </a:lnTo>
                  <a:lnTo>
                    <a:pt x="136" y="0"/>
                  </a:lnTo>
                  <a:lnTo>
                    <a:pt x="147" y="12"/>
                  </a:lnTo>
                  <a:lnTo>
                    <a:pt x="98" y="67"/>
                  </a:lnTo>
                  <a:lnTo>
                    <a:pt x="0" y="4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23440" y="160164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7" y="75"/>
                  </a:moveTo>
                  <a:lnTo>
                    <a:pt x="93" y="75"/>
                  </a:lnTo>
                  <a:lnTo>
                    <a:pt x="97" y="0"/>
                  </a:lnTo>
                  <a:lnTo>
                    <a:pt x="107" y="21"/>
                  </a:lnTo>
                  <a:lnTo>
                    <a:pt x="100" y="97"/>
                  </a:lnTo>
                  <a:lnTo>
                    <a:pt x="0" y="107"/>
                  </a:lnTo>
                  <a:lnTo>
                    <a:pt x="7" y="75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082000" y="1603440"/>
              <a:ext cx="3600" cy="28800"/>
            </a:xfrm>
            <a:custGeom>
              <a:avLst/>
              <a:gdLst/>
              <a:ahLst/>
              <a:rect l="0" t="0" r="r" b="b"/>
              <a:pathLst>
                <a:path w="10" h="80">
                  <a:moveTo>
                    <a:pt x="5" y="0"/>
                  </a:moveTo>
                  <a:lnTo>
                    <a:pt x="10" y="57"/>
                  </a:lnTo>
                  <a:lnTo>
                    <a:pt x="3" y="80"/>
                  </a:lnTo>
                  <a:lnTo>
                    <a:pt x="0" y="2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07360" y="1839960"/>
              <a:ext cx="46440" cy="16200"/>
            </a:xfrm>
            <a:custGeom>
              <a:avLst/>
              <a:gdLst/>
              <a:ahLst/>
              <a:rect l="0" t="0" r="r" b="b"/>
              <a:pathLst>
                <a:path w="129" h="45">
                  <a:moveTo>
                    <a:pt x="7" y="0"/>
                  </a:moveTo>
                  <a:lnTo>
                    <a:pt x="0" y="31"/>
                  </a:lnTo>
                  <a:lnTo>
                    <a:pt x="129" y="45"/>
                  </a:lnTo>
                  <a:lnTo>
                    <a:pt x="118" y="1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220240" y="1795320"/>
              <a:ext cx="41760" cy="35280"/>
            </a:xfrm>
            <a:custGeom>
              <a:avLst/>
              <a:gdLst/>
              <a:ahLst/>
              <a:rect l="0" t="0" r="r" b="b"/>
              <a:pathLst>
                <a:path w="116" h="98">
                  <a:moveTo>
                    <a:pt x="0" y="0"/>
                  </a:moveTo>
                  <a:lnTo>
                    <a:pt x="7" y="41"/>
                  </a:lnTo>
                  <a:lnTo>
                    <a:pt x="109" y="98"/>
                  </a:lnTo>
                  <a:lnTo>
                    <a:pt x="11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0400" y="1725480"/>
              <a:ext cx="32040" cy="47880"/>
            </a:xfrm>
            <a:custGeom>
              <a:avLst/>
              <a:gdLst/>
              <a:ahLst/>
              <a:rect l="0" t="0" r="r" b="b"/>
              <a:pathLst>
                <a:path w="89" h="133">
                  <a:moveTo>
                    <a:pt x="30" y="0"/>
                  </a:moveTo>
                  <a:lnTo>
                    <a:pt x="0" y="22"/>
                  </a:lnTo>
                  <a:lnTo>
                    <a:pt x="68" y="133"/>
                  </a:lnTo>
                  <a:lnTo>
                    <a:pt x="89" y="10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00960" y="1838160"/>
              <a:ext cx="44640" cy="12960"/>
            </a:xfrm>
            <a:custGeom>
              <a:avLst/>
              <a:gdLst/>
              <a:ahLst/>
              <a:rect l="0" t="0" r="r" b="b"/>
              <a:pathLst>
                <a:path w="124" h="36">
                  <a:moveTo>
                    <a:pt x="3" y="36"/>
                  </a:moveTo>
                  <a:lnTo>
                    <a:pt x="0" y="10"/>
                  </a:lnTo>
                  <a:lnTo>
                    <a:pt x="109" y="0"/>
                  </a:lnTo>
                  <a:lnTo>
                    <a:pt x="124" y="28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91680" y="1795320"/>
              <a:ext cx="44640" cy="39960"/>
            </a:xfrm>
            <a:custGeom>
              <a:avLst/>
              <a:gdLst/>
              <a:ahLst/>
              <a:rect l="0" t="0" r="r" b="b"/>
              <a:pathLst>
                <a:path w="124" h="111">
                  <a:moveTo>
                    <a:pt x="3" y="111"/>
                  </a:moveTo>
                  <a:lnTo>
                    <a:pt x="0" y="75"/>
                  </a:lnTo>
                  <a:lnTo>
                    <a:pt x="120" y="0"/>
                  </a:lnTo>
                  <a:lnTo>
                    <a:pt x="124" y="39"/>
                  </a:lnTo>
                  <a:lnTo>
                    <a:pt x="3" y="11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24840" y="1641600"/>
              <a:ext cx="11520" cy="39960"/>
            </a:xfrm>
            <a:custGeom>
              <a:avLst/>
              <a:gdLst/>
              <a:ahLst/>
              <a:rect l="0" t="0" r="r" b="b"/>
              <a:pathLst>
                <a:path w="32" h="111">
                  <a:moveTo>
                    <a:pt x="12" y="0"/>
                  </a:moveTo>
                  <a:lnTo>
                    <a:pt x="0" y="21"/>
                  </a:lnTo>
                  <a:lnTo>
                    <a:pt x="15" y="111"/>
                  </a:lnTo>
                  <a:lnTo>
                    <a:pt x="32" y="10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099280" y="153360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20" y="0"/>
                  </a:moveTo>
                  <a:lnTo>
                    <a:pt x="0" y="10"/>
                  </a:lnTo>
                  <a:lnTo>
                    <a:pt x="87" y="85"/>
                  </a:lnTo>
                  <a:lnTo>
                    <a:pt x="94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085240" y="1630440"/>
              <a:ext cx="39960" cy="16200"/>
            </a:xfrm>
            <a:custGeom>
              <a:avLst/>
              <a:gdLst/>
              <a:ahLst/>
              <a:rect l="0" t="0" r="r" b="b"/>
              <a:pathLst>
                <a:path w="111" h="45">
                  <a:moveTo>
                    <a:pt x="17" y="0"/>
                  </a:moveTo>
                  <a:lnTo>
                    <a:pt x="0" y="19"/>
                  </a:lnTo>
                  <a:lnTo>
                    <a:pt x="100" y="45"/>
                  </a:lnTo>
                  <a:lnTo>
                    <a:pt x="111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42120" y="1444680"/>
              <a:ext cx="27360" cy="41760"/>
            </a:xfrm>
            <a:custGeom>
              <a:avLst/>
              <a:gdLst/>
              <a:ahLst/>
              <a:rect l="0" t="0" r="r" b="b"/>
              <a:pathLst>
                <a:path w="76" h="116">
                  <a:moveTo>
                    <a:pt x="13" y="0"/>
                  </a:moveTo>
                  <a:lnTo>
                    <a:pt x="0" y="51"/>
                  </a:lnTo>
                  <a:lnTo>
                    <a:pt x="53" y="116"/>
                  </a:lnTo>
                  <a:lnTo>
                    <a:pt x="76" y="7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569440" y="1720800"/>
              <a:ext cx="22680" cy="44640"/>
            </a:xfrm>
            <a:custGeom>
              <a:avLst/>
              <a:gdLst/>
              <a:ahLst/>
              <a:rect l="0" t="0" r="r" b="b"/>
              <a:pathLst>
                <a:path w="63" h="124">
                  <a:moveTo>
                    <a:pt x="9" y="124"/>
                  </a:moveTo>
                  <a:lnTo>
                    <a:pt x="0" y="109"/>
                  </a:lnTo>
                  <a:lnTo>
                    <a:pt x="57" y="0"/>
                  </a:lnTo>
                  <a:lnTo>
                    <a:pt x="63" y="10"/>
                  </a:lnTo>
                  <a:lnTo>
                    <a:pt x="9" y="124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8400" y="1639800"/>
              <a:ext cx="0" cy="34920"/>
            </a:xfrm>
            <a:custGeom>
              <a:avLst/>
              <a:gdLst/>
              <a:ahLst/>
              <a:rect l="0" t="0" r="r" b="b"/>
              <a:pathLst>
                <a:path w="0" h="97">
                  <a:moveTo>
                    <a:pt x="0" y="97"/>
                  </a:moveTo>
                  <a:lnTo>
                    <a:pt x="0" y="9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508960" y="1500120"/>
              <a:ext cx="25560" cy="255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518680" y="1498680"/>
              <a:ext cx="27000" cy="2556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07360" y="1438200"/>
              <a:ext cx="25560" cy="255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17080" y="1436760"/>
              <a:ext cx="23760" cy="2376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547120" y="1606680"/>
              <a:ext cx="23760" cy="23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556480" y="1603440"/>
              <a:ext cx="25560" cy="223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215200" y="1500120"/>
              <a:ext cx="23760" cy="255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224920" y="1498680"/>
              <a:ext cx="23760" cy="2556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174160" y="1606680"/>
              <a:ext cx="23760" cy="23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183520" y="1603440"/>
              <a:ext cx="25560" cy="223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217000" y="1704960"/>
              <a:ext cx="25560" cy="23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226360" y="1703520"/>
              <a:ext cx="28440" cy="223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317080" y="1765440"/>
              <a:ext cx="25560" cy="223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327880" y="1762200"/>
              <a:ext cx="25560" cy="2376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502480" y="1704960"/>
              <a:ext cx="25560" cy="23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512200" y="1703520"/>
              <a:ext cx="25560" cy="223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427960" y="1438200"/>
              <a:ext cx="25560" cy="255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439120" y="1436760"/>
              <a:ext cx="23760" cy="2376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432640" y="1757520"/>
              <a:ext cx="23760" cy="237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442360" y="1755720"/>
              <a:ext cx="25560" cy="223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74120" y="61920"/>
              <a:ext cx="1005120" cy="952920"/>
            </a:xfrm>
            <a:custGeom>
              <a:avLst/>
              <a:gdLst/>
              <a:ahLst/>
              <a:rect l="0" t="0" r="r" b="b"/>
              <a:pathLst>
                <a:path w="2792" h="2647">
                  <a:moveTo>
                    <a:pt x="1074" y="2381"/>
                  </a:moveTo>
                  <a:lnTo>
                    <a:pt x="961" y="2547"/>
                  </a:lnTo>
                  <a:lnTo>
                    <a:pt x="829" y="2503"/>
                  </a:lnTo>
                  <a:lnTo>
                    <a:pt x="851" y="2337"/>
                  </a:lnTo>
                  <a:lnTo>
                    <a:pt x="637" y="2198"/>
                  </a:lnTo>
                  <a:lnTo>
                    <a:pt x="441" y="2285"/>
                  </a:lnTo>
                  <a:lnTo>
                    <a:pt x="353" y="2185"/>
                  </a:lnTo>
                  <a:lnTo>
                    <a:pt x="467" y="2049"/>
                  </a:lnTo>
                  <a:lnTo>
                    <a:pt x="353" y="1839"/>
                  </a:lnTo>
                  <a:lnTo>
                    <a:pt x="144" y="1860"/>
                  </a:lnTo>
                  <a:lnTo>
                    <a:pt x="87" y="1747"/>
                  </a:lnTo>
                  <a:lnTo>
                    <a:pt x="240" y="1647"/>
                  </a:lnTo>
                  <a:lnTo>
                    <a:pt x="196" y="1450"/>
                  </a:lnTo>
                  <a:lnTo>
                    <a:pt x="26" y="1424"/>
                  </a:lnTo>
                  <a:lnTo>
                    <a:pt x="0" y="1258"/>
                  </a:lnTo>
                  <a:lnTo>
                    <a:pt x="179" y="1210"/>
                  </a:lnTo>
                  <a:lnTo>
                    <a:pt x="240" y="1048"/>
                  </a:lnTo>
                  <a:lnTo>
                    <a:pt x="69" y="909"/>
                  </a:lnTo>
                  <a:lnTo>
                    <a:pt x="122" y="799"/>
                  </a:lnTo>
                  <a:lnTo>
                    <a:pt x="314" y="808"/>
                  </a:lnTo>
                  <a:lnTo>
                    <a:pt x="384" y="695"/>
                  </a:lnTo>
                  <a:lnTo>
                    <a:pt x="270" y="502"/>
                  </a:lnTo>
                  <a:lnTo>
                    <a:pt x="362" y="423"/>
                  </a:lnTo>
                  <a:lnTo>
                    <a:pt x="541" y="488"/>
                  </a:lnTo>
                  <a:lnTo>
                    <a:pt x="620" y="406"/>
                  </a:lnTo>
                  <a:lnTo>
                    <a:pt x="585" y="231"/>
                  </a:lnTo>
                  <a:lnTo>
                    <a:pt x="698" y="157"/>
                  </a:lnTo>
                  <a:lnTo>
                    <a:pt x="838" y="257"/>
                  </a:lnTo>
                  <a:lnTo>
                    <a:pt x="1057" y="200"/>
                  </a:lnTo>
                  <a:lnTo>
                    <a:pt x="1083" y="13"/>
                  </a:lnTo>
                  <a:lnTo>
                    <a:pt x="1223" y="0"/>
                  </a:lnTo>
                  <a:lnTo>
                    <a:pt x="1323" y="148"/>
                  </a:lnTo>
                  <a:lnTo>
                    <a:pt x="1393" y="148"/>
                  </a:lnTo>
                  <a:lnTo>
                    <a:pt x="1389" y="148"/>
                  </a:lnTo>
                  <a:lnTo>
                    <a:pt x="1460" y="148"/>
                  </a:lnTo>
                  <a:lnTo>
                    <a:pt x="1560" y="0"/>
                  </a:lnTo>
                  <a:lnTo>
                    <a:pt x="1700" y="13"/>
                  </a:lnTo>
                  <a:lnTo>
                    <a:pt x="1730" y="200"/>
                  </a:lnTo>
                  <a:lnTo>
                    <a:pt x="1944" y="257"/>
                  </a:lnTo>
                  <a:lnTo>
                    <a:pt x="2080" y="157"/>
                  </a:lnTo>
                  <a:lnTo>
                    <a:pt x="2193" y="231"/>
                  </a:lnTo>
                  <a:lnTo>
                    <a:pt x="2158" y="406"/>
                  </a:lnTo>
                  <a:lnTo>
                    <a:pt x="2250" y="488"/>
                  </a:lnTo>
                  <a:lnTo>
                    <a:pt x="2421" y="423"/>
                  </a:lnTo>
                  <a:lnTo>
                    <a:pt x="2512" y="502"/>
                  </a:lnTo>
                  <a:lnTo>
                    <a:pt x="2403" y="695"/>
                  </a:lnTo>
                  <a:lnTo>
                    <a:pt x="2469" y="808"/>
                  </a:lnTo>
                  <a:lnTo>
                    <a:pt x="2661" y="799"/>
                  </a:lnTo>
                  <a:lnTo>
                    <a:pt x="2713" y="909"/>
                  </a:lnTo>
                  <a:lnTo>
                    <a:pt x="2565" y="1005"/>
                  </a:lnTo>
                  <a:lnTo>
                    <a:pt x="2595" y="1197"/>
                  </a:lnTo>
                  <a:lnTo>
                    <a:pt x="2792" y="1258"/>
                  </a:lnTo>
                  <a:lnTo>
                    <a:pt x="2761" y="1424"/>
                  </a:lnTo>
                  <a:lnTo>
                    <a:pt x="2587" y="1450"/>
                  </a:lnTo>
                  <a:lnTo>
                    <a:pt x="2543" y="1647"/>
                  </a:lnTo>
                  <a:lnTo>
                    <a:pt x="2696" y="1747"/>
                  </a:lnTo>
                  <a:lnTo>
                    <a:pt x="2643" y="1860"/>
                  </a:lnTo>
                  <a:lnTo>
                    <a:pt x="2429" y="1839"/>
                  </a:lnTo>
                  <a:lnTo>
                    <a:pt x="2316" y="2049"/>
                  </a:lnTo>
                  <a:lnTo>
                    <a:pt x="2429" y="2185"/>
                  </a:lnTo>
                  <a:lnTo>
                    <a:pt x="2342" y="2285"/>
                  </a:lnTo>
                  <a:lnTo>
                    <a:pt x="2145" y="2198"/>
                  </a:lnTo>
                  <a:lnTo>
                    <a:pt x="1931" y="2337"/>
                  </a:lnTo>
                  <a:lnTo>
                    <a:pt x="1953" y="2503"/>
                  </a:lnTo>
                  <a:lnTo>
                    <a:pt x="1822" y="2547"/>
                  </a:lnTo>
                  <a:lnTo>
                    <a:pt x="1709" y="2381"/>
                  </a:lnTo>
                  <a:lnTo>
                    <a:pt x="1508" y="2425"/>
                  </a:lnTo>
                  <a:lnTo>
                    <a:pt x="1442" y="2647"/>
                  </a:lnTo>
                  <a:lnTo>
                    <a:pt x="1301" y="2634"/>
                  </a:lnTo>
                  <a:lnTo>
                    <a:pt x="1275" y="2438"/>
                  </a:lnTo>
                  <a:lnTo>
                    <a:pt x="1183" y="2385"/>
                  </a:lnTo>
                  <a:lnTo>
                    <a:pt x="1074" y="23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97880" y="23760"/>
              <a:ext cx="1010160" cy="954360"/>
            </a:xfrm>
            <a:custGeom>
              <a:avLst/>
              <a:gdLst/>
              <a:ahLst/>
              <a:rect l="0" t="0" r="r" b="b"/>
              <a:pathLst>
                <a:path w="2806" h="2651">
                  <a:moveTo>
                    <a:pt x="1088" y="2393"/>
                  </a:moveTo>
                  <a:lnTo>
                    <a:pt x="979" y="2546"/>
                  </a:lnTo>
                  <a:lnTo>
                    <a:pt x="848" y="2511"/>
                  </a:lnTo>
                  <a:lnTo>
                    <a:pt x="874" y="2341"/>
                  </a:lnTo>
                  <a:lnTo>
                    <a:pt x="659" y="2201"/>
                  </a:lnTo>
                  <a:lnTo>
                    <a:pt x="463" y="2284"/>
                  </a:lnTo>
                  <a:lnTo>
                    <a:pt x="375" y="2184"/>
                  </a:lnTo>
                  <a:lnTo>
                    <a:pt x="489" y="2053"/>
                  </a:lnTo>
                  <a:lnTo>
                    <a:pt x="349" y="1852"/>
                  </a:lnTo>
                  <a:lnTo>
                    <a:pt x="166" y="1865"/>
                  </a:lnTo>
                  <a:lnTo>
                    <a:pt x="113" y="1747"/>
                  </a:lnTo>
                  <a:lnTo>
                    <a:pt x="266" y="1647"/>
                  </a:lnTo>
                  <a:lnTo>
                    <a:pt x="218" y="1450"/>
                  </a:lnTo>
                  <a:lnTo>
                    <a:pt x="43" y="1428"/>
                  </a:lnTo>
                  <a:lnTo>
                    <a:pt x="0" y="1253"/>
                  </a:lnTo>
                  <a:lnTo>
                    <a:pt x="205" y="1213"/>
                  </a:lnTo>
                  <a:lnTo>
                    <a:pt x="266" y="1052"/>
                  </a:lnTo>
                  <a:lnTo>
                    <a:pt x="87" y="908"/>
                  </a:lnTo>
                  <a:lnTo>
                    <a:pt x="144" y="803"/>
                  </a:lnTo>
                  <a:lnTo>
                    <a:pt x="336" y="807"/>
                  </a:lnTo>
                  <a:lnTo>
                    <a:pt x="401" y="702"/>
                  </a:lnTo>
                  <a:lnTo>
                    <a:pt x="292" y="506"/>
                  </a:lnTo>
                  <a:lnTo>
                    <a:pt x="384" y="423"/>
                  </a:lnTo>
                  <a:lnTo>
                    <a:pt x="559" y="493"/>
                  </a:lnTo>
                  <a:lnTo>
                    <a:pt x="642" y="406"/>
                  </a:lnTo>
                  <a:lnTo>
                    <a:pt x="611" y="235"/>
                  </a:lnTo>
                  <a:lnTo>
                    <a:pt x="721" y="161"/>
                  </a:lnTo>
                  <a:lnTo>
                    <a:pt x="861" y="257"/>
                  </a:lnTo>
                  <a:lnTo>
                    <a:pt x="1080" y="200"/>
                  </a:lnTo>
                  <a:lnTo>
                    <a:pt x="1101" y="17"/>
                  </a:lnTo>
                  <a:lnTo>
                    <a:pt x="1246" y="0"/>
                  </a:lnTo>
                  <a:lnTo>
                    <a:pt x="1346" y="152"/>
                  </a:lnTo>
                  <a:lnTo>
                    <a:pt x="1412" y="152"/>
                  </a:lnTo>
                  <a:lnTo>
                    <a:pt x="1481" y="152"/>
                  </a:lnTo>
                  <a:lnTo>
                    <a:pt x="1582" y="0"/>
                  </a:lnTo>
                  <a:lnTo>
                    <a:pt x="1717" y="17"/>
                  </a:lnTo>
                  <a:lnTo>
                    <a:pt x="1748" y="200"/>
                  </a:lnTo>
                  <a:lnTo>
                    <a:pt x="1966" y="257"/>
                  </a:lnTo>
                  <a:lnTo>
                    <a:pt x="2107" y="161"/>
                  </a:lnTo>
                  <a:lnTo>
                    <a:pt x="2216" y="235"/>
                  </a:lnTo>
                  <a:lnTo>
                    <a:pt x="2186" y="406"/>
                  </a:lnTo>
                  <a:lnTo>
                    <a:pt x="2269" y="493"/>
                  </a:lnTo>
                  <a:lnTo>
                    <a:pt x="2443" y="423"/>
                  </a:lnTo>
                  <a:lnTo>
                    <a:pt x="2531" y="506"/>
                  </a:lnTo>
                  <a:lnTo>
                    <a:pt x="2426" y="702"/>
                  </a:lnTo>
                  <a:lnTo>
                    <a:pt x="2492" y="807"/>
                  </a:lnTo>
                  <a:lnTo>
                    <a:pt x="2684" y="803"/>
                  </a:lnTo>
                  <a:lnTo>
                    <a:pt x="2732" y="908"/>
                  </a:lnTo>
                  <a:lnTo>
                    <a:pt x="2583" y="1004"/>
                  </a:lnTo>
                  <a:lnTo>
                    <a:pt x="2618" y="1196"/>
                  </a:lnTo>
                  <a:lnTo>
                    <a:pt x="2806" y="1257"/>
                  </a:lnTo>
                  <a:lnTo>
                    <a:pt x="2784" y="1428"/>
                  </a:lnTo>
                  <a:lnTo>
                    <a:pt x="2610" y="1450"/>
                  </a:lnTo>
                  <a:lnTo>
                    <a:pt x="2566" y="1647"/>
                  </a:lnTo>
                  <a:lnTo>
                    <a:pt x="2714" y="1747"/>
                  </a:lnTo>
                  <a:lnTo>
                    <a:pt x="2666" y="1865"/>
                  </a:lnTo>
                  <a:lnTo>
                    <a:pt x="2452" y="1843"/>
                  </a:lnTo>
                  <a:lnTo>
                    <a:pt x="2339" y="2053"/>
                  </a:lnTo>
                  <a:lnTo>
                    <a:pt x="2452" y="2184"/>
                  </a:lnTo>
                  <a:lnTo>
                    <a:pt x="2360" y="2284"/>
                  </a:lnTo>
                  <a:lnTo>
                    <a:pt x="2168" y="2201"/>
                  </a:lnTo>
                  <a:lnTo>
                    <a:pt x="1953" y="2341"/>
                  </a:lnTo>
                  <a:lnTo>
                    <a:pt x="1997" y="2511"/>
                  </a:lnTo>
                  <a:lnTo>
                    <a:pt x="1853" y="2568"/>
                  </a:lnTo>
                  <a:lnTo>
                    <a:pt x="1717" y="2402"/>
                  </a:lnTo>
                  <a:lnTo>
                    <a:pt x="1525" y="2424"/>
                  </a:lnTo>
                  <a:lnTo>
                    <a:pt x="1455" y="2651"/>
                  </a:lnTo>
                  <a:lnTo>
                    <a:pt x="1324" y="2633"/>
                  </a:lnTo>
                  <a:lnTo>
                    <a:pt x="1298" y="2437"/>
                  </a:lnTo>
                  <a:lnTo>
                    <a:pt x="1088" y="2393"/>
                  </a:lnTo>
                  <a:close/>
                </a:path>
              </a:pathLst>
            </a:custGeom>
            <a:solidFill>
              <a:srgbClr val="a0a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26560" y="330120"/>
              <a:ext cx="361800" cy="330120"/>
            </a:xfrm>
            <a:prstGeom prst="ellipse">
              <a:avLst/>
            </a:prstGeom>
            <a:solidFill>
              <a:srgbClr val="004020"/>
            </a:solidFill>
            <a:ln w="12600">
              <a:solidFill>
                <a:srgbClr val="00402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64360" y="5731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36" y="0"/>
                  </a:moveTo>
                  <a:lnTo>
                    <a:pt x="0" y="48"/>
                  </a:lnTo>
                  <a:lnTo>
                    <a:pt x="8" y="67"/>
                  </a:lnTo>
                  <a:lnTo>
                    <a:pt x="45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83440" y="592200"/>
              <a:ext cx="33840" cy="30600"/>
            </a:xfrm>
            <a:custGeom>
              <a:avLst/>
              <a:gdLst/>
              <a:ahLst/>
              <a:rect l="0" t="0" r="r" b="b"/>
              <a:pathLst>
                <a:path w="94" h="85">
                  <a:moveTo>
                    <a:pt x="55" y="0"/>
                  </a:moveTo>
                  <a:lnTo>
                    <a:pt x="0" y="54"/>
                  </a:lnTo>
                  <a:lnTo>
                    <a:pt x="35" y="85"/>
                  </a:lnTo>
                  <a:lnTo>
                    <a:pt x="94" y="27"/>
                  </a:lnTo>
                  <a:lnTo>
                    <a:pt x="62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53560" y="351000"/>
              <a:ext cx="306360" cy="2840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404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99480" y="216000"/>
              <a:ext cx="617400" cy="55872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728120" y="657360"/>
              <a:ext cx="92520" cy="51120"/>
            </a:xfrm>
            <a:custGeom>
              <a:avLst/>
              <a:gdLst/>
              <a:ahLst/>
              <a:rect l="0" t="0" r="r" b="b"/>
              <a:pathLst>
                <a:path w="257" h="142">
                  <a:moveTo>
                    <a:pt x="31" y="0"/>
                  </a:moveTo>
                  <a:lnTo>
                    <a:pt x="76" y="97"/>
                  </a:lnTo>
                  <a:lnTo>
                    <a:pt x="257" y="70"/>
                  </a:lnTo>
                  <a:lnTo>
                    <a:pt x="225" y="116"/>
                  </a:lnTo>
                  <a:lnTo>
                    <a:pt x="51" y="142"/>
                  </a:lnTo>
                  <a:lnTo>
                    <a:pt x="0" y="18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21720" y="811080"/>
              <a:ext cx="105120" cy="54360"/>
            </a:xfrm>
            <a:custGeom>
              <a:avLst/>
              <a:gdLst/>
              <a:ahLst/>
              <a:rect l="0" t="0" r="r" b="b"/>
              <a:pathLst>
                <a:path w="292" h="151">
                  <a:moveTo>
                    <a:pt x="36" y="3"/>
                  </a:moveTo>
                  <a:lnTo>
                    <a:pt x="117" y="102"/>
                  </a:lnTo>
                  <a:lnTo>
                    <a:pt x="275" y="0"/>
                  </a:lnTo>
                  <a:lnTo>
                    <a:pt x="292" y="75"/>
                  </a:lnTo>
                  <a:lnTo>
                    <a:pt x="105" y="151"/>
                  </a:lnTo>
                  <a:lnTo>
                    <a:pt x="0" y="33"/>
                  </a:lnTo>
                  <a:lnTo>
                    <a:pt x="36" y="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94520" y="888840"/>
              <a:ext cx="93960" cy="73440"/>
            </a:xfrm>
            <a:custGeom>
              <a:avLst/>
              <a:gdLst/>
              <a:ahLst/>
              <a:rect l="0" t="0" r="r" b="b"/>
              <a:pathLst>
                <a:path w="261" h="204">
                  <a:moveTo>
                    <a:pt x="24" y="86"/>
                  </a:moveTo>
                  <a:lnTo>
                    <a:pt x="141" y="145"/>
                  </a:lnTo>
                  <a:lnTo>
                    <a:pt x="249" y="0"/>
                  </a:lnTo>
                  <a:lnTo>
                    <a:pt x="261" y="71"/>
                  </a:lnTo>
                  <a:lnTo>
                    <a:pt x="133" y="204"/>
                  </a:lnTo>
                  <a:lnTo>
                    <a:pt x="0" y="158"/>
                  </a:lnTo>
                  <a:lnTo>
                    <a:pt x="24" y="86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75600" y="896760"/>
              <a:ext cx="68760" cy="97200"/>
            </a:xfrm>
            <a:custGeom>
              <a:avLst/>
              <a:gdLst/>
              <a:ahLst/>
              <a:rect l="0" t="0" r="r" b="b"/>
              <a:pathLst>
                <a:path w="191" h="270">
                  <a:moveTo>
                    <a:pt x="152" y="270"/>
                  </a:moveTo>
                  <a:lnTo>
                    <a:pt x="191" y="69"/>
                  </a:lnTo>
                  <a:lnTo>
                    <a:pt x="164" y="0"/>
                  </a:lnTo>
                  <a:lnTo>
                    <a:pt x="140" y="218"/>
                  </a:lnTo>
                  <a:lnTo>
                    <a:pt x="0" y="210"/>
                  </a:lnTo>
                  <a:lnTo>
                    <a:pt x="19" y="266"/>
                  </a:lnTo>
                  <a:lnTo>
                    <a:pt x="152" y="27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27880" y="888840"/>
              <a:ext cx="97200" cy="82800"/>
            </a:xfrm>
            <a:custGeom>
              <a:avLst/>
              <a:gdLst/>
              <a:ahLst/>
              <a:rect l="0" t="0" r="r" b="b"/>
              <a:pathLst>
                <a:path w="270" h="230">
                  <a:moveTo>
                    <a:pt x="16" y="0"/>
                  </a:moveTo>
                  <a:lnTo>
                    <a:pt x="109" y="167"/>
                  </a:lnTo>
                  <a:lnTo>
                    <a:pt x="246" y="102"/>
                  </a:lnTo>
                  <a:lnTo>
                    <a:pt x="270" y="159"/>
                  </a:lnTo>
                  <a:lnTo>
                    <a:pt x="117" y="230"/>
                  </a:lnTo>
                  <a:lnTo>
                    <a:pt x="0" y="6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493120" y="803160"/>
              <a:ext cx="89280" cy="62280"/>
            </a:xfrm>
            <a:custGeom>
              <a:avLst/>
              <a:gdLst/>
              <a:ahLst/>
              <a:rect l="0" t="0" r="r" b="b"/>
              <a:pathLst>
                <a:path w="248" h="173">
                  <a:moveTo>
                    <a:pt x="7" y="0"/>
                  </a:moveTo>
                  <a:lnTo>
                    <a:pt x="140" y="111"/>
                  </a:lnTo>
                  <a:lnTo>
                    <a:pt x="240" y="26"/>
                  </a:lnTo>
                  <a:lnTo>
                    <a:pt x="248" y="62"/>
                  </a:lnTo>
                  <a:lnTo>
                    <a:pt x="136" y="173"/>
                  </a:lnTo>
                  <a:lnTo>
                    <a:pt x="0" y="9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85280" y="658800"/>
              <a:ext cx="95760" cy="46440"/>
            </a:xfrm>
            <a:custGeom>
              <a:avLst/>
              <a:gdLst/>
              <a:ahLst/>
              <a:rect l="0" t="0" r="r" b="b"/>
              <a:pathLst>
                <a:path w="266" h="129">
                  <a:moveTo>
                    <a:pt x="16" y="44"/>
                  </a:moveTo>
                  <a:lnTo>
                    <a:pt x="202" y="92"/>
                  </a:lnTo>
                  <a:lnTo>
                    <a:pt x="250" y="0"/>
                  </a:lnTo>
                  <a:lnTo>
                    <a:pt x="266" y="21"/>
                  </a:lnTo>
                  <a:lnTo>
                    <a:pt x="181" y="129"/>
                  </a:lnTo>
                  <a:lnTo>
                    <a:pt x="0" y="88"/>
                  </a:lnTo>
                  <a:lnTo>
                    <a:pt x="16" y="4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637480" y="479520"/>
              <a:ext cx="73440" cy="73440"/>
            </a:xfrm>
            <a:custGeom>
              <a:avLst/>
              <a:gdLst/>
              <a:ahLst/>
              <a:rect l="0" t="0" r="r" b="b"/>
              <a:pathLst>
                <a:path w="204" h="204">
                  <a:moveTo>
                    <a:pt x="19" y="141"/>
                  </a:moveTo>
                  <a:lnTo>
                    <a:pt x="181" y="141"/>
                  </a:lnTo>
                  <a:lnTo>
                    <a:pt x="189" y="0"/>
                  </a:lnTo>
                  <a:lnTo>
                    <a:pt x="204" y="35"/>
                  </a:lnTo>
                  <a:lnTo>
                    <a:pt x="193" y="189"/>
                  </a:lnTo>
                  <a:lnTo>
                    <a:pt x="0" y="204"/>
                  </a:lnTo>
                  <a:lnTo>
                    <a:pt x="19" y="14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88160" y="476280"/>
              <a:ext cx="14760" cy="71640"/>
            </a:xfrm>
            <a:custGeom>
              <a:avLst/>
              <a:gdLst/>
              <a:ahLst/>
              <a:rect l="0" t="0" r="r" b="b"/>
              <a:pathLst>
                <a:path w="41" h="199">
                  <a:moveTo>
                    <a:pt x="41" y="0"/>
                  </a:moveTo>
                  <a:lnTo>
                    <a:pt x="41" y="142"/>
                  </a:lnTo>
                  <a:lnTo>
                    <a:pt x="18" y="199"/>
                  </a:lnTo>
                  <a:lnTo>
                    <a:pt x="0" y="7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808000"/>
            </a:solidFill>
            <a:ln w="12600">
              <a:solidFill>
                <a:srgbClr val="808000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85240" y="888840"/>
              <a:ext cx="82800" cy="36720"/>
            </a:xfrm>
            <a:custGeom>
              <a:avLst/>
              <a:gdLst/>
              <a:ahLst/>
              <a:rect l="0" t="0" r="r" b="b"/>
              <a:pathLst>
                <a:path w="230" h="102">
                  <a:moveTo>
                    <a:pt x="15" y="0"/>
                  </a:moveTo>
                  <a:lnTo>
                    <a:pt x="0" y="63"/>
                  </a:lnTo>
                  <a:lnTo>
                    <a:pt x="230" y="102"/>
                  </a:lnTo>
                  <a:lnTo>
                    <a:pt x="222" y="34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9720" y="812880"/>
              <a:ext cx="76680" cy="71640"/>
            </a:xfrm>
            <a:custGeom>
              <a:avLst/>
              <a:gdLst/>
              <a:ahLst/>
              <a:rect l="0" t="0" r="r" b="b"/>
              <a:pathLst>
                <a:path w="213" h="199">
                  <a:moveTo>
                    <a:pt x="0" y="0"/>
                  </a:moveTo>
                  <a:lnTo>
                    <a:pt x="11" y="85"/>
                  </a:lnTo>
                  <a:lnTo>
                    <a:pt x="213" y="199"/>
                  </a:lnTo>
                  <a:lnTo>
                    <a:pt x="213" y="1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12000" y="690480"/>
              <a:ext cx="62280" cy="92520"/>
            </a:xfrm>
            <a:custGeom>
              <a:avLst/>
              <a:gdLst/>
              <a:ahLst/>
              <a:rect l="0" t="0" r="r" b="b"/>
              <a:pathLst>
                <a:path w="173" h="257">
                  <a:moveTo>
                    <a:pt x="30" y="0"/>
                  </a:moveTo>
                  <a:lnTo>
                    <a:pt x="0" y="55"/>
                  </a:lnTo>
                  <a:lnTo>
                    <a:pt x="131" y="257"/>
                  </a:lnTo>
                  <a:lnTo>
                    <a:pt x="173" y="20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47240" y="893880"/>
              <a:ext cx="86040" cy="25920"/>
            </a:xfrm>
            <a:custGeom>
              <a:avLst/>
              <a:gdLst/>
              <a:ahLst/>
              <a:rect l="0" t="0" r="r" b="b"/>
              <a:pathLst>
                <a:path w="239" h="72">
                  <a:moveTo>
                    <a:pt x="7" y="72"/>
                  </a:moveTo>
                  <a:lnTo>
                    <a:pt x="0" y="16"/>
                  </a:lnTo>
                  <a:lnTo>
                    <a:pt x="211" y="0"/>
                  </a:lnTo>
                  <a:lnTo>
                    <a:pt x="239" y="5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404200" y="812880"/>
              <a:ext cx="87840" cy="78120"/>
            </a:xfrm>
            <a:custGeom>
              <a:avLst/>
              <a:gdLst/>
              <a:ahLst/>
              <a:rect l="0" t="0" r="r" b="b"/>
              <a:pathLst>
                <a:path w="244" h="217">
                  <a:moveTo>
                    <a:pt x="19" y="217"/>
                  </a:moveTo>
                  <a:lnTo>
                    <a:pt x="0" y="150"/>
                  </a:lnTo>
                  <a:lnTo>
                    <a:pt x="236" y="0"/>
                  </a:lnTo>
                  <a:lnTo>
                    <a:pt x="244" y="78"/>
                  </a:lnTo>
                  <a:lnTo>
                    <a:pt x="19" y="217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61240" y="547560"/>
              <a:ext cx="28800" cy="76680"/>
            </a:xfrm>
            <a:custGeom>
              <a:avLst/>
              <a:gdLst/>
              <a:ahLst/>
              <a:rect l="0" t="0" r="r" b="b"/>
              <a:pathLst>
                <a:path w="80" h="213">
                  <a:moveTo>
                    <a:pt x="29" y="0"/>
                  </a:moveTo>
                  <a:lnTo>
                    <a:pt x="0" y="43"/>
                  </a:lnTo>
                  <a:lnTo>
                    <a:pt x="39" y="213"/>
                  </a:lnTo>
                  <a:lnTo>
                    <a:pt x="80" y="19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19840" y="357120"/>
              <a:ext cx="65520" cy="60840"/>
            </a:xfrm>
            <a:custGeom>
              <a:avLst/>
              <a:gdLst/>
              <a:ahLst/>
              <a:rect l="0" t="0" r="r" b="b"/>
              <a:pathLst>
                <a:path w="182" h="169">
                  <a:moveTo>
                    <a:pt x="30" y="0"/>
                  </a:moveTo>
                  <a:lnTo>
                    <a:pt x="0" y="26"/>
                  </a:lnTo>
                  <a:lnTo>
                    <a:pt x="167" y="169"/>
                  </a:lnTo>
                  <a:lnTo>
                    <a:pt x="182" y="10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94640" y="530280"/>
              <a:ext cx="73440" cy="36720"/>
            </a:xfrm>
            <a:custGeom>
              <a:avLst/>
              <a:gdLst/>
              <a:ahLst/>
              <a:rect l="0" t="0" r="r" b="b"/>
              <a:pathLst>
                <a:path w="204" h="102">
                  <a:moveTo>
                    <a:pt x="35" y="0"/>
                  </a:moveTo>
                  <a:lnTo>
                    <a:pt x="0" y="38"/>
                  </a:lnTo>
                  <a:lnTo>
                    <a:pt x="193" y="102"/>
                  </a:lnTo>
                  <a:lnTo>
                    <a:pt x="204" y="38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94720" y="206280"/>
              <a:ext cx="54360" cy="81360"/>
            </a:xfrm>
            <a:custGeom>
              <a:avLst/>
              <a:gdLst/>
              <a:ahLst/>
              <a:rect l="0" t="0" r="r" b="b"/>
              <a:pathLst>
                <a:path w="151" h="226">
                  <a:moveTo>
                    <a:pt x="26" y="0"/>
                  </a:moveTo>
                  <a:lnTo>
                    <a:pt x="0" y="95"/>
                  </a:lnTo>
                  <a:lnTo>
                    <a:pt x="105" y="226"/>
                  </a:lnTo>
                  <a:lnTo>
                    <a:pt x="151" y="15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43880" y="681120"/>
              <a:ext cx="44640" cy="90720"/>
            </a:xfrm>
            <a:custGeom>
              <a:avLst/>
              <a:gdLst/>
              <a:ahLst/>
              <a:rect l="0" t="0" r="r" b="b"/>
              <a:pathLst>
                <a:path w="124" h="252">
                  <a:moveTo>
                    <a:pt x="18" y="252"/>
                  </a:moveTo>
                  <a:lnTo>
                    <a:pt x="0" y="220"/>
                  </a:lnTo>
                  <a:lnTo>
                    <a:pt x="109" y="0"/>
                  </a:lnTo>
                  <a:lnTo>
                    <a:pt x="124" y="31"/>
                  </a:lnTo>
                  <a:lnTo>
                    <a:pt x="18" y="252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631360" y="547560"/>
              <a:ext cx="6840" cy="65520"/>
            </a:xfrm>
            <a:custGeom>
              <a:avLst/>
              <a:gdLst/>
              <a:ahLst/>
              <a:rect l="0" t="0" r="r" b="b"/>
              <a:pathLst>
                <a:path w="19" h="182">
                  <a:moveTo>
                    <a:pt x="1" y="178"/>
                  </a:moveTo>
                  <a:lnTo>
                    <a:pt x="0" y="182"/>
                  </a:lnTo>
                  <a:lnTo>
                    <a:pt x="9" y="0"/>
                  </a:lnTo>
                  <a:lnTo>
                    <a:pt x="19" y="3"/>
                  </a:lnTo>
                  <a:lnTo>
                    <a:pt x="1" y="178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39120" y="304920"/>
              <a:ext cx="49320" cy="493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56760" y="29988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2000" y="198360"/>
              <a:ext cx="5076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9280" y="193680"/>
              <a:ext cx="525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04280" y="485640"/>
              <a:ext cx="5256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523360" y="48096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20000" y="304920"/>
              <a:ext cx="50760" cy="493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37640" y="299880"/>
              <a:ext cx="525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8720" y="485640"/>
              <a:ext cx="5076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7800" y="48096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6480" y="658800"/>
              <a:ext cx="5076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43760" y="65412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02520" y="762120"/>
              <a:ext cx="4932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120160" y="75888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24720" y="658800"/>
              <a:ext cx="5400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443800" y="65412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94760" y="198360"/>
              <a:ext cx="5400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13840" y="19368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02680" y="750960"/>
              <a:ext cx="50760" cy="4752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21760" y="746280"/>
              <a:ext cx="50760" cy="4752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23280" y="957240"/>
              <a:ext cx="681480" cy="651240"/>
            </a:xfrm>
            <a:custGeom>
              <a:avLst/>
              <a:gdLst/>
              <a:ahLst/>
              <a:rect l="0" t="0" r="r" b="b"/>
              <a:pathLst>
                <a:path w="1893" h="1809">
                  <a:moveTo>
                    <a:pt x="731" y="1627"/>
                  </a:moveTo>
                  <a:lnTo>
                    <a:pt x="653" y="1740"/>
                  </a:lnTo>
                  <a:lnTo>
                    <a:pt x="562" y="1710"/>
                  </a:lnTo>
                  <a:lnTo>
                    <a:pt x="579" y="1597"/>
                  </a:lnTo>
                  <a:lnTo>
                    <a:pt x="434" y="1505"/>
                  </a:lnTo>
                  <a:lnTo>
                    <a:pt x="300" y="1562"/>
                  </a:lnTo>
                  <a:lnTo>
                    <a:pt x="243" y="1488"/>
                  </a:lnTo>
                  <a:lnTo>
                    <a:pt x="317" y="1401"/>
                  </a:lnTo>
                  <a:lnTo>
                    <a:pt x="243" y="1252"/>
                  </a:lnTo>
                  <a:lnTo>
                    <a:pt x="95" y="1270"/>
                  </a:lnTo>
                  <a:lnTo>
                    <a:pt x="65" y="1191"/>
                  </a:lnTo>
                  <a:lnTo>
                    <a:pt x="165" y="1126"/>
                  </a:lnTo>
                  <a:lnTo>
                    <a:pt x="134" y="991"/>
                  </a:lnTo>
                  <a:lnTo>
                    <a:pt x="13" y="974"/>
                  </a:lnTo>
                  <a:lnTo>
                    <a:pt x="0" y="861"/>
                  </a:lnTo>
                  <a:lnTo>
                    <a:pt x="121" y="826"/>
                  </a:lnTo>
                  <a:lnTo>
                    <a:pt x="165" y="718"/>
                  </a:lnTo>
                  <a:lnTo>
                    <a:pt x="47" y="618"/>
                  </a:lnTo>
                  <a:lnTo>
                    <a:pt x="86" y="548"/>
                  </a:lnTo>
                  <a:lnTo>
                    <a:pt x="213" y="552"/>
                  </a:lnTo>
                  <a:lnTo>
                    <a:pt x="256" y="479"/>
                  </a:lnTo>
                  <a:lnTo>
                    <a:pt x="187" y="343"/>
                  </a:lnTo>
                  <a:lnTo>
                    <a:pt x="247" y="286"/>
                  </a:lnTo>
                  <a:lnTo>
                    <a:pt x="369" y="334"/>
                  </a:lnTo>
                  <a:lnTo>
                    <a:pt x="417" y="273"/>
                  </a:lnTo>
                  <a:lnTo>
                    <a:pt x="400" y="156"/>
                  </a:lnTo>
                  <a:lnTo>
                    <a:pt x="479" y="104"/>
                  </a:lnTo>
                  <a:lnTo>
                    <a:pt x="566" y="173"/>
                  </a:lnTo>
                  <a:lnTo>
                    <a:pt x="718" y="134"/>
                  </a:lnTo>
                  <a:lnTo>
                    <a:pt x="740" y="8"/>
                  </a:lnTo>
                  <a:lnTo>
                    <a:pt x="835" y="0"/>
                  </a:lnTo>
                  <a:lnTo>
                    <a:pt x="901" y="99"/>
                  </a:lnTo>
                  <a:lnTo>
                    <a:pt x="949" y="99"/>
                  </a:lnTo>
                  <a:lnTo>
                    <a:pt x="944" y="99"/>
                  </a:lnTo>
                  <a:lnTo>
                    <a:pt x="992" y="99"/>
                  </a:lnTo>
                  <a:lnTo>
                    <a:pt x="1057" y="0"/>
                  </a:lnTo>
                  <a:lnTo>
                    <a:pt x="1153" y="8"/>
                  </a:lnTo>
                  <a:lnTo>
                    <a:pt x="1170" y="134"/>
                  </a:lnTo>
                  <a:lnTo>
                    <a:pt x="1318" y="173"/>
                  </a:lnTo>
                  <a:lnTo>
                    <a:pt x="1414" y="104"/>
                  </a:lnTo>
                  <a:lnTo>
                    <a:pt x="1493" y="156"/>
                  </a:lnTo>
                  <a:lnTo>
                    <a:pt x="1467" y="273"/>
                  </a:lnTo>
                  <a:lnTo>
                    <a:pt x="1532" y="334"/>
                  </a:lnTo>
                  <a:lnTo>
                    <a:pt x="1645" y="286"/>
                  </a:lnTo>
                  <a:lnTo>
                    <a:pt x="1706" y="343"/>
                  </a:lnTo>
                  <a:lnTo>
                    <a:pt x="1632" y="479"/>
                  </a:lnTo>
                  <a:lnTo>
                    <a:pt x="1680" y="552"/>
                  </a:lnTo>
                  <a:lnTo>
                    <a:pt x="1806" y="548"/>
                  </a:lnTo>
                  <a:lnTo>
                    <a:pt x="1841" y="618"/>
                  </a:lnTo>
                  <a:lnTo>
                    <a:pt x="1745" y="687"/>
                  </a:lnTo>
                  <a:lnTo>
                    <a:pt x="1763" y="818"/>
                  </a:lnTo>
                  <a:lnTo>
                    <a:pt x="1893" y="861"/>
                  </a:lnTo>
                  <a:lnTo>
                    <a:pt x="1876" y="974"/>
                  </a:lnTo>
                  <a:lnTo>
                    <a:pt x="1754" y="991"/>
                  </a:lnTo>
                  <a:lnTo>
                    <a:pt x="1728" y="1126"/>
                  </a:lnTo>
                  <a:lnTo>
                    <a:pt x="1828" y="1191"/>
                  </a:lnTo>
                  <a:lnTo>
                    <a:pt x="1793" y="1270"/>
                  </a:lnTo>
                  <a:lnTo>
                    <a:pt x="1650" y="1252"/>
                  </a:lnTo>
                  <a:lnTo>
                    <a:pt x="1571" y="1401"/>
                  </a:lnTo>
                  <a:lnTo>
                    <a:pt x="1650" y="1488"/>
                  </a:lnTo>
                  <a:lnTo>
                    <a:pt x="1589" y="1562"/>
                  </a:lnTo>
                  <a:lnTo>
                    <a:pt x="1458" y="1505"/>
                  </a:lnTo>
                  <a:lnTo>
                    <a:pt x="1314" y="1597"/>
                  </a:lnTo>
                  <a:lnTo>
                    <a:pt x="1327" y="1710"/>
                  </a:lnTo>
                  <a:lnTo>
                    <a:pt x="1240" y="1740"/>
                  </a:lnTo>
                  <a:lnTo>
                    <a:pt x="1157" y="1627"/>
                  </a:lnTo>
                  <a:lnTo>
                    <a:pt x="1022" y="1657"/>
                  </a:lnTo>
                  <a:lnTo>
                    <a:pt x="979" y="1809"/>
                  </a:lnTo>
                  <a:lnTo>
                    <a:pt x="883" y="1801"/>
                  </a:lnTo>
                  <a:lnTo>
                    <a:pt x="866" y="1666"/>
                  </a:lnTo>
                  <a:lnTo>
                    <a:pt x="731" y="16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40560" y="932040"/>
              <a:ext cx="686160" cy="651240"/>
            </a:xfrm>
            <a:custGeom>
              <a:avLst/>
              <a:gdLst/>
              <a:ahLst/>
              <a:rect l="0" t="0" r="r" b="b"/>
              <a:pathLst>
                <a:path w="1906" h="1809">
                  <a:moveTo>
                    <a:pt x="735" y="1631"/>
                  </a:moveTo>
                  <a:lnTo>
                    <a:pt x="661" y="1740"/>
                  </a:lnTo>
                  <a:lnTo>
                    <a:pt x="574" y="1710"/>
                  </a:lnTo>
                  <a:lnTo>
                    <a:pt x="591" y="1601"/>
                  </a:lnTo>
                  <a:lnTo>
                    <a:pt x="443" y="1501"/>
                  </a:lnTo>
                  <a:lnTo>
                    <a:pt x="313" y="1557"/>
                  </a:lnTo>
                  <a:lnTo>
                    <a:pt x="252" y="1488"/>
                  </a:lnTo>
                  <a:lnTo>
                    <a:pt x="330" y="1401"/>
                  </a:lnTo>
                  <a:lnTo>
                    <a:pt x="230" y="1252"/>
                  </a:lnTo>
                  <a:lnTo>
                    <a:pt x="108" y="1270"/>
                  </a:lnTo>
                  <a:lnTo>
                    <a:pt x="69" y="1191"/>
                  </a:lnTo>
                  <a:lnTo>
                    <a:pt x="173" y="1122"/>
                  </a:lnTo>
                  <a:lnTo>
                    <a:pt x="147" y="991"/>
                  </a:lnTo>
                  <a:lnTo>
                    <a:pt x="26" y="974"/>
                  </a:lnTo>
                  <a:lnTo>
                    <a:pt x="0" y="848"/>
                  </a:lnTo>
                  <a:lnTo>
                    <a:pt x="134" y="826"/>
                  </a:lnTo>
                  <a:lnTo>
                    <a:pt x="178" y="718"/>
                  </a:lnTo>
                  <a:lnTo>
                    <a:pt x="56" y="618"/>
                  </a:lnTo>
                  <a:lnTo>
                    <a:pt x="95" y="548"/>
                  </a:lnTo>
                  <a:lnTo>
                    <a:pt x="221" y="552"/>
                  </a:lnTo>
                  <a:lnTo>
                    <a:pt x="269" y="474"/>
                  </a:lnTo>
                  <a:lnTo>
                    <a:pt x="195" y="343"/>
                  </a:lnTo>
                  <a:lnTo>
                    <a:pt x="256" y="286"/>
                  </a:lnTo>
                  <a:lnTo>
                    <a:pt x="374" y="338"/>
                  </a:lnTo>
                  <a:lnTo>
                    <a:pt x="434" y="278"/>
                  </a:lnTo>
                  <a:lnTo>
                    <a:pt x="408" y="156"/>
                  </a:lnTo>
                  <a:lnTo>
                    <a:pt x="487" y="108"/>
                  </a:lnTo>
                  <a:lnTo>
                    <a:pt x="582" y="169"/>
                  </a:lnTo>
                  <a:lnTo>
                    <a:pt x="726" y="134"/>
                  </a:lnTo>
                  <a:lnTo>
                    <a:pt x="748" y="13"/>
                  </a:lnTo>
                  <a:lnTo>
                    <a:pt x="839" y="0"/>
                  </a:lnTo>
                  <a:lnTo>
                    <a:pt x="909" y="108"/>
                  </a:lnTo>
                  <a:lnTo>
                    <a:pt x="952" y="108"/>
                  </a:lnTo>
                  <a:lnTo>
                    <a:pt x="1001" y="108"/>
                  </a:lnTo>
                  <a:lnTo>
                    <a:pt x="1070" y="0"/>
                  </a:lnTo>
                  <a:lnTo>
                    <a:pt x="1162" y="13"/>
                  </a:lnTo>
                  <a:lnTo>
                    <a:pt x="1184" y="134"/>
                  </a:lnTo>
                  <a:lnTo>
                    <a:pt x="1331" y="169"/>
                  </a:lnTo>
                  <a:lnTo>
                    <a:pt x="1427" y="108"/>
                  </a:lnTo>
                  <a:lnTo>
                    <a:pt x="1501" y="156"/>
                  </a:lnTo>
                  <a:lnTo>
                    <a:pt x="1484" y="278"/>
                  </a:lnTo>
                  <a:lnTo>
                    <a:pt x="1540" y="338"/>
                  </a:lnTo>
                  <a:lnTo>
                    <a:pt x="1658" y="286"/>
                  </a:lnTo>
                  <a:lnTo>
                    <a:pt x="1714" y="343"/>
                  </a:lnTo>
                  <a:lnTo>
                    <a:pt x="1640" y="474"/>
                  </a:lnTo>
                  <a:lnTo>
                    <a:pt x="1688" y="552"/>
                  </a:lnTo>
                  <a:lnTo>
                    <a:pt x="1819" y="548"/>
                  </a:lnTo>
                  <a:lnTo>
                    <a:pt x="1853" y="618"/>
                  </a:lnTo>
                  <a:lnTo>
                    <a:pt x="1753" y="687"/>
                  </a:lnTo>
                  <a:lnTo>
                    <a:pt x="1775" y="813"/>
                  </a:lnTo>
                  <a:lnTo>
                    <a:pt x="1906" y="861"/>
                  </a:lnTo>
                  <a:lnTo>
                    <a:pt x="1879" y="974"/>
                  </a:lnTo>
                  <a:lnTo>
                    <a:pt x="1766" y="991"/>
                  </a:lnTo>
                  <a:lnTo>
                    <a:pt x="1736" y="1122"/>
                  </a:lnTo>
                  <a:lnTo>
                    <a:pt x="1840" y="1191"/>
                  </a:lnTo>
                  <a:lnTo>
                    <a:pt x="1805" y="1270"/>
                  </a:lnTo>
                  <a:lnTo>
                    <a:pt x="1662" y="1252"/>
                  </a:lnTo>
                  <a:lnTo>
                    <a:pt x="1584" y="1401"/>
                  </a:lnTo>
                  <a:lnTo>
                    <a:pt x="1662" y="1488"/>
                  </a:lnTo>
                  <a:lnTo>
                    <a:pt x="1601" y="1557"/>
                  </a:lnTo>
                  <a:lnTo>
                    <a:pt x="1466" y="1501"/>
                  </a:lnTo>
                  <a:lnTo>
                    <a:pt x="1323" y="1601"/>
                  </a:lnTo>
                  <a:lnTo>
                    <a:pt x="1353" y="1714"/>
                  </a:lnTo>
                  <a:lnTo>
                    <a:pt x="1253" y="1757"/>
                  </a:lnTo>
                  <a:lnTo>
                    <a:pt x="1162" y="1631"/>
                  </a:lnTo>
                  <a:lnTo>
                    <a:pt x="1031" y="1657"/>
                  </a:lnTo>
                  <a:lnTo>
                    <a:pt x="988" y="1809"/>
                  </a:lnTo>
                  <a:lnTo>
                    <a:pt x="895" y="1796"/>
                  </a:lnTo>
                  <a:lnTo>
                    <a:pt x="874" y="1666"/>
                  </a:lnTo>
                  <a:lnTo>
                    <a:pt x="735" y="1631"/>
                  </a:lnTo>
                  <a:close/>
                </a:path>
              </a:pathLst>
            </a:custGeom>
            <a:solidFill>
              <a:srgbClr val="a0a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761240" y="1139760"/>
              <a:ext cx="244440" cy="22536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90040" y="1308240"/>
              <a:ext cx="8280" cy="12960"/>
            </a:xfrm>
            <a:custGeom>
              <a:avLst/>
              <a:gdLst/>
              <a:ahLst/>
              <a:rect l="0" t="0" r="r" b="b"/>
              <a:pathLst>
                <a:path w="23" h="36">
                  <a:moveTo>
                    <a:pt x="19" y="0"/>
                  </a:moveTo>
                  <a:lnTo>
                    <a:pt x="0" y="26"/>
                  </a:lnTo>
                  <a:lnTo>
                    <a:pt x="6" y="36"/>
                  </a:lnTo>
                  <a:lnTo>
                    <a:pt x="23" y="1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804080" y="1320840"/>
              <a:ext cx="18000" cy="18000"/>
            </a:xfrm>
            <a:custGeom>
              <a:avLst/>
              <a:gdLst/>
              <a:ahLst/>
              <a:rect l="0" t="0" r="r" b="b"/>
              <a:pathLst>
                <a:path w="50" h="50">
                  <a:moveTo>
                    <a:pt x="29" y="0"/>
                  </a:moveTo>
                  <a:lnTo>
                    <a:pt x="0" y="32"/>
                  </a:lnTo>
                  <a:lnTo>
                    <a:pt x="18" y="50"/>
                  </a:lnTo>
                  <a:lnTo>
                    <a:pt x="50" y="11"/>
                  </a:lnTo>
                  <a:lnTo>
                    <a:pt x="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81760" y="1154160"/>
              <a:ext cx="206280" cy="193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72320" y="1057320"/>
              <a:ext cx="426960" cy="392040"/>
            </a:xfrm>
            <a:prstGeom prst="ellipse">
              <a:avLst/>
            </a:prstGeom>
            <a:noFill/>
            <a:ln w="25560">
              <a:solidFill>
                <a:srgbClr val="404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59640" y="1362240"/>
              <a:ext cx="57600" cy="36720"/>
            </a:xfrm>
            <a:custGeom>
              <a:avLst/>
              <a:gdLst/>
              <a:ahLst/>
              <a:rect l="0" t="0" r="r" b="b"/>
              <a:pathLst>
                <a:path w="160" h="102">
                  <a:moveTo>
                    <a:pt x="22" y="0"/>
                  </a:moveTo>
                  <a:lnTo>
                    <a:pt x="50" y="70"/>
                  </a:lnTo>
                  <a:lnTo>
                    <a:pt x="160" y="41"/>
                  </a:lnTo>
                  <a:lnTo>
                    <a:pt x="145" y="84"/>
                  </a:lnTo>
                  <a:lnTo>
                    <a:pt x="34" y="102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4800" y="1471680"/>
              <a:ext cx="68760" cy="35280"/>
            </a:xfrm>
            <a:custGeom>
              <a:avLst/>
              <a:gdLst/>
              <a:ahLst/>
              <a:rect l="0" t="0" r="r" b="b"/>
              <a:pathLst>
                <a:path w="191" h="98">
                  <a:moveTo>
                    <a:pt x="19" y="3"/>
                  </a:moveTo>
                  <a:lnTo>
                    <a:pt x="74" y="63"/>
                  </a:lnTo>
                  <a:lnTo>
                    <a:pt x="180" y="0"/>
                  </a:lnTo>
                  <a:lnTo>
                    <a:pt x="191" y="48"/>
                  </a:lnTo>
                  <a:lnTo>
                    <a:pt x="62" y="98"/>
                  </a:lnTo>
                  <a:lnTo>
                    <a:pt x="0" y="24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0720" y="1523880"/>
              <a:ext cx="62280" cy="47880"/>
            </a:xfrm>
            <a:custGeom>
              <a:avLst/>
              <a:gdLst/>
              <a:ahLst/>
              <a:rect l="0" t="0" r="r" b="b"/>
              <a:pathLst>
                <a:path w="173" h="133">
                  <a:moveTo>
                    <a:pt x="15" y="58"/>
                  </a:moveTo>
                  <a:lnTo>
                    <a:pt x="96" y="96"/>
                  </a:lnTo>
                  <a:lnTo>
                    <a:pt x="166" y="0"/>
                  </a:lnTo>
                  <a:lnTo>
                    <a:pt x="173" y="47"/>
                  </a:lnTo>
                  <a:lnTo>
                    <a:pt x="88" y="133"/>
                  </a:lnTo>
                  <a:lnTo>
                    <a:pt x="0" y="100"/>
                  </a:lnTo>
                  <a:lnTo>
                    <a:pt x="15" y="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66000" y="1530360"/>
              <a:ext cx="44640" cy="63720"/>
            </a:xfrm>
            <a:custGeom>
              <a:avLst/>
              <a:gdLst/>
              <a:ahLst/>
              <a:rect l="0" t="0" r="r" b="b"/>
              <a:pathLst>
                <a:path w="124" h="177">
                  <a:moveTo>
                    <a:pt x="95" y="177"/>
                  </a:moveTo>
                  <a:lnTo>
                    <a:pt x="124" y="46"/>
                  </a:lnTo>
                  <a:lnTo>
                    <a:pt x="106" y="0"/>
                  </a:lnTo>
                  <a:lnTo>
                    <a:pt x="88" y="146"/>
                  </a:lnTo>
                  <a:lnTo>
                    <a:pt x="0" y="135"/>
                  </a:lnTo>
                  <a:lnTo>
                    <a:pt x="10" y="173"/>
                  </a:lnTo>
                  <a:lnTo>
                    <a:pt x="95" y="177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69320" y="1525680"/>
              <a:ext cx="62280" cy="52920"/>
            </a:xfrm>
            <a:custGeom>
              <a:avLst/>
              <a:gdLst/>
              <a:ahLst/>
              <a:rect l="0" t="0" r="r" b="b"/>
              <a:pathLst>
                <a:path w="173" h="147">
                  <a:moveTo>
                    <a:pt x="7" y="0"/>
                  </a:moveTo>
                  <a:lnTo>
                    <a:pt x="69" y="109"/>
                  </a:lnTo>
                  <a:lnTo>
                    <a:pt x="158" y="68"/>
                  </a:lnTo>
                  <a:lnTo>
                    <a:pt x="173" y="101"/>
                  </a:lnTo>
                  <a:lnTo>
                    <a:pt x="77" y="147"/>
                  </a:lnTo>
                  <a:lnTo>
                    <a:pt x="0" y="4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83440" y="1467000"/>
              <a:ext cx="55800" cy="39960"/>
            </a:xfrm>
            <a:custGeom>
              <a:avLst/>
              <a:gdLst/>
              <a:ahLst/>
              <a:rect l="0" t="0" r="r" b="b"/>
              <a:pathLst>
                <a:path w="155" h="111">
                  <a:moveTo>
                    <a:pt x="0" y="0"/>
                  </a:moveTo>
                  <a:lnTo>
                    <a:pt x="87" y="72"/>
                  </a:lnTo>
                  <a:lnTo>
                    <a:pt x="151" y="14"/>
                  </a:lnTo>
                  <a:lnTo>
                    <a:pt x="155" y="39"/>
                  </a:lnTo>
                  <a:lnTo>
                    <a:pt x="83" y="11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45360" y="1366920"/>
              <a:ext cx="62280" cy="30600"/>
            </a:xfrm>
            <a:custGeom>
              <a:avLst/>
              <a:gdLst/>
              <a:ahLst/>
              <a:rect l="0" t="0" r="r" b="b"/>
              <a:pathLst>
                <a:path w="173" h="85">
                  <a:moveTo>
                    <a:pt x="7" y="31"/>
                  </a:moveTo>
                  <a:lnTo>
                    <a:pt x="127" y="57"/>
                  </a:lnTo>
                  <a:lnTo>
                    <a:pt x="162" y="0"/>
                  </a:lnTo>
                  <a:lnTo>
                    <a:pt x="173" y="13"/>
                  </a:lnTo>
                  <a:lnTo>
                    <a:pt x="111" y="85"/>
                  </a:lnTo>
                  <a:lnTo>
                    <a:pt x="0" y="57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80280" y="1244520"/>
              <a:ext cx="47880" cy="44640"/>
            </a:xfrm>
            <a:custGeom>
              <a:avLst/>
              <a:gdLst/>
              <a:ahLst/>
              <a:rect l="0" t="0" r="r" b="b"/>
              <a:pathLst>
                <a:path w="133" h="124">
                  <a:moveTo>
                    <a:pt x="11" y="88"/>
                  </a:moveTo>
                  <a:lnTo>
                    <a:pt x="114" y="88"/>
                  </a:lnTo>
                  <a:lnTo>
                    <a:pt x="122" y="0"/>
                  </a:lnTo>
                  <a:lnTo>
                    <a:pt x="133" y="18"/>
                  </a:lnTo>
                  <a:lnTo>
                    <a:pt x="122" y="117"/>
                  </a:lnTo>
                  <a:lnTo>
                    <a:pt x="0" y="124"/>
                  </a:lnTo>
                  <a:lnTo>
                    <a:pt x="11" y="8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32640" y="1246320"/>
              <a:ext cx="5040" cy="35280"/>
            </a:xfrm>
            <a:custGeom>
              <a:avLst/>
              <a:gdLst/>
              <a:ahLst/>
              <a:rect l="0" t="0" r="r" b="b"/>
              <a:pathLst>
                <a:path w="14" h="98">
                  <a:moveTo>
                    <a:pt x="8" y="0"/>
                  </a:moveTo>
                  <a:lnTo>
                    <a:pt x="14" y="73"/>
                  </a:lnTo>
                  <a:lnTo>
                    <a:pt x="2" y="98"/>
                  </a:lnTo>
                  <a:lnTo>
                    <a:pt x="0" y="2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02640" y="1527120"/>
              <a:ext cx="55800" cy="18000"/>
            </a:xfrm>
            <a:custGeom>
              <a:avLst/>
              <a:gdLst/>
              <a:ahLst/>
              <a:rect l="0" t="0" r="r" b="b"/>
              <a:pathLst>
                <a:path w="155" h="50">
                  <a:moveTo>
                    <a:pt x="15" y="0"/>
                  </a:moveTo>
                  <a:lnTo>
                    <a:pt x="0" y="35"/>
                  </a:lnTo>
                  <a:lnTo>
                    <a:pt x="155" y="50"/>
                  </a:lnTo>
                  <a:lnTo>
                    <a:pt x="147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7880" y="1473120"/>
              <a:ext cx="49680" cy="44640"/>
            </a:xfrm>
            <a:custGeom>
              <a:avLst/>
              <a:gdLst/>
              <a:ahLst/>
              <a:rect l="0" t="0" r="r" b="b"/>
              <a:pathLst>
                <a:path w="138" h="124">
                  <a:moveTo>
                    <a:pt x="0" y="0"/>
                  </a:moveTo>
                  <a:lnTo>
                    <a:pt x="7" y="50"/>
                  </a:lnTo>
                  <a:lnTo>
                    <a:pt x="135" y="124"/>
                  </a:lnTo>
                  <a:lnTo>
                    <a:pt x="138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5080" y="1386000"/>
              <a:ext cx="38520" cy="62280"/>
            </a:xfrm>
            <a:custGeom>
              <a:avLst/>
              <a:gdLst/>
              <a:ahLst/>
              <a:rect l="0" t="0" r="r" b="b"/>
              <a:pathLst>
                <a:path w="107" h="173">
                  <a:moveTo>
                    <a:pt x="10" y="0"/>
                  </a:moveTo>
                  <a:lnTo>
                    <a:pt x="0" y="42"/>
                  </a:lnTo>
                  <a:lnTo>
                    <a:pt x="86" y="173"/>
                  </a:lnTo>
                  <a:lnTo>
                    <a:pt x="107" y="13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13520" y="1525680"/>
              <a:ext cx="55800" cy="20880"/>
            </a:xfrm>
            <a:custGeom>
              <a:avLst/>
              <a:gdLst/>
              <a:ahLst/>
              <a:rect l="0" t="0" r="r" b="b"/>
              <a:pathLst>
                <a:path w="155" h="58">
                  <a:moveTo>
                    <a:pt x="0" y="58"/>
                  </a:moveTo>
                  <a:lnTo>
                    <a:pt x="0" y="12"/>
                  </a:lnTo>
                  <a:lnTo>
                    <a:pt x="140" y="0"/>
                  </a:lnTo>
                  <a:lnTo>
                    <a:pt x="155" y="4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21520" y="1473120"/>
              <a:ext cx="57600" cy="51120"/>
            </a:xfrm>
            <a:custGeom>
              <a:avLst/>
              <a:gdLst/>
              <a:ahLst/>
              <a:rect l="0" t="0" r="r" b="b"/>
              <a:pathLst>
                <a:path w="160" h="142">
                  <a:moveTo>
                    <a:pt x="11" y="142"/>
                  </a:moveTo>
                  <a:lnTo>
                    <a:pt x="0" y="93"/>
                  </a:lnTo>
                  <a:lnTo>
                    <a:pt x="153" y="0"/>
                  </a:lnTo>
                  <a:lnTo>
                    <a:pt x="160" y="48"/>
                  </a:lnTo>
                  <a:lnTo>
                    <a:pt x="11" y="142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83400" y="1290600"/>
              <a:ext cx="14760" cy="51120"/>
            </a:xfrm>
            <a:custGeom>
              <a:avLst/>
              <a:gdLst/>
              <a:ahLst/>
              <a:rect l="0" t="0" r="r" b="b"/>
              <a:pathLst>
                <a:path w="41" h="142">
                  <a:moveTo>
                    <a:pt x="22" y="0"/>
                  </a:moveTo>
                  <a:lnTo>
                    <a:pt x="0" y="29"/>
                  </a:lnTo>
                  <a:lnTo>
                    <a:pt x="22" y="142"/>
                  </a:lnTo>
                  <a:lnTo>
                    <a:pt x="41" y="1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4960" y="1160640"/>
              <a:ext cx="41760" cy="39960"/>
            </a:xfrm>
            <a:custGeom>
              <a:avLst/>
              <a:gdLst/>
              <a:ahLst/>
              <a:rect l="0" t="0" r="r" b="b"/>
              <a:pathLst>
                <a:path w="116" h="111">
                  <a:moveTo>
                    <a:pt x="17" y="0"/>
                  </a:moveTo>
                  <a:lnTo>
                    <a:pt x="0" y="14"/>
                  </a:lnTo>
                  <a:lnTo>
                    <a:pt x="105" y="111"/>
                  </a:lnTo>
                  <a:lnTo>
                    <a:pt x="116" y="6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37320" y="1278000"/>
              <a:ext cx="47880" cy="22680"/>
            </a:xfrm>
            <a:custGeom>
              <a:avLst/>
              <a:gdLst/>
              <a:ahLst/>
              <a:rect l="0" t="0" r="r" b="b"/>
              <a:pathLst>
                <a:path w="133" h="63">
                  <a:moveTo>
                    <a:pt x="22" y="0"/>
                  </a:moveTo>
                  <a:lnTo>
                    <a:pt x="0" y="25"/>
                  </a:lnTo>
                  <a:lnTo>
                    <a:pt x="122" y="63"/>
                  </a:lnTo>
                  <a:lnTo>
                    <a:pt x="133" y="2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05720" y="1057320"/>
              <a:ext cx="33840" cy="52920"/>
            </a:xfrm>
            <a:custGeom>
              <a:avLst/>
              <a:gdLst/>
              <a:ahLst/>
              <a:rect l="0" t="0" r="r" b="b"/>
              <a:pathLst>
                <a:path w="94" h="147">
                  <a:moveTo>
                    <a:pt x="17" y="0"/>
                  </a:moveTo>
                  <a:lnTo>
                    <a:pt x="0" y="60"/>
                  </a:lnTo>
                  <a:lnTo>
                    <a:pt x="66" y="147"/>
                  </a:lnTo>
                  <a:lnTo>
                    <a:pt x="94" y="9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16920" y="1384200"/>
              <a:ext cx="27360" cy="57600"/>
            </a:xfrm>
            <a:custGeom>
              <a:avLst/>
              <a:gdLst/>
              <a:ahLst/>
              <a:rect l="0" t="0" r="r" b="b"/>
              <a:pathLst>
                <a:path w="76" h="160">
                  <a:moveTo>
                    <a:pt x="13" y="160"/>
                  </a:moveTo>
                  <a:lnTo>
                    <a:pt x="0" y="141"/>
                  </a:lnTo>
                  <a:lnTo>
                    <a:pt x="67" y="0"/>
                  </a:lnTo>
                  <a:lnTo>
                    <a:pt x="76" y="11"/>
                  </a:lnTo>
                  <a:lnTo>
                    <a:pt x="13" y="160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72360" y="1281240"/>
              <a:ext cx="1800" cy="54360"/>
            </a:xfrm>
            <a:custGeom>
              <a:avLst/>
              <a:gdLst/>
              <a:ahLst/>
              <a:rect l="0" t="0" r="r" b="b"/>
              <a:pathLst>
                <a:path w="5" h="151">
                  <a:moveTo>
                    <a:pt x="0" y="151"/>
                  </a:moveTo>
                  <a:lnTo>
                    <a:pt x="0" y="136"/>
                  </a:lnTo>
                  <a:lnTo>
                    <a:pt x="5" y="11"/>
                  </a:lnTo>
                  <a:lnTo>
                    <a:pt x="4" y="0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43840" y="1125360"/>
              <a:ext cx="31680" cy="284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56440" y="1120680"/>
              <a:ext cx="31680" cy="302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00840" y="1049400"/>
              <a:ext cx="334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13800" y="1047600"/>
              <a:ext cx="33480" cy="284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88480" y="1247760"/>
              <a:ext cx="33480" cy="3168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2520" y="1246320"/>
              <a:ext cx="30240" cy="284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89960" y="1125360"/>
              <a:ext cx="33480" cy="284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04000" y="1120680"/>
              <a:ext cx="31680" cy="302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42080" y="1247760"/>
              <a:ext cx="31680" cy="3168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55040" y="1246320"/>
              <a:ext cx="31680" cy="284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4640" y="1366920"/>
              <a:ext cx="334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07240" y="1362240"/>
              <a:ext cx="31680" cy="302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813800" y="1438200"/>
              <a:ext cx="334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27840" y="1434960"/>
              <a:ext cx="30240" cy="284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35920" y="1366920"/>
              <a:ext cx="316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48520" y="1362240"/>
              <a:ext cx="31680" cy="302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48440" y="1049400"/>
              <a:ext cx="316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59600" y="1047600"/>
              <a:ext cx="31680" cy="284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51680" y="1428840"/>
              <a:ext cx="31680" cy="30240"/>
            </a:xfrm>
            <a:prstGeom prst="ellipse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964640" y="1425600"/>
              <a:ext cx="31680" cy="30240"/>
            </a:xfrm>
            <a:prstGeom prst="ellipse">
              <a:avLst/>
            </a:prstGeom>
            <a:solidFill>
              <a:srgbClr val="c0c000"/>
            </a:solidFill>
            <a:ln w="0">
              <a:noFill/>
            </a:ln>
          </p:spPr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395280" y="5986440"/>
              <a:ext cx="9921960" cy="870120"/>
            </a:xfrm>
            <a:prstGeom prst="rect">
              <a:avLst/>
            </a:prstGeom>
            <a:solidFill>
              <a:srgbClr val="00402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514440" y="419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0680" y="1981080"/>
            <a:ext cx="8272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