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66680" y="0"/>
            <a:ext cx="8434440" cy="11546280"/>
            <a:chOff x="-166680" y="0"/>
            <a:chExt cx="8434440" cy="11546280"/>
          </a:xfrm>
        </p:grpSpPr>
        <p:sp>
          <p:nvSpPr>
            <p:cNvPr id="1" name=""/>
            <p:cNvSpPr/>
            <p:nvPr/>
          </p:nvSpPr>
          <p:spPr>
            <a:xfrm>
              <a:off x="1035000" y="471600"/>
              <a:ext cx="2679840" cy="2824200"/>
            </a:xfrm>
            <a:prstGeom prst="ellipse">
              <a:avLst/>
            </a:prstGeom>
            <a:noFill/>
            <a:ln w="12600">
              <a:solidFill>
                <a:srgbClr val="0060e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93880" y="0"/>
              <a:ext cx="3949560" cy="4265640"/>
            </a:xfrm>
            <a:prstGeom prst="ellipse">
              <a:avLst/>
            </a:prstGeom>
            <a:noFill/>
            <a:ln w="12600">
              <a:solidFill>
                <a:srgbClr val="0060e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-166680" y="496800"/>
              <a:ext cx="2379600" cy="0"/>
            </a:xfrm>
            <a:prstGeom prst="line">
              <a:avLst/>
            </a:prstGeom>
            <a:ln w="12600">
              <a:solidFill>
                <a:srgbClr val="006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166680" y="870120"/>
              <a:ext cx="2379600" cy="0"/>
            </a:xfrm>
            <a:prstGeom prst="line">
              <a:avLst/>
            </a:prstGeom>
            <a:ln w="12600">
              <a:solidFill>
                <a:srgbClr val="006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166680" y="746280"/>
              <a:ext cx="2379600" cy="0"/>
            </a:xfrm>
            <a:prstGeom prst="line">
              <a:avLst/>
            </a:prstGeom>
            <a:ln w="12600">
              <a:solidFill>
                <a:srgbClr val="006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166680" y="622440"/>
              <a:ext cx="2379600" cy="0"/>
            </a:xfrm>
            <a:prstGeom prst="line">
              <a:avLst/>
            </a:prstGeom>
            <a:ln w="12600">
              <a:solidFill>
                <a:srgbClr val="006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31880" y="7694640"/>
              <a:ext cx="309960" cy="3827880"/>
            </a:xfrm>
            <a:custGeom>
              <a:avLst/>
              <a:gdLst/>
              <a:ahLst/>
              <a:rect l="0" t="0" r="r" b="b"/>
              <a:pathLst>
                <a:path w="861" h="10633">
                  <a:moveTo>
                    <a:pt x="861" y="10633"/>
                  </a:moveTo>
                  <a:lnTo>
                    <a:pt x="861" y="0"/>
                  </a:lnTo>
                  <a:lnTo>
                    <a:pt x="0" y="0"/>
                  </a:lnTo>
                  <a:lnTo>
                    <a:pt x="0" y="10633"/>
                  </a:lnTo>
                  <a:lnTo>
                    <a:pt x="861" y="10633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93600" y="7697880"/>
              <a:ext cx="49680" cy="3824640"/>
            </a:xfrm>
            <a:custGeom>
              <a:avLst/>
              <a:gdLst/>
              <a:ahLst/>
              <a:rect l="0" t="0" r="r" b="b"/>
              <a:pathLst>
                <a:path w="138" h="10624">
                  <a:moveTo>
                    <a:pt x="138" y="10624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10624"/>
                  </a:lnTo>
                  <a:lnTo>
                    <a:pt x="138" y="10624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0" y="7696080"/>
              <a:ext cx="30600" cy="3824640"/>
            </a:xfrm>
            <a:custGeom>
              <a:avLst/>
              <a:gdLst/>
              <a:ahLst/>
              <a:rect l="0" t="0" r="r" b="b"/>
              <a:pathLst>
                <a:path w="85" h="10624">
                  <a:moveTo>
                    <a:pt x="85" y="10624"/>
                  </a:moveTo>
                  <a:lnTo>
                    <a:pt x="85" y="0"/>
                  </a:lnTo>
                  <a:lnTo>
                    <a:pt x="0" y="0"/>
                  </a:lnTo>
                  <a:lnTo>
                    <a:pt x="0" y="10624"/>
                  </a:lnTo>
                  <a:lnTo>
                    <a:pt x="85" y="10624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33320" y="7383600"/>
              <a:ext cx="309960" cy="333720"/>
            </a:xfrm>
            <a:custGeom>
              <a:avLst/>
              <a:gdLst/>
              <a:ahLst/>
              <a:rect l="0" t="0" r="r" b="b"/>
              <a:pathLst>
                <a:path w="861" h="927">
                  <a:moveTo>
                    <a:pt x="0" y="824"/>
                  </a:moveTo>
                  <a:lnTo>
                    <a:pt x="377" y="0"/>
                  </a:lnTo>
                  <a:lnTo>
                    <a:pt x="582" y="372"/>
                  </a:lnTo>
                  <a:lnTo>
                    <a:pt x="861" y="845"/>
                  </a:lnTo>
                  <a:lnTo>
                    <a:pt x="682" y="888"/>
                  </a:lnTo>
                  <a:lnTo>
                    <a:pt x="510" y="832"/>
                  </a:lnTo>
                  <a:lnTo>
                    <a:pt x="171" y="927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32040" y="7493040"/>
              <a:ext cx="111600" cy="211320"/>
            </a:xfrm>
            <a:custGeom>
              <a:avLst/>
              <a:gdLst/>
              <a:ahLst/>
              <a:rect l="0" t="0" r="r" b="b"/>
              <a:pathLst>
                <a:path w="310" h="587">
                  <a:moveTo>
                    <a:pt x="159" y="587"/>
                  </a:moveTo>
                  <a:lnTo>
                    <a:pt x="0" y="42"/>
                  </a:lnTo>
                  <a:lnTo>
                    <a:pt x="16" y="0"/>
                  </a:lnTo>
                  <a:lnTo>
                    <a:pt x="310" y="541"/>
                  </a:lnTo>
                  <a:lnTo>
                    <a:pt x="159" y="587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0280" y="7369200"/>
              <a:ext cx="147960" cy="163800"/>
            </a:xfrm>
            <a:custGeom>
              <a:avLst/>
              <a:gdLst/>
              <a:ahLst/>
              <a:rect l="0" t="0" r="r" b="b"/>
              <a:pathLst>
                <a:path w="411" h="455">
                  <a:moveTo>
                    <a:pt x="0" y="455"/>
                  </a:moveTo>
                  <a:lnTo>
                    <a:pt x="208" y="0"/>
                  </a:lnTo>
                  <a:lnTo>
                    <a:pt x="411" y="413"/>
                  </a:lnTo>
                  <a:lnTo>
                    <a:pt x="282" y="451"/>
                  </a:lnTo>
                  <a:lnTo>
                    <a:pt x="149" y="396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9480" y="7370640"/>
              <a:ext cx="49680" cy="155880"/>
            </a:xfrm>
            <a:custGeom>
              <a:avLst/>
              <a:gdLst/>
              <a:ahLst/>
              <a:rect l="0" t="0" r="r" b="b"/>
              <a:pathLst>
                <a:path w="138" h="433">
                  <a:moveTo>
                    <a:pt x="89" y="433"/>
                  </a:moveTo>
                  <a:lnTo>
                    <a:pt x="0" y="0"/>
                  </a:lnTo>
                  <a:lnTo>
                    <a:pt x="138" y="416"/>
                  </a:lnTo>
                  <a:lnTo>
                    <a:pt x="89" y="433"/>
                  </a:lnTo>
                  <a:close/>
                </a:path>
              </a:pathLst>
            </a:cu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040" y="7718400"/>
              <a:ext cx="308160" cy="3827880"/>
            </a:xfrm>
            <a:custGeom>
              <a:avLst/>
              <a:gdLst/>
              <a:ahLst/>
              <a:rect l="0" t="0" r="r" b="b"/>
              <a:pathLst>
                <a:path w="856" h="10633">
                  <a:moveTo>
                    <a:pt x="856" y="10633"/>
                  </a:moveTo>
                  <a:lnTo>
                    <a:pt x="856" y="0"/>
                  </a:lnTo>
                  <a:lnTo>
                    <a:pt x="0" y="0"/>
                  </a:lnTo>
                  <a:lnTo>
                    <a:pt x="0" y="10633"/>
                  </a:lnTo>
                  <a:lnTo>
                    <a:pt x="856" y="106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3760" y="7723080"/>
              <a:ext cx="49680" cy="3823200"/>
            </a:xfrm>
            <a:custGeom>
              <a:avLst/>
              <a:gdLst/>
              <a:ahLst/>
              <a:rect l="0" t="0" r="r" b="b"/>
              <a:pathLst>
                <a:path w="138" h="10620">
                  <a:moveTo>
                    <a:pt x="138" y="10620"/>
                  </a:moveTo>
                  <a:lnTo>
                    <a:pt x="138" y="0"/>
                  </a:lnTo>
                  <a:lnTo>
                    <a:pt x="0" y="0"/>
                  </a:lnTo>
                  <a:lnTo>
                    <a:pt x="0" y="10620"/>
                  </a:lnTo>
                  <a:lnTo>
                    <a:pt x="138" y="10620"/>
                  </a:ln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4160" y="7719840"/>
              <a:ext cx="28800" cy="3826080"/>
            </a:xfrm>
            <a:custGeom>
              <a:avLst/>
              <a:gdLst/>
              <a:ahLst/>
              <a:rect l="0" t="0" r="r" b="b"/>
              <a:pathLst>
                <a:path w="80" h="10628">
                  <a:moveTo>
                    <a:pt x="80" y="10624"/>
                  </a:moveTo>
                  <a:lnTo>
                    <a:pt x="80" y="4"/>
                  </a:lnTo>
                  <a:lnTo>
                    <a:pt x="0" y="0"/>
                  </a:lnTo>
                  <a:lnTo>
                    <a:pt x="0" y="10628"/>
                  </a:lnTo>
                  <a:lnTo>
                    <a:pt x="80" y="10624"/>
                  </a:lnTo>
                  <a:close/>
                </a:path>
              </a:pathLst>
            </a:custGeom>
            <a:solidFill>
              <a:srgbClr val="ff4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3480" y="7408800"/>
              <a:ext cx="309960" cy="333720"/>
            </a:xfrm>
            <a:custGeom>
              <a:avLst/>
              <a:gdLst/>
              <a:ahLst/>
              <a:rect l="0" t="0" r="r" b="b"/>
              <a:pathLst>
                <a:path w="861" h="927">
                  <a:moveTo>
                    <a:pt x="0" y="819"/>
                  </a:moveTo>
                  <a:lnTo>
                    <a:pt x="377" y="0"/>
                  </a:lnTo>
                  <a:lnTo>
                    <a:pt x="578" y="372"/>
                  </a:lnTo>
                  <a:lnTo>
                    <a:pt x="861" y="845"/>
                  </a:lnTo>
                  <a:lnTo>
                    <a:pt x="677" y="888"/>
                  </a:lnTo>
                  <a:lnTo>
                    <a:pt x="505" y="832"/>
                  </a:lnTo>
                  <a:lnTo>
                    <a:pt x="171" y="927"/>
                  </a:lnTo>
                  <a:lnTo>
                    <a:pt x="0" y="819"/>
                  </a:lnTo>
                  <a:close/>
                </a:path>
              </a:pathLst>
            </a:custGeom>
            <a:solidFill>
              <a:srgbClr val="e0a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1840" y="7518240"/>
              <a:ext cx="111600" cy="211320"/>
            </a:xfrm>
            <a:custGeom>
              <a:avLst/>
              <a:gdLst/>
              <a:ahLst/>
              <a:rect l="0" t="0" r="r" b="b"/>
              <a:pathLst>
                <a:path w="310" h="587">
                  <a:moveTo>
                    <a:pt x="155" y="587"/>
                  </a:moveTo>
                  <a:lnTo>
                    <a:pt x="0" y="42"/>
                  </a:lnTo>
                  <a:lnTo>
                    <a:pt x="12" y="0"/>
                  </a:lnTo>
                  <a:lnTo>
                    <a:pt x="310" y="541"/>
                  </a:lnTo>
                  <a:lnTo>
                    <a:pt x="155" y="587"/>
                  </a:lnTo>
                  <a:close/>
                </a:path>
              </a:pathLst>
            </a:custGeom>
            <a:solidFill>
              <a:srgbClr val="a0605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30080" y="7394400"/>
              <a:ext cx="146520" cy="163800"/>
            </a:xfrm>
            <a:custGeom>
              <a:avLst/>
              <a:gdLst/>
              <a:ahLst/>
              <a:rect l="0" t="0" r="r" b="b"/>
              <a:pathLst>
                <a:path w="407" h="455">
                  <a:moveTo>
                    <a:pt x="0" y="455"/>
                  </a:moveTo>
                  <a:lnTo>
                    <a:pt x="203" y="0"/>
                  </a:lnTo>
                  <a:lnTo>
                    <a:pt x="407" y="413"/>
                  </a:lnTo>
                  <a:lnTo>
                    <a:pt x="282" y="446"/>
                  </a:lnTo>
                  <a:lnTo>
                    <a:pt x="145" y="392"/>
                  </a:lnTo>
                  <a:lnTo>
                    <a:pt x="0" y="4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9640" y="7396200"/>
              <a:ext cx="57600" cy="165600"/>
            </a:xfrm>
            <a:custGeom>
              <a:avLst/>
              <a:gdLst/>
              <a:ahLst/>
              <a:rect l="0" t="0" r="r" b="b"/>
              <a:pathLst>
                <a:path w="160" h="460">
                  <a:moveTo>
                    <a:pt x="106" y="460"/>
                  </a:moveTo>
                  <a:lnTo>
                    <a:pt x="0" y="0"/>
                  </a:lnTo>
                  <a:lnTo>
                    <a:pt x="160" y="442"/>
                  </a:lnTo>
                  <a:lnTo>
                    <a:pt x="106" y="46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80808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460840" y="3848040"/>
              <a:ext cx="1070280" cy="1249560"/>
            </a:xfrm>
            <a:custGeom>
              <a:avLst/>
              <a:gdLst/>
              <a:ahLst/>
              <a:rect l="0" t="0" r="r" b="b"/>
              <a:pathLst>
                <a:path w="2973" h="3471">
                  <a:moveTo>
                    <a:pt x="961" y="385"/>
                  </a:moveTo>
                  <a:lnTo>
                    <a:pt x="1132" y="0"/>
                  </a:lnTo>
                  <a:lnTo>
                    <a:pt x="2973" y="1019"/>
                  </a:lnTo>
                  <a:lnTo>
                    <a:pt x="2820" y="1326"/>
                  </a:lnTo>
                  <a:lnTo>
                    <a:pt x="2234" y="1619"/>
                  </a:lnTo>
                  <a:lnTo>
                    <a:pt x="1797" y="1891"/>
                  </a:lnTo>
                  <a:lnTo>
                    <a:pt x="1411" y="2193"/>
                  </a:lnTo>
                  <a:lnTo>
                    <a:pt x="817" y="2797"/>
                  </a:lnTo>
                  <a:lnTo>
                    <a:pt x="463" y="3278"/>
                  </a:lnTo>
                  <a:lnTo>
                    <a:pt x="340" y="3471"/>
                  </a:lnTo>
                  <a:lnTo>
                    <a:pt x="0" y="3270"/>
                  </a:lnTo>
                  <a:lnTo>
                    <a:pt x="323" y="2793"/>
                  </a:lnTo>
                  <a:lnTo>
                    <a:pt x="651" y="2372"/>
                  </a:lnTo>
                  <a:lnTo>
                    <a:pt x="1027" y="1983"/>
                  </a:lnTo>
                  <a:lnTo>
                    <a:pt x="1814" y="1435"/>
                  </a:lnTo>
                  <a:lnTo>
                    <a:pt x="2304" y="1146"/>
                  </a:lnTo>
                  <a:lnTo>
                    <a:pt x="2129" y="1037"/>
                  </a:lnTo>
                  <a:lnTo>
                    <a:pt x="961" y="38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473720" y="249120"/>
              <a:ext cx="2754360" cy="6699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446720" y="290520"/>
              <a:ext cx="3317760" cy="669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446720" y="290520"/>
              <a:ext cx="2781720" cy="655920"/>
            </a:xfrm>
            <a:custGeom>
              <a:avLst/>
              <a:gdLst/>
              <a:ahLst/>
              <a:rect l="0" t="0" r="r" b="b"/>
              <a:pathLst>
                <a:path fill="none" w="7727" h="1822">
                  <a:moveTo>
                    <a:pt x="7727" y="1822"/>
                  </a:moveTo>
                  <a:lnTo>
                    <a:pt x="0" y="1822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440240" y="290520"/>
              <a:ext cx="3511440" cy="47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440240" y="912960"/>
              <a:ext cx="3551400" cy="47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459320" y="338040"/>
              <a:ext cx="3408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440240" y="290520"/>
              <a:ext cx="24120" cy="665640"/>
            </a:xfrm>
            <a:custGeom>
              <a:avLst/>
              <a:gdLst/>
              <a:ahLst/>
              <a:rect l="0" t="0" r="r" b="b"/>
              <a:pathLst>
                <a:path w="67" h="1849">
                  <a:moveTo>
                    <a:pt x="0" y="0"/>
                  </a:moveTo>
                  <a:lnTo>
                    <a:pt x="67" y="134"/>
                  </a:lnTo>
                  <a:lnTo>
                    <a:pt x="67" y="1710"/>
                  </a:lnTo>
                  <a:lnTo>
                    <a:pt x="0" y="18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48240" y="331920"/>
              <a:ext cx="648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244000" y="338040"/>
              <a:ext cx="648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075280" y="338040"/>
              <a:ext cx="792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02320" y="338040"/>
              <a:ext cx="792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130800" y="338040"/>
              <a:ext cx="792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59640" y="338040"/>
              <a:ext cx="648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186680" y="338040"/>
              <a:ext cx="792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713720" y="338040"/>
              <a:ext cx="7920" cy="11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564080" y="331920"/>
              <a:ext cx="7920" cy="112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261280" y="338040"/>
              <a:ext cx="648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092560" y="338040"/>
              <a:ext cx="648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19600" y="338040"/>
              <a:ext cx="792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148440" y="338040"/>
              <a:ext cx="792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675480" y="338040"/>
              <a:ext cx="792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03960" y="338040"/>
              <a:ext cx="648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31000" y="338040"/>
              <a:ext cx="7920" cy="111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5920" y="558720"/>
            <a:ext cx="6157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68280" y="2641680"/>
            <a:ext cx="6203880" cy="60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