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189080"/>
            <a:ext cx="1231920" cy="8902800"/>
            <a:chOff x="0" y="-1189080"/>
            <a:chExt cx="1231920" cy="8902800"/>
          </a:xfrm>
        </p:grpSpPr>
        <p:sp>
          <p:nvSpPr>
            <p:cNvPr id="1" name=""/>
            <p:cNvSpPr/>
            <p:nvPr/>
          </p:nvSpPr>
          <p:spPr>
            <a:xfrm>
              <a:off x="0" y="-298440"/>
              <a:ext cx="838080" cy="7818480"/>
            </a:xfrm>
            <a:prstGeom prst="rect">
              <a:avLst/>
            </a:prstGeom>
            <a:solidFill>
              <a:srgbClr val="008074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9360" y="-1189080"/>
              <a:ext cx="952560" cy="8902800"/>
              <a:chOff x="279360" y="-1189080"/>
              <a:chExt cx="952560" cy="8902800"/>
            </a:xfrm>
          </p:grpSpPr>
          <p:sp>
            <p:nvSpPr>
              <p:cNvPr id="3" name=""/>
              <p:cNvSpPr/>
              <p:nvPr/>
            </p:nvSpPr>
            <p:spPr>
              <a:xfrm>
                <a:off x="281160" y="-1189080"/>
                <a:ext cx="950760" cy="8693280"/>
              </a:xfrm>
              <a:prstGeom prst="rect">
                <a:avLst/>
              </a:prstGeom>
              <a:solidFill>
                <a:srgbClr val="c04000"/>
              </a:solidFill>
              <a:ln w="12600">
                <a:solidFill>
                  <a:srgbClr val="c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04920" y="1708200"/>
                <a:ext cx="237960" cy="3366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93760" y="1500120"/>
                <a:ext cx="136440" cy="7509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90520" y="1598760"/>
                <a:ext cx="251280" cy="606960"/>
              </a:xfrm>
              <a:custGeom>
                <a:avLst/>
                <a:gdLst/>
                <a:ahLst/>
                <a:rect l="0" t="0" r="r" b="b"/>
                <a:pathLst>
                  <a:path w="698" h="1686">
                    <a:moveTo>
                      <a:pt x="0" y="0"/>
                    </a:moveTo>
                    <a:lnTo>
                      <a:pt x="698" y="768"/>
                    </a:lnTo>
                    <a:lnTo>
                      <a:pt x="0" y="168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4040" y="1730520"/>
                <a:ext cx="1332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61920" y="1708200"/>
                <a:ext cx="237960" cy="3366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074600" y="1500120"/>
                <a:ext cx="138240" cy="7509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73080" y="1598760"/>
                <a:ext cx="251280" cy="606960"/>
              </a:xfrm>
              <a:custGeom>
                <a:avLst/>
                <a:gdLst/>
                <a:ahLst/>
                <a:rect l="0" t="0" r="r" b="b"/>
                <a:pathLst>
                  <a:path w="698" h="1686">
                    <a:moveTo>
                      <a:pt x="698" y="0"/>
                    </a:moveTo>
                    <a:lnTo>
                      <a:pt x="0" y="768"/>
                    </a:lnTo>
                    <a:lnTo>
                      <a:pt x="698" y="1686"/>
                    </a:lnTo>
                    <a:lnTo>
                      <a:pt x="698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087560" y="1730520"/>
                <a:ext cx="1350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03120" y="204840"/>
                <a:ext cx="239760" cy="3366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91960" y="-3240"/>
                <a:ext cx="138240" cy="7509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9080" y="92160"/>
                <a:ext cx="252720" cy="609840"/>
              </a:xfrm>
              <a:custGeom>
                <a:avLst/>
                <a:gdLst/>
                <a:ahLst/>
                <a:rect l="0" t="0" r="r" b="b"/>
                <a:pathLst>
                  <a:path w="702" h="1694">
                    <a:moveTo>
                      <a:pt x="0" y="0"/>
                    </a:moveTo>
                    <a:lnTo>
                      <a:pt x="702" y="771"/>
                    </a:lnTo>
                    <a:lnTo>
                      <a:pt x="0" y="169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82600" y="227160"/>
                <a:ext cx="1332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65160" y="204840"/>
                <a:ext cx="237960" cy="3366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77840" y="-3240"/>
                <a:ext cx="136440" cy="7509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76320" y="92160"/>
                <a:ext cx="251280" cy="609840"/>
              </a:xfrm>
              <a:custGeom>
                <a:avLst/>
                <a:gdLst/>
                <a:ahLst/>
                <a:rect l="0" t="0" r="r" b="b"/>
                <a:pathLst>
                  <a:path w="698" h="1694">
                    <a:moveTo>
                      <a:pt x="698" y="0"/>
                    </a:moveTo>
                    <a:lnTo>
                      <a:pt x="0" y="771"/>
                    </a:lnTo>
                    <a:lnTo>
                      <a:pt x="698" y="1694"/>
                    </a:lnTo>
                    <a:lnTo>
                      <a:pt x="698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090440" y="227160"/>
                <a:ext cx="1332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1680" y="3154320"/>
                <a:ext cx="237960" cy="3366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90520" y="2948040"/>
                <a:ext cx="136440" cy="7491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87280" y="3043080"/>
                <a:ext cx="252720" cy="608400"/>
              </a:xfrm>
              <a:custGeom>
                <a:avLst/>
                <a:gdLst/>
                <a:ahLst/>
                <a:rect l="0" t="0" r="r" b="b"/>
                <a:pathLst>
                  <a:path w="702" h="1690">
                    <a:moveTo>
                      <a:pt x="0" y="0"/>
                    </a:moveTo>
                    <a:lnTo>
                      <a:pt x="702" y="768"/>
                    </a:lnTo>
                    <a:lnTo>
                      <a:pt x="0" y="16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79360" y="3178080"/>
                <a:ext cx="135000" cy="30312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68400" y="3154320"/>
                <a:ext cx="237960" cy="3366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079640" y="2948040"/>
                <a:ext cx="138240" cy="7491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79560" y="3043080"/>
                <a:ext cx="249480" cy="608400"/>
              </a:xfrm>
              <a:custGeom>
                <a:avLst/>
                <a:gdLst/>
                <a:ahLst/>
                <a:rect l="0" t="0" r="r" b="b"/>
                <a:pathLst>
                  <a:path w="693" h="1690">
                    <a:moveTo>
                      <a:pt x="693" y="0"/>
                    </a:moveTo>
                    <a:lnTo>
                      <a:pt x="0" y="768"/>
                    </a:lnTo>
                    <a:lnTo>
                      <a:pt x="693" y="1690"/>
                    </a:lnTo>
                    <a:lnTo>
                      <a:pt x="693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092240" y="3178080"/>
                <a:ext cx="135000" cy="30312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3120" y="4627440"/>
                <a:ext cx="239760" cy="3348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1960" y="4421160"/>
                <a:ext cx="138240" cy="7491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90520" y="4516560"/>
                <a:ext cx="251280" cy="608400"/>
              </a:xfrm>
              <a:custGeom>
                <a:avLst/>
                <a:gdLst/>
                <a:ahLst/>
                <a:rect l="0" t="0" r="r" b="b"/>
                <a:pathLst>
                  <a:path w="698" h="1690">
                    <a:moveTo>
                      <a:pt x="0" y="0"/>
                    </a:moveTo>
                    <a:lnTo>
                      <a:pt x="698" y="772"/>
                    </a:lnTo>
                    <a:lnTo>
                      <a:pt x="0" y="16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82600" y="4648320"/>
                <a:ext cx="1350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66960" y="4627440"/>
                <a:ext cx="236520" cy="3348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077840" y="4421160"/>
                <a:ext cx="138240" cy="7491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76320" y="4516560"/>
                <a:ext cx="252720" cy="608400"/>
              </a:xfrm>
              <a:custGeom>
                <a:avLst/>
                <a:gdLst/>
                <a:ahLst/>
                <a:rect l="0" t="0" r="r" b="b"/>
                <a:pathLst>
                  <a:path w="702" h="1690">
                    <a:moveTo>
                      <a:pt x="702" y="0"/>
                    </a:moveTo>
                    <a:lnTo>
                      <a:pt x="0" y="772"/>
                    </a:lnTo>
                    <a:lnTo>
                      <a:pt x="702" y="169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092240" y="4648320"/>
                <a:ext cx="1332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09600" y="-1131840"/>
                <a:ext cx="902160" cy="1476720"/>
              </a:xfrm>
              <a:custGeom>
                <a:avLst/>
                <a:gdLst/>
                <a:ahLst/>
                <a:rect l="0" t="0" r="r" b="b"/>
                <a:pathLst>
                  <a:path w="2506" h="4102">
                    <a:moveTo>
                      <a:pt x="1187" y="4102"/>
                    </a:moveTo>
                    <a:lnTo>
                      <a:pt x="0" y="2479"/>
                    </a:lnTo>
                    <a:lnTo>
                      <a:pt x="0" y="1834"/>
                    </a:lnTo>
                    <a:lnTo>
                      <a:pt x="1235" y="0"/>
                    </a:lnTo>
                    <a:lnTo>
                      <a:pt x="2506" y="1825"/>
                    </a:lnTo>
                    <a:lnTo>
                      <a:pt x="2506" y="2496"/>
                    </a:lnTo>
                    <a:lnTo>
                      <a:pt x="1297" y="4079"/>
                    </a:lnTo>
                    <a:lnTo>
                      <a:pt x="1187" y="4102"/>
                    </a:lnTo>
                    <a:close/>
                  </a:path>
                </a:pathLst>
              </a:custGeom>
              <a:solidFill>
                <a:srgbClr val="404080"/>
              </a:solidFill>
              <a:ln w="12600">
                <a:solidFill>
                  <a:srgbClr val="404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28680" y="-1077840"/>
                <a:ext cx="849600" cy="1387800"/>
              </a:xfrm>
              <a:custGeom>
                <a:avLst/>
                <a:gdLst/>
                <a:ahLst/>
                <a:rect l="0" t="0" r="r" b="b"/>
                <a:pathLst>
                  <a:path w="2360" h="3855">
                    <a:moveTo>
                      <a:pt x="0" y="1781"/>
                    </a:moveTo>
                    <a:lnTo>
                      <a:pt x="1182" y="0"/>
                    </a:lnTo>
                    <a:lnTo>
                      <a:pt x="2342" y="1741"/>
                    </a:lnTo>
                    <a:lnTo>
                      <a:pt x="2360" y="2298"/>
                    </a:lnTo>
                    <a:lnTo>
                      <a:pt x="1182" y="3855"/>
                    </a:lnTo>
                    <a:lnTo>
                      <a:pt x="4" y="2267"/>
                    </a:lnTo>
                    <a:lnTo>
                      <a:pt x="0" y="178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49160" y="-1089000"/>
                <a:ext cx="7920" cy="1386000"/>
              </a:xfrm>
              <a:prstGeom prst="rect">
                <a:avLst/>
              </a:pr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04720" y="-566640"/>
                <a:ext cx="511560" cy="466920"/>
              </a:xfrm>
              <a:custGeom>
                <a:avLst/>
                <a:gdLst/>
                <a:ahLst/>
                <a:rect l="0" t="0" r="r" b="b"/>
                <a:pathLst>
                  <a:path w="1421" h="1297">
                    <a:moveTo>
                      <a:pt x="0" y="1297"/>
                    </a:moveTo>
                    <a:lnTo>
                      <a:pt x="0" y="904"/>
                    </a:lnTo>
                    <a:lnTo>
                      <a:pt x="1421" y="0"/>
                    </a:lnTo>
                    <a:lnTo>
                      <a:pt x="1421" y="432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04720" y="-574560"/>
                <a:ext cx="511560" cy="466920"/>
              </a:xfrm>
              <a:custGeom>
                <a:avLst/>
                <a:gdLst/>
                <a:ahLst/>
                <a:rect l="0" t="0" r="r" b="b"/>
                <a:pathLst>
                  <a:path w="1421" h="1297">
                    <a:moveTo>
                      <a:pt x="0" y="0"/>
                    </a:moveTo>
                    <a:lnTo>
                      <a:pt x="0" y="396"/>
                    </a:lnTo>
                    <a:lnTo>
                      <a:pt x="1421" y="1297"/>
                    </a:lnTo>
                    <a:lnTo>
                      <a:pt x="1421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39720" y="-490680"/>
                <a:ext cx="231840" cy="274680"/>
              </a:xfrm>
              <a:prstGeom prst="rect">
                <a:avLst/>
              </a:prstGeom>
              <a:solidFill>
                <a:srgbClr val="804000"/>
              </a:solidFill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54120" y="-343080"/>
                <a:ext cx="195480" cy="120960"/>
              </a:xfrm>
              <a:custGeom>
                <a:avLst/>
                <a:gdLst/>
                <a:ahLst/>
                <a:rect l="0" t="0" r="r" b="b"/>
                <a:pathLst>
                  <a:path w="543" h="336">
                    <a:moveTo>
                      <a:pt x="543" y="336"/>
                    </a:moveTo>
                    <a:lnTo>
                      <a:pt x="0" y="336"/>
                    </a:lnTo>
                    <a:lnTo>
                      <a:pt x="278" y="0"/>
                    </a:lnTo>
                    <a:lnTo>
                      <a:pt x="543" y="336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58800" y="-480960"/>
                <a:ext cx="197280" cy="117720"/>
              </a:xfrm>
              <a:custGeom>
                <a:avLst/>
                <a:gdLst/>
                <a:ahLst/>
                <a:rect l="0" t="0" r="r" b="b"/>
                <a:pathLst>
                  <a:path w="548" h="327">
                    <a:moveTo>
                      <a:pt x="0" y="0"/>
                    </a:moveTo>
                    <a:lnTo>
                      <a:pt x="548" y="0"/>
                    </a:lnTo>
                    <a:lnTo>
                      <a:pt x="265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200" y="-14292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323"/>
                    </a:moveTo>
                    <a:lnTo>
                      <a:pt x="451" y="323"/>
                    </a:lnTo>
                    <a:lnTo>
                      <a:pt x="221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3200" y="-619200"/>
                <a:ext cx="162360" cy="117720"/>
              </a:xfrm>
              <a:custGeom>
                <a:avLst/>
                <a:gdLst/>
                <a:ahLst/>
                <a:rect l="0" t="0" r="r" b="b"/>
                <a:pathLst>
                  <a:path w="451" h="327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3200" y="-760320"/>
                <a:ext cx="162360" cy="114840"/>
              </a:xfrm>
              <a:custGeom>
                <a:avLst/>
                <a:gdLst/>
                <a:ahLst/>
                <a:rect l="0" t="0" r="r" b="b"/>
                <a:pathLst>
                  <a:path w="451" h="319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200" y="-9360"/>
                <a:ext cx="162360" cy="117720"/>
              </a:xfrm>
              <a:custGeom>
                <a:avLst/>
                <a:gdLst/>
                <a:ahLst/>
                <a:rect l="0" t="0" r="r" b="b"/>
                <a:pathLst>
                  <a:path w="451" h="327">
                    <a:moveTo>
                      <a:pt x="0" y="327"/>
                    </a:moveTo>
                    <a:lnTo>
                      <a:pt x="451" y="327"/>
                    </a:lnTo>
                    <a:lnTo>
                      <a:pt x="221" y="0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04920" y="-1055520"/>
                <a:ext cx="410040" cy="1322640"/>
              </a:xfrm>
              <a:custGeom>
                <a:avLst/>
                <a:gdLst/>
                <a:ahLst/>
                <a:rect l="0" t="0" r="r" b="b"/>
                <a:pathLst>
                  <a:path w="1139" h="3674">
                    <a:moveTo>
                      <a:pt x="1100" y="3674"/>
                    </a:moveTo>
                    <a:lnTo>
                      <a:pt x="1100" y="3319"/>
                    </a:lnTo>
                    <a:lnTo>
                      <a:pt x="889" y="3324"/>
                    </a:lnTo>
                    <a:lnTo>
                      <a:pt x="894" y="2715"/>
                    </a:lnTo>
                    <a:lnTo>
                      <a:pt x="487" y="2715"/>
                    </a:lnTo>
                    <a:lnTo>
                      <a:pt x="487" y="2255"/>
                    </a:lnTo>
                    <a:lnTo>
                      <a:pt x="124" y="1958"/>
                    </a:lnTo>
                    <a:lnTo>
                      <a:pt x="462" y="1773"/>
                    </a:lnTo>
                    <a:lnTo>
                      <a:pt x="462" y="1252"/>
                    </a:lnTo>
                    <a:lnTo>
                      <a:pt x="763" y="1252"/>
                    </a:lnTo>
                    <a:lnTo>
                      <a:pt x="763" y="678"/>
                    </a:lnTo>
                    <a:lnTo>
                      <a:pt x="1131" y="682"/>
                    </a:lnTo>
                    <a:lnTo>
                      <a:pt x="1139" y="0"/>
                    </a:lnTo>
                    <a:lnTo>
                      <a:pt x="1066" y="118"/>
                    </a:lnTo>
                    <a:lnTo>
                      <a:pt x="1066" y="612"/>
                    </a:lnTo>
                    <a:lnTo>
                      <a:pt x="699" y="608"/>
                    </a:lnTo>
                    <a:lnTo>
                      <a:pt x="686" y="1182"/>
                    </a:lnTo>
                    <a:lnTo>
                      <a:pt x="414" y="1182"/>
                    </a:lnTo>
                    <a:lnTo>
                      <a:pt x="414" y="1681"/>
                    </a:lnTo>
                    <a:lnTo>
                      <a:pt x="0" y="1953"/>
                    </a:lnTo>
                    <a:lnTo>
                      <a:pt x="427" y="2299"/>
                    </a:lnTo>
                    <a:lnTo>
                      <a:pt x="427" y="2776"/>
                    </a:lnTo>
                    <a:lnTo>
                      <a:pt x="837" y="2776"/>
                    </a:lnTo>
                    <a:lnTo>
                      <a:pt x="837" y="3389"/>
                    </a:lnTo>
                    <a:lnTo>
                      <a:pt x="1031" y="3394"/>
                    </a:lnTo>
                    <a:lnTo>
                      <a:pt x="1040" y="3556"/>
                    </a:lnTo>
                    <a:lnTo>
                      <a:pt x="1100" y="36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30200" y="-411120"/>
                <a:ext cx="133560" cy="141480"/>
              </a:xfrm>
              <a:custGeom>
                <a:avLst/>
                <a:gdLst/>
                <a:ahLst/>
                <a:rect l="0" t="0" r="r" b="b"/>
                <a:pathLst>
                  <a:path w="371" h="393">
                    <a:moveTo>
                      <a:pt x="190" y="393"/>
                    </a:moveTo>
                    <a:lnTo>
                      <a:pt x="371" y="194"/>
                    </a:lnTo>
                    <a:lnTo>
                      <a:pt x="181" y="0"/>
                    </a:lnTo>
                    <a:lnTo>
                      <a:pt x="0" y="194"/>
                    </a:lnTo>
                    <a:lnTo>
                      <a:pt x="190" y="3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7200" y="-380880"/>
                <a:ext cx="90720" cy="90720"/>
              </a:xfrm>
              <a:custGeom>
                <a:avLst/>
                <a:gdLst/>
                <a:ahLst/>
                <a:rect l="0" t="0" r="r" b="b"/>
                <a:pathLst>
                  <a:path w="252" h="252">
                    <a:moveTo>
                      <a:pt x="119" y="252"/>
                    </a:moveTo>
                    <a:lnTo>
                      <a:pt x="252" y="128"/>
                    </a:lnTo>
                    <a:lnTo>
                      <a:pt x="119" y="0"/>
                    </a:lnTo>
                    <a:lnTo>
                      <a:pt x="0" y="128"/>
                    </a:lnTo>
                    <a:lnTo>
                      <a:pt x="119" y="25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68400" y="-414360"/>
                <a:ext cx="133560" cy="138600"/>
              </a:xfrm>
              <a:custGeom>
                <a:avLst/>
                <a:gdLst/>
                <a:ahLst/>
                <a:rect l="0" t="0" r="r" b="b"/>
                <a:pathLst>
                  <a:path w="371" h="385">
                    <a:moveTo>
                      <a:pt x="186" y="385"/>
                    </a:moveTo>
                    <a:lnTo>
                      <a:pt x="371" y="190"/>
                    </a:lnTo>
                    <a:lnTo>
                      <a:pt x="172" y="0"/>
                    </a:lnTo>
                    <a:lnTo>
                      <a:pt x="0" y="186"/>
                    </a:lnTo>
                    <a:lnTo>
                      <a:pt x="186" y="38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88920" y="-390600"/>
                <a:ext cx="98640" cy="98640"/>
              </a:xfrm>
              <a:custGeom>
                <a:avLst/>
                <a:gdLst/>
                <a:ahLst/>
                <a:rect l="0" t="0" r="r" b="b"/>
                <a:pathLst>
                  <a:path w="274" h="274">
                    <a:moveTo>
                      <a:pt x="127" y="274"/>
                    </a:moveTo>
                    <a:lnTo>
                      <a:pt x="274" y="146"/>
                    </a:lnTo>
                    <a:lnTo>
                      <a:pt x="132" y="0"/>
                    </a:lnTo>
                    <a:lnTo>
                      <a:pt x="0" y="142"/>
                    </a:lnTo>
                    <a:lnTo>
                      <a:pt x="127" y="274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4920" y="-378000"/>
                <a:ext cx="9360" cy="7632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31640" y="-104760"/>
                <a:ext cx="232200" cy="338400"/>
              </a:xfrm>
              <a:custGeom>
                <a:avLst/>
                <a:gdLst/>
                <a:ahLst/>
                <a:rect l="0" t="0" r="r" b="b"/>
                <a:pathLst>
                  <a:path w="645" h="940">
                    <a:moveTo>
                      <a:pt x="645" y="841"/>
                    </a:moveTo>
                    <a:lnTo>
                      <a:pt x="0" y="0"/>
                    </a:lnTo>
                    <a:lnTo>
                      <a:pt x="21" y="128"/>
                    </a:lnTo>
                    <a:lnTo>
                      <a:pt x="611" y="940"/>
                    </a:lnTo>
                    <a:lnTo>
                      <a:pt x="645" y="841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9560" y="-1136520"/>
                <a:ext cx="303480" cy="489240"/>
              </a:xfrm>
              <a:custGeom>
                <a:avLst/>
                <a:gdLst/>
                <a:ahLst/>
                <a:rect l="0" t="0" r="r" b="b"/>
                <a:pathLst>
                  <a:path w="843" h="1359">
                    <a:moveTo>
                      <a:pt x="843" y="134"/>
                    </a:moveTo>
                    <a:lnTo>
                      <a:pt x="12" y="1359"/>
                    </a:lnTo>
                    <a:lnTo>
                      <a:pt x="0" y="1320"/>
                    </a:lnTo>
                    <a:lnTo>
                      <a:pt x="830" y="0"/>
                    </a:lnTo>
                    <a:lnTo>
                      <a:pt x="843" y="13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4080" y="-1055520"/>
                <a:ext cx="410040" cy="1322640"/>
              </a:xfrm>
              <a:custGeom>
                <a:avLst/>
                <a:gdLst/>
                <a:ahLst/>
                <a:rect l="0" t="0" r="r" b="b"/>
                <a:pathLst>
                  <a:path w="1139" h="3674">
                    <a:moveTo>
                      <a:pt x="34" y="3674"/>
                    </a:moveTo>
                    <a:lnTo>
                      <a:pt x="34" y="3319"/>
                    </a:lnTo>
                    <a:lnTo>
                      <a:pt x="249" y="3324"/>
                    </a:lnTo>
                    <a:lnTo>
                      <a:pt x="245" y="2715"/>
                    </a:lnTo>
                    <a:lnTo>
                      <a:pt x="647" y="2715"/>
                    </a:lnTo>
                    <a:lnTo>
                      <a:pt x="647" y="2255"/>
                    </a:lnTo>
                    <a:lnTo>
                      <a:pt x="1014" y="1958"/>
                    </a:lnTo>
                    <a:lnTo>
                      <a:pt x="673" y="1773"/>
                    </a:lnTo>
                    <a:lnTo>
                      <a:pt x="673" y="1252"/>
                    </a:lnTo>
                    <a:lnTo>
                      <a:pt x="375" y="1252"/>
                    </a:lnTo>
                    <a:lnTo>
                      <a:pt x="375" y="678"/>
                    </a:lnTo>
                    <a:lnTo>
                      <a:pt x="8" y="682"/>
                    </a:lnTo>
                    <a:lnTo>
                      <a:pt x="0" y="0"/>
                    </a:lnTo>
                    <a:lnTo>
                      <a:pt x="68" y="118"/>
                    </a:lnTo>
                    <a:lnTo>
                      <a:pt x="68" y="612"/>
                    </a:lnTo>
                    <a:lnTo>
                      <a:pt x="440" y="608"/>
                    </a:lnTo>
                    <a:lnTo>
                      <a:pt x="449" y="1182"/>
                    </a:lnTo>
                    <a:lnTo>
                      <a:pt x="720" y="1182"/>
                    </a:lnTo>
                    <a:lnTo>
                      <a:pt x="720" y="1681"/>
                    </a:lnTo>
                    <a:lnTo>
                      <a:pt x="1139" y="1953"/>
                    </a:lnTo>
                    <a:lnTo>
                      <a:pt x="707" y="2299"/>
                    </a:lnTo>
                    <a:lnTo>
                      <a:pt x="707" y="2776"/>
                    </a:lnTo>
                    <a:lnTo>
                      <a:pt x="302" y="2776"/>
                    </a:lnTo>
                    <a:lnTo>
                      <a:pt x="298" y="3389"/>
                    </a:lnTo>
                    <a:lnTo>
                      <a:pt x="107" y="3394"/>
                    </a:lnTo>
                    <a:lnTo>
                      <a:pt x="94" y="3556"/>
                    </a:lnTo>
                    <a:lnTo>
                      <a:pt x="34" y="36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280" y="-1141560"/>
                <a:ext cx="249480" cy="398880"/>
              </a:xfrm>
              <a:custGeom>
                <a:avLst/>
                <a:gdLst/>
                <a:ahLst/>
                <a:rect l="0" t="0" r="r" b="b"/>
                <a:pathLst>
                  <a:path w="693" h="1108">
                    <a:moveTo>
                      <a:pt x="0" y="94"/>
                    </a:moveTo>
                    <a:lnTo>
                      <a:pt x="693" y="1108"/>
                    </a:lnTo>
                    <a:lnTo>
                      <a:pt x="693" y="1027"/>
                    </a:lnTo>
                    <a:lnTo>
                      <a:pt x="25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28720" y="-88920"/>
                <a:ext cx="228960" cy="338400"/>
              </a:xfrm>
              <a:custGeom>
                <a:avLst/>
                <a:gdLst/>
                <a:ahLst/>
                <a:rect l="0" t="0" r="r" b="b"/>
                <a:pathLst>
                  <a:path w="636" h="940">
                    <a:moveTo>
                      <a:pt x="0" y="845"/>
                    </a:moveTo>
                    <a:lnTo>
                      <a:pt x="636" y="0"/>
                    </a:lnTo>
                    <a:lnTo>
                      <a:pt x="619" y="124"/>
                    </a:lnTo>
                    <a:lnTo>
                      <a:pt x="33" y="940"/>
                    </a:lnTo>
                    <a:lnTo>
                      <a:pt x="0" y="845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87280" y="-387360"/>
                <a:ext cx="11160" cy="5544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06360" y="331920"/>
                <a:ext cx="903600" cy="1478160"/>
              </a:xfrm>
              <a:custGeom>
                <a:avLst/>
                <a:gdLst/>
                <a:ahLst/>
                <a:rect l="0" t="0" r="r" b="b"/>
                <a:pathLst>
                  <a:path w="2510" h="4106">
                    <a:moveTo>
                      <a:pt x="1190" y="4106"/>
                    </a:moveTo>
                    <a:lnTo>
                      <a:pt x="4" y="2483"/>
                    </a:lnTo>
                    <a:lnTo>
                      <a:pt x="0" y="1838"/>
                    </a:lnTo>
                    <a:lnTo>
                      <a:pt x="1239" y="0"/>
                    </a:lnTo>
                    <a:lnTo>
                      <a:pt x="2510" y="1825"/>
                    </a:lnTo>
                    <a:lnTo>
                      <a:pt x="2510" y="2501"/>
                    </a:lnTo>
                    <a:lnTo>
                      <a:pt x="1297" y="4084"/>
                    </a:lnTo>
                    <a:lnTo>
                      <a:pt x="1190" y="4106"/>
                    </a:lnTo>
                    <a:close/>
                  </a:path>
                </a:pathLst>
              </a:custGeom>
              <a:solidFill>
                <a:srgbClr val="404080"/>
              </a:solidFill>
              <a:ln w="12600">
                <a:solidFill>
                  <a:srgbClr val="404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24000" y="387360"/>
                <a:ext cx="851400" cy="1389600"/>
              </a:xfrm>
              <a:custGeom>
                <a:avLst/>
                <a:gdLst/>
                <a:ahLst/>
                <a:rect l="0" t="0" r="r" b="b"/>
                <a:pathLst>
                  <a:path w="2365" h="3860">
                    <a:moveTo>
                      <a:pt x="0" y="1782"/>
                    </a:moveTo>
                    <a:lnTo>
                      <a:pt x="1191" y="0"/>
                    </a:lnTo>
                    <a:lnTo>
                      <a:pt x="2352" y="1742"/>
                    </a:lnTo>
                    <a:lnTo>
                      <a:pt x="2365" y="2298"/>
                    </a:lnTo>
                    <a:lnTo>
                      <a:pt x="1191" y="3860"/>
                    </a:lnTo>
                    <a:lnTo>
                      <a:pt x="8" y="2267"/>
                    </a:lnTo>
                    <a:lnTo>
                      <a:pt x="0" y="178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47720" y="376200"/>
                <a:ext cx="6480" cy="1386000"/>
              </a:xfrm>
              <a:prstGeom prst="rect">
                <a:avLst/>
              </a:pr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00040" y="898560"/>
                <a:ext cx="514800" cy="466920"/>
              </a:xfrm>
              <a:custGeom>
                <a:avLst/>
                <a:gdLst/>
                <a:ahLst/>
                <a:rect l="0" t="0" r="r" b="b"/>
                <a:pathLst>
                  <a:path w="1430" h="1297">
                    <a:moveTo>
                      <a:pt x="0" y="1297"/>
                    </a:moveTo>
                    <a:lnTo>
                      <a:pt x="0" y="904"/>
                    </a:lnTo>
                    <a:lnTo>
                      <a:pt x="1430" y="0"/>
                    </a:lnTo>
                    <a:lnTo>
                      <a:pt x="1426" y="432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00040" y="890640"/>
                <a:ext cx="514800" cy="466920"/>
              </a:xfrm>
              <a:custGeom>
                <a:avLst/>
                <a:gdLst/>
                <a:ahLst/>
                <a:rect l="0" t="0" r="r" b="b"/>
                <a:pathLst>
                  <a:path w="1430" h="1297">
                    <a:moveTo>
                      <a:pt x="0" y="0"/>
                    </a:moveTo>
                    <a:lnTo>
                      <a:pt x="0" y="396"/>
                    </a:lnTo>
                    <a:lnTo>
                      <a:pt x="1430" y="1297"/>
                    </a:lnTo>
                    <a:lnTo>
                      <a:pt x="1426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6480" y="974880"/>
                <a:ext cx="231840" cy="272880"/>
              </a:xfrm>
              <a:prstGeom prst="rect">
                <a:avLst/>
              </a:prstGeom>
              <a:solidFill>
                <a:srgbClr val="804000"/>
              </a:solidFill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50880" y="1122480"/>
                <a:ext cx="195480" cy="120960"/>
              </a:xfrm>
              <a:custGeom>
                <a:avLst/>
                <a:gdLst/>
                <a:ahLst/>
                <a:rect l="0" t="0" r="r" b="b"/>
                <a:pathLst>
                  <a:path w="543" h="336">
                    <a:moveTo>
                      <a:pt x="543" y="336"/>
                    </a:moveTo>
                    <a:lnTo>
                      <a:pt x="0" y="336"/>
                    </a:lnTo>
                    <a:lnTo>
                      <a:pt x="278" y="0"/>
                    </a:lnTo>
                    <a:lnTo>
                      <a:pt x="543" y="336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55560" y="984240"/>
                <a:ext cx="195480" cy="119520"/>
              </a:xfrm>
              <a:custGeom>
                <a:avLst/>
                <a:gdLst/>
                <a:ahLst/>
                <a:rect l="0" t="0" r="r" b="b"/>
                <a:pathLst>
                  <a:path w="543" h="332">
                    <a:moveTo>
                      <a:pt x="0" y="0"/>
                    </a:moveTo>
                    <a:lnTo>
                      <a:pt x="543" y="0"/>
                    </a:lnTo>
                    <a:lnTo>
                      <a:pt x="264" y="3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71400" y="1322280"/>
                <a:ext cx="160560" cy="116280"/>
              </a:xfrm>
              <a:custGeom>
                <a:avLst/>
                <a:gdLst/>
                <a:ahLst/>
                <a:rect l="0" t="0" r="r" b="b"/>
                <a:pathLst>
                  <a:path w="446" h="323">
                    <a:moveTo>
                      <a:pt x="0" y="323"/>
                    </a:moveTo>
                    <a:lnTo>
                      <a:pt x="446" y="323"/>
                    </a:lnTo>
                    <a:lnTo>
                      <a:pt x="216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71400" y="847800"/>
                <a:ext cx="160560" cy="114840"/>
              </a:xfrm>
              <a:custGeom>
                <a:avLst/>
                <a:gdLst/>
                <a:ahLst/>
                <a:rect l="0" t="0" r="r" b="b"/>
                <a:pathLst>
                  <a:path w="446" h="319">
                    <a:moveTo>
                      <a:pt x="0" y="0"/>
                    </a:moveTo>
                    <a:lnTo>
                      <a:pt x="446" y="0"/>
                    </a:lnTo>
                    <a:lnTo>
                      <a:pt x="216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71400" y="704880"/>
                <a:ext cx="160560" cy="114840"/>
              </a:xfrm>
              <a:custGeom>
                <a:avLst/>
                <a:gdLst/>
                <a:ahLst/>
                <a:rect l="0" t="0" r="r" b="b"/>
                <a:pathLst>
                  <a:path w="446" h="319">
                    <a:moveTo>
                      <a:pt x="0" y="0"/>
                    </a:moveTo>
                    <a:lnTo>
                      <a:pt x="446" y="0"/>
                    </a:lnTo>
                    <a:lnTo>
                      <a:pt x="216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1400" y="1455840"/>
                <a:ext cx="160560" cy="116280"/>
              </a:xfrm>
              <a:custGeom>
                <a:avLst/>
                <a:gdLst/>
                <a:ahLst/>
                <a:rect l="0" t="0" r="r" b="b"/>
                <a:pathLst>
                  <a:path w="446" h="323">
                    <a:moveTo>
                      <a:pt x="0" y="323"/>
                    </a:moveTo>
                    <a:lnTo>
                      <a:pt x="446" y="323"/>
                    </a:lnTo>
                    <a:lnTo>
                      <a:pt x="216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1680" y="409680"/>
                <a:ext cx="408240" cy="1322640"/>
              </a:xfrm>
              <a:custGeom>
                <a:avLst/>
                <a:gdLst/>
                <a:ahLst/>
                <a:rect l="0" t="0" r="r" b="b"/>
                <a:pathLst>
                  <a:path w="1134" h="3674">
                    <a:moveTo>
                      <a:pt x="1104" y="3674"/>
                    </a:moveTo>
                    <a:lnTo>
                      <a:pt x="1104" y="3315"/>
                    </a:lnTo>
                    <a:lnTo>
                      <a:pt x="888" y="3328"/>
                    </a:lnTo>
                    <a:lnTo>
                      <a:pt x="888" y="2715"/>
                    </a:lnTo>
                    <a:lnTo>
                      <a:pt x="491" y="2715"/>
                    </a:lnTo>
                    <a:lnTo>
                      <a:pt x="491" y="2260"/>
                    </a:lnTo>
                    <a:lnTo>
                      <a:pt x="124" y="1958"/>
                    </a:lnTo>
                    <a:lnTo>
                      <a:pt x="465" y="1773"/>
                    </a:lnTo>
                    <a:lnTo>
                      <a:pt x="465" y="1252"/>
                    </a:lnTo>
                    <a:lnTo>
                      <a:pt x="763" y="1252"/>
                    </a:lnTo>
                    <a:lnTo>
                      <a:pt x="763" y="678"/>
                    </a:lnTo>
                    <a:lnTo>
                      <a:pt x="1129" y="678"/>
                    </a:lnTo>
                    <a:lnTo>
                      <a:pt x="1134" y="0"/>
                    </a:lnTo>
                    <a:lnTo>
                      <a:pt x="1069" y="122"/>
                    </a:lnTo>
                    <a:lnTo>
                      <a:pt x="1069" y="608"/>
                    </a:lnTo>
                    <a:lnTo>
                      <a:pt x="699" y="608"/>
                    </a:lnTo>
                    <a:lnTo>
                      <a:pt x="686" y="1182"/>
                    </a:lnTo>
                    <a:lnTo>
                      <a:pt x="413" y="1182"/>
                    </a:lnTo>
                    <a:lnTo>
                      <a:pt x="413" y="1681"/>
                    </a:lnTo>
                    <a:lnTo>
                      <a:pt x="0" y="1953"/>
                    </a:lnTo>
                    <a:lnTo>
                      <a:pt x="430" y="2299"/>
                    </a:lnTo>
                    <a:lnTo>
                      <a:pt x="430" y="2781"/>
                    </a:lnTo>
                    <a:lnTo>
                      <a:pt x="836" y="2776"/>
                    </a:lnTo>
                    <a:lnTo>
                      <a:pt x="836" y="3389"/>
                    </a:lnTo>
                    <a:lnTo>
                      <a:pt x="1030" y="3398"/>
                    </a:lnTo>
                    <a:lnTo>
                      <a:pt x="1043" y="3556"/>
                    </a:lnTo>
                    <a:lnTo>
                      <a:pt x="1104" y="36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28760" y="1054080"/>
                <a:ext cx="133560" cy="141480"/>
              </a:xfrm>
              <a:custGeom>
                <a:avLst/>
                <a:gdLst/>
                <a:ahLst/>
                <a:rect l="0" t="0" r="r" b="b"/>
                <a:pathLst>
                  <a:path w="371" h="393">
                    <a:moveTo>
                      <a:pt x="186" y="393"/>
                    </a:moveTo>
                    <a:lnTo>
                      <a:pt x="371" y="194"/>
                    </a:lnTo>
                    <a:lnTo>
                      <a:pt x="172" y="0"/>
                    </a:lnTo>
                    <a:lnTo>
                      <a:pt x="0" y="194"/>
                    </a:lnTo>
                    <a:lnTo>
                      <a:pt x="186" y="3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3960" y="1084320"/>
                <a:ext cx="90720" cy="90720"/>
              </a:xfrm>
              <a:custGeom>
                <a:avLst/>
                <a:gdLst/>
                <a:ahLst/>
                <a:rect l="0" t="0" r="r" b="b"/>
                <a:pathLst>
                  <a:path w="252" h="252">
                    <a:moveTo>
                      <a:pt x="114" y="252"/>
                    </a:moveTo>
                    <a:lnTo>
                      <a:pt x="252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63720" y="1050840"/>
                <a:ext cx="135360" cy="138600"/>
              </a:xfrm>
              <a:custGeom>
                <a:avLst/>
                <a:gdLst/>
                <a:ahLst/>
                <a:rect l="0" t="0" r="r" b="b"/>
                <a:pathLst>
                  <a:path w="376" h="385">
                    <a:moveTo>
                      <a:pt x="194" y="385"/>
                    </a:moveTo>
                    <a:lnTo>
                      <a:pt x="376" y="190"/>
                    </a:lnTo>
                    <a:lnTo>
                      <a:pt x="178" y="0"/>
                    </a:lnTo>
                    <a:lnTo>
                      <a:pt x="0" y="186"/>
                    </a:lnTo>
                    <a:lnTo>
                      <a:pt x="194" y="38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5680" y="1074600"/>
                <a:ext cx="98640" cy="100440"/>
              </a:xfrm>
              <a:custGeom>
                <a:avLst/>
                <a:gdLst/>
                <a:ahLst/>
                <a:rect l="0" t="0" r="r" b="b"/>
                <a:pathLst>
                  <a:path w="274" h="279">
                    <a:moveTo>
                      <a:pt x="127" y="279"/>
                    </a:moveTo>
                    <a:lnTo>
                      <a:pt x="274" y="146"/>
                    </a:lnTo>
                    <a:lnTo>
                      <a:pt x="136" y="0"/>
                    </a:lnTo>
                    <a:lnTo>
                      <a:pt x="0" y="142"/>
                    </a:lnTo>
                    <a:lnTo>
                      <a:pt x="127" y="279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01680" y="1087560"/>
                <a:ext cx="9360" cy="7776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0200" y="1362240"/>
                <a:ext cx="230400" cy="336960"/>
              </a:xfrm>
              <a:custGeom>
                <a:avLst/>
                <a:gdLst/>
                <a:ahLst/>
                <a:rect l="0" t="0" r="r" b="b"/>
                <a:pathLst>
                  <a:path w="640" h="936">
                    <a:moveTo>
                      <a:pt x="640" y="842"/>
                    </a:moveTo>
                    <a:lnTo>
                      <a:pt x="0" y="0"/>
                    </a:lnTo>
                    <a:lnTo>
                      <a:pt x="16" y="124"/>
                    </a:lnTo>
                    <a:lnTo>
                      <a:pt x="606" y="936"/>
                    </a:lnTo>
                    <a:lnTo>
                      <a:pt x="640" y="842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6680" y="326880"/>
                <a:ext cx="303480" cy="491040"/>
              </a:xfrm>
              <a:custGeom>
                <a:avLst/>
                <a:gdLst/>
                <a:ahLst/>
                <a:rect l="0" t="0" r="r" b="b"/>
                <a:pathLst>
                  <a:path w="843" h="1364">
                    <a:moveTo>
                      <a:pt x="843" y="134"/>
                    </a:moveTo>
                    <a:lnTo>
                      <a:pt x="12" y="1364"/>
                    </a:lnTo>
                    <a:lnTo>
                      <a:pt x="0" y="1325"/>
                    </a:lnTo>
                    <a:lnTo>
                      <a:pt x="834" y="0"/>
                    </a:lnTo>
                    <a:lnTo>
                      <a:pt x="843" y="13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82640" y="409680"/>
                <a:ext cx="408240" cy="1322640"/>
              </a:xfrm>
              <a:custGeom>
                <a:avLst/>
                <a:gdLst/>
                <a:ahLst/>
                <a:rect l="0" t="0" r="r" b="b"/>
                <a:pathLst>
                  <a:path w="1134" h="3674">
                    <a:moveTo>
                      <a:pt x="34" y="3674"/>
                    </a:moveTo>
                    <a:lnTo>
                      <a:pt x="34" y="3315"/>
                    </a:lnTo>
                    <a:lnTo>
                      <a:pt x="245" y="3328"/>
                    </a:lnTo>
                    <a:lnTo>
                      <a:pt x="241" y="2715"/>
                    </a:lnTo>
                    <a:lnTo>
                      <a:pt x="643" y="2715"/>
                    </a:lnTo>
                    <a:lnTo>
                      <a:pt x="643" y="2260"/>
                    </a:lnTo>
                    <a:lnTo>
                      <a:pt x="1009" y="1958"/>
                    </a:lnTo>
                    <a:lnTo>
                      <a:pt x="668" y="1773"/>
                    </a:lnTo>
                    <a:lnTo>
                      <a:pt x="668" y="1252"/>
                    </a:lnTo>
                    <a:lnTo>
                      <a:pt x="366" y="1252"/>
                    </a:lnTo>
                    <a:lnTo>
                      <a:pt x="366" y="678"/>
                    </a:lnTo>
                    <a:lnTo>
                      <a:pt x="4" y="678"/>
                    </a:lnTo>
                    <a:lnTo>
                      <a:pt x="0" y="0"/>
                    </a:lnTo>
                    <a:lnTo>
                      <a:pt x="64" y="122"/>
                    </a:lnTo>
                    <a:lnTo>
                      <a:pt x="64" y="608"/>
                    </a:lnTo>
                    <a:lnTo>
                      <a:pt x="430" y="608"/>
                    </a:lnTo>
                    <a:lnTo>
                      <a:pt x="443" y="1182"/>
                    </a:lnTo>
                    <a:lnTo>
                      <a:pt x="720" y="1182"/>
                    </a:lnTo>
                    <a:lnTo>
                      <a:pt x="720" y="1681"/>
                    </a:lnTo>
                    <a:lnTo>
                      <a:pt x="1134" y="1953"/>
                    </a:lnTo>
                    <a:lnTo>
                      <a:pt x="703" y="2299"/>
                    </a:lnTo>
                    <a:lnTo>
                      <a:pt x="703" y="2781"/>
                    </a:lnTo>
                    <a:lnTo>
                      <a:pt x="301" y="2776"/>
                    </a:lnTo>
                    <a:lnTo>
                      <a:pt x="297" y="3389"/>
                    </a:lnTo>
                    <a:lnTo>
                      <a:pt x="103" y="3398"/>
                    </a:lnTo>
                    <a:lnTo>
                      <a:pt x="94" y="3556"/>
                    </a:lnTo>
                    <a:lnTo>
                      <a:pt x="34" y="36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3040" y="324000"/>
                <a:ext cx="249480" cy="398880"/>
              </a:xfrm>
              <a:custGeom>
                <a:avLst/>
                <a:gdLst/>
                <a:ahLst/>
                <a:rect l="0" t="0" r="r" b="b"/>
                <a:pathLst>
                  <a:path w="693" h="1108">
                    <a:moveTo>
                      <a:pt x="0" y="90"/>
                    </a:moveTo>
                    <a:lnTo>
                      <a:pt x="693" y="1108"/>
                    </a:lnTo>
                    <a:lnTo>
                      <a:pt x="693" y="1027"/>
                    </a:lnTo>
                    <a:lnTo>
                      <a:pt x="25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5480" y="1376280"/>
                <a:ext cx="230400" cy="338400"/>
              </a:xfrm>
              <a:custGeom>
                <a:avLst/>
                <a:gdLst/>
                <a:ahLst/>
                <a:rect l="0" t="0" r="r" b="b"/>
                <a:pathLst>
                  <a:path w="640" h="940">
                    <a:moveTo>
                      <a:pt x="0" y="845"/>
                    </a:moveTo>
                    <a:lnTo>
                      <a:pt x="640" y="0"/>
                    </a:lnTo>
                    <a:lnTo>
                      <a:pt x="619" y="124"/>
                    </a:lnTo>
                    <a:lnTo>
                      <a:pt x="38" y="940"/>
                    </a:lnTo>
                    <a:lnTo>
                      <a:pt x="0" y="845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2600" y="1077840"/>
                <a:ext cx="11160" cy="5544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4920" y="3287880"/>
                <a:ext cx="903600" cy="1478160"/>
              </a:xfrm>
              <a:custGeom>
                <a:avLst/>
                <a:gdLst/>
                <a:ahLst/>
                <a:rect l="0" t="0" r="r" b="b"/>
                <a:pathLst>
                  <a:path w="2510" h="4106">
                    <a:moveTo>
                      <a:pt x="1190" y="4106"/>
                    </a:moveTo>
                    <a:lnTo>
                      <a:pt x="0" y="2483"/>
                    </a:lnTo>
                    <a:lnTo>
                      <a:pt x="0" y="1834"/>
                    </a:lnTo>
                    <a:lnTo>
                      <a:pt x="1234" y="0"/>
                    </a:lnTo>
                    <a:lnTo>
                      <a:pt x="2510" y="1825"/>
                    </a:lnTo>
                    <a:lnTo>
                      <a:pt x="2510" y="2501"/>
                    </a:lnTo>
                    <a:lnTo>
                      <a:pt x="1293" y="4084"/>
                    </a:lnTo>
                    <a:lnTo>
                      <a:pt x="1190" y="4106"/>
                    </a:lnTo>
                    <a:close/>
                  </a:path>
                </a:pathLst>
              </a:custGeom>
              <a:solidFill>
                <a:srgbClr val="404080"/>
              </a:solidFill>
              <a:ln w="12600">
                <a:solidFill>
                  <a:srgbClr val="404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4000" y="3341520"/>
                <a:ext cx="849600" cy="1391040"/>
              </a:xfrm>
              <a:custGeom>
                <a:avLst/>
                <a:gdLst/>
                <a:ahLst/>
                <a:rect l="0" t="0" r="r" b="b"/>
                <a:pathLst>
                  <a:path w="2360" h="3864">
                    <a:moveTo>
                      <a:pt x="0" y="1782"/>
                    </a:moveTo>
                    <a:lnTo>
                      <a:pt x="1182" y="0"/>
                    </a:lnTo>
                    <a:lnTo>
                      <a:pt x="2346" y="1747"/>
                    </a:lnTo>
                    <a:lnTo>
                      <a:pt x="2360" y="2302"/>
                    </a:lnTo>
                    <a:lnTo>
                      <a:pt x="1182" y="3864"/>
                    </a:lnTo>
                    <a:lnTo>
                      <a:pt x="4" y="2272"/>
                    </a:lnTo>
                    <a:lnTo>
                      <a:pt x="0" y="178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6280" y="3332160"/>
                <a:ext cx="6480" cy="1386000"/>
              </a:xfrm>
              <a:prstGeom prst="rect">
                <a:avLst/>
              </a:pr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0040" y="3854520"/>
                <a:ext cx="513000" cy="465480"/>
              </a:xfrm>
              <a:custGeom>
                <a:avLst/>
                <a:gdLst/>
                <a:ahLst/>
                <a:rect l="0" t="0" r="r" b="b"/>
                <a:pathLst>
                  <a:path w="1425" h="1293">
                    <a:moveTo>
                      <a:pt x="0" y="1293"/>
                    </a:moveTo>
                    <a:lnTo>
                      <a:pt x="0" y="904"/>
                    </a:lnTo>
                    <a:lnTo>
                      <a:pt x="1425" y="0"/>
                    </a:lnTo>
                    <a:lnTo>
                      <a:pt x="1420" y="427"/>
                    </a:lnTo>
                    <a:lnTo>
                      <a:pt x="0" y="1293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0040" y="3846600"/>
                <a:ext cx="513000" cy="466920"/>
              </a:xfrm>
              <a:custGeom>
                <a:avLst/>
                <a:gdLst/>
                <a:ahLst/>
                <a:rect l="0" t="0" r="r" b="b"/>
                <a:pathLst>
                  <a:path w="1425" h="1297">
                    <a:moveTo>
                      <a:pt x="0" y="0"/>
                    </a:moveTo>
                    <a:lnTo>
                      <a:pt x="0" y="392"/>
                    </a:lnTo>
                    <a:lnTo>
                      <a:pt x="1425" y="1297"/>
                    </a:lnTo>
                    <a:lnTo>
                      <a:pt x="142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5040" y="3929040"/>
                <a:ext cx="231840" cy="274680"/>
              </a:xfrm>
              <a:prstGeom prst="rect">
                <a:avLst/>
              </a:prstGeom>
              <a:solidFill>
                <a:srgbClr val="804000"/>
              </a:solidFill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0880" y="4076640"/>
                <a:ext cx="194040" cy="120960"/>
              </a:xfrm>
              <a:custGeom>
                <a:avLst/>
                <a:gdLst/>
                <a:ahLst/>
                <a:rect l="0" t="0" r="r" b="b"/>
                <a:pathLst>
                  <a:path w="539" h="336">
                    <a:moveTo>
                      <a:pt x="539" y="336"/>
                    </a:moveTo>
                    <a:lnTo>
                      <a:pt x="0" y="336"/>
                    </a:lnTo>
                    <a:lnTo>
                      <a:pt x="274" y="0"/>
                    </a:lnTo>
                    <a:lnTo>
                      <a:pt x="539" y="336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5560" y="3938760"/>
                <a:ext cx="194040" cy="119520"/>
              </a:xfrm>
              <a:custGeom>
                <a:avLst/>
                <a:gdLst/>
                <a:ahLst/>
                <a:rect l="0" t="0" r="r" b="b"/>
                <a:pathLst>
                  <a:path w="539" h="332">
                    <a:moveTo>
                      <a:pt x="0" y="0"/>
                    </a:moveTo>
                    <a:lnTo>
                      <a:pt x="539" y="0"/>
                    </a:lnTo>
                    <a:lnTo>
                      <a:pt x="261" y="3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68160" y="427680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323"/>
                    </a:moveTo>
                    <a:lnTo>
                      <a:pt x="451" y="323"/>
                    </a:lnTo>
                    <a:lnTo>
                      <a:pt x="221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8160" y="3801960"/>
                <a:ext cx="162360" cy="117720"/>
              </a:xfrm>
              <a:custGeom>
                <a:avLst/>
                <a:gdLst/>
                <a:ahLst/>
                <a:rect l="0" t="0" r="r" b="b"/>
                <a:pathLst>
                  <a:path w="451" h="327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8160" y="365904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8160" y="441180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323"/>
                    </a:moveTo>
                    <a:lnTo>
                      <a:pt x="451" y="323"/>
                    </a:lnTo>
                    <a:lnTo>
                      <a:pt x="221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99880" y="3363840"/>
                <a:ext cx="408240" cy="1324440"/>
              </a:xfrm>
              <a:custGeom>
                <a:avLst/>
                <a:gdLst/>
                <a:ahLst/>
                <a:rect l="0" t="0" r="r" b="b"/>
                <a:pathLst>
                  <a:path w="1134" h="3679">
                    <a:moveTo>
                      <a:pt x="1104" y="3679"/>
                    </a:moveTo>
                    <a:lnTo>
                      <a:pt x="1104" y="3320"/>
                    </a:lnTo>
                    <a:lnTo>
                      <a:pt x="888" y="3329"/>
                    </a:lnTo>
                    <a:lnTo>
                      <a:pt x="888" y="2715"/>
                    </a:lnTo>
                    <a:lnTo>
                      <a:pt x="491" y="2715"/>
                    </a:lnTo>
                    <a:lnTo>
                      <a:pt x="491" y="2264"/>
                    </a:lnTo>
                    <a:lnTo>
                      <a:pt x="124" y="1962"/>
                    </a:lnTo>
                    <a:lnTo>
                      <a:pt x="465" y="1774"/>
                    </a:lnTo>
                    <a:lnTo>
                      <a:pt x="465" y="1253"/>
                    </a:lnTo>
                    <a:lnTo>
                      <a:pt x="763" y="1253"/>
                    </a:lnTo>
                    <a:lnTo>
                      <a:pt x="763" y="678"/>
                    </a:lnTo>
                    <a:lnTo>
                      <a:pt x="1129" y="683"/>
                    </a:lnTo>
                    <a:lnTo>
                      <a:pt x="1134" y="0"/>
                    </a:lnTo>
                    <a:lnTo>
                      <a:pt x="1069" y="118"/>
                    </a:lnTo>
                    <a:lnTo>
                      <a:pt x="1069" y="612"/>
                    </a:lnTo>
                    <a:lnTo>
                      <a:pt x="699" y="612"/>
                    </a:lnTo>
                    <a:lnTo>
                      <a:pt x="690" y="1187"/>
                    </a:lnTo>
                    <a:lnTo>
                      <a:pt x="413" y="1187"/>
                    </a:lnTo>
                    <a:lnTo>
                      <a:pt x="413" y="1682"/>
                    </a:lnTo>
                    <a:lnTo>
                      <a:pt x="0" y="1958"/>
                    </a:lnTo>
                    <a:lnTo>
                      <a:pt x="430" y="2303"/>
                    </a:lnTo>
                    <a:lnTo>
                      <a:pt x="430" y="2782"/>
                    </a:lnTo>
                    <a:lnTo>
                      <a:pt x="836" y="2777"/>
                    </a:lnTo>
                    <a:lnTo>
                      <a:pt x="836" y="3390"/>
                    </a:lnTo>
                    <a:lnTo>
                      <a:pt x="1030" y="3399"/>
                    </a:lnTo>
                    <a:lnTo>
                      <a:pt x="1039" y="3557"/>
                    </a:lnTo>
                    <a:lnTo>
                      <a:pt x="1104" y="3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960" y="4008600"/>
                <a:ext cx="132120" cy="143280"/>
              </a:xfrm>
              <a:custGeom>
                <a:avLst/>
                <a:gdLst/>
                <a:ahLst/>
                <a:rect l="0" t="0" r="r" b="b"/>
                <a:pathLst>
                  <a:path w="367" h="398">
                    <a:moveTo>
                      <a:pt x="186" y="398"/>
                    </a:moveTo>
                    <a:lnTo>
                      <a:pt x="367" y="195"/>
                    </a:lnTo>
                    <a:lnTo>
                      <a:pt x="172" y="0"/>
                    </a:lnTo>
                    <a:lnTo>
                      <a:pt x="0" y="195"/>
                    </a:lnTo>
                    <a:lnTo>
                      <a:pt x="186" y="39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2520" y="4038480"/>
                <a:ext cx="90720" cy="92520"/>
              </a:xfrm>
              <a:custGeom>
                <a:avLst/>
                <a:gdLst/>
                <a:ahLst/>
                <a:rect l="0" t="0" r="r" b="b"/>
                <a:pathLst>
                  <a:path w="252" h="257">
                    <a:moveTo>
                      <a:pt x="114" y="257"/>
                    </a:moveTo>
                    <a:lnTo>
                      <a:pt x="252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7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61920" y="4005360"/>
                <a:ext cx="136800" cy="138600"/>
              </a:xfrm>
              <a:custGeom>
                <a:avLst/>
                <a:gdLst/>
                <a:ahLst/>
                <a:rect l="0" t="0" r="r" b="b"/>
                <a:pathLst>
                  <a:path w="380" h="385">
                    <a:moveTo>
                      <a:pt x="189" y="385"/>
                    </a:moveTo>
                    <a:lnTo>
                      <a:pt x="380" y="194"/>
                    </a:lnTo>
                    <a:lnTo>
                      <a:pt x="177" y="0"/>
                    </a:lnTo>
                    <a:lnTo>
                      <a:pt x="0" y="190"/>
                    </a:lnTo>
                    <a:lnTo>
                      <a:pt x="189" y="385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985680" y="4030560"/>
                <a:ext cx="97200" cy="98640"/>
              </a:xfrm>
              <a:custGeom>
                <a:avLst/>
                <a:gdLst/>
                <a:ahLst/>
                <a:rect l="0" t="0" r="r" b="b"/>
                <a:pathLst>
                  <a:path w="270" h="274">
                    <a:moveTo>
                      <a:pt x="128" y="274"/>
                    </a:moveTo>
                    <a:lnTo>
                      <a:pt x="270" y="146"/>
                    </a:lnTo>
                    <a:lnTo>
                      <a:pt x="128" y="0"/>
                    </a:lnTo>
                    <a:lnTo>
                      <a:pt x="0" y="142"/>
                    </a:lnTo>
                    <a:lnTo>
                      <a:pt x="128" y="274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99880" y="4043520"/>
                <a:ext cx="11160" cy="7632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28760" y="4316400"/>
                <a:ext cx="230400" cy="336960"/>
              </a:xfrm>
              <a:custGeom>
                <a:avLst/>
                <a:gdLst/>
                <a:ahLst/>
                <a:rect l="0" t="0" r="r" b="b"/>
                <a:pathLst>
                  <a:path w="640" h="936">
                    <a:moveTo>
                      <a:pt x="640" y="842"/>
                    </a:moveTo>
                    <a:lnTo>
                      <a:pt x="0" y="0"/>
                    </a:lnTo>
                    <a:lnTo>
                      <a:pt x="16" y="128"/>
                    </a:lnTo>
                    <a:lnTo>
                      <a:pt x="606" y="936"/>
                    </a:lnTo>
                    <a:lnTo>
                      <a:pt x="640" y="842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4880" y="3282840"/>
                <a:ext cx="303480" cy="491040"/>
              </a:xfrm>
              <a:custGeom>
                <a:avLst/>
                <a:gdLst/>
                <a:ahLst/>
                <a:rect l="0" t="0" r="r" b="b"/>
                <a:pathLst>
                  <a:path w="843" h="1364">
                    <a:moveTo>
                      <a:pt x="843" y="134"/>
                    </a:moveTo>
                    <a:lnTo>
                      <a:pt x="12" y="1364"/>
                    </a:lnTo>
                    <a:lnTo>
                      <a:pt x="0" y="1325"/>
                    </a:lnTo>
                    <a:lnTo>
                      <a:pt x="834" y="0"/>
                    </a:lnTo>
                    <a:lnTo>
                      <a:pt x="843" y="13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81200" y="3363840"/>
                <a:ext cx="410040" cy="1324440"/>
              </a:xfrm>
              <a:custGeom>
                <a:avLst/>
                <a:gdLst/>
                <a:ahLst/>
                <a:rect l="0" t="0" r="r" b="b"/>
                <a:pathLst>
                  <a:path w="1139" h="3679">
                    <a:moveTo>
                      <a:pt x="34" y="3679"/>
                    </a:moveTo>
                    <a:lnTo>
                      <a:pt x="34" y="3320"/>
                    </a:lnTo>
                    <a:lnTo>
                      <a:pt x="245" y="3329"/>
                    </a:lnTo>
                    <a:lnTo>
                      <a:pt x="241" y="2715"/>
                    </a:lnTo>
                    <a:lnTo>
                      <a:pt x="647" y="2715"/>
                    </a:lnTo>
                    <a:lnTo>
                      <a:pt x="647" y="2264"/>
                    </a:lnTo>
                    <a:lnTo>
                      <a:pt x="1010" y="1962"/>
                    </a:lnTo>
                    <a:lnTo>
                      <a:pt x="668" y="1774"/>
                    </a:lnTo>
                    <a:lnTo>
                      <a:pt x="668" y="1253"/>
                    </a:lnTo>
                    <a:lnTo>
                      <a:pt x="371" y="1253"/>
                    </a:lnTo>
                    <a:lnTo>
                      <a:pt x="371" y="678"/>
                    </a:lnTo>
                    <a:lnTo>
                      <a:pt x="4" y="683"/>
                    </a:lnTo>
                    <a:lnTo>
                      <a:pt x="0" y="0"/>
                    </a:lnTo>
                    <a:lnTo>
                      <a:pt x="64" y="118"/>
                    </a:lnTo>
                    <a:lnTo>
                      <a:pt x="64" y="612"/>
                    </a:lnTo>
                    <a:lnTo>
                      <a:pt x="431" y="612"/>
                    </a:lnTo>
                    <a:lnTo>
                      <a:pt x="449" y="1187"/>
                    </a:lnTo>
                    <a:lnTo>
                      <a:pt x="720" y="1187"/>
                    </a:lnTo>
                    <a:lnTo>
                      <a:pt x="720" y="1682"/>
                    </a:lnTo>
                    <a:lnTo>
                      <a:pt x="1139" y="1958"/>
                    </a:lnTo>
                    <a:lnTo>
                      <a:pt x="703" y="2303"/>
                    </a:lnTo>
                    <a:lnTo>
                      <a:pt x="703" y="2782"/>
                    </a:lnTo>
                    <a:lnTo>
                      <a:pt x="298" y="2777"/>
                    </a:lnTo>
                    <a:lnTo>
                      <a:pt x="298" y="3390"/>
                    </a:lnTo>
                    <a:lnTo>
                      <a:pt x="103" y="3399"/>
                    </a:lnTo>
                    <a:lnTo>
                      <a:pt x="90" y="3557"/>
                    </a:lnTo>
                    <a:lnTo>
                      <a:pt x="34" y="3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41240" y="3278160"/>
                <a:ext cx="249480" cy="398880"/>
              </a:xfrm>
              <a:custGeom>
                <a:avLst/>
                <a:gdLst/>
                <a:ahLst/>
                <a:rect l="0" t="0" r="r" b="b"/>
                <a:pathLst>
                  <a:path w="693" h="1108">
                    <a:moveTo>
                      <a:pt x="0" y="94"/>
                    </a:moveTo>
                    <a:lnTo>
                      <a:pt x="693" y="1108"/>
                    </a:lnTo>
                    <a:lnTo>
                      <a:pt x="693" y="1027"/>
                    </a:lnTo>
                    <a:lnTo>
                      <a:pt x="25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4040" y="4330800"/>
                <a:ext cx="230400" cy="338400"/>
              </a:xfrm>
              <a:custGeom>
                <a:avLst/>
                <a:gdLst/>
                <a:ahLst/>
                <a:rect l="0" t="0" r="r" b="b"/>
                <a:pathLst>
                  <a:path w="640" h="940">
                    <a:moveTo>
                      <a:pt x="0" y="845"/>
                    </a:moveTo>
                    <a:lnTo>
                      <a:pt x="640" y="0"/>
                    </a:lnTo>
                    <a:lnTo>
                      <a:pt x="623" y="128"/>
                    </a:lnTo>
                    <a:lnTo>
                      <a:pt x="33" y="940"/>
                    </a:lnTo>
                    <a:lnTo>
                      <a:pt x="0" y="845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181160" y="4033800"/>
                <a:ext cx="12600" cy="5544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4920" y="1811160"/>
                <a:ext cx="903600" cy="1478160"/>
              </a:xfrm>
              <a:custGeom>
                <a:avLst/>
                <a:gdLst/>
                <a:ahLst/>
                <a:rect l="0" t="0" r="r" b="b"/>
                <a:pathLst>
                  <a:path w="2510" h="4106">
                    <a:moveTo>
                      <a:pt x="1195" y="4106"/>
                    </a:moveTo>
                    <a:lnTo>
                      <a:pt x="4" y="2483"/>
                    </a:lnTo>
                    <a:lnTo>
                      <a:pt x="0" y="1834"/>
                    </a:lnTo>
                    <a:lnTo>
                      <a:pt x="1234" y="0"/>
                    </a:lnTo>
                    <a:lnTo>
                      <a:pt x="2510" y="1825"/>
                    </a:lnTo>
                    <a:lnTo>
                      <a:pt x="2510" y="2505"/>
                    </a:lnTo>
                    <a:lnTo>
                      <a:pt x="1297" y="4084"/>
                    </a:lnTo>
                    <a:lnTo>
                      <a:pt x="1195" y="4106"/>
                    </a:lnTo>
                    <a:close/>
                  </a:path>
                </a:pathLst>
              </a:custGeom>
              <a:solidFill>
                <a:srgbClr val="404080"/>
              </a:solidFill>
              <a:ln w="12600">
                <a:solidFill>
                  <a:srgbClr val="404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4000" y="1865160"/>
                <a:ext cx="849600" cy="1391040"/>
              </a:xfrm>
              <a:custGeom>
                <a:avLst/>
                <a:gdLst/>
                <a:ahLst/>
                <a:rect l="0" t="0" r="r" b="b"/>
                <a:pathLst>
                  <a:path w="2360" h="3864">
                    <a:moveTo>
                      <a:pt x="0" y="1786"/>
                    </a:moveTo>
                    <a:lnTo>
                      <a:pt x="1182" y="0"/>
                    </a:lnTo>
                    <a:lnTo>
                      <a:pt x="2346" y="1747"/>
                    </a:lnTo>
                    <a:lnTo>
                      <a:pt x="2360" y="2302"/>
                    </a:lnTo>
                    <a:lnTo>
                      <a:pt x="1182" y="3864"/>
                    </a:lnTo>
                    <a:lnTo>
                      <a:pt x="8" y="2272"/>
                    </a:lnTo>
                    <a:lnTo>
                      <a:pt x="0" y="1786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6280" y="1855800"/>
                <a:ext cx="7920" cy="1386000"/>
              </a:xfrm>
              <a:prstGeom prst="rect">
                <a:avLst/>
              </a:pr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0040" y="2378160"/>
                <a:ext cx="514800" cy="466920"/>
              </a:xfrm>
              <a:custGeom>
                <a:avLst/>
                <a:gdLst/>
                <a:ahLst/>
                <a:rect l="0" t="0" r="r" b="b"/>
                <a:pathLst>
                  <a:path w="1430" h="1297">
                    <a:moveTo>
                      <a:pt x="0" y="1297"/>
                    </a:moveTo>
                    <a:lnTo>
                      <a:pt x="0" y="904"/>
                    </a:lnTo>
                    <a:lnTo>
                      <a:pt x="1430" y="0"/>
                    </a:lnTo>
                    <a:lnTo>
                      <a:pt x="1426" y="427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0040" y="2371680"/>
                <a:ext cx="514800" cy="465480"/>
              </a:xfrm>
              <a:custGeom>
                <a:avLst/>
                <a:gdLst/>
                <a:ahLst/>
                <a:rect l="0" t="0" r="r" b="b"/>
                <a:pathLst>
                  <a:path w="1430" h="1293">
                    <a:moveTo>
                      <a:pt x="0" y="0"/>
                    </a:moveTo>
                    <a:lnTo>
                      <a:pt x="0" y="392"/>
                    </a:lnTo>
                    <a:lnTo>
                      <a:pt x="1430" y="1293"/>
                    </a:lnTo>
                    <a:lnTo>
                      <a:pt x="1426" y="8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6480" y="2454120"/>
                <a:ext cx="231840" cy="272880"/>
              </a:xfrm>
              <a:prstGeom prst="rect">
                <a:avLst/>
              </a:prstGeom>
              <a:solidFill>
                <a:srgbClr val="804000"/>
              </a:solidFill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0880" y="2602080"/>
                <a:ext cx="195480" cy="120960"/>
              </a:xfrm>
              <a:custGeom>
                <a:avLst/>
                <a:gdLst/>
                <a:ahLst/>
                <a:rect l="0" t="0" r="r" b="b"/>
                <a:pathLst>
                  <a:path w="543" h="336">
                    <a:moveTo>
                      <a:pt x="543" y="336"/>
                    </a:moveTo>
                    <a:lnTo>
                      <a:pt x="0" y="336"/>
                    </a:lnTo>
                    <a:lnTo>
                      <a:pt x="278" y="0"/>
                    </a:lnTo>
                    <a:lnTo>
                      <a:pt x="543" y="336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560" y="2462040"/>
                <a:ext cx="194040" cy="120960"/>
              </a:xfrm>
              <a:custGeom>
                <a:avLst/>
                <a:gdLst/>
                <a:ahLst/>
                <a:rect l="0" t="0" r="r" b="b"/>
                <a:pathLst>
                  <a:path w="539" h="336">
                    <a:moveTo>
                      <a:pt x="0" y="0"/>
                    </a:moveTo>
                    <a:lnTo>
                      <a:pt x="539" y="0"/>
                    </a:lnTo>
                    <a:lnTo>
                      <a:pt x="265" y="3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9960" y="280044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323"/>
                    </a:moveTo>
                    <a:lnTo>
                      <a:pt x="451" y="323"/>
                    </a:lnTo>
                    <a:lnTo>
                      <a:pt x="221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9960" y="232740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69960" y="218448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9960" y="2935440"/>
                <a:ext cx="162360" cy="116280"/>
              </a:xfrm>
              <a:custGeom>
                <a:avLst/>
                <a:gdLst/>
                <a:ahLst/>
                <a:rect l="0" t="0" r="r" b="b"/>
                <a:pathLst>
                  <a:path w="451" h="323">
                    <a:moveTo>
                      <a:pt x="0" y="323"/>
                    </a:moveTo>
                    <a:lnTo>
                      <a:pt x="451" y="323"/>
                    </a:lnTo>
                    <a:lnTo>
                      <a:pt x="221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9880" y="1887480"/>
                <a:ext cx="410040" cy="1324440"/>
              </a:xfrm>
              <a:custGeom>
                <a:avLst/>
                <a:gdLst/>
                <a:ahLst/>
                <a:rect l="0" t="0" r="r" b="b"/>
                <a:pathLst>
                  <a:path w="1139" h="3679">
                    <a:moveTo>
                      <a:pt x="1105" y="3679"/>
                    </a:moveTo>
                    <a:lnTo>
                      <a:pt x="1105" y="3320"/>
                    </a:lnTo>
                    <a:lnTo>
                      <a:pt x="889" y="3329"/>
                    </a:lnTo>
                    <a:lnTo>
                      <a:pt x="894" y="2719"/>
                    </a:lnTo>
                    <a:lnTo>
                      <a:pt x="492" y="2719"/>
                    </a:lnTo>
                    <a:lnTo>
                      <a:pt x="492" y="2264"/>
                    </a:lnTo>
                    <a:lnTo>
                      <a:pt x="124" y="1962"/>
                    </a:lnTo>
                    <a:lnTo>
                      <a:pt x="466" y="1778"/>
                    </a:lnTo>
                    <a:lnTo>
                      <a:pt x="466" y="1257"/>
                    </a:lnTo>
                    <a:lnTo>
                      <a:pt x="768" y="1257"/>
                    </a:lnTo>
                    <a:lnTo>
                      <a:pt x="768" y="683"/>
                    </a:lnTo>
                    <a:lnTo>
                      <a:pt x="1131" y="683"/>
                    </a:lnTo>
                    <a:lnTo>
                      <a:pt x="1139" y="0"/>
                    </a:lnTo>
                    <a:lnTo>
                      <a:pt x="1070" y="122"/>
                    </a:lnTo>
                    <a:lnTo>
                      <a:pt x="1070" y="617"/>
                    </a:lnTo>
                    <a:lnTo>
                      <a:pt x="703" y="612"/>
                    </a:lnTo>
                    <a:lnTo>
                      <a:pt x="690" y="1191"/>
                    </a:lnTo>
                    <a:lnTo>
                      <a:pt x="419" y="1187"/>
                    </a:lnTo>
                    <a:lnTo>
                      <a:pt x="419" y="1682"/>
                    </a:lnTo>
                    <a:lnTo>
                      <a:pt x="0" y="1958"/>
                    </a:lnTo>
                    <a:lnTo>
                      <a:pt x="436" y="2303"/>
                    </a:lnTo>
                    <a:lnTo>
                      <a:pt x="436" y="2786"/>
                    </a:lnTo>
                    <a:lnTo>
                      <a:pt x="837" y="2782"/>
                    </a:lnTo>
                    <a:lnTo>
                      <a:pt x="841" y="3395"/>
                    </a:lnTo>
                    <a:lnTo>
                      <a:pt x="1031" y="3399"/>
                    </a:lnTo>
                    <a:lnTo>
                      <a:pt x="1044" y="3561"/>
                    </a:lnTo>
                    <a:lnTo>
                      <a:pt x="1105" y="3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6960" y="2533680"/>
                <a:ext cx="133560" cy="141480"/>
              </a:xfrm>
              <a:custGeom>
                <a:avLst/>
                <a:gdLst/>
                <a:ahLst/>
                <a:rect l="0" t="0" r="r" b="b"/>
                <a:pathLst>
                  <a:path w="371" h="393">
                    <a:moveTo>
                      <a:pt x="190" y="393"/>
                    </a:moveTo>
                    <a:lnTo>
                      <a:pt x="371" y="194"/>
                    </a:lnTo>
                    <a:lnTo>
                      <a:pt x="172" y="0"/>
                    </a:lnTo>
                    <a:lnTo>
                      <a:pt x="0" y="194"/>
                    </a:lnTo>
                    <a:lnTo>
                      <a:pt x="190" y="3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960" y="2563920"/>
                <a:ext cx="89280" cy="90720"/>
              </a:xfrm>
              <a:custGeom>
                <a:avLst/>
                <a:gdLst/>
                <a:ahLst/>
                <a:rect l="0" t="0" r="r" b="b"/>
                <a:pathLst>
                  <a:path w="248" h="252">
                    <a:moveTo>
                      <a:pt x="111" y="252"/>
                    </a:moveTo>
                    <a:lnTo>
                      <a:pt x="248" y="128"/>
                    </a:lnTo>
                    <a:lnTo>
                      <a:pt x="111" y="0"/>
                    </a:lnTo>
                    <a:lnTo>
                      <a:pt x="0" y="128"/>
                    </a:lnTo>
                    <a:lnTo>
                      <a:pt x="111" y="25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63720" y="2529000"/>
                <a:ext cx="135360" cy="140040"/>
              </a:xfrm>
              <a:custGeom>
                <a:avLst/>
                <a:gdLst/>
                <a:ahLst/>
                <a:rect l="0" t="0" r="r" b="b"/>
                <a:pathLst>
                  <a:path w="376" h="389">
                    <a:moveTo>
                      <a:pt x="190" y="389"/>
                    </a:moveTo>
                    <a:lnTo>
                      <a:pt x="376" y="195"/>
                    </a:lnTo>
                    <a:lnTo>
                      <a:pt x="178" y="0"/>
                    </a:lnTo>
                    <a:lnTo>
                      <a:pt x="0" y="189"/>
                    </a:lnTo>
                    <a:lnTo>
                      <a:pt x="190" y="3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85680" y="2554200"/>
                <a:ext cx="97200" cy="100440"/>
              </a:xfrm>
              <a:custGeom>
                <a:avLst/>
                <a:gdLst/>
                <a:ahLst/>
                <a:rect l="0" t="0" r="r" b="b"/>
                <a:pathLst>
                  <a:path w="270" h="279">
                    <a:moveTo>
                      <a:pt x="128" y="279"/>
                    </a:moveTo>
                    <a:lnTo>
                      <a:pt x="270" y="146"/>
                    </a:lnTo>
                    <a:lnTo>
                      <a:pt x="133" y="0"/>
                    </a:lnTo>
                    <a:lnTo>
                      <a:pt x="0" y="142"/>
                    </a:lnTo>
                    <a:lnTo>
                      <a:pt x="128" y="279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9320" bIns="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1680" y="2567160"/>
                <a:ext cx="9360" cy="7776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28760" y="2841480"/>
                <a:ext cx="230400" cy="336960"/>
              </a:xfrm>
              <a:custGeom>
                <a:avLst/>
                <a:gdLst/>
                <a:ahLst/>
                <a:rect l="0" t="0" r="r" b="b"/>
                <a:pathLst>
                  <a:path w="640" h="936">
                    <a:moveTo>
                      <a:pt x="640" y="838"/>
                    </a:moveTo>
                    <a:lnTo>
                      <a:pt x="0" y="0"/>
                    </a:lnTo>
                    <a:lnTo>
                      <a:pt x="21" y="124"/>
                    </a:lnTo>
                    <a:lnTo>
                      <a:pt x="610" y="936"/>
                    </a:lnTo>
                    <a:lnTo>
                      <a:pt x="640" y="838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6680" y="1806480"/>
                <a:ext cx="303480" cy="492480"/>
              </a:xfrm>
              <a:custGeom>
                <a:avLst/>
                <a:gdLst/>
                <a:ahLst/>
                <a:rect l="0" t="0" r="r" b="b"/>
                <a:pathLst>
                  <a:path w="843" h="1368">
                    <a:moveTo>
                      <a:pt x="843" y="138"/>
                    </a:moveTo>
                    <a:lnTo>
                      <a:pt x="8" y="1368"/>
                    </a:lnTo>
                    <a:lnTo>
                      <a:pt x="0" y="1324"/>
                    </a:lnTo>
                    <a:lnTo>
                      <a:pt x="830" y="0"/>
                    </a:lnTo>
                    <a:lnTo>
                      <a:pt x="843" y="138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82640" y="1887480"/>
                <a:ext cx="408240" cy="1324440"/>
              </a:xfrm>
              <a:custGeom>
                <a:avLst/>
                <a:gdLst/>
                <a:ahLst/>
                <a:rect l="0" t="0" r="r" b="b"/>
                <a:pathLst>
                  <a:path w="1134" h="3679">
                    <a:moveTo>
                      <a:pt x="30" y="3679"/>
                    </a:moveTo>
                    <a:lnTo>
                      <a:pt x="30" y="3320"/>
                    </a:lnTo>
                    <a:lnTo>
                      <a:pt x="245" y="3329"/>
                    </a:lnTo>
                    <a:lnTo>
                      <a:pt x="237" y="2719"/>
                    </a:lnTo>
                    <a:lnTo>
                      <a:pt x="643" y="2719"/>
                    </a:lnTo>
                    <a:lnTo>
                      <a:pt x="643" y="2264"/>
                    </a:lnTo>
                    <a:lnTo>
                      <a:pt x="1009" y="1962"/>
                    </a:lnTo>
                    <a:lnTo>
                      <a:pt x="668" y="1778"/>
                    </a:lnTo>
                    <a:lnTo>
                      <a:pt x="668" y="1257"/>
                    </a:lnTo>
                    <a:lnTo>
                      <a:pt x="366" y="1257"/>
                    </a:lnTo>
                    <a:lnTo>
                      <a:pt x="366" y="683"/>
                    </a:lnTo>
                    <a:lnTo>
                      <a:pt x="4" y="683"/>
                    </a:lnTo>
                    <a:lnTo>
                      <a:pt x="0" y="0"/>
                    </a:lnTo>
                    <a:lnTo>
                      <a:pt x="64" y="122"/>
                    </a:lnTo>
                    <a:lnTo>
                      <a:pt x="64" y="617"/>
                    </a:lnTo>
                    <a:lnTo>
                      <a:pt x="430" y="612"/>
                    </a:lnTo>
                    <a:lnTo>
                      <a:pt x="443" y="1191"/>
                    </a:lnTo>
                    <a:lnTo>
                      <a:pt x="716" y="1187"/>
                    </a:lnTo>
                    <a:lnTo>
                      <a:pt x="716" y="1682"/>
                    </a:lnTo>
                    <a:lnTo>
                      <a:pt x="1134" y="1958"/>
                    </a:lnTo>
                    <a:lnTo>
                      <a:pt x="703" y="2303"/>
                    </a:lnTo>
                    <a:lnTo>
                      <a:pt x="703" y="2786"/>
                    </a:lnTo>
                    <a:lnTo>
                      <a:pt x="297" y="2782"/>
                    </a:lnTo>
                    <a:lnTo>
                      <a:pt x="293" y="3395"/>
                    </a:lnTo>
                    <a:lnTo>
                      <a:pt x="99" y="3399"/>
                    </a:lnTo>
                    <a:lnTo>
                      <a:pt x="90" y="3561"/>
                    </a:lnTo>
                    <a:lnTo>
                      <a:pt x="30" y="3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3040" y="1801800"/>
                <a:ext cx="249480" cy="398880"/>
              </a:xfrm>
              <a:custGeom>
                <a:avLst/>
                <a:gdLst/>
                <a:ahLst/>
                <a:rect l="0" t="0" r="r" b="b"/>
                <a:pathLst>
                  <a:path w="693" h="1108">
                    <a:moveTo>
                      <a:pt x="0" y="99"/>
                    </a:moveTo>
                    <a:lnTo>
                      <a:pt x="693" y="1108"/>
                    </a:lnTo>
                    <a:lnTo>
                      <a:pt x="693" y="1027"/>
                    </a:lnTo>
                    <a:lnTo>
                      <a:pt x="25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25480" y="2855880"/>
                <a:ext cx="230400" cy="338400"/>
              </a:xfrm>
              <a:custGeom>
                <a:avLst/>
                <a:gdLst/>
                <a:ahLst/>
                <a:rect l="0" t="0" r="r" b="b"/>
                <a:pathLst>
                  <a:path w="640" h="940">
                    <a:moveTo>
                      <a:pt x="0" y="845"/>
                    </a:moveTo>
                    <a:lnTo>
                      <a:pt x="640" y="0"/>
                    </a:lnTo>
                    <a:lnTo>
                      <a:pt x="619" y="128"/>
                    </a:lnTo>
                    <a:lnTo>
                      <a:pt x="33" y="940"/>
                    </a:lnTo>
                    <a:lnTo>
                      <a:pt x="0" y="845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182600" y="2557440"/>
                <a:ext cx="11160" cy="5544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99880" y="6235560"/>
                <a:ext cx="903600" cy="1478160"/>
              </a:xfrm>
              <a:custGeom>
                <a:avLst/>
                <a:gdLst/>
                <a:ahLst/>
                <a:rect l="0" t="0" r="r" b="b"/>
                <a:pathLst>
                  <a:path w="2510" h="4106">
                    <a:moveTo>
                      <a:pt x="1190" y="4106"/>
                    </a:moveTo>
                    <a:lnTo>
                      <a:pt x="4" y="2483"/>
                    </a:lnTo>
                    <a:lnTo>
                      <a:pt x="0" y="1838"/>
                    </a:lnTo>
                    <a:lnTo>
                      <a:pt x="1239" y="0"/>
                    </a:lnTo>
                    <a:lnTo>
                      <a:pt x="2510" y="1830"/>
                    </a:lnTo>
                    <a:lnTo>
                      <a:pt x="2510" y="2501"/>
                    </a:lnTo>
                    <a:lnTo>
                      <a:pt x="1297" y="4084"/>
                    </a:lnTo>
                    <a:lnTo>
                      <a:pt x="1190" y="4106"/>
                    </a:lnTo>
                    <a:close/>
                  </a:path>
                </a:pathLst>
              </a:custGeom>
              <a:solidFill>
                <a:srgbClr val="404080"/>
              </a:solidFill>
              <a:ln w="12600">
                <a:solidFill>
                  <a:srgbClr val="404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8960" y="6291360"/>
                <a:ext cx="851400" cy="1389600"/>
              </a:xfrm>
              <a:custGeom>
                <a:avLst/>
                <a:gdLst/>
                <a:ahLst/>
                <a:rect l="0" t="0" r="r" b="b"/>
                <a:pathLst>
                  <a:path w="2365" h="3860">
                    <a:moveTo>
                      <a:pt x="0" y="1782"/>
                    </a:moveTo>
                    <a:lnTo>
                      <a:pt x="1187" y="0"/>
                    </a:lnTo>
                    <a:lnTo>
                      <a:pt x="2347" y="1742"/>
                    </a:lnTo>
                    <a:lnTo>
                      <a:pt x="2365" y="2294"/>
                    </a:lnTo>
                    <a:lnTo>
                      <a:pt x="1187" y="3860"/>
                    </a:lnTo>
                    <a:lnTo>
                      <a:pt x="4" y="2267"/>
                    </a:lnTo>
                    <a:lnTo>
                      <a:pt x="0" y="178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9800" y="6281640"/>
                <a:ext cx="9360" cy="1384200"/>
              </a:xfrm>
              <a:prstGeom prst="rect">
                <a:avLst/>
              </a:pr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95360" y="6802560"/>
                <a:ext cx="513000" cy="466920"/>
              </a:xfrm>
              <a:custGeom>
                <a:avLst/>
                <a:gdLst/>
                <a:ahLst/>
                <a:rect l="0" t="0" r="r" b="b"/>
                <a:pathLst>
                  <a:path w="1425" h="1297">
                    <a:moveTo>
                      <a:pt x="0" y="1297"/>
                    </a:moveTo>
                    <a:lnTo>
                      <a:pt x="0" y="900"/>
                    </a:lnTo>
                    <a:lnTo>
                      <a:pt x="1425" y="0"/>
                    </a:lnTo>
                    <a:lnTo>
                      <a:pt x="1420" y="427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5360" y="6794640"/>
                <a:ext cx="513000" cy="466920"/>
              </a:xfrm>
              <a:custGeom>
                <a:avLst/>
                <a:gdLst/>
                <a:ahLst/>
                <a:rect l="0" t="0" r="r" b="b"/>
                <a:pathLst>
                  <a:path w="1425" h="1297">
                    <a:moveTo>
                      <a:pt x="0" y="0"/>
                    </a:moveTo>
                    <a:lnTo>
                      <a:pt x="0" y="392"/>
                    </a:lnTo>
                    <a:lnTo>
                      <a:pt x="1425" y="1297"/>
                    </a:lnTo>
                    <a:lnTo>
                      <a:pt x="142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0360" y="6878520"/>
                <a:ext cx="231840" cy="274680"/>
              </a:xfrm>
              <a:prstGeom prst="rect">
                <a:avLst/>
              </a:prstGeom>
              <a:solidFill>
                <a:srgbClr val="804000"/>
              </a:solidFill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44400" y="7026120"/>
                <a:ext cx="197280" cy="120960"/>
              </a:xfrm>
              <a:custGeom>
                <a:avLst/>
                <a:gdLst/>
                <a:ahLst/>
                <a:rect l="0" t="0" r="r" b="b"/>
                <a:pathLst>
                  <a:path w="548" h="336">
                    <a:moveTo>
                      <a:pt x="548" y="336"/>
                    </a:moveTo>
                    <a:lnTo>
                      <a:pt x="0" y="336"/>
                    </a:lnTo>
                    <a:lnTo>
                      <a:pt x="282" y="0"/>
                    </a:lnTo>
                    <a:lnTo>
                      <a:pt x="548" y="336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0880" y="6888240"/>
                <a:ext cx="195480" cy="119520"/>
              </a:xfrm>
              <a:custGeom>
                <a:avLst/>
                <a:gdLst/>
                <a:ahLst/>
                <a:rect l="0" t="0" r="r" b="b"/>
                <a:pathLst>
                  <a:path w="543" h="332">
                    <a:moveTo>
                      <a:pt x="0" y="0"/>
                    </a:moveTo>
                    <a:lnTo>
                      <a:pt x="543" y="0"/>
                    </a:lnTo>
                    <a:lnTo>
                      <a:pt x="264" y="3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5280" y="7226280"/>
                <a:ext cx="160560" cy="114840"/>
              </a:xfrm>
              <a:custGeom>
                <a:avLst/>
                <a:gdLst/>
                <a:ahLst/>
                <a:rect l="0" t="0" r="r" b="b"/>
                <a:pathLst>
                  <a:path w="446" h="319">
                    <a:moveTo>
                      <a:pt x="0" y="319"/>
                    </a:moveTo>
                    <a:lnTo>
                      <a:pt x="446" y="319"/>
                    </a:lnTo>
                    <a:lnTo>
                      <a:pt x="220" y="0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5280" y="6750000"/>
                <a:ext cx="160560" cy="117720"/>
              </a:xfrm>
              <a:custGeom>
                <a:avLst/>
                <a:gdLst/>
                <a:ahLst/>
                <a:rect l="0" t="0" r="r" b="b"/>
                <a:pathLst>
                  <a:path w="446" h="327">
                    <a:moveTo>
                      <a:pt x="0" y="0"/>
                    </a:moveTo>
                    <a:lnTo>
                      <a:pt x="446" y="0"/>
                    </a:lnTo>
                    <a:lnTo>
                      <a:pt x="220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65280" y="6608880"/>
                <a:ext cx="160560" cy="114840"/>
              </a:xfrm>
              <a:custGeom>
                <a:avLst/>
                <a:gdLst/>
                <a:ahLst/>
                <a:rect l="0" t="0" r="r" b="b"/>
                <a:pathLst>
                  <a:path w="446" h="319">
                    <a:moveTo>
                      <a:pt x="0" y="0"/>
                    </a:moveTo>
                    <a:lnTo>
                      <a:pt x="446" y="0"/>
                    </a:lnTo>
                    <a:lnTo>
                      <a:pt x="220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5280" y="7359480"/>
                <a:ext cx="160560" cy="116280"/>
              </a:xfrm>
              <a:custGeom>
                <a:avLst/>
                <a:gdLst/>
                <a:ahLst/>
                <a:rect l="0" t="0" r="r" b="b"/>
                <a:pathLst>
                  <a:path w="446" h="323">
                    <a:moveTo>
                      <a:pt x="0" y="323"/>
                    </a:moveTo>
                    <a:lnTo>
                      <a:pt x="446" y="323"/>
                    </a:lnTo>
                    <a:lnTo>
                      <a:pt x="220" y="0"/>
                    </a:lnTo>
                    <a:lnTo>
                      <a:pt x="0" y="323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5200" y="6311880"/>
                <a:ext cx="410040" cy="1324440"/>
              </a:xfrm>
              <a:custGeom>
                <a:avLst/>
                <a:gdLst/>
                <a:ahLst/>
                <a:rect l="0" t="0" r="r" b="b"/>
                <a:pathLst>
                  <a:path w="1139" h="3679">
                    <a:moveTo>
                      <a:pt x="1109" y="3679"/>
                    </a:moveTo>
                    <a:lnTo>
                      <a:pt x="1109" y="3325"/>
                    </a:lnTo>
                    <a:lnTo>
                      <a:pt x="889" y="3329"/>
                    </a:lnTo>
                    <a:lnTo>
                      <a:pt x="894" y="2715"/>
                    </a:lnTo>
                    <a:lnTo>
                      <a:pt x="492" y="2715"/>
                    </a:lnTo>
                    <a:lnTo>
                      <a:pt x="492" y="2260"/>
                    </a:lnTo>
                    <a:lnTo>
                      <a:pt x="129" y="1962"/>
                    </a:lnTo>
                    <a:lnTo>
                      <a:pt x="462" y="1778"/>
                    </a:lnTo>
                    <a:lnTo>
                      <a:pt x="462" y="1253"/>
                    </a:lnTo>
                    <a:lnTo>
                      <a:pt x="763" y="1253"/>
                    </a:lnTo>
                    <a:lnTo>
                      <a:pt x="763" y="683"/>
                    </a:lnTo>
                    <a:lnTo>
                      <a:pt x="1135" y="683"/>
                    </a:lnTo>
                    <a:lnTo>
                      <a:pt x="1139" y="0"/>
                    </a:lnTo>
                    <a:lnTo>
                      <a:pt x="1070" y="122"/>
                    </a:lnTo>
                    <a:lnTo>
                      <a:pt x="1070" y="617"/>
                    </a:lnTo>
                    <a:lnTo>
                      <a:pt x="699" y="612"/>
                    </a:lnTo>
                    <a:lnTo>
                      <a:pt x="690" y="1191"/>
                    </a:lnTo>
                    <a:lnTo>
                      <a:pt x="419" y="1187"/>
                    </a:lnTo>
                    <a:lnTo>
                      <a:pt x="419" y="1686"/>
                    </a:lnTo>
                    <a:lnTo>
                      <a:pt x="0" y="1958"/>
                    </a:lnTo>
                    <a:lnTo>
                      <a:pt x="431" y="2308"/>
                    </a:lnTo>
                    <a:lnTo>
                      <a:pt x="431" y="2782"/>
                    </a:lnTo>
                    <a:lnTo>
                      <a:pt x="837" y="2782"/>
                    </a:lnTo>
                    <a:lnTo>
                      <a:pt x="841" y="3395"/>
                    </a:lnTo>
                    <a:lnTo>
                      <a:pt x="1031" y="3403"/>
                    </a:lnTo>
                    <a:lnTo>
                      <a:pt x="1044" y="3561"/>
                    </a:lnTo>
                    <a:lnTo>
                      <a:pt x="1109" y="3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2280" y="6958080"/>
                <a:ext cx="133560" cy="140040"/>
              </a:xfrm>
              <a:custGeom>
                <a:avLst/>
                <a:gdLst/>
                <a:ahLst/>
                <a:rect l="0" t="0" r="r" b="b"/>
                <a:pathLst>
                  <a:path w="371" h="389">
                    <a:moveTo>
                      <a:pt x="186" y="389"/>
                    </a:moveTo>
                    <a:lnTo>
                      <a:pt x="371" y="189"/>
                    </a:lnTo>
                    <a:lnTo>
                      <a:pt x="176" y="0"/>
                    </a:lnTo>
                    <a:lnTo>
                      <a:pt x="0" y="189"/>
                    </a:lnTo>
                    <a:lnTo>
                      <a:pt x="186" y="3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" y="6988320"/>
                <a:ext cx="90720" cy="90720"/>
              </a:xfrm>
              <a:custGeom>
                <a:avLst/>
                <a:gdLst/>
                <a:ahLst/>
                <a:rect l="0" t="0" r="r" b="b"/>
                <a:pathLst>
                  <a:path w="252" h="252">
                    <a:moveTo>
                      <a:pt x="114" y="252"/>
                    </a:moveTo>
                    <a:lnTo>
                      <a:pt x="252" y="123"/>
                    </a:lnTo>
                    <a:lnTo>
                      <a:pt x="114" y="0"/>
                    </a:lnTo>
                    <a:lnTo>
                      <a:pt x="0" y="123"/>
                    </a:lnTo>
                    <a:lnTo>
                      <a:pt x="114" y="25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58680" y="6953400"/>
                <a:ext cx="135360" cy="140040"/>
              </a:xfrm>
              <a:custGeom>
                <a:avLst/>
                <a:gdLst/>
                <a:ahLst/>
                <a:rect l="0" t="0" r="r" b="b"/>
                <a:pathLst>
                  <a:path w="376" h="389">
                    <a:moveTo>
                      <a:pt x="190" y="389"/>
                    </a:moveTo>
                    <a:lnTo>
                      <a:pt x="376" y="195"/>
                    </a:lnTo>
                    <a:lnTo>
                      <a:pt x="178" y="0"/>
                    </a:lnTo>
                    <a:lnTo>
                      <a:pt x="0" y="189"/>
                    </a:lnTo>
                    <a:lnTo>
                      <a:pt x="190" y="38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81000" y="6978600"/>
                <a:ext cx="97200" cy="98640"/>
              </a:xfrm>
              <a:custGeom>
                <a:avLst/>
                <a:gdLst/>
                <a:ahLst/>
                <a:rect l="0" t="0" r="r" b="b"/>
                <a:pathLst>
                  <a:path w="270" h="274">
                    <a:moveTo>
                      <a:pt x="128" y="274"/>
                    </a:moveTo>
                    <a:lnTo>
                      <a:pt x="270" y="146"/>
                    </a:lnTo>
                    <a:lnTo>
                      <a:pt x="133" y="0"/>
                    </a:lnTo>
                    <a:lnTo>
                      <a:pt x="0" y="142"/>
                    </a:lnTo>
                    <a:lnTo>
                      <a:pt x="128" y="274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7000" y="6991200"/>
                <a:ext cx="7920" cy="7632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3720" y="7264440"/>
                <a:ext cx="230400" cy="338400"/>
              </a:xfrm>
              <a:custGeom>
                <a:avLst/>
                <a:gdLst/>
                <a:ahLst/>
                <a:rect l="0" t="0" r="r" b="b"/>
                <a:pathLst>
                  <a:path w="640" h="940">
                    <a:moveTo>
                      <a:pt x="640" y="841"/>
                    </a:moveTo>
                    <a:lnTo>
                      <a:pt x="0" y="0"/>
                    </a:lnTo>
                    <a:lnTo>
                      <a:pt x="21" y="128"/>
                    </a:lnTo>
                    <a:lnTo>
                      <a:pt x="606" y="940"/>
                    </a:lnTo>
                    <a:lnTo>
                      <a:pt x="640" y="841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1640" y="6232680"/>
                <a:ext cx="302040" cy="489240"/>
              </a:xfrm>
              <a:custGeom>
                <a:avLst/>
                <a:gdLst/>
                <a:ahLst/>
                <a:rect l="0" t="0" r="r" b="b"/>
                <a:pathLst>
                  <a:path w="839" h="1359">
                    <a:moveTo>
                      <a:pt x="839" y="134"/>
                    </a:moveTo>
                    <a:lnTo>
                      <a:pt x="8" y="1359"/>
                    </a:lnTo>
                    <a:lnTo>
                      <a:pt x="0" y="1320"/>
                    </a:lnTo>
                    <a:lnTo>
                      <a:pt x="831" y="0"/>
                    </a:lnTo>
                    <a:lnTo>
                      <a:pt x="839" y="13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76160" y="6311880"/>
                <a:ext cx="408240" cy="1324440"/>
              </a:xfrm>
              <a:custGeom>
                <a:avLst/>
                <a:gdLst/>
                <a:ahLst/>
                <a:rect l="0" t="0" r="r" b="b"/>
                <a:pathLst>
                  <a:path w="1134" h="3679">
                    <a:moveTo>
                      <a:pt x="30" y="3679"/>
                    </a:moveTo>
                    <a:lnTo>
                      <a:pt x="30" y="3325"/>
                    </a:lnTo>
                    <a:lnTo>
                      <a:pt x="245" y="3329"/>
                    </a:lnTo>
                    <a:lnTo>
                      <a:pt x="241" y="2715"/>
                    </a:lnTo>
                    <a:lnTo>
                      <a:pt x="647" y="2715"/>
                    </a:lnTo>
                    <a:lnTo>
                      <a:pt x="647" y="2260"/>
                    </a:lnTo>
                    <a:lnTo>
                      <a:pt x="1009" y="1962"/>
                    </a:lnTo>
                    <a:lnTo>
                      <a:pt x="673" y="1778"/>
                    </a:lnTo>
                    <a:lnTo>
                      <a:pt x="673" y="1253"/>
                    </a:lnTo>
                    <a:lnTo>
                      <a:pt x="370" y="1253"/>
                    </a:lnTo>
                    <a:lnTo>
                      <a:pt x="370" y="683"/>
                    </a:lnTo>
                    <a:lnTo>
                      <a:pt x="4" y="683"/>
                    </a:lnTo>
                    <a:lnTo>
                      <a:pt x="0" y="0"/>
                    </a:lnTo>
                    <a:lnTo>
                      <a:pt x="64" y="122"/>
                    </a:lnTo>
                    <a:lnTo>
                      <a:pt x="64" y="617"/>
                    </a:lnTo>
                    <a:lnTo>
                      <a:pt x="435" y="612"/>
                    </a:lnTo>
                    <a:lnTo>
                      <a:pt x="443" y="1191"/>
                    </a:lnTo>
                    <a:lnTo>
                      <a:pt x="720" y="1187"/>
                    </a:lnTo>
                    <a:lnTo>
                      <a:pt x="720" y="1686"/>
                    </a:lnTo>
                    <a:lnTo>
                      <a:pt x="1134" y="1958"/>
                    </a:lnTo>
                    <a:lnTo>
                      <a:pt x="707" y="2308"/>
                    </a:lnTo>
                    <a:lnTo>
                      <a:pt x="707" y="2782"/>
                    </a:lnTo>
                    <a:lnTo>
                      <a:pt x="301" y="2782"/>
                    </a:lnTo>
                    <a:lnTo>
                      <a:pt x="297" y="3395"/>
                    </a:lnTo>
                    <a:lnTo>
                      <a:pt x="107" y="3403"/>
                    </a:lnTo>
                    <a:lnTo>
                      <a:pt x="94" y="3561"/>
                    </a:lnTo>
                    <a:lnTo>
                      <a:pt x="30" y="36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6560" y="6227640"/>
                <a:ext cx="251280" cy="397080"/>
              </a:xfrm>
              <a:custGeom>
                <a:avLst/>
                <a:gdLst/>
                <a:ahLst/>
                <a:rect l="0" t="0" r="r" b="b"/>
                <a:pathLst>
                  <a:path w="698" h="1103">
                    <a:moveTo>
                      <a:pt x="0" y="94"/>
                    </a:moveTo>
                    <a:lnTo>
                      <a:pt x="698" y="1103"/>
                    </a:lnTo>
                    <a:lnTo>
                      <a:pt x="698" y="1021"/>
                    </a:lnTo>
                    <a:lnTo>
                      <a:pt x="29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19000" y="7280280"/>
                <a:ext cx="230400" cy="338400"/>
              </a:xfrm>
              <a:custGeom>
                <a:avLst/>
                <a:gdLst/>
                <a:ahLst/>
                <a:rect l="0" t="0" r="r" b="b"/>
                <a:pathLst>
                  <a:path w="640" h="940">
                    <a:moveTo>
                      <a:pt x="0" y="845"/>
                    </a:moveTo>
                    <a:lnTo>
                      <a:pt x="640" y="0"/>
                    </a:lnTo>
                    <a:lnTo>
                      <a:pt x="619" y="124"/>
                    </a:lnTo>
                    <a:lnTo>
                      <a:pt x="38" y="940"/>
                    </a:lnTo>
                    <a:lnTo>
                      <a:pt x="0" y="845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177920" y="6981840"/>
                <a:ext cx="11160" cy="5544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01680" y="4762440"/>
                <a:ext cx="902160" cy="1478160"/>
              </a:xfrm>
              <a:custGeom>
                <a:avLst/>
                <a:gdLst/>
                <a:ahLst/>
                <a:rect l="0" t="0" r="r" b="b"/>
                <a:pathLst>
                  <a:path w="2506" h="4106">
                    <a:moveTo>
                      <a:pt x="1187" y="4106"/>
                    </a:moveTo>
                    <a:lnTo>
                      <a:pt x="0" y="2479"/>
                    </a:lnTo>
                    <a:lnTo>
                      <a:pt x="0" y="1834"/>
                    </a:lnTo>
                    <a:lnTo>
                      <a:pt x="1235" y="0"/>
                    </a:lnTo>
                    <a:lnTo>
                      <a:pt x="2506" y="1825"/>
                    </a:lnTo>
                    <a:lnTo>
                      <a:pt x="2506" y="2501"/>
                    </a:lnTo>
                    <a:lnTo>
                      <a:pt x="1293" y="4084"/>
                    </a:lnTo>
                    <a:lnTo>
                      <a:pt x="1187" y="4106"/>
                    </a:lnTo>
                    <a:close/>
                  </a:path>
                </a:pathLst>
              </a:custGeom>
              <a:solidFill>
                <a:srgbClr val="404080"/>
              </a:solidFill>
              <a:ln w="12600">
                <a:solidFill>
                  <a:srgbClr val="404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8960" y="4816440"/>
                <a:ext cx="851400" cy="1389600"/>
              </a:xfrm>
              <a:custGeom>
                <a:avLst/>
                <a:gdLst/>
                <a:ahLst/>
                <a:rect l="0" t="0" r="r" b="b"/>
                <a:pathLst>
                  <a:path w="2365" h="3860">
                    <a:moveTo>
                      <a:pt x="0" y="1782"/>
                    </a:moveTo>
                    <a:lnTo>
                      <a:pt x="1187" y="0"/>
                    </a:lnTo>
                    <a:lnTo>
                      <a:pt x="2352" y="1742"/>
                    </a:lnTo>
                    <a:lnTo>
                      <a:pt x="2365" y="2298"/>
                    </a:lnTo>
                    <a:lnTo>
                      <a:pt x="1187" y="3860"/>
                    </a:lnTo>
                    <a:lnTo>
                      <a:pt x="8" y="2272"/>
                    </a:lnTo>
                    <a:lnTo>
                      <a:pt x="0" y="178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3040" y="4807080"/>
                <a:ext cx="6480" cy="1384200"/>
              </a:xfrm>
              <a:prstGeom prst="rect">
                <a:avLst/>
              </a:pr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360" y="5329080"/>
                <a:ext cx="513000" cy="465480"/>
              </a:xfrm>
              <a:custGeom>
                <a:avLst/>
                <a:gdLst/>
                <a:ahLst/>
                <a:rect l="0" t="0" r="r" b="b"/>
                <a:pathLst>
                  <a:path w="1425" h="1293">
                    <a:moveTo>
                      <a:pt x="0" y="1293"/>
                    </a:moveTo>
                    <a:lnTo>
                      <a:pt x="0" y="900"/>
                    </a:lnTo>
                    <a:lnTo>
                      <a:pt x="1425" y="0"/>
                    </a:lnTo>
                    <a:lnTo>
                      <a:pt x="1425" y="427"/>
                    </a:lnTo>
                    <a:lnTo>
                      <a:pt x="0" y="1293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95360" y="5321160"/>
                <a:ext cx="513000" cy="465480"/>
              </a:xfrm>
              <a:custGeom>
                <a:avLst/>
                <a:gdLst/>
                <a:ahLst/>
                <a:rect l="0" t="0" r="r" b="b"/>
                <a:pathLst>
                  <a:path w="1425" h="1293">
                    <a:moveTo>
                      <a:pt x="0" y="0"/>
                    </a:moveTo>
                    <a:lnTo>
                      <a:pt x="0" y="392"/>
                    </a:lnTo>
                    <a:lnTo>
                      <a:pt x="1425" y="1293"/>
                    </a:lnTo>
                    <a:lnTo>
                      <a:pt x="1425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4000"/>
              </a:solidFill>
              <a:ln w="25560">
                <a:solidFill>
                  <a:srgbClr val="80804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31800" y="5403960"/>
                <a:ext cx="231840" cy="274680"/>
              </a:xfrm>
              <a:prstGeom prst="rect">
                <a:avLst/>
              </a:prstGeom>
              <a:solidFill>
                <a:srgbClr val="804000"/>
              </a:solidFill>
              <a:ln w="12600">
                <a:solidFill>
                  <a:srgbClr val="804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44400" y="5551560"/>
                <a:ext cx="197280" cy="120960"/>
              </a:xfrm>
              <a:custGeom>
                <a:avLst/>
                <a:gdLst/>
                <a:ahLst/>
                <a:rect l="0" t="0" r="r" b="b"/>
                <a:pathLst>
                  <a:path w="548" h="336">
                    <a:moveTo>
                      <a:pt x="548" y="336"/>
                    </a:moveTo>
                    <a:lnTo>
                      <a:pt x="0" y="336"/>
                    </a:lnTo>
                    <a:lnTo>
                      <a:pt x="282" y="0"/>
                    </a:lnTo>
                    <a:lnTo>
                      <a:pt x="548" y="336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50880" y="5413320"/>
                <a:ext cx="195480" cy="117720"/>
              </a:xfrm>
              <a:custGeom>
                <a:avLst/>
                <a:gdLst/>
                <a:ahLst/>
                <a:rect l="0" t="0" r="r" b="b"/>
                <a:pathLst>
                  <a:path w="543" h="327">
                    <a:moveTo>
                      <a:pt x="0" y="0"/>
                    </a:moveTo>
                    <a:lnTo>
                      <a:pt x="543" y="0"/>
                    </a:lnTo>
                    <a:lnTo>
                      <a:pt x="264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5280" y="5751360"/>
                <a:ext cx="162360" cy="114840"/>
              </a:xfrm>
              <a:custGeom>
                <a:avLst/>
                <a:gdLst/>
                <a:ahLst/>
                <a:rect l="0" t="0" r="r" b="b"/>
                <a:pathLst>
                  <a:path w="451" h="319">
                    <a:moveTo>
                      <a:pt x="0" y="319"/>
                    </a:moveTo>
                    <a:lnTo>
                      <a:pt x="451" y="319"/>
                    </a:lnTo>
                    <a:lnTo>
                      <a:pt x="221" y="0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5280" y="5275440"/>
                <a:ext cx="162360" cy="117720"/>
              </a:xfrm>
              <a:custGeom>
                <a:avLst/>
                <a:gdLst/>
                <a:ahLst/>
                <a:rect l="0" t="0" r="r" b="b"/>
                <a:pathLst>
                  <a:path w="451" h="327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65280" y="5133960"/>
                <a:ext cx="162360" cy="114840"/>
              </a:xfrm>
              <a:custGeom>
                <a:avLst/>
                <a:gdLst/>
                <a:ahLst/>
                <a:rect l="0" t="0" r="r" b="b"/>
                <a:pathLst>
                  <a:path w="451" h="319">
                    <a:moveTo>
                      <a:pt x="0" y="0"/>
                    </a:moveTo>
                    <a:lnTo>
                      <a:pt x="451" y="0"/>
                    </a:lnTo>
                    <a:lnTo>
                      <a:pt x="221" y="3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5280" y="5884920"/>
                <a:ext cx="162360" cy="117720"/>
              </a:xfrm>
              <a:custGeom>
                <a:avLst/>
                <a:gdLst/>
                <a:ahLst/>
                <a:rect l="0" t="0" r="r" b="b"/>
                <a:pathLst>
                  <a:path w="451" h="327">
                    <a:moveTo>
                      <a:pt x="0" y="327"/>
                    </a:moveTo>
                    <a:lnTo>
                      <a:pt x="451" y="327"/>
                    </a:lnTo>
                    <a:lnTo>
                      <a:pt x="221" y="0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00404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5200" y="4838760"/>
                <a:ext cx="410040" cy="1322640"/>
              </a:xfrm>
              <a:custGeom>
                <a:avLst/>
                <a:gdLst/>
                <a:ahLst/>
                <a:rect l="0" t="0" r="r" b="b"/>
                <a:pathLst>
                  <a:path w="1139" h="3674">
                    <a:moveTo>
                      <a:pt x="1109" y="3674"/>
                    </a:moveTo>
                    <a:lnTo>
                      <a:pt x="1109" y="3319"/>
                    </a:lnTo>
                    <a:lnTo>
                      <a:pt x="894" y="3328"/>
                    </a:lnTo>
                    <a:lnTo>
                      <a:pt x="898" y="2715"/>
                    </a:lnTo>
                    <a:lnTo>
                      <a:pt x="492" y="2715"/>
                    </a:lnTo>
                    <a:lnTo>
                      <a:pt x="492" y="2260"/>
                    </a:lnTo>
                    <a:lnTo>
                      <a:pt x="129" y="1958"/>
                    </a:lnTo>
                    <a:lnTo>
                      <a:pt x="466" y="1773"/>
                    </a:lnTo>
                    <a:lnTo>
                      <a:pt x="466" y="1252"/>
                    </a:lnTo>
                    <a:lnTo>
                      <a:pt x="768" y="1252"/>
                    </a:lnTo>
                    <a:lnTo>
                      <a:pt x="768" y="678"/>
                    </a:lnTo>
                    <a:lnTo>
                      <a:pt x="1135" y="682"/>
                    </a:lnTo>
                    <a:lnTo>
                      <a:pt x="1139" y="0"/>
                    </a:lnTo>
                    <a:lnTo>
                      <a:pt x="1070" y="118"/>
                    </a:lnTo>
                    <a:lnTo>
                      <a:pt x="1070" y="612"/>
                    </a:lnTo>
                    <a:lnTo>
                      <a:pt x="703" y="608"/>
                    </a:lnTo>
                    <a:lnTo>
                      <a:pt x="690" y="1182"/>
                    </a:lnTo>
                    <a:lnTo>
                      <a:pt x="419" y="1182"/>
                    </a:lnTo>
                    <a:lnTo>
                      <a:pt x="419" y="1681"/>
                    </a:lnTo>
                    <a:lnTo>
                      <a:pt x="0" y="1953"/>
                    </a:lnTo>
                    <a:lnTo>
                      <a:pt x="431" y="2299"/>
                    </a:lnTo>
                    <a:lnTo>
                      <a:pt x="431" y="2781"/>
                    </a:lnTo>
                    <a:lnTo>
                      <a:pt x="841" y="2776"/>
                    </a:lnTo>
                    <a:lnTo>
                      <a:pt x="841" y="3389"/>
                    </a:lnTo>
                    <a:lnTo>
                      <a:pt x="1031" y="3394"/>
                    </a:lnTo>
                    <a:lnTo>
                      <a:pt x="1044" y="3556"/>
                    </a:lnTo>
                    <a:lnTo>
                      <a:pt x="1109" y="36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3720" y="5483160"/>
                <a:ext cx="132120" cy="141480"/>
              </a:xfrm>
              <a:custGeom>
                <a:avLst/>
                <a:gdLst/>
                <a:ahLst/>
                <a:rect l="0" t="0" r="r" b="b"/>
                <a:pathLst>
                  <a:path w="367" h="393">
                    <a:moveTo>
                      <a:pt x="180" y="393"/>
                    </a:moveTo>
                    <a:lnTo>
                      <a:pt x="367" y="194"/>
                    </a:lnTo>
                    <a:lnTo>
                      <a:pt x="172" y="0"/>
                    </a:lnTo>
                    <a:lnTo>
                      <a:pt x="0" y="194"/>
                    </a:lnTo>
                    <a:lnTo>
                      <a:pt x="180" y="3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49280" y="5513400"/>
                <a:ext cx="90720" cy="90720"/>
              </a:xfrm>
              <a:custGeom>
                <a:avLst/>
                <a:gdLst/>
                <a:ahLst/>
                <a:rect l="0" t="0" r="r" b="b"/>
                <a:pathLst>
                  <a:path w="252" h="252">
                    <a:moveTo>
                      <a:pt x="114" y="252"/>
                    </a:moveTo>
                    <a:lnTo>
                      <a:pt x="252" y="128"/>
                    </a:lnTo>
                    <a:lnTo>
                      <a:pt x="114" y="0"/>
                    </a:lnTo>
                    <a:lnTo>
                      <a:pt x="0" y="128"/>
                    </a:lnTo>
                    <a:lnTo>
                      <a:pt x="114" y="252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58680" y="5478480"/>
                <a:ext cx="135360" cy="141480"/>
              </a:xfrm>
              <a:custGeom>
                <a:avLst/>
                <a:gdLst/>
                <a:ahLst/>
                <a:rect l="0" t="0" r="r" b="b"/>
                <a:pathLst>
                  <a:path w="376" h="393">
                    <a:moveTo>
                      <a:pt x="190" y="393"/>
                    </a:moveTo>
                    <a:lnTo>
                      <a:pt x="376" y="194"/>
                    </a:lnTo>
                    <a:lnTo>
                      <a:pt x="178" y="0"/>
                    </a:lnTo>
                    <a:lnTo>
                      <a:pt x="0" y="194"/>
                    </a:lnTo>
                    <a:lnTo>
                      <a:pt x="190" y="39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81000" y="5505480"/>
                <a:ext cx="97200" cy="98640"/>
              </a:xfrm>
              <a:custGeom>
                <a:avLst/>
                <a:gdLst/>
                <a:ahLst/>
                <a:rect l="0" t="0" r="r" b="b"/>
                <a:pathLst>
                  <a:path w="270" h="274">
                    <a:moveTo>
                      <a:pt x="128" y="274"/>
                    </a:moveTo>
                    <a:lnTo>
                      <a:pt x="270" y="142"/>
                    </a:lnTo>
                    <a:lnTo>
                      <a:pt x="133" y="0"/>
                    </a:lnTo>
                    <a:lnTo>
                      <a:pt x="0" y="136"/>
                    </a:lnTo>
                    <a:lnTo>
                      <a:pt x="128" y="274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47520" bIns="47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7000" y="5516640"/>
                <a:ext cx="9360" cy="7776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3720" y="5791320"/>
                <a:ext cx="232200" cy="336960"/>
              </a:xfrm>
              <a:custGeom>
                <a:avLst/>
                <a:gdLst/>
                <a:ahLst/>
                <a:rect l="0" t="0" r="r" b="b"/>
                <a:pathLst>
                  <a:path w="645" h="936">
                    <a:moveTo>
                      <a:pt x="645" y="842"/>
                    </a:moveTo>
                    <a:lnTo>
                      <a:pt x="0" y="0"/>
                    </a:lnTo>
                    <a:lnTo>
                      <a:pt x="21" y="124"/>
                    </a:lnTo>
                    <a:lnTo>
                      <a:pt x="611" y="936"/>
                    </a:lnTo>
                    <a:lnTo>
                      <a:pt x="645" y="842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1640" y="4757760"/>
                <a:ext cx="303480" cy="489240"/>
              </a:xfrm>
              <a:custGeom>
                <a:avLst/>
                <a:gdLst/>
                <a:ahLst/>
                <a:rect l="0" t="0" r="r" b="b"/>
                <a:pathLst>
                  <a:path w="843" h="1359">
                    <a:moveTo>
                      <a:pt x="843" y="134"/>
                    </a:moveTo>
                    <a:lnTo>
                      <a:pt x="12" y="1359"/>
                    </a:lnTo>
                    <a:lnTo>
                      <a:pt x="0" y="1320"/>
                    </a:lnTo>
                    <a:lnTo>
                      <a:pt x="830" y="0"/>
                    </a:lnTo>
                    <a:lnTo>
                      <a:pt x="843" y="13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76160" y="4838760"/>
                <a:ext cx="408240" cy="1322640"/>
              </a:xfrm>
              <a:custGeom>
                <a:avLst/>
                <a:gdLst/>
                <a:ahLst/>
                <a:rect l="0" t="0" r="r" b="b"/>
                <a:pathLst>
                  <a:path w="1134" h="3674">
                    <a:moveTo>
                      <a:pt x="34" y="3674"/>
                    </a:moveTo>
                    <a:lnTo>
                      <a:pt x="34" y="3319"/>
                    </a:lnTo>
                    <a:lnTo>
                      <a:pt x="249" y="3328"/>
                    </a:lnTo>
                    <a:lnTo>
                      <a:pt x="245" y="2715"/>
                    </a:lnTo>
                    <a:lnTo>
                      <a:pt x="647" y="2715"/>
                    </a:lnTo>
                    <a:lnTo>
                      <a:pt x="647" y="2260"/>
                    </a:lnTo>
                    <a:lnTo>
                      <a:pt x="1009" y="1958"/>
                    </a:lnTo>
                    <a:lnTo>
                      <a:pt x="673" y="1773"/>
                    </a:lnTo>
                    <a:lnTo>
                      <a:pt x="673" y="1252"/>
                    </a:lnTo>
                    <a:lnTo>
                      <a:pt x="370" y="1252"/>
                    </a:lnTo>
                    <a:lnTo>
                      <a:pt x="370" y="678"/>
                    </a:lnTo>
                    <a:lnTo>
                      <a:pt x="4" y="682"/>
                    </a:lnTo>
                    <a:lnTo>
                      <a:pt x="0" y="0"/>
                    </a:lnTo>
                    <a:lnTo>
                      <a:pt x="68" y="118"/>
                    </a:lnTo>
                    <a:lnTo>
                      <a:pt x="68" y="612"/>
                    </a:lnTo>
                    <a:lnTo>
                      <a:pt x="435" y="608"/>
                    </a:lnTo>
                    <a:lnTo>
                      <a:pt x="448" y="1182"/>
                    </a:lnTo>
                    <a:lnTo>
                      <a:pt x="720" y="1182"/>
                    </a:lnTo>
                    <a:lnTo>
                      <a:pt x="720" y="1681"/>
                    </a:lnTo>
                    <a:lnTo>
                      <a:pt x="1134" y="1953"/>
                    </a:lnTo>
                    <a:lnTo>
                      <a:pt x="707" y="2299"/>
                    </a:lnTo>
                    <a:lnTo>
                      <a:pt x="707" y="2781"/>
                    </a:lnTo>
                    <a:lnTo>
                      <a:pt x="301" y="2776"/>
                    </a:lnTo>
                    <a:lnTo>
                      <a:pt x="301" y="3389"/>
                    </a:lnTo>
                    <a:lnTo>
                      <a:pt x="107" y="3394"/>
                    </a:lnTo>
                    <a:lnTo>
                      <a:pt x="99" y="3556"/>
                    </a:lnTo>
                    <a:lnTo>
                      <a:pt x="34" y="36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6560" y="4753080"/>
                <a:ext cx="251280" cy="398880"/>
              </a:xfrm>
              <a:custGeom>
                <a:avLst/>
                <a:gdLst/>
                <a:ahLst/>
                <a:rect l="0" t="0" r="r" b="b"/>
                <a:pathLst>
                  <a:path w="698" h="1108">
                    <a:moveTo>
                      <a:pt x="0" y="94"/>
                    </a:moveTo>
                    <a:lnTo>
                      <a:pt x="698" y="1108"/>
                    </a:lnTo>
                    <a:lnTo>
                      <a:pt x="698" y="1027"/>
                    </a:lnTo>
                    <a:lnTo>
                      <a:pt x="29" y="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19000" y="5805360"/>
                <a:ext cx="230400" cy="338400"/>
              </a:xfrm>
              <a:custGeom>
                <a:avLst/>
                <a:gdLst/>
                <a:ahLst/>
                <a:rect l="0" t="0" r="r" b="b"/>
                <a:pathLst>
                  <a:path w="640" h="940">
                    <a:moveTo>
                      <a:pt x="0" y="845"/>
                    </a:moveTo>
                    <a:lnTo>
                      <a:pt x="640" y="0"/>
                    </a:lnTo>
                    <a:lnTo>
                      <a:pt x="623" y="124"/>
                    </a:lnTo>
                    <a:lnTo>
                      <a:pt x="42" y="940"/>
                    </a:lnTo>
                    <a:lnTo>
                      <a:pt x="0" y="845"/>
                    </a:lnTo>
                    <a:close/>
                  </a:path>
                </a:pathLst>
              </a:cu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77920" y="5506920"/>
                <a:ext cx="11160" cy="55440"/>
              </a:xfrm>
              <a:prstGeom prst="rect">
                <a:avLst/>
              </a:prstGeom>
              <a:solidFill>
                <a:srgbClr val="404080"/>
              </a:solidFill>
              <a:ln w="0">
                <a:noFill/>
              </a:ln>
            </p:spPr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7800" y="6099120"/>
                <a:ext cx="236520" cy="3348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5200" y="5892840"/>
                <a:ext cx="138240" cy="7491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1960" y="5987880"/>
                <a:ext cx="252720" cy="608400"/>
              </a:xfrm>
              <a:custGeom>
                <a:avLst/>
                <a:gdLst/>
                <a:ahLst/>
                <a:rect l="0" t="0" r="r" b="b"/>
                <a:pathLst>
                  <a:path w="702" h="1690">
                    <a:moveTo>
                      <a:pt x="0" y="0"/>
                    </a:moveTo>
                    <a:lnTo>
                      <a:pt x="702" y="772"/>
                    </a:lnTo>
                    <a:lnTo>
                      <a:pt x="0" y="169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5840" y="6121440"/>
                <a:ext cx="1332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65160" y="6099120"/>
                <a:ext cx="236520" cy="33480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77840" y="5892840"/>
                <a:ext cx="135000" cy="749160"/>
              </a:xfrm>
              <a:prstGeom prst="rect">
                <a:avLst/>
              </a:prstGeom>
              <a:solidFill>
                <a:srgbClr val="804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74880" y="5987880"/>
                <a:ext cx="252720" cy="608400"/>
              </a:xfrm>
              <a:custGeom>
                <a:avLst/>
                <a:gdLst/>
                <a:ahLst/>
                <a:rect l="0" t="0" r="r" b="b"/>
                <a:pathLst>
                  <a:path w="702" h="1690">
                    <a:moveTo>
                      <a:pt x="702" y="0"/>
                    </a:moveTo>
                    <a:lnTo>
                      <a:pt x="0" y="772"/>
                    </a:lnTo>
                    <a:lnTo>
                      <a:pt x="702" y="1690"/>
                    </a:lnTo>
                    <a:lnTo>
                      <a:pt x="702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90440" y="6121440"/>
                <a:ext cx="133200" cy="306360"/>
              </a:xfrm>
              <a:prstGeom prst="rect">
                <a:avLst/>
              </a:prstGeom>
              <a:solidFill>
                <a:srgbClr val="808040"/>
              </a:solidFill>
              <a:ln w="12600">
                <a:solidFill>
                  <a:srgbClr val="80804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295280" y="41904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76200" y="1962000"/>
            <a:ext cx="7601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</dc:creator>
  <dc:description/>
  <dc:language>en-US</dc:language>
  <cp:lastModifiedBy>Mike Kolbe</cp:lastModifiedBy>
  <cp:revision>0</cp:revision>
  <dc:subject/>
  <dc:title/>
</cp:coreProperties>
</file>