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58960" y="1214280"/>
            <a:ext cx="8288280" cy="52560"/>
          </a:xfrm>
          <a:prstGeom prst="rect">
            <a:avLst/>
          </a:prstGeom>
          <a:solidFill>
            <a:srgbClr val="004040"/>
          </a:solidFill>
          <a:ln w="0">
            <a:noFill/>
          </a:ln>
        </p:spPr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281160" y="2305080"/>
            <a:ext cx="10468440" cy="4551840"/>
            <a:chOff x="-281160" y="2305080"/>
            <a:chExt cx="10468440" cy="4551840"/>
          </a:xfrm>
        </p:grpSpPr>
        <p:sp>
          <p:nvSpPr>
            <p:cNvPr id="2" name=""/>
            <p:cNvSpPr/>
            <p:nvPr/>
          </p:nvSpPr>
          <p:spPr>
            <a:xfrm>
              <a:off x="-281160" y="2319480"/>
              <a:ext cx="10468440" cy="4537440"/>
            </a:xfrm>
            <a:custGeom>
              <a:avLst/>
              <a:gdLst/>
              <a:ahLst/>
              <a:rect l="0" t="0" r="r" b="b"/>
              <a:pathLst>
                <a:path w="29079" h="12604">
                  <a:moveTo>
                    <a:pt x="0" y="1346"/>
                  </a:moveTo>
                  <a:lnTo>
                    <a:pt x="2449" y="888"/>
                  </a:lnTo>
                  <a:lnTo>
                    <a:pt x="2837" y="686"/>
                  </a:lnTo>
                  <a:lnTo>
                    <a:pt x="3233" y="422"/>
                  </a:lnTo>
                  <a:lnTo>
                    <a:pt x="3608" y="184"/>
                  </a:lnTo>
                  <a:lnTo>
                    <a:pt x="3938" y="44"/>
                  </a:lnTo>
                  <a:lnTo>
                    <a:pt x="4216" y="8"/>
                  </a:lnTo>
                  <a:lnTo>
                    <a:pt x="4383" y="0"/>
                  </a:lnTo>
                  <a:lnTo>
                    <a:pt x="4471" y="0"/>
                  </a:lnTo>
                  <a:lnTo>
                    <a:pt x="4568" y="0"/>
                  </a:lnTo>
                  <a:lnTo>
                    <a:pt x="5203" y="61"/>
                  </a:lnTo>
                  <a:lnTo>
                    <a:pt x="5806" y="198"/>
                  </a:lnTo>
                  <a:lnTo>
                    <a:pt x="6379" y="413"/>
                  </a:lnTo>
                  <a:lnTo>
                    <a:pt x="6740" y="712"/>
                  </a:lnTo>
                  <a:lnTo>
                    <a:pt x="7075" y="1056"/>
                  </a:lnTo>
                  <a:lnTo>
                    <a:pt x="7314" y="1346"/>
                  </a:lnTo>
                  <a:lnTo>
                    <a:pt x="7547" y="1931"/>
                  </a:lnTo>
                  <a:lnTo>
                    <a:pt x="8129" y="1857"/>
                  </a:lnTo>
                  <a:lnTo>
                    <a:pt x="8904" y="1702"/>
                  </a:lnTo>
                  <a:lnTo>
                    <a:pt x="9812" y="1628"/>
                  </a:lnTo>
                  <a:lnTo>
                    <a:pt x="10416" y="1491"/>
                  </a:lnTo>
                  <a:lnTo>
                    <a:pt x="10513" y="1491"/>
                  </a:lnTo>
                  <a:lnTo>
                    <a:pt x="10618" y="1504"/>
                  </a:lnTo>
                  <a:lnTo>
                    <a:pt x="10825" y="1566"/>
                  </a:lnTo>
                  <a:lnTo>
                    <a:pt x="11235" y="1698"/>
                  </a:lnTo>
                  <a:lnTo>
                    <a:pt x="11729" y="1923"/>
                  </a:lnTo>
                  <a:lnTo>
                    <a:pt x="12196" y="2209"/>
                  </a:lnTo>
                  <a:lnTo>
                    <a:pt x="12579" y="2455"/>
                  </a:lnTo>
                  <a:lnTo>
                    <a:pt x="13222" y="2864"/>
                  </a:lnTo>
                  <a:lnTo>
                    <a:pt x="13923" y="3027"/>
                  </a:lnTo>
                  <a:lnTo>
                    <a:pt x="14249" y="3261"/>
                  </a:lnTo>
                  <a:lnTo>
                    <a:pt x="14570" y="3512"/>
                  </a:lnTo>
                  <a:lnTo>
                    <a:pt x="14649" y="3525"/>
                  </a:lnTo>
                  <a:lnTo>
                    <a:pt x="14760" y="3521"/>
                  </a:lnTo>
                  <a:lnTo>
                    <a:pt x="15020" y="3472"/>
                  </a:lnTo>
                  <a:lnTo>
                    <a:pt x="15280" y="3420"/>
                  </a:lnTo>
                  <a:lnTo>
                    <a:pt x="15390" y="3411"/>
                  </a:lnTo>
                  <a:lnTo>
                    <a:pt x="15478" y="3420"/>
                  </a:lnTo>
                  <a:lnTo>
                    <a:pt x="15694" y="3428"/>
                  </a:lnTo>
                  <a:lnTo>
                    <a:pt x="15865" y="3428"/>
                  </a:lnTo>
                  <a:lnTo>
                    <a:pt x="15962" y="3428"/>
                  </a:lnTo>
                  <a:lnTo>
                    <a:pt x="16064" y="3424"/>
                  </a:lnTo>
                  <a:lnTo>
                    <a:pt x="16663" y="3406"/>
                  </a:lnTo>
                  <a:lnTo>
                    <a:pt x="16808" y="3433"/>
                  </a:lnTo>
                  <a:lnTo>
                    <a:pt x="16962" y="3494"/>
                  </a:lnTo>
                  <a:lnTo>
                    <a:pt x="17253" y="3609"/>
                  </a:lnTo>
                  <a:lnTo>
                    <a:pt x="17866" y="3635"/>
                  </a:lnTo>
                  <a:lnTo>
                    <a:pt x="18214" y="3622"/>
                  </a:lnTo>
                  <a:lnTo>
                    <a:pt x="18399" y="3565"/>
                  </a:lnTo>
                  <a:lnTo>
                    <a:pt x="18756" y="3115"/>
                  </a:lnTo>
                  <a:lnTo>
                    <a:pt x="18989" y="2948"/>
                  </a:lnTo>
                  <a:lnTo>
                    <a:pt x="19104" y="2904"/>
                  </a:lnTo>
                  <a:lnTo>
                    <a:pt x="19223" y="2904"/>
                  </a:lnTo>
                  <a:lnTo>
                    <a:pt x="19434" y="2847"/>
                  </a:lnTo>
                  <a:lnTo>
                    <a:pt x="19769" y="2693"/>
                  </a:lnTo>
                  <a:lnTo>
                    <a:pt x="20320" y="2433"/>
                  </a:lnTo>
                  <a:lnTo>
                    <a:pt x="21029" y="2231"/>
                  </a:lnTo>
                  <a:lnTo>
                    <a:pt x="21487" y="2116"/>
                  </a:lnTo>
                  <a:lnTo>
                    <a:pt x="21769" y="2081"/>
                  </a:lnTo>
                  <a:lnTo>
                    <a:pt x="22453" y="2182"/>
                  </a:lnTo>
                  <a:lnTo>
                    <a:pt x="23220" y="2354"/>
                  </a:lnTo>
                  <a:lnTo>
                    <a:pt x="24673" y="2534"/>
                  </a:lnTo>
                  <a:lnTo>
                    <a:pt x="26198" y="2666"/>
                  </a:lnTo>
                  <a:lnTo>
                    <a:pt x="26696" y="2979"/>
                  </a:lnTo>
                  <a:lnTo>
                    <a:pt x="27687" y="3679"/>
                  </a:lnTo>
                  <a:lnTo>
                    <a:pt x="29079" y="4740"/>
                  </a:lnTo>
                  <a:lnTo>
                    <a:pt x="29026" y="6095"/>
                  </a:lnTo>
                  <a:lnTo>
                    <a:pt x="29022" y="7319"/>
                  </a:lnTo>
                  <a:lnTo>
                    <a:pt x="29031" y="8696"/>
                  </a:lnTo>
                  <a:lnTo>
                    <a:pt x="29044" y="11276"/>
                  </a:lnTo>
                  <a:lnTo>
                    <a:pt x="29044" y="11768"/>
                  </a:lnTo>
                  <a:lnTo>
                    <a:pt x="29044" y="11975"/>
                  </a:lnTo>
                  <a:lnTo>
                    <a:pt x="29044" y="12160"/>
                  </a:lnTo>
                  <a:lnTo>
                    <a:pt x="29018" y="12574"/>
                  </a:lnTo>
                  <a:lnTo>
                    <a:pt x="23021" y="12604"/>
                  </a:lnTo>
                  <a:lnTo>
                    <a:pt x="13231" y="12578"/>
                  </a:lnTo>
                  <a:lnTo>
                    <a:pt x="57" y="12512"/>
                  </a:lnTo>
                  <a:lnTo>
                    <a:pt x="0" y="134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63800" y="2305080"/>
              <a:ext cx="3930840" cy="1305360"/>
            </a:xfrm>
            <a:custGeom>
              <a:avLst/>
              <a:gdLst/>
              <a:ahLst/>
              <a:rect l="0" t="0" r="r" b="b"/>
              <a:pathLst>
                <a:path w="10919" h="3626">
                  <a:moveTo>
                    <a:pt x="0" y="118"/>
                  </a:moveTo>
                  <a:lnTo>
                    <a:pt x="268" y="135"/>
                  </a:lnTo>
                  <a:lnTo>
                    <a:pt x="461" y="140"/>
                  </a:lnTo>
                  <a:lnTo>
                    <a:pt x="567" y="140"/>
                  </a:lnTo>
                  <a:lnTo>
                    <a:pt x="681" y="135"/>
                  </a:lnTo>
                  <a:lnTo>
                    <a:pt x="1095" y="131"/>
                  </a:lnTo>
                  <a:lnTo>
                    <a:pt x="1253" y="131"/>
                  </a:lnTo>
                  <a:lnTo>
                    <a:pt x="1359" y="144"/>
                  </a:lnTo>
                  <a:lnTo>
                    <a:pt x="2265" y="415"/>
                  </a:lnTo>
                  <a:lnTo>
                    <a:pt x="2736" y="652"/>
                  </a:lnTo>
                  <a:lnTo>
                    <a:pt x="3154" y="968"/>
                  </a:lnTo>
                  <a:lnTo>
                    <a:pt x="3519" y="1476"/>
                  </a:lnTo>
                  <a:lnTo>
                    <a:pt x="3580" y="1708"/>
                  </a:lnTo>
                  <a:lnTo>
                    <a:pt x="3677" y="1909"/>
                  </a:lnTo>
                  <a:lnTo>
                    <a:pt x="4121" y="2163"/>
                  </a:lnTo>
                  <a:lnTo>
                    <a:pt x="4610" y="1949"/>
                  </a:lnTo>
                  <a:lnTo>
                    <a:pt x="5217" y="1835"/>
                  </a:lnTo>
                  <a:lnTo>
                    <a:pt x="5415" y="1826"/>
                  </a:lnTo>
                  <a:lnTo>
                    <a:pt x="5530" y="1830"/>
                  </a:lnTo>
                  <a:lnTo>
                    <a:pt x="5592" y="1848"/>
                  </a:lnTo>
                  <a:lnTo>
                    <a:pt x="5397" y="2014"/>
                  </a:lnTo>
                  <a:lnTo>
                    <a:pt x="5460" y="2062"/>
                  </a:lnTo>
                  <a:lnTo>
                    <a:pt x="5605" y="1970"/>
                  </a:lnTo>
                  <a:lnTo>
                    <a:pt x="5719" y="1844"/>
                  </a:lnTo>
                  <a:lnTo>
                    <a:pt x="6076" y="1717"/>
                  </a:lnTo>
                  <a:lnTo>
                    <a:pt x="6397" y="1642"/>
                  </a:lnTo>
                  <a:lnTo>
                    <a:pt x="6485" y="1642"/>
                  </a:lnTo>
                  <a:lnTo>
                    <a:pt x="6581" y="1642"/>
                  </a:lnTo>
                  <a:lnTo>
                    <a:pt x="6749" y="1651"/>
                  </a:lnTo>
                  <a:lnTo>
                    <a:pt x="6916" y="1651"/>
                  </a:lnTo>
                  <a:lnTo>
                    <a:pt x="7092" y="1664"/>
                  </a:lnTo>
                  <a:lnTo>
                    <a:pt x="7431" y="1738"/>
                  </a:lnTo>
                  <a:lnTo>
                    <a:pt x="9181" y="2786"/>
                  </a:lnTo>
                  <a:lnTo>
                    <a:pt x="9195" y="2816"/>
                  </a:lnTo>
                  <a:lnTo>
                    <a:pt x="9142" y="2838"/>
                  </a:lnTo>
                  <a:lnTo>
                    <a:pt x="9093" y="2895"/>
                  </a:lnTo>
                  <a:lnTo>
                    <a:pt x="10395" y="3294"/>
                  </a:lnTo>
                  <a:lnTo>
                    <a:pt x="10725" y="3591"/>
                  </a:lnTo>
                  <a:lnTo>
                    <a:pt x="10919" y="3626"/>
                  </a:lnTo>
                  <a:lnTo>
                    <a:pt x="10871" y="3556"/>
                  </a:lnTo>
                  <a:lnTo>
                    <a:pt x="10725" y="3451"/>
                  </a:lnTo>
                  <a:lnTo>
                    <a:pt x="10228" y="3083"/>
                  </a:lnTo>
                  <a:lnTo>
                    <a:pt x="9947" y="2970"/>
                  </a:lnTo>
                  <a:lnTo>
                    <a:pt x="9406" y="2834"/>
                  </a:lnTo>
                  <a:lnTo>
                    <a:pt x="9036" y="2566"/>
                  </a:lnTo>
                  <a:lnTo>
                    <a:pt x="8640" y="2338"/>
                  </a:lnTo>
                  <a:lnTo>
                    <a:pt x="8293" y="2128"/>
                  </a:lnTo>
                  <a:lnTo>
                    <a:pt x="7620" y="1756"/>
                  </a:lnTo>
                  <a:lnTo>
                    <a:pt x="7347" y="1633"/>
                  </a:lnTo>
                  <a:lnTo>
                    <a:pt x="7043" y="1555"/>
                  </a:lnTo>
                  <a:lnTo>
                    <a:pt x="6854" y="1533"/>
                  </a:lnTo>
                  <a:lnTo>
                    <a:pt x="6753" y="1524"/>
                  </a:lnTo>
                  <a:lnTo>
                    <a:pt x="6643" y="1524"/>
                  </a:lnTo>
                  <a:lnTo>
                    <a:pt x="5710" y="1664"/>
                  </a:lnTo>
                  <a:lnTo>
                    <a:pt x="4042" y="1949"/>
                  </a:lnTo>
                  <a:lnTo>
                    <a:pt x="3945" y="1883"/>
                  </a:lnTo>
                  <a:lnTo>
                    <a:pt x="3871" y="1677"/>
                  </a:lnTo>
                  <a:lnTo>
                    <a:pt x="3769" y="1419"/>
                  </a:lnTo>
                  <a:lnTo>
                    <a:pt x="3598" y="1182"/>
                  </a:lnTo>
                  <a:lnTo>
                    <a:pt x="2956" y="634"/>
                  </a:lnTo>
                  <a:lnTo>
                    <a:pt x="2450" y="328"/>
                  </a:lnTo>
                  <a:lnTo>
                    <a:pt x="1821" y="91"/>
                  </a:lnTo>
                  <a:lnTo>
                    <a:pt x="910" y="0"/>
                  </a:lnTo>
                  <a:lnTo>
                    <a:pt x="725" y="0"/>
                  </a:lnTo>
                  <a:lnTo>
                    <a:pt x="580" y="8"/>
                  </a:lnTo>
                  <a:lnTo>
                    <a:pt x="444" y="1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0040" y="2998800"/>
              <a:ext cx="368640" cy="351360"/>
            </a:xfrm>
            <a:custGeom>
              <a:avLst/>
              <a:gdLst/>
              <a:ahLst/>
              <a:rect l="0" t="0" r="r" b="b"/>
              <a:pathLst>
                <a:path w="1024" h="976">
                  <a:moveTo>
                    <a:pt x="206" y="666"/>
                  </a:moveTo>
                  <a:lnTo>
                    <a:pt x="193" y="649"/>
                  </a:lnTo>
                  <a:lnTo>
                    <a:pt x="68" y="705"/>
                  </a:lnTo>
                  <a:lnTo>
                    <a:pt x="17" y="736"/>
                  </a:lnTo>
                  <a:lnTo>
                    <a:pt x="0" y="537"/>
                  </a:lnTo>
                  <a:lnTo>
                    <a:pt x="30" y="301"/>
                  </a:lnTo>
                  <a:lnTo>
                    <a:pt x="240" y="158"/>
                  </a:lnTo>
                  <a:lnTo>
                    <a:pt x="459" y="85"/>
                  </a:lnTo>
                  <a:lnTo>
                    <a:pt x="705" y="0"/>
                  </a:lnTo>
                  <a:lnTo>
                    <a:pt x="723" y="0"/>
                  </a:lnTo>
                  <a:lnTo>
                    <a:pt x="899" y="0"/>
                  </a:lnTo>
                  <a:lnTo>
                    <a:pt x="1019" y="201"/>
                  </a:lnTo>
                  <a:lnTo>
                    <a:pt x="1024" y="258"/>
                  </a:lnTo>
                  <a:lnTo>
                    <a:pt x="981" y="322"/>
                  </a:lnTo>
                  <a:lnTo>
                    <a:pt x="938" y="722"/>
                  </a:lnTo>
                  <a:lnTo>
                    <a:pt x="912" y="976"/>
                  </a:lnTo>
                  <a:lnTo>
                    <a:pt x="619" y="882"/>
                  </a:lnTo>
                  <a:lnTo>
                    <a:pt x="650" y="800"/>
                  </a:lnTo>
                  <a:lnTo>
                    <a:pt x="680" y="722"/>
                  </a:lnTo>
                  <a:lnTo>
                    <a:pt x="507" y="644"/>
                  </a:lnTo>
                  <a:lnTo>
                    <a:pt x="511" y="817"/>
                  </a:lnTo>
                  <a:lnTo>
                    <a:pt x="568" y="899"/>
                  </a:lnTo>
                  <a:lnTo>
                    <a:pt x="171" y="830"/>
                  </a:lnTo>
                  <a:lnTo>
                    <a:pt x="378" y="804"/>
                  </a:lnTo>
                  <a:lnTo>
                    <a:pt x="326" y="791"/>
                  </a:lnTo>
                  <a:lnTo>
                    <a:pt x="214" y="770"/>
                  </a:lnTo>
                  <a:lnTo>
                    <a:pt x="193" y="705"/>
                  </a:lnTo>
                  <a:lnTo>
                    <a:pt x="206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46040" y="2975040"/>
              <a:ext cx="635400" cy="362160"/>
            </a:xfrm>
            <a:custGeom>
              <a:avLst/>
              <a:gdLst/>
              <a:ahLst/>
              <a:rect l="0" t="0" r="r" b="b"/>
              <a:pathLst>
                <a:path w="1765" h="1006">
                  <a:moveTo>
                    <a:pt x="1722" y="645"/>
                  </a:moveTo>
                  <a:lnTo>
                    <a:pt x="1765" y="894"/>
                  </a:lnTo>
                  <a:lnTo>
                    <a:pt x="1600" y="967"/>
                  </a:lnTo>
                  <a:lnTo>
                    <a:pt x="1466" y="954"/>
                  </a:lnTo>
                  <a:lnTo>
                    <a:pt x="1069" y="1006"/>
                  </a:lnTo>
                  <a:lnTo>
                    <a:pt x="1405" y="916"/>
                  </a:lnTo>
                  <a:lnTo>
                    <a:pt x="1160" y="860"/>
                  </a:lnTo>
                  <a:lnTo>
                    <a:pt x="1130" y="950"/>
                  </a:lnTo>
                  <a:lnTo>
                    <a:pt x="1078" y="967"/>
                  </a:lnTo>
                  <a:lnTo>
                    <a:pt x="943" y="963"/>
                  </a:lnTo>
                  <a:lnTo>
                    <a:pt x="843" y="860"/>
                  </a:lnTo>
                  <a:lnTo>
                    <a:pt x="843" y="787"/>
                  </a:lnTo>
                  <a:lnTo>
                    <a:pt x="639" y="825"/>
                  </a:lnTo>
                  <a:lnTo>
                    <a:pt x="722" y="933"/>
                  </a:lnTo>
                  <a:lnTo>
                    <a:pt x="678" y="1006"/>
                  </a:lnTo>
                  <a:lnTo>
                    <a:pt x="561" y="976"/>
                  </a:lnTo>
                  <a:lnTo>
                    <a:pt x="321" y="894"/>
                  </a:lnTo>
                  <a:lnTo>
                    <a:pt x="243" y="645"/>
                  </a:lnTo>
                  <a:lnTo>
                    <a:pt x="117" y="365"/>
                  </a:lnTo>
                  <a:lnTo>
                    <a:pt x="0" y="219"/>
                  </a:lnTo>
                  <a:lnTo>
                    <a:pt x="121" y="77"/>
                  </a:lnTo>
                  <a:lnTo>
                    <a:pt x="404" y="0"/>
                  </a:lnTo>
                  <a:lnTo>
                    <a:pt x="483" y="0"/>
                  </a:lnTo>
                  <a:lnTo>
                    <a:pt x="583" y="8"/>
                  </a:lnTo>
                  <a:lnTo>
                    <a:pt x="765" y="38"/>
                  </a:lnTo>
                  <a:lnTo>
                    <a:pt x="1208" y="262"/>
                  </a:lnTo>
                  <a:lnTo>
                    <a:pt x="1752" y="502"/>
                  </a:lnTo>
                  <a:lnTo>
                    <a:pt x="1752" y="572"/>
                  </a:lnTo>
                  <a:lnTo>
                    <a:pt x="1722" y="64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71640" y="3608280"/>
              <a:ext cx="636840" cy="411480"/>
            </a:xfrm>
            <a:custGeom>
              <a:avLst/>
              <a:gdLst/>
              <a:ahLst/>
              <a:rect l="0" t="0" r="r" b="b"/>
              <a:pathLst>
                <a:path w="1769" h="1143">
                  <a:moveTo>
                    <a:pt x="369" y="77"/>
                  </a:moveTo>
                  <a:lnTo>
                    <a:pt x="330" y="77"/>
                  </a:lnTo>
                  <a:lnTo>
                    <a:pt x="490" y="0"/>
                  </a:lnTo>
                  <a:lnTo>
                    <a:pt x="612" y="25"/>
                  </a:lnTo>
                  <a:lnTo>
                    <a:pt x="729" y="77"/>
                  </a:lnTo>
                  <a:lnTo>
                    <a:pt x="969" y="155"/>
                  </a:lnTo>
                  <a:lnTo>
                    <a:pt x="1087" y="116"/>
                  </a:lnTo>
                  <a:lnTo>
                    <a:pt x="1056" y="38"/>
                  </a:lnTo>
                  <a:lnTo>
                    <a:pt x="1252" y="38"/>
                  </a:lnTo>
                  <a:lnTo>
                    <a:pt x="1213" y="267"/>
                  </a:lnTo>
                  <a:lnTo>
                    <a:pt x="1408" y="267"/>
                  </a:lnTo>
                  <a:lnTo>
                    <a:pt x="1408" y="422"/>
                  </a:lnTo>
                  <a:lnTo>
                    <a:pt x="1174" y="491"/>
                  </a:lnTo>
                  <a:lnTo>
                    <a:pt x="851" y="686"/>
                  </a:lnTo>
                  <a:lnTo>
                    <a:pt x="851" y="759"/>
                  </a:lnTo>
                  <a:lnTo>
                    <a:pt x="1056" y="798"/>
                  </a:lnTo>
                  <a:lnTo>
                    <a:pt x="1291" y="914"/>
                  </a:lnTo>
                  <a:lnTo>
                    <a:pt x="1608" y="1026"/>
                  </a:lnTo>
                  <a:lnTo>
                    <a:pt x="1769" y="992"/>
                  </a:lnTo>
                  <a:lnTo>
                    <a:pt x="1569" y="1143"/>
                  </a:lnTo>
                  <a:lnTo>
                    <a:pt x="1452" y="1095"/>
                  </a:lnTo>
                  <a:lnTo>
                    <a:pt x="1330" y="1026"/>
                  </a:lnTo>
                  <a:lnTo>
                    <a:pt x="891" y="949"/>
                  </a:lnTo>
                  <a:lnTo>
                    <a:pt x="812" y="949"/>
                  </a:lnTo>
                  <a:lnTo>
                    <a:pt x="729" y="992"/>
                  </a:lnTo>
                  <a:lnTo>
                    <a:pt x="656" y="1056"/>
                  </a:lnTo>
                  <a:lnTo>
                    <a:pt x="569" y="1104"/>
                  </a:lnTo>
                  <a:lnTo>
                    <a:pt x="447" y="992"/>
                  </a:lnTo>
                  <a:lnTo>
                    <a:pt x="221" y="966"/>
                  </a:lnTo>
                  <a:lnTo>
                    <a:pt x="0" y="1022"/>
                  </a:lnTo>
                  <a:lnTo>
                    <a:pt x="91" y="914"/>
                  </a:lnTo>
                  <a:lnTo>
                    <a:pt x="291" y="875"/>
                  </a:lnTo>
                  <a:lnTo>
                    <a:pt x="251" y="759"/>
                  </a:lnTo>
                  <a:lnTo>
                    <a:pt x="278" y="413"/>
                  </a:lnTo>
                  <a:lnTo>
                    <a:pt x="369" y="7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00200" y="3370320"/>
              <a:ext cx="2134080" cy="1403640"/>
            </a:xfrm>
            <a:custGeom>
              <a:avLst/>
              <a:gdLst/>
              <a:ahLst/>
              <a:rect l="0" t="0" r="r" b="b"/>
              <a:pathLst>
                <a:path w="5928" h="3899">
                  <a:moveTo>
                    <a:pt x="3873" y="2585"/>
                  </a:moveTo>
                  <a:lnTo>
                    <a:pt x="3873" y="2550"/>
                  </a:lnTo>
                  <a:lnTo>
                    <a:pt x="3267" y="2550"/>
                  </a:lnTo>
                  <a:lnTo>
                    <a:pt x="3065" y="2550"/>
                  </a:lnTo>
                  <a:lnTo>
                    <a:pt x="2907" y="2624"/>
                  </a:lnTo>
                  <a:lnTo>
                    <a:pt x="2586" y="2668"/>
                  </a:lnTo>
                  <a:lnTo>
                    <a:pt x="2406" y="2677"/>
                  </a:lnTo>
                  <a:lnTo>
                    <a:pt x="2257" y="2664"/>
                  </a:lnTo>
                  <a:lnTo>
                    <a:pt x="2121" y="2628"/>
                  </a:lnTo>
                  <a:lnTo>
                    <a:pt x="1743" y="2712"/>
                  </a:lnTo>
                  <a:lnTo>
                    <a:pt x="1378" y="2821"/>
                  </a:lnTo>
                  <a:lnTo>
                    <a:pt x="1295" y="2817"/>
                  </a:lnTo>
                  <a:lnTo>
                    <a:pt x="1202" y="2786"/>
                  </a:lnTo>
                  <a:lnTo>
                    <a:pt x="1022" y="2716"/>
                  </a:lnTo>
                  <a:lnTo>
                    <a:pt x="816" y="2607"/>
                  </a:lnTo>
                  <a:lnTo>
                    <a:pt x="605" y="2515"/>
                  </a:lnTo>
                  <a:lnTo>
                    <a:pt x="403" y="2624"/>
                  </a:lnTo>
                  <a:lnTo>
                    <a:pt x="197" y="2624"/>
                  </a:lnTo>
                  <a:lnTo>
                    <a:pt x="0" y="2664"/>
                  </a:lnTo>
                  <a:lnTo>
                    <a:pt x="83" y="2830"/>
                  </a:lnTo>
                  <a:lnTo>
                    <a:pt x="320" y="3119"/>
                  </a:lnTo>
                  <a:lnTo>
                    <a:pt x="768" y="3605"/>
                  </a:lnTo>
                  <a:lnTo>
                    <a:pt x="1005" y="3859"/>
                  </a:lnTo>
                  <a:lnTo>
                    <a:pt x="1088" y="3899"/>
                  </a:lnTo>
                  <a:lnTo>
                    <a:pt x="1937" y="3789"/>
                  </a:lnTo>
                  <a:lnTo>
                    <a:pt x="2209" y="3802"/>
                  </a:lnTo>
                  <a:lnTo>
                    <a:pt x="2406" y="3802"/>
                  </a:lnTo>
                  <a:lnTo>
                    <a:pt x="2626" y="3798"/>
                  </a:lnTo>
                  <a:lnTo>
                    <a:pt x="3267" y="3750"/>
                  </a:lnTo>
                  <a:lnTo>
                    <a:pt x="3754" y="3277"/>
                  </a:lnTo>
                  <a:lnTo>
                    <a:pt x="4237" y="2804"/>
                  </a:lnTo>
                  <a:lnTo>
                    <a:pt x="4453" y="2904"/>
                  </a:lnTo>
                  <a:lnTo>
                    <a:pt x="4642" y="3023"/>
                  </a:lnTo>
                  <a:lnTo>
                    <a:pt x="4782" y="2939"/>
                  </a:lnTo>
                  <a:lnTo>
                    <a:pt x="4923" y="2843"/>
                  </a:lnTo>
                  <a:lnTo>
                    <a:pt x="5112" y="2944"/>
                  </a:lnTo>
                  <a:lnTo>
                    <a:pt x="5296" y="3158"/>
                  </a:lnTo>
                  <a:lnTo>
                    <a:pt x="5472" y="3386"/>
                  </a:lnTo>
                  <a:lnTo>
                    <a:pt x="5652" y="3535"/>
                  </a:lnTo>
                  <a:lnTo>
                    <a:pt x="5678" y="3395"/>
                  </a:lnTo>
                  <a:lnTo>
                    <a:pt x="5678" y="3325"/>
                  </a:lnTo>
                  <a:lnTo>
                    <a:pt x="5652" y="3277"/>
                  </a:lnTo>
                  <a:lnTo>
                    <a:pt x="5551" y="3023"/>
                  </a:lnTo>
                  <a:lnTo>
                    <a:pt x="5406" y="2769"/>
                  </a:lnTo>
                  <a:lnTo>
                    <a:pt x="5322" y="2506"/>
                  </a:lnTo>
                  <a:lnTo>
                    <a:pt x="5300" y="2366"/>
                  </a:lnTo>
                  <a:lnTo>
                    <a:pt x="5327" y="2261"/>
                  </a:lnTo>
                  <a:lnTo>
                    <a:pt x="5287" y="2151"/>
                  </a:lnTo>
                  <a:lnTo>
                    <a:pt x="5314" y="1980"/>
                  </a:lnTo>
                  <a:lnTo>
                    <a:pt x="5344" y="1808"/>
                  </a:lnTo>
                  <a:lnTo>
                    <a:pt x="5349" y="1734"/>
                  </a:lnTo>
                  <a:lnTo>
                    <a:pt x="5327" y="1677"/>
                  </a:lnTo>
                  <a:lnTo>
                    <a:pt x="5445" y="1493"/>
                  </a:lnTo>
                  <a:lnTo>
                    <a:pt x="5568" y="1493"/>
                  </a:lnTo>
                  <a:lnTo>
                    <a:pt x="5445" y="1712"/>
                  </a:lnTo>
                  <a:lnTo>
                    <a:pt x="5436" y="1795"/>
                  </a:lnTo>
                  <a:lnTo>
                    <a:pt x="5445" y="1967"/>
                  </a:lnTo>
                  <a:lnTo>
                    <a:pt x="5458" y="2147"/>
                  </a:lnTo>
                  <a:lnTo>
                    <a:pt x="5458" y="2212"/>
                  </a:lnTo>
                  <a:lnTo>
                    <a:pt x="5445" y="2261"/>
                  </a:lnTo>
                  <a:lnTo>
                    <a:pt x="5612" y="2440"/>
                  </a:lnTo>
                  <a:lnTo>
                    <a:pt x="5568" y="2042"/>
                  </a:lnTo>
                  <a:lnTo>
                    <a:pt x="5568" y="1963"/>
                  </a:lnTo>
                  <a:lnTo>
                    <a:pt x="5568" y="1896"/>
                  </a:lnTo>
                  <a:lnTo>
                    <a:pt x="5568" y="1817"/>
                  </a:lnTo>
                  <a:lnTo>
                    <a:pt x="5612" y="1563"/>
                  </a:lnTo>
                  <a:lnTo>
                    <a:pt x="5893" y="1384"/>
                  </a:lnTo>
                  <a:lnTo>
                    <a:pt x="5906" y="1313"/>
                  </a:lnTo>
                  <a:lnTo>
                    <a:pt x="5906" y="1213"/>
                  </a:lnTo>
                  <a:lnTo>
                    <a:pt x="5902" y="1125"/>
                  </a:lnTo>
                  <a:lnTo>
                    <a:pt x="5928" y="1055"/>
                  </a:lnTo>
                  <a:lnTo>
                    <a:pt x="5928" y="1020"/>
                  </a:lnTo>
                  <a:lnTo>
                    <a:pt x="5770" y="1055"/>
                  </a:lnTo>
                  <a:lnTo>
                    <a:pt x="5731" y="1213"/>
                  </a:lnTo>
                  <a:lnTo>
                    <a:pt x="5691" y="1349"/>
                  </a:lnTo>
                  <a:lnTo>
                    <a:pt x="5612" y="1239"/>
                  </a:lnTo>
                  <a:lnTo>
                    <a:pt x="5630" y="1077"/>
                  </a:lnTo>
                  <a:lnTo>
                    <a:pt x="5652" y="911"/>
                  </a:lnTo>
                  <a:lnTo>
                    <a:pt x="5147" y="1261"/>
                  </a:lnTo>
                  <a:lnTo>
                    <a:pt x="4730" y="1423"/>
                  </a:lnTo>
                  <a:lnTo>
                    <a:pt x="4633" y="1432"/>
                  </a:lnTo>
                  <a:lnTo>
                    <a:pt x="4541" y="1419"/>
                  </a:lnTo>
                  <a:lnTo>
                    <a:pt x="4382" y="1309"/>
                  </a:lnTo>
                  <a:lnTo>
                    <a:pt x="4545" y="897"/>
                  </a:lnTo>
                  <a:lnTo>
                    <a:pt x="4800" y="473"/>
                  </a:lnTo>
                  <a:lnTo>
                    <a:pt x="4962" y="218"/>
                  </a:lnTo>
                  <a:lnTo>
                    <a:pt x="5006" y="0"/>
                  </a:lnTo>
                  <a:lnTo>
                    <a:pt x="4756" y="183"/>
                  </a:lnTo>
                  <a:lnTo>
                    <a:pt x="4158" y="1274"/>
                  </a:lnTo>
                  <a:lnTo>
                    <a:pt x="3833" y="1204"/>
                  </a:lnTo>
                  <a:lnTo>
                    <a:pt x="3916" y="1274"/>
                  </a:lnTo>
                  <a:lnTo>
                    <a:pt x="4039" y="1362"/>
                  </a:lnTo>
                  <a:lnTo>
                    <a:pt x="4118" y="1458"/>
                  </a:lnTo>
                  <a:lnTo>
                    <a:pt x="3873" y="1493"/>
                  </a:lnTo>
                  <a:lnTo>
                    <a:pt x="3477" y="1607"/>
                  </a:lnTo>
                  <a:lnTo>
                    <a:pt x="3631" y="1782"/>
                  </a:lnTo>
                  <a:lnTo>
                    <a:pt x="3952" y="1892"/>
                  </a:lnTo>
                  <a:lnTo>
                    <a:pt x="4158" y="2226"/>
                  </a:lnTo>
                  <a:lnTo>
                    <a:pt x="4118" y="2405"/>
                  </a:lnTo>
                  <a:lnTo>
                    <a:pt x="3873" y="2550"/>
                  </a:lnTo>
                  <a:lnTo>
                    <a:pt x="3873" y="258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30400" y="3473280"/>
              <a:ext cx="546480" cy="360720"/>
            </a:xfrm>
            <a:custGeom>
              <a:avLst/>
              <a:gdLst/>
              <a:ahLst/>
              <a:rect l="0" t="0" r="r" b="b"/>
              <a:pathLst>
                <a:path w="1518" h="1002">
                  <a:moveTo>
                    <a:pt x="1518" y="34"/>
                  </a:moveTo>
                  <a:lnTo>
                    <a:pt x="1358" y="0"/>
                  </a:lnTo>
                  <a:lnTo>
                    <a:pt x="1237" y="98"/>
                  </a:lnTo>
                  <a:lnTo>
                    <a:pt x="1119" y="214"/>
                  </a:lnTo>
                  <a:lnTo>
                    <a:pt x="720" y="395"/>
                  </a:lnTo>
                  <a:lnTo>
                    <a:pt x="438" y="395"/>
                  </a:lnTo>
                  <a:lnTo>
                    <a:pt x="242" y="606"/>
                  </a:lnTo>
                  <a:lnTo>
                    <a:pt x="121" y="606"/>
                  </a:lnTo>
                  <a:lnTo>
                    <a:pt x="0" y="679"/>
                  </a:lnTo>
                  <a:lnTo>
                    <a:pt x="121" y="752"/>
                  </a:lnTo>
                  <a:lnTo>
                    <a:pt x="242" y="890"/>
                  </a:lnTo>
                  <a:lnTo>
                    <a:pt x="399" y="1002"/>
                  </a:lnTo>
                  <a:lnTo>
                    <a:pt x="499" y="989"/>
                  </a:lnTo>
                  <a:lnTo>
                    <a:pt x="603" y="963"/>
                  </a:lnTo>
                  <a:lnTo>
                    <a:pt x="720" y="928"/>
                  </a:lnTo>
                  <a:lnTo>
                    <a:pt x="798" y="855"/>
                  </a:lnTo>
                  <a:lnTo>
                    <a:pt x="724" y="843"/>
                  </a:lnTo>
                  <a:lnTo>
                    <a:pt x="581" y="873"/>
                  </a:lnTo>
                  <a:lnTo>
                    <a:pt x="443" y="898"/>
                  </a:lnTo>
                  <a:lnTo>
                    <a:pt x="359" y="890"/>
                  </a:lnTo>
                  <a:lnTo>
                    <a:pt x="438" y="821"/>
                  </a:lnTo>
                  <a:lnTo>
                    <a:pt x="603" y="714"/>
                  </a:lnTo>
                  <a:lnTo>
                    <a:pt x="759" y="679"/>
                  </a:lnTo>
                  <a:lnTo>
                    <a:pt x="720" y="787"/>
                  </a:lnTo>
                  <a:lnTo>
                    <a:pt x="837" y="821"/>
                  </a:lnTo>
                  <a:lnTo>
                    <a:pt x="837" y="787"/>
                  </a:lnTo>
                  <a:lnTo>
                    <a:pt x="880" y="714"/>
                  </a:lnTo>
                  <a:lnTo>
                    <a:pt x="958" y="752"/>
                  </a:lnTo>
                  <a:lnTo>
                    <a:pt x="1002" y="821"/>
                  </a:lnTo>
                  <a:lnTo>
                    <a:pt x="1119" y="821"/>
                  </a:lnTo>
                  <a:lnTo>
                    <a:pt x="1119" y="787"/>
                  </a:lnTo>
                  <a:lnTo>
                    <a:pt x="1080" y="714"/>
                  </a:lnTo>
                  <a:lnTo>
                    <a:pt x="958" y="606"/>
                  </a:lnTo>
                  <a:lnTo>
                    <a:pt x="759" y="572"/>
                  </a:lnTo>
                  <a:lnTo>
                    <a:pt x="603" y="572"/>
                  </a:lnTo>
                  <a:lnTo>
                    <a:pt x="482" y="606"/>
                  </a:lnTo>
                  <a:lnTo>
                    <a:pt x="482" y="679"/>
                  </a:lnTo>
                  <a:lnTo>
                    <a:pt x="521" y="498"/>
                  </a:lnTo>
                  <a:lnTo>
                    <a:pt x="581" y="481"/>
                  </a:lnTo>
                  <a:lnTo>
                    <a:pt x="672" y="476"/>
                  </a:lnTo>
                  <a:lnTo>
                    <a:pt x="837" y="498"/>
                  </a:lnTo>
                  <a:lnTo>
                    <a:pt x="1002" y="538"/>
                  </a:lnTo>
                  <a:lnTo>
                    <a:pt x="1119" y="606"/>
                  </a:lnTo>
                  <a:lnTo>
                    <a:pt x="1198" y="606"/>
                  </a:lnTo>
                  <a:lnTo>
                    <a:pt x="1276" y="641"/>
                  </a:lnTo>
                  <a:lnTo>
                    <a:pt x="1315" y="459"/>
                  </a:lnTo>
                  <a:lnTo>
                    <a:pt x="1479" y="283"/>
                  </a:lnTo>
                  <a:lnTo>
                    <a:pt x="1479" y="141"/>
                  </a:lnTo>
                  <a:lnTo>
                    <a:pt x="1518" y="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56000" y="3881520"/>
              <a:ext cx="459000" cy="373320"/>
            </a:xfrm>
            <a:custGeom>
              <a:avLst/>
              <a:gdLst/>
              <a:ahLst/>
              <a:rect l="0" t="0" r="r" b="b"/>
              <a:pathLst>
                <a:path w="1275" h="1037">
                  <a:moveTo>
                    <a:pt x="718" y="968"/>
                  </a:moveTo>
                  <a:lnTo>
                    <a:pt x="596" y="822"/>
                  </a:lnTo>
                  <a:lnTo>
                    <a:pt x="514" y="719"/>
                  </a:lnTo>
                  <a:lnTo>
                    <a:pt x="436" y="611"/>
                  </a:lnTo>
                  <a:lnTo>
                    <a:pt x="319" y="538"/>
                  </a:lnTo>
                  <a:lnTo>
                    <a:pt x="120" y="572"/>
                  </a:lnTo>
                  <a:lnTo>
                    <a:pt x="0" y="572"/>
                  </a:lnTo>
                  <a:lnTo>
                    <a:pt x="95" y="442"/>
                  </a:lnTo>
                  <a:lnTo>
                    <a:pt x="164" y="288"/>
                  </a:lnTo>
                  <a:lnTo>
                    <a:pt x="280" y="73"/>
                  </a:lnTo>
                  <a:lnTo>
                    <a:pt x="514" y="0"/>
                  </a:lnTo>
                  <a:lnTo>
                    <a:pt x="718" y="107"/>
                  </a:lnTo>
                  <a:lnTo>
                    <a:pt x="951" y="146"/>
                  </a:lnTo>
                  <a:lnTo>
                    <a:pt x="951" y="0"/>
                  </a:lnTo>
                  <a:lnTo>
                    <a:pt x="1076" y="0"/>
                  </a:lnTo>
                  <a:lnTo>
                    <a:pt x="1275" y="107"/>
                  </a:lnTo>
                  <a:lnTo>
                    <a:pt x="1275" y="73"/>
                  </a:lnTo>
                  <a:lnTo>
                    <a:pt x="1076" y="214"/>
                  </a:lnTo>
                  <a:lnTo>
                    <a:pt x="1076" y="464"/>
                  </a:lnTo>
                  <a:lnTo>
                    <a:pt x="1076" y="538"/>
                  </a:lnTo>
                  <a:lnTo>
                    <a:pt x="1154" y="719"/>
                  </a:lnTo>
                  <a:lnTo>
                    <a:pt x="1275" y="860"/>
                  </a:lnTo>
                  <a:lnTo>
                    <a:pt x="1275" y="968"/>
                  </a:lnTo>
                  <a:lnTo>
                    <a:pt x="1184" y="977"/>
                  </a:lnTo>
                  <a:lnTo>
                    <a:pt x="1033" y="968"/>
                  </a:lnTo>
                  <a:lnTo>
                    <a:pt x="795" y="1037"/>
                  </a:lnTo>
                  <a:lnTo>
                    <a:pt x="718" y="96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384720" y="4251240"/>
              <a:ext cx="646560" cy="147960"/>
            </a:xfrm>
            <a:custGeom>
              <a:avLst/>
              <a:gdLst/>
              <a:ahLst/>
              <a:rect l="0" t="0" r="r" b="b"/>
              <a:pathLst>
                <a:path w="1796" h="411">
                  <a:moveTo>
                    <a:pt x="34" y="208"/>
                  </a:moveTo>
                  <a:lnTo>
                    <a:pt x="165" y="241"/>
                  </a:lnTo>
                  <a:lnTo>
                    <a:pt x="286" y="241"/>
                  </a:lnTo>
                  <a:lnTo>
                    <a:pt x="447" y="182"/>
                  </a:lnTo>
                  <a:lnTo>
                    <a:pt x="665" y="33"/>
                  </a:lnTo>
                  <a:lnTo>
                    <a:pt x="839" y="0"/>
                  </a:lnTo>
                  <a:lnTo>
                    <a:pt x="957" y="33"/>
                  </a:lnTo>
                  <a:lnTo>
                    <a:pt x="1035" y="208"/>
                  </a:lnTo>
                  <a:lnTo>
                    <a:pt x="1196" y="169"/>
                  </a:lnTo>
                  <a:lnTo>
                    <a:pt x="1278" y="70"/>
                  </a:lnTo>
                  <a:lnTo>
                    <a:pt x="1436" y="107"/>
                  </a:lnTo>
                  <a:lnTo>
                    <a:pt x="1596" y="169"/>
                  </a:lnTo>
                  <a:lnTo>
                    <a:pt x="1796" y="311"/>
                  </a:lnTo>
                  <a:lnTo>
                    <a:pt x="1757" y="311"/>
                  </a:lnTo>
                  <a:lnTo>
                    <a:pt x="1757" y="411"/>
                  </a:lnTo>
                  <a:lnTo>
                    <a:pt x="1675" y="411"/>
                  </a:lnTo>
                  <a:lnTo>
                    <a:pt x="1514" y="278"/>
                  </a:lnTo>
                  <a:lnTo>
                    <a:pt x="1278" y="241"/>
                  </a:lnTo>
                  <a:lnTo>
                    <a:pt x="1035" y="241"/>
                  </a:lnTo>
                  <a:lnTo>
                    <a:pt x="796" y="241"/>
                  </a:lnTo>
                  <a:lnTo>
                    <a:pt x="518" y="278"/>
                  </a:lnTo>
                  <a:lnTo>
                    <a:pt x="239" y="278"/>
                  </a:lnTo>
                  <a:lnTo>
                    <a:pt x="117" y="311"/>
                  </a:lnTo>
                  <a:lnTo>
                    <a:pt x="73" y="411"/>
                  </a:lnTo>
                  <a:lnTo>
                    <a:pt x="13" y="311"/>
                  </a:lnTo>
                  <a:lnTo>
                    <a:pt x="0" y="241"/>
                  </a:lnTo>
                  <a:lnTo>
                    <a:pt x="34" y="20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656160" y="4370400"/>
              <a:ext cx="259200" cy="82800"/>
            </a:xfrm>
            <a:custGeom>
              <a:avLst/>
              <a:gdLst/>
              <a:ahLst/>
              <a:rect l="0" t="0" r="r" b="b"/>
              <a:pathLst>
                <a:path w="720" h="230">
                  <a:moveTo>
                    <a:pt x="720" y="167"/>
                  </a:moveTo>
                  <a:lnTo>
                    <a:pt x="678" y="131"/>
                  </a:lnTo>
                  <a:lnTo>
                    <a:pt x="563" y="94"/>
                  </a:lnTo>
                  <a:lnTo>
                    <a:pt x="481" y="94"/>
                  </a:lnTo>
                  <a:lnTo>
                    <a:pt x="400" y="0"/>
                  </a:lnTo>
                  <a:lnTo>
                    <a:pt x="324" y="67"/>
                  </a:lnTo>
                  <a:lnTo>
                    <a:pt x="93" y="131"/>
                  </a:lnTo>
                  <a:lnTo>
                    <a:pt x="0" y="186"/>
                  </a:lnTo>
                  <a:lnTo>
                    <a:pt x="345" y="174"/>
                  </a:lnTo>
                  <a:lnTo>
                    <a:pt x="546" y="198"/>
                  </a:lnTo>
                  <a:lnTo>
                    <a:pt x="678" y="230"/>
                  </a:lnTo>
                  <a:lnTo>
                    <a:pt x="720" y="16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675240" y="3498840"/>
              <a:ext cx="443160" cy="348120"/>
            </a:xfrm>
            <a:custGeom>
              <a:avLst/>
              <a:gdLst/>
              <a:ahLst/>
              <a:rect l="0" t="0" r="r" b="b"/>
              <a:pathLst>
                <a:path w="1231" h="967">
                  <a:moveTo>
                    <a:pt x="319" y="894"/>
                  </a:moveTo>
                  <a:lnTo>
                    <a:pt x="436" y="787"/>
                  </a:lnTo>
                  <a:lnTo>
                    <a:pt x="518" y="644"/>
                  </a:lnTo>
                  <a:lnTo>
                    <a:pt x="595" y="610"/>
                  </a:lnTo>
                  <a:lnTo>
                    <a:pt x="635" y="683"/>
                  </a:lnTo>
                  <a:lnTo>
                    <a:pt x="635" y="753"/>
                  </a:lnTo>
                  <a:lnTo>
                    <a:pt x="713" y="787"/>
                  </a:lnTo>
                  <a:lnTo>
                    <a:pt x="756" y="717"/>
                  </a:lnTo>
                  <a:lnTo>
                    <a:pt x="834" y="644"/>
                  </a:lnTo>
                  <a:lnTo>
                    <a:pt x="955" y="717"/>
                  </a:lnTo>
                  <a:lnTo>
                    <a:pt x="955" y="787"/>
                  </a:lnTo>
                  <a:lnTo>
                    <a:pt x="756" y="894"/>
                  </a:lnTo>
                  <a:lnTo>
                    <a:pt x="713" y="967"/>
                  </a:lnTo>
                  <a:lnTo>
                    <a:pt x="993" y="894"/>
                  </a:lnTo>
                  <a:lnTo>
                    <a:pt x="1114" y="753"/>
                  </a:lnTo>
                  <a:lnTo>
                    <a:pt x="1231" y="644"/>
                  </a:lnTo>
                  <a:lnTo>
                    <a:pt x="1114" y="503"/>
                  </a:lnTo>
                  <a:lnTo>
                    <a:pt x="916" y="288"/>
                  </a:lnTo>
                  <a:lnTo>
                    <a:pt x="795" y="180"/>
                  </a:lnTo>
                  <a:lnTo>
                    <a:pt x="479" y="107"/>
                  </a:lnTo>
                  <a:lnTo>
                    <a:pt x="159" y="0"/>
                  </a:lnTo>
                  <a:lnTo>
                    <a:pt x="43" y="0"/>
                  </a:lnTo>
                  <a:lnTo>
                    <a:pt x="0" y="34"/>
                  </a:lnTo>
                  <a:lnTo>
                    <a:pt x="43" y="107"/>
                  </a:lnTo>
                  <a:lnTo>
                    <a:pt x="82" y="327"/>
                  </a:lnTo>
                  <a:lnTo>
                    <a:pt x="120" y="537"/>
                  </a:lnTo>
                  <a:lnTo>
                    <a:pt x="198" y="644"/>
                  </a:lnTo>
                  <a:lnTo>
                    <a:pt x="353" y="537"/>
                  </a:lnTo>
                  <a:lnTo>
                    <a:pt x="353" y="644"/>
                  </a:lnTo>
                  <a:lnTo>
                    <a:pt x="276" y="753"/>
                  </a:lnTo>
                  <a:lnTo>
                    <a:pt x="276" y="860"/>
                  </a:lnTo>
                  <a:lnTo>
                    <a:pt x="319" y="89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529080" y="3024360"/>
              <a:ext cx="1494360" cy="703800"/>
            </a:xfrm>
            <a:custGeom>
              <a:avLst/>
              <a:gdLst/>
              <a:ahLst/>
              <a:rect l="0" t="0" r="r" b="b"/>
              <a:pathLst>
                <a:path w="4151" h="1955">
                  <a:moveTo>
                    <a:pt x="96" y="56"/>
                  </a:moveTo>
                  <a:lnTo>
                    <a:pt x="442" y="256"/>
                  </a:lnTo>
                  <a:lnTo>
                    <a:pt x="806" y="584"/>
                  </a:lnTo>
                  <a:lnTo>
                    <a:pt x="1127" y="884"/>
                  </a:lnTo>
                  <a:lnTo>
                    <a:pt x="1333" y="1123"/>
                  </a:lnTo>
                  <a:lnTo>
                    <a:pt x="1210" y="1267"/>
                  </a:lnTo>
                  <a:lnTo>
                    <a:pt x="1319" y="1410"/>
                  </a:lnTo>
                  <a:lnTo>
                    <a:pt x="1455" y="1485"/>
                  </a:lnTo>
                  <a:lnTo>
                    <a:pt x="1411" y="1301"/>
                  </a:lnTo>
                  <a:lnTo>
                    <a:pt x="1574" y="1197"/>
                  </a:lnTo>
                  <a:lnTo>
                    <a:pt x="1613" y="1014"/>
                  </a:lnTo>
                  <a:lnTo>
                    <a:pt x="1815" y="1014"/>
                  </a:lnTo>
                  <a:lnTo>
                    <a:pt x="1937" y="940"/>
                  </a:lnTo>
                  <a:lnTo>
                    <a:pt x="2056" y="1006"/>
                  </a:lnTo>
                  <a:lnTo>
                    <a:pt x="2178" y="1084"/>
                  </a:lnTo>
                  <a:lnTo>
                    <a:pt x="2257" y="1093"/>
                  </a:lnTo>
                  <a:lnTo>
                    <a:pt x="2358" y="1084"/>
                  </a:lnTo>
                  <a:lnTo>
                    <a:pt x="2454" y="1079"/>
                  </a:lnTo>
                  <a:lnTo>
                    <a:pt x="2538" y="1084"/>
                  </a:lnTo>
                  <a:lnTo>
                    <a:pt x="2700" y="1310"/>
                  </a:lnTo>
                  <a:lnTo>
                    <a:pt x="2862" y="1555"/>
                  </a:lnTo>
                  <a:lnTo>
                    <a:pt x="2976" y="1703"/>
                  </a:lnTo>
                  <a:lnTo>
                    <a:pt x="3103" y="1846"/>
                  </a:lnTo>
                  <a:lnTo>
                    <a:pt x="2945" y="1846"/>
                  </a:lnTo>
                  <a:lnTo>
                    <a:pt x="2862" y="1777"/>
                  </a:lnTo>
                  <a:lnTo>
                    <a:pt x="2739" y="1668"/>
                  </a:lnTo>
                  <a:lnTo>
                    <a:pt x="2779" y="1768"/>
                  </a:lnTo>
                  <a:lnTo>
                    <a:pt x="2901" y="1881"/>
                  </a:lnTo>
                  <a:lnTo>
                    <a:pt x="3103" y="1933"/>
                  </a:lnTo>
                  <a:lnTo>
                    <a:pt x="3209" y="1955"/>
                  </a:lnTo>
                  <a:lnTo>
                    <a:pt x="3305" y="1955"/>
                  </a:lnTo>
                  <a:lnTo>
                    <a:pt x="3590" y="1777"/>
                  </a:lnTo>
                  <a:lnTo>
                    <a:pt x="3770" y="1807"/>
                  </a:lnTo>
                  <a:lnTo>
                    <a:pt x="3949" y="1846"/>
                  </a:lnTo>
                  <a:lnTo>
                    <a:pt x="4085" y="1755"/>
                  </a:lnTo>
                  <a:lnTo>
                    <a:pt x="4151" y="1633"/>
                  </a:lnTo>
                  <a:lnTo>
                    <a:pt x="3625" y="1703"/>
                  </a:lnTo>
                  <a:lnTo>
                    <a:pt x="3085" y="1777"/>
                  </a:lnTo>
                  <a:lnTo>
                    <a:pt x="2906" y="1271"/>
                  </a:lnTo>
                  <a:lnTo>
                    <a:pt x="2862" y="1049"/>
                  </a:lnTo>
                  <a:lnTo>
                    <a:pt x="2297" y="901"/>
                  </a:lnTo>
                  <a:lnTo>
                    <a:pt x="2099" y="871"/>
                  </a:lnTo>
                  <a:lnTo>
                    <a:pt x="1898" y="797"/>
                  </a:lnTo>
                  <a:lnTo>
                    <a:pt x="1652" y="797"/>
                  </a:lnTo>
                  <a:lnTo>
                    <a:pt x="1455" y="871"/>
                  </a:lnTo>
                  <a:lnTo>
                    <a:pt x="1289" y="818"/>
                  </a:lnTo>
                  <a:lnTo>
                    <a:pt x="1127" y="723"/>
                  </a:lnTo>
                  <a:lnTo>
                    <a:pt x="924" y="514"/>
                  </a:lnTo>
                  <a:lnTo>
                    <a:pt x="727" y="291"/>
                  </a:lnTo>
                  <a:lnTo>
                    <a:pt x="0" y="0"/>
                  </a:lnTo>
                  <a:lnTo>
                    <a:pt x="96" y="5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164120" y="3459240"/>
              <a:ext cx="398880" cy="435240"/>
            </a:xfrm>
            <a:custGeom>
              <a:avLst/>
              <a:gdLst/>
              <a:ahLst/>
              <a:rect l="0" t="0" r="r" b="b"/>
              <a:pathLst>
                <a:path w="1108" h="1209">
                  <a:moveTo>
                    <a:pt x="1018" y="500"/>
                  </a:moveTo>
                  <a:lnTo>
                    <a:pt x="1070" y="444"/>
                  </a:lnTo>
                  <a:lnTo>
                    <a:pt x="1108" y="349"/>
                  </a:lnTo>
                  <a:lnTo>
                    <a:pt x="932" y="0"/>
                  </a:lnTo>
                  <a:lnTo>
                    <a:pt x="814" y="69"/>
                  </a:lnTo>
                  <a:lnTo>
                    <a:pt x="509" y="163"/>
                  </a:lnTo>
                  <a:lnTo>
                    <a:pt x="142" y="487"/>
                  </a:lnTo>
                  <a:lnTo>
                    <a:pt x="38" y="483"/>
                  </a:lnTo>
                  <a:lnTo>
                    <a:pt x="4" y="478"/>
                  </a:lnTo>
                  <a:lnTo>
                    <a:pt x="0" y="530"/>
                  </a:lnTo>
                  <a:lnTo>
                    <a:pt x="81" y="769"/>
                  </a:lnTo>
                  <a:lnTo>
                    <a:pt x="99" y="976"/>
                  </a:lnTo>
                  <a:lnTo>
                    <a:pt x="107" y="1209"/>
                  </a:lnTo>
                  <a:lnTo>
                    <a:pt x="634" y="915"/>
                  </a:lnTo>
                  <a:lnTo>
                    <a:pt x="823" y="708"/>
                  </a:lnTo>
                  <a:lnTo>
                    <a:pt x="1018" y="5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252960" y="3895560"/>
              <a:ext cx="1641960" cy="1349640"/>
            </a:xfrm>
            <a:custGeom>
              <a:avLst/>
              <a:gdLst/>
              <a:ahLst/>
              <a:rect l="0" t="0" r="r" b="b"/>
              <a:pathLst>
                <a:path w="4561" h="3749">
                  <a:moveTo>
                    <a:pt x="3465" y="433"/>
                  </a:moveTo>
                  <a:lnTo>
                    <a:pt x="3544" y="289"/>
                  </a:lnTo>
                  <a:lnTo>
                    <a:pt x="3627" y="144"/>
                  </a:lnTo>
                  <a:lnTo>
                    <a:pt x="3505" y="109"/>
                  </a:lnTo>
                  <a:lnTo>
                    <a:pt x="3465" y="0"/>
                  </a:lnTo>
                  <a:lnTo>
                    <a:pt x="3254" y="162"/>
                  </a:lnTo>
                  <a:lnTo>
                    <a:pt x="3293" y="315"/>
                  </a:lnTo>
                  <a:lnTo>
                    <a:pt x="3289" y="407"/>
                  </a:lnTo>
                  <a:lnTo>
                    <a:pt x="3262" y="472"/>
                  </a:lnTo>
                  <a:lnTo>
                    <a:pt x="3061" y="547"/>
                  </a:lnTo>
                  <a:lnTo>
                    <a:pt x="3140" y="547"/>
                  </a:lnTo>
                  <a:lnTo>
                    <a:pt x="3262" y="617"/>
                  </a:lnTo>
                  <a:lnTo>
                    <a:pt x="3426" y="691"/>
                  </a:lnTo>
                  <a:lnTo>
                    <a:pt x="3227" y="801"/>
                  </a:lnTo>
                  <a:lnTo>
                    <a:pt x="2899" y="836"/>
                  </a:lnTo>
                  <a:lnTo>
                    <a:pt x="2723" y="989"/>
                  </a:lnTo>
                  <a:lnTo>
                    <a:pt x="2758" y="1208"/>
                  </a:lnTo>
                  <a:lnTo>
                    <a:pt x="2763" y="1339"/>
                  </a:lnTo>
                  <a:lnTo>
                    <a:pt x="2749" y="1484"/>
                  </a:lnTo>
                  <a:lnTo>
                    <a:pt x="2662" y="2015"/>
                  </a:lnTo>
                  <a:lnTo>
                    <a:pt x="2460" y="2238"/>
                  </a:lnTo>
                  <a:lnTo>
                    <a:pt x="2206" y="2435"/>
                  </a:lnTo>
                  <a:lnTo>
                    <a:pt x="2026" y="2404"/>
                  </a:lnTo>
                  <a:lnTo>
                    <a:pt x="1895" y="2356"/>
                  </a:lnTo>
                  <a:lnTo>
                    <a:pt x="1491" y="2221"/>
                  </a:lnTo>
                  <a:lnTo>
                    <a:pt x="1289" y="2317"/>
                  </a:lnTo>
                  <a:lnTo>
                    <a:pt x="1078" y="2422"/>
                  </a:lnTo>
                  <a:lnTo>
                    <a:pt x="833" y="2356"/>
                  </a:lnTo>
                  <a:lnTo>
                    <a:pt x="688" y="2313"/>
                  </a:lnTo>
                  <a:lnTo>
                    <a:pt x="578" y="2295"/>
                  </a:lnTo>
                  <a:lnTo>
                    <a:pt x="280" y="2404"/>
                  </a:lnTo>
                  <a:lnTo>
                    <a:pt x="245" y="2466"/>
                  </a:lnTo>
                  <a:lnTo>
                    <a:pt x="201" y="2510"/>
                  </a:lnTo>
                  <a:lnTo>
                    <a:pt x="83" y="2475"/>
                  </a:lnTo>
                  <a:lnTo>
                    <a:pt x="0" y="2439"/>
                  </a:lnTo>
                  <a:lnTo>
                    <a:pt x="482" y="2658"/>
                  </a:lnTo>
                  <a:lnTo>
                    <a:pt x="1082" y="2842"/>
                  </a:lnTo>
                  <a:lnTo>
                    <a:pt x="1189" y="2926"/>
                  </a:lnTo>
                  <a:lnTo>
                    <a:pt x="1289" y="3022"/>
                  </a:lnTo>
                  <a:lnTo>
                    <a:pt x="1890" y="3201"/>
                  </a:lnTo>
                  <a:lnTo>
                    <a:pt x="2337" y="3276"/>
                  </a:lnTo>
                  <a:lnTo>
                    <a:pt x="2618" y="3241"/>
                  </a:lnTo>
                  <a:lnTo>
                    <a:pt x="2863" y="3201"/>
                  </a:lnTo>
                  <a:lnTo>
                    <a:pt x="2741" y="3057"/>
                  </a:lnTo>
                  <a:lnTo>
                    <a:pt x="2899" y="2947"/>
                  </a:lnTo>
                  <a:lnTo>
                    <a:pt x="3021" y="2996"/>
                  </a:lnTo>
                  <a:lnTo>
                    <a:pt x="3140" y="3057"/>
                  </a:lnTo>
                  <a:lnTo>
                    <a:pt x="3284" y="3070"/>
                  </a:lnTo>
                  <a:lnTo>
                    <a:pt x="3363" y="3070"/>
                  </a:lnTo>
                  <a:lnTo>
                    <a:pt x="3426" y="3057"/>
                  </a:lnTo>
                  <a:lnTo>
                    <a:pt x="3588" y="2842"/>
                  </a:lnTo>
                  <a:lnTo>
                    <a:pt x="3623" y="2904"/>
                  </a:lnTo>
                  <a:lnTo>
                    <a:pt x="3623" y="2961"/>
                  </a:lnTo>
                  <a:lnTo>
                    <a:pt x="3623" y="3039"/>
                  </a:lnTo>
                  <a:lnTo>
                    <a:pt x="3619" y="3193"/>
                  </a:lnTo>
                  <a:lnTo>
                    <a:pt x="3619" y="3258"/>
                  </a:lnTo>
                  <a:lnTo>
                    <a:pt x="3627" y="3311"/>
                  </a:lnTo>
                  <a:lnTo>
                    <a:pt x="3829" y="3604"/>
                  </a:lnTo>
                  <a:lnTo>
                    <a:pt x="3921" y="3692"/>
                  </a:lnTo>
                  <a:lnTo>
                    <a:pt x="4026" y="3749"/>
                  </a:lnTo>
                  <a:lnTo>
                    <a:pt x="4114" y="3635"/>
                  </a:lnTo>
                  <a:lnTo>
                    <a:pt x="4026" y="3495"/>
                  </a:lnTo>
                  <a:lnTo>
                    <a:pt x="4114" y="3385"/>
                  </a:lnTo>
                  <a:lnTo>
                    <a:pt x="3868" y="3276"/>
                  </a:lnTo>
                  <a:lnTo>
                    <a:pt x="3855" y="3193"/>
                  </a:lnTo>
                  <a:lnTo>
                    <a:pt x="3886" y="3079"/>
                  </a:lnTo>
                  <a:lnTo>
                    <a:pt x="3952" y="2873"/>
                  </a:lnTo>
                  <a:lnTo>
                    <a:pt x="4026" y="2531"/>
                  </a:lnTo>
                  <a:lnTo>
                    <a:pt x="4061" y="2348"/>
                  </a:lnTo>
                  <a:lnTo>
                    <a:pt x="4070" y="2186"/>
                  </a:lnTo>
                  <a:lnTo>
                    <a:pt x="3952" y="1856"/>
                  </a:lnTo>
                  <a:lnTo>
                    <a:pt x="4193" y="2186"/>
                  </a:lnTo>
                  <a:lnTo>
                    <a:pt x="4355" y="2221"/>
                  </a:lnTo>
                  <a:lnTo>
                    <a:pt x="4272" y="2002"/>
                  </a:lnTo>
                  <a:lnTo>
                    <a:pt x="4250" y="1936"/>
                  </a:lnTo>
                  <a:lnTo>
                    <a:pt x="4267" y="1825"/>
                  </a:lnTo>
                  <a:lnTo>
                    <a:pt x="4285" y="1720"/>
                  </a:lnTo>
                  <a:lnTo>
                    <a:pt x="4272" y="1637"/>
                  </a:lnTo>
                  <a:lnTo>
                    <a:pt x="4324" y="1466"/>
                  </a:lnTo>
                  <a:lnTo>
                    <a:pt x="4355" y="1274"/>
                  </a:lnTo>
                  <a:lnTo>
                    <a:pt x="4434" y="1199"/>
                  </a:lnTo>
                  <a:lnTo>
                    <a:pt x="4434" y="1015"/>
                  </a:lnTo>
                  <a:lnTo>
                    <a:pt x="4552" y="980"/>
                  </a:lnTo>
                  <a:lnTo>
                    <a:pt x="4561" y="919"/>
                  </a:lnTo>
                  <a:lnTo>
                    <a:pt x="4530" y="836"/>
                  </a:lnTo>
                  <a:lnTo>
                    <a:pt x="4509" y="753"/>
                  </a:lnTo>
                  <a:lnTo>
                    <a:pt x="4513" y="691"/>
                  </a:lnTo>
                  <a:lnTo>
                    <a:pt x="4390" y="691"/>
                  </a:lnTo>
                  <a:lnTo>
                    <a:pt x="4188" y="1103"/>
                  </a:lnTo>
                  <a:lnTo>
                    <a:pt x="3987" y="1033"/>
                  </a:lnTo>
                  <a:lnTo>
                    <a:pt x="3798" y="871"/>
                  </a:lnTo>
                  <a:lnTo>
                    <a:pt x="3627" y="691"/>
                  </a:lnTo>
                  <a:lnTo>
                    <a:pt x="3505" y="652"/>
                  </a:lnTo>
                  <a:lnTo>
                    <a:pt x="3465" y="43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536920" y="3209760"/>
              <a:ext cx="589320" cy="365400"/>
            </a:xfrm>
            <a:custGeom>
              <a:avLst/>
              <a:gdLst/>
              <a:ahLst/>
              <a:rect l="0" t="0" r="r" b="b"/>
              <a:pathLst>
                <a:path w="1637" h="1015">
                  <a:moveTo>
                    <a:pt x="1437" y="34"/>
                  </a:moveTo>
                  <a:lnTo>
                    <a:pt x="1437" y="73"/>
                  </a:lnTo>
                  <a:lnTo>
                    <a:pt x="1398" y="176"/>
                  </a:lnTo>
                  <a:lnTo>
                    <a:pt x="1376" y="227"/>
                  </a:lnTo>
                  <a:lnTo>
                    <a:pt x="1385" y="309"/>
                  </a:lnTo>
                  <a:lnTo>
                    <a:pt x="1398" y="425"/>
                  </a:lnTo>
                  <a:lnTo>
                    <a:pt x="1198" y="464"/>
                  </a:lnTo>
                  <a:lnTo>
                    <a:pt x="1090" y="451"/>
                  </a:lnTo>
                  <a:lnTo>
                    <a:pt x="955" y="425"/>
                  </a:lnTo>
                  <a:lnTo>
                    <a:pt x="825" y="408"/>
                  </a:lnTo>
                  <a:lnTo>
                    <a:pt x="720" y="425"/>
                  </a:lnTo>
                  <a:lnTo>
                    <a:pt x="650" y="559"/>
                  </a:lnTo>
                  <a:lnTo>
                    <a:pt x="598" y="714"/>
                  </a:lnTo>
                  <a:lnTo>
                    <a:pt x="481" y="817"/>
                  </a:lnTo>
                  <a:lnTo>
                    <a:pt x="212" y="873"/>
                  </a:lnTo>
                  <a:lnTo>
                    <a:pt x="0" y="963"/>
                  </a:lnTo>
                  <a:lnTo>
                    <a:pt x="39" y="998"/>
                  </a:lnTo>
                  <a:lnTo>
                    <a:pt x="164" y="1015"/>
                  </a:lnTo>
                  <a:lnTo>
                    <a:pt x="243" y="1015"/>
                  </a:lnTo>
                  <a:lnTo>
                    <a:pt x="329" y="1006"/>
                  </a:lnTo>
                  <a:lnTo>
                    <a:pt x="598" y="929"/>
                  </a:lnTo>
                  <a:lnTo>
                    <a:pt x="681" y="714"/>
                  </a:lnTo>
                  <a:lnTo>
                    <a:pt x="759" y="498"/>
                  </a:lnTo>
                  <a:lnTo>
                    <a:pt x="815" y="489"/>
                  </a:lnTo>
                  <a:lnTo>
                    <a:pt x="894" y="502"/>
                  </a:lnTo>
                  <a:lnTo>
                    <a:pt x="1038" y="533"/>
                  </a:lnTo>
                  <a:lnTo>
                    <a:pt x="1437" y="498"/>
                  </a:lnTo>
                  <a:lnTo>
                    <a:pt x="1437" y="283"/>
                  </a:lnTo>
                  <a:lnTo>
                    <a:pt x="1437" y="73"/>
                  </a:lnTo>
                  <a:lnTo>
                    <a:pt x="1637" y="0"/>
                  </a:lnTo>
                  <a:lnTo>
                    <a:pt x="1437" y="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770360" y="4376880"/>
              <a:ext cx="1244880" cy="471960"/>
            </a:xfrm>
            <a:custGeom>
              <a:avLst/>
              <a:gdLst/>
              <a:ahLst/>
              <a:rect l="0" t="0" r="r" b="b"/>
              <a:pathLst>
                <a:path w="3458" h="1311">
                  <a:moveTo>
                    <a:pt x="196" y="524"/>
                  </a:moveTo>
                  <a:lnTo>
                    <a:pt x="722" y="272"/>
                  </a:lnTo>
                  <a:lnTo>
                    <a:pt x="888" y="259"/>
                  </a:lnTo>
                  <a:lnTo>
                    <a:pt x="1015" y="259"/>
                  </a:lnTo>
                  <a:lnTo>
                    <a:pt x="1159" y="272"/>
                  </a:lnTo>
                  <a:lnTo>
                    <a:pt x="1606" y="306"/>
                  </a:lnTo>
                  <a:lnTo>
                    <a:pt x="1409" y="342"/>
                  </a:lnTo>
                  <a:lnTo>
                    <a:pt x="962" y="415"/>
                  </a:lnTo>
                  <a:lnTo>
                    <a:pt x="560" y="489"/>
                  </a:lnTo>
                  <a:lnTo>
                    <a:pt x="240" y="632"/>
                  </a:lnTo>
                  <a:lnTo>
                    <a:pt x="140" y="627"/>
                  </a:lnTo>
                  <a:lnTo>
                    <a:pt x="0" y="632"/>
                  </a:lnTo>
                  <a:lnTo>
                    <a:pt x="240" y="774"/>
                  </a:lnTo>
                  <a:lnTo>
                    <a:pt x="560" y="813"/>
                  </a:lnTo>
                  <a:lnTo>
                    <a:pt x="1006" y="1099"/>
                  </a:lnTo>
                  <a:lnTo>
                    <a:pt x="1124" y="1104"/>
                  </a:lnTo>
                  <a:lnTo>
                    <a:pt x="1308" y="1086"/>
                  </a:lnTo>
                  <a:lnTo>
                    <a:pt x="1514" y="1017"/>
                  </a:lnTo>
                  <a:lnTo>
                    <a:pt x="1654" y="709"/>
                  </a:lnTo>
                  <a:lnTo>
                    <a:pt x="1768" y="377"/>
                  </a:lnTo>
                  <a:lnTo>
                    <a:pt x="1891" y="198"/>
                  </a:lnTo>
                  <a:lnTo>
                    <a:pt x="2009" y="181"/>
                  </a:lnTo>
                  <a:lnTo>
                    <a:pt x="2162" y="198"/>
                  </a:lnTo>
                  <a:lnTo>
                    <a:pt x="2412" y="306"/>
                  </a:lnTo>
                  <a:lnTo>
                    <a:pt x="2451" y="476"/>
                  </a:lnTo>
                  <a:lnTo>
                    <a:pt x="2456" y="666"/>
                  </a:lnTo>
                  <a:lnTo>
                    <a:pt x="2574" y="1026"/>
                  </a:lnTo>
                  <a:lnTo>
                    <a:pt x="2749" y="1203"/>
                  </a:lnTo>
                  <a:lnTo>
                    <a:pt x="2976" y="1311"/>
                  </a:lnTo>
                  <a:lnTo>
                    <a:pt x="3086" y="1311"/>
                  </a:lnTo>
                  <a:lnTo>
                    <a:pt x="3173" y="1281"/>
                  </a:lnTo>
                  <a:lnTo>
                    <a:pt x="3213" y="1065"/>
                  </a:lnTo>
                  <a:lnTo>
                    <a:pt x="3191" y="1000"/>
                  </a:lnTo>
                  <a:lnTo>
                    <a:pt x="3186" y="908"/>
                  </a:lnTo>
                  <a:lnTo>
                    <a:pt x="3213" y="740"/>
                  </a:lnTo>
                  <a:lnTo>
                    <a:pt x="3340" y="813"/>
                  </a:lnTo>
                  <a:lnTo>
                    <a:pt x="3340" y="991"/>
                  </a:lnTo>
                  <a:lnTo>
                    <a:pt x="3401" y="938"/>
                  </a:lnTo>
                  <a:lnTo>
                    <a:pt x="3440" y="826"/>
                  </a:lnTo>
                  <a:lnTo>
                    <a:pt x="3458" y="701"/>
                  </a:lnTo>
                  <a:lnTo>
                    <a:pt x="3296" y="593"/>
                  </a:lnTo>
                  <a:lnTo>
                    <a:pt x="3055" y="415"/>
                  </a:lnTo>
                  <a:lnTo>
                    <a:pt x="2906" y="306"/>
                  </a:lnTo>
                  <a:lnTo>
                    <a:pt x="2814" y="198"/>
                  </a:lnTo>
                  <a:lnTo>
                    <a:pt x="2574" y="198"/>
                  </a:lnTo>
                  <a:lnTo>
                    <a:pt x="2456" y="198"/>
                  </a:lnTo>
                  <a:lnTo>
                    <a:pt x="2333" y="21"/>
                  </a:lnTo>
                  <a:lnTo>
                    <a:pt x="2241" y="0"/>
                  </a:lnTo>
                  <a:lnTo>
                    <a:pt x="2119" y="8"/>
                  </a:lnTo>
                  <a:lnTo>
                    <a:pt x="1891" y="56"/>
                  </a:lnTo>
                  <a:lnTo>
                    <a:pt x="1751" y="116"/>
                  </a:lnTo>
                  <a:lnTo>
                    <a:pt x="1606" y="164"/>
                  </a:lnTo>
                  <a:lnTo>
                    <a:pt x="1487" y="86"/>
                  </a:lnTo>
                  <a:lnTo>
                    <a:pt x="1409" y="108"/>
                  </a:lnTo>
                  <a:lnTo>
                    <a:pt x="1242" y="103"/>
                  </a:lnTo>
                  <a:lnTo>
                    <a:pt x="1002" y="60"/>
                  </a:lnTo>
                  <a:lnTo>
                    <a:pt x="560" y="198"/>
                  </a:lnTo>
                  <a:lnTo>
                    <a:pt x="280" y="342"/>
                  </a:lnTo>
                  <a:lnTo>
                    <a:pt x="39" y="415"/>
                  </a:lnTo>
                  <a:lnTo>
                    <a:pt x="74" y="485"/>
                  </a:lnTo>
                  <a:lnTo>
                    <a:pt x="126" y="515"/>
                  </a:lnTo>
                  <a:lnTo>
                    <a:pt x="196" y="52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32440" y="4898880"/>
              <a:ext cx="902160" cy="940320"/>
            </a:xfrm>
            <a:custGeom>
              <a:avLst/>
              <a:gdLst/>
              <a:ahLst/>
              <a:rect l="0" t="0" r="r" b="b"/>
              <a:pathLst>
                <a:path w="2506" h="2612">
                  <a:moveTo>
                    <a:pt x="1930" y="576"/>
                  </a:moveTo>
                  <a:lnTo>
                    <a:pt x="1846" y="362"/>
                  </a:lnTo>
                  <a:lnTo>
                    <a:pt x="1965" y="248"/>
                  </a:lnTo>
                  <a:lnTo>
                    <a:pt x="2087" y="69"/>
                  </a:lnTo>
                  <a:lnTo>
                    <a:pt x="1965" y="69"/>
                  </a:lnTo>
                  <a:lnTo>
                    <a:pt x="1887" y="109"/>
                  </a:lnTo>
                  <a:lnTo>
                    <a:pt x="1685" y="0"/>
                  </a:lnTo>
                  <a:lnTo>
                    <a:pt x="1563" y="39"/>
                  </a:lnTo>
                  <a:lnTo>
                    <a:pt x="1484" y="109"/>
                  </a:lnTo>
                  <a:lnTo>
                    <a:pt x="1283" y="109"/>
                  </a:lnTo>
                  <a:lnTo>
                    <a:pt x="1083" y="144"/>
                  </a:lnTo>
                  <a:lnTo>
                    <a:pt x="987" y="205"/>
                  </a:lnTo>
                  <a:lnTo>
                    <a:pt x="926" y="288"/>
                  </a:lnTo>
                  <a:lnTo>
                    <a:pt x="1043" y="362"/>
                  </a:lnTo>
                  <a:lnTo>
                    <a:pt x="1209" y="340"/>
                  </a:lnTo>
                  <a:lnTo>
                    <a:pt x="1484" y="432"/>
                  </a:lnTo>
                  <a:lnTo>
                    <a:pt x="1646" y="362"/>
                  </a:lnTo>
                  <a:lnTo>
                    <a:pt x="1667" y="506"/>
                  </a:lnTo>
                  <a:lnTo>
                    <a:pt x="1667" y="584"/>
                  </a:lnTo>
                  <a:lnTo>
                    <a:pt x="1646" y="650"/>
                  </a:lnTo>
                  <a:lnTo>
                    <a:pt x="1746" y="791"/>
                  </a:lnTo>
                  <a:lnTo>
                    <a:pt x="1776" y="878"/>
                  </a:lnTo>
                  <a:lnTo>
                    <a:pt x="1768" y="943"/>
                  </a:lnTo>
                  <a:lnTo>
                    <a:pt x="1602" y="974"/>
                  </a:lnTo>
                  <a:lnTo>
                    <a:pt x="1484" y="978"/>
                  </a:lnTo>
                  <a:lnTo>
                    <a:pt x="1406" y="978"/>
                  </a:lnTo>
                  <a:lnTo>
                    <a:pt x="1366" y="865"/>
                  </a:lnTo>
                  <a:lnTo>
                    <a:pt x="1043" y="865"/>
                  </a:lnTo>
                  <a:lnTo>
                    <a:pt x="764" y="904"/>
                  </a:lnTo>
                  <a:lnTo>
                    <a:pt x="479" y="1088"/>
                  </a:lnTo>
                  <a:lnTo>
                    <a:pt x="318" y="1306"/>
                  </a:lnTo>
                  <a:lnTo>
                    <a:pt x="39" y="1232"/>
                  </a:lnTo>
                  <a:lnTo>
                    <a:pt x="0" y="1345"/>
                  </a:lnTo>
                  <a:lnTo>
                    <a:pt x="87" y="1437"/>
                  </a:lnTo>
                  <a:lnTo>
                    <a:pt x="239" y="1485"/>
                  </a:lnTo>
                  <a:lnTo>
                    <a:pt x="366" y="1489"/>
                  </a:lnTo>
                  <a:lnTo>
                    <a:pt x="479" y="1450"/>
                  </a:lnTo>
                  <a:lnTo>
                    <a:pt x="672" y="1253"/>
                  </a:lnTo>
                  <a:lnTo>
                    <a:pt x="882" y="1088"/>
                  </a:lnTo>
                  <a:lnTo>
                    <a:pt x="1061" y="1066"/>
                  </a:lnTo>
                  <a:lnTo>
                    <a:pt x="1161" y="1070"/>
                  </a:lnTo>
                  <a:lnTo>
                    <a:pt x="1244" y="1088"/>
                  </a:lnTo>
                  <a:lnTo>
                    <a:pt x="1440" y="1232"/>
                  </a:lnTo>
                  <a:lnTo>
                    <a:pt x="1484" y="1376"/>
                  </a:lnTo>
                  <a:lnTo>
                    <a:pt x="1528" y="1345"/>
                  </a:lnTo>
                  <a:lnTo>
                    <a:pt x="1641" y="1188"/>
                  </a:lnTo>
                  <a:lnTo>
                    <a:pt x="1781" y="1074"/>
                  </a:lnTo>
                  <a:lnTo>
                    <a:pt x="1891" y="1127"/>
                  </a:lnTo>
                  <a:lnTo>
                    <a:pt x="1991" y="1210"/>
                  </a:lnTo>
                  <a:lnTo>
                    <a:pt x="2009" y="1376"/>
                  </a:lnTo>
                  <a:lnTo>
                    <a:pt x="1838" y="1428"/>
                  </a:lnTo>
                  <a:lnTo>
                    <a:pt x="1532" y="1384"/>
                  </a:lnTo>
                  <a:lnTo>
                    <a:pt x="1196" y="1319"/>
                  </a:lnTo>
                  <a:lnTo>
                    <a:pt x="1048" y="1301"/>
                  </a:lnTo>
                  <a:lnTo>
                    <a:pt x="926" y="1306"/>
                  </a:lnTo>
                  <a:lnTo>
                    <a:pt x="782" y="1345"/>
                  </a:lnTo>
                  <a:lnTo>
                    <a:pt x="686" y="1415"/>
                  </a:lnTo>
                  <a:lnTo>
                    <a:pt x="812" y="1502"/>
                  </a:lnTo>
                  <a:lnTo>
                    <a:pt x="1004" y="1559"/>
                  </a:lnTo>
                  <a:lnTo>
                    <a:pt x="1118" y="1568"/>
                  </a:lnTo>
                  <a:lnTo>
                    <a:pt x="1262" y="1563"/>
                  </a:lnTo>
                  <a:lnTo>
                    <a:pt x="1406" y="1559"/>
                  </a:lnTo>
                  <a:lnTo>
                    <a:pt x="1528" y="1559"/>
                  </a:lnTo>
                  <a:lnTo>
                    <a:pt x="1887" y="1629"/>
                  </a:lnTo>
                  <a:lnTo>
                    <a:pt x="1965" y="1668"/>
                  </a:lnTo>
                  <a:lnTo>
                    <a:pt x="2113" y="1751"/>
                  </a:lnTo>
                  <a:lnTo>
                    <a:pt x="2209" y="1851"/>
                  </a:lnTo>
                  <a:lnTo>
                    <a:pt x="2079" y="1948"/>
                  </a:lnTo>
                  <a:lnTo>
                    <a:pt x="1887" y="1997"/>
                  </a:lnTo>
                  <a:lnTo>
                    <a:pt x="1685" y="1851"/>
                  </a:lnTo>
                  <a:lnTo>
                    <a:pt x="1550" y="1821"/>
                  </a:lnTo>
                  <a:lnTo>
                    <a:pt x="1406" y="1812"/>
                  </a:lnTo>
                  <a:lnTo>
                    <a:pt x="1283" y="1821"/>
                  </a:lnTo>
                  <a:lnTo>
                    <a:pt x="1166" y="1851"/>
                  </a:lnTo>
                  <a:lnTo>
                    <a:pt x="882" y="2071"/>
                  </a:lnTo>
                  <a:lnTo>
                    <a:pt x="790" y="2079"/>
                  </a:lnTo>
                  <a:lnTo>
                    <a:pt x="664" y="2075"/>
                  </a:lnTo>
                  <a:lnTo>
                    <a:pt x="440" y="2031"/>
                  </a:lnTo>
                  <a:lnTo>
                    <a:pt x="239" y="1882"/>
                  </a:lnTo>
                  <a:lnTo>
                    <a:pt x="239" y="1777"/>
                  </a:lnTo>
                  <a:lnTo>
                    <a:pt x="152" y="1895"/>
                  </a:lnTo>
                  <a:lnTo>
                    <a:pt x="39" y="2031"/>
                  </a:lnTo>
                  <a:lnTo>
                    <a:pt x="191" y="2193"/>
                  </a:lnTo>
                  <a:lnTo>
                    <a:pt x="401" y="2324"/>
                  </a:lnTo>
                  <a:lnTo>
                    <a:pt x="720" y="2468"/>
                  </a:lnTo>
                  <a:lnTo>
                    <a:pt x="1366" y="2612"/>
                  </a:lnTo>
                  <a:lnTo>
                    <a:pt x="1471" y="2608"/>
                  </a:lnTo>
                  <a:lnTo>
                    <a:pt x="1606" y="2590"/>
                  </a:lnTo>
                  <a:lnTo>
                    <a:pt x="1846" y="2538"/>
                  </a:lnTo>
                  <a:lnTo>
                    <a:pt x="2170" y="2394"/>
                  </a:lnTo>
                  <a:lnTo>
                    <a:pt x="2327" y="2285"/>
                  </a:lnTo>
                  <a:lnTo>
                    <a:pt x="2367" y="2429"/>
                  </a:lnTo>
                  <a:lnTo>
                    <a:pt x="2484" y="2359"/>
                  </a:lnTo>
                  <a:lnTo>
                    <a:pt x="2506" y="2258"/>
                  </a:lnTo>
                  <a:lnTo>
                    <a:pt x="2489" y="2127"/>
                  </a:lnTo>
                  <a:lnTo>
                    <a:pt x="2445" y="1882"/>
                  </a:lnTo>
                  <a:lnTo>
                    <a:pt x="2480" y="1720"/>
                  </a:lnTo>
                  <a:lnTo>
                    <a:pt x="2493" y="1633"/>
                  </a:lnTo>
                  <a:lnTo>
                    <a:pt x="2484" y="1559"/>
                  </a:lnTo>
                  <a:lnTo>
                    <a:pt x="2401" y="1489"/>
                  </a:lnTo>
                  <a:lnTo>
                    <a:pt x="2327" y="1415"/>
                  </a:lnTo>
                  <a:lnTo>
                    <a:pt x="2384" y="1332"/>
                  </a:lnTo>
                  <a:lnTo>
                    <a:pt x="2484" y="1266"/>
                  </a:lnTo>
                  <a:lnTo>
                    <a:pt x="2484" y="1088"/>
                  </a:lnTo>
                  <a:lnTo>
                    <a:pt x="2288" y="865"/>
                  </a:lnTo>
                  <a:lnTo>
                    <a:pt x="2127" y="830"/>
                  </a:lnTo>
                  <a:lnTo>
                    <a:pt x="2048" y="545"/>
                  </a:lnTo>
                  <a:lnTo>
                    <a:pt x="1930" y="57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770360" y="3816360"/>
              <a:ext cx="1113120" cy="413280"/>
            </a:xfrm>
            <a:custGeom>
              <a:avLst/>
              <a:gdLst/>
              <a:ahLst/>
              <a:rect l="0" t="0" r="r" b="b"/>
              <a:pathLst>
                <a:path w="3092" h="1148">
                  <a:moveTo>
                    <a:pt x="3092" y="466"/>
                  </a:moveTo>
                  <a:lnTo>
                    <a:pt x="3092" y="427"/>
                  </a:lnTo>
                  <a:lnTo>
                    <a:pt x="3052" y="643"/>
                  </a:lnTo>
                  <a:lnTo>
                    <a:pt x="3013" y="967"/>
                  </a:lnTo>
                  <a:lnTo>
                    <a:pt x="2934" y="1148"/>
                  </a:lnTo>
                  <a:lnTo>
                    <a:pt x="2856" y="1062"/>
                  </a:lnTo>
                  <a:lnTo>
                    <a:pt x="2773" y="967"/>
                  </a:lnTo>
                  <a:lnTo>
                    <a:pt x="2689" y="1075"/>
                  </a:lnTo>
                  <a:lnTo>
                    <a:pt x="2620" y="989"/>
                  </a:lnTo>
                  <a:lnTo>
                    <a:pt x="2571" y="864"/>
                  </a:lnTo>
                  <a:lnTo>
                    <a:pt x="2493" y="608"/>
                  </a:lnTo>
                  <a:lnTo>
                    <a:pt x="2410" y="824"/>
                  </a:lnTo>
                  <a:lnTo>
                    <a:pt x="2327" y="755"/>
                  </a:lnTo>
                  <a:lnTo>
                    <a:pt x="2252" y="643"/>
                  </a:lnTo>
                  <a:lnTo>
                    <a:pt x="2209" y="505"/>
                  </a:lnTo>
                  <a:lnTo>
                    <a:pt x="2090" y="716"/>
                  </a:lnTo>
                  <a:lnTo>
                    <a:pt x="2042" y="613"/>
                  </a:lnTo>
                  <a:lnTo>
                    <a:pt x="2007" y="466"/>
                  </a:lnTo>
                  <a:lnTo>
                    <a:pt x="1889" y="358"/>
                  </a:lnTo>
                  <a:lnTo>
                    <a:pt x="1728" y="393"/>
                  </a:lnTo>
                  <a:lnTo>
                    <a:pt x="1728" y="176"/>
                  </a:lnTo>
                  <a:lnTo>
                    <a:pt x="1605" y="142"/>
                  </a:lnTo>
                  <a:lnTo>
                    <a:pt x="1525" y="0"/>
                  </a:lnTo>
                  <a:lnTo>
                    <a:pt x="1460" y="99"/>
                  </a:lnTo>
                  <a:lnTo>
                    <a:pt x="1407" y="249"/>
                  </a:lnTo>
                  <a:lnTo>
                    <a:pt x="1342" y="380"/>
                  </a:lnTo>
                  <a:lnTo>
                    <a:pt x="1246" y="466"/>
                  </a:lnTo>
                  <a:lnTo>
                    <a:pt x="1163" y="358"/>
                  </a:lnTo>
                  <a:lnTo>
                    <a:pt x="1040" y="505"/>
                  </a:lnTo>
                  <a:lnTo>
                    <a:pt x="1040" y="358"/>
                  </a:lnTo>
                  <a:lnTo>
                    <a:pt x="1053" y="410"/>
                  </a:lnTo>
                  <a:lnTo>
                    <a:pt x="1023" y="488"/>
                  </a:lnTo>
                  <a:lnTo>
                    <a:pt x="922" y="608"/>
                  </a:lnTo>
                  <a:lnTo>
                    <a:pt x="787" y="574"/>
                  </a:lnTo>
                  <a:lnTo>
                    <a:pt x="642" y="505"/>
                  </a:lnTo>
                  <a:lnTo>
                    <a:pt x="441" y="427"/>
                  </a:lnTo>
                  <a:lnTo>
                    <a:pt x="323" y="444"/>
                  </a:lnTo>
                  <a:lnTo>
                    <a:pt x="196" y="466"/>
                  </a:lnTo>
                  <a:lnTo>
                    <a:pt x="0" y="393"/>
                  </a:lnTo>
                  <a:lnTo>
                    <a:pt x="157" y="302"/>
                  </a:lnTo>
                  <a:lnTo>
                    <a:pt x="402" y="249"/>
                  </a:lnTo>
                  <a:lnTo>
                    <a:pt x="520" y="275"/>
                  </a:lnTo>
                  <a:lnTo>
                    <a:pt x="642" y="324"/>
                  </a:lnTo>
                  <a:lnTo>
                    <a:pt x="760" y="388"/>
                  </a:lnTo>
                  <a:lnTo>
                    <a:pt x="883" y="427"/>
                  </a:lnTo>
                  <a:lnTo>
                    <a:pt x="961" y="307"/>
                  </a:lnTo>
                  <a:lnTo>
                    <a:pt x="1005" y="142"/>
                  </a:lnTo>
                  <a:lnTo>
                    <a:pt x="1040" y="0"/>
                  </a:lnTo>
                  <a:lnTo>
                    <a:pt x="1189" y="137"/>
                  </a:lnTo>
                  <a:lnTo>
                    <a:pt x="1285" y="284"/>
                  </a:lnTo>
                  <a:lnTo>
                    <a:pt x="1666" y="393"/>
                  </a:lnTo>
                  <a:lnTo>
                    <a:pt x="2165" y="440"/>
                  </a:lnTo>
                  <a:lnTo>
                    <a:pt x="3092" y="46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37280" y="3751200"/>
              <a:ext cx="617760" cy="346320"/>
            </a:xfrm>
            <a:custGeom>
              <a:avLst/>
              <a:gdLst/>
              <a:ahLst/>
              <a:rect l="0" t="0" r="r" b="b"/>
              <a:pathLst>
                <a:path w="1716" h="962">
                  <a:moveTo>
                    <a:pt x="0" y="351"/>
                  </a:moveTo>
                  <a:lnTo>
                    <a:pt x="39" y="210"/>
                  </a:lnTo>
                  <a:lnTo>
                    <a:pt x="39" y="0"/>
                  </a:lnTo>
                  <a:lnTo>
                    <a:pt x="138" y="115"/>
                  </a:lnTo>
                  <a:lnTo>
                    <a:pt x="238" y="210"/>
                  </a:lnTo>
                  <a:lnTo>
                    <a:pt x="282" y="102"/>
                  </a:lnTo>
                  <a:lnTo>
                    <a:pt x="317" y="0"/>
                  </a:lnTo>
                  <a:lnTo>
                    <a:pt x="369" y="124"/>
                  </a:lnTo>
                  <a:lnTo>
                    <a:pt x="438" y="283"/>
                  </a:lnTo>
                  <a:lnTo>
                    <a:pt x="599" y="248"/>
                  </a:lnTo>
                  <a:lnTo>
                    <a:pt x="638" y="459"/>
                  </a:lnTo>
                  <a:lnTo>
                    <a:pt x="838" y="601"/>
                  </a:lnTo>
                  <a:lnTo>
                    <a:pt x="995" y="640"/>
                  </a:lnTo>
                  <a:lnTo>
                    <a:pt x="1004" y="580"/>
                  </a:lnTo>
                  <a:lnTo>
                    <a:pt x="969" y="480"/>
                  </a:lnTo>
                  <a:lnTo>
                    <a:pt x="917" y="351"/>
                  </a:lnTo>
                  <a:lnTo>
                    <a:pt x="986" y="584"/>
                  </a:lnTo>
                  <a:lnTo>
                    <a:pt x="1095" y="816"/>
                  </a:lnTo>
                  <a:lnTo>
                    <a:pt x="1160" y="623"/>
                  </a:lnTo>
                  <a:lnTo>
                    <a:pt x="1234" y="424"/>
                  </a:lnTo>
                  <a:lnTo>
                    <a:pt x="1342" y="584"/>
                  </a:lnTo>
                  <a:lnTo>
                    <a:pt x="1429" y="816"/>
                  </a:lnTo>
                  <a:lnTo>
                    <a:pt x="1555" y="962"/>
                  </a:lnTo>
                  <a:lnTo>
                    <a:pt x="1516" y="790"/>
                  </a:lnTo>
                  <a:lnTo>
                    <a:pt x="1512" y="614"/>
                  </a:lnTo>
                  <a:lnTo>
                    <a:pt x="1512" y="511"/>
                  </a:lnTo>
                  <a:lnTo>
                    <a:pt x="1516" y="459"/>
                  </a:lnTo>
                  <a:lnTo>
                    <a:pt x="1716" y="679"/>
                  </a:lnTo>
                  <a:lnTo>
                    <a:pt x="1425" y="756"/>
                  </a:lnTo>
                  <a:lnTo>
                    <a:pt x="1312" y="756"/>
                  </a:lnTo>
                  <a:lnTo>
                    <a:pt x="1177" y="752"/>
                  </a:lnTo>
                  <a:lnTo>
                    <a:pt x="899" y="717"/>
                  </a:lnTo>
                  <a:lnTo>
                    <a:pt x="347" y="576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2640" y="3208320"/>
              <a:ext cx="162360" cy="54360"/>
            </a:xfrm>
            <a:custGeom>
              <a:avLst/>
              <a:gdLst/>
              <a:ahLst/>
              <a:rect l="0" t="0" r="r" b="b"/>
              <a:pathLst>
                <a:path w="451" h="151">
                  <a:moveTo>
                    <a:pt x="0" y="151"/>
                  </a:moveTo>
                  <a:lnTo>
                    <a:pt x="296" y="45"/>
                  </a:lnTo>
                  <a:lnTo>
                    <a:pt x="389" y="53"/>
                  </a:lnTo>
                  <a:lnTo>
                    <a:pt x="435" y="42"/>
                  </a:lnTo>
                  <a:lnTo>
                    <a:pt x="451" y="18"/>
                  </a:lnTo>
                  <a:lnTo>
                    <a:pt x="317" y="0"/>
                  </a:lnTo>
                  <a:lnTo>
                    <a:pt x="175" y="26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731000" y="4167360"/>
              <a:ext cx="28800" cy="27360"/>
            </a:xfrm>
            <a:custGeom>
              <a:avLst/>
              <a:gdLst/>
              <a:ahLst/>
              <a:rect l="0" t="0" r="r" b="b"/>
              <a:pathLst>
                <a:path w="80" h="76">
                  <a:moveTo>
                    <a:pt x="80" y="0"/>
                  </a:moveTo>
                  <a:lnTo>
                    <a:pt x="53" y="27"/>
                  </a:lnTo>
                  <a:lnTo>
                    <a:pt x="53" y="53"/>
                  </a:lnTo>
                  <a:lnTo>
                    <a:pt x="26" y="76"/>
                  </a:lnTo>
                  <a:lnTo>
                    <a:pt x="53" y="53"/>
                  </a:lnTo>
                  <a:lnTo>
                    <a:pt x="26" y="53"/>
                  </a:lnTo>
                  <a:lnTo>
                    <a:pt x="0" y="7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518160" y="3354480"/>
              <a:ext cx="1125720" cy="808560"/>
            </a:xfrm>
            <a:custGeom>
              <a:avLst/>
              <a:gdLst/>
              <a:ahLst/>
              <a:rect l="0" t="0" r="r" b="b"/>
              <a:pathLst>
                <a:path w="3127" h="2246">
                  <a:moveTo>
                    <a:pt x="34" y="1142"/>
                  </a:moveTo>
                  <a:lnTo>
                    <a:pt x="0" y="1169"/>
                  </a:lnTo>
                  <a:lnTo>
                    <a:pt x="43" y="1295"/>
                  </a:lnTo>
                  <a:lnTo>
                    <a:pt x="144" y="1400"/>
                  </a:lnTo>
                  <a:lnTo>
                    <a:pt x="249" y="1421"/>
                  </a:lnTo>
                  <a:lnTo>
                    <a:pt x="314" y="1421"/>
                  </a:lnTo>
                  <a:lnTo>
                    <a:pt x="389" y="1417"/>
                  </a:lnTo>
                  <a:lnTo>
                    <a:pt x="638" y="1365"/>
                  </a:lnTo>
                  <a:lnTo>
                    <a:pt x="778" y="1269"/>
                  </a:lnTo>
                  <a:lnTo>
                    <a:pt x="852" y="1108"/>
                  </a:lnTo>
                  <a:lnTo>
                    <a:pt x="957" y="977"/>
                  </a:lnTo>
                  <a:lnTo>
                    <a:pt x="927" y="816"/>
                  </a:lnTo>
                  <a:lnTo>
                    <a:pt x="900" y="759"/>
                  </a:lnTo>
                  <a:lnTo>
                    <a:pt x="892" y="676"/>
                  </a:lnTo>
                  <a:lnTo>
                    <a:pt x="927" y="523"/>
                  </a:lnTo>
                  <a:lnTo>
                    <a:pt x="1097" y="685"/>
                  </a:lnTo>
                  <a:lnTo>
                    <a:pt x="1224" y="698"/>
                  </a:lnTo>
                  <a:lnTo>
                    <a:pt x="1294" y="698"/>
                  </a:lnTo>
                  <a:lnTo>
                    <a:pt x="1351" y="685"/>
                  </a:lnTo>
                  <a:lnTo>
                    <a:pt x="1741" y="457"/>
                  </a:lnTo>
                  <a:lnTo>
                    <a:pt x="1597" y="488"/>
                  </a:lnTo>
                  <a:lnTo>
                    <a:pt x="1850" y="196"/>
                  </a:lnTo>
                  <a:lnTo>
                    <a:pt x="1916" y="0"/>
                  </a:lnTo>
                  <a:lnTo>
                    <a:pt x="1994" y="91"/>
                  </a:lnTo>
                  <a:lnTo>
                    <a:pt x="2060" y="230"/>
                  </a:lnTo>
                  <a:lnTo>
                    <a:pt x="2056" y="344"/>
                  </a:lnTo>
                  <a:lnTo>
                    <a:pt x="2314" y="383"/>
                  </a:lnTo>
                  <a:lnTo>
                    <a:pt x="2594" y="392"/>
                  </a:lnTo>
                  <a:lnTo>
                    <a:pt x="2742" y="453"/>
                  </a:lnTo>
                  <a:lnTo>
                    <a:pt x="2886" y="557"/>
                  </a:lnTo>
                  <a:lnTo>
                    <a:pt x="3009" y="624"/>
                  </a:lnTo>
                  <a:lnTo>
                    <a:pt x="3061" y="728"/>
                  </a:lnTo>
                  <a:lnTo>
                    <a:pt x="3127" y="781"/>
                  </a:lnTo>
                  <a:lnTo>
                    <a:pt x="2978" y="667"/>
                  </a:lnTo>
                  <a:lnTo>
                    <a:pt x="2838" y="523"/>
                  </a:lnTo>
                  <a:lnTo>
                    <a:pt x="2274" y="422"/>
                  </a:lnTo>
                  <a:lnTo>
                    <a:pt x="2204" y="422"/>
                  </a:lnTo>
                  <a:lnTo>
                    <a:pt x="2113" y="427"/>
                  </a:lnTo>
                  <a:lnTo>
                    <a:pt x="1951" y="457"/>
                  </a:lnTo>
                  <a:lnTo>
                    <a:pt x="1776" y="685"/>
                  </a:lnTo>
                  <a:lnTo>
                    <a:pt x="1645" y="715"/>
                  </a:lnTo>
                  <a:lnTo>
                    <a:pt x="1561" y="711"/>
                  </a:lnTo>
                  <a:lnTo>
                    <a:pt x="1491" y="715"/>
                  </a:lnTo>
                  <a:lnTo>
                    <a:pt x="1228" y="759"/>
                  </a:lnTo>
                  <a:lnTo>
                    <a:pt x="996" y="846"/>
                  </a:lnTo>
                  <a:lnTo>
                    <a:pt x="983" y="911"/>
                  </a:lnTo>
                  <a:lnTo>
                    <a:pt x="1014" y="999"/>
                  </a:lnTo>
                  <a:lnTo>
                    <a:pt x="1066" y="1169"/>
                  </a:lnTo>
                  <a:lnTo>
                    <a:pt x="940" y="1339"/>
                  </a:lnTo>
                  <a:lnTo>
                    <a:pt x="778" y="1500"/>
                  </a:lnTo>
                  <a:lnTo>
                    <a:pt x="572" y="1793"/>
                  </a:lnTo>
                  <a:lnTo>
                    <a:pt x="389" y="2085"/>
                  </a:lnTo>
                  <a:lnTo>
                    <a:pt x="389" y="2246"/>
                  </a:lnTo>
                  <a:lnTo>
                    <a:pt x="279" y="2107"/>
                  </a:lnTo>
                  <a:lnTo>
                    <a:pt x="174" y="1919"/>
                  </a:lnTo>
                  <a:lnTo>
                    <a:pt x="34" y="1697"/>
                  </a:lnTo>
                  <a:lnTo>
                    <a:pt x="0" y="1339"/>
                  </a:lnTo>
                  <a:lnTo>
                    <a:pt x="34" y="114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6299280" y="4086360"/>
              <a:ext cx="789480" cy="1273680"/>
            </a:xfrm>
            <a:custGeom>
              <a:avLst/>
              <a:gdLst/>
              <a:ahLst/>
              <a:rect l="0" t="0" r="r" b="b"/>
              <a:pathLst>
                <a:path w="2193" h="3538">
                  <a:moveTo>
                    <a:pt x="990" y="205"/>
                  </a:moveTo>
                  <a:lnTo>
                    <a:pt x="990" y="236"/>
                  </a:lnTo>
                  <a:lnTo>
                    <a:pt x="1207" y="105"/>
                  </a:lnTo>
                  <a:lnTo>
                    <a:pt x="1525" y="8"/>
                  </a:lnTo>
                  <a:lnTo>
                    <a:pt x="1679" y="0"/>
                  </a:lnTo>
                  <a:lnTo>
                    <a:pt x="1766" y="0"/>
                  </a:lnTo>
                  <a:lnTo>
                    <a:pt x="1840" y="8"/>
                  </a:lnTo>
                  <a:lnTo>
                    <a:pt x="1984" y="43"/>
                  </a:lnTo>
                  <a:lnTo>
                    <a:pt x="2193" y="105"/>
                  </a:lnTo>
                  <a:lnTo>
                    <a:pt x="2193" y="205"/>
                  </a:lnTo>
                  <a:lnTo>
                    <a:pt x="1914" y="236"/>
                  </a:lnTo>
                  <a:lnTo>
                    <a:pt x="1849" y="398"/>
                  </a:lnTo>
                  <a:lnTo>
                    <a:pt x="1849" y="494"/>
                  </a:lnTo>
                  <a:lnTo>
                    <a:pt x="1840" y="595"/>
                  </a:lnTo>
                  <a:lnTo>
                    <a:pt x="1666" y="1187"/>
                  </a:lnTo>
                  <a:lnTo>
                    <a:pt x="1556" y="1576"/>
                  </a:lnTo>
                  <a:lnTo>
                    <a:pt x="1600" y="1970"/>
                  </a:lnTo>
                  <a:lnTo>
                    <a:pt x="1696" y="2395"/>
                  </a:lnTo>
                  <a:lnTo>
                    <a:pt x="1827" y="2654"/>
                  </a:lnTo>
                  <a:lnTo>
                    <a:pt x="1879" y="2798"/>
                  </a:lnTo>
                  <a:lnTo>
                    <a:pt x="1875" y="2917"/>
                  </a:lnTo>
                  <a:lnTo>
                    <a:pt x="1696" y="2982"/>
                  </a:lnTo>
                  <a:lnTo>
                    <a:pt x="990" y="3275"/>
                  </a:lnTo>
                  <a:lnTo>
                    <a:pt x="841" y="3433"/>
                  </a:lnTo>
                  <a:lnTo>
                    <a:pt x="711" y="3538"/>
                  </a:lnTo>
                  <a:lnTo>
                    <a:pt x="676" y="3464"/>
                  </a:lnTo>
                  <a:lnTo>
                    <a:pt x="676" y="3394"/>
                  </a:lnTo>
                  <a:lnTo>
                    <a:pt x="680" y="3315"/>
                  </a:lnTo>
                  <a:lnTo>
                    <a:pt x="776" y="3048"/>
                  </a:lnTo>
                  <a:lnTo>
                    <a:pt x="737" y="2960"/>
                  </a:lnTo>
                  <a:lnTo>
                    <a:pt x="732" y="2842"/>
                  </a:lnTo>
                  <a:lnTo>
                    <a:pt x="785" y="2552"/>
                  </a:lnTo>
                  <a:lnTo>
                    <a:pt x="833" y="2268"/>
                  </a:lnTo>
                  <a:lnTo>
                    <a:pt x="828" y="2154"/>
                  </a:lnTo>
                  <a:lnTo>
                    <a:pt x="776" y="2066"/>
                  </a:lnTo>
                  <a:lnTo>
                    <a:pt x="850" y="1922"/>
                  </a:lnTo>
                  <a:lnTo>
                    <a:pt x="885" y="1712"/>
                  </a:lnTo>
                  <a:lnTo>
                    <a:pt x="920" y="1314"/>
                  </a:lnTo>
                  <a:lnTo>
                    <a:pt x="963" y="977"/>
                  </a:lnTo>
                  <a:lnTo>
                    <a:pt x="1007" y="805"/>
                  </a:lnTo>
                  <a:lnTo>
                    <a:pt x="1098" y="691"/>
                  </a:lnTo>
                  <a:lnTo>
                    <a:pt x="920" y="691"/>
                  </a:lnTo>
                  <a:lnTo>
                    <a:pt x="885" y="814"/>
                  </a:lnTo>
                  <a:lnTo>
                    <a:pt x="776" y="920"/>
                  </a:lnTo>
                  <a:lnTo>
                    <a:pt x="624" y="902"/>
                  </a:lnTo>
                  <a:lnTo>
                    <a:pt x="457" y="857"/>
                  </a:lnTo>
                  <a:lnTo>
                    <a:pt x="0" y="1020"/>
                  </a:lnTo>
                  <a:lnTo>
                    <a:pt x="13" y="928"/>
                  </a:lnTo>
                  <a:lnTo>
                    <a:pt x="0" y="792"/>
                  </a:lnTo>
                  <a:lnTo>
                    <a:pt x="352" y="726"/>
                  </a:lnTo>
                  <a:lnTo>
                    <a:pt x="711" y="595"/>
                  </a:lnTo>
                  <a:lnTo>
                    <a:pt x="885" y="498"/>
                  </a:lnTo>
                  <a:lnTo>
                    <a:pt x="915" y="350"/>
                  </a:lnTo>
                  <a:lnTo>
                    <a:pt x="920" y="271"/>
                  </a:lnTo>
                  <a:lnTo>
                    <a:pt x="920" y="236"/>
                  </a:lnTo>
                  <a:lnTo>
                    <a:pt x="990" y="20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034040" y="3983040"/>
              <a:ext cx="621000" cy="381240"/>
            </a:xfrm>
            <a:custGeom>
              <a:avLst/>
              <a:gdLst/>
              <a:ahLst/>
              <a:rect l="0" t="0" r="r" b="b"/>
              <a:pathLst>
                <a:path w="1725" h="1059">
                  <a:moveTo>
                    <a:pt x="1586" y="547"/>
                  </a:moveTo>
                  <a:lnTo>
                    <a:pt x="1551" y="547"/>
                  </a:lnTo>
                  <a:lnTo>
                    <a:pt x="1725" y="382"/>
                  </a:lnTo>
                  <a:lnTo>
                    <a:pt x="1660" y="223"/>
                  </a:lnTo>
                  <a:lnTo>
                    <a:pt x="1516" y="94"/>
                  </a:lnTo>
                  <a:lnTo>
                    <a:pt x="1091" y="0"/>
                  </a:lnTo>
                  <a:lnTo>
                    <a:pt x="742" y="0"/>
                  </a:lnTo>
                  <a:lnTo>
                    <a:pt x="390" y="129"/>
                  </a:lnTo>
                  <a:lnTo>
                    <a:pt x="212" y="189"/>
                  </a:lnTo>
                  <a:lnTo>
                    <a:pt x="138" y="94"/>
                  </a:lnTo>
                  <a:lnTo>
                    <a:pt x="0" y="94"/>
                  </a:lnTo>
                  <a:lnTo>
                    <a:pt x="173" y="258"/>
                  </a:lnTo>
                  <a:lnTo>
                    <a:pt x="212" y="511"/>
                  </a:lnTo>
                  <a:lnTo>
                    <a:pt x="490" y="801"/>
                  </a:lnTo>
                  <a:lnTo>
                    <a:pt x="586" y="943"/>
                  </a:lnTo>
                  <a:lnTo>
                    <a:pt x="703" y="1059"/>
                  </a:lnTo>
                  <a:lnTo>
                    <a:pt x="816" y="1046"/>
                  </a:lnTo>
                  <a:lnTo>
                    <a:pt x="917" y="994"/>
                  </a:lnTo>
                  <a:lnTo>
                    <a:pt x="986" y="801"/>
                  </a:lnTo>
                  <a:lnTo>
                    <a:pt x="812" y="736"/>
                  </a:lnTo>
                  <a:lnTo>
                    <a:pt x="742" y="801"/>
                  </a:lnTo>
                  <a:lnTo>
                    <a:pt x="812" y="642"/>
                  </a:lnTo>
                  <a:lnTo>
                    <a:pt x="952" y="447"/>
                  </a:lnTo>
                  <a:lnTo>
                    <a:pt x="1125" y="417"/>
                  </a:lnTo>
                  <a:lnTo>
                    <a:pt x="1225" y="421"/>
                  </a:lnTo>
                  <a:lnTo>
                    <a:pt x="1303" y="447"/>
                  </a:lnTo>
                  <a:lnTo>
                    <a:pt x="1408" y="607"/>
                  </a:lnTo>
                  <a:lnTo>
                    <a:pt x="1481" y="642"/>
                  </a:lnTo>
                  <a:lnTo>
                    <a:pt x="1395" y="667"/>
                  </a:lnTo>
                  <a:lnTo>
                    <a:pt x="1269" y="672"/>
                  </a:lnTo>
                  <a:lnTo>
                    <a:pt x="1164" y="607"/>
                  </a:lnTo>
                  <a:lnTo>
                    <a:pt x="1338" y="481"/>
                  </a:lnTo>
                  <a:lnTo>
                    <a:pt x="1164" y="447"/>
                  </a:lnTo>
                  <a:lnTo>
                    <a:pt x="1025" y="547"/>
                  </a:lnTo>
                  <a:lnTo>
                    <a:pt x="846" y="511"/>
                  </a:lnTo>
                  <a:lnTo>
                    <a:pt x="812" y="672"/>
                  </a:lnTo>
                  <a:lnTo>
                    <a:pt x="1060" y="736"/>
                  </a:lnTo>
                  <a:lnTo>
                    <a:pt x="1125" y="801"/>
                  </a:lnTo>
                  <a:lnTo>
                    <a:pt x="1234" y="814"/>
                  </a:lnTo>
                  <a:lnTo>
                    <a:pt x="1373" y="801"/>
                  </a:lnTo>
                  <a:lnTo>
                    <a:pt x="1551" y="771"/>
                  </a:lnTo>
                  <a:lnTo>
                    <a:pt x="1586" y="54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873840" y="4527720"/>
              <a:ext cx="705240" cy="595800"/>
            </a:xfrm>
            <a:custGeom>
              <a:avLst/>
              <a:gdLst/>
              <a:ahLst/>
              <a:rect l="0" t="0" r="r" b="b"/>
              <a:pathLst>
                <a:path w="1959" h="1655">
                  <a:moveTo>
                    <a:pt x="17" y="582"/>
                  </a:moveTo>
                  <a:lnTo>
                    <a:pt x="52" y="617"/>
                  </a:lnTo>
                  <a:lnTo>
                    <a:pt x="121" y="500"/>
                  </a:lnTo>
                  <a:lnTo>
                    <a:pt x="191" y="355"/>
                  </a:lnTo>
                  <a:lnTo>
                    <a:pt x="191" y="243"/>
                  </a:lnTo>
                  <a:lnTo>
                    <a:pt x="191" y="130"/>
                  </a:lnTo>
                  <a:lnTo>
                    <a:pt x="295" y="0"/>
                  </a:lnTo>
                  <a:lnTo>
                    <a:pt x="439" y="290"/>
                  </a:lnTo>
                  <a:lnTo>
                    <a:pt x="901" y="260"/>
                  </a:lnTo>
                  <a:lnTo>
                    <a:pt x="1053" y="308"/>
                  </a:lnTo>
                  <a:lnTo>
                    <a:pt x="1158" y="325"/>
                  </a:lnTo>
                  <a:lnTo>
                    <a:pt x="1254" y="290"/>
                  </a:lnTo>
                  <a:lnTo>
                    <a:pt x="1145" y="190"/>
                  </a:lnTo>
                  <a:lnTo>
                    <a:pt x="1036" y="325"/>
                  </a:lnTo>
                  <a:lnTo>
                    <a:pt x="901" y="452"/>
                  </a:lnTo>
                  <a:lnTo>
                    <a:pt x="775" y="617"/>
                  </a:lnTo>
                  <a:lnTo>
                    <a:pt x="723" y="777"/>
                  </a:lnTo>
                  <a:lnTo>
                    <a:pt x="723" y="873"/>
                  </a:lnTo>
                  <a:lnTo>
                    <a:pt x="671" y="994"/>
                  </a:lnTo>
                  <a:lnTo>
                    <a:pt x="579" y="1133"/>
                  </a:lnTo>
                  <a:lnTo>
                    <a:pt x="614" y="1233"/>
                  </a:lnTo>
                  <a:lnTo>
                    <a:pt x="710" y="1224"/>
                  </a:lnTo>
                  <a:lnTo>
                    <a:pt x="827" y="1164"/>
                  </a:lnTo>
                  <a:lnTo>
                    <a:pt x="1040" y="1038"/>
                  </a:lnTo>
                  <a:lnTo>
                    <a:pt x="1533" y="873"/>
                  </a:lnTo>
                  <a:lnTo>
                    <a:pt x="1533" y="777"/>
                  </a:lnTo>
                  <a:lnTo>
                    <a:pt x="1358" y="843"/>
                  </a:lnTo>
                  <a:lnTo>
                    <a:pt x="932" y="873"/>
                  </a:lnTo>
                  <a:lnTo>
                    <a:pt x="723" y="973"/>
                  </a:lnTo>
                  <a:lnTo>
                    <a:pt x="832" y="777"/>
                  </a:lnTo>
                  <a:lnTo>
                    <a:pt x="1014" y="743"/>
                  </a:lnTo>
                  <a:lnTo>
                    <a:pt x="1123" y="743"/>
                  </a:lnTo>
                  <a:lnTo>
                    <a:pt x="1219" y="743"/>
                  </a:lnTo>
                  <a:lnTo>
                    <a:pt x="1371" y="747"/>
                  </a:lnTo>
                  <a:lnTo>
                    <a:pt x="1458" y="747"/>
                  </a:lnTo>
                  <a:lnTo>
                    <a:pt x="1533" y="743"/>
                  </a:lnTo>
                  <a:lnTo>
                    <a:pt x="1642" y="712"/>
                  </a:lnTo>
                  <a:lnTo>
                    <a:pt x="1467" y="682"/>
                  </a:lnTo>
                  <a:lnTo>
                    <a:pt x="1524" y="586"/>
                  </a:lnTo>
                  <a:lnTo>
                    <a:pt x="1642" y="521"/>
                  </a:lnTo>
                  <a:lnTo>
                    <a:pt x="1755" y="547"/>
                  </a:lnTo>
                  <a:lnTo>
                    <a:pt x="1851" y="617"/>
                  </a:lnTo>
                  <a:lnTo>
                    <a:pt x="1890" y="777"/>
                  </a:lnTo>
                  <a:lnTo>
                    <a:pt x="1959" y="843"/>
                  </a:lnTo>
                  <a:lnTo>
                    <a:pt x="1829" y="951"/>
                  </a:lnTo>
                  <a:lnTo>
                    <a:pt x="1642" y="1038"/>
                  </a:lnTo>
                  <a:lnTo>
                    <a:pt x="1254" y="1360"/>
                  </a:lnTo>
                  <a:lnTo>
                    <a:pt x="723" y="1655"/>
                  </a:lnTo>
                  <a:lnTo>
                    <a:pt x="597" y="1620"/>
                  </a:lnTo>
                  <a:lnTo>
                    <a:pt x="474" y="1560"/>
                  </a:lnTo>
                  <a:lnTo>
                    <a:pt x="191" y="1198"/>
                  </a:lnTo>
                  <a:lnTo>
                    <a:pt x="213" y="1068"/>
                  </a:lnTo>
                  <a:lnTo>
                    <a:pt x="261" y="938"/>
                  </a:lnTo>
                  <a:lnTo>
                    <a:pt x="404" y="712"/>
                  </a:lnTo>
                  <a:lnTo>
                    <a:pt x="404" y="552"/>
                  </a:lnTo>
                  <a:lnTo>
                    <a:pt x="369" y="390"/>
                  </a:lnTo>
                  <a:lnTo>
                    <a:pt x="261" y="422"/>
                  </a:lnTo>
                  <a:lnTo>
                    <a:pt x="156" y="647"/>
                  </a:lnTo>
                  <a:lnTo>
                    <a:pt x="87" y="938"/>
                  </a:lnTo>
                  <a:lnTo>
                    <a:pt x="21" y="773"/>
                  </a:lnTo>
                  <a:lnTo>
                    <a:pt x="0" y="652"/>
                  </a:lnTo>
                  <a:lnTo>
                    <a:pt x="17" y="58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969240" y="5108400"/>
              <a:ext cx="675000" cy="381240"/>
            </a:xfrm>
            <a:custGeom>
              <a:avLst/>
              <a:gdLst/>
              <a:ahLst/>
              <a:rect l="0" t="0" r="r" b="b"/>
              <a:pathLst>
                <a:path w="1875" h="1059">
                  <a:moveTo>
                    <a:pt x="282" y="0"/>
                  </a:moveTo>
                  <a:lnTo>
                    <a:pt x="282" y="30"/>
                  </a:lnTo>
                  <a:lnTo>
                    <a:pt x="286" y="81"/>
                  </a:lnTo>
                  <a:lnTo>
                    <a:pt x="256" y="154"/>
                  </a:lnTo>
                  <a:lnTo>
                    <a:pt x="178" y="288"/>
                  </a:lnTo>
                  <a:lnTo>
                    <a:pt x="108" y="417"/>
                  </a:lnTo>
                  <a:lnTo>
                    <a:pt x="247" y="543"/>
                  </a:lnTo>
                  <a:lnTo>
                    <a:pt x="460" y="607"/>
                  </a:lnTo>
                  <a:lnTo>
                    <a:pt x="743" y="676"/>
                  </a:lnTo>
                  <a:lnTo>
                    <a:pt x="778" y="676"/>
                  </a:lnTo>
                  <a:lnTo>
                    <a:pt x="743" y="547"/>
                  </a:lnTo>
                  <a:lnTo>
                    <a:pt x="704" y="417"/>
                  </a:lnTo>
                  <a:lnTo>
                    <a:pt x="847" y="477"/>
                  </a:lnTo>
                  <a:lnTo>
                    <a:pt x="813" y="676"/>
                  </a:lnTo>
                  <a:lnTo>
                    <a:pt x="921" y="477"/>
                  </a:lnTo>
                  <a:lnTo>
                    <a:pt x="1061" y="577"/>
                  </a:lnTo>
                  <a:lnTo>
                    <a:pt x="1131" y="676"/>
                  </a:lnTo>
                  <a:lnTo>
                    <a:pt x="992" y="740"/>
                  </a:lnTo>
                  <a:lnTo>
                    <a:pt x="847" y="577"/>
                  </a:lnTo>
                  <a:lnTo>
                    <a:pt x="921" y="706"/>
                  </a:lnTo>
                  <a:lnTo>
                    <a:pt x="1040" y="719"/>
                  </a:lnTo>
                  <a:lnTo>
                    <a:pt x="1166" y="706"/>
                  </a:lnTo>
                  <a:lnTo>
                    <a:pt x="1379" y="706"/>
                  </a:lnTo>
                  <a:lnTo>
                    <a:pt x="1518" y="801"/>
                  </a:lnTo>
                  <a:lnTo>
                    <a:pt x="1518" y="900"/>
                  </a:lnTo>
                  <a:lnTo>
                    <a:pt x="1662" y="771"/>
                  </a:lnTo>
                  <a:lnTo>
                    <a:pt x="1766" y="577"/>
                  </a:lnTo>
                  <a:lnTo>
                    <a:pt x="1875" y="417"/>
                  </a:lnTo>
                  <a:lnTo>
                    <a:pt x="1840" y="676"/>
                  </a:lnTo>
                  <a:lnTo>
                    <a:pt x="1662" y="960"/>
                  </a:lnTo>
                  <a:lnTo>
                    <a:pt x="1509" y="994"/>
                  </a:lnTo>
                  <a:lnTo>
                    <a:pt x="1418" y="994"/>
                  </a:lnTo>
                  <a:lnTo>
                    <a:pt x="1344" y="994"/>
                  </a:lnTo>
                  <a:lnTo>
                    <a:pt x="1166" y="960"/>
                  </a:lnTo>
                  <a:lnTo>
                    <a:pt x="847" y="1059"/>
                  </a:lnTo>
                  <a:lnTo>
                    <a:pt x="765" y="1059"/>
                  </a:lnTo>
                  <a:lnTo>
                    <a:pt x="665" y="1050"/>
                  </a:lnTo>
                  <a:lnTo>
                    <a:pt x="495" y="994"/>
                  </a:lnTo>
                  <a:lnTo>
                    <a:pt x="530" y="900"/>
                  </a:lnTo>
                  <a:lnTo>
                    <a:pt x="569" y="801"/>
                  </a:lnTo>
                  <a:lnTo>
                    <a:pt x="108" y="577"/>
                  </a:lnTo>
                  <a:lnTo>
                    <a:pt x="30" y="511"/>
                  </a:lnTo>
                  <a:lnTo>
                    <a:pt x="0" y="417"/>
                  </a:lnTo>
                  <a:lnTo>
                    <a:pt x="86" y="232"/>
                  </a:lnTo>
                  <a:lnTo>
                    <a:pt x="178" y="124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72520" y="5084640"/>
              <a:ext cx="171720" cy="179640"/>
            </a:xfrm>
            <a:custGeom>
              <a:avLst/>
              <a:gdLst/>
              <a:ahLst/>
              <a:rect l="0" t="0" r="r" b="b"/>
              <a:pathLst>
                <a:path w="477" h="499">
                  <a:moveTo>
                    <a:pt x="33" y="0"/>
                  </a:moveTo>
                  <a:lnTo>
                    <a:pt x="112" y="46"/>
                  </a:lnTo>
                  <a:lnTo>
                    <a:pt x="239" y="92"/>
                  </a:lnTo>
                  <a:lnTo>
                    <a:pt x="339" y="0"/>
                  </a:lnTo>
                  <a:lnTo>
                    <a:pt x="477" y="92"/>
                  </a:lnTo>
                  <a:lnTo>
                    <a:pt x="468" y="154"/>
                  </a:lnTo>
                  <a:lnTo>
                    <a:pt x="468" y="238"/>
                  </a:lnTo>
                  <a:lnTo>
                    <a:pt x="477" y="344"/>
                  </a:lnTo>
                  <a:lnTo>
                    <a:pt x="305" y="373"/>
                  </a:lnTo>
                  <a:lnTo>
                    <a:pt x="200" y="499"/>
                  </a:lnTo>
                  <a:lnTo>
                    <a:pt x="66" y="373"/>
                  </a:lnTo>
                  <a:lnTo>
                    <a:pt x="171" y="344"/>
                  </a:lnTo>
                  <a:lnTo>
                    <a:pt x="339" y="310"/>
                  </a:lnTo>
                  <a:lnTo>
                    <a:pt x="339" y="184"/>
                  </a:lnTo>
                  <a:lnTo>
                    <a:pt x="239" y="252"/>
                  </a:lnTo>
                  <a:lnTo>
                    <a:pt x="133" y="184"/>
                  </a:lnTo>
                  <a:lnTo>
                    <a:pt x="0" y="9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923000" y="3063960"/>
              <a:ext cx="3038760" cy="590760"/>
            </a:xfrm>
            <a:custGeom>
              <a:avLst/>
              <a:gdLst/>
              <a:ahLst/>
              <a:rect l="0" t="0" r="r" b="b"/>
              <a:pathLst>
                <a:path w="8441" h="1641">
                  <a:moveTo>
                    <a:pt x="0" y="1433"/>
                  </a:moveTo>
                  <a:lnTo>
                    <a:pt x="1098" y="1289"/>
                  </a:lnTo>
                  <a:lnTo>
                    <a:pt x="1336" y="1285"/>
                  </a:lnTo>
                  <a:lnTo>
                    <a:pt x="1459" y="1285"/>
                  </a:lnTo>
                  <a:lnTo>
                    <a:pt x="1578" y="1289"/>
                  </a:lnTo>
                  <a:lnTo>
                    <a:pt x="1753" y="1276"/>
                  </a:lnTo>
                  <a:lnTo>
                    <a:pt x="2022" y="1233"/>
                  </a:lnTo>
                  <a:lnTo>
                    <a:pt x="2290" y="1198"/>
                  </a:lnTo>
                  <a:lnTo>
                    <a:pt x="2391" y="1194"/>
                  </a:lnTo>
                  <a:lnTo>
                    <a:pt x="2466" y="1203"/>
                  </a:lnTo>
                  <a:lnTo>
                    <a:pt x="2989" y="1515"/>
                  </a:lnTo>
                  <a:lnTo>
                    <a:pt x="3077" y="1519"/>
                  </a:lnTo>
                  <a:lnTo>
                    <a:pt x="3156" y="1524"/>
                  </a:lnTo>
                  <a:lnTo>
                    <a:pt x="3257" y="1524"/>
                  </a:lnTo>
                  <a:lnTo>
                    <a:pt x="3745" y="1394"/>
                  </a:lnTo>
                  <a:lnTo>
                    <a:pt x="4022" y="1263"/>
                  </a:lnTo>
                  <a:lnTo>
                    <a:pt x="4282" y="1029"/>
                  </a:lnTo>
                  <a:lnTo>
                    <a:pt x="4533" y="815"/>
                  </a:lnTo>
                  <a:lnTo>
                    <a:pt x="4660" y="746"/>
                  </a:lnTo>
                  <a:lnTo>
                    <a:pt x="4796" y="720"/>
                  </a:lnTo>
                  <a:lnTo>
                    <a:pt x="4898" y="694"/>
                  </a:lnTo>
                  <a:lnTo>
                    <a:pt x="5003" y="624"/>
                  </a:lnTo>
                  <a:lnTo>
                    <a:pt x="5113" y="555"/>
                  </a:lnTo>
                  <a:lnTo>
                    <a:pt x="5227" y="525"/>
                  </a:lnTo>
                  <a:lnTo>
                    <a:pt x="5372" y="520"/>
                  </a:lnTo>
                  <a:lnTo>
                    <a:pt x="5531" y="481"/>
                  </a:lnTo>
                  <a:lnTo>
                    <a:pt x="5851" y="355"/>
                  </a:lnTo>
                  <a:lnTo>
                    <a:pt x="6124" y="221"/>
                  </a:lnTo>
                  <a:lnTo>
                    <a:pt x="6295" y="160"/>
                  </a:lnTo>
                  <a:lnTo>
                    <a:pt x="6506" y="86"/>
                  </a:lnTo>
                  <a:lnTo>
                    <a:pt x="6972" y="13"/>
                  </a:lnTo>
                  <a:lnTo>
                    <a:pt x="7074" y="0"/>
                  </a:lnTo>
                  <a:lnTo>
                    <a:pt x="7153" y="0"/>
                  </a:lnTo>
                  <a:lnTo>
                    <a:pt x="7258" y="8"/>
                  </a:lnTo>
                  <a:lnTo>
                    <a:pt x="7755" y="69"/>
                  </a:lnTo>
                  <a:lnTo>
                    <a:pt x="8441" y="195"/>
                  </a:lnTo>
                  <a:lnTo>
                    <a:pt x="7091" y="104"/>
                  </a:lnTo>
                  <a:lnTo>
                    <a:pt x="6968" y="108"/>
                  </a:lnTo>
                  <a:lnTo>
                    <a:pt x="6832" y="125"/>
                  </a:lnTo>
                  <a:lnTo>
                    <a:pt x="6537" y="186"/>
                  </a:lnTo>
                  <a:lnTo>
                    <a:pt x="6181" y="286"/>
                  </a:lnTo>
                  <a:lnTo>
                    <a:pt x="5544" y="564"/>
                  </a:lnTo>
                  <a:lnTo>
                    <a:pt x="4994" y="785"/>
                  </a:lnTo>
                  <a:lnTo>
                    <a:pt x="4537" y="1007"/>
                  </a:lnTo>
                  <a:lnTo>
                    <a:pt x="4114" y="1389"/>
                  </a:lnTo>
                  <a:lnTo>
                    <a:pt x="3965" y="1528"/>
                  </a:lnTo>
                  <a:lnTo>
                    <a:pt x="3833" y="1589"/>
                  </a:lnTo>
                  <a:lnTo>
                    <a:pt x="3648" y="1589"/>
                  </a:lnTo>
                  <a:lnTo>
                    <a:pt x="3481" y="1593"/>
                  </a:lnTo>
                  <a:lnTo>
                    <a:pt x="3222" y="1619"/>
                  </a:lnTo>
                  <a:lnTo>
                    <a:pt x="3041" y="1641"/>
                  </a:lnTo>
                  <a:lnTo>
                    <a:pt x="2932" y="1641"/>
                  </a:lnTo>
                  <a:lnTo>
                    <a:pt x="2523" y="1446"/>
                  </a:lnTo>
                  <a:lnTo>
                    <a:pt x="2110" y="1407"/>
                  </a:lnTo>
                  <a:lnTo>
                    <a:pt x="1762" y="1354"/>
                  </a:lnTo>
                  <a:lnTo>
                    <a:pt x="1622" y="1424"/>
                  </a:lnTo>
                  <a:lnTo>
                    <a:pt x="1507" y="1437"/>
                  </a:lnTo>
                  <a:lnTo>
                    <a:pt x="1371" y="1441"/>
                  </a:lnTo>
                  <a:lnTo>
                    <a:pt x="1024" y="1394"/>
                  </a:lnTo>
                  <a:lnTo>
                    <a:pt x="654" y="1489"/>
                  </a:lnTo>
                  <a:lnTo>
                    <a:pt x="272" y="1550"/>
                  </a:lnTo>
                  <a:lnTo>
                    <a:pt x="0" y="143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61800" y="276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