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364520" y="3209760"/>
            <a:ext cx="1721160" cy="3646800"/>
            <a:chOff x="7364520" y="3209760"/>
            <a:chExt cx="1721160" cy="3646800"/>
          </a:xfrm>
        </p:grpSpPr>
        <p:sp>
          <p:nvSpPr>
            <p:cNvPr id="1" name=""/>
            <p:cNvSpPr/>
            <p:nvPr/>
          </p:nvSpPr>
          <p:spPr>
            <a:xfrm>
              <a:off x="7478640" y="3855960"/>
              <a:ext cx="1367280" cy="2954520"/>
            </a:xfrm>
            <a:custGeom>
              <a:avLst/>
              <a:gdLst/>
              <a:ahLst/>
              <a:rect l="0" t="0" r="r" b="b"/>
              <a:pathLst>
                <a:path w="3798" h="8207">
                  <a:moveTo>
                    <a:pt x="1888" y="8207"/>
                  </a:moveTo>
                  <a:lnTo>
                    <a:pt x="766" y="4717"/>
                  </a:lnTo>
                  <a:lnTo>
                    <a:pt x="0" y="0"/>
                  </a:lnTo>
                  <a:lnTo>
                    <a:pt x="2269" y="4021"/>
                  </a:lnTo>
                  <a:lnTo>
                    <a:pt x="3798" y="8207"/>
                  </a:lnTo>
                  <a:lnTo>
                    <a:pt x="1888" y="8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039160" y="3209760"/>
              <a:ext cx="1046520" cy="3180240"/>
            </a:xfrm>
            <a:custGeom>
              <a:avLst/>
              <a:gdLst/>
              <a:ahLst/>
              <a:rect l="0" t="0" r="r" b="b"/>
              <a:pathLst>
                <a:path w="2907" h="8834">
                  <a:moveTo>
                    <a:pt x="0" y="7564"/>
                  </a:moveTo>
                  <a:lnTo>
                    <a:pt x="843" y="4353"/>
                  </a:lnTo>
                  <a:lnTo>
                    <a:pt x="2907" y="0"/>
                  </a:lnTo>
                  <a:lnTo>
                    <a:pt x="2448" y="5083"/>
                  </a:lnTo>
                  <a:lnTo>
                    <a:pt x="1512" y="8834"/>
                  </a:lnTo>
                  <a:lnTo>
                    <a:pt x="0" y="7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132760" y="3354480"/>
              <a:ext cx="857520" cy="2838960"/>
            </a:xfrm>
            <a:custGeom>
              <a:avLst/>
              <a:gdLst/>
              <a:ahLst/>
              <a:rect l="0" t="0" r="r" b="b"/>
              <a:pathLst>
                <a:path w="2382" h="7886">
                  <a:moveTo>
                    <a:pt x="2382" y="0"/>
                  </a:moveTo>
                  <a:lnTo>
                    <a:pt x="57" y="7692"/>
                  </a:lnTo>
                  <a:lnTo>
                    <a:pt x="0" y="7886"/>
                  </a:lnTo>
                  <a:lnTo>
                    <a:pt x="238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631280" y="4827600"/>
              <a:ext cx="1187640" cy="1984680"/>
            </a:xfrm>
            <a:custGeom>
              <a:avLst/>
              <a:gdLst/>
              <a:ahLst/>
              <a:rect l="0" t="0" r="r" b="b"/>
              <a:pathLst>
                <a:path w="3299" h="5513">
                  <a:moveTo>
                    <a:pt x="2369" y="3934"/>
                  </a:moveTo>
                  <a:lnTo>
                    <a:pt x="3299" y="423"/>
                  </a:lnTo>
                  <a:lnTo>
                    <a:pt x="3092" y="282"/>
                  </a:lnTo>
                  <a:lnTo>
                    <a:pt x="2752" y="383"/>
                  </a:lnTo>
                  <a:lnTo>
                    <a:pt x="2567" y="260"/>
                  </a:lnTo>
                  <a:lnTo>
                    <a:pt x="2258" y="158"/>
                  </a:lnTo>
                  <a:lnTo>
                    <a:pt x="2139" y="0"/>
                  </a:lnTo>
                  <a:lnTo>
                    <a:pt x="1778" y="79"/>
                  </a:lnTo>
                  <a:lnTo>
                    <a:pt x="1694" y="149"/>
                  </a:lnTo>
                  <a:lnTo>
                    <a:pt x="0" y="5513"/>
                  </a:lnTo>
                  <a:lnTo>
                    <a:pt x="1870" y="5513"/>
                  </a:lnTo>
                  <a:lnTo>
                    <a:pt x="2369" y="3934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240760" y="3325680"/>
              <a:ext cx="756000" cy="1767240"/>
            </a:xfrm>
            <a:custGeom>
              <a:avLst/>
              <a:gdLst/>
              <a:ahLst/>
              <a:rect l="0" t="0" r="r" b="b"/>
              <a:pathLst>
                <a:path w="2100" h="4909">
                  <a:moveTo>
                    <a:pt x="0" y="4299"/>
                  </a:moveTo>
                  <a:lnTo>
                    <a:pt x="2021" y="61"/>
                  </a:lnTo>
                  <a:lnTo>
                    <a:pt x="2100" y="0"/>
                  </a:lnTo>
                  <a:lnTo>
                    <a:pt x="1586" y="4580"/>
                  </a:lnTo>
                  <a:lnTo>
                    <a:pt x="1202" y="4909"/>
                  </a:lnTo>
                  <a:lnTo>
                    <a:pt x="709" y="4909"/>
                  </a:lnTo>
                  <a:lnTo>
                    <a:pt x="313" y="4330"/>
                  </a:lnTo>
                  <a:lnTo>
                    <a:pt x="0" y="4299"/>
                  </a:lnTo>
                  <a:close/>
                </a:path>
              </a:pathLst>
            </a:custGeom>
            <a:solidFill>
              <a:srgbClr val="d0c07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75560" y="3216240"/>
              <a:ext cx="435240" cy="975240"/>
            </a:xfrm>
            <a:custGeom>
              <a:avLst/>
              <a:gdLst/>
              <a:ahLst/>
              <a:rect l="0" t="0" r="r" b="b"/>
              <a:pathLst>
                <a:path w="1209" h="2709">
                  <a:moveTo>
                    <a:pt x="0" y="2591"/>
                  </a:moveTo>
                  <a:lnTo>
                    <a:pt x="1209" y="0"/>
                  </a:lnTo>
                  <a:lnTo>
                    <a:pt x="954" y="2395"/>
                  </a:lnTo>
                  <a:lnTo>
                    <a:pt x="674" y="2709"/>
                  </a:lnTo>
                  <a:lnTo>
                    <a:pt x="401" y="2364"/>
                  </a:lnTo>
                  <a:lnTo>
                    <a:pt x="297" y="2425"/>
                  </a:lnTo>
                  <a:lnTo>
                    <a:pt x="0" y="25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32800" y="4073400"/>
              <a:ext cx="286200" cy="1019520"/>
            </a:xfrm>
            <a:custGeom>
              <a:avLst/>
              <a:gdLst/>
              <a:ahLst/>
              <a:rect l="0" t="0" r="r" b="b"/>
              <a:pathLst>
                <a:path w="795" h="2832">
                  <a:moveTo>
                    <a:pt x="513" y="349"/>
                  </a:moveTo>
                  <a:lnTo>
                    <a:pt x="0" y="2832"/>
                  </a:lnTo>
                  <a:lnTo>
                    <a:pt x="299" y="2692"/>
                  </a:lnTo>
                  <a:lnTo>
                    <a:pt x="504" y="2548"/>
                  </a:lnTo>
                  <a:lnTo>
                    <a:pt x="795" y="0"/>
                  </a:lnTo>
                  <a:lnTo>
                    <a:pt x="513" y="349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29600" y="4075200"/>
              <a:ext cx="484560" cy="854280"/>
            </a:xfrm>
            <a:custGeom>
              <a:avLst/>
              <a:gdLst/>
              <a:ahLst/>
              <a:rect l="0" t="0" r="r" b="b"/>
              <a:pathLst>
                <a:path w="1346" h="2373">
                  <a:moveTo>
                    <a:pt x="939" y="226"/>
                  </a:moveTo>
                  <a:lnTo>
                    <a:pt x="0" y="2198"/>
                  </a:lnTo>
                  <a:lnTo>
                    <a:pt x="121" y="2242"/>
                  </a:lnTo>
                  <a:lnTo>
                    <a:pt x="416" y="2373"/>
                  </a:lnTo>
                  <a:lnTo>
                    <a:pt x="1346" y="0"/>
                  </a:lnTo>
                  <a:lnTo>
                    <a:pt x="939" y="226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6440" y="4995720"/>
              <a:ext cx="487800" cy="1364040"/>
            </a:xfrm>
            <a:custGeom>
              <a:avLst/>
              <a:gdLst/>
              <a:ahLst/>
              <a:rect l="0" t="0" r="r" b="b"/>
              <a:pathLst>
                <a:path w="1355" h="3789">
                  <a:moveTo>
                    <a:pt x="835" y="293"/>
                  </a:moveTo>
                  <a:lnTo>
                    <a:pt x="0" y="3146"/>
                  </a:lnTo>
                  <a:lnTo>
                    <a:pt x="385" y="3789"/>
                  </a:lnTo>
                  <a:lnTo>
                    <a:pt x="1355" y="0"/>
                  </a:lnTo>
                  <a:lnTo>
                    <a:pt x="835" y="293"/>
                  </a:lnTo>
                  <a:close/>
                </a:path>
              </a:pathLst>
            </a:custGeom>
            <a:solidFill>
              <a:srgbClr val="000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18320" y="4875120"/>
              <a:ext cx="754560" cy="1981440"/>
            </a:xfrm>
            <a:custGeom>
              <a:avLst/>
              <a:gdLst/>
              <a:ahLst/>
              <a:rect l="0" t="0" r="r" b="b"/>
              <a:pathLst>
                <a:path w="2096" h="5504">
                  <a:moveTo>
                    <a:pt x="1678" y="0"/>
                  </a:moveTo>
                  <a:lnTo>
                    <a:pt x="0" y="5504"/>
                  </a:lnTo>
                  <a:lnTo>
                    <a:pt x="513" y="5346"/>
                  </a:lnTo>
                  <a:lnTo>
                    <a:pt x="2096" y="171"/>
                  </a:lnTo>
                  <a:lnTo>
                    <a:pt x="1678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574120" y="3220920"/>
              <a:ext cx="430560" cy="927360"/>
            </a:xfrm>
            <a:custGeom>
              <a:avLst/>
              <a:gdLst/>
              <a:ahLst/>
              <a:rect l="0" t="0" r="r" b="b"/>
              <a:pathLst>
                <a:path w="1196" h="2576">
                  <a:moveTo>
                    <a:pt x="1196" y="0"/>
                  </a:moveTo>
                  <a:lnTo>
                    <a:pt x="0" y="2576"/>
                  </a:lnTo>
                  <a:lnTo>
                    <a:pt x="405" y="2349"/>
                  </a:lnTo>
                  <a:lnTo>
                    <a:pt x="1196" y="0"/>
                  </a:lnTo>
                  <a:close/>
                </a:path>
              </a:pathLst>
            </a:custGeom>
            <a:solidFill>
              <a:srgbClr val="80a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55040" y="5419800"/>
              <a:ext cx="1054440" cy="1383120"/>
            </a:xfrm>
            <a:custGeom>
              <a:avLst/>
              <a:gdLst/>
              <a:ahLst/>
              <a:rect l="0" t="0" r="r" b="b"/>
              <a:pathLst>
                <a:path w="2929" h="3842">
                  <a:moveTo>
                    <a:pt x="2721" y="3419"/>
                  </a:moveTo>
                  <a:lnTo>
                    <a:pt x="1487" y="0"/>
                  </a:lnTo>
                  <a:lnTo>
                    <a:pt x="1234" y="0"/>
                  </a:lnTo>
                  <a:lnTo>
                    <a:pt x="1014" y="286"/>
                  </a:lnTo>
                  <a:lnTo>
                    <a:pt x="793" y="286"/>
                  </a:lnTo>
                  <a:lnTo>
                    <a:pt x="476" y="379"/>
                  </a:lnTo>
                  <a:lnTo>
                    <a:pt x="286" y="317"/>
                  </a:lnTo>
                  <a:lnTo>
                    <a:pt x="39" y="586"/>
                  </a:lnTo>
                  <a:lnTo>
                    <a:pt x="0" y="696"/>
                  </a:lnTo>
                  <a:lnTo>
                    <a:pt x="1261" y="3842"/>
                  </a:lnTo>
                  <a:lnTo>
                    <a:pt x="2929" y="3842"/>
                  </a:lnTo>
                  <a:lnTo>
                    <a:pt x="2721" y="3419"/>
                  </a:lnTo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7640" y="4143240"/>
              <a:ext cx="781560" cy="1553040"/>
            </a:xfrm>
            <a:custGeom>
              <a:avLst/>
              <a:gdLst/>
              <a:ahLst/>
              <a:rect l="0" t="0" r="r" b="b"/>
              <a:pathLst>
                <a:path w="2171" h="4314">
                  <a:moveTo>
                    <a:pt x="706" y="4218"/>
                  </a:moveTo>
                  <a:lnTo>
                    <a:pt x="0" y="0"/>
                  </a:lnTo>
                  <a:lnTo>
                    <a:pt x="1007" y="1302"/>
                  </a:lnTo>
                  <a:lnTo>
                    <a:pt x="2171" y="3552"/>
                  </a:lnTo>
                  <a:lnTo>
                    <a:pt x="2053" y="4029"/>
                  </a:lnTo>
                  <a:lnTo>
                    <a:pt x="1648" y="4314"/>
                  </a:lnTo>
                  <a:lnTo>
                    <a:pt x="1111" y="4200"/>
                  </a:lnTo>
                  <a:lnTo>
                    <a:pt x="706" y="4218"/>
                  </a:lnTo>
                  <a:close/>
                </a:path>
              </a:pathLst>
            </a:custGeom>
            <a:solidFill>
              <a:srgbClr val="d0c07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67760" y="3949560"/>
              <a:ext cx="397080" cy="925920"/>
            </a:xfrm>
            <a:custGeom>
              <a:avLst/>
              <a:gdLst/>
              <a:ahLst/>
              <a:rect l="0" t="0" r="r" b="b"/>
              <a:pathLst>
                <a:path w="1103" h="2572">
                  <a:moveTo>
                    <a:pt x="413" y="2572"/>
                  </a:moveTo>
                  <a:lnTo>
                    <a:pt x="0" y="34"/>
                  </a:lnTo>
                  <a:lnTo>
                    <a:pt x="8" y="0"/>
                  </a:lnTo>
                  <a:lnTo>
                    <a:pt x="1103" y="1851"/>
                  </a:lnTo>
                  <a:lnTo>
                    <a:pt x="969" y="2166"/>
                  </a:lnTo>
                  <a:lnTo>
                    <a:pt x="771" y="2118"/>
                  </a:lnTo>
                  <a:lnTo>
                    <a:pt x="569" y="2258"/>
                  </a:lnTo>
                  <a:lnTo>
                    <a:pt x="413" y="25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23080" y="4614840"/>
              <a:ext cx="464040" cy="1000440"/>
            </a:xfrm>
            <a:custGeom>
              <a:avLst/>
              <a:gdLst/>
              <a:ahLst/>
              <a:rect l="0" t="0" r="r" b="b"/>
              <a:pathLst>
                <a:path w="1289" h="2779">
                  <a:moveTo>
                    <a:pt x="0" y="310"/>
                  </a:moveTo>
                  <a:lnTo>
                    <a:pt x="1095" y="2779"/>
                  </a:lnTo>
                  <a:lnTo>
                    <a:pt x="1216" y="2495"/>
                  </a:lnTo>
                  <a:lnTo>
                    <a:pt x="1289" y="2250"/>
                  </a:lnTo>
                  <a:lnTo>
                    <a:pt x="116" y="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8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20040" y="4754520"/>
              <a:ext cx="289440" cy="914760"/>
            </a:xfrm>
            <a:custGeom>
              <a:avLst/>
              <a:gdLst/>
              <a:ahLst/>
              <a:rect l="0" t="0" r="r" b="b"/>
              <a:pathLst>
                <a:path w="804" h="2541">
                  <a:moveTo>
                    <a:pt x="0" y="349"/>
                  </a:moveTo>
                  <a:lnTo>
                    <a:pt x="338" y="2519"/>
                  </a:lnTo>
                  <a:lnTo>
                    <a:pt x="470" y="2541"/>
                  </a:lnTo>
                  <a:lnTo>
                    <a:pt x="804" y="2519"/>
                  </a:lnTo>
                  <a:lnTo>
                    <a:pt x="93" y="0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fff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24840" y="5429160"/>
              <a:ext cx="613080" cy="1391040"/>
            </a:xfrm>
            <a:custGeom>
              <a:avLst/>
              <a:gdLst/>
              <a:ahLst/>
              <a:rect l="0" t="0" r="r" b="b"/>
              <a:pathLst>
                <a:path w="1703" h="3864">
                  <a:moveTo>
                    <a:pt x="0" y="516"/>
                  </a:moveTo>
                  <a:lnTo>
                    <a:pt x="1303" y="3864"/>
                  </a:lnTo>
                  <a:lnTo>
                    <a:pt x="1703" y="3838"/>
                  </a:lnTo>
                  <a:lnTo>
                    <a:pt x="199" y="0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45320" y="5670720"/>
              <a:ext cx="627480" cy="1117800"/>
            </a:xfrm>
            <a:custGeom>
              <a:avLst/>
              <a:gdLst/>
              <a:ahLst/>
              <a:rect l="0" t="0" r="r" b="b"/>
              <a:pathLst>
                <a:path w="1743" h="3105">
                  <a:moveTo>
                    <a:pt x="0" y="0"/>
                  </a:moveTo>
                  <a:lnTo>
                    <a:pt x="1217" y="3105"/>
                  </a:lnTo>
                  <a:lnTo>
                    <a:pt x="1743" y="3105"/>
                  </a:lnTo>
                  <a:lnTo>
                    <a:pt x="47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370640" y="3963960"/>
              <a:ext cx="187560" cy="913320"/>
            </a:xfrm>
            <a:custGeom>
              <a:avLst/>
              <a:gdLst/>
              <a:ahLst/>
              <a:rect l="0" t="0" r="r" b="b"/>
              <a:pathLst>
                <a:path w="521" h="2537">
                  <a:moveTo>
                    <a:pt x="0" y="0"/>
                  </a:moveTo>
                  <a:lnTo>
                    <a:pt x="395" y="2537"/>
                  </a:lnTo>
                  <a:lnTo>
                    <a:pt x="521" y="22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a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104320" y="5070600"/>
              <a:ext cx="124200" cy="403560"/>
            </a:xfrm>
            <a:custGeom>
              <a:avLst/>
              <a:gdLst/>
              <a:ahLst/>
              <a:rect l="0" t="0" r="r" b="b"/>
              <a:pathLst>
                <a:path w="345" h="1121">
                  <a:moveTo>
                    <a:pt x="164" y="0"/>
                  </a:moveTo>
                  <a:lnTo>
                    <a:pt x="230" y="426"/>
                  </a:lnTo>
                  <a:lnTo>
                    <a:pt x="345" y="897"/>
                  </a:lnTo>
                  <a:lnTo>
                    <a:pt x="292" y="1121"/>
                  </a:lnTo>
                  <a:lnTo>
                    <a:pt x="238" y="974"/>
                  </a:lnTo>
                  <a:lnTo>
                    <a:pt x="0" y="525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213760" y="5402160"/>
              <a:ext cx="255960" cy="690840"/>
            </a:xfrm>
            <a:custGeom>
              <a:avLst/>
              <a:gdLst/>
              <a:ahLst/>
              <a:rect l="0" t="0" r="r" b="b"/>
              <a:pathLst>
                <a:path w="711" h="1919">
                  <a:moveTo>
                    <a:pt x="0" y="204"/>
                  </a:moveTo>
                  <a:lnTo>
                    <a:pt x="665" y="1919"/>
                  </a:lnTo>
                  <a:lnTo>
                    <a:pt x="711" y="1632"/>
                  </a:lnTo>
                  <a:lnTo>
                    <a:pt x="515" y="1288"/>
                  </a:lnTo>
                  <a:lnTo>
                    <a:pt x="311" y="796"/>
                  </a:lnTo>
                  <a:lnTo>
                    <a:pt x="161" y="395"/>
                  </a:lnTo>
                  <a:lnTo>
                    <a:pt x="63" y="0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5600" y="5978520"/>
              <a:ext cx="92520" cy="259200"/>
            </a:xfrm>
            <a:custGeom>
              <a:avLst/>
              <a:gdLst/>
              <a:ahLst/>
              <a:rect l="0" t="0" r="r" b="b"/>
              <a:pathLst>
                <a:path w="257" h="720">
                  <a:moveTo>
                    <a:pt x="59" y="0"/>
                  </a:moveTo>
                  <a:lnTo>
                    <a:pt x="257" y="328"/>
                  </a:lnTo>
                  <a:lnTo>
                    <a:pt x="197" y="720"/>
                  </a:lnTo>
                  <a:lnTo>
                    <a:pt x="0" y="234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364520" y="3960720"/>
              <a:ext cx="155520" cy="9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8574120" y="3382920"/>
              <a:ext cx="357120" cy="776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