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4280" y="571680"/>
            <a:ext cx="6508800" cy="8570880"/>
            <a:chOff x="44280" y="571680"/>
            <a:chExt cx="6508800" cy="8570880"/>
          </a:xfrm>
        </p:grpSpPr>
        <p:sp>
          <p:nvSpPr>
            <p:cNvPr id="1" name=""/>
            <p:cNvSpPr/>
            <p:nvPr/>
          </p:nvSpPr>
          <p:spPr>
            <a:xfrm>
              <a:off x="326880" y="1590840"/>
              <a:ext cx="6226200" cy="732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43080" y="571680"/>
              <a:ext cx="403560" cy="779760"/>
            </a:xfrm>
            <a:custGeom>
              <a:avLst/>
              <a:gdLst/>
              <a:ahLst/>
              <a:rect l="0" t="0" r="r" b="b"/>
              <a:pathLst>
                <a:path w="1121" h="2166">
                  <a:moveTo>
                    <a:pt x="0" y="0"/>
                  </a:moveTo>
                  <a:lnTo>
                    <a:pt x="1121" y="1108"/>
                  </a:lnTo>
                  <a:lnTo>
                    <a:pt x="0" y="216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20760" y="7058160"/>
              <a:ext cx="3184560" cy="18828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114560" y="7095960"/>
              <a:ext cx="949680" cy="601920"/>
            </a:xfrm>
            <a:custGeom>
              <a:avLst/>
              <a:gdLst/>
              <a:ahLst/>
              <a:rect l="0" t="0" r="r" b="b"/>
              <a:pathLst>
                <a:path w="2638" h="1672">
                  <a:moveTo>
                    <a:pt x="2638" y="1119"/>
                  </a:moveTo>
                  <a:lnTo>
                    <a:pt x="2590" y="1231"/>
                  </a:lnTo>
                  <a:lnTo>
                    <a:pt x="1375" y="1584"/>
                  </a:lnTo>
                  <a:lnTo>
                    <a:pt x="923" y="1668"/>
                  </a:lnTo>
                  <a:lnTo>
                    <a:pt x="832" y="1672"/>
                  </a:lnTo>
                  <a:lnTo>
                    <a:pt x="737" y="1672"/>
                  </a:lnTo>
                  <a:lnTo>
                    <a:pt x="542" y="1651"/>
                  </a:lnTo>
                  <a:lnTo>
                    <a:pt x="364" y="1589"/>
                  </a:lnTo>
                  <a:lnTo>
                    <a:pt x="212" y="1468"/>
                  </a:lnTo>
                  <a:lnTo>
                    <a:pt x="39" y="1210"/>
                  </a:lnTo>
                  <a:lnTo>
                    <a:pt x="4" y="1090"/>
                  </a:lnTo>
                  <a:lnTo>
                    <a:pt x="0" y="1040"/>
                  </a:lnTo>
                  <a:lnTo>
                    <a:pt x="0" y="982"/>
                  </a:lnTo>
                  <a:lnTo>
                    <a:pt x="60" y="794"/>
                  </a:lnTo>
                  <a:lnTo>
                    <a:pt x="199" y="636"/>
                  </a:lnTo>
                  <a:lnTo>
                    <a:pt x="524" y="432"/>
                  </a:lnTo>
                  <a:lnTo>
                    <a:pt x="698" y="361"/>
                  </a:lnTo>
                  <a:lnTo>
                    <a:pt x="1892" y="0"/>
                  </a:lnTo>
                  <a:lnTo>
                    <a:pt x="2035" y="70"/>
                  </a:lnTo>
                  <a:lnTo>
                    <a:pt x="2056" y="245"/>
                  </a:lnTo>
                  <a:lnTo>
                    <a:pt x="628" y="590"/>
                  </a:lnTo>
                  <a:lnTo>
                    <a:pt x="559" y="627"/>
                  </a:lnTo>
                  <a:lnTo>
                    <a:pt x="425" y="756"/>
                  </a:lnTo>
                  <a:lnTo>
                    <a:pt x="355" y="965"/>
                  </a:lnTo>
                  <a:lnTo>
                    <a:pt x="381" y="1106"/>
                  </a:lnTo>
                  <a:lnTo>
                    <a:pt x="472" y="1273"/>
                  </a:lnTo>
                  <a:lnTo>
                    <a:pt x="576" y="1360"/>
                  </a:lnTo>
                  <a:lnTo>
                    <a:pt x="702" y="1406"/>
                  </a:lnTo>
                  <a:lnTo>
                    <a:pt x="772" y="1410"/>
                  </a:lnTo>
                  <a:lnTo>
                    <a:pt x="845" y="1414"/>
                  </a:lnTo>
                  <a:lnTo>
                    <a:pt x="984" y="1393"/>
                  </a:lnTo>
                  <a:lnTo>
                    <a:pt x="1328" y="1273"/>
                  </a:lnTo>
                  <a:lnTo>
                    <a:pt x="2455" y="961"/>
                  </a:lnTo>
                  <a:lnTo>
                    <a:pt x="2538" y="1019"/>
                  </a:lnTo>
                  <a:lnTo>
                    <a:pt x="2638" y="11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662200" y="7777080"/>
              <a:ext cx="439560" cy="3049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44280" y="7448400"/>
              <a:ext cx="2751480" cy="1694160"/>
            </a:xfrm>
            <a:custGeom>
              <a:avLst/>
              <a:gdLst/>
              <a:ahLst/>
              <a:rect l="0" t="0" r="r" b="b"/>
              <a:pathLst>
                <a:path w="7643" h="4706">
                  <a:moveTo>
                    <a:pt x="7643" y="1227"/>
                  </a:moveTo>
                  <a:lnTo>
                    <a:pt x="7494" y="1202"/>
                  </a:lnTo>
                  <a:lnTo>
                    <a:pt x="7315" y="1194"/>
                  </a:lnTo>
                  <a:lnTo>
                    <a:pt x="7201" y="1189"/>
                  </a:lnTo>
                  <a:lnTo>
                    <a:pt x="7140" y="1189"/>
                  </a:lnTo>
                  <a:lnTo>
                    <a:pt x="7074" y="1194"/>
                  </a:lnTo>
                  <a:lnTo>
                    <a:pt x="6432" y="1311"/>
                  </a:lnTo>
                  <a:lnTo>
                    <a:pt x="6047" y="1450"/>
                  </a:lnTo>
                  <a:lnTo>
                    <a:pt x="5618" y="1660"/>
                  </a:lnTo>
                  <a:lnTo>
                    <a:pt x="5102" y="2039"/>
                  </a:lnTo>
                  <a:lnTo>
                    <a:pt x="4661" y="2502"/>
                  </a:lnTo>
                  <a:lnTo>
                    <a:pt x="3887" y="3499"/>
                  </a:lnTo>
                  <a:lnTo>
                    <a:pt x="3488" y="3940"/>
                  </a:lnTo>
                  <a:lnTo>
                    <a:pt x="3029" y="4289"/>
                  </a:lnTo>
                  <a:lnTo>
                    <a:pt x="2767" y="4416"/>
                  </a:lnTo>
                  <a:lnTo>
                    <a:pt x="2483" y="4495"/>
                  </a:lnTo>
                  <a:lnTo>
                    <a:pt x="2164" y="4533"/>
                  </a:lnTo>
                  <a:lnTo>
                    <a:pt x="1993" y="4533"/>
                  </a:lnTo>
                  <a:lnTo>
                    <a:pt x="1805" y="4516"/>
                  </a:lnTo>
                  <a:lnTo>
                    <a:pt x="1399" y="4390"/>
                  </a:lnTo>
                  <a:lnTo>
                    <a:pt x="979" y="4117"/>
                  </a:lnTo>
                  <a:lnTo>
                    <a:pt x="625" y="3726"/>
                  </a:lnTo>
                  <a:lnTo>
                    <a:pt x="402" y="3238"/>
                  </a:lnTo>
                  <a:lnTo>
                    <a:pt x="362" y="2973"/>
                  </a:lnTo>
                  <a:lnTo>
                    <a:pt x="362" y="2835"/>
                  </a:lnTo>
                  <a:lnTo>
                    <a:pt x="380" y="2687"/>
                  </a:lnTo>
                  <a:lnTo>
                    <a:pt x="463" y="2397"/>
                  </a:lnTo>
                  <a:lnTo>
                    <a:pt x="629" y="2093"/>
                  </a:lnTo>
                  <a:lnTo>
                    <a:pt x="874" y="1791"/>
                  </a:lnTo>
                  <a:lnTo>
                    <a:pt x="1219" y="1488"/>
                  </a:lnTo>
                  <a:lnTo>
                    <a:pt x="1661" y="1185"/>
                  </a:lnTo>
                  <a:lnTo>
                    <a:pt x="2216" y="887"/>
                  </a:lnTo>
                  <a:lnTo>
                    <a:pt x="3781" y="571"/>
                  </a:lnTo>
                  <a:lnTo>
                    <a:pt x="3327" y="201"/>
                  </a:lnTo>
                  <a:lnTo>
                    <a:pt x="3034" y="16"/>
                  </a:lnTo>
                  <a:lnTo>
                    <a:pt x="2955" y="0"/>
                  </a:lnTo>
                  <a:lnTo>
                    <a:pt x="2951" y="71"/>
                  </a:lnTo>
                  <a:lnTo>
                    <a:pt x="2456" y="370"/>
                  </a:lnTo>
                  <a:lnTo>
                    <a:pt x="1980" y="664"/>
                  </a:lnTo>
                  <a:lnTo>
                    <a:pt x="1399" y="988"/>
                  </a:lnTo>
                  <a:lnTo>
                    <a:pt x="935" y="1320"/>
                  </a:lnTo>
                  <a:lnTo>
                    <a:pt x="577" y="1648"/>
                  </a:lnTo>
                  <a:lnTo>
                    <a:pt x="310" y="1976"/>
                  </a:lnTo>
                  <a:lnTo>
                    <a:pt x="131" y="2300"/>
                  </a:lnTo>
                  <a:lnTo>
                    <a:pt x="30" y="2616"/>
                  </a:lnTo>
                  <a:lnTo>
                    <a:pt x="0" y="2919"/>
                  </a:lnTo>
                  <a:lnTo>
                    <a:pt x="30" y="3209"/>
                  </a:lnTo>
                  <a:lnTo>
                    <a:pt x="236" y="3726"/>
                  </a:lnTo>
                  <a:lnTo>
                    <a:pt x="568" y="4146"/>
                  </a:lnTo>
                  <a:lnTo>
                    <a:pt x="953" y="4449"/>
                  </a:lnTo>
                  <a:lnTo>
                    <a:pt x="1320" y="4609"/>
                  </a:lnTo>
                  <a:lnTo>
                    <a:pt x="1805" y="4689"/>
                  </a:lnTo>
                  <a:lnTo>
                    <a:pt x="2024" y="4701"/>
                  </a:lnTo>
                  <a:lnTo>
                    <a:pt x="2238" y="4706"/>
                  </a:lnTo>
                  <a:lnTo>
                    <a:pt x="2627" y="4659"/>
                  </a:lnTo>
                  <a:lnTo>
                    <a:pt x="2972" y="4554"/>
                  </a:lnTo>
                  <a:lnTo>
                    <a:pt x="3278" y="4407"/>
                  </a:lnTo>
                  <a:lnTo>
                    <a:pt x="3554" y="4218"/>
                  </a:lnTo>
                  <a:lnTo>
                    <a:pt x="4027" y="3760"/>
                  </a:lnTo>
                  <a:lnTo>
                    <a:pt x="4425" y="3242"/>
                  </a:lnTo>
                  <a:lnTo>
                    <a:pt x="4792" y="2717"/>
                  </a:lnTo>
                  <a:lnTo>
                    <a:pt x="5159" y="2257"/>
                  </a:lnTo>
                  <a:lnTo>
                    <a:pt x="5356" y="2072"/>
                  </a:lnTo>
                  <a:lnTo>
                    <a:pt x="5575" y="1917"/>
                  </a:lnTo>
                  <a:lnTo>
                    <a:pt x="5994" y="1711"/>
                  </a:lnTo>
                  <a:lnTo>
                    <a:pt x="6379" y="1568"/>
                  </a:lnTo>
                  <a:lnTo>
                    <a:pt x="7009" y="1450"/>
                  </a:lnTo>
                  <a:lnTo>
                    <a:pt x="7240" y="1442"/>
                  </a:lnTo>
                  <a:lnTo>
                    <a:pt x="7420" y="1454"/>
                  </a:lnTo>
                  <a:lnTo>
                    <a:pt x="7568" y="1480"/>
                  </a:lnTo>
                  <a:lnTo>
                    <a:pt x="7643" y="12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974960" y="6599160"/>
              <a:ext cx="1570320" cy="933840"/>
            </a:xfrm>
            <a:custGeom>
              <a:avLst/>
              <a:gdLst/>
              <a:ahLst/>
              <a:rect l="0" t="0" r="r" b="b"/>
              <a:pathLst>
                <a:path w="4362" h="2594">
                  <a:moveTo>
                    <a:pt x="4048" y="0"/>
                  </a:moveTo>
                  <a:lnTo>
                    <a:pt x="4157" y="251"/>
                  </a:lnTo>
                  <a:lnTo>
                    <a:pt x="4218" y="452"/>
                  </a:lnTo>
                  <a:lnTo>
                    <a:pt x="4227" y="540"/>
                  </a:lnTo>
                  <a:lnTo>
                    <a:pt x="4213" y="607"/>
                  </a:lnTo>
                  <a:lnTo>
                    <a:pt x="4087" y="780"/>
                  </a:lnTo>
                  <a:lnTo>
                    <a:pt x="3891" y="951"/>
                  </a:lnTo>
                  <a:lnTo>
                    <a:pt x="3350" y="1291"/>
                  </a:lnTo>
                  <a:lnTo>
                    <a:pt x="2665" y="1609"/>
                  </a:lnTo>
                  <a:lnTo>
                    <a:pt x="1918" y="1894"/>
                  </a:lnTo>
                  <a:lnTo>
                    <a:pt x="588" y="2326"/>
                  </a:lnTo>
                  <a:lnTo>
                    <a:pt x="0" y="2494"/>
                  </a:lnTo>
                  <a:lnTo>
                    <a:pt x="117" y="2594"/>
                  </a:lnTo>
                  <a:lnTo>
                    <a:pt x="706" y="2427"/>
                  </a:lnTo>
                  <a:lnTo>
                    <a:pt x="2045" y="1979"/>
                  </a:lnTo>
                  <a:lnTo>
                    <a:pt x="2787" y="1684"/>
                  </a:lnTo>
                  <a:lnTo>
                    <a:pt x="3472" y="1362"/>
                  </a:lnTo>
                  <a:lnTo>
                    <a:pt x="4017" y="1023"/>
                  </a:lnTo>
                  <a:lnTo>
                    <a:pt x="4213" y="851"/>
                  </a:lnTo>
                  <a:lnTo>
                    <a:pt x="4344" y="671"/>
                  </a:lnTo>
                  <a:lnTo>
                    <a:pt x="4362" y="607"/>
                  </a:lnTo>
                  <a:lnTo>
                    <a:pt x="4357" y="519"/>
                  </a:lnTo>
                  <a:lnTo>
                    <a:pt x="4305" y="314"/>
                  </a:lnTo>
                  <a:lnTo>
                    <a:pt x="4209" y="62"/>
                  </a:lnTo>
                  <a:lnTo>
                    <a:pt x="40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819440" y="6915240"/>
              <a:ext cx="1862640" cy="316440"/>
            </a:xfrm>
            <a:custGeom>
              <a:avLst/>
              <a:gdLst/>
              <a:ahLst/>
              <a:rect l="0" t="0" r="r" b="b"/>
              <a:pathLst>
                <a:path w="5174" h="879">
                  <a:moveTo>
                    <a:pt x="4825" y="628"/>
                  </a:moveTo>
                  <a:lnTo>
                    <a:pt x="4838" y="595"/>
                  </a:lnTo>
                  <a:lnTo>
                    <a:pt x="4668" y="452"/>
                  </a:lnTo>
                  <a:lnTo>
                    <a:pt x="4502" y="308"/>
                  </a:lnTo>
                  <a:lnTo>
                    <a:pt x="4275" y="205"/>
                  </a:lnTo>
                  <a:lnTo>
                    <a:pt x="3658" y="110"/>
                  </a:lnTo>
                  <a:lnTo>
                    <a:pt x="3484" y="106"/>
                  </a:lnTo>
                  <a:lnTo>
                    <a:pt x="3296" y="106"/>
                  </a:lnTo>
                  <a:lnTo>
                    <a:pt x="2908" y="131"/>
                  </a:lnTo>
                  <a:lnTo>
                    <a:pt x="2104" y="230"/>
                  </a:lnTo>
                  <a:lnTo>
                    <a:pt x="680" y="517"/>
                  </a:lnTo>
                  <a:lnTo>
                    <a:pt x="52" y="682"/>
                  </a:lnTo>
                  <a:lnTo>
                    <a:pt x="0" y="497"/>
                  </a:lnTo>
                  <a:lnTo>
                    <a:pt x="702" y="349"/>
                  </a:lnTo>
                  <a:lnTo>
                    <a:pt x="2279" y="94"/>
                  </a:lnTo>
                  <a:lnTo>
                    <a:pt x="3135" y="16"/>
                  </a:lnTo>
                  <a:lnTo>
                    <a:pt x="3532" y="0"/>
                  </a:lnTo>
                  <a:lnTo>
                    <a:pt x="3720" y="0"/>
                  </a:lnTo>
                  <a:lnTo>
                    <a:pt x="3900" y="8"/>
                  </a:lnTo>
                  <a:lnTo>
                    <a:pt x="4471" y="118"/>
                  </a:lnTo>
                  <a:lnTo>
                    <a:pt x="4650" y="226"/>
                  </a:lnTo>
                  <a:lnTo>
                    <a:pt x="4751" y="378"/>
                  </a:lnTo>
                  <a:lnTo>
                    <a:pt x="4812" y="484"/>
                  </a:lnTo>
                  <a:lnTo>
                    <a:pt x="4917" y="587"/>
                  </a:lnTo>
                  <a:lnTo>
                    <a:pt x="5061" y="690"/>
                  </a:lnTo>
                  <a:lnTo>
                    <a:pt x="5122" y="719"/>
                  </a:lnTo>
                  <a:lnTo>
                    <a:pt x="5157" y="752"/>
                  </a:lnTo>
                  <a:lnTo>
                    <a:pt x="5174" y="809"/>
                  </a:lnTo>
                  <a:lnTo>
                    <a:pt x="5061" y="879"/>
                  </a:lnTo>
                  <a:lnTo>
                    <a:pt x="4969" y="871"/>
                  </a:lnTo>
                  <a:lnTo>
                    <a:pt x="4903" y="830"/>
                  </a:lnTo>
                  <a:lnTo>
                    <a:pt x="4825" y="6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560680" y="7496280"/>
              <a:ext cx="754200" cy="558720"/>
            </a:xfrm>
            <a:prstGeom prst="ellipse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662200" y="7683480"/>
              <a:ext cx="430560" cy="329040"/>
            </a:xfrm>
            <a:custGeom>
              <a:avLst/>
              <a:gdLst/>
              <a:ahLst/>
              <a:rect l="0" t="0" r="r" b="b"/>
              <a:pathLst>
                <a:path w="1196" h="914">
                  <a:moveTo>
                    <a:pt x="981" y="865"/>
                  </a:moveTo>
                  <a:lnTo>
                    <a:pt x="1097" y="766"/>
                  </a:lnTo>
                  <a:lnTo>
                    <a:pt x="1166" y="650"/>
                  </a:lnTo>
                  <a:lnTo>
                    <a:pt x="1196" y="527"/>
                  </a:lnTo>
                  <a:lnTo>
                    <a:pt x="1196" y="461"/>
                  </a:lnTo>
                  <a:lnTo>
                    <a:pt x="1183" y="399"/>
                  </a:lnTo>
                  <a:lnTo>
                    <a:pt x="1054" y="176"/>
                  </a:lnTo>
                  <a:lnTo>
                    <a:pt x="780" y="24"/>
                  </a:lnTo>
                  <a:lnTo>
                    <a:pt x="617" y="0"/>
                  </a:lnTo>
                  <a:lnTo>
                    <a:pt x="535" y="0"/>
                  </a:lnTo>
                  <a:lnTo>
                    <a:pt x="458" y="12"/>
                  </a:lnTo>
                  <a:lnTo>
                    <a:pt x="188" y="135"/>
                  </a:lnTo>
                  <a:lnTo>
                    <a:pt x="25" y="354"/>
                  </a:lnTo>
                  <a:lnTo>
                    <a:pt x="0" y="486"/>
                  </a:lnTo>
                  <a:lnTo>
                    <a:pt x="0" y="556"/>
                  </a:lnTo>
                  <a:lnTo>
                    <a:pt x="17" y="625"/>
                  </a:lnTo>
                  <a:lnTo>
                    <a:pt x="72" y="713"/>
                  </a:lnTo>
                  <a:lnTo>
                    <a:pt x="175" y="787"/>
                  </a:lnTo>
                  <a:lnTo>
                    <a:pt x="466" y="886"/>
                  </a:lnTo>
                  <a:lnTo>
                    <a:pt x="622" y="910"/>
                  </a:lnTo>
                  <a:lnTo>
                    <a:pt x="699" y="914"/>
                  </a:lnTo>
                  <a:lnTo>
                    <a:pt x="771" y="914"/>
                  </a:lnTo>
                  <a:lnTo>
                    <a:pt x="981" y="865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814480" y="7699320"/>
              <a:ext cx="279360" cy="181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097080" y="7788240"/>
              <a:ext cx="173520" cy="151200"/>
            </a:xfrm>
            <a:custGeom>
              <a:avLst/>
              <a:gdLst/>
              <a:ahLst/>
              <a:rect l="0" t="0" r="r" b="b"/>
              <a:pathLst>
                <a:path w="482" h="420">
                  <a:moveTo>
                    <a:pt x="71" y="0"/>
                  </a:moveTo>
                  <a:lnTo>
                    <a:pt x="482" y="67"/>
                  </a:lnTo>
                  <a:lnTo>
                    <a:pt x="432" y="232"/>
                  </a:lnTo>
                  <a:lnTo>
                    <a:pt x="335" y="329"/>
                  </a:lnTo>
                  <a:lnTo>
                    <a:pt x="226" y="420"/>
                  </a:lnTo>
                  <a:lnTo>
                    <a:pt x="0" y="79"/>
                  </a:lnTo>
                  <a:lnTo>
                    <a:pt x="16" y="31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85880" y="7731000"/>
              <a:ext cx="265320" cy="252720"/>
            </a:xfrm>
            <a:custGeom>
              <a:avLst/>
              <a:gdLst/>
              <a:ahLst/>
              <a:rect l="0" t="0" r="r" b="b"/>
              <a:pathLst>
                <a:path w="737" h="702">
                  <a:moveTo>
                    <a:pt x="505" y="76"/>
                  </a:moveTo>
                  <a:lnTo>
                    <a:pt x="0" y="0"/>
                  </a:lnTo>
                  <a:lnTo>
                    <a:pt x="0" y="114"/>
                  </a:lnTo>
                  <a:lnTo>
                    <a:pt x="92" y="389"/>
                  </a:lnTo>
                  <a:lnTo>
                    <a:pt x="413" y="702"/>
                  </a:lnTo>
                  <a:lnTo>
                    <a:pt x="737" y="274"/>
                  </a:lnTo>
                  <a:lnTo>
                    <a:pt x="505" y="7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5440" y="7383600"/>
              <a:ext cx="2573640" cy="1735560"/>
            </a:xfrm>
            <a:custGeom>
              <a:avLst/>
              <a:gdLst/>
              <a:ahLst/>
              <a:rect l="0" t="0" r="r" b="b"/>
              <a:pathLst>
                <a:path w="7149" h="4821">
                  <a:moveTo>
                    <a:pt x="7149" y="992"/>
                  </a:moveTo>
                  <a:lnTo>
                    <a:pt x="7070" y="984"/>
                  </a:lnTo>
                  <a:lnTo>
                    <a:pt x="7022" y="984"/>
                  </a:lnTo>
                  <a:lnTo>
                    <a:pt x="6961" y="988"/>
                  </a:lnTo>
                  <a:lnTo>
                    <a:pt x="6799" y="1009"/>
                  </a:lnTo>
                  <a:lnTo>
                    <a:pt x="6305" y="1160"/>
                  </a:lnTo>
                  <a:lnTo>
                    <a:pt x="5557" y="1523"/>
                  </a:lnTo>
                  <a:lnTo>
                    <a:pt x="5046" y="1906"/>
                  </a:lnTo>
                  <a:lnTo>
                    <a:pt x="4613" y="2381"/>
                  </a:lnTo>
                  <a:lnTo>
                    <a:pt x="3848" y="3428"/>
                  </a:lnTo>
                  <a:lnTo>
                    <a:pt x="3449" y="3900"/>
                  </a:lnTo>
                  <a:lnTo>
                    <a:pt x="2994" y="4266"/>
                  </a:lnTo>
                  <a:lnTo>
                    <a:pt x="2736" y="4397"/>
                  </a:lnTo>
                  <a:lnTo>
                    <a:pt x="2448" y="4489"/>
                  </a:lnTo>
                  <a:lnTo>
                    <a:pt x="2129" y="4531"/>
                  </a:lnTo>
                  <a:lnTo>
                    <a:pt x="1963" y="4531"/>
                  </a:lnTo>
                  <a:lnTo>
                    <a:pt x="1775" y="4514"/>
                  </a:lnTo>
                  <a:lnTo>
                    <a:pt x="1368" y="4388"/>
                  </a:lnTo>
                  <a:lnTo>
                    <a:pt x="948" y="4115"/>
                  </a:lnTo>
                  <a:lnTo>
                    <a:pt x="594" y="3724"/>
                  </a:lnTo>
                  <a:lnTo>
                    <a:pt x="371" y="3235"/>
                  </a:lnTo>
                  <a:lnTo>
                    <a:pt x="332" y="2966"/>
                  </a:lnTo>
                  <a:lnTo>
                    <a:pt x="332" y="2831"/>
                  </a:lnTo>
                  <a:lnTo>
                    <a:pt x="349" y="2684"/>
                  </a:lnTo>
                  <a:lnTo>
                    <a:pt x="432" y="2394"/>
                  </a:lnTo>
                  <a:lnTo>
                    <a:pt x="598" y="2091"/>
                  </a:lnTo>
                  <a:lnTo>
                    <a:pt x="843" y="1788"/>
                  </a:lnTo>
                  <a:lnTo>
                    <a:pt x="1189" y="1481"/>
                  </a:lnTo>
                  <a:lnTo>
                    <a:pt x="1630" y="1177"/>
                  </a:lnTo>
                  <a:lnTo>
                    <a:pt x="2185" y="883"/>
                  </a:lnTo>
                  <a:lnTo>
                    <a:pt x="3200" y="668"/>
                  </a:lnTo>
                  <a:lnTo>
                    <a:pt x="3021" y="248"/>
                  </a:lnTo>
                  <a:lnTo>
                    <a:pt x="2916" y="29"/>
                  </a:lnTo>
                  <a:lnTo>
                    <a:pt x="2902" y="0"/>
                  </a:lnTo>
                  <a:lnTo>
                    <a:pt x="2920" y="67"/>
                  </a:lnTo>
                  <a:lnTo>
                    <a:pt x="1980" y="660"/>
                  </a:lnTo>
                  <a:lnTo>
                    <a:pt x="1399" y="984"/>
                  </a:lnTo>
                  <a:lnTo>
                    <a:pt x="931" y="1321"/>
                  </a:lnTo>
                  <a:lnTo>
                    <a:pt x="572" y="1658"/>
                  </a:lnTo>
                  <a:lnTo>
                    <a:pt x="306" y="1994"/>
                  </a:lnTo>
                  <a:lnTo>
                    <a:pt x="131" y="2326"/>
                  </a:lnTo>
                  <a:lnTo>
                    <a:pt x="34" y="2650"/>
                  </a:lnTo>
                  <a:lnTo>
                    <a:pt x="0" y="2961"/>
                  </a:lnTo>
                  <a:lnTo>
                    <a:pt x="34" y="3264"/>
                  </a:lnTo>
                  <a:lnTo>
                    <a:pt x="236" y="3804"/>
                  </a:lnTo>
                  <a:lnTo>
                    <a:pt x="568" y="4249"/>
                  </a:lnTo>
                  <a:lnTo>
                    <a:pt x="957" y="4565"/>
                  </a:lnTo>
                  <a:lnTo>
                    <a:pt x="1324" y="4729"/>
                  </a:lnTo>
                  <a:lnTo>
                    <a:pt x="1809" y="4809"/>
                  </a:lnTo>
                  <a:lnTo>
                    <a:pt x="2028" y="4821"/>
                  </a:lnTo>
                  <a:lnTo>
                    <a:pt x="2242" y="4817"/>
                  </a:lnTo>
                  <a:lnTo>
                    <a:pt x="2636" y="4758"/>
                  </a:lnTo>
                  <a:lnTo>
                    <a:pt x="2981" y="4640"/>
                  </a:lnTo>
                  <a:lnTo>
                    <a:pt x="3292" y="4481"/>
                  </a:lnTo>
                  <a:lnTo>
                    <a:pt x="3571" y="4275"/>
                  </a:lnTo>
                  <a:lnTo>
                    <a:pt x="4058" y="3774"/>
                  </a:lnTo>
                  <a:lnTo>
                    <a:pt x="4464" y="3214"/>
                  </a:lnTo>
                  <a:lnTo>
                    <a:pt x="4836" y="2654"/>
                  </a:lnTo>
                  <a:lnTo>
                    <a:pt x="5212" y="2171"/>
                  </a:lnTo>
                  <a:lnTo>
                    <a:pt x="5413" y="1977"/>
                  </a:lnTo>
                  <a:lnTo>
                    <a:pt x="5632" y="1822"/>
                  </a:lnTo>
                  <a:lnTo>
                    <a:pt x="6353" y="1460"/>
                  </a:lnTo>
                  <a:lnTo>
                    <a:pt x="6803" y="1304"/>
                  </a:lnTo>
                  <a:lnTo>
                    <a:pt x="6939" y="1283"/>
                  </a:lnTo>
                  <a:lnTo>
                    <a:pt x="7035" y="1279"/>
                  </a:lnTo>
                  <a:lnTo>
                    <a:pt x="7101" y="1287"/>
                  </a:lnTo>
                  <a:lnTo>
                    <a:pt x="7149" y="992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665360" y="7756560"/>
              <a:ext cx="927360" cy="613080"/>
            </a:xfrm>
            <a:custGeom>
              <a:avLst/>
              <a:gdLst/>
              <a:ahLst/>
              <a:rect l="0" t="0" r="r" b="b"/>
              <a:pathLst>
                <a:path w="2576" h="1703">
                  <a:moveTo>
                    <a:pt x="0" y="1703"/>
                  </a:moveTo>
                  <a:lnTo>
                    <a:pt x="143" y="1486"/>
                  </a:lnTo>
                  <a:lnTo>
                    <a:pt x="607" y="979"/>
                  </a:lnTo>
                  <a:lnTo>
                    <a:pt x="959" y="686"/>
                  </a:lnTo>
                  <a:lnTo>
                    <a:pt x="1408" y="412"/>
                  </a:lnTo>
                  <a:lnTo>
                    <a:pt x="1942" y="170"/>
                  </a:lnTo>
                  <a:lnTo>
                    <a:pt x="2576" y="0"/>
                  </a:lnTo>
                  <a:lnTo>
                    <a:pt x="2576" y="87"/>
                  </a:lnTo>
                  <a:lnTo>
                    <a:pt x="1985" y="228"/>
                  </a:lnTo>
                  <a:lnTo>
                    <a:pt x="1464" y="445"/>
                  </a:lnTo>
                  <a:lnTo>
                    <a:pt x="1024" y="707"/>
                  </a:lnTo>
                  <a:lnTo>
                    <a:pt x="660" y="991"/>
                  </a:lnTo>
                  <a:lnTo>
                    <a:pt x="169" y="1486"/>
                  </a:lnTo>
                  <a:lnTo>
                    <a:pt x="0" y="1703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71640" y="8894880"/>
              <a:ext cx="300240" cy="144720"/>
            </a:xfrm>
            <a:custGeom>
              <a:avLst/>
              <a:gdLst/>
              <a:ahLst/>
              <a:rect l="0" t="0" r="r" b="b"/>
              <a:pathLst>
                <a:path w="834" h="402">
                  <a:moveTo>
                    <a:pt x="0" y="402"/>
                  </a:moveTo>
                  <a:lnTo>
                    <a:pt x="505" y="198"/>
                  </a:lnTo>
                  <a:lnTo>
                    <a:pt x="834" y="0"/>
                  </a:lnTo>
                  <a:lnTo>
                    <a:pt x="667" y="156"/>
                  </a:lnTo>
                  <a:lnTo>
                    <a:pt x="487" y="262"/>
                  </a:lnTo>
                  <a:lnTo>
                    <a:pt x="0" y="402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80808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946160" y="6546960"/>
              <a:ext cx="1568880" cy="930600"/>
            </a:xfrm>
            <a:custGeom>
              <a:avLst/>
              <a:gdLst/>
              <a:ahLst/>
              <a:rect l="0" t="0" r="r" b="b"/>
              <a:pathLst>
                <a:path w="4358" h="2585">
                  <a:moveTo>
                    <a:pt x="4049" y="0"/>
                  </a:moveTo>
                  <a:lnTo>
                    <a:pt x="4158" y="250"/>
                  </a:lnTo>
                  <a:lnTo>
                    <a:pt x="4219" y="451"/>
                  </a:lnTo>
                  <a:lnTo>
                    <a:pt x="4227" y="539"/>
                  </a:lnTo>
                  <a:lnTo>
                    <a:pt x="4214" y="606"/>
                  </a:lnTo>
                  <a:lnTo>
                    <a:pt x="4088" y="777"/>
                  </a:lnTo>
                  <a:lnTo>
                    <a:pt x="3892" y="949"/>
                  </a:lnTo>
                  <a:lnTo>
                    <a:pt x="3351" y="1283"/>
                  </a:lnTo>
                  <a:lnTo>
                    <a:pt x="2665" y="1602"/>
                  </a:lnTo>
                  <a:lnTo>
                    <a:pt x="1924" y="1890"/>
                  </a:lnTo>
                  <a:lnTo>
                    <a:pt x="588" y="2321"/>
                  </a:lnTo>
                  <a:lnTo>
                    <a:pt x="0" y="2488"/>
                  </a:lnTo>
                  <a:lnTo>
                    <a:pt x="117" y="2585"/>
                  </a:lnTo>
                  <a:lnTo>
                    <a:pt x="706" y="2417"/>
                  </a:lnTo>
                  <a:lnTo>
                    <a:pt x="2046" y="1974"/>
                  </a:lnTo>
                  <a:lnTo>
                    <a:pt x="2787" y="1681"/>
                  </a:lnTo>
                  <a:lnTo>
                    <a:pt x="3477" y="1359"/>
                  </a:lnTo>
                  <a:lnTo>
                    <a:pt x="4018" y="1016"/>
                  </a:lnTo>
                  <a:lnTo>
                    <a:pt x="4214" y="844"/>
                  </a:lnTo>
                  <a:lnTo>
                    <a:pt x="4345" y="669"/>
                  </a:lnTo>
                  <a:lnTo>
                    <a:pt x="4358" y="606"/>
                  </a:lnTo>
                  <a:lnTo>
                    <a:pt x="4358" y="514"/>
                  </a:lnTo>
                  <a:lnTo>
                    <a:pt x="4306" y="313"/>
                  </a:lnTo>
                  <a:lnTo>
                    <a:pt x="4206" y="58"/>
                  </a:lnTo>
                  <a:lnTo>
                    <a:pt x="404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960560" y="6548400"/>
              <a:ext cx="1554480" cy="929160"/>
            </a:xfrm>
            <a:custGeom>
              <a:avLst/>
              <a:gdLst/>
              <a:ahLst/>
              <a:rect l="0" t="0" r="r" b="b"/>
              <a:pathLst>
                <a:path w="4318" h="2581">
                  <a:moveTo>
                    <a:pt x="4065" y="0"/>
                  </a:moveTo>
                  <a:lnTo>
                    <a:pt x="4178" y="250"/>
                  </a:lnTo>
                  <a:lnTo>
                    <a:pt x="4239" y="459"/>
                  </a:lnTo>
                  <a:lnTo>
                    <a:pt x="4252" y="547"/>
                  </a:lnTo>
                  <a:lnTo>
                    <a:pt x="4239" y="614"/>
                  </a:lnTo>
                  <a:lnTo>
                    <a:pt x="4108" y="787"/>
                  </a:lnTo>
                  <a:lnTo>
                    <a:pt x="3916" y="958"/>
                  </a:lnTo>
                  <a:lnTo>
                    <a:pt x="3371" y="1301"/>
                  </a:lnTo>
                  <a:lnTo>
                    <a:pt x="2682" y="1627"/>
                  </a:lnTo>
                  <a:lnTo>
                    <a:pt x="1936" y="1924"/>
                  </a:lnTo>
                  <a:lnTo>
                    <a:pt x="593" y="2372"/>
                  </a:lnTo>
                  <a:lnTo>
                    <a:pt x="0" y="2544"/>
                  </a:lnTo>
                  <a:lnTo>
                    <a:pt x="78" y="2581"/>
                  </a:lnTo>
                  <a:lnTo>
                    <a:pt x="667" y="2414"/>
                  </a:lnTo>
                  <a:lnTo>
                    <a:pt x="2005" y="1971"/>
                  </a:lnTo>
                  <a:lnTo>
                    <a:pt x="2748" y="1677"/>
                  </a:lnTo>
                  <a:lnTo>
                    <a:pt x="3437" y="1355"/>
                  </a:lnTo>
                  <a:lnTo>
                    <a:pt x="3977" y="1012"/>
                  </a:lnTo>
                  <a:lnTo>
                    <a:pt x="4174" y="841"/>
                  </a:lnTo>
                  <a:lnTo>
                    <a:pt x="4305" y="665"/>
                  </a:lnTo>
                  <a:lnTo>
                    <a:pt x="4318" y="602"/>
                  </a:lnTo>
                  <a:lnTo>
                    <a:pt x="4318" y="510"/>
                  </a:lnTo>
                  <a:lnTo>
                    <a:pt x="4265" y="309"/>
                  </a:lnTo>
                  <a:lnTo>
                    <a:pt x="4165" y="54"/>
                  </a:lnTo>
                  <a:lnTo>
                    <a:pt x="4065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771560" y="6862680"/>
              <a:ext cx="1876680" cy="298800"/>
            </a:xfrm>
            <a:custGeom>
              <a:avLst/>
              <a:gdLst/>
              <a:ahLst/>
              <a:rect l="0" t="0" r="r" b="b"/>
              <a:pathLst>
                <a:path w="5213" h="830">
                  <a:moveTo>
                    <a:pt x="5112" y="830"/>
                  </a:moveTo>
                  <a:lnTo>
                    <a:pt x="5016" y="555"/>
                  </a:lnTo>
                  <a:lnTo>
                    <a:pt x="4920" y="348"/>
                  </a:lnTo>
                  <a:lnTo>
                    <a:pt x="4807" y="225"/>
                  </a:lnTo>
                  <a:lnTo>
                    <a:pt x="4292" y="114"/>
                  </a:lnTo>
                  <a:lnTo>
                    <a:pt x="3964" y="102"/>
                  </a:lnTo>
                  <a:lnTo>
                    <a:pt x="3790" y="102"/>
                  </a:lnTo>
                  <a:lnTo>
                    <a:pt x="3602" y="110"/>
                  </a:lnTo>
                  <a:lnTo>
                    <a:pt x="2816" y="184"/>
                  </a:lnTo>
                  <a:lnTo>
                    <a:pt x="1999" y="316"/>
                  </a:lnTo>
                  <a:lnTo>
                    <a:pt x="602" y="612"/>
                  </a:lnTo>
                  <a:lnTo>
                    <a:pt x="0" y="764"/>
                  </a:lnTo>
                  <a:lnTo>
                    <a:pt x="43" y="637"/>
                  </a:lnTo>
                  <a:lnTo>
                    <a:pt x="654" y="489"/>
                  </a:lnTo>
                  <a:lnTo>
                    <a:pt x="2073" y="196"/>
                  </a:lnTo>
                  <a:lnTo>
                    <a:pt x="2895" y="77"/>
                  </a:lnTo>
                  <a:lnTo>
                    <a:pt x="3689" y="4"/>
                  </a:lnTo>
                  <a:lnTo>
                    <a:pt x="4047" y="0"/>
                  </a:lnTo>
                  <a:lnTo>
                    <a:pt x="4375" y="16"/>
                  </a:lnTo>
                  <a:lnTo>
                    <a:pt x="4881" y="143"/>
                  </a:lnTo>
                  <a:lnTo>
                    <a:pt x="4999" y="262"/>
                  </a:lnTo>
                  <a:lnTo>
                    <a:pt x="5104" y="460"/>
                  </a:lnTo>
                  <a:lnTo>
                    <a:pt x="5213" y="715"/>
                  </a:lnTo>
                  <a:lnTo>
                    <a:pt x="5112" y="8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44560" y="7613640"/>
              <a:ext cx="351360" cy="68760"/>
            </a:xfrm>
            <a:custGeom>
              <a:avLst/>
              <a:gdLst/>
              <a:ahLst/>
              <a:rect l="0" t="0" r="r" b="b"/>
              <a:pathLst>
                <a:path w="976" h="191">
                  <a:moveTo>
                    <a:pt x="0" y="191"/>
                  </a:moveTo>
                  <a:lnTo>
                    <a:pt x="394" y="53"/>
                  </a:lnTo>
                  <a:lnTo>
                    <a:pt x="976" y="0"/>
                  </a:lnTo>
                  <a:lnTo>
                    <a:pt x="428" y="93"/>
                  </a:lnTo>
                  <a:lnTo>
                    <a:pt x="21" y="176"/>
                  </a:lnTo>
                  <a:lnTo>
                    <a:pt x="0" y="191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47600" y="7799400"/>
              <a:ext cx="478080" cy="805320"/>
            </a:xfrm>
            <a:custGeom>
              <a:avLst/>
              <a:gdLst/>
              <a:ahLst/>
              <a:rect l="0" t="0" r="r" b="b"/>
              <a:pathLst>
                <a:path w="1328" h="2237">
                  <a:moveTo>
                    <a:pt x="47" y="2237"/>
                  </a:moveTo>
                  <a:lnTo>
                    <a:pt x="8" y="1899"/>
                  </a:lnTo>
                  <a:lnTo>
                    <a:pt x="0" y="1736"/>
                  </a:lnTo>
                  <a:lnTo>
                    <a:pt x="8" y="1576"/>
                  </a:lnTo>
                  <a:lnTo>
                    <a:pt x="60" y="1275"/>
                  </a:lnTo>
                  <a:lnTo>
                    <a:pt x="163" y="995"/>
                  </a:lnTo>
                  <a:lnTo>
                    <a:pt x="326" y="736"/>
                  </a:lnTo>
                  <a:lnTo>
                    <a:pt x="554" y="488"/>
                  </a:lnTo>
                  <a:lnTo>
                    <a:pt x="851" y="263"/>
                  </a:lnTo>
                  <a:lnTo>
                    <a:pt x="1225" y="45"/>
                  </a:lnTo>
                  <a:lnTo>
                    <a:pt x="1328" y="0"/>
                  </a:lnTo>
                  <a:lnTo>
                    <a:pt x="648" y="493"/>
                  </a:lnTo>
                  <a:lnTo>
                    <a:pt x="403" y="749"/>
                  </a:lnTo>
                  <a:lnTo>
                    <a:pt x="219" y="1012"/>
                  </a:lnTo>
                  <a:lnTo>
                    <a:pt x="94" y="1283"/>
                  </a:lnTo>
                  <a:lnTo>
                    <a:pt x="25" y="1580"/>
                  </a:lnTo>
                  <a:lnTo>
                    <a:pt x="12" y="1736"/>
                  </a:lnTo>
                  <a:lnTo>
                    <a:pt x="12" y="1811"/>
                  </a:lnTo>
                  <a:lnTo>
                    <a:pt x="8" y="1895"/>
                  </a:lnTo>
                  <a:lnTo>
                    <a:pt x="47" y="2237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763640" y="6877080"/>
              <a:ext cx="1884600" cy="284400"/>
            </a:xfrm>
            <a:custGeom>
              <a:avLst/>
              <a:gdLst/>
              <a:ahLst/>
              <a:rect l="0" t="0" r="r" b="b"/>
              <a:pathLst>
                <a:path w="5235" h="790">
                  <a:moveTo>
                    <a:pt x="5134" y="790"/>
                  </a:moveTo>
                  <a:lnTo>
                    <a:pt x="5038" y="516"/>
                  </a:lnTo>
                  <a:lnTo>
                    <a:pt x="4942" y="310"/>
                  </a:lnTo>
                  <a:lnTo>
                    <a:pt x="4829" y="188"/>
                  </a:lnTo>
                  <a:lnTo>
                    <a:pt x="4314" y="77"/>
                  </a:lnTo>
                  <a:lnTo>
                    <a:pt x="3986" y="65"/>
                  </a:lnTo>
                  <a:lnTo>
                    <a:pt x="3812" y="65"/>
                  </a:lnTo>
                  <a:lnTo>
                    <a:pt x="3624" y="73"/>
                  </a:lnTo>
                  <a:lnTo>
                    <a:pt x="2838" y="147"/>
                  </a:lnTo>
                  <a:lnTo>
                    <a:pt x="2021" y="278"/>
                  </a:lnTo>
                  <a:lnTo>
                    <a:pt x="624" y="573"/>
                  </a:lnTo>
                  <a:lnTo>
                    <a:pt x="21" y="724"/>
                  </a:lnTo>
                  <a:lnTo>
                    <a:pt x="0" y="659"/>
                  </a:lnTo>
                  <a:lnTo>
                    <a:pt x="615" y="508"/>
                  </a:lnTo>
                  <a:lnTo>
                    <a:pt x="2038" y="208"/>
                  </a:lnTo>
                  <a:lnTo>
                    <a:pt x="2864" y="85"/>
                  </a:lnTo>
                  <a:lnTo>
                    <a:pt x="3659" y="8"/>
                  </a:lnTo>
                  <a:lnTo>
                    <a:pt x="4021" y="0"/>
                  </a:lnTo>
                  <a:lnTo>
                    <a:pt x="4191" y="0"/>
                  </a:lnTo>
                  <a:lnTo>
                    <a:pt x="4349" y="16"/>
                  </a:lnTo>
                  <a:lnTo>
                    <a:pt x="4855" y="139"/>
                  </a:lnTo>
                  <a:lnTo>
                    <a:pt x="4982" y="253"/>
                  </a:lnTo>
                  <a:lnTo>
                    <a:pt x="5104" y="438"/>
                  </a:lnTo>
                  <a:lnTo>
                    <a:pt x="5235" y="675"/>
                  </a:lnTo>
                  <a:lnTo>
                    <a:pt x="5134" y="79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1096920" y="7085160"/>
              <a:ext cx="951120" cy="573480"/>
            </a:xfrm>
            <a:custGeom>
              <a:avLst/>
              <a:gdLst/>
              <a:ahLst/>
              <a:rect l="0" t="0" r="r" b="b"/>
              <a:pathLst>
                <a:path w="2642" h="1593">
                  <a:moveTo>
                    <a:pt x="2625" y="1152"/>
                  </a:moveTo>
                  <a:lnTo>
                    <a:pt x="1386" y="1506"/>
                  </a:lnTo>
                  <a:lnTo>
                    <a:pt x="934" y="1589"/>
                  </a:lnTo>
                  <a:lnTo>
                    <a:pt x="842" y="1589"/>
                  </a:lnTo>
                  <a:lnTo>
                    <a:pt x="742" y="1593"/>
                  </a:lnTo>
                  <a:lnTo>
                    <a:pt x="551" y="1568"/>
                  </a:lnTo>
                  <a:lnTo>
                    <a:pt x="373" y="1506"/>
                  </a:lnTo>
                  <a:lnTo>
                    <a:pt x="221" y="1390"/>
                  </a:lnTo>
                  <a:lnTo>
                    <a:pt x="47" y="1127"/>
                  </a:lnTo>
                  <a:lnTo>
                    <a:pt x="8" y="1006"/>
                  </a:lnTo>
                  <a:lnTo>
                    <a:pt x="0" y="956"/>
                  </a:lnTo>
                  <a:lnTo>
                    <a:pt x="0" y="898"/>
                  </a:lnTo>
                  <a:lnTo>
                    <a:pt x="52" y="711"/>
                  </a:lnTo>
                  <a:lnTo>
                    <a:pt x="173" y="553"/>
                  </a:lnTo>
                  <a:lnTo>
                    <a:pt x="477" y="349"/>
                  </a:lnTo>
                  <a:lnTo>
                    <a:pt x="642" y="278"/>
                  </a:lnTo>
                  <a:lnTo>
                    <a:pt x="1929" y="0"/>
                  </a:lnTo>
                  <a:lnTo>
                    <a:pt x="2012" y="49"/>
                  </a:lnTo>
                  <a:lnTo>
                    <a:pt x="2034" y="112"/>
                  </a:lnTo>
                  <a:lnTo>
                    <a:pt x="2012" y="203"/>
                  </a:lnTo>
                  <a:lnTo>
                    <a:pt x="864" y="470"/>
                  </a:lnTo>
                  <a:lnTo>
                    <a:pt x="742" y="508"/>
                  </a:lnTo>
                  <a:lnTo>
                    <a:pt x="503" y="632"/>
                  </a:lnTo>
                  <a:lnTo>
                    <a:pt x="404" y="728"/>
                  </a:lnTo>
                  <a:lnTo>
                    <a:pt x="347" y="853"/>
                  </a:lnTo>
                  <a:lnTo>
                    <a:pt x="347" y="923"/>
                  </a:lnTo>
                  <a:lnTo>
                    <a:pt x="364" y="1002"/>
                  </a:lnTo>
                  <a:lnTo>
                    <a:pt x="482" y="1189"/>
                  </a:lnTo>
                  <a:lnTo>
                    <a:pt x="590" y="1273"/>
                  </a:lnTo>
                  <a:lnTo>
                    <a:pt x="721" y="1315"/>
                  </a:lnTo>
                  <a:lnTo>
                    <a:pt x="864" y="1323"/>
                  </a:lnTo>
                  <a:lnTo>
                    <a:pt x="1007" y="1311"/>
                  </a:lnTo>
                  <a:lnTo>
                    <a:pt x="1347" y="1215"/>
                  </a:lnTo>
                  <a:lnTo>
                    <a:pt x="2468" y="878"/>
                  </a:lnTo>
                  <a:lnTo>
                    <a:pt x="2551" y="882"/>
                  </a:lnTo>
                  <a:lnTo>
                    <a:pt x="2590" y="919"/>
                  </a:lnTo>
                  <a:lnTo>
                    <a:pt x="2642" y="1035"/>
                  </a:lnTo>
                  <a:lnTo>
                    <a:pt x="2625" y="1152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370320" y="6500880"/>
              <a:ext cx="116280" cy="111600"/>
            </a:xfrm>
            <a:custGeom>
              <a:avLst/>
              <a:gdLst/>
              <a:ahLst/>
              <a:rect l="0" t="0" r="r" b="b"/>
              <a:pathLst>
                <a:path w="323" h="310">
                  <a:moveTo>
                    <a:pt x="323" y="240"/>
                  </a:moveTo>
                  <a:lnTo>
                    <a:pt x="283" y="42"/>
                  </a:lnTo>
                  <a:lnTo>
                    <a:pt x="295" y="27"/>
                  </a:lnTo>
                  <a:lnTo>
                    <a:pt x="237" y="0"/>
                  </a:lnTo>
                  <a:lnTo>
                    <a:pt x="61" y="54"/>
                  </a:lnTo>
                  <a:lnTo>
                    <a:pt x="0" y="110"/>
                  </a:lnTo>
                  <a:lnTo>
                    <a:pt x="127" y="298"/>
                  </a:lnTo>
                  <a:lnTo>
                    <a:pt x="196" y="310"/>
                  </a:lnTo>
                  <a:lnTo>
                    <a:pt x="270" y="279"/>
                  </a:lnTo>
                  <a:lnTo>
                    <a:pt x="323" y="24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129120" y="6899400"/>
              <a:ext cx="479880" cy="201960"/>
            </a:xfrm>
            <a:custGeom>
              <a:avLst/>
              <a:gdLst/>
              <a:ahLst/>
              <a:rect l="0" t="0" r="r" b="b"/>
              <a:pathLst>
                <a:path w="1333" h="561">
                  <a:moveTo>
                    <a:pt x="0" y="4"/>
                  </a:moveTo>
                  <a:lnTo>
                    <a:pt x="457" y="28"/>
                  </a:lnTo>
                  <a:lnTo>
                    <a:pt x="806" y="73"/>
                  </a:lnTo>
                  <a:lnTo>
                    <a:pt x="1049" y="146"/>
                  </a:lnTo>
                  <a:lnTo>
                    <a:pt x="1204" y="378"/>
                  </a:lnTo>
                  <a:lnTo>
                    <a:pt x="1286" y="561"/>
                  </a:lnTo>
                  <a:lnTo>
                    <a:pt x="1333" y="536"/>
                  </a:lnTo>
                  <a:lnTo>
                    <a:pt x="1256" y="362"/>
                  </a:lnTo>
                  <a:lnTo>
                    <a:pt x="1109" y="133"/>
                  </a:lnTo>
                  <a:lnTo>
                    <a:pt x="837" y="40"/>
                  </a:lnTo>
                  <a:lnTo>
                    <a:pt x="466" y="0"/>
                  </a:lnTo>
                  <a:lnTo>
                    <a:pt x="288" y="0"/>
                  </a:lnTo>
                  <a:lnTo>
                    <a:pt x="211" y="0"/>
                  </a:lnTo>
                  <a:lnTo>
                    <a:pt x="142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76360" y="7415280"/>
              <a:ext cx="518040" cy="149760"/>
            </a:xfrm>
            <a:custGeom>
              <a:avLst/>
              <a:gdLst/>
              <a:ahLst/>
              <a:rect l="0" t="0" r="r" b="b"/>
              <a:pathLst>
                <a:path w="1439" h="416">
                  <a:moveTo>
                    <a:pt x="1439" y="0"/>
                  </a:moveTo>
                  <a:lnTo>
                    <a:pt x="0" y="416"/>
                  </a:lnTo>
                  <a:lnTo>
                    <a:pt x="855" y="228"/>
                  </a:lnTo>
                  <a:lnTo>
                    <a:pt x="1439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343160" y="7095960"/>
              <a:ext cx="422640" cy="86040"/>
            </a:xfrm>
            <a:custGeom>
              <a:avLst/>
              <a:gdLst/>
              <a:ahLst/>
              <a:rect l="0" t="0" r="r" b="b"/>
              <a:pathLst>
                <a:path w="1174" h="239">
                  <a:moveTo>
                    <a:pt x="1174" y="0"/>
                  </a:moveTo>
                  <a:lnTo>
                    <a:pt x="0" y="239"/>
                  </a:lnTo>
                  <a:lnTo>
                    <a:pt x="617" y="144"/>
                  </a:lnTo>
                  <a:lnTo>
                    <a:pt x="1174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3581280" y="7078680"/>
              <a:ext cx="108360" cy="114840"/>
            </a:xfrm>
            <a:custGeom>
              <a:avLst/>
              <a:gdLst/>
              <a:ahLst/>
              <a:rect l="0" t="0" r="r" b="b"/>
              <a:pathLst>
                <a:path w="301" h="319">
                  <a:moveTo>
                    <a:pt x="192" y="3"/>
                  </a:moveTo>
                  <a:lnTo>
                    <a:pt x="301" y="177"/>
                  </a:lnTo>
                  <a:lnTo>
                    <a:pt x="285" y="256"/>
                  </a:lnTo>
                  <a:lnTo>
                    <a:pt x="144" y="319"/>
                  </a:lnTo>
                  <a:lnTo>
                    <a:pt x="43" y="284"/>
                  </a:lnTo>
                  <a:lnTo>
                    <a:pt x="0" y="66"/>
                  </a:lnTo>
                  <a:lnTo>
                    <a:pt x="51" y="15"/>
                  </a:lnTo>
                  <a:lnTo>
                    <a:pt x="132" y="0"/>
                  </a:lnTo>
                  <a:lnTo>
                    <a:pt x="192" y="3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598920" y="7145280"/>
              <a:ext cx="87840" cy="46440"/>
            </a:xfrm>
            <a:custGeom>
              <a:avLst/>
              <a:gdLst/>
              <a:ahLst/>
              <a:rect l="0" t="0" r="r" b="b"/>
              <a:pathLst>
                <a:path w="244" h="129">
                  <a:moveTo>
                    <a:pt x="114" y="0"/>
                  </a:moveTo>
                  <a:lnTo>
                    <a:pt x="31" y="36"/>
                  </a:lnTo>
                  <a:lnTo>
                    <a:pt x="0" y="86"/>
                  </a:lnTo>
                  <a:lnTo>
                    <a:pt x="43" y="122"/>
                  </a:lnTo>
                  <a:lnTo>
                    <a:pt x="134" y="129"/>
                  </a:lnTo>
                  <a:lnTo>
                    <a:pt x="213" y="93"/>
                  </a:lnTo>
                  <a:lnTo>
                    <a:pt x="244" y="43"/>
                  </a:lnTo>
                  <a:lnTo>
                    <a:pt x="201" y="7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1496880" y="7421400"/>
              <a:ext cx="486000" cy="138600"/>
            </a:xfrm>
            <a:custGeom>
              <a:avLst/>
              <a:gdLst/>
              <a:ahLst/>
              <a:rect l="0" t="0" r="r" b="b"/>
              <a:pathLst>
                <a:path w="1350" h="385">
                  <a:moveTo>
                    <a:pt x="1350" y="0"/>
                  </a:moveTo>
                  <a:lnTo>
                    <a:pt x="781" y="182"/>
                  </a:lnTo>
                  <a:lnTo>
                    <a:pt x="0" y="385"/>
                  </a:lnTo>
                  <a:lnTo>
                    <a:pt x="798" y="214"/>
                  </a:lnTo>
                  <a:lnTo>
                    <a:pt x="135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1365120" y="7097760"/>
              <a:ext cx="406800" cy="81360"/>
            </a:xfrm>
            <a:custGeom>
              <a:avLst/>
              <a:gdLst/>
              <a:ahLst/>
              <a:rect l="0" t="0" r="r" b="b"/>
              <a:pathLst>
                <a:path w="1130" h="226">
                  <a:moveTo>
                    <a:pt x="548" y="124"/>
                  </a:moveTo>
                  <a:lnTo>
                    <a:pt x="0" y="226"/>
                  </a:lnTo>
                  <a:lnTo>
                    <a:pt x="586" y="139"/>
                  </a:lnTo>
                  <a:lnTo>
                    <a:pt x="1130" y="0"/>
                  </a:lnTo>
                  <a:lnTo>
                    <a:pt x="548" y="124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2576520" y="7716960"/>
              <a:ext cx="230400" cy="146520"/>
            </a:xfrm>
            <a:custGeom>
              <a:avLst/>
              <a:gdLst/>
              <a:ahLst/>
              <a:rect l="0" t="0" r="r" b="b"/>
              <a:pathLst>
                <a:path w="640" h="407">
                  <a:moveTo>
                    <a:pt x="0" y="50"/>
                  </a:moveTo>
                  <a:lnTo>
                    <a:pt x="434" y="0"/>
                  </a:lnTo>
                  <a:lnTo>
                    <a:pt x="614" y="170"/>
                  </a:lnTo>
                  <a:lnTo>
                    <a:pt x="640" y="288"/>
                  </a:lnTo>
                  <a:lnTo>
                    <a:pt x="544" y="407"/>
                  </a:lnTo>
                  <a:lnTo>
                    <a:pt x="26" y="365"/>
                  </a:lnTo>
                  <a:lnTo>
                    <a:pt x="96" y="288"/>
                  </a:lnTo>
                  <a:lnTo>
                    <a:pt x="96" y="161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2597040" y="7740720"/>
              <a:ext cx="170280" cy="38520"/>
            </a:xfrm>
            <a:custGeom>
              <a:avLst/>
              <a:gdLst/>
              <a:ahLst/>
              <a:rect l="0" t="0" r="r" b="b"/>
              <a:pathLst>
                <a:path w="473" h="107">
                  <a:moveTo>
                    <a:pt x="0" y="41"/>
                  </a:moveTo>
                  <a:lnTo>
                    <a:pt x="407" y="0"/>
                  </a:lnTo>
                  <a:lnTo>
                    <a:pt x="473" y="52"/>
                  </a:lnTo>
                  <a:lnTo>
                    <a:pt x="24" y="107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2604960" y="7763040"/>
              <a:ext cx="197280" cy="43200"/>
            </a:xfrm>
            <a:custGeom>
              <a:avLst/>
              <a:gdLst/>
              <a:ahLst/>
              <a:rect l="0" t="0" r="r" b="b"/>
              <a:pathLst>
                <a:path w="548" h="120">
                  <a:moveTo>
                    <a:pt x="4" y="52"/>
                  </a:moveTo>
                  <a:lnTo>
                    <a:pt x="486" y="0"/>
                  </a:lnTo>
                  <a:lnTo>
                    <a:pt x="548" y="56"/>
                  </a:lnTo>
                  <a:lnTo>
                    <a:pt x="0" y="120"/>
                  </a:lnTo>
                  <a:lnTo>
                    <a:pt x="4" y="52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698920" y="7461360"/>
              <a:ext cx="523800" cy="360360"/>
            </a:xfrm>
            <a:prstGeom prst="ellipse">
              <a:avLst/>
            </a:prstGeom>
            <a:solidFill>
              <a:srgbClr val="40404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2736720" y="7477200"/>
              <a:ext cx="434880" cy="29844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668600" y="7783560"/>
              <a:ext cx="930600" cy="584640"/>
            </a:xfrm>
            <a:custGeom>
              <a:avLst/>
              <a:gdLst/>
              <a:ahLst/>
              <a:rect l="0" t="0" r="r" b="b"/>
              <a:pathLst>
                <a:path w="2585" h="1624">
                  <a:moveTo>
                    <a:pt x="0" y="1624"/>
                  </a:moveTo>
                  <a:lnTo>
                    <a:pt x="160" y="1412"/>
                  </a:lnTo>
                  <a:lnTo>
                    <a:pt x="647" y="920"/>
                  </a:lnTo>
                  <a:lnTo>
                    <a:pt x="1011" y="641"/>
                  </a:lnTo>
                  <a:lnTo>
                    <a:pt x="1455" y="374"/>
                  </a:lnTo>
                  <a:lnTo>
                    <a:pt x="1981" y="153"/>
                  </a:lnTo>
                  <a:lnTo>
                    <a:pt x="2585" y="0"/>
                  </a:lnTo>
                  <a:lnTo>
                    <a:pt x="2585" y="83"/>
                  </a:lnTo>
                  <a:lnTo>
                    <a:pt x="1990" y="224"/>
                  </a:lnTo>
                  <a:lnTo>
                    <a:pt x="1473" y="433"/>
                  </a:lnTo>
                  <a:lnTo>
                    <a:pt x="1029" y="683"/>
                  </a:lnTo>
                  <a:lnTo>
                    <a:pt x="660" y="953"/>
                  </a:lnTo>
                  <a:lnTo>
                    <a:pt x="169" y="1420"/>
                  </a:lnTo>
                  <a:lnTo>
                    <a:pt x="0" y="1624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3371760" y="6500880"/>
              <a:ext cx="89280" cy="30600"/>
            </a:xfrm>
            <a:custGeom>
              <a:avLst/>
              <a:gdLst/>
              <a:ahLst/>
              <a:rect l="0" t="0" r="r" b="b"/>
              <a:pathLst>
                <a:path w="248" h="85">
                  <a:moveTo>
                    <a:pt x="100" y="19"/>
                  </a:moveTo>
                  <a:lnTo>
                    <a:pt x="0" y="82"/>
                  </a:lnTo>
                  <a:lnTo>
                    <a:pt x="55" y="85"/>
                  </a:lnTo>
                  <a:lnTo>
                    <a:pt x="148" y="66"/>
                  </a:lnTo>
                  <a:lnTo>
                    <a:pt x="248" y="6"/>
                  </a:lnTo>
                  <a:lnTo>
                    <a:pt x="193" y="0"/>
                  </a:lnTo>
                  <a:lnTo>
                    <a:pt x="100" y="19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771480" y="241200"/>
            <a:ext cx="55436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19040" y="1752480"/>
            <a:ext cx="6058080" cy="64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</dc:creator>
  <dc:description/>
  <dc:language>en-US</dc:language>
  <cp:lastModifiedBy>Mike Kolbe</cp:lastModifiedBy>
  <cp:revision>0</cp:revision>
  <dc:subject/>
  <dc:title/>
</cp:coreProperties>
</file>