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85960" y="-9360"/>
            <a:ext cx="9798480" cy="8253720"/>
          </a:xfrm>
          <a:custGeom>
            <a:avLst/>
            <a:gdLst/>
            <a:ahLst/>
            <a:rect l="0" t="0" r="r" b="b"/>
            <a:pathLst>
              <a:path w="27218" h="22927">
                <a:moveTo>
                  <a:pt x="27214" y="22927"/>
                </a:moveTo>
                <a:lnTo>
                  <a:pt x="0" y="22927"/>
                </a:lnTo>
                <a:lnTo>
                  <a:pt x="0" y="8"/>
                </a:lnTo>
                <a:lnTo>
                  <a:pt x="19875" y="0"/>
                </a:lnTo>
                <a:lnTo>
                  <a:pt x="19932" y="0"/>
                </a:lnTo>
                <a:lnTo>
                  <a:pt x="19999" y="0"/>
                </a:lnTo>
                <a:lnTo>
                  <a:pt x="20091" y="0"/>
                </a:lnTo>
                <a:lnTo>
                  <a:pt x="20599" y="70"/>
                </a:lnTo>
                <a:lnTo>
                  <a:pt x="21168" y="308"/>
                </a:lnTo>
                <a:lnTo>
                  <a:pt x="21411" y="524"/>
                </a:lnTo>
                <a:lnTo>
                  <a:pt x="21587" y="824"/>
                </a:lnTo>
                <a:lnTo>
                  <a:pt x="22024" y="2460"/>
                </a:lnTo>
                <a:lnTo>
                  <a:pt x="22346" y="3779"/>
                </a:lnTo>
                <a:lnTo>
                  <a:pt x="25102" y="3223"/>
                </a:lnTo>
                <a:lnTo>
                  <a:pt x="25340" y="3197"/>
                </a:lnTo>
                <a:lnTo>
                  <a:pt x="25596" y="3179"/>
                </a:lnTo>
                <a:lnTo>
                  <a:pt x="25745" y="3175"/>
                </a:lnTo>
                <a:lnTo>
                  <a:pt x="25820" y="3175"/>
                </a:lnTo>
                <a:lnTo>
                  <a:pt x="25904" y="3170"/>
                </a:lnTo>
                <a:lnTo>
                  <a:pt x="26552" y="3249"/>
                </a:lnTo>
                <a:lnTo>
                  <a:pt x="26830" y="3351"/>
                </a:lnTo>
                <a:lnTo>
                  <a:pt x="27038" y="3523"/>
                </a:lnTo>
                <a:lnTo>
                  <a:pt x="27161" y="3748"/>
                </a:lnTo>
                <a:lnTo>
                  <a:pt x="27214" y="3959"/>
                </a:lnTo>
                <a:lnTo>
                  <a:pt x="27218" y="4043"/>
                </a:lnTo>
                <a:lnTo>
                  <a:pt x="27218" y="4109"/>
                </a:lnTo>
                <a:lnTo>
                  <a:pt x="27214" y="4171"/>
                </a:lnTo>
                <a:lnTo>
                  <a:pt x="27214" y="4802"/>
                </a:lnTo>
                <a:lnTo>
                  <a:pt x="27214" y="22927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80808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730920" y="87480"/>
            <a:ext cx="2091240" cy="1329120"/>
          </a:xfrm>
          <a:custGeom>
            <a:avLst/>
            <a:gdLst/>
            <a:ahLst/>
            <a:rect l="0" t="0" r="r" b="b"/>
            <a:pathLst>
              <a:path w="5809" h="3692">
                <a:moveTo>
                  <a:pt x="0" y="0"/>
                </a:moveTo>
                <a:lnTo>
                  <a:pt x="5809" y="3101"/>
                </a:lnTo>
                <a:lnTo>
                  <a:pt x="1638" y="369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8080"/>
              </a:gs>
            </a:gsLst>
            <a:lin ang="81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45480" y="-34920"/>
            <a:ext cx="121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4141"/>
                </a:solidFill>
                <a:latin typeface="Arial"/>
                <a:ea typeface="Arial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7845480" y="577800"/>
            <a:ext cx="121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4141"/>
                </a:solidFill>
                <a:latin typeface="Arial"/>
                <a:ea typeface="Arial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735600" y="98280"/>
            <a:ext cx="2068560" cy="111600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5680" y="276120"/>
            <a:ext cx="6800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</dc:creator>
  <dc:description/>
  <dc:language>en-US</dc:language>
  <cp:lastModifiedBy>Mike Kolbe</cp:lastModifiedBy>
  <cp:revision>0</cp:revision>
  <dc:subject/>
  <dc:title/>
</cp:coreProperties>
</file>