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47640" y="5087880"/>
            <a:ext cx="10914480" cy="1757880"/>
            <a:chOff x="-647640" y="5087880"/>
            <a:chExt cx="10914480" cy="1757880"/>
          </a:xfrm>
        </p:grpSpPr>
        <p:sp>
          <p:nvSpPr>
            <p:cNvPr id="1" name=""/>
            <p:cNvSpPr/>
            <p:nvPr/>
          </p:nvSpPr>
          <p:spPr>
            <a:xfrm>
              <a:off x="1195560" y="5087880"/>
              <a:ext cx="8142480" cy="1716480"/>
            </a:xfrm>
            <a:custGeom>
              <a:avLst/>
              <a:gdLst/>
              <a:ahLst/>
              <a:rect l="0" t="0" r="r" b="b"/>
              <a:pathLst>
                <a:path w="22618" h="4768">
                  <a:moveTo>
                    <a:pt x="116" y="209"/>
                  </a:moveTo>
                  <a:lnTo>
                    <a:pt x="1463" y="0"/>
                  </a:lnTo>
                  <a:lnTo>
                    <a:pt x="1988" y="270"/>
                  </a:lnTo>
                  <a:lnTo>
                    <a:pt x="3039" y="449"/>
                  </a:lnTo>
                  <a:lnTo>
                    <a:pt x="4137" y="327"/>
                  </a:lnTo>
                  <a:lnTo>
                    <a:pt x="4639" y="178"/>
                  </a:lnTo>
                  <a:lnTo>
                    <a:pt x="5324" y="422"/>
                  </a:lnTo>
                  <a:lnTo>
                    <a:pt x="6239" y="779"/>
                  </a:lnTo>
                  <a:lnTo>
                    <a:pt x="6967" y="658"/>
                  </a:lnTo>
                  <a:lnTo>
                    <a:pt x="7472" y="840"/>
                  </a:lnTo>
                  <a:lnTo>
                    <a:pt x="8204" y="1137"/>
                  </a:lnTo>
                  <a:lnTo>
                    <a:pt x="10555" y="1351"/>
                  </a:lnTo>
                  <a:lnTo>
                    <a:pt x="11514" y="1682"/>
                  </a:lnTo>
                  <a:lnTo>
                    <a:pt x="12202" y="1682"/>
                  </a:lnTo>
                  <a:lnTo>
                    <a:pt x="12611" y="1469"/>
                  </a:lnTo>
                  <a:lnTo>
                    <a:pt x="13709" y="1830"/>
                  </a:lnTo>
                  <a:lnTo>
                    <a:pt x="15355" y="2097"/>
                  </a:lnTo>
                  <a:lnTo>
                    <a:pt x="15811" y="2070"/>
                  </a:lnTo>
                  <a:lnTo>
                    <a:pt x="16908" y="2310"/>
                  </a:lnTo>
                  <a:lnTo>
                    <a:pt x="18737" y="1861"/>
                  </a:lnTo>
                  <a:lnTo>
                    <a:pt x="20061" y="1979"/>
                  </a:lnTo>
                  <a:lnTo>
                    <a:pt x="21158" y="2158"/>
                  </a:lnTo>
                  <a:lnTo>
                    <a:pt x="21801" y="2040"/>
                  </a:lnTo>
                  <a:lnTo>
                    <a:pt x="22575" y="2158"/>
                  </a:lnTo>
                  <a:lnTo>
                    <a:pt x="22618" y="4768"/>
                  </a:lnTo>
                  <a:lnTo>
                    <a:pt x="0" y="4738"/>
                  </a:lnTo>
                  <a:lnTo>
                    <a:pt x="116" y="209"/>
                  </a:lnTo>
                  <a:close/>
                </a:path>
              </a:pathLst>
            </a:custGeom>
            <a:solidFill>
              <a:srgbClr val="003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1040" y="5108400"/>
              <a:ext cx="10562040" cy="1737000"/>
            </a:xfrm>
            <a:custGeom>
              <a:avLst/>
              <a:gdLst/>
              <a:ahLst/>
              <a:rect l="0" t="0" r="r" b="b"/>
              <a:pathLst>
                <a:path w="29339" h="4825">
                  <a:moveTo>
                    <a:pt x="15" y="209"/>
                  </a:moveTo>
                  <a:lnTo>
                    <a:pt x="5554" y="0"/>
                  </a:lnTo>
                  <a:lnTo>
                    <a:pt x="6080" y="266"/>
                  </a:lnTo>
                  <a:lnTo>
                    <a:pt x="7127" y="449"/>
                  </a:lnTo>
                  <a:lnTo>
                    <a:pt x="8225" y="327"/>
                  </a:lnTo>
                  <a:lnTo>
                    <a:pt x="8731" y="178"/>
                  </a:lnTo>
                  <a:lnTo>
                    <a:pt x="9416" y="421"/>
                  </a:lnTo>
                  <a:lnTo>
                    <a:pt x="10327" y="779"/>
                  </a:lnTo>
                  <a:lnTo>
                    <a:pt x="11059" y="658"/>
                  </a:lnTo>
                  <a:lnTo>
                    <a:pt x="11565" y="837"/>
                  </a:lnTo>
                  <a:lnTo>
                    <a:pt x="12297" y="1137"/>
                  </a:lnTo>
                  <a:lnTo>
                    <a:pt x="14648" y="1350"/>
                  </a:lnTo>
                  <a:lnTo>
                    <a:pt x="15609" y="1677"/>
                  </a:lnTo>
                  <a:lnTo>
                    <a:pt x="16295" y="1677"/>
                  </a:lnTo>
                  <a:lnTo>
                    <a:pt x="16703" y="1468"/>
                  </a:lnTo>
                  <a:lnTo>
                    <a:pt x="17801" y="1826"/>
                  </a:lnTo>
                  <a:lnTo>
                    <a:pt x="19448" y="2096"/>
                  </a:lnTo>
                  <a:lnTo>
                    <a:pt x="19903" y="2069"/>
                  </a:lnTo>
                  <a:lnTo>
                    <a:pt x="21001" y="2309"/>
                  </a:lnTo>
                  <a:lnTo>
                    <a:pt x="22831" y="1860"/>
                  </a:lnTo>
                  <a:lnTo>
                    <a:pt x="24155" y="1978"/>
                  </a:lnTo>
                  <a:lnTo>
                    <a:pt x="25252" y="2157"/>
                  </a:lnTo>
                  <a:lnTo>
                    <a:pt x="25891" y="2035"/>
                  </a:lnTo>
                  <a:lnTo>
                    <a:pt x="29199" y="2197"/>
                  </a:lnTo>
                  <a:lnTo>
                    <a:pt x="29339" y="4825"/>
                  </a:lnTo>
                  <a:lnTo>
                    <a:pt x="0" y="4737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48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-303120" y="6265800"/>
              <a:ext cx="10538280" cy="579960"/>
            </a:xfrm>
            <a:custGeom>
              <a:avLst/>
              <a:gdLst/>
              <a:ahLst/>
              <a:rect l="0" t="0" r="r" b="b"/>
              <a:pathLst>
                <a:path w="29273" h="1611">
                  <a:moveTo>
                    <a:pt x="0" y="333"/>
                  </a:moveTo>
                  <a:lnTo>
                    <a:pt x="4869" y="96"/>
                  </a:lnTo>
                  <a:lnTo>
                    <a:pt x="5192" y="394"/>
                  </a:lnTo>
                  <a:lnTo>
                    <a:pt x="6060" y="156"/>
                  </a:lnTo>
                  <a:lnTo>
                    <a:pt x="6527" y="384"/>
                  </a:lnTo>
                  <a:lnTo>
                    <a:pt x="7521" y="126"/>
                  </a:lnTo>
                  <a:lnTo>
                    <a:pt x="8023" y="363"/>
                  </a:lnTo>
                  <a:lnTo>
                    <a:pt x="8482" y="126"/>
                  </a:lnTo>
                  <a:lnTo>
                    <a:pt x="8848" y="363"/>
                  </a:lnTo>
                  <a:lnTo>
                    <a:pt x="9078" y="70"/>
                  </a:lnTo>
                  <a:lnTo>
                    <a:pt x="9397" y="333"/>
                  </a:lnTo>
                  <a:lnTo>
                    <a:pt x="10012" y="0"/>
                  </a:lnTo>
                  <a:lnTo>
                    <a:pt x="10444" y="333"/>
                  </a:lnTo>
                  <a:lnTo>
                    <a:pt x="10857" y="156"/>
                  </a:lnTo>
                  <a:lnTo>
                    <a:pt x="11546" y="247"/>
                  </a:lnTo>
                  <a:lnTo>
                    <a:pt x="12118" y="0"/>
                  </a:lnTo>
                  <a:lnTo>
                    <a:pt x="12640" y="333"/>
                  </a:lnTo>
                  <a:lnTo>
                    <a:pt x="12780" y="36"/>
                  </a:lnTo>
                  <a:lnTo>
                    <a:pt x="13146" y="307"/>
                  </a:lnTo>
                  <a:lnTo>
                    <a:pt x="13554" y="6"/>
                  </a:lnTo>
                  <a:lnTo>
                    <a:pt x="14239" y="363"/>
                  </a:lnTo>
                  <a:lnTo>
                    <a:pt x="26233" y="384"/>
                  </a:lnTo>
                  <a:lnTo>
                    <a:pt x="29273" y="394"/>
                  </a:lnTo>
                  <a:lnTo>
                    <a:pt x="29230" y="722"/>
                  </a:lnTo>
                  <a:lnTo>
                    <a:pt x="22582" y="602"/>
                  </a:lnTo>
                  <a:lnTo>
                    <a:pt x="24773" y="1611"/>
                  </a:lnTo>
                  <a:lnTo>
                    <a:pt x="23403" y="1494"/>
                  </a:lnTo>
                  <a:lnTo>
                    <a:pt x="21666" y="632"/>
                  </a:lnTo>
                  <a:lnTo>
                    <a:pt x="21374" y="498"/>
                  </a:lnTo>
                  <a:lnTo>
                    <a:pt x="18969" y="515"/>
                  </a:lnTo>
                  <a:lnTo>
                    <a:pt x="17665" y="498"/>
                  </a:lnTo>
                  <a:lnTo>
                    <a:pt x="16657" y="498"/>
                  </a:lnTo>
                  <a:lnTo>
                    <a:pt x="15816" y="541"/>
                  </a:lnTo>
                  <a:lnTo>
                    <a:pt x="14994" y="541"/>
                  </a:lnTo>
                  <a:lnTo>
                    <a:pt x="16318" y="1551"/>
                  </a:lnTo>
                  <a:lnTo>
                    <a:pt x="13437" y="1521"/>
                  </a:lnTo>
                  <a:lnTo>
                    <a:pt x="13807" y="572"/>
                  </a:lnTo>
                  <a:lnTo>
                    <a:pt x="13029" y="541"/>
                  </a:lnTo>
                  <a:lnTo>
                    <a:pt x="11429" y="602"/>
                  </a:lnTo>
                  <a:lnTo>
                    <a:pt x="10105" y="602"/>
                  </a:lnTo>
                  <a:lnTo>
                    <a:pt x="7317" y="602"/>
                  </a:lnTo>
                  <a:lnTo>
                    <a:pt x="5581" y="989"/>
                  </a:lnTo>
                  <a:lnTo>
                    <a:pt x="3950" y="882"/>
                  </a:lnTo>
                  <a:lnTo>
                    <a:pt x="23" y="1046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2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08720" y="6573960"/>
              <a:ext cx="73080" cy="6048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99240" y="6573960"/>
              <a:ext cx="74520" cy="6048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991200" y="6573960"/>
              <a:ext cx="73080" cy="6048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243920" y="6573960"/>
              <a:ext cx="69840" cy="6048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915320" y="6572160"/>
              <a:ext cx="41400" cy="2700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96400" y="6572160"/>
              <a:ext cx="41400" cy="2700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78920" y="6572160"/>
              <a:ext cx="41400" cy="2700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35880" y="6572160"/>
              <a:ext cx="41400" cy="2700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30440" y="6559560"/>
              <a:ext cx="39600" cy="3348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06480" y="6559560"/>
              <a:ext cx="41400" cy="3348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6120" y="6559560"/>
              <a:ext cx="38160" cy="3348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8400" y="6559560"/>
              <a:ext cx="38160" cy="3348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754360" y="6454800"/>
              <a:ext cx="65160" cy="3816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17880" y="6454800"/>
              <a:ext cx="65160" cy="3816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279600" y="6454800"/>
              <a:ext cx="65160" cy="3816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06760" y="6454800"/>
              <a:ext cx="63360" cy="3816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357800" y="6462720"/>
              <a:ext cx="68400" cy="22320"/>
            </a:xfrm>
            <a:prstGeom prst="rect">
              <a:avLst/>
            </a:prstGeom>
            <a:solidFill>
              <a:srgbClr val="ffc02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-647640" y="5108400"/>
              <a:ext cx="10914480" cy="1262520"/>
            </a:xfrm>
            <a:custGeom>
              <a:avLst/>
              <a:gdLst/>
              <a:ahLst/>
              <a:rect l="0" t="0" r="r" b="b"/>
              <a:pathLst>
                <a:path w="30318" h="3507">
                  <a:moveTo>
                    <a:pt x="0" y="1046"/>
                  </a:moveTo>
                  <a:lnTo>
                    <a:pt x="5826" y="989"/>
                  </a:lnTo>
                  <a:lnTo>
                    <a:pt x="6924" y="1077"/>
                  </a:lnTo>
                  <a:lnTo>
                    <a:pt x="6192" y="1347"/>
                  </a:lnTo>
                  <a:lnTo>
                    <a:pt x="5643" y="1704"/>
                  </a:lnTo>
                  <a:lnTo>
                    <a:pt x="6558" y="1347"/>
                  </a:lnTo>
                  <a:lnTo>
                    <a:pt x="7473" y="1289"/>
                  </a:lnTo>
                  <a:lnTo>
                    <a:pt x="7793" y="1526"/>
                  </a:lnTo>
                  <a:lnTo>
                    <a:pt x="7840" y="1826"/>
                  </a:lnTo>
                  <a:lnTo>
                    <a:pt x="8112" y="1465"/>
                  </a:lnTo>
                  <a:lnTo>
                    <a:pt x="8299" y="1347"/>
                  </a:lnTo>
                  <a:lnTo>
                    <a:pt x="8754" y="1377"/>
                  </a:lnTo>
                  <a:lnTo>
                    <a:pt x="8797" y="1556"/>
                  </a:lnTo>
                  <a:lnTo>
                    <a:pt x="8980" y="1168"/>
                  </a:lnTo>
                  <a:lnTo>
                    <a:pt x="9393" y="1229"/>
                  </a:lnTo>
                  <a:lnTo>
                    <a:pt x="10124" y="1556"/>
                  </a:lnTo>
                  <a:lnTo>
                    <a:pt x="7153" y="2575"/>
                  </a:lnTo>
                  <a:lnTo>
                    <a:pt x="10078" y="1765"/>
                  </a:lnTo>
                  <a:lnTo>
                    <a:pt x="11401" y="1617"/>
                  </a:lnTo>
                  <a:lnTo>
                    <a:pt x="11086" y="1978"/>
                  </a:lnTo>
                  <a:lnTo>
                    <a:pt x="10584" y="2366"/>
                  </a:lnTo>
                  <a:lnTo>
                    <a:pt x="11860" y="2035"/>
                  </a:lnTo>
                  <a:lnTo>
                    <a:pt x="10949" y="2876"/>
                  </a:lnTo>
                  <a:lnTo>
                    <a:pt x="12133" y="2187"/>
                  </a:lnTo>
                  <a:lnTo>
                    <a:pt x="13456" y="2187"/>
                  </a:lnTo>
                  <a:lnTo>
                    <a:pt x="14281" y="2126"/>
                  </a:lnTo>
                  <a:lnTo>
                    <a:pt x="15791" y="2964"/>
                  </a:lnTo>
                  <a:lnTo>
                    <a:pt x="14554" y="2217"/>
                  </a:lnTo>
                  <a:lnTo>
                    <a:pt x="15106" y="2248"/>
                  </a:lnTo>
                  <a:lnTo>
                    <a:pt x="15928" y="2605"/>
                  </a:lnTo>
                  <a:lnTo>
                    <a:pt x="16613" y="2667"/>
                  </a:lnTo>
                  <a:lnTo>
                    <a:pt x="17025" y="2514"/>
                  </a:lnTo>
                  <a:lnTo>
                    <a:pt x="17208" y="2484"/>
                  </a:lnTo>
                  <a:lnTo>
                    <a:pt x="17481" y="2728"/>
                  </a:lnTo>
                  <a:lnTo>
                    <a:pt x="17664" y="2964"/>
                  </a:lnTo>
                  <a:lnTo>
                    <a:pt x="17710" y="2605"/>
                  </a:lnTo>
                  <a:lnTo>
                    <a:pt x="18302" y="2846"/>
                  </a:lnTo>
                  <a:lnTo>
                    <a:pt x="18485" y="2964"/>
                  </a:lnTo>
                  <a:lnTo>
                    <a:pt x="18532" y="2514"/>
                  </a:lnTo>
                  <a:lnTo>
                    <a:pt x="18991" y="2816"/>
                  </a:lnTo>
                  <a:lnTo>
                    <a:pt x="19855" y="3116"/>
                  </a:lnTo>
                  <a:lnTo>
                    <a:pt x="19676" y="2903"/>
                  </a:lnTo>
                  <a:lnTo>
                    <a:pt x="20497" y="2903"/>
                  </a:lnTo>
                  <a:lnTo>
                    <a:pt x="21459" y="3325"/>
                  </a:lnTo>
                  <a:lnTo>
                    <a:pt x="22093" y="3507"/>
                  </a:lnTo>
                  <a:lnTo>
                    <a:pt x="21871" y="2994"/>
                  </a:lnTo>
                  <a:lnTo>
                    <a:pt x="22280" y="2903"/>
                  </a:lnTo>
                  <a:lnTo>
                    <a:pt x="23468" y="2697"/>
                  </a:lnTo>
                  <a:lnTo>
                    <a:pt x="24612" y="3177"/>
                  </a:lnTo>
                  <a:lnTo>
                    <a:pt x="25293" y="3295"/>
                  </a:lnTo>
                  <a:lnTo>
                    <a:pt x="24425" y="2876"/>
                  </a:lnTo>
                  <a:lnTo>
                    <a:pt x="25706" y="3025"/>
                  </a:lnTo>
                  <a:lnTo>
                    <a:pt x="26558" y="2816"/>
                  </a:lnTo>
                  <a:lnTo>
                    <a:pt x="27672" y="2937"/>
                  </a:lnTo>
                  <a:lnTo>
                    <a:pt x="30318" y="2065"/>
                  </a:lnTo>
                  <a:lnTo>
                    <a:pt x="25893" y="2126"/>
                  </a:lnTo>
                  <a:lnTo>
                    <a:pt x="23927" y="1947"/>
                  </a:lnTo>
                  <a:lnTo>
                    <a:pt x="21871" y="2545"/>
                  </a:lnTo>
                  <a:lnTo>
                    <a:pt x="20085" y="2126"/>
                  </a:lnTo>
                  <a:lnTo>
                    <a:pt x="18855" y="2187"/>
                  </a:lnTo>
                  <a:lnTo>
                    <a:pt x="17800" y="1617"/>
                  </a:lnTo>
                  <a:lnTo>
                    <a:pt x="17302" y="1647"/>
                  </a:lnTo>
                  <a:lnTo>
                    <a:pt x="16796" y="1826"/>
                  </a:lnTo>
                  <a:lnTo>
                    <a:pt x="16157" y="1887"/>
                  </a:lnTo>
                  <a:lnTo>
                    <a:pt x="15515" y="1438"/>
                  </a:lnTo>
                  <a:lnTo>
                    <a:pt x="14834" y="1320"/>
                  </a:lnTo>
                  <a:lnTo>
                    <a:pt x="12362" y="1947"/>
                  </a:lnTo>
                  <a:lnTo>
                    <a:pt x="11677" y="1556"/>
                  </a:lnTo>
                  <a:lnTo>
                    <a:pt x="10443" y="1465"/>
                  </a:lnTo>
                  <a:lnTo>
                    <a:pt x="9848" y="1016"/>
                  </a:lnTo>
                  <a:lnTo>
                    <a:pt x="9393" y="657"/>
                  </a:lnTo>
                  <a:lnTo>
                    <a:pt x="8525" y="570"/>
                  </a:lnTo>
                  <a:lnTo>
                    <a:pt x="7976" y="479"/>
                  </a:lnTo>
                  <a:lnTo>
                    <a:pt x="6788" y="327"/>
                  </a:lnTo>
                  <a:lnTo>
                    <a:pt x="6375" y="0"/>
                  </a:lnTo>
                  <a:lnTo>
                    <a:pt x="1191" y="178"/>
                  </a:lnTo>
                  <a:lnTo>
                    <a:pt x="1101" y="989"/>
                  </a:lnTo>
                  <a:lnTo>
                    <a:pt x="0" y="1046"/>
                  </a:lnTo>
                  <a:close/>
                </a:path>
              </a:pathLst>
            </a:custGeom>
            <a:solidFill>
              <a:srgbClr val="003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361280" y="6315120"/>
              <a:ext cx="95400" cy="6984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736040" y="6315120"/>
              <a:ext cx="93600" cy="6984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10440" y="6315120"/>
              <a:ext cx="93600" cy="6984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34440" y="6315120"/>
              <a:ext cx="93600" cy="6984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931160" y="5989680"/>
              <a:ext cx="122400" cy="9216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08880" y="5989680"/>
              <a:ext cx="130320" cy="9216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91640" y="5989680"/>
              <a:ext cx="128520" cy="9216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307440" y="5989680"/>
              <a:ext cx="123840" cy="92160"/>
            </a:xfrm>
            <a:prstGeom prst="ellipse">
              <a:avLst/>
            </a:prstGeom>
            <a:solidFill>
              <a:srgbClr val="f0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"/>
          <p:cNvSpPr/>
          <p:nvPr/>
        </p:nvSpPr>
        <p:spPr>
          <a:xfrm>
            <a:off x="-76320" y="1333440"/>
            <a:ext cx="6537600" cy="2886480"/>
          </a:xfrm>
          <a:custGeom>
            <a:avLst/>
            <a:gdLst/>
            <a:ahLst/>
            <a:rect l="0" t="0" r="r" b="b"/>
            <a:pathLst>
              <a:path w="18160" h="8018">
                <a:moveTo>
                  <a:pt x="0" y="5435"/>
                </a:moveTo>
                <a:lnTo>
                  <a:pt x="194" y="5516"/>
                </a:lnTo>
                <a:lnTo>
                  <a:pt x="1264" y="5716"/>
                </a:lnTo>
                <a:lnTo>
                  <a:pt x="2341" y="5905"/>
                </a:lnTo>
                <a:lnTo>
                  <a:pt x="2578" y="5946"/>
                </a:lnTo>
                <a:lnTo>
                  <a:pt x="3162" y="6000"/>
                </a:lnTo>
                <a:lnTo>
                  <a:pt x="3309" y="6251"/>
                </a:lnTo>
                <a:lnTo>
                  <a:pt x="3426" y="6170"/>
                </a:lnTo>
                <a:lnTo>
                  <a:pt x="3496" y="6065"/>
                </a:lnTo>
                <a:lnTo>
                  <a:pt x="3912" y="6109"/>
                </a:lnTo>
                <a:lnTo>
                  <a:pt x="4056" y="6156"/>
                </a:lnTo>
                <a:lnTo>
                  <a:pt x="5021" y="6501"/>
                </a:lnTo>
                <a:lnTo>
                  <a:pt x="5133" y="6447"/>
                </a:lnTo>
                <a:lnTo>
                  <a:pt x="5246" y="6376"/>
                </a:lnTo>
                <a:lnTo>
                  <a:pt x="5320" y="6369"/>
                </a:lnTo>
                <a:lnTo>
                  <a:pt x="5413" y="6376"/>
                </a:lnTo>
                <a:lnTo>
                  <a:pt x="5581" y="6406"/>
                </a:lnTo>
                <a:lnTo>
                  <a:pt x="5725" y="6501"/>
                </a:lnTo>
                <a:lnTo>
                  <a:pt x="5880" y="6646"/>
                </a:lnTo>
                <a:lnTo>
                  <a:pt x="6176" y="6910"/>
                </a:lnTo>
                <a:lnTo>
                  <a:pt x="6569" y="7082"/>
                </a:lnTo>
                <a:lnTo>
                  <a:pt x="6786" y="7143"/>
                </a:lnTo>
                <a:lnTo>
                  <a:pt x="6895" y="7157"/>
                </a:lnTo>
                <a:lnTo>
                  <a:pt x="6996" y="7160"/>
                </a:lnTo>
                <a:lnTo>
                  <a:pt x="7133" y="7163"/>
                </a:lnTo>
                <a:lnTo>
                  <a:pt x="7300" y="7170"/>
                </a:lnTo>
                <a:lnTo>
                  <a:pt x="7451" y="7163"/>
                </a:lnTo>
                <a:lnTo>
                  <a:pt x="7549" y="7109"/>
                </a:lnTo>
                <a:lnTo>
                  <a:pt x="7689" y="7038"/>
                </a:lnTo>
                <a:lnTo>
                  <a:pt x="7759" y="6927"/>
                </a:lnTo>
                <a:lnTo>
                  <a:pt x="7778" y="6822"/>
                </a:lnTo>
                <a:lnTo>
                  <a:pt x="7778" y="6758"/>
                </a:lnTo>
                <a:lnTo>
                  <a:pt x="7778" y="6680"/>
                </a:lnTo>
                <a:lnTo>
                  <a:pt x="7879" y="6639"/>
                </a:lnTo>
                <a:lnTo>
                  <a:pt x="8054" y="6636"/>
                </a:lnTo>
                <a:lnTo>
                  <a:pt x="8074" y="7129"/>
                </a:lnTo>
                <a:lnTo>
                  <a:pt x="7961" y="7224"/>
                </a:lnTo>
                <a:lnTo>
                  <a:pt x="7941" y="7197"/>
                </a:lnTo>
                <a:lnTo>
                  <a:pt x="7945" y="7143"/>
                </a:lnTo>
                <a:lnTo>
                  <a:pt x="7949" y="7086"/>
                </a:lnTo>
                <a:lnTo>
                  <a:pt x="7922" y="7052"/>
                </a:lnTo>
                <a:lnTo>
                  <a:pt x="7739" y="7099"/>
                </a:lnTo>
                <a:lnTo>
                  <a:pt x="7696" y="7241"/>
                </a:lnTo>
                <a:lnTo>
                  <a:pt x="7704" y="7302"/>
                </a:lnTo>
                <a:lnTo>
                  <a:pt x="7728" y="7353"/>
                </a:lnTo>
                <a:lnTo>
                  <a:pt x="7840" y="7532"/>
                </a:lnTo>
                <a:lnTo>
                  <a:pt x="7976" y="7420"/>
                </a:lnTo>
                <a:lnTo>
                  <a:pt x="8015" y="7302"/>
                </a:lnTo>
                <a:lnTo>
                  <a:pt x="8101" y="7275"/>
                </a:lnTo>
                <a:lnTo>
                  <a:pt x="8187" y="7288"/>
                </a:lnTo>
                <a:lnTo>
                  <a:pt x="8237" y="7403"/>
                </a:lnTo>
                <a:lnTo>
                  <a:pt x="8292" y="7511"/>
                </a:lnTo>
                <a:lnTo>
                  <a:pt x="8377" y="7505"/>
                </a:lnTo>
                <a:lnTo>
                  <a:pt x="8443" y="7292"/>
                </a:lnTo>
                <a:lnTo>
                  <a:pt x="8443" y="7231"/>
                </a:lnTo>
                <a:lnTo>
                  <a:pt x="8443" y="7167"/>
                </a:lnTo>
                <a:lnTo>
                  <a:pt x="8397" y="7059"/>
                </a:lnTo>
                <a:lnTo>
                  <a:pt x="8260" y="7035"/>
                </a:lnTo>
                <a:lnTo>
                  <a:pt x="8175" y="7177"/>
                </a:lnTo>
                <a:lnTo>
                  <a:pt x="8159" y="6633"/>
                </a:lnTo>
                <a:lnTo>
                  <a:pt x="8323" y="6619"/>
                </a:lnTo>
                <a:lnTo>
                  <a:pt x="8482" y="6616"/>
                </a:lnTo>
                <a:lnTo>
                  <a:pt x="8579" y="6616"/>
                </a:lnTo>
                <a:lnTo>
                  <a:pt x="8680" y="6616"/>
                </a:lnTo>
                <a:lnTo>
                  <a:pt x="9417" y="6660"/>
                </a:lnTo>
                <a:lnTo>
                  <a:pt x="9973" y="6879"/>
                </a:lnTo>
                <a:lnTo>
                  <a:pt x="10447" y="6954"/>
                </a:lnTo>
                <a:lnTo>
                  <a:pt x="10902" y="7065"/>
                </a:lnTo>
                <a:lnTo>
                  <a:pt x="11011" y="7207"/>
                </a:lnTo>
                <a:lnTo>
                  <a:pt x="11128" y="7349"/>
                </a:lnTo>
                <a:lnTo>
                  <a:pt x="11256" y="7336"/>
                </a:lnTo>
                <a:lnTo>
                  <a:pt x="11311" y="7190"/>
                </a:lnTo>
                <a:lnTo>
                  <a:pt x="11369" y="7187"/>
                </a:lnTo>
                <a:lnTo>
                  <a:pt x="11435" y="7184"/>
                </a:lnTo>
                <a:lnTo>
                  <a:pt x="11571" y="7177"/>
                </a:lnTo>
                <a:lnTo>
                  <a:pt x="11575" y="7400"/>
                </a:lnTo>
                <a:lnTo>
                  <a:pt x="11649" y="7380"/>
                </a:lnTo>
                <a:lnTo>
                  <a:pt x="11754" y="7346"/>
                </a:lnTo>
                <a:lnTo>
                  <a:pt x="11855" y="7332"/>
                </a:lnTo>
                <a:lnTo>
                  <a:pt x="11983" y="7508"/>
                </a:lnTo>
                <a:lnTo>
                  <a:pt x="12170" y="7538"/>
                </a:lnTo>
                <a:lnTo>
                  <a:pt x="12186" y="7623"/>
                </a:lnTo>
                <a:lnTo>
                  <a:pt x="12182" y="7711"/>
                </a:lnTo>
                <a:lnTo>
                  <a:pt x="12201" y="7778"/>
                </a:lnTo>
                <a:lnTo>
                  <a:pt x="12054" y="7751"/>
                </a:lnTo>
                <a:lnTo>
                  <a:pt x="12034" y="7816"/>
                </a:lnTo>
                <a:lnTo>
                  <a:pt x="12007" y="7876"/>
                </a:lnTo>
                <a:lnTo>
                  <a:pt x="12003" y="7920"/>
                </a:lnTo>
                <a:lnTo>
                  <a:pt x="12011" y="7985"/>
                </a:lnTo>
                <a:lnTo>
                  <a:pt x="12092" y="8008"/>
                </a:lnTo>
                <a:lnTo>
                  <a:pt x="12108" y="7944"/>
                </a:lnTo>
                <a:lnTo>
                  <a:pt x="12135" y="7914"/>
                </a:lnTo>
                <a:lnTo>
                  <a:pt x="12205" y="7914"/>
                </a:lnTo>
                <a:lnTo>
                  <a:pt x="12260" y="7958"/>
                </a:lnTo>
                <a:lnTo>
                  <a:pt x="12318" y="8018"/>
                </a:lnTo>
                <a:lnTo>
                  <a:pt x="12353" y="7893"/>
                </a:lnTo>
                <a:lnTo>
                  <a:pt x="12353" y="7826"/>
                </a:lnTo>
                <a:lnTo>
                  <a:pt x="12353" y="7758"/>
                </a:lnTo>
                <a:lnTo>
                  <a:pt x="12244" y="7758"/>
                </a:lnTo>
                <a:lnTo>
                  <a:pt x="12244" y="7630"/>
                </a:lnTo>
                <a:lnTo>
                  <a:pt x="12244" y="7565"/>
                </a:lnTo>
                <a:lnTo>
                  <a:pt x="12244" y="7508"/>
                </a:lnTo>
                <a:lnTo>
                  <a:pt x="12279" y="7440"/>
                </a:lnTo>
                <a:lnTo>
                  <a:pt x="12244" y="7380"/>
                </a:lnTo>
                <a:lnTo>
                  <a:pt x="12337" y="7353"/>
                </a:lnTo>
                <a:lnTo>
                  <a:pt x="12407" y="7353"/>
                </a:lnTo>
                <a:lnTo>
                  <a:pt x="12470" y="7353"/>
                </a:lnTo>
                <a:lnTo>
                  <a:pt x="12458" y="7424"/>
                </a:lnTo>
                <a:lnTo>
                  <a:pt x="12458" y="7488"/>
                </a:lnTo>
                <a:lnTo>
                  <a:pt x="12672" y="7484"/>
                </a:lnTo>
                <a:lnTo>
                  <a:pt x="12695" y="7282"/>
                </a:lnTo>
                <a:lnTo>
                  <a:pt x="13053" y="7069"/>
                </a:lnTo>
                <a:lnTo>
                  <a:pt x="13069" y="7015"/>
                </a:lnTo>
                <a:lnTo>
                  <a:pt x="13100" y="6974"/>
                </a:lnTo>
                <a:lnTo>
                  <a:pt x="13057" y="6923"/>
                </a:lnTo>
                <a:lnTo>
                  <a:pt x="13395" y="6940"/>
                </a:lnTo>
                <a:lnTo>
                  <a:pt x="13524" y="6950"/>
                </a:lnTo>
                <a:lnTo>
                  <a:pt x="13590" y="6950"/>
                </a:lnTo>
                <a:lnTo>
                  <a:pt x="13652" y="6940"/>
                </a:lnTo>
                <a:lnTo>
                  <a:pt x="13839" y="6822"/>
                </a:lnTo>
                <a:lnTo>
                  <a:pt x="13998" y="6673"/>
                </a:lnTo>
                <a:lnTo>
                  <a:pt x="14025" y="6595"/>
                </a:lnTo>
                <a:lnTo>
                  <a:pt x="14010" y="6497"/>
                </a:lnTo>
                <a:lnTo>
                  <a:pt x="13940" y="6312"/>
                </a:lnTo>
                <a:lnTo>
                  <a:pt x="13769" y="6173"/>
                </a:lnTo>
                <a:lnTo>
                  <a:pt x="13652" y="6109"/>
                </a:lnTo>
                <a:lnTo>
                  <a:pt x="16036" y="5462"/>
                </a:lnTo>
                <a:lnTo>
                  <a:pt x="17425" y="5070"/>
                </a:lnTo>
                <a:lnTo>
                  <a:pt x="18160" y="4840"/>
                </a:lnTo>
                <a:lnTo>
                  <a:pt x="17825" y="4682"/>
                </a:lnTo>
                <a:lnTo>
                  <a:pt x="17565" y="4709"/>
                </a:lnTo>
                <a:lnTo>
                  <a:pt x="17001" y="4813"/>
                </a:lnTo>
                <a:lnTo>
                  <a:pt x="15387" y="5145"/>
                </a:lnTo>
                <a:lnTo>
                  <a:pt x="12940" y="5662"/>
                </a:lnTo>
                <a:lnTo>
                  <a:pt x="12824" y="5638"/>
                </a:lnTo>
                <a:lnTo>
                  <a:pt x="12715" y="5560"/>
                </a:lnTo>
                <a:lnTo>
                  <a:pt x="12501" y="5371"/>
                </a:lnTo>
                <a:lnTo>
                  <a:pt x="11906" y="5057"/>
                </a:lnTo>
                <a:lnTo>
                  <a:pt x="11077" y="4766"/>
                </a:lnTo>
                <a:lnTo>
                  <a:pt x="10008" y="4435"/>
                </a:lnTo>
                <a:lnTo>
                  <a:pt x="8630" y="3989"/>
                </a:lnTo>
                <a:lnTo>
                  <a:pt x="8669" y="3931"/>
                </a:lnTo>
                <a:lnTo>
                  <a:pt x="8840" y="3847"/>
                </a:lnTo>
                <a:lnTo>
                  <a:pt x="9393" y="3651"/>
                </a:lnTo>
                <a:lnTo>
                  <a:pt x="9965" y="3461"/>
                </a:lnTo>
                <a:lnTo>
                  <a:pt x="10233" y="3330"/>
                </a:lnTo>
                <a:lnTo>
                  <a:pt x="10191" y="3289"/>
                </a:lnTo>
                <a:lnTo>
                  <a:pt x="10082" y="3272"/>
                </a:lnTo>
                <a:lnTo>
                  <a:pt x="9949" y="3269"/>
                </a:lnTo>
                <a:lnTo>
                  <a:pt x="9883" y="3269"/>
                </a:lnTo>
                <a:lnTo>
                  <a:pt x="9825" y="3269"/>
                </a:lnTo>
                <a:lnTo>
                  <a:pt x="9549" y="3333"/>
                </a:lnTo>
                <a:lnTo>
                  <a:pt x="9019" y="3475"/>
                </a:lnTo>
                <a:lnTo>
                  <a:pt x="8439" y="3607"/>
                </a:lnTo>
                <a:lnTo>
                  <a:pt x="8190" y="3644"/>
                </a:lnTo>
                <a:lnTo>
                  <a:pt x="8089" y="3647"/>
                </a:lnTo>
                <a:lnTo>
                  <a:pt x="8000" y="3644"/>
                </a:lnTo>
                <a:lnTo>
                  <a:pt x="7918" y="3597"/>
                </a:lnTo>
                <a:lnTo>
                  <a:pt x="7825" y="3472"/>
                </a:lnTo>
                <a:lnTo>
                  <a:pt x="7630" y="3042"/>
                </a:lnTo>
                <a:lnTo>
                  <a:pt x="7234" y="1777"/>
                </a:lnTo>
                <a:lnTo>
                  <a:pt x="6887" y="540"/>
                </a:lnTo>
                <a:lnTo>
                  <a:pt x="6755" y="138"/>
                </a:lnTo>
                <a:lnTo>
                  <a:pt x="6662" y="0"/>
                </a:lnTo>
                <a:lnTo>
                  <a:pt x="6502" y="13"/>
                </a:lnTo>
                <a:lnTo>
                  <a:pt x="6397" y="33"/>
                </a:lnTo>
                <a:lnTo>
                  <a:pt x="6506" y="645"/>
                </a:lnTo>
                <a:lnTo>
                  <a:pt x="6607" y="1940"/>
                </a:lnTo>
                <a:lnTo>
                  <a:pt x="6732" y="3803"/>
                </a:lnTo>
                <a:lnTo>
                  <a:pt x="6693" y="3742"/>
                </a:lnTo>
                <a:lnTo>
                  <a:pt x="6549" y="3708"/>
                </a:lnTo>
                <a:lnTo>
                  <a:pt x="6471" y="3826"/>
                </a:lnTo>
                <a:lnTo>
                  <a:pt x="6436" y="3897"/>
                </a:lnTo>
                <a:lnTo>
                  <a:pt x="5888" y="3796"/>
                </a:lnTo>
                <a:lnTo>
                  <a:pt x="4667" y="3661"/>
                </a:lnTo>
                <a:lnTo>
                  <a:pt x="3410" y="3553"/>
                </a:lnTo>
                <a:lnTo>
                  <a:pt x="2967" y="3522"/>
                </a:lnTo>
                <a:lnTo>
                  <a:pt x="2827" y="3519"/>
                </a:lnTo>
                <a:lnTo>
                  <a:pt x="2749" y="3519"/>
                </a:lnTo>
                <a:lnTo>
                  <a:pt x="2827" y="3651"/>
                </a:lnTo>
                <a:lnTo>
                  <a:pt x="2928" y="3735"/>
                </a:lnTo>
                <a:lnTo>
                  <a:pt x="3014" y="3769"/>
                </a:lnTo>
                <a:lnTo>
                  <a:pt x="3095" y="3769"/>
                </a:lnTo>
                <a:lnTo>
                  <a:pt x="3235" y="3779"/>
                </a:lnTo>
                <a:lnTo>
                  <a:pt x="3667" y="3830"/>
                </a:lnTo>
                <a:lnTo>
                  <a:pt x="4865" y="3995"/>
                </a:lnTo>
                <a:lnTo>
                  <a:pt x="6549" y="4239"/>
                </a:lnTo>
                <a:lnTo>
                  <a:pt x="6623" y="4310"/>
                </a:lnTo>
                <a:lnTo>
                  <a:pt x="6712" y="4516"/>
                </a:lnTo>
                <a:lnTo>
                  <a:pt x="6763" y="4763"/>
                </a:lnTo>
                <a:lnTo>
                  <a:pt x="6763" y="4817"/>
                </a:lnTo>
                <a:lnTo>
                  <a:pt x="6759" y="4871"/>
                </a:lnTo>
                <a:lnTo>
                  <a:pt x="6732" y="4962"/>
                </a:lnTo>
                <a:lnTo>
                  <a:pt x="6880" y="5067"/>
                </a:lnTo>
                <a:lnTo>
                  <a:pt x="7031" y="5236"/>
                </a:lnTo>
                <a:lnTo>
                  <a:pt x="7292" y="5560"/>
                </a:lnTo>
                <a:lnTo>
                  <a:pt x="7759" y="5895"/>
                </a:lnTo>
                <a:lnTo>
                  <a:pt x="7969" y="6055"/>
                </a:lnTo>
                <a:lnTo>
                  <a:pt x="8000" y="6126"/>
                </a:lnTo>
                <a:lnTo>
                  <a:pt x="6176" y="5969"/>
                </a:lnTo>
                <a:lnTo>
                  <a:pt x="2531" y="5621"/>
                </a:lnTo>
                <a:lnTo>
                  <a:pt x="447" y="5371"/>
                </a:lnTo>
                <a:lnTo>
                  <a:pt x="396" y="5371"/>
                </a:lnTo>
                <a:lnTo>
                  <a:pt x="330" y="5371"/>
                </a:lnTo>
                <a:lnTo>
                  <a:pt x="182" y="5385"/>
                </a:lnTo>
                <a:lnTo>
                  <a:pt x="0" y="5435"/>
                </a:lnTo>
                <a:close/>
              </a:path>
            </a:pathLst>
          </a:custGeom>
          <a:solidFill>
            <a:srgbClr val="05275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1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