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520"/>
            <a:ext cx="8508960" cy="6945840"/>
            <a:chOff x="0" y="20520"/>
            <a:chExt cx="8508960" cy="6945840"/>
          </a:xfrm>
        </p:grpSpPr>
        <p:sp>
          <p:nvSpPr>
            <p:cNvPr id="1" name=""/>
            <p:cNvSpPr/>
            <p:nvPr/>
          </p:nvSpPr>
          <p:spPr>
            <a:xfrm>
              <a:off x="0" y="20520"/>
              <a:ext cx="5695920" cy="3581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1947d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08280" y="1604880"/>
              <a:ext cx="6700680" cy="4618080"/>
            </a:xfrm>
            <a:prstGeom prst="rect">
              <a:avLst/>
            </a:prstGeom>
            <a:solidFill>
              <a:srgbClr val="0040c0"/>
            </a:solidFill>
            <a:ln w="12600">
              <a:solidFill>
                <a:srgbClr val="8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93600"/>
              <a:ext cx="2664360" cy="6872760"/>
              <a:chOff x="0" y="93600"/>
              <a:chExt cx="2664360" cy="6872760"/>
            </a:xfrm>
          </p:grpSpPr>
          <p:sp>
            <p:nvSpPr>
              <p:cNvPr id="4" name=""/>
              <p:cNvSpPr/>
              <p:nvPr/>
            </p:nvSpPr>
            <p:spPr>
              <a:xfrm flipH="1" flipV="1">
                <a:off x="609480" y="3575160"/>
                <a:ext cx="5040" cy="330192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549360" y="3575160"/>
                <a:ext cx="0" cy="69984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11080" y="3592440"/>
                <a:ext cx="0" cy="67176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747720" y="3575160"/>
                <a:ext cx="1440" cy="330516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12880" y="2906640"/>
                <a:ext cx="0" cy="70668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609480" y="293760"/>
                <a:ext cx="5040" cy="330192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47720" y="290520"/>
                <a:ext cx="1440" cy="330516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49360" y="2895480"/>
                <a:ext cx="0" cy="70020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flipV="1">
                <a:off x="782640" y="314280"/>
                <a:ext cx="190440" cy="268596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07880" y="247680"/>
                <a:ext cx="563760" cy="2787840"/>
              </a:xfrm>
              <a:custGeom>
                <a:avLst/>
                <a:gdLst/>
                <a:ahLst/>
                <a:rect l="0" t="0" r="r" b="b"/>
                <a:pathLst>
                  <a:path fill="none" w="1566" h="7744">
                    <a:moveTo>
                      <a:pt x="1566" y="7744"/>
                    </a:moveTo>
                    <a:lnTo>
                      <a:pt x="0" y="6589"/>
                    </a:lnTo>
                    <a:lnTo>
                      <a:pt x="1425" y="5579"/>
                    </a:lnTo>
                    <a:lnTo>
                      <a:pt x="132" y="4648"/>
                    </a:lnTo>
                    <a:lnTo>
                      <a:pt x="1288" y="3801"/>
                    </a:lnTo>
                    <a:lnTo>
                      <a:pt x="251" y="3029"/>
                    </a:lnTo>
                    <a:lnTo>
                      <a:pt x="1200" y="2341"/>
                    </a:lnTo>
                    <a:lnTo>
                      <a:pt x="335" y="1741"/>
                    </a:lnTo>
                    <a:lnTo>
                      <a:pt x="1125" y="1168"/>
                    </a:lnTo>
                    <a:lnTo>
                      <a:pt x="418" y="639"/>
                    </a:lnTo>
                    <a:lnTo>
                      <a:pt x="1041" y="185"/>
                    </a:lnTo>
                    <a:lnTo>
                      <a:pt x="767" y="0"/>
                    </a:lnTo>
                  </a:path>
                </a:pathLst>
              </a:custGeom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57360" y="3598920"/>
                <a:ext cx="51120" cy="3367440"/>
              </a:xfrm>
              <a:custGeom>
                <a:avLst/>
                <a:gdLst/>
                <a:ahLst/>
                <a:rect l="0" t="0" r="r" b="b"/>
                <a:pathLst>
                  <a:path w="142" h="9354">
                    <a:moveTo>
                      <a:pt x="0" y="0"/>
                    </a:moveTo>
                    <a:lnTo>
                      <a:pt x="0" y="9354"/>
                    </a:lnTo>
                    <a:lnTo>
                      <a:pt x="142" y="9354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771480" y="4141800"/>
                <a:ext cx="189000" cy="271476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98520" y="4135320"/>
                <a:ext cx="562320" cy="2787840"/>
              </a:xfrm>
              <a:custGeom>
                <a:avLst/>
                <a:gdLst/>
                <a:ahLst/>
                <a:rect l="0" t="0" r="r" b="b"/>
                <a:pathLst>
                  <a:path fill="none" w="1562" h="7744">
                    <a:moveTo>
                      <a:pt x="1562" y="0"/>
                    </a:moveTo>
                    <a:lnTo>
                      <a:pt x="0" y="1155"/>
                    </a:lnTo>
                    <a:lnTo>
                      <a:pt x="1420" y="2165"/>
                    </a:lnTo>
                    <a:lnTo>
                      <a:pt x="127" y="3095"/>
                    </a:lnTo>
                    <a:lnTo>
                      <a:pt x="1284" y="3943"/>
                    </a:lnTo>
                    <a:lnTo>
                      <a:pt x="251" y="4714"/>
                    </a:lnTo>
                    <a:lnTo>
                      <a:pt x="1200" y="5402"/>
                    </a:lnTo>
                    <a:lnTo>
                      <a:pt x="330" y="6002"/>
                    </a:lnTo>
                    <a:lnTo>
                      <a:pt x="1121" y="6575"/>
                    </a:lnTo>
                    <a:lnTo>
                      <a:pt x="414" y="7105"/>
                    </a:lnTo>
                    <a:lnTo>
                      <a:pt x="1037" y="7559"/>
                    </a:lnTo>
                    <a:lnTo>
                      <a:pt x="762" y="7744"/>
                    </a:lnTo>
                  </a:path>
                </a:pathLst>
              </a:custGeom>
              <a:ln w="12600">
                <a:solidFill>
                  <a:srgbClr val="000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78000" y="4135320"/>
                <a:ext cx="567000" cy="2787840"/>
              </a:xfrm>
              <a:custGeom>
                <a:avLst/>
                <a:gdLst/>
                <a:ahLst/>
                <a:rect l="0" t="0" r="r" b="b"/>
                <a:pathLst>
                  <a:path fill="none" w="1575" h="7744">
                    <a:moveTo>
                      <a:pt x="0" y="0"/>
                    </a:moveTo>
                    <a:lnTo>
                      <a:pt x="1575" y="1155"/>
                    </a:lnTo>
                    <a:lnTo>
                      <a:pt x="136" y="2165"/>
                    </a:lnTo>
                    <a:lnTo>
                      <a:pt x="1425" y="3095"/>
                    </a:lnTo>
                    <a:lnTo>
                      <a:pt x="282" y="3943"/>
                    </a:lnTo>
                    <a:lnTo>
                      <a:pt x="1310" y="4714"/>
                    </a:lnTo>
                    <a:lnTo>
                      <a:pt x="361" y="5402"/>
                    </a:lnTo>
                    <a:lnTo>
                      <a:pt x="1226" y="6002"/>
                    </a:lnTo>
                    <a:lnTo>
                      <a:pt x="449" y="6575"/>
                    </a:lnTo>
                    <a:lnTo>
                      <a:pt x="1138" y="7105"/>
                    </a:lnTo>
                    <a:lnTo>
                      <a:pt x="524" y="7559"/>
                    </a:lnTo>
                    <a:lnTo>
                      <a:pt x="816" y="7744"/>
                    </a:lnTo>
                  </a:path>
                </a:pathLst>
              </a:custGeom>
              <a:ln w="12600">
                <a:solidFill>
                  <a:srgbClr val="000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14360" y="4735440"/>
                <a:ext cx="50796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4600" y="5089680"/>
                <a:ext cx="45396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9800" y="5408640"/>
                <a:ext cx="4032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88880" y="5699160"/>
                <a:ext cx="3636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07960" y="5961240"/>
                <a:ext cx="31104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58720" y="6600960"/>
                <a:ext cx="21924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66840" y="4141800"/>
                <a:ext cx="199800" cy="271476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28480" y="6192720"/>
                <a:ext cx="2826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47560" y="6396120"/>
                <a:ext cx="23976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566640" y="6778800"/>
                <a:ext cx="20484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54160" y="4275000"/>
                <a:ext cx="808560" cy="73440"/>
              </a:xfrm>
              <a:custGeom>
                <a:avLst/>
                <a:gdLst/>
                <a:ahLst/>
                <a:rect l="0" t="0" r="r" b="b"/>
                <a:pathLst>
                  <a:path w="2246" h="204">
                    <a:moveTo>
                      <a:pt x="0" y="204"/>
                    </a:moveTo>
                    <a:lnTo>
                      <a:pt x="2246" y="204"/>
                    </a:lnTo>
                    <a:lnTo>
                      <a:pt x="2246" y="0"/>
                    </a:lnTo>
                    <a:lnTo>
                      <a:pt x="0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2320" y="2948040"/>
                <a:ext cx="1792440" cy="201600"/>
              </a:xfrm>
              <a:prstGeom prst="rect">
                <a:avLst/>
              </a:pr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011480"/>
                <a:ext cx="1849320" cy="20016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V="1">
                <a:off x="378000" y="314280"/>
                <a:ext cx="199800" cy="271620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622520" y="1519200"/>
                <a:ext cx="555840" cy="1192680"/>
              </a:xfrm>
              <a:custGeom>
                <a:avLst/>
                <a:gdLst/>
                <a:ahLst/>
                <a:rect l="0" t="0" r="r" b="b"/>
                <a:pathLst>
                  <a:path fill="none" w="1544" h="3313">
                    <a:moveTo>
                      <a:pt x="1345" y="3313"/>
                    </a:moveTo>
                    <a:lnTo>
                      <a:pt x="1544" y="3203"/>
                    </a:lnTo>
                    <a:lnTo>
                      <a:pt x="202" y="114"/>
                    </a:lnTo>
                    <a:lnTo>
                      <a:pt x="30" y="0"/>
                    </a:lnTo>
                    <a:lnTo>
                      <a:pt x="0" y="224"/>
                    </a:lnTo>
                    <a:lnTo>
                      <a:pt x="1345" y="3313"/>
                    </a:lnTo>
                  </a:path>
                </a:pathLst>
              </a:custGeom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627200" y="1611360"/>
                <a:ext cx="551160" cy="1060920"/>
              </a:xfrm>
              <a:custGeom>
                <a:avLst/>
                <a:gdLst/>
                <a:ahLst/>
                <a:rect l="0" t="0" r="r" b="b"/>
                <a:pathLst>
                  <a:path fill="none" w="1531" h="2947">
                    <a:moveTo>
                      <a:pt x="1531" y="2947"/>
                    </a:moveTo>
                    <a:lnTo>
                      <a:pt x="1187" y="2713"/>
                    </a:lnTo>
                    <a:lnTo>
                      <a:pt x="1231" y="2255"/>
                    </a:lnTo>
                    <a:lnTo>
                      <a:pt x="887" y="2038"/>
                    </a:lnTo>
                    <a:lnTo>
                      <a:pt x="927" y="1579"/>
                    </a:lnTo>
                    <a:lnTo>
                      <a:pt x="586" y="1350"/>
                    </a:lnTo>
                    <a:lnTo>
                      <a:pt x="639" y="909"/>
                    </a:lnTo>
                    <a:lnTo>
                      <a:pt x="304" y="665"/>
                    </a:lnTo>
                    <a:lnTo>
                      <a:pt x="343" y="22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682640" y="1569960"/>
                <a:ext cx="439920" cy="1136880"/>
              </a:xfrm>
              <a:custGeom>
                <a:avLst/>
                <a:gdLst/>
                <a:ahLst/>
                <a:rect l="0" t="0" r="r" b="b"/>
                <a:pathLst>
                  <a:path fill="none" w="1222" h="3158">
                    <a:moveTo>
                      <a:pt x="1178" y="3158"/>
                    </a:moveTo>
                    <a:lnTo>
                      <a:pt x="1222" y="2717"/>
                    </a:lnTo>
                    <a:lnTo>
                      <a:pt x="882" y="2492"/>
                    </a:lnTo>
                    <a:lnTo>
                      <a:pt x="927" y="2038"/>
                    </a:lnTo>
                    <a:lnTo>
                      <a:pt x="582" y="1800"/>
                    </a:lnTo>
                    <a:lnTo>
                      <a:pt x="622" y="1353"/>
                    </a:lnTo>
                    <a:lnTo>
                      <a:pt x="295" y="1120"/>
                    </a:lnTo>
                    <a:lnTo>
                      <a:pt x="348" y="679"/>
                    </a:lnTo>
                    <a:lnTo>
                      <a:pt x="0" y="445"/>
                    </a:lnTo>
                    <a:lnTo>
                      <a:pt x="44" y="0"/>
                    </a:lnTo>
                  </a:path>
                </a:pathLst>
              </a:custGeom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680" y="3159000"/>
                <a:ext cx="311400" cy="427320"/>
              </a:xfrm>
              <a:custGeom>
                <a:avLst/>
                <a:gdLst/>
                <a:ahLst/>
                <a:rect l="0" t="0" r="r" b="b"/>
                <a:pathLst>
                  <a:path w="865" h="1187">
                    <a:moveTo>
                      <a:pt x="0" y="1187"/>
                    </a:moveTo>
                    <a:lnTo>
                      <a:pt x="0" y="0"/>
                    </a:lnTo>
                    <a:lnTo>
                      <a:pt x="865" y="0"/>
                    </a:lnTo>
                    <a:lnTo>
                      <a:pt x="865" y="1187"/>
                    </a:lnTo>
                    <a:lnTo>
                      <a:pt x="0" y="1187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022400" y="3159000"/>
                <a:ext cx="313200" cy="427320"/>
              </a:xfrm>
              <a:custGeom>
                <a:avLst/>
                <a:gdLst/>
                <a:ahLst/>
                <a:rect l="0" t="0" r="r" b="b"/>
                <a:pathLst>
                  <a:path w="870" h="1187">
                    <a:moveTo>
                      <a:pt x="0" y="1187"/>
                    </a:moveTo>
                    <a:lnTo>
                      <a:pt x="0" y="0"/>
                    </a:lnTo>
                    <a:lnTo>
                      <a:pt x="870" y="0"/>
                    </a:lnTo>
                    <a:lnTo>
                      <a:pt x="870" y="1187"/>
                    </a:lnTo>
                    <a:lnTo>
                      <a:pt x="0" y="1187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662120" y="3159000"/>
                <a:ext cx="138600" cy="165600"/>
              </a:xfrm>
              <a:custGeom>
                <a:avLst/>
                <a:gdLst/>
                <a:ahLst/>
                <a:rect l="0" t="0" r="r" b="b"/>
                <a:pathLst>
                  <a:path w="385" h="460">
                    <a:moveTo>
                      <a:pt x="385" y="460"/>
                    </a:moveTo>
                    <a:lnTo>
                      <a:pt x="0" y="0"/>
                    </a:lnTo>
                    <a:lnTo>
                      <a:pt x="194" y="0"/>
                    </a:lnTo>
                    <a:lnTo>
                      <a:pt x="385" y="271"/>
                    </a:lnTo>
                    <a:lnTo>
                      <a:pt x="385" y="460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44600" y="3159000"/>
                <a:ext cx="394200" cy="427320"/>
              </a:xfrm>
              <a:custGeom>
                <a:avLst/>
                <a:gdLst/>
                <a:ahLst/>
                <a:rect l="0" t="0" r="r" b="b"/>
                <a:pathLst>
                  <a:path w="1095" h="1187">
                    <a:moveTo>
                      <a:pt x="0" y="1187"/>
                    </a:moveTo>
                    <a:lnTo>
                      <a:pt x="1095" y="0"/>
                    </a:lnTo>
                    <a:lnTo>
                      <a:pt x="876" y="0"/>
                    </a:lnTo>
                    <a:lnTo>
                      <a:pt x="0" y="997"/>
                    </a:lnTo>
                    <a:lnTo>
                      <a:pt x="0" y="1187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>
                <a:off x="378000" y="314280"/>
                <a:ext cx="199800" cy="270036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87360" y="247680"/>
                <a:ext cx="568800" cy="2787840"/>
              </a:xfrm>
              <a:custGeom>
                <a:avLst/>
                <a:gdLst/>
                <a:ahLst/>
                <a:rect l="0" t="0" r="r" b="b"/>
                <a:pathLst>
                  <a:path fill="none" w="1580" h="7744">
                    <a:moveTo>
                      <a:pt x="0" y="7744"/>
                    </a:moveTo>
                    <a:lnTo>
                      <a:pt x="1580" y="6589"/>
                    </a:lnTo>
                    <a:lnTo>
                      <a:pt x="136" y="5579"/>
                    </a:lnTo>
                    <a:lnTo>
                      <a:pt x="1430" y="4648"/>
                    </a:lnTo>
                    <a:lnTo>
                      <a:pt x="286" y="3801"/>
                    </a:lnTo>
                    <a:lnTo>
                      <a:pt x="1311" y="3029"/>
                    </a:lnTo>
                    <a:lnTo>
                      <a:pt x="361" y="2341"/>
                    </a:lnTo>
                    <a:lnTo>
                      <a:pt x="1232" y="1741"/>
                    </a:lnTo>
                    <a:lnTo>
                      <a:pt x="450" y="1168"/>
                    </a:lnTo>
                    <a:lnTo>
                      <a:pt x="1143" y="639"/>
                    </a:lnTo>
                    <a:lnTo>
                      <a:pt x="530" y="185"/>
                    </a:lnTo>
                    <a:lnTo>
                      <a:pt x="816" y="0"/>
                    </a:lnTo>
                  </a:path>
                </a:pathLst>
              </a:custGeom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7360" y="93600"/>
                <a:ext cx="51120" cy="3502440"/>
              </a:xfrm>
              <a:custGeom>
                <a:avLst/>
                <a:gdLst/>
                <a:ahLst/>
                <a:rect l="0" t="0" r="r" b="b"/>
                <a:pathLst>
                  <a:path w="142" h="9729">
                    <a:moveTo>
                      <a:pt x="0" y="9729"/>
                    </a:moveTo>
                    <a:lnTo>
                      <a:pt x="0" y="0"/>
                    </a:lnTo>
                    <a:lnTo>
                      <a:pt x="142" y="0"/>
                    </a:lnTo>
                    <a:lnTo>
                      <a:pt x="142" y="9729"/>
                    </a:lnTo>
                    <a:lnTo>
                      <a:pt x="0" y="9729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25520" y="2435400"/>
                <a:ext cx="49536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55760" y="2081160"/>
                <a:ext cx="43488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79520" y="1762200"/>
                <a:ext cx="39204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8600" y="1471680"/>
                <a:ext cx="35064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7680" y="1209600"/>
                <a:ext cx="31248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9640" y="977760"/>
                <a:ext cx="28260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558720" y="774720"/>
                <a:ext cx="23976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68440" y="569880"/>
                <a:ext cx="22068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577800" y="392040"/>
                <a:ext cx="20484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64960" y="2813040"/>
                <a:ext cx="816480" cy="82800"/>
              </a:xfrm>
              <a:custGeom>
                <a:avLst/>
                <a:gdLst/>
                <a:ahLst/>
                <a:rect l="0" t="0" r="r" b="b"/>
                <a:pathLst>
                  <a:path w="2268" h="230">
                    <a:moveTo>
                      <a:pt x="0" y="0"/>
                    </a:moveTo>
                    <a:lnTo>
                      <a:pt x="2268" y="0"/>
                    </a:lnTo>
                    <a:lnTo>
                      <a:pt x="2268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00a0"/>
              </a:solidFill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81160" y="2841480"/>
                <a:ext cx="147960" cy="179640"/>
              </a:xfrm>
              <a:custGeom>
                <a:avLst/>
                <a:gdLst/>
                <a:ahLst/>
                <a:rect l="0" t="0" r="r" b="b"/>
                <a:pathLst>
                  <a:path w="41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411" y="0"/>
                    </a:lnTo>
                    <a:lnTo>
                      <a:pt x="411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76280" y="2841480"/>
                <a:ext cx="140040" cy="179640"/>
              </a:xfrm>
              <a:custGeom>
                <a:avLst/>
                <a:gdLst/>
                <a:ahLst/>
                <a:rect l="0" t="0" r="r" b="b"/>
                <a:pathLst>
                  <a:path w="389" h="499">
                    <a:moveTo>
                      <a:pt x="0" y="499"/>
                    </a:moveTo>
                    <a:lnTo>
                      <a:pt x="0" y="0"/>
                    </a:lnTo>
                    <a:lnTo>
                      <a:pt x="389" y="0"/>
                    </a:lnTo>
                    <a:lnTo>
                      <a:pt x="389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66720" y="2841480"/>
                <a:ext cx="141480" cy="179640"/>
              </a:xfrm>
              <a:custGeom>
                <a:avLst/>
                <a:gdLst/>
                <a:ahLst/>
                <a:rect l="0" t="0" r="r" b="b"/>
                <a:pathLst>
                  <a:path w="393" h="499">
                    <a:moveTo>
                      <a:pt x="0" y="499"/>
                    </a:moveTo>
                    <a:lnTo>
                      <a:pt x="0" y="0"/>
                    </a:lnTo>
                    <a:lnTo>
                      <a:pt x="393" y="0"/>
                    </a:lnTo>
                    <a:lnTo>
                      <a:pt x="39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400" y="2855880"/>
                <a:ext cx="143280" cy="179640"/>
              </a:xfrm>
              <a:custGeom>
                <a:avLst/>
                <a:gdLst/>
                <a:ahLst/>
                <a:rect l="0" t="0" r="r" b="b"/>
                <a:pathLst>
                  <a:path w="398" h="499">
                    <a:moveTo>
                      <a:pt x="0" y="499"/>
                    </a:moveTo>
                    <a:lnTo>
                      <a:pt x="0" y="0"/>
                    </a:lnTo>
                    <a:lnTo>
                      <a:pt x="398" y="0"/>
                    </a:lnTo>
                    <a:lnTo>
                      <a:pt x="398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5960" y="1797120"/>
                <a:ext cx="397080" cy="924120"/>
              </a:xfrm>
              <a:custGeom>
                <a:avLst/>
                <a:gdLst/>
                <a:ahLst/>
                <a:rect l="0" t="0" r="r" b="b"/>
                <a:pathLst>
                  <a:path fill="none" w="1103" h="2567">
                    <a:moveTo>
                      <a:pt x="909" y="2567"/>
                    </a:moveTo>
                    <a:lnTo>
                      <a:pt x="1103" y="2457"/>
                    </a:lnTo>
                    <a:lnTo>
                      <a:pt x="35" y="0"/>
                    </a:lnTo>
                    <a:lnTo>
                      <a:pt x="0" y="480"/>
                    </a:lnTo>
                    <a:lnTo>
                      <a:pt x="909" y="2567"/>
                    </a:lnTo>
                  </a:path>
                </a:pathLst>
              </a:custGeom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9200" y="1973160"/>
                <a:ext cx="333720" cy="733680"/>
              </a:xfrm>
              <a:custGeom>
                <a:avLst/>
                <a:gdLst/>
                <a:ahLst/>
                <a:rect l="0" t="0" r="r" b="b"/>
                <a:pathLst>
                  <a:path fill="none" w="927" h="2038">
                    <a:moveTo>
                      <a:pt x="882" y="2038"/>
                    </a:moveTo>
                    <a:lnTo>
                      <a:pt x="927" y="1597"/>
                    </a:lnTo>
                    <a:lnTo>
                      <a:pt x="587" y="1372"/>
                    </a:lnTo>
                    <a:lnTo>
                      <a:pt x="631" y="917"/>
                    </a:lnTo>
                    <a:lnTo>
                      <a:pt x="286" y="679"/>
                    </a:lnTo>
                    <a:lnTo>
                      <a:pt x="326" y="23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27200" y="1612800"/>
                <a:ext cx="0" cy="85248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90560" y="1560600"/>
                <a:ext cx="0" cy="90468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27200" y="2416320"/>
                <a:ext cx="63720" cy="62280"/>
              </a:xfrm>
              <a:custGeom>
                <a:avLst/>
                <a:gdLst/>
                <a:ahLst/>
                <a:rect l="0" t="0" r="r" b="b"/>
                <a:pathLst>
                  <a:path w="177" h="173">
                    <a:moveTo>
                      <a:pt x="177" y="98"/>
                    </a:moveTo>
                    <a:lnTo>
                      <a:pt x="168" y="67"/>
                    </a:lnTo>
                    <a:lnTo>
                      <a:pt x="159" y="45"/>
                    </a:lnTo>
                    <a:lnTo>
                      <a:pt x="155" y="17"/>
                    </a:lnTo>
                    <a:lnTo>
                      <a:pt x="133" y="4"/>
                    </a:lnTo>
                    <a:lnTo>
                      <a:pt x="111" y="0"/>
                    </a:lnTo>
                    <a:lnTo>
                      <a:pt x="89" y="0"/>
                    </a:lnTo>
                    <a:lnTo>
                      <a:pt x="70" y="0"/>
                    </a:lnTo>
                    <a:lnTo>
                      <a:pt x="52" y="4"/>
                    </a:lnTo>
                    <a:lnTo>
                      <a:pt x="26" y="13"/>
                    </a:lnTo>
                    <a:lnTo>
                      <a:pt x="17" y="45"/>
                    </a:lnTo>
                    <a:lnTo>
                      <a:pt x="4" y="58"/>
                    </a:lnTo>
                    <a:lnTo>
                      <a:pt x="0" y="84"/>
                    </a:lnTo>
                    <a:lnTo>
                      <a:pt x="0" y="111"/>
                    </a:lnTo>
                    <a:lnTo>
                      <a:pt x="13" y="138"/>
                    </a:lnTo>
                    <a:lnTo>
                      <a:pt x="17" y="147"/>
                    </a:lnTo>
                    <a:lnTo>
                      <a:pt x="39" y="169"/>
                    </a:lnTo>
                    <a:lnTo>
                      <a:pt x="57" y="173"/>
                    </a:lnTo>
                    <a:lnTo>
                      <a:pt x="74" y="173"/>
                    </a:lnTo>
                    <a:lnTo>
                      <a:pt x="102" y="173"/>
                    </a:lnTo>
                    <a:lnTo>
                      <a:pt x="124" y="173"/>
                    </a:lnTo>
                    <a:lnTo>
                      <a:pt x="137" y="169"/>
                    </a:lnTo>
                    <a:lnTo>
                      <a:pt x="155" y="143"/>
                    </a:lnTo>
                    <a:lnTo>
                      <a:pt x="168" y="128"/>
                    </a:lnTo>
                    <a:lnTo>
                      <a:pt x="177" y="102"/>
                    </a:lnTo>
                    <a:lnTo>
                      <a:pt x="177" y="98"/>
                    </a:lnTo>
                    <a:close/>
                  </a:path>
                </a:pathLst>
              </a:custGeom>
              <a:solidFill>
                <a:srgbClr val="4000a0"/>
              </a:solidFill>
              <a:ln w="12600">
                <a:solidFill>
                  <a:srgbClr val="4000a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57440" y="2451240"/>
                <a:ext cx="0" cy="11268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84200" y="2563920"/>
                <a:ext cx="414720" cy="60840"/>
              </a:xfrm>
              <a:custGeom>
                <a:avLst/>
                <a:gdLst/>
                <a:ahLst/>
                <a:rect l="0" t="0" r="r" b="b"/>
                <a:pathLst>
                  <a:path w="1152" h="169">
                    <a:moveTo>
                      <a:pt x="0" y="0"/>
                    </a:moveTo>
                    <a:lnTo>
                      <a:pt x="0" y="38"/>
                    </a:lnTo>
                    <a:lnTo>
                      <a:pt x="168" y="38"/>
                    </a:lnTo>
                    <a:lnTo>
                      <a:pt x="168" y="142"/>
                    </a:lnTo>
                    <a:lnTo>
                      <a:pt x="0" y="142"/>
                    </a:lnTo>
                    <a:lnTo>
                      <a:pt x="0" y="169"/>
                    </a:lnTo>
                    <a:lnTo>
                      <a:pt x="1152" y="154"/>
                    </a:lnTo>
                    <a:lnTo>
                      <a:pt x="1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9640" y="977760"/>
                <a:ext cx="28260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58720" y="774720"/>
                <a:ext cx="23976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77800" y="392040"/>
                <a:ext cx="204840" cy="0"/>
              </a:xfrm>
              <a:prstGeom prst="line">
                <a:avLst/>
              </a:prstGeom>
              <a:ln w="12600">
                <a:solidFill>
                  <a:srgbClr val="400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9200" y="1881360"/>
                <a:ext cx="389160" cy="790920"/>
              </a:xfrm>
              <a:custGeom>
                <a:avLst/>
                <a:gdLst/>
                <a:ahLst/>
                <a:rect l="0" t="0" r="r" b="b"/>
                <a:pathLst>
                  <a:path fill="none" w="1081" h="2197">
                    <a:moveTo>
                      <a:pt x="1081" y="2197"/>
                    </a:moveTo>
                    <a:lnTo>
                      <a:pt x="737" y="1963"/>
                    </a:lnTo>
                    <a:lnTo>
                      <a:pt x="781" y="1504"/>
                    </a:lnTo>
                    <a:lnTo>
                      <a:pt x="436" y="1288"/>
                    </a:lnTo>
                    <a:lnTo>
                      <a:pt x="476" y="829"/>
                    </a:lnTo>
                    <a:lnTo>
                      <a:pt x="136" y="599"/>
                    </a:lnTo>
                    <a:lnTo>
                      <a:pt x="189" y="15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41640" y="1969920"/>
                <a:ext cx="38520" cy="989280"/>
              </a:xfrm>
              <a:custGeom>
                <a:avLst/>
                <a:gdLst/>
                <a:ahLst/>
                <a:rect l="0" t="0" r="r" b="b"/>
                <a:pathLst>
                  <a:path fill="none" w="107" h="2748">
                    <a:moveTo>
                      <a:pt x="0" y="2708"/>
                    </a:moveTo>
                    <a:lnTo>
                      <a:pt x="0" y="0"/>
                    </a:lnTo>
                    <a:lnTo>
                      <a:pt x="107" y="0"/>
                    </a:lnTo>
                    <a:lnTo>
                      <a:pt x="107" y="2748"/>
                    </a:lnTo>
                  </a:path>
                </a:pathLst>
              </a:custGeom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24080" y="3592440"/>
                <a:ext cx="422640" cy="414720"/>
              </a:xfrm>
              <a:custGeom>
                <a:avLst/>
                <a:gdLst/>
                <a:ahLst/>
                <a:rect l="0" t="0" r="r" b="b"/>
                <a:pathLst>
                  <a:path w="1174" h="1152">
                    <a:moveTo>
                      <a:pt x="21" y="0"/>
                    </a:moveTo>
                    <a:lnTo>
                      <a:pt x="1174" y="1152"/>
                    </a:lnTo>
                    <a:lnTo>
                      <a:pt x="933" y="1140"/>
                    </a:lnTo>
                    <a:lnTo>
                      <a:pt x="0" y="17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84200" y="4537080"/>
                <a:ext cx="547920" cy="60840"/>
              </a:xfrm>
              <a:custGeom>
                <a:avLst/>
                <a:gdLst/>
                <a:ahLst/>
                <a:rect l="0" t="0" r="r" b="b"/>
                <a:pathLst>
                  <a:path w="1522" h="169">
                    <a:moveTo>
                      <a:pt x="0" y="169"/>
                    </a:moveTo>
                    <a:lnTo>
                      <a:pt x="0" y="131"/>
                    </a:lnTo>
                    <a:lnTo>
                      <a:pt x="169" y="131"/>
                    </a:lnTo>
                    <a:lnTo>
                      <a:pt x="169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522" y="0"/>
                    </a:lnTo>
                    <a:lnTo>
                      <a:pt x="1522" y="26"/>
                    </a:lnTo>
                    <a:lnTo>
                      <a:pt x="1357" y="26"/>
                    </a:lnTo>
                    <a:lnTo>
                      <a:pt x="1357" y="131"/>
                    </a:lnTo>
                    <a:lnTo>
                      <a:pt x="1522" y="131"/>
                    </a:lnTo>
                    <a:lnTo>
                      <a:pt x="1522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3595680"/>
                <a:ext cx="319320" cy="413280"/>
              </a:xfrm>
              <a:custGeom>
                <a:avLst/>
                <a:gdLst/>
                <a:ahLst/>
                <a:rect l="0" t="0" r="r" b="b"/>
                <a:pathLst>
                  <a:path w="887" h="1148">
                    <a:moveTo>
                      <a:pt x="0" y="0"/>
                    </a:moveTo>
                    <a:lnTo>
                      <a:pt x="0" y="1148"/>
                    </a:lnTo>
                    <a:lnTo>
                      <a:pt x="887" y="1148"/>
                    </a:lnTo>
                    <a:lnTo>
                      <a:pt x="88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11240" y="3595680"/>
                <a:ext cx="314640" cy="413280"/>
              </a:xfrm>
              <a:custGeom>
                <a:avLst/>
                <a:gdLst/>
                <a:ahLst/>
                <a:rect l="0" t="0" r="r" b="b"/>
                <a:pathLst>
                  <a:path w="874" h="1148">
                    <a:moveTo>
                      <a:pt x="0" y="0"/>
                    </a:moveTo>
                    <a:lnTo>
                      <a:pt x="0" y="1148"/>
                    </a:lnTo>
                    <a:lnTo>
                      <a:pt x="874" y="1148"/>
                    </a:lnTo>
                    <a:lnTo>
                      <a:pt x="8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6840" y="4156200"/>
                <a:ext cx="199800" cy="270036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8480" y="6192720"/>
                <a:ext cx="2826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47560" y="6396120"/>
                <a:ext cx="23976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66640" y="6778800"/>
                <a:ext cx="20484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70000" y="4141800"/>
                <a:ext cx="147960" cy="178200"/>
              </a:xfrm>
              <a:custGeom>
                <a:avLst/>
                <a:gdLst/>
                <a:ahLst/>
                <a:rect l="0" t="0" r="r" b="b"/>
                <a:pathLst>
                  <a:path w="411" h="495">
                    <a:moveTo>
                      <a:pt x="0" y="0"/>
                    </a:moveTo>
                    <a:lnTo>
                      <a:pt x="0" y="495"/>
                    </a:lnTo>
                    <a:lnTo>
                      <a:pt x="411" y="495"/>
                    </a:lnTo>
                    <a:lnTo>
                      <a:pt x="4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4141800"/>
                <a:ext cx="141480" cy="178200"/>
              </a:xfrm>
              <a:custGeom>
                <a:avLst/>
                <a:gdLst/>
                <a:ahLst/>
                <a:rect l="0" t="0" r="r" b="b"/>
                <a:pathLst>
                  <a:path w="393" h="495">
                    <a:moveTo>
                      <a:pt x="0" y="0"/>
                    </a:moveTo>
                    <a:lnTo>
                      <a:pt x="0" y="495"/>
                    </a:lnTo>
                    <a:lnTo>
                      <a:pt x="393" y="495"/>
                    </a:lnTo>
                    <a:lnTo>
                      <a:pt x="3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57360" y="4141800"/>
                <a:ext cx="140040" cy="178200"/>
              </a:xfrm>
              <a:custGeom>
                <a:avLst/>
                <a:gdLst/>
                <a:ahLst/>
                <a:rect l="0" t="0" r="r" b="b"/>
                <a:pathLst>
                  <a:path w="389" h="495">
                    <a:moveTo>
                      <a:pt x="0" y="0"/>
                    </a:moveTo>
                    <a:lnTo>
                      <a:pt x="0" y="495"/>
                    </a:lnTo>
                    <a:lnTo>
                      <a:pt x="389" y="495"/>
                    </a:lnTo>
                    <a:lnTo>
                      <a:pt x="3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840" y="4125960"/>
                <a:ext cx="144720" cy="165600"/>
              </a:xfrm>
              <a:custGeom>
                <a:avLst/>
                <a:gdLst/>
                <a:ahLst/>
                <a:rect l="0" t="0" r="r" b="b"/>
                <a:pathLst>
                  <a:path w="402" h="460">
                    <a:moveTo>
                      <a:pt x="0" y="0"/>
                    </a:moveTo>
                    <a:lnTo>
                      <a:pt x="0" y="460"/>
                    </a:lnTo>
                    <a:lnTo>
                      <a:pt x="402" y="460"/>
                    </a:lnTo>
                    <a:lnTo>
                      <a:pt x="4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616040" y="4705200"/>
                <a:ext cx="0" cy="852480"/>
              </a:xfrm>
              <a:prstGeom prst="line">
                <a:avLst/>
              </a:prstGeom>
              <a:ln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6040" y="4692600"/>
                <a:ext cx="63720" cy="62280"/>
              </a:xfrm>
              <a:custGeom>
                <a:avLst/>
                <a:gdLst/>
                <a:ahLst/>
                <a:rect l="0" t="0" r="r" b="b"/>
                <a:pathLst>
                  <a:path w="177" h="173">
                    <a:moveTo>
                      <a:pt x="177" y="80"/>
                    </a:moveTo>
                    <a:lnTo>
                      <a:pt x="168" y="106"/>
                    </a:lnTo>
                    <a:lnTo>
                      <a:pt x="159" y="128"/>
                    </a:lnTo>
                    <a:lnTo>
                      <a:pt x="155" y="156"/>
                    </a:lnTo>
                    <a:lnTo>
                      <a:pt x="133" y="169"/>
                    </a:lnTo>
                    <a:lnTo>
                      <a:pt x="111" y="173"/>
                    </a:lnTo>
                    <a:lnTo>
                      <a:pt x="93" y="173"/>
                    </a:lnTo>
                    <a:lnTo>
                      <a:pt x="70" y="173"/>
                    </a:lnTo>
                    <a:lnTo>
                      <a:pt x="52" y="169"/>
                    </a:lnTo>
                    <a:lnTo>
                      <a:pt x="30" y="160"/>
                    </a:lnTo>
                    <a:lnTo>
                      <a:pt x="17" y="128"/>
                    </a:lnTo>
                    <a:lnTo>
                      <a:pt x="4" y="115"/>
                    </a:lnTo>
                    <a:lnTo>
                      <a:pt x="0" y="89"/>
                    </a:lnTo>
                    <a:lnTo>
                      <a:pt x="0" y="62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39" y="4"/>
                    </a:lnTo>
                    <a:lnTo>
                      <a:pt x="57" y="0"/>
                    </a:lnTo>
                    <a:lnTo>
                      <a:pt x="79" y="0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37" y="4"/>
                    </a:lnTo>
                    <a:lnTo>
                      <a:pt x="155" y="30"/>
                    </a:lnTo>
                    <a:lnTo>
                      <a:pt x="168" y="45"/>
                    </a:lnTo>
                    <a:lnTo>
                      <a:pt x="177" y="75"/>
                    </a:lnTo>
                    <a:lnTo>
                      <a:pt x="177" y="80"/>
                    </a:lnTo>
                    <a:close/>
                  </a:path>
                </a:pathLst>
              </a:custGeom>
              <a:solidFill>
                <a:srgbClr val="000040"/>
              </a:solidFill>
              <a:ln w="12600">
                <a:solidFill>
                  <a:srgbClr val="00004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11360" y="5183280"/>
                <a:ext cx="171720" cy="468720"/>
              </a:xfrm>
              <a:custGeom>
                <a:avLst/>
                <a:gdLst/>
                <a:ahLst/>
                <a:rect l="0" t="0" r="r" b="b"/>
                <a:pathLst>
                  <a:path fill="none" w="477" h="1302">
                    <a:moveTo>
                      <a:pt x="477" y="543"/>
                    </a:moveTo>
                    <a:lnTo>
                      <a:pt x="202" y="1192"/>
                    </a:lnTo>
                    <a:lnTo>
                      <a:pt x="30" y="1302"/>
                    </a:lnTo>
                    <a:lnTo>
                      <a:pt x="0" y="1077"/>
                    </a:lnTo>
                    <a:lnTo>
                      <a:pt x="464" y="0"/>
                    </a:lnTo>
                  </a:path>
                </a:pathLst>
              </a:custGeom>
              <a:ln w="12600">
                <a:solidFill>
                  <a:srgbClr val="000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16040" y="5308560"/>
                <a:ext cx="124200" cy="251280"/>
              </a:xfrm>
              <a:custGeom>
                <a:avLst/>
                <a:gdLst/>
                <a:ahLst/>
                <a:rect l="0" t="0" r="r" b="b"/>
                <a:pathLst>
                  <a:path fill="none" w="345" h="698">
                    <a:moveTo>
                      <a:pt x="301" y="0"/>
                    </a:moveTo>
                    <a:lnTo>
                      <a:pt x="345" y="477"/>
                    </a:lnTo>
                    <a:lnTo>
                      <a:pt x="0" y="698"/>
                    </a:lnTo>
                  </a:path>
                </a:pathLst>
              </a:custGeom>
              <a:ln w="12600">
                <a:solidFill>
                  <a:srgbClr val="000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3360" y="4459320"/>
                <a:ext cx="398880" cy="924120"/>
              </a:xfrm>
              <a:custGeom>
                <a:avLst/>
                <a:gdLst/>
                <a:ahLst/>
                <a:rect l="0" t="0" r="r" b="b"/>
                <a:pathLst>
                  <a:path fill="none" w="1108" h="2567">
                    <a:moveTo>
                      <a:pt x="910" y="0"/>
                    </a:moveTo>
                    <a:lnTo>
                      <a:pt x="1108" y="110"/>
                    </a:lnTo>
                    <a:lnTo>
                      <a:pt x="39" y="2567"/>
                    </a:lnTo>
                    <a:lnTo>
                      <a:pt x="0" y="2091"/>
                    </a:lnTo>
                    <a:lnTo>
                      <a:pt x="910" y="0"/>
                    </a:lnTo>
                  </a:path>
                </a:pathLst>
              </a:custGeom>
              <a:ln w="12600">
                <a:solidFill>
                  <a:srgbClr val="000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782720" y="4498920"/>
                <a:ext cx="389160" cy="790920"/>
              </a:xfrm>
              <a:custGeom>
                <a:avLst/>
                <a:gdLst/>
                <a:ahLst/>
                <a:rect l="0" t="0" r="r" b="b"/>
                <a:pathLst>
                  <a:path fill="none" w="1081" h="2197">
                    <a:moveTo>
                      <a:pt x="1081" y="0"/>
                    </a:moveTo>
                    <a:lnTo>
                      <a:pt x="737" y="233"/>
                    </a:lnTo>
                    <a:lnTo>
                      <a:pt x="781" y="692"/>
                    </a:lnTo>
                    <a:lnTo>
                      <a:pt x="436" y="908"/>
                    </a:lnTo>
                    <a:lnTo>
                      <a:pt x="476" y="1368"/>
                    </a:lnTo>
                    <a:lnTo>
                      <a:pt x="136" y="1597"/>
                    </a:lnTo>
                    <a:lnTo>
                      <a:pt x="189" y="2042"/>
                    </a:lnTo>
                    <a:lnTo>
                      <a:pt x="0" y="2197"/>
                    </a:lnTo>
                  </a:path>
                </a:pathLst>
              </a:custGeom>
              <a:ln w="12600">
                <a:solidFill>
                  <a:srgbClr val="000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82720" y="4464000"/>
                <a:ext cx="333720" cy="733680"/>
              </a:xfrm>
              <a:custGeom>
                <a:avLst/>
                <a:gdLst/>
                <a:ahLst/>
                <a:rect l="0" t="0" r="r" b="b"/>
                <a:pathLst>
                  <a:path fill="none" w="927" h="2038">
                    <a:moveTo>
                      <a:pt x="882" y="0"/>
                    </a:moveTo>
                    <a:lnTo>
                      <a:pt x="927" y="440"/>
                    </a:lnTo>
                    <a:lnTo>
                      <a:pt x="587" y="665"/>
                    </a:lnTo>
                    <a:lnTo>
                      <a:pt x="631" y="1121"/>
                    </a:lnTo>
                    <a:lnTo>
                      <a:pt x="286" y="1359"/>
                    </a:lnTo>
                    <a:lnTo>
                      <a:pt x="326" y="1804"/>
                    </a:lnTo>
                    <a:lnTo>
                      <a:pt x="0" y="2038"/>
                    </a:lnTo>
                  </a:path>
                </a:pathLst>
              </a:custGeom>
              <a:ln w="12600">
                <a:solidFill>
                  <a:srgbClr val="000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35160" y="4211640"/>
                <a:ext cx="36720" cy="989280"/>
              </a:xfrm>
              <a:custGeom>
                <a:avLst/>
                <a:gdLst/>
                <a:ahLst/>
                <a:rect l="0" t="0" r="r" b="b"/>
                <a:pathLst>
                  <a:path fill="none" w="102" h="2748">
                    <a:moveTo>
                      <a:pt x="0" y="39"/>
                    </a:moveTo>
                    <a:lnTo>
                      <a:pt x="0" y="2748"/>
                    </a:lnTo>
                    <a:lnTo>
                      <a:pt x="102" y="2748"/>
                    </a:lnTo>
                    <a:lnTo>
                      <a:pt x="102" y="0"/>
                    </a:lnTo>
                  </a:path>
                </a:pathLst>
              </a:custGeom>
              <a:ln w="12600">
                <a:solidFill>
                  <a:srgbClr val="000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44480" y="3821040"/>
                <a:ext cx="154440" cy="194040"/>
              </a:xfrm>
              <a:custGeom>
                <a:avLst/>
                <a:gdLst/>
                <a:ahLst/>
                <a:rect l="0" t="0" r="r" b="b"/>
                <a:pathLst>
                  <a:path w="429" h="539">
                    <a:moveTo>
                      <a:pt x="429" y="0"/>
                    </a:moveTo>
                    <a:lnTo>
                      <a:pt x="0" y="539"/>
                    </a:lnTo>
                    <a:lnTo>
                      <a:pt x="196" y="539"/>
                    </a:lnTo>
                    <a:lnTo>
                      <a:pt x="429" y="198"/>
                    </a:lnTo>
                    <a:lnTo>
                      <a:pt x="429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679400" y="4705200"/>
                <a:ext cx="0" cy="90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1652760" y="4600440"/>
                <a:ext cx="0" cy="112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68600" y="5189400"/>
                <a:ext cx="111600" cy="411480"/>
              </a:xfrm>
              <a:custGeom>
                <a:avLst/>
                <a:gdLst/>
                <a:ahLst/>
                <a:rect l="0" t="0" r="r" b="b"/>
                <a:pathLst>
                  <a:path fill="none" w="310" h="1143">
                    <a:moveTo>
                      <a:pt x="293" y="0"/>
                    </a:moveTo>
                    <a:lnTo>
                      <a:pt x="310" y="537"/>
                    </a:lnTo>
                    <a:lnTo>
                      <a:pt x="0" y="653"/>
                    </a:lnTo>
                    <a:lnTo>
                      <a:pt x="35" y="1143"/>
                    </a:lnTo>
                  </a:path>
                </a:pathLst>
              </a:custGeom>
              <a:ln w="12600">
                <a:solidFill>
                  <a:srgbClr val="000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12960" y="4537080"/>
                <a:ext cx="116280" cy="59040"/>
              </a:xfrm>
              <a:custGeom>
                <a:avLst/>
                <a:gdLst/>
                <a:ahLst/>
                <a:rect l="0" t="0" r="r" b="b"/>
                <a:pathLst>
                  <a:path w="323" h="164">
                    <a:moveTo>
                      <a:pt x="0" y="0"/>
                    </a:moveTo>
                    <a:lnTo>
                      <a:pt x="0" y="164"/>
                    </a:lnTo>
                    <a:lnTo>
                      <a:pt x="323" y="164"/>
                    </a:lnTo>
                    <a:lnTo>
                      <a:pt x="323" y="130"/>
                    </a:lnTo>
                    <a:lnTo>
                      <a:pt x="176" y="126"/>
                    </a:lnTo>
                    <a:lnTo>
                      <a:pt x="176" y="22"/>
                    </a:lnTo>
                    <a:lnTo>
                      <a:pt x="323" y="22"/>
                    </a:lnTo>
                    <a:lnTo>
                      <a:pt x="3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12960" y="2568600"/>
                <a:ext cx="124200" cy="54360"/>
              </a:xfrm>
              <a:custGeom>
                <a:avLst/>
                <a:gdLst/>
                <a:ahLst/>
                <a:rect l="0" t="0" r="r" b="b"/>
                <a:pathLst>
                  <a:path w="34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337" y="151"/>
                    </a:lnTo>
                    <a:lnTo>
                      <a:pt x="337" y="129"/>
                    </a:lnTo>
                    <a:lnTo>
                      <a:pt x="177" y="121"/>
                    </a:lnTo>
                    <a:lnTo>
                      <a:pt x="177" y="42"/>
                    </a:lnTo>
                    <a:lnTo>
                      <a:pt x="345" y="42"/>
                    </a:lnTo>
                    <a:lnTo>
                      <a:pt x="3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12960" y="2523960"/>
                <a:ext cx="851400" cy="1055880"/>
              </a:xfrm>
              <a:custGeom>
                <a:avLst/>
                <a:gdLst/>
                <a:ahLst/>
                <a:rect l="0" t="0" r="r" b="b"/>
                <a:pathLst>
                  <a:path w="2365" h="2933">
                    <a:moveTo>
                      <a:pt x="4" y="1162"/>
                    </a:moveTo>
                    <a:lnTo>
                      <a:pt x="527" y="1162"/>
                    </a:lnTo>
                    <a:lnTo>
                      <a:pt x="527" y="437"/>
                    </a:lnTo>
                    <a:lnTo>
                      <a:pt x="1108" y="437"/>
                    </a:lnTo>
                    <a:lnTo>
                      <a:pt x="1108" y="0"/>
                    </a:lnTo>
                    <a:lnTo>
                      <a:pt x="1518" y="0"/>
                    </a:lnTo>
                    <a:lnTo>
                      <a:pt x="1518" y="1306"/>
                    </a:lnTo>
                    <a:lnTo>
                      <a:pt x="2365" y="1306"/>
                    </a:lnTo>
                    <a:lnTo>
                      <a:pt x="2343" y="1792"/>
                    </a:lnTo>
                    <a:lnTo>
                      <a:pt x="1444" y="1792"/>
                    </a:lnTo>
                    <a:lnTo>
                      <a:pt x="1444" y="2933"/>
                    </a:lnTo>
                    <a:lnTo>
                      <a:pt x="501" y="2933"/>
                    </a:lnTo>
                    <a:lnTo>
                      <a:pt x="0" y="2264"/>
                    </a:lnTo>
                    <a:lnTo>
                      <a:pt x="0" y="2063"/>
                    </a:lnTo>
                    <a:lnTo>
                      <a:pt x="527" y="2688"/>
                    </a:lnTo>
                    <a:lnTo>
                      <a:pt x="527" y="1753"/>
                    </a:lnTo>
                    <a:lnTo>
                      <a:pt x="0" y="1753"/>
                    </a:lnTo>
                    <a:lnTo>
                      <a:pt x="4" y="116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12960" y="3586320"/>
                <a:ext cx="833760" cy="1060920"/>
              </a:xfrm>
              <a:custGeom>
                <a:avLst/>
                <a:gdLst/>
                <a:ahLst/>
                <a:rect l="0" t="0" r="r" b="b"/>
                <a:pathLst>
                  <a:path w="2316" h="2947">
                    <a:moveTo>
                      <a:pt x="0" y="1744"/>
                    </a:moveTo>
                    <a:lnTo>
                      <a:pt x="527" y="1744"/>
                    </a:lnTo>
                    <a:lnTo>
                      <a:pt x="527" y="2506"/>
                    </a:lnTo>
                    <a:lnTo>
                      <a:pt x="1107" y="2510"/>
                    </a:lnTo>
                    <a:lnTo>
                      <a:pt x="1107" y="2947"/>
                    </a:lnTo>
                    <a:lnTo>
                      <a:pt x="1518" y="2947"/>
                    </a:lnTo>
                    <a:lnTo>
                      <a:pt x="1518" y="1635"/>
                    </a:lnTo>
                    <a:lnTo>
                      <a:pt x="2316" y="1635"/>
                    </a:lnTo>
                    <a:lnTo>
                      <a:pt x="2316" y="1150"/>
                    </a:lnTo>
                    <a:lnTo>
                      <a:pt x="1444" y="1150"/>
                    </a:lnTo>
                    <a:lnTo>
                      <a:pt x="1444" y="0"/>
                    </a:lnTo>
                    <a:lnTo>
                      <a:pt x="505" y="0"/>
                    </a:lnTo>
                    <a:lnTo>
                      <a:pt x="4" y="633"/>
                    </a:lnTo>
                    <a:lnTo>
                      <a:pt x="4" y="831"/>
                    </a:lnTo>
                    <a:lnTo>
                      <a:pt x="531" y="236"/>
                    </a:lnTo>
                    <a:lnTo>
                      <a:pt x="531" y="1176"/>
                    </a:lnTo>
                    <a:lnTo>
                      <a:pt x="0" y="1176"/>
                    </a:lnTo>
                    <a:lnTo>
                      <a:pt x="0" y="1744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9200" y="3159000"/>
                <a:ext cx="394200" cy="427320"/>
              </a:xfrm>
              <a:custGeom>
                <a:avLst/>
                <a:gdLst/>
                <a:ahLst/>
                <a:rect l="0" t="0" r="r" b="b"/>
                <a:pathLst>
                  <a:path w="1095" h="1187">
                    <a:moveTo>
                      <a:pt x="1095" y="1187"/>
                    </a:moveTo>
                    <a:lnTo>
                      <a:pt x="0" y="0"/>
                    </a:lnTo>
                    <a:lnTo>
                      <a:pt x="219" y="0"/>
                    </a:lnTo>
                    <a:lnTo>
                      <a:pt x="1095" y="997"/>
                    </a:lnTo>
                    <a:lnTo>
                      <a:pt x="1095" y="1187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5440" y="3159000"/>
                <a:ext cx="397080" cy="427320"/>
              </a:xfrm>
              <a:custGeom>
                <a:avLst/>
                <a:gdLst/>
                <a:ahLst/>
                <a:rect l="0" t="0" r="r" b="b"/>
                <a:pathLst>
                  <a:path w="1103" h="1187">
                    <a:moveTo>
                      <a:pt x="0" y="1187"/>
                    </a:moveTo>
                    <a:lnTo>
                      <a:pt x="1103" y="0"/>
                    </a:lnTo>
                    <a:lnTo>
                      <a:pt x="866" y="0"/>
                    </a:lnTo>
                    <a:lnTo>
                      <a:pt x="0" y="997"/>
                    </a:lnTo>
                    <a:lnTo>
                      <a:pt x="0" y="1187"/>
                    </a:lnTo>
                    <a:close/>
                  </a:path>
                </a:pathLst>
              </a:custGeom>
              <a:solidFill>
                <a:srgbClr val="4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8160" y="3598920"/>
                <a:ext cx="392400" cy="406800"/>
              </a:xfrm>
              <a:custGeom>
                <a:avLst/>
                <a:gdLst/>
                <a:ahLst/>
                <a:rect l="0" t="0" r="r" b="b"/>
                <a:pathLst>
                  <a:path w="1090" h="1130">
                    <a:moveTo>
                      <a:pt x="1090" y="0"/>
                    </a:moveTo>
                    <a:lnTo>
                      <a:pt x="0" y="1130"/>
                    </a:lnTo>
                    <a:lnTo>
                      <a:pt x="219" y="1130"/>
                    </a:lnTo>
                    <a:lnTo>
                      <a:pt x="1090" y="172"/>
                    </a:lnTo>
                    <a:lnTo>
                      <a:pt x="109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760" y="3598920"/>
                <a:ext cx="395640" cy="406800"/>
              </a:xfrm>
              <a:custGeom>
                <a:avLst/>
                <a:gdLst/>
                <a:ahLst/>
                <a:rect l="0" t="0" r="r" b="b"/>
                <a:pathLst>
                  <a:path w="1099" h="1130">
                    <a:moveTo>
                      <a:pt x="0" y="0"/>
                    </a:moveTo>
                    <a:lnTo>
                      <a:pt x="1099" y="1130"/>
                    </a:lnTo>
                    <a:lnTo>
                      <a:pt x="862" y="1130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43000" y="39852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24040" y="1693800"/>
            <a:ext cx="58341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