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72960" y="1052640"/>
            <a:ext cx="9745920" cy="5793120"/>
            <a:chOff x="-372960" y="1052640"/>
            <a:chExt cx="9745920" cy="5793120"/>
          </a:xfrm>
        </p:grpSpPr>
        <p:sp>
          <p:nvSpPr>
            <p:cNvPr id="1" name=""/>
            <p:cNvSpPr/>
            <p:nvPr/>
          </p:nvSpPr>
          <p:spPr>
            <a:xfrm>
              <a:off x="-372960" y="1052640"/>
              <a:ext cx="9745920" cy="5793120"/>
            </a:xfrm>
            <a:custGeom>
              <a:avLst/>
              <a:gdLst/>
              <a:ahLst/>
              <a:rect l="0" t="0" r="r" b="b"/>
              <a:pathLst>
                <a:path w="27072" h="16092">
                  <a:moveTo>
                    <a:pt x="2851" y="12721"/>
                  </a:moveTo>
                  <a:lnTo>
                    <a:pt x="3115" y="12425"/>
                  </a:lnTo>
                  <a:lnTo>
                    <a:pt x="3689" y="11739"/>
                  </a:lnTo>
                  <a:lnTo>
                    <a:pt x="4712" y="11739"/>
                  </a:lnTo>
                  <a:lnTo>
                    <a:pt x="5220" y="11325"/>
                  </a:lnTo>
                  <a:lnTo>
                    <a:pt x="5269" y="11279"/>
                  </a:lnTo>
                  <a:lnTo>
                    <a:pt x="5410" y="11871"/>
                  </a:lnTo>
                  <a:lnTo>
                    <a:pt x="5616" y="12248"/>
                  </a:lnTo>
                  <a:lnTo>
                    <a:pt x="5897" y="12515"/>
                  </a:lnTo>
                  <a:lnTo>
                    <a:pt x="6243" y="12758"/>
                  </a:lnTo>
                  <a:lnTo>
                    <a:pt x="6227" y="12721"/>
                  </a:lnTo>
                  <a:lnTo>
                    <a:pt x="4" y="12725"/>
                  </a:lnTo>
                  <a:lnTo>
                    <a:pt x="4" y="16092"/>
                  </a:lnTo>
                  <a:lnTo>
                    <a:pt x="27072" y="16042"/>
                  </a:lnTo>
                  <a:lnTo>
                    <a:pt x="26403" y="1047"/>
                  </a:lnTo>
                  <a:lnTo>
                    <a:pt x="26403" y="808"/>
                  </a:lnTo>
                  <a:lnTo>
                    <a:pt x="25586" y="973"/>
                  </a:lnTo>
                  <a:lnTo>
                    <a:pt x="23407" y="1572"/>
                  </a:lnTo>
                  <a:lnTo>
                    <a:pt x="22619" y="1757"/>
                  </a:lnTo>
                  <a:lnTo>
                    <a:pt x="22062" y="1896"/>
                  </a:lnTo>
                  <a:lnTo>
                    <a:pt x="22062" y="2176"/>
                  </a:lnTo>
                  <a:lnTo>
                    <a:pt x="21736" y="2266"/>
                  </a:lnTo>
                  <a:lnTo>
                    <a:pt x="20622" y="2635"/>
                  </a:lnTo>
                  <a:lnTo>
                    <a:pt x="20486" y="2820"/>
                  </a:lnTo>
                  <a:lnTo>
                    <a:pt x="20300" y="3005"/>
                  </a:lnTo>
                  <a:lnTo>
                    <a:pt x="20300" y="3420"/>
                  </a:lnTo>
                  <a:lnTo>
                    <a:pt x="19928" y="3559"/>
                  </a:lnTo>
                  <a:lnTo>
                    <a:pt x="19834" y="3884"/>
                  </a:lnTo>
                  <a:lnTo>
                    <a:pt x="18909" y="3884"/>
                  </a:lnTo>
                  <a:lnTo>
                    <a:pt x="18629" y="4068"/>
                  </a:lnTo>
                  <a:lnTo>
                    <a:pt x="18303" y="4163"/>
                  </a:lnTo>
                  <a:lnTo>
                    <a:pt x="18257" y="4393"/>
                  </a:lnTo>
                  <a:lnTo>
                    <a:pt x="17477" y="4799"/>
                  </a:lnTo>
                  <a:lnTo>
                    <a:pt x="16887" y="5177"/>
                  </a:lnTo>
                  <a:lnTo>
                    <a:pt x="16652" y="5366"/>
                  </a:lnTo>
                  <a:lnTo>
                    <a:pt x="16495" y="5547"/>
                  </a:lnTo>
                  <a:lnTo>
                    <a:pt x="15715" y="7078"/>
                  </a:lnTo>
                  <a:lnTo>
                    <a:pt x="15195" y="8184"/>
                  </a:lnTo>
                  <a:lnTo>
                    <a:pt x="15286" y="8643"/>
                  </a:lnTo>
                  <a:lnTo>
                    <a:pt x="14733" y="9202"/>
                  </a:lnTo>
                  <a:lnTo>
                    <a:pt x="14407" y="10401"/>
                  </a:lnTo>
                  <a:lnTo>
                    <a:pt x="13945" y="11050"/>
                  </a:lnTo>
                  <a:lnTo>
                    <a:pt x="13804" y="11928"/>
                  </a:lnTo>
                  <a:lnTo>
                    <a:pt x="12458" y="12343"/>
                  </a:lnTo>
                  <a:lnTo>
                    <a:pt x="11105" y="12577"/>
                  </a:lnTo>
                  <a:lnTo>
                    <a:pt x="10234" y="12667"/>
                  </a:lnTo>
                  <a:lnTo>
                    <a:pt x="9627" y="12482"/>
                  </a:lnTo>
                  <a:lnTo>
                    <a:pt x="8748" y="12528"/>
                  </a:lnTo>
                  <a:lnTo>
                    <a:pt x="8468" y="12573"/>
                  </a:lnTo>
                  <a:lnTo>
                    <a:pt x="8769" y="12306"/>
                  </a:lnTo>
                  <a:lnTo>
                    <a:pt x="9000" y="12010"/>
                  </a:lnTo>
                  <a:lnTo>
                    <a:pt x="9161" y="11698"/>
                  </a:lnTo>
                  <a:lnTo>
                    <a:pt x="9256" y="11366"/>
                  </a:lnTo>
                  <a:lnTo>
                    <a:pt x="9289" y="11033"/>
                  </a:lnTo>
                  <a:lnTo>
                    <a:pt x="9285" y="10869"/>
                  </a:lnTo>
                  <a:lnTo>
                    <a:pt x="9264" y="10705"/>
                  </a:lnTo>
                  <a:lnTo>
                    <a:pt x="9054" y="10072"/>
                  </a:lnTo>
                  <a:lnTo>
                    <a:pt x="8657" y="9543"/>
                  </a:lnTo>
                  <a:lnTo>
                    <a:pt x="8402" y="9329"/>
                  </a:lnTo>
                  <a:lnTo>
                    <a:pt x="8109" y="9161"/>
                  </a:lnTo>
                  <a:lnTo>
                    <a:pt x="7787" y="9050"/>
                  </a:lnTo>
                  <a:lnTo>
                    <a:pt x="7432" y="8997"/>
                  </a:lnTo>
                  <a:lnTo>
                    <a:pt x="7250" y="8997"/>
                  </a:lnTo>
                  <a:lnTo>
                    <a:pt x="7060" y="9013"/>
                  </a:lnTo>
                  <a:lnTo>
                    <a:pt x="6660" y="9107"/>
                  </a:lnTo>
                  <a:lnTo>
                    <a:pt x="6705" y="9107"/>
                  </a:lnTo>
                  <a:lnTo>
                    <a:pt x="6569" y="8923"/>
                  </a:lnTo>
                  <a:lnTo>
                    <a:pt x="6705" y="8783"/>
                  </a:lnTo>
                  <a:lnTo>
                    <a:pt x="6379" y="8783"/>
                  </a:lnTo>
                  <a:lnTo>
                    <a:pt x="6379" y="8274"/>
                  </a:lnTo>
                  <a:lnTo>
                    <a:pt x="6289" y="8274"/>
                  </a:lnTo>
                  <a:lnTo>
                    <a:pt x="6338" y="7949"/>
                  </a:lnTo>
                  <a:lnTo>
                    <a:pt x="6705" y="7628"/>
                  </a:lnTo>
                  <a:lnTo>
                    <a:pt x="6705" y="7444"/>
                  </a:lnTo>
                  <a:lnTo>
                    <a:pt x="7077" y="7209"/>
                  </a:lnTo>
                  <a:lnTo>
                    <a:pt x="7077" y="7164"/>
                  </a:lnTo>
                  <a:lnTo>
                    <a:pt x="6982" y="6889"/>
                  </a:lnTo>
                  <a:lnTo>
                    <a:pt x="7518" y="6507"/>
                  </a:lnTo>
                  <a:lnTo>
                    <a:pt x="7320" y="6310"/>
                  </a:lnTo>
                  <a:lnTo>
                    <a:pt x="7139" y="6450"/>
                  </a:lnTo>
                  <a:lnTo>
                    <a:pt x="6891" y="6750"/>
                  </a:lnTo>
                  <a:lnTo>
                    <a:pt x="6660" y="6750"/>
                  </a:lnTo>
                  <a:lnTo>
                    <a:pt x="6379" y="7070"/>
                  </a:lnTo>
                  <a:lnTo>
                    <a:pt x="6243" y="7119"/>
                  </a:lnTo>
                  <a:lnTo>
                    <a:pt x="6198" y="7259"/>
                  </a:lnTo>
                  <a:lnTo>
                    <a:pt x="6058" y="7349"/>
                  </a:lnTo>
                  <a:lnTo>
                    <a:pt x="6012" y="6520"/>
                  </a:lnTo>
                  <a:lnTo>
                    <a:pt x="6557" y="6117"/>
                  </a:lnTo>
                  <a:lnTo>
                    <a:pt x="6916" y="5908"/>
                  </a:lnTo>
                  <a:lnTo>
                    <a:pt x="7523" y="6511"/>
                  </a:lnTo>
                  <a:lnTo>
                    <a:pt x="7518" y="6507"/>
                  </a:lnTo>
                  <a:lnTo>
                    <a:pt x="7568" y="6442"/>
                  </a:lnTo>
                  <a:lnTo>
                    <a:pt x="7667" y="6327"/>
                  </a:lnTo>
                  <a:lnTo>
                    <a:pt x="7774" y="6101"/>
                  </a:lnTo>
                  <a:lnTo>
                    <a:pt x="7448" y="5686"/>
                  </a:lnTo>
                  <a:lnTo>
                    <a:pt x="7960" y="5362"/>
                  </a:lnTo>
                  <a:lnTo>
                    <a:pt x="8513" y="4853"/>
                  </a:lnTo>
                  <a:lnTo>
                    <a:pt x="9627" y="3559"/>
                  </a:lnTo>
                  <a:lnTo>
                    <a:pt x="9953" y="3654"/>
                  </a:lnTo>
                  <a:lnTo>
                    <a:pt x="9999" y="3604"/>
                  </a:lnTo>
                  <a:lnTo>
                    <a:pt x="10325" y="3604"/>
                  </a:lnTo>
                  <a:lnTo>
                    <a:pt x="13292" y="2356"/>
                  </a:lnTo>
                  <a:lnTo>
                    <a:pt x="10651" y="0"/>
                  </a:lnTo>
                  <a:lnTo>
                    <a:pt x="10333" y="287"/>
                  </a:lnTo>
                  <a:lnTo>
                    <a:pt x="9908" y="739"/>
                  </a:lnTo>
                  <a:lnTo>
                    <a:pt x="9256" y="1942"/>
                  </a:lnTo>
                  <a:lnTo>
                    <a:pt x="9351" y="2681"/>
                  </a:lnTo>
                  <a:lnTo>
                    <a:pt x="9396" y="2681"/>
                  </a:lnTo>
                  <a:lnTo>
                    <a:pt x="9441" y="3235"/>
                  </a:lnTo>
                  <a:lnTo>
                    <a:pt x="9305" y="3420"/>
                  </a:lnTo>
                  <a:lnTo>
                    <a:pt x="8608" y="3974"/>
                  </a:lnTo>
                  <a:lnTo>
                    <a:pt x="8331" y="2726"/>
                  </a:lnTo>
                  <a:lnTo>
                    <a:pt x="8748" y="2496"/>
                  </a:lnTo>
                  <a:lnTo>
                    <a:pt x="9305" y="2319"/>
                  </a:lnTo>
                  <a:lnTo>
                    <a:pt x="9256" y="1950"/>
                  </a:lnTo>
                  <a:lnTo>
                    <a:pt x="8051" y="2545"/>
                  </a:lnTo>
                  <a:lnTo>
                    <a:pt x="7910" y="2775"/>
                  </a:lnTo>
                  <a:lnTo>
                    <a:pt x="8005" y="3465"/>
                  </a:lnTo>
                  <a:lnTo>
                    <a:pt x="8005" y="3744"/>
                  </a:lnTo>
                  <a:lnTo>
                    <a:pt x="8051" y="3884"/>
                  </a:lnTo>
                  <a:lnTo>
                    <a:pt x="8146" y="4163"/>
                  </a:lnTo>
                  <a:lnTo>
                    <a:pt x="7679" y="4623"/>
                  </a:lnTo>
                  <a:lnTo>
                    <a:pt x="6941" y="4902"/>
                  </a:lnTo>
                  <a:lnTo>
                    <a:pt x="6429" y="4438"/>
                  </a:lnTo>
                  <a:lnTo>
                    <a:pt x="6941" y="4204"/>
                  </a:lnTo>
                  <a:lnTo>
                    <a:pt x="8005" y="3744"/>
                  </a:lnTo>
                  <a:lnTo>
                    <a:pt x="8005" y="3453"/>
                  </a:lnTo>
                  <a:lnTo>
                    <a:pt x="6012" y="4298"/>
                  </a:lnTo>
                  <a:lnTo>
                    <a:pt x="5917" y="4623"/>
                  </a:lnTo>
                  <a:lnTo>
                    <a:pt x="6474" y="5222"/>
                  </a:lnTo>
                  <a:lnTo>
                    <a:pt x="6012" y="5501"/>
                  </a:lnTo>
                  <a:lnTo>
                    <a:pt x="5715" y="5707"/>
                  </a:lnTo>
                  <a:lnTo>
                    <a:pt x="5455" y="5928"/>
                  </a:lnTo>
                  <a:lnTo>
                    <a:pt x="5220" y="6191"/>
                  </a:lnTo>
                  <a:lnTo>
                    <a:pt x="4972" y="6865"/>
                  </a:lnTo>
                  <a:lnTo>
                    <a:pt x="4848" y="7349"/>
                  </a:lnTo>
                  <a:lnTo>
                    <a:pt x="4712" y="7349"/>
                  </a:lnTo>
                  <a:lnTo>
                    <a:pt x="4527" y="4808"/>
                  </a:lnTo>
                  <a:lnTo>
                    <a:pt x="2343" y="4762"/>
                  </a:lnTo>
                  <a:lnTo>
                    <a:pt x="0" y="4643"/>
                  </a:lnTo>
                  <a:lnTo>
                    <a:pt x="53" y="12725"/>
                  </a:lnTo>
                  <a:lnTo>
                    <a:pt x="2851" y="127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08040" y="3519360"/>
              <a:ext cx="192600" cy="408240"/>
            </a:xfrm>
            <a:custGeom>
              <a:avLst/>
              <a:gdLst/>
              <a:ahLst/>
              <a:rect l="0" t="0" r="r" b="b"/>
              <a:pathLst>
                <a:path w="535" h="1134">
                  <a:moveTo>
                    <a:pt x="448" y="0"/>
                  </a:moveTo>
                  <a:lnTo>
                    <a:pt x="492" y="180"/>
                  </a:lnTo>
                  <a:lnTo>
                    <a:pt x="492" y="816"/>
                  </a:lnTo>
                  <a:lnTo>
                    <a:pt x="535" y="905"/>
                  </a:lnTo>
                  <a:lnTo>
                    <a:pt x="313" y="1134"/>
                  </a:lnTo>
                  <a:lnTo>
                    <a:pt x="135" y="1086"/>
                  </a:lnTo>
                  <a:lnTo>
                    <a:pt x="47" y="997"/>
                  </a:lnTo>
                  <a:lnTo>
                    <a:pt x="0" y="861"/>
                  </a:lnTo>
                  <a:lnTo>
                    <a:pt x="313" y="0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00444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4040" y="3017880"/>
              <a:ext cx="125640" cy="257400"/>
            </a:xfrm>
            <a:custGeom>
              <a:avLst/>
              <a:gdLst/>
              <a:ahLst/>
              <a:rect l="0" t="0" r="r" b="b"/>
              <a:pathLst>
                <a:path w="349" h="715">
                  <a:moveTo>
                    <a:pt x="0" y="0"/>
                  </a:moveTo>
                  <a:lnTo>
                    <a:pt x="349" y="0"/>
                  </a:lnTo>
                  <a:lnTo>
                    <a:pt x="349" y="715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44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2360" y="3219480"/>
              <a:ext cx="157680" cy="325800"/>
            </a:xfrm>
            <a:custGeom>
              <a:avLst/>
              <a:gdLst/>
              <a:ahLst/>
              <a:rect l="0" t="0" r="r" b="b"/>
              <a:pathLst>
                <a:path w="438" h="905">
                  <a:moveTo>
                    <a:pt x="438" y="362"/>
                  </a:moveTo>
                  <a:lnTo>
                    <a:pt x="438" y="905"/>
                  </a:lnTo>
                  <a:lnTo>
                    <a:pt x="0" y="587"/>
                  </a:lnTo>
                  <a:lnTo>
                    <a:pt x="42" y="0"/>
                  </a:lnTo>
                  <a:lnTo>
                    <a:pt x="438" y="362"/>
                  </a:lnTo>
                  <a:close/>
                </a:path>
              </a:pathLst>
            </a:custGeom>
            <a:solidFill>
              <a:srgbClr val="0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58920" y="3819600"/>
              <a:ext cx="73440" cy="292320"/>
            </a:xfrm>
            <a:custGeom>
              <a:avLst/>
              <a:gdLst/>
              <a:ahLst/>
              <a:rect l="0" t="0" r="r" b="b"/>
              <a:pathLst>
                <a:path w="204" h="812">
                  <a:moveTo>
                    <a:pt x="0" y="0"/>
                  </a:moveTo>
                  <a:lnTo>
                    <a:pt x="0" y="812"/>
                  </a:lnTo>
                  <a:lnTo>
                    <a:pt x="204" y="540"/>
                  </a:lnTo>
                  <a:lnTo>
                    <a:pt x="161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44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9880" y="3002040"/>
              <a:ext cx="292320" cy="641880"/>
            </a:xfrm>
            <a:custGeom>
              <a:avLst/>
              <a:gdLst/>
              <a:ahLst/>
              <a:rect l="0" t="0" r="r" b="b"/>
              <a:pathLst>
                <a:path w="812" h="1783">
                  <a:moveTo>
                    <a:pt x="0" y="0"/>
                  </a:moveTo>
                  <a:lnTo>
                    <a:pt x="543" y="0"/>
                  </a:lnTo>
                  <a:lnTo>
                    <a:pt x="812" y="137"/>
                  </a:lnTo>
                  <a:lnTo>
                    <a:pt x="812" y="1738"/>
                  </a:lnTo>
                  <a:lnTo>
                    <a:pt x="543" y="1694"/>
                  </a:lnTo>
                  <a:lnTo>
                    <a:pt x="357" y="1783"/>
                  </a:lnTo>
                  <a:lnTo>
                    <a:pt x="269" y="1694"/>
                  </a:lnTo>
                  <a:lnTo>
                    <a:pt x="357" y="1418"/>
                  </a:lnTo>
                  <a:lnTo>
                    <a:pt x="0" y="1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44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4b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