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1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04920" y="1676520"/>
            <a:ext cx="8534880" cy="4800960"/>
            <a:chOff x="304920" y="1676520"/>
            <a:chExt cx="8534880" cy="4800960"/>
          </a:xfrm>
        </p:grpSpPr>
        <p:sp>
          <p:nvSpPr>
            <p:cNvPr id="39" name=""/>
            <p:cNvSpPr/>
            <p:nvPr/>
          </p:nvSpPr>
          <p:spPr>
            <a:xfrm>
              <a:off x="304920" y="1679400"/>
              <a:ext cx="8504280" cy="478008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58920" y="1711440"/>
              <a:ext cx="8480880" cy="4766040"/>
            </a:xfrm>
            <a:custGeom>
              <a:avLst/>
              <a:gdLst/>
              <a:ahLst/>
              <a:rect l="0" t="0" r="r" b="b"/>
              <a:pathLst>
                <a:path fill="none" w="23558" h="13239">
                  <a:moveTo>
                    <a:pt x="0" y="13239"/>
                  </a:moveTo>
                  <a:lnTo>
                    <a:pt x="23558" y="13239"/>
                  </a:lnTo>
                  <a:lnTo>
                    <a:pt x="23558" y="0"/>
                  </a:lnTo>
                </a:path>
              </a:pathLst>
            </a:custGeom>
            <a:ln w="12600">
              <a:solidFill>
                <a:srgbClr val="0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09600" y="1676520"/>
              <a:ext cx="8512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1682640"/>
              <a:ext cx="41400" cy="477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"/>
          <p:cNvSpPr txBox="1"/>
          <p:nvPr/>
        </p:nvSpPr>
        <p:spPr>
          <a:xfrm>
            <a:off x="3200400" y="6094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9680" y="187200"/>
            <a:ext cx="2984760" cy="1413360"/>
            <a:chOff x="139680" y="187200"/>
            <a:chExt cx="2984760" cy="1413360"/>
          </a:xfrm>
        </p:grpSpPr>
        <p:sp>
          <p:nvSpPr>
            <p:cNvPr id="46" name=""/>
            <p:cNvSpPr/>
            <p:nvPr/>
          </p:nvSpPr>
          <p:spPr>
            <a:xfrm>
              <a:off x="880920" y="1025640"/>
              <a:ext cx="371880" cy="574920"/>
            </a:xfrm>
            <a:custGeom>
              <a:avLst/>
              <a:gdLst/>
              <a:ahLst/>
              <a:rect l="0" t="0" r="r" b="b"/>
              <a:pathLst>
                <a:path w="1033" h="1597">
                  <a:moveTo>
                    <a:pt x="292" y="41"/>
                  </a:moveTo>
                  <a:lnTo>
                    <a:pt x="249" y="0"/>
                  </a:lnTo>
                  <a:lnTo>
                    <a:pt x="149" y="41"/>
                  </a:lnTo>
                  <a:lnTo>
                    <a:pt x="85" y="90"/>
                  </a:lnTo>
                  <a:lnTo>
                    <a:pt x="56" y="132"/>
                  </a:lnTo>
                  <a:lnTo>
                    <a:pt x="56" y="243"/>
                  </a:lnTo>
                  <a:lnTo>
                    <a:pt x="14" y="292"/>
                  </a:lnTo>
                  <a:lnTo>
                    <a:pt x="0" y="376"/>
                  </a:lnTo>
                  <a:lnTo>
                    <a:pt x="49" y="453"/>
                  </a:lnTo>
                  <a:lnTo>
                    <a:pt x="113" y="599"/>
                  </a:lnTo>
                  <a:lnTo>
                    <a:pt x="241" y="690"/>
                  </a:lnTo>
                  <a:lnTo>
                    <a:pt x="241" y="717"/>
                  </a:lnTo>
                  <a:lnTo>
                    <a:pt x="271" y="752"/>
                  </a:lnTo>
                  <a:lnTo>
                    <a:pt x="149" y="1353"/>
                  </a:lnTo>
                  <a:lnTo>
                    <a:pt x="128" y="1381"/>
                  </a:lnTo>
                  <a:lnTo>
                    <a:pt x="177" y="1562"/>
                  </a:lnTo>
                  <a:lnTo>
                    <a:pt x="227" y="1597"/>
                  </a:lnTo>
                  <a:lnTo>
                    <a:pt x="220" y="1541"/>
                  </a:lnTo>
                  <a:lnTo>
                    <a:pt x="285" y="1527"/>
                  </a:lnTo>
                  <a:lnTo>
                    <a:pt x="371" y="1381"/>
                  </a:lnTo>
                  <a:lnTo>
                    <a:pt x="363" y="1290"/>
                  </a:lnTo>
                  <a:lnTo>
                    <a:pt x="420" y="1234"/>
                  </a:lnTo>
                  <a:lnTo>
                    <a:pt x="527" y="1165"/>
                  </a:lnTo>
                  <a:lnTo>
                    <a:pt x="827" y="787"/>
                  </a:lnTo>
                  <a:lnTo>
                    <a:pt x="905" y="766"/>
                  </a:lnTo>
                  <a:lnTo>
                    <a:pt x="1033" y="432"/>
                  </a:lnTo>
                  <a:lnTo>
                    <a:pt x="1026" y="418"/>
                  </a:lnTo>
                  <a:lnTo>
                    <a:pt x="1019" y="397"/>
                  </a:lnTo>
                  <a:lnTo>
                    <a:pt x="748" y="292"/>
                  </a:lnTo>
                  <a:lnTo>
                    <a:pt x="691" y="209"/>
                  </a:lnTo>
                  <a:lnTo>
                    <a:pt x="613" y="153"/>
                  </a:lnTo>
                  <a:lnTo>
                    <a:pt x="541" y="153"/>
                  </a:lnTo>
                  <a:lnTo>
                    <a:pt x="427" y="41"/>
                  </a:lnTo>
                  <a:lnTo>
                    <a:pt x="299" y="41"/>
                  </a:lnTo>
                  <a:lnTo>
                    <a:pt x="29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15880" y="318960"/>
              <a:ext cx="1708560" cy="1094040"/>
            </a:xfrm>
            <a:custGeom>
              <a:avLst/>
              <a:gdLst/>
              <a:ahLst/>
              <a:rect l="0" t="0" r="r" b="b"/>
              <a:pathLst>
                <a:path w="4746" h="3039">
                  <a:moveTo>
                    <a:pt x="1177" y="1562"/>
                  </a:moveTo>
                  <a:lnTo>
                    <a:pt x="1132" y="1562"/>
                  </a:lnTo>
                  <a:lnTo>
                    <a:pt x="1200" y="1696"/>
                  </a:lnTo>
                  <a:lnTo>
                    <a:pt x="1258" y="1838"/>
                  </a:lnTo>
                  <a:lnTo>
                    <a:pt x="1281" y="1908"/>
                  </a:lnTo>
                  <a:lnTo>
                    <a:pt x="1369" y="1986"/>
                  </a:lnTo>
                  <a:lnTo>
                    <a:pt x="1575" y="1951"/>
                  </a:lnTo>
                  <a:lnTo>
                    <a:pt x="1575" y="1979"/>
                  </a:lnTo>
                  <a:lnTo>
                    <a:pt x="1486" y="2149"/>
                  </a:lnTo>
                  <a:lnTo>
                    <a:pt x="1317" y="2283"/>
                  </a:lnTo>
                  <a:lnTo>
                    <a:pt x="1281" y="2339"/>
                  </a:lnTo>
                  <a:lnTo>
                    <a:pt x="1310" y="2530"/>
                  </a:lnTo>
                  <a:lnTo>
                    <a:pt x="1310" y="2643"/>
                  </a:lnTo>
                  <a:lnTo>
                    <a:pt x="1007" y="3039"/>
                  </a:lnTo>
                  <a:lnTo>
                    <a:pt x="823" y="3039"/>
                  </a:lnTo>
                  <a:lnTo>
                    <a:pt x="706" y="2770"/>
                  </a:lnTo>
                  <a:lnTo>
                    <a:pt x="706" y="2700"/>
                  </a:lnTo>
                  <a:lnTo>
                    <a:pt x="647" y="2594"/>
                  </a:lnTo>
                  <a:lnTo>
                    <a:pt x="706" y="2509"/>
                  </a:lnTo>
                  <a:lnTo>
                    <a:pt x="684" y="2290"/>
                  </a:lnTo>
                  <a:lnTo>
                    <a:pt x="610" y="2226"/>
                  </a:lnTo>
                  <a:lnTo>
                    <a:pt x="625" y="2134"/>
                  </a:lnTo>
                  <a:lnTo>
                    <a:pt x="566" y="2085"/>
                  </a:lnTo>
                  <a:lnTo>
                    <a:pt x="345" y="2071"/>
                  </a:lnTo>
                  <a:lnTo>
                    <a:pt x="257" y="2113"/>
                  </a:lnTo>
                  <a:lnTo>
                    <a:pt x="176" y="2071"/>
                  </a:lnTo>
                  <a:lnTo>
                    <a:pt x="0" y="1852"/>
                  </a:lnTo>
                  <a:lnTo>
                    <a:pt x="0" y="1767"/>
                  </a:lnTo>
                  <a:lnTo>
                    <a:pt x="110" y="1541"/>
                  </a:lnTo>
                  <a:lnTo>
                    <a:pt x="198" y="1434"/>
                  </a:lnTo>
                  <a:lnTo>
                    <a:pt x="522" y="1349"/>
                  </a:lnTo>
                  <a:lnTo>
                    <a:pt x="640" y="1349"/>
                  </a:lnTo>
                  <a:lnTo>
                    <a:pt x="669" y="1462"/>
                  </a:lnTo>
                  <a:lnTo>
                    <a:pt x="1096" y="1512"/>
                  </a:lnTo>
                  <a:lnTo>
                    <a:pt x="1177" y="1490"/>
                  </a:lnTo>
                  <a:lnTo>
                    <a:pt x="1200" y="1413"/>
                  </a:lnTo>
                  <a:lnTo>
                    <a:pt x="1200" y="1391"/>
                  </a:lnTo>
                  <a:lnTo>
                    <a:pt x="1132" y="1406"/>
                  </a:lnTo>
                  <a:lnTo>
                    <a:pt x="1162" y="1370"/>
                  </a:lnTo>
                  <a:lnTo>
                    <a:pt x="1066" y="1370"/>
                  </a:lnTo>
                  <a:lnTo>
                    <a:pt x="1007" y="1285"/>
                  </a:lnTo>
                  <a:lnTo>
                    <a:pt x="1096" y="1243"/>
                  </a:lnTo>
                  <a:lnTo>
                    <a:pt x="1295" y="1257"/>
                  </a:lnTo>
                  <a:lnTo>
                    <a:pt x="1325" y="1236"/>
                  </a:lnTo>
                  <a:lnTo>
                    <a:pt x="1281" y="1088"/>
                  </a:lnTo>
                  <a:lnTo>
                    <a:pt x="1200" y="1102"/>
                  </a:lnTo>
                  <a:lnTo>
                    <a:pt x="1229" y="1130"/>
                  </a:lnTo>
                  <a:lnTo>
                    <a:pt x="1177" y="1172"/>
                  </a:lnTo>
                  <a:lnTo>
                    <a:pt x="1140" y="1088"/>
                  </a:lnTo>
                  <a:lnTo>
                    <a:pt x="1096" y="1102"/>
                  </a:lnTo>
                  <a:lnTo>
                    <a:pt x="1037" y="1194"/>
                  </a:lnTo>
                  <a:lnTo>
                    <a:pt x="1037" y="1243"/>
                  </a:lnTo>
                  <a:lnTo>
                    <a:pt x="926" y="1307"/>
                  </a:lnTo>
                  <a:lnTo>
                    <a:pt x="934" y="1342"/>
                  </a:lnTo>
                  <a:lnTo>
                    <a:pt x="926" y="1391"/>
                  </a:lnTo>
                  <a:lnTo>
                    <a:pt x="838" y="1278"/>
                  </a:lnTo>
                  <a:lnTo>
                    <a:pt x="838" y="1222"/>
                  </a:lnTo>
                  <a:lnTo>
                    <a:pt x="750" y="1158"/>
                  </a:lnTo>
                  <a:lnTo>
                    <a:pt x="691" y="1179"/>
                  </a:lnTo>
                  <a:lnTo>
                    <a:pt x="765" y="1229"/>
                  </a:lnTo>
                  <a:lnTo>
                    <a:pt x="816" y="1243"/>
                  </a:lnTo>
                  <a:lnTo>
                    <a:pt x="779" y="1257"/>
                  </a:lnTo>
                  <a:lnTo>
                    <a:pt x="750" y="1321"/>
                  </a:lnTo>
                  <a:lnTo>
                    <a:pt x="742" y="1257"/>
                  </a:lnTo>
                  <a:lnTo>
                    <a:pt x="603" y="1187"/>
                  </a:lnTo>
                  <a:lnTo>
                    <a:pt x="507" y="1208"/>
                  </a:lnTo>
                  <a:lnTo>
                    <a:pt x="456" y="1187"/>
                  </a:lnTo>
                  <a:lnTo>
                    <a:pt x="456" y="1243"/>
                  </a:lnTo>
                  <a:lnTo>
                    <a:pt x="345" y="1370"/>
                  </a:lnTo>
                  <a:lnTo>
                    <a:pt x="286" y="1377"/>
                  </a:lnTo>
                  <a:lnTo>
                    <a:pt x="198" y="1321"/>
                  </a:lnTo>
                  <a:lnTo>
                    <a:pt x="235" y="1179"/>
                  </a:lnTo>
                  <a:lnTo>
                    <a:pt x="360" y="1187"/>
                  </a:lnTo>
                  <a:lnTo>
                    <a:pt x="360" y="1088"/>
                  </a:lnTo>
                  <a:lnTo>
                    <a:pt x="286" y="1074"/>
                  </a:lnTo>
                  <a:lnTo>
                    <a:pt x="286" y="1038"/>
                  </a:lnTo>
                  <a:lnTo>
                    <a:pt x="404" y="1010"/>
                  </a:lnTo>
                  <a:lnTo>
                    <a:pt x="404" y="975"/>
                  </a:lnTo>
                  <a:lnTo>
                    <a:pt x="514" y="911"/>
                  </a:lnTo>
                  <a:lnTo>
                    <a:pt x="581" y="911"/>
                  </a:lnTo>
                  <a:lnTo>
                    <a:pt x="566" y="862"/>
                  </a:lnTo>
                  <a:lnTo>
                    <a:pt x="610" y="770"/>
                  </a:lnTo>
                  <a:lnTo>
                    <a:pt x="640" y="798"/>
                  </a:lnTo>
                  <a:lnTo>
                    <a:pt x="610" y="883"/>
                  </a:lnTo>
                  <a:lnTo>
                    <a:pt x="662" y="890"/>
                  </a:lnTo>
                  <a:lnTo>
                    <a:pt x="684" y="862"/>
                  </a:lnTo>
                  <a:lnTo>
                    <a:pt x="691" y="890"/>
                  </a:lnTo>
                  <a:lnTo>
                    <a:pt x="794" y="862"/>
                  </a:lnTo>
                  <a:lnTo>
                    <a:pt x="860" y="854"/>
                  </a:lnTo>
                  <a:lnTo>
                    <a:pt x="875" y="798"/>
                  </a:lnTo>
                  <a:lnTo>
                    <a:pt x="1081" y="678"/>
                  </a:lnTo>
                  <a:lnTo>
                    <a:pt x="875" y="678"/>
                  </a:lnTo>
                  <a:lnTo>
                    <a:pt x="875" y="607"/>
                  </a:lnTo>
                  <a:lnTo>
                    <a:pt x="993" y="537"/>
                  </a:lnTo>
                  <a:lnTo>
                    <a:pt x="934" y="487"/>
                  </a:lnTo>
                  <a:lnTo>
                    <a:pt x="801" y="607"/>
                  </a:lnTo>
                  <a:lnTo>
                    <a:pt x="801" y="706"/>
                  </a:lnTo>
                  <a:lnTo>
                    <a:pt x="765" y="805"/>
                  </a:lnTo>
                  <a:lnTo>
                    <a:pt x="640" y="862"/>
                  </a:lnTo>
                  <a:lnTo>
                    <a:pt x="706" y="798"/>
                  </a:lnTo>
                  <a:lnTo>
                    <a:pt x="669" y="741"/>
                  </a:lnTo>
                  <a:lnTo>
                    <a:pt x="559" y="770"/>
                  </a:lnTo>
                  <a:lnTo>
                    <a:pt x="514" y="734"/>
                  </a:lnTo>
                  <a:lnTo>
                    <a:pt x="529" y="607"/>
                  </a:lnTo>
                  <a:lnTo>
                    <a:pt x="669" y="537"/>
                  </a:lnTo>
                  <a:lnTo>
                    <a:pt x="801" y="381"/>
                  </a:lnTo>
                  <a:lnTo>
                    <a:pt x="801" y="332"/>
                  </a:lnTo>
                  <a:lnTo>
                    <a:pt x="934" y="303"/>
                  </a:lnTo>
                  <a:lnTo>
                    <a:pt x="1022" y="282"/>
                  </a:lnTo>
                  <a:lnTo>
                    <a:pt x="1132" y="374"/>
                  </a:lnTo>
                  <a:lnTo>
                    <a:pt x="1177" y="360"/>
                  </a:lnTo>
                  <a:lnTo>
                    <a:pt x="1347" y="445"/>
                  </a:lnTo>
                  <a:lnTo>
                    <a:pt x="1200" y="501"/>
                  </a:lnTo>
                  <a:lnTo>
                    <a:pt x="1177" y="551"/>
                  </a:lnTo>
                  <a:lnTo>
                    <a:pt x="1281" y="565"/>
                  </a:lnTo>
                  <a:lnTo>
                    <a:pt x="1442" y="466"/>
                  </a:lnTo>
                  <a:lnTo>
                    <a:pt x="1464" y="409"/>
                  </a:lnTo>
                  <a:lnTo>
                    <a:pt x="1531" y="381"/>
                  </a:lnTo>
                  <a:lnTo>
                    <a:pt x="1840" y="332"/>
                  </a:lnTo>
                  <a:lnTo>
                    <a:pt x="1994" y="219"/>
                  </a:lnTo>
                  <a:lnTo>
                    <a:pt x="2149" y="219"/>
                  </a:lnTo>
                  <a:lnTo>
                    <a:pt x="2524" y="84"/>
                  </a:lnTo>
                  <a:lnTo>
                    <a:pt x="2605" y="84"/>
                  </a:lnTo>
                  <a:lnTo>
                    <a:pt x="2774" y="0"/>
                  </a:lnTo>
                  <a:lnTo>
                    <a:pt x="2921" y="35"/>
                  </a:lnTo>
                  <a:lnTo>
                    <a:pt x="2995" y="105"/>
                  </a:lnTo>
                  <a:lnTo>
                    <a:pt x="2972" y="162"/>
                  </a:lnTo>
                  <a:lnTo>
                    <a:pt x="3267" y="183"/>
                  </a:lnTo>
                  <a:lnTo>
                    <a:pt x="3546" y="282"/>
                  </a:lnTo>
                  <a:lnTo>
                    <a:pt x="3797" y="247"/>
                  </a:lnTo>
                  <a:lnTo>
                    <a:pt x="4025" y="275"/>
                  </a:lnTo>
                  <a:lnTo>
                    <a:pt x="4084" y="332"/>
                  </a:lnTo>
                  <a:lnTo>
                    <a:pt x="4231" y="332"/>
                  </a:lnTo>
                  <a:lnTo>
                    <a:pt x="4496" y="332"/>
                  </a:lnTo>
                  <a:lnTo>
                    <a:pt x="4570" y="416"/>
                  </a:lnTo>
                  <a:lnTo>
                    <a:pt x="4746" y="487"/>
                  </a:lnTo>
                  <a:lnTo>
                    <a:pt x="4665" y="522"/>
                  </a:lnTo>
                  <a:lnTo>
                    <a:pt x="4570" y="501"/>
                  </a:lnTo>
                  <a:lnTo>
                    <a:pt x="4496" y="628"/>
                  </a:lnTo>
                  <a:lnTo>
                    <a:pt x="4452" y="607"/>
                  </a:lnTo>
                  <a:lnTo>
                    <a:pt x="4187" y="706"/>
                  </a:lnTo>
                  <a:lnTo>
                    <a:pt x="4092" y="854"/>
                  </a:lnTo>
                  <a:lnTo>
                    <a:pt x="4025" y="975"/>
                  </a:lnTo>
                  <a:lnTo>
                    <a:pt x="3967" y="989"/>
                  </a:lnTo>
                  <a:lnTo>
                    <a:pt x="3959" y="784"/>
                  </a:lnTo>
                  <a:lnTo>
                    <a:pt x="4187" y="642"/>
                  </a:lnTo>
                  <a:lnTo>
                    <a:pt x="4025" y="621"/>
                  </a:lnTo>
                  <a:lnTo>
                    <a:pt x="3930" y="713"/>
                  </a:lnTo>
                  <a:lnTo>
                    <a:pt x="3665" y="713"/>
                  </a:lnTo>
                  <a:lnTo>
                    <a:pt x="3473" y="862"/>
                  </a:lnTo>
                  <a:lnTo>
                    <a:pt x="3554" y="883"/>
                  </a:lnTo>
                  <a:lnTo>
                    <a:pt x="3613" y="1010"/>
                  </a:lnTo>
                  <a:lnTo>
                    <a:pt x="3487" y="1194"/>
                  </a:lnTo>
                  <a:lnTo>
                    <a:pt x="3370" y="1222"/>
                  </a:lnTo>
                  <a:lnTo>
                    <a:pt x="3318" y="1285"/>
                  </a:lnTo>
                  <a:lnTo>
                    <a:pt x="3370" y="1391"/>
                  </a:lnTo>
                  <a:lnTo>
                    <a:pt x="3259" y="1406"/>
                  </a:lnTo>
                  <a:lnTo>
                    <a:pt x="3289" y="1370"/>
                  </a:lnTo>
                  <a:lnTo>
                    <a:pt x="3252" y="1342"/>
                  </a:lnTo>
                  <a:lnTo>
                    <a:pt x="3237" y="1307"/>
                  </a:lnTo>
                  <a:lnTo>
                    <a:pt x="3178" y="1321"/>
                  </a:lnTo>
                  <a:lnTo>
                    <a:pt x="3178" y="1527"/>
                  </a:lnTo>
                  <a:lnTo>
                    <a:pt x="3112" y="1654"/>
                  </a:lnTo>
                  <a:lnTo>
                    <a:pt x="3046" y="1703"/>
                  </a:lnTo>
                  <a:lnTo>
                    <a:pt x="2950" y="1703"/>
                  </a:lnTo>
                  <a:lnTo>
                    <a:pt x="2869" y="1753"/>
                  </a:lnTo>
                  <a:lnTo>
                    <a:pt x="2884" y="1951"/>
                  </a:lnTo>
                  <a:lnTo>
                    <a:pt x="2796" y="2050"/>
                  </a:lnTo>
                  <a:lnTo>
                    <a:pt x="2796" y="1993"/>
                  </a:lnTo>
                  <a:lnTo>
                    <a:pt x="2759" y="1979"/>
                  </a:lnTo>
                  <a:lnTo>
                    <a:pt x="2744" y="2085"/>
                  </a:lnTo>
                  <a:lnTo>
                    <a:pt x="2774" y="2163"/>
                  </a:lnTo>
                  <a:lnTo>
                    <a:pt x="2730" y="2177"/>
                  </a:lnTo>
                  <a:lnTo>
                    <a:pt x="2641" y="2057"/>
                  </a:lnTo>
                  <a:lnTo>
                    <a:pt x="2664" y="1993"/>
                  </a:lnTo>
                  <a:lnTo>
                    <a:pt x="2583" y="1852"/>
                  </a:lnTo>
                  <a:lnTo>
                    <a:pt x="2546" y="1852"/>
                  </a:lnTo>
                  <a:lnTo>
                    <a:pt x="2524" y="1753"/>
                  </a:lnTo>
                  <a:lnTo>
                    <a:pt x="2472" y="1739"/>
                  </a:lnTo>
                  <a:lnTo>
                    <a:pt x="2377" y="1732"/>
                  </a:lnTo>
                  <a:lnTo>
                    <a:pt x="2325" y="1809"/>
                  </a:lnTo>
                  <a:lnTo>
                    <a:pt x="2229" y="1838"/>
                  </a:lnTo>
                  <a:lnTo>
                    <a:pt x="2215" y="1979"/>
                  </a:lnTo>
                  <a:lnTo>
                    <a:pt x="2178" y="2064"/>
                  </a:lnTo>
                  <a:lnTo>
                    <a:pt x="2053" y="1767"/>
                  </a:lnTo>
                  <a:lnTo>
                    <a:pt x="1994" y="1753"/>
                  </a:lnTo>
                  <a:lnTo>
                    <a:pt x="1957" y="1654"/>
                  </a:lnTo>
                  <a:lnTo>
                    <a:pt x="1707" y="1654"/>
                  </a:lnTo>
                  <a:lnTo>
                    <a:pt x="1707" y="1612"/>
                  </a:lnTo>
                  <a:lnTo>
                    <a:pt x="1545" y="1527"/>
                  </a:lnTo>
                  <a:lnTo>
                    <a:pt x="1486" y="1541"/>
                  </a:lnTo>
                  <a:lnTo>
                    <a:pt x="1575" y="1696"/>
                  </a:lnTo>
                  <a:lnTo>
                    <a:pt x="1663" y="1654"/>
                  </a:lnTo>
                  <a:lnTo>
                    <a:pt x="1766" y="1717"/>
                  </a:lnTo>
                  <a:lnTo>
                    <a:pt x="1707" y="1816"/>
                  </a:lnTo>
                  <a:lnTo>
                    <a:pt x="1413" y="1937"/>
                  </a:lnTo>
                  <a:lnTo>
                    <a:pt x="1369" y="1937"/>
                  </a:lnTo>
                  <a:lnTo>
                    <a:pt x="1369" y="1823"/>
                  </a:lnTo>
                  <a:lnTo>
                    <a:pt x="1177" y="1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98760" y="1228680"/>
              <a:ext cx="316440" cy="216360"/>
            </a:xfrm>
            <a:custGeom>
              <a:avLst/>
              <a:gdLst/>
              <a:ahLst/>
              <a:rect l="0" t="0" r="r" b="b"/>
              <a:pathLst>
                <a:path w="879" h="601">
                  <a:moveTo>
                    <a:pt x="205" y="99"/>
                  </a:moveTo>
                  <a:lnTo>
                    <a:pt x="276" y="26"/>
                  </a:lnTo>
                  <a:lnTo>
                    <a:pt x="333" y="39"/>
                  </a:lnTo>
                  <a:lnTo>
                    <a:pt x="432" y="0"/>
                  </a:lnTo>
                  <a:lnTo>
                    <a:pt x="630" y="0"/>
                  </a:lnTo>
                  <a:lnTo>
                    <a:pt x="667" y="39"/>
                  </a:lnTo>
                  <a:lnTo>
                    <a:pt x="716" y="53"/>
                  </a:lnTo>
                  <a:lnTo>
                    <a:pt x="829" y="214"/>
                  </a:lnTo>
                  <a:lnTo>
                    <a:pt x="837" y="240"/>
                  </a:lnTo>
                  <a:lnTo>
                    <a:pt x="879" y="420"/>
                  </a:lnTo>
                  <a:lnTo>
                    <a:pt x="822" y="575"/>
                  </a:lnTo>
                  <a:lnTo>
                    <a:pt x="730" y="601"/>
                  </a:lnTo>
                  <a:lnTo>
                    <a:pt x="667" y="601"/>
                  </a:lnTo>
                  <a:lnTo>
                    <a:pt x="503" y="488"/>
                  </a:lnTo>
                  <a:lnTo>
                    <a:pt x="276" y="447"/>
                  </a:lnTo>
                  <a:lnTo>
                    <a:pt x="234" y="481"/>
                  </a:lnTo>
                  <a:lnTo>
                    <a:pt x="113" y="515"/>
                  </a:lnTo>
                  <a:lnTo>
                    <a:pt x="56" y="495"/>
                  </a:lnTo>
                  <a:lnTo>
                    <a:pt x="0" y="307"/>
                  </a:lnTo>
                  <a:lnTo>
                    <a:pt x="0" y="267"/>
                  </a:lnTo>
                  <a:lnTo>
                    <a:pt x="77" y="180"/>
                  </a:lnTo>
                  <a:lnTo>
                    <a:pt x="20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8200" y="97956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15" y="5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0840" y="105408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23" y="27"/>
                  </a:moveTo>
                  <a:lnTo>
                    <a:pt x="0" y="22"/>
                  </a:lnTo>
                  <a:lnTo>
                    <a:pt x="15" y="0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4200" y="922320"/>
              <a:ext cx="3600" cy="12960"/>
            </a:xfrm>
            <a:custGeom>
              <a:avLst/>
              <a:gdLst/>
              <a:ahLst/>
              <a:rect l="0" t="0" r="r" b="b"/>
              <a:pathLst>
                <a:path w="10" h="36">
                  <a:moveTo>
                    <a:pt x="10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6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3120" y="10414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22" y="0"/>
                  </a:moveTo>
                  <a:lnTo>
                    <a:pt x="32" y="7"/>
                  </a:lnTo>
                  <a:lnTo>
                    <a:pt x="26" y="2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3920" y="938160"/>
              <a:ext cx="70200" cy="11520"/>
            </a:xfrm>
            <a:custGeom>
              <a:avLst/>
              <a:gdLst/>
              <a:ahLst/>
              <a:rect l="0" t="0" r="r" b="b"/>
              <a:pathLst>
                <a:path w="195" h="32">
                  <a:moveTo>
                    <a:pt x="0" y="15"/>
                  </a:moveTo>
                  <a:lnTo>
                    <a:pt x="18" y="2"/>
                  </a:lnTo>
                  <a:lnTo>
                    <a:pt x="72" y="0"/>
                  </a:lnTo>
                  <a:lnTo>
                    <a:pt x="195" y="30"/>
                  </a:lnTo>
                  <a:lnTo>
                    <a:pt x="128" y="32"/>
                  </a:lnTo>
                  <a:lnTo>
                    <a:pt x="4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60480" y="966960"/>
              <a:ext cx="14040" cy="0"/>
            </a:xfrm>
            <a:custGeom>
              <a:avLst/>
              <a:gdLst/>
              <a:ahLst/>
              <a:rect l="0" t="0" r="r" b="b"/>
              <a:pathLst>
                <a:path w="39" h="0">
                  <a:moveTo>
                    <a:pt x="21" y="0"/>
                  </a:move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8200" y="100188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7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2000" y="981000"/>
              <a:ext cx="16200" cy="20880"/>
            </a:xfrm>
            <a:custGeom>
              <a:avLst/>
              <a:gdLst/>
              <a:ahLst/>
              <a:rect l="0" t="0" r="r" b="b"/>
              <a:pathLst>
                <a:path w="45" h="58">
                  <a:moveTo>
                    <a:pt x="3" y="4"/>
                  </a:moveTo>
                  <a:lnTo>
                    <a:pt x="34" y="0"/>
                  </a:lnTo>
                  <a:lnTo>
                    <a:pt x="37" y="24"/>
                  </a:lnTo>
                  <a:lnTo>
                    <a:pt x="45" y="28"/>
                  </a:lnTo>
                  <a:lnTo>
                    <a:pt x="34" y="46"/>
                  </a:lnTo>
                  <a:lnTo>
                    <a:pt x="23" y="58"/>
                  </a:lnTo>
                  <a:lnTo>
                    <a:pt x="0" y="4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36720" y="96696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9" y="0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6120" y="99684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6"/>
                  </a:moveTo>
                  <a:lnTo>
                    <a:pt x="14" y="3"/>
                  </a:lnTo>
                  <a:lnTo>
                    <a:pt x="64" y="0"/>
                  </a:lnTo>
                  <a:lnTo>
                    <a:pt x="89" y="13"/>
                  </a:lnTo>
                  <a:lnTo>
                    <a:pt x="69" y="13"/>
                  </a:lnTo>
                  <a:lnTo>
                    <a:pt x="24" y="32"/>
                  </a:lnTo>
                  <a:lnTo>
                    <a:pt x="24" y="2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5760" y="488880"/>
              <a:ext cx="60840" cy="25920"/>
            </a:xfrm>
            <a:custGeom>
              <a:avLst/>
              <a:gdLst/>
              <a:ahLst/>
              <a:rect l="0" t="0" r="r" b="b"/>
              <a:pathLst>
                <a:path w="169" h="72">
                  <a:moveTo>
                    <a:pt x="0" y="23"/>
                  </a:moveTo>
                  <a:lnTo>
                    <a:pt x="17" y="0"/>
                  </a:lnTo>
                  <a:lnTo>
                    <a:pt x="72" y="13"/>
                  </a:lnTo>
                  <a:lnTo>
                    <a:pt x="120" y="8"/>
                  </a:lnTo>
                  <a:lnTo>
                    <a:pt x="169" y="13"/>
                  </a:lnTo>
                  <a:lnTo>
                    <a:pt x="169" y="53"/>
                  </a:lnTo>
                  <a:lnTo>
                    <a:pt x="96" y="72"/>
                  </a:lnTo>
                  <a:lnTo>
                    <a:pt x="23" y="6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4920" y="6318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58" y="3"/>
                  </a:moveTo>
                  <a:lnTo>
                    <a:pt x="24" y="0"/>
                  </a:lnTo>
                  <a:lnTo>
                    <a:pt x="4" y="19"/>
                  </a:lnTo>
                  <a:lnTo>
                    <a:pt x="0" y="46"/>
                  </a:lnTo>
                  <a:lnTo>
                    <a:pt x="8" y="50"/>
                  </a:lnTo>
                  <a:lnTo>
                    <a:pt x="46" y="50"/>
                  </a:lnTo>
                  <a:lnTo>
                    <a:pt x="5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17720" y="122868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0" y="199"/>
                  </a:moveTo>
                  <a:lnTo>
                    <a:pt x="21" y="74"/>
                  </a:lnTo>
                  <a:lnTo>
                    <a:pt x="98" y="0"/>
                  </a:lnTo>
                  <a:lnTo>
                    <a:pt x="120" y="62"/>
                  </a:lnTo>
                  <a:lnTo>
                    <a:pt x="65" y="249"/>
                  </a:lnTo>
                  <a:lnTo>
                    <a:pt x="32" y="27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0160" y="100800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3"/>
                  </a:moveTo>
                  <a:lnTo>
                    <a:pt x="19" y="50"/>
                  </a:lnTo>
                  <a:lnTo>
                    <a:pt x="46" y="50"/>
                  </a:lnTo>
                  <a:lnTo>
                    <a:pt x="50" y="0"/>
                  </a:lnTo>
                  <a:lnTo>
                    <a:pt x="3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5080" y="1049400"/>
              <a:ext cx="32040" cy="6840"/>
            </a:xfrm>
            <a:custGeom>
              <a:avLst/>
              <a:gdLst/>
              <a:ahLst/>
              <a:rect l="0" t="0" r="r" b="b"/>
              <a:pathLst>
                <a:path w="89" h="19">
                  <a:moveTo>
                    <a:pt x="79" y="19"/>
                  </a:moveTo>
                  <a:lnTo>
                    <a:pt x="89" y="8"/>
                  </a:lnTo>
                  <a:lnTo>
                    <a:pt x="59" y="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49" y="17"/>
                  </a:lnTo>
                  <a:lnTo>
                    <a:pt x="7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47800" y="1131840"/>
              <a:ext cx="149760" cy="66960"/>
            </a:xfrm>
            <a:custGeom>
              <a:avLst/>
              <a:gdLst/>
              <a:ahLst/>
              <a:rect l="0" t="0" r="r" b="b"/>
              <a:pathLst>
                <a:path w="416" h="186">
                  <a:moveTo>
                    <a:pt x="288" y="69"/>
                  </a:moveTo>
                  <a:lnTo>
                    <a:pt x="416" y="186"/>
                  </a:lnTo>
                  <a:lnTo>
                    <a:pt x="214" y="163"/>
                  </a:lnTo>
                  <a:lnTo>
                    <a:pt x="214" y="40"/>
                  </a:lnTo>
                  <a:lnTo>
                    <a:pt x="214" y="163"/>
                  </a:lnTo>
                  <a:lnTo>
                    <a:pt x="148" y="139"/>
                  </a:lnTo>
                  <a:lnTo>
                    <a:pt x="46" y="75"/>
                  </a:lnTo>
                  <a:lnTo>
                    <a:pt x="0" y="17"/>
                  </a:lnTo>
                  <a:lnTo>
                    <a:pt x="33" y="0"/>
                  </a:lnTo>
                  <a:lnTo>
                    <a:pt x="148" y="17"/>
                  </a:lnTo>
                  <a:lnTo>
                    <a:pt x="214" y="40"/>
                  </a:lnTo>
                  <a:lnTo>
                    <a:pt x="28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984320" y="925560"/>
              <a:ext cx="3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33600" y="1179360"/>
              <a:ext cx="62280" cy="3600"/>
            </a:xfrm>
            <a:custGeom>
              <a:avLst/>
              <a:gdLst/>
              <a:ahLst/>
              <a:rect l="0" t="0" r="r" b="b"/>
              <a:pathLst>
                <a:path w="173" h="10">
                  <a:moveTo>
                    <a:pt x="173" y="10"/>
                  </a:moveTo>
                  <a:lnTo>
                    <a:pt x="0" y="4"/>
                  </a:lnTo>
                  <a:lnTo>
                    <a:pt x="11" y="0"/>
                  </a:lnTo>
                  <a:lnTo>
                    <a:pt x="138" y="3"/>
                  </a:lnTo>
                  <a:lnTo>
                    <a:pt x="17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63840" y="1089000"/>
              <a:ext cx="66960" cy="60840"/>
            </a:xfrm>
            <a:custGeom>
              <a:avLst/>
              <a:gdLst/>
              <a:ahLst/>
              <a:rect l="0" t="0" r="r" b="b"/>
              <a:pathLst>
                <a:path w="186" h="169">
                  <a:moveTo>
                    <a:pt x="108" y="58"/>
                  </a:moveTo>
                  <a:lnTo>
                    <a:pt x="162" y="0"/>
                  </a:lnTo>
                  <a:lnTo>
                    <a:pt x="156" y="28"/>
                  </a:lnTo>
                  <a:lnTo>
                    <a:pt x="186" y="76"/>
                  </a:lnTo>
                  <a:lnTo>
                    <a:pt x="138" y="158"/>
                  </a:lnTo>
                  <a:lnTo>
                    <a:pt x="120" y="169"/>
                  </a:lnTo>
                  <a:lnTo>
                    <a:pt x="59" y="140"/>
                  </a:lnTo>
                  <a:lnTo>
                    <a:pt x="0" y="81"/>
                  </a:lnTo>
                  <a:lnTo>
                    <a:pt x="23" y="53"/>
                  </a:lnTo>
                  <a:lnTo>
                    <a:pt x="29" y="76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59080" y="1081080"/>
              <a:ext cx="65520" cy="78120"/>
            </a:xfrm>
            <a:custGeom>
              <a:avLst/>
              <a:gdLst/>
              <a:ahLst/>
              <a:rect l="0" t="0" r="r" b="b"/>
              <a:pathLst>
                <a:path w="182" h="217">
                  <a:moveTo>
                    <a:pt x="164" y="217"/>
                  </a:moveTo>
                  <a:lnTo>
                    <a:pt x="182" y="163"/>
                  </a:lnTo>
                  <a:lnTo>
                    <a:pt x="146" y="121"/>
                  </a:lnTo>
                  <a:lnTo>
                    <a:pt x="79" y="60"/>
                  </a:lnTo>
                  <a:lnTo>
                    <a:pt x="0" y="0"/>
                  </a:lnTo>
                  <a:lnTo>
                    <a:pt x="115" y="193"/>
                  </a:lnTo>
                  <a:lnTo>
                    <a:pt x="164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46280" y="1112760"/>
              <a:ext cx="38520" cy="43200"/>
            </a:xfrm>
            <a:custGeom>
              <a:avLst/>
              <a:gdLst/>
              <a:ahLst/>
              <a:rect l="0" t="0" r="r" b="b"/>
              <a:pathLst>
                <a:path w="107" h="120">
                  <a:moveTo>
                    <a:pt x="15" y="20"/>
                  </a:moveTo>
                  <a:lnTo>
                    <a:pt x="32" y="5"/>
                  </a:lnTo>
                  <a:lnTo>
                    <a:pt x="107" y="0"/>
                  </a:lnTo>
                  <a:lnTo>
                    <a:pt x="81" y="41"/>
                  </a:lnTo>
                  <a:lnTo>
                    <a:pt x="69" y="104"/>
                  </a:lnTo>
                  <a:lnTo>
                    <a:pt x="5" y="120"/>
                  </a:lnTo>
                  <a:lnTo>
                    <a:pt x="0" y="73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08200" y="1108080"/>
              <a:ext cx="8280" cy="11520"/>
            </a:xfrm>
            <a:custGeom>
              <a:avLst/>
              <a:gdLst/>
              <a:ahLst/>
              <a:rect l="0" t="0" r="r" b="b"/>
              <a:pathLst>
                <a:path w="23" h="32">
                  <a:moveTo>
                    <a:pt x="0" y="10"/>
                  </a:moveTo>
                  <a:lnTo>
                    <a:pt x="0" y="32"/>
                  </a:lnTo>
                  <a:lnTo>
                    <a:pt x="23" y="16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44800" y="1479600"/>
              <a:ext cx="47880" cy="43200"/>
            </a:xfrm>
            <a:custGeom>
              <a:avLst/>
              <a:gdLst/>
              <a:ahLst/>
              <a:rect l="0" t="0" r="r" b="b"/>
              <a:pathLst>
                <a:path w="133" h="120">
                  <a:moveTo>
                    <a:pt x="127" y="5"/>
                  </a:moveTo>
                  <a:lnTo>
                    <a:pt x="133" y="15"/>
                  </a:lnTo>
                  <a:lnTo>
                    <a:pt x="111" y="63"/>
                  </a:lnTo>
                  <a:lnTo>
                    <a:pt x="72" y="104"/>
                  </a:lnTo>
                  <a:lnTo>
                    <a:pt x="38" y="120"/>
                  </a:lnTo>
                  <a:lnTo>
                    <a:pt x="0" y="104"/>
                  </a:lnTo>
                  <a:lnTo>
                    <a:pt x="27" y="68"/>
                  </a:lnTo>
                  <a:lnTo>
                    <a:pt x="100" y="0"/>
                  </a:lnTo>
                  <a:lnTo>
                    <a:pt x="1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9960" y="1427040"/>
              <a:ext cx="18000" cy="41760"/>
            </a:xfrm>
            <a:custGeom>
              <a:avLst/>
              <a:gdLst/>
              <a:ahLst/>
              <a:rect l="0" t="0" r="r" b="b"/>
              <a:pathLst>
                <a:path w="50" h="116">
                  <a:moveTo>
                    <a:pt x="7" y="116"/>
                  </a:moveTo>
                  <a:lnTo>
                    <a:pt x="15" y="116"/>
                  </a:lnTo>
                  <a:lnTo>
                    <a:pt x="27" y="79"/>
                  </a:lnTo>
                  <a:lnTo>
                    <a:pt x="46" y="73"/>
                  </a:lnTo>
                  <a:lnTo>
                    <a:pt x="50" y="47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7" y="106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54200" y="979560"/>
              <a:ext cx="22680" cy="30600"/>
            </a:xfrm>
            <a:custGeom>
              <a:avLst/>
              <a:gdLst/>
              <a:ahLst/>
              <a:rect l="0" t="0" r="r" b="b"/>
              <a:pathLst>
                <a:path w="63" h="85">
                  <a:moveTo>
                    <a:pt x="27" y="0"/>
                  </a:moveTo>
                  <a:lnTo>
                    <a:pt x="63" y="85"/>
                  </a:lnTo>
                  <a:lnTo>
                    <a:pt x="13" y="71"/>
                  </a:lnTo>
                  <a:lnTo>
                    <a:pt x="0" y="28"/>
                  </a:lnTo>
                  <a:lnTo>
                    <a:pt x="1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70040" y="104472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18" y="31"/>
                  </a:moveTo>
                  <a:lnTo>
                    <a:pt x="54" y="0"/>
                  </a:lnTo>
                  <a:lnTo>
                    <a:pt x="63" y="18"/>
                  </a:lnTo>
                  <a:lnTo>
                    <a:pt x="63" y="59"/>
                  </a:lnTo>
                  <a:lnTo>
                    <a:pt x="54" y="63"/>
                  </a:lnTo>
                  <a:lnTo>
                    <a:pt x="0" y="50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47800" y="774720"/>
              <a:ext cx="78120" cy="51120"/>
            </a:xfrm>
            <a:custGeom>
              <a:avLst/>
              <a:gdLst/>
              <a:ahLst/>
              <a:rect l="0" t="0" r="r" b="b"/>
              <a:pathLst>
                <a:path w="217" h="142">
                  <a:moveTo>
                    <a:pt x="173" y="0"/>
                  </a:moveTo>
                  <a:lnTo>
                    <a:pt x="149" y="70"/>
                  </a:lnTo>
                  <a:lnTo>
                    <a:pt x="124" y="70"/>
                  </a:lnTo>
                  <a:lnTo>
                    <a:pt x="0" y="142"/>
                  </a:lnTo>
                  <a:lnTo>
                    <a:pt x="86" y="142"/>
                  </a:lnTo>
                  <a:lnTo>
                    <a:pt x="180" y="120"/>
                  </a:lnTo>
                  <a:lnTo>
                    <a:pt x="217" y="3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20880" y="7318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3"/>
                  </a:moveTo>
                  <a:lnTo>
                    <a:pt x="89" y="36"/>
                  </a:lnTo>
                  <a:lnTo>
                    <a:pt x="54" y="68"/>
                  </a:lnTo>
                  <a:lnTo>
                    <a:pt x="0" y="72"/>
                  </a:lnTo>
                  <a:lnTo>
                    <a:pt x="0" y="49"/>
                  </a:lnTo>
                  <a:lnTo>
                    <a:pt x="39" y="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9840" y="588960"/>
              <a:ext cx="47880" cy="79560"/>
            </a:xfrm>
            <a:custGeom>
              <a:avLst/>
              <a:gdLst/>
              <a:ahLst/>
              <a:rect l="0" t="0" r="r" b="b"/>
              <a:pathLst>
                <a:path w="133" h="221">
                  <a:moveTo>
                    <a:pt x="5" y="23"/>
                  </a:moveTo>
                  <a:lnTo>
                    <a:pt x="22" y="0"/>
                  </a:lnTo>
                  <a:lnTo>
                    <a:pt x="49" y="0"/>
                  </a:lnTo>
                  <a:lnTo>
                    <a:pt x="33" y="29"/>
                  </a:lnTo>
                  <a:lnTo>
                    <a:pt x="49" y="71"/>
                  </a:lnTo>
                  <a:lnTo>
                    <a:pt x="78" y="77"/>
                  </a:lnTo>
                  <a:lnTo>
                    <a:pt x="111" y="132"/>
                  </a:lnTo>
                  <a:lnTo>
                    <a:pt x="133" y="149"/>
                  </a:lnTo>
                  <a:lnTo>
                    <a:pt x="127" y="191"/>
                  </a:lnTo>
                  <a:lnTo>
                    <a:pt x="11" y="221"/>
                  </a:lnTo>
                  <a:lnTo>
                    <a:pt x="22" y="149"/>
                  </a:lnTo>
                  <a:lnTo>
                    <a:pt x="67" y="120"/>
                  </a:lnTo>
                  <a:lnTo>
                    <a:pt x="16" y="101"/>
                  </a:lnTo>
                  <a:lnTo>
                    <a:pt x="0" y="4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52560" y="210960"/>
              <a:ext cx="481320" cy="352800"/>
            </a:xfrm>
            <a:custGeom>
              <a:avLst/>
              <a:gdLst/>
              <a:ahLst/>
              <a:rect l="0" t="0" r="r" b="b"/>
              <a:pathLst>
                <a:path w="1337" h="980">
                  <a:moveTo>
                    <a:pt x="1337" y="102"/>
                  </a:moveTo>
                  <a:lnTo>
                    <a:pt x="1164" y="212"/>
                  </a:lnTo>
                  <a:lnTo>
                    <a:pt x="1164" y="302"/>
                  </a:lnTo>
                  <a:lnTo>
                    <a:pt x="1222" y="302"/>
                  </a:lnTo>
                  <a:lnTo>
                    <a:pt x="1164" y="480"/>
                  </a:lnTo>
                  <a:lnTo>
                    <a:pt x="1049" y="514"/>
                  </a:lnTo>
                  <a:lnTo>
                    <a:pt x="1121" y="541"/>
                  </a:lnTo>
                  <a:lnTo>
                    <a:pt x="1100" y="644"/>
                  </a:lnTo>
                  <a:lnTo>
                    <a:pt x="877" y="692"/>
                  </a:lnTo>
                  <a:lnTo>
                    <a:pt x="841" y="768"/>
                  </a:lnTo>
                  <a:lnTo>
                    <a:pt x="791" y="789"/>
                  </a:lnTo>
                  <a:lnTo>
                    <a:pt x="733" y="837"/>
                  </a:lnTo>
                  <a:lnTo>
                    <a:pt x="669" y="980"/>
                  </a:lnTo>
                  <a:lnTo>
                    <a:pt x="531" y="912"/>
                  </a:lnTo>
                  <a:lnTo>
                    <a:pt x="452" y="741"/>
                  </a:lnTo>
                  <a:lnTo>
                    <a:pt x="517" y="644"/>
                  </a:lnTo>
                  <a:lnTo>
                    <a:pt x="416" y="562"/>
                  </a:lnTo>
                  <a:lnTo>
                    <a:pt x="416" y="507"/>
                  </a:lnTo>
                  <a:lnTo>
                    <a:pt x="337" y="391"/>
                  </a:lnTo>
                  <a:lnTo>
                    <a:pt x="229" y="343"/>
                  </a:lnTo>
                  <a:lnTo>
                    <a:pt x="122" y="384"/>
                  </a:lnTo>
                  <a:lnTo>
                    <a:pt x="0" y="261"/>
                  </a:lnTo>
                  <a:lnTo>
                    <a:pt x="79" y="232"/>
                  </a:lnTo>
                  <a:lnTo>
                    <a:pt x="150" y="232"/>
                  </a:lnTo>
                  <a:lnTo>
                    <a:pt x="150" y="198"/>
                  </a:lnTo>
                  <a:lnTo>
                    <a:pt x="100" y="157"/>
                  </a:lnTo>
                  <a:lnTo>
                    <a:pt x="431" y="47"/>
                  </a:lnTo>
                  <a:lnTo>
                    <a:pt x="639" y="82"/>
                  </a:lnTo>
                  <a:lnTo>
                    <a:pt x="639" y="34"/>
                  </a:lnTo>
                  <a:lnTo>
                    <a:pt x="776" y="0"/>
                  </a:lnTo>
                  <a:lnTo>
                    <a:pt x="970" y="0"/>
                  </a:lnTo>
                  <a:lnTo>
                    <a:pt x="1136" y="68"/>
                  </a:lnTo>
                  <a:lnTo>
                    <a:pt x="1272" y="95"/>
                  </a:lnTo>
                  <a:lnTo>
                    <a:pt x="133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0200" y="365040"/>
              <a:ext cx="964080" cy="689400"/>
            </a:xfrm>
            <a:custGeom>
              <a:avLst/>
              <a:gdLst/>
              <a:ahLst/>
              <a:rect l="0" t="0" r="r" b="b"/>
              <a:pathLst>
                <a:path w="2678" h="1915">
                  <a:moveTo>
                    <a:pt x="2027" y="800"/>
                  </a:moveTo>
                  <a:lnTo>
                    <a:pt x="1975" y="856"/>
                  </a:lnTo>
                  <a:lnTo>
                    <a:pt x="1924" y="723"/>
                  </a:lnTo>
                  <a:lnTo>
                    <a:pt x="1631" y="603"/>
                  </a:lnTo>
                  <a:lnTo>
                    <a:pt x="1631" y="505"/>
                  </a:lnTo>
                  <a:lnTo>
                    <a:pt x="1822" y="413"/>
                  </a:lnTo>
                  <a:lnTo>
                    <a:pt x="1829" y="364"/>
                  </a:lnTo>
                  <a:lnTo>
                    <a:pt x="1909" y="364"/>
                  </a:lnTo>
                  <a:lnTo>
                    <a:pt x="1975" y="315"/>
                  </a:lnTo>
                  <a:lnTo>
                    <a:pt x="1975" y="266"/>
                  </a:lnTo>
                  <a:lnTo>
                    <a:pt x="1917" y="203"/>
                  </a:lnTo>
                  <a:lnTo>
                    <a:pt x="2086" y="217"/>
                  </a:lnTo>
                  <a:lnTo>
                    <a:pt x="2086" y="252"/>
                  </a:lnTo>
                  <a:lnTo>
                    <a:pt x="2166" y="266"/>
                  </a:lnTo>
                  <a:lnTo>
                    <a:pt x="2152" y="385"/>
                  </a:lnTo>
                  <a:lnTo>
                    <a:pt x="2057" y="385"/>
                  </a:lnTo>
                  <a:lnTo>
                    <a:pt x="2057" y="420"/>
                  </a:lnTo>
                  <a:lnTo>
                    <a:pt x="2166" y="420"/>
                  </a:lnTo>
                  <a:lnTo>
                    <a:pt x="2313" y="505"/>
                  </a:lnTo>
                  <a:lnTo>
                    <a:pt x="2342" y="469"/>
                  </a:lnTo>
                  <a:lnTo>
                    <a:pt x="2320" y="336"/>
                  </a:lnTo>
                  <a:lnTo>
                    <a:pt x="2386" y="406"/>
                  </a:lnTo>
                  <a:lnTo>
                    <a:pt x="2430" y="350"/>
                  </a:lnTo>
                  <a:lnTo>
                    <a:pt x="2313" y="287"/>
                  </a:lnTo>
                  <a:lnTo>
                    <a:pt x="2261" y="196"/>
                  </a:lnTo>
                  <a:lnTo>
                    <a:pt x="2174" y="119"/>
                  </a:lnTo>
                  <a:lnTo>
                    <a:pt x="2013" y="70"/>
                  </a:lnTo>
                  <a:lnTo>
                    <a:pt x="1924" y="28"/>
                  </a:lnTo>
                  <a:lnTo>
                    <a:pt x="1814" y="91"/>
                  </a:lnTo>
                  <a:lnTo>
                    <a:pt x="1792" y="154"/>
                  </a:lnTo>
                  <a:lnTo>
                    <a:pt x="1865" y="203"/>
                  </a:lnTo>
                  <a:lnTo>
                    <a:pt x="1836" y="287"/>
                  </a:lnTo>
                  <a:lnTo>
                    <a:pt x="1741" y="217"/>
                  </a:lnTo>
                  <a:lnTo>
                    <a:pt x="1661" y="126"/>
                  </a:lnTo>
                  <a:lnTo>
                    <a:pt x="1617" y="175"/>
                  </a:lnTo>
                  <a:lnTo>
                    <a:pt x="1668" y="245"/>
                  </a:lnTo>
                  <a:lnTo>
                    <a:pt x="1661" y="301"/>
                  </a:lnTo>
                  <a:lnTo>
                    <a:pt x="1470" y="273"/>
                  </a:lnTo>
                  <a:lnTo>
                    <a:pt x="1551" y="217"/>
                  </a:lnTo>
                  <a:lnTo>
                    <a:pt x="1441" y="133"/>
                  </a:lnTo>
                  <a:lnTo>
                    <a:pt x="1412" y="56"/>
                  </a:lnTo>
                  <a:lnTo>
                    <a:pt x="1258" y="70"/>
                  </a:lnTo>
                  <a:lnTo>
                    <a:pt x="1046" y="0"/>
                  </a:lnTo>
                  <a:lnTo>
                    <a:pt x="988" y="126"/>
                  </a:lnTo>
                  <a:lnTo>
                    <a:pt x="1017" y="175"/>
                  </a:lnTo>
                  <a:lnTo>
                    <a:pt x="1112" y="91"/>
                  </a:lnTo>
                  <a:lnTo>
                    <a:pt x="1193" y="245"/>
                  </a:lnTo>
                  <a:lnTo>
                    <a:pt x="966" y="217"/>
                  </a:lnTo>
                  <a:lnTo>
                    <a:pt x="754" y="252"/>
                  </a:lnTo>
                  <a:lnTo>
                    <a:pt x="241" y="133"/>
                  </a:lnTo>
                  <a:lnTo>
                    <a:pt x="43" y="252"/>
                  </a:lnTo>
                  <a:lnTo>
                    <a:pt x="0" y="371"/>
                  </a:lnTo>
                  <a:lnTo>
                    <a:pt x="65" y="420"/>
                  </a:lnTo>
                  <a:lnTo>
                    <a:pt x="36" y="498"/>
                  </a:lnTo>
                  <a:lnTo>
                    <a:pt x="138" y="610"/>
                  </a:lnTo>
                  <a:lnTo>
                    <a:pt x="102" y="723"/>
                  </a:lnTo>
                  <a:lnTo>
                    <a:pt x="153" y="723"/>
                  </a:lnTo>
                  <a:lnTo>
                    <a:pt x="416" y="561"/>
                  </a:lnTo>
                  <a:lnTo>
                    <a:pt x="673" y="582"/>
                  </a:lnTo>
                  <a:lnTo>
                    <a:pt x="1002" y="905"/>
                  </a:lnTo>
                  <a:lnTo>
                    <a:pt x="1002" y="1059"/>
                  </a:lnTo>
                  <a:lnTo>
                    <a:pt x="1024" y="1185"/>
                  </a:lnTo>
                  <a:lnTo>
                    <a:pt x="1324" y="1593"/>
                  </a:lnTo>
                  <a:lnTo>
                    <a:pt x="1339" y="1565"/>
                  </a:lnTo>
                  <a:lnTo>
                    <a:pt x="1222" y="1375"/>
                  </a:lnTo>
                  <a:lnTo>
                    <a:pt x="1258" y="1353"/>
                  </a:lnTo>
                  <a:lnTo>
                    <a:pt x="1441" y="1593"/>
                  </a:lnTo>
                  <a:lnTo>
                    <a:pt x="1434" y="1635"/>
                  </a:lnTo>
                  <a:lnTo>
                    <a:pt x="1617" y="1719"/>
                  </a:lnTo>
                  <a:lnTo>
                    <a:pt x="1829" y="1817"/>
                  </a:lnTo>
                  <a:lnTo>
                    <a:pt x="1953" y="1915"/>
                  </a:lnTo>
                  <a:lnTo>
                    <a:pt x="2042" y="1915"/>
                  </a:lnTo>
                  <a:lnTo>
                    <a:pt x="2042" y="1873"/>
                  </a:lnTo>
                  <a:lnTo>
                    <a:pt x="1982" y="1838"/>
                  </a:lnTo>
                  <a:lnTo>
                    <a:pt x="1924" y="1845"/>
                  </a:lnTo>
                  <a:lnTo>
                    <a:pt x="1924" y="1768"/>
                  </a:lnTo>
                  <a:lnTo>
                    <a:pt x="1800" y="1684"/>
                  </a:lnTo>
                  <a:lnTo>
                    <a:pt x="1858" y="1593"/>
                  </a:lnTo>
                  <a:lnTo>
                    <a:pt x="1814" y="1593"/>
                  </a:lnTo>
                  <a:lnTo>
                    <a:pt x="1741" y="1677"/>
                  </a:lnTo>
                  <a:lnTo>
                    <a:pt x="1661" y="1670"/>
                  </a:lnTo>
                  <a:lnTo>
                    <a:pt x="1588" y="1558"/>
                  </a:lnTo>
                  <a:lnTo>
                    <a:pt x="1668" y="1396"/>
                  </a:lnTo>
                  <a:lnTo>
                    <a:pt x="1778" y="1439"/>
                  </a:lnTo>
                  <a:lnTo>
                    <a:pt x="1822" y="1368"/>
                  </a:lnTo>
                  <a:lnTo>
                    <a:pt x="1909" y="1396"/>
                  </a:lnTo>
                  <a:lnTo>
                    <a:pt x="1939" y="1495"/>
                  </a:lnTo>
                  <a:lnTo>
                    <a:pt x="2013" y="1488"/>
                  </a:lnTo>
                  <a:lnTo>
                    <a:pt x="1975" y="1375"/>
                  </a:lnTo>
                  <a:lnTo>
                    <a:pt x="2100" y="1255"/>
                  </a:lnTo>
                  <a:lnTo>
                    <a:pt x="2144" y="1115"/>
                  </a:lnTo>
                  <a:lnTo>
                    <a:pt x="2342" y="1059"/>
                  </a:lnTo>
                  <a:lnTo>
                    <a:pt x="2356" y="1031"/>
                  </a:lnTo>
                  <a:lnTo>
                    <a:pt x="2444" y="1010"/>
                  </a:lnTo>
                  <a:lnTo>
                    <a:pt x="2444" y="975"/>
                  </a:lnTo>
                  <a:lnTo>
                    <a:pt x="2349" y="975"/>
                  </a:lnTo>
                  <a:lnTo>
                    <a:pt x="2320" y="870"/>
                  </a:lnTo>
                  <a:lnTo>
                    <a:pt x="2525" y="821"/>
                  </a:lnTo>
                  <a:lnTo>
                    <a:pt x="2481" y="919"/>
                  </a:lnTo>
                  <a:lnTo>
                    <a:pt x="2590" y="954"/>
                  </a:lnTo>
                  <a:lnTo>
                    <a:pt x="2678" y="940"/>
                  </a:lnTo>
                  <a:lnTo>
                    <a:pt x="2554" y="884"/>
                  </a:lnTo>
                  <a:lnTo>
                    <a:pt x="2590" y="814"/>
                  </a:lnTo>
                  <a:lnTo>
                    <a:pt x="2525" y="723"/>
                  </a:lnTo>
                  <a:lnTo>
                    <a:pt x="2386" y="673"/>
                  </a:lnTo>
                  <a:lnTo>
                    <a:pt x="2400" y="617"/>
                  </a:lnTo>
                  <a:lnTo>
                    <a:pt x="2349" y="561"/>
                  </a:lnTo>
                  <a:lnTo>
                    <a:pt x="2261" y="610"/>
                  </a:lnTo>
                  <a:lnTo>
                    <a:pt x="2247" y="547"/>
                  </a:lnTo>
                  <a:lnTo>
                    <a:pt x="2144" y="469"/>
                  </a:lnTo>
                  <a:lnTo>
                    <a:pt x="2020" y="498"/>
                  </a:lnTo>
                  <a:lnTo>
                    <a:pt x="2020" y="603"/>
                  </a:lnTo>
                  <a:lnTo>
                    <a:pt x="2020" y="730"/>
                  </a:lnTo>
                  <a:lnTo>
                    <a:pt x="2027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7080" y="255600"/>
              <a:ext cx="46440" cy="39960"/>
            </a:xfrm>
            <a:custGeom>
              <a:avLst/>
              <a:gdLst/>
              <a:ahLst/>
              <a:rect l="0" t="0" r="r" b="b"/>
              <a:pathLst>
                <a:path w="129" h="111">
                  <a:moveTo>
                    <a:pt x="27" y="71"/>
                  </a:moveTo>
                  <a:lnTo>
                    <a:pt x="34" y="86"/>
                  </a:lnTo>
                  <a:lnTo>
                    <a:pt x="45" y="86"/>
                  </a:lnTo>
                  <a:lnTo>
                    <a:pt x="78" y="111"/>
                  </a:lnTo>
                  <a:lnTo>
                    <a:pt x="124" y="111"/>
                  </a:lnTo>
                  <a:lnTo>
                    <a:pt x="129" y="25"/>
                  </a:lnTo>
                  <a:lnTo>
                    <a:pt x="89" y="25"/>
                  </a:lnTo>
                  <a:lnTo>
                    <a:pt x="78" y="5"/>
                  </a:lnTo>
                  <a:lnTo>
                    <a:pt x="62" y="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4320" y="219240"/>
              <a:ext cx="173520" cy="106560"/>
            </a:xfrm>
            <a:custGeom>
              <a:avLst/>
              <a:gdLst/>
              <a:ahLst/>
              <a:rect l="0" t="0" r="r" b="b"/>
              <a:pathLst>
                <a:path w="482" h="296">
                  <a:moveTo>
                    <a:pt x="0" y="277"/>
                  </a:moveTo>
                  <a:lnTo>
                    <a:pt x="6" y="290"/>
                  </a:lnTo>
                  <a:lnTo>
                    <a:pt x="81" y="296"/>
                  </a:lnTo>
                  <a:lnTo>
                    <a:pt x="122" y="290"/>
                  </a:lnTo>
                  <a:lnTo>
                    <a:pt x="170" y="290"/>
                  </a:lnTo>
                  <a:lnTo>
                    <a:pt x="244" y="241"/>
                  </a:lnTo>
                  <a:lnTo>
                    <a:pt x="298" y="216"/>
                  </a:lnTo>
                  <a:lnTo>
                    <a:pt x="298" y="185"/>
                  </a:lnTo>
                  <a:lnTo>
                    <a:pt x="332" y="161"/>
                  </a:lnTo>
                  <a:lnTo>
                    <a:pt x="394" y="135"/>
                  </a:lnTo>
                  <a:lnTo>
                    <a:pt x="421" y="123"/>
                  </a:lnTo>
                  <a:lnTo>
                    <a:pt x="482" y="6"/>
                  </a:lnTo>
                  <a:lnTo>
                    <a:pt x="224" y="0"/>
                  </a:lnTo>
                  <a:lnTo>
                    <a:pt x="156" y="12"/>
                  </a:lnTo>
                  <a:lnTo>
                    <a:pt x="122" y="24"/>
                  </a:lnTo>
                  <a:lnTo>
                    <a:pt x="67" y="24"/>
                  </a:lnTo>
                  <a:lnTo>
                    <a:pt x="13" y="43"/>
                  </a:lnTo>
                  <a:lnTo>
                    <a:pt x="47" y="147"/>
                  </a:lnTo>
                  <a:lnTo>
                    <a:pt x="129" y="185"/>
                  </a:lnTo>
                  <a:lnTo>
                    <a:pt x="94" y="191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040" y="331920"/>
              <a:ext cx="79560" cy="25920"/>
            </a:xfrm>
            <a:custGeom>
              <a:avLst/>
              <a:gdLst/>
              <a:ahLst/>
              <a:rect l="0" t="0" r="r" b="b"/>
              <a:pathLst>
                <a:path w="221" h="72">
                  <a:moveTo>
                    <a:pt x="91" y="72"/>
                  </a:moveTo>
                  <a:lnTo>
                    <a:pt x="221" y="40"/>
                  </a:lnTo>
                  <a:lnTo>
                    <a:pt x="172" y="0"/>
                  </a:lnTo>
                  <a:lnTo>
                    <a:pt x="135" y="13"/>
                  </a:lnTo>
                  <a:lnTo>
                    <a:pt x="12" y="17"/>
                  </a:lnTo>
                  <a:lnTo>
                    <a:pt x="0" y="40"/>
                  </a:lnTo>
                  <a:lnTo>
                    <a:pt x="9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1200" y="338040"/>
              <a:ext cx="97200" cy="18000"/>
            </a:xfrm>
            <a:custGeom>
              <a:avLst/>
              <a:gdLst/>
              <a:ahLst/>
              <a:rect l="0" t="0" r="r" b="b"/>
              <a:pathLst>
                <a:path w="270" h="50">
                  <a:moveTo>
                    <a:pt x="32" y="0"/>
                  </a:moveTo>
                  <a:lnTo>
                    <a:pt x="90" y="27"/>
                  </a:lnTo>
                  <a:lnTo>
                    <a:pt x="148" y="30"/>
                  </a:lnTo>
                  <a:lnTo>
                    <a:pt x="226" y="19"/>
                  </a:lnTo>
                  <a:lnTo>
                    <a:pt x="270" y="30"/>
                  </a:lnTo>
                  <a:lnTo>
                    <a:pt x="213" y="50"/>
                  </a:lnTo>
                  <a:lnTo>
                    <a:pt x="32" y="46"/>
                  </a:lnTo>
                  <a:lnTo>
                    <a:pt x="0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20" y="318960"/>
              <a:ext cx="47880" cy="16200"/>
            </a:xfrm>
            <a:custGeom>
              <a:avLst/>
              <a:gdLst/>
              <a:ahLst/>
              <a:rect l="0" t="0" r="r" b="b"/>
              <a:pathLst>
                <a:path w="133" h="45">
                  <a:moveTo>
                    <a:pt x="44" y="45"/>
                  </a:moveTo>
                  <a:lnTo>
                    <a:pt x="0" y="34"/>
                  </a:lnTo>
                  <a:lnTo>
                    <a:pt x="111" y="0"/>
                  </a:lnTo>
                  <a:lnTo>
                    <a:pt x="133" y="7"/>
                  </a:lnTo>
                  <a:lnTo>
                    <a:pt x="100" y="30"/>
                  </a:lnTo>
                  <a:lnTo>
                    <a:pt x="4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47720" y="274680"/>
              <a:ext cx="51120" cy="46440"/>
            </a:xfrm>
            <a:custGeom>
              <a:avLst/>
              <a:gdLst/>
              <a:ahLst/>
              <a:rect l="0" t="0" r="r" b="b"/>
              <a:pathLst>
                <a:path w="142" h="129">
                  <a:moveTo>
                    <a:pt x="33" y="59"/>
                  </a:moveTo>
                  <a:lnTo>
                    <a:pt x="5" y="48"/>
                  </a:lnTo>
                  <a:lnTo>
                    <a:pt x="0" y="15"/>
                  </a:lnTo>
                  <a:lnTo>
                    <a:pt x="56" y="10"/>
                  </a:lnTo>
                  <a:lnTo>
                    <a:pt x="96" y="0"/>
                  </a:lnTo>
                  <a:lnTo>
                    <a:pt x="136" y="31"/>
                  </a:lnTo>
                  <a:lnTo>
                    <a:pt x="142" y="64"/>
                  </a:lnTo>
                  <a:lnTo>
                    <a:pt x="119" y="129"/>
                  </a:lnTo>
                  <a:lnTo>
                    <a:pt x="56" y="103"/>
                  </a:lnTo>
                  <a:lnTo>
                    <a:pt x="56" y="91"/>
                  </a:lnTo>
                  <a:lnTo>
                    <a:pt x="3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12880" y="26676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6" y="0"/>
                  </a:moveTo>
                  <a:lnTo>
                    <a:pt x="73" y="0"/>
                  </a:lnTo>
                  <a:lnTo>
                    <a:pt x="147" y="9"/>
                  </a:lnTo>
                  <a:lnTo>
                    <a:pt x="125" y="18"/>
                  </a:lnTo>
                  <a:lnTo>
                    <a:pt x="84" y="23"/>
                  </a:lnTo>
                  <a:lnTo>
                    <a:pt x="16" y="18"/>
                  </a:lnTo>
                  <a:lnTo>
                    <a:pt x="0" y="1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5720" y="1001880"/>
              <a:ext cx="373320" cy="572040"/>
            </a:xfrm>
            <a:custGeom>
              <a:avLst/>
              <a:gdLst/>
              <a:ahLst/>
              <a:rect l="0" t="0" r="r" b="b"/>
              <a:pathLst>
                <a:path w="1037" h="1589">
                  <a:moveTo>
                    <a:pt x="285" y="41"/>
                  </a:moveTo>
                  <a:lnTo>
                    <a:pt x="250" y="0"/>
                  </a:lnTo>
                  <a:lnTo>
                    <a:pt x="150" y="34"/>
                  </a:lnTo>
                  <a:lnTo>
                    <a:pt x="78" y="83"/>
                  </a:lnTo>
                  <a:lnTo>
                    <a:pt x="57" y="125"/>
                  </a:lnTo>
                  <a:lnTo>
                    <a:pt x="57" y="243"/>
                  </a:lnTo>
                  <a:lnTo>
                    <a:pt x="14" y="292"/>
                  </a:lnTo>
                  <a:lnTo>
                    <a:pt x="0" y="375"/>
                  </a:lnTo>
                  <a:lnTo>
                    <a:pt x="50" y="446"/>
                  </a:lnTo>
                  <a:lnTo>
                    <a:pt x="107" y="599"/>
                  </a:lnTo>
                  <a:lnTo>
                    <a:pt x="242" y="683"/>
                  </a:lnTo>
                  <a:lnTo>
                    <a:pt x="242" y="704"/>
                  </a:lnTo>
                  <a:lnTo>
                    <a:pt x="257" y="752"/>
                  </a:lnTo>
                  <a:lnTo>
                    <a:pt x="150" y="1345"/>
                  </a:lnTo>
                  <a:lnTo>
                    <a:pt x="121" y="1373"/>
                  </a:lnTo>
                  <a:lnTo>
                    <a:pt x="178" y="1561"/>
                  </a:lnTo>
                  <a:lnTo>
                    <a:pt x="221" y="1589"/>
                  </a:lnTo>
                  <a:lnTo>
                    <a:pt x="214" y="1540"/>
                  </a:lnTo>
                  <a:lnTo>
                    <a:pt x="278" y="1526"/>
                  </a:lnTo>
                  <a:lnTo>
                    <a:pt x="364" y="1373"/>
                  </a:lnTo>
                  <a:lnTo>
                    <a:pt x="357" y="1283"/>
                  </a:lnTo>
                  <a:lnTo>
                    <a:pt x="414" y="1234"/>
                  </a:lnTo>
                  <a:lnTo>
                    <a:pt x="529" y="1156"/>
                  </a:lnTo>
                  <a:lnTo>
                    <a:pt x="830" y="780"/>
                  </a:lnTo>
                  <a:lnTo>
                    <a:pt x="908" y="766"/>
                  </a:lnTo>
                  <a:lnTo>
                    <a:pt x="1037" y="425"/>
                  </a:lnTo>
                  <a:lnTo>
                    <a:pt x="1030" y="411"/>
                  </a:lnTo>
                  <a:lnTo>
                    <a:pt x="1015" y="389"/>
                  </a:lnTo>
                  <a:lnTo>
                    <a:pt x="751" y="292"/>
                  </a:lnTo>
                  <a:lnTo>
                    <a:pt x="694" y="201"/>
                  </a:lnTo>
                  <a:lnTo>
                    <a:pt x="608" y="153"/>
                  </a:lnTo>
                  <a:lnTo>
                    <a:pt x="537" y="153"/>
                  </a:lnTo>
                  <a:lnTo>
                    <a:pt x="428" y="41"/>
                  </a:lnTo>
                  <a:lnTo>
                    <a:pt x="293" y="41"/>
                  </a:lnTo>
                  <a:lnTo>
                    <a:pt x="285" y="4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90680" y="295200"/>
              <a:ext cx="1710000" cy="1094040"/>
            </a:xfrm>
            <a:custGeom>
              <a:avLst/>
              <a:gdLst/>
              <a:ahLst/>
              <a:rect l="0" t="0" r="r" b="b"/>
              <a:pathLst>
                <a:path w="4750" h="3039">
                  <a:moveTo>
                    <a:pt x="1178" y="1555"/>
                  </a:moveTo>
                  <a:lnTo>
                    <a:pt x="1126" y="1555"/>
                  </a:lnTo>
                  <a:lnTo>
                    <a:pt x="1200" y="1689"/>
                  </a:lnTo>
                  <a:lnTo>
                    <a:pt x="1251" y="1838"/>
                  </a:lnTo>
                  <a:lnTo>
                    <a:pt x="1281" y="1908"/>
                  </a:lnTo>
                  <a:lnTo>
                    <a:pt x="1362" y="1979"/>
                  </a:lnTo>
                  <a:lnTo>
                    <a:pt x="1568" y="1944"/>
                  </a:lnTo>
                  <a:lnTo>
                    <a:pt x="1568" y="1979"/>
                  </a:lnTo>
                  <a:lnTo>
                    <a:pt x="1480" y="2141"/>
                  </a:lnTo>
                  <a:lnTo>
                    <a:pt x="1310" y="2276"/>
                  </a:lnTo>
                  <a:lnTo>
                    <a:pt x="1281" y="2332"/>
                  </a:lnTo>
                  <a:lnTo>
                    <a:pt x="1303" y="2523"/>
                  </a:lnTo>
                  <a:lnTo>
                    <a:pt x="1303" y="2636"/>
                  </a:lnTo>
                  <a:lnTo>
                    <a:pt x="1001" y="3039"/>
                  </a:lnTo>
                  <a:lnTo>
                    <a:pt x="824" y="3039"/>
                  </a:lnTo>
                  <a:lnTo>
                    <a:pt x="706" y="2770"/>
                  </a:lnTo>
                  <a:lnTo>
                    <a:pt x="706" y="2700"/>
                  </a:lnTo>
                  <a:lnTo>
                    <a:pt x="647" y="2587"/>
                  </a:lnTo>
                  <a:lnTo>
                    <a:pt x="706" y="2509"/>
                  </a:lnTo>
                  <a:lnTo>
                    <a:pt x="677" y="2290"/>
                  </a:lnTo>
                  <a:lnTo>
                    <a:pt x="603" y="2219"/>
                  </a:lnTo>
                  <a:lnTo>
                    <a:pt x="618" y="2134"/>
                  </a:lnTo>
                  <a:lnTo>
                    <a:pt x="559" y="2078"/>
                  </a:lnTo>
                  <a:lnTo>
                    <a:pt x="346" y="2071"/>
                  </a:lnTo>
                  <a:lnTo>
                    <a:pt x="257" y="2113"/>
                  </a:lnTo>
                  <a:lnTo>
                    <a:pt x="169" y="2071"/>
                  </a:lnTo>
                  <a:lnTo>
                    <a:pt x="0" y="1845"/>
                  </a:lnTo>
                  <a:lnTo>
                    <a:pt x="0" y="1760"/>
                  </a:lnTo>
                  <a:lnTo>
                    <a:pt x="103" y="1541"/>
                  </a:lnTo>
                  <a:lnTo>
                    <a:pt x="198" y="1434"/>
                  </a:lnTo>
                  <a:lnTo>
                    <a:pt x="522" y="1342"/>
                  </a:lnTo>
                  <a:lnTo>
                    <a:pt x="633" y="1342"/>
                  </a:lnTo>
                  <a:lnTo>
                    <a:pt x="670" y="1455"/>
                  </a:lnTo>
                  <a:lnTo>
                    <a:pt x="1089" y="1512"/>
                  </a:lnTo>
                  <a:lnTo>
                    <a:pt x="1178" y="1490"/>
                  </a:lnTo>
                  <a:lnTo>
                    <a:pt x="1200" y="1413"/>
                  </a:lnTo>
                  <a:lnTo>
                    <a:pt x="1200" y="1384"/>
                  </a:lnTo>
                  <a:lnTo>
                    <a:pt x="1133" y="1399"/>
                  </a:lnTo>
                  <a:lnTo>
                    <a:pt x="1163" y="1363"/>
                  </a:lnTo>
                  <a:lnTo>
                    <a:pt x="1060" y="1363"/>
                  </a:lnTo>
                  <a:lnTo>
                    <a:pt x="1001" y="1278"/>
                  </a:lnTo>
                  <a:lnTo>
                    <a:pt x="1097" y="1236"/>
                  </a:lnTo>
                  <a:lnTo>
                    <a:pt x="1295" y="1250"/>
                  </a:lnTo>
                  <a:lnTo>
                    <a:pt x="1318" y="1236"/>
                  </a:lnTo>
                  <a:lnTo>
                    <a:pt x="1281" y="1081"/>
                  </a:lnTo>
                  <a:lnTo>
                    <a:pt x="1192" y="1095"/>
                  </a:lnTo>
                  <a:lnTo>
                    <a:pt x="1222" y="1123"/>
                  </a:lnTo>
                  <a:lnTo>
                    <a:pt x="1178" y="1172"/>
                  </a:lnTo>
                  <a:lnTo>
                    <a:pt x="1141" y="1081"/>
                  </a:lnTo>
                  <a:lnTo>
                    <a:pt x="1097" y="1095"/>
                  </a:lnTo>
                  <a:lnTo>
                    <a:pt x="1038" y="1194"/>
                  </a:lnTo>
                  <a:lnTo>
                    <a:pt x="1038" y="1243"/>
                  </a:lnTo>
                  <a:lnTo>
                    <a:pt x="920" y="1300"/>
                  </a:lnTo>
                  <a:lnTo>
                    <a:pt x="935" y="1342"/>
                  </a:lnTo>
                  <a:lnTo>
                    <a:pt x="920" y="1384"/>
                  </a:lnTo>
                  <a:lnTo>
                    <a:pt x="839" y="1271"/>
                  </a:lnTo>
                  <a:lnTo>
                    <a:pt x="839" y="1222"/>
                  </a:lnTo>
                  <a:lnTo>
                    <a:pt x="743" y="1151"/>
                  </a:lnTo>
                  <a:lnTo>
                    <a:pt x="692" y="1179"/>
                  </a:lnTo>
                  <a:lnTo>
                    <a:pt x="758" y="1222"/>
                  </a:lnTo>
                  <a:lnTo>
                    <a:pt x="817" y="1243"/>
                  </a:lnTo>
                  <a:lnTo>
                    <a:pt x="773" y="1250"/>
                  </a:lnTo>
                  <a:lnTo>
                    <a:pt x="751" y="1321"/>
                  </a:lnTo>
                  <a:lnTo>
                    <a:pt x="736" y="1250"/>
                  </a:lnTo>
                  <a:lnTo>
                    <a:pt x="596" y="1187"/>
                  </a:lnTo>
                  <a:lnTo>
                    <a:pt x="508" y="1201"/>
                  </a:lnTo>
                  <a:lnTo>
                    <a:pt x="456" y="1187"/>
                  </a:lnTo>
                  <a:lnTo>
                    <a:pt x="456" y="1243"/>
                  </a:lnTo>
                  <a:lnTo>
                    <a:pt x="346" y="1363"/>
                  </a:lnTo>
                  <a:lnTo>
                    <a:pt x="279" y="1377"/>
                  </a:lnTo>
                  <a:lnTo>
                    <a:pt x="198" y="1321"/>
                  </a:lnTo>
                  <a:lnTo>
                    <a:pt x="228" y="1179"/>
                  </a:lnTo>
                  <a:lnTo>
                    <a:pt x="353" y="1187"/>
                  </a:lnTo>
                  <a:lnTo>
                    <a:pt x="353" y="1081"/>
                  </a:lnTo>
                  <a:lnTo>
                    <a:pt x="279" y="1074"/>
                  </a:lnTo>
                  <a:lnTo>
                    <a:pt x="279" y="1031"/>
                  </a:lnTo>
                  <a:lnTo>
                    <a:pt x="397" y="1003"/>
                  </a:lnTo>
                  <a:lnTo>
                    <a:pt x="397" y="975"/>
                  </a:lnTo>
                  <a:lnTo>
                    <a:pt x="515" y="904"/>
                  </a:lnTo>
                  <a:lnTo>
                    <a:pt x="574" y="904"/>
                  </a:lnTo>
                  <a:lnTo>
                    <a:pt x="559" y="854"/>
                  </a:lnTo>
                  <a:lnTo>
                    <a:pt x="603" y="770"/>
                  </a:lnTo>
                  <a:lnTo>
                    <a:pt x="633" y="798"/>
                  </a:lnTo>
                  <a:lnTo>
                    <a:pt x="603" y="883"/>
                  </a:lnTo>
                  <a:lnTo>
                    <a:pt x="662" y="890"/>
                  </a:lnTo>
                  <a:lnTo>
                    <a:pt x="677" y="854"/>
                  </a:lnTo>
                  <a:lnTo>
                    <a:pt x="692" y="890"/>
                  </a:lnTo>
                  <a:lnTo>
                    <a:pt x="787" y="854"/>
                  </a:lnTo>
                  <a:lnTo>
                    <a:pt x="861" y="847"/>
                  </a:lnTo>
                  <a:lnTo>
                    <a:pt x="876" y="798"/>
                  </a:lnTo>
                  <a:lnTo>
                    <a:pt x="1075" y="671"/>
                  </a:lnTo>
                  <a:lnTo>
                    <a:pt x="868" y="671"/>
                  </a:lnTo>
                  <a:lnTo>
                    <a:pt x="876" y="607"/>
                  </a:lnTo>
                  <a:lnTo>
                    <a:pt x="994" y="529"/>
                  </a:lnTo>
                  <a:lnTo>
                    <a:pt x="935" y="480"/>
                  </a:lnTo>
                  <a:lnTo>
                    <a:pt x="802" y="607"/>
                  </a:lnTo>
                  <a:lnTo>
                    <a:pt x="802" y="699"/>
                  </a:lnTo>
                  <a:lnTo>
                    <a:pt x="758" y="798"/>
                  </a:lnTo>
                  <a:lnTo>
                    <a:pt x="633" y="854"/>
                  </a:lnTo>
                  <a:lnTo>
                    <a:pt x="706" y="798"/>
                  </a:lnTo>
                  <a:lnTo>
                    <a:pt x="670" y="734"/>
                  </a:lnTo>
                  <a:lnTo>
                    <a:pt x="559" y="770"/>
                  </a:lnTo>
                  <a:lnTo>
                    <a:pt x="515" y="727"/>
                  </a:lnTo>
                  <a:lnTo>
                    <a:pt x="530" y="607"/>
                  </a:lnTo>
                  <a:lnTo>
                    <a:pt x="670" y="529"/>
                  </a:lnTo>
                  <a:lnTo>
                    <a:pt x="802" y="374"/>
                  </a:lnTo>
                  <a:lnTo>
                    <a:pt x="802" y="325"/>
                  </a:lnTo>
                  <a:lnTo>
                    <a:pt x="935" y="303"/>
                  </a:lnTo>
                  <a:lnTo>
                    <a:pt x="1023" y="282"/>
                  </a:lnTo>
                  <a:lnTo>
                    <a:pt x="1126" y="367"/>
                  </a:lnTo>
                  <a:lnTo>
                    <a:pt x="1178" y="353"/>
                  </a:lnTo>
                  <a:lnTo>
                    <a:pt x="1340" y="445"/>
                  </a:lnTo>
                  <a:lnTo>
                    <a:pt x="1200" y="494"/>
                  </a:lnTo>
                  <a:lnTo>
                    <a:pt x="1178" y="551"/>
                  </a:lnTo>
                  <a:lnTo>
                    <a:pt x="1281" y="558"/>
                  </a:lnTo>
                  <a:lnTo>
                    <a:pt x="1443" y="466"/>
                  </a:lnTo>
                  <a:lnTo>
                    <a:pt x="1457" y="409"/>
                  </a:lnTo>
                  <a:lnTo>
                    <a:pt x="1531" y="374"/>
                  </a:lnTo>
                  <a:lnTo>
                    <a:pt x="1833" y="325"/>
                  </a:lnTo>
                  <a:lnTo>
                    <a:pt x="1995" y="204"/>
                  </a:lnTo>
                  <a:lnTo>
                    <a:pt x="2150" y="204"/>
                  </a:lnTo>
                  <a:lnTo>
                    <a:pt x="2519" y="77"/>
                  </a:lnTo>
                  <a:lnTo>
                    <a:pt x="2607" y="77"/>
                  </a:lnTo>
                  <a:lnTo>
                    <a:pt x="2769" y="0"/>
                  </a:lnTo>
                  <a:lnTo>
                    <a:pt x="2924" y="28"/>
                  </a:lnTo>
                  <a:lnTo>
                    <a:pt x="2997" y="98"/>
                  </a:lnTo>
                  <a:lnTo>
                    <a:pt x="2968" y="162"/>
                  </a:lnTo>
                  <a:lnTo>
                    <a:pt x="3262" y="176"/>
                  </a:lnTo>
                  <a:lnTo>
                    <a:pt x="3542" y="282"/>
                  </a:lnTo>
                  <a:lnTo>
                    <a:pt x="3793" y="240"/>
                  </a:lnTo>
                  <a:lnTo>
                    <a:pt x="4021" y="268"/>
                  </a:lnTo>
                  <a:lnTo>
                    <a:pt x="4080" y="325"/>
                  </a:lnTo>
                  <a:lnTo>
                    <a:pt x="4227" y="325"/>
                  </a:lnTo>
                  <a:lnTo>
                    <a:pt x="4492" y="325"/>
                  </a:lnTo>
                  <a:lnTo>
                    <a:pt x="4573" y="416"/>
                  </a:lnTo>
                  <a:lnTo>
                    <a:pt x="4750" y="480"/>
                  </a:lnTo>
                  <a:lnTo>
                    <a:pt x="4661" y="522"/>
                  </a:lnTo>
                  <a:lnTo>
                    <a:pt x="4573" y="494"/>
                  </a:lnTo>
                  <a:lnTo>
                    <a:pt x="4492" y="621"/>
                  </a:lnTo>
                  <a:lnTo>
                    <a:pt x="4455" y="607"/>
                  </a:lnTo>
                  <a:lnTo>
                    <a:pt x="4183" y="699"/>
                  </a:lnTo>
                  <a:lnTo>
                    <a:pt x="4094" y="847"/>
                  </a:lnTo>
                  <a:lnTo>
                    <a:pt x="4021" y="975"/>
                  </a:lnTo>
                  <a:lnTo>
                    <a:pt x="3962" y="982"/>
                  </a:lnTo>
                  <a:lnTo>
                    <a:pt x="3955" y="777"/>
                  </a:lnTo>
                  <a:lnTo>
                    <a:pt x="4183" y="642"/>
                  </a:lnTo>
                  <a:lnTo>
                    <a:pt x="4021" y="614"/>
                  </a:lnTo>
                  <a:lnTo>
                    <a:pt x="3925" y="706"/>
                  </a:lnTo>
                  <a:lnTo>
                    <a:pt x="3660" y="706"/>
                  </a:lnTo>
                  <a:lnTo>
                    <a:pt x="3476" y="854"/>
                  </a:lnTo>
                  <a:lnTo>
                    <a:pt x="3557" y="883"/>
                  </a:lnTo>
                  <a:lnTo>
                    <a:pt x="3608" y="1003"/>
                  </a:lnTo>
                  <a:lnTo>
                    <a:pt x="3491" y="1194"/>
                  </a:lnTo>
                  <a:lnTo>
                    <a:pt x="3373" y="1222"/>
                  </a:lnTo>
                  <a:lnTo>
                    <a:pt x="3314" y="1285"/>
                  </a:lnTo>
                  <a:lnTo>
                    <a:pt x="3365" y="1384"/>
                  </a:lnTo>
                  <a:lnTo>
                    <a:pt x="3255" y="1399"/>
                  </a:lnTo>
                  <a:lnTo>
                    <a:pt x="3292" y="1363"/>
                  </a:lnTo>
                  <a:lnTo>
                    <a:pt x="3248" y="1342"/>
                  </a:lnTo>
                  <a:lnTo>
                    <a:pt x="3233" y="1300"/>
                  </a:lnTo>
                  <a:lnTo>
                    <a:pt x="3181" y="1321"/>
                  </a:lnTo>
                  <a:lnTo>
                    <a:pt x="3181" y="1520"/>
                  </a:lnTo>
                  <a:lnTo>
                    <a:pt x="3115" y="1647"/>
                  </a:lnTo>
                  <a:lnTo>
                    <a:pt x="3049" y="1703"/>
                  </a:lnTo>
                  <a:lnTo>
                    <a:pt x="2953" y="1703"/>
                  </a:lnTo>
                  <a:lnTo>
                    <a:pt x="2865" y="1746"/>
                  </a:lnTo>
                  <a:lnTo>
                    <a:pt x="2887" y="1944"/>
                  </a:lnTo>
                  <a:lnTo>
                    <a:pt x="2791" y="2035"/>
                  </a:lnTo>
                  <a:lnTo>
                    <a:pt x="2791" y="1993"/>
                  </a:lnTo>
                  <a:lnTo>
                    <a:pt x="2754" y="1979"/>
                  </a:lnTo>
                  <a:lnTo>
                    <a:pt x="2740" y="2078"/>
                  </a:lnTo>
                  <a:lnTo>
                    <a:pt x="2769" y="2156"/>
                  </a:lnTo>
                  <a:lnTo>
                    <a:pt x="2725" y="2170"/>
                  </a:lnTo>
                  <a:lnTo>
                    <a:pt x="2644" y="2050"/>
                  </a:lnTo>
                  <a:lnTo>
                    <a:pt x="2659" y="1993"/>
                  </a:lnTo>
                  <a:lnTo>
                    <a:pt x="2578" y="1845"/>
                  </a:lnTo>
                  <a:lnTo>
                    <a:pt x="2541" y="1845"/>
                  </a:lnTo>
                  <a:lnTo>
                    <a:pt x="2519" y="1746"/>
                  </a:lnTo>
                  <a:lnTo>
                    <a:pt x="2475" y="1732"/>
                  </a:lnTo>
                  <a:lnTo>
                    <a:pt x="2379" y="1725"/>
                  </a:lnTo>
                  <a:lnTo>
                    <a:pt x="2319" y="1809"/>
                  </a:lnTo>
                  <a:lnTo>
                    <a:pt x="2223" y="1838"/>
                  </a:lnTo>
                  <a:lnTo>
                    <a:pt x="2208" y="1979"/>
                  </a:lnTo>
                  <a:lnTo>
                    <a:pt x="2172" y="2064"/>
                  </a:lnTo>
                  <a:lnTo>
                    <a:pt x="2054" y="1760"/>
                  </a:lnTo>
                  <a:lnTo>
                    <a:pt x="1995" y="1746"/>
                  </a:lnTo>
                  <a:lnTo>
                    <a:pt x="1958" y="1647"/>
                  </a:lnTo>
                  <a:lnTo>
                    <a:pt x="1700" y="1647"/>
                  </a:lnTo>
                  <a:lnTo>
                    <a:pt x="1700" y="1612"/>
                  </a:lnTo>
                  <a:lnTo>
                    <a:pt x="1546" y="1520"/>
                  </a:lnTo>
                  <a:lnTo>
                    <a:pt x="1480" y="1541"/>
                  </a:lnTo>
                  <a:lnTo>
                    <a:pt x="1568" y="1689"/>
                  </a:lnTo>
                  <a:lnTo>
                    <a:pt x="1656" y="1647"/>
                  </a:lnTo>
                  <a:lnTo>
                    <a:pt x="1759" y="1717"/>
                  </a:lnTo>
                  <a:lnTo>
                    <a:pt x="1700" y="1816"/>
                  </a:lnTo>
                  <a:lnTo>
                    <a:pt x="1406" y="1937"/>
                  </a:lnTo>
                  <a:lnTo>
                    <a:pt x="1362" y="1937"/>
                  </a:lnTo>
                  <a:lnTo>
                    <a:pt x="1362" y="1823"/>
                  </a:lnTo>
                  <a:lnTo>
                    <a:pt x="1178" y="155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75000" y="1203480"/>
              <a:ext cx="313200" cy="217800"/>
            </a:xfrm>
            <a:custGeom>
              <a:avLst/>
              <a:gdLst/>
              <a:ahLst/>
              <a:rect l="0" t="0" r="r" b="b"/>
              <a:pathLst>
                <a:path w="870" h="605">
                  <a:moveTo>
                    <a:pt x="197" y="107"/>
                  </a:moveTo>
                  <a:lnTo>
                    <a:pt x="276" y="33"/>
                  </a:lnTo>
                  <a:lnTo>
                    <a:pt x="325" y="40"/>
                  </a:lnTo>
                  <a:lnTo>
                    <a:pt x="431" y="0"/>
                  </a:lnTo>
                  <a:lnTo>
                    <a:pt x="629" y="0"/>
                  </a:lnTo>
                  <a:lnTo>
                    <a:pt x="665" y="40"/>
                  </a:lnTo>
                  <a:lnTo>
                    <a:pt x="708" y="60"/>
                  </a:lnTo>
                  <a:lnTo>
                    <a:pt x="828" y="221"/>
                  </a:lnTo>
                  <a:lnTo>
                    <a:pt x="828" y="248"/>
                  </a:lnTo>
                  <a:lnTo>
                    <a:pt x="870" y="423"/>
                  </a:lnTo>
                  <a:lnTo>
                    <a:pt x="814" y="584"/>
                  </a:lnTo>
                  <a:lnTo>
                    <a:pt x="722" y="605"/>
                  </a:lnTo>
                  <a:lnTo>
                    <a:pt x="665" y="605"/>
                  </a:lnTo>
                  <a:lnTo>
                    <a:pt x="495" y="497"/>
                  </a:lnTo>
                  <a:lnTo>
                    <a:pt x="276" y="450"/>
                  </a:lnTo>
                  <a:lnTo>
                    <a:pt x="234" y="491"/>
                  </a:lnTo>
                  <a:lnTo>
                    <a:pt x="105" y="517"/>
                  </a:lnTo>
                  <a:lnTo>
                    <a:pt x="49" y="497"/>
                  </a:lnTo>
                  <a:lnTo>
                    <a:pt x="0" y="309"/>
                  </a:lnTo>
                  <a:lnTo>
                    <a:pt x="0" y="268"/>
                  </a:lnTo>
                  <a:lnTo>
                    <a:pt x="70" y="181"/>
                  </a:lnTo>
                  <a:lnTo>
                    <a:pt x="197" y="10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1200" y="95580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14" y="0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95640" y="103032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0" y="20"/>
                  </a:lnTo>
                  <a:lnTo>
                    <a:pt x="9" y="0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7200" y="89856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10" y="1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6120" y="1017720"/>
              <a:ext cx="11520" cy="5040"/>
            </a:xfrm>
            <a:custGeom>
              <a:avLst/>
              <a:gdLst/>
              <a:ahLst/>
              <a:rect l="0" t="0" r="r" b="b"/>
              <a:pathLst>
                <a:path w="32" h="14">
                  <a:moveTo>
                    <a:pt x="26" y="0"/>
                  </a:moveTo>
                  <a:lnTo>
                    <a:pt x="32" y="4"/>
                  </a:lnTo>
                  <a:lnTo>
                    <a:pt x="29" y="14"/>
                  </a:lnTo>
                  <a:lnTo>
                    <a:pt x="13" y="3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6920" y="914400"/>
              <a:ext cx="71640" cy="11520"/>
            </a:xfrm>
            <a:custGeom>
              <a:avLst/>
              <a:gdLst/>
              <a:ahLst/>
              <a:rect l="0" t="0" r="r" b="b"/>
              <a:pathLst>
                <a:path w="199" h="32">
                  <a:moveTo>
                    <a:pt x="0" y="13"/>
                  </a:moveTo>
                  <a:lnTo>
                    <a:pt x="24" y="3"/>
                  </a:lnTo>
                  <a:lnTo>
                    <a:pt x="78" y="0"/>
                  </a:lnTo>
                  <a:lnTo>
                    <a:pt x="199" y="29"/>
                  </a:lnTo>
                  <a:lnTo>
                    <a:pt x="133" y="32"/>
                  </a:lnTo>
                  <a:lnTo>
                    <a:pt x="48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6720" y="939960"/>
              <a:ext cx="11520" cy="3600"/>
            </a:xfrm>
            <a:custGeom>
              <a:avLst/>
              <a:gdLst/>
              <a:ahLst/>
              <a:rect l="0" t="0" r="r" b="b"/>
              <a:pathLst>
                <a:path w="32" h="10">
                  <a:moveTo>
                    <a:pt x="16" y="0"/>
                  </a:moveTo>
                  <a:lnTo>
                    <a:pt x="32" y="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1200" y="97956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4" y="19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5000" y="957240"/>
              <a:ext cx="16200" cy="19440"/>
            </a:xfrm>
            <a:custGeom>
              <a:avLst/>
              <a:gdLst/>
              <a:ahLst/>
              <a:rect l="0" t="0" r="r" b="b"/>
              <a:pathLst>
                <a:path w="45" h="54">
                  <a:moveTo>
                    <a:pt x="7" y="4"/>
                  </a:moveTo>
                  <a:lnTo>
                    <a:pt x="34" y="0"/>
                  </a:lnTo>
                  <a:lnTo>
                    <a:pt x="37" y="21"/>
                  </a:lnTo>
                  <a:lnTo>
                    <a:pt x="45" y="25"/>
                  </a:lnTo>
                  <a:lnTo>
                    <a:pt x="30" y="46"/>
                  </a:lnTo>
                  <a:lnTo>
                    <a:pt x="23" y="54"/>
                  </a:lnTo>
                  <a:lnTo>
                    <a:pt x="0" y="4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2960" y="939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9" y="0"/>
                  </a:moveTo>
                  <a:lnTo>
                    <a:pt x="0" y="9"/>
                  </a:lnTo>
                  <a:lnTo>
                    <a:pt x="23" y="10"/>
                  </a:lnTo>
                  <a:lnTo>
                    <a:pt x="2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7320" y="971640"/>
              <a:ext cx="35280" cy="12960"/>
            </a:xfrm>
            <a:custGeom>
              <a:avLst/>
              <a:gdLst/>
              <a:ahLst/>
              <a:rect l="0" t="0" r="r" b="b"/>
              <a:pathLst>
                <a:path w="98" h="36">
                  <a:moveTo>
                    <a:pt x="0" y="20"/>
                  </a:moveTo>
                  <a:lnTo>
                    <a:pt x="20" y="3"/>
                  </a:lnTo>
                  <a:lnTo>
                    <a:pt x="72" y="0"/>
                  </a:lnTo>
                  <a:lnTo>
                    <a:pt x="98" y="12"/>
                  </a:lnTo>
                  <a:lnTo>
                    <a:pt x="77" y="12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0200" y="466560"/>
              <a:ext cx="60840" cy="25920"/>
            </a:xfrm>
            <a:custGeom>
              <a:avLst/>
              <a:gdLst/>
              <a:ahLst/>
              <a:rect l="0" t="0" r="r" b="b"/>
              <a:pathLst>
                <a:path w="169" h="72">
                  <a:moveTo>
                    <a:pt x="0" y="17"/>
                  </a:moveTo>
                  <a:lnTo>
                    <a:pt x="23" y="0"/>
                  </a:lnTo>
                  <a:lnTo>
                    <a:pt x="70" y="8"/>
                  </a:lnTo>
                  <a:lnTo>
                    <a:pt x="116" y="4"/>
                  </a:lnTo>
                  <a:lnTo>
                    <a:pt x="169" y="8"/>
                  </a:lnTo>
                  <a:lnTo>
                    <a:pt x="169" y="53"/>
                  </a:lnTo>
                  <a:lnTo>
                    <a:pt x="99" y="72"/>
                  </a:lnTo>
                  <a:lnTo>
                    <a:pt x="28" y="5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7920" y="6048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58" y="8"/>
                  </a:moveTo>
                  <a:lnTo>
                    <a:pt x="24" y="0"/>
                  </a:lnTo>
                  <a:lnTo>
                    <a:pt x="4" y="24"/>
                  </a:lnTo>
                  <a:lnTo>
                    <a:pt x="0" y="50"/>
                  </a:lnTo>
                  <a:lnTo>
                    <a:pt x="8" y="58"/>
                  </a:lnTo>
                  <a:lnTo>
                    <a:pt x="46" y="54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93960" y="1203480"/>
              <a:ext cx="39960" cy="98640"/>
            </a:xfrm>
            <a:custGeom>
              <a:avLst/>
              <a:gdLst/>
              <a:ahLst/>
              <a:rect l="0" t="0" r="r" b="b"/>
              <a:pathLst>
                <a:path w="111" h="274">
                  <a:moveTo>
                    <a:pt x="0" y="199"/>
                  </a:moveTo>
                  <a:lnTo>
                    <a:pt x="15" y="74"/>
                  </a:lnTo>
                  <a:lnTo>
                    <a:pt x="90" y="0"/>
                  </a:lnTo>
                  <a:lnTo>
                    <a:pt x="111" y="68"/>
                  </a:lnTo>
                  <a:lnTo>
                    <a:pt x="63" y="249"/>
                  </a:lnTo>
                  <a:lnTo>
                    <a:pt x="31" y="27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960" y="981000"/>
              <a:ext cx="18000" cy="20880"/>
            </a:xfrm>
            <a:custGeom>
              <a:avLst/>
              <a:gdLst/>
              <a:ahLst/>
              <a:rect l="0" t="0" r="r" b="b"/>
              <a:pathLst>
                <a:path w="50" h="58">
                  <a:moveTo>
                    <a:pt x="0" y="28"/>
                  </a:moveTo>
                  <a:lnTo>
                    <a:pt x="17" y="58"/>
                  </a:lnTo>
                  <a:lnTo>
                    <a:pt x="50" y="58"/>
                  </a:lnTo>
                  <a:lnTo>
                    <a:pt x="50" y="0"/>
                  </a:lnTo>
                  <a:lnTo>
                    <a:pt x="3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9880" y="102564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75" y="14"/>
                  </a:moveTo>
                  <a:lnTo>
                    <a:pt x="85" y="4"/>
                  </a:lnTo>
                  <a:lnTo>
                    <a:pt x="55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45" y="12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1108080"/>
              <a:ext cx="151200" cy="65520"/>
            </a:xfrm>
            <a:custGeom>
              <a:avLst/>
              <a:gdLst/>
              <a:ahLst/>
              <a:rect l="0" t="0" r="r" b="b"/>
              <a:pathLst>
                <a:path w="420" h="182">
                  <a:moveTo>
                    <a:pt x="291" y="70"/>
                  </a:moveTo>
                  <a:lnTo>
                    <a:pt x="420" y="182"/>
                  </a:lnTo>
                  <a:lnTo>
                    <a:pt x="223" y="165"/>
                  </a:lnTo>
                  <a:lnTo>
                    <a:pt x="217" y="40"/>
                  </a:lnTo>
                  <a:lnTo>
                    <a:pt x="223" y="165"/>
                  </a:lnTo>
                  <a:lnTo>
                    <a:pt x="149" y="141"/>
                  </a:lnTo>
                  <a:lnTo>
                    <a:pt x="47" y="70"/>
                  </a:lnTo>
                  <a:lnTo>
                    <a:pt x="0" y="11"/>
                  </a:lnTo>
                  <a:lnTo>
                    <a:pt x="33" y="0"/>
                  </a:lnTo>
                  <a:lnTo>
                    <a:pt x="149" y="11"/>
                  </a:lnTo>
                  <a:lnTo>
                    <a:pt x="217" y="40"/>
                  </a:lnTo>
                  <a:lnTo>
                    <a:pt x="291" y="7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59120" y="90180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09840" y="1155600"/>
              <a:ext cx="59040" cy="3600"/>
            </a:xfrm>
            <a:custGeom>
              <a:avLst/>
              <a:gdLst/>
              <a:ahLst/>
              <a:rect l="0" t="0" r="r" b="b"/>
              <a:pathLst>
                <a:path w="164" h="10">
                  <a:moveTo>
                    <a:pt x="164" y="10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9" y="3"/>
                  </a:lnTo>
                  <a:lnTo>
                    <a:pt x="164" y="1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6840" y="1066680"/>
              <a:ext cx="70200" cy="57600"/>
            </a:xfrm>
            <a:custGeom>
              <a:avLst/>
              <a:gdLst/>
              <a:ahLst/>
              <a:rect l="0" t="0" r="r" b="b"/>
              <a:pathLst>
                <a:path w="195" h="160">
                  <a:moveTo>
                    <a:pt x="110" y="52"/>
                  </a:moveTo>
                  <a:lnTo>
                    <a:pt x="170" y="0"/>
                  </a:lnTo>
                  <a:lnTo>
                    <a:pt x="158" y="22"/>
                  </a:lnTo>
                  <a:lnTo>
                    <a:pt x="195" y="69"/>
                  </a:lnTo>
                  <a:lnTo>
                    <a:pt x="140" y="155"/>
                  </a:lnTo>
                  <a:lnTo>
                    <a:pt x="122" y="160"/>
                  </a:lnTo>
                  <a:lnTo>
                    <a:pt x="60" y="132"/>
                  </a:lnTo>
                  <a:lnTo>
                    <a:pt x="0" y="80"/>
                  </a:lnTo>
                  <a:lnTo>
                    <a:pt x="24" y="46"/>
                  </a:lnTo>
                  <a:lnTo>
                    <a:pt x="36" y="69"/>
                  </a:lnTo>
                  <a:lnTo>
                    <a:pt x="110" y="5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32080" y="1058760"/>
              <a:ext cx="65520" cy="73440"/>
            </a:xfrm>
            <a:custGeom>
              <a:avLst/>
              <a:gdLst/>
              <a:ahLst/>
              <a:rect l="0" t="0" r="r" b="b"/>
              <a:pathLst>
                <a:path w="182" h="204">
                  <a:moveTo>
                    <a:pt x="164" y="204"/>
                  </a:moveTo>
                  <a:lnTo>
                    <a:pt x="182" y="151"/>
                  </a:lnTo>
                  <a:lnTo>
                    <a:pt x="146" y="116"/>
                  </a:lnTo>
                  <a:lnTo>
                    <a:pt x="85" y="53"/>
                  </a:lnTo>
                  <a:lnTo>
                    <a:pt x="0" y="0"/>
                  </a:lnTo>
                  <a:lnTo>
                    <a:pt x="121" y="181"/>
                  </a:lnTo>
                  <a:lnTo>
                    <a:pt x="164" y="20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2520" y="1087560"/>
              <a:ext cx="35280" cy="44640"/>
            </a:xfrm>
            <a:custGeom>
              <a:avLst/>
              <a:gdLst/>
              <a:ahLst/>
              <a:rect l="0" t="0" r="r" b="b"/>
              <a:pathLst>
                <a:path w="98" h="124">
                  <a:moveTo>
                    <a:pt x="10" y="21"/>
                  </a:moveTo>
                  <a:lnTo>
                    <a:pt x="30" y="10"/>
                  </a:lnTo>
                  <a:lnTo>
                    <a:pt x="98" y="0"/>
                  </a:lnTo>
                  <a:lnTo>
                    <a:pt x="72" y="48"/>
                  </a:lnTo>
                  <a:lnTo>
                    <a:pt x="67" y="108"/>
                  </a:lnTo>
                  <a:lnTo>
                    <a:pt x="0" y="124"/>
                  </a:lnTo>
                  <a:lnTo>
                    <a:pt x="0" y="81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84440" y="1081080"/>
              <a:ext cx="8280" cy="14760"/>
            </a:xfrm>
            <a:custGeom>
              <a:avLst/>
              <a:gdLst/>
              <a:ahLst/>
              <a:rect l="0" t="0" r="r" b="b"/>
              <a:pathLst>
                <a:path w="23" h="41">
                  <a:moveTo>
                    <a:pt x="0" y="11"/>
                  </a:moveTo>
                  <a:lnTo>
                    <a:pt x="0" y="41"/>
                  </a:lnTo>
                  <a:lnTo>
                    <a:pt x="23" y="19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7800" y="1455840"/>
              <a:ext cx="51120" cy="44640"/>
            </a:xfrm>
            <a:custGeom>
              <a:avLst/>
              <a:gdLst/>
              <a:ahLst/>
              <a:rect l="0" t="0" r="r" b="b"/>
              <a:pathLst>
                <a:path w="142" h="124">
                  <a:moveTo>
                    <a:pt x="130" y="5"/>
                  </a:moveTo>
                  <a:lnTo>
                    <a:pt x="142" y="16"/>
                  </a:lnTo>
                  <a:lnTo>
                    <a:pt x="113" y="59"/>
                  </a:lnTo>
                  <a:lnTo>
                    <a:pt x="80" y="102"/>
                  </a:lnTo>
                  <a:lnTo>
                    <a:pt x="39" y="124"/>
                  </a:lnTo>
                  <a:lnTo>
                    <a:pt x="0" y="102"/>
                  </a:lnTo>
                  <a:lnTo>
                    <a:pt x="33" y="65"/>
                  </a:lnTo>
                  <a:lnTo>
                    <a:pt x="102" y="0"/>
                  </a:lnTo>
                  <a:lnTo>
                    <a:pt x="130" y="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84400" y="1405080"/>
              <a:ext cx="18000" cy="39960"/>
            </a:xfrm>
            <a:custGeom>
              <a:avLst/>
              <a:gdLst/>
              <a:ahLst/>
              <a:rect l="0" t="0" r="r" b="b"/>
              <a:pathLst>
                <a:path w="50" h="111">
                  <a:moveTo>
                    <a:pt x="4" y="111"/>
                  </a:moveTo>
                  <a:lnTo>
                    <a:pt x="17" y="111"/>
                  </a:lnTo>
                  <a:lnTo>
                    <a:pt x="29" y="71"/>
                  </a:lnTo>
                  <a:lnTo>
                    <a:pt x="50" y="66"/>
                  </a:lnTo>
                  <a:lnTo>
                    <a:pt x="50" y="45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8" y="101"/>
                  </a:lnTo>
                  <a:lnTo>
                    <a:pt x="4" y="11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27200" y="955800"/>
              <a:ext cx="22680" cy="30600"/>
            </a:xfrm>
            <a:custGeom>
              <a:avLst/>
              <a:gdLst/>
              <a:ahLst/>
              <a:rect l="0" t="0" r="r" b="b"/>
              <a:pathLst>
                <a:path w="63" h="85">
                  <a:moveTo>
                    <a:pt x="31" y="0"/>
                  </a:moveTo>
                  <a:lnTo>
                    <a:pt x="63" y="85"/>
                  </a:lnTo>
                  <a:lnTo>
                    <a:pt x="13" y="67"/>
                  </a:lnTo>
                  <a:lnTo>
                    <a:pt x="0" y="24"/>
                  </a:lnTo>
                  <a:lnTo>
                    <a:pt x="1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46280" y="102240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18" y="27"/>
                  </a:moveTo>
                  <a:lnTo>
                    <a:pt x="50" y="0"/>
                  </a:lnTo>
                  <a:lnTo>
                    <a:pt x="63" y="18"/>
                  </a:lnTo>
                  <a:lnTo>
                    <a:pt x="63" y="54"/>
                  </a:lnTo>
                  <a:lnTo>
                    <a:pt x="50" y="63"/>
                  </a:lnTo>
                  <a:lnTo>
                    <a:pt x="0" y="45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0800" y="749160"/>
              <a:ext cx="78120" cy="54360"/>
            </a:xfrm>
            <a:custGeom>
              <a:avLst/>
              <a:gdLst/>
              <a:ahLst/>
              <a:rect l="0" t="0" r="r" b="b"/>
              <a:pathLst>
                <a:path w="217" h="151">
                  <a:moveTo>
                    <a:pt x="180" y="0"/>
                  </a:moveTo>
                  <a:lnTo>
                    <a:pt x="155" y="78"/>
                  </a:lnTo>
                  <a:lnTo>
                    <a:pt x="124" y="78"/>
                  </a:lnTo>
                  <a:lnTo>
                    <a:pt x="0" y="146"/>
                  </a:lnTo>
                  <a:lnTo>
                    <a:pt x="86" y="151"/>
                  </a:lnTo>
                  <a:lnTo>
                    <a:pt x="186" y="124"/>
                  </a:lnTo>
                  <a:lnTo>
                    <a:pt x="217" y="39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93880" y="7063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2" y="23"/>
                  </a:moveTo>
                  <a:lnTo>
                    <a:pt x="98" y="40"/>
                  </a:lnTo>
                  <a:lnTo>
                    <a:pt x="62" y="72"/>
                  </a:lnTo>
                  <a:lnTo>
                    <a:pt x="5" y="72"/>
                  </a:lnTo>
                  <a:lnTo>
                    <a:pt x="0" y="49"/>
                  </a:lnTo>
                  <a:lnTo>
                    <a:pt x="40" y="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84280" y="563400"/>
              <a:ext cx="46440" cy="79560"/>
            </a:xfrm>
            <a:custGeom>
              <a:avLst/>
              <a:gdLst/>
              <a:ahLst/>
              <a:rect l="0" t="0" r="r" b="b"/>
              <a:pathLst>
                <a:path w="129" h="221">
                  <a:moveTo>
                    <a:pt x="0" y="29"/>
                  </a:moveTo>
                  <a:lnTo>
                    <a:pt x="16" y="5"/>
                  </a:lnTo>
                  <a:lnTo>
                    <a:pt x="51" y="0"/>
                  </a:lnTo>
                  <a:lnTo>
                    <a:pt x="34" y="29"/>
                  </a:lnTo>
                  <a:lnTo>
                    <a:pt x="45" y="71"/>
                  </a:lnTo>
                  <a:lnTo>
                    <a:pt x="78" y="77"/>
                  </a:lnTo>
                  <a:lnTo>
                    <a:pt x="107" y="138"/>
                  </a:lnTo>
                  <a:lnTo>
                    <a:pt x="129" y="155"/>
                  </a:lnTo>
                  <a:lnTo>
                    <a:pt x="124" y="191"/>
                  </a:lnTo>
                  <a:lnTo>
                    <a:pt x="5" y="221"/>
                  </a:lnTo>
                  <a:lnTo>
                    <a:pt x="16" y="155"/>
                  </a:lnTo>
                  <a:lnTo>
                    <a:pt x="62" y="126"/>
                  </a:lnTo>
                  <a:lnTo>
                    <a:pt x="16" y="101"/>
                  </a:lnTo>
                  <a:lnTo>
                    <a:pt x="0" y="5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8800" y="187200"/>
              <a:ext cx="481320" cy="351360"/>
            </a:xfrm>
            <a:custGeom>
              <a:avLst/>
              <a:gdLst/>
              <a:ahLst/>
              <a:rect l="0" t="0" r="r" b="b"/>
              <a:pathLst>
                <a:path w="1337" h="976">
                  <a:moveTo>
                    <a:pt x="1337" y="96"/>
                  </a:moveTo>
                  <a:lnTo>
                    <a:pt x="1157" y="212"/>
                  </a:lnTo>
                  <a:lnTo>
                    <a:pt x="1157" y="302"/>
                  </a:lnTo>
                  <a:lnTo>
                    <a:pt x="1215" y="302"/>
                  </a:lnTo>
                  <a:lnTo>
                    <a:pt x="1157" y="481"/>
                  </a:lnTo>
                  <a:lnTo>
                    <a:pt x="1042" y="508"/>
                  </a:lnTo>
                  <a:lnTo>
                    <a:pt x="1114" y="543"/>
                  </a:lnTo>
                  <a:lnTo>
                    <a:pt x="1100" y="639"/>
                  </a:lnTo>
                  <a:lnTo>
                    <a:pt x="870" y="694"/>
                  </a:lnTo>
                  <a:lnTo>
                    <a:pt x="834" y="770"/>
                  </a:lnTo>
                  <a:lnTo>
                    <a:pt x="784" y="784"/>
                  </a:lnTo>
                  <a:lnTo>
                    <a:pt x="726" y="832"/>
                  </a:lnTo>
                  <a:lnTo>
                    <a:pt x="660" y="976"/>
                  </a:lnTo>
                  <a:lnTo>
                    <a:pt x="524" y="914"/>
                  </a:lnTo>
                  <a:lnTo>
                    <a:pt x="445" y="743"/>
                  </a:lnTo>
                  <a:lnTo>
                    <a:pt x="502" y="639"/>
                  </a:lnTo>
                  <a:lnTo>
                    <a:pt x="409" y="563"/>
                  </a:lnTo>
                  <a:lnTo>
                    <a:pt x="409" y="502"/>
                  </a:lnTo>
                  <a:lnTo>
                    <a:pt x="337" y="385"/>
                  </a:lnTo>
                  <a:lnTo>
                    <a:pt x="222" y="337"/>
                  </a:lnTo>
                  <a:lnTo>
                    <a:pt x="122" y="378"/>
                  </a:lnTo>
                  <a:lnTo>
                    <a:pt x="0" y="254"/>
                  </a:lnTo>
                  <a:lnTo>
                    <a:pt x="64" y="226"/>
                  </a:lnTo>
                  <a:lnTo>
                    <a:pt x="150" y="226"/>
                  </a:lnTo>
                  <a:lnTo>
                    <a:pt x="150" y="192"/>
                  </a:lnTo>
                  <a:lnTo>
                    <a:pt x="100" y="150"/>
                  </a:lnTo>
                  <a:lnTo>
                    <a:pt x="423" y="41"/>
                  </a:lnTo>
                  <a:lnTo>
                    <a:pt x="639" y="75"/>
                  </a:lnTo>
                  <a:lnTo>
                    <a:pt x="639" y="27"/>
                  </a:lnTo>
                  <a:lnTo>
                    <a:pt x="776" y="0"/>
                  </a:lnTo>
                  <a:lnTo>
                    <a:pt x="963" y="0"/>
                  </a:lnTo>
                  <a:lnTo>
                    <a:pt x="1128" y="61"/>
                  </a:lnTo>
                  <a:lnTo>
                    <a:pt x="1265" y="96"/>
                  </a:lnTo>
                  <a:lnTo>
                    <a:pt x="1337" y="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680" y="338040"/>
              <a:ext cx="960840" cy="689400"/>
            </a:xfrm>
            <a:custGeom>
              <a:avLst/>
              <a:gdLst/>
              <a:ahLst/>
              <a:rect l="0" t="0" r="r" b="b"/>
              <a:pathLst>
                <a:path w="2669" h="1915">
                  <a:moveTo>
                    <a:pt x="2019" y="807"/>
                  </a:moveTo>
                  <a:lnTo>
                    <a:pt x="1959" y="856"/>
                  </a:lnTo>
                  <a:lnTo>
                    <a:pt x="1916" y="723"/>
                  </a:lnTo>
                  <a:lnTo>
                    <a:pt x="1616" y="603"/>
                  </a:lnTo>
                  <a:lnTo>
                    <a:pt x="1616" y="512"/>
                  </a:lnTo>
                  <a:lnTo>
                    <a:pt x="1813" y="420"/>
                  </a:lnTo>
                  <a:lnTo>
                    <a:pt x="1821" y="371"/>
                  </a:lnTo>
                  <a:lnTo>
                    <a:pt x="1894" y="371"/>
                  </a:lnTo>
                  <a:lnTo>
                    <a:pt x="1959" y="322"/>
                  </a:lnTo>
                  <a:lnTo>
                    <a:pt x="1959" y="273"/>
                  </a:lnTo>
                  <a:lnTo>
                    <a:pt x="1908" y="203"/>
                  </a:lnTo>
                  <a:lnTo>
                    <a:pt x="2070" y="217"/>
                  </a:lnTo>
                  <a:lnTo>
                    <a:pt x="2070" y="252"/>
                  </a:lnTo>
                  <a:lnTo>
                    <a:pt x="2158" y="273"/>
                  </a:lnTo>
                  <a:lnTo>
                    <a:pt x="2143" y="385"/>
                  </a:lnTo>
                  <a:lnTo>
                    <a:pt x="2041" y="385"/>
                  </a:lnTo>
                  <a:lnTo>
                    <a:pt x="2041" y="427"/>
                  </a:lnTo>
                  <a:lnTo>
                    <a:pt x="2158" y="427"/>
                  </a:lnTo>
                  <a:lnTo>
                    <a:pt x="2304" y="512"/>
                  </a:lnTo>
                  <a:lnTo>
                    <a:pt x="2326" y="476"/>
                  </a:lnTo>
                  <a:lnTo>
                    <a:pt x="2311" y="343"/>
                  </a:lnTo>
                  <a:lnTo>
                    <a:pt x="2370" y="406"/>
                  </a:lnTo>
                  <a:lnTo>
                    <a:pt x="2421" y="350"/>
                  </a:lnTo>
                  <a:lnTo>
                    <a:pt x="2304" y="294"/>
                  </a:lnTo>
                  <a:lnTo>
                    <a:pt x="2245" y="196"/>
                  </a:lnTo>
                  <a:lnTo>
                    <a:pt x="2158" y="119"/>
                  </a:lnTo>
                  <a:lnTo>
                    <a:pt x="1996" y="77"/>
                  </a:lnTo>
                  <a:lnTo>
                    <a:pt x="1916" y="35"/>
                  </a:lnTo>
                  <a:lnTo>
                    <a:pt x="1799" y="84"/>
                  </a:lnTo>
                  <a:lnTo>
                    <a:pt x="1777" y="161"/>
                  </a:lnTo>
                  <a:lnTo>
                    <a:pt x="1850" y="203"/>
                  </a:lnTo>
                  <a:lnTo>
                    <a:pt x="1835" y="294"/>
                  </a:lnTo>
                  <a:lnTo>
                    <a:pt x="1725" y="217"/>
                  </a:lnTo>
                  <a:lnTo>
                    <a:pt x="1645" y="126"/>
                  </a:lnTo>
                  <a:lnTo>
                    <a:pt x="1601" y="182"/>
                  </a:lnTo>
                  <a:lnTo>
                    <a:pt x="1660" y="245"/>
                  </a:lnTo>
                  <a:lnTo>
                    <a:pt x="1645" y="301"/>
                  </a:lnTo>
                  <a:lnTo>
                    <a:pt x="1462" y="273"/>
                  </a:lnTo>
                  <a:lnTo>
                    <a:pt x="1543" y="217"/>
                  </a:lnTo>
                  <a:lnTo>
                    <a:pt x="1426" y="140"/>
                  </a:lnTo>
                  <a:lnTo>
                    <a:pt x="1404" y="56"/>
                  </a:lnTo>
                  <a:lnTo>
                    <a:pt x="1243" y="77"/>
                  </a:lnTo>
                  <a:lnTo>
                    <a:pt x="1038" y="0"/>
                  </a:lnTo>
                  <a:lnTo>
                    <a:pt x="973" y="126"/>
                  </a:lnTo>
                  <a:lnTo>
                    <a:pt x="1009" y="182"/>
                  </a:lnTo>
                  <a:lnTo>
                    <a:pt x="1097" y="84"/>
                  </a:lnTo>
                  <a:lnTo>
                    <a:pt x="1185" y="245"/>
                  </a:lnTo>
                  <a:lnTo>
                    <a:pt x="951" y="217"/>
                  </a:lnTo>
                  <a:lnTo>
                    <a:pt x="739" y="252"/>
                  </a:lnTo>
                  <a:lnTo>
                    <a:pt x="226" y="140"/>
                  </a:lnTo>
                  <a:lnTo>
                    <a:pt x="29" y="252"/>
                  </a:lnTo>
                  <a:lnTo>
                    <a:pt x="0" y="371"/>
                  </a:lnTo>
                  <a:lnTo>
                    <a:pt x="51" y="427"/>
                  </a:lnTo>
                  <a:lnTo>
                    <a:pt x="29" y="498"/>
                  </a:lnTo>
                  <a:lnTo>
                    <a:pt x="124" y="610"/>
                  </a:lnTo>
                  <a:lnTo>
                    <a:pt x="87" y="723"/>
                  </a:lnTo>
                  <a:lnTo>
                    <a:pt x="146" y="723"/>
                  </a:lnTo>
                  <a:lnTo>
                    <a:pt x="402" y="561"/>
                  </a:lnTo>
                  <a:lnTo>
                    <a:pt x="657" y="582"/>
                  </a:lnTo>
                  <a:lnTo>
                    <a:pt x="987" y="905"/>
                  </a:lnTo>
                  <a:lnTo>
                    <a:pt x="987" y="1066"/>
                  </a:lnTo>
                  <a:lnTo>
                    <a:pt x="1016" y="1185"/>
                  </a:lnTo>
                  <a:lnTo>
                    <a:pt x="1309" y="1593"/>
                  </a:lnTo>
                  <a:lnTo>
                    <a:pt x="1323" y="1572"/>
                  </a:lnTo>
                  <a:lnTo>
                    <a:pt x="1207" y="1382"/>
                  </a:lnTo>
                  <a:lnTo>
                    <a:pt x="1243" y="1361"/>
                  </a:lnTo>
                  <a:lnTo>
                    <a:pt x="1426" y="1593"/>
                  </a:lnTo>
                  <a:lnTo>
                    <a:pt x="1418" y="1635"/>
                  </a:lnTo>
                  <a:lnTo>
                    <a:pt x="1601" y="1726"/>
                  </a:lnTo>
                  <a:lnTo>
                    <a:pt x="1821" y="1817"/>
                  </a:lnTo>
                  <a:lnTo>
                    <a:pt x="1937" y="1915"/>
                  </a:lnTo>
                  <a:lnTo>
                    <a:pt x="2026" y="1915"/>
                  </a:lnTo>
                  <a:lnTo>
                    <a:pt x="2026" y="1880"/>
                  </a:lnTo>
                  <a:lnTo>
                    <a:pt x="1974" y="1845"/>
                  </a:lnTo>
                  <a:lnTo>
                    <a:pt x="1916" y="1845"/>
                  </a:lnTo>
                  <a:lnTo>
                    <a:pt x="1916" y="1775"/>
                  </a:lnTo>
                  <a:lnTo>
                    <a:pt x="1784" y="1691"/>
                  </a:lnTo>
                  <a:lnTo>
                    <a:pt x="1842" y="1593"/>
                  </a:lnTo>
                  <a:lnTo>
                    <a:pt x="1799" y="1593"/>
                  </a:lnTo>
                  <a:lnTo>
                    <a:pt x="1725" y="1684"/>
                  </a:lnTo>
                  <a:lnTo>
                    <a:pt x="1645" y="1677"/>
                  </a:lnTo>
                  <a:lnTo>
                    <a:pt x="1572" y="1558"/>
                  </a:lnTo>
                  <a:lnTo>
                    <a:pt x="1660" y="1403"/>
                  </a:lnTo>
                  <a:lnTo>
                    <a:pt x="1769" y="1439"/>
                  </a:lnTo>
                  <a:lnTo>
                    <a:pt x="1813" y="1368"/>
                  </a:lnTo>
                  <a:lnTo>
                    <a:pt x="1894" y="1403"/>
                  </a:lnTo>
                  <a:lnTo>
                    <a:pt x="1923" y="1502"/>
                  </a:lnTo>
                  <a:lnTo>
                    <a:pt x="1996" y="1488"/>
                  </a:lnTo>
                  <a:lnTo>
                    <a:pt x="1959" y="1382"/>
                  </a:lnTo>
                  <a:lnTo>
                    <a:pt x="2085" y="1255"/>
                  </a:lnTo>
                  <a:lnTo>
                    <a:pt x="2128" y="1115"/>
                  </a:lnTo>
                  <a:lnTo>
                    <a:pt x="2326" y="1066"/>
                  </a:lnTo>
                  <a:lnTo>
                    <a:pt x="2348" y="1031"/>
                  </a:lnTo>
                  <a:lnTo>
                    <a:pt x="2428" y="1010"/>
                  </a:lnTo>
                  <a:lnTo>
                    <a:pt x="2428" y="975"/>
                  </a:lnTo>
                  <a:lnTo>
                    <a:pt x="2340" y="975"/>
                  </a:lnTo>
                  <a:lnTo>
                    <a:pt x="2311" y="870"/>
                  </a:lnTo>
                  <a:lnTo>
                    <a:pt x="2516" y="821"/>
                  </a:lnTo>
                  <a:lnTo>
                    <a:pt x="2472" y="926"/>
                  </a:lnTo>
                  <a:lnTo>
                    <a:pt x="2582" y="961"/>
                  </a:lnTo>
                  <a:lnTo>
                    <a:pt x="2669" y="947"/>
                  </a:lnTo>
                  <a:lnTo>
                    <a:pt x="2538" y="884"/>
                  </a:lnTo>
                  <a:lnTo>
                    <a:pt x="2574" y="814"/>
                  </a:lnTo>
                  <a:lnTo>
                    <a:pt x="2509" y="723"/>
                  </a:lnTo>
                  <a:lnTo>
                    <a:pt x="2370" y="673"/>
                  </a:lnTo>
                  <a:lnTo>
                    <a:pt x="2384" y="624"/>
                  </a:lnTo>
                  <a:lnTo>
                    <a:pt x="2340" y="561"/>
                  </a:lnTo>
                  <a:lnTo>
                    <a:pt x="2253" y="610"/>
                  </a:lnTo>
                  <a:lnTo>
                    <a:pt x="2224" y="547"/>
                  </a:lnTo>
                  <a:lnTo>
                    <a:pt x="2128" y="476"/>
                  </a:lnTo>
                  <a:lnTo>
                    <a:pt x="2004" y="498"/>
                  </a:lnTo>
                  <a:lnTo>
                    <a:pt x="2004" y="603"/>
                  </a:lnTo>
                  <a:lnTo>
                    <a:pt x="2004" y="730"/>
                  </a:lnTo>
                  <a:lnTo>
                    <a:pt x="2019" y="80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0080" y="231840"/>
              <a:ext cx="46440" cy="38520"/>
            </a:xfrm>
            <a:custGeom>
              <a:avLst/>
              <a:gdLst/>
              <a:ahLst/>
              <a:rect l="0" t="0" r="r" b="b"/>
              <a:pathLst>
                <a:path w="129" h="107">
                  <a:moveTo>
                    <a:pt x="34" y="71"/>
                  </a:moveTo>
                  <a:lnTo>
                    <a:pt x="39" y="82"/>
                  </a:lnTo>
                  <a:lnTo>
                    <a:pt x="45" y="82"/>
                  </a:lnTo>
                  <a:lnTo>
                    <a:pt x="78" y="107"/>
                  </a:lnTo>
                  <a:lnTo>
                    <a:pt x="118" y="107"/>
                  </a:lnTo>
                  <a:lnTo>
                    <a:pt x="129" y="20"/>
                  </a:lnTo>
                  <a:lnTo>
                    <a:pt x="89" y="20"/>
                  </a:lnTo>
                  <a:lnTo>
                    <a:pt x="84" y="0"/>
                  </a:lnTo>
                  <a:lnTo>
                    <a:pt x="62" y="0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7320" y="192240"/>
              <a:ext cx="173520" cy="111600"/>
            </a:xfrm>
            <a:custGeom>
              <a:avLst/>
              <a:gdLst/>
              <a:ahLst/>
              <a:rect l="0" t="0" r="r" b="b"/>
              <a:pathLst>
                <a:path w="482" h="310">
                  <a:moveTo>
                    <a:pt x="0" y="285"/>
                  </a:moveTo>
                  <a:lnTo>
                    <a:pt x="6" y="304"/>
                  </a:lnTo>
                  <a:lnTo>
                    <a:pt x="81" y="310"/>
                  </a:lnTo>
                  <a:lnTo>
                    <a:pt x="129" y="304"/>
                  </a:lnTo>
                  <a:lnTo>
                    <a:pt x="177" y="304"/>
                  </a:lnTo>
                  <a:lnTo>
                    <a:pt x="251" y="253"/>
                  </a:lnTo>
                  <a:lnTo>
                    <a:pt x="298" y="221"/>
                  </a:lnTo>
                  <a:lnTo>
                    <a:pt x="305" y="189"/>
                  </a:lnTo>
                  <a:lnTo>
                    <a:pt x="339" y="164"/>
                  </a:lnTo>
                  <a:lnTo>
                    <a:pt x="401" y="145"/>
                  </a:lnTo>
                  <a:lnTo>
                    <a:pt x="421" y="126"/>
                  </a:lnTo>
                  <a:lnTo>
                    <a:pt x="482" y="6"/>
                  </a:lnTo>
                  <a:lnTo>
                    <a:pt x="231" y="0"/>
                  </a:lnTo>
                  <a:lnTo>
                    <a:pt x="156" y="12"/>
                  </a:lnTo>
                  <a:lnTo>
                    <a:pt x="129" y="25"/>
                  </a:lnTo>
                  <a:lnTo>
                    <a:pt x="67" y="25"/>
                  </a:lnTo>
                  <a:lnTo>
                    <a:pt x="20" y="44"/>
                  </a:lnTo>
                  <a:lnTo>
                    <a:pt x="60" y="152"/>
                  </a:lnTo>
                  <a:lnTo>
                    <a:pt x="129" y="189"/>
                  </a:lnTo>
                  <a:lnTo>
                    <a:pt x="94" y="196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7280" y="30636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85" y="80"/>
                  </a:moveTo>
                  <a:lnTo>
                    <a:pt x="221" y="43"/>
                  </a:lnTo>
                  <a:lnTo>
                    <a:pt x="172" y="0"/>
                  </a:lnTo>
                  <a:lnTo>
                    <a:pt x="129" y="18"/>
                  </a:lnTo>
                  <a:lnTo>
                    <a:pt x="6" y="23"/>
                  </a:lnTo>
                  <a:lnTo>
                    <a:pt x="0" y="43"/>
                  </a:lnTo>
                  <a:lnTo>
                    <a:pt x="85" y="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200" y="311040"/>
              <a:ext cx="100440" cy="20880"/>
            </a:xfrm>
            <a:custGeom>
              <a:avLst/>
              <a:gdLst/>
              <a:ahLst/>
              <a:rect l="0" t="0" r="r" b="b"/>
              <a:pathLst>
                <a:path w="279" h="58">
                  <a:moveTo>
                    <a:pt x="38" y="0"/>
                  </a:moveTo>
                  <a:lnTo>
                    <a:pt x="91" y="28"/>
                  </a:lnTo>
                  <a:lnTo>
                    <a:pt x="149" y="33"/>
                  </a:lnTo>
                  <a:lnTo>
                    <a:pt x="228" y="20"/>
                  </a:lnTo>
                  <a:lnTo>
                    <a:pt x="279" y="33"/>
                  </a:lnTo>
                  <a:lnTo>
                    <a:pt x="221" y="58"/>
                  </a:lnTo>
                  <a:lnTo>
                    <a:pt x="32" y="54"/>
                  </a:lnTo>
                  <a:lnTo>
                    <a:pt x="0" y="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960" y="295200"/>
              <a:ext cx="49680" cy="16200"/>
            </a:xfrm>
            <a:custGeom>
              <a:avLst/>
              <a:gdLst/>
              <a:ahLst/>
              <a:rect l="0" t="0" r="r" b="b"/>
              <a:pathLst>
                <a:path w="138" h="45">
                  <a:moveTo>
                    <a:pt x="40" y="45"/>
                  </a:moveTo>
                  <a:lnTo>
                    <a:pt x="0" y="34"/>
                  </a:lnTo>
                  <a:lnTo>
                    <a:pt x="110" y="0"/>
                  </a:lnTo>
                  <a:lnTo>
                    <a:pt x="138" y="7"/>
                  </a:lnTo>
                  <a:lnTo>
                    <a:pt x="97" y="30"/>
                  </a:lnTo>
                  <a:lnTo>
                    <a:pt x="40" y="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20720" y="249120"/>
              <a:ext cx="54360" cy="46440"/>
            </a:xfrm>
            <a:custGeom>
              <a:avLst/>
              <a:gdLst/>
              <a:ahLst/>
              <a:rect l="0" t="0" r="r" b="b"/>
              <a:pathLst>
                <a:path w="151" h="129">
                  <a:moveTo>
                    <a:pt x="34" y="64"/>
                  </a:moveTo>
                  <a:lnTo>
                    <a:pt x="11" y="48"/>
                  </a:lnTo>
                  <a:lnTo>
                    <a:pt x="0" y="21"/>
                  </a:lnTo>
                  <a:lnTo>
                    <a:pt x="64" y="10"/>
                  </a:lnTo>
                  <a:lnTo>
                    <a:pt x="99" y="0"/>
                  </a:lnTo>
                  <a:lnTo>
                    <a:pt x="146" y="38"/>
                  </a:lnTo>
                  <a:lnTo>
                    <a:pt x="151" y="70"/>
                  </a:lnTo>
                  <a:lnTo>
                    <a:pt x="123" y="129"/>
                  </a:lnTo>
                  <a:lnTo>
                    <a:pt x="58" y="108"/>
                  </a:lnTo>
                  <a:lnTo>
                    <a:pt x="58" y="96"/>
                  </a:lnTo>
                  <a:lnTo>
                    <a:pt x="34" y="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87680" y="243000"/>
              <a:ext cx="54360" cy="8280"/>
            </a:xfrm>
            <a:custGeom>
              <a:avLst/>
              <a:gdLst/>
              <a:ahLst/>
              <a:rect l="0" t="0" r="r" b="b"/>
              <a:pathLst>
                <a:path w="151" h="23">
                  <a:moveTo>
                    <a:pt x="11" y="0"/>
                  </a:moveTo>
                  <a:lnTo>
                    <a:pt x="70" y="0"/>
                  </a:lnTo>
                  <a:lnTo>
                    <a:pt x="151" y="8"/>
                  </a:lnTo>
                  <a:lnTo>
                    <a:pt x="123" y="18"/>
                  </a:lnTo>
                  <a:lnTo>
                    <a:pt x="81" y="23"/>
                  </a:lnTo>
                  <a:lnTo>
                    <a:pt x="17" y="16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1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1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olbe</dc:creator>
  <dc:description/>
  <dc:language>en-US</dc:language>
  <cp:lastModifiedBy>Mike Kolbe</cp:lastModifiedBy>
  <cp:revision>0</cp:revision>
  <dc:subject/>
  <dc:title/>
</cp:coreProperties>
</file>