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11280" y="-123840"/>
            <a:ext cx="11439720" cy="8881920"/>
            <a:chOff x="-611280" y="-123840"/>
            <a:chExt cx="11439720" cy="8881920"/>
          </a:xfrm>
        </p:grpSpPr>
        <p:sp>
          <p:nvSpPr>
            <p:cNvPr id="1" name=""/>
            <p:cNvSpPr/>
            <p:nvPr/>
          </p:nvSpPr>
          <p:spPr>
            <a:xfrm>
              <a:off x="-109440" y="6173640"/>
              <a:ext cx="10937880" cy="115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598320" y="-123840"/>
              <a:ext cx="1722600" cy="8881920"/>
            </a:xfrm>
            <a:prstGeom prst="rect">
              <a:avLst/>
            </a:prstGeom>
            <a:gradFill rotWithShape="0">
              <a:gsLst>
                <a:gs pos="0">
                  <a:srgbClr val="081d58"/>
                </a:gs>
                <a:gs pos="100000">
                  <a:srgbClr val="203368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-611280" y="6086520"/>
              <a:ext cx="1717560" cy="1159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0120" y="5297400"/>
              <a:ext cx="1952640" cy="115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1960" y="5259240"/>
              <a:ext cx="1952640" cy="1154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95320" y="5321160"/>
              <a:ext cx="1828800" cy="1046160"/>
            </a:xfrm>
            <a:prstGeom prst="rect">
              <a:avLst/>
            </a:prstGeom>
            <a:gradFill rotWithShape="0">
              <a:gsLst>
                <a:gs pos="0">
                  <a:srgbClr val="ff191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95320" y="5321160"/>
              <a:ext cx="1835640" cy="1041840"/>
            </a:xfrm>
            <a:custGeom>
              <a:avLst/>
              <a:gdLst/>
              <a:ahLst/>
              <a:rect l="0" t="0" r="r" b="b"/>
              <a:pathLst>
                <a:path fill="none" w="5099" h="2894">
                  <a:moveTo>
                    <a:pt x="0" y="2894"/>
                  </a:moveTo>
                  <a:lnTo>
                    <a:pt x="0" y="0"/>
                  </a:lnTo>
                  <a:lnTo>
                    <a:pt x="509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3880" y="5324400"/>
              <a:ext cx="1835640" cy="1041840"/>
            </a:xfrm>
            <a:custGeom>
              <a:avLst/>
              <a:gdLst/>
              <a:ahLst/>
              <a:rect l="0" t="0" r="r" b="b"/>
              <a:pathLst>
                <a:path fill="none" w="5099" h="2894">
                  <a:moveTo>
                    <a:pt x="5099" y="0"/>
                  </a:moveTo>
                  <a:lnTo>
                    <a:pt x="5099" y="2894"/>
                  </a:lnTo>
                  <a:lnTo>
                    <a:pt x="0" y="2894"/>
                  </a:lnTo>
                </a:path>
              </a:pathLst>
            </a:custGeom>
            <a:ln w="12600">
              <a:solidFill>
                <a:srgbClr val="c0c0c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1046160" y="5411880"/>
              <a:ext cx="1260360" cy="47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500" spc="-1" strike="noStrike">
                  <a:solidFill>
                    <a:srgbClr val="000000"/>
                  </a:solidFill>
                  <a:latin typeface="Becker"/>
                  <a:ea typeface="Becker"/>
                </a:rPr>
                <a:t>Weekl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 txBox="1"/>
            <p:nvPr/>
          </p:nvSpPr>
          <p:spPr>
            <a:xfrm>
              <a:off x="1359000" y="5737320"/>
              <a:ext cx="1397160" cy="47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500" spc="-1" strike="noStrike">
                  <a:solidFill>
                    <a:srgbClr val="000000"/>
                  </a:solidFill>
                  <a:latin typeface="Becker"/>
                  <a:ea typeface="Becker"/>
                </a:rPr>
                <a:t>Meeting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 txBox="1"/>
            <p:nvPr/>
          </p:nvSpPr>
          <p:spPr>
            <a:xfrm>
              <a:off x="1027080" y="5392800"/>
              <a:ext cx="1260360" cy="47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500" spc="-1" strike="noStrike">
                  <a:solidFill>
                    <a:srgbClr val="ffffff"/>
                  </a:solidFill>
                  <a:latin typeface="Becker"/>
                  <a:ea typeface="Becker"/>
                </a:rPr>
                <a:t>Weekl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 txBox="1"/>
            <p:nvPr/>
          </p:nvSpPr>
          <p:spPr>
            <a:xfrm>
              <a:off x="1336680" y="5721480"/>
              <a:ext cx="1397160" cy="47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500" spc="-1" strike="noStrike">
                  <a:solidFill>
                    <a:srgbClr val="ffffff"/>
                  </a:solidFill>
                  <a:latin typeface="Becker"/>
                  <a:ea typeface="Becker"/>
                </a:rPr>
                <a:t>Meeting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81160" y="6094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43000" y="19810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