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43000" y="2666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143000" y="2876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-1123920" y="1195560"/>
            <a:ext cx="1419120" cy="15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Extreme Software</a:t>
            </a:r>
            <a:r>
              <a:rPr b="0" lang="en-US" sz="1800" spc="-1" strike="noStrike">
                <a:solidFill>
                  <a:srgbClr val="00cece"/>
                </a:solidFill>
                <a:latin typeface="Symbol"/>
                <a:ea typeface="Symbol"/>
              </a:rPr>
              <a:t>®</a:t>
            </a:r>
            <a:r>
              <a:rPr b="0" lang="en-US" sz="48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 Pres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457200" y="3124080"/>
            <a:ext cx="8001000" cy="21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66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Assistan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66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Basketball Coach v1.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57200" y="5270400"/>
            <a:ext cx="1762200" cy="2131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86000" y="5943600"/>
            <a:ext cx="5410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00cece"/>
                </a:solidFill>
                <a:latin typeface="Arial"/>
                <a:ea typeface="Arial"/>
              </a:rPr>
              <a:t>Setting new standards for computerized statistical gathering and scout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51814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32480" y="516564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1374840" y="3267000"/>
            <a:ext cx="3882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  <a:ea typeface="Arial"/>
              </a:rPr>
              <a:t>New Versio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838080" y="3048120"/>
            <a:ext cx="8001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e0e0e0"/>
                </a:solidFill>
                <a:latin typeface="Arial"/>
                <a:ea typeface="Arial"/>
              </a:rPr>
              <a:t>CREDIT CARD ORDERS ON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e0e0e0"/>
                </a:solidFill>
                <a:latin typeface="Arial"/>
                <a:ea typeface="Arial"/>
              </a:rPr>
              <a:t>Extreme Software has provided a toll-free number for purchasing Assistant Basketball Coach for Windows.   Please have your MasterCard, Visa, American Express or Discover card available when placing your or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(800)  242-47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e0e0e0"/>
                </a:solidFill>
                <a:latin typeface="Arial"/>
                <a:ea typeface="Arial"/>
              </a:rPr>
              <a:t>Make sure you specify “Assistant Basketball Coach for Windows,” order number “11463” when placing your order.  Your credit card will be charged $130.00 in U.S. funds ($125.00 for a 1 user version and $5.00 Shipping and Handling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e0e0e0"/>
                </a:solidFill>
                <a:latin typeface="Arial"/>
                <a:ea typeface="Arial"/>
              </a:rPr>
              <a:t>IMPORTANT NOTICE:  This number is for CREDIT CARD ORDERS ONLY. Please call Extreme Software at (602) 996-9773 with any questions you may have about the progr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How to Order the FULL version by Credit C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62120" y="304812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148608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How to Order the FULL or DEMO version by M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990720" y="3048120"/>
            <a:ext cx="8839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Extreme Software also accepts mail orders for Assistant Basketball Coach for Windows.  Fill out the information below and mail it to Extreme Software.  Please include a check or money order payable to “Extreme Software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Name: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  Organization: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Address: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City/State/Zip: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   Phone: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o   Assistant Basketball Coach for Windows.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1 user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$125.00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2-5 user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$250.00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Mail to: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Extreme Software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6-10 user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$350.00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15059 North 54th Way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11 Plus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$425.00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Scottsdale, Arizona 85254-2397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Shipping &amp; Handling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$5.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(602) 996-9773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e0e0e0"/>
                </a:solidFill>
                <a:latin typeface="Arial"/>
                <a:ea typeface="Arial"/>
              </a:rPr>
              <a:t>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80880" y="4724280"/>
            <a:ext cx="4114800" cy="0"/>
          </a:xfrm>
          <a:prstGeom prst="line">
            <a:avLst/>
          </a:prstGeom>
          <a:ln w="12600">
            <a:solidFill>
              <a:srgbClr val="e0e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4724280"/>
            <a:ext cx="3048120" cy="0"/>
          </a:xfrm>
          <a:prstGeom prst="line">
            <a:avLst/>
          </a:prstGeom>
          <a:ln w="12600">
            <a:solidFill>
              <a:srgbClr val="e0e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228600" y="4952880"/>
            <a:ext cx="8077320" cy="0"/>
          </a:xfrm>
          <a:prstGeom prst="line">
            <a:avLst/>
          </a:prstGeom>
          <a:ln w="12600">
            <a:solidFill>
              <a:srgbClr val="e0e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257800"/>
            <a:ext cx="3505320" cy="0"/>
          </a:xfrm>
          <a:prstGeom prst="line">
            <a:avLst/>
          </a:prstGeom>
          <a:ln w="12600">
            <a:solidFill>
              <a:srgbClr val="e0e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57800"/>
            <a:ext cx="3429000" cy="0"/>
          </a:xfrm>
          <a:prstGeom prst="line">
            <a:avLst/>
          </a:prstGeom>
          <a:ln w="12600">
            <a:solidFill>
              <a:srgbClr val="e0e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1092240" y="7162920"/>
            <a:ext cx="1549440" cy="660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Assistant Basketball C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762120" y="3429000"/>
            <a:ext cx="792468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48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Thank you for taking time to review this presentatio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600" y="6019920"/>
            <a:ext cx="61722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0" spc="-1" strike="noStrike">
                <a:solidFill>
                  <a:srgbClr val="00cece"/>
                </a:solidFill>
                <a:latin typeface="Brush Script MT"/>
                <a:ea typeface="Brush Script MT"/>
              </a:rPr>
              <a:t>Extreme Softwar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1092240" y="7586640"/>
            <a:ext cx="278136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end slidesh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cece"/>
                </a:solidFill>
                <a:latin typeface="Arial"/>
                <a:ea typeface="Arial"/>
              </a:rPr>
              <a:t>New Features in v1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457200" y="30481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Player Details</a:t>
            </a:r>
            <a:r>
              <a:rPr b="0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:  You now have the ability to take detailed notes about a player, insert a player’s photograph, change a player’s status (injured, traded, retired) and mo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Game Details</a:t>
            </a:r>
            <a:r>
              <a:rPr b="0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:  You now can input detailed information about a game, type of game (preseason, regular, tournament, playoffs) and mo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Game Schedule Linked to Taking Statistics</a:t>
            </a:r>
            <a:r>
              <a:rPr b="0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:  This makes taking and managing statistics much easier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Taking Statistics even EASIER</a:t>
            </a:r>
            <a:r>
              <a:rPr b="0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:  A second statistical screen has been added to give you a choice of taking/recording statistics either during the game or after the game conclu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More Reports</a:t>
            </a:r>
            <a:r>
              <a:rPr b="0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:  Yes, even more reports are now availab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1" i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And much, much MO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cece"/>
                </a:solidFill>
                <a:latin typeface="Arial"/>
                <a:ea typeface="Arial"/>
              </a:rPr>
              <a:t>Features, Features, Featur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838080" y="2971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Manage Profiles of Teams and Playe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Manage Team Schedul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Track Unlimited Teams, Players, Plays, Seasons, and Statis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Record Player Statistics During the Gam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Track Your plays, Your Opponent's Plays, and Shots Taken During the Game Using the Drawing Boar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Analyze Team Wins and Loss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Get Up-to-Date Statistics from Several Statistical Data Sheets with a Click of a Mouse or a Push of a P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Generate Detailed Scouting Reports!  (Great for basketball scouts on the road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Jot Down Notes About Players During the Game.  (Great for scouting opponent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cece"/>
                </a:solidFill>
                <a:latin typeface="Arial"/>
                <a:ea typeface="Arial"/>
              </a:rPr>
              <a:t>Features Continu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762120" y="3048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Assistant Basketball Coach has been written to take full advantage of </a:t>
            </a:r>
            <a:r>
              <a:rPr b="0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a</a:t>
            </a: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 mouse or pen input device.  It is entirely possible to take all statistics during the game using one of these input devic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Assistant Basketball Coach has also been written to take full advantage of Microsoft</a:t>
            </a:r>
            <a:r>
              <a:rPr b="1" lang="en-US" sz="2000" spc="-1" strike="noStrike">
                <a:solidFill>
                  <a:srgbClr val="e0e0e0"/>
                </a:solidFill>
                <a:latin typeface="Symbol"/>
                <a:ea typeface="Symbol"/>
              </a:rPr>
              <a:t>®</a:t>
            </a: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Windows</a:t>
            </a:r>
            <a:r>
              <a:rPr b="1" lang="en-US" sz="2000" spc="-1" strike="noStrike">
                <a:solidFill>
                  <a:srgbClr val="e0e0e0"/>
                </a:solidFill>
                <a:latin typeface="Symbol"/>
                <a:ea typeface="Symbol"/>
              </a:rPr>
              <a:t>™</a:t>
            </a: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  3.x and NT</a:t>
            </a:r>
            <a:r>
              <a:rPr b="1" lang="en-US" sz="2000" spc="-1" strike="noStrike">
                <a:solidFill>
                  <a:srgbClr val="e0e0e0"/>
                </a:solidFill>
                <a:latin typeface="Symbol"/>
                <a:ea typeface="Symbol"/>
              </a:rPr>
              <a:t>®</a:t>
            </a: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3.x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And much, much mo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586728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Coming soon, support for the NBAStats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Project! 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all for deta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cece"/>
                </a:solidFill>
                <a:latin typeface="Arial"/>
                <a:ea typeface="Arial"/>
              </a:rPr>
              <a:t>Designed for Who? About the Desig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533520" y="304812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cece"/>
                </a:solidFill>
                <a:latin typeface="Arial"/>
                <a:ea typeface="Arial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Head Coaches and Assistant Coaches for high schools, colleges, and professional basketball team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Basketball Scouts, Sports Writers, City League Managers and Arm Chair Enthusiast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Anyone who coaches or loves the sport of basketball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cece"/>
                </a:solidFill>
                <a:latin typeface="Arial"/>
                <a:ea typeface="Arial"/>
              </a:rPr>
              <a:t>The Desig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Developed for Microsoft</a:t>
            </a:r>
            <a:r>
              <a:rPr b="1" lang="en-US" sz="2000" spc="-1" strike="noStrike">
                <a:solidFill>
                  <a:srgbClr val="e0e0e0"/>
                </a:solidFill>
                <a:latin typeface="Symbol"/>
                <a:ea typeface="Symbol"/>
              </a:rPr>
              <a:t>®</a:t>
            </a: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 Windows</a:t>
            </a:r>
            <a:r>
              <a:rPr b="1" lang="en-US" sz="2000" spc="-1" strike="noStrike">
                <a:solidFill>
                  <a:srgbClr val="e0e0e0"/>
                </a:solidFill>
                <a:latin typeface="Symbol"/>
                <a:ea typeface="Symbol"/>
              </a:rPr>
              <a:t>™</a:t>
            </a: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Developed to take full advantage of a mouse or pen input devi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0e0e0"/>
                </a:solidFill>
                <a:latin typeface="Arial"/>
                <a:ea typeface="Arial"/>
              </a:rPr>
              <a:t>Developed to be used on a Desktop, Laptop or Pen Computer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Assistant Basketball Coach (screen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930240" y="6080040"/>
            <a:ext cx="169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Main Me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70560" y="4098960"/>
            <a:ext cx="237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Game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914400" y="3067200"/>
            <a:ext cx="4419720" cy="299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05320" y="4572000"/>
            <a:ext cx="4419720" cy="3341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Assistant Basketball Coach (screen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622840" y="409896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Players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1006560" y="65372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Team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942840" y="3038400"/>
            <a:ext cx="4281480" cy="343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29000" y="4648320"/>
            <a:ext cx="4484520" cy="326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Assistant Basketball Coach (screen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047600" y="2933640"/>
            <a:ext cx="3867120" cy="2505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87640" y="4343400"/>
            <a:ext cx="5846760" cy="3514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56360" y="3870360"/>
            <a:ext cx="172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Take Stat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1006560" y="554688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Pick Gam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148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Assistant Basketball Coach (screen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1082520" y="5851440"/>
            <a:ext cx="4282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Review reports before printing the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000080" y="2971800"/>
            <a:ext cx="4352760" cy="2860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-1092240" y="7586640"/>
            <a:ext cx="2158920" cy="385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(click to contin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52840" y="4943520"/>
            <a:ext cx="4373640" cy="298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080040" y="440388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0e0e0"/>
                </a:solidFill>
                <a:latin typeface="Arial"/>
                <a:ea typeface="Arial"/>
              </a:rPr>
              <a:t>Draw Play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rick E. Husting</dc:creator>
  <dc:description/>
  <dc:language>en-US</dc:language>
  <cp:lastModifiedBy>Patrick E. Husting</cp:lastModifiedBy>
  <cp:revision>0</cp:revision>
  <dc:subject/>
  <dc:title>Assistant Basketball Coach</dc:title>
</cp:coreProperties>
</file>