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97040" cy="6553440"/>
            <a:chOff x="0" y="0"/>
            <a:chExt cx="8897040" cy="65534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534360" cy="6553440"/>
            </a:xfrm>
            <a:custGeom>
              <a:avLst/>
              <a:gdLst/>
              <a:ahLst/>
              <a:rect l="0" t="0" r="r" b="b"/>
              <a:pathLst>
                <a:path w="18151" h="18204">
                  <a:moveTo>
                    <a:pt x="18151" y="15981"/>
                  </a:moveTo>
                  <a:lnTo>
                    <a:pt x="2169" y="0"/>
                  </a:lnTo>
                  <a:lnTo>
                    <a:pt x="0" y="0"/>
                  </a:lnTo>
                  <a:lnTo>
                    <a:pt x="0" y="2275"/>
                  </a:lnTo>
                  <a:lnTo>
                    <a:pt x="15928" y="18204"/>
                  </a:lnTo>
                  <a:lnTo>
                    <a:pt x="18151" y="15981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14360" y="0"/>
              <a:ext cx="5810760" cy="5467680"/>
            </a:xfrm>
            <a:custGeom>
              <a:avLst/>
              <a:gdLst/>
              <a:ahLst/>
              <a:rect l="0" t="0" r="r" b="b"/>
              <a:pathLst>
                <a:path w="16141" h="15188">
                  <a:moveTo>
                    <a:pt x="1905" y="0"/>
                  </a:moveTo>
                  <a:lnTo>
                    <a:pt x="16141" y="14235"/>
                  </a:lnTo>
                  <a:lnTo>
                    <a:pt x="15189" y="15188"/>
                  </a:lnTo>
                  <a:lnTo>
                    <a:pt x="0" y="0"/>
                  </a:lnTo>
                  <a:lnTo>
                    <a:pt x="1905" y="0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48080" y="0"/>
              <a:ext cx="5029560" cy="4420080"/>
            </a:xfrm>
            <a:custGeom>
              <a:avLst/>
              <a:gdLst/>
              <a:ahLst/>
              <a:rect l="0" t="0" r="r" b="b"/>
              <a:pathLst>
                <a:path w="13971" h="12278">
                  <a:moveTo>
                    <a:pt x="3386" y="0"/>
                  </a:moveTo>
                  <a:lnTo>
                    <a:pt x="13971" y="10585"/>
                  </a:lnTo>
                  <a:lnTo>
                    <a:pt x="12277" y="12278"/>
                  </a:lnTo>
                  <a:lnTo>
                    <a:pt x="0" y="0"/>
                  </a:lnTo>
                  <a:lnTo>
                    <a:pt x="3386" y="0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96000" y="0"/>
              <a:ext cx="4001040" cy="3696120"/>
            </a:xfrm>
            <a:custGeom>
              <a:avLst/>
              <a:gdLst/>
              <a:ahLst/>
              <a:rect l="0" t="0" r="r" b="b"/>
              <a:pathLst>
                <a:path w="11114" h="10267">
                  <a:moveTo>
                    <a:pt x="0" y="0"/>
                  </a:moveTo>
                  <a:lnTo>
                    <a:pt x="10267" y="10267"/>
                  </a:lnTo>
                  <a:lnTo>
                    <a:pt x="11114" y="9421"/>
                  </a:lnTo>
                  <a:lnTo>
                    <a:pt x="16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BROWSE with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 Mat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, Matison Consulting Group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7 Dunblaine A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ronto, On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5M 2S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16)-256-44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p 10 deep space business rules continu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nidentified crewman always gets ki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ing can always get things done sooner than they say they 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judge anyone by their 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dly” is the only way to 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captain is the best job ther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integration with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Setup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dobrow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rest of screen code +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ure dob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inv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nowa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 for window - select h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 Cla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window is not acces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this clause you won’t be able to select the browse win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may be a desirable a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is acces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SCRN automatically creates a “READ MODAL WITH” stat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 only access the browse and the read win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integration with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a window for the brow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the browse specific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w window has the title of the table or one assigned by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it after the BROWSE is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NOWA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execution continues after the BROWSE com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the BROW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ROWSE window must be refreshed if you are moving the record pointer in a parent table such as an invoice 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gs r Us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s and display re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modal comes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Bugs r Us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we need to be concerned abou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 and deactivate cl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activate clause for the main window becomes the activate clause for the brow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control the behavior of our toolb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keyboard activity based on active wind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a foundation read handle this? No. Browse behavior is not the same as re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logic associated with objects within the screen s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828800"/>
            <a:ext cx="7162920" cy="45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ultiple windows the answ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preference is to attach the BROWSE to a form if pos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are confused with too many 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possible to create “natural looking” header and line item scre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your brow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/HIDE &lt;browse&gt; WINDOW in &lt;parent&gt;S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&lt;browse&gt; win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 by using invisible buttons or normal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to imp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exists within the parent win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logical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ble 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es it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the size of the current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a new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nowa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he defin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/ Vendor App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p for 4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Normal and 2 Browse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are viewing only one active brow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owse Activate/Deactiv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 want for Christ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ROWSE that has the same clauses as READ and behaves the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he program to know when a user selects a browse win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they be allowed to enter/ex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there other events associated with the BROW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Pictur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/Browse Semin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/Detail Sc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ice header and line i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ethod for creating multiple browse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, Deactivate, When, Val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 made brow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 include double line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e col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built in alternatives to the browse ex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 via Lists, Popups; Jim Booth Scrollable 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ow Pictur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BROWSE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new window beneath an existing BROW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 the current BROWSE in that win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the BROWSE and save the im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p for anything accessing that image in the foundation 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 activate and deactivate capabilities await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and BROWSE are easier to man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 requiremen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/Command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cy of action is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your users know what they can and can’t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what events are also possible during the brow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you know where the program will end up if the user clicks outside the browse win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may wish to disable menu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work in DOS &amp;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ry to 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positioning is slightly different than 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 are awkward to work with but can be mast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xPro 3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&amp; READ will behave the sam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I hop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OWSE - FoxPro’s Most Powerful Comm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: One line of code does all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list with paging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additional menu with seek, goto, app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and field level clauses , field forma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ttributes definable via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update via links to other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behavior; move, size, zoom, 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can be saved &amp; recalled via p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h and one more thing, it’s fa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owse with Rea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does not behave as a normal read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ither do memos, or popup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takes some planning to integrate the Browse and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strokes must be trapped, event termination and activation must be 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FoxPro nothing is impossible - Challenge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’s review our sample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gs r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 main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 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a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detail line i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 knows where I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stroke activity is tra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owse ba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a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window &lt; windowname&gt; takes on previous window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is browse name/title defin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alias/db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title cl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window that's been defi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dal Brow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do browmo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window lw_win title “Window” zoom grow float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window lw_win nowait title &lt;BROTITLE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key label esc clear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modal valid my_hand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ure my_handl releases the window, resets escape and returns .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key App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defined within a larger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EAD claus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ant to use the screen builder but no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rything I know about business I could have learned from star Tr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obey the prime directive - except of course when it gets in the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c is never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few conflicts can be settled with a pha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one can do warp 14. But they can’t keep it up very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atter how advanced we think we are, there's always someone who’s faster, stronger or sm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