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657440" y="912960"/>
            <a:ext cx="16344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720800" y="1630440"/>
            <a:ext cx="163440" cy="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3172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sual C++ Wizard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657440" y="912960"/>
            <a:ext cx="163440" cy="1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35160" y="689040"/>
            <a:ext cx="518328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KnowledgeSoft, In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Presents Soft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0"/>
            <a:ext cx="2286000" cy="198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642000" y="23760"/>
            <a:ext cx="2235240" cy="1987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516640" y="5164200"/>
            <a:ext cx="34894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ess Enter to Continue on each sl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ESC Key to canc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0000" y="4035600"/>
            <a:ext cx="3882960" cy="24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lide Show is de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give you a snap sh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iew of the SoftMate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e elimanted color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tmaps to make efficient .zip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wnload for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" y="442800"/>
            <a:ext cx="9097920" cy="6091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3211560" y="119160"/>
            <a:ext cx="2036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Initi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676840" y="2124000"/>
            <a:ext cx="3305520" cy="929160"/>
          </a:xfrm>
          <a:custGeom>
            <a:avLst/>
            <a:gdLst/>
            <a:ahLst/>
            <a:rect l="0" t="0" r="r" b="b"/>
            <a:pathLst>
              <a:path w="9182" h="2581">
                <a:moveTo>
                  <a:pt x="0" y="257"/>
                </a:moveTo>
                <a:lnTo>
                  <a:pt x="0" y="2065"/>
                </a:lnTo>
                <a:lnTo>
                  <a:pt x="918" y="2323"/>
                </a:lnTo>
                <a:lnTo>
                  <a:pt x="1836" y="2323"/>
                </a:lnTo>
                <a:lnTo>
                  <a:pt x="918" y="2581"/>
                </a:lnTo>
                <a:lnTo>
                  <a:pt x="2754" y="2323"/>
                </a:lnTo>
                <a:lnTo>
                  <a:pt x="8263" y="2323"/>
                </a:lnTo>
                <a:lnTo>
                  <a:pt x="9182" y="2065"/>
                </a:lnTo>
                <a:lnTo>
                  <a:pt x="9182" y="257"/>
                </a:lnTo>
                <a:lnTo>
                  <a:pt x="8263" y="0"/>
                </a:lnTo>
                <a:lnTo>
                  <a:pt x="918" y="0"/>
                </a:lnTo>
                <a:lnTo>
                  <a:pt x="0" y="25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891040" y="2165400"/>
            <a:ext cx="281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You can add initial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for each of your contr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351160" y="177840"/>
            <a:ext cx="60134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veloper can view applications created from on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lick on ICON representing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806400"/>
            <a:ext cx="908676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7991640" cy="658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83120" y="193680"/>
            <a:ext cx="4148280" cy="609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8360" y="4640400"/>
            <a:ext cx="4253040" cy="220500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73760" y="5175360"/>
            <a:ext cx="4059360" cy="96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fter Clicking on an ICON, you can view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dit the .CPP application and the .H file al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with inserting from Hundreds of Plug In Prebui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3140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398680" y="119160"/>
            <a:ext cx="261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rue Class Grid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35720" y="184320"/>
            <a:ext cx="3564360" cy="1786320"/>
          </a:xfrm>
          <a:custGeom>
            <a:avLst/>
            <a:gdLst/>
            <a:ahLst/>
            <a:rect l="0" t="0" r="r" b="b"/>
            <a:pathLst>
              <a:path w="9901" h="4962">
                <a:moveTo>
                  <a:pt x="0" y="496"/>
                </a:moveTo>
                <a:lnTo>
                  <a:pt x="0" y="3970"/>
                </a:lnTo>
                <a:lnTo>
                  <a:pt x="989" y="4466"/>
                </a:lnTo>
                <a:lnTo>
                  <a:pt x="1979" y="4466"/>
                </a:lnTo>
                <a:lnTo>
                  <a:pt x="989" y="4962"/>
                </a:lnTo>
                <a:lnTo>
                  <a:pt x="2970" y="4466"/>
                </a:lnTo>
                <a:lnTo>
                  <a:pt x="8911" y="4466"/>
                </a:lnTo>
                <a:lnTo>
                  <a:pt x="9901" y="3970"/>
                </a:lnTo>
                <a:lnTo>
                  <a:pt x="9901" y="496"/>
                </a:lnTo>
                <a:lnTo>
                  <a:pt x="8911" y="0"/>
                </a:lnTo>
                <a:lnTo>
                  <a:pt x="989" y="0"/>
                </a:lnTo>
                <a:lnTo>
                  <a:pt x="0" y="49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843520" y="330120"/>
            <a:ext cx="2892600" cy="17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the number of rows on a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names to bind fr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Headings of the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Fiel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Browse for complete ODBC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35800" y="5522760"/>
            <a:ext cx="2517840" cy="115092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573960" y="5516640"/>
            <a:ext cx="2482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Check Retrieve on Open to 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Grid on open of Dialog. 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SQL Select, Update, Delete But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for SQL command Push Butt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Check Filter/Sort for Filter/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Added Toolbar for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4440" y="6356520"/>
            <a:ext cx="5173560" cy="37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6200" y="6397560"/>
            <a:ext cx="50468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Use the SoftMate Grid Plug In Functions to quickly  develop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3320" y="88920"/>
            <a:ext cx="2104920" cy="9288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4760" y="95400"/>
            <a:ext cx="2163600" cy="82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Grid is created with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First, Last, Next, Prior, 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and Delete Push Button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Navigate through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24000" y="141120"/>
            <a:ext cx="1847880" cy="105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203720" y="-182520"/>
            <a:ext cx="3206880" cy="704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Hundreds of Plug I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alend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 - Month - Year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Valid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Year  a Leap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 Days Af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y After DOS Pro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 Date to a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, Day, Year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Calendar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DOS and X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File, Delete File, ExistsFi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of File, Open File, Read a Fi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To File, Writ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On-Line Windows Hel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Keywo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Mes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iscellano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lute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us Va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 Up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uare Ro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a String toClip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 String From Clipbo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-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an Ex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b7a5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w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B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K_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Key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354720" y="457200"/>
            <a:ext cx="274464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ist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Elements, Clear Element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Elements to a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 Elements, Directory, Find Item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an Item, Start of Selectio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Selection, IsItem Selecte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Items, Insert an I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I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ni Value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ni Value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Ini Value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Ini Value Nu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MANIPULATE                         G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                                 Protect Cel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Number          Protect Colum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Number        Protect a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ate                Highlight &amp; Selec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 a Date             Scroll To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Month a Date             Insert A Row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Time               Get Cell Val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ecimal          Delete a 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mal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to Dat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a Date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pYear 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to 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Time toSt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tring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nd  more. . . . .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6560" y="1111320"/>
            <a:ext cx="239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5080" y="1566720"/>
            <a:ext cx="2210040" cy="0"/>
          </a:xfrm>
          <a:prstGeom prst="line">
            <a:avLst/>
          </a:prstGeom>
          <a:ln w="2556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27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ue Class Grid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DBC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X Control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lug in functions to in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95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 and CompuServe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0" y="76320"/>
            <a:ext cx="88581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SoftMate From KnowledgeSo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93760" y="1147680"/>
            <a:ext cx="6400800" cy="13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Viewing our Snap Shot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33680" y="4610160"/>
            <a:ext cx="6546960" cy="21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Order SoftMate: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ll 708-637-13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KnowledgeSoft, Inc.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ax  708-637-13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.O. Box 43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aperville, IL 605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duct price $195.00.   True Class Grid is an additional  $9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92200" y="2543040"/>
            <a:ext cx="7077240" cy="24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you’ll find at KnowledgeSoft is a real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answering the needs of today’s developers.  We 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make Native MS-Visual C++ as easy to use as any 4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or 3GL solution on the market today.  Painlessly, let Soft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show you how with real source code that’s yours!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 tool to learn from and use everyda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14680" y="2664000"/>
            <a:ext cx="5784840" cy="2774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1371600" y="476280"/>
            <a:ext cx="77598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ickly Create State of the Art MFC  Windows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t’s easy when you know h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9200" y="3498840"/>
            <a:ext cx="4156200" cy="2928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87480" y="3825720"/>
            <a:ext cx="5580000" cy="2570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616120" y="3251160"/>
            <a:ext cx="2673360" cy="272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349800" y="4016520"/>
            <a:ext cx="499104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77800" y="525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k down the learning cur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03280" y="1285920"/>
            <a:ext cx="777240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controls and bind to any ODB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SQ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Events, Edit Masks  and Initial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dditional Custom Controls (11) including True Class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ew Applications with project represented as I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Plug In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new project file in Native MS-Visual C++ and your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98600" y="3978360"/>
            <a:ext cx="703404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51000" y="1082520"/>
            <a:ext cx="5549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zard builds a dialog within a MDI Frame.  Dia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tains standard controls as well as cust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at can be binded to multiple ODBC record se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0400" y="277920"/>
            <a:ext cx="68104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the Need to Quickly Expand Knowle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6600" y="2306520"/>
            <a:ext cx="2460600" cy="288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712960" y="1843200"/>
            <a:ext cx="637056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diate Understa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Navigation of MF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to look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more with Less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Microsoft Visual C++ 1.51 - 4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hird party libraries to buy 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092400" y="0"/>
            <a:ext cx="1989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ill in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01680"/>
            <a:ext cx="9131400" cy="6254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91280" y="2019240"/>
            <a:ext cx="2787480" cy="257508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208560" y="2170080"/>
            <a:ext cx="286704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Title Bar Descri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Project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elect Application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Splash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Bitmap Backgr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n Dial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ptional Window Bitma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Background on MDI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ain Dialog is displayed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n start-up or displayed from 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nu bar o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360" y="3852720"/>
            <a:ext cx="2787480" cy="1892160"/>
          </a:xfrm>
          <a:prstGeom prst="rect">
            <a:avLst/>
          </a:pr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7520" y="3921120"/>
            <a:ext cx="279576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pplication Ty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Visual for custom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tandard Controls, 11 Cust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Controls, including a Tr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Class Grid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919191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Detail Report, Labels 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Animation are separa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   </a:t>
            </a: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Generation  op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95280"/>
            <a:ext cx="9131400" cy="64501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092400" y="119160"/>
            <a:ext cx="2678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lect Standar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88160" y="30240"/>
            <a:ext cx="3081600" cy="1929240"/>
          </a:xfrm>
          <a:custGeom>
            <a:avLst/>
            <a:gdLst/>
            <a:ahLst/>
            <a:rect l="0" t="0" r="r" b="b"/>
            <a:pathLst>
              <a:path w="8560" h="5359">
                <a:moveTo>
                  <a:pt x="0" y="535"/>
                </a:moveTo>
                <a:lnTo>
                  <a:pt x="0" y="4288"/>
                </a:lnTo>
                <a:lnTo>
                  <a:pt x="855" y="4824"/>
                </a:lnTo>
                <a:lnTo>
                  <a:pt x="1711" y="4824"/>
                </a:lnTo>
                <a:lnTo>
                  <a:pt x="855" y="5359"/>
                </a:lnTo>
                <a:lnTo>
                  <a:pt x="2567" y="4824"/>
                </a:lnTo>
                <a:lnTo>
                  <a:pt x="7704" y="4824"/>
                </a:lnTo>
                <a:lnTo>
                  <a:pt x="8560" y="4288"/>
                </a:lnTo>
                <a:lnTo>
                  <a:pt x="8560" y="535"/>
                </a:lnTo>
                <a:lnTo>
                  <a:pt x="7704" y="0"/>
                </a:lnTo>
                <a:lnTo>
                  <a:pt x="855" y="0"/>
                </a:lnTo>
                <a:lnTo>
                  <a:pt x="0" y="53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89760" y="93600"/>
            <a:ext cx="279396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Select Control Typ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Enter Control ID &amp; Resource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ember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Table Field to Bind 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1400" spc="-1" strike="noStrike">
                <a:solidFill>
                  <a:srgbClr val="919191"/>
                </a:solidFill>
                <a:latin typeface="Book Antiqua"/>
                <a:ea typeface="Book Antiqua"/>
              </a:rPr>
              <a:t>Min and Max Range for Lo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24360" y="6060960"/>
            <a:ext cx="3211560" cy="671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715000" y="6149880"/>
            <a:ext cx="324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ODBC Browse Button Pulls in all your 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information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480" y="560520"/>
            <a:ext cx="9097920" cy="6219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3092400" y="119160"/>
            <a:ext cx="2678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lect Standard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26080" y="2782800"/>
            <a:ext cx="4243680" cy="2683080"/>
          </a:xfrm>
          <a:custGeom>
            <a:avLst/>
            <a:gdLst/>
            <a:ahLst/>
            <a:rect l="0" t="0" r="r" b="b"/>
            <a:pathLst>
              <a:path w="11788" h="7453">
                <a:moveTo>
                  <a:pt x="0" y="745"/>
                </a:moveTo>
                <a:lnTo>
                  <a:pt x="0" y="5962"/>
                </a:lnTo>
                <a:lnTo>
                  <a:pt x="1178" y="6708"/>
                </a:lnTo>
                <a:lnTo>
                  <a:pt x="2357" y="6708"/>
                </a:lnTo>
                <a:lnTo>
                  <a:pt x="1178" y="7453"/>
                </a:lnTo>
                <a:lnTo>
                  <a:pt x="3536" y="6708"/>
                </a:lnTo>
                <a:lnTo>
                  <a:pt x="10609" y="6708"/>
                </a:lnTo>
                <a:lnTo>
                  <a:pt x="11788" y="5962"/>
                </a:lnTo>
                <a:lnTo>
                  <a:pt x="11788" y="745"/>
                </a:lnTo>
                <a:lnTo>
                  <a:pt x="10609" y="0"/>
                </a:lnTo>
                <a:lnTo>
                  <a:pt x="1178" y="0"/>
                </a:lnTo>
                <a:lnTo>
                  <a:pt x="0" y="74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95720" y="3105000"/>
            <a:ext cx="3855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heck SQL Command Buttons.  Checked  Buttons create associated SQL Select, Update, Delete 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Buttons on the main Dialog</a:t>
            </a:r>
            <a:r>
              <a:rPr b="0" lang="en-US" sz="1200" spc="-1" strike="noStrike">
                <a:solidFill>
                  <a:srgbClr val="919191"/>
                </a:solidFill>
                <a:latin typeface="Book Antiqua"/>
                <a:ea typeface="Book Antiqu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430200"/>
            <a:ext cx="9131400" cy="6384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398680" y="119160"/>
            <a:ext cx="3587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Additional Custom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77000" y="2724120"/>
            <a:ext cx="2975400" cy="2540520"/>
          </a:xfrm>
          <a:custGeom>
            <a:avLst/>
            <a:gdLst/>
            <a:ahLst/>
            <a:rect l="0" t="0" r="r" b="b"/>
            <a:pathLst>
              <a:path w="8265" h="7057">
                <a:moveTo>
                  <a:pt x="0" y="705"/>
                </a:moveTo>
                <a:lnTo>
                  <a:pt x="0" y="5646"/>
                </a:lnTo>
                <a:lnTo>
                  <a:pt x="826" y="6352"/>
                </a:lnTo>
                <a:lnTo>
                  <a:pt x="1652" y="6352"/>
                </a:lnTo>
                <a:lnTo>
                  <a:pt x="826" y="7057"/>
                </a:lnTo>
                <a:lnTo>
                  <a:pt x="2480" y="6352"/>
                </a:lnTo>
                <a:lnTo>
                  <a:pt x="7439" y="6352"/>
                </a:lnTo>
                <a:lnTo>
                  <a:pt x="8265" y="5646"/>
                </a:lnTo>
                <a:lnTo>
                  <a:pt x="8265" y="705"/>
                </a:lnTo>
                <a:lnTo>
                  <a:pt x="7439" y="0"/>
                </a:lnTo>
                <a:lnTo>
                  <a:pt x="826" y="0"/>
                </a:lnTo>
                <a:lnTo>
                  <a:pt x="0" y="70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85000" y="3259080"/>
            <a:ext cx="2798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lick on a desired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control to add on to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dial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01480"/>
            <a:ext cx="9131400" cy="6343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398680" y="119160"/>
            <a:ext cx="3230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 Initial Values to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75440" y="1935000"/>
            <a:ext cx="2529360" cy="1916640"/>
          </a:xfrm>
          <a:custGeom>
            <a:avLst/>
            <a:gdLst/>
            <a:ahLst/>
            <a:rect l="0" t="0" r="r" b="b"/>
            <a:pathLst>
              <a:path w="7026" h="5324">
                <a:moveTo>
                  <a:pt x="0" y="532"/>
                </a:moveTo>
                <a:lnTo>
                  <a:pt x="0" y="4260"/>
                </a:lnTo>
                <a:lnTo>
                  <a:pt x="702" y="4792"/>
                </a:lnTo>
                <a:lnTo>
                  <a:pt x="1404" y="4792"/>
                </a:lnTo>
                <a:lnTo>
                  <a:pt x="702" y="5324"/>
                </a:lnTo>
                <a:lnTo>
                  <a:pt x="2108" y="4792"/>
                </a:lnTo>
                <a:lnTo>
                  <a:pt x="6324" y="4792"/>
                </a:lnTo>
                <a:lnTo>
                  <a:pt x="7026" y="4260"/>
                </a:lnTo>
                <a:lnTo>
                  <a:pt x="7026" y="532"/>
                </a:lnTo>
                <a:lnTo>
                  <a:pt x="6324" y="0"/>
                </a:lnTo>
                <a:lnTo>
                  <a:pt x="702" y="0"/>
                </a:lnTo>
                <a:lnTo>
                  <a:pt x="0" y="5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583240" y="2028960"/>
            <a:ext cx="19368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For each contro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You can enter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initial value 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919191"/>
                </a:solidFill>
                <a:latin typeface="Book Antiqua"/>
                <a:ea typeface="Book Antiqua"/>
              </a:rPr>
              <a:t>displa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homas Feldmeier</dc:creator>
  <dc:description/>
  <dc:language>en-US</dc:language>
  <cp:lastModifiedBy>Thomas Feldmeier</cp:lastModifiedBy>
  <cp:revision>0</cp:revision>
  <dc:subject/>
  <dc:title>Visual C++ Wizard Generation</dc:title>
</cp:coreProperties>
</file>