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52440" y="453960"/>
            <a:ext cx="8255160" cy="969840"/>
            <a:chOff x="352440" y="453960"/>
            <a:chExt cx="8255160" cy="969840"/>
          </a:xfrm>
        </p:grpSpPr>
        <p:sp>
          <p:nvSpPr>
            <p:cNvPr id="1" name=""/>
            <p:cNvSpPr/>
            <p:nvPr/>
          </p:nvSpPr>
          <p:spPr>
            <a:xfrm>
              <a:off x="1276200" y="1263600"/>
              <a:ext cx="73314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352440" y="453960"/>
              <a:ext cx="882720" cy="969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"/>
          <p:cNvSpPr/>
          <p:nvPr/>
        </p:nvSpPr>
        <p:spPr>
          <a:xfrm>
            <a:off x="0" y="0"/>
            <a:ext cx="9131400" cy="6845400"/>
          </a:xfrm>
          <a:prstGeom prst="rect">
            <a:avLst/>
          </a:prstGeom>
          <a:noFill/>
          <a:ln w="25560">
            <a:solidFill>
              <a:srgbClr val="ffffff"/>
            </a:solidFill>
            <a:round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 txBox="1"/>
          <p:nvPr/>
        </p:nvSpPr>
        <p:spPr>
          <a:xfrm>
            <a:off x="7257960" y="95400"/>
            <a:ext cx="1628640" cy="2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devcon94   09/26/94    </a:t>
            </a:r>
            <a:fld id="{E4458735-9E2A-4996-9BBE-009CC754B55E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85800" y="2603520"/>
            <a:ext cx="7772400" cy="5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i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Mail Enabling Desktop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096920" y="3657600"/>
            <a:ext cx="7178760" cy="27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85000"/>
              </a:lnSpc>
              <a:spcBef>
                <a:spcPts val="839"/>
              </a:spcBef>
              <a:spcAft>
                <a:spcPts val="241"/>
              </a:spcAft>
              <a:tabLst>
                <a:tab algn="l" pos="1085760"/>
                <a:tab algn="l" pos="4286160"/>
                <a:tab algn="l" pos="45147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all Banyan Developer Conference 1994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85000"/>
              </a:lnSpc>
              <a:spcBef>
                <a:spcPts val="839"/>
              </a:spcBef>
              <a:spcAft>
                <a:spcPts val="241"/>
              </a:spcAft>
              <a:tabLst>
                <a:tab algn="l" pos="1085760"/>
                <a:tab algn="l" pos="4286160"/>
                <a:tab algn="l" pos="45147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85000"/>
              </a:lnSpc>
              <a:spcBef>
                <a:spcPts val="839"/>
              </a:spcBef>
              <a:spcAft>
                <a:spcPts val="241"/>
              </a:spcAft>
              <a:tabLst>
                <a:tab algn="l" pos="1085760"/>
                <a:tab algn="l" pos="4286160"/>
                <a:tab algn="l" pos="45147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85000"/>
              </a:lnSpc>
              <a:spcAft>
                <a:spcPts val="241"/>
              </a:spcAft>
              <a:tabLst>
                <a:tab algn="l" pos="1085760"/>
                <a:tab algn="l" pos="4286160"/>
                <a:tab algn="l" pos="45147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even Soh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85000"/>
              </a:lnSpc>
              <a:spcAft>
                <a:spcPts val="241"/>
              </a:spcAft>
              <a:tabLst>
                <a:tab algn="l" pos="1085760"/>
                <a:tab algn="l" pos="4286160"/>
                <a:tab algn="l" pos="45147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nager, Messaging Partn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85000"/>
              </a:lnSpc>
              <a:spcAft>
                <a:spcPts val="241"/>
              </a:spcAft>
              <a:tabLst>
                <a:tab algn="l" pos="1085760"/>
                <a:tab algn="l" pos="4286160"/>
                <a:tab algn="l" pos="45147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anyan Systems Incorpor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243080" y="712800"/>
            <a:ext cx="7686720" cy="5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i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Sub-Classing SendMail</a:t>
            </a:r>
            <a:r>
              <a:rPr b="1" i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6120" y="3035160"/>
            <a:ext cx="1105200" cy="889200"/>
          </a:xfrm>
          <a:custGeom>
            <a:avLst/>
            <a:gdLst/>
            <a:ahLst/>
            <a:rect l="0" t="0" r="r" b="b"/>
            <a:pathLst>
              <a:path fill="none" w="3070" h="2470">
                <a:moveTo>
                  <a:pt x="1534" y="0"/>
                </a:moveTo>
                <a:lnTo>
                  <a:pt x="1689" y="706"/>
                </a:lnTo>
                <a:lnTo>
                  <a:pt x="2292" y="172"/>
                </a:lnTo>
                <a:lnTo>
                  <a:pt x="2014" y="844"/>
                </a:lnTo>
                <a:lnTo>
                  <a:pt x="2870" y="619"/>
                </a:lnTo>
                <a:lnTo>
                  <a:pt x="2206" y="1102"/>
                </a:lnTo>
                <a:lnTo>
                  <a:pt x="3070" y="1234"/>
                </a:lnTo>
                <a:lnTo>
                  <a:pt x="2206" y="1367"/>
                </a:lnTo>
                <a:lnTo>
                  <a:pt x="2870" y="1853"/>
                </a:lnTo>
                <a:lnTo>
                  <a:pt x="2013" y="1644"/>
                </a:lnTo>
                <a:lnTo>
                  <a:pt x="2292" y="2309"/>
                </a:lnTo>
                <a:lnTo>
                  <a:pt x="1713" y="1775"/>
                </a:lnTo>
                <a:lnTo>
                  <a:pt x="1519" y="2470"/>
                </a:lnTo>
                <a:lnTo>
                  <a:pt x="1350" y="1775"/>
                </a:lnTo>
                <a:lnTo>
                  <a:pt x="770" y="2309"/>
                </a:lnTo>
                <a:lnTo>
                  <a:pt x="1049" y="1637"/>
                </a:lnTo>
                <a:lnTo>
                  <a:pt x="193" y="1861"/>
                </a:lnTo>
                <a:lnTo>
                  <a:pt x="856" y="1378"/>
                </a:lnTo>
                <a:lnTo>
                  <a:pt x="0" y="1240"/>
                </a:lnTo>
                <a:lnTo>
                  <a:pt x="856" y="1102"/>
                </a:lnTo>
                <a:lnTo>
                  <a:pt x="193" y="620"/>
                </a:lnTo>
                <a:lnTo>
                  <a:pt x="1049" y="844"/>
                </a:lnTo>
                <a:lnTo>
                  <a:pt x="770" y="170"/>
                </a:lnTo>
                <a:lnTo>
                  <a:pt x="1348" y="706"/>
                </a:lnTo>
                <a:lnTo>
                  <a:pt x="1534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212760" y="1727280"/>
            <a:ext cx="8918640" cy="4140360"/>
            <a:chOff x="212760" y="1727280"/>
            <a:chExt cx="8918640" cy="4140360"/>
          </a:xfrm>
        </p:grpSpPr>
        <p:sp>
          <p:nvSpPr>
            <p:cNvPr id="72" name=""/>
            <p:cNvSpPr txBox="1"/>
            <p:nvPr/>
          </p:nvSpPr>
          <p:spPr>
            <a:xfrm>
              <a:off x="212760" y="1727280"/>
              <a:ext cx="8918640" cy="4140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85000"/>
                </a:lnSpc>
                <a:spcBef>
                  <a:spcPts val="479"/>
                </a:spcBef>
                <a:spcAft>
                  <a:spcPts val="479"/>
                </a:spcAft>
                <a:buClr>
                  <a:srgbClr val="fafd00"/>
                </a:buClr>
                <a:buSzPct val="125000"/>
                <a:buFont typeface="Arial"/>
                <a:buChar char=""/>
                <a:tabLst>
                  <a:tab algn="l" pos="1085760"/>
                  <a:tab algn="l" pos="4286160"/>
                  <a:tab algn="l" pos="451476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SendMail has two additional API calls for sub-classing. 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Note the “H” API version includes an new argument for a window handle: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>
                <a:lnSpc>
                  <a:spcPct val="85000"/>
                </a:lnSpc>
                <a:spcBef>
                  <a:spcPts val="479"/>
                </a:spcBef>
                <a:spcAft>
                  <a:spcPts val="479"/>
                </a:spcAft>
                <a:tabLst>
                  <a:tab algn="l" pos="1085760"/>
                  <a:tab algn="l" pos="4286160"/>
                  <a:tab algn="l" pos="45147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>
                <a:lnSpc>
                  <a:spcPct val="85000"/>
                </a:lnSpc>
                <a:spcBef>
                  <a:spcPts val="479"/>
                </a:spcBef>
                <a:spcAft>
                  <a:spcPts val="479"/>
                </a:spcAft>
                <a:tabLst>
                  <a:tab algn="l" pos="1085760"/>
                  <a:tab algn="l" pos="4286160"/>
                  <a:tab algn="l" pos="4514760"/>
                </a:tabLst>
              </a:pPr>
              <a:r>
                <a:rPr b="1" i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CallStatus VnsSimpleSendMail</a:t>
              </a:r>
              <a:r>
                <a:rPr b="1" i="1" lang="en-US" sz="3200" spc="-1" strike="noStrike">
                  <a:solidFill>
                    <a:srgbClr val="fe9b03"/>
                  </a:solidFill>
                  <a:latin typeface="Arial"/>
                  <a:ea typeface="Arial"/>
                </a:rPr>
                <a:t>H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>
                <a:lnSpc>
                  <a:spcPct val="85000"/>
                </a:lnSpc>
                <a:spcBef>
                  <a:spcPts val="479"/>
                </a:spcBef>
                <a:spcAft>
                  <a:spcPts val="479"/>
                </a:spcAft>
                <a:tabLst>
                  <a:tab algn="l" pos="1085760"/>
                  <a:tab algn="l" pos="4286160"/>
                  <a:tab algn="l" pos="4514760"/>
                </a:tabLst>
              </a:pPr>
              <a:r>
                <a:rPr b="1" i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(</a:t>
              </a:r>
              <a:r>
                <a:rPr b="1" i="1" lang="en-US" sz="2000" spc="-1" strike="noStrike">
                  <a:solidFill>
                    <a:srgbClr val="fc0128"/>
                  </a:solidFill>
                  <a:latin typeface="Arial"/>
                  <a:ea typeface="Arial"/>
                </a:rPr>
                <a:t>HWND hWnd,</a:t>
              </a:r>
              <a:r>
                <a:rPr b="1" i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1" i="1" lang="en-US" sz="2000" spc="-1" strike="noStrike">
                  <a:solidFill>
                    <a:srgbClr val="fc0128"/>
                  </a:solidFill>
                  <a:latin typeface="Arial"/>
                  <a:ea typeface="Arial"/>
                </a:rPr>
                <a:t>LPSTR lpFileName </a:t>
              </a:r>
              <a:r>
                <a:rPr b="1" i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);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>
                <a:lnSpc>
                  <a:spcPct val="85000"/>
                </a:lnSpc>
                <a:spcBef>
                  <a:spcPts val="479"/>
                </a:spcBef>
                <a:spcAft>
                  <a:spcPts val="479"/>
                </a:spcAft>
                <a:tabLst>
                  <a:tab algn="l" pos="1085760"/>
                  <a:tab algn="l" pos="4286160"/>
                  <a:tab algn="l" pos="451476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>
                <a:lnSpc>
                  <a:spcPct val="85000"/>
                </a:lnSpc>
                <a:spcBef>
                  <a:spcPts val="479"/>
                </a:spcBef>
                <a:spcAft>
                  <a:spcPts val="479"/>
                </a:spcAft>
                <a:tabLst>
                  <a:tab algn="l" pos="1085760"/>
                  <a:tab algn="l" pos="4286160"/>
                  <a:tab algn="l" pos="4514760"/>
                </a:tabLst>
              </a:pPr>
              <a:r>
                <a:rPr b="1" i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CallStatus VnsSimpleSendMailEx</a:t>
              </a:r>
              <a:r>
                <a:rPr b="1" i="1" lang="en-US" sz="3200" spc="-1" strike="noStrike">
                  <a:solidFill>
                    <a:srgbClr val="fe9b03"/>
                  </a:solidFill>
                  <a:latin typeface="Arial"/>
                  <a:ea typeface="Arial"/>
                </a:rPr>
                <a:t>H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>
                <a:lnSpc>
                  <a:spcPct val="85000"/>
                </a:lnSpc>
                <a:spcBef>
                  <a:spcPts val="479"/>
                </a:spcBef>
                <a:spcAft>
                  <a:spcPts val="479"/>
                </a:spcAft>
                <a:tabLst>
                  <a:tab algn="l" pos="1085760"/>
                  <a:tab algn="l" pos="4286160"/>
                  <a:tab algn="l" pos="451476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(</a:t>
              </a:r>
              <a:r>
                <a:rPr b="1" i="1" lang="en-US" sz="2000" spc="-1" strike="noStrike">
                  <a:solidFill>
                    <a:srgbClr val="fc0128"/>
                  </a:solidFill>
                  <a:latin typeface="Arial"/>
                  <a:ea typeface="Arial"/>
                </a:rPr>
                <a:t>HWND hWnd,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1" i="1" lang="en-US" sz="2000" spc="-1" strike="noStrike">
                  <a:solidFill>
                    <a:srgbClr val="fc0128"/>
                  </a:solidFill>
                  <a:latin typeface="Arial"/>
                  <a:ea typeface="Arial"/>
                </a:rPr>
                <a:t>LPBODY_PIECES lpBodyPieces, LPSTR lpRecips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);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079960" y="4635360"/>
              <a:ext cx="1105200" cy="889200"/>
            </a:xfrm>
            <a:custGeom>
              <a:avLst/>
              <a:gdLst/>
              <a:ahLst/>
              <a:rect l="0" t="0" r="r" b="b"/>
              <a:pathLst>
                <a:path fill="none" w="3070" h="2470">
                  <a:moveTo>
                    <a:pt x="1534" y="0"/>
                  </a:moveTo>
                  <a:lnTo>
                    <a:pt x="1689" y="706"/>
                  </a:lnTo>
                  <a:lnTo>
                    <a:pt x="2292" y="172"/>
                  </a:lnTo>
                  <a:lnTo>
                    <a:pt x="2014" y="844"/>
                  </a:lnTo>
                  <a:lnTo>
                    <a:pt x="2870" y="619"/>
                  </a:lnTo>
                  <a:lnTo>
                    <a:pt x="2206" y="1102"/>
                  </a:lnTo>
                  <a:lnTo>
                    <a:pt x="3070" y="1234"/>
                  </a:lnTo>
                  <a:lnTo>
                    <a:pt x="2206" y="1367"/>
                  </a:lnTo>
                  <a:lnTo>
                    <a:pt x="2870" y="1853"/>
                  </a:lnTo>
                  <a:lnTo>
                    <a:pt x="2013" y="1644"/>
                  </a:lnTo>
                  <a:lnTo>
                    <a:pt x="2292" y="2309"/>
                  </a:lnTo>
                  <a:lnTo>
                    <a:pt x="1713" y="1775"/>
                  </a:lnTo>
                  <a:lnTo>
                    <a:pt x="1519" y="2470"/>
                  </a:lnTo>
                  <a:lnTo>
                    <a:pt x="1350" y="1775"/>
                  </a:lnTo>
                  <a:lnTo>
                    <a:pt x="770" y="2309"/>
                  </a:lnTo>
                  <a:lnTo>
                    <a:pt x="1049" y="1637"/>
                  </a:lnTo>
                  <a:lnTo>
                    <a:pt x="193" y="1861"/>
                  </a:lnTo>
                  <a:lnTo>
                    <a:pt x="856" y="1378"/>
                  </a:lnTo>
                  <a:lnTo>
                    <a:pt x="0" y="1240"/>
                  </a:lnTo>
                  <a:lnTo>
                    <a:pt x="856" y="1102"/>
                  </a:lnTo>
                  <a:lnTo>
                    <a:pt x="193" y="620"/>
                  </a:lnTo>
                  <a:lnTo>
                    <a:pt x="1049" y="844"/>
                  </a:lnTo>
                  <a:lnTo>
                    <a:pt x="770" y="170"/>
                  </a:lnTo>
                  <a:lnTo>
                    <a:pt x="1348" y="706"/>
                  </a:lnTo>
                  <a:lnTo>
                    <a:pt x="1534" y="0"/>
                  </a:lnTo>
                </a:path>
              </a:pathLst>
            </a:custGeom>
            <a:ln w="12600">
              <a:solidFill>
                <a:srgbClr val="ffffff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150920" y="885960"/>
            <a:ext cx="7870680" cy="5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i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Architecture of Message structure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74520" y="1909800"/>
            <a:ext cx="9010800" cy="40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85000"/>
              </a:lnSpc>
              <a:spcBef>
                <a:spcPts val="1559"/>
              </a:spcBef>
              <a:spcAft>
                <a:spcPts val="479"/>
              </a:spcAft>
              <a:buClr>
                <a:srgbClr val="fafd00"/>
              </a:buClr>
              <a:buSzPct val="125000"/>
              <a:buFont typeface="Arial"/>
              <a:buChar char=""/>
              <a:tabLst>
                <a:tab algn="l" pos="1085760"/>
                <a:tab algn="l" pos="4286160"/>
                <a:tab algn="l" pos="45147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message structure has the following developer-controlled component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buClr>
                <a:srgbClr val="ffffff"/>
              </a:buClr>
              <a:buFont typeface="Arial"/>
              <a:buChar char="-"/>
              <a:tabLst>
                <a:tab algn="l" pos="743040"/>
                <a:tab algn="l" pos="3943440"/>
                <a:tab algn="l" pos="41720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iority fla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buClr>
                <a:srgbClr val="ffffff"/>
              </a:buClr>
              <a:buFont typeface="Arial"/>
              <a:buChar char="-"/>
              <a:tabLst>
                <a:tab algn="l" pos="743040"/>
                <a:tab algn="l" pos="3943440"/>
                <a:tab algn="l" pos="41720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ertification fla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buClr>
                <a:srgbClr val="ffffff"/>
              </a:buClr>
              <a:buFont typeface="Arial"/>
              <a:buChar char="-"/>
              <a:tabLst>
                <a:tab algn="l" pos="743040"/>
                <a:tab algn="l" pos="3943440"/>
                <a:tab algn="l" pos="41720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ject tex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buClr>
                <a:srgbClr val="ffffff"/>
              </a:buClr>
              <a:buFont typeface="Arial"/>
              <a:buChar char="-"/>
              <a:tabLst>
                <a:tab algn="l" pos="743040"/>
                <a:tab algn="l" pos="3943440"/>
                <a:tab algn="l" pos="41720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essage tex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buClr>
                <a:srgbClr val="ffffff"/>
              </a:buClr>
              <a:buFont typeface="Arial"/>
              <a:buChar char="-"/>
              <a:tabLst>
                <a:tab algn="l" pos="743040"/>
                <a:tab algn="l" pos="3943440"/>
                <a:tab algn="l" pos="41720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older placement after send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buClr>
                <a:srgbClr val="ffffff"/>
              </a:buClr>
              <a:buFont typeface="Arial"/>
              <a:buChar char="-"/>
              <a:tabLst>
                <a:tab algn="l" pos="743040"/>
                <a:tab algn="l" pos="3943440"/>
                <a:tab algn="l" pos="41720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umber of attach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buClr>
                <a:srgbClr val="ffffff"/>
              </a:buClr>
              <a:buFont typeface="Arial"/>
              <a:buChar char="-"/>
              <a:tabLst>
                <a:tab algn="l" pos="743040"/>
                <a:tab algn="l" pos="3943440"/>
                <a:tab algn="l" pos="41720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ddress str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243080" y="839880"/>
            <a:ext cx="7686720" cy="5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i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Addressing for “Flexible” AP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1770120" y="4708440"/>
            <a:ext cx="6116760" cy="16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85000"/>
              </a:lnSpc>
              <a:spcBef>
                <a:spcPts val="1559"/>
              </a:spcBef>
              <a:spcAft>
                <a:spcPts val="479"/>
              </a:spcAft>
              <a:buClr>
                <a:srgbClr val="fafd00"/>
              </a:buClr>
              <a:buSzPct val="125000"/>
              <a:buFont typeface="Arial"/>
              <a:buChar char=""/>
              <a:tabLst>
                <a:tab algn="l" pos="1085760"/>
                <a:tab algn="l" pos="4286160"/>
                <a:tab algn="l" pos="45147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developer is responsible for all addressing if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lpRecip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s not NU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1559"/>
              </a:spcBef>
              <a:spcAft>
                <a:spcPts val="479"/>
              </a:spcAft>
              <a:buClr>
                <a:srgbClr val="fafd00"/>
              </a:buClr>
              <a:buSzPct val="125000"/>
              <a:buFont typeface="Arial"/>
              <a:buChar char=""/>
              <a:tabLst>
                <a:tab algn="l" pos="1085760"/>
                <a:tab algn="l" pos="4286160"/>
                <a:tab algn="l" pos="45147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f NULL, this intermediate dialog will appear for name selection only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332080" y="1881360"/>
            <a:ext cx="4745160" cy="19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1243080" y="728640"/>
            <a:ext cx="8255160" cy="5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i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More About VnsSimpleSendMailEx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76320" y="1832040"/>
            <a:ext cx="8918640" cy="421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85000"/>
              </a:lnSpc>
              <a:spcBef>
                <a:spcPts val="1800"/>
              </a:spcBef>
              <a:spcAft>
                <a:spcPts val="479"/>
              </a:spcAft>
              <a:buClr>
                <a:srgbClr val="fafd00"/>
              </a:buClr>
              <a:buSzPct val="125000"/>
              <a:buFont typeface="Arial"/>
              <a:buChar char=""/>
              <a:tabLst>
                <a:tab algn="l" pos="1085760"/>
                <a:tab algn="l" pos="4286160"/>
                <a:tab algn="l" pos="451476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VnsSimpleSendMailEx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allows developers to use their own front end or form instead of using the built-in one provid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1800"/>
              </a:spcBef>
              <a:spcAft>
                <a:spcPts val="479"/>
              </a:spcAft>
              <a:buClr>
                <a:srgbClr val="fafd00"/>
              </a:buClr>
              <a:buSzPct val="125000"/>
              <a:buFont typeface="Arial"/>
              <a:buChar char=""/>
              <a:tabLst>
                <a:tab algn="l" pos="1085760"/>
                <a:tab algn="l" pos="4286160"/>
                <a:tab algn="l" pos="45147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same considerations about file locking apply as with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VnsSimpleSendMail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1800"/>
              </a:spcBef>
              <a:spcAft>
                <a:spcPts val="479"/>
              </a:spcAft>
              <a:buClr>
                <a:srgbClr val="fafd00"/>
              </a:buClr>
              <a:buSzPct val="125000"/>
              <a:buFont typeface="Arial"/>
              <a:buChar char=""/>
              <a:tabLst>
                <a:tab algn="l" pos="1085760"/>
                <a:tab algn="l" pos="4286160"/>
                <a:tab algn="l" pos="45147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developer is responsible for populating the structure BODY_PIECES with correct dat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1800"/>
              </a:spcBef>
              <a:spcAft>
                <a:spcPts val="479"/>
              </a:spcAft>
              <a:buClr>
                <a:srgbClr val="fafd00"/>
              </a:buClr>
              <a:buSzPct val="125000"/>
              <a:buFont typeface="Arial"/>
              <a:buChar char=""/>
              <a:tabLst>
                <a:tab algn="l" pos="1085760"/>
                <a:tab algn="l" pos="4286160"/>
                <a:tab algn="l" pos="45147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all setup examples will be provid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243080" y="839880"/>
            <a:ext cx="8255160" cy="5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i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New STDA Browser - VNSDL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20600" y="1752480"/>
            <a:ext cx="8918640" cy="48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buClr>
                <a:srgbClr val="fafd00"/>
              </a:buClr>
              <a:buSzPct val="125000"/>
              <a:buFont typeface="Arial"/>
              <a:buChar char=""/>
              <a:tabLst>
                <a:tab algn="l" pos="1085760"/>
                <a:tab algn="l" pos="4286160"/>
                <a:tab algn="l" pos="45147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ew type of Browser techn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buClr>
                <a:srgbClr val="fafd00"/>
              </a:buClr>
              <a:buSzPct val="125000"/>
              <a:buFont typeface="Arial"/>
              <a:buChar char=""/>
              <a:tabLst>
                <a:tab algn="l" pos="1085760"/>
                <a:tab algn="l" pos="4286160"/>
                <a:tab algn="l" pos="45147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oint and shoot - ergonom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buClr>
                <a:srgbClr val="fafd00"/>
              </a:buClr>
              <a:buSzPct val="125000"/>
              <a:buFont typeface="Arial"/>
              <a:buChar char=""/>
              <a:tabLst>
                <a:tab algn="l" pos="1085760"/>
                <a:tab algn="l" pos="4286160"/>
                <a:tab algn="l" pos="45147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pecial featur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5000"/>
              </a:lnSpc>
              <a:spcBef>
                <a:spcPts val="479"/>
              </a:spcBef>
              <a:buClr>
                <a:srgbClr val="ffffff"/>
              </a:buClr>
              <a:buFont typeface="Arial"/>
              <a:buChar char="-"/>
              <a:tabLst>
                <a:tab algn="l" pos="743040"/>
                <a:tab algn="l" pos="3943440"/>
                <a:tab algn="l" pos="41720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set by patte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5000"/>
              </a:lnSpc>
              <a:spcBef>
                <a:spcPts val="479"/>
              </a:spcBef>
              <a:buClr>
                <a:srgbClr val="ffffff"/>
              </a:buClr>
              <a:buFont typeface="Arial"/>
              <a:buChar char="-"/>
              <a:tabLst>
                <a:tab algn="l" pos="743040"/>
                <a:tab algn="l" pos="3943440"/>
                <a:tab algn="l" pos="41720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DD ALL fun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5000"/>
              </a:lnSpc>
              <a:spcBef>
                <a:spcPts val="479"/>
              </a:spcBef>
              <a:buClr>
                <a:srgbClr val="ffffff"/>
              </a:buClr>
              <a:buFont typeface="Arial"/>
              <a:buChar char="-"/>
              <a:tabLst>
                <a:tab algn="l" pos="743040"/>
                <a:tab algn="l" pos="3943440"/>
                <a:tab algn="l" pos="41720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cursive List Expan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5000"/>
              </a:lnSpc>
              <a:spcBef>
                <a:spcPts val="479"/>
              </a:spcBef>
              <a:buClr>
                <a:srgbClr val="ffffff"/>
              </a:buClr>
              <a:buFont typeface="Arial"/>
              <a:buChar char="-"/>
              <a:tabLst>
                <a:tab algn="l" pos="743040"/>
                <a:tab algn="l" pos="3943440"/>
                <a:tab algn="l" pos="41720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move selected name from result buff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28560" indent="-228600">
              <a:lnSpc>
                <a:spcPct val="85000"/>
              </a:lnSpc>
              <a:spcBef>
                <a:spcPts val="479"/>
              </a:spcBef>
              <a:tabLst>
                <a:tab algn="l" pos="743040"/>
                <a:tab algn="l" pos="3943440"/>
                <a:tab algn="l" pos="41720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buClr>
                <a:srgbClr val="fafd00"/>
              </a:buClr>
              <a:buSzPct val="125000"/>
              <a:buFont typeface="Arial"/>
              <a:buChar char=""/>
              <a:tabLst>
                <a:tab algn="l" pos="1085760"/>
                <a:tab algn="l" pos="4286160"/>
                <a:tab algn="l" pos="45147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rop in replacement for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5000"/>
              </a:lnSpc>
              <a:spcBef>
                <a:spcPts val="479"/>
              </a:spcBef>
              <a:buClr>
                <a:srgbClr val="ffffff"/>
              </a:buClr>
              <a:buFont typeface="Arial"/>
              <a:buChar char="-"/>
              <a:tabLst>
                <a:tab algn="l" pos="743040"/>
                <a:tab algn="l" pos="3943440"/>
                <a:tab algn="l" pos="41720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nsDlgStdaSel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5000"/>
              </a:lnSpc>
              <a:spcBef>
                <a:spcPts val="479"/>
              </a:spcBef>
              <a:buClr>
                <a:srgbClr val="ffffff"/>
              </a:buClr>
              <a:buFont typeface="Arial"/>
              <a:buChar char="-"/>
              <a:tabLst>
                <a:tab algn="l" pos="743040"/>
                <a:tab algn="l" pos="3943440"/>
                <a:tab algn="l" pos="41720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nsDlgStdaMultiSel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150920" y="809640"/>
            <a:ext cx="8439120" cy="5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i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VNSDLG API call: Single item sel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306360" y="1708200"/>
            <a:ext cx="852948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#define incl_ST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#define incl_STDA_U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#include "vnsapi.h"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#include “vnsdlg.h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allStatus VNSENTRY VnsDlgStdaSelectEx(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HVNSD hVNSD, </a:t>
            </a:r>
            <a:r>
              <a:rPr b="1" i="1" lang="en-US" sz="2400" spc="-1" strike="noStrike">
                <a:solidFill>
                  <a:srgbClr val="fe9b03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e9b03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e9b03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fe9b03"/>
                </a:solidFill>
                <a:latin typeface="Arial"/>
                <a:ea typeface="Arial"/>
              </a:rPr>
              <a:t>/* handle to our instance data *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HWND hWndParent, </a:t>
            </a:r>
            <a:r>
              <a:rPr b="1" i="1" lang="en-US" sz="2400" spc="-1" strike="noStrike">
                <a:solidFill>
                  <a:srgbClr val="fe9b03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e9b03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fe9b03"/>
                </a:solidFill>
                <a:latin typeface="Arial"/>
                <a:ea typeface="Arial"/>
              </a:rPr>
              <a:t>/* handle of parent window *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WORD wType,         </a:t>
            </a:r>
            <a:r>
              <a:rPr b="1" i="1" lang="en-US" sz="2400" spc="-1" strike="noStrike">
                <a:solidFill>
                  <a:srgbClr val="fe9b03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e9b03"/>
                </a:solidFill>
                <a:latin typeface="Arial"/>
                <a:ea typeface="Arial"/>
              </a:rPr>
              <a:t> </a:t>
            </a:r>
            <a:r>
              <a:rPr b="1" i="1" lang="en-US" sz="2400" spc="-1" strike="noStrike">
                <a:solidFill>
                  <a:srgbClr val="fe9b03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fe9b03"/>
                </a:solidFill>
                <a:latin typeface="Arial"/>
                <a:ea typeface="Arial"/>
              </a:rPr>
              <a:t>/* type of STDA object item*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LPSTR lpDialogTitle,  </a:t>
            </a:r>
            <a:r>
              <a:rPr b="1" i="1" lang="en-US" sz="1800" spc="-1" strike="noStrike">
                <a:solidFill>
                  <a:srgbClr val="fe9b03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fe9b03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fe9b03"/>
                </a:solidFill>
                <a:latin typeface="Arial"/>
                <a:ea typeface="Arial"/>
              </a:rPr>
              <a:t>/* title of browse dialog box *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BOOL WFAR *pfConfirmed, </a:t>
            </a:r>
            <a:r>
              <a:rPr b="1" i="1" lang="en-US" sz="2400" spc="-1" strike="noStrike">
                <a:solidFill>
                  <a:srgbClr val="fe9b03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fe9b03"/>
                </a:solidFill>
                <a:latin typeface="Arial"/>
                <a:ea typeface="Arial"/>
              </a:rPr>
              <a:t>/* FALSE if user cancelled dialog *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LPSTR lpResult        </a:t>
            </a:r>
            <a:r>
              <a:rPr b="1" i="1" lang="en-US" sz="1800" spc="-1" strike="noStrike">
                <a:solidFill>
                  <a:srgbClr val="fe9b03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fe9b03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fe9b03"/>
                </a:solidFill>
                <a:latin typeface="Arial"/>
                <a:ea typeface="Arial"/>
              </a:rPr>
              <a:t>/* result buffer *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1150920" y="809640"/>
            <a:ext cx="8439120" cy="5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i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VNSDLG API call: Multiple item sel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318960" y="1488960"/>
            <a:ext cx="8529480" cy="53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#define incl_ST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#define incl_STDA_U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#include "vnsapi.h"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#include “vnsdlg.h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allStatus VNSENTRY VnsDlgStdaMultiSelectEx(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</a:pPr>
            <a:r>
              <a:rPr b="1" i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HVNSD hVNSD,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fe9b03"/>
                </a:solidFill>
                <a:latin typeface="Arial"/>
                <a:ea typeface="Arial"/>
              </a:rPr>
              <a:t>/* handle to our instance data *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</a:pPr>
            <a:r>
              <a:rPr b="1" i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HWND hWndParent,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fe9b03"/>
                </a:solidFill>
                <a:latin typeface="Arial"/>
                <a:ea typeface="Arial"/>
              </a:rPr>
              <a:t>/* handle of parent window *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</a:pPr>
            <a:r>
              <a:rPr b="1" i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WORD wType,        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fe9b03"/>
                </a:solidFill>
                <a:latin typeface="Arial"/>
                <a:ea typeface="Arial"/>
              </a:rPr>
              <a:t>/* type of STDA object items*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</a:pPr>
            <a:r>
              <a:rPr b="1" i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LPSTR lpDialogTitle, 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fe9b03"/>
                </a:solidFill>
                <a:latin typeface="Arial"/>
                <a:ea typeface="Arial"/>
              </a:rPr>
              <a:t>/* title of browse dialog box *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</a:pPr>
            <a:r>
              <a:rPr b="1" i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LPSTR lpResultTitle,    </a:t>
            </a:r>
            <a:r>
              <a:rPr b="1" i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fe9b03"/>
                </a:solidFill>
                <a:latin typeface="Arial"/>
                <a:ea typeface="Arial"/>
              </a:rPr>
              <a:t>/* title of the result list box */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</a:pPr>
            <a:r>
              <a:rPr b="1" i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BOOL WFAR *pfConfirmed,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fe9b03"/>
                </a:solidFill>
                <a:latin typeface="Arial"/>
                <a:ea typeface="Arial"/>
              </a:rPr>
              <a:t>/* FALSE if user cancelled dialog *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</a:pPr>
            <a:r>
              <a:rPr b="1" i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LPSTR lpResult,      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fe9b03"/>
                </a:solidFill>
                <a:latin typeface="Arial"/>
                <a:ea typeface="Arial"/>
              </a:rPr>
              <a:t>/* result buffer *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</a:pPr>
            <a:r>
              <a:rPr b="1" i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int nResultLen          </a:t>
            </a:r>
            <a:r>
              <a:rPr b="1" i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fe9b03"/>
                </a:solidFill>
                <a:latin typeface="Arial"/>
                <a:ea typeface="Arial"/>
              </a:rPr>
              <a:t>/* size of result buffer *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55680" y="5318280"/>
            <a:ext cx="8140680" cy="31752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98440" y="6022800"/>
            <a:ext cx="8178840" cy="31752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1243080" y="839880"/>
            <a:ext cx="8255160" cy="5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i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Reference for API Sup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20600" y="1663560"/>
            <a:ext cx="8918640" cy="49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76360" indent="-4680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tabLst>
                <a:tab algn="l" pos="790560"/>
                <a:tab algn="l" pos="3995640"/>
                <a:tab algn="l" pos="422424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tailed toolkit information about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11160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buClr>
                <a:srgbClr val="ffffff"/>
              </a:buClr>
              <a:buFont typeface="Arial"/>
              <a:buChar char="-"/>
              <a:tabLst>
                <a:tab algn="l" pos="447840"/>
                <a:tab algn="l" pos="3652920"/>
                <a:tab algn="l" pos="388152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nsDlgStdaSelec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11160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buClr>
                <a:srgbClr val="ffffff"/>
              </a:buClr>
              <a:buFont typeface="Arial"/>
              <a:buChar char="-"/>
              <a:tabLst>
                <a:tab algn="l" pos="447840"/>
                <a:tab algn="l" pos="3652920"/>
                <a:tab algn="l" pos="388152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nsDlgStdaMultiSelec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9080" indent="-11160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tabLst>
                <a:tab algn="l" pos="447840"/>
                <a:tab algn="l" pos="3652920"/>
                <a:tab algn="l" pos="388152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6360" indent="-4680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tabLst>
                <a:tab algn="l" pos="790560"/>
                <a:tab algn="l" pos="3995640"/>
                <a:tab algn="l" pos="422424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an be found on pages 9-5 through 9-9 of the VINES StreetTalk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™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nd STDA Programming Interfa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6360" indent="-4680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tabLst>
                <a:tab algn="l" pos="790560"/>
                <a:tab algn="l" pos="3995640"/>
                <a:tab algn="l" pos="422424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der Number: 00371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6360" indent="-4680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tabLst>
                <a:tab algn="l" pos="790560"/>
                <a:tab algn="l" pos="3995640"/>
                <a:tab algn="l" pos="422424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ate: April 199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6360" indent="-4680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tabLst>
                <a:tab algn="l" pos="790560"/>
                <a:tab algn="l" pos="3995640"/>
                <a:tab algn="l" pos="422424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upports VINES revision: 5.5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1243080" y="839880"/>
            <a:ext cx="7686720" cy="5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i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VNSDLG Dialog Bo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405160" y="2120760"/>
            <a:ext cx="4081320" cy="3429000"/>
          </a:xfrm>
          <a:prstGeom prst="rect">
            <a:avLst/>
          </a:prstGeom>
          <a:ln w="0">
            <a:noFill/>
          </a:ln>
        </p:spPr>
      </p:pic>
      <p:grpSp>
        <p:nvGrpSpPr>
          <p:cNvPr id="93" name=""/>
          <p:cNvGrpSpPr/>
          <p:nvPr/>
        </p:nvGrpSpPr>
        <p:grpSpPr>
          <a:xfrm>
            <a:off x="6534000" y="4626000"/>
            <a:ext cx="1743480" cy="592200"/>
            <a:chOff x="6534000" y="4626000"/>
            <a:chExt cx="1743480" cy="592200"/>
          </a:xfrm>
        </p:grpSpPr>
        <p:sp>
          <p:nvSpPr>
            <p:cNvPr id="94" name=""/>
            <p:cNvSpPr txBox="1"/>
            <p:nvPr/>
          </p:nvSpPr>
          <p:spPr>
            <a:xfrm>
              <a:off x="6883560" y="4626000"/>
              <a:ext cx="1393920" cy="533520"/>
            </a:xfrm>
            <a:prstGeom prst="rect">
              <a:avLst/>
            </a:prstGeom>
            <a:solidFill>
              <a:srgbClr val="fe9b03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i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Expand Lis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i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Butt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534000" y="4979880"/>
              <a:ext cx="352800" cy="238320"/>
            </a:xfrm>
            <a:custGeom>
              <a:avLst/>
              <a:gdLst/>
              <a:ahLst/>
              <a:rect l="0" t="0" r="r" b="b"/>
              <a:pathLst>
                <a:path w="980" h="662">
                  <a:moveTo>
                    <a:pt x="980" y="220"/>
                  </a:moveTo>
                  <a:lnTo>
                    <a:pt x="980" y="441"/>
                  </a:lnTo>
                  <a:lnTo>
                    <a:pt x="294" y="441"/>
                  </a:lnTo>
                  <a:lnTo>
                    <a:pt x="294" y="662"/>
                  </a:lnTo>
                  <a:lnTo>
                    <a:pt x="0" y="330"/>
                  </a:lnTo>
                  <a:lnTo>
                    <a:pt x="294" y="0"/>
                  </a:lnTo>
                  <a:lnTo>
                    <a:pt x="294" y="220"/>
                  </a:lnTo>
                  <a:lnTo>
                    <a:pt x="980" y="220"/>
                  </a:lnTo>
                  <a:close/>
                </a:path>
              </a:pathLst>
            </a:custGeom>
            <a:solidFill>
              <a:srgbClr val="fe9b03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6543720" y="2521080"/>
            <a:ext cx="1704960" cy="592200"/>
            <a:chOff x="6543720" y="2521080"/>
            <a:chExt cx="1704960" cy="592200"/>
          </a:xfrm>
        </p:grpSpPr>
        <p:sp>
          <p:nvSpPr>
            <p:cNvPr id="97" name=""/>
            <p:cNvSpPr txBox="1"/>
            <p:nvPr/>
          </p:nvSpPr>
          <p:spPr>
            <a:xfrm>
              <a:off x="6885000" y="2521080"/>
              <a:ext cx="1363680" cy="533520"/>
            </a:xfrm>
            <a:prstGeom prst="rect">
              <a:avLst/>
            </a:prstGeom>
            <a:solidFill>
              <a:srgbClr val="fe9b03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i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Manag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i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ubset patter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543720" y="2874960"/>
              <a:ext cx="344880" cy="238320"/>
            </a:xfrm>
            <a:custGeom>
              <a:avLst/>
              <a:gdLst/>
              <a:ahLst/>
              <a:rect l="0" t="0" r="r" b="b"/>
              <a:pathLst>
                <a:path w="958" h="662">
                  <a:moveTo>
                    <a:pt x="958" y="220"/>
                  </a:moveTo>
                  <a:lnTo>
                    <a:pt x="958" y="441"/>
                  </a:lnTo>
                  <a:lnTo>
                    <a:pt x="288" y="441"/>
                  </a:lnTo>
                  <a:lnTo>
                    <a:pt x="288" y="662"/>
                  </a:lnTo>
                  <a:lnTo>
                    <a:pt x="0" y="330"/>
                  </a:lnTo>
                  <a:lnTo>
                    <a:pt x="288" y="0"/>
                  </a:lnTo>
                  <a:lnTo>
                    <a:pt x="288" y="220"/>
                  </a:lnTo>
                  <a:lnTo>
                    <a:pt x="958" y="220"/>
                  </a:lnTo>
                  <a:close/>
                </a:path>
              </a:pathLst>
            </a:custGeom>
            <a:solidFill>
              <a:srgbClr val="fe9b03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6553080" y="3521160"/>
            <a:ext cx="1714680" cy="592200"/>
            <a:chOff x="6553080" y="3521160"/>
            <a:chExt cx="1714680" cy="592200"/>
          </a:xfrm>
        </p:grpSpPr>
        <p:sp>
          <p:nvSpPr>
            <p:cNvPr id="100" name=""/>
            <p:cNvSpPr txBox="1"/>
            <p:nvPr/>
          </p:nvSpPr>
          <p:spPr>
            <a:xfrm>
              <a:off x="6896160" y="3521160"/>
              <a:ext cx="1371600" cy="533520"/>
            </a:xfrm>
            <a:prstGeom prst="rect">
              <a:avLst/>
            </a:prstGeom>
            <a:solidFill>
              <a:srgbClr val="fe9b03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i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ALL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i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ubset resul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553080" y="3875040"/>
              <a:ext cx="346320" cy="238320"/>
            </a:xfrm>
            <a:custGeom>
              <a:avLst/>
              <a:gdLst/>
              <a:ahLst/>
              <a:rect l="0" t="0" r="r" b="b"/>
              <a:pathLst>
                <a:path w="962" h="662">
                  <a:moveTo>
                    <a:pt x="962" y="220"/>
                  </a:moveTo>
                  <a:lnTo>
                    <a:pt x="962" y="441"/>
                  </a:lnTo>
                  <a:lnTo>
                    <a:pt x="288" y="441"/>
                  </a:lnTo>
                  <a:lnTo>
                    <a:pt x="288" y="662"/>
                  </a:lnTo>
                  <a:lnTo>
                    <a:pt x="0" y="330"/>
                  </a:lnTo>
                  <a:lnTo>
                    <a:pt x="288" y="0"/>
                  </a:lnTo>
                  <a:lnTo>
                    <a:pt x="288" y="220"/>
                  </a:lnTo>
                  <a:lnTo>
                    <a:pt x="962" y="220"/>
                  </a:lnTo>
                  <a:close/>
                </a:path>
              </a:pathLst>
            </a:custGeom>
            <a:solidFill>
              <a:srgbClr val="fe9b03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800280" y="2556000"/>
            <a:ext cx="1447920" cy="592200"/>
            <a:chOff x="800280" y="2556000"/>
            <a:chExt cx="1447920" cy="592200"/>
          </a:xfrm>
        </p:grpSpPr>
        <p:sp>
          <p:nvSpPr>
            <p:cNvPr id="103" name=""/>
            <p:cNvSpPr txBox="1"/>
            <p:nvPr/>
          </p:nvSpPr>
          <p:spPr>
            <a:xfrm>
              <a:off x="800280" y="2556000"/>
              <a:ext cx="1158840" cy="533520"/>
            </a:xfrm>
            <a:prstGeom prst="rect">
              <a:avLst/>
            </a:prstGeom>
            <a:solidFill>
              <a:srgbClr val="fe9b03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i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Choo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i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Object Clas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955880" y="2909880"/>
              <a:ext cx="292320" cy="238320"/>
            </a:xfrm>
            <a:custGeom>
              <a:avLst/>
              <a:gdLst/>
              <a:ahLst/>
              <a:rect l="0" t="0" r="r" b="b"/>
              <a:pathLst>
                <a:path w="812" h="662">
                  <a:moveTo>
                    <a:pt x="0" y="220"/>
                  </a:moveTo>
                  <a:lnTo>
                    <a:pt x="0" y="441"/>
                  </a:lnTo>
                  <a:lnTo>
                    <a:pt x="568" y="441"/>
                  </a:lnTo>
                  <a:lnTo>
                    <a:pt x="568" y="662"/>
                  </a:lnTo>
                  <a:lnTo>
                    <a:pt x="812" y="330"/>
                  </a:lnTo>
                  <a:lnTo>
                    <a:pt x="568" y="0"/>
                  </a:lnTo>
                  <a:lnTo>
                    <a:pt x="568" y="220"/>
                  </a:lnTo>
                  <a:lnTo>
                    <a:pt x="0" y="220"/>
                  </a:lnTo>
                  <a:close/>
                </a:path>
              </a:pathLst>
            </a:custGeom>
            <a:solidFill>
              <a:srgbClr val="fe9b03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6508800" y="5356080"/>
            <a:ext cx="1768320" cy="624240"/>
            <a:chOff x="6508800" y="5356080"/>
            <a:chExt cx="1768320" cy="624240"/>
          </a:xfrm>
        </p:grpSpPr>
        <p:sp>
          <p:nvSpPr>
            <p:cNvPr id="106" name=""/>
            <p:cNvSpPr txBox="1"/>
            <p:nvPr/>
          </p:nvSpPr>
          <p:spPr>
            <a:xfrm>
              <a:off x="6877080" y="5408640"/>
              <a:ext cx="1400040" cy="571680"/>
            </a:xfrm>
            <a:prstGeom prst="rect">
              <a:avLst/>
            </a:prstGeom>
            <a:solidFill>
              <a:srgbClr val="fe9b03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i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Remov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i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 Butt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508800" y="5356080"/>
              <a:ext cx="405000" cy="238320"/>
            </a:xfrm>
            <a:custGeom>
              <a:avLst/>
              <a:gdLst/>
              <a:ahLst/>
              <a:rect l="0" t="0" r="r" b="b"/>
              <a:pathLst>
                <a:path w="1125" h="662">
                  <a:moveTo>
                    <a:pt x="1125" y="220"/>
                  </a:moveTo>
                  <a:lnTo>
                    <a:pt x="1125" y="441"/>
                  </a:lnTo>
                  <a:lnTo>
                    <a:pt x="337" y="441"/>
                  </a:lnTo>
                  <a:lnTo>
                    <a:pt x="337" y="662"/>
                  </a:lnTo>
                  <a:lnTo>
                    <a:pt x="0" y="330"/>
                  </a:lnTo>
                  <a:lnTo>
                    <a:pt x="337" y="0"/>
                  </a:lnTo>
                  <a:lnTo>
                    <a:pt x="337" y="220"/>
                  </a:lnTo>
                  <a:lnTo>
                    <a:pt x="1125" y="220"/>
                  </a:lnTo>
                  <a:close/>
                </a:path>
              </a:pathLst>
            </a:custGeom>
            <a:solidFill>
              <a:srgbClr val="fe9b03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150920" y="885960"/>
            <a:ext cx="8439120" cy="5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i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VNSDLG Dialog Box: Subset Mas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14360" y="2511360"/>
            <a:ext cx="3660840" cy="18525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4554360" y="1955880"/>
            <a:ext cx="4383000" cy="349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buClr>
                <a:srgbClr val="fafd00"/>
              </a:buClr>
              <a:buSzPct val="125000"/>
              <a:buFont typeface="Arial"/>
              <a:buChar char=""/>
              <a:tabLst>
                <a:tab algn="l" pos="1085760"/>
                <a:tab algn="l" pos="4286160"/>
                <a:tab algn="l" pos="45147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sks can be added “on the fly” by just typing in the List Subset field on the main dialog bo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buClr>
                <a:srgbClr val="fafd00"/>
              </a:buClr>
              <a:buSzPct val="125000"/>
              <a:buFont typeface="Arial"/>
              <a:buChar char=""/>
              <a:tabLst>
                <a:tab algn="l" pos="1085760"/>
                <a:tab algn="l" pos="4286160"/>
                <a:tab algn="l" pos="45147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hild windows for Subset Dialog allows Name mask manag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buClr>
                <a:srgbClr val="fafd00"/>
              </a:buClr>
              <a:buSzPct val="125000"/>
              <a:buFont typeface="Arial"/>
              <a:buChar char=""/>
              <a:tabLst>
                <a:tab algn="l" pos="1085760"/>
                <a:tab algn="l" pos="4286160"/>
                <a:tab algn="l" pos="45147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sk patterns are stored for future use in the user’s VINES.INI fi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1150920" y="885960"/>
            <a:ext cx="8439120" cy="5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i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Out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143000" y="1828800"/>
            <a:ext cx="7772400" cy="47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buClr>
                <a:srgbClr val="fafd00"/>
              </a:buClr>
              <a:buSzPct val="125000"/>
              <a:buFont typeface="Arial"/>
              <a:buChar char=""/>
              <a:tabLst>
                <a:tab algn="l" pos="1085760"/>
                <a:tab algn="l" pos="4286160"/>
                <a:tab algn="l" pos="45147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verview of Mail enab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buClr>
                <a:srgbClr val="fafd00"/>
              </a:buClr>
              <a:buSzPct val="125000"/>
              <a:buFont typeface="Arial"/>
              <a:buChar char=""/>
              <a:tabLst>
                <a:tab algn="l" pos="1085760"/>
                <a:tab algn="l" pos="4286160"/>
                <a:tab algn="l" pos="45147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END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buClr>
                <a:srgbClr val="fafd00"/>
              </a:buClr>
              <a:buSzPct val="125000"/>
              <a:buFont typeface="Arial"/>
              <a:buChar char=""/>
              <a:tabLst>
                <a:tab algn="l" pos="1085760"/>
                <a:tab algn="l" pos="4286160"/>
                <a:tab algn="l" pos="45147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owser VNSDL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buClr>
                <a:srgbClr val="fafd00"/>
              </a:buClr>
              <a:buSzPct val="125000"/>
              <a:buFont typeface="Arial"/>
              <a:buChar char=""/>
              <a:tabLst>
                <a:tab algn="l" pos="1085760"/>
                <a:tab algn="l" pos="4286160"/>
                <a:tab algn="l" pos="45147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rom 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buClr>
                <a:srgbClr val="fafd00"/>
              </a:buClr>
              <a:buSzPct val="125000"/>
              <a:buFont typeface="Arial"/>
              <a:buChar char=""/>
              <a:tabLst>
                <a:tab algn="l" pos="1085760"/>
                <a:tab algn="l" pos="4286160"/>
                <a:tab algn="l" pos="45147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rom Visioneer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buClr>
                <a:srgbClr val="fafd00"/>
              </a:buClr>
              <a:buSzPct val="125000"/>
              <a:buFont typeface="Arial"/>
              <a:buChar char=""/>
              <a:tabLst>
                <a:tab algn="l" pos="1085760"/>
                <a:tab algn="l" pos="4286160"/>
                <a:tab algn="l" pos="45147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rom Excel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buClr>
                <a:srgbClr val="fafd00"/>
              </a:buClr>
              <a:buSzPct val="125000"/>
              <a:buFont typeface="Arial"/>
              <a:buChar char=""/>
              <a:tabLst>
                <a:tab algn="l" pos="1085760"/>
                <a:tab algn="l" pos="4286160"/>
                <a:tab algn="l" pos="45147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rom Visual Basic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buClr>
                <a:srgbClr val="fafd00"/>
              </a:buClr>
              <a:buSzPct val="125000"/>
              <a:buFont typeface="Arial"/>
              <a:buChar char=""/>
              <a:tabLst>
                <a:tab algn="l" pos="1085760"/>
                <a:tab algn="l" pos="4286160"/>
                <a:tab algn="l" pos="45147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m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buClr>
                <a:srgbClr val="fafd00"/>
              </a:buClr>
              <a:buSzPct val="125000"/>
              <a:buFont typeface="Arial"/>
              <a:buChar char=""/>
              <a:tabLst>
                <a:tab algn="l" pos="1085760"/>
                <a:tab algn="l" pos="4286160"/>
                <a:tab algn="l" pos="45147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uture Pla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243080" y="839880"/>
            <a:ext cx="7686720" cy="5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i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Conside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212760" y="1943280"/>
            <a:ext cx="8448840" cy="37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buClr>
                <a:srgbClr val="fafd00"/>
              </a:buClr>
              <a:buSzPct val="125000"/>
              <a:buFont typeface="Arial"/>
              <a:buChar char=""/>
              <a:tabLst>
                <a:tab algn="l" pos="1085760"/>
                <a:tab algn="l" pos="4286160"/>
                <a:tab algn="l" pos="45147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f SendMail calls VNSDLG, there is a 1K byte limit on address data returned/reques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tabLst>
                <a:tab algn="l" pos="1085760"/>
                <a:tab algn="l" pos="4286160"/>
                <a:tab algn="l" pos="45147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buClr>
                <a:srgbClr val="fafd00"/>
              </a:buClr>
              <a:buSzPct val="125000"/>
              <a:buFont typeface="Arial"/>
              <a:buChar char=""/>
              <a:tabLst>
                <a:tab algn="l" pos="1085760"/>
                <a:tab algn="l" pos="4286160"/>
                <a:tab algn="l" pos="45147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dd All with *@*@* mask could take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buClr>
                <a:srgbClr val="ffffff"/>
              </a:buClr>
              <a:buFont typeface="Arial"/>
              <a:buChar char="-"/>
              <a:tabLst>
                <a:tab algn="l" pos="743040"/>
                <a:tab algn="l" pos="3943440"/>
                <a:tab algn="l" pos="41720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pendent on number of STDA entr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28560" indent="-228600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tabLst>
                <a:tab algn="l" pos="743040"/>
                <a:tab algn="l" pos="3943440"/>
                <a:tab algn="l" pos="41720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buClr>
                <a:srgbClr val="fafd00"/>
              </a:buClr>
              <a:buSzPct val="125000"/>
              <a:buFont typeface="Arial"/>
              <a:buChar char=""/>
              <a:tabLst>
                <a:tab algn="l" pos="1085760"/>
                <a:tab algn="l" pos="4286160"/>
                <a:tab algn="l" pos="45147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more than 32K bytes of returned data is allowed if call from other C applicat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1150920" y="885960"/>
            <a:ext cx="8439120" cy="5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i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Visioneer’s Maxmate Deskto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22360" y="1820880"/>
            <a:ext cx="3983040" cy="29178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 txBox="1"/>
          <p:nvPr/>
        </p:nvSpPr>
        <p:spPr>
          <a:xfrm>
            <a:off x="5160960" y="1793880"/>
            <a:ext cx="3830760" cy="24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85000"/>
              </a:lnSpc>
              <a:spcBef>
                <a:spcPts val="1199"/>
              </a:spcBef>
              <a:spcAft>
                <a:spcPts val="479"/>
              </a:spcAft>
              <a:buClr>
                <a:srgbClr val="fafd00"/>
              </a:buClr>
              <a:buSzPct val="125000"/>
              <a:buFont typeface="Arial"/>
              <a:buChar char=""/>
              <a:tabLst>
                <a:tab algn="l" pos="1085760"/>
                <a:tab algn="l" pos="4286160"/>
                <a:tab algn="l" pos="4514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Drag image or stack to Banyan dropwe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1199"/>
              </a:spcBef>
              <a:spcAft>
                <a:spcPts val="479"/>
              </a:spcAft>
              <a:buClr>
                <a:srgbClr val="fafd00"/>
              </a:buClr>
              <a:buSzPct val="125000"/>
              <a:buFont typeface="Arial"/>
              <a:buChar char=""/>
              <a:tabLst>
                <a:tab algn="l" pos="1085760"/>
                <a:tab algn="l" pos="4286160"/>
                <a:tab algn="l" pos="4514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k invokes SENDMAIL, and adds image stack as an attach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1199"/>
              </a:spcBef>
              <a:spcAft>
                <a:spcPts val="479"/>
              </a:spcAft>
              <a:buClr>
                <a:srgbClr val="fafd00"/>
              </a:buClr>
              <a:buSzPct val="125000"/>
              <a:buFont typeface="Arial"/>
              <a:buChar char=""/>
              <a:tabLst>
                <a:tab algn="l" pos="1085760"/>
                <a:tab algn="l" pos="4286160"/>
                <a:tab algn="l" pos="4514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ecipient reads message as normal mail message, launching Maxmate viewer to view attached documen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38080" y="4648320"/>
            <a:ext cx="781200" cy="1495440"/>
          </a:xfrm>
          <a:prstGeom prst="line">
            <a:avLst/>
          </a:prstGeom>
          <a:ln w="38160">
            <a:solidFill>
              <a:srgbClr val="fe9b03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641600" y="5948280"/>
            <a:ext cx="589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tabLst>
                <a:tab algn="l" pos="1085760"/>
                <a:tab algn="l" pos="4286160"/>
                <a:tab algn="l" pos="45147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anyan Intelligent Messaging lin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923760" y="2610000"/>
            <a:ext cx="847800" cy="1047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c0128"/>
            </a:solidFill>
            <a:round/>
            <a:tailEnd len="med" type="triangle" w="med"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tabLst>
                <a:tab algn="l" pos="1085760"/>
                <a:tab algn="l" pos="4286160"/>
                <a:tab algn="l" pos="451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fad adkfas frrrerq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tabLst>
                <a:tab algn="l" pos="1085760"/>
                <a:tab algn="l" pos="4286160"/>
                <a:tab algn="l" pos="451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asklfasjfaslfk w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tabLst>
                <a:tab algn="l" pos="1085760"/>
                <a:tab algn="l" pos="4286160"/>
                <a:tab algn="l" pos="451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asfasdfklferqrw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tabLst>
                <a:tab algn="l" pos="1085760"/>
                <a:tab algn="l" pos="4286160"/>
                <a:tab algn="l" pos="451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asfkasfaserew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tabLst>
                <a:tab algn="l" pos="1085760"/>
                <a:tab algn="l" pos="4286160"/>
                <a:tab algn="l" pos="451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asfasfasqeerrrr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tabLst>
                <a:tab algn="l" pos="1085760"/>
                <a:tab algn="l" pos="4286160"/>
                <a:tab algn="l" pos="451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afasfafaaqreq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219480" y="2629080"/>
            <a:ext cx="847800" cy="1047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187800" y="2698920"/>
            <a:ext cx="797040" cy="984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0" rIns="0" tIns="0" bIns="0" anchor="t">
            <a:noAutofit/>
          </a:bodyPr>
          <a:p>
            <a:pPr marL="268200" indent="-268200" algn="ctr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tabLst>
                <a:tab algn="l" pos="1020600"/>
                <a:tab algn="l" pos="4029120"/>
                <a:tab algn="l" pos="424512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1qaz df the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 algn="ctr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tabLst>
                <a:tab algn="l" pos="1020600"/>
                <a:tab algn="l" pos="4029120"/>
                <a:tab algn="l" pos="424512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of the ways a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 algn="ctr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tabLst>
                <a:tab algn="l" pos="1020600"/>
                <a:tab algn="l" pos="4029120"/>
                <a:tab algn="l" pos="424512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t otr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 algn="ctr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tabLst>
                <a:tab algn="l" pos="1020600"/>
                <a:tab algn="l" pos="4029120"/>
                <a:tab algn="l" pos="424512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t5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 algn="ctr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tabLst>
                <a:tab algn="l" pos="1020600"/>
                <a:tab algn="l" pos="4029120"/>
                <a:tab algn="l" pos="424512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5403494 59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 algn="ctr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tabLst>
                <a:tab algn="l" pos="1020600"/>
                <a:tab algn="l" pos="4029120"/>
                <a:tab algn="l" pos="424512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43304039453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2076480" y="2638440"/>
            <a:ext cx="847800" cy="1047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tabLst>
                <a:tab algn="l" pos="1085760"/>
                <a:tab algn="l" pos="4286160"/>
                <a:tab algn="l" pos="451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ee3 3   230  1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tabLst>
                <a:tab algn="l" pos="1085760"/>
                <a:tab algn="l" pos="4286160"/>
                <a:tab algn="l" pos="451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234940  adfl; m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tabLst>
                <a:tab algn="l" pos="1085760"/>
                <a:tab algn="l" pos="4286160"/>
                <a:tab algn="l" pos="451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as[0r 3349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tabLst>
                <a:tab algn="l" pos="1085760"/>
                <a:tab algn="l" pos="4286160"/>
                <a:tab algn="l" pos="451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32042 44 443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tabLst>
                <a:tab algn="l" pos="1085760"/>
                <a:tab algn="l" pos="4286160"/>
                <a:tab algn="l" pos="451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\3asfasff fa;lf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tabLst>
                <a:tab algn="l" pos="1085760"/>
                <a:tab algn="l" pos="4286160"/>
                <a:tab algn="l" pos="451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dd;af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762120" y="3657600"/>
            <a:ext cx="457200" cy="533520"/>
          </a:xfrm>
          <a:prstGeom prst="line">
            <a:avLst/>
          </a:prstGeom>
          <a:ln w="7632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772400" y="2209680"/>
            <a:ext cx="609480" cy="0"/>
          </a:xfrm>
          <a:prstGeom prst="line">
            <a:avLst/>
          </a:prstGeom>
          <a:ln w="7632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1295280" y="763560"/>
            <a:ext cx="7669080" cy="5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i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Visioneer Development</a:t>
            </a:r>
            <a:r>
              <a:rPr b="1" i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80880" y="1879560"/>
            <a:ext cx="8153280" cy="357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85000"/>
              </a:lnSpc>
              <a:spcBef>
                <a:spcPts val="2160"/>
              </a:spcBef>
              <a:spcAft>
                <a:spcPts val="479"/>
              </a:spcAft>
              <a:buClr>
                <a:srgbClr val="fafd00"/>
              </a:buClr>
              <a:buSzPct val="125000"/>
              <a:buFont typeface="Arial"/>
              <a:buChar char=""/>
              <a:tabLst>
                <a:tab algn="l" pos="1085760"/>
                <a:tab algn="l" pos="4286160"/>
                <a:tab algn="l" pos="45147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ENDMAIL concept was “born” in looking for a fast way to integrate Visioneer’s Maxmate with I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2160"/>
              </a:spcBef>
              <a:spcAft>
                <a:spcPts val="479"/>
              </a:spcAft>
              <a:buClr>
                <a:srgbClr val="fafd00"/>
              </a:buClr>
              <a:buSzPct val="125000"/>
              <a:buFont typeface="Arial"/>
              <a:buChar char=""/>
              <a:tabLst>
                <a:tab algn="l" pos="1085760"/>
                <a:tab algn="l" pos="4286160"/>
                <a:tab algn="l" pos="45147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anyan link for the Maxmate desktop was built by Visioneer using their Maxmate SD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2160"/>
              </a:spcBef>
              <a:spcAft>
                <a:spcPts val="479"/>
              </a:spcAft>
              <a:buClr>
                <a:srgbClr val="fafd00"/>
              </a:buClr>
              <a:buSzPct val="125000"/>
              <a:buFont typeface="Arial"/>
              <a:buChar char=""/>
              <a:tabLst>
                <a:tab algn="l" pos="1085760"/>
                <a:tab algn="l" pos="4286160"/>
                <a:tab algn="l" pos="45147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s will be freely distributed by Visioneer, or Banya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120600" y="1955880"/>
            <a:ext cx="8918640" cy="83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buClr>
                <a:srgbClr val="fafd00"/>
              </a:buClr>
              <a:buSzPct val="125000"/>
              <a:buFont typeface="Arial"/>
              <a:buChar char=""/>
              <a:tabLst>
                <a:tab algn="l" pos="1085760"/>
                <a:tab algn="l" pos="4286160"/>
                <a:tab algn="l" pos="45147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quires use of REGISTER func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28560" indent="-228600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tabLst>
                <a:tab algn="l" pos="743040"/>
                <a:tab algn="l" pos="3943440"/>
                <a:tab algn="l" pos="4172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=REGISTER("SENDMAIL.DLL","VnsSimpleSendMailH","HHF","SENDMAIL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243080" y="712800"/>
            <a:ext cx="7686720" cy="5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i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Integrating SENDMAIL into Excel 4.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69800" y="4719600"/>
            <a:ext cx="5803920" cy="83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buClr>
                <a:srgbClr val="fafd00"/>
              </a:buClr>
              <a:buSzPct val="125000"/>
              <a:buFont typeface="Arial"/>
              <a:buChar char=""/>
              <a:tabLst>
                <a:tab algn="l" pos="1085760"/>
                <a:tab algn="l" pos="4286160"/>
                <a:tab algn="l" pos="45147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quires use of CALL func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28560" indent="-228600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tabLst>
                <a:tab algn="l" pos="743040"/>
                <a:tab algn="l" pos="3943440"/>
                <a:tab algn="l" pos="4172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=CALL (A20,0,“FILENAME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029200" y="3225960"/>
            <a:ext cx="3886200" cy="1371600"/>
          </a:xfrm>
          <a:prstGeom prst="rect">
            <a:avLst/>
          </a:prstGeom>
          <a:noFill/>
          <a:ln w="38160">
            <a:solidFill>
              <a:srgbClr val="fc0128"/>
            </a:solidFill>
            <a:round/>
            <a:tailEnd len="med" type="triangle" w="med"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tabLst>
                <a:tab algn="l" pos="1371600"/>
                <a:tab algn="l" pos="4572000"/>
                <a:tab algn="l" pos="48006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he 3rd argument indicates what the function expects for return values as well as the data type of the one DLL argumen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79"/>
              </a:spcBef>
              <a:tabLst>
                <a:tab algn="l" pos="1371600"/>
                <a:tab algn="l" pos="4572000"/>
                <a:tab algn="l" pos="48006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” is: unsigned 2 byte integer (return value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79"/>
              </a:spcBef>
              <a:tabLst>
                <a:tab algn="l" pos="1371600"/>
                <a:tab algn="l" pos="4572000"/>
                <a:tab algn="l" pos="48006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” is: unsigned 2 byte integer (window handle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79"/>
              </a:spcBef>
              <a:tabLst>
                <a:tab algn="l" pos="1371600"/>
                <a:tab algn="l" pos="4572000"/>
                <a:tab algn="l" pos="48006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F” is: Null terminated 255 max character str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781680" y="2857680"/>
            <a:ext cx="305280" cy="381240"/>
          </a:xfrm>
          <a:custGeom>
            <a:avLst/>
            <a:gdLst/>
            <a:ahLst/>
            <a:rect l="0" t="0" r="r" b="b"/>
            <a:pathLst>
              <a:path w="848" h="1059">
                <a:moveTo>
                  <a:pt x="282" y="1059"/>
                </a:moveTo>
                <a:lnTo>
                  <a:pt x="564" y="1059"/>
                </a:lnTo>
                <a:lnTo>
                  <a:pt x="564" y="317"/>
                </a:lnTo>
                <a:lnTo>
                  <a:pt x="848" y="317"/>
                </a:lnTo>
                <a:lnTo>
                  <a:pt x="424" y="0"/>
                </a:lnTo>
                <a:lnTo>
                  <a:pt x="0" y="317"/>
                </a:lnTo>
                <a:lnTo>
                  <a:pt x="282" y="317"/>
                </a:lnTo>
                <a:lnTo>
                  <a:pt x="282" y="1059"/>
                </a:lnTo>
                <a:close/>
              </a:path>
            </a:pathLst>
          </a:custGeom>
          <a:solidFill>
            <a:srgbClr val="fc0128"/>
          </a:solidFill>
          <a:ln w="12600">
            <a:solidFill>
              <a:srgbClr val="fc012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749160" y="5816520"/>
            <a:ext cx="4076640" cy="965160"/>
          </a:xfrm>
          <a:prstGeom prst="rect">
            <a:avLst/>
          </a:prstGeom>
          <a:noFill/>
          <a:ln w="38160">
            <a:solidFill>
              <a:srgbClr val="fc0128"/>
            </a:solidFill>
            <a:round/>
            <a:tailEnd len="med" type="triangle" w="med"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tabLst>
                <a:tab algn="l" pos="1371600"/>
                <a:tab algn="l" pos="4572000"/>
                <a:tab algn="l" pos="48006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20 is the macro cell where the REGISTER statement is execut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tabLst>
                <a:tab algn="l" pos="1371600"/>
                <a:tab algn="l" pos="4572000"/>
                <a:tab algn="l" pos="48006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0” is the value of the calling window hand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tabLst>
                <a:tab algn="l" pos="1371600"/>
                <a:tab algn="l" pos="4572000"/>
                <a:tab algn="l" pos="48006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FILENAME” is the diskfile name that’s being s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0" y="5486400"/>
            <a:ext cx="305280" cy="381240"/>
          </a:xfrm>
          <a:custGeom>
            <a:avLst/>
            <a:gdLst/>
            <a:ahLst/>
            <a:rect l="0" t="0" r="r" b="b"/>
            <a:pathLst>
              <a:path w="848" h="1059">
                <a:moveTo>
                  <a:pt x="282" y="1059"/>
                </a:moveTo>
                <a:lnTo>
                  <a:pt x="564" y="1059"/>
                </a:lnTo>
                <a:lnTo>
                  <a:pt x="564" y="317"/>
                </a:lnTo>
                <a:lnTo>
                  <a:pt x="848" y="317"/>
                </a:lnTo>
                <a:lnTo>
                  <a:pt x="424" y="0"/>
                </a:lnTo>
                <a:lnTo>
                  <a:pt x="0" y="317"/>
                </a:lnTo>
                <a:lnTo>
                  <a:pt x="282" y="317"/>
                </a:lnTo>
                <a:lnTo>
                  <a:pt x="282" y="1059"/>
                </a:lnTo>
                <a:close/>
              </a:path>
            </a:pathLst>
          </a:custGeom>
          <a:solidFill>
            <a:srgbClr val="fc0128"/>
          </a:solidFill>
          <a:ln w="12600">
            <a:solidFill>
              <a:srgbClr val="fc012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243080" y="712800"/>
            <a:ext cx="7686720" cy="5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i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Excel Programming conside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20600" y="1955880"/>
            <a:ext cx="8918640" cy="29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85000"/>
              </a:lnSpc>
              <a:spcBef>
                <a:spcPts val="2160"/>
              </a:spcBef>
              <a:spcAft>
                <a:spcPts val="479"/>
              </a:spcAft>
              <a:buClr>
                <a:srgbClr val="fafd00"/>
              </a:buClr>
              <a:buSzPct val="125000"/>
              <a:buFont typeface="Arial"/>
              <a:buChar char=""/>
              <a:tabLst>
                <a:tab algn="l" pos="1085760"/>
                <a:tab algn="l" pos="4286160"/>
                <a:tab algn="l" pos="45147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xcel 5.0 support will differ from Excel 4.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2160"/>
              </a:spcBef>
              <a:spcAft>
                <a:spcPts val="479"/>
              </a:spcAft>
              <a:buClr>
                <a:srgbClr val="fafd00"/>
              </a:buClr>
              <a:buSzPct val="125000"/>
              <a:buFont typeface="Arial"/>
              <a:buChar char=""/>
              <a:tabLst>
                <a:tab algn="l" pos="1085760"/>
                <a:tab algn="l" pos="4286160"/>
                <a:tab algn="l" pos="45147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urrent sheet must be “temp” saved to disk fir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2160"/>
              </a:spcBef>
              <a:spcAft>
                <a:spcPts val="479"/>
              </a:spcAft>
              <a:buClr>
                <a:srgbClr val="fafd00"/>
              </a:buClr>
              <a:buSzPct val="125000"/>
              <a:buFont typeface="Arial"/>
              <a:buChar char=""/>
              <a:tabLst>
                <a:tab algn="l" pos="1085760"/>
                <a:tab algn="l" pos="4286160"/>
                <a:tab algn="l" pos="45147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heet cannot be shared or locked at send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2160"/>
              </a:spcBef>
              <a:spcAft>
                <a:spcPts val="479"/>
              </a:spcAft>
              <a:buClr>
                <a:srgbClr val="fafd00"/>
              </a:buClr>
              <a:buSzPct val="125000"/>
              <a:buFont typeface="Arial"/>
              <a:buChar char=""/>
              <a:tabLst>
                <a:tab algn="l" pos="1085760"/>
                <a:tab algn="l" pos="4286160"/>
                <a:tab algn="l" pos="45147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xcel 4.0 macro code supports this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243080" y="839880"/>
            <a:ext cx="7686720" cy="5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i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Using SendMail from V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105520" y="1803240"/>
            <a:ext cx="3429000" cy="462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7200" indent="-457200">
              <a:lnSpc>
                <a:spcPct val="85000"/>
              </a:lnSpc>
              <a:spcBef>
                <a:spcPts val="2160"/>
              </a:spcBef>
              <a:spcAft>
                <a:spcPts val="479"/>
              </a:spcAft>
              <a:buClr>
                <a:srgbClr val="fafd00"/>
              </a:buClr>
              <a:buSzPct val="125000"/>
              <a:buFont typeface="Arial"/>
              <a:buChar char=""/>
              <a:tabLst>
                <a:tab algn="l" pos="914400"/>
                <a:tab algn="l" pos="4114800"/>
                <a:tab algn="l" pos="4343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il enabling any application is easy with the SENDMAIL API called from VB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spcBef>
                <a:spcPts val="2160"/>
              </a:spcBef>
              <a:spcAft>
                <a:spcPts val="479"/>
              </a:spcAft>
              <a:buClr>
                <a:srgbClr val="fafd00"/>
              </a:buClr>
              <a:buSzPct val="125000"/>
              <a:buFont typeface="Arial"/>
              <a:buChar char=""/>
              <a:tabLst>
                <a:tab algn="l" pos="914400"/>
                <a:tab algn="l" pos="4114800"/>
                <a:tab algn="l" pos="4343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F.EXE is a simple “file sender” VB application utility that uses a call to the simple form of the SENDMAIL API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spcBef>
                <a:spcPts val="2160"/>
              </a:spcBef>
              <a:spcAft>
                <a:spcPts val="479"/>
              </a:spcAft>
              <a:buClr>
                <a:srgbClr val="fafd00"/>
              </a:buClr>
              <a:buSzPct val="125000"/>
              <a:buFont typeface="Arial"/>
              <a:buChar char=""/>
              <a:tabLst>
                <a:tab algn="l" pos="914400"/>
                <a:tab algn="l" pos="4114800"/>
                <a:tab algn="l" pos="4343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F sends only 1 file per invok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15960" y="2287440"/>
            <a:ext cx="3778200" cy="30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1243080" y="712800"/>
            <a:ext cx="7686720" cy="5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i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VB Basic code for VnsSimpleSendMai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20600" y="1955880"/>
            <a:ext cx="8918640" cy="364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tabLst>
                <a:tab algn="l" pos="1085760"/>
                <a:tab algn="l" pos="4286160"/>
                <a:tab algn="l" pos="4514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Declare Function VnsSimpleSendMail Lib "sendmail.dll" (ByVal pszFileName As String) As Integ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tabLst>
                <a:tab algn="l" pos="1085760"/>
                <a:tab algn="l" pos="4286160"/>
                <a:tab algn="l" pos="45147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tabLst>
                <a:tab algn="l" pos="1085760"/>
                <a:tab algn="l" pos="4286160"/>
                <a:tab algn="l" pos="45147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tabLst>
                <a:tab algn="l" pos="1085760"/>
                <a:tab algn="l" pos="4286160"/>
                <a:tab algn="l" pos="4514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meOfFile = Text1.T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tabLst>
                <a:tab algn="l" pos="1085760"/>
                <a:tab algn="l" pos="4286160"/>
                <a:tab algn="l" pos="4514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If FileExists(NameOfFile) &lt;&gt; 0 Th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tabLst>
                <a:tab algn="l" pos="1085760"/>
                <a:tab algn="l" pos="4286160"/>
                <a:tab algn="l" pos="4514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eturnCode = VnsSimpleSendMail(NameOfFil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tabLst>
                <a:tab algn="l" pos="1085760"/>
                <a:tab algn="l" pos="4286160"/>
                <a:tab algn="l" pos="4514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l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tabLst>
                <a:tab algn="l" pos="1085760"/>
                <a:tab algn="l" pos="4286160"/>
                <a:tab algn="l" pos="4514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'Text1.Text = "File not found: " + NameOfFi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tabLst>
                <a:tab algn="l" pos="1085760"/>
                <a:tab algn="l" pos="4286160"/>
                <a:tab algn="l" pos="4514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nd I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65040" y="5929200"/>
            <a:ext cx="716904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buClr>
                <a:srgbClr val="fafd00"/>
              </a:buClr>
              <a:buSzPct val="125000"/>
              <a:buFont typeface="Arial"/>
              <a:buChar char=""/>
              <a:tabLst>
                <a:tab algn="l" pos="1085760"/>
                <a:tab algn="l" pos="4286160"/>
                <a:tab algn="l" pos="451476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  <a:ea typeface="Arial"/>
              </a:rPr>
              <a:t>VB sample code for DF.EXE is provid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1243080" y="839880"/>
            <a:ext cx="7396200" cy="5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i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Mail Enabling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20600" y="1955880"/>
            <a:ext cx="8918640" cy="206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buClr>
                <a:srgbClr val="fafd00"/>
              </a:buClr>
              <a:buSzPct val="125000"/>
              <a:buFont typeface="Arial"/>
              <a:buChar char=""/>
              <a:tabLst>
                <a:tab algn="l" pos="1085760"/>
                <a:tab algn="l" pos="4286160"/>
                <a:tab algn="l" pos="45147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llow any application to send 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buClr>
                <a:srgbClr val="ffffff"/>
              </a:buClr>
              <a:buFont typeface="Arial"/>
              <a:buChar char="-"/>
              <a:tabLst>
                <a:tab algn="l" pos="743040"/>
                <a:tab algn="l" pos="3943440"/>
                <a:tab algn="l" pos="41720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end current docu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buClr>
                <a:srgbClr val="ffffff"/>
              </a:buClr>
              <a:buFont typeface="Arial"/>
              <a:buChar char="-"/>
              <a:tabLst>
                <a:tab algn="l" pos="743040"/>
                <a:tab algn="l" pos="3943440"/>
                <a:tab algn="l" pos="41720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end current file, or fi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buClr>
                <a:srgbClr val="ffffff"/>
              </a:buClr>
              <a:buFont typeface="Arial"/>
              <a:buChar char="-"/>
              <a:tabLst>
                <a:tab algn="l" pos="743040"/>
                <a:tab algn="l" pos="3943440"/>
                <a:tab algn="l" pos="41720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end text mess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1243080" y="839880"/>
            <a:ext cx="8255160" cy="5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i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What is SendMai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544680" y="1663560"/>
            <a:ext cx="8370720" cy="464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85000"/>
              </a:lnSpc>
              <a:spcBef>
                <a:spcPts val="479"/>
              </a:spcBef>
              <a:spcAft>
                <a:spcPts val="1919"/>
              </a:spcAft>
              <a:buClr>
                <a:srgbClr val="fafd00"/>
              </a:buClr>
              <a:buSzPct val="125000"/>
              <a:buFont typeface="Arial"/>
              <a:buChar char=""/>
              <a:tabLst>
                <a:tab algn="l" pos="1085760"/>
                <a:tab algn="l" pos="4286160"/>
                <a:tab algn="l" pos="45147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endMail is Banyan’s message-enabling D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479"/>
              </a:spcBef>
              <a:spcAft>
                <a:spcPts val="1919"/>
              </a:spcAft>
              <a:buClr>
                <a:srgbClr val="fafd00"/>
              </a:buClr>
              <a:buSzPct val="125000"/>
              <a:buFont typeface="Arial"/>
              <a:buChar char=""/>
              <a:tabLst>
                <a:tab algn="l" pos="1085760"/>
                <a:tab algn="l" pos="4286160"/>
                <a:tab algn="l" pos="45147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endMail simplifies MAIL API programm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75000"/>
              </a:lnSpc>
              <a:spcAft>
                <a:spcPts val="479"/>
              </a:spcAft>
              <a:buClr>
                <a:srgbClr val="ffffff"/>
              </a:buClr>
              <a:buFont typeface="Arial"/>
              <a:buChar char="-"/>
              <a:tabLst>
                <a:tab algn="l" pos="743040"/>
                <a:tab algn="l" pos="3943440"/>
                <a:tab algn="l" pos="41720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 toolkit needed!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75000"/>
              </a:lnSpc>
              <a:spcAft>
                <a:spcPts val="479"/>
              </a:spcAft>
              <a:buClr>
                <a:srgbClr val="ffffff"/>
              </a:buClr>
              <a:buFont typeface="Arial"/>
              <a:buChar char="-"/>
              <a:tabLst>
                <a:tab algn="l" pos="743040"/>
                <a:tab algn="l" pos="3943440"/>
                <a:tab algn="l" pos="41720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mbines messaging and directory require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28560" indent="-228600">
              <a:lnSpc>
                <a:spcPct val="75000"/>
              </a:lnSpc>
              <a:spcAft>
                <a:spcPts val="479"/>
              </a:spcAft>
              <a:tabLst>
                <a:tab algn="l" pos="743040"/>
                <a:tab algn="l" pos="3943440"/>
                <a:tab algn="l" pos="41720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479"/>
              </a:spcBef>
              <a:spcAft>
                <a:spcPts val="1919"/>
              </a:spcAft>
              <a:buClr>
                <a:srgbClr val="fafd00"/>
              </a:buClr>
              <a:buSzPct val="125000"/>
              <a:buFont typeface="Arial"/>
              <a:buChar char=""/>
              <a:tabLst>
                <a:tab algn="l" pos="1085760"/>
                <a:tab algn="l" pos="4286160"/>
                <a:tab algn="l" pos="45147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velopers can enable any appl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5000"/>
              </a:lnSpc>
              <a:spcBef>
                <a:spcPts val="479"/>
              </a:spcBef>
              <a:spcAft>
                <a:spcPts val="241"/>
              </a:spcAft>
              <a:buClr>
                <a:srgbClr val="ffffff"/>
              </a:buClr>
              <a:buFont typeface="Arial"/>
              <a:buChar char="-"/>
              <a:tabLst>
                <a:tab algn="l" pos="743040"/>
                <a:tab algn="l" pos="3943440"/>
                <a:tab algn="l" pos="41720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5000"/>
              </a:lnSpc>
              <a:spcBef>
                <a:spcPts val="479"/>
              </a:spcBef>
              <a:spcAft>
                <a:spcPts val="241"/>
              </a:spcAft>
              <a:buClr>
                <a:srgbClr val="ffffff"/>
              </a:buClr>
              <a:buFont typeface="Arial"/>
              <a:buChar char="-"/>
              <a:tabLst>
                <a:tab algn="l" pos="743040"/>
                <a:tab algn="l" pos="3943440"/>
                <a:tab algn="l" pos="41720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sktop (Word, Excel, Lotus..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5000"/>
              </a:lnSpc>
              <a:spcBef>
                <a:spcPts val="479"/>
              </a:spcBef>
              <a:spcAft>
                <a:spcPts val="241"/>
              </a:spcAft>
              <a:buClr>
                <a:srgbClr val="ffffff"/>
              </a:buClr>
              <a:buFont typeface="Arial"/>
              <a:buChar char="-"/>
              <a:tabLst>
                <a:tab algn="l" pos="743040"/>
                <a:tab algn="l" pos="3943440"/>
                <a:tab algn="l" pos="41720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1243080" y="839880"/>
            <a:ext cx="7686720" cy="5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i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SendMail API ca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20600" y="1955880"/>
            <a:ext cx="8918640" cy="38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buClr>
                <a:srgbClr val="fafd00"/>
              </a:buClr>
              <a:buSzPct val="125000"/>
              <a:buFont typeface="Arial"/>
              <a:buChar char=""/>
              <a:tabLst>
                <a:tab algn="l" pos="1085760"/>
                <a:tab algn="l" pos="4286160"/>
                <a:tab algn="l" pos="45147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endMail has two flav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tabLst>
                <a:tab algn="l" pos="1085760"/>
                <a:tab algn="l" pos="4286160"/>
                <a:tab algn="l" pos="45147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buClr>
                <a:srgbClr val="ffffff"/>
              </a:buClr>
              <a:buFont typeface="Arial"/>
              <a:buChar char="-"/>
              <a:tabLst>
                <a:tab algn="l" pos="743040"/>
                <a:tab algn="l" pos="3943440"/>
                <a:tab algn="l" pos="4172040"/>
              </a:tabLst>
            </a:pPr>
            <a:r>
              <a:rPr b="1" lang="en-US" sz="2400" spc="-1" strike="noStrike">
                <a:solidFill>
                  <a:srgbClr val="7fff00"/>
                </a:solidFill>
                <a:latin typeface="Arial"/>
                <a:ea typeface="Arial"/>
              </a:rPr>
              <a:t>Simple Send Mail: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asiest call to use.  Just give it a file name and it does the res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28560" indent="-228600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tabLst>
                <a:tab algn="l" pos="743040"/>
                <a:tab algn="l" pos="3943440"/>
                <a:tab algn="l" pos="41720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buClr>
                <a:srgbClr val="ffffff"/>
              </a:buClr>
              <a:buFont typeface="Arial"/>
              <a:buChar char="-"/>
              <a:tabLst>
                <a:tab algn="l" pos="743040"/>
                <a:tab algn="l" pos="3943440"/>
                <a:tab algn="l" pos="4172040"/>
              </a:tabLst>
            </a:pPr>
            <a:r>
              <a:rPr b="1" lang="en-US" sz="2400" spc="-1" strike="noStrike">
                <a:solidFill>
                  <a:srgbClr val="7fff00"/>
                </a:solidFill>
                <a:latin typeface="Arial"/>
                <a:ea typeface="Arial"/>
              </a:rPr>
              <a:t>F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l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e</a:t>
            </a:r>
            <a:r>
              <a:rPr b="1" lang="en-US" sz="2400" spc="-1" strike="noStrike">
                <a:solidFill>
                  <a:srgbClr val="fe9b03"/>
                </a:solidFill>
                <a:latin typeface="Arial"/>
                <a:ea typeface="Arial"/>
              </a:rPr>
              <a:t>x</a:t>
            </a:r>
            <a:r>
              <a:rPr b="1" lang="en-US" sz="2400" spc="-1" strike="noStrike">
                <a:solidFill>
                  <a:srgbClr val="b760f9"/>
                </a:solidFill>
                <a:latin typeface="Arial"/>
                <a:ea typeface="Arial"/>
              </a:rPr>
              <a:t>i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l</a:t>
            </a:r>
            <a:r>
              <a:rPr b="1" lang="en-US" sz="2400" spc="-1" strike="noStrike">
                <a:solidFill>
                  <a:srgbClr val="fe9b03"/>
                </a:solidFill>
                <a:latin typeface="Arial"/>
                <a:ea typeface="Arial"/>
              </a:rPr>
              <a:t>e</a:t>
            </a:r>
            <a:r>
              <a:rPr b="1" lang="en-US" sz="2400" spc="-1" strike="noStrike">
                <a:solidFill>
                  <a:srgbClr val="7fff00"/>
                </a:solidFill>
                <a:latin typeface="Arial"/>
                <a:ea typeface="Arial"/>
              </a:rPr>
              <a:t> Send Mail: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ore work to use, but  more control over number of attachments, addressing, and main body conte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189240" y="1905120"/>
            <a:ext cx="4727520" cy="3867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1243080" y="839880"/>
            <a:ext cx="7392960" cy="5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i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Simple SendMail Form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781200" y="2419200"/>
            <a:ext cx="2428920" cy="952560"/>
            <a:chOff x="781200" y="2419200"/>
            <a:chExt cx="2428920" cy="952560"/>
          </a:xfrm>
        </p:grpSpPr>
        <p:sp>
          <p:nvSpPr>
            <p:cNvPr id="56" name=""/>
            <p:cNvSpPr/>
            <p:nvPr/>
          </p:nvSpPr>
          <p:spPr>
            <a:xfrm>
              <a:off x="2066760" y="2419200"/>
              <a:ext cx="1143360" cy="937080"/>
            </a:xfrm>
            <a:custGeom>
              <a:avLst/>
              <a:gdLst/>
              <a:ahLst/>
              <a:rect l="0" t="0" r="r" b="b"/>
              <a:pathLst>
                <a:path w="3176" h="2603">
                  <a:moveTo>
                    <a:pt x="2428" y="1113"/>
                  </a:moveTo>
                  <a:lnTo>
                    <a:pt x="3176" y="554"/>
                  </a:lnTo>
                  <a:lnTo>
                    <a:pt x="2428" y="0"/>
                  </a:lnTo>
                  <a:lnTo>
                    <a:pt x="2428" y="360"/>
                  </a:lnTo>
                  <a:lnTo>
                    <a:pt x="2341" y="361"/>
                  </a:lnTo>
                  <a:lnTo>
                    <a:pt x="2251" y="367"/>
                  </a:lnTo>
                  <a:lnTo>
                    <a:pt x="2162" y="380"/>
                  </a:lnTo>
                  <a:lnTo>
                    <a:pt x="2077" y="397"/>
                  </a:lnTo>
                  <a:lnTo>
                    <a:pt x="1994" y="419"/>
                  </a:lnTo>
                  <a:lnTo>
                    <a:pt x="1913" y="446"/>
                  </a:lnTo>
                  <a:lnTo>
                    <a:pt x="1831" y="478"/>
                  </a:lnTo>
                  <a:lnTo>
                    <a:pt x="1754" y="513"/>
                  </a:lnTo>
                  <a:lnTo>
                    <a:pt x="1681" y="552"/>
                  </a:lnTo>
                  <a:lnTo>
                    <a:pt x="1612" y="592"/>
                  </a:lnTo>
                  <a:lnTo>
                    <a:pt x="1549" y="643"/>
                  </a:lnTo>
                  <a:lnTo>
                    <a:pt x="1488" y="695"/>
                  </a:lnTo>
                  <a:lnTo>
                    <a:pt x="1433" y="749"/>
                  </a:lnTo>
                  <a:lnTo>
                    <a:pt x="1384" y="806"/>
                  </a:lnTo>
                  <a:lnTo>
                    <a:pt x="1340" y="865"/>
                  </a:lnTo>
                  <a:lnTo>
                    <a:pt x="1299" y="926"/>
                  </a:lnTo>
                  <a:lnTo>
                    <a:pt x="1266" y="990"/>
                  </a:lnTo>
                  <a:lnTo>
                    <a:pt x="1240" y="1057"/>
                  </a:lnTo>
                  <a:lnTo>
                    <a:pt x="1222" y="1113"/>
                  </a:lnTo>
                  <a:lnTo>
                    <a:pt x="0" y="1113"/>
                  </a:lnTo>
                  <a:lnTo>
                    <a:pt x="0" y="1497"/>
                  </a:lnTo>
                  <a:lnTo>
                    <a:pt x="1209" y="1497"/>
                  </a:lnTo>
                  <a:lnTo>
                    <a:pt x="1260" y="1599"/>
                  </a:lnTo>
                  <a:lnTo>
                    <a:pt x="1291" y="1664"/>
                  </a:lnTo>
                  <a:lnTo>
                    <a:pt x="1331" y="1726"/>
                  </a:lnTo>
                  <a:lnTo>
                    <a:pt x="1375" y="1785"/>
                  </a:lnTo>
                  <a:lnTo>
                    <a:pt x="1423" y="1843"/>
                  </a:lnTo>
                  <a:lnTo>
                    <a:pt x="1476" y="1899"/>
                  </a:lnTo>
                  <a:lnTo>
                    <a:pt x="1534" y="1953"/>
                  </a:lnTo>
                  <a:lnTo>
                    <a:pt x="1599" y="2000"/>
                  </a:lnTo>
                  <a:lnTo>
                    <a:pt x="1667" y="2043"/>
                  </a:lnTo>
                  <a:lnTo>
                    <a:pt x="1738" y="2083"/>
                  </a:lnTo>
                  <a:lnTo>
                    <a:pt x="1814" y="2118"/>
                  </a:lnTo>
                  <a:lnTo>
                    <a:pt x="1894" y="2152"/>
                  </a:lnTo>
                  <a:lnTo>
                    <a:pt x="1978" y="2180"/>
                  </a:lnTo>
                  <a:lnTo>
                    <a:pt x="2059" y="2204"/>
                  </a:lnTo>
                  <a:lnTo>
                    <a:pt x="2144" y="2221"/>
                  </a:lnTo>
                  <a:lnTo>
                    <a:pt x="2233" y="2234"/>
                  </a:lnTo>
                  <a:lnTo>
                    <a:pt x="2322" y="2241"/>
                  </a:lnTo>
                  <a:lnTo>
                    <a:pt x="2407" y="2245"/>
                  </a:lnTo>
                  <a:lnTo>
                    <a:pt x="2428" y="2245"/>
                  </a:lnTo>
                  <a:lnTo>
                    <a:pt x="2428" y="2603"/>
                  </a:lnTo>
                  <a:lnTo>
                    <a:pt x="3176" y="2050"/>
                  </a:lnTo>
                  <a:lnTo>
                    <a:pt x="2428" y="1497"/>
                  </a:lnTo>
                  <a:lnTo>
                    <a:pt x="2429" y="1886"/>
                  </a:lnTo>
                  <a:lnTo>
                    <a:pt x="2413" y="1886"/>
                  </a:lnTo>
                  <a:lnTo>
                    <a:pt x="2347" y="1884"/>
                  </a:lnTo>
                  <a:lnTo>
                    <a:pt x="2276" y="1877"/>
                  </a:lnTo>
                  <a:lnTo>
                    <a:pt x="2207" y="1862"/>
                  </a:lnTo>
                  <a:lnTo>
                    <a:pt x="2141" y="1844"/>
                  </a:lnTo>
                  <a:lnTo>
                    <a:pt x="2077" y="1822"/>
                  </a:lnTo>
                  <a:lnTo>
                    <a:pt x="2015" y="1797"/>
                  </a:lnTo>
                  <a:lnTo>
                    <a:pt x="1959" y="1765"/>
                  </a:lnTo>
                  <a:lnTo>
                    <a:pt x="1906" y="1732"/>
                  </a:lnTo>
                  <a:lnTo>
                    <a:pt x="1857" y="1692"/>
                  </a:lnTo>
                  <a:lnTo>
                    <a:pt x="1810" y="1651"/>
                  </a:lnTo>
                  <a:lnTo>
                    <a:pt x="1771" y="1605"/>
                  </a:lnTo>
                  <a:lnTo>
                    <a:pt x="1738" y="1558"/>
                  </a:lnTo>
                  <a:lnTo>
                    <a:pt x="1709" y="1507"/>
                  </a:lnTo>
                  <a:lnTo>
                    <a:pt x="1689" y="1455"/>
                  </a:lnTo>
                  <a:lnTo>
                    <a:pt x="1673" y="1404"/>
                  </a:lnTo>
                  <a:lnTo>
                    <a:pt x="1664" y="1350"/>
                  </a:lnTo>
                  <a:lnTo>
                    <a:pt x="1661" y="1296"/>
                  </a:lnTo>
                  <a:lnTo>
                    <a:pt x="1664" y="1240"/>
                  </a:lnTo>
                  <a:lnTo>
                    <a:pt x="1675" y="1186"/>
                  </a:lnTo>
                  <a:lnTo>
                    <a:pt x="1693" y="1135"/>
                  </a:lnTo>
                  <a:lnTo>
                    <a:pt x="1716" y="1085"/>
                  </a:lnTo>
                  <a:lnTo>
                    <a:pt x="1743" y="1034"/>
                  </a:lnTo>
                  <a:lnTo>
                    <a:pt x="1780" y="986"/>
                  </a:lnTo>
                  <a:lnTo>
                    <a:pt x="1819" y="942"/>
                  </a:lnTo>
                  <a:lnTo>
                    <a:pt x="1865" y="901"/>
                  </a:lnTo>
                  <a:lnTo>
                    <a:pt x="1916" y="861"/>
                  </a:lnTo>
                  <a:lnTo>
                    <a:pt x="1972" y="830"/>
                  </a:lnTo>
                  <a:lnTo>
                    <a:pt x="2027" y="799"/>
                  </a:lnTo>
                  <a:lnTo>
                    <a:pt x="2089" y="773"/>
                  </a:lnTo>
                  <a:lnTo>
                    <a:pt x="2154" y="751"/>
                  </a:lnTo>
                  <a:lnTo>
                    <a:pt x="2221" y="736"/>
                  </a:lnTo>
                  <a:lnTo>
                    <a:pt x="2291" y="723"/>
                  </a:lnTo>
                  <a:lnTo>
                    <a:pt x="2361" y="717"/>
                  </a:lnTo>
                  <a:lnTo>
                    <a:pt x="2429" y="715"/>
                  </a:lnTo>
                  <a:lnTo>
                    <a:pt x="2428" y="1113"/>
                  </a:lnTo>
                  <a:close/>
                </a:path>
              </a:pathLst>
            </a:custGeom>
            <a:solidFill>
              <a:srgbClr val="fe9b03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 txBox="1"/>
            <p:nvPr/>
          </p:nvSpPr>
          <p:spPr>
            <a:xfrm>
              <a:off x="781200" y="2503440"/>
              <a:ext cx="1285920" cy="868320"/>
            </a:xfrm>
            <a:prstGeom prst="rect">
              <a:avLst/>
            </a:prstGeom>
            <a:solidFill>
              <a:srgbClr val="fe9b03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D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dress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tto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790560" y="4495680"/>
            <a:ext cx="5600880" cy="847800"/>
            <a:chOff x="790560" y="4495680"/>
            <a:chExt cx="5600880" cy="847800"/>
          </a:xfrm>
        </p:grpSpPr>
        <p:sp>
          <p:nvSpPr>
            <p:cNvPr id="59" name=""/>
            <p:cNvSpPr/>
            <p:nvPr/>
          </p:nvSpPr>
          <p:spPr>
            <a:xfrm>
              <a:off x="2082960" y="4495680"/>
              <a:ext cx="3940560" cy="733680"/>
            </a:xfrm>
            <a:custGeom>
              <a:avLst/>
              <a:gdLst/>
              <a:ahLst/>
              <a:rect l="0" t="0" r="r" b="b"/>
              <a:pathLst>
                <a:path w="10946" h="2038">
                  <a:moveTo>
                    <a:pt x="3403" y="1014"/>
                  </a:moveTo>
                  <a:lnTo>
                    <a:pt x="4119" y="507"/>
                  </a:lnTo>
                  <a:lnTo>
                    <a:pt x="3403" y="0"/>
                  </a:lnTo>
                  <a:lnTo>
                    <a:pt x="3403" y="338"/>
                  </a:lnTo>
                  <a:lnTo>
                    <a:pt x="2111" y="327"/>
                  </a:lnTo>
                  <a:lnTo>
                    <a:pt x="2030" y="333"/>
                  </a:lnTo>
                  <a:lnTo>
                    <a:pt x="1950" y="344"/>
                  </a:lnTo>
                  <a:lnTo>
                    <a:pt x="1873" y="360"/>
                  </a:lnTo>
                  <a:lnTo>
                    <a:pt x="1799" y="380"/>
                  </a:lnTo>
                  <a:lnTo>
                    <a:pt x="1725" y="404"/>
                  </a:lnTo>
                  <a:lnTo>
                    <a:pt x="1651" y="433"/>
                  </a:lnTo>
                  <a:lnTo>
                    <a:pt x="1582" y="465"/>
                  </a:lnTo>
                  <a:lnTo>
                    <a:pt x="1516" y="501"/>
                  </a:lnTo>
                  <a:lnTo>
                    <a:pt x="1454" y="538"/>
                  </a:lnTo>
                  <a:lnTo>
                    <a:pt x="1397" y="583"/>
                  </a:lnTo>
                  <a:lnTo>
                    <a:pt x="1343" y="630"/>
                  </a:lnTo>
                  <a:lnTo>
                    <a:pt x="1293" y="679"/>
                  </a:lnTo>
                  <a:lnTo>
                    <a:pt x="1249" y="731"/>
                  </a:lnTo>
                  <a:lnTo>
                    <a:pt x="1210" y="785"/>
                  </a:lnTo>
                  <a:lnTo>
                    <a:pt x="1172" y="841"/>
                  </a:lnTo>
                  <a:lnTo>
                    <a:pt x="1142" y="899"/>
                  </a:lnTo>
                  <a:lnTo>
                    <a:pt x="1119" y="960"/>
                  </a:lnTo>
                  <a:lnTo>
                    <a:pt x="1103" y="1011"/>
                  </a:lnTo>
                  <a:lnTo>
                    <a:pt x="0" y="1011"/>
                  </a:lnTo>
                  <a:lnTo>
                    <a:pt x="0" y="1361"/>
                  </a:lnTo>
                  <a:lnTo>
                    <a:pt x="1091" y="1361"/>
                  </a:lnTo>
                  <a:lnTo>
                    <a:pt x="1137" y="1454"/>
                  </a:lnTo>
                  <a:lnTo>
                    <a:pt x="1165" y="1513"/>
                  </a:lnTo>
                  <a:lnTo>
                    <a:pt x="1201" y="1570"/>
                  </a:lnTo>
                  <a:lnTo>
                    <a:pt x="1241" y="1623"/>
                  </a:lnTo>
                  <a:lnTo>
                    <a:pt x="1284" y="1677"/>
                  </a:lnTo>
                  <a:lnTo>
                    <a:pt x="1332" y="1727"/>
                  </a:lnTo>
                  <a:lnTo>
                    <a:pt x="1385" y="1775"/>
                  </a:lnTo>
                  <a:lnTo>
                    <a:pt x="1442" y="1819"/>
                  </a:lnTo>
                  <a:lnTo>
                    <a:pt x="1503" y="1858"/>
                  </a:lnTo>
                  <a:lnTo>
                    <a:pt x="1567" y="1894"/>
                  </a:lnTo>
                  <a:lnTo>
                    <a:pt x="1636" y="1926"/>
                  </a:lnTo>
                  <a:lnTo>
                    <a:pt x="1708" y="1956"/>
                  </a:lnTo>
                  <a:lnTo>
                    <a:pt x="1784" y="1982"/>
                  </a:lnTo>
                  <a:lnTo>
                    <a:pt x="1857" y="2004"/>
                  </a:lnTo>
                  <a:lnTo>
                    <a:pt x="1934" y="2020"/>
                  </a:lnTo>
                  <a:lnTo>
                    <a:pt x="2014" y="2031"/>
                  </a:lnTo>
                  <a:lnTo>
                    <a:pt x="2094" y="2038"/>
                  </a:lnTo>
                  <a:lnTo>
                    <a:pt x="10943" y="2027"/>
                  </a:lnTo>
                  <a:lnTo>
                    <a:pt x="10946" y="1731"/>
                  </a:lnTo>
                  <a:lnTo>
                    <a:pt x="1991" y="1694"/>
                  </a:lnTo>
                  <a:lnTo>
                    <a:pt x="1931" y="1677"/>
                  </a:lnTo>
                  <a:lnTo>
                    <a:pt x="1873" y="1657"/>
                  </a:lnTo>
                  <a:lnTo>
                    <a:pt x="1818" y="1634"/>
                  </a:lnTo>
                  <a:lnTo>
                    <a:pt x="1767" y="1605"/>
                  </a:lnTo>
                  <a:lnTo>
                    <a:pt x="1719" y="1575"/>
                  </a:lnTo>
                  <a:lnTo>
                    <a:pt x="1675" y="1539"/>
                  </a:lnTo>
                  <a:lnTo>
                    <a:pt x="1632" y="1501"/>
                  </a:lnTo>
                  <a:lnTo>
                    <a:pt x="1597" y="1460"/>
                  </a:lnTo>
                  <a:lnTo>
                    <a:pt x="1567" y="1417"/>
                  </a:lnTo>
                  <a:lnTo>
                    <a:pt x="1541" y="1370"/>
                  </a:lnTo>
                  <a:lnTo>
                    <a:pt x="1523" y="1323"/>
                  </a:lnTo>
                  <a:lnTo>
                    <a:pt x="1508" y="1276"/>
                  </a:lnTo>
                  <a:lnTo>
                    <a:pt x="1501" y="1227"/>
                  </a:lnTo>
                  <a:lnTo>
                    <a:pt x="1498" y="1178"/>
                  </a:lnTo>
                  <a:lnTo>
                    <a:pt x="1501" y="1128"/>
                  </a:lnTo>
                  <a:lnTo>
                    <a:pt x="1510" y="1079"/>
                  </a:lnTo>
                  <a:lnTo>
                    <a:pt x="1526" y="1032"/>
                  </a:lnTo>
                  <a:lnTo>
                    <a:pt x="1548" y="985"/>
                  </a:lnTo>
                  <a:lnTo>
                    <a:pt x="1572" y="939"/>
                  </a:lnTo>
                  <a:lnTo>
                    <a:pt x="1605" y="895"/>
                  </a:lnTo>
                  <a:lnTo>
                    <a:pt x="1641" y="855"/>
                  </a:lnTo>
                  <a:lnTo>
                    <a:pt x="1682" y="818"/>
                  </a:lnTo>
                  <a:lnTo>
                    <a:pt x="1728" y="781"/>
                  </a:lnTo>
                  <a:lnTo>
                    <a:pt x="1778" y="753"/>
                  </a:lnTo>
                  <a:lnTo>
                    <a:pt x="1828" y="725"/>
                  </a:lnTo>
                  <a:lnTo>
                    <a:pt x="1884" y="701"/>
                  </a:lnTo>
                  <a:lnTo>
                    <a:pt x="1943" y="681"/>
                  </a:lnTo>
                  <a:lnTo>
                    <a:pt x="2003" y="667"/>
                  </a:lnTo>
                  <a:lnTo>
                    <a:pt x="2066" y="656"/>
                  </a:lnTo>
                  <a:lnTo>
                    <a:pt x="2129" y="650"/>
                  </a:lnTo>
                  <a:lnTo>
                    <a:pt x="3403" y="676"/>
                  </a:lnTo>
                  <a:lnTo>
                    <a:pt x="3403" y="1014"/>
                  </a:lnTo>
                  <a:close/>
                </a:path>
              </a:pathLst>
            </a:custGeom>
            <a:solidFill>
              <a:srgbClr val="fe9b03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 txBox="1"/>
            <p:nvPr/>
          </p:nvSpPr>
          <p:spPr>
            <a:xfrm>
              <a:off x="790560" y="4556160"/>
              <a:ext cx="1292400" cy="787320"/>
            </a:xfrm>
            <a:prstGeom prst="rect">
              <a:avLst/>
            </a:prstGeom>
            <a:solidFill>
              <a:srgbClr val="fe9b03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dition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ntrol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29280" y="4799160"/>
              <a:ext cx="362160" cy="424080"/>
            </a:xfrm>
            <a:custGeom>
              <a:avLst/>
              <a:gdLst/>
              <a:ahLst/>
              <a:rect l="0" t="0" r="r" b="b"/>
              <a:pathLst>
                <a:path w="1006" h="1178">
                  <a:moveTo>
                    <a:pt x="7" y="1178"/>
                  </a:moveTo>
                  <a:lnTo>
                    <a:pt x="21" y="1178"/>
                  </a:lnTo>
                  <a:lnTo>
                    <a:pt x="115" y="1136"/>
                  </a:lnTo>
                  <a:lnTo>
                    <a:pt x="178" y="1122"/>
                  </a:lnTo>
                  <a:lnTo>
                    <a:pt x="231" y="1095"/>
                  </a:lnTo>
                  <a:lnTo>
                    <a:pt x="280" y="1068"/>
                  </a:lnTo>
                  <a:lnTo>
                    <a:pt x="325" y="1039"/>
                  </a:lnTo>
                  <a:lnTo>
                    <a:pt x="378" y="1010"/>
                  </a:lnTo>
                  <a:lnTo>
                    <a:pt x="423" y="973"/>
                  </a:lnTo>
                  <a:lnTo>
                    <a:pt x="465" y="934"/>
                  </a:lnTo>
                  <a:lnTo>
                    <a:pt x="500" y="893"/>
                  </a:lnTo>
                  <a:lnTo>
                    <a:pt x="543" y="854"/>
                  </a:lnTo>
                  <a:lnTo>
                    <a:pt x="575" y="805"/>
                  </a:lnTo>
                  <a:lnTo>
                    <a:pt x="600" y="756"/>
                  </a:lnTo>
                  <a:lnTo>
                    <a:pt x="628" y="705"/>
                  </a:lnTo>
                  <a:lnTo>
                    <a:pt x="649" y="659"/>
                  </a:lnTo>
                  <a:lnTo>
                    <a:pt x="659" y="610"/>
                  </a:lnTo>
                  <a:lnTo>
                    <a:pt x="677" y="558"/>
                  </a:lnTo>
                  <a:lnTo>
                    <a:pt x="673" y="507"/>
                  </a:lnTo>
                  <a:lnTo>
                    <a:pt x="673" y="455"/>
                  </a:lnTo>
                  <a:lnTo>
                    <a:pt x="680" y="441"/>
                  </a:lnTo>
                  <a:lnTo>
                    <a:pt x="1006" y="438"/>
                  </a:lnTo>
                  <a:lnTo>
                    <a:pt x="490" y="0"/>
                  </a:lnTo>
                  <a:lnTo>
                    <a:pt x="0" y="450"/>
                  </a:lnTo>
                  <a:lnTo>
                    <a:pt x="353" y="446"/>
                  </a:lnTo>
                  <a:lnTo>
                    <a:pt x="350" y="455"/>
                  </a:lnTo>
                  <a:lnTo>
                    <a:pt x="350" y="497"/>
                  </a:lnTo>
                  <a:lnTo>
                    <a:pt x="346" y="538"/>
                  </a:lnTo>
                  <a:lnTo>
                    <a:pt x="332" y="577"/>
                  </a:lnTo>
                  <a:lnTo>
                    <a:pt x="315" y="615"/>
                  </a:lnTo>
                  <a:lnTo>
                    <a:pt x="301" y="649"/>
                  </a:lnTo>
                  <a:lnTo>
                    <a:pt x="276" y="690"/>
                  </a:lnTo>
                  <a:lnTo>
                    <a:pt x="255" y="722"/>
                  </a:lnTo>
                  <a:lnTo>
                    <a:pt x="224" y="754"/>
                  </a:lnTo>
                  <a:lnTo>
                    <a:pt x="192" y="785"/>
                  </a:lnTo>
                  <a:lnTo>
                    <a:pt x="154" y="812"/>
                  </a:lnTo>
                  <a:lnTo>
                    <a:pt x="112" y="834"/>
                  </a:lnTo>
                  <a:lnTo>
                    <a:pt x="70" y="859"/>
                  </a:lnTo>
                  <a:lnTo>
                    <a:pt x="24" y="876"/>
                  </a:lnTo>
                  <a:lnTo>
                    <a:pt x="7" y="944"/>
                  </a:lnTo>
                  <a:lnTo>
                    <a:pt x="7" y="1178"/>
                  </a:lnTo>
                  <a:close/>
                </a:path>
              </a:pathLst>
            </a:custGeom>
            <a:solidFill>
              <a:srgbClr val="fe9b03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268200" y="1965240"/>
            <a:ext cx="792324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#include "sendmail.h"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allStatus   iCallRe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allStatus VnsSimpleSendMail( </a:t>
            </a:r>
            <a:r>
              <a:rPr b="1" i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LPSTR lpFileName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)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xamp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CallRet = VnsSimpleSendMail( "FILENAME.TXT" 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1150920" y="809640"/>
            <a:ext cx="8439120" cy="5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i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Simplest Form of SendMai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448240" y="1765440"/>
            <a:ext cx="2260440" cy="1193760"/>
          </a:xfrm>
          <a:prstGeom prst="rect">
            <a:avLst/>
          </a:prstGeom>
          <a:solidFill>
            <a:srgbClr val="fe9b03"/>
          </a:solidFill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solves to char FAR 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1243080" y="839880"/>
            <a:ext cx="7686720" cy="5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i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Considerations for Simple SendMai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20600" y="1955880"/>
            <a:ext cx="89186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85000"/>
              </a:lnSpc>
              <a:spcBef>
                <a:spcPts val="1440"/>
              </a:spcBef>
              <a:spcAft>
                <a:spcPts val="479"/>
              </a:spcAft>
              <a:buClr>
                <a:srgbClr val="fafd00"/>
              </a:buClr>
              <a:buSzPct val="125000"/>
              <a:buFont typeface="Arial"/>
              <a:buChar char=""/>
              <a:tabLst>
                <a:tab algn="l" pos="1085760"/>
                <a:tab algn="l" pos="4286160"/>
                <a:tab algn="l" pos="45147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alling application must create a disk image fir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1440"/>
              </a:spcBef>
              <a:spcAft>
                <a:spcPts val="479"/>
              </a:spcAft>
              <a:buClr>
                <a:srgbClr val="fafd00"/>
              </a:buClr>
              <a:buSzPct val="125000"/>
              <a:buFont typeface="Arial"/>
              <a:buChar char=""/>
              <a:tabLst>
                <a:tab algn="l" pos="1085760"/>
                <a:tab algn="l" pos="4286160"/>
                <a:tab algn="l" pos="45147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endMail will open the file bin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1440"/>
              </a:spcBef>
              <a:spcAft>
                <a:spcPts val="479"/>
              </a:spcAft>
              <a:buClr>
                <a:srgbClr val="fafd00"/>
              </a:buClr>
              <a:buSzPct val="125000"/>
              <a:buFont typeface="Arial"/>
              <a:buChar char=""/>
              <a:tabLst>
                <a:tab algn="l" pos="1085760"/>
                <a:tab algn="l" pos="4286160"/>
                <a:tab algn="l" pos="45147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e sure file is not “locked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1440"/>
              </a:spcBef>
              <a:spcAft>
                <a:spcPts val="479"/>
              </a:spcAft>
              <a:buClr>
                <a:srgbClr val="fafd00"/>
              </a:buClr>
              <a:buSzPct val="125000"/>
              <a:buFont typeface="Arial"/>
              <a:buChar char=""/>
              <a:tabLst>
                <a:tab algn="l" pos="1085760"/>
                <a:tab algn="l" pos="4286160"/>
                <a:tab algn="l" pos="45147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rror codes other than zero can be explained using the call VNSERR error:  VNSERR 3019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1440"/>
              </a:spcBef>
              <a:spcAft>
                <a:spcPts val="479"/>
              </a:spcAft>
              <a:buClr>
                <a:srgbClr val="fafd00"/>
              </a:buClr>
              <a:buSzPct val="125000"/>
              <a:buFont typeface="Arial"/>
              <a:buChar char=""/>
              <a:tabLst>
                <a:tab algn="l" pos="1085760"/>
                <a:tab algn="l" pos="4286160"/>
                <a:tab algn="l" pos="45147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 ALT-ENTER to &lt;CR,LF&gt; in message bo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1440"/>
              </a:spcBef>
              <a:spcAft>
                <a:spcPts val="479"/>
              </a:spcAft>
              <a:buClr>
                <a:srgbClr val="fafd00"/>
              </a:buClr>
              <a:buSzPct val="125000"/>
              <a:buFont typeface="Arial"/>
              <a:buChar char=""/>
              <a:tabLst>
                <a:tab algn="l" pos="1085760"/>
                <a:tab algn="l" pos="4286160"/>
                <a:tab algn="l" pos="45147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essage edit box support 749 charac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243080" y="839880"/>
            <a:ext cx="7686720" cy="5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i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Flexible SendMail API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20600" y="1955880"/>
            <a:ext cx="8918640" cy="37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buClr>
                <a:srgbClr val="fafd00"/>
              </a:buClr>
              <a:buSzPct val="125000"/>
              <a:buFont typeface="Arial"/>
              <a:buChar char=""/>
              <a:tabLst>
                <a:tab algn="l" pos="1085760"/>
                <a:tab algn="l" pos="4286160"/>
                <a:tab algn="l" pos="45147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allStatus VnsSimpleSendMailE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tabLst>
                <a:tab algn="l" pos="1085760"/>
                <a:tab algn="l" pos="4286160"/>
                <a:tab algn="l" pos="45147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( LPBODY_PIECES lpBodyPieces, LPSTR lpRecips 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tabLst>
                <a:tab algn="l" pos="1085760"/>
                <a:tab algn="l" pos="4286160"/>
                <a:tab algn="l" pos="45147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buClr>
                <a:srgbClr val="fafd00"/>
              </a:buClr>
              <a:buSzPct val="125000"/>
              <a:buFont typeface="Arial"/>
              <a:buChar char=""/>
              <a:tabLst>
                <a:tab algn="l" pos="1085760"/>
                <a:tab algn="l" pos="4286160"/>
                <a:tab algn="l" pos="451476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LPBODY_PIECES  lpBodyPieces;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buClr>
                <a:srgbClr val="ffffff"/>
              </a:buClr>
              <a:buFont typeface="Arial"/>
              <a:buChar char="-"/>
              <a:tabLst>
                <a:tab algn="l" pos="743040"/>
                <a:tab algn="l" pos="3943440"/>
                <a:tab algn="l" pos="41720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Instead of having SENDMAIL.DLL package up one file to send, this structure allows you to send mutiple files as attachments, or in message bod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buClr>
                <a:srgbClr val="fafd00"/>
              </a:buClr>
              <a:buSzPct val="125000"/>
              <a:buFont typeface="Arial"/>
              <a:buChar char=""/>
              <a:tabLst>
                <a:tab algn="l" pos="1085760"/>
                <a:tab algn="l" pos="4286160"/>
                <a:tab algn="l" pos="451476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LPSTR  lpRecips;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buClr>
                <a:srgbClr val="ffffff"/>
              </a:buClr>
              <a:buFont typeface="Arial"/>
              <a:buChar char="-"/>
              <a:tabLst>
                <a:tab algn="l" pos="743040"/>
                <a:tab algn="l" pos="3943440"/>
                <a:tab algn="l" pos="41720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If you pass a pointer to 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lpRecip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, the VNSDLG browser will NOT come up. A NULL will bring up the addressing dialog box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teven Sohn</dc:creator>
  <dc:description/>
  <dc:language>en-US</dc:language>
  <cp:lastModifiedBy>Steven Sohn</cp:lastModifiedBy>
  <cp:revision>0</cp:revision>
  <dc:subject>Banyan 1994 Developer confenence</dc:subject>
  <dc:title>Mail Enabling Desktop Applications</dc:title>
</cp:coreProperties>
</file>