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75280" y="23760"/>
            <a:ext cx="31561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 ‘93 (1st talk) 6/93 </a:t>
            </a:r>
            <a:fld id="{028207DF-83CF-43B6-97E3-27C104F0054A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457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43360" y="2724120"/>
            <a:ext cx="469260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8040" y="1987560"/>
            <a:ext cx="28893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09640" y="227160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7334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, secure file and print sharing compatible with Windows for Workgroups and 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nd account administration tools which can manage systems remotely (and secure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base 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P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 - User’s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1480" y="1733400"/>
            <a:ext cx="8140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account/login facilitates access to all network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administrative privileges, users can share local drives, files, CD-ROMs, and pr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mail, scheduling and Net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all network resources through common tools - File Manager, Prin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3840" y="228600"/>
            <a:ext cx="8896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: Administrator’s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09640" y="1733400"/>
            <a:ext cx="75247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is transport-independent, can match the customer’s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granular access rights can be applied to network resources as they are sh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 security offers fine-tuning of resource sharing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tools offer very simple network installation, configuration and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ystems can be managed remotely as easily as they are lo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: Administrator’s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701720"/>
            <a:ext cx="661032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can be placed into groups for simple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location for network component installation, and config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properties and usage can be controlled through a single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events and critical errors logged centrally and consistently on al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s may graphically monitor remote or local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567480" y="3797280"/>
            <a:ext cx="2426040" cy="519120"/>
            <a:chOff x="6567480" y="3797280"/>
            <a:chExt cx="2426040" cy="519120"/>
          </a:xfrm>
        </p:grpSpPr>
        <p:sp>
          <p:nvSpPr>
            <p:cNvPr id="67" name=""/>
            <p:cNvSpPr txBox="1"/>
            <p:nvPr/>
          </p:nvSpPr>
          <p:spPr>
            <a:xfrm>
              <a:off x="7402680" y="3855960"/>
              <a:ext cx="15908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Server Mana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6567480" y="3797280"/>
              <a:ext cx="67788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6567480" y="4759200"/>
            <a:ext cx="1973520" cy="574560"/>
            <a:chOff x="6567480" y="4759200"/>
            <a:chExt cx="1973520" cy="574560"/>
          </a:xfrm>
        </p:grpSpPr>
        <p:sp>
          <p:nvSpPr>
            <p:cNvPr id="70" name=""/>
            <p:cNvSpPr txBox="1"/>
            <p:nvPr/>
          </p:nvSpPr>
          <p:spPr>
            <a:xfrm>
              <a:off x="7189920" y="4863960"/>
              <a:ext cx="1351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Event View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6567480" y="4759200"/>
              <a:ext cx="471600" cy="57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6567480" y="1801800"/>
            <a:ext cx="2135520" cy="595440"/>
            <a:chOff x="6567480" y="1801800"/>
            <a:chExt cx="2135520" cy="595440"/>
          </a:xfrm>
        </p:grpSpPr>
        <p:sp>
          <p:nvSpPr>
            <p:cNvPr id="73" name=""/>
            <p:cNvSpPr txBox="1"/>
            <p:nvPr/>
          </p:nvSpPr>
          <p:spPr>
            <a:xfrm>
              <a:off x="7278840" y="1952640"/>
              <a:ext cx="14241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User Mana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6567480" y="1801800"/>
              <a:ext cx="60804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6567480" y="5829480"/>
            <a:ext cx="1992240" cy="536400"/>
            <a:chOff x="6567480" y="5829480"/>
            <a:chExt cx="1992240" cy="536400"/>
          </a:xfrm>
        </p:grpSpPr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6567480" y="5829480"/>
              <a:ext cx="539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 txBox="1"/>
            <p:nvPr/>
          </p:nvSpPr>
          <p:spPr>
            <a:xfrm>
              <a:off x="7219800" y="5911920"/>
              <a:ext cx="1339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Perf. Moni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567480" y="2863800"/>
            <a:ext cx="2514600" cy="641520"/>
            <a:chOff x="6567480" y="2863800"/>
            <a:chExt cx="2514600" cy="641520"/>
          </a:xfrm>
        </p:grpSpPr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6567480" y="2957400"/>
              <a:ext cx="6476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7440480" y="2863800"/>
              <a:ext cx="16416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Network Contr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Pan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809640" y="217656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Windows NT Network Architectu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rchitecture:  Highligh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09640" y="1733400"/>
            <a:ext cx="752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hardware and media independence provided by NDIS 3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independence allows offers network administrators freedom of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vider interface allows other NOS clients to integrate seam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 architecture leveraged by network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Hardware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352520"/>
            <a:ext cx="7467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detection of network hardware and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included for many popular network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diverse media including ethernet, token ring, FDDI, ISD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based on the NDIS 3.0 specification, source portable to Windows for Work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otocol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8800" y="1930320"/>
            <a:ext cx="1752480" cy="77472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877000" y="2852640"/>
            <a:ext cx="1214280" cy="5335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6480" y="345924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213680" y="335268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909880" y="5526000"/>
            <a:ext cx="3772080" cy="457200"/>
            <a:chOff x="2909880" y="5526000"/>
            <a:chExt cx="3772080" cy="457200"/>
          </a:xfrm>
        </p:grpSpPr>
        <p:sp>
          <p:nvSpPr>
            <p:cNvPr id="92" name=""/>
            <p:cNvSpPr/>
            <p:nvPr/>
          </p:nvSpPr>
          <p:spPr>
            <a:xfrm>
              <a:off x="2909880" y="552600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3354480" y="5610240"/>
              <a:ext cx="2884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311800" y="3549600"/>
            <a:ext cx="1359000" cy="1782720"/>
            <a:chOff x="5311800" y="3549600"/>
            <a:chExt cx="1359000" cy="1782720"/>
          </a:xfrm>
        </p:grpSpPr>
        <p:sp>
          <p:nvSpPr>
            <p:cNvPr id="95" name=""/>
            <p:cNvSpPr/>
            <p:nvPr/>
          </p:nvSpPr>
          <p:spPr>
            <a:xfrm>
              <a:off x="5311800" y="3549600"/>
              <a:ext cx="1359000" cy="17827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443560" y="4316400"/>
              <a:ext cx="1144440" cy="3160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 txBox="1"/>
          <p:nvPr/>
        </p:nvSpPr>
        <p:spPr>
          <a:xfrm>
            <a:off x="4797360" y="2859120"/>
            <a:ext cx="998640" cy="473040"/>
          </a:xfrm>
          <a:prstGeom prst="rect">
            <a:avLst/>
          </a:prstGeom>
          <a:solidFill>
            <a:srgbClr val="1f43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87760" y="2852640"/>
            <a:ext cx="1065240" cy="473040"/>
          </a:xfrm>
          <a:prstGeom prst="rect">
            <a:avLst/>
          </a:prstGeom>
          <a:solidFill>
            <a:srgbClr val="712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14440" y="348300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8480" y="5432400"/>
            <a:ext cx="48783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147080" y="526572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16240" y="2776680"/>
            <a:ext cx="48909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66960" y="295596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54120" y="1928880"/>
            <a:ext cx="2732040" cy="776160"/>
            <a:chOff x="2454120" y="1928880"/>
            <a:chExt cx="2732040" cy="776160"/>
          </a:xfrm>
        </p:grpSpPr>
        <p:sp>
          <p:nvSpPr>
            <p:cNvPr id="105" name=""/>
            <p:cNvSpPr/>
            <p:nvPr/>
          </p:nvSpPr>
          <p:spPr>
            <a:xfrm>
              <a:off x="2454120" y="1928880"/>
              <a:ext cx="2732040" cy="7761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057480" y="205740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5500800" y="2031840"/>
            <a:ext cx="130968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3160" y="3927600"/>
            <a:ext cx="782640" cy="10638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489480" y="4240080"/>
            <a:ext cx="630360" cy="4730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3549600"/>
            <a:ext cx="2263680" cy="2984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22480" y="5087880"/>
            <a:ext cx="2263680" cy="284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22480" y="3549600"/>
            <a:ext cx="434880" cy="1822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05280" y="3776760"/>
            <a:ext cx="334800" cy="15127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27560" y="3927600"/>
            <a:ext cx="782640" cy="10638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470480" y="4230720"/>
            <a:ext cx="573120" cy="492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44760" y="2852640"/>
            <a:ext cx="1065240" cy="47304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Transport Independ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1480" y="1733400"/>
            <a:ext cx="81406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 can run over any network transport conforming to the TDI/NDI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ed and supported over the built-in NetBEUI, TCP/IP and IPX/SPX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network administrators to migrate Windows networking into existing infrastructures without changing their topology/routing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73200" y="1542960"/>
            <a:ext cx="77979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indows NT network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network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Protocols Suppor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90720" y="12762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BEUI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ast protocol for LAN-based file, print, and client-server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PX/SPX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llows NetWare-centric infrastructures to remain on IPX/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widely accepted internetworking protocol for enterprise networks and foreign host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eTalk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used to provide file and print sharing to Macintosh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: Future Dir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0280" y="2552760"/>
            <a:ext cx="75438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Microsoft’s strategic internetworking protocol for scalable Windows networ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ultiprovider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1560" y="1295280"/>
            <a:ext cx="71629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provider interface allows multiple network providers to integrate tightly wit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16200" y="4979880"/>
            <a:ext cx="1725480" cy="822240"/>
          </a:xfrm>
          <a:prstGeom prst="rect">
            <a:avLst/>
          </a:prstGeom>
          <a:gradFill rotWithShape="0">
            <a:gsLst>
              <a:gs pos="0">
                <a:srgbClr val="19327d"/>
              </a:gs>
              <a:gs pos="100000">
                <a:srgbClr val="3365fb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0240" y="4991040"/>
            <a:ext cx="1714680" cy="800280"/>
          </a:xfrm>
          <a:prstGeom prst="rect">
            <a:avLst/>
          </a:prstGeom>
          <a:gradFill rotWithShape="0">
            <a:gsLst>
              <a:gs pos="0">
                <a:srgbClr val="5f00aa"/>
              </a:gs>
              <a:gs pos="100000">
                <a:srgbClr val="8901f3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22840" y="4991040"/>
            <a:ext cx="1866960" cy="80028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5440" y="3981600"/>
            <a:ext cx="5829480" cy="80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59200" y="4146480"/>
            <a:ext cx="52434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200" spc="-1" strike="noStrike">
                <a:solidFill>
                  <a:srgbClr val="05068f"/>
                </a:solidFill>
                <a:latin typeface="Times New Roman"/>
                <a:ea typeface="Times New Roman"/>
              </a:rPr>
              <a:t>Multiprovider Router (MP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0880" y="4495680"/>
            <a:ext cx="1919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17800" y="3048120"/>
            <a:ext cx="23400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975360" y="5129280"/>
            <a:ext cx="12351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9360" y="5129280"/>
            <a:ext cx="19191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534000" y="2895480"/>
            <a:ext cx="1943280" cy="685800"/>
          </a:xfrm>
          <a:prstGeom prst="rect">
            <a:avLst/>
          </a:prstGeom>
          <a:gradFill rotWithShape="0">
            <a:gsLst>
              <a:gs pos="0">
                <a:srgbClr val="005a51"/>
              </a:gs>
              <a:gs pos="100000">
                <a:srgbClr val="009688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Mg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rvice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1480" y="1733400"/>
            <a:ext cx="8140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the UNIX inetd/daemon model, offering simpler management an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allows system service behavior to be controlled remotely by the network adminis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run as “detached processes” under any account context without requiring an active logi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s readily to network services - ftp server, file server, macintosh services, etc., all implemented as system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2440" y="228600"/>
            <a:ext cx="8439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ing Windows NT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27240" y="1562040"/>
            <a:ext cx="60768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system services easily through a common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6160" y="2752560"/>
            <a:ext cx="7053120" cy="367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213680" y="1662120"/>
            <a:ext cx="7048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09640" y="225252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4120" y="1835280"/>
            <a:ext cx="83757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oreign-system connectivity products will be developed by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d Windows NT Advanced Server will offer connectivity services for UNIX and Macintosh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IPX/SPX protocol for NetWare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ices offers dialin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UNI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06440" y="1676520"/>
            <a:ext cx="83311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CP/IP protocol support facilitates basic connectivity out-of-the-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ties supported include: ftp, tftp, telnet, r* commands, arp, route, fi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ly-integrated, easy to manage FTP server service offered in Windows NT and Windows NT Advanc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ies developing support for other protocols including X Windows, SMTP, POP, Gopher, and N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76440" y="1809720"/>
            <a:ext cx="77914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IPX/SPX protocol support allows NetWare clients to participate with client-server applications (e.g., SQL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redirector under development by Novell (currently in beta) allows NT systems to access NetWare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 (file, print, e-mail) can run natively over IPX/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cintosh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28760" y="1657440"/>
            <a:ext cx="828684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for Macintosh (Advanced Server) offers concurrent file and print sharing with Macintosh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es are considered equal citizens in Windows NT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 printing integration allows Macs to print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ter with a Windows NT printer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authentication module allows Macs to login using Windows NT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09640" y="213840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4000" y="228600"/>
            <a:ext cx="8496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 Services For Macintos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51160" y="2265480"/>
            <a:ext cx="1114560" cy="53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63800" y="4175280"/>
            <a:ext cx="838080" cy="781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623960" y="241452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58800" y="3838680"/>
            <a:ext cx="7156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77960" y="3276720"/>
            <a:ext cx="0" cy="53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1000" y="383868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30240" y="2120760"/>
            <a:ext cx="140328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010120" y="4162320"/>
            <a:ext cx="1238400" cy="905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73800" y="384804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62760" y="4253040"/>
            <a:ext cx="8953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091120" y="2647800"/>
            <a:ext cx="1114560" cy="538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73600" y="317016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248520" y="2425680"/>
            <a:ext cx="930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T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Scrip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57480" y="5008680"/>
            <a:ext cx="13161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85960" y="2576520"/>
            <a:ext cx="58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43200" y="2806560"/>
            <a:ext cx="8064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alin Cli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01480" y="1638360"/>
            <a:ext cx="81406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ice (RAS) allows MS-DOS, Windows and Windows NT systems to dialin from the 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in client is an extended node on the network over modem, ISDN and X.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network resources available remotely, including full administration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architecture allows other dialin protocol support (e.g., PPP) to be added by third parties, or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49120" y="228600"/>
            <a:ext cx="8645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Access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727440" y="4881600"/>
            <a:ext cx="990720" cy="1028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379760" y="5770440"/>
            <a:ext cx="914400" cy="96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94440" y="5538960"/>
            <a:ext cx="95040" cy="31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94440" y="4419720"/>
            <a:ext cx="1166760" cy="1104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06400" y="3565440"/>
            <a:ext cx="60073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303720" y="4684680"/>
            <a:ext cx="17352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076640" y="233208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466040" y="357336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539040" y="2085840"/>
            <a:ext cx="754200" cy="1149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471680" y="2633760"/>
            <a:ext cx="838080" cy="743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015920" y="2281320"/>
            <a:ext cx="19051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i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546360" y="1874880"/>
            <a:ext cx="138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ha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297560" y="1901880"/>
            <a:ext cx="83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632640" y="391968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557680" y="3701880"/>
            <a:ext cx="140328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77160" y="323388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86320" y="32209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22640" y="32353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09640" y="215748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PI Suppor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162160" y="1835280"/>
            <a:ext cx="48196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-compliant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Named 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43040" y="1428840"/>
            <a:ext cx="765828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-style sockets interface “enhanced” for Windows environment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by over 30 cooperating vendors in the industry - both stack and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ility allows freedom of choice for network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both 16- and 32-bit applications under Windows 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interface can be used to develop TCP/IP, IPX/SPX, and AppleTalk applications unde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613640" y="228600"/>
            <a:ext cx="1103760" cy="976680"/>
            <a:chOff x="7613640" y="228600"/>
            <a:chExt cx="1103760" cy="9766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7632720" y="24120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613640" y="95868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98000" y="22860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CE-Compliant R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90720" y="14670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mechanism for distribut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compliance allows interoperability with other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  framework, used by built-in administ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 architecture independent of security model or network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BIOS/Named Pi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90720" y="142884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and Named Pipes offer source portability of existing 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 offer secure IPC mechanism for 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 include impersonation and async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ed as a fi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09640" y="228600"/>
            <a:ext cx="7524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Net (Win-ne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61960" y="1066680"/>
            <a:ext cx="80200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multipl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consistent APIs and common dialogs for network browsing and connection establ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 of the Windows 3.x WNet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09640" y="3790800"/>
            <a:ext cx="752472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D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91960" y="4844880"/>
            <a:ext cx="85597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s local DDE (dynamic data exchange) model for network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l-leveraged in workgroup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acka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14560" y="1295280"/>
            <a:ext cx="69152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operating system, includes full network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chased separately, or as an upgrade from Windows 3.x or OS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enhanced administration tools, and replicated user account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ult toleranc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dialin and Macintosh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chased separately, or as an upgrade from LA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52600" y="22860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714680"/>
            <a:ext cx="71629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ild well-integrated network services (file/print sharing, e-mail)  into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tect services and actions through centralize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dhere to open standards, collaboration with other vend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everage built-in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upport other types of networks, support third party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66760" y="1263600"/>
            <a:ext cx="861048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ntegrates very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facilities as a natural extension of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ows Windows NT to participate in existing infra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rchitecture allows ease integration of other networking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ystem offers a solid framework fo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foreign systems - third parties ar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support and fault tolerance features makes Windows NT the ideal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ver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55680" y="704880"/>
            <a:ext cx="48322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 Plugged In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01760" y="1047600"/>
            <a:ext cx="8340840" cy="56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et/MSDN services from 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mailing list: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ock-request@micrody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specification, source, etc. available from: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dy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rticle in July Microsoft Systems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onymous FTP test server: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.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e-mail address: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llard@microsoft.com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etwork-related issues onl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lea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2880" y="1771560"/>
            <a:ext cx="80582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support is a natural extension of the base system and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tools facilitate access to network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 can be grouped in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owing for hierarchical browsing of network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nd administration model identical on both local and network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6880" y="1676520"/>
            <a:ext cx="84898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2-certifiable system extends the local security model to th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database replicated between advanced serve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ile system (NTFS) offers built in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emely flexible access control model allows control of access rights for multiple users and groups on the same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provides secure control of administration tools and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9040" y="1809720"/>
            <a:ext cx="83059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ffers a plug-and-play architecture allowing support for alternate protocols, networks, and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based on open standar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and 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-compliant R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 UI and API support through WNet and common dialo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9360" y="1733400"/>
            <a:ext cx="858528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 integration of networking in the base system allows reliability features of Windows NT to apply to networking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ed user account database allows access and authentication should an advanced server go off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D5 and disk mirroring support provides reliable high-performance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 file system offers high recov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UPS support allows network servers to remain online when power is interru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1800" y="1733400"/>
            <a:ext cx="84200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upport for industry standards allows NT to participate in heterogeneous networked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and IPX/SPX protocols built-in offering basis for UNIX and NetWare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mpliant RPC for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mendous third party support in this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, NF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