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656320" y="57240"/>
            <a:ext cx="34052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e Beaver93101 Xhibition ‘93 (1st talk) 6/93 </a:t>
            </a:r>
            <a:fld id="{25C7B6AC-89B0-4B2C-B823-6DE089F3CB2C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96960" y="987480"/>
            <a:ext cx="775188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threaded Applications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ve Beav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Relations Group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/O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801800" y="1263600"/>
            <a:ext cx="55418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 I/O capability is very importan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xxEx Calls Delayed Notification of IO Comple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cation is via your choice of event or call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lects underlying Windows NT functi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79600" y="1628640"/>
            <a:ext cx="7985160" cy="30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threaded applications exist to allow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use of MP mach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programming paradig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structured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on and scheduling occurs at the thread, not process,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 “Life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49280" y="2971800"/>
            <a:ext cx="13906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25800" y="1581120"/>
            <a:ext cx="0" cy="3695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25800" y="5276880"/>
            <a:ext cx="6291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53880" y="3981600"/>
            <a:ext cx="13399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29000" y="2249640"/>
            <a:ext cx="1044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147760" y="5307120"/>
            <a:ext cx="650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986200" y="5307120"/>
            <a:ext cx="720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033800" y="5307120"/>
            <a:ext cx="650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236000" y="5307120"/>
            <a:ext cx="650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253120" y="5307120"/>
            <a:ext cx="1114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424320" y="5691240"/>
            <a:ext cx="9748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215120" y="2782800"/>
            <a:ext cx="1574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nd rob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54280" y="6172200"/>
            <a:ext cx="10288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35000" y="202392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11400" y="4229280"/>
            <a:ext cx="78084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249720" y="3200400"/>
            <a:ext cx="0" cy="1009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8080" y="3081240"/>
            <a:ext cx="19044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24560" y="2249640"/>
            <a:ext cx="12286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nt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392720" y="2876400"/>
            <a:ext cx="304560" cy="41940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26320" y="3543480"/>
            <a:ext cx="209520" cy="3999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5800" y="3552840"/>
            <a:ext cx="686160" cy="1724400"/>
          </a:xfrm>
          <a:custGeom>
            <a:avLst/>
            <a:gdLst/>
            <a:ahLst/>
            <a:rect l="0" t="0" r="r" b="b"/>
            <a:pathLst>
              <a:path w="1906" h="4790">
                <a:moveTo>
                  <a:pt x="0" y="0"/>
                </a:moveTo>
                <a:lnTo>
                  <a:pt x="1006" y="0"/>
                </a:lnTo>
                <a:lnTo>
                  <a:pt x="1006" y="635"/>
                </a:lnTo>
                <a:lnTo>
                  <a:pt x="1906" y="635"/>
                </a:lnTo>
                <a:lnTo>
                  <a:pt x="1906" y="4790"/>
                </a:lnTo>
                <a:lnTo>
                  <a:pt x="0" y="479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d3995"/>
              </a:gs>
              <a:gs pos="100000">
                <a:srgbClr val="b760f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1960" y="3085920"/>
            <a:ext cx="1095840" cy="2190960"/>
          </a:xfrm>
          <a:custGeom>
            <a:avLst/>
            <a:gdLst/>
            <a:ahLst/>
            <a:rect l="0" t="0" r="r" b="b"/>
            <a:pathLst>
              <a:path w="3044" h="6086">
                <a:moveTo>
                  <a:pt x="3044" y="2010"/>
                </a:moveTo>
                <a:lnTo>
                  <a:pt x="3044" y="6086"/>
                </a:lnTo>
                <a:lnTo>
                  <a:pt x="0" y="6086"/>
                </a:lnTo>
                <a:lnTo>
                  <a:pt x="0" y="0"/>
                </a:lnTo>
                <a:lnTo>
                  <a:pt x="1006" y="0"/>
                </a:lnTo>
                <a:lnTo>
                  <a:pt x="1006" y="1270"/>
                </a:lnTo>
                <a:lnTo>
                  <a:pt x="2011" y="1270"/>
                </a:lnTo>
                <a:lnTo>
                  <a:pt x="2011" y="2010"/>
                </a:lnTo>
                <a:lnTo>
                  <a:pt x="3044" y="2010"/>
                </a:lnTo>
                <a:close/>
              </a:path>
            </a:pathLst>
          </a:custGeom>
          <a:gradFill rotWithShape="0">
            <a:gsLst>
              <a:gs pos="0">
                <a:srgbClr val="997641"/>
              </a:gs>
              <a:gs pos="100000">
                <a:srgbClr val="ffc66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78720" y="3571920"/>
            <a:ext cx="1743480" cy="1705320"/>
          </a:xfrm>
          <a:custGeom>
            <a:avLst/>
            <a:gdLst/>
            <a:ahLst/>
            <a:rect l="0" t="0" r="r" b="b"/>
            <a:pathLst>
              <a:path w="4843" h="4737">
                <a:moveTo>
                  <a:pt x="0" y="4737"/>
                </a:moveTo>
                <a:lnTo>
                  <a:pt x="0" y="0"/>
                </a:lnTo>
                <a:lnTo>
                  <a:pt x="1005" y="0"/>
                </a:lnTo>
                <a:lnTo>
                  <a:pt x="1005" y="1058"/>
                </a:lnTo>
                <a:lnTo>
                  <a:pt x="2011" y="1058"/>
                </a:lnTo>
                <a:lnTo>
                  <a:pt x="2011" y="1825"/>
                </a:lnTo>
                <a:lnTo>
                  <a:pt x="4843" y="1825"/>
                </a:lnTo>
                <a:lnTo>
                  <a:pt x="4843" y="4737"/>
                </a:lnTo>
                <a:lnTo>
                  <a:pt x="0" y="4737"/>
                </a:lnTo>
                <a:close/>
              </a:path>
            </a:pathLst>
          </a:custGeom>
          <a:gradFill rotWithShape="0">
            <a:gsLst>
              <a:gs pos="0">
                <a:srgbClr val="0c7e73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191040" y="228600"/>
            <a:ext cx="2762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43000" y="1320840"/>
            <a:ext cx="6858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threads p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are pe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may make graphics and window management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l thread local storage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synchronize thread access to memory (multiprocessor saf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81320" y="228600"/>
            <a:ext cx="2781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1511280"/>
            <a:ext cx="716292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 priority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have per-process initialization and termination rout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-thread err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529000" y="22860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397160" y="1400040"/>
            <a:ext cx="635148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Thread/WaitForEx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ThreadExit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eThread/Exit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pend/Resume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/SetThread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/SetThreadPri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lsAlloc/TlsFree/TlsGet/Tls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019240" y="228600"/>
            <a:ext cx="5105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nchroniz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181160" y="1211400"/>
            <a:ext cx="678168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 - fast mutual exclusion for threads within a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- signals the occurrence of an event; sharable between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tex - sharable critical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 - traditional counting semaphore; shar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ic wait on single/mult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nchroniz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28600" y="1311120"/>
            <a:ext cx="688644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Synchronization via Waitxx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wait 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, Thr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t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M_ me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 change not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ly any object hand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733400" y="228600"/>
            <a:ext cx="5676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/O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352520" y="1428840"/>
            <a:ext cx="643896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 and ANSI entry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 file names (on appropriate F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I/O support via ReadFile, ReadFileEx, WriteFile, and WriteFile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backs and waitable objects, not Signa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