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24640" y="23760"/>
            <a:ext cx="35067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(2nd talk) /93 </a:t>
            </a:r>
            <a:fld id="{05E9586A-0507-446A-8EEC-2B1CD8614B9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43000" y="603360"/>
            <a:ext cx="6991200" cy="55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39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ecurity Model-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velopers’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spective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veloper Support  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552680" y="228600"/>
            <a:ext cx="603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8400" y="1562040"/>
            <a:ext cx="6434280" cy="430524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9240" y="2647800"/>
            <a:ext cx="1428840" cy="18860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79680" y="2970360"/>
            <a:ext cx="360720" cy="1386000"/>
            <a:chOff x="2479680" y="2970360"/>
            <a:chExt cx="360720" cy="1386000"/>
          </a:xfrm>
        </p:grpSpPr>
        <p:grpSp>
          <p:nvGrpSpPr>
            <p:cNvPr id="172" name=""/>
            <p:cNvGrpSpPr/>
            <p:nvPr/>
          </p:nvGrpSpPr>
          <p:grpSpPr>
            <a:xfrm>
              <a:off x="2479680" y="2970360"/>
              <a:ext cx="360720" cy="1386000"/>
              <a:chOff x="2479680" y="2970360"/>
              <a:chExt cx="360720" cy="1386000"/>
            </a:xfrm>
          </p:grpSpPr>
          <p:sp>
            <p:nvSpPr>
              <p:cNvPr id="173" name=""/>
              <p:cNvSpPr/>
              <p:nvPr/>
            </p:nvSpPr>
            <p:spPr>
              <a:xfrm>
                <a:off x="2479680" y="3341520"/>
                <a:ext cx="343440" cy="1014840"/>
              </a:xfrm>
              <a:custGeom>
                <a:avLst/>
                <a:gdLst/>
                <a:ahLst/>
                <a:rect l="0" t="0" r="r" b="b"/>
                <a:pathLst>
                  <a:path w="954" h="2819">
                    <a:moveTo>
                      <a:pt x="919" y="229"/>
                    </a:moveTo>
                    <a:lnTo>
                      <a:pt x="928" y="136"/>
                    </a:lnTo>
                    <a:lnTo>
                      <a:pt x="954" y="0"/>
                    </a:lnTo>
                    <a:lnTo>
                      <a:pt x="163" y="0"/>
                    </a:lnTo>
                    <a:lnTo>
                      <a:pt x="189" y="291"/>
                    </a:lnTo>
                    <a:lnTo>
                      <a:pt x="185" y="423"/>
                    </a:lnTo>
                    <a:lnTo>
                      <a:pt x="158" y="498"/>
                    </a:lnTo>
                    <a:lnTo>
                      <a:pt x="88" y="1050"/>
                    </a:lnTo>
                    <a:lnTo>
                      <a:pt x="26" y="1482"/>
                    </a:lnTo>
                    <a:lnTo>
                      <a:pt x="0" y="2011"/>
                    </a:lnTo>
                    <a:lnTo>
                      <a:pt x="52" y="2542"/>
                    </a:lnTo>
                    <a:lnTo>
                      <a:pt x="88" y="2819"/>
                    </a:lnTo>
                    <a:lnTo>
                      <a:pt x="141" y="2458"/>
                    </a:lnTo>
                    <a:lnTo>
                      <a:pt x="247" y="1980"/>
                    </a:lnTo>
                    <a:lnTo>
                      <a:pt x="389" y="1535"/>
                    </a:lnTo>
                    <a:lnTo>
                      <a:pt x="525" y="1191"/>
                    </a:lnTo>
                    <a:lnTo>
                      <a:pt x="684" y="785"/>
                    </a:lnTo>
                    <a:lnTo>
                      <a:pt x="919" y="229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06680" y="2970360"/>
                <a:ext cx="333720" cy="524160"/>
              </a:xfrm>
              <a:custGeom>
                <a:avLst/>
                <a:gdLst/>
                <a:ahLst/>
                <a:rect l="0" t="0" r="r" b="b"/>
                <a:pathLst>
                  <a:path w="927" h="1456">
                    <a:moveTo>
                      <a:pt x="900" y="927"/>
                    </a:moveTo>
                    <a:lnTo>
                      <a:pt x="852" y="1143"/>
                    </a:lnTo>
                    <a:lnTo>
                      <a:pt x="750" y="1284"/>
                    </a:lnTo>
                    <a:lnTo>
                      <a:pt x="675" y="1381"/>
                    </a:lnTo>
                    <a:lnTo>
                      <a:pt x="574" y="1434"/>
                    </a:lnTo>
                    <a:lnTo>
                      <a:pt x="477" y="1451"/>
                    </a:lnTo>
                    <a:lnTo>
                      <a:pt x="379" y="1456"/>
                    </a:lnTo>
                    <a:lnTo>
                      <a:pt x="282" y="1420"/>
                    </a:lnTo>
                    <a:lnTo>
                      <a:pt x="202" y="1372"/>
                    </a:lnTo>
                    <a:lnTo>
                      <a:pt x="127" y="1279"/>
                    </a:lnTo>
                    <a:lnTo>
                      <a:pt x="52" y="1129"/>
                    </a:lnTo>
                    <a:lnTo>
                      <a:pt x="13" y="957"/>
                    </a:lnTo>
                    <a:lnTo>
                      <a:pt x="0" y="821"/>
                    </a:lnTo>
                    <a:lnTo>
                      <a:pt x="26" y="733"/>
                    </a:lnTo>
                    <a:lnTo>
                      <a:pt x="35" y="586"/>
                    </a:lnTo>
                    <a:lnTo>
                      <a:pt x="13" y="454"/>
                    </a:lnTo>
                    <a:lnTo>
                      <a:pt x="13" y="339"/>
                    </a:lnTo>
                    <a:lnTo>
                      <a:pt x="35" y="224"/>
                    </a:lnTo>
                    <a:lnTo>
                      <a:pt x="88" y="149"/>
                    </a:lnTo>
                    <a:lnTo>
                      <a:pt x="127" y="88"/>
                    </a:lnTo>
                    <a:lnTo>
                      <a:pt x="260" y="39"/>
                    </a:lnTo>
                    <a:lnTo>
                      <a:pt x="458" y="0"/>
                    </a:lnTo>
                    <a:lnTo>
                      <a:pt x="640" y="0"/>
                    </a:lnTo>
                    <a:lnTo>
                      <a:pt x="750" y="52"/>
                    </a:lnTo>
                    <a:lnTo>
                      <a:pt x="865" y="127"/>
                    </a:lnTo>
                    <a:lnTo>
                      <a:pt x="927" y="242"/>
                    </a:lnTo>
                    <a:lnTo>
                      <a:pt x="927" y="401"/>
                    </a:lnTo>
                    <a:lnTo>
                      <a:pt x="900" y="489"/>
                    </a:lnTo>
                    <a:lnTo>
                      <a:pt x="878" y="546"/>
                    </a:lnTo>
                    <a:lnTo>
                      <a:pt x="878" y="608"/>
                    </a:lnTo>
                    <a:lnTo>
                      <a:pt x="900" y="692"/>
                    </a:lnTo>
                    <a:lnTo>
                      <a:pt x="900" y="927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550960" y="3425760"/>
              <a:ext cx="203400" cy="163800"/>
            </a:xfrm>
            <a:custGeom>
              <a:avLst/>
              <a:gdLst/>
              <a:ahLst/>
              <a:rect l="0" t="0" r="r" b="b"/>
              <a:pathLst>
                <a:path w="565" h="455">
                  <a:moveTo>
                    <a:pt x="565" y="105"/>
                  </a:moveTo>
                  <a:lnTo>
                    <a:pt x="494" y="167"/>
                  </a:lnTo>
                  <a:lnTo>
                    <a:pt x="428" y="202"/>
                  </a:lnTo>
                  <a:lnTo>
                    <a:pt x="331" y="261"/>
                  </a:lnTo>
                  <a:lnTo>
                    <a:pt x="255" y="318"/>
                  </a:lnTo>
                  <a:lnTo>
                    <a:pt x="180" y="380"/>
                  </a:lnTo>
                  <a:lnTo>
                    <a:pt x="145" y="415"/>
                  </a:lnTo>
                  <a:lnTo>
                    <a:pt x="123" y="455"/>
                  </a:lnTo>
                  <a:lnTo>
                    <a:pt x="105" y="362"/>
                  </a:lnTo>
                  <a:lnTo>
                    <a:pt x="83" y="296"/>
                  </a:lnTo>
                  <a:lnTo>
                    <a:pt x="44" y="230"/>
                  </a:lnTo>
                  <a:lnTo>
                    <a:pt x="8" y="180"/>
                  </a:lnTo>
                  <a:lnTo>
                    <a:pt x="0" y="14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8" y="70"/>
                  </a:lnTo>
                  <a:lnTo>
                    <a:pt x="97" y="114"/>
                  </a:lnTo>
                  <a:lnTo>
                    <a:pt x="145" y="154"/>
                  </a:lnTo>
                  <a:lnTo>
                    <a:pt x="246" y="189"/>
                  </a:lnTo>
                  <a:lnTo>
                    <a:pt x="322" y="198"/>
                  </a:lnTo>
                  <a:lnTo>
                    <a:pt x="406" y="180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06760" y="3376440"/>
            <a:ext cx="117720" cy="30600"/>
          </a:xfrm>
          <a:custGeom>
            <a:avLst/>
            <a:gdLst/>
            <a:ahLst/>
            <a:rect l="0" t="0" r="r" b="b"/>
            <a:pathLst>
              <a:path w="327" h="85">
                <a:moveTo>
                  <a:pt x="0" y="13"/>
                </a:moveTo>
                <a:lnTo>
                  <a:pt x="16" y="0"/>
                </a:lnTo>
                <a:lnTo>
                  <a:pt x="40" y="0"/>
                </a:lnTo>
                <a:lnTo>
                  <a:pt x="142" y="13"/>
                </a:lnTo>
                <a:lnTo>
                  <a:pt x="213" y="13"/>
                </a:lnTo>
                <a:lnTo>
                  <a:pt x="270" y="0"/>
                </a:lnTo>
                <a:lnTo>
                  <a:pt x="327" y="0"/>
                </a:lnTo>
                <a:lnTo>
                  <a:pt x="311" y="31"/>
                </a:lnTo>
                <a:lnTo>
                  <a:pt x="262" y="79"/>
                </a:lnTo>
                <a:lnTo>
                  <a:pt x="294" y="47"/>
                </a:lnTo>
                <a:lnTo>
                  <a:pt x="217" y="82"/>
                </a:lnTo>
                <a:lnTo>
                  <a:pt x="164" y="85"/>
                </a:lnTo>
                <a:lnTo>
                  <a:pt x="89" y="82"/>
                </a:lnTo>
                <a:lnTo>
                  <a:pt x="20" y="47"/>
                </a:lnTo>
                <a:lnTo>
                  <a:pt x="0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33680" y="3166920"/>
            <a:ext cx="270000" cy="27720"/>
            <a:chOff x="2533680" y="3166920"/>
            <a:chExt cx="270000" cy="27720"/>
          </a:xfrm>
        </p:grpSpPr>
        <p:sp>
          <p:nvSpPr>
            <p:cNvPr id="178" name=""/>
            <p:cNvSpPr/>
            <p:nvPr/>
          </p:nvSpPr>
          <p:spPr>
            <a:xfrm>
              <a:off x="2690640" y="3166920"/>
              <a:ext cx="113040" cy="22680"/>
            </a:xfrm>
            <a:custGeom>
              <a:avLst/>
              <a:gdLst/>
              <a:ahLst/>
              <a:rect l="0" t="0" r="r" b="b"/>
              <a:pathLst>
                <a:path fill="none" w="314" h="63">
                  <a:moveTo>
                    <a:pt x="0" y="63"/>
                  </a:moveTo>
                  <a:lnTo>
                    <a:pt x="97" y="23"/>
                  </a:lnTo>
                  <a:lnTo>
                    <a:pt x="172" y="0"/>
                  </a:lnTo>
                  <a:lnTo>
                    <a:pt x="252" y="0"/>
                  </a:lnTo>
                  <a:lnTo>
                    <a:pt x="314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33680" y="3171960"/>
              <a:ext cx="93960" cy="22680"/>
            </a:xfrm>
            <a:custGeom>
              <a:avLst/>
              <a:gdLst/>
              <a:ahLst/>
              <a:rect l="0" t="0" r="r" b="b"/>
              <a:pathLst>
                <a:path fill="none" w="261" h="63">
                  <a:moveTo>
                    <a:pt x="261" y="63"/>
                  </a:moveTo>
                  <a:lnTo>
                    <a:pt x="186" y="27"/>
                  </a:lnTo>
                  <a:lnTo>
                    <a:pt x="110" y="0"/>
                  </a:lnTo>
                  <a:lnTo>
                    <a:pt x="35" y="0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627280" y="3201840"/>
            <a:ext cx="86040" cy="126000"/>
            <a:chOff x="2627280" y="3201840"/>
            <a:chExt cx="86040" cy="126000"/>
          </a:xfrm>
        </p:grpSpPr>
        <p:sp>
          <p:nvSpPr>
            <p:cNvPr id="181" name=""/>
            <p:cNvSpPr/>
            <p:nvPr/>
          </p:nvSpPr>
          <p:spPr>
            <a:xfrm>
              <a:off x="2627280" y="3314880"/>
              <a:ext cx="86040" cy="12960"/>
            </a:xfrm>
            <a:custGeom>
              <a:avLst/>
              <a:gdLst/>
              <a:ahLst/>
              <a:rect l="0" t="0" r="r" b="b"/>
              <a:pathLst>
                <a:path fill="none" w="239" h="36">
                  <a:moveTo>
                    <a:pt x="0" y="4"/>
                  </a:moveTo>
                  <a:lnTo>
                    <a:pt x="92" y="36"/>
                  </a:lnTo>
                  <a:lnTo>
                    <a:pt x="177" y="36"/>
                  </a:lnTo>
                  <a:lnTo>
                    <a:pt x="23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9880" y="3201840"/>
              <a:ext cx="16200" cy="71640"/>
            </a:xfrm>
            <a:custGeom>
              <a:avLst/>
              <a:gdLst/>
              <a:ahLst/>
              <a:rect l="0" t="0" r="r" b="b"/>
              <a:pathLst>
                <a:path fill="none" w="45" h="199">
                  <a:moveTo>
                    <a:pt x="0" y="0"/>
                  </a:moveTo>
                  <a:lnTo>
                    <a:pt x="31" y="44"/>
                  </a:lnTo>
                  <a:lnTo>
                    <a:pt x="45" y="83"/>
                  </a:lnTo>
                  <a:lnTo>
                    <a:pt x="45" y="137"/>
                  </a:lnTo>
                  <a:lnTo>
                    <a:pt x="31" y="1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32240" y="3193920"/>
            <a:ext cx="255960" cy="30600"/>
            <a:chOff x="2532240" y="3193920"/>
            <a:chExt cx="255960" cy="30600"/>
          </a:xfrm>
        </p:grpSpPr>
        <p:grpSp>
          <p:nvGrpSpPr>
            <p:cNvPr id="184" name=""/>
            <p:cNvGrpSpPr/>
            <p:nvPr/>
          </p:nvGrpSpPr>
          <p:grpSpPr>
            <a:xfrm>
              <a:off x="2532240" y="3198960"/>
              <a:ext cx="81360" cy="25560"/>
              <a:chOff x="2532240" y="3198960"/>
              <a:chExt cx="81360" cy="25560"/>
            </a:xfrm>
          </p:grpSpPr>
          <p:sp>
            <p:nvSpPr>
              <p:cNvPr id="185" name=""/>
              <p:cNvSpPr/>
              <p:nvPr/>
            </p:nvSpPr>
            <p:spPr>
              <a:xfrm>
                <a:off x="2532240" y="3201840"/>
                <a:ext cx="81360" cy="22680"/>
              </a:xfrm>
              <a:custGeom>
                <a:avLst/>
                <a:gdLst/>
                <a:ahLst/>
                <a:rect l="0" t="0" r="r" b="b"/>
                <a:pathLst>
                  <a:path w="226" h="63">
                    <a:moveTo>
                      <a:pt x="226" y="31"/>
                    </a:moveTo>
                    <a:lnTo>
                      <a:pt x="102" y="0"/>
                    </a:lnTo>
                    <a:lnTo>
                      <a:pt x="52" y="4"/>
                    </a:lnTo>
                    <a:lnTo>
                      <a:pt x="0" y="31"/>
                    </a:lnTo>
                    <a:lnTo>
                      <a:pt x="75" y="63"/>
                    </a:lnTo>
                    <a:lnTo>
                      <a:pt x="142" y="54"/>
                    </a:lnTo>
                    <a:lnTo>
                      <a:pt x="22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56000" y="3198960"/>
                <a:ext cx="2556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11520" y="3193920"/>
              <a:ext cx="76680" cy="25920"/>
              <a:chOff x="2711520" y="3193920"/>
              <a:chExt cx="76680" cy="25920"/>
            </a:xfrm>
          </p:grpSpPr>
          <p:sp>
            <p:nvSpPr>
              <p:cNvPr id="188" name=""/>
              <p:cNvSpPr/>
              <p:nvPr/>
            </p:nvSpPr>
            <p:spPr>
              <a:xfrm>
                <a:off x="2711520" y="3198960"/>
                <a:ext cx="76680" cy="20880"/>
              </a:xfrm>
              <a:custGeom>
                <a:avLst/>
                <a:gdLst/>
                <a:ahLst/>
                <a:rect l="0" t="0" r="r" b="b"/>
                <a:pathLst>
                  <a:path w="213" h="58">
                    <a:moveTo>
                      <a:pt x="0" y="36"/>
                    </a:moveTo>
                    <a:lnTo>
                      <a:pt x="71" y="8"/>
                    </a:lnTo>
                    <a:lnTo>
                      <a:pt x="155" y="0"/>
                    </a:lnTo>
                    <a:lnTo>
                      <a:pt x="213" y="22"/>
                    </a:lnTo>
                    <a:lnTo>
                      <a:pt x="165" y="58"/>
                    </a:lnTo>
                    <a:lnTo>
                      <a:pt x="62" y="5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39960" y="3193920"/>
                <a:ext cx="2232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2295360" y="2851200"/>
            <a:ext cx="659160" cy="805320"/>
            <a:chOff x="2295360" y="2851200"/>
            <a:chExt cx="659160" cy="805320"/>
          </a:xfrm>
        </p:grpSpPr>
        <p:sp>
          <p:nvSpPr>
            <p:cNvPr id="191" name=""/>
            <p:cNvSpPr/>
            <p:nvPr/>
          </p:nvSpPr>
          <p:spPr>
            <a:xfrm>
              <a:off x="2295360" y="2851200"/>
              <a:ext cx="659160" cy="805320"/>
            </a:xfrm>
            <a:custGeom>
              <a:avLst/>
              <a:gdLst/>
              <a:ahLst/>
              <a:rect l="0" t="0" r="r" b="b"/>
              <a:pathLst>
                <a:path w="1831" h="2237">
                  <a:moveTo>
                    <a:pt x="661" y="70"/>
                  </a:moveTo>
                  <a:lnTo>
                    <a:pt x="577" y="127"/>
                  </a:lnTo>
                  <a:lnTo>
                    <a:pt x="515" y="119"/>
                  </a:lnTo>
                  <a:lnTo>
                    <a:pt x="458" y="127"/>
                  </a:lnTo>
                  <a:lnTo>
                    <a:pt x="396" y="194"/>
                  </a:lnTo>
                  <a:lnTo>
                    <a:pt x="321" y="317"/>
                  </a:lnTo>
                  <a:lnTo>
                    <a:pt x="224" y="507"/>
                  </a:lnTo>
                  <a:lnTo>
                    <a:pt x="154" y="706"/>
                  </a:lnTo>
                  <a:lnTo>
                    <a:pt x="88" y="918"/>
                  </a:lnTo>
                  <a:lnTo>
                    <a:pt x="61" y="1099"/>
                  </a:lnTo>
                  <a:lnTo>
                    <a:pt x="97" y="1257"/>
                  </a:lnTo>
                  <a:lnTo>
                    <a:pt x="171" y="1363"/>
                  </a:lnTo>
                  <a:lnTo>
                    <a:pt x="185" y="1447"/>
                  </a:lnTo>
                  <a:lnTo>
                    <a:pt x="158" y="1575"/>
                  </a:lnTo>
                  <a:lnTo>
                    <a:pt x="101" y="1597"/>
                  </a:lnTo>
                  <a:lnTo>
                    <a:pt x="74" y="1650"/>
                  </a:lnTo>
                  <a:lnTo>
                    <a:pt x="61" y="1686"/>
                  </a:lnTo>
                  <a:lnTo>
                    <a:pt x="88" y="1739"/>
                  </a:lnTo>
                  <a:lnTo>
                    <a:pt x="127" y="1779"/>
                  </a:lnTo>
                  <a:lnTo>
                    <a:pt x="110" y="1840"/>
                  </a:lnTo>
                  <a:lnTo>
                    <a:pt x="74" y="1915"/>
                  </a:lnTo>
                  <a:lnTo>
                    <a:pt x="74" y="1990"/>
                  </a:lnTo>
                  <a:lnTo>
                    <a:pt x="74" y="2065"/>
                  </a:lnTo>
                  <a:lnTo>
                    <a:pt x="61" y="2127"/>
                  </a:lnTo>
                  <a:lnTo>
                    <a:pt x="22" y="2202"/>
                  </a:lnTo>
                  <a:lnTo>
                    <a:pt x="0" y="2237"/>
                  </a:lnTo>
                  <a:lnTo>
                    <a:pt x="321" y="2087"/>
                  </a:lnTo>
                  <a:lnTo>
                    <a:pt x="436" y="1990"/>
                  </a:lnTo>
                  <a:lnTo>
                    <a:pt x="621" y="1862"/>
                  </a:lnTo>
                  <a:lnTo>
                    <a:pt x="687" y="1779"/>
                  </a:lnTo>
                  <a:lnTo>
                    <a:pt x="709" y="1676"/>
                  </a:lnTo>
                  <a:lnTo>
                    <a:pt x="696" y="1575"/>
                  </a:lnTo>
                  <a:lnTo>
                    <a:pt x="652" y="1438"/>
                  </a:lnTo>
                  <a:lnTo>
                    <a:pt x="612" y="1288"/>
                  </a:lnTo>
                  <a:lnTo>
                    <a:pt x="599" y="1182"/>
                  </a:lnTo>
                  <a:lnTo>
                    <a:pt x="639" y="1076"/>
                  </a:lnTo>
                  <a:lnTo>
                    <a:pt x="661" y="966"/>
                  </a:lnTo>
                  <a:lnTo>
                    <a:pt x="621" y="807"/>
                  </a:lnTo>
                  <a:lnTo>
                    <a:pt x="621" y="671"/>
                  </a:lnTo>
                  <a:lnTo>
                    <a:pt x="661" y="555"/>
                  </a:lnTo>
                  <a:lnTo>
                    <a:pt x="727" y="467"/>
                  </a:lnTo>
                  <a:lnTo>
                    <a:pt x="798" y="436"/>
                  </a:lnTo>
                  <a:lnTo>
                    <a:pt x="975" y="370"/>
                  </a:lnTo>
                  <a:lnTo>
                    <a:pt x="1112" y="361"/>
                  </a:lnTo>
                  <a:lnTo>
                    <a:pt x="1209" y="370"/>
                  </a:lnTo>
                  <a:lnTo>
                    <a:pt x="1271" y="383"/>
                  </a:lnTo>
                  <a:lnTo>
                    <a:pt x="1332" y="418"/>
                  </a:lnTo>
                  <a:lnTo>
                    <a:pt x="1394" y="458"/>
                  </a:lnTo>
                  <a:lnTo>
                    <a:pt x="1451" y="555"/>
                  </a:lnTo>
                  <a:lnTo>
                    <a:pt x="1473" y="684"/>
                  </a:lnTo>
                  <a:lnTo>
                    <a:pt x="1473" y="799"/>
                  </a:lnTo>
                  <a:lnTo>
                    <a:pt x="1451" y="900"/>
                  </a:lnTo>
                  <a:lnTo>
                    <a:pt x="1473" y="993"/>
                  </a:lnTo>
                  <a:lnTo>
                    <a:pt x="1487" y="1107"/>
                  </a:lnTo>
                  <a:lnTo>
                    <a:pt x="1487" y="1235"/>
                  </a:lnTo>
                  <a:lnTo>
                    <a:pt x="1456" y="1438"/>
                  </a:lnTo>
                  <a:lnTo>
                    <a:pt x="1425" y="1526"/>
                  </a:lnTo>
                  <a:lnTo>
                    <a:pt x="1469" y="1579"/>
                  </a:lnTo>
                  <a:lnTo>
                    <a:pt x="1548" y="1650"/>
                  </a:lnTo>
                  <a:lnTo>
                    <a:pt x="1610" y="1721"/>
                  </a:lnTo>
                  <a:lnTo>
                    <a:pt x="1672" y="1654"/>
                  </a:lnTo>
                  <a:lnTo>
                    <a:pt x="1734" y="1588"/>
                  </a:lnTo>
                  <a:lnTo>
                    <a:pt x="1782" y="1465"/>
                  </a:lnTo>
                  <a:lnTo>
                    <a:pt x="1817" y="1341"/>
                  </a:lnTo>
                  <a:lnTo>
                    <a:pt x="1831" y="1160"/>
                  </a:lnTo>
                  <a:lnTo>
                    <a:pt x="1817" y="1085"/>
                  </a:lnTo>
                  <a:lnTo>
                    <a:pt x="1822" y="918"/>
                  </a:lnTo>
                  <a:lnTo>
                    <a:pt x="1817" y="785"/>
                  </a:lnTo>
                  <a:lnTo>
                    <a:pt x="1800" y="693"/>
                  </a:lnTo>
                  <a:lnTo>
                    <a:pt x="1742" y="596"/>
                  </a:lnTo>
                  <a:lnTo>
                    <a:pt x="1703" y="480"/>
                  </a:lnTo>
                  <a:lnTo>
                    <a:pt x="1663" y="392"/>
                  </a:lnTo>
                  <a:lnTo>
                    <a:pt x="1588" y="268"/>
                  </a:lnTo>
                  <a:lnTo>
                    <a:pt x="1487" y="158"/>
                  </a:lnTo>
                  <a:lnTo>
                    <a:pt x="1350" y="44"/>
                  </a:lnTo>
                  <a:lnTo>
                    <a:pt x="1196" y="0"/>
                  </a:lnTo>
                  <a:lnTo>
                    <a:pt x="997" y="8"/>
                  </a:lnTo>
                  <a:lnTo>
                    <a:pt x="873" y="44"/>
                  </a:lnTo>
                  <a:lnTo>
                    <a:pt x="661" y="70"/>
                  </a:lnTo>
                  <a:close/>
                </a:path>
              </a:pathLst>
            </a:custGeom>
            <a:solidFill>
              <a:srgbClr val="60402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373480" y="2871720"/>
              <a:ext cx="563760" cy="738720"/>
              <a:chOff x="2373480" y="2871720"/>
              <a:chExt cx="563760" cy="738720"/>
            </a:xfrm>
          </p:grpSpPr>
          <p:sp>
            <p:nvSpPr>
              <p:cNvPr id="193" name=""/>
              <p:cNvSpPr/>
              <p:nvPr/>
            </p:nvSpPr>
            <p:spPr>
              <a:xfrm>
                <a:off x="2462040" y="2997360"/>
                <a:ext cx="117720" cy="551160"/>
              </a:xfrm>
              <a:custGeom>
                <a:avLst/>
                <a:gdLst/>
                <a:ahLst/>
                <a:rect l="0" t="0" r="r" b="b"/>
                <a:pathLst>
                  <a:path w="327" h="1531">
                    <a:moveTo>
                      <a:pt x="327" y="30"/>
                    </a:moveTo>
                    <a:lnTo>
                      <a:pt x="265" y="0"/>
                    </a:lnTo>
                    <a:lnTo>
                      <a:pt x="212" y="0"/>
                    </a:lnTo>
                    <a:lnTo>
                      <a:pt x="141" y="22"/>
                    </a:lnTo>
                    <a:lnTo>
                      <a:pt x="97" y="70"/>
                    </a:lnTo>
                    <a:lnTo>
                      <a:pt x="57" y="132"/>
                    </a:lnTo>
                    <a:lnTo>
                      <a:pt x="30" y="185"/>
                    </a:lnTo>
                    <a:lnTo>
                      <a:pt x="0" y="268"/>
                    </a:lnTo>
                    <a:lnTo>
                      <a:pt x="0" y="361"/>
                    </a:lnTo>
                    <a:lnTo>
                      <a:pt x="13" y="432"/>
                    </a:lnTo>
                    <a:lnTo>
                      <a:pt x="48" y="568"/>
                    </a:lnTo>
                    <a:lnTo>
                      <a:pt x="52" y="630"/>
                    </a:lnTo>
                    <a:lnTo>
                      <a:pt x="74" y="754"/>
                    </a:lnTo>
                    <a:lnTo>
                      <a:pt x="97" y="878"/>
                    </a:lnTo>
                    <a:lnTo>
                      <a:pt x="105" y="1019"/>
                    </a:lnTo>
                    <a:lnTo>
                      <a:pt x="119" y="1151"/>
                    </a:lnTo>
                    <a:lnTo>
                      <a:pt x="114" y="1297"/>
                    </a:lnTo>
                    <a:lnTo>
                      <a:pt x="92" y="1416"/>
                    </a:lnTo>
                    <a:lnTo>
                      <a:pt x="66" y="1478"/>
                    </a:lnTo>
                    <a:lnTo>
                      <a:pt x="30" y="1531"/>
                    </a:lnTo>
                    <a:lnTo>
                      <a:pt x="195" y="1416"/>
                    </a:lnTo>
                    <a:lnTo>
                      <a:pt x="234" y="1297"/>
                    </a:lnTo>
                    <a:lnTo>
                      <a:pt x="239" y="1222"/>
                    </a:lnTo>
                    <a:lnTo>
                      <a:pt x="234" y="1165"/>
                    </a:lnTo>
                    <a:lnTo>
                      <a:pt x="208" y="1054"/>
                    </a:lnTo>
                    <a:lnTo>
                      <a:pt x="172" y="940"/>
                    </a:lnTo>
                    <a:lnTo>
                      <a:pt x="141" y="852"/>
                    </a:lnTo>
                    <a:lnTo>
                      <a:pt x="141" y="777"/>
                    </a:lnTo>
                    <a:lnTo>
                      <a:pt x="164" y="705"/>
                    </a:lnTo>
                    <a:lnTo>
                      <a:pt x="181" y="639"/>
                    </a:lnTo>
                    <a:lnTo>
                      <a:pt x="208" y="568"/>
                    </a:lnTo>
                    <a:lnTo>
                      <a:pt x="195" y="485"/>
                    </a:lnTo>
                    <a:lnTo>
                      <a:pt x="164" y="410"/>
                    </a:lnTo>
                    <a:lnTo>
                      <a:pt x="164" y="304"/>
                    </a:lnTo>
                    <a:lnTo>
                      <a:pt x="195" y="211"/>
                    </a:lnTo>
                    <a:lnTo>
                      <a:pt x="217" y="136"/>
                    </a:lnTo>
                    <a:lnTo>
                      <a:pt x="256" y="74"/>
                    </a:lnTo>
                    <a:lnTo>
                      <a:pt x="327" y="30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40040" y="3081240"/>
                <a:ext cx="97200" cy="52920"/>
              </a:xfrm>
              <a:custGeom>
                <a:avLst/>
                <a:gdLst/>
                <a:ahLst/>
                <a:rect l="0" t="0" r="r" b="b"/>
                <a:pathLst>
                  <a:path fill="none" w="270" h="147">
                    <a:moveTo>
                      <a:pt x="0" y="0"/>
                    </a:moveTo>
                    <a:lnTo>
                      <a:pt x="71" y="75"/>
                    </a:lnTo>
                    <a:lnTo>
                      <a:pt x="106" y="106"/>
                    </a:lnTo>
                    <a:lnTo>
                      <a:pt x="142" y="125"/>
                    </a:lnTo>
                    <a:lnTo>
                      <a:pt x="195" y="143"/>
                    </a:lnTo>
                    <a:lnTo>
                      <a:pt x="248" y="147"/>
                    </a:lnTo>
                    <a:lnTo>
                      <a:pt x="270" y="14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89120" y="2871720"/>
                <a:ext cx="186120" cy="103680"/>
              </a:xfrm>
              <a:custGeom>
                <a:avLst/>
                <a:gdLst/>
                <a:ahLst/>
                <a:rect l="0" t="0" r="r" b="b"/>
                <a:pathLst>
                  <a:path fill="none" w="517" h="288">
                    <a:moveTo>
                      <a:pt x="0" y="0"/>
                    </a:moveTo>
                    <a:lnTo>
                      <a:pt x="123" y="0"/>
                    </a:lnTo>
                    <a:lnTo>
                      <a:pt x="181" y="8"/>
                    </a:lnTo>
                    <a:lnTo>
                      <a:pt x="243" y="30"/>
                    </a:lnTo>
                    <a:lnTo>
                      <a:pt x="287" y="48"/>
                    </a:lnTo>
                    <a:lnTo>
                      <a:pt x="362" y="98"/>
                    </a:lnTo>
                    <a:lnTo>
                      <a:pt x="412" y="146"/>
                    </a:lnTo>
                    <a:lnTo>
                      <a:pt x="451" y="190"/>
                    </a:lnTo>
                    <a:lnTo>
                      <a:pt x="487" y="240"/>
                    </a:lnTo>
                    <a:lnTo>
                      <a:pt x="504" y="275"/>
                    </a:lnTo>
                    <a:lnTo>
                      <a:pt x="517" y="28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3480" y="3413160"/>
                <a:ext cx="68760" cy="197280"/>
              </a:xfrm>
              <a:custGeom>
                <a:avLst/>
                <a:gdLst/>
                <a:ahLst/>
                <a:rect l="0" t="0" r="r" b="b"/>
                <a:pathLst>
                  <a:path w="191" h="548">
                    <a:moveTo>
                      <a:pt x="0" y="548"/>
                    </a:moveTo>
                    <a:lnTo>
                      <a:pt x="89" y="425"/>
                    </a:lnTo>
                    <a:lnTo>
                      <a:pt x="106" y="322"/>
                    </a:lnTo>
                    <a:lnTo>
                      <a:pt x="142" y="234"/>
                    </a:lnTo>
                    <a:lnTo>
                      <a:pt x="142" y="168"/>
                    </a:lnTo>
                    <a:lnTo>
                      <a:pt x="151" y="110"/>
                    </a:lnTo>
                    <a:lnTo>
                      <a:pt x="173" y="0"/>
                    </a:lnTo>
                    <a:lnTo>
                      <a:pt x="191" y="132"/>
                    </a:lnTo>
                    <a:lnTo>
                      <a:pt x="187" y="309"/>
                    </a:lnTo>
                    <a:lnTo>
                      <a:pt x="165" y="380"/>
                    </a:lnTo>
                    <a:lnTo>
                      <a:pt x="147" y="416"/>
                    </a:lnTo>
                    <a:lnTo>
                      <a:pt x="128" y="465"/>
                    </a:lnTo>
                    <a:lnTo>
                      <a:pt x="0" y="548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75000" y="2924280"/>
                <a:ext cx="132120" cy="46440"/>
              </a:xfrm>
              <a:custGeom>
                <a:avLst/>
                <a:gdLst/>
                <a:ahLst/>
                <a:rect l="0" t="0" r="r" b="b"/>
                <a:pathLst>
                  <a:path fill="none" w="367" h="129">
                    <a:moveTo>
                      <a:pt x="367" y="129"/>
                    </a:moveTo>
                    <a:lnTo>
                      <a:pt x="234" y="30"/>
                    </a:lnTo>
                    <a:lnTo>
                      <a:pt x="123" y="0"/>
                    </a:lnTo>
                    <a:lnTo>
                      <a:pt x="39" y="17"/>
                    </a:lnTo>
                    <a:lnTo>
                      <a:pt x="0" y="4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51200" y="3218040"/>
                <a:ext cx="54360" cy="235440"/>
              </a:xfrm>
              <a:custGeom>
                <a:avLst/>
                <a:gdLst/>
                <a:ahLst/>
                <a:rect l="0" t="0" r="r" b="b"/>
                <a:pathLst>
                  <a:path fill="none" w="151" h="654">
                    <a:moveTo>
                      <a:pt x="0" y="0"/>
                    </a:moveTo>
                    <a:lnTo>
                      <a:pt x="84" y="48"/>
                    </a:lnTo>
                    <a:lnTo>
                      <a:pt x="129" y="132"/>
                    </a:lnTo>
                    <a:lnTo>
                      <a:pt x="138" y="208"/>
                    </a:lnTo>
                    <a:lnTo>
                      <a:pt x="151" y="331"/>
                    </a:lnTo>
                    <a:lnTo>
                      <a:pt x="134" y="428"/>
                    </a:lnTo>
                    <a:lnTo>
                      <a:pt x="116" y="504"/>
                    </a:lnTo>
                    <a:lnTo>
                      <a:pt x="84" y="610"/>
                    </a:lnTo>
                    <a:lnTo>
                      <a:pt x="62" y="6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487600" y="3451320"/>
            <a:ext cx="300240" cy="900360"/>
            <a:chOff x="2487600" y="3451320"/>
            <a:chExt cx="300240" cy="900360"/>
          </a:xfrm>
        </p:grpSpPr>
        <p:sp>
          <p:nvSpPr>
            <p:cNvPr id="200" name=""/>
            <p:cNvSpPr/>
            <p:nvPr/>
          </p:nvSpPr>
          <p:spPr>
            <a:xfrm>
              <a:off x="2487600" y="3479760"/>
              <a:ext cx="127440" cy="871920"/>
            </a:xfrm>
            <a:custGeom>
              <a:avLst/>
              <a:gdLst/>
              <a:ahLst/>
              <a:rect l="0" t="0" r="r" b="b"/>
              <a:pathLst>
                <a:path w="354" h="2422">
                  <a:moveTo>
                    <a:pt x="128" y="123"/>
                  </a:moveTo>
                  <a:lnTo>
                    <a:pt x="164" y="0"/>
                  </a:lnTo>
                  <a:lnTo>
                    <a:pt x="208" y="79"/>
                  </a:lnTo>
                  <a:lnTo>
                    <a:pt x="256" y="154"/>
                  </a:lnTo>
                  <a:lnTo>
                    <a:pt x="297" y="282"/>
                  </a:lnTo>
                  <a:lnTo>
                    <a:pt x="301" y="582"/>
                  </a:lnTo>
                  <a:lnTo>
                    <a:pt x="332" y="794"/>
                  </a:lnTo>
                  <a:lnTo>
                    <a:pt x="332" y="927"/>
                  </a:lnTo>
                  <a:lnTo>
                    <a:pt x="354" y="1138"/>
                  </a:lnTo>
                  <a:lnTo>
                    <a:pt x="301" y="1337"/>
                  </a:lnTo>
                  <a:lnTo>
                    <a:pt x="256" y="1434"/>
                  </a:lnTo>
                  <a:lnTo>
                    <a:pt x="195" y="1663"/>
                  </a:lnTo>
                  <a:lnTo>
                    <a:pt x="142" y="1911"/>
                  </a:lnTo>
                  <a:lnTo>
                    <a:pt x="106" y="2198"/>
                  </a:lnTo>
                  <a:lnTo>
                    <a:pt x="79" y="2339"/>
                  </a:lnTo>
                  <a:lnTo>
                    <a:pt x="79" y="2422"/>
                  </a:lnTo>
                  <a:lnTo>
                    <a:pt x="30" y="2136"/>
                  </a:lnTo>
                  <a:lnTo>
                    <a:pt x="0" y="1751"/>
                  </a:lnTo>
                  <a:lnTo>
                    <a:pt x="0" y="1398"/>
                  </a:lnTo>
                  <a:lnTo>
                    <a:pt x="30" y="1002"/>
                  </a:lnTo>
                  <a:lnTo>
                    <a:pt x="52" y="697"/>
                  </a:lnTo>
                  <a:lnTo>
                    <a:pt x="106" y="515"/>
                  </a:lnTo>
                  <a:lnTo>
                    <a:pt x="128" y="357"/>
                  </a:lnTo>
                  <a:lnTo>
                    <a:pt x="128" y="123"/>
                  </a:lnTo>
                  <a:close/>
                </a:path>
              </a:pathLst>
            </a:custGeom>
            <a:solidFill>
              <a:srgbClr val="ffffa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2360" y="3451320"/>
              <a:ext cx="195480" cy="487800"/>
            </a:xfrm>
            <a:custGeom>
              <a:avLst/>
              <a:gdLst/>
              <a:ahLst/>
              <a:rect l="0" t="0" r="r" b="b"/>
              <a:pathLst>
                <a:path w="543" h="1355">
                  <a:moveTo>
                    <a:pt x="543" y="0"/>
                  </a:moveTo>
                  <a:lnTo>
                    <a:pt x="411" y="171"/>
                  </a:lnTo>
                  <a:lnTo>
                    <a:pt x="246" y="437"/>
                  </a:lnTo>
                  <a:lnTo>
                    <a:pt x="136" y="649"/>
                  </a:lnTo>
                  <a:lnTo>
                    <a:pt x="61" y="874"/>
                  </a:lnTo>
                  <a:lnTo>
                    <a:pt x="39" y="1029"/>
                  </a:lnTo>
                  <a:lnTo>
                    <a:pt x="39" y="1188"/>
                  </a:lnTo>
                  <a:lnTo>
                    <a:pt x="0" y="1355"/>
                  </a:lnTo>
                  <a:lnTo>
                    <a:pt x="233" y="777"/>
                  </a:lnTo>
                  <a:lnTo>
                    <a:pt x="411" y="36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30440" y="3473280"/>
              <a:ext cx="79560" cy="562320"/>
            </a:xfrm>
            <a:custGeom>
              <a:avLst/>
              <a:gdLst/>
              <a:ahLst/>
              <a:rect l="0" t="0" r="r" b="b"/>
              <a:pathLst>
                <a:path w="221" h="1562">
                  <a:moveTo>
                    <a:pt x="22" y="163"/>
                  </a:moveTo>
                  <a:lnTo>
                    <a:pt x="8" y="493"/>
                  </a:lnTo>
                  <a:lnTo>
                    <a:pt x="0" y="723"/>
                  </a:lnTo>
                  <a:lnTo>
                    <a:pt x="8" y="1054"/>
                  </a:lnTo>
                  <a:lnTo>
                    <a:pt x="30" y="1262"/>
                  </a:lnTo>
                  <a:lnTo>
                    <a:pt x="74" y="1407"/>
                  </a:lnTo>
                  <a:lnTo>
                    <a:pt x="97" y="1509"/>
                  </a:lnTo>
                  <a:lnTo>
                    <a:pt x="120" y="1562"/>
                  </a:lnTo>
                  <a:lnTo>
                    <a:pt x="181" y="1341"/>
                  </a:lnTo>
                  <a:lnTo>
                    <a:pt x="221" y="1209"/>
                  </a:lnTo>
                  <a:lnTo>
                    <a:pt x="195" y="1041"/>
                  </a:lnTo>
                  <a:lnTo>
                    <a:pt x="212" y="830"/>
                  </a:lnTo>
                  <a:lnTo>
                    <a:pt x="181" y="533"/>
                  </a:lnTo>
                  <a:lnTo>
                    <a:pt x="181" y="321"/>
                  </a:lnTo>
                  <a:lnTo>
                    <a:pt x="142" y="167"/>
                  </a:lnTo>
                  <a:lnTo>
                    <a:pt x="105" y="110"/>
                  </a:lnTo>
                  <a:lnTo>
                    <a:pt x="30" y="0"/>
                  </a:lnTo>
                  <a:lnTo>
                    <a:pt x="22" y="163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043080" y="3506760"/>
            <a:ext cx="93960" cy="419400"/>
          </a:xfrm>
          <a:custGeom>
            <a:avLst/>
            <a:gdLst/>
            <a:ahLst/>
            <a:rect l="0" t="0" r="r" b="b"/>
            <a:pathLst>
              <a:path fill="none" w="261" h="1165">
                <a:moveTo>
                  <a:pt x="0" y="1165"/>
                </a:moveTo>
                <a:lnTo>
                  <a:pt x="0" y="949"/>
                </a:lnTo>
                <a:lnTo>
                  <a:pt x="22" y="750"/>
                </a:lnTo>
                <a:lnTo>
                  <a:pt x="30" y="605"/>
                </a:lnTo>
                <a:lnTo>
                  <a:pt x="52" y="454"/>
                </a:lnTo>
                <a:lnTo>
                  <a:pt x="105" y="277"/>
                </a:lnTo>
                <a:lnTo>
                  <a:pt x="155" y="136"/>
                </a:lnTo>
                <a:lnTo>
                  <a:pt x="208" y="39"/>
                </a:lnTo>
                <a:lnTo>
                  <a:pt x="26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467160"/>
            <a:ext cx="781560" cy="972000"/>
          </a:xfrm>
          <a:custGeom>
            <a:avLst/>
            <a:gdLst/>
            <a:ahLst/>
            <a:rect l="0" t="0" r="r" b="b"/>
            <a:pathLst>
              <a:path w="2171" h="2700">
                <a:moveTo>
                  <a:pt x="1059" y="105"/>
                </a:moveTo>
                <a:lnTo>
                  <a:pt x="1006" y="264"/>
                </a:lnTo>
                <a:lnTo>
                  <a:pt x="1006" y="423"/>
                </a:lnTo>
                <a:lnTo>
                  <a:pt x="953" y="635"/>
                </a:lnTo>
                <a:lnTo>
                  <a:pt x="900" y="794"/>
                </a:lnTo>
                <a:lnTo>
                  <a:pt x="794" y="953"/>
                </a:lnTo>
                <a:lnTo>
                  <a:pt x="741" y="1112"/>
                </a:lnTo>
                <a:lnTo>
                  <a:pt x="583" y="1271"/>
                </a:lnTo>
                <a:lnTo>
                  <a:pt x="529" y="1429"/>
                </a:lnTo>
                <a:lnTo>
                  <a:pt x="423" y="1588"/>
                </a:lnTo>
                <a:lnTo>
                  <a:pt x="370" y="1747"/>
                </a:lnTo>
                <a:lnTo>
                  <a:pt x="317" y="1906"/>
                </a:lnTo>
                <a:lnTo>
                  <a:pt x="211" y="2065"/>
                </a:lnTo>
                <a:lnTo>
                  <a:pt x="158" y="2224"/>
                </a:lnTo>
                <a:lnTo>
                  <a:pt x="105" y="2383"/>
                </a:lnTo>
                <a:lnTo>
                  <a:pt x="0" y="2542"/>
                </a:lnTo>
                <a:lnTo>
                  <a:pt x="158" y="2542"/>
                </a:lnTo>
                <a:lnTo>
                  <a:pt x="529" y="2542"/>
                </a:lnTo>
                <a:lnTo>
                  <a:pt x="688" y="2542"/>
                </a:lnTo>
                <a:lnTo>
                  <a:pt x="847" y="2594"/>
                </a:lnTo>
                <a:lnTo>
                  <a:pt x="1059" y="2594"/>
                </a:lnTo>
                <a:lnTo>
                  <a:pt x="1218" y="2647"/>
                </a:lnTo>
                <a:lnTo>
                  <a:pt x="1376" y="2647"/>
                </a:lnTo>
                <a:lnTo>
                  <a:pt x="1695" y="2647"/>
                </a:lnTo>
                <a:lnTo>
                  <a:pt x="1535" y="2647"/>
                </a:lnTo>
                <a:lnTo>
                  <a:pt x="1482" y="2489"/>
                </a:lnTo>
                <a:lnTo>
                  <a:pt x="1482" y="2277"/>
                </a:lnTo>
                <a:lnTo>
                  <a:pt x="1482" y="2118"/>
                </a:lnTo>
                <a:lnTo>
                  <a:pt x="1482" y="1958"/>
                </a:lnTo>
                <a:lnTo>
                  <a:pt x="1482" y="1800"/>
                </a:lnTo>
                <a:lnTo>
                  <a:pt x="1482" y="1641"/>
                </a:lnTo>
                <a:lnTo>
                  <a:pt x="1482" y="1429"/>
                </a:lnTo>
                <a:lnTo>
                  <a:pt x="1482" y="1271"/>
                </a:lnTo>
                <a:lnTo>
                  <a:pt x="1482" y="1429"/>
                </a:lnTo>
                <a:lnTo>
                  <a:pt x="1429" y="1641"/>
                </a:lnTo>
                <a:lnTo>
                  <a:pt x="1429" y="1800"/>
                </a:lnTo>
                <a:lnTo>
                  <a:pt x="1429" y="1958"/>
                </a:lnTo>
                <a:lnTo>
                  <a:pt x="1429" y="2118"/>
                </a:lnTo>
                <a:lnTo>
                  <a:pt x="1429" y="2277"/>
                </a:lnTo>
                <a:lnTo>
                  <a:pt x="1429" y="2436"/>
                </a:lnTo>
                <a:lnTo>
                  <a:pt x="1429" y="2594"/>
                </a:lnTo>
                <a:lnTo>
                  <a:pt x="1588" y="2647"/>
                </a:lnTo>
                <a:lnTo>
                  <a:pt x="1748" y="2647"/>
                </a:lnTo>
                <a:lnTo>
                  <a:pt x="1907" y="2647"/>
                </a:lnTo>
                <a:lnTo>
                  <a:pt x="2065" y="2700"/>
                </a:lnTo>
                <a:lnTo>
                  <a:pt x="2171" y="2542"/>
                </a:lnTo>
                <a:lnTo>
                  <a:pt x="2171" y="2383"/>
                </a:lnTo>
                <a:lnTo>
                  <a:pt x="2118" y="2224"/>
                </a:lnTo>
                <a:lnTo>
                  <a:pt x="2118" y="2065"/>
                </a:lnTo>
                <a:lnTo>
                  <a:pt x="2118" y="1906"/>
                </a:lnTo>
                <a:lnTo>
                  <a:pt x="2118" y="1747"/>
                </a:lnTo>
                <a:lnTo>
                  <a:pt x="2065" y="1588"/>
                </a:lnTo>
                <a:lnTo>
                  <a:pt x="2065" y="1429"/>
                </a:lnTo>
                <a:lnTo>
                  <a:pt x="2012" y="1271"/>
                </a:lnTo>
                <a:lnTo>
                  <a:pt x="2012" y="1112"/>
                </a:lnTo>
                <a:lnTo>
                  <a:pt x="2012" y="953"/>
                </a:lnTo>
                <a:lnTo>
                  <a:pt x="2012" y="794"/>
                </a:lnTo>
                <a:lnTo>
                  <a:pt x="2012" y="635"/>
                </a:lnTo>
                <a:lnTo>
                  <a:pt x="2012" y="264"/>
                </a:lnTo>
                <a:lnTo>
                  <a:pt x="2012" y="52"/>
                </a:lnTo>
                <a:lnTo>
                  <a:pt x="1854" y="0"/>
                </a:lnTo>
                <a:lnTo>
                  <a:pt x="1642" y="0"/>
                </a:lnTo>
                <a:lnTo>
                  <a:pt x="1482" y="52"/>
                </a:lnTo>
                <a:lnTo>
                  <a:pt x="1323" y="52"/>
                </a:lnTo>
                <a:lnTo>
                  <a:pt x="1165" y="105"/>
                </a:lnTo>
                <a:lnTo>
                  <a:pt x="1059" y="264"/>
                </a:lnTo>
                <a:lnTo>
                  <a:pt x="1059" y="105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3448080"/>
            <a:ext cx="381240" cy="972000"/>
          </a:xfrm>
          <a:custGeom>
            <a:avLst/>
            <a:gdLst/>
            <a:ahLst/>
            <a:rect l="0" t="0" r="r" b="b"/>
            <a:pathLst>
              <a:path w="1059" h="2700">
                <a:moveTo>
                  <a:pt x="105" y="2541"/>
                </a:moveTo>
                <a:lnTo>
                  <a:pt x="158" y="2383"/>
                </a:lnTo>
                <a:lnTo>
                  <a:pt x="211" y="2171"/>
                </a:lnTo>
                <a:lnTo>
                  <a:pt x="370" y="2011"/>
                </a:lnTo>
                <a:lnTo>
                  <a:pt x="423" y="1853"/>
                </a:lnTo>
                <a:lnTo>
                  <a:pt x="530" y="1694"/>
                </a:lnTo>
                <a:lnTo>
                  <a:pt x="583" y="1535"/>
                </a:lnTo>
                <a:lnTo>
                  <a:pt x="688" y="1323"/>
                </a:lnTo>
                <a:lnTo>
                  <a:pt x="741" y="1165"/>
                </a:lnTo>
                <a:lnTo>
                  <a:pt x="847" y="1006"/>
                </a:lnTo>
                <a:lnTo>
                  <a:pt x="900" y="794"/>
                </a:lnTo>
                <a:lnTo>
                  <a:pt x="953" y="634"/>
                </a:lnTo>
                <a:lnTo>
                  <a:pt x="1059" y="476"/>
                </a:lnTo>
                <a:lnTo>
                  <a:pt x="1006" y="317"/>
                </a:lnTo>
                <a:lnTo>
                  <a:pt x="953" y="158"/>
                </a:lnTo>
                <a:lnTo>
                  <a:pt x="847" y="0"/>
                </a:lnTo>
                <a:lnTo>
                  <a:pt x="688" y="0"/>
                </a:lnTo>
                <a:lnTo>
                  <a:pt x="636" y="158"/>
                </a:lnTo>
                <a:lnTo>
                  <a:pt x="583" y="317"/>
                </a:lnTo>
                <a:lnTo>
                  <a:pt x="530" y="476"/>
                </a:lnTo>
                <a:lnTo>
                  <a:pt x="423" y="634"/>
                </a:lnTo>
                <a:lnTo>
                  <a:pt x="370" y="794"/>
                </a:lnTo>
                <a:lnTo>
                  <a:pt x="317" y="953"/>
                </a:lnTo>
                <a:lnTo>
                  <a:pt x="211" y="1112"/>
                </a:lnTo>
                <a:lnTo>
                  <a:pt x="158" y="1270"/>
                </a:lnTo>
                <a:lnTo>
                  <a:pt x="158" y="1429"/>
                </a:lnTo>
                <a:lnTo>
                  <a:pt x="105" y="1588"/>
                </a:lnTo>
                <a:lnTo>
                  <a:pt x="52" y="1747"/>
                </a:lnTo>
                <a:lnTo>
                  <a:pt x="0" y="1905"/>
                </a:lnTo>
                <a:lnTo>
                  <a:pt x="0" y="2065"/>
                </a:lnTo>
                <a:lnTo>
                  <a:pt x="0" y="2224"/>
                </a:lnTo>
                <a:lnTo>
                  <a:pt x="0" y="2383"/>
                </a:lnTo>
                <a:lnTo>
                  <a:pt x="0" y="2541"/>
                </a:lnTo>
                <a:lnTo>
                  <a:pt x="0" y="2700"/>
                </a:lnTo>
                <a:lnTo>
                  <a:pt x="105" y="2541"/>
                </a:lnTo>
                <a:close/>
              </a:path>
            </a:pathLst>
          </a:custGeom>
          <a:solidFill>
            <a:srgbClr val="0003e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0600" y="3638520"/>
            <a:ext cx="324360" cy="819360"/>
          </a:xfrm>
          <a:custGeom>
            <a:avLst/>
            <a:gdLst/>
            <a:ahLst/>
            <a:rect l="0" t="0" r="r" b="b"/>
            <a:pathLst>
              <a:path w="901" h="2276">
                <a:moveTo>
                  <a:pt x="371" y="0"/>
                </a:moveTo>
                <a:lnTo>
                  <a:pt x="211" y="52"/>
                </a:lnTo>
                <a:lnTo>
                  <a:pt x="52" y="158"/>
                </a:lnTo>
                <a:lnTo>
                  <a:pt x="0" y="317"/>
                </a:lnTo>
                <a:lnTo>
                  <a:pt x="52" y="476"/>
                </a:lnTo>
                <a:lnTo>
                  <a:pt x="105" y="635"/>
                </a:lnTo>
                <a:lnTo>
                  <a:pt x="52" y="793"/>
                </a:lnTo>
                <a:lnTo>
                  <a:pt x="52" y="952"/>
                </a:lnTo>
                <a:lnTo>
                  <a:pt x="52" y="1111"/>
                </a:lnTo>
                <a:lnTo>
                  <a:pt x="0" y="1271"/>
                </a:lnTo>
                <a:lnTo>
                  <a:pt x="0" y="1429"/>
                </a:lnTo>
                <a:lnTo>
                  <a:pt x="52" y="1588"/>
                </a:lnTo>
                <a:lnTo>
                  <a:pt x="52" y="1747"/>
                </a:lnTo>
                <a:lnTo>
                  <a:pt x="424" y="1800"/>
                </a:lnTo>
                <a:lnTo>
                  <a:pt x="530" y="1958"/>
                </a:lnTo>
                <a:lnTo>
                  <a:pt x="530" y="2117"/>
                </a:lnTo>
                <a:lnTo>
                  <a:pt x="636" y="2276"/>
                </a:lnTo>
                <a:lnTo>
                  <a:pt x="795" y="2276"/>
                </a:lnTo>
                <a:lnTo>
                  <a:pt x="901" y="2170"/>
                </a:lnTo>
                <a:lnTo>
                  <a:pt x="848" y="2011"/>
                </a:lnTo>
                <a:lnTo>
                  <a:pt x="689" y="1853"/>
                </a:lnTo>
                <a:lnTo>
                  <a:pt x="636" y="1694"/>
                </a:lnTo>
                <a:lnTo>
                  <a:pt x="583" y="1535"/>
                </a:lnTo>
                <a:lnTo>
                  <a:pt x="530" y="1376"/>
                </a:lnTo>
                <a:lnTo>
                  <a:pt x="477" y="1218"/>
                </a:lnTo>
                <a:lnTo>
                  <a:pt x="424" y="1058"/>
                </a:lnTo>
                <a:lnTo>
                  <a:pt x="424" y="899"/>
                </a:lnTo>
                <a:lnTo>
                  <a:pt x="424" y="687"/>
                </a:lnTo>
                <a:lnTo>
                  <a:pt x="371" y="529"/>
                </a:lnTo>
                <a:lnTo>
                  <a:pt x="318" y="370"/>
                </a:lnTo>
                <a:lnTo>
                  <a:pt x="318" y="211"/>
                </a:lnTo>
                <a:lnTo>
                  <a:pt x="371" y="52"/>
                </a:lnTo>
                <a:lnTo>
                  <a:pt x="371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3448080"/>
            <a:ext cx="590760" cy="972000"/>
          </a:xfrm>
          <a:custGeom>
            <a:avLst/>
            <a:gdLst/>
            <a:ahLst/>
            <a:rect l="0" t="0" r="r" b="b"/>
            <a:pathLst>
              <a:path w="1641" h="2700">
                <a:moveTo>
                  <a:pt x="635" y="105"/>
                </a:moveTo>
                <a:lnTo>
                  <a:pt x="476" y="158"/>
                </a:lnTo>
                <a:lnTo>
                  <a:pt x="317" y="211"/>
                </a:lnTo>
                <a:lnTo>
                  <a:pt x="211" y="370"/>
                </a:lnTo>
                <a:lnTo>
                  <a:pt x="105" y="529"/>
                </a:lnTo>
                <a:lnTo>
                  <a:pt x="52" y="688"/>
                </a:lnTo>
                <a:lnTo>
                  <a:pt x="52" y="847"/>
                </a:lnTo>
                <a:lnTo>
                  <a:pt x="0" y="1006"/>
                </a:lnTo>
                <a:lnTo>
                  <a:pt x="0" y="1165"/>
                </a:lnTo>
                <a:lnTo>
                  <a:pt x="52" y="1323"/>
                </a:lnTo>
                <a:lnTo>
                  <a:pt x="52" y="1535"/>
                </a:lnTo>
                <a:lnTo>
                  <a:pt x="105" y="1694"/>
                </a:lnTo>
                <a:lnTo>
                  <a:pt x="158" y="1853"/>
                </a:lnTo>
                <a:lnTo>
                  <a:pt x="264" y="2065"/>
                </a:lnTo>
                <a:lnTo>
                  <a:pt x="317" y="2224"/>
                </a:lnTo>
                <a:lnTo>
                  <a:pt x="370" y="2383"/>
                </a:lnTo>
                <a:lnTo>
                  <a:pt x="423" y="2541"/>
                </a:lnTo>
                <a:lnTo>
                  <a:pt x="476" y="2700"/>
                </a:lnTo>
                <a:lnTo>
                  <a:pt x="635" y="2594"/>
                </a:lnTo>
                <a:lnTo>
                  <a:pt x="740" y="2436"/>
                </a:lnTo>
                <a:lnTo>
                  <a:pt x="900" y="2330"/>
                </a:lnTo>
                <a:lnTo>
                  <a:pt x="1006" y="2171"/>
                </a:lnTo>
                <a:lnTo>
                  <a:pt x="1059" y="2011"/>
                </a:lnTo>
                <a:lnTo>
                  <a:pt x="1112" y="1800"/>
                </a:lnTo>
                <a:lnTo>
                  <a:pt x="1112" y="1641"/>
                </a:lnTo>
                <a:lnTo>
                  <a:pt x="1271" y="1535"/>
                </a:lnTo>
                <a:lnTo>
                  <a:pt x="1271" y="1376"/>
                </a:lnTo>
                <a:lnTo>
                  <a:pt x="1429" y="1270"/>
                </a:lnTo>
                <a:lnTo>
                  <a:pt x="1482" y="1112"/>
                </a:lnTo>
                <a:lnTo>
                  <a:pt x="1535" y="953"/>
                </a:lnTo>
                <a:lnTo>
                  <a:pt x="1588" y="794"/>
                </a:lnTo>
                <a:lnTo>
                  <a:pt x="1588" y="634"/>
                </a:lnTo>
                <a:lnTo>
                  <a:pt x="1641" y="476"/>
                </a:lnTo>
                <a:lnTo>
                  <a:pt x="1641" y="317"/>
                </a:lnTo>
                <a:lnTo>
                  <a:pt x="1641" y="158"/>
                </a:lnTo>
                <a:lnTo>
                  <a:pt x="1482" y="105"/>
                </a:lnTo>
                <a:lnTo>
                  <a:pt x="1323" y="0"/>
                </a:lnTo>
                <a:lnTo>
                  <a:pt x="1218" y="158"/>
                </a:lnTo>
                <a:lnTo>
                  <a:pt x="1059" y="264"/>
                </a:lnTo>
                <a:lnTo>
                  <a:pt x="1059" y="423"/>
                </a:lnTo>
                <a:lnTo>
                  <a:pt x="1006" y="582"/>
                </a:lnTo>
                <a:lnTo>
                  <a:pt x="1006" y="741"/>
                </a:lnTo>
                <a:lnTo>
                  <a:pt x="847" y="1112"/>
                </a:lnTo>
                <a:lnTo>
                  <a:pt x="793" y="1270"/>
                </a:lnTo>
                <a:lnTo>
                  <a:pt x="687" y="1429"/>
                </a:lnTo>
                <a:lnTo>
                  <a:pt x="687" y="1588"/>
                </a:lnTo>
                <a:lnTo>
                  <a:pt x="582" y="1747"/>
                </a:lnTo>
                <a:lnTo>
                  <a:pt x="582" y="1905"/>
                </a:lnTo>
                <a:lnTo>
                  <a:pt x="582" y="2065"/>
                </a:lnTo>
                <a:lnTo>
                  <a:pt x="529" y="2224"/>
                </a:lnTo>
                <a:lnTo>
                  <a:pt x="529" y="2383"/>
                </a:lnTo>
                <a:lnTo>
                  <a:pt x="582" y="2541"/>
                </a:lnTo>
                <a:lnTo>
                  <a:pt x="582" y="2383"/>
                </a:lnTo>
                <a:lnTo>
                  <a:pt x="582" y="2224"/>
                </a:lnTo>
                <a:lnTo>
                  <a:pt x="635" y="2065"/>
                </a:lnTo>
                <a:lnTo>
                  <a:pt x="635" y="1905"/>
                </a:lnTo>
                <a:lnTo>
                  <a:pt x="529" y="1747"/>
                </a:lnTo>
                <a:lnTo>
                  <a:pt x="529" y="1588"/>
                </a:lnTo>
                <a:lnTo>
                  <a:pt x="635" y="1429"/>
                </a:lnTo>
                <a:lnTo>
                  <a:pt x="687" y="1270"/>
                </a:lnTo>
                <a:lnTo>
                  <a:pt x="687" y="1112"/>
                </a:lnTo>
                <a:lnTo>
                  <a:pt x="687" y="953"/>
                </a:lnTo>
                <a:lnTo>
                  <a:pt x="687" y="794"/>
                </a:lnTo>
                <a:lnTo>
                  <a:pt x="687" y="634"/>
                </a:lnTo>
                <a:lnTo>
                  <a:pt x="740" y="476"/>
                </a:lnTo>
                <a:lnTo>
                  <a:pt x="740" y="317"/>
                </a:lnTo>
                <a:lnTo>
                  <a:pt x="635" y="158"/>
                </a:lnTo>
                <a:lnTo>
                  <a:pt x="635" y="105"/>
                </a:lnTo>
                <a:close/>
              </a:path>
            </a:pathLst>
          </a:custGeom>
          <a:solidFill>
            <a:srgbClr val="0100b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405480" y="1866960"/>
            <a:ext cx="868320" cy="830160"/>
            <a:chOff x="6405480" y="1866960"/>
            <a:chExt cx="868320" cy="830160"/>
          </a:xfrm>
        </p:grpSpPr>
        <p:sp>
          <p:nvSpPr>
            <p:cNvPr id="209" name=""/>
            <p:cNvSpPr/>
            <p:nvPr/>
          </p:nvSpPr>
          <p:spPr>
            <a:xfrm>
              <a:off x="6405480" y="1866960"/>
              <a:ext cx="868320" cy="830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78560" y="1973160"/>
              <a:ext cx="719280" cy="589320"/>
              <a:chOff x="6478560" y="1973160"/>
              <a:chExt cx="719280" cy="589320"/>
            </a:xfrm>
          </p:grpSpPr>
          <p:sp>
            <p:nvSpPr>
              <p:cNvPr id="211" name=""/>
              <p:cNvSpPr/>
              <p:nvPr/>
            </p:nvSpPr>
            <p:spPr>
              <a:xfrm>
                <a:off x="6523200" y="2352600"/>
                <a:ext cx="592560" cy="209880"/>
              </a:xfrm>
              <a:custGeom>
                <a:avLst/>
                <a:gdLst/>
                <a:ahLst/>
                <a:rect l="0" t="0" r="r" b="b"/>
                <a:pathLst>
                  <a:path w="1646" h="583">
                    <a:moveTo>
                      <a:pt x="596" y="8"/>
                    </a:moveTo>
                    <a:lnTo>
                      <a:pt x="472" y="74"/>
                    </a:lnTo>
                    <a:lnTo>
                      <a:pt x="441" y="92"/>
                    </a:lnTo>
                    <a:lnTo>
                      <a:pt x="424" y="110"/>
                    </a:lnTo>
                    <a:lnTo>
                      <a:pt x="383" y="145"/>
                    </a:lnTo>
                    <a:lnTo>
                      <a:pt x="335" y="176"/>
                    </a:lnTo>
                    <a:lnTo>
                      <a:pt x="326" y="185"/>
                    </a:lnTo>
                    <a:lnTo>
                      <a:pt x="308" y="202"/>
                    </a:lnTo>
                    <a:lnTo>
                      <a:pt x="264" y="242"/>
                    </a:lnTo>
                    <a:lnTo>
                      <a:pt x="238" y="260"/>
                    </a:lnTo>
                    <a:lnTo>
                      <a:pt x="198" y="277"/>
                    </a:lnTo>
                    <a:lnTo>
                      <a:pt x="145" y="296"/>
                    </a:lnTo>
                    <a:lnTo>
                      <a:pt x="105" y="314"/>
                    </a:lnTo>
                    <a:lnTo>
                      <a:pt x="66" y="331"/>
                    </a:lnTo>
                    <a:lnTo>
                      <a:pt x="39" y="349"/>
                    </a:lnTo>
                    <a:lnTo>
                      <a:pt x="17" y="367"/>
                    </a:lnTo>
                    <a:lnTo>
                      <a:pt x="0" y="384"/>
                    </a:lnTo>
                    <a:lnTo>
                      <a:pt x="0" y="406"/>
                    </a:lnTo>
                    <a:lnTo>
                      <a:pt x="8" y="441"/>
                    </a:lnTo>
                    <a:lnTo>
                      <a:pt x="17" y="455"/>
                    </a:lnTo>
                    <a:lnTo>
                      <a:pt x="30" y="468"/>
                    </a:lnTo>
                    <a:lnTo>
                      <a:pt x="39" y="486"/>
                    </a:lnTo>
                    <a:lnTo>
                      <a:pt x="66" y="503"/>
                    </a:lnTo>
                    <a:lnTo>
                      <a:pt x="92" y="503"/>
                    </a:lnTo>
                    <a:lnTo>
                      <a:pt x="123" y="503"/>
                    </a:lnTo>
                    <a:lnTo>
                      <a:pt x="163" y="494"/>
                    </a:lnTo>
                    <a:lnTo>
                      <a:pt x="194" y="490"/>
                    </a:lnTo>
                    <a:lnTo>
                      <a:pt x="211" y="508"/>
                    </a:lnTo>
                    <a:lnTo>
                      <a:pt x="238" y="534"/>
                    </a:lnTo>
                    <a:lnTo>
                      <a:pt x="264" y="538"/>
                    </a:lnTo>
                    <a:lnTo>
                      <a:pt x="308" y="534"/>
                    </a:lnTo>
                    <a:lnTo>
                      <a:pt x="361" y="521"/>
                    </a:lnTo>
                    <a:lnTo>
                      <a:pt x="401" y="521"/>
                    </a:lnTo>
                    <a:lnTo>
                      <a:pt x="428" y="521"/>
                    </a:lnTo>
                    <a:lnTo>
                      <a:pt x="477" y="552"/>
                    </a:lnTo>
                    <a:lnTo>
                      <a:pt x="508" y="569"/>
                    </a:lnTo>
                    <a:lnTo>
                      <a:pt x="547" y="565"/>
                    </a:lnTo>
                    <a:lnTo>
                      <a:pt x="605" y="547"/>
                    </a:lnTo>
                    <a:lnTo>
                      <a:pt x="658" y="538"/>
                    </a:lnTo>
                    <a:lnTo>
                      <a:pt x="737" y="552"/>
                    </a:lnTo>
                    <a:lnTo>
                      <a:pt x="785" y="556"/>
                    </a:lnTo>
                    <a:lnTo>
                      <a:pt x="834" y="547"/>
                    </a:lnTo>
                    <a:lnTo>
                      <a:pt x="909" y="556"/>
                    </a:lnTo>
                    <a:lnTo>
                      <a:pt x="944" y="574"/>
                    </a:lnTo>
                    <a:lnTo>
                      <a:pt x="993" y="583"/>
                    </a:lnTo>
                    <a:lnTo>
                      <a:pt x="1032" y="565"/>
                    </a:lnTo>
                    <a:lnTo>
                      <a:pt x="1072" y="556"/>
                    </a:lnTo>
                    <a:lnTo>
                      <a:pt x="1116" y="552"/>
                    </a:lnTo>
                    <a:lnTo>
                      <a:pt x="1165" y="552"/>
                    </a:lnTo>
                    <a:lnTo>
                      <a:pt x="1213" y="556"/>
                    </a:lnTo>
                    <a:lnTo>
                      <a:pt x="1249" y="538"/>
                    </a:lnTo>
                    <a:lnTo>
                      <a:pt x="1280" y="516"/>
                    </a:lnTo>
                    <a:lnTo>
                      <a:pt x="1307" y="508"/>
                    </a:lnTo>
                    <a:lnTo>
                      <a:pt x="1342" y="508"/>
                    </a:lnTo>
                    <a:lnTo>
                      <a:pt x="1373" y="516"/>
                    </a:lnTo>
                    <a:lnTo>
                      <a:pt x="1408" y="525"/>
                    </a:lnTo>
                    <a:lnTo>
                      <a:pt x="1452" y="534"/>
                    </a:lnTo>
                    <a:lnTo>
                      <a:pt x="1483" y="521"/>
                    </a:lnTo>
                    <a:lnTo>
                      <a:pt x="1523" y="503"/>
                    </a:lnTo>
                    <a:lnTo>
                      <a:pt x="1571" y="486"/>
                    </a:lnTo>
                    <a:lnTo>
                      <a:pt x="1589" y="477"/>
                    </a:lnTo>
                    <a:lnTo>
                      <a:pt x="1624" y="455"/>
                    </a:lnTo>
                    <a:lnTo>
                      <a:pt x="1642" y="433"/>
                    </a:lnTo>
                    <a:lnTo>
                      <a:pt x="1646" y="406"/>
                    </a:lnTo>
                    <a:lnTo>
                      <a:pt x="1629" y="367"/>
                    </a:lnTo>
                    <a:lnTo>
                      <a:pt x="1615" y="349"/>
                    </a:lnTo>
                    <a:lnTo>
                      <a:pt x="1598" y="331"/>
                    </a:lnTo>
                    <a:lnTo>
                      <a:pt x="1558" y="314"/>
                    </a:lnTo>
                    <a:lnTo>
                      <a:pt x="1523" y="309"/>
                    </a:lnTo>
                    <a:lnTo>
                      <a:pt x="1483" y="296"/>
                    </a:lnTo>
                    <a:lnTo>
                      <a:pt x="1435" y="282"/>
                    </a:lnTo>
                    <a:lnTo>
                      <a:pt x="1408" y="277"/>
                    </a:lnTo>
                    <a:lnTo>
                      <a:pt x="1346" y="246"/>
                    </a:lnTo>
                    <a:lnTo>
                      <a:pt x="1324" y="220"/>
                    </a:lnTo>
                    <a:lnTo>
                      <a:pt x="1298" y="194"/>
                    </a:lnTo>
                    <a:lnTo>
                      <a:pt x="1276" y="176"/>
                    </a:lnTo>
                    <a:lnTo>
                      <a:pt x="1226" y="141"/>
                    </a:lnTo>
                    <a:lnTo>
                      <a:pt x="1204" y="123"/>
                    </a:lnTo>
                    <a:lnTo>
                      <a:pt x="1191" y="114"/>
                    </a:lnTo>
                    <a:lnTo>
                      <a:pt x="1147" y="92"/>
                    </a:lnTo>
                    <a:lnTo>
                      <a:pt x="1103" y="61"/>
                    </a:lnTo>
                    <a:lnTo>
                      <a:pt x="1076" y="35"/>
                    </a:lnTo>
                    <a:lnTo>
                      <a:pt x="1037" y="8"/>
                    </a:lnTo>
                    <a:lnTo>
                      <a:pt x="1015" y="4"/>
                    </a:lnTo>
                    <a:lnTo>
                      <a:pt x="993" y="0"/>
                    </a:lnTo>
                    <a:lnTo>
                      <a:pt x="953" y="0"/>
                    </a:lnTo>
                    <a:lnTo>
                      <a:pt x="900" y="0"/>
                    </a:lnTo>
                    <a:lnTo>
                      <a:pt x="596" y="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78640" y="2409840"/>
                <a:ext cx="495720" cy="108360"/>
              </a:xfrm>
              <a:custGeom>
                <a:avLst/>
                <a:gdLst/>
                <a:ahLst/>
                <a:rect l="0" t="0" r="r" b="b"/>
                <a:pathLst>
                  <a:path w="1377" h="301">
                    <a:moveTo>
                      <a:pt x="17" y="253"/>
                    </a:moveTo>
                    <a:lnTo>
                      <a:pt x="0" y="225"/>
                    </a:lnTo>
                    <a:lnTo>
                      <a:pt x="4" y="190"/>
                    </a:lnTo>
                    <a:lnTo>
                      <a:pt x="22" y="168"/>
                    </a:lnTo>
                    <a:lnTo>
                      <a:pt x="44" y="150"/>
                    </a:lnTo>
                    <a:lnTo>
                      <a:pt x="74" y="142"/>
                    </a:lnTo>
                    <a:lnTo>
                      <a:pt x="101" y="137"/>
                    </a:lnTo>
                    <a:lnTo>
                      <a:pt x="123" y="137"/>
                    </a:lnTo>
                    <a:lnTo>
                      <a:pt x="145" y="137"/>
                    </a:lnTo>
                    <a:lnTo>
                      <a:pt x="163" y="137"/>
                    </a:lnTo>
                    <a:lnTo>
                      <a:pt x="180" y="142"/>
                    </a:lnTo>
                    <a:lnTo>
                      <a:pt x="211" y="146"/>
                    </a:lnTo>
                    <a:lnTo>
                      <a:pt x="242" y="137"/>
                    </a:lnTo>
                    <a:lnTo>
                      <a:pt x="264" y="128"/>
                    </a:lnTo>
                    <a:lnTo>
                      <a:pt x="282" y="120"/>
                    </a:lnTo>
                    <a:lnTo>
                      <a:pt x="321" y="89"/>
                    </a:lnTo>
                    <a:lnTo>
                      <a:pt x="349" y="70"/>
                    </a:lnTo>
                    <a:lnTo>
                      <a:pt x="402" y="48"/>
                    </a:lnTo>
                    <a:lnTo>
                      <a:pt x="415" y="44"/>
                    </a:lnTo>
                    <a:lnTo>
                      <a:pt x="428" y="39"/>
                    </a:lnTo>
                    <a:lnTo>
                      <a:pt x="450" y="35"/>
                    </a:lnTo>
                    <a:lnTo>
                      <a:pt x="464" y="30"/>
                    </a:lnTo>
                    <a:lnTo>
                      <a:pt x="477" y="30"/>
                    </a:lnTo>
                    <a:lnTo>
                      <a:pt x="494" y="30"/>
                    </a:lnTo>
                    <a:lnTo>
                      <a:pt x="534" y="30"/>
                    </a:lnTo>
                    <a:lnTo>
                      <a:pt x="587" y="30"/>
                    </a:lnTo>
                    <a:lnTo>
                      <a:pt x="618" y="30"/>
                    </a:lnTo>
                    <a:lnTo>
                      <a:pt x="640" y="30"/>
                    </a:lnTo>
                    <a:lnTo>
                      <a:pt x="653" y="30"/>
                    </a:lnTo>
                    <a:lnTo>
                      <a:pt x="702" y="39"/>
                    </a:lnTo>
                    <a:lnTo>
                      <a:pt x="715" y="48"/>
                    </a:lnTo>
                    <a:lnTo>
                      <a:pt x="728" y="52"/>
                    </a:lnTo>
                    <a:lnTo>
                      <a:pt x="733" y="57"/>
                    </a:lnTo>
                    <a:lnTo>
                      <a:pt x="750" y="57"/>
                    </a:lnTo>
                    <a:lnTo>
                      <a:pt x="759" y="66"/>
                    </a:lnTo>
                    <a:lnTo>
                      <a:pt x="772" y="70"/>
                    </a:lnTo>
                    <a:lnTo>
                      <a:pt x="790" y="70"/>
                    </a:lnTo>
                    <a:lnTo>
                      <a:pt x="803" y="70"/>
                    </a:lnTo>
                    <a:lnTo>
                      <a:pt x="812" y="70"/>
                    </a:lnTo>
                    <a:lnTo>
                      <a:pt x="838" y="66"/>
                    </a:lnTo>
                    <a:lnTo>
                      <a:pt x="852" y="61"/>
                    </a:lnTo>
                    <a:lnTo>
                      <a:pt x="874" y="52"/>
                    </a:lnTo>
                    <a:lnTo>
                      <a:pt x="887" y="48"/>
                    </a:lnTo>
                    <a:lnTo>
                      <a:pt x="904" y="48"/>
                    </a:lnTo>
                    <a:lnTo>
                      <a:pt x="927" y="48"/>
                    </a:lnTo>
                    <a:lnTo>
                      <a:pt x="949" y="48"/>
                    </a:lnTo>
                    <a:lnTo>
                      <a:pt x="966" y="48"/>
                    </a:lnTo>
                    <a:lnTo>
                      <a:pt x="975" y="48"/>
                    </a:lnTo>
                    <a:lnTo>
                      <a:pt x="993" y="52"/>
                    </a:lnTo>
                    <a:lnTo>
                      <a:pt x="1010" y="57"/>
                    </a:lnTo>
                    <a:lnTo>
                      <a:pt x="1028" y="66"/>
                    </a:lnTo>
                    <a:lnTo>
                      <a:pt x="1047" y="74"/>
                    </a:lnTo>
                    <a:lnTo>
                      <a:pt x="1064" y="84"/>
                    </a:lnTo>
                    <a:lnTo>
                      <a:pt x="1082" y="89"/>
                    </a:lnTo>
                    <a:lnTo>
                      <a:pt x="1100" y="102"/>
                    </a:lnTo>
                    <a:lnTo>
                      <a:pt x="1104" y="120"/>
                    </a:lnTo>
                    <a:lnTo>
                      <a:pt x="1117" y="128"/>
                    </a:lnTo>
                    <a:lnTo>
                      <a:pt x="1130" y="137"/>
                    </a:lnTo>
                    <a:lnTo>
                      <a:pt x="1148" y="137"/>
                    </a:lnTo>
                    <a:lnTo>
                      <a:pt x="1152" y="124"/>
                    </a:lnTo>
                    <a:lnTo>
                      <a:pt x="1148" y="120"/>
                    </a:lnTo>
                    <a:lnTo>
                      <a:pt x="1144" y="106"/>
                    </a:lnTo>
                    <a:lnTo>
                      <a:pt x="1135" y="102"/>
                    </a:lnTo>
                    <a:lnTo>
                      <a:pt x="1117" y="93"/>
                    </a:lnTo>
                    <a:lnTo>
                      <a:pt x="1100" y="74"/>
                    </a:lnTo>
                    <a:lnTo>
                      <a:pt x="1077" y="39"/>
                    </a:lnTo>
                    <a:lnTo>
                      <a:pt x="1032" y="8"/>
                    </a:lnTo>
                    <a:lnTo>
                      <a:pt x="1047" y="0"/>
                    </a:lnTo>
                    <a:lnTo>
                      <a:pt x="1064" y="0"/>
                    </a:lnTo>
                    <a:lnTo>
                      <a:pt x="1091" y="17"/>
                    </a:lnTo>
                    <a:lnTo>
                      <a:pt x="1117" y="30"/>
                    </a:lnTo>
                    <a:lnTo>
                      <a:pt x="1135" y="57"/>
                    </a:lnTo>
                    <a:lnTo>
                      <a:pt x="1157" y="80"/>
                    </a:lnTo>
                    <a:lnTo>
                      <a:pt x="1183" y="89"/>
                    </a:lnTo>
                    <a:lnTo>
                      <a:pt x="1197" y="102"/>
                    </a:lnTo>
                    <a:lnTo>
                      <a:pt x="1223" y="120"/>
                    </a:lnTo>
                    <a:lnTo>
                      <a:pt x="1241" y="137"/>
                    </a:lnTo>
                    <a:lnTo>
                      <a:pt x="1249" y="142"/>
                    </a:lnTo>
                    <a:lnTo>
                      <a:pt x="1267" y="164"/>
                    </a:lnTo>
                    <a:lnTo>
                      <a:pt x="1280" y="186"/>
                    </a:lnTo>
                    <a:lnTo>
                      <a:pt x="1298" y="199"/>
                    </a:lnTo>
                    <a:lnTo>
                      <a:pt x="1324" y="217"/>
                    </a:lnTo>
                    <a:lnTo>
                      <a:pt x="1333" y="221"/>
                    </a:lnTo>
                    <a:lnTo>
                      <a:pt x="1351" y="225"/>
                    </a:lnTo>
                    <a:lnTo>
                      <a:pt x="1364" y="231"/>
                    </a:lnTo>
                    <a:lnTo>
                      <a:pt x="1364" y="240"/>
                    </a:lnTo>
                    <a:lnTo>
                      <a:pt x="1377" y="284"/>
                    </a:lnTo>
                    <a:lnTo>
                      <a:pt x="1369" y="293"/>
                    </a:lnTo>
                    <a:lnTo>
                      <a:pt x="1364" y="293"/>
                    </a:lnTo>
                    <a:lnTo>
                      <a:pt x="1355" y="293"/>
                    </a:lnTo>
                    <a:lnTo>
                      <a:pt x="1329" y="301"/>
                    </a:lnTo>
                    <a:lnTo>
                      <a:pt x="1324" y="301"/>
                    </a:lnTo>
                    <a:lnTo>
                      <a:pt x="1311" y="301"/>
                    </a:lnTo>
                    <a:lnTo>
                      <a:pt x="1272" y="297"/>
                    </a:lnTo>
                    <a:lnTo>
                      <a:pt x="1254" y="293"/>
                    </a:lnTo>
                    <a:lnTo>
                      <a:pt x="1219" y="279"/>
                    </a:lnTo>
                    <a:lnTo>
                      <a:pt x="1170" y="262"/>
                    </a:lnTo>
                    <a:lnTo>
                      <a:pt x="1126" y="240"/>
                    </a:lnTo>
                    <a:lnTo>
                      <a:pt x="1100" y="225"/>
                    </a:lnTo>
                    <a:lnTo>
                      <a:pt x="1069" y="203"/>
                    </a:lnTo>
                    <a:lnTo>
                      <a:pt x="1064" y="199"/>
                    </a:lnTo>
                    <a:lnTo>
                      <a:pt x="1047" y="190"/>
                    </a:lnTo>
                    <a:lnTo>
                      <a:pt x="1024" y="186"/>
                    </a:lnTo>
                    <a:lnTo>
                      <a:pt x="1002" y="172"/>
                    </a:lnTo>
                    <a:lnTo>
                      <a:pt x="979" y="172"/>
                    </a:lnTo>
                    <a:lnTo>
                      <a:pt x="966" y="168"/>
                    </a:lnTo>
                    <a:lnTo>
                      <a:pt x="904" y="155"/>
                    </a:lnTo>
                    <a:lnTo>
                      <a:pt x="887" y="150"/>
                    </a:lnTo>
                    <a:lnTo>
                      <a:pt x="869" y="150"/>
                    </a:lnTo>
                    <a:lnTo>
                      <a:pt x="838" y="150"/>
                    </a:lnTo>
                    <a:lnTo>
                      <a:pt x="830" y="150"/>
                    </a:lnTo>
                    <a:lnTo>
                      <a:pt x="807" y="150"/>
                    </a:lnTo>
                    <a:lnTo>
                      <a:pt x="803" y="150"/>
                    </a:lnTo>
                    <a:lnTo>
                      <a:pt x="680" y="150"/>
                    </a:lnTo>
                    <a:lnTo>
                      <a:pt x="675" y="155"/>
                    </a:lnTo>
                    <a:lnTo>
                      <a:pt x="662" y="155"/>
                    </a:lnTo>
                    <a:lnTo>
                      <a:pt x="653" y="164"/>
                    </a:lnTo>
                    <a:lnTo>
                      <a:pt x="627" y="172"/>
                    </a:lnTo>
                    <a:lnTo>
                      <a:pt x="600" y="172"/>
                    </a:lnTo>
                    <a:lnTo>
                      <a:pt x="587" y="168"/>
                    </a:lnTo>
                    <a:lnTo>
                      <a:pt x="569" y="159"/>
                    </a:lnTo>
                    <a:lnTo>
                      <a:pt x="556" y="155"/>
                    </a:lnTo>
                    <a:lnTo>
                      <a:pt x="525" y="155"/>
                    </a:lnTo>
                    <a:lnTo>
                      <a:pt x="512" y="155"/>
                    </a:lnTo>
                    <a:lnTo>
                      <a:pt x="490" y="155"/>
                    </a:lnTo>
                    <a:lnTo>
                      <a:pt x="468" y="155"/>
                    </a:lnTo>
                    <a:lnTo>
                      <a:pt x="450" y="159"/>
                    </a:lnTo>
                    <a:lnTo>
                      <a:pt x="415" y="168"/>
                    </a:lnTo>
                    <a:lnTo>
                      <a:pt x="371" y="172"/>
                    </a:lnTo>
                    <a:lnTo>
                      <a:pt x="353" y="181"/>
                    </a:lnTo>
                    <a:lnTo>
                      <a:pt x="321" y="190"/>
                    </a:lnTo>
                    <a:lnTo>
                      <a:pt x="304" y="190"/>
                    </a:lnTo>
                    <a:lnTo>
                      <a:pt x="291" y="203"/>
                    </a:lnTo>
                    <a:lnTo>
                      <a:pt x="273" y="212"/>
                    </a:lnTo>
                    <a:lnTo>
                      <a:pt x="251" y="225"/>
                    </a:lnTo>
                    <a:lnTo>
                      <a:pt x="238" y="225"/>
                    </a:lnTo>
                    <a:lnTo>
                      <a:pt x="211" y="240"/>
                    </a:lnTo>
                    <a:lnTo>
                      <a:pt x="185" y="257"/>
                    </a:lnTo>
                    <a:lnTo>
                      <a:pt x="167" y="266"/>
                    </a:lnTo>
                    <a:lnTo>
                      <a:pt x="163" y="275"/>
                    </a:lnTo>
                    <a:lnTo>
                      <a:pt x="145" y="288"/>
                    </a:lnTo>
                    <a:lnTo>
                      <a:pt x="127" y="293"/>
                    </a:lnTo>
                    <a:lnTo>
                      <a:pt x="97" y="293"/>
                    </a:lnTo>
                    <a:lnTo>
                      <a:pt x="74" y="284"/>
                    </a:lnTo>
                    <a:lnTo>
                      <a:pt x="48" y="275"/>
                    </a:lnTo>
                    <a:lnTo>
                      <a:pt x="26" y="262"/>
                    </a:lnTo>
                    <a:lnTo>
                      <a:pt x="17" y="253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94560" y="2062080"/>
                <a:ext cx="50760" cy="49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6764400" y="2470320"/>
                <a:ext cx="122760" cy="54360"/>
                <a:chOff x="6764400" y="2470320"/>
                <a:chExt cx="122760" cy="54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764400" y="2495520"/>
                  <a:ext cx="122760" cy="29160"/>
                </a:xfrm>
                <a:custGeom>
                  <a:avLst/>
                  <a:gdLst/>
                  <a:ahLst/>
                  <a:rect l="0" t="0" r="r" b="b"/>
                  <a:pathLst>
                    <a:path w="341" h="81">
                      <a:moveTo>
                        <a:pt x="1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14"/>
                        <a:pt x="8" y="28"/>
                        <a:pt x="23" y="41"/>
                      </a:cubicBezTo>
                      <a:cubicBezTo>
                        <a:pt x="38" y="53"/>
                        <a:pt x="59" y="63"/>
                        <a:pt x="85" y="70"/>
                      </a:cubicBezTo>
                      <a:cubicBezTo>
                        <a:pt x="111" y="77"/>
                        <a:pt x="141" y="81"/>
                        <a:pt x="171" y="81"/>
                      </a:cubicBezTo>
                      <a:cubicBezTo>
                        <a:pt x="200" y="81"/>
                        <a:pt x="230" y="77"/>
                        <a:pt x="256" y="70"/>
                      </a:cubicBezTo>
                      <a:cubicBezTo>
                        <a:pt x="282" y="63"/>
                        <a:pt x="303" y="53"/>
                        <a:pt x="318" y="41"/>
                      </a:cubicBezTo>
                      <a:cubicBezTo>
                        <a:pt x="333" y="28"/>
                        <a:pt x="341" y="14"/>
                        <a:pt x="341" y="0"/>
                      </a:cubicBezTo>
                      <a:lnTo>
                        <a:pt x="1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69080" y="2470320"/>
                  <a:ext cx="111600" cy="24120"/>
                </a:xfrm>
                <a:custGeom>
                  <a:avLst/>
                  <a:gdLst/>
                  <a:ahLst/>
                  <a:rect l="0" t="0" r="r" b="b"/>
                  <a:pathLst>
                    <a:path w="310" h="67">
                      <a:moveTo>
                        <a:pt x="0" y="67"/>
                      </a:moveTo>
                      <a:lnTo>
                        <a:pt x="44" y="0"/>
                      </a:lnTo>
                      <a:lnTo>
                        <a:pt x="70" y="4"/>
                      </a:lnTo>
                      <a:lnTo>
                        <a:pt x="98" y="17"/>
                      </a:lnTo>
                      <a:lnTo>
                        <a:pt x="133" y="22"/>
                      </a:lnTo>
                      <a:lnTo>
                        <a:pt x="150" y="26"/>
                      </a:lnTo>
                      <a:lnTo>
                        <a:pt x="177" y="26"/>
                      </a:lnTo>
                      <a:lnTo>
                        <a:pt x="199" y="22"/>
                      </a:lnTo>
                      <a:lnTo>
                        <a:pt x="235" y="17"/>
                      </a:lnTo>
                      <a:lnTo>
                        <a:pt x="262" y="4"/>
                      </a:lnTo>
                      <a:lnTo>
                        <a:pt x="275" y="4"/>
                      </a:lnTo>
                      <a:lnTo>
                        <a:pt x="31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770520" y="2492280"/>
                  <a:ext cx="108360" cy="5040"/>
                </a:xfrm>
                <a:custGeom>
                  <a:avLst/>
                  <a:gdLst/>
                  <a:ahLst/>
                  <a:rect l="0" t="0" r="r" b="b"/>
                  <a:pathLst>
                    <a:path w="301" h="14">
                      <a:moveTo>
                        <a:pt x="4" y="0"/>
                      </a:moveTo>
                      <a:lnTo>
                        <a:pt x="301" y="0"/>
                      </a:lnTo>
                      <a:lnTo>
                        <a:pt x="301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6908760" y="2308320"/>
                <a:ext cx="130680" cy="100440"/>
              </a:xfrm>
              <a:custGeom>
                <a:avLst/>
                <a:gdLst/>
                <a:ahLst/>
                <a:rect l="0" t="0" r="r" b="b"/>
                <a:pathLst>
                  <a:path w="363" h="279">
                    <a:moveTo>
                      <a:pt x="363" y="98"/>
                    </a:moveTo>
                    <a:lnTo>
                      <a:pt x="306" y="115"/>
                    </a:lnTo>
                    <a:lnTo>
                      <a:pt x="293" y="115"/>
                    </a:lnTo>
                    <a:lnTo>
                      <a:pt x="269" y="115"/>
                    </a:lnTo>
                    <a:lnTo>
                      <a:pt x="230" y="128"/>
                    </a:lnTo>
                    <a:lnTo>
                      <a:pt x="203" y="133"/>
                    </a:lnTo>
                    <a:lnTo>
                      <a:pt x="164" y="137"/>
                    </a:lnTo>
                    <a:lnTo>
                      <a:pt x="155" y="137"/>
                    </a:lnTo>
                    <a:lnTo>
                      <a:pt x="133" y="137"/>
                    </a:lnTo>
                    <a:lnTo>
                      <a:pt x="133" y="128"/>
                    </a:lnTo>
                    <a:lnTo>
                      <a:pt x="133" y="115"/>
                    </a:lnTo>
                    <a:lnTo>
                      <a:pt x="142" y="98"/>
                    </a:lnTo>
                    <a:lnTo>
                      <a:pt x="150" y="75"/>
                    </a:lnTo>
                    <a:lnTo>
                      <a:pt x="155" y="66"/>
                    </a:lnTo>
                    <a:lnTo>
                      <a:pt x="155" y="52"/>
                    </a:lnTo>
                    <a:lnTo>
                      <a:pt x="155" y="35"/>
                    </a:lnTo>
                    <a:lnTo>
                      <a:pt x="150" y="17"/>
                    </a:lnTo>
                    <a:lnTo>
                      <a:pt x="133" y="8"/>
                    </a:lnTo>
                    <a:lnTo>
                      <a:pt x="128" y="4"/>
                    </a:lnTo>
                    <a:lnTo>
                      <a:pt x="120" y="0"/>
                    </a:lnTo>
                    <a:lnTo>
                      <a:pt x="115" y="8"/>
                    </a:lnTo>
                    <a:lnTo>
                      <a:pt x="115" y="17"/>
                    </a:lnTo>
                    <a:lnTo>
                      <a:pt x="115" y="48"/>
                    </a:lnTo>
                    <a:lnTo>
                      <a:pt x="102" y="48"/>
                    </a:lnTo>
                    <a:lnTo>
                      <a:pt x="79" y="35"/>
                    </a:lnTo>
                    <a:lnTo>
                      <a:pt x="66" y="35"/>
                    </a:lnTo>
                    <a:lnTo>
                      <a:pt x="52" y="35"/>
                    </a:lnTo>
                    <a:lnTo>
                      <a:pt x="44" y="26"/>
                    </a:lnTo>
                    <a:lnTo>
                      <a:pt x="39" y="26"/>
                    </a:lnTo>
                    <a:lnTo>
                      <a:pt x="39" y="35"/>
                    </a:lnTo>
                    <a:lnTo>
                      <a:pt x="48" y="48"/>
                    </a:lnTo>
                    <a:lnTo>
                      <a:pt x="52" y="57"/>
                    </a:lnTo>
                    <a:lnTo>
                      <a:pt x="66" y="89"/>
                    </a:lnTo>
                    <a:lnTo>
                      <a:pt x="66" y="98"/>
                    </a:lnTo>
                    <a:lnTo>
                      <a:pt x="66" y="106"/>
                    </a:lnTo>
                    <a:lnTo>
                      <a:pt x="44" y="111"/>
                    </a:lnTo>
                    <a:lnTo>
                      <a:pt x="39" y="111"/>
                    </a:lnTo>
                    <a:lnTo>
                      <a:pt x="22" y="111"/>
                    </a:lnTo>
                    <a:lnTo>
                      <a:pt x="17" y="115"/>
                    </a:lnTo>
                    <a:lnTo>
                      <a:pt x="4" y="115"/>
                    </a:lnTo>
                    <a:lnTo>
                      <a:pt x="0" y="115"/>
                    </a:lnTo>
                    <a:lnTo>
                      <a:pt x="13" y="124"/>
                    </a:lnTo>
                    <a:lnTo>
                      <a:pt x="22" y="128"/>
                    </a:lnTo>
                    <a:lnTo>
                      <a:pt x="26" y="133"/>
                    </a:lnTo>
                    <a:lnTo>
                      <a:pt x="44" y="142"/>
                    </a:lnTo>
                    <a:lnTo>
                      <a:pt x="57" y="164"/>
                    </a:lnTo>
                    <a:lnTo>
                      <a:pt x="66" y="181"/>
                    </a:lnTo>
                    <a:lnTo>
                      <a:pt x="66" y="190"/>
                    </a:lnTo>
                    <a:lnTo>
                      <a:pt x="57" y="222"/>
                    </a:lnTo>
                    <a:lnTo>
                      <a:pt x="57" y="235"/>
                    </a:lnTo>
                    <a:lnTo>
                      <a:pt x="52" y="248"/>
                    </a:lnTo>
                    <a:lnTo>
                      <a:pt x="52" y="266"/>
                    </a:lnTo>
                    <a:lnTo>
                      <a:pt x="57" y="270"/>
                    </a:lnTo>
                    <a:lnTo>
                      <a:pt x="66" y="279"/>
                    </a:lnTo>
                    <a:lnTo>
                      <a:pt x="74" y="270"/>
                    </a:lnTo>
                    <a:lnTo>
                      <a:pt x="79" y="266"/>
                    </a:lnTo>
                    <a:lnTo>
                      <a:pt x="102" y="235"/>
                    </a:lnTo>
                    <a:lnTo>
                      <a:pt x="115" y="208"/>
                    </a:lnTo>
                    <a:lnTo>
                      <a:pt x="128" y="190"/>
                    </a:lnTo>
                    <a:lnTo>
                      <a:pt x="133" y="181"/>
                    </a:lnTo>
                    <a:lnTo>
                      <a:pt x="142" y="203"/>
                    </a:lnTo>
                    <a:lnTo>
                      <a:pt x="142" y="222"/>
                    </a:lnTo>
                    <a:lnTo>
                      <a:pt x="146" y="240"/>
                    </a:lnTo>
                    <a:lnTo>
                      <a:pt x="150" y="248"/>
                    </a:lnTo>
                    <a:lnTo>
                      <a:pt x="164" y="235"/>
                    </a:lnTo>
                    <a:lnTo>
                      <a:pt x="181" y="222"/>
                    </a:lnTo>
                    <a:lnTo>
                      <a:pt x="186" y="218"/>
                    </a:lnTo>
                    <a:lnTo>
                      <a:pt x="199" y="208"/>
                    </a:lnTo>
                    <a:lnTo>
                      <a:pt x="186" y="231"/>
                    </a:lnTo>
                    <a:lnTo>
                      <a:pt x="181" y="240"/>
                    </a:lnTo>
                    <a:lnTo>
                      <a:pt x="172" y="253"/>
                    </a:lnTo>
                    <a:lnTo>
                      <a:pt x="164" y="270"/>
                    </a:lnTo>
                    <a:lnTo>
                      <a:pt x="177" y="270"/>
                    </a:lnTo>
                    <a:lnTo>
                      <a:pt x="186" y="270"/>
                    </a:lnTo>
                    <a:lnTo>
                      <a:pt x="203" y="253"/>
                    </a:lnTo>
                    <a:lnTo>
                      <a:pt x="234" y="235"/>
                    </a:lnTo>
                    <a:lnTo>
                      <a:pt x="252" y="231"/>
                    </a:lnTo>
                    <a:lnTo>
                      <a:pt x="256" y="222"/>
                    </a:lnTo>
                    <a:lnTo>
                      <a:pt x="252" y="235"/>
                    </a:lnTo>
                    <a:lnTo>
                      <a:pt x="243" y="253"/>
                    </a:lnTo>
                    <a:lnTo>
                      <a:pt x="243" y="266"/>
                    </a:lnTo>
                    <a:lnTo>
                      <a:pt x="243" y="270"/>
                    </a:lnTo>
                    <a:lnTo>
                      <a:pt x="252" y="270"/>
                    </a:lnTo>
                    <a:lnTo>
                      <a:pt x="261" y="266"/>
                    </a:lnTo>
                    <a:lnTo>
                      <a:pt x="275" y="248"/>
                    </a:lnTo>
                    <a:lnTo>
                      <a:pt x="284" y="240"/>
                    </a:lnTo>
                    <a:lnTo>
                      <a:pt x="301" y="231"/>
                    </a:lnTo>
                    <a:lnTo>
                      <a:pt x="306" y="231"/>
                    </a:lnTo>
                    <a:lnTo>
                      <a:pt x="315" y="235"/>
                    </a:lnTo>
                    <a:lnTo>
                      <a:pt x="319" y="240"/>
                    </a:lnTo>
                    <a:lnTo>
                      <a:pt x="328" y="235"/>
                    </a:lnTo>
                    <a:lnTo>
                      <a:pt x="332" y="231"/>
                    </a:lnTo>
                    <a:lnTo>
                      <a:pt x="332" y="218"/>
                    </a:lnTo>
                    <a:lnTo>
                      <a:pt x="337" y="199"/>
                    </a:lnTo>
                    <a:lnTo>
                      <a:pt x="341" y="181"/>
                    </a:lnTo>
                    <a:lnTo>
                      <a:pt x="341" y="164"/>
                    </a:lnTo>
                    <a:lnTo>
                      <a:pt x="345" y="146"/>
                    </a:lnTo>
                    <a:lnTo>
                      <a:pt x="363" y="98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78560" y="2106720"/>
                <a:ext cx="300240" cy="405000"/>
              </a:xfrm>
              <a:custGeom>
                <a:avLst/>
                <a:gdLst/>
                <a:ahLst/>
                <a:rect l="0" t="0" r="r" b="b"/>
                <a:pathLst>
                  <a:path w="834" h="1125">
                    <a:moveTo>
                      <a:pt x="176" y="860"/>
                    </a:moveTo>
                    <a:lnTo>
                      <a:pt x="229" y="821"/>
                    </a:lnTo>
                    <a:lnTo>
                      <a:pt x="229" y="733"/>
                    </a:lnTo>
                    <a:lnTo>
                      <a:pt x="233" y="693"/>
                    </a:lnTo>
                    <a:lnTo>
                      <a:pt x="238" y="658"/>
                    </a:lnTo>
                    <a:lnTo>
                      <a:pt x="189" y="684"/>
                    </a:lnTo>
                    <a:lnTo>
                      <a:pt x="158" y="746"/>
                    </a:lnTo>
                    <a:lnTo>
                      <a:pt x="123" y="807"/>
                    </a:lnTo>
                    <a:lnTo>
                      <a:pt x="123" y="715"/>
                    </a:lnTo>
                    <a:lnTo>
                      <a:pt x="136" y="666"/>
                    </a:lnTo>
                    <a:lnTo>
                      <a:pt x="110" y="640"/>
                    </a:lnTo>
                    <a:lnTo>
                      <a:pt x="105" y="613"/>
                    </a:lnTo>
                    <a:lnTo>
                      <a:pt x="105" y="583"/>
                    </a:lnTo>
                    <a:lnTo>
                      <a:pt x="97" y="489"/>
                    </a:lnTo>
                    <a:lnTo>
                      <a:pt x="123" y="542"/>
                    </a:lnTo>
                    <a:lnTo>
                      <a:pt x="114" y="440"/>
                    </a:lnTo>
                    <a:lnTo>
                      <a:pt x="145" y="489"/>
                    </a:lnTo>
                    <a:lnTo>
                      <a:pt x="158" y="432"/>
                    </a:lnTo>
                    <a:lnTo>
                      <a:pt x="176" y="458"/>
                    </a:lnTo>
                    <a:lnTo>
                      <a:pt x="207" y="423"/>
                    </a:lnTo>
                    <a:lnTo>
                      <a:pt x="229" y="374"/>
                    </a:lnTo>
                    <a:lnTo>
                      <a:pt x="176" y="361"/>
                    </a:lnTo>
                    <a:lnTo>
                      <a:pt x="141" y="423"/>
                    </a:lnTo>
                    <a:lnTo>
                      <a:pt x="132" y="392"/>
                    </a:lnTo>
                    <a:lnTo>
                      <a:pt x="4" y="458"/>
                    </a:lnTo>
                    <a:lnTo>
                      <a:pt x="88" y="392"/>
                    </a:lnTo>
                    <a:lnTo>
                      <a:pt x="0" y="326"/>
                    </a:lnTo>
                    <a:lnTo>
                      <a:pt x="141" y="308"/>
                    </a:lnTo>
                    <a:lnTo>
                      <a:pt x="176" y="313"/>
                    </a:lnTo>
                    <a:lnTo>
                      <a:pt x="216" y="321"/>
                    </a:lnTo>
                    <a:lnTo>
                      <a:pt x="255" y="343"/>
                    </a:lnTo>
                    <a:lnTo>
                      <a:pt x="268" y="352"/>
                    </a:lnTo>
                    <a:lnTo>
                      <a:pt x="273" y="383"/>
                    </a:lnTo>
                    <a:lnTo>
                      <a:pt x="255" y="432"/>
                    </a:lnTo>
                    <a:lnTo>
                      <a:pt x="229" y="480"/>
                    </a:lnTo>
                    <a:lnTo>
                      <a:pt x="189" y="524"/>
                    </a:lnTo>
                    <a:lnTo>
                      <a:pt x="158" y="587"/>
                    </a:lnTo>
                    <a:lnTo>
                      <a:pt x="176" y="649"/>
                    </a:lnTo>
                    <a:lnTo>
                      <a:pt x="251" y="600"/>
                    </a:lnTo>
                    <a:lnTo>
                      <a:pt x="282" y="542"/>
                    </a:lnTo>
                    <a:lnTo>
                      <a:pt x="299" y="489"/>
                    </a:lnTo>
                    <a:lnTo>
                      <a:pt x="304" y="410"/>
                    </a:lnTo>
                    <a:lnTo>
                      <a:pt x="317" y="348"/>
                    </a:lnTo>
                    <a:lnTo>
                      <a:pt x="317" y="299"/>
                    </a:lnTo>
                    <a:lnTo>
                      <a:pt x="282" y="339"/>
                    </a:lnTo>
                    <a:lnTo>
                      <a:pt x="264" y="220"/>
                    </a:lnTo>
                    <a:lnTo>
                      <a:pt x="251" y="291"/>
                    </a:lnTo>
                    <a:lnTo>
                      <a:pt x="238" y="189"/>
                    </a:lnTo>
                    <a:lnTo>
                      <a:pt x="207" y="229"/>
                    </a:lnTo>
                    <a:lnTo>
                      <a:pt x="207" y="154"/>
                    </a:lnTo>
                    <a:lnTo>
                      <a:pt x="176" y="136"/>
                    </a:lnTo>
                    <a:lnTo>
                      <a:pt x="211" y="110"/>
                    </a:lnTo>
                    <a:lnTo>
                      <a:pt x="154" y="105"/>
                    </a:lnTo>
                    <a:lnTo>
                      <a:pt x="194" y="57"/>
                    </a:lnTo>
                    <a:lnTo>
                      <a:pt x="242" y="35"/>
                    </a:lnTo>
                    <a:lnTo>
                      <a:pt x="339" y="4"/>
                    </a:lnTo>
                    <a:lnTo>
                      <a:pt x="379" y="0"/>
                    </a:lnTo>
                    <a:lnTo>
                      <a:pt x="433" y="22"/>
                    </a:lnTo>
                    <a:lnTo>
                      <a:pt x="433" y="57"/>
                    </a:lnTo>
                    <a:lnTo>
                      <a:pt x="370" y="79"/>
                    </a:lnTo>
                    <a:lnTo>
                      <a:pt x="441" y="88"/>
                    </a:lnTo>
                    <a:lnTo>
                      <a:pt x="464" y="48"/>
                    </a:lnTo>
                    <a:lnTo>
                      <a:pt x="472" y="92"/>
                    </a:lnTo>
                    <a:lnTo>
                      <a:pt x="441" y="110"/>
                    </a:lnTo>
                    <a:lnTo>
                      <a:pt x="441" y="154"/>
                    </a:lnTo>
                    <a:lnTo>
                      <a:pt x="455" y="167"/>
                    </a:lnTo>
                    <a:lnTo>
                      <a:pt x="512" y="163"/>
                    </a:lnTo>
                    <a:lnTo>
                      <a:pt x="477" y="189"/>
                    </a:lnTo>
                    <a:lnTo>
                      <a:pt x="565" y="189"/>
                    </a:lnTo>
                    <a:lnTo>
                      <a:pt x="530" y="207"/>
                    </a:lnTo>
                    <a:lnTo>
                      <a:pt x="741" y="167"/>
                    </a:lnTo>
                    <a:lnTo>
                      <a:pt x="816" y="198"/>
                    </a:lnTo>
                    <a:lnTo>
                      <a:pt x="834" y="260"/>
                    </a:lnTo>
                    <a:lnTo>
                      <a:pt x="834" y="291"/>
                    </a:lnTo>
                    <a:lnTo>
                      <a:pt x="600" y="326"/>
                    </a:lnTo>
                    <a:lnTo>
                      <a:pt x="464" y="502"/>
                    </a:lnTo>
                    <a:lnTo>
                      <a:pt x="410" y="546"/>
                    </a:lnTo>
                    <a:lnTo>
                      <a:pt x="405" y="569"/>
                    </a:lnTo>
                    <a:lnTo>
                      <a:pt x="414" y="587"/>
                    </a:lnTo>
                    <a:lnTo>
                      <a:pt x="464" y="578"/>
                    </a:lnTo>
                    <a:lnTo>
                      <a:pt x="530" y="578"/>
                    </a:lnTo>
                    <a:lnTo>
                      <a:pt x="561" y="591"/>
                    </a:lnTo>
                    <a:lnTo>
                      <a:pt x="574" y="627"/>
                    </a:lnTo>
                    <a:lnTo>
                      <a:pt x="569" y="658"/>
                    </a:lnTo>
                    <a:lnTo>
                      <a:pt x="547" y="710"/>
                    </a:lnTo>
                    <a:lnTo>
                      <a:pt x="538" y="777"/>
                    </a:lnTo>
                    <a:lnTo>
                      <a:pt x="649" y="763"/>
                    </a:lnTo>
                    <a:lnTo>
                      <a:pt x="680" y="807"/>
                    </a:lnTo>
                    <a:lnTo>
                      <a:pt x="697" y="856"/>
                    </a:lnTo>
                    <a:lnTo>
                      <a:pt x="710" y="931"/>
                    </a:lnTo>
                    <a:lnTo>
                      <a:pt x="666" y="887"/>
                    </a:lnTo>
                    <a:lnTo>
                      <a:pt x="618" y="927"/>
                    </a:lnTo>
                    <a:lnTo>
                      <a:pt x="583" y="891"/>
                    </a:lnTo>
                    <a:lnTo>
                      <a:pt x="547" y="931"/>
                    </a:lnTo>
                    <a:lnTo>
                      <a:pt x="530" y="878"/>
                    </a:lnTo>
                    <a:lnTo>
                      <a:pt x="464" y="904"/>
                    </a:lnTo>
                    <a:lnTo>
                      <a:pt x="446" y="847"/>
                    </a:lnTo>
                    <a:lnTo>
                      <a:pt x="401" y="843"/>
                    </a:lnTo>
                    <a:lnTo>
                      <a:pt x="405" y="785"/>
                    </a:lnTo>
                    <a:lnTo>
                      <a:pt x="428" y="750"/>
                    </a:lnTo>
                    <a:lnTo>
                      <a:pt x="401" y="697"/>
                    </a:lnTo>
                    <a:lnTo>
                      <a:pt x="352" y="768"/>
                    </a:lnTo>
                    <a:lnTo>
                      <a:pt x="304" y="856"/>
                    </a:lnTo>
                    <a:lnTo>
                      <a:pt x="282" y="900"/>
                    </a:lnTo>
                    <a:lnTo>
                      <a:pt x="264" y="962"/>
                    </a:lnTo>
                    <a:lnTo>
                      <a:pt x="264" y="984"/>
                    </a:lnTo>
                    <a:lnTo>
                      <a:pt x="317" y="997"/>
                    </a:lnTo>
                    <a:lnTo>
                      <a:pt x="352" y="1068"/>
                    </a:lnTo>
                    <a:lnTo>
                      <a:pt x="304" y="1028"/>
                    </a:lnTo>
                    <a:lnTo>
                      <a:pt x="317" y="1125"/>
                    </a:lnTo>
                    <a:lnTo>
                      <a:pt x="273" y="1081"/>
                    </a:lnTo>
                    <a:lnTo>
                      <a:pt x="268" y="1121"/>
                    </a:lnTo>
                    <a:lnTo>
                      <a:pt x="229" y="1081"/>
                    </a:lnTo>
                    <a:lnTo>
                      <a:pt x="167" y="1112"/>
                    </a:lnTo>
                    <a:lnTo>
                      <a:pt x="198" y="979"/>
                    </a:lnTo>
                    <a:lnTo>
                      <a:pt x="158" y="993"/>
                    </a:lnTo>
                    <a:lnTo>
                      <a:pt x="207" y="904"/>
                    </a:lnTo>
                    <a:lnTo>
                      <a:pt x="163" y="904"/>
                    </a:lnTo>
                    <a:lnTo>
                      <a:pt x="176" y="86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02480" y="2022480"/>
                <a:ext cx="246600" cy="152640"/>
              </a:xfrm>
              <a:custGeom>
                <a:avLst/>
                <a:gdLst/>
                <a:ahLst/>
                <a:rect l="0" t="0" r="r" b="b"/>
                <a:pathLst>
                  <a:path w="685" h="424">
                    <a:moveTo>
                      <a:pt x="305" y="0"/>
                    </a:moveTo>
                    <a:lnTo>
                      <a:pt x="389" y="0"/>
                    </a:lnTo>
                    <a:lnTo>
                      <a:pt x="450" y="30"/>
                    </a:lnTo>
                    <a:lnTo>
                      <a:pt x="464" y="8"/>
                    </a:lnTo>
                    <a:lnTo>
                      <a:pt x="468" y="66"/>
                    </a:lnTo>
                    <a:lnTo>
                      <a:pt x="494" y="123"/>
                    </a:lnTo>
                    <a:lnTo>
                      <a:pt x="464" y="110"/>
                    </a:lnTo>
                    <a:lnTo>
                      <a:pt x="477" y="163"/>
                    </a:lnTo>
                    <a:lnTo>
                      <a:pt x="455" y="136"/>
                    </a:lnTo>
                    <a:lnTo>
                      <a:pt x="450" y="185"/>
                    </a:lnTo>
                    <a:lnTo>
                      <a:pt x="428" y="167"/>
                    </a:lnTo>
                    <a:lnTo>
                      <a:pt x="406" y="221"/>
                    </a:lnTo>
                    <a:lnTo>
                      <a:pt x="397" y="194"/>
                    </a:lnTo>
                    <a:lnTo>
                      <a:pt x="389" y="239"/>
                    </a:lnTo>
                    <a:lnTo>
                      <a:pt x="406" y="283"/>
                    </a:lnTo>
                    <a:lnTo>
                      <a:pt x="437" y="358"/>
                    </a:lnTo>
                    <a:lnTo>
                      <a:pt x="455" y="393"/>
                    </a:lnTo>
                    <a:lnTo>
                      <a:pt x="486" y="406"/>
                    </a:lnTo>
                    <a:lnTo>
                      <a:pt x="490" y="358"/>
                    </a:lnTo>
                    <a:lnTo>
                      <a:pt x="472" y="305"/>
                    </a:lnTo>
                    <a:lnTo>
                      <a:pt x="441" y="243"/>
                    </a:lnTo>
                    <a:lnTo>
                      <a:pt x="450" y="194"/>
                    </a:lnTo>
                    <a:lnTo>
                      <a:pt x="522" y="167"/>
                    </a:lnTo>
                    <a:lnTo>
                      <a:pt x="579" y="163"/>
                    </a:lnTo>
                    <a:lnTo>
                      <a:pt x="641" y="149"/>
                    </a:lnTo>
                    <a:lnTo>
                      <a:pt x="676" y="149"/>
                    </a:lnTo>
                    <a:lnTo>
                      <a:pt x="592" y="198"/>
                    </a:lnTo>
                    <a:lnTo>
                      <a:pt x="676" y="207"/>
                    </a:lnTo>
                    <a:lnTo>
                      <a:pt x="685" y="283"/>
                    </a:lnTo>
                    <a:lnTo>
                      <a:pt x="632" y="256"/>
                    </a:lnTo>
                    <a:lnTo>
                      <a:pt x="588" y="243"/>
                    </a:lnTo>
                    <a:lnTo>
                      <a:pt x="588" y="261"/>
                    </a:lnTo>
                    <a:lnTo>
                      <a:pt x="632" y="283"/>
                    </a:lnTo>
                    <a:lnTo>
                      <a:pt x="544" y="269"/>
                    </a:lnTo>
                    <a:lnTo>
                      <a:pt x="531" y="211"/>
                    </a:lnTo>
                    <a:lnTo>
                      <a:pt x="472" y="217"/>
                    </a:lnTo>
                    <a:lnTo>
                      <a:pt x="481" y="261"/>
                    </a:lnTo>
                    <a:lnTo>
                      <a:pt x="512" y="296"/>
                    </a:lnTo>
                    <a:lnTo>
                      <a:pt x="531" y="256"/>
                    </a:lnTo>
                    <a:lnTo>
                      <a:pt x="539" y="309"/>
                    </a:lnTo>
                    <a:lnTo>
                      <a:pt x="592" y="278"/>
                    </a:lnTo>
                    <a:lnTo>
                      <a:pt x="562" y="327"/>
                    </a:lnTo>
                    <a:lnTo>
                      <a:pt x="619" y="327"/>
                    </a:lnTo>
                    <a:lnTo>
                      <a:pt x="579" y="358"/>
                    </a:lnTo>
                    <a:lnTo>
                      <a:pt x="614" y="358"/>
                    </a:lnTo>
                    <a:lnTo>
                      <a:pt x="522" y="397"/>
                    </a:lnTo>
                    <a:lnTo>
                      <a:pt x="508" y="424"/>
                    </a:lnTo>
                    <a:lnTo>
                      <a:pt x="318" y="424"/>
                    </a:lnTo>
                    <a:lnTo>
                      <a:pt x="318" y="349"/>
                    </a:lnTo>
                    <a:lnTo>
                      <a:pt x="269" y="336"/>
                    </a:lnTo>
                    <a:lnTo>
                      <a:pt x="230" y="300"/>
                    </a:lnTo>
                    <a:lnTo>
                      <a:pt x="230" y="274"/>
                    </a:lnTo>
                    <a:lnTo>
                      <a:pt x="149" y="300"/>
                    </a:lnTo>
                    <a:lnTo>
                      <a:pt x="101" y="309"/>
                    </a:lnTo>
                    <a:lnTo>
                      <a:pt x="79" y="331"/>
                    </a:lnTo>
                    <a:lnTo>
                      <a:pt x="48" y="322"/>
                    </a:lnTo>
                    <a:lnTo>
                      <a:pt x="26" y="309"/>
                    </a:lnTo>
                    <a:lnTo>
                      <a:pt x="13" y="283"/>
                    </a:lnTo>
                    <a:lnTo>
                      <a:pt x="66" y="243"/>
                    </a:lnTo>
                    <a:lnTo>
                      <a:pt x="97" y="234"/>
                    </a:lnTo>
                    <a:lnTo>
                      <a:pt x="195" y="207"/>
                    </a:lnTo>
                    <a:lnTo>
                      <a:pt x="132" y="176"/>
                    </a:lnTo>
                    <a:lnTo>
                      <a:pt x="83" y="163"/>
                    </a:lnTo>
                    <a:lnTo>
                      <a:pt x="8" y="189"/>
                    </a:lnTo>
                    <a:lnTo>
                      <a:pt x="0" y="149"/>
                    </a:lnTo>
                    <a:lnTo>
                      <a:pt x="26" y="123"/>
                    </a:lnTo>
                    <a:lnTo>
                      <a:pt x="66" y="110"/>
                    </a:lnTo>
                    <a:lnTo>
                      <a:pt x="114" y="101"/>
                    </a:lnTo>
                    <a:lnTo>
                      <a:pt x="172" y="123"/>
                    </a:lnTo>
                    <a:lnTo>
                      <a:pt x="247" y="149"/>
                    </a:lnTo>
                    <a:lnTo>
                      <a:pt x="287" y="132"/>
                    </a:lnTo>
                    <a:lnTo>
                      <a:pt x="305" y="92"/>
                    </a:lnTo>
                    <a:lnTo>
                      <a:pt x="269" y="105"/>
                    </a:lnTo>
                    <a:lnTo>
                      <a:pt x="225" y="92"/>
                    </a:lnTo>
                    <a:lnTo>
                      <a:pt x="252" y="57"/>
                    </a:lnTo>
                    <a:lnTo>
                      <a:pt x="269" y="74"/>
                    </a:lnTo>
                    <a:lnTo>
                      <a:pt x="318" y="66"/>
                    </a:lnTo>
                    <a:lnTo>
                      <a:pt x="314" y="57"/>
                    </a:lnTo>
                    <a:lnTo>
                      <a:pt x="283" y="57"/>
                    </a:lnTo>
                    <a:lnTo>
                      <a:pt x="247" y="26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6745320" y="2139840"/>
                <a:ext cx="154080" cy="84240"/>
                <a:chOff x="6745320" y="2139840"/>
                <a:chExt cx="154080" cy="842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745320" y="2139840"/>
                  <a:ext cx="154080" cy="651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45320" y="2160720"/>
                  <a:ext cx="154080" cy="633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892920" y="2165400"/>
                <a:ext cx="87840" cy="93960"/>
              </a:xfrm>
              <a:custGeom>
                <a:avLst/>
                <a:gdLst/>
                <a:ahLst/>
                <a:rect l="0" t="0" r="r" b="b"/>
                <a:pathLst>
                  <a:path w="244" h="261">
                    <a:moveTo>
                      <a:pt x="244" y="190"/>
                    </a:moveTo>
                    <a:lnTo>
                      <a:pt x="155" y="48"/>
                    </a:lnTo>
                    <a:lnTo>
                      <a:pt x="102" y="0"/>
                    </a:lnTo>
                    <a:lnTo>
                      <a:pt x="0" y="114"/>
                    </a:lnTo>
                    <a:lnTo>
                      <a:pt x="120" y="88"/>
                    </a:lnTo>
                    <a:lnTo>
                      <a:pt x="120" y="190"/>
                    </a:lnTo>
                    <a:lnTo>
                      <a:pt x="155" y="181"/>
                    </a:lnTo>
                    <a:lnTo>
                      <a:pt x="155" y="239"/>
                    </a:lnTo>
                    <a:lnTo>
                      <a:pt x="177" y="190"/>
                    </a:lnTo>
                    <a:lnTo>
                      <a:pt x="200" y="261"/>
                    </a:lnTo>
                    <a:lnTo>
                      <a:pt x="244" y="190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07160" y="2189160"/>
                <a:ext cx="232200" cy="270360"/>
              </a:xfrm>
              <a:custGeom>
                <a:avLst/>
                <a:gdLst/>
                <a:ahLst/>
                <a:rect l="0" t="0" r="r" b="b"/>
                <a:pathLst>
                  <a:path w="645" h="75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353"/>
                    </a:lnTo>
                    <a:lnTo>
                      <a:pt x="641" y="406"/>
                    </a:lnTo>
                    <a:lnTo>
                      <a:pt x="614" y="512"/>
                    </a:lnTo>
                    <a:lnTo>
                      <a:pt x="566" y="597"/>
                    </a:lnTo>
                    <a:lnTo>
                      <a:pt x="500" y="650"/>
                    </a:lnTo>
                    <a:lnTo>
                      <a:pt x="441" y="703"/>
                    </a:lnTo>
                    <a:lnTo>
                      <a:pt x="375" y="734"/>
                    </a:lnTo>
                    <a:lnTo>
                      <a:pt x="322" y="751"/>
                    </a:lnTo>
                    <a:lnTo>
                      <a:pt x="243" y="720"/>
                    </a:lnTo>
                    <a:lnTo>
                      <a:pt x="164" y="663"/>
                    </a:lnTo>
                    <a:lnTo>
                      <a:pt x="88" y="570"/>
                    </a:lnTo>
                    <a:lnTo>
                      <a:pt x="30" y="464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07160" y="2189160"/>
                <a:ext cx="232200" cy="92520"/>
              </a:xfrm>
              <a:custGeom>
                <a:avLst/>
                <a:gdLst/>
                <a:ahLst/>
                <a:rect l="0" t="0" r="r" b="b"/>
                <a:pathLst>
                  <a:path w="645" h="257">
                    <a:moveTo>
                      <a:pt x="0" y="196"/>
                    </a:moveTo>
                    <a:lnTo>
                      <a:pt x="74" y="196"/>
                    </a:lnTo>
                    <a:lnTo>
                      <a:pt x="74" y="244"/>
                    </a:lnTo>
                    <a:lnTo>
                      <a:pt x="149" y="244"/>
                    </a:lnTo>
                    <a:lnTo>
                      <a:pt x="149" y="204"/>
                    </a:lnTo>
                    <a:lnTo>
                      <a:pt x="208" y="204"/>
                    </a:lnTo>
                    <a:lnTo>
                      <a:pt x="208" y="253"/>
                    </a:lnTo>
                    <a:lnTo>
                      <a:pt x="292" y="253"/>
                    </a:lnTo>
                    <a:lnTo>
                      <a:pt x="292" y="204"/>
                    </a:lnTo>
                    <a:lnTo>
                      <a:pt x="367" y="204"/>
                    </a:lnTo>
                    <a:lnTo>
                      <a:pt x="367" y="253"/>
                    </a:lnTo>
                    <a:lnTo>
                      <a:pt x="441" y="253"/>
                    </a:lnTo>
                    <a:lnTo>
                      <a:pt x="441" y="213"/>
                    </a:lnTo>
                    <a:lnTo>
                      <a:pt x="504" y="213"/>
                    </a:lnTo>
                    <a:lnTo>
                      <a:pt x="504" y="257"/>
                    </a:lnTo>
                    <a:lnTo>
                      <a:pt x="584" y="257"/>
                    </a:lnTo>
                    <a:lnTo>
                      <a:pt x="584" y="213"/>
                    </a:lnTo>
                    <a:lnTo>
                      <a:pt x="645" y="213"/>
                    </a:lnTo>
                    <a:lnTo>
                      <a:pt x="645" y="0"/>
                    </a:lnTo>
                    <a:lnTo>
                      <a:pt x="0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45320" y="2394000"/>
                <a:ext cx="163800" cy="24120"/>
              </a:xfrm>
              <a:custGeom>
                <a:avLst/>
                <a:gdLst/>
                <a:ahLst/>
                <a:rect l="0" t="0" r="r" b="b"/>
                <a:pathLst>
                  <a:path w="455" h="67">
                    <a:moveTo>
                      <a:pt x="0" y="22"/>
                    </a:moveTo>
                    <a:lnTo>
                      <a:pt x="26" y="62"/>
                    </a:lnTo>
                    <a:lnTo>
                      <a:pt x="66" y="58"/>
                    </a:lnTo>
                    <a:lnTo>
                      <a:pt x="88" y="58"/>
                    </a:lnTo>
                    <a:lnTo>
                      <a:pt x="132" y="62"/>
                    </a:lnTo>
                    <a:lnTo>
                      <a:pt x="167" y="49"/>
                    </a:lnTo>
                    <a:lnTo>
                      <a:pt x="216" y="45"/>
                    </a:lnTo>
                    <a:lnTo>
                      <a:pt x="269" y="49"/>
                    </a:lnTo>
                    <a:lnTo>
                      <a:pt x="305" y="62"/>
                    </a:lnTo>
                    <a:lnTo>
                      <a:pt x="344" y="58"/>
                    </a:lnTo>
                    <a:lnTo>
                      <a:pt x="375" y="49"/>
                    </a:lnTo>
                    <a:lnTo>
                      <a:pt x="415" y="67"/>
                    </a:lnTo>
                    <a:lnTo>
                      <a:pt x="455" y="30"/>
                    </a:lnTo>
                    <a:lnTo>
                      <a:pt x="428" y="13"/>
                    </a:lnTo>
                    <a:lnTo>
                      <a:pt x="393" y="8"/>
                    </a:lnTo>
                    <a:lnTo>
                      <a:pt x="353" y="13"/>
                    </a:lnTo>
                    <a:lnTo>
                      <a:pt x="318" y="30"/>
                    </a:lnTo>
                    <a:lnTo>
                      <a:pt x="278" y="17"/>
                    </a:lnTo>
                    <a:lnTo>
                      <a:pt x="224" y="0"/>
                    </a:lnTo>
                    <a:lnTo>
                      <a:pt x="176" y="8"/>
                    </a:lnTo>
                    <a:lnTo>
                      <a:pt x="123" y="22"/>
                    </a:lnTo>
                    <a:lnTo>
                      <a:pt x="88" y="8"/>
                    </a:lnTo>
                    <a:lnTo>
                      <a:pt x="39" y="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64400" y="2421000"/>
                <a:ext cx="117720" cy="19440"/>
              </a:xfrm>
              <a:custGeom>
                <a:avLst/>
                <a:gdLst/>
                <a:ahLst/>
                <a:rect l="0" t="0" r="r" b="b"/>
                <a:pathLst>
                  <a:path w="327" h="54">
                    <a:moveTo>
                      <a:pt x="0" y="8"/>
                    </a:moveTo>
                    <a:lnTo>
                      <a:pt x="52" y="50"/>
                    </a:lnTo>
                    <a:lnTo>
                      <a:pt x="79" y="46"/>
                    </a:lnTo>
                    <a:lnTo>
                      <a:pt x="119" y="54"/>
                    </a:lnTo>
                    <a:lnTo>
                      <a:pt x="145" y="46"/>
                    </a:lnTo>
                    <a:lnTo>
                      <a:pt x="181" y="46"/>
                    </a:lnTo>
                    <a:lnTo>
                      <a:pt x="221" y="54"/>
                    </a:lnTo>
                    <a:lnTo>
                      <a:pt x="252" y="54"/>
                    </a:lnTo>
                    <a:lnTo>
                      <a:pt x="287" y="46"/>
                    </a:lnTo>
                    <a:lnTo>
                      <a:pt x="327" y="8"/>
                    </a:lnTo>
                    <a:lnTo>
                      <a:pt x="292" y="8"/>
                    </a:lnTo>
                    <a:lnTo>
                      <a:pt x="256" y="18"/>
                    </a:lnTo>
                    <a:lnTo>
                      <a:pt x="217" y="8"/>
                    </a:lnTo>
                    <a:lnTo>
                      <a:pt x="164" y="0"/>
                    </a:lnTo>
                    <a:lnTo>
                      <a:pt x="110" y="14"/>
                    </a:lnTo>
                    <a:lnTo>
                      <a:pt x="4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638760" y="2193840"/>
                <a:ext cx="87840" cy="147960"/>
              </a:xfrm>
              <a:custGeom>
                <a:avLst/>
                <a:gdLst/>
                <a:ahLst/>
                <a:rect l="0" t="0" r="r" b="b"/>
                <a:pathLst>
                  <a:path w="244" h="411">
                    <a:moveTo>
                      <a:pt x="106" y="0"/>
                    </a:moveTo>
                    <a:lnTo>
                      <a:pt x="159" y="154"/>
                    </a:lnTo>
                    <a:lnTo>
                      <a:pt x="209" y="234"/>
                    </a:lnTo>
                    <a:lnTo>
                      <a:pt x="218" y="287"/>
                    </a:lnTo>
                    <a:lnTo>
                      <a:pt x="244" y="349"/>
                    </a:lnTo>
                    <a:lnTo>
                      <a:pt x="177" y="411"/>
                    </a:lnTo>
                    <a:lnTo>
                      <a:pt x="191" y="362"/>
                    </a:lnTo>
                    <a:lnTo>
                      <a:pt x="146" y="393"/>
                    </a:lnTo>
                    <a:lnTo>
                      <a:pt x="155" y="353"/>
                    </a:lnTo>
                    <a:lnTo>
                      <a:pt x="106" y="371"/>
                    </a:lnTo>
                    <a:lnTo>
                      <a:pt x="120" y="336"/>
                    </a:lnTo>
                    <a:lnTo>
                      <a:pt x="102" y="314"/>
                    </a:lnTo>
                    <a:lnTo>
                      <a:pt x="67" y="349"/>
                    </a:lnTo>
                    <a:lnTo>
                      <a:pt x="67" y="336"/>
                    </a:lnTo>
                    <a:lnTo>
                      <a:pt x="67" y="314"/>
                    </a:lnTo>
                    <a:lnTo>
                      <a:pt x="67" y="300"/>
                    </a:lnTo>
                    <a:lnTo>
                      <a:pt x="84" y="247"/>
                    </a:lnTo>
                    <a:lnTo>
                      <a:pt x="84" y="239"/>
                    </a:lnTo>
                    <a:lnTo>
                      <a:pt x="84" y="202"/>
                    </a:lnTo>
                    <a:lnTo>
                      <a:pt x="80" y="194"/>
                    </a:lnTo>
                    <a:lnTo>
                      <a:pt x="62" y="194"/>
                    </a:lnTo>
                    <a:lnTo>
                      <a:pt x="48" y="163"/>
                    </a:lnTo>
                    <a:lnTo>
                      <a:pt x="17" y="132"/>
                    </a:lnTo>
                    <a:lnTo>
                      <a:pt x="8" y="114"/>
                    </a:lnTo>
                    <a:lnTo>
                      <a:pt x="8" y="101"/>
                    </a:lnTo>
                    <a:lnTo>
                      <a:pt x="4" y="66"/>
                    </a:lnTo>
                    <a:lnTo>
                      <a:pt x="0" y="5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18400" y="1973160"/>
                <a:ext cx="73440" cy="62280"/>
              </a:xfrm>
              <a:custGeom>
                <a:avLst/>
                <a:gdLst/>
                <a:ahLst/>
                <a:rect l="0" t="0" r="r" b="b"/>
                <a:pathLst>
                  <a:path w="204" h="173">
                    <a:moveTo>
                      <a:pt x="4" y="134"/>
                    </a:moveTo>
                    <a:lnTo>
                      <a:pt x="84" y="147"/>
                    </a:lnTo>
                    <a:lnTo>
                      <a:pt x="150" y="173"/>
                    </a:lnTo>
                    <a:lnTo>
                      <a:pt x="150" y="124"/>
                    </a:lnTo>
                    <a:lnTo>
                      <a:pt x="182" y="98"/>
                    </a:lnTo>
                    <a:lnTo>
                      <a:pt x="204" y="58"/>
                    </a:lnTo>
                    <a:lnTo>
                      <a:pt x="187" y="39"/>
                    </a:lnTo>
                    <a:lnTo>
                      <a:pt x="156" y="30"/>
                    </a:lnTo>
                    <a:lnTo>
                      <a:pt x="115" y="39"/>
                    </a:lnTo>
                    <a:lnTo>
                      <a:pt x="71" y="4"/>
                    </a:lnTo>
                    <a:lnTo>
                      <a:pt x="48" y="0"/>
                    </a:lnTo>
                    <a:lnTo>
                      <a:pt x="13" y="13"/>
                    </a:lnTo>
                    <a:lnTo>
                      <a:pt x="0" y="45"/>
                    </a:lnTo>
                    <a:lnTo>
                      <a:pt x="13" y="80"/>
                    </a:lnTo>
                    <a:lnTo>
                      <a:pt x="4" y="134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08800" y="2046240"/>
                <a:ext cx="97200" cy="89280"/>
              </a:xfrm>
              <a:custGeom>
                <a:avLst/>
                <a:gdLst/>
                <a:ahLst/>
                <a:rect l="0" t="0" r="r" b="b"/>
                <a:pathLst>
                  <a:path w="270" h="248">
                    <a:moveTo>
                      <a:pt x="93" y="248"/>
                    </a:moveTo>
                    <a:lnTo>
                      <a:pt x="270" y="168"/>
                    </a:lnTo>
                    <a:lnTo>
                      <a:pt x="270" y="137"/>
                    </a:lnTo>
                    <a:lnTo>
                      <a:pt x="253" y="115"/>
                    </a:lnTo>
                    <a:lnTo>
                      <a:pt x="257" y="84"/>
                    </a:lnTo>
                    <a:lnTo>
                      <a:pt x="270" y="57"/>
                    </a:lnTo>
                    <a:lnTo>
                      <a:pt x="270" y="26"/>
                    </a:lnTo>
                    <a:lnTo>
                      <a:pt x="235" y="0"/>
                    </a:lnTo>
                    <a:lnTo>
                      <a:pt x="181" y="13"/>
                    </a:lnTo>
                    <a:lnTo>
                      <a:pt x="146" y="35"/>
                    </a:lnTo>
                    <a:lnTo>
                      <a:pt x="124" y="17"/>
                    </a:lnTo>
                    <a:lnTo>
                      <a:pt x="80" y="30"/>
                    </a:lnTo>
                    <a:lnTo>
                      <a:pt x="75" y="80"/>
                    </a:lnTo>
                    <a:lnTo>
                      <a:pt x="39" y="84"/>
                    </a:lnTo>
                    <a:lnTo>
                      <a:pt x="4" y="120"/>
                    </a:lnTo>
                    <a:lnTo>
                      <a:pt x="0" y="155"/>
                    </a:lnTo>
                    <a:lnTo>
                      <a:pt x="8" y="177"/>
                    </a:lnTo>
                    <a:lnTo>
                      <a:pt x="57" y="181"/>
                    </a:lnTo>
                    <a:lnTo>
                      <a:pt x="66" y="222"/>
                    </a:lnTo>
                    <a:lnTo>
                      <a:pt x="93" y="248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48360" y="2046240"/>
                <a:ext cx="249480" cy="444960"/>
              </a:xfrm>
              <a:custGeom>
                <a:avLst/>
                <a:gdLst/>
                <a:ahLst/>
                <a:rect l="0" t="0" r="r" b="b"/>
                <a:pathLst>
                  <a:path w="693" h="1236">
                    <a:moveTo>
                      <a:pt x="268" y="167"/>
                    </a:moveTo>
                    <a:lnTo>
                      <a:pt x="238" y="167"/>
                    </a:lnTo>
                    <a:lnTo>
                      <a:pt x="207" y="167"/>
                    </a:lnTo>
                    <a:lnTo>
                      <a:pt x="185" y="194"/>
                    </a:lnTo>
                    <a:lnTo>
                      <a:pt x="101" y="207"/>
                    </a:lnTo>
                    <a:lnTo>
                      <a:pt x="74" y="286"/>
                    </a:lnTo>
                    <a:lnTo>
                      <a:pt x="127" y="246"/>
                    </a:lnTo>
                    <a:lnTo>
                      <a:pt x="158" y="242"/>
                    </a:lnTo>
                    <a:lnTo>
                      <a:pt x="291" y="268"/>
                    </a:lnTo>
                    <a:lnTo>
                      <a:pt x="154" y="291"/>
                    </a:lnTo>
                    <a:lnTo>
                      <a:pt x="70" y="358"/>
                    </a:lnTo>
                    <a:lnTo>
                      <a:pt x="141" y="327"/>
                    </a:lnTo>
                    <a:lnTo>
                      <a:pt x="141" y="375"/>
                    </a:lnTo>
                    <a:lnTo>
                      <a:pt x="185" y="336"/>
                    </a:lnTo>
                    <a:lnTo>
                      <a:pt x="211" y="349"/>
                    </a:lnTo>
                    <a:lnTo>
                      <a:pt x="246" y="331"/>
                    </a:lnTo>
                    <a:lnTo>
                      <a:pt x="260" y="336"/>
                    </a:lnTo>
                    <a:lnTo>
                      <a:pt x="299" y="314"/>
                    </a:lnTo>
                    <a:lnTo>
                      <a:pt x="291" y="358"/>
                    </a:lnTo>
                    <a:lnTo>
                      <a:pt x="246" y="415"/>
                    </a:lnTo>
                    <a:lnTo>
                      <a:pt x="163" y="455"/>
                    </a:lnTo>
                    <a:lnTo>
                      <a:pt x="132" y="481"/>
                    </a:lnTo>
                    <a:lnTo>
                      <a:pt x="88" y="494"/>
                    </a:lnTo>
                    <a:lnTo>
                      <a:pt x="39" y="547"/>
                    </a:lnTo>
                    <a:lnTo>
                      <a:pt x="17" y="578"/>
                    </a:lnTo>
                    <a:lnTo>
                      <a:pt x="0" y="627"/>
                    </a:lnTo>
                    <a:lnTo>
                      <a:pt x="4" y="684"/>
                    </a:lnTo>
                    <a:lnTo>
                      <a:pt x="39" y="724"/>
                    </a:lnTo>
                    <a:lnTo>
                      <a:pt x="123" y="741"/>
                    </a:lnTo>
                    <a:lnTo>
                      <a:pt x="194" y="719"/>
                    </a:lnTo>
                    <a:lnTo>
                      <a:pt x="233" y="710"/>
                    </a:lnTo>
                    <a:lnTo>
                      <a:pt x="264" y="737"/>
                    </a:lnTo>
                    <a:lnTo>
                      <a:pt x="264" y="785"/>
                    </a:lnTo>
                    <a:lnTo>
                      <a:pt x="233" y="882"/>
                    </a:lnTo>
                    <a:lnTo>
                      <a:pt x="171" y="958"/>
                    </a:lnTo>
                    <a:lnTo>
                      <a:pt x="132" y="985"/>
                    </a:lnTo>
                    <a:lnTo>
                      <a:pt x="101" y="1029"/>
                    </a:lnTo>
                    <a:lnTo>
                      <a:pt x="88" y="1055"/>
                    </a:lnTo>
                    <a:lnTo>
                      <a:pt x="92" y="1104"/>
                    </a:lnTo>
                    <a:lnTo>
                      <a:pt x="114" y="1135"/>
                    </a:lnTo>
                    <a:lnTo>
                      <a:pt x="44" y="1192"/>
                    </a:lnTo>
                    <a:lnTo>
                      <a:pt x="127" y="1166"/>
                    </a:lnTo>
                    <a:lnTo>
                      <a:pt x="74" y="1236"/>
                    </a:lnTo>
                    <a:lnTo>
                      <a:pt x="171" y="1201"/>
                    </a:lnTo>
                    <a:lnTo>
                      <a:pt x="233" y="1219"/>
                    </a:lnTo>
                    <a:lnTo>
                      <a:pt x="326" y="1201"/>
                    </a:lnTo>
                    <a:lnTo>
                      <a:pt x="362" y="1183"/>
                    </a:lnTo>
                    <a:lnTo>
                      <a:pt x="397" y="1166"/>
                    </a:lnTo>
                    <a:lnTo>
                      <a:pt x="433" y="1148"/>
                    </a:lnTo>
                    <a:lnTo>
                      <a:pt x="450" y="1113"/>
                    </a:lnTo>
                    <a:lnTo>
                      <a:pt x="477" y="1077"/>
                    </a:lnTo>
                    <a:lnTo>
                      <a:pt x="494" y="998"/>
                    </a:lnTo>
                    <a:lnTo>
                      <a:pt x="565" y="932"/>
                    </a:lnTo>
                    <a:lnTo>
                      <a:pt x="494" y="963"/>
                    </a:lnTo>
                    <a:lnTo>
                      <a:pt x="556" y="882"/>
                    </a:lnTo>
                    <a:lnTo>
                      <a:pt x="631" y="781"/>
                    </a:lnTo>
                    <a:lnTo>
                      <a:pt x="574" y="825"/>
                    </a:lnTo>
                    <a:lnTo>
                      <a:pt x="627" y="763"/>
                    </a:lnTo>
                    <a:lnTo>
                      <a:pt x="556" y="794"/>
                    </a:lnTo>
                    <a:lnTo>
                      <a:pt x="622" y="680"/>
                    </a:lnTo>
                    <a:lnTo>
                      <a:pt x="552" y="746"/>
                    </a:lnTo>
                    <a:lnTo>
                      <a:pt x="609" y="569"/>
                    </a:lnTo>
                    <a:lnTo>
                      <a:pt x="499" y="768"/>
                    </a:lnTo>
                    <a:lnTo>
                      <a:pt x="468" y="680"/>
                    </a:lnTo>
                    <a:lnTo>
                      <a:pt x="446" y="834"/>
                    </a:lnTo>
                    <a:lnTo>
                      <a:pt x="433" y="958"/>
                    </a:lnTo>
                    <a:lnTo>
                      <a:pt x="415" y="1073"/>
                    </a:lnTo>
                    <a:lnTo>
                      <a:pt x="380" y="1113"/>
                    </a:lnTo>
                    <a:lnTo>
                      <a:pt x="349" y="1126"/>
                    </a:lnTo>
                    <a:lnTo>
                      <a:pt x="317" y="1135"/>
                    </a:lnTo>
                    <a:lnTo>
                      <a:pt x="251" y="1135"/>
                    </a:lnTo>
                    <a:lnTo>
                      <a:pt x="349" y="1064"/>
                    </a:lnTo>
                    <a:lnTo>
                      <a:pt x="313" y="1055"/>
                    </a:lnTo>
                    <a:lnTo>
                      <a:pt x="406" y="976"/>
                    </a:lnTo>
                    <a:lnTo>
                      <a:pt x="343" y="976"/>
                    </a:lnTo>
                    <a:lnTo>
                      <a:pt x="367" y="909"/>
                    </a:lnTo>
                    <a:lnTo>
                      <a:pt x="406" y="865"/>
                    </a:lnTo>
                    <a:lnTo>
                      <a:pt x="415" y="816"/>
                    </a:lnTo>
                    <a:lnTo>
                      <a:pt x="428" y="741"/>
                    </a:lnTo>
                    <a:lnTo>
                      <a:pt x="424" y="680"/>
                    </a:lnTo>
                    <a:lnTo>
                      <a:pt x="389" y="618"/>
                    </a:lnTo>
                    <a:lnTo>
                      <a:pt x="343" y="587"/>
                    </a:lnTo>
                    <a:lnTo>
                      <a:pt x="291" y="578"/>
                    </a:lnTo>
                    <a:lnTo>
                      <a:pt x="202" y="583"/>
                    </a:lnTo>
                    <a:lnTo>
                      <a:pt x="255" y="534"/>
                    </a:lnTo>
                    <a:lnTo>
                      <a:pt x="358" y="530"/>
                    </a:lnTo>
                    <a:lnTo>
                      <a:pt x="490" y="521"/>
                    </a:lnTo>
                    <a:lnTo>
                      <a:pt x="428" y="468"/>
                    </a:lnTo>
                    <a:lnTo>
                      <a:pt x="358" y="446"/>
                    </a:lnTo>
                    <a:lnTo>
                      <a:pt x="424" y="446"/>
                    </a:lnTo>
                    <a:lnTo>
                      <a:pt x="428" y="380"/>
                    </a:lnTo>
                    <a:lnTo>
                      <a:pt x="578" y="415"/>
                    </a:lnTo>
                    <a:lnTo>
                      <a:pt x="530" y="380"/>
                    </a:lnTo>
                    <a:lnTo>
                      <a:pt x="640" y="397"/>
                    </a:lnTo>
                    <a:lnTo>
                      <a:pt x="543" y="331"/>
                    </a:lnTo>
                    <a:lnTo>
                      <a:pt x="666" y="322"/>
                    </a:lnTo>
                    <a:lnTo>
                      <a:pt x="512" y="277"/>
                    </a:lnTo>
                    <a:lnTo>
                      <a:pt x="693" y="229"/>
                    </a:lnTo>
                    <a:lnTo>
                      <a:pt x="446" y="260"/>
                    </a:lnTo>
                    <a:lnTo>
                      <a:pt x="693" y="145"/>
                    </a:lnTo>
                    <a:lnTo>
                      <a:pt x="490" y="211"/>
                    </a:lnTo>
                    <a:lnTo>
                      <a:pt x="688" y="97"/>
                    </a:lnTo>
                    <a:lnTo>
                      <a:pt x="446" y="176"/>
                    </a:lnTo>
                    <a:lnTo>
                      <a:pt x="547" y="48"/>
                    </a:lnTo>
                    <a:lnTo>
                      <a:pt x="397" y="136"/>
                    </a:lnTo>
                    <a:lnTo>
                      <a:pt x="521" y="0"/>
                    </a:lnTo>
                    <a:lnTo>
                      <a:pt x="268" y="167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93040" y="2436840"/>
                <a:ext cx="211320" cy="97200"/>
              </a:xfrm>
              <a:custGeom>
                <a:avLst/>
                <a:gdLst/>
                <a:ahLst/>
                <a:rect l="0" t="0" r="r" b="b"/>
                <a:pathLst>
                  <a:path w="587" h="270">
                    <a:moveTo>
                      <a:pt x="569" y="35"/>
                    </a:moveTo>
                    <a:lnTo>
                      <a:pt x="552" y="26"/>
                    </a:lnTo>
                    <a:lnTo>
                      <a:pt x="543" y="17"/>
                    </a:lnTo>
                    <a:lnTo>
                      <a:pt x="525" y="13"/>
                    </a:lnTo>
                    <a:lnTo>
                      <a:pt x="516" y="8"/>
                    </a:lnTo>
                    <a:lnTo>
                      <a:pt x="490" y="4"/>
                    </a:lnTo>
                    <a:lnTo>
                      <a:pt x="468" y="0"/>
                    </a:lnTo>
                    <a:lnTo>
                      <a:pt x="441" y="0"/>
                    </a:lnTo>
                    <a:lnTo>
                      <a:pt x="419" y="0"/>
                    </a:lnTo>
                    <a:lnTo>
                      <a:pt x="397" y="8"/>
                    </a:lnTo>
                    <a:lnTo>
                      <a:pt x="371" y="13"/>
                    </a:lnTo>
                    <a:lnTo>
                      <a:pt x="349" y="26"/>
                    </a:lnTo>
                    <a:lnTo>
                      <a:pt x="336" y="30"/>
                    </a:lnTo>
                    <a:lnTo>
                      <a:pt x="300" y="48"/>
                    </a:lnTo>
                    <a:lnTo>
                      <a:pt x="282" y="61"/>
                    </a:lnTo>
                    <a:lnTo>
                      <a:pt x="264" y="75"/>
                    </a:lnTo>
                    <a:lnTo>
                      <a:pt x="246" y="89"/>
                    </a:lnTo>
                    <a:lnTo>
                      <a:pt x="229" y="102"/>
                    </a:lnTo>
                    <a:lnTo>
                      <a:pt x="211" y="111"/>
                    </a:lnTo>
                    <a:lnTo>
                      <a:pt x="189" y="128"/>
                    </a:lnTo>
                    <a:lnTo>
                      <a:pt x="163" y="142"/>
                    </a:lnTo>
                    <a:lnTo>
                      <a:pt x="149" y="150"/>
                    </a:lnTo>
                    <a:lnTo>
                      <a:pt x="127" y="155"/>
                    </a:lnTo>
                    <a:lnTo>
                      <a:pt x="105" y="164"/>
                    </a:lnTo>
                    <a:lnTo>
                      <a:pt x="83" y="172"/>
                    </a:lnTo>
                    <a:lnTo>
                      <a:pt x="70" y="172"/>
                    </a:lnTo>
                    <a:lnTo>
                      <a:pt x="52" y="172"/>
                    </a:lnTo>
                    <a:lnTo>
                      <a:pt x="35" y="164"/>
                    </a:lnTo>
                    <a:lnTo>
                      <a:pt x="17" y="150"/>
                    </a:lnTo>
                    <a:lnTo>
                      <a:pt x="8" y="150"/>
                    </a:lnTo>
                    <a:lnTo>
                      <a:pt x="0" y="150"/>
                    </a:lnTo>
                    <a:lnTo>
                      <a:pt x="0" y="155"/>
                    </a:lnTo>
                    <a:lnTo>
                      <a:pt x="0" y="164"/>
                    </a:lnTo>
                    <a:lnTo>
                      <a:pt x="8" y="172"/>
                    </a:lnTo>
                    <a:lnTo>
                      <a:pt x="22" y="181"/>
                    </a:lnTo>
                    <a:lnTo>
                      <a:pt x="35" y="195"/>
                    </a:lnTo>
                    <a:lnTo>
                      <a:pt x="57" y="209"/>
                    </a:lnTo>
                    <a:lnTo>
                      <a:pt x="70" y="222"/>
                    </a:lnTo>
                    <a:lnTo>
                      <a:pt x="83" y="240"/>
                    </a:lnTo>
                    <a:lnTo>
                      <a:pt x="88" y="257"/>
                    </a:lnTo>
                    <a:lnTo>
                      <a:pt x="97" y="270"/>
                    </a:lnTo>
                    <a:lnTo>
                      <a:pt x="105" y="270"/>
                    </a:lnTo>
                    <a:lnTo>
                      <a:pt x="114" y="270"/>
                    </a:lnTo>
                    <a:lnTo>
                      <a:pt x="136" y="270"/>
                    </a:lnTo>
                    <a:lnTo>
                      <a:pt x="154" y="257"/>
                    </a:lnTo>
                    <a:lnTo>
                      <a:pt x="176" y="253"/>
                    </a:lnTo>
                    <a:lnTo>
                      <a:pt x="194" y="235"/>
                    </a:lnTo>
                    <a:lnTo>
                      <a:pt x="216" y="222"/>
                    </a:lnTo>
                    <a:lnTo>
                      <a:pt x="242" y="204"/>
                    </a:lnTo>
                    <a:lnTo>
                      <a:pt x="251" y="195"/>
                    </a:lnTo>
                    <a:lnTo>
                      <a:pt x="273" y="181"/>
                    </a:lnTo>
                    <a:lnTo>
                      <a:pt x="300" y="168"/>
                    </a:lnTo>
                    <a:lnTo>
                      <a:pt x="322" y="155"/>
                    </a:lnTo>
                    <a:lnTo>
                      <a:pt x="336" y="150"/>
                    </a:lnTo>
                    <a:lnTo>
                      <a:pt x="371" y="133"/>
                    </a:lnTo>
                    <a:lnTo>
                      <a:pt x="393" y="128"/>
                    </a:lnTo>
                    <a:lnTo>
                      <a:pt x="419" y="115"/>
                    </a:lnTo>
                    <a:lnTo>
                      <a:pt x="441" y="111"/>
                    </a:lnTo>
                    <a:lnTo>
                      <a:pt x="459" y="111"/>
                    </a:lnTo>
                    <a:lnTo>
                      <a:pt x="477" y="106"/>
                    </a:lnTo>
                    <a:lnTo>
                      <a:pt x="494" y="106"/>
                    </a:lnTo>
                    <a:lnTo>
                      <a:pt x="512" y="106"/>
                    </a:lnTo>
                    <a:lnTo>
                      <a:pt x="525" y="106"/>
                    </a:lnTo>
                    <a:lnTo>
                      <a:pt x="534" y="111"/>
                    </a:lnTo>
                    <a:lnTo>
                      <a:pt x="552" y="115"/>
                    </a:lnTo>
                    <a:lnTo>
                      <a:pt x="565" y="124"/>
                    </a:lnTo>
                    <a:lnTo>
                      <a:pt x="574" y="137"/>
                    </a:lnTo>
                    <a:lnTo>
                      <a:pt x="583" y="146"/>
                    </a:lnTo>
                    <a:lnTo>
                      <a:pt x="587" y="137"/>
                    </a:lnTo>
                    <a:lnTo>
                      <a:pt x="587" y="115"/>
                    </a:lnTo>
                    <a:lnTo>
                      <a:pt x="583" y="98"/>
                    </a:lnTo>
                    <a:lnTo>
                      <a:pt x="574" y="80"/>
                    </a:lnTo>
                    <a:lnTo>
                      <a:pt x="569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50160" y="2109960"/>
                <a:ext cx="39960" cy="79560"/>
              </a:xfrm>
              <a:custGeom>
                <a:avLst/>
                <a:gdLst/>
                <a:ahLst/>
                <a:rect l="0" t="0" r="r" b="b"/>
                <a:pathLst>
                  <a:path fill="none" w="111" h="221">
                    <a:moveTo>
                      <a:pt x="111" y="35"/>
                    </a:moveTo>
                    <a:lnTo>
                      <a:pt x="111" y="13"/>
                    </a:lnTo>
                    <a:lnTo>
                      <a:pt x="111" y="4"/>
                    </a:lnTo>
                    <a:lnTo>
                      <a:pt x="93" y="0"/>
                    </a:lnTo>
                    <a:lnTo>
                      <a:pt x="84" y="13"/>
                    </a:lnTo>
                    <a:lnTo>
                      <a:pt x="80" y="30"/>
                    </a:lnTo>
                    <a:lnTo>
                      <a:pt x="71" y="48"/>
                    </a:lnTo>
                    <a:lnTo>
                      <a:pt x="67" y="61"/>
                    </a:lnTo>
                    <a:lnTo>
                      <a:pt x="48" y="70"/>
                    </a:lnTo>
                    <a:lnTo>
                      <a:pt x="39" y="83"/>
                    </a:lnTo>
                    <a:lnTo>
                      <a:pt x="35" y="97"/>
                    </a:lnTo>
                    <a:lnTo>
                      <a:pt x="35" y="111"/>
                    </a:lnTo>
                    <a:lnTo>
                      <a:pt x="39" y="128"/>
                    </a:lnTo>
                    <a:lnTo>
                      <a:pt x="44" y="142"/>
                    </a:lnTo>
                    <a:lnTo>
                      <a:pt x="44" y="159"/>
                    </a:lnTo>
                    <a:lnTo>
                      <a:pt x="39" y="177"/>
                    </a:lnTo>
                    <a:lnTo>
                      <a:pt x="30" y="186"/>
                    </a:lnTo>
                    <a:lnTo>
                      <a:pt x="17" y="199"/>
                    </a:lnTo>
                    <a:lnTo>
                      <a:pt x="0" y="221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93000" y="2106720"/>
                <a:ext cx="55800" cy="111600"/>
              </a:xfrm>
              <a:custGeom>
                <a:avLst/>
                <a:gdLst/>
                <a:ahLst/>
                <a:rect l="0" t="0" r="r" b="b"/>
                <a:pathLst>
                  <a:path fill="none" w="155" h="310">
                    <a:moveTo>
                      <a:pt x="0" y="39"/>
                    </a:moveTo>
                    <a:lnTo>
                      <a:pt x="0" y="26"/>
                    </a:lnTo>
                    <a:lnTo>
                      <a:pt x="4" y="8"/>
                    </a:lnTo>
                    <a:lnTo>
                      <a:pt x="17" y="4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66" y="4"/>
                    </a:lnTo>
                    <a:lnTo>
                      <a:pt x="70" y="8"/>
                    </a:lnTo>
                    <a:lnTo>
                      <a:pt x="70" y="26"/>
                    </a:lnTo>
                    <a:lnTo>
                      <a:pt x="70" y="48"/>
                    </a:lnTo>
                    <a:lnTo>
                      <a:pt x="70" y="70"/>
                    </a:lnTo>
                    <a:lnTo>
                      <a:pt x="80" y="80"/>
                    </a:lnTo>
                    <a:lnTo>
                      <a:pt x="84" y="102"/>
                    </a:lnTo>
                    <a:lnTo>
                      <a:pt x="93" y="120"/>
                    </a:lnTo>
                    <a:lnTo>
                      <a:pt x="106" y="137"/>
                    </a:lnTo>
                    <a:lnTo>
                      <a:pt x="115" y="155"/>
                    </a:lnTo>
                    <a:lnTo>
                      <a:pt x="128" y="168"/>
                    </a:lnTo>
                    <a:lnTo>
                      <a:pt x="142" y="181"/>
                    </a:lnTo>
                    <a:lnTo>
                      <a:pt x="146" y="199"/>
                    </a:lnTo>
                    <a:lnTo>
                      <a:pt x="146" y="217"/>
                    </a:lnTo>
                    <a:lnTo>
                      <a:pt x="146" y="235"/>
                    </a:lnTo>
                    <a:lnTo>
                      <a:pt x="146" y="262"/>
                    </a:lnTo>
                    <a:lnTo>
                      <a:pt x="146" y="266"/>
                    </a:lnTo>
                    <a:lnTo>
                      <a:pt x="155" y="288"/>
                    </a:lnTo>
                    <a:lnTo>
                      <a:pt x="155" y="306"/>
                    </a:lnTo>
                    <a:lnTo>
                      <a:pt x="155" y="31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4000" bIns="54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6732720" y="2192400"/>
                <a:ext cx="174600" cy="60120"/>
                <a:chOff x="6732720" y="2192400"/>
                <a:chExt cx="174600" cy="60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732720" y="2192400"/>
                  <a:ext cx="174600" cy="3816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742080" y="2216160"/>
                  <a:ext cx="163800" cy="24120"/>
                </a:xfrm>
                <a:custGeom>
                  <a:avLst/>
                  <a:gdLst/>
                  <a:ahLst/>
                  <a:rect l="0" t="0" r="r" b="b"/>
                  <a:pathLst>
                    <a:path w="455" h="67">
                      <a:moveTo>
                        <a:pt x="0" y="4"/>
                      </a:moveTo>
                      <a:lnTo>
                        <a:pt x="39" y="67"/>
                      </a:lnTo>
                      <a:lnTo>
                        <a:pt x="433" y="67"/>
                      </a:lnTo>
                      <a:lnTo>
                        <a:pt x="45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743880" y="2220840"/>
                  <a:ext cx="157320" cy="3168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743880" y="2214720"/>
                  <a:ext cx="160560" cy="9720"/>
                </a:xfrm>
                <a:custGeom>
                  <a:avLst/>
                  <a:gdLst/>
                  <a:ahLst/>
                  <a:rect l="0" t="0" r="r" b="b"/>
                  <a:pathLst>
                    <a:path w="446" h="27">
                      <a:moveTo>
                        <a:pt x="0" y="4"/>
                      </a:moveTo>
                      <a:lnTo>
                        <a:pt x="8" y="27"/>
                      </a:lnTo>
                      <a:lnTo>
                        <a:pt x="446" y="27"/>
                      </a:lnTo>
                      <a:lnTo>
                        <a:pt x="44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734160" y="2305080"/>
                <a:ext cx="89280" cy="109440"/>
                <a:chOff x="6734160" y="2305080"/>
                <a:chExt cx="89280" cy="1094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6799320" y="2343240"/>
                  <a:ext cx="24120" cy="58680"/>
                  <a:chOff x="6799320" y="2343240"/>
                  <a:chExt cx="24120" cy="586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>
                    <a:off x="6802560" y="2347920"/>
                    <a:ext cx="144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79932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17" y="0"/>
                        </a:moveTo>
                        <a:lnTo>
                          <a:pt x="67" y="39"/>
                        </a:lnTo>
                        <a:lnTo>
                          <a:pt x="49" y="67"/>
                        </a:lnTo>
                        <a:lnTo>
                          <a:pt x="45" y="89"/>
                        </a:lnTo>
                        <a:lnTo>
                          <a:pt x="4" y="84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37400" y="2332080"/>
                  <a:ext cx="19440" cy="60120"/>
                  <a:chOff x="6737400" y="2332080"/>
                  <a:chExt cx="19440" cy="60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73884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737400" y="2332080"/>
                    <a:ext cx="1944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94">
                        <a:moveTo>
                          <a:pt x="14" y="0"/>
                        </a:moveTo>
                        <a:lnTo>
                          <a:pt x="54" y="36"/>
                        </a:lnTo>
                        <a:lnTo>
                          <a:pt x="41" y="62"/>
                        </a:lnTo>
                        <a:lnTo>
                          <a:pt x="36" y="94"/>
                        </a:lnTo>
                        <a:lnTo>
                          <a:pt x="4" y="85"/>
                        </a:lnTo>
                        <a:lnTo>
                          <a:pt x="0" y="5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756480" y="2305080"/>
                  <a:ext cx="52920" cy="109440"/>
                  <a:chOff x="6756480" y="2305080"/>
                  <a:chExt cx="52920" cy="1094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>
                    <a:off x="677556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756480" y="2305080"/>
                    <a:ext cx="529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7" h="199">
                        <a:moveTo>
                          <a:pt x="40" y="0"/>
                        </a:moveTo>
                        <a:lnTo>
                          <a:pt x="147" y="83"/>
                        </a:lnTo>
                        <a:lnTo>
                          <a:pt x="106" y="142"/>
                        </a:lnTo>
                        <a:lnTo>
                          <a:pt x="98" y="199"/>
                        </a:lnTo>
                        <a:lnTo>
                          <a:pt x="4" y="190"/>
                        </a:lnTo>
                        <a:lnTo>
                          <a:pt x="0" y="12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6734160" y="2367000"/>
                  <a:ext cx="86040" cy="43200"/>
                </a:xfrm>
                <a:custGeom>
                  <a:avLst/>
                  <a:gdLst/>
                  <a:ahLst/>
                  <a:rect l="0" t="0" r="r" b="b"/>
                  <a:pathLst>
                    <a:path w="239" h="120">
                      <a:moveTo>
                        <a:pt x="0" y="0"/>
                      </a:moveTo>
                      <a:lnTo>
                        <a:pt x="83" y="26"/>
                      </a:lnTo>
                      <a:lnTo>
                        <a:pt x="88" y="52"/>
                      </a:lnTo>
                      <a:lnTo>
                        <a:pt x="234" y="44"/>
                      </a:lnTo>
                      <a:lnTo>
                        <a:pt x="239" y="57"/>
                      </a:lnTo>
                      <a:lnTo>
                        <a:pt x="203" y="67"/>
                      </a:lnTo>
                      <a:lnTo>
                        <a:pt x="195" y="120"/>
                      </a:lnTo>
                      <a:lnTo>
                        <a:pt x="57" y="1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829560" y="2305080"/>
                <a:ext cx="87480" cy="109440"/>
                <a:chOff x="6829560" y="2305080"/>
                <a:chExt cx="87480" cy="1094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829560" y="2343240"/>
                  <a:ext cx="24120" cy="58680"/>
                  <a:chOff x="6829560" y="2343240"/>
                  <a:chExt cx="24120" cy="586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6842160" y="2347920"/>
                    <a:ext cx="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82956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53" y="0"/>
                        </a:moveTo>
                        <a:lnTo>
                          <a:pt x="0" y="39"/>
                        </a:lnTo>
                        <a:lnTo>
                          <a:pt x="17" y="67"/>
                        </a:lnTo>
                        <a:lnTo>
                          <a:pt x="26" y="89"/>
                        </a:lnTo>
                        <a:lnTo>
                          <a:pt x="67" y="84"/>
                        </a:lnTo>
                        <a:lnTo>
                          <a:pt x="67" y="5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894360" y="2332080"/>
                  <a:ext cx="20880" cy="60120"/>
                  <a:chOff x="6894360" y="2332080"/>
                  <a:chExt cx="20880" cy="601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690408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894360" y="2332080"/>
                    <a:ext cx="208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94">
                        <a:moveTo>
                          <a:pt x="45" y="0"/>
                        </a:moveTo>
                        <a:lnTo>
                          <a:pt x="0" y="36"/>
                        </a:lnTo>
                        <a:lnTo>
                          <a:pt x="13" y="62"/>
                        </a:lnTo>
                        <a:lnTo>
                          <a:pt x="17" y="94"/>
                        </a:lnTo>
                        <a:lnTo>
                          <a:pt x="53" y="85"/>
                        </a:lnTo>
                        <a:lnTo>
                          <a:pt x="58" y="5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845400" y="2305080"/>
                  <a:ext cx="51120" cy="109440"/>
                  <a:chOff x="6845400" y="2305080"/>
                  <a:chExt cx="51120" cy="109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686592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845400" y="2305080"/>
                    <a:ext cx="511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2" h="199">
                        <a:moveTo>
                          <a:pt x="98" y="0"/>
                        </a:moveTo>
                        <a:lnTo>
                          <a:pt x="0" y="83"/>
                        </a:lnTo>
                        <a:lnTo>
                          <a:pt x="39" y="142"/>
                        </a:lnTo>
                        <a:lnTo>
                          <a:pt x="48" y="199"/>
                        </a:lnTo>
                        <a:lnTo>
                          <a:pt x="133" y="190"/>
                        </a:lnTo>
                        <a:lnTo>
                          <a:pt x="142" y="12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6834240" y="2367000"/>
                  <a:ext cx="82800" cy="43200"/>
                </a:xfrm>
                <a:custGeom>
                  <a:avLst/>
                  <a:gdLst/>
                  <a:ahLst/>
                  <a:rect l="0" t="0" r="r" b="b"/>
                  <a:pathLst>
                    <a:path w="230" h="120">
                      <a:moveTo>
                        <a:pt x="230" y="0"/>
                      </a:moveTo>
                      <a:lnTo>
                        <a:pt x="146" y="26"/>
                      </a:lnTo>
                      <a:lnTo>
                        <a:pt x="142" y="52"/>
                      </a:lnTo>
                      <a:lnTo>
                        <a:pt x="4" y="44"/>
                      </a:lnTo>
                      <a:lnTo>
                        <a:pt x="0" y="57"/>
                      </a:lnTo>
                      <a:lnTo>
                        <a:pt x="35" y="67"/>
                      </a:lnTo>
                      <a:lnTo>
                        <a:pt x="44" y="120"/>
                      </a:lnTo>
                      <a:lnTo>
                        <a:pt x="172" y="115"/>
                      </a:lnTo>
                      <a:lnTo>
                        <a:pt x="23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848640" y="2436840"/>
                <a:ext cx="208440" cy="97200"/>
              </a:xfrm>
              <a:custGeom>
                <a:avLst/>
                <a:gdLst/>
                <a:ahLst/>
                <a:rect l="0" t="0" r="r" b="b"/>
                <a:pathLst>
                  <a:path w="579" h="270">
                    <a:moveTo>
                      <a:pt x="13" y="35"/>
                    </a:moveTo>
                    <a:lnTo>
                      <a:pt x="30" y="26"/>
                    </a:lnTo>
                    <a:lnTo>
                      <a:pt x="39" y="17"/>
                    </a:lnTo>
                    <a:lnTo>
                      <a:pt x="52" y="13"/>
                    </a:lnTo>
                    <a:lnTo>
                      <a:pt x="61" y="8"/>
                    </a:lnTo>
                    <a:lnTo>
                      <a:pt x="88" y="4"/>
                    </a:lnTo>
                    <a:lnTo>
                      <a:pt x="105" y="0"/>
                    </a:lnTo>
                    <a:lnTo>
                      <a:pt x="132" y="0"/>
                    </a:lnTo>
                    <a:lnTo>
                      <a:pt x="155" y="0"/>
                    </a:lnTo>
                    <a:lnTo>
                      <a:pt x="177" y="8"/>
                    </a:lnTo>
                    <a:lnTo>
                      <a:pt x="208" y="13"/>
                    </a:lnTo>
                    <a:lnTo>
                      <a:pt x="225" y="26"/>
                    </a:lnTo>
                    <a:lnTo>
                      <a:pt x="239" y="30"/>
                    </a:lnTo>
                    <a:lnTo>
                      <a:pt x="269" y="48"/>
                    </a:lnTo>
                    <a:lnTo>
                      <a:pt x="292" y="61"/>
                    </a:lnTo>
                    <a:lnTo>
                      <a:pt x="305" y="75"/>
                    </a:lnTo>
                    <a:lnTo>
                      <a:pt x="327" y="89"/>
                    </a:lnTo>
                    <a:lnTo>
                      <a:pt x="349" y="102"/>
                    </a:lnTo>
                    <a:lnTo>
                      <a:pt x="358" y="111"/>
                    </a:lnTo>
                    <a:lnTo>
                      <a:pt x="384" y="128"/>
                    </a:lnTo>
                    <a:lnTo>
                      <a:pt x="406" y="142"/>
                    </a:lnTo>
                    <a:lnTo>
                      <a:pt x="419" y="150"/>
                    </a:lnTo>
                    <a:lnTo>
                      <a:pt x="447" y="155"/>
                    </a:lnTo>
                    <a:lnTo>
                      <a:pt x="469" y="164"/>
                    </a:lnTo>
                    <a:lnTo>
                      <a:pt x="487" y="172"/>
                    </a:lnTo>
                    <a:lnTo>
                      <a:pt x="500" y="172"/>
                    </a:lnTo>
                    <a:lnTo>
                      <a:pt x="526" y="172"/>
                    </a:lnTo>
                    <a:lnTo>
                      <a:pt x="544" y="164"/>
                    </a:lnTo>
                    <a:lnTo>
                      <a:pt x="562" y="150"/>
                    </a:lnTo>
                    <a:lnTo>
                      <a:pt x="575" y="150"/>
                    </a:lnTo>
                    <a:lnTo>
                      <a:pt x="579" y="155"/>
                    </a:lnTo>
                    <a:lnTo>
                      <a:pt x="575" y="164"/>
                    </a:lnTo>
                    <a:lnTo>
                      <a:pt x="562" y="172"/>
                    </a:lnTo>
                    <a:lnTo>
                      <a:pt x="553" y="181"/>
                    </a:lnTo>
                    <a:lnTo>
                      <a:pt x="539" y="195"/>
                    </a:lnTo>
                    <a:lnTo>
                      <a:pt x="517" y="209"/>
                    </a:lnTo>
                    <a:lnTo>
                      <a:pt x="504" y="222"/>
                    </a:lnTo>
                    <a:lnTo>
                      <a:pt x="491" y="240"/>
                    </a:lnTo>
                    <a:lnTo>
                      <a:pt x="487" y="257"/>
                    </a:lnTo>
                    <a:lnTo>
                      <a:pt x="478" y="270"/>
                    </a:lnTo>
                    <a:lnTo>
                      <a:pt x="469" y="270"/>
                    </a:lnTo>
                    <a:lnTo>
                      <a:pt x="456" y="270"/>
                    </a:lnTo>
                    <a:lnTo>
                      <a:pt x="438" y="270"/>
                    </a:lnTo>
                    <a:lnTo>
                      <a:pt x="419" y="257"/>
                    </a:lnTo>
                    <a:lnTo>
                      <a:pt x="402" y="253"/>
                    </a:lnTo>
                    <a:lnTo>
                      <a:pt x="375" y="235"/>
                    </a:lnTo>
                    <a:lnTo>
                      <a:pt x="353" y="222"/>
                    </a:lnTo>
                    <a:lnTo>
                      <a:pt x="331" y="204"/>
                    </a:lnTo>
                    <a:lnTo>
                      <a:pt x="318" y="195"/>
                    </a:lnTo>
                    <a:lnTo>
                      <a:pt x="300" y="181"/>
                    </a:lnTo>
                    <a:lnTo>
                      <a:pt x="274" y="168"/>
                    </a:lnTo>
                    <a:lnTo>
                      <a:pt x="252" y="155"/>
                    </a:lnTo>
                    <a:lnTo>
                      <a:pt x="234" y="150"/>
                    </a:lnTo>
                    <a:lnTo>
                      <a:pt x="208" y="133"/>
                    </a:lnTo>
                    <a:lnTo>
                      <a:pt x="186" y="128"/>
                    </a:lnTo>
                    <a:lnTo>
                      <a:pt x="155" y="115"/>
                    </a:lnTo>
                    <a:lnTo>
                      <a:pt x="136" y="111"/>
                    </a:lnTo>
                    <a:lnTo>
                      <a:pt x="119" y="111"/>
                    </a:lnTo>
                    <a:lnTo>
                      <a:pt x="101" y="106"/>
                    </a:lnTo>
                    <a:lnTo>
                      <a:pt x="83" y="106"/>
                    </a:lnTo>
                    <a:lnTo>
                      <a:pt x="66" y="106"/>
                    </a:lnTo>
                    <a:lnTo>
                      <a:pt x="52" y="106"/>
                    </a:lnTo>
                    <a:lnTo>
                      <a:pt x="48" y="111"/>
                    </a:lnTo>
                    <a:lnTo>
                      <a:pt x="30" y="115"/>
                    </a:lnTo>
                    <a:lnTo>
                      <a:pt x="17" y="124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37"/>
                    </a:lnTo>
                    <a:lnTo>
                      <a:pt x="0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6576840" y="2108160"/>
                <a:ext cx="29160" cy="20880"/>
                <a:chOff x="6576840" y="2108160"/>
                <a:chExt cx="29160" cy="20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586560" y="2116080"/>
                  <a:ext cx="19440" cy="12960"/>
                </a:xfrm>
                <a:custGeom>
                  <a:avLst/>
                  <a:gdLst/>
                  <a:ahLst/>
                  <a:rect l="0" t="0" r="r" b="b"/>
                  <a:pathLst>
                    <a:path w="54" h="36">
                      <a:moveTo>
                        <a:pt x="50" y="0"/>
                      </a:moveTo>
                      <a:lnTo>
                        <a:pt x="36" y="0"/>
                      </a:lnTo>
                      <a:lnTo>
                        <a:pt x="23" y="0"/>
                      </a:lnTo>
                      <a:lnTo>
                        <a:pt x="18" y="8"/>
                      </a:lnTo>
                      <a:lnTo>
                        <a:pt x="4" y="13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18" y="36"/>
                      </a:lnTo>
                      <a:lnTo>
                        <a:pt x="36" y="31"/>
                      </a:lnTo>
                      <a:lnTo>
                        <a:pt x="50" y="17"/>
                      </a:lnTo>
                      <a:lnTo>
                        <a:pt x="54" y="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76840" y="2108160"/>
                  <a:ext cx="255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042320" y="2106720"/>
                <a:ext cx="25560" cy="19080"/>
                <a:chOff x="7042320" y="2106720"/>
                <a:chExt cx="25560" cy="19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47000" y="2112840"/>
                  <a:ext cx="20880" cy="12960"/>
                </a:xfrm>
                <a:custGeom>
                  <a:avLst/>
                  <a:gdLst/>
                  <a:ahLst/>
                  <a:rect l="0" t="0" r="r" b="b"/>
                  <a:pathLst>
                    <a:path w="58" h="36">
                      <a:moveTo>
                        <a:pt x="8" y="4"/>
                      </a:move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40" y="4"/>
                      </a:lnTo>
                      <a:lnTo>
                        <a:pt x="45" y="13"/>
                      </a:lnTo>
                      <a:lnTo>
                        <a:pt x="53" y="23"/>
                      </a:lnTo>
                      <a:lnTo>
                        <a:pt x="58" y="27"/>
                      </a:lnTo>
                      <a:lnTo>
                        <a:pt x="36" y="36"/>
                      </a:lnTo>
                      <a:lnTo>
                        <a:pt x="17" y="31"/>
                      </a:lnTo>
                      <a:lnTo>
                        <a:pt x="8" y="23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042320" y="2106720"/>
                  <a:ext cx="2052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807240" y="2019240"/>
                <a:ext cx="22680" cy="17640"/>
                <a:chOff x="6807240" y="2019240"/>
                <a:chExt cx="22680" cy="176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815160" y="20271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4" y="0"/>
                      </a:moveTo>
                      <a:lnTo>
                        <a:pt x="14" y="0"/>
                      </a:lnTo>
                      <a:lnTo>
                        <a:pt x="23" y="0"/>
                      </a:lnTo>
                      <a:lnTo>
                        <a:pt x="32" y="4"/>
                      </a:lnTo>
                      <a:lnTo>
                        <a:pt x="41" y="8"/>
                      </a:lnTo>
                      <a:lnTo>
                        <a:pt x="41" y="18"/>
                      </a:lnTo>
                      <a:lnTo>
                        <a:pt x="41" y="27"/>
                      </a:lnTo>
                      <a:lnTo>
                        <a:pt x="23" y="27"/>
                      </a:lnTo>
                      <a:lnTo>
                        <a:pt x="14" y="27"/>
                      </a:lnTo>
                      <a:lnTo>
                        <a:pt x="4" y="18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807240" y="2019240"/>
                  <a:ext cx="2052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6553080" y="2160720"/>
                <a:ext cx="141480" cy="76680"/>
              </a:xfrm>
              <a:custGeom>
                <a:avLst/>
                <a:gdLst/>
                <a:ahLst/>
                <a:rect l="0" t="0" r="r" b="b"/>
                <a:pathLst>
                  <a:path w="393" h="213">
                    <a:moveTo>
                      <a:pt x="110" y="155"/>
                    </a:moveTo>
                    <a:lnTo>
                      <a:pt x="119" y="196"/>
                    </a:lnTo>
                    <a:lnTo>
                      <a:pt x="145" y="213"/>
                    </a:lnTo>
                    <a:lnTo>
                      <a:pt x="127" y="187"/>
                    </a:lnTo>
                    <a:lnTo>
                      <a:pt x="176" y="213"/>
                    </a:lnTo>
                    <a:lnTo>
                      <a:pt x="176" y="187"/>
                    </a:lnTo>
                    <a:lnTo>
                      <a:pt x="225" y="213"/>
                    </a:lnTo>
                    <a:lnTo>
                      <a:pt x="230" y="182"/>
                    </a:lnTo>
                    <a:lnTo>
                      <a:pt x="318" y="196"/>
                    </a:lnTo>
                    <a:lnTo>
                      <a:pt x="287" y="128"/>
                    </a:lnTo>
                    <a:lnTo>
                      <a:pt x="340" y="146"/>
                    </a:lnTo>
                    <a:lnTo>
                      <a:pt x="393" y="155"/>
                    </a:lnTo>
                    <a:lnTo>
                      <a:pt x="358" y="89"/>
                    </a:lnTo>
                    <a:lnTo>
                      <a:pt x="389" y="58"/>
                    </a:lnTo>
                    <a:lnTo>
                      <a:pt x="327" y="62"/>
                    </a:lnTo>
                    <a:lnTo>
                      <a:pt x="358" y="35"/>
                    </a:lnTo>
                    <a:lnTo>
                      <a:pt x="261" y="35"/>
                    </a:lnTo>
                    <a:lnTo>
                      <a:pt x="305" y="17"/>
                    </a:lnTo>
                    <a:lnTo>
                      <a:pt x="252" y="13"/>
                    </a:lnTo>
                    <a:lnTo>
                      <a:pt x="234" y="8"/>
                    </a:lnTo>
                    <a:lnTo>
                      <a:pt x="208" y="0"/>
                    </a:lnTo>
                    <a:lnTo>
                      <a:pt x="208" y="8"/>
                    </a:lnTo>
                    <a:lnTo>
                      <a:pt x="185" y="0"/>
                    </a:lnTo>
                    <a:lnTo>
                      <a:pt x="180" y="8"/>
                    </a:lnTo>
                    <a:lnTo>
                      <a:pt x="154" y="0"/>
                    </a:lnTo>
                    <a:lnTo>
                      <a:pt x="158" y="17"/>
                    </a:lnTo>
                    <a:lnTo>
                      <a:pt x="119" y="4"/>
                    </a:lnTo>
                    <a:lnTo>
                      <a:pt x="127" y="17"/>
                    </a:lnTo>
                    <a:lnTo>
                      <a:pt x="79" y="8"/>
                    </a:lnTo>
                    <a:lnTo>
                      <a:pt x="88" y="22"/>
                    </a:lnTo>
                    <a:lnTo>
                      <a:pt x="35" y="8"/>
                    </a:lnTo>
                    <a:lnTo>
                      <a:pt x="39" y="17"/>
                    </a:lnTo>
                    <a:lnTo>
                      <a:pt x="4" y="4"/>
                    </a:lnTo>
                    <a:lnTo>
                      <a:pt x="0" y="75"/>
                    </a:lnTo>
                    <a:lnTo>
                      <a:pt x="30" y="35"/>
                    </a:lnTo>
                    <a:lnTo>
                      <a:pt x="44" y="142"/>
                    </a:lnTo>
                    <a:lnTo>
                      <a:pt x="61" y="75"/>
                    </a:lnTo>
                    <a:lnTo>
                      <a:pt x="74" y="191"/>
                    </a:lnTo>
                    <a:lnTo>
                      <a:pt x="110" y="155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 txBox="1"/>
          <p:nvPr/>
        </p:nvSpPr>
        <p:spPr>
          <a:xfrm>
            <a:off x="1200240" y="1666800"/>
            <a:ext cx="6591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:  Sales\SallyMgr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28680" indent="-369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es\Payroll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gr\Report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User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Interactive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veryone (S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privilege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3794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he system tim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211400" y="228600"/>
            <a:ext cx="672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562040"/>
            <a:ext cx="8210520" cy="3409920"/>
          </a:xfrm>
          <a:prstGeom prst="roundRect">
            <a:avLst/>
          </a:prstGeom>
          <a:noFill/>
          <a:ln w="38160">
            <a:solidFill>
              <a:srgbClr val="3365fb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067200"/>
            <a:ext cx="5486400" cy="167652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29240" y="1809720"/>
            <a:ext cx="1933560" cy="1276200"/>
          </a:xfrm>
          <a:prstGeom prst="roundRect">
            <a:avLst/>
          </a:prstGeom>
          <a:solidFill>
            <a:srgbClr val="00b7a5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96200" y="211464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31080" y="2019240"/>
            <a:ext cx="360360" cy="378000"/>
            <a:chOff x="7831080" y="2019240"/>
            <a:chExt cx="360360" cy="378000"/>
          </a:xfrm>
        </p:grpSpPr>
        <p:sp>
          <p:nvSpPr>
            <p:cNvPr id="281" name=""/>
            <p:cNvSpPr/>
            <p:nvPr/>
          </p:nvSpPr>
          <p:spPr>
            <a:xfrm>
              <a:off x="7831080" y="201924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7861320" y="2068560"/>
              <a:ext cx="298800" cy="267120"/>
              <a:chOff x="7861320" y="2068560"/>
              <a:chExt cx="298800" cy="267120"/>
            </a:xfrm>
          </p:grpSpPr>
          <p:sp>
            <p:nvSpPr>
              <p:cNvPr id="283" name=""/>
              <p:cNvSpPr/>
              <p:nvPr/>
            </p:nvSpPr>
            <p:spPr>
              <a:xfrm>
                <a:off x="7880400" y="223992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02720" y="226692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50240" y="210816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7980480" y="2293920"/>
                <a:ext cx="51120" cy="25920"/>
                <a:chOff x="7980480" y="2293920"/>
                <a:chExt cx="51120" cy="259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80480" y="230580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981920" y="229392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81920" y="230364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8040600" y="222084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61320" y="21286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54920" y="209088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72560" y="2143080"/>
                <a:ext cx="63360" cy="38160"/>
                <a:chOff x="7972560" y="2143080"/>
                <a:chExt cx="63360" cy="38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972560" y="214308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72560" y="215280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8032680" y="21556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56720" y="216684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56720" y="216684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72560" y="225900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80480" y="227160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27920" y="216864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002440" y="206856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73920" y="210024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56440" y="210024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08840" y="227808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056440" y="213048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74080" y="21286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966080" y="2168640"/>
                <a:ext cx="73440" cy="25560"/>
                <a:chOff x="7966080" y="2168640"/>
                <a:chExt cx="73440" cy="25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66080" y="216864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970760" y="217800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70760" y="217980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70760" y="217656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967520" y="2219400"/>
                <a:ext cx="36720" cy="48960"/>
                <a:chOff x="7967520" y="2219400"/>
                <a:chExt cx="36720" cy="489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7994520" y="2236680"/>
                  <a:ext cx="9720" cy="25560"/>
                  <a:chOff x="7994520" y="2236680"/>
                  <a:chExt cx="9720" cy="25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799632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99452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969320" y="2230560"/>
                  <a:ext cx="8280" cy="27000"/>
                  <a:chOff x="7969320" y="2230560"/>
                  <a:chExt cx="8280" cy="270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796932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96932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977240" y="2219400"/>
                  <a:ext cx="22680" cy="48960"/>
                  <a:chOff x="7977240" y="2219400"/>
                  <a:chExt cx="22680" cy="489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7985160" y="22287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977240" y="221940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79675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8007480" y="2219400"/>
                <a:ext cx="36720" cy="48960"/>
                <a:chOff x="8007480" y="2219400"/>
                <a:chExt cx="36720" cy="4896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07480" y="2236680"/>
                  <a:ext cx="9720" cy="25560"/>
                  <a:chOff x="8007480" y="2236680"/>
                  <a:chExt cx="9720" cy="25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1216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00748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8034480" y="2230560"/>
                  <a:ext cx="8280" cy="27000"/>
                  <a:chOff x="8034480" y="2230560"/>
                  <a:chExt cx="8280" cy="27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03736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03448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8013600" y="2219400"/>
                  <a:ext cx="20880" cy="48960"/>
                  <a:chOff x="8013600" y="2219400"/>
                  <a:chExt cx="20880" cy="48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8021520" y="222876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013600" y="221940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80089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8015400" y="227808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7902720" y="2128680"/>
                <a:ext cx="11160" cy="10080"/>
                <a:chOff x="7902720" y="2128680"/>
                <a:chExt cx="11160" cy="10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905600" y="213192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902720" y="21286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096400" y="2128680"/>
                <a:ext cx="9720" cy="8280"/>
                <a:chOff x="8096400" y="2128680"/>
                <a:chExt cx="9720" cy="8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8097840" y="213192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096400" y="21286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997760" y="2089080"/>
                <a:ext cx="10080" cy="6840"/>
                <a:chOff x="7997760" y="2089080"/>
                <a:chExt cx="10080" cy="6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001000" y="209232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997760" y="208908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893000" y="215280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7029360" y="2457360"/>
            <a:ext cx="5144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2800440"/>
            <a:ext cx="5335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72440" y="2762280"/>
            <a:ext cx="5713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29680" y="285768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72160" y="19620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9360" y="1962000"/>
            <a:ext cx="628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48440" y="215280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48440" y="234324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48440" y="226692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96200" y="21906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27160" y="1747800"/>
            <a:ext cx="314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’s shel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9480" y="3355920"/>
            <a:ext cx="444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Running user’s sh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365200" y="390852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0880" y="5065560"/>
            <a:ext cx="7854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ccess validation performed agai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cess’s Primary To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324560" y="3027240"/>
            <a:ext cx="1290960" cy="2184840"/>
            <a:chOff x="7324560" y="3027240"/>
            <a:chExt cx="1290960" cy="2184840"/>
          </a:xfrm>
        </p:grpSpPr>
        <p:sp>
          <p:nvSpPr>
            <p:cNvPr id="361" name=""/>
            <p:cNvSpPr/>
            <p:nvPr/>
          </p:nvSpPr>
          <p:spPr>
            <a:xfrm>
              <a:off x="7326360" y="3773520"/>
              <a:ext cx="744840" cy="1430640"/>
            </a:xfrm>
            <a:custGeom>
              <a:avLst/>
              <a:gdLst/>
              <a:ahLst/>
              <a:rect l="0" t="0" r="r" b="b"/>
              <a:pathLst>
                <a:path w="2069" h="3974">
                  <a:moveTo>
                    <a:pt x="0" y="3974"/>
                  </a:moveTo>
                  <a:lnTo>
                    <a:pt x="0" y="3680"/>
                  </a:lnTo>
                  <a:lnTo>
                    <a:pt x="149" y="3602"/>
                  </a:lnTo>
                  <a:lnTo>
                    <a:pt x="286" y="3504"/>
                  </a:lnTo>
                  <a:lnTo>
                    <a:pt x="409" y="3386"/>
                  </a:lnTo>
                  <a:lnTo>
                    <a:pt x="539" y="3269"/>
                  </a:lnTo>
                  <a:lnTo>
                    <a:pt x="648" y="3152"/>
                  </a:lnTo>
                  <a:lnTo>
                    <a:pt x="739" y="3034"/>
                  </a:lnTo>
                  <a:lnTo>
                    <a:pt x="823" y="2923"/>
                  </a:lnTo>
                  <a:lnTo>
                    <a:pt x="921" y="2786"/>
                  </a:lnTo>
                  <a:lnTo>
                    <a:pt x="1005" y="2630"/>
                  </a:lnTo>
                  <a:lnTo>
                    <a:pt x="1104" y="2434"/>
                  </a:lnTo>
                  <a:lnTo>
                    <a:pt x="1182" y="2258"/>
                  </a:lnTo>
                  <a:lnTo>
                    <a:pt x="1260" y="2082"/>
                  </a:lnTo>
                  <a:lnTo>
                    <a:pt x="1332" y="1885"/>
                  </a:lnTo>
                  <a:lnTo>
                    <a:pt x="1423" y="1650"/>
                  </a:lnTo>
                  <a:lnTo>
                    <a:pt x="1520" y="1376"/>
                  </a:lnTo>
                  <a:lnTo>
                    <a:pt x="1579" y="1180"/>
                  </a:lnTo>
                  <a:lnTo>
                    <a:pt x="1637" y="965"/>
                  </a:lnTo>
                  <a:lnTo>
                    <a:pt x="1696" y="763"/>
                  </a:lnTo>
                  <a:lnTo>
                    <a:pt x="1748" y="567"/>
                  </a:lnTo>
                  <a:lnTo>
                    <a:pt x="1813" y="254"/>
                  </a:lnTo>
                  <a:lnTo>
                    <a:pt x="1852" y="0"/>
                  </a:lnTo>
                  <a:lnTo>
                    <a:pt x="2069" y="78"/>
                  </a:lnTo>
                  <a:lnTo>
                    <a:pt x="1997" y="508"/>
                  </a:lnTo>
                  <a:lnTo>
                    <a:pt x="1891" y="965"/>
                  </a:lnTo>
                  <a:lnTo>
                    <a:pt x="1780" y="1357"/>
                  </a:lnTo>
                  <a:lnTo>
                    <a:pt x="1637" y="1768"/>
                  </a:lnTo>
                  <a:lnTo>
                    <a:pt x="1442" y="2356"/>
                  </a:lnTo>
                  <a:lnTo>
                    <a:pt x="1228" y="2845"/>
                  </a:lnTo>
                  <a:lnTo>
                    <a:pt x="999" y="3269"/>
                  </a:lnTo>
                  <a:lnTo>
                    <a:pt x="797" y="3523"/>
                  </a:lnTo>
                  <a:lnTo>
                    <a:pt x="546" y="3778"/>
                  </a:lnTo>
                  <a:lnTo>
                    <a:pt x="338" y="3876"/>
                  </a:lnTo>
                  <a:lnTo>
                    <a:pt x="0" y="397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31040" y="3027240"/>
              <a:ext cx="384480" cy="1020960"/>
            </a:xfrm>
            <a:custGeom>
              <a:avLst/>
              <a:gdLst/>
              <a:ahLst/>
              <a:rect l="0" t="0" r="r" b="b"/>
              <a:pathLst>
                <a:path w="1068" h="2836">
                  <a:moveTo>
                    <a:pt x="0" y="643"/>
                  </a:moveTo>
                  <a:lnTo>
                    <a:pt x="0" y="0"/>
                  </a:lnTo>
                  <a:lnTo>
                    <a:pt x="43" y="162"/>
                  </a:lnTo>
                  <a:lnTo>
                    <a:pt x="90" y="331"/>
                  </a:lnTo>
                  <a:lnTo>
                    <a:pt x="153" y="507"/>
                  </a:lnTo>
                  <a:lnTo>
                    <a:pt x="230" y="715"/>
                  </a:lnTo>
                  <a:lnTo>
                    <a:pt x="308" y="936"/>
                  </a:lnTo>
                  <a:lnTo>
                    <a:pt x="385" y="1144"/>
                  </a:lnTo>
                  <a:lnTo>
                    <a:pt x="457" y="1320"/>
                  </a:lnTo>
                  <a:lnTo>
                    <a:pt x="521" y="1477"/>
                  </a:lnTo>
                  <a:lnTo>
                    <a:pt x="593" y="1620"/>
                  </a:lnTo>
                  <a:lnTo>
                    <a:pt x="667" y="1763"/>
                  </a:lnTo>
                  <a:lnTo>
                    <a:pt x="753" y="1912"/>
                  </a:lnTo>
                  <a:lnTo>
                    <a:pt x="835" y="2030"/>
                  </a:lnTo>
                  <a:lnTo>
                    <a:pt x="917" y="2140"/>
                  </a:lnTo>
                  <a:lnTo>
                    <a:pt x="1003" y="2251"/>
                  </a:lnTo>
                  <a:lnTo>
                    <a:pt x="1068" y="2342"/>
                  </a:lnTo>
                  <a:lnTo>
                    <a:pt x="1068" y="2836"/>
                  </a:lnTo>
                  <a:lnTo>
                    <a:pt x="951" y="2738"/>
                  </a:lnTo>
                  <a:lnTo>
                    <a:pt x="779" y="2517"/>
                  </a:lnTo>
                  <a:lnTo>
                    <a:pt x="561" y="2238"/>
                  </a:lnTo>
                  <a:lnTo>
                    <a:pt x="400" y="1932"/>
                  </a:lnTo>
                  <a:lnTo>
                    <a:pt x="252" y="1503"/>
                  </a:lnTo>
                  <a:lnTo>
                    <a:pt x="107" y="1144"/>
                  </a:lnTo>
                  <a:lnTo>
                    <a:pt x="0" y="799"/>
                  </a:lnTo>
                  <a:lnTo>
                    <a:pt x="0" y="6"/>
                  </a:lnTo>
                  <a:lnTo>
                    <a:pt x="0" y="19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65920" y="3030480"/>
              <a:ext cx="460800" cy="630720"/>
            </a:xfrm>
            <a:custGeom>
              <a:avLst/>
              <a:gdLst/>
              <a:ahLst/>
              <a:rect l="0" t="0" r="r" b="b"/>
              <a:pathLst>
                <a:path w="1280" h="1752">
                  <a:moveTo>
                    <a:pt x="0" y="1752"/>
                  </a:moveTo>
                  <a:lnTo>
                    <a:pt x="0" y="1211"/>
                  </a:lnTo>
                  <a:lnTo>
                    <a:pt x="82" y="1165"/>
                  </a:lnTo>
                  <a:lnTo>
                    <a:pt x="166" y="1120"/>
                  </a:lnTo>
                  <a:lnTo>
                    <a:pt x="246" y="1062"/>
                  </a:lnTo>
                  <a:lnTo>
                    <a:pt x="332" y="1005"/>
                  </a:lnTo>
                  <a:lnTo>
                    <a:pt x="427" y="934"/>
                  </a:lnTo>
                  <a:lnTo>
                    <a:pt x="531" y="857"/>
                  </a:lnTo>
                  <a:lnTo>
                    <a:pt x="660" y="741"/>
                  </a:lnTo>
                  <a:lnTo>
                    <a:pt x="786" y="638"/>
                  </a:lnTo>
                  <a:lnTo>
                    <a:pt x="868" y="554"/>
                  </a:lnTo>
                  <a:lnTo>
                    <a:pt x="969" y="437"/>
                  </a:lnTo>
                  <a:lnTo>
                    <a:pt x="1075" y="302"/>
                  </a:lnTo>
                  <a:lnTo>
                    <a:pt x="1170" y="173"/>
                  </a:lnTo>
                  <a:lnTo>
                    <a:pt x="1239" y="70"/>
                  </a:lnTo>
                  <a:lnTo>
                    <a:pt x="1280" y="0"/>
                  </a:lnTo>
                  <a:lnTo>
                    <a:pt x="1280" y="670"/>
                  </a:lnTo>
                  <a:lnTo>
                    <a:pt x="1200" y="837"/>
                  </a:lnTo>
                  <a:lnTo>
                    <a:pt x="1040" y="1069"/>
                  </a:lnTo>
                  <a:lnTo>
                    <a:pt x="851" y="1301"/>
                  </a:lnTo>
                  <a:lnTo>
                    <a:pt x="684" y="1437"/>
                  </a:lnTo>
                  <a:lnTo>
                    <a:pt x="492" y="1598"/>
                  </a:lnTo>
                  <a:lnTo>
                    <a:pt x="296" y="1707"/>
                  </a:lnTo>
                  <a:lnTo>
                    <a:pt x="16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24560" y="3267000"/>
              <a:ext cx="1290960" cy="1945080"/>
            </a:xfrm>
            <a:custGeom>
              <a:avLst/>
              <a:gdLst/>
              <a:ahLst/>
              <a:rect l="0" t="0" r="r" b="b"/>
              <a:pathLst>
                <a:path w="3586" h="5403">
                  <a:moveTo>
                    <a:pt x="0" y="5364"/>
                  </a:moveTo>
                  <a:lnTo>
                    <a:pt x="195" y="5403"/>
                  </a:lnTo>
                  <a:lnTo>
                    <a:pt x="293" y="5403"/>
                  </a:lnTo>
                  <a:lnTo>
                    <a:pt x="411" y="5403"/>
                  </a:lnTo>
                  <a:lnTo>
                    <a:pt x="522" y="5384"/>
                  </a:lnTo>
                  <a:lnTo>
                    <a:pt x="633" y="5364"/>
                  </a:lnTo>
                  <a:lnTo>
                    <a:pt x="742" y="5325"/>
                  </a:lnTo>
                  <a:lnTo>
                    <a:pt x="840" y="5266"/>
                  </a:lnTo>
                  <a:lnTo>
                    <a:pt x="951" y="5207"/>
                  </a:lnTo>
                  <a:lnTo>
                    <a:pt x="1081" y="5109"/>
                  </a:lnTo>
                  <a:lnTo>
                    <a:pt x="1199" y="4991"/>
                  </a:lnTo>
                  <a:lnTo>
                    <a:pt x="1310" y="4893"/>
                  </a:lnTo>
                  <a:lnTo>
                    <a:pt x="1434" y="4755"/>
                  </a:lnTo>
                  <a:lnTo>
                    <a:pt x="1552" y="4598"/>
                  </a:lnTo>
                  <a:lnTo>
                    <a:pt x="1669" y="4441"/>
                  </a:lnTo>
                  <a:lnTo>
                    <a:pt x="1767" y="4290"/>
                  </a:lnTo>
                  <a:lnTo>
                    <a:pt x="1879" y="4133"/>
                  </a:lnTo>
                  <a:lnTo>
                    <a:pt x="1973" y="3975"/>
                  </a:lnTo>
                  <a:lnTo>
                    <a:pt x="2077" y="3798"/>
                  </a:lnTo>
                  <a:lnTo>
                    <a:pt x="2182" y="3621"/>
                  </a:lnTo>
                  <a:lnTo>
                    <a:pt x="2286" y="3405"/>
                  </a:lnTo>
                  <a:lnTo>
                    <a:pt x="2378" y="3229"/>
                  </a:lnTo>
                  <a:lnTo>
                    <a:pt x="2475" y="2993"/>
                  </a:lnTo>
                  <a:lnTo>
                    <a:pt x="2567" y="2777"/>
                  </a:lnTo>
                  <a:lnTo>
                    <a:pt x="2652" y="2561"/>
                  </a:lnTo>
                  <a:lnTo>
                    <a:pt x="2724" y="2325"/>
                  </a:lnTo>
                  <a:lnTo>
                    <a:pt x="2782" y="2122"/>
                  </a:lnTo>
                  <a:lnTo>
                    <a:pt x="2828" y="1906"/>
                  </a:lnTo>
                  <a:lnTo>
                    <a:pt x="3586" y="2194"/>
                  </a:lnTo>
                  <a:lnTo>
                    <a:pt x="3479" y="2043"/>
                  </a:lnTo>
                  <a:lnTo>
                    <a:pt x="3355" y="1886"/>
                  </a:lnTo>
                  <a:lnTo>
                    <a:pt x="3257" y="1749"/>
                  </a:lnTo>
                  <a:lnTo>
                    <a:pt x="3183" y="1644"/>
                  </a:lnTo>
                  <a:lnTo>
                    <a:pt x="3102" y="1513"/>
                  </a:lnTo>
                  <a:lnTo>
                    <a:pt x="3037" y="1395"/>
                  </a:lnTo>
                  <a:lnTo>
                    <a:pt x="2974" y="1263"/>
                  </a:lnTo>
                  <a:lnTo>
                    <a:pt x="2911" y="1113"/>
                  </a:lnTo>
                  <a:lnTo>
                    <a:pt x="2850" y="962"/>
                  </a:lnTo>
                  <a:lnTo>
                    <a:pt x="2776" y="772"/>
                  </a:lnTo>
                  <a:lnTo>
                    <a:pt x="2704" y="569"/>
                  </a:lnTo>
                  <a:lnTo>
                    <a:pt x="2639" y="399"/>
                  </a:lnTo>
                  <a:lnTo>
                    <a:pt x="2567" y="176"/>
                  </a:lnTo>
                  <a:lnTo>
                    <a:pt x="2508" y="0"/>
                  </a:lnTo>
                  <a:lnTo>
                    <a:pt x="2449" y="78"/>
                  </a:lnTo>
                  <a:lnTo>
                    <a:pt x="2391" y="176"/>
                  </a:lnTo>
                  <a:lnTo>
                    <a:pt x="2327" y="261"/>
                  </a:lnTo>
                  <a:lnTo>
                    <a:pt x="2253" y="353"/>
                  </a:lnTo>
                  <a:lnTo>
                    <a:pt x="2177" y="445"/>
                  </a:lnTo>
                  <a:lnTo>
                    <a:pt x="2108" y="517"/>
                  </a:lnTo>
                  <a:lnTo>
                    <a:pt x="2040" y="576"/>
                  </a:lnTo>
                  <a:lnTo>
                    <a:pt x="1964" y="648"/>
                  </a:lnTo>
                  <a:lnTo>
                    <a:pt x="1883" y="707"/>
                  </a:lnTo>
                  <a:lnTo>
                    <a:pt x="1801" y="772"/>
                  </a:lnTo>
                  <a:lnTo>
                    <a:pt x="1723" y="831"/>
                  </a:lnTo>
                  <a:lnTo>
                    <a:pt x="1649" y="890"/>
                  </a:lnTo>
                  <a:lnTo>
                    <a:pt x="1569" y="929"/>
                  </a:lnTo>
                  <a:lnTo>
                    <a:pt x="1493" y="982"/>
                  </a:lnTo>
                  <a:lnTo>
                    <a:pt x="1421" y="1027"/>
                  </a:lnTo>
                  <a:lnTo>
                    <a:pt x="1336" y="1080"/>
                  </a:lnTo>
                  <a:lnTo>
                    <a:pt x="1221" y="1119"/>
                  </a:lnTo>
                  <a:lnTo>
                    <a:pt x="2005" y="1533"/>
                  </a:lnTo>
                  <a:lnTo>
                    <a:pt x="1953" y="1847"/>
                  </a:lnTo>
                  <a:lnTo>
                    <a:pt x="1892" y="2083"/>
                  </a:lnTo>
                  <a:lnTo>
                    <a:pt x="1780" y="2521"/>
                  </a:lnTo>
                  <a:lnTo>
                    <a:pt x="1715" y="2718"/>
                  </a:lnTo>
                  <a:lnTo>
                    <a:pt x="1649" y="2914"/>
                  </a:lnTo>
                  <a:lnTo>
                    <a:pt x="1532" y="3248"/>
                  </a:lnTo>
                  <a:lnTo>
                    <a:pt x="1460" y="3445"/>
                  </a:lnTo>
                  <a:lnTo>
                    <a:pt x="1375" y="3680"/>
                  </a:lnTo>
                  <a:lnTo>
                    <a:pt x="1297" y="3857"/>
                  </a:lnTo>
                  <a:lnTo>
                    <a:pt x="1232" y="4014"/>
                  </a:lnTo>
                  <a:lnTo>
                    <a:pt x="1166" y="4172"/>
                  </a:lnTo>
                  <a:lnTo>
                    <a:pt x="1088" y="4330"/>
                  </a:lnTo>
                  <a:lnTo>
                    <a:pt x="1003" y="4480"/>
                  </a:lnTo>
                  <a:lnTo>
                    <a:pt x="918" y="4598"/>
                  </a:lnTo>
                  <a:lnTo>
                    <a:pt x="833" y="4736"/>
                  </a:lnTo>
                  <a:lnTo>
                    <a:pt x="729" y="4853"/>
                  </a:lnTo>
                  <a:lnTo>
                    <a:pt x="633" y="4952"/>
                  </a:lnTo>
                  <a:lnTo>
                    <a:pt x="522" y="5030"/>
                  </a:lnTo>
                  <a:lnTo>
                    <a:pt x="417" y="5109"/>
                  </a:lnTo>
                  <a:lnTo>
                    <a:pt x="306" y="5187"/>
                  </a:lnTo>
                  <a:lnTo>
                    <a:pt x="189" y="5246"/>
                  </a:lnTo>
                  <a:lnTo>
                    <a:pt x="0" y="536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228600"/>
            <a:ext cx="828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(or complex)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480" y="1600200"/>
            <a:ext cx="8839080" cy="5010120"/>
          </a:xfrm>
          <a:prstGeom prst="roundRect">
            <a:avLst/>
          </a:prstGeom>
          <a:noFill/>
          <a:ln w="38160">
            <a:solidFill>
              <a:srgbClr val="fafd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5840" y="2400480"/>
            <a:ext cx="5486400" cy="179064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5840" y="4419720"/>
            <a:ext cx="8420040" cy="192420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72320" y="1828800"/>
            <a:ext cx="1590840" cy="990720"/>
          </a:xfrm>
          <a:prstGeom prst="roundRect">
            <a:avLst/>
          </a:prstGeom>
          <a:solidFill>
            <a:srgbClr val="cf0e3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38920" y="213372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850160" y="1905120"/>
            <a:ext cx="360360" cy="378000"/>
            <a:chOff x="7850160" y="1905120"/>
            <a:chExt cx="360360" cy="378000"/>
          </a:xfrm>
        </p:grpSpPr>
        <p:sp>
          <p:nvSpPr>
            <p:cNvPr id="372" name=""/>
            <p:cNvSpPr/>
            <p:nvPr/>
          </p:nvSpPr>
          <p:spPr>
            <a:xfrm>
              <a:off x="7850160" y="190512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880400" y="1954080"/>
              <a:ext cx="298800" cy="267480"/>
              <a:chOff x="7880400" y="1954080"/>
              <a:chExt cx="298800" cy="267480"/>
            </a:xfrm>
          </p:grpSpPr>
          <p:sp>
            <p:nvSpPr>
              <p:cNvPr id="374" name=""/>
              <p:cNvSpPr/>
              <p:nvPr/>
            </p:nvSpPr>
            <p:spPr>
              <a:xfrm>
                <a:off x="7899480" y="212580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21800" y="215280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69320" y="199404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999560" y="2179800"/>
                <a:ext cx="51120" cy="25920"/>
                <a:chOff x="7999560" y="2179800"/>
                <a:chExt cx="51120" cy="25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999560" y="219168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01000" y="217980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01000" y="218916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8059680" y="210672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880400" y="201456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74000" y="197640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991640" y="2028960"/>
                <a:ext cx="63360" cy="37800"/>
                <a:chOff x="7991640" y="2028960"/>
                <a:chExt cx="63360" cy="37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991640" y="202896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91640" y="203832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8051760" y="204156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75440" y="205272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75440" y="205272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991640" y="214488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99560" y="215748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47000" y="205416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021520" y="195408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93000" y="198612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75520" y="198612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927920" y="216360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075520" y="201600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93160" y="201456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7985160" y="2054160"/>
                <a:ext cx="73440" cy="25560"/>
                <a:chOff x="7985160" y="2054160"/>
                <a:chExt cx="73440" cy="255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985160" y="205416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89840" y="206388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89840" y="206532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89840" y="206208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986600" y="2104920"/>
                <a:ext cx="36720" cy="49320"/>
                <a:chOff x="7986600" y="2104920"/>
                <a:chExt cx="36720" cy="493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013600" y="2122560"/>
                  <a:ext cx="9720" cy="25200"/>
                  <a:chOff x="8013600" y="2122560"/>
                  <a:chExt cx="9720" cy="25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801540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01360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988400" y="2116080"/>
                  <a:ext cx="8280" cy="27000"/>
                  <a:chOff x="7988400" y="2116080"/>
                  <a:chExt cx="8280" cy="27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798840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98840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996320" y="2104920"/>
                  <a:ext cx="22680" cy="49320"/>
                  <a:chOff x="7996320" y="2104920"/>
                  <a:chExt cx="22680" cy="493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8004240" y="211464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96320" y="210492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79866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026560" y="2104920"/>
                <a:ext cx="36720" cy="49320"/>
                <a:chOff x="8026560" y="2104920"/>
                <a:chExt cx="36720" cy="493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8026560" y="2122560"/>
                  <a:ext cx="9720" cy="25200"/>
                  <a:chOff x="8026560" y="2122560"/>
                  <a:chExt cx="9720" cy="25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803124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802656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8053560" y="2116080"/>
                  <a:ext cx="8280" cy="27000"/>
                  <a:chOff x="8053560" y="2116080"/>
                  <a:chExt cx="8280" cy="270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805644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05356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8032680" y="2104920"/>
                  <a:ext cx="20880" cy="49320"/>
                  <a:chOff x="8032680" y="2104920"/>
                  <a:chExt cx="20880" cy="49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8040600" y="211464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032680" y="210492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>
                  <a:off x="80280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8034480" y="216360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921800" y="2014560"/>
                <a:ext cx="11160" cy="10080"/>
                <a:chOff x="7921800" y="2014560"/>
                <a:chExt cx="11160" cy="100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24680" y="201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21800" y="201456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8115480" y="2014560"/>
                <a:ext cx="9720" cy="8280"/>
                <a:chOff x="8115480" y="2014560"/>
                <a:chExt cx="9720" cy="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116920" y="20178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115480" y="201456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8016840" y="1974960"/>
                <a:ext cx="10080" cy="6840"/>
                <a:chOff x="8016840" y="1974960"/>
                <a:chExt cx="10080" cy="6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020080" y="197820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016840" y="197496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7912080" y="203832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7372440" y="236232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91200" y="2666880"/>
            <a:ext cx="5335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77000" y="266688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77000" y="274320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152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724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296120" y="2133720"/>
            <a:ext cx="1522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2440" y="228600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72440" y="2209680"/>
            <a:ext cx="3808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24600" y="4648320"/>
            <a:ext cx="1590840" cy="9907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91200" y="495288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002440" y="4724280"/>
            <a:ext cx="360360" cy="378000"/>
            <a:chOff x="8002440" y="4724280"/>
            <a:chExt cx="360360" cy="378000"/>
          </a:xfrm>
        </p:grpSpPr>
        <p:sp>
          <p:nvSpPr>
            <p:cNvPr id="449" name=""/>
            <p:cNvSpPr/>
            <p:nvPr/>
          </p:nvSpPr>
          <p:spPr>
            <a:xfrm>
              <a:off x="8002440" y="472428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8032680" y="4773600"/>
              <a:ext cx="299160" cy="267120"/>
              <a:chOff x="8032680" y="4773600"/>
              <a:chExt cx="299160" cy="267120"/>
            </a:xfrm>
          </p:grpSpPr>
          <p:sp>
            <p:nvSpPr>
              <p:cNvPr id="451" name=""/>
              <p:cNvSpPr/>
              <p:nvPr/>
            </p:nvSpPr>
            <p:spPr>
              <a:xfrm>
                <a:off x="8051760" y="494496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074080" y="497196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21600" y="481320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8151840" y="4998960"/>
                <a:ext cx="51120" cy="25920"/>
                <a:chOff x="8151840" y="4998960"/>
                <a:chExt cx="51120" cy="25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151840" y="501084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153280" y="499896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153280" y="500868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8211960" y="492588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32680" y="48340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26280" y="479592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8143920" y="4848120"/>
                <a:ext cx="63360" cy="38160"/>
                <a:chOff x="8143920" y="4848120"/>
                <a:chExt cx="63360" cy="38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8143920" y="484812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43920" y="485784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8204040" y="48610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28080" y="487188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128080" y="487188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43920" y="496404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51840" y="497664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99280" y="487368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74160" y="477360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045280" y="480528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28160" y="480528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80200" y="498312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28160" y="483552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45440" y="48340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8137440" y="4873680"/>
                <a:ext cx="73440" cy="25560"/>
                <a:chOff x="8137440" y="4873680"/>
                <a:chExt cx="73440" cy="25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137440" y="487368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42120" y="488304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142120" y="488484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42120" y="488160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8139240" y="4924440"/>
                <a:ext cx="36720" cy="49320"/>
                <a:chOff x="8139240" y="4924440"/>
                <a:chExt cx="36720" cy="4932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8166240" y="4941720"/>
                  <a:ext cx="9720" cy="25560"/>
                  <a:chOff x="8166240" y="4941720"/>
                  <a:chExt cx="9720" cy="255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816768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81662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8140680" y="4935600"/>
                  <a:ext cx="8280" cy="27000"/>
                  <a:chOff x="8140680" y="4935600"/>
                  <a:chExt cx="8280" cy="270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81406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14068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8148600" y="4924440"/>
                  <a:ext cx="22680" cy="49320"/>
                  <a:chOff x="8148600" y="4924440"/>
                  <a:chExt cx="22680" cy="493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8156520" y="493380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48600" y="492444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>
                  <a:off x="813924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8178840" y="4924440"/>
                <a:ext cx="36720" cy="49320"/>
                <a:chOff x="8178840" y="4924440"/>
                <a:chExt cx="36720" cy="493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8178840" y="4941720"/>
                  <a:ext cx="9720" cy="25560"/>
                  <a:chOff x="8178840" y="4941720"/>
                  <a:chExt cx="9720" cy="255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818352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81788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8205840" y="4935600"/>
                  <a:ext cx="8280" cy="27000"/>
                  <a:chOff x="8205840" y="4935600"/>
                  <a:chExt cx="8280" cy="270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82090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820584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8185320" y="4924440"/>
                  <a:ext cx="20880" cy="49320"/>
                  <a:chOff x="8185320" y="4924440"/>
                  <a:chExt cx="20880" cy="493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8193240" y="4933800"/>
                    <a:ext cx="144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8185320" y="492444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818028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8186760" y="498312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8074080" y="4834080"/>
                <a:ext cx="11520" cy="9720"/>
                <a:chOff x="8074080" y="4834080"/>
                <a:chExt cx="11520" cy="97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8077320" y="48369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074080" y="48340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8267760" y="4834080"/>
                <a:ext cx="9720" cy="7920"/>
                <a:chOff x="8267760" y="4834080"/>
                <a:chExt cx="9720" cy="79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8269200" y="48369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267760" y="48340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8169120" y="4794120"/>
                <a:ext cx="10080" cy="6840"/>
                <a:chOff x="8169120" y="4794120"/>
                <a:chExt cx="10080" cy="68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172360" y="479736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169120" y="479412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8064360" y="485784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7524720" y="518148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524720" y="52578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43840" y="548640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29640" y="54864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675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247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48400" y="4952880"/>
            <a:ext cx="1526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24720" y="510552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24720" y="50292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91200" y="50292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38920" y="2209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03160" y="1766880"/>
            <a:ext cx="3225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serve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222200" y="3032280"/>
            <a:ext cx="3427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iting on named pi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22280" y="4556160"/>
            <a:ext cx="551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2  -  Named Pipe Worker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2280" y="2651040"/>
            <a:ext cx="384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Control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79440" y="495612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ing client c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98520" y="5356080"/>
            <a:ext cx="3087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mpersonating cli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22200" y="3489480"/>
            <a:ext cx="43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’s primary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79440" y="5737320"/>
            <a:ext cx="389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impersonation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s (ACL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98560" y="1276200"/>
            <a:ext cx="73216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CL is a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st of Access Control Entries (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kinds of AC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cess control (D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allow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ni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cess control (S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udit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9338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9528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9528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812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002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002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33480" y="5753160"/>
            <a:ext cx="7448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933480" y="55436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8381880" y="546732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495680" y="57722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651040" y="5961240"/>
            <a:ext cx="3687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03400" y="520848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308640" y="517032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23920" y="1257480"/>
            <a:ext cx="7106040" cy="4439160"/>
          </a:xfrm>
          <a:custGeom>
            <a:avLst/>
            <a:gdLst/>
            <a:ahLst/>
            <a:rect l="0" t="0" r="r" b="b"/>
            <a:pathLst>
              <a:path w="19739" h="12331">
                <a:moveTo>
                  <a:pt x="0" y="0"/>
                </a:moveTo>
                <a:lnTo>
                  <a:pt x="0" y="12331"/>
                </a:lnTo>
                <a:lnTo>
                  <a:pt x="13817" y="12331"/>
                </a:lnTo>
                <a:lnTo>
                  <a:pt x="19739" y="6165"/>
                </a:lnTo>
                <a:lnTo>
                  <a:pt x="138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459080" y="1425600"/>
            <a:ext cx="46832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bject:  c: \payroll\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43160" y="2284560"/>
            <a:ext cx="55054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:  Sales\SallyMg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:  Sales\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L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Payrol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WXD - Sales\SallyMg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Internal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L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- W - Ever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66720" y="5970600"/>
            <a:ext cx="7350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to prot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9680" y="154080"/>
            <a:ext cx="817236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br>
              <a:rPr sz="1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hat is protected (by SRM checking</a:t>
            </a:r>
            <a:br>
              <a:rPr sz="36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ken against DAC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562040" y="2171520"/>
            <a:ext cx="6019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y named or shareab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an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-managem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 flipH="1">
            <a:off x="645804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85960" y="1957320"/>
            <a:ext cx="624240" cy="1167120"/>
          </a:xfrm>
          <a:custGeom>
            <a:avLst/>
            <a:gdLst/>
            <a:ahLst/>
            <a:rect l="0" t="0" r="r" b="b"/>
            <a:pathLst>
              <a:path fill="none" w="1734" h="3242">
                <a:moveTo>
                  <a:pt x="1734" y="3242"/>
                </a:moveTo>
                <a:lnTo>
                  <a:pt x="1734" y="3242"/>
                </a:lnTo>
                <a:lnTo>
                  <a:pt x="1734" y="3242"/>
                </a:lnTo>
                <a:cubicBezTo>
                  <a:pt x="1734" y="2673"/>
                  <a:pt x="1654" y="2114"/>
                  <a:pt x="1502" y="1621"/>
                </a:cubicBezTo>
                <a:cubicBezTo>
                  <a:pt x="1349" y="1128"/>
                  <a:pt x="1131" y="719"/>
                  <a:pt x="867" y="434"/>
                </a:cubicBezTo>
                <a:cubicBezTo>
                  <a:pt x="603" y="150"/>
                  <a:pt x="304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08160" y="3795840"/>
            <a:ext cx="543240" cy="357480"/>
          </a:xfrm>
          <a:custGeom>
            <a:avLst/>
            <a:gdLst/>
            <a:ahLst/>
            <a:rect l="0" t="0" r="r" b="b"/>
            <a:pathLst>
              <a:path fill="none" w="1509" h="993">
                <a:moveTo>
                  <a:pt x="0" y="0"/>
                </a:moveTo>
                <a:lnTo>
                  <a:pt x="0" y="0"/>
                </a:lnTo>
                <a:cubicBezTo>
                  <a:pt x="0" y="174"/>
                  <a:pt x="70" y="346"/>
                  <a:pt x="202" y="497"/>
                </a:cubicBezTo>
                <a:cubicBezTo>
                  <a:pt x="335" y="647"/>
                  <a:pt x="525" y="773"/>
                  <a:pt x="755" y="860"/>
                </a:cubicBezTo>
                <a:cubicBezTo>
                  <a:pt x="984" y="947"/>
                  <a:pt x="1244" y="993"/>
                  <a:pt x="1509" y="993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520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09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148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46052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3176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03176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219560" y="4438800"/>
            <a:ext cx="0" cy="7286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52760" y="3110040"/>
            <a:ext cx="1185840" cy="6048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2579760" y="3368520"/>
            <a:ext cx="1128600" cy="666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2755800" y="309096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24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3651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488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1312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917960" y="3736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0316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12880" y="442440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1160" y="46483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81500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43200" y="516096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5"/>
          <a:stretch/>
        </p:blipFill>
        <p:spPr>
          <a:xfrm>
            <a:off x="3670200" y="591984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3648240" y="599292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981600" y="55926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57800" y="516096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313240" y="593892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5605560" y="599292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358040" y="55418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929280" y="518004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6994440" y="593892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6948360" y="603108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724360" y="56116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62720" y="56116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8"/>
          <a:stretch/>
        </p:blipFill>
        <p:spPr>
          <a:xfrm>
            <a:off x="37083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9"/>
          <a:stretch/>
        </p:blipFill>
        <p:spPr>
          <a:xfrm>
            <a:off x="5289480" y="553896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0"/>
          <a:stretch/>
        </p:blipFill>
        <p:spPr>
          <a:xfrm>
            <a:off x="6985080" y="55389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8386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419800" y="517356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172280" y="51926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64168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647800" y="1881360"/>
            <a:ext cx="1538640" cy="976680"/>
          </a:xfrm>
          <a:custGeom>
            <a:avLst/>
            <a:gdLst/>
            <a:ahLst/>
            <a:rect l="0" t="0" r="r" b="b"/>
            <a:pathLst>
              <a:path fill="none" w="4274" h="2713">
                <a:moveTo>
                  <a:pt x="4274" y="2713"/>
                </a:moveTo>
                <a:lnTo>
                  <a:pt x="4274" y="2713"/>
                </a:lnTo>
                <a:lnTo>
                  <a:pt x="4274" y="2713"/>
                </a:lnTo>
                <a:cubicBezTo>
                  <a:pt x="4274" y="2237"/>
                  <a:pt x="4077" y="1769"/>
                  <a:pt x="3701" y="1356"/>
                </a:cubicBezTo>
                <a:cubicBezTo>
                  <a:pt x="3326" y="944"/>
                  <a:pt x="2787" y="602"/>
                  <a:pt x="2137" y="363"/>
                </a:cubicBezTo>
                <a:cubicBezTo>
                  <a:pt x="1487" y="125"/>
                  <a:pt x="75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319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762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30824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7272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2985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12985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753000" y="2900520"/>
            <a:ext cx="861840" cy="5857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3780000" y="3159000"/>
            <a:ext cx="824040" cy="666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4013280" y="28814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505400" y="4457880"/>
            <a:ext cx="0" cy="5760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9088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391788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4400640" y="380988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699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67400" y="255600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241960" y="411804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29240" y="3352680"/>
            <a:ext cx="343440" cy="476640"/>
          </a:xfrm>
          <a:custGeom>
            <a:avLst/>
            <a:gdLst/>
            <a:ahLst/>
            <a:rect l="0" t="0" r="r" b="b"/>
            <a:pathLst>
              <a:path fill="none" w="954" h="1324">
                <a:moveTo>
                  <a:pt x="954" y="1324"/>
                </a:moveTo>
                <a:lnTo>
                  <a:pt x="954" y="1324"/>
                </a:lnTo>
                <a:lnTo>
                  <a:pt x="954" y="1324"/>
                </a:lnTo>
                <a:cubicBezTo>
                  <a:pt x="954" y="1092"/>
                  <a:pt x="910" y="863"/>
                  <a:pt x="826" y="662"/>
                </a:cubicBezTo>
                <a:cubicBezTo>
                  <a:pt x="742" y="461"/>
                  <a:pt x="622" y="294"/>
                  <a:pt x="477" y="177"/>
                </a:cubicBezTo>
                <a:cubicBezTo>
                  <a:pt x="332" y="61"/>
                  <a:pt x="16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79560" y="440532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7784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005440" y="577692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33640" y="504684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3860640" y="58053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3838680" y="587844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040" y="5478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48240" y="504684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6"/>
          <a:stretch/>
        </p:blipFill>
        <p:spPr>
          <a:xfrm>
            <a:off x="5504040" y="582444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5796000" y="587844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7548480" y="54277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648480" y="5776920"/>
            <a:ext cx="42876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20080" y="506556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7"/>
          <a:stretch/>
        </p:blipFill>
        <p:spPr>
          <a:xfrm>
            <a:off x="7184880" y="582444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7139160" y="591660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915160" y="549756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553160" y="549756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8"/>
          <a:stretch/>
        </p:blipFill>
        <p:spPr>
          <a:xfrm>
            <a:off x="3898800" y="538632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9"/>
          <a:stretch/>
        </p:blipFill>
        <p:spPr>
          <a:xfrm>
            <a:off x="5479920" y="542448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10"/>
          <a:stretch/>
        </p:blipFill>
        <p:spPr>
          <a:xfrm>
            <a:off x="7175520" y="54244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4029120" y="50212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610240" y="50594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362720" y="507852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96532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610000" y="1938240"/>
            <a:ext cx="1367280" cy="1300680"/>
          </a:xfrm>
          <a:custGeom>
            <a:avLst/>
            <a:gdLst/>
            <a:ahLst/>
            <a:rect l="0" t="0" r="r" b="b"/>
            <a:pathLst>
              <a:path fill="none" w="3798" h="3613">
                <a:moveTo>
                  <a:pt x="3798" y="3613"/>
                </a:moveTo>
                <a:lnTo>
                  <a:pt x="3798" y="3613"/>
                </a:lnTo>
                <a:lnTo>
                  <a:pt x="3798" y="3613"/>
                </a:lnTo>
                <a:cubicBezTo>
                  <a:pt x="3798" y="2979"/>
                  <a:pt x="3623" y="2356"/>
                  <a:pt x="3289" y="1806"/>
                </a:cubicBezTo>
                <a:cubicBezTo>
                  <a:pt x="2956" y="1257"/>
                  <a:pt x="2476" y="801"/>
                  <a:pt x="1899" y="484"/>
                </a:cubicBezTo>
                <a:cubicBezTo>
                  <a:pt x="1322" y="167"/>
                  <a:pt x="667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84760" y="3986280"/>
            <a:ext cx="1438560" cy="295560"/>
          </a:xfrm>
          <a:custGeom>
            <a:avLst/>
            <a:gdLst/>
            <a:ahLst/>
            <a:rect l="0" t="0" r="r" b="b"/>
            <a:pathLst>
              <a:path fill="none" w="3996" h="821">
                <a:moveTo>
                  <a:pt x="0" y="0"/>
                </a:moveTo>
                <a:lnTo>
                  <a:pt x="0" y="0"/>
                </a:lnTo>
                <a:cubicBezTo>
                  <a:pt x="0" y="144"/>
                  <a:pt x="185" y="286"/>
                  <a:pt x="535" y="411"/>
                </a:cubicBezTo>
                <a:cubicBezTo>
                  <a:pt x="886" y="535"/>
                  <a:pt x="1391" y="639"/>
                  <a:pt x="1998" y="711"/>
                </a:cubicBezTo>
                <a:cubicBezTo>
                  <a:pt x="2605" y="783"/>
                  <a:pt x="3295" y="821"/>
                  <a:pt x="3996" y="821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93800" y="512460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38400" y="443880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289160" y="44863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689120" y="498636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60360" y="485460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260360" y="545472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3638520" y="3348000"/>
            <a:ext cx="1243080" cy="6145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3665520" y="3578400"/>
            <a:ext cx="1185840" cy="1047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3841920" y="3300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34120" y="4514760"/>
            <a:ext cx="0" cy="5572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67320" y="389412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5494320" y="41115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5977080" y="386712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33480" y="121932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031760" y="124920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9108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203880" y="341316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965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32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7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8460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9462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14360" y="1600200"/>
            <a:ext cx="6515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and overview of security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tion and authent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162240" y="1900080"/>
            <a:ext cx="1271880" cy="1205280"/>
          </a:xfrm>
          <a:custGeom>
            <a:avLst/>
            <a:gdLst/>
            <a:ahLst/>
            <a:rect l="0" t="0" r="r" b="b"/>
            <a:pathLst>
              <a:path fill="none" w="3533" h="3348">
                <a:moveTo>
                  <a:pt x="3533" y="3348"/>
                </a:moveTo>
                <a:lnTo>
                  <a:pt x="3533" y="3348"/>
                </a:lnTo>
                <a:lnTo>
                  <a:pt x="3533" y="3348"/>
                </a:lnTo>
                <a:cubicBezTo>
                  <a:pt x="3533" y="2760"/>
                  <a:pt x="3370" y="2183"/>
                  <a:pt x="3060" y="1674"/>
                </a:cubicBezTo>
                <a:cubicBezTo>
                  <a:pt x="2750" y="1165"/>
                  <a:pt x="2304" y="742"/>
                  <a:pt x="1766" y="449"/>
                </a:cubicBezTo>
                <a:cubicBezTo>
                  <a:pt x="1229" y="155"/>
                  <a:pt x="62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605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04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36840" y="43909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9558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15271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15271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943440" y="3176640"/>
            <a:ext cx="12049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3970440" y="3406680"/>
            <a:ext cx="1166760" cy="1047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4032360" y="31892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15400" y="4324320"/>
            <a:ext cx="0" cy="8240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5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77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7404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7872480" y="380988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5640" y="3776760"/>
            <a:ext cx="2948400" cy="362160"/>
          </a:xfrm>
          <a:custGeom>
            <a:avLst/>
            <a:gdLst/>
            <a:ahLst/>
            <a:rect l="0" t="0" r="r" b="b"/>
            <a:pathLst>
              <a:path fill="none" w="8190" h="1006">
                <a:moveTo>
                  <a:pt x="0" y="0"/>
                </a:moveTo>
                <a:lnTo>
                  <a:pt x="0" y="0"/>
                </a:lnTo>
                <a:cubicBezTo>
                  <a:pt x="0" y="177"/>
                  <a:pt x="378" y="350"/>
                  <a:pt x="1097" y="503"/>
                </a:cubicBezTo>
                <a:cubicBezTo>
                  <a:pt x="1816" y="656"/>
                  <a:pt x="2850" y="783"/>
                  <a:pt x="4095" y="871"/>
                </a:cubicBezTo>
                <a:cubicBezTo>
                  <a:pt x="5340" y="960"/>
                  <a:pt x="6752" y="1006"/>
                  <a:pt x="8190" y="1006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002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2985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896000" y="270828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56160" y="4384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208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39760" y="46861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622760" y="645948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1748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85640" y="1144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0120" y="1057320"/>
            <a:ext cx="794376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has user SID, group SIDs user belongs to, user’s privile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may also have impersonation tok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identifying object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CL protect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L drives aud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hecked Only When Handle Is Obtained by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187280" y="1886040"/>
            <a:ext cx="67438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is good until process having it close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if same process could not still open another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with handle can dup handle into 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handle, will acces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limits of handle’s granted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s Built At    Logon Tim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168560" y="2457360"/>
            <a:ext cx="67438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 user’s groups or privileges has no effect until that user’s next lo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ag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111320" y="1428840"/>
            <a:ext cx="6743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only group SIDs in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NTFS disk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admin headach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 secure apps as Win32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ps run by user logged on at keyboard run under same access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re run under different access tok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38280" y="228600"/>
            <a:ext cx="7867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Implications For Different Application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66760" y="2152800"/>
            <a:ext cx="50101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1343160" y="166680"/>
            <a:ext cx="6458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ecurity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33480" y="1962000"/>
            <a:ext cx="716292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sired Acce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 ope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may fail (access deni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s, wor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1714680" y="228600"/>
            <a:ext cx="5715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14440" y="1447920"/>
            <a:ext cx="811548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ir ow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 Valid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erson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Windows NT security into  apps: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gle password for us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, print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076400" y="228600"/>
            <a:ext cx="6991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dministration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90720" y="2038320"/>
            <a:ext cx="71629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use entire range of securit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threat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187280" y="1333440"/>
            <a:ext cx="6743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an integral part of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uni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monit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cess Token and DACL to check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logon, enterprise-wide user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curity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49160" y="1200240"/>
            <a:ext cx="739152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based consistent robust local secur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security requirements for commercial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calable, 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requirements for DoD C2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for B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ity/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954000" y="228600"/>
            <a:ext cx="723744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457360" y="209520"/>
            <a:ext cx="297180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64f2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141880" y="666720"/>
            <a:ext cx="277344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0ff00"/>
                </a:solidFill>
                <a:latin typeface="Symbol"/>
                <a:ea typeface="Symbol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046920" y="282420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85840" y="39996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46120" y="350352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41520" y="292248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365640" y="179856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718320" y="395280"/>
            <a:ext cx="235728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14d3c1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381560" y="352440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657440" y="43812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19160" y="1317600"/>
            <a:ext cx="4697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.hlp file, first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s to start, espec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urity Model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nside Windows NT", by Cust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MS Press, 1993, ISB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55615-481-X, pages 72-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Windows NT - Answer Book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Groves, from MS Pres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, ISBN 1-55615-562-X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44-141 and 187-1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916520" y="1336680"/>
            <a:ext cx="4137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source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on SDK CD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oc\enduser\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), chapter 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pages 51-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article "Inside 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curity" series by Ro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chel, in Windows/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Journ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1993 pages 6-19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1993, pages 44-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1581120" y="11448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119160" y="860400"/>
            <a:ext cx="3705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_sd - dissect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s and ACLs, SID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s.  On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in \q_a\sample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lib 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k_sd.z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by Russel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gemi, from O'Rei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Assoc, 199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0-937175-71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040280" y="822240"/>
            <a:ext cx="488304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C2 info: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Guide pages 52-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mmary of C2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C2 info: "Inside Windows NT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3-4, 74-76, 196, 330 and 3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C2 info: “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chapter 6 is 59 p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Orange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C2 info: Government Pri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(202)783-3238 prov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of the Orange Book, G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Number 008-000-00461-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nominal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42800" y="1870200"/>
            <a:ext cx="43322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NamedPip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Impersonat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35560" y="187020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Thread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Privileg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Group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708440" y="201924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Allow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Deni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uditAccess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FirstFre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69920" y="2019240"/>
            <a:ext cx="2892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759200" y="1886040"/>
            <a:ext cx="389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LengthRequir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Identifier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Cou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ength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92120" y="1886040"/>
            <a:ext cx="3587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eAnd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Prefix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440080" y="1673280"/>
            <a:ext cx="4264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elfRelativ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Absolut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719600" y="3638520"/>
            <a:ext cx="42814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42920" y="3638520"/>
            <a:ext cx="43480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000760" y="1968480"/>
            <a:ext cx="3720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23720" y="1968480"/>
            <a:ext cx="4314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2520" y="2019240"/>
            <a:ext cx="2368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0" y="2019240"/>
            <a:ext cx="42465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And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Open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Clos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Servic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754360" y="4114800"/>
            <a:ext cx="3637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ny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ll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GenericMas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273560" y="2120760"/>
            <a:ext cx="4299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Valu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Display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73120" y="2120760"/>
            <a:ext cx="324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2 Requiremen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76240" y="1600200"/>
            <a:ext cx="73915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&amp; authenticate users before they acces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DAC (Discretiona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ing MAC which is B-level (Mandato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object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-related events audi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7868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355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351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19160"/>
            <a:ext cx="913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rchitecture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400" y="4255920"/>
            <a:ext cx="7964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80960" y="3254400"/>
            <a:ext cx="1298520" cy="87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01960" y="2544840"/>
            <a:ext cx="1328760" cy="801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76880" y="3249720"/>
            <a:ext cx="1300320" cy="9176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64200" y="2530440"/>
            <a:ext cx="1300320" cy="860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9360" y="1123920"/>
            <a:ext cx="1039680" cy="797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4400" y="3181320"/>
            <a:ext cx="417600" cy="312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667480" y="3168720"/>
            <a:ext cx="507960" cy="344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745160"/>
            <a:ext cx="7016760" cy="14842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61960" y="506088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97360" y="4692600"/>
            <a:ext cx="1870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61960" y="592452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3890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43720" y="429264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43720" y="379260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72280" y="5062680"/>
            <a:ext cx="154296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67360" y="4210200"/>
            <a:ext cx="0" cy="495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62000" y="19242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2200" y="196200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8280" y="19432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5264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62000" y="413388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220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4388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160" y="2567160"/>
            <a:ext cx="144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rv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476600" y="537696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495680" y="5729400"/>
            <a:ext cx="7430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79680" y="5154480"/>
            <a:ext cx="2054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89440" y="5535720"/>
            <a:ext cx="1488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ch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24600" y="5057640"/>
            <a:ext cx="152892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P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8240" y="1104840"/>
            <a:ext cx="746748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identifies user, user’s group memberships, user’s privile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-                   1) Identifies object owner   2) DACL protects object   3) SACL drives aud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 (Access Control En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Identifi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880" y="1409760"/>
            <a:ext cx="7734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 (S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-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 means a revision 1 S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Windows NT identifier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dentifies your account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your relative ID (RID) to the domain, which represents a user name o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Name\UserName or Group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5000" y="2917800"/>
            <a:ext cx="4137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44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9084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85760" y="2270160"/>
            <a:ext cx="390960" cy="464040"/>
            <a:chOff x="1085760" y="227016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111744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576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641600" y="2270160"/>
            <a:ext cx="390960" cy="464040"/>
            <a:chOff x="1641600" y="227016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167328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160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44880" y="2249640"/>
            <a:ext cx="390960" cy="465480"/>
            <a:chOff x="2144880" y="2249640"/>
            <a:chExt cx="390960" cy="465480"/>
          </a:xfrm>
        </p:grpSpPr>
        <p:sp>
          <p:nvSpPr>
            <p:cNvPr id="96" name=""/>
            <p:cNvSpPr/>
            <p:nvPr/>
          </p:nvSpPr>
          <p:spPr>
            <a:xfrm>
              <a:off x="217656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4488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50880" y="1517760"/>
            <a:ext cx="482400" cy="344520"/>
            <a:chOff x="650880" y="1517760"/>
            <a:chExt cx="482400" cy="344520"/>
          </a:xfrm>
        </p:grpSpPr>
        <p:sp>
          <p:nvSpPr>
            <p:cNvPr id="99" name=""/>
            <p:cNvSpPr/>
            <p:nvPr/>
          </p:nvSpPr>
          <p:spPr>
            <a:xfrm>
              <a:off x="68724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88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47720" y="1287360"/>
            <a:ext cx="482760" cy="343080"/>
            <a:chOff x="1647720" y="1287360"/>
            <a:chExt cx="482760" cy="343080"/>
          </a:xfrm>
        </p:grpSpPr>
        <p:sp>
          <p:nvSpPr>
            <p:cNvPr id="102" name=""/>
            <p:cNvSpPr/>
            <p:nvPr/>
          </p:nvSpPr>
          <p:spPr>
            <a:xfrm>
              <a:off x="1682640" y="132552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47720" y="128736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328840" y="1565280"/>
            <a:ext cx="482760" cy="344520"/>
            <a:chOff x="2328840" y="1565280"/>
            <a:chExt cx="482760" cy="344520"/>
          </a:xfrm>
        </p:grpSpPr>
        <p:sp>
          <p:nvSpPr>
            <p:cNvPr id="105" name=""/>
            <p:cNvSpPr/>
            <p:nvPr/>
          </p:nvSpPr>
          <p:spPr>
            <a:xfrm>
              <a:off x="236376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884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0060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0808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95920" y="2212920"/>
            <a:ext cx="390960" cy="464040"/>
            <a:chOff x="5695920" y="2212920"/>
            <a:chExt cx="390960" cy="464040"/>
          </a:xfrm>
        </p:grpSpPr>
        <p:sp>
          <p:nvSpPr>
            <p:cNvPr id="110" name=""/>
            <p:cNvSpPr/>
            <p:nvPr/>
          </p:nvSpPr>
          <p:spPr>
            <a:xfrm>
              <a:off x="572760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9592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51400" y="2212920"/>
            <a:ext cx="391320" cy="464040"/>
            <a:chOff x="6251400" y="2212920"/>
            <a:chExt cx="391320" cy="464040"/>
          </a:xfrm>
        </p:grpSpPr>
        <p:sp>
          <p:nvSpPr>
            <p:cNvPr id="113" name=""/>
            <p:cNvSpPr/>
            <p:nvPr/>
          </p:nvSpPr>
          <p:spPr>
            <a:xfrm>
              <a:off x="628344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5140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54680" y="2192400"/>
            <a:ext cx="391320" cy="465480"/>
            <a:chOff x="6754680" y="2192400"/>
            <a:chExt cx="391320" cy="465480"/>
          </a:xfrm>
        </p:grpSpPr>
        <p:sp>
          <p:nvSpPr>
            <p:cNvPr id="116" name=""/>
            <p:cNvSpPr/>
            <p:nvPr/>
          </p:nvSpPr>
          <p:spPr>
            <a:xfrm>
              <a:off x="678672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5468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56080" y="1574640"/>
            <a:ext cx="482760" cy="344880"/>
            <a:chOff x="5356080" y="1574640"/>
            <a:chExt cx="482760" cy="344880"/>
          </a:xfrm>
        </p:grpSpPr>
        <p:sp>
          <p:nvSpPr>
            <p:cNvPr id="119" name=""/>
            <p:cNvSpPr/>
            <p:nvPr/>
          </p:nvSpPr>
          <p:spPr>
            <a:xfrm>
              <a:off x="539280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608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57880" y="1230480"/>
            <a:ext cx="482760" cy="342720"/>
            <a:chOff x="6257880" y="1230480"/>
            <a:chExt cx="482760" cy="342720"/>
          </a:xfrm>
        </p:grpSpPr>
        <p:sp>
          <p:nvSpPr>
            <p:cNvPr id="122" name=""/>
            <p:cNvSpPr/>
            <p:nvPr/>
          </p:nvSpPr>
          <p:spPr>
            <a:xfrm>
              <a:off x="6292800" y="126828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7880" y="123048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996240" y="1469880"/>
            <a:ext cx="482760" cy="344880"/>
            <a:chOff x="6996240" y="1469880"/>
            <a:chExt cx="482760" cy="344880"/>
          </a:xfrm>
        </p:grpSpPr>
        <p:sp>
          <p:nvSpPr>
            <p:cNvPr id="125" name=""/>
            <p:cNvSpPr/>
            <p:nvPr/>
          </p:nvSpPr>
          <p:spPr>
            <a:xfrm>
              <a:off x="703116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624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523872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81328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571760" y="2286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ication And Authent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66760" y="1662120"/>
            <a:ext cx="452520" cy="3538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910560" y="2193840"/>
            <a:ext cx="1566720" cy="820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08448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38280" y="3664080"/>
            <a:ext cx="229392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9320" y="3714840"/>
            <a:ext cx="1668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0" y="166680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57680" y="2116080"/>
            <a:ext cx="1565280" cy="824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45080" y="2602080"/>
            <a:ext cx="11826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13600" y="228744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8080" y="2187720"/>
            <a:ext cx="1306440" cy="8380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5240" y="223200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40200" y="3835440"/>
            <a:ext cx="229536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33960" y="4016520"/>
            <a:ext cx="1668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4062240"/>
            <a:ext cx="155412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4200" y="4346640"/>
            <a:ext cx="1625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92520" y="5419800"/>
            <a:ext cx="2981160" cy="10904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4200" y="4819680"/>
            <a:ext cx="0" cy="4824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4400" y="4803840"/>
            <a:ext cx="0" cy="466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98960" y="5718240"/>
            <a:ext cx="234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01680" y="3089160"/>
            <a:ext cx="0" cy="4827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5600" y="2595600"/>
            <a:ext cx="1055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43400" y="487836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15040" y="4898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040" y="319248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7320" y="3228840"/>
            <a:ext cx="298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24120" y="447984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95760" y="45194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10480" y="492120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80320" y="49435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8600" y="3600360"/>
            <a:ext cx="4158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36212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73480" y="320184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43320" y="322416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213984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86040" y="21607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6280" y="2124000"/>
            <a:ext cx="414360" cy="2872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856120" y="2144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162864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