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488280" y="0"/>
            <a:ext cx="2643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th Szot93101 Xhibition ‘93 6/93 </a:t>
            </a:r>
            <a:fld id="{BE00DF35-DFA4-486A-968A-BDD7825FE289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00040" y="1316160"/>
            <a:ext cx="817236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04800" y="587520"/>
            <a:ext cx="7935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191040" y="1015920"/>
            <a:ext cx="2762280" cy="3838680"/>
            <a:chOff x="3191040" y="1015920"/>
            <a:chExt cx="2762280" cy="38386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191040" y="1015920"/>
              <a:ext cx="2762280" cy="38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800520" y="1425600"/>
              <a:ext cx="1571760" cy="15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 txBox="1"/>
          <p:nvPr/>
        </p:nvSpPr>
        <p:spPr>
          <a:xfrm>
            <a:off x="2500200" y="5048280"/>
            <a:ext cx="414504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ith Sz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Annual Membership Pro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5920" y="1962000"/>
            <a:ext cx="83725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rterly Developer Network CD (4 C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6 newspap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 discount on Microsoft Press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25 of free CompuServe connec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itations to select shows and 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come K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280120" y="640080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o Join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981080"/>
            <a:ext cx="715320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mentary Developer Network CD is included in your conference bag with enrollme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hip fee: $195 a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user licenses for CD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call 800-759-5474 to enroll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61040" y="6388200"/>
            <a:ext cx="448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16398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76480" y="3354480"/>
            <a:ext cx="49928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25520" y="1709640"/>
            <a:ext cx="64929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fficial Microsoft source of development-related technical and strategic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 become “Registered” developers with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open to all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We Deliver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You Ne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04840" y="2247840"/>
            <a:ext cx="51339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CD (quarter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bimonth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52388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most comprehensive reference of Windows programming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the latest technical information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new, in-depth information on known areas of complex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Cont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33320" y="1868400"/>
            <a:ext cx="76770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over 100,000 pages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, original technical 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ple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product 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Knowledge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ess Books and MS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st technology spec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nd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762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00040" y="1733400"/>
            <a:ext cx="6343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-text searching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que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search eng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brow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-to-use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views of th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Hypertext linking throughout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New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73340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monthly newspaper cover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ystems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ment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 available to develo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d by over 300,000 developers worldw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43040" y="1886040"/>
            <a:ext cx="76582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forum deliv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sampl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ccess, type GO MSDN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ized version of WinCIM on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8560" y="1165320"/>
            <a:ext cx="68072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ly Info Updat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a CompuSer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27640" y="6384960"/>
            <a:ext cx="3803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95360" y="228600"/>
            <a:ext cx="8153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ing To Develop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1604880"/>
            <a:ext cx="73627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s have a place to send complaints, suggestions, and requests for new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6080" y="2979720"/>
            <a:ext cx="851364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MSDNLIB forum or via e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INTERNET: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6) 936-7329    Attn: Developer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er Net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Microsoft W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mond, WA 98052-6399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