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9400" y="12600"/>
            <a:ext cx="34020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’93 (1st talk) 6/93 </a:t>
            </a:r>
            <a:fld id="{09A0C127-A28E-48B4-BD8F-2036F83E079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85960" y="789120"/>
            <a:ext cx="737244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For The UNIX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04920" y="1866960"/>
            <a:ext cx="4933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19280" y="228600"/>
            <a:ext cx="5905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09600" y="1987560"/>
            <a:ext cx="6724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        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52360" y="1657440"/>
            <a:ext cx="6838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228600"/>
            <a:ext cx="8858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as For Attention When Porting To Windows 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47840" y="1841400"/>
            <a:ext cx="46483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Hints: 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54160" y="1365120"/>
            <a:ext cx="68374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 time FIRST to determine if your functionality is suppor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are similar; most “section 2” AP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line C run-time 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14479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-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pause() and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5880" y="1203480"/>
            <a:ext cx="5772240" cy="515304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05000" y="22860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040" y="1619280"/>
            <a:ext cx="8305920" cy="49816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28680" y="22860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0600" y="1730520"/>
            <a:ext cx="8362800" cy="451332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0200" y="1467000"/>
            <a:ext cx="8283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  (e.g. SIGCHL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962000" y="228600"/>
            <a:ext cx="521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fferent Aspec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314440" y="1903320"/>
            <a:ext cx="4514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environment/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60240" y="1492200"/>
            <a:ext cx="7823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 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-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-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971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479600"/>
            <a:ext cx="78868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 use POSIX subsystem to perform ln(), if you need it 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752480"/>
            <a:ext cx="82738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            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47600" y="1498680"/>
            <a:ext cx="7048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Data, Citrix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uent can drive X terminals with their X client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52360" y="1428840"/>
            <a:ext cx="6838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, i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282680"/>
            <a:ext cx="81342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 pipes, named pipes, named shared memory, semaphores, mutexes,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360" y="1130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 -- FTP server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ities available via Internet and CompuServe (source form!) (e.g. NFS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-oriented RPC available in the box - ONC RPC available from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040" y="1308240"/>
            <a:ext cx="83059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 heap allocation 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phics Compatibi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3320" y="1460520"/>
            <a:ext cx="7677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functionality in general a superset of X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libnt.zip available on CompuServe and Internet - provides Xlib functionality on top of GD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GL - third parti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st way to develop GUI applications with some of great tools from Blue Sky, Protoview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33640" y="1486080"/>
            <a:ext cx="687708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09600" y="203976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.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 and CHE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 -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276200"/>
            <a:ext cx="7162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Windows NT programming tools shipping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ools section in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s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U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Aids - DataFocus, Congruent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0280" y="173340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, D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52600" y="1727280"/>
            <a:ext cx="80391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News, UUCP, mail - help@kew.com, martin@iastate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client built in, SMTP connectivy pieces through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I -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3640" y="1390680"/>
            <a:ext cx="7418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.windows.m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uu.net, ftp.cica.indiana.edu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hino.microsoft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catalog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181160"/>
            <a:ext cx="68580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all of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alread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Kind Of UNIX Programs Do You Hav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81240" y="2228760"/>
            <a:ext cx="478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1905120"/>
            <a:ext cx="4419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80960" y="1809720"/>
            <a:ext cx="6381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62080" y="1733400"/>
            <a:ext cx="681984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80960" y="2266920"/>
            <a:ext cx="6381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04840" y="1752480"/>
            <a:ext cx="69343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