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38C12A-8F7B-4D63-BD13-8684E01DE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interfaces must be Release’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mit, Revert, and Release all work in low memory without consuming additional file hand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methods under ‘Never’ are used internally by O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LE 1.0 Container has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vide embedding sto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ave within a single stream (fi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LE 1.0 Embedding Server has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load all its data on acti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write all its data on 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the above Common operations work in low memory without additional file hand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methods under ‘Never’ exist because the implementation provided by OLE is not the only possible implem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 Stat to determine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et’s take a look at some exampl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rrows represent interface instances held by cli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ainer 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mbedding 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 context switch during stream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ly the storage is transa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example shows that releasing a stream doesn’t cause its changes to be lost, nor does it commit them to the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e that Revert discards the changes AND disconnects the child from the parent (as shown by no connection between the two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ually all children will be closed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 preload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cremental update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578560" y="76320"/>
            <a:ext cx="336384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x Tilles(3) 93006 OLE 2.0 PDC 5/93 </a:t>
            </a:r>
            <a:fld id="{2AB36306-95EE-4FDB-AA98-FB1288168816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54080" y="955800"/>
            <a:ext cx="883620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2.0 Storage Model And Compound File Implementation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ex Tille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Team Lead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reating Root 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84080" y="1736640"/>
            <a:ext cx="75772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CreateDoc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h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m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ing m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mo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CreateDocfileOnILockB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s an ILockBytes instance instead of path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72880" y="493560"/>
            <a:ext cx="8597880" cy="66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Storage *pRootSt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tgCreateDocfil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ample.dfl”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WRIT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| STGM_SHARE_EXCLUSIV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TRANSACTED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| STGM_FAILIFTHER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RootStg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FAILED(GetScode(hr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handle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use pRootStg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RootStg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reate Op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425600" y="1736640"/>
            <a:ext cx="6294600" cy="32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FAILIFT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ils if file already ex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CRE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ways creates (even if file exis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CON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rts file into compound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GM_CONVE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6720" y="1981080"/>
            <a:ext cx="2705040" cy="234324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89000" y="277956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24280" y="3886200"/>
            <a:ext cx="2705040" cy="234324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146560" y="468468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81760" y="1066680"/>
            <a:ext cx="2914560" cy="167652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058080" y="2666880"/>
            <a:ext cx="68580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57600" y="3390840"/>
            <a:ext cx="91440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461280" y="3313080"/>
            <a:ext cx="2394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ts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108920" y="157968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906640" y="1455840"/>
            <a:ext cx="359892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Destroy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22280" y="2084400"/>
            <a:ext cx="384192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AddR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opy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MoveElement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Enum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name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etElement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975200" y="2065320"/>
            <a:ext cx="3598920" cy="15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Query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et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etStateB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03200" y="1122480"/>
            <a:ext cx="2838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ess comm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775480" y="1141560"/>
            <a:ext cx="135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ev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906640" y="1455840"/>
            <a:ext cx="359892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Destroy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47840" y="528480"/>
            <a:ext cx="8250120" cy="66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RootStg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CreateStream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Data stream #1”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WRIT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| STGM_SHARE_EXCLUSIVE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DIREC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| STGM_FAILIFTHER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Stm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FAILED(GetScode(hr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handle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use pStm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tm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906640" y="1474920"/>
            <a:ext cx="359892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Destroy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47840" y="561960"/>
            <a:ext cx="8250120" cy="62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RootStg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OpenStream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Data stream #1”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WRIT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| STGM_SHARE_EXCLUSIVE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DIRECT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Stm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FAILED(GetScode(hr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handle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use pStm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tm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1.0 Storage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33480" y="1733400"/>
            <a:ext cx="7277040" cy="40575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2362320"/>
            <a:ext cx="2590920" cy="285768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2286000"/>
            <a:ext cx="2705040" cy="28764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43640" y="3733920"/>
            <a:ext cx="1828800" cy="8571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74880" y="169380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41600" y="2341440"/>
            <a:ext cx="717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280120" y="230364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641920" y="369396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3733920"/>
            <a:ext cx="2610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641600" y="3846600"/>
            <a:ext cx="717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re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43280" y="1474920"/>
            <a:ext cx="189072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et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re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55800" y="2008080"/>
            <a:ext cx="164772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AddR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opy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l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975200" y="2065320"/>
            <a:ext cx="3598920" cy="20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Query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ockRe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UnlockRe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03200" y="1122480"/>
            <a:ext cx="2838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ess comm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775480" y="1141560"/>
            <a:ext cx="135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ev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re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43280" y="1474920"/>
            <a:ext cx="189072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S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Set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65240" y="933480"/>
            <a:ext cx="8815320" cy="58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#define DATASIZE 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BYT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abData[DATASIZE]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ULONG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cbWritte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fill in abData (not show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Writ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abData, DATASIZE, &amp;cbWritten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cbWritten will always be accu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FAILED(GetScode(hr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handle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re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743280" y="1474920"/>
            <a:ext cx="189072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S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Set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531720" y="1143000"/>
            <a:ext cx="808200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#define DATASIZE 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BYT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abData[DATASIZE]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ULONG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cbWritte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Read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abData, DATASIZE, &amp;cbRea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cbRead will always be accu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FAILED(GetScode(hr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handle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re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743280" y="1474920"/>
            <a:ext cx="189072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S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Set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622440" y="228600"/>
            <a:ext cx="7899480" cy="70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pstm is a valid IStream in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seek to beginning of str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eek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0, STREAM_SEEK_SET, NULL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seek forw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eek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22, STREAM_SEEK_CUR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ulNewPosition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etSiz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9007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eek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-7, STREAM_SEEK_END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ulNewPosition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truncate the stream to 0 by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etSiz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0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dvanced Stream Op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17480" y="1736640"/>
            <a:ext cx="771048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IStream::Cl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 an IStream instance with a new seek pointer (same dat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IStream::Copy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ies data between streams (can be   same strea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together, these methods can create and remove space within a 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49400" y="1054080"/>
            <a:ext cx="88470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Stream *pstmClon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ULARGE_INTEGER ulicb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0xffffffff, 0xffffffff}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Clone(&amp;pstmClon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Clone-&gt;Seek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1000, STREAM_SEEK_CUR, NULL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CopyTo(pstmClone, ulicb, NULL,NULL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We’ve now created a 1000 byte g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tmClone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2.0 Storage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71760" y="112392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297180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10120" y="297180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34000" y="478152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5360" y="175248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4152960"/>
            <a:ext cx="2152800" cy="70488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48040" y="411480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586728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610000" y="1695600"/>
            <a:ext cx="838080" cy="323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914560" y="1943280"/>
            <a:ext cx="1219320" cy="1066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15080" y="1943280"/>
            <a:ext cx="876240" cy="1047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619280" y="3790800"/>
            <a:ext cx="476280" cy="343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181480" y="3772080"/>
            <a:ext cx="648000" cy="323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58040" y="3790800"/>
            <a:ext cx="1066680" cy="9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6095880" y="5543640"/>
            <a:ext cx="1047960" cy="323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314960" y="117936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12720" y="180828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174760" y="3103560"/>
            <a:ext cx="4888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26880" y="4189320"/>
            <a:ext cx="1695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1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870520" y="304632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984480" y="411336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413480" y="487512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089680" y="588492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5086440"/>
            <a:ext cx="2152800" cy="70488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641600" y="5122800"/>
            <a:ext cx="1695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2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90920" y="3809880"/>
            <a:ext cx="152280" cy="1276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8280" y="6094440"/>
            <a:ext cx="3664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ompound Fi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906640" y="1455840"/>
            <a:ext cx="359892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Destroy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65240" y="76320"/>
            <a:ext cx="8815320" cy="74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pRootStg is a valid ISto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RootStg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CreateStorag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An OLE 2.0 embedding”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WRITE  | STGM_SHARE_EXCLUSIVE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TRANSACTED | STGM_CREAT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EmbeddingStg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FAILED(GetScode(hr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handle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Give pEmbeddingStg to server via OLE 2.0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EmbeddingStg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server will also Rel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906640" y="1455840"/>
            <a:ext cx="359892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Destroy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65240" y="193680"/>
            <a:ext cx="8815320" cy="74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pRootStg is a valid ISto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RootStg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OpenStorag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An OLE 2.0 embedding”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WRIT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| STGM_SHARE_EXCLUSIVE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TRANSACTED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EmbeddingStg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FAILED(GetScode(hr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handle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Give pEmbeddingStg to server via OLE 2.0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EmbeddingStg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server will also Rel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906640" y="1455840"/>
            <a:ext cx="359892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Destroy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1720" y="669960"/>
            <a:ext cx="8082000" cy="62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pRootStg is a valid ISto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destroying a child storage causes 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of its child streams and substor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to also be destroy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RootStg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DestroyElemen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          “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An OLE 2.0 embedding”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use the same method to destroy stre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RootStg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DestroyElemen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          “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Just a data stream”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906640" y="1455840"/>
            <a:ext cx="359892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Destroy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ransaction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155600" y="1736640"/>
            <a:ext cx="683244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acted Storages buffe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l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hanges until client Comm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 on Direct objects is Flu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ffered changes can be discarded by calling 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. Transactions (Active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10200" y="120024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133800" y="182880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5248440" y="1771560"/>
            <a:ext cx="83808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953400" y="125568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51160" y="188424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10200" y="306720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33800" y="3695760"/>
            <a:ext cx="2133720" cy="72396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5248440" y="3638520"/>
            <a:ext cx="83808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953400" y="312264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251160" y="375120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10200" y="520056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133800" y="5829480"/>
            <a:ext cx="2133720" cy="72396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5248440" y="5772240"/>
            <a:ext cx="838080" cy="323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953400" y="525636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251160" y="588492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74600" y="1693800"/>
            <a:ext cx="1174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93680" y="3751200"/>
            <a:ext cx="160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if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74600" y="5865840"/>
            <a:ext cx="1784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00880" y="10476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95520" y="1486080"/>
            <a:ext cx="647640" cy="34272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457360" y="33336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95520" y="54864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29160" y="29718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524560" y="50292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. Transactions (File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09960" y="118116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33560" y="180972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048200" y="1752480"/>
            <a:ext cx="83808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753160" y="123660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050920" y="186516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09960" y="304812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33560" y="367668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048200" y="3619440"/>
            <a:ext cx="83808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753160" y="310356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050920" y="373212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09960" y="518148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933560" y="5810400"/>
            <a:ext cx="2133720" cy="72396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4048200" y="5753160"/>
            <a:ext cx="838080" cy="323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753160" y="523728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050920" y="586584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ainer Advanta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157400" y="1736640"/>
            <a:ext cx="6831000" cy="27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embeddings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 of old and new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ies Save/Canc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bust sa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user overwrite prot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2. Transactions (Active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991120" y="1028880"/>
            <a:ext cx="1523880" cy="72396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144792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477120" y="108432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660840" y="148428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12760" y="1465200"/>
            <a:ext cx="1174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55520" y="2855880"/>
            <a:ext cx="160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if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31840" y="4075200"/>
            <a:ext cx="16574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72280" y="952560"/>
            <a:ext cx="647640" cy="34272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876400" y="1123920"/>
            <a:ext cx="64800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5648400" y="1562040"/>
            <a:ext cx="39996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048360" y="2495520"/>
            <a:ext cx="1523880" cy="72396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62200" y="2914560"/>
            <a:ext cx="2133720" cy="72396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534000" y="255096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718080" y="295128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29160" y="24192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933640" y="2590920"/>
            <a:ext cx="647640" cy="34272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705640" y="3029040"/>
            <a:ext cx="39996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6520" y="4038480"/>
            <a:ext cx="1523880" cy="72396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00360" y="4457880"/>
            <a:ext cx="2133720" cy="72396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572160" y="409428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660840" y="449424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67320" y="3962520"/>
            <a:ext cx="647640" cy="34272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5743440" y="4572000"/>
            <a:ext cx="40032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24680" y="5524560"/>
            <a:ext cx="1523880" cy="72396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638520" y="594360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610320" y="558000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794040" y="597996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781600" y="6058080"/>
            <a:ext cx="39996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89080" y="5560920"/>
            <a:ext cx="16826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5300640" y="971640"/>
            <a:ext cx="1523880" cy="72396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2. Transactions (File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814480" y="139068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786280" y="102708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970360" y="142704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4957920" y="1504800"/>
            <a:ext cx="39996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357880" y="2438280"/>
            <a:ext cx="1523880" cy="72396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871720" y="285768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843520" y="249408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27240" y="289404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014800" y="2971800"/>
            <a:ext cx="40032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96040" y="3981600"/>
            <a:ext cx="1523880" cy="72396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09880" y="440064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881680" y="403704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065400" y="443700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052960" y="4514760"/>
            <a:ext cx="39996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33840" y="5467320"/>
            <a:ext cx="1523880" cy="72396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948040" y="588636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919840" y="552276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103560" y="592308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5091120" y="6000840"/>
            <a:ext cx="39996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114720" y="182880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3. Transactions (Active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0200" y="120024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5248440" y="1771560"/>
            <a:ext cx="83808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953400" y="125568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251160" y="188424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010200" y="306720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133800" y="3695760"/>
            <a:ext cx="2133720" cy="72396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248440" y="3638520"/>
            <a:ext cx="83808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953400" y="312264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251160" y="375120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10200" y="520056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133800" y="5829480"/>
            <a:ext cx="2133720" cy="7239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953400" y="525636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251160" y="588492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93680" y="3751200"/>
            <a:ext cx="160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if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31840" y="5408640"/>
            <a:ext cx="16826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e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600880" y="10476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429160" y="29718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24560" y="50292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250920" y="1846440"/>
            <a:ext cx="1174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57360" y="1447920"/>
            <a:ext cx="647640" cy="34272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457360" y="335268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57360" y="54864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3. Transactions (File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809960" y="118116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33560" y="180972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4048200" y="1752480"/>
            <a:ext cx="83808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753160" y="123660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2050920" y="186516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809960" y="304812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933560" y="367668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4048200" y="3619440"/>
            <a:ext cx="83808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753160" y="310356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2050920" y="373212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809960" y="518148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33560" y="581040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4048200" y="5753160"/>
            <a:ext cx="838080" cy="323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5753160" y="523728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2050920" y="586584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2906640" y="1455840"/>
            <a:ext cx="359892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Destroy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ave/Cance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210960" y="974880"/>
            <a:ext cx="8721720" cy="58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fSave == TRU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Make all changes to data streams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embeddings visible to container (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file system if this is the roo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tg-&gt;Commit(0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Discards all changes to data streams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embeddings.  Also invalidates all 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IStream and IStorage instan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tg-&gt;Revert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miss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093680" y="1736640"/>
            <a:ext cx="695628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dren of direct storages must be at least as restri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dren of transacted storages can have any permis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acted read-only storages are modifiable but not Commi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ethod returns permis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mplementation Restric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528920" y="1143000"/>
            <a:ext cx="6087960" cy="54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dren can only be opened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SHARE_EXCLUS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s can only be opened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DIR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able, direct root storages can only be opened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SHARE_EXCLUS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root open modes require copying the underlying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SHARE_DENY_N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SHARE_DENY_R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mit Paramet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990720" y="173664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s are bitwise or’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C_DEFAULT (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STGC_ONLYIFCUR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C_OVER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C_DANGEROUSLYCOMMIT-      MERELYTODISKCAC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41360" y="776160"/>
            <a:ext cx="8261280" cy="58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StgOpenStorage(“sample.dfl”, NULL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WRITE | STGM_SHARE_DENY_NONE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TRANSACTED, NULL, 0, &amp;pRootStg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Make changes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RootStg-&gt;Commit(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TGC_ONLYIFCURREN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GetScode(hr) == STG_E_NOTCURR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someone else saved after we ope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we can now prompt the u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(if we care t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RootStg-&gt;Commit(0);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overwr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mbedding Advanta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0720" y="1736640"/>
            <a:ext cx="7162920" cy="27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data streams per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copy on open/upd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access to data during act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, Write, Set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ontext switching in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952560" y="228600"/>
            <a:ext cx="7238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ther IStorage Metho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349280" y="1736640"/>
            <a:ext cx="6445080" cy="26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opy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y contents to another I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ful for Copy, Sav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MoveElement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ve child to another I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90560" y="1736640"/>
            <a:ext cx="7564320" cy="27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EnumElements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enumerate child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name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etElement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create/modify ti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at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get name, mode,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 It A Compound Fil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784080" y="1736640"/>
            <a:ext cx="75754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IsStorage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ful for applications which support a variety of file form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IsStorageFileOnILockB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above, except takes an ILockBytes instance instead of a file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69960" y="272880"/>
            <a:ext cx="7804080" cy="70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tgIsStorageFil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“sample.dfl”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GetScode(hr) == S_O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It’s a Compound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else if (GetScode(sc) == S_FAL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It’s not a Compound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Unable to determine what it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(e.g. doesn’t exist, couldn’t op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iority And Exclus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990720" y="1736640"/>
            <a:ext cx="7162920" cy="30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STGM_PRIORITY to open a Compound File brief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Direct, Read-Only, Deny-N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ents others from modifying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equent reopen with exclusions prevents some copy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55600" y="444600"/>
            <a:ext cx="8632800" cy="66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Transacted, Read-Write, Deny-Write fai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StgOpenStorage(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TGM_PRIORITY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| STGM_DIRECT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     | STGM_SHARE_DENY_N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..., &amp;pStgPriority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Read in primary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StgOpenStorage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NULL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tgPriority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 | STGM_TRANSACTED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SHARE_DENY_NON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psnbExclud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,  //  children to exclu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stgRoot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emporary 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893880" y="1736640"/>
            <a:ext cx="7356600" cy="35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DELETEON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etes underlying file after root storage is completely Release’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ble when creating or opening 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ault pathname for Compound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 NULL for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ced in temporary file lo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41360" y="641520"/>
            <a:ext cx="8261280" cy="58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Storage *pRootSt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StgCreateDocfile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NULL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WRITE | STGM_SHARE_EXCLUSIVE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DIREC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| 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TGM_DELETEONRELEAS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RootStg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Use pRootStg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Underlying file will be dele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RootStg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ing Read-Onl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990720" y="1736640"/>
            <a:ext cx="716292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, Read-Only, Deny-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ents other writers from ope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underlying file 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acted, Read-Only, Deny-N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other writers to op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derlying file is cop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h schemes allow other rea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96720" y="584280"/>
            <a:ext cx="8350200" cy="62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Storage *pRootSt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CODE sc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c = StgOpenStorage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ample.dfl”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NULL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   | STGM_SHARE_DENY_WRITE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DIRECT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NULL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RootStg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Use pRootStg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RootStg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 And IStre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90720" y="1809720"/>
            <a:ext cx="7162920" cy="34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 streams and substor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 transacted chang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19880" y="160020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362720" y="167472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72160" y="440064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689880" y="445608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aveA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990720" y="1736640"/>
            <a:ext cx="716292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new Compound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IStorage::Copy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IRootStorage::SwitchT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 if transa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tentially sl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65240" y="541440"/>
            <a:ext cx="8815320" cy="58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Storage *pst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RootStorage *prootst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g-&gt;QueryInterface(IID_IRootStorag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rootstg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rootstg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witchToFil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pszSaveAsFile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rootstg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pstg now refers to pszSaveAsFile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tg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Commi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STGC_DEFAULT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tg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LockByt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73280" y="1736640"/>
            <a:ext cx="7597800" cy="36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apsulation of a resizable byte arr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Compound Files to be placed anywhere such a byte array can ex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ek poi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used for serializing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al - if not available, OLE 2.0 assumes implementor controls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773440" y="833400"/>
            <a:ext cx="3598920" cy="49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Query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AddR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ad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Writ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Flu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et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ockRe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UnlockRe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990720" y="1736640"/>
            <a:ext cx="7162920" cy="37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liminary file format specification included in your mate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 implementation source code available after conf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Compound Files to be read and written on other plat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 on an ILockBytes instance (sample provid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ximizing Performa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197000" y="1736640"/>
            <a:ext cx="675000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king backwards is exp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IStorage::Enum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nded for debugging on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a very expensive op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e names of children in your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 supports large numbers of children efficient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485640" y="126684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2.0 Storage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990720" y="1343160"/>
            <a:ext cx="716292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s provi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 for embedd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/Revert - aids Save/Canc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copying to open embed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copying to update embed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access to data stre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reloading necess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bust saves and overwrite prot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OLE Provid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214280" y="1736640"/>
            <a:ext cx="67150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 on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provides pathnam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 on ILockB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provides ILockBytes in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, database binary recor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ockBytes on global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9960" y="2590920"/>
            <a:ext cx="3600360" cy="16002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41320" y="2970360"/>
            <a:ext cx="2762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Stor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10120" y="2629080"/>
            <a:ext cx="3600360" cy="16002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451480" y="3008160"/>
            <a:ext cx="2762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Stor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7800" y="1465200"/>
            <a:ext cx="3689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, IStre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956120" y="1522440"/>
            <a:ext cx="3689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, IStre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71880" y="2095560"/>
            <a:ext cx="0" cy="514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62600" y="2095560"/>
            <a:ext cx="0" cy="552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622840" y="4836960"/>
            <a:ext cx="241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ockBy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00760" y="4229280"/>
            <a:ext cx="0" cy="62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51120" y="4799160"/>
            <a:ext cx="793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90600" y="4172040"/>
            <a:ext cx="0" cy="62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38920" y="5353200"/>
            <a:ext cx="0" cy="247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10120" y="5619600"/>
            <a:ext cx="3657600" cy="74304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651720" y="5656320"/>
            <a:ext cx="412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OLE Requi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562040" y="1736640"/>
            <a:ext cx="6019920" cy="36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e OLE 2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Initialize (or OleInitializ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file-based compound fi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hare.exe in autoexec.ba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l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per compound file, plus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