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841EC8-40D0-4F53-ADAB-BC831D031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 that the Mac has had more than one file system -- first, the Macintosh File System (MFS), then the Hierarchical File System (HFS).  NTFS is a similar evolution from FAT, but going much far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al bullet seems to run off of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beyond the peer-to-peer capabilities of W4W or Mac System 7.0; it’s like having AppleShare built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Lanman be two words, e.g., LAN Manager?  These guys will, many of them, never heard of it before, so we ought not abbrevi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64160" y="12600"/>
            <a:ext cx="3559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g Henrich93101 (2nd talk) Xhibition ‘93 6/93 </a:t>
            </a:r>
            <a:fld id="{7A238684-E7EF-4873-B10D-76448B1DF4E2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14560" y="861840"/>
            <a:ext cx="6915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tforms For Win32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plications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ug Henrich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68120" y="228600"/>
            <a:ext cx="880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124080" y="1371600"/>
            <a:ext cx="3429000" cy="12574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09960" y="2743200"/>
            <a:ext cx="365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55600" y="237348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2857680"/>
            <a:ext cx="3429000" cy="160020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52720" y="376380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6040" y="3138480"/>
            <a:ext cx="16066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3640" y="5051520"/>
            <a:ext cx="79567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10200" y="5334120"/>
            <a:ext cx="17146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52720" y="4191120"/>
            <a:ext cx="81900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73200" y="11620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47640" y="228600"/>
            <a:ext cx="7848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9640" y="194328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282680"/>
            <a:ext cx="73152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s compatibility in multitasking Windows NT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37160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4520" y="933480"/>
            <a:ext cx="6114960" cy="57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1.0  shipped with March Windows NT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 (API and compiler supp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1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59040" y="1581120"/>
            <a:ext cx="542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a version of OLE 2.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57320" y="1523880"/>
            <a:ext cx="70293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nd sca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uniprocessor, x86 multiprocessor, MIPS R4000, DEC Alpha, Intergra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tifiable at DOD C2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16, Win32, MS-DOS, POSIX, OS/2 16-bit character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86080" y="1314360"/>
            <a:ext cx="6172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ddress spaces, 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transport and third-party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, remote configuration, workgroup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16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2906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upported by all platforms, now and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last major enha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7356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(Windows for Workgrou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697360" y="4348080"/>
            <a:ext cx="2054160" cy="10620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940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Windows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9400" y="3257640"/>
            <a:ext cx="6645240" cy="914400"/>
          </a:xfrm>
          <a:prstGeom prst="rect">
            <a:avLst/>
          </a:prstGeom>
          <a:gradFill rotWithShape="0">
            <a:gsLst>
              <a:gs pos="0">
                <a:srgbClr val="12bdad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16-bit (Win16) applicati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27000" y="6113520"/>
            <a:ext cx="1247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81160" y="1486080"/>
            <a:ext cx="6781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gain capacit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process 32-bit flat address space (2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on 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message queues for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73160" y="1246320"/>
            <a:ext cx="699768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-recoverable (no long FS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-bit addressing - removes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name support (8.3 auto-gene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-toler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t fix support for bad disk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ing, duplexing, spanning, striping, RAID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01640" y="228600"/>
            <a:ext cx="7740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onfigu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720" y="148608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registration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 textual setup files (*.ini and config.s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-compatible with Windows 3.1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dataspace per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/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APIs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23920" y="228600"/>
            <a:ext cx="6896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3.1 Integrated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2280" y="2185920"/>
            <a:ext cx="8299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rver and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the base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 compatible with LAN Manager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third-party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, Banyan, NFS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 - TCP/IP, NetBEUI, D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228600"/>
            <a:ext cx="7010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national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0400" y="1941480"/>
            <a:ext cx="79628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Win32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L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 conversion, sorting, date/time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5 international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ed versions of 1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nch, German, Spanish, Italian, Swedish, Du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argeted at Japanese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months after Windows NT 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4840" y="1257480"/>
            <a:ext cx="81946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written for Win32s are real 32-bit apps. that are binary-compatible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32s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ront-end tools to construct graphical user interface on top of non-GUI UNIX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46440" y="3848040"/>
            <a:ext cx="4572000" cy="1905120"/>
          </a:xfrm>
          <a:prstGeom prst="rect">
            <a:avLst/>
          </a:prstGeom>
          <a:gradFill rotWithShape="0">
            <a:gsLst>
              <a:gs pos="0">
                <a:srgbClr val="a2005e"/>
              </a:gs>
              <a:gs pos="100000">
                <a:srgbClr val="b5006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32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46440" y="4743360"/>
            <a:ext cx="3651120" cy="10098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28640" y="1177920"/>
            <a:ext cx="588816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for new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installed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provide compatibility across Window family platforms (binary compatibility when on x8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1520" y="4956120"/>
            <a:ext cx="14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16000" y="52005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1120" y="39243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6000" y="41529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08080" y="1542960"/>
            <a:ext cx="6927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existing 16-bit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dows 3.1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47800" y="1085760"/>
            <a:ext cx="744840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25 million copies shi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1 million copies shipping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programming model (win32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(Vx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6 MB virtual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, multiple protocol support (NFS, NetWare, Banyan, SNA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built-in gam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87400" y="1095480"/>
            <a:ext cx="73692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ed base to sell 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binaries run Windows 3.1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lications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57160" y="13716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04920" y="1619280"/>
            <a:ext cx="67341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 (Shared Libra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09640" y="160020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cutable file form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real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