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726160" y="17640"/>
            <a:ext cx="3465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ve Beaver93101 Xhibition ‘93 (2nd talk) 6/93 </a:t>
            </a:r>
            <a:fld id="{B9DEAC26-F4FF-4131-B8D0-4A410986D50B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511200" y="1407960"/>
            <a:ext cx="8121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Windows NT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SMP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ve Beav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,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Relations Group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162160" y="209520"/>
            <a:ext cx="4819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Hardware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57360" y="1733400"/>
            <a:ext cx="782964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metric multiprocessor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have identical instruction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have identical view of physical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have identical access to devic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must keep caches coh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247840" y="209520"/>
            <a:ext cx="4648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Hard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695600" y="1733400"/>
            <a:ext cx="575316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-back secondary ca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 internal b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 path to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tter/gather D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2209680" y="209520"/>
            <a:ext cx="4724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Hard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143000" y="1581120"/>
            <a:ext cx="68580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8259 is not designed to be a multiprocessor interrupt contro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ontroller should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able interrupt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ed interru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cast interru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interrupt rou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interru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Multiprocess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394080" y="1371600"/>
            <a:ext cx="4335480" cy="2057400"/>
            <a:chOff x="3394080" y="1371600"/>
            <a:chExt cx="4335480" cy="2057400"/>
          </a:xfrm>
        </p:grpSpPr>
        <p:sp>
          <p:nvSpPr>
            <p:cNvPr id="175" name=""/>
            <p:cNvSpPr/>
            <p:nvPr/>
          </p:nvSpPr>
          <p:spPr>
            <a:xfrm>
              <a:off x="4495680" y="2819520"/>
              <a:ext cx="2362320" cy="609480"/>
            </a:xfrm>
            <a:prstGeom prst="rect">
              <a:avLst/>
            </a:prstGeom>
            <a:gradFill rotWithShape="0">
              <a:gsLst>
                <a:gs pos="0">
                  <a:srgbClr val="b760f9"/>
                </a:gs>
                <a:gs pos="50000">
                  <a:srgbClr val="5b307c"/>
                </a:gs>
                <a:gs pos="100000">
                  <a:srgbClr val="b760f9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4479840" y="2925720"/>
              <a:ext cx="23493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terrupt controll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05320" y="137160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3489480" y="14320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33920" y="2286000"/>
              <a:ext cx="686160" cy="914760"/>
            </a:xfrm>
            <a:custGeom>
              <a:avLst/>
              <a:gdLst/>
              <a:ahLst/>
              <a:rect l="0" t="0" r="r" b="b"/>
              <a:pathLst>
                <a:path fill="none" w="1906" h="2541">
                  <a:moveTo>
                    <a:pt x="0" y="0"/>
                  </a:moveTo>
                  <a:lnTo>
                    <a:pt x="0" y="0"/>
                  </a:lnTo>
                  <a:cubicBezTo>
                    <a:pt x="0" y="446"/>
                    <a:pt x="88" y="884"/>
                    <a:pt x="255" y="1271"/>
                  </a:cubicBezTo>
                  <a:cubicBezTo>
                    <a:pt x="423" y="1657"/>
                    <a:pt x="663" y="1978"/>
                    <a:pt x="953" y="2201"/>
                  </a:cubicBezTo>
                  <a:cubicBezTo>
                    <a:pt x="1243" y="2424"/>
                    <a:pt x="1571" y="2541"/>
                    <a:pt x="1906" y="2541"/>
                  </a:cubicBezTo>
                </a:path>
              </a:pathLst>
            </a:custGeom>
            <a:ln w="38160">
              <a:solidFill>
                <a:srgbClr val="ffffff"/>
              </a:solidFill>
              <a:round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57600" y="25146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3622680" y="247824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29000" y="25146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3394080" y="247824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14800" y="25146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4079880" y="247824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86200" y="25146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3851280" y="247824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48320" y="137160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4632480" y="14320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91320" y="137160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5775480" y="14320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934320" y="137160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6918480" y="14320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05520" y="2209680"/>
              <a:ext cx="380880" cy="60984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5791320" y="2209680"/>
              <a:ext cx="380880" cy="60984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394080" y="4191120"/>
            <a:ext cx="4335480" cy="2057040"/>
            <a:chOff x="3394080" y="4191120"/>
            <a:chExt cx="4335480" cy="2057040"/>
          </a:xfrm>
        </p:grpSpPr>
        <p:sp>
          <p:nvSpPr>
            <p:cNvPr id="197" name=""/>
            <p:cNvSpPr/>
            <p:nvPr/>
          </p:nvSpPr>
          <p:spPr>
            <a:xfrm>
              <a:off x="4495680" y="5638680"/>
              <a:ext cx="2362320" cy="609480"/>
            </a:xfrm>
            <a:prstGeom prst="rect">
              <a:avLst/>
            </a:prstGeom>
            <a:gradFill rotWithShape="0">
              <a:gsLst>
                <a:gs pos="0">
                  <a:srgbClr val="b760f9"/>
                </a:gs>
                <a:gs pos="50000">
                  <a:srgbClr val="5b307c"/>
                </a:gs>
                <a:gs pos="100000">
                  <a:srgbClr val="b760f9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4479840" y="5745240"/>
              <a:ext cx="23493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terrupt controll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05320" y="419112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3489480" y="4251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33920" y="5105520"/>
              <a:ext cx="686160" cy="914760"/>
            </a:xfrm>
            <a:custGeom>
              <a:avLst/>
              <a:gdLst/>
              <a:ahLst/>
              <a:rect l="0" t="0" r="r" b="b"/>
              <a:pathLst>
                <a:path fill="none" w="1906" h="2541">
                  <a:moveTo>
                    <a:pt x="0" y="0"/>
                  </a:moveTo>
                  <a:lnTo>
                    <a:pt x="0" y="0"/>
                  </a:lnTo>
                  <a:cubicBezTo>
                    <a:pt x="0" y="446"/>
                    <a:pt x="88" y="884"/>
                    <a:pt x="255" y="1271"/>
                  </a:cubicBezTo>
                  <a:cubicBezTo>
                    <a:pt x="423" y="1657"/>
                    <a:pt x="663" y="1978"/>
                    <a:pt x="953" y="2201"/>
                  </a:cubicBezTo>
                  <a:cubicBezTo>
                    <a:pt x="1243" y="2424"/>
                    <a:pt x="1571" y="2541"/>
                    <a:pt x="1906" y="2541"/>
                  </a:cubicBezTo>
                </a:path>
              </a:pathLst>
            </a:custGeom>
            <a:ln w="38160">
              <a:solidFill>
                <a:srgbClr val="ffffff"/>
              </a:solidFill>
              <a:round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648320" y="419112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4632480" y="4251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791320" y="419112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>
              <a:off x="5775480" y="4251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934320" y="419112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 txBox="1"/>
            <p:nvPr/>
          </p:nvSpPr>
          <p:spPr>
            <a:xfrm>
              <a:off x="6918480" y="4251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91120" y="5029200"/>
              <a:ext cx="990360" cy="60948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57600" y="53341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29000" y="53341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3394080" y="529740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14800" y="53341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86200" y="53341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4079880" y="529740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3622680" y="529740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3851280" y="529740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"/>
          <p:cNvSpPr txBox="1"/>
          <p:nvPr/>
        </p:nvSpPr>
        <p:spPr>
          <a:xfrm>
            <a:off x="517680" y="1638360"/>
            <a:ext cx="2816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-direct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s.  Used for IP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93640" y="4621320"/>
            <a:ext cx="26607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also be used f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-levels (DPC, AP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Multiprocess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832200" y="5373720"/>
            <a:ext cx="1605240" cy="1144800"/>
            <a:chOff x="3832200" y="5373720"/>
            <a:chExt cx="1605240" cy="1144800"/>
          </a:xfrm>
        </p:grpSpPr>
        <p:sp>
          <p:nvSpPr>
            <p:cNvPr id="221" name=""/>
            <p:cNvSpPr/>
            <p:nvPr/>
          </p:nvSpPr>
          <p:spPr>
            <a:xfrm>
              <a:off x="5207040" y="5681520"/>
              <a:ext cx="230400" cy="152640"/>
            </a:xfrm>
            <a:custGeom>
              <a:avLst/>
              <a:gdLst/>
              <a:ahLst/>
              <a:rect l="0" t="0" r="r" b="b"/>
              <a:pathLst>
                <a:path w="640" h="424">
                  <a:moveTo>
                    <a:pt x="0" y="0"/>
                  </a:moveTo>
                  <a:lnTo>
                    <a:pt x="640" y="0"/>
                  </a:lnTo>
                  <a:lnTo>
                    <a:pt x="640" y="424"/>
                  </a:lnTo>
                  <a:lnTo>
                    <a:pt x="0" y="4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32200" y="5681520"/>
              <a:ext cx="236880" cy="151200"/>
            </a:xfrm>
            <a:custGeom>
              <a:avLst/>
              <a:gdLst/>
              <a:ahLst/>
              <a:rect l="0" t="0" r="r" b="b"/>
              <a:pathLst>
                <a:path w="658" h="420">
                  <a:moveTo>
                    <a:pt x="0" y="0"/>
                  </a:moveTo>
                  <a:lnTo>
                    <a:pt x="644" y="0"/>
                  </a:lnTo>
                  <a:lnTo>
                    <a:pt x="658" y="420"/>
                  </a:lnTo>
                  <a:lnTo>
                    <a:pt x="0" y="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36880" y="5373720"/>
              <a:ext cx="1597320" cy="992520"/>
            </a:xfrm>
            <a:custGeom>
              <a:avLst/>
              <a:gdLst/>
              <a:ahLst/>
              <a:rect l="0" t="0" r="r" b="b"/>
              <a:pathLst>
                <a:path w="4437" h="2757">
                  <a:moveTo>
                    <a:pt x="2191" y="0"/>
                  </a:moveTo>
                  <a:lnTo>
                    <a:pt x="0" y="855"/>
                  </a:lnTo>
                  <a:lnTo>
                    <a:pt x="635" y="855"/>
                  </a:lnTo>
                  <a:lnTo>
                    <a:pt x="211" y="2757"/>
                  </a:lnTo>
                  <a:lnTo>
                    <a:pt x="4225" y="2757"/>
                  </a:lnTo>
                  <a:lnTo>
                    <a:pt x="3806" y="855"/>
                  </a:lnTo>
                  <a:lnTo>
                    <a:pt x="4437" y="855"/>
                  </a:lnTo>
                  <a:lnTo>
                    <a:pt x="2191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13200" y="6365880"/>
              <a:ext cx="1445040" cy="152640"/>
            </a:xfrm>
            <a:custGeom>
              <a:avLst/>
              <a:gdLst/>
              <a:ahLst/>
              <a:rect l="0" t="0" r="r" b="b"/>
              <a:pathLst>
                <a:path w="4014" h="424">
                  <a:moveTo>
                    <a:pt x="0" y="0"/>
                  </a:moveTo>
                  <a:lnTo>
                    <a:pt x="4014" y="0"/>
                  </a:lnTo>
                  <a:lnTo>
                    <a:pt x="4014" y="424"/>
                  </a:lnTo>
                  <a:lnTo>
                    <a:pt x="0" y="4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 txBox="1"/>
          <p:nvPr/>
        </p:nvSpPr>
        <p:spPr>
          <a:xfrm>
            <a:off x="4572000" y="3535200"/>
            <a:ext cx="42260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can route interrupts to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 with the lower IR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93640" y="1127160"/>
            <a:ext cx="3672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interrupt ro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746280" y="1905120"/>
            <a:ext cx="1315800" cy="1219320"/>
            <a:chOff x="746280" y="1905120"/>
            <a:chExt cx="1315800" cy="1219320"/>
          </a:xfrm>
        </p:grpSpPr>
        <p:sp>
          <p:nvSpPr>
            <p:cNvPr id="228" name=""/>
            <p:cNvSpPr/>
            <p:nvPr/>
          </p:nvSpPr>
          <p:spPr>
            <a:xfrm>
              <a:off x="762120" y="190512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746280" y="1965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23880" y="2057400"/>
              <a:ext cx="457200" cy="914400"/>
            </a:xfrm>
            <a:prstGeom prst="rect">
              <a:avLst/>
            </a:prstGeom>
            <a:gradFill rotWithShape="0">
              <a:gsLst>
                <a:gs pos="0">
                  <a:srgbClr val="ffc66d"/>
                </a:gs>
                <a:gs pos="100000">
                  <a:srgbClr val="33271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1479600" y="2744640"/>
              <a:ext cx="582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RQ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"/>
          <p:cNvSpPr txBox="1"/>
          <p:nvPr/>
        </p:nvSpPr>
        <p:spPr>
          <a:xfrm>
            <a:off x="4098960" y="5614920"/>
            <a:ext cx="1085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05320" y="3200400"/>
            <a:ext cx="628560" cy="1390680"/>
          </a:xfrm>
          <a:prstGeom prst="line">
            <a:avLst/>
          </a:prstGeom>
          <a:ln w="7632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4495680"/>
            <a:ext cx="2438280" cy="76212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50000">
                <a:srgbClr val="5b307c"/>
              </a:gs>
              <a:gs pos="100000">
                <a:srgbClr val="b760f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413160" y="4678200"/>
            <a:ext cx="23493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 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727360" y="1905120"/>
            <a:ext cx="1311120" cy="1219320"/>
            <a:chOff x="2727360" y="1905120"/>
            <a:chExt cx="1311120" cy="1219320"/>
          </a:xfrm>
        </p:grpSpPr>
        <p:sp>
          <p:nvSpPr>
            <p:cNvPr id="237" name=""/>
            <p:cNvSpPr/>
            <p:nvPr/>
          </p:nvSpPr>
          <p:spPr>
            <a:xfrm>
              <a:off x="2743200" y="190512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2727360" y="1965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505320" y="2571840"/>
              <a:ext cx="457200" cy="399960"/>
            </a:xfrm>
            <a:prstGeom prst="rect">
              <a:avLst/>
            </a:prstGeom>
            <a:gradFill rotWithShape="0">
              <a:gsLst>
                <a:gs pos="0">
                  <a:srgbClr val="ffc66d"/>
                </a:gs>
                <a:gs pos="100000">
                  <a:srgbClr val="33271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3451320" y="2744640"/>
              <a:ext cx="582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RQ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708440" y="1905120"/>
            <a:ext cx="1316160" cy="1219320"/>
            <a:chOff x="4708440" y="1905120"/>
            <a:chExt cx="1316160" cy="1219320"/>
          </a:xfrm>
        </p:grpSpPr>
        <p:sp>
          <p:nvSpPr>
            <p:cNvPr id="242" name=""/>
            <p:cNvSpPr/>
            <p:nvPr/>
          </p:nvSpPr>
          <p:spPr>
            <a:xfrm>
              <a:off x="4724280" y="190512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4708440" y="1965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86400" y="2305080"/>
              <a:ext cx="457200" cy="666720"/>
            </a:xfrm>
            <a:prstGeom prst="rect">
              <a:avLst/>
            </a:prstGeom>
            <a:gradFill rotWithShape="0">
              <a:gsLst>
                <a:gs pos="0">
                  <a:srgbClr val="ffc66d"/>
                </a:gs>
                <a:gs pos="100000">
                  <a:srgbClr val="33271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 txBox="1"/>
            <p:nvPr/>
          </p:nvSpPr>
          <p:spPr>
            <a:xfrm>
              <a:off x="5442120" y="2744640"/>
              <a:ext cx="582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RQ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6613560" y="1905120"/>
            <a:ext cx="1315800" cy="1219320"/>
            <a:chOff x="6613560" y="1905120"/>
            <a:chExt cx="1315800" cy="1219320"/>
          </a:xfrm>
        </p:grpSpPr>
        <p:sp>
          <p:nvSpPr>
            <p:cNvPr id="247" name=""/>
            <p:cNvSpPr/>
            <p:nvPr/>
          </p:nvSpPr>
          <p:spPr>
            <a:xfrm>
              <a:off x="6629400" y="190512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6613560" y="1965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91520" y="2057400"/>
              <a:ext cx="457200" cy="914400"/>
            </a:xfrm>
            <a:prstGeom prst="rect">
              <a:avLst/>
            </a:prstGeom>
            <a:gradFill rotWithShape="0">
              <a:gsLst>
                <a:gs pos="0">
                  <a:srgbClr val="ffc66d"/>
                </a:gs>
                <a:gs pos="100000">
                  <a:srgbClr val="33271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7346880" y="2744640"/>
              <a:ext cx="582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RQ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2286000" y="1247760"/>
            <a:ext cx="4572000" cy="27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mmetric Multiprocessing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2529000" y="20952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1314360"/>
            <a:ext cx="77724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serialization primitives are M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multiprocessor system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reads will run simultaneous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threaded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 way to improve performance in gen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threaded applications utilize multiple proces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ss-processor scheduling with affi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529000" y="20952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781200" y="1371600"/>
            <a:ext cx="758196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pitfall...use of unguarded cou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0440" y="2381400"/>
            <a:ext cx="8763120" cy="396252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44520" y="2441520"/>
            <a:ext cx="814212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Don’t assume that a one machine code instruction is atom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as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ord ptr [ReferenceCount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This is not portable code, and it doesn’t work on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multiprocessor mac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667560" y="3828960"/>
            <a:ext cx="1143000" cy="1066680"/>
          </a:xfrm>
          <a:prstGeom prst="ellipse">
            <a:avLst/>
          </a:prstGeom>
          <a:noFill/>
          <a:ln w="76320">
            <a:solidFill>
              <a:srgbClr val="fc0128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834240" y="3990960"/>
            <a:ext cx="804960" cy="73836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29560" y="3990960"/>
            <a:ext cx="804600" cy="73332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2529000" y="20952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209600" y="1638360"/>
            <a:ext cx="672480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portable interlocked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19040" y="2495520"/>
            <a:ext cx="8305920" cy="312408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31800" y="2743200"/>
            <a:ext cx="78660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Portable, Multiprocessor Safe,  way to atomical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increment a shared memory reference counter withou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any other serializ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nOfResult = InterlockedIncrement (&amp;ReferenceCount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86080" y="3500280"/>
            <a:ext cx="871920" cy="1357560"/>
          </a:xfrm>
          <a:custGeom>
            <a:avLst/>
            <a:gdLst/>
            <a:ahLst/>
            <a:rect l="0" t="0" r="r" b="b"/>
            <a:pathLst>
              <a:path fill="none" w="2422" h="3771">
                <a:moveTo>
                  <a:pt x="0" y="0"/>
                </a:moveTo>
                <a:lnTo>
                  <a:pt x="0" y="0"/>
                </a:lnTo>
                <a:cubicBezTo>
                  <a:pt x="0" y="662"/>
                  <a:pt x="112" y="1312"/>
                  <a:pt x="324" y="1886"/>
                </a:cubicBezTo>
                <a:cubicBezTo>
                  <a:pt x="537" y="2459"/>
                  <a:pt x="843" y="2935"/>
                  <a:pt x="1211" y="3266"/>
                </a:cubicBezTo>
                <a:cubicBezTo>
                  <a:pt x="1579" y="3597"/>
                  <a:pt x="1997" y="3771"/>
                  <a:pt x="2422" y="3771"/>
                </a:cubicBezTo>
              </a:path>
            </a:pathLst>
          </a:custGeom>
          <a:ln w="76320">
            <a:solidFill>
              <a:srgbClr val="51dc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600440" y="3471840"/>
            <a:ext cx="543240" cy="986040"/>
          </a:xfrm>
          <a:prstGeom prst="line">
            <a:avLst/>
          </a:prstGeom>
          <a:ln w="76320">
            <a:solidFill>
              <a:srgbClr val="51d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Thread Schedu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927000" y="2176560"/>
            <a:ext cx="1311120" cy="1219320"/>
            <a:chOff x="927000" y="2176560"/>
            <a:chExt cx="1311120" cy="1219320"/>
          </a:xfrm>
        </p:grpSpPr>
        <p:sp>
          <p:nvSpPr>
            <p:cNvPr id="269" name=""/>
            <p:cNvSpPr/>
            <p:nvPr/>
          </p:nvSpPr>
          <p:spPr>
            <a:xfrm>
              <a:off x="942840" y="217656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927000" y="22366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1628640" y="2328840"/>
              <a:ext cx="535320" cy="914760"/>
              <a:chOff x="1628640" y="2328840"/>
              <a:chExt cx="535320" cy="914760"/>
            </a:xfrm>
          </p:grpSpPr>
          <p:sp>
            <p:nvSpPr>
              <p:cNvPr id="272" name=""/>
              <p:cNvSpPr/>
              <p:nvPr/>
            </p:nvSpPr>
            <p:spPr>
              <a:xfrm>
                <a:off x="1838160" y="2328840"/>
                <a:ext cx="325800" cy="914760"/>
              </a:xfrm>
              <a:custGeom>
                <a:avLst/>
                <a:gdLst/>
                <a:ahLst/>
                <a:rect l="0" t="0" r="r" b="b"/>
                <a:pathLst>
                  <a:path w="905" h="2541">
                    <a:moveTo>
                      <a:pt x="448" y="0"/>
                    </a:moveTo>
                    <a:lnTo>
                      <a:pt x="29" y="0"/>
                    </a:lnTo>
                    <a:lnTo>
                      <a:pt x="91" y="28"/>
                    </a:lnTo>
                    <a:lnTo>
                      <a:pt x="145" y="72"/>
                    </a:lnTo>
                    <a:lnTo>
                      <a:pt x="193" y="131"/>
                    </a:lnTo>
                    <a:lnTo>
                      <a:pt x="239" y="197"/>
                    </a:lnTo>
                    <a:lnTo>
                      <a:pt x="284" y="292"/>
                    </a:lnTo>
                    <a:lnTo>
                      <a:pt x="322" y="395"/>
                    </a:lnTo>
                    <a:lnTo>
                      <a:pt x="355" y="510"/>
                    </a:lnTo>
                    <a:lnTo>
                      <a:pt x="386" y="655"/>
                    </a:lnTo>
                    <a:lnTo>
                      <a:pt x="406" y="777"/>
                    </a:lnTo>
                    <a:lnTo>
                      <a:pt x="423" y="905"/>
                    </a:lnTo>
                    <a:lnTo>
                      <a:pt x="432" y="1035"/>
                    </a:lnTo>
                    <a:lnTo>
                      <a:pt x="441" y="1194"/>
                    </a:lnTo>
                    <a:lnTo>
                      <a:pt x="441" y="1401"/>
                    </a:lnTo>
                    <a:lnTo>
                      <a:pt x="425" y="1576"/>
                    </a:lnTo>
                    <a:lnTo>
                      <a:pt x="409" y="1729"/>
                    </a:lnTo>
                    <a:lnTo>
                      <a:pt x="383" y="1895"/>
                    </a:lnTo>
                    <a:lnTo>
                      <a:pt x="355" y="2027"/>
                    </a:lnTo>
                    <a:lnTo>
                      <a:pt x="325" y="2130"/>
                    </a:lnTo>
                    <a:lnTo>
                      <a:pt x="290" y="2219"/>
                    </a:lnTo>
                    <a:lnTo>
                      <a:pt x="265" y="2282"/>
                    </a:lnTo>
                    <a:lnTo>
                      <a:pt x="239" y="2338"/>
                    </a:lnTo>
                    <a:lnTo>
                      <a:pt x="199" y="2391"/>
                    </a:lnTo>
                    <a:lnTo>
                      <a:pt x="171" y="2436"/>
                    </a:lnTo>
                    <a:lnTo>
                      <a:pt x="132" y="2478"/>
                    </a:lnTo>
                    <a:lnTo>
                      <a:pt x="111" y="2497"/>
                    </a:lnTo>
                    <a:lnTo>
                      <a:pt x="84" y="2516"/>
                    </a:lnTo>
                    <a:lnTo>
                      <a:pt x="50" y="2530"/>
                    </a:lnTo>
                    <a:lnTo>
                      <a:pt x="0" y="2541"/>
                    </a:lnTo>
                    <a:lnTo>
                      <a:pt x="480" y="2541"/>
                    </a:lnTo>
                    <a:lnTo>
                      <a:pt x="527" y="2531"/>
                    </a:lnTo>
                    <a:lnTo>
                      <a:pt x="573" y="2502"/>
                    </a:lnTo>
                    <a:lnTo>
                      <a:pt x="611" y="2472"/>
                    </a:lnTo>
                    <a:lnTo>
                      <a:pt x="640" y="2436"/>
                    </a:lnTo>
                    <a:lnTo>
                      <a:pt x="666" y="2402"/>
                    </a:lnTo>
                    <a:lnTo>
                      <a:pt x="692" y="2361"/>
                    </a:lnTo>
                    <a:lnTo>
                      <a:pt x="717" y="2316"/>
                    </a:lnTo>
                    <a:lnTo>
                      <a:pt x="746" y="2254"/>
                    </a:lnTo>
                    <a:lnTo>
                      <a:pt x="772" y="2190"/>
                    </a:lnTo>
                    <a:lnTo>
                      <a:pt x="798" y="2116"/>
                    </a:lnTo>
                    <a:lnTo>
                      <a:pt x="821" y="2034"/>
                    </a:lnTo>
                    <a:lnTo>
                      <a:pt x="844" y="1938"/>
                    </a:lnTo>
                    <a:lnTo>
                      <a:pt x="865" y="1823"/>
                    </a:lnTo>
                    <a:lnTo>
                      <a:pt x="882" y="1692"/>
                    </a:lnTo>
                    <a:lnTo>
                      <a:pt x="898" y="1531"/>
                    </a:lnTo>
                    <a:lnTo>
                      <a:pt x="905" y="1379"/>
                    </a:lnTo>
                    <a:lnTo>
                      <a:pt x="905" y="1181"/>
                    </a:lnTo>
                    <a:lnTo>
                      <a:pt x="898" y="1020"/>
                    </a:lnTo>
                    <a:lnTo>
                      <a:pt x="890" y="921"/>
                    </a:lnTo>
                    <a:lnTo>
                      <a:pt x="879" y="830"/>
                    </a:lnTo>
                    <a:lnTo>
                      <a:pt x="869" y="749"/>
                    </a:lnTo>
                    <a:lnTo>
                      <a:pt x="856" y="684"/>
                    </a:lnTo>
                    <a:lnTo>
                      <a:pt x="843" y="603"/>
                    </a:lnTo>
                    <a:lnTo>
                      <a:pt x="821" y="510"/>
                    </a:lnTo>
                    <a:lnTo>
                      <a:pt x="802" y="442"/>
                    </a:lnTo>
                    <a:lnTo>
                      <a:pt x="779" y="370"/>
                    </a:lnTo>
                    <a:lnTo>
                      <a:pt x="765" y="333"/>
                    </a:lnTo>
                    <a:lnTo>
                      <a:pt x="747" y="287"/>
                    </a:lnTo>
                    <a:lnTo>
                      <a:pt x="728" y="243"/>
                    </a:lnTo>
                    <a:lnTo>
                      <a:pt x="701" y="190"/>
                    </a:lnTo>
                    <a:lnTo>
                      <a:pt x="680" y="157"/>
                    </a:lnTo>
                    <a:lnTo>
                      <a:pt x="662" y="131"/>
                    </a:lnTo>
                    <a:lnTo>
                      <a:pt x="641" y="102"/>
                    </a:lnTo>
                    <a:lnTo>
                      <a:pt x="617" y="73"/>
                    </a:lnTo>
                    <a:lnTo>
                      <a:pt x="595" y="52"/>
                    </a:lnTo>
                    <a:lnTo>
                      <a:pt x="564" y="28"/>
                    </a:lnTo>
                    <a:lnTo>
                      <a:pt x="532" y="12"/>
                    </a:lnTo>
                    <a:lnTo>
                      <a:pt x="506" y="4"/>
                    </a:lnTo>
                    <a:lnTo>
                      <a:pt x="479" y="0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8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1628640" y="2328840"/>
                <a:ext cx="379800" cy="914760"/>
                <a:chOff x="1628640" y="2328840"/>
                <a:chExt cx="379800" cy="9147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1628640" y="2328840"/>
                  <a:ext cx="371880" cy="473400"/>
                </a:xfrm>
                <a:custGeom>
                  <a:avLst/>
                  <a:gdLst/>
                  <a:ahLst/>
                  <a:rect l="0" t="0" r="r" b="b"/>
                  <a:pathLst>
                    <a:path w="1033" h="1315">
                      <a:moveTo>
                        <a:pt x="606" y="0"/>
                      </a:moveTo>
                      <a:lnTo>
                        <a:pt x="580" y="0"/>
                      </a:lnTo>
                      <a:lnTo>
                        <a:pt x="539" y="5"/>
                      </a:lnTo>
                      <a:lnTo>
                        <a:pt x="492" y="21"/>
                      </a:lnTo>
                      <a:lnTo>
                        <a:pt x="458" y="49"/>
                      </a:lnTo>
                      <a:lnTo>
                        <a:pt x="423" y="82"/>
                      </a:lnTo>
                      <a:lnTo>
                        <a:pt x="394" y="117"/>
                      </a:lnTo>
                      <a:lnTo>
                        <a:pt x="371" y="155"/>
                      </a:lnTo>
                      <a:lnTo>
                        <a:pt x="339" y="209"/>
                      </a:lnTo>
                      <a:lnTo>
                        <a:pt x="310" y="261"/>
                      </a:lnTo>
                      <a:lnTo>
                        <a:pt x="286" y="321"/>
                      </a:lnTo>
                      <a:lnTo>
                        <a:pt x="260" y="395"/>
                      </a:lnTo>
                      <a:lnTo>
                        <a:pt x="233" y="477"/>
                      </a:lnTo>
                      <a:lnTo>
                        <a:pt x="222" y="533"/>
                      </a:lnTo>
                      <a:lnTo>
                        <a:pt x="204" y="596"/>
                      </a:lnTo>
                      <a:lnTo>
                        <a:pt x="194" y="654"/>
                      </a:lnTo>
                      <a:lnTo>
                        <a:pt x="185" y="710"/>
                      </a:lnTo>
                      <a:lnTo>
                        <a:pt x="179" y="751"/>
                      </a:lnTo>
                      <a:lnTo>
                        <a:pt x="174" y="792"/>
                      </a:lnTo>
                      <a:lnTo>
                        <a:pt x="165" y="855"/>
                      </a:lnTo>
                      <a:lnTo>
                        <a:pt x="159" y="924"/>
                      </a:lnTo>
                      <a:lnTo>
                        <a:pt x="150" y="1006"/>
                      </a:lnTo>
                      <a:lnTo>
                        <a:pt x="0" y="1006"/>
                      </a:lnTo>
                      <a:lnTo>
                        <a:pt x="371" y="1315"/>
                      </a:lnTo>
                      <a:lnTo>
                        <a:pt x="790" y="1006"/>
                      </a:lnTo>
                      <a:lnTo>
                        <a:pt x="620" y="1006"/>
                      </a:lnTo>
                      <a:lnTo>
                        <a:pt x="626" y="951"/>
                      </a:lnTo>
                      <a:lnTo>
                        <a:pt x="633" y="888"/>
                      </a:lnTo>
                      <a:lnTo>
                        <a:pt x="642" y="820"/>
                      </a:lnTo>
                      <a:lnTo>
                        <a:pt x="651" y="751"/>
                      </a:lnTo>
                      <a:lnTo>
                        <a:pt x="662" y="691"/>
                      </a:lnTo>
                      <a:lnTo>
                        <a:pt x="671" y="635"/>
                      </a:lnTo>
                      <a:lnTo>
                        <a:pt x="691" y="544"/>
                      </a:lnTo>
                      <a:lnTo>
                        <a:pt x="712" y="463"/>
                      </a:lnTo>
                      <a:lnTo>
                        <a:pt x="728" y="406"/>
                      </a:lnTo>
                      <a:lnTo>
                        <a:pt x="742" y="359"/>
                      </a:lnTo>
                      <a:lnTo>
                        <a:pt x="760" y="313"/>
                      </a:lnTo>
                      <a:lnTo>
                        <a:pt x="774" y="277"/>
                      </a:lnTo>
                      <a:lnTo>
                        <a:pt x="792" y="239"/>
                      </a:lnTo>
                      <a:lnTo>
                        <a:pt x="807" y="209"/>
                      </a:lnTo>
                      <a:lnTo>
                        <a:pt x="823" y="181"/>
                      </a:lnTo>
                      <a:lnTo>
                        <a:pt x="839" y="155"/>
                      </a:lnTo>
                      <a:lnTo>
                        <a:pt x="859" y="125"/>
                      </a:lnTo>
                      <a:lnTo>
                        <a:pt x="877" y="103"/>
                      </a:lnTo>
                      <a:lnTo>
                        <a:pt x="897" y="79"/>
                      </a:lnTo>
                      <a:lnTo>
                        <a:pt x="916" y="60"/>
                      </a:lnTo>
                      <a:lnTo>
                        <a:pt x="933" y="46"/>
                      </a:lnTo>
                      <a:lnTo>
                        <a:pt x="955" y="30"/>
                      </a:lnTo>
                      <a:lnTo>
                        <a:pt x="975" y="19"/>
                      </a:lnTo>
                      <a:lnTo>
                        <a:pt x="994" y="10"/>
                      </a:lnTo>
                      <a:lnTo>
                        <a:pt x="1010" y="5"/>
                      </a:lnTo>
                      <a:lnTo>
                        <a:pt x="1033" y="0"/>
                      </a:lnTo>
                      <a:lnTo>
                        <a:pt x="60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1679400" y="2782800"/>
                  <a:ext cx="329040" cy="460800"/>
                </a:xfrm>
                <a:custGeom>
                  <a:avLst/>
                  <a:gdLst/>
                  <a:ahLst/>
                  <a:rect l="0" t="0" r="r" b="b"/>
                  <a:pathLst>
                    <a:path w="914" h="1280">
                      <a:moveTo>
                        <a:pt x="474" y="0"/>
                      </a:moveTo>
                      <a:lnTo>
                        <a:pt x="225" y="183"/>
                      </a:lnTo>
                      <a:lnTo>
                        <a:pt x="0" y="10"/>
                      </a:lnTo>
                      <a:lnTo>
                        <a:pt x="0" y="87"/>
                      </a:lnTo>
                      <a:lnTo>
                        <a:pt x="2" y="196"/>
                      </a:lnTo>
                      <a:lnTo>
                        <a:pt x="11" y="292"/>
                      </a:lnTo>
                      <a:lnTo>
                        <a:pt x="20" y="400"/>
                      </a:lnTo>
                      <a:lnTo>
                        <a:pt x="34" y="509"/>
                      </a:lnTo>
                      <a:lnTo>
                        <a:pt x="52" y="616"/>
                      </a:lnTo>
                      <a:lnTo>
                        <a:pt x="65" y="680"/>
                      </a:lnTo>
                      <a:lnTo>
                        <a:pt x="85" y="762"/>
                      </a:lnTo>
                      <a:lnTo>
                        <a:pt x="103" y="835"/>
                      </a:lnTo>
                      <a:lnTo>
                        <a:pt x="123" y="895"/>
                      </a:lnTo>
                      <a:lnTo>
                        <a:pt x="144" y="950"/>
                      </a:lnTo>
                      <a:lnTo>
                        <a:pt x="167" y="1014"/>
                      </a:lnTo>
                      <a:lnTo>
                        <a:pt x="190" y="1060"/>
                      </a:lnTo>
                      <a:lnTo>
                        <a:pt x="216" y="1105"/>
                      </a:lnTo>
                      <a:lnTo>
                        <a:pt x="244" y="1146"/>
                      </a:lnTo>
                      <a:lnTo>
                        <a:pt x="264" y="1174"/>
                      </a:lnTo>
                      <a:lnTo>
                        <a:pt x="287" y="1198"/>
                      </a:lnTo>
                      <a:lnTo>
                        <a:pt x="309" y="1220"/>
                      </a:lnTo>
                      <a:lnTo>
                        <a:pt x="340" y="1245"/>
                      </a:lnTo>
                      <a:lnTo>
                        <a:pt x="366" y="1258"/>
                      </a:lnTo>
                      <a:lnTo>
                        <a:pt x="392" y="1269"/>
                      </a:lnTo>
                      <a:lnTo>
                        <a:pt x="415" y="1278"/>
                      </a:lnTo>
                      <a:lnTo>
                        <a:pt x="439" y="1280"/>
                      </a:lnTo>
                      <a:lnTo>
                        <a:pt x="462" y="1280"/>
                      </a:lnTo>
                      <a:lnTo>
                        <a:pt x="914" y="1280"/>
                      </a:lnTo>
                      <a:lnTo>
                        <a:pt x="882" y="1275"/>
                      </a:lnTo>
                      <a:lnTo>
                        <a:pt x="853" y="1267"/>
                      </a:lnTo>
                      <a:lnTo>
                        <a:pt x="824" y="1253"/>
                      </a:lnTo>
                      <a:lnTo>
                        <a:pt x="795" y="1234"/>
                      </a:lnTo>
                      <a:lnTo>
                        <a:pt x="767" y="1208"/>
                      </a:lnTo>
                      <a:lnTo>
                        <a:pt x="740" y="1179"/>
                      </a:lnTo>
                      <a:lnTo>
                        <a:pt x="713" y="1144"/>
                      </a:lnTo>
                      <a:lnTo>
                        <a:pt x="683" y="1097"/>
                      </a:lnTo>
                      <a:lnTo>
                        <a:pt x="653" y="1040"/>
                      </a:lnTo>
                      <a:lnTo>
                        <a:pt x="637" y="1004"/>
                      </a:lnTo>
                      <a:lnTo>
                        <a:pt x="616" y="955"/>
                      </a:lnTo>
                      <a:lnTo>
                        <a:pt x="600" y="909"/>
                      </a:lnTo>
                      <a:lnTo>
                        <a:pt x="583" y="854"/>
                      </a:lnTo>
                      <a:lnTo>
                        <a:pt x="571" y="810"/>
                      </a:lnTo>
                      <a:lnTo>
                        <a:pt x="548" y="721"/>
                      </a:lnTo>
                      <a:lnTo>
                        <a:pt x="530" y="646"/>
                      </a:lnTo>
                      <a:lnTo>
                        <a:pt x="516" y="556"/>
                      </a:lnTo>
                      <a:lnTo>
                        <a:pt x="498" y="449"/>
                      </a:lnTo>
                      <a:lnTo>
                        <a:pt x="485" y="342"/>
                      </a:lnTo>
                      <a:lnTo>
                        <a:pt x="479" y="261"/>
                      </a:lnTo>
                      <a:lnTo>
                        <a:pt x="474" y="166"/>
                      </a:lnTo>
                      <a:lnTo>
                        <a:pt x="471" y="62"/>
                      </a:lnTo>
                      <a:lnTo>
                        <a:pt x="47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6" name=""/>
          <p:cNvGrpSpPr/>
          <p:nvPr/>
        </p:nvGrpSpPr>
        <p:grpSpPr>
          <a:xfrm>
            <a:off x="2908440" y="2176560"/>
            <a:ext cx="1311120" cy="1219320"/>
            <a:chOff x="2908440" y="2176560"/>
            <a:chExt cx="1311120" cy="1219320"/>
          </a:xfrm>
        </p:grpSpPr>
        <p:sp>
          <p:nvSpPr>
            <p:cNvPr id="277" name=""/>
            <p:cNvSpPr/>
            <p:nvPr/>
          </p:nvSpPr>
          <p:spPr>
            <a:xfrm>
              <a:off x="2924280" y="217656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2908440" y="22366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3610080" y="2328840"/>
              <a:ext cx="535320" cy="914760"/>
              <a:chOff x="3610080" y="2328840"/>
              <a:chExt cx="535320" cy="914760"/>
            </a:xfrm>
          </p:grpSpPr>
          <p:sp>
            <p:nvSpPr>
              <p:cNvPr id="280" name=""/>
              <p:cNvSpPr/>
              <p:nvPr/>
            </p:nvSpPr>
            <p:spPr>
              <a:xfrm>
                <a:off x="3819600" y="2328840"/>
                <a:ext cx="325800" cy="914760"/>
              </a:xfrm>
              <a:custGeom>
                <a:avLst/>
                <a:gdLst/>
                <a:ahLst/>
                <a:rect l="0" t="0" r="r" b="b"/>
                <a:pathLst>
                  <a:path w="905" h="2541">
                    <a:moveTo>
                      <a:pt x="448" y="0"/>
                    </a:moveTo>
                    <a:lnTo>
                      <a:pt x="29" y="0"/>
                    </a:lnTo>
                    <a:lnTo>
                      <a:pt x="91" y="28"/>
                    </a:lnTo>
                    <a:lnTo>
                      <a:pt x="145" y="72"/>
                    </a:lnTo>
                    <a:lnTo>
                      <a:pt x="193" y="131"/>
                    </a:lnTo>
                    <a:lnTo>
                      <a:pt x="239" y="197"/>
                    </a:lnTo>
                    <a:lnTo>
                      <a:pt x="284" y="292"/>
                    </a:lnTo>
                    <a:lnTo>
                      <a:pt x="322" y="395"/>
                    </a:lnTo>
                    <a:lnTo>
                      <a:pt x="355" y="510"/>
                    </a:lnTo>
                    <a:lnTo>
                      <a:pt x="386" y="655"/>
                    </a:lnTo>
                    <a:lnTo>
                      <a:pt x="406" y="777"/>
                    </a:lnTo>
                    <a:lnTo>
                      <a:pt x="423" y="905"/>
                    </a:lnTo>
                    <a:lnTo>
                      <a:pt x="432" y="1035"/>
                    </a:lnTo>
                    <a:lnTo>
                      <a:pt x="441" y="1194"/>
                    </a:lnTo>
                    <a:lnTo>
                      <a:pt x="441" y="1401"/>
                    </a:lnTo>
                    <a:lnTo>
                      <a:pt x="425" y="1576"/>
                    </a:lnTo>
                    <a:lnTo>
                      <a:pt x="409" y="1729"/>
                    </a:lnTo>
                    <a:lnTo>
                      <a:pt x="383" y="1895"/>
                    </a:lnTo>
                    <a:lnTo>
                      <a:pt x="355" y="2027"/>
                    </a:lnTo>
                    <a:lnTo>
                      <a:pt x="325" y="2130"/>
                    </a:lnTo>
                    <a:lnTo>
                      <a:pt x="290" y="2219"/>
                    </a:lnTo>
                    <a:lnTo>
                      <a:pt x="265" y="2282"/>
                    </a:lnTo>
                    <a:lnTo>
                      <a:pt x="239" y="2338"/>
                    </a:lnTo>
                    <a:lnTo>
                      <a:pt x="199" y="2391"/>
                    </a:lnTo>
                    <a:lnTo>
                      <a:pt x="171" y="2436"/>
                    </a:lnTo>
                    <a:lnTo>
                      <a:pt x="132" y="2478"/>
                    </a:lnTo>
                    <a:lnTo>
                      <a:pt x="111" y="2497"/>
                    </a:lnTo>
                    <a:lnTo>
                      <a:pt x="84" y="2516"/>
                    </a:lnTo>
                    <a:lnTo>
                      <a:pt x="50" y="2530"/>
                    </a:lnTo>
                    <a:lnTo>
                      <a:pt x="0" y="2541"/>
                    </a:lnTo>
                    <a:lnTo>
                      <a:pt x="480" y="2541"/>
                    </a:lnTo>
                    <a:lnTo>
                      <a:pt x="527" y="2531"/>
                    </a:lnTo>
                    <a:lnTo>
                      <a:pt x="573" y="2502"/>
                    </a:lnTo>
                    <a:lnTo>
                      <a:pt x="611" y="2472"/>
                    </a:lnTo>
                    <a:lnTo>
                      <a:pt x="640" y="2436"/>
                    </a:lnTo>
                    <a:lnTo>
                      <a:pt x="666" y="2402"/>
                    </a:lnTo>
                    <a:lnTo>
                      <a:pt x="692" y="2361"/>
                    </a:lnTo>
                    <a:lnTo>
                      <a:pt x="717" y="2316"/>
                    </a:lnTo>
                    <a:lnTo>
                      <a:pt x="746" y="2254"/>
                    </a:lnTo>
                    <a:lnTo>
                      <a:pt x="772" y="2190"/>
                    </a:lnTo>
                    <a:lnTo>
                      <a:pt x="798" y="2116"/>
                    </a:lnTo>
                    <a:lnTo>
                      <a:pt x="821" y="2034"/>
                    </a:lnTo>
                    <a:lnTo>
                      <a:pt x="844" y="1938"/>
                    </a:lnTo>
                    <a:lnTo>
                      <a:pt x="865" y="1823"/>
                    </a:lnTo>
                    <a:lnTo>
                      <a:pt x="882" y="1692"/>
                    </a:lnTo>
                    <a:lnTo>
                      <a:pt x="898" y="1531"/>
                    </a:lnTo>
                    <a:lnTo>
                      <a:pt x="905" y="1379"/>
                    </a:lnTo>
                    <a:lnTo>
                      <a:pt x="905" y="1181"/>
                    </a:lnTo>
                    <a:lnTo>
                      <a:pt x="898" y="1020"/>
                    </a:lnTo>
                    <a:lnTo>
                      <a:pt x="890" y="921"/>
                    </a:lnTo>
                    <a:lnTo>
                      <a:pt x="879" y="830"/>
                    </a:lnTo>
                    <a:lnTo>
                      <a:pt x="869" y="749"/>
                    </a:lnTo>
                    <a:lnTo>
                      <a:pt x="856" y="684"/>
                    </a:lnTo>
                    <a:lnTo>
                      <a:pt x="843" y="603"/>
                    </a:lnTo>
                    <a:lnTo>
                      <a:pt x="821" y="510"/>
                    </a:lnTo>
                    <a:lnTo>
                      <a:pt x="802" y="442"/>
                    </a:lnTo>
                    <a:lnTo>
                      <a:pt x="779" y="370"/>
                    </a:lnTo>
                    <a:lnTo>
                      <a:pt x="765" y="333"/>
                    </a:lnTo>
                    <a:lnTo>
                      <a:pt x="747" y="287"/>
                    </a:lnTo>
                    <a:lnTo>
                      <a:pt x="728" y="243"/>
                    </a:lnTo>
                    <a:lnTo>
                      <a:pt x="701" y="190"/>
                    </a:lnTo>
                    <a:lnTo>
                      <a:pt x="680" y="157"/>
                    </a:lnTo>
                    <a:lnTo>
                      <a:pt x="662" y="131"/>
                    </a:lnTo>
                    <a:lnTo>
                      <a:pt x="641" y="102"/>
                    </a:lnTo>
                    <a:lnTo>
                      <a:pt x="617" y="73"/>
                    </a:lnTo>
                    <a:lnTo>
                      <a:pt x="595" y="52"/>
                    </a:lnTo>
                    <a:lnTo>
                      <a:pt x="564" y="28"/>
                    </a:lnTo>
                    <a:lnTo>
                      <a:pt x="532" y="12"/>
                    </a:lnTo>
                    <a:lnTo>
                      <a:pt x="506" y="4"/>
                    </a:lnTo>
                    <a:lnTo>
                      <a:pt x="479" y="0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8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1" name=""/>
              <p:cNvGrpSpPr/>
              <p:nvPr/>
            </p:nvGrpSpPr>
            <p:grpSpPr>
              <a:xfrm>
                <a:off x="3610080" y="2328840"/>
                <a:ext cx="379800" cy="914760"/>
                <a:chOff x="3610080" y="2328840"/>
                <a:chExt cx="379800" cy="91476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3610080" y="2328840"/>
                  <a:ext cx="371880" cy="473400"/>
                </a:xfrm>
                <a:custGeom>
                  <a:avLst/>
                  <a:gdLst/>
                  <a:ahLst/>
                  <a:rect l="0" t="0" r="r" b="b"/>
                  <a:pathLst>
                    <a:path w="1033" h="1315">
                      <a:moveTo>
                        <a:pt x="606" y="0"/>
                      </a:moveTo>
                      <a:lnTo>
                        <a:pt x="580" y="0"/>
                      </a:lnTo>
                      <a:lnTo>
                        <a:pt x="539" y="5"/>
                      </a:lnTo>
                      <a:lnTo>
                        <a:pt x="492" y="21"/>
                      </a:lnTo>
                      <a:lnTo>
                        <a:pt x="458" y="49"/>
                      </a:lnTo>
                      <a:lnTo>
                        <a:pt x="423" y="82"/>
                      </a:lnTo>
                      <a:lnTo>
                        <a:pt x="394" y="117"/>
                      </a:lnTo>
                      <a:lnTo>
                        <a:pt x="371" y="155"/>
                      </a:lnTo>
                      <a:lnTo>
                        <a:pt x="339" y="209"/>
                      </a:lnTo>
                      <a:lnTo>
                        <a:pt x="310" y="261"/>
                      </a:lnTo>
                      <a:lnTo>
                        <a:pt x="286" y="321"/>
                      </a:lnTo>
                      <a:lnTo>
                        <a:pt x="260" y="395"/>
                      </a:lnTo>
                      <a:lnTo>
                        <a:pt x="233" y="477"/>
                      </a:lnTo>
                      <a:lnTo>
                        <a:pt x="222" y="533"/>
                      </a:lnTo>
                      <a:lnTo>
                        <a:pt x="204" y="596"/>
                      </a:lnTo>
                      <a:lnTo>
                        <a:pt x="194" y="654"/>
                      </a:lnTo>
                      <a:lnTo>
                        <a:pt x="185" y="710"/>
                      </a:lnTo>
                      <a:lnTo>
                        <a:pt x="179" y="751"/>
                      </a:lnTo>
                      <a:lnTo>
                        <a:pt x="174" y="792"/>
                      </a:lnTo>
                      <a:lnTo>
                        <a:pt x="165" y="855"/>
                      </a:lnTo>
                      <a:lnTo>
                        <a:pt x="159" y="924"/>
                      </a:lnTo>
                      <a:lnTo>
                        <a:pt x="150" y="1006"/>
                      </a:lnTo>
                      <a:lnTo>
                        <a:pt x="0" y="1006"/>
                      </a:lnTo>
                      <a:lnTo>
                        <a:pt x="371" y="1315"/>
                      </a:lnTo>
                      <a:lnTo>
                        <a:pt x="790" y="1006"/>
                      </a:lnTo>
                      <a:lnTo>
                        <a:pt x="620" y="1006"/>
                      </a:lnTo>
                      <a:lnTo>
                        <a:pt x="626" y="951"/>
                      </a:lnTo>
                      <a:lnTo>
                        <a:pt x="633" y="888"/>
                      </a:lnTo>
                      <a:lnTo>
                        <a:pt x="642" y="820"/>
                      </a:lnTo>
                      <a:lnTo>
                        <a:pt x="651" y="751"/>
                      </a:lnTo>
                      <a:lnTo>
                        <a:pt x="662" y="691"/>
                      </a:lnTo>
                      <a:lnTo>
                        <a:pt x="671" y="635"/>
                      </a:lnTo>
                      <a:lnTo>
                        <a:pt x="691" y="544"/>
                      </a:lnTo>
                      <a:lnTo>
                        <a:pt x="712" y="463"/>
                      </a:lnTo>
                      <a:lnTo>
                        <a:pt x="728" y="406"/>
                      </a:lnTo>
                      <a:lnTo>
                        <a:pt x="742" y="359"/>
                      </a:lnTo>
                      <a:lnTo>
                        <a:pt x="760" y="313"/>
                      </a:lnTo>
                      <a:lnTo>
                        <a:pt x="774" y="277"/>
                      </a:lnTo>
                      <a:lnTo>
                        <a:pt x="792" y="239"/>
                      </a:lnTo>
                      <a:lnTo>
                        <a:pt x="807" y="209"/>
                      </a:lnTo>
                      <a:lnTo>
                        <a:pt x="823" y="181"/>
                      </a:lnTo>
                      <a:lnTo>
                        <a:pt x="839" y="155"/>
                      </a:lnTo>
                      <a:lnTo>
                        <a:pt x="859" y="125"/>
                      </a:lnTo>
                      <a:lnTo>
                        <a:pt x="877" y="103"/>
                      </a:lnTo>
                      <a:lnTo>
                        <a:pt x="897" y="79"/>
                      </a:lnTo>
                      <a:lnTo>
                        <a:pt x="916" y="60"/>
                      </a:lnTo>
                      <a:lnTo>
                        <a:pt x="933" y="46"/>
                      </a:lnTo>
                      <a:lnTo>
                        <a:pt x="955" y="30"/>
                      </a:lnTo>
                      <a:lnTo>
                        <a:pt x="975" y="19"/>
                      </a:lnTo>
                      <a:lnTo>
                        <a:pt x="994" y="10"/>
                      </a:lnTo>
                      <a:lnTo>
                        <a:pt x="1010" y="5"/>
                      </a:lnTo>
                      <a:lnTo>
                        <a:pt x="1033" y="0"/>
                      </a:lnTo>
                      <a:lnTo>
                        <a:pt x="60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660840" y="2782800"/>
                  <a:ext cx="329040" cy="460800"/>
                </a:xfrm>
                <a:custGeom>
                  <a:avLst/>
                  <a:gdLst/>
                  <a:ahLst/>
                  <a:rect l="0" t="0" r="r" b="b"/>
                  <a:pathLst>
                    <a:path w="914" h="1280">
                      <a:moveTo>
                        <a:pt x="474" y="0"/>
                      </a:moveTo>
                      <a:lnTo>
                        <a:pt x="225" y="183"/>
                      </a:lnTo>
                      <a:lnTo>
                        <a:pt x="0" y="10"/>
                      </a:lnTo>
                      <a:lnTo>
                        <a:pt x="0" y="87"/>
                      </a:lnTo>
                      <a:lnTo>
                        <a:pt x="2" y="196"/>
                      </a:lnTo>
                      <a:lnTo>
                        <a:pt x="11" y="292"/>
                      </a:lnTo>
                      <a:lnTo>
                        <a:pt x="20" y="400"/>
                      </a:lnTo>
                      <a:lnTo>
                        <a:pt x="34" y="509"/>
                      </a:lnTo>
                      <a:lnTo>
                        <a:pt x="52" y="616"/>
                      </a:lnTo>
                      <a:lnTo>
                        <a:pt x="65" y="680"/>
                      </a:lnTo>
                      <a:lnTo>
                        <a:pt x="85" y="762"/>
                      </a:lnTo>
                      <a:lnTo>
                        <a:pt x="103" y="835"/>
                      </a:lnTo>
                      <a:lnTo>
                        <a:pt x="123" y="895"/>
                      </a:lnTo>
                      <a:lnTo>
                        <a:pt x="144" y="950"/>
                      </a:lnTo>
                      <a:lnTo>
                        <a:pt x="167" y="1014"/>
                      </a:lnTo>
                      <a:lnTo>
                        <a:pt x="190" y="1060"/>
                      </a:lnTo>
                      <a:lnTo>
                        <a:pt x="216" y="1105"/>
                      </a:lnTo>
                      <a:lnTo>
                        <a:pt x="244" y="1146"/>
                      </a:lnTo>
                      <a:lnTo>
                        <a:pt x="264" y="1174"/>
                      </a:lnTo>
                      <a:lnTo>
                        <a:pt x="287" y="1198"/>
                      </a:lnTo>
                      <a:lnTo>
                        <a:pt x="309" y="1220"/>
                      </a:lnTo>
                      <a:lnTo>
                        <a:pt x="340" y="1245"/>
                      </a:lnTo>
                      <a:lnTo>
                        <a:pt x="366" y="1258"/>
                      </a:lnTo>
                      <a:lnTo>
                        <a:pt x="392" y="1269"/>
                      </a:lnTo>
                      <a:lnTo>
                        <a:pt x="415" y="1278"/>
                      </a:lnTo>
                      <a:lnTo>
                        <a:pt x="439" y="1280"/>
                      </a:lnTo>
                      <a:lnTo>
                        <a:pt x="462" y="1280"/>
                      </a:lnTo>
                      <a:lnTo>
                        <a:pt x="914" y="1280"/>
                      </a:lnTo>
                      <a:lnTo>
                        <a:pt x="882" y="1275"/>
                      </a:lnTo>
                      <a:lnTo>
                        <a:pt x="853" y="1267"/>
                      </a:lnTo>
                      <a:lnTo>
                        <a:pt x="824" y="1253"/>
                      </a:lnTo>
                      <a:lnTo>
                        <a:pt x="795" y="1234"/>
                      </a:lnTo>
                      <a:lnTo>
                        <a:pt x="767" y="1208"/>
                      </a:lnTo>
                      <a:lnTo>
                        <a:pt x="740" y="1179"/>
                      </a:lnTo>
                      <a:lnTo>
                        <a:pt x="713" y="1144"/>
                      </a:lnTo>
                      <a:lnTo>
                        <a:pt x="683" y="1097"/>
                      </a:lnTo>
                      <a:lnTo>
                        <a:pt x="653" y="1040"/>
                      </a:lnTo>
                      <a:lnTo>
                        <a:pt x="637" y="1004"/>
                      </a:lnTo>
                      <a:lnTo>
                        <a:pt x="616" y="955"/>
                      </a:lnTo>
                      <a:lnTo>
                        <a:pt x="600" y="909"/>
                      </a:lnTo>
                      <a:lnTo>
                        <a:pt x="583" y="854"/>
                      </a:lnTo>
                      <a:lnTo>
                        <a:pt x="571" y="810"/>
                      </a:lnTo>
                      <a:lnTo>
                        <a:pt x="548" y="721"/>
                      </a:lnTo>
                      <a:lnTo>
                        <a:pt x="530" y="646"/>
                      </a:lnTo>
                      <a:lnTo>
                        <a:pt x="516" y="556"/>
                      </a:lnTo>
                      <a:lnTo>
                        <a:pt x="498" y="449"/>
                      </a:lnTo>
                      <a:lnTo>
                        <a:pt x="485" y="342"/>
                      </a:lnTo>
                      <a:lnTo>
                        <a:pt x="479" y="261"/>
                      </a:lnTo>
                      <a:lnTo>
                        <a:pt x="474" y="166"/>
                      </a:lnTo>
                      <a:lnTo>
                        <a:pt x="471" y="62"/>
                      </a:lnTo>
                      <a:lnTo>
                        <a:pt x="47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4" name=""/>
          <p:cNvSpPr/>
          <p:nvPr/>
        </p:nvSpPr>
        <p:spPr>
          <a:xfrm>
            <a:off x="2390760" y="4500720"/>
            <a:ext cx="2362320" cy="76212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50000">
                <a:srgbClr val="361c4a"/>
              </a:gs>
              <a:gs pos="100000">
                <a:srgbClr val="b760f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813200" y="2176560"/>
            <a:ext cx="1311120" cy="1219320"/>
            <a:chOff x="4813200" y="2176560"/>
            <a:chExt cx="1311120" cy="1219320"/>
          </a:xfrm>
        </p:grpSpPr>
        <p:sp>
          <p:nvSpPr>
            <p:cNvPr id="286" name=""/>
            <p:cNvSpPr/>
            <p:nvPr/>
          </p:nvSpPr>
          <p:spPr>
            <a:xfrm>
              <a:off x="4829040" y="217656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4813200" y="22366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5514840" y="2328840"/>
              <a:ext cx="535320" cy="914760"/>
              <a:chOff x="5514840" y="2328840"/>
              <a:chExt cx="535320" cy="914760"/>
            </a:xfrm>
          </p:grpSpPr>
          <p:sp>
            <p:nvSpPr>
              <p:cNvPr id="289" name=""/>
              <p:cNvSpPr/>
              <p:nvPr/>
            </p:nvSpPr>
            <p:spPr>
              <a:xfrm>
                <a:off x="5724360" y="2328840"/>
                <a:ext cx="325800" cy="914760"/>
              </a:xfrm>
              <a:custGeom>
                <a:avLst/>
                <a:gdLst/>
                <a:ahLst/>
                <a:rect l="0" t="0" r="r" b="b"/>
                <a:pathLst>
                  <a:path w="905" h="2541">
                    <a:moveTo>
                      <a:pt x="448" y="0"/>
                    </a:moveTo>
                    <a:lnTo>
                      <a:pt x="29" y="0"/>
                    </a:lnTo>
                    <a:lnTo>
                      <a:pt x="91" y="28"/>
                    </a:lnTo>
                    <a:lnTo>
                      <a:pt x="145" y="72"/>
                    </a:lnTo>
                    <a:lnTo>
                      <a:pt x="193" y="131"/>
                    </a:lnTo>
                    <a:lnTo>
                      <a:pt x="239" y="197"/>
                    </a:lnTo>
                    <a:lnTo>
                      <a:pt x="284" y="292"/>
                    </a:lnTo>
                    <a:lnTo>
                      <a:pt x="322" y="395"/>
                    </a:lnTo>
                    <a:lnTo>
                      <a:pt x="355" y="510"/>
                    </a:lnTo>
                    <a:lnTo>
                      <a:pt x="386" y="655"/>
                    </a:lnTo>
                    <a:lnTo>
                      <a:pt x="406" y="777"/>
                    </a:lnTo>
                    <a:lnTo>
                      <a:pt x="423" y="905"/>
                    </a:lnTo>
                    <a:lnTo>
                      <a:pt x="432" y="1035"/>
                    </a:lnTo>
                    <a:lnTo>
                      <a:pt x="441" y="1194"/>
                    </a:lnTo>
                    <a:lnTo>
                      <a:pt x="441" y="1401"/>
                    </a:lnTo>
                    <a:lnTo>
                      <a:pt x="425" y="1576"/>
                    </a:lnTo>
                    <a:lnTo>
                      <a:pt x="409" y="1729"/>
                    </a:lnTo>
                    <a:lnTo>
                      <a:pt x="383" y="1895"/>
                    </a:lnTo>
                    <a:lnTo>
                      <a:pt x="355" y="2027"/>
                    </a:lnTo>
                    <a:lnTo>
                      <a:pt x="325" y="2130"/>
                    </a:lnTo>
                    <a:lnTo>
                      <a:pt x="290" y="2219"/>
                    </a:lnTo>
                    <a:lnTo>
                      <a:pt x="265" y="2282"/>
                    </a:lnTo>
                    <a:lnTo>
                      <a:pt x="239" y="2338"/>
                    </a:lnTo>
                    <a:lnTo>
                      <a:pt x="199" y="2391"/>
                    </a:lnTo>
                    <a:lnTo>
                      <a:pt x="171" y="2436"/>
                    </a:lnTo>
                    <a:lnTo>
                      <a:pt x="132" y="2478"/>
                    </a:lnTo>
                    <a:lnTo>
                      <a:pt x="111" y="2497"/>
                    </a:lnTo>
                    <a:lnTo>
                      <a:pt x="84" y="2516"/>
                    </a:lnTo>
                    <a:lnTo>
                      <a:pt x="50" y="2530"/>
                    </a:lnTo>
                    <a:lnTo>
                      <a:pt x="0" y="2541"/>
                    </a:lnTo>
                    <a:lnTo>
                      <a:pt x="480" y="2541"/>
                    </a:lnTo>
                    <a:lnTo>
                      <a:pt x="527" y="2531"/>
                    </a:lnTo>
                    <a:lnTo>
                      <a:pt x="573" y="2502"/>
                    </a:lnTo>
                    <a:lnTo>
                      <a:pt x="611" y="2472"/>
                    </a:lnTo>
                    <a:lnTo>
                      <a:pt x="640" y="2436"/>
                    </a:lnTo>
                    <a:lnTo>
                      <a:pt x="666" y="2402"/>
                    </a:lnTo>
                    <a:lnTo>
                      <a:pt x="692" y="2361"/>
                    </a:lnTo>
                    <a:lnTo>
                      <a:pt x="717" y="2316"/>
                    </a:lnTo>
                    <a:lnTo>
                      <a:pt x="746" y="2254"/>
                    </a:lnTo>
                    <a:lnTo>
                      <a:pt x="772" y="2190"/>
                    </a:lnTo>
                    <a:lnTo>
                      <a:pt x="798" y="2116"/>
                    </a:lnTo>
                    <a:lnTo>
                      <a:pt x="821" y="2034"/>
                    </a:lnTo>
                    <a:lnTo>
                      <a:pt x="844" y="1938"/>
                    </a:lnTo>
                    <a:lnTo>
                      <a:pt x="865" y="1823"/>
                    </a:lnTo>
                    <a:lnTo>
                      <a:pt x="882" y="1692"/>
                    </a:lnTo>
                    <a:lnTo>
                      <a:pt x="898" y="1531"/>
                    </a:lnTo>
                    <a:lnTo>
                      <a:pt x="905" y="1379"/>
                    </a:lnTo>
                    <a:lnTo>
                      <a:pt x="905" y="1181"/>
                    </a:lnTo>
                    <a:lnTo>
                      <a:pt x="898" y="1020"/>
                    </a:lnTo>
                    <a:lnTo>
                      <a:pt x="890" y="921"/>
                    </a:lnTo>
                    <a:lnTo>
                      <a:pt x="879" y="830"/>
                    </a:lnTo>
                    <a:lnTo>
                      <a:pt x="869" y="749"/>
                    </a:lnTo>
                    <a:lnTo>
                      <a:pt x="856" y="684"/>
                    </a:lnTo>
                    <a:lnTo>
                      <a:pt x="843" y="603"/>
                    </a:lnTo>
                    <a:lnTo>
                      <a:pt x="821" y="510"/>
                    </a:lnTo>
                    <a:lnTo>
                      <a:pt x="802" y="442"/>
                    </a:lnTo>
                    <a:lnTo>
                      <a:pt x="779" y="370"/>
                    </a:lnTo>
                    <a:lnTo>
                      <a:pt x="765" y="333"/>
                    </a:lnTo>
                    <a:lnTo>
                      <a:pt x="747" y="287"/>
                    </a:lnTo>
                    <a:lnTo>
                      <a:pt x="728" y="243"/>
                    </a:lnTo>
                    <a:lnTo>
                      <a:pt x="701" y="190"/>
                    </a:lnTo>
                    <a:lnTo>
                      <a:pt x="680" y="157"/>
                    </a:lnTo>
                    <a:lnTo>
                      <a:pt x="662" y="131"/>
                    </a:lnTo>
                    <a:lnTo>
                      <a:pt x="641" y="102"/>
                    </a:lnTo>
                    <a:lnTo>
                      <a:pt x="617" y="73"/>
                    </a:lnTo>
                    <a:lnTo>
                      <a:pt x="595" y="52"/>
                    </a:lnTo>
                    <a:lnTo>
                      <a:pt x="564" y="28"/>
                    </a:lnTo>
                    <a:lnTo>
                      <a:pt x="532" y="12"/>
                    </a:lnTo>
                    <a:lnTo>
                      <a:pt x="506" y="4"/>
                    </a:lnTo>
                    <a:lnTo>
                      <a:pt x="479" y="0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eaec5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0" name=""/>
              <p:cNvGrpSpPr/>
              <p:nvPr/>
            </p:nvGrpSpPr>
            <p:grpSpPr>
              <a:xfrm>
                <a:off x="5514840" y="2328840"/>
                <a:ext cx="379800" cy="914760"/>
                <a:chOff x="5514840" y="2328840"/>
                <a:chExt cx="379800" cy="91476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5514840" y="2328840"/>
                  <a:ext cx="371880" cy="473400"/>
                </a:xfrm>
                <a:custGeom>
                  <a:avLst/>
                  <a:gdLst/>
                  <a:ahLst/>
                  <a:rect l="0" t="0" r="r" b="b"/>
                  <a:pathLst>
                    <a:path w="1033" h="1315">
                      <a:moveTo>
                        <a:pt x="606" y="0"/>
                      </a:moveTo>
                      <a:lnTo>
                        <a:pt x="580" y="0"/>
                      </a:lnTo>
                      <a:lnTo>
                        <a:pt x="539" y="5"/>
                      </a:lnTo>
                      <a:lnTo>
                        <a:pt x="492" y="21"/>
                      </a:lnTo>
                      <a:lnTo>
                        <a:pt x="458" y="49"/>
                      </a:lnTo>
                      <a:lnTo>
                        <a:pt x="423" y="82"/>
                      </a:lnTo>
                      <a:lnTo>
                        <a:pt x="394" y="117"/>
                      </a:lnTo>
                      <a:lnTo>
                        <a:pt x="371" y="155"/>
                      </a:lnTo>
                      <a:lnTo>
                        <a:pt x="339" y="209"/>
                      </a:lnTo>
                      <a:lnTo>
                        <a:pt x="310" y="261"/>
                      </a:lnTo>
                      <a:lnTo>
                        <a:pt x="286" y="321"/>
                      </a:lnTo>
                      <a:lnTo>
                        <a:pt x="260" y="395"/>
                      </a:lnTo>
                      <a:lnTo>
                        <a:pt x="233" y="477"/>
                      </a:lnTo>
                      <a:lnTo>
                        <a:pt x="222" y="533"/>
                      </a:lnTo>
                      <a:lnTo>
                        <a:pt x="204" y="596"/>
                      </a:lnTo>
                      <a:lnTo>
                        <a:pt x="194" y="654"/>
                      </a:lnTo>
                      <a:lnTo>
                        <a:pt x="185" y="710"/>
                      </a:lnTo>
                      <a:lnTo>
                        <a:pt x="179" y="751"/>
                      </a:lnTo>
                      <a:lnTo>
                        <a:pt x="174" y="792"/>
                      </a:lnTo>
                      <a:lnTo>
                        <a:pt x="165" y="855"/>
                      </a:lnTo>
                      <a:lnTo>
                        <a:pt x="159" y="924"/>
                      </a:lnTo>
                      <a:lnTo>
                        <a:pt x="150" y="1006"/>
                      </a:lnTo>
                      <a:lnTo>
                        <a:pt x="0" y="1006"/>
                      </a:lnTo>
                      <a:lnTo>
                        <a:pt x="371" y="1315"/>
                      </a:lnTo>
                      <a:lnTo>
                        <a:pt x="790" y="1006"/>
                      </a:lnTo>
                      <a:lnTo>
                        <a:pt x="620" y="1006"/>
                      </a:lnTo>
                      <a:lnTo>
                        <a:pt x="626" y="951"/>
                      </a:lnTo>
                      <a:lnTo>
                        <a:pt x="633" y="888"/>
                      </a:lnTo>
                      <a:lnTo>
                        <a:pt x="642" y="820"/>
                      </a:lnTo>
                      <a:lnTo>
                        <a:pt x="651" y="751"/>
                      </a:lnTo>
                      <a:lnTo>
                        <a:pt x="662" y="691"/>
                      </a:lnTo>
                      <a:lnTo>
                        <a:pt x="671" y="635"/>
                      </a:lnTo>
                      <a:lnTo>
                        <a:pt x="691" y="544"/>
                      </a:lnTo>
                      <a:lnTo>
                        <a:pt x="712" y="463"/>
                      </a:lnTo>
                      <a:lnTo>
                        <a:pt x="728" y="406"/>
                      </a:lnTo>
                      <a:lnTo>
                        <a:pt x="742" y="359"/>
                      </a:lnTo>
                      <a:lnTo>
                        <a:pt x="760" y="313"/>
                      </a:lnTo>
                      <a:lnTo>
                        <a:pt x="774" y="277"/>
                      </a:lnTo>
                      <a:lnTo>
                        <a:pt x="792" y="239"/>
                      </a:lnTo>
                      <a:lnTo>
                        <a:pt x="807" y="209"/>
                      </a:lnTo>
                      <a:lnTo>
                        <a:pt x="823" y="181"/>
                      </a:lnTo>
                      <a:lnTo>
                        <a:pt x="839" y="155"/>
                      </a:lnTo>
                      <a:lnTo>
                        <a:pt x="859" y="125"/>
                      </a:lnTo>
                      <a:lnTo>
                        <a:pt x="877" y="103"/>
                      </a:lnTo>
                      <a:lnTo>
                        <a:pt x="897" y="79"/>
                      </a:lnTo>
                      <a:lnTo>
                        <a:pt x="916" y="60"/>
                      </a:lnTo>
                      <a:lnTo>
                        <a:pt x="933" y="46"/>
                      </a:lnTo>
                      <a:lnTo>
                        <a:pt x="955" y="30"/>
                      </a:lnTo>
                      <a:lnTo>
                        <a:pt x="975" y="19"/>
                      </a:lnTo>
                      <a:lnTo>
                        <a:pt x="994" y="10"/>
                      </a:lnTo>
                      <a:lnTo>
                        <a:pt x="1010" y="5"/>
                      </a:lnTo>
                      <a:lnTo>
                        <a:pt x="1033" y="0"/>
                      </a:lnTo>
                      <a:lnTo>
                        <a:pt x="606" y="0"/>
                      </a:lnTo>
                      <a:close/>
                    </a:path>
                  </a:pathLst>
                </a:custGeom>
                <a:solidFill>
                  <a:srgbClr val="eaec5e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565600" y="2782800"/>
                  <a:ext cx="329040" cy="460800"/>
                </a:xfrm>
                <a:custGeom>
                  <a:avLst/>
                  <a:gdLst/>
                  <a:ahLst/>
                  <a:rect l="0" t="0" r="r" b="b"/>
                  <a:pathLst>
                    <a:path w="914" h="1280">
                      <a:moveTo>
                        <a:pt x="474" y="0"/>
                      </a:moveTo>
                      <a:lnTo>
                        <a:pt x="225" y="183"/>
                      </a:lnTo>
                      <a:lnTo>
                        <a:pt x="0" y="10"/>
                      </a:lnTo>
                      <a:lnTo>
                        <a:pt x="0" y="87"/>
                      </a:lnTo>
                      <a:lnTo>
                        <a:pt x="2" y="196"/>
                      </a:lnTo>
                      <a:lnTo>
                        <a:pt x="11" y="292"/>
                      </a:lnTo>
                      <a:lnTo>
                        <a:pt x="20" y="400"/>
                      </a:lnTo>
                      <a:lnTo>
                        <a:pt x="34" y="509"/>
                      </a:lnTo>
                      <a:lnTo>
                        <a:pt x="52" y="616"/>
                      </a:lnTo>
                      <a:lnTo>
                        <a:pt x="65" y="680"/>
                      </a:lnTo>
                      <a:lnTo>
                        <a:pt x="85" y="762"/>
                      </a:lnTo>
                      <a:lnTo>
                        <a:pt x="103" y="835"/>
                      </a:lnTo>
                      <a:lnTo>
                        <a:pt x="123" y="895"/>
                      </a:lnTo>
                      <a:lnTo>
                        <a:pt x="144" y="950"/>
                      </a:lnTo>
                      <a:lnTo>
                        <a:pt x="167" y="1014"/>
                      </a:lnTo>
                      <a:lnTo>
                        <a:pt x="190" y="1060"/>
                      </a:lnTo>
                      <a:lnTo>
                        <a:pt x="216" y="1105"/>
                      </a:lnTo>
                      <a:lnTo>
                        <a:pt x="244" y="1146"/>
                      </a:lnTo>
                      <a:lnTo>
                        <a:pt x="264" y="1174"/>
                      </a:lnTo>
                      <a:lnTo>
                        <a:pt x="287" y="1198"/>
                      </a:lnTo>
                      <a:lnTo>
                        <a:pt x="309" y="1220"/>
                      </a:lnTo>
                      <a:lnTo>
                        <a:pt x="340" y="1245"/>
                      </a:lnTo>
                      <a:lnTo>
                        <a:pt x="366" y="1258"/>
                      </a:lnTo>
                      <a:lnTo>
                        <a:pt x="392" y="1269"/>
                      </a:lnTo>
                      <a:lnTo>
                        <a:pt x="415" y="1278"/>
                      </a:lnTo>
                      <a:lnTo>
                        <a:pt x="439" y="1280"/>
                      </a:lnTo>
                      <a:lnTo>
                        <a:pt x="462" y="1280"/>
                      </a:lnTo>
                      <a:lnTo>
                        <a:pt x="914" y="1280"/>
                      </a:lnTo>
                      <a:lnTo>
                        <a:pt x="882" y="1275"/>
                      </a:lnTo>
                      <a:lnTo>
                        <a:pt x="853" y="1267"/>
                      </a:lnTo>
                      <a:lnTo>
                        <a:pt x="824" y="1253"/>
                      </a:lnTo>
                      <a:lnTo>
                        <a:pt x="795" y="1234"/>
                      </a:lnTo>
                      <a:lnTo>
                        <a:pt x="767" y="1208"/>
                      </a:lnTo>
                      <a:lnTo>
                        <a:pt x="740" y="1179"/>
                      </a:lnTo>
                      <a:lnTo>
                        <a:pt x="713" y="1144"/>
                      </a:lnTo>
                      <a:lnTo>
                        <a:pt x="683" y="1097"/>
                      </a:lnTo>
                      <a:lnTo>
                        <a:pt x="653" y="1040"/>
                      </a:lnTo>
                      <a:lnTo>
                        <a:pt x="637" y="1004"/>
                      </a:lnTo>
                      <a:lnTo>
                        <a:pt x="616" y="955"/>
                      </a:lnTo>
                      <a:lnTo>
                        <a:pt x="600" y="909"/>
                      </a:lnTo>
                      <a:lnTo>
                        <a:pt x="583" y="854"/>
                      </a:lnTo>
                      <a:lnTo>
                        <a:pt x="571" y="810"/>
                      </a:lnTo>
                      <a:lnTo>
                        <a:pt x="548" y="721"/>
                      </a:lnTo>
                      <a:lnTo>
                        <a:pt x="530" y="646"/>
                      </a:lnTo>
                      <a:lnTo>
                        <a:pt x="516" y="556"/>
                      </a:lnTo>
                      <a:lnTo>
                        <a:pt x="498" y="449"/>
                      </a:lnTo>
                      <a:lnTo>
                        <a:pt x="485" y="342"/>
                      </a:lnTo>
                      <a:lnTo>
                        <a:pt x="479" y="261"/>
                      </a:lnTo>
                      <a:lnTo>
                        <a:pt x="474" y="166"/>
                      </a:lnTo>
                      <a:lnTo>
                        <a:pt x="471" y="62"/>
                      </a:lnTo>
                      <a:lnTo>
                        <a:pt x="474" y="0"/>
                      </a:lnTo>
                      <a:close/>
                    </a:path>
                  </a:pathLst>
                </a:custGeom>
                <a:solidFill>
                  <a:srgbClr val="eaec5e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3" name=""/>
          <p:cNvSpPr txBox="1"/>
          <p:nvPr/>
        </p:nvSpPr>
        <p:spPr>
          <a:xfrm>
            <a:off x="2908440" y="4697280"/>
            <a:ext cx="1270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edu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537160" y="3706920"/>
            <a:ext cx="3473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st priority processor is interrupted to run new th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700600" y="4924440"/>
            <a:ext cx="228600" cy="2286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700600" y="5381640"/>
            <a:ext cx="228600" cy="228600"/>
          </a:xfrm>
          <a:prstGeom prst="rect">
            <a:avLst/>
          </a:prstGeom>
          <a:solidFill>
            <a:srgbClr val="eaec5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027840" y="4859280"/>
            <a:ext cx="2435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-priority th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027840" y="5335560"/>
            <a:ext cx="2378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-priority th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6429240" y="1719360"/>
            <a:ext cx="457920" cy="762480"/>
            <a:chOff x="6429240" y="1719360"/>
            <a:chExt cx="457920" cy="762480"/>
          </a:xfrm>
        </p:grpSpPr>
        <p:sp>
          <p:nvSpPr>
            <p:cNvPr id="300" name=""/>
            <p:cNvSpPr/>
            <p:nvPr/>
          </p:nvSpPr>
          <p:spPr>
            <a:xfrm>
              <a:off x="6608880" y="1719360"/>
              <a:ext cx="278280" cy="762480"/>
            </a:xfrm>
            <a:custGeom>
              <a:avLst/>
              <a:gdLst/>
              <a:ahLst/>
              <a:rect l="0" t="0" r="r" b="b"/>
              <a:pathLst>
                <a:path w="773" h="2118">
                  <a:moveTo>
                    <a:pt x="383" y="0"/>
                  </a:moveTo>
                  <a:lnTo>
                    <a:pt x="24" y="0"/>
                  </a:lnTo>
                  <a:lnTo>
                    <a:pt x="78" y="23"/>
                  </a:lnTo>
                  <a:lnTo>
                    <a:pt x="124" y="60"/>
                  </a:lnTo>
                  <a:lnTo>
                    <a:pt x="165" y="109"/>
                  </a:lnTo>
                  <a:lnTo>
                    <a:pt x="204" y="164"/>
                  </a:lnTo>
                  <a:lnTo>
                    <a:pt x="242" y="244"/>
                  </a:lnTo>
                  <a:lnTo>
                    <a:pt x="275" y="329"/>
                  </a:lnTo>
                  <a:lnTo>
                    <a:pt x="303" y="425"/>
                  </a:lnTo>
                  <a:lnTo>
                    <a:pt x="329" y="547"/>
                  </a:lnTo>
                  <a:lnTo>
                    <a:pt x="347" y="648"/>
                  </a:lnTo>
                  <a:lnTo>
                    <a:pt x="362" y="755"/>
                  </a:lnTo>
                  <a:lnTo>
                    <a:pt x="369" y="864"/>
                  </a:lnTo>
                  <a:lnTo>
                    <a:pt x="376" y="996"/>
                  </a:lnTo>
                  <a:lnTo>
                    <a:pt x="376" y="1167"/>
                  </a:lnTo>
                  <a:lnTo>
                    <a:pt x="363" y="1313"/>
                  </a:lnTo>
                  <a:lnTo>
                    <a:pt x="349" y="1441"/>
                  </a:lnTo>
                  <a:lnTo>
                    <a:pt x="327" y="1579"/>
                  </a:lnTo>
                  <a:lnTo>
                    <a:pt x="303" y="1690"/>
                  </a:lnTo>
                  <a:lnTo>
                    <a:pt x="277" y="1776"/>
                  </a:lnTo>
                  <a:lnTo>
                    <a:pt x="247" y="1850"/>
                  </a:lnTo>
                  <a:lnTo>
                    <a:pt x="226" y="1903"/>
                  </a:lnTo>
                  <a:lnTo>
                    <a:pt x="204" y="1949"/>
                  </a:lnTo>
                  <a:lnTo>
                    <a:pt x="169" y="1994"/>
                  </a:lnTo>
                  <a:lnTo>
                    <a:pt x="146" y="2031"/>
                  </a:lnTo>
                  <a:lnTo>
                    <a:pt x="112" y="2066"/>
                  </a:lnTo>
                  <a:lnTo>
                    <a:pt x="95" y="2082"/>
                  </a:lnTo>
                  <a:lnTo>
                    <a:pt x="71" y="2098"/>
                  </a:lnTo>
                  <a:lnTo>
                    <a:pt x="43" y="2109"/>
                  </a:lnTo>
                  <a:lnTo>
                    <a:pt x="0" y="2118"/>
                  </a:lnTo>
                  <a:lnTo>
                    <a:pt x="410" y="2118"/>
                  </a:lnTo>
                  <a:lnTo>
                    <a:pt x="450" y="2110"/>
                  </a:lnTo>
                  <a:lnTo>
                    <a:pt x="489" y="2086"/>
                  </a:lnTo>
                  <a:lnTo>
                    <a:pt x="522" y="2061"/>
                  </a:lnTo>
                  <a:lnTo>
                    <a:pt x="546" y="2031"/>
                  </a:lnTo>
                  <a:lnTo>
                    <a:pt x="569" y="2003"/>
                  </a:lnTo>
                  <a:lnTo>
                    <a:pt x="591" y="1969"/>
                  </a:lnTo>
                  <a:lnTo>
                    <a:pt x="612" y="1931"/>
                  </a:lnTo>
                  <a:lnTo>
                    <a:pt x="637" y="1880"/>
                  </a:lnTo>
                  <a:lnTo>
                    <a:pt x="659" y="1826"/>
                  </a:lnTo>
                  <a:lnTo>
                    <a:pt x="681" y="1765"/>
                  </a:lnTo>
                  <a:lnTo>
                    <a:pt x="701" y="1696"/>
                  </a:lnTo>
                  <a:lnTo>
                    <a:pt x="721" y="1616"/>
                  </a:lnTo>
                  <a:lnTo>
                    <a:pt x="738" y="1520"/>
                  </a:lnTo>
                  <a:lnTo>
                    <a:pt x="753" y="1410"/>
                  </a:lnTo>
                  <a:lnTo>
                    <a:pt x="767" y="1276"/>
                  </a:lnTo>
                  <a:lnTo>
                    <a:pt x="773" y="1149"/>
                  </a:lnTo>
                  <a:lnTo>
                    <a:pt x="773" y="985"/>
                  </a:lnTo>
                  <a:lnTo>
                    <a:pt x="767" y="851"/>
                  </a:lnTo>
                  <a:lnTo>
                    <a:pt x="760" y="768"/>
                  </a:lnTo>
                  <a:lnTo>
                    <a:pt x="751" y="693"/>
                  </a:lnTo>
                  <a:lnTo>
                    <a:pt x="742" y="625"/>
                  </a:lnTo>
                  <a:lnTo>
                    <a:pt x="731" y="571"/>
                  </a:lnTo>
                  <a:lnTo>
                    <a:pt x="720" y="502"/>
                  </a:lnTo>
                  <a:lnTo>
                    <a:pt x="701" y="425"/>
                  </a:lnTo>
                  <a:lnTo>
                    <a:pt x="685" y="368"/>
                  </a:lnTo>
                  <a:lnTo>
                    <a:pt x="665" y="309"/>
                  </a:lnTo>
                  <a:lnTo>
                    <a:pt x="653" y="278"/>
                  </a:lnTo>
                  <a:lnTo>
                    <a:pt x="638" y="239"/>
                  </a:lnTo>
                  <a:lnTo>
                    <a:pt x="622" y="202"/>
                  </a:lnTo>
                  <a:lnTo>
                    <a:pt x="598" y="158"/>
                  </a:lnTo>
                  <a:lnTo>
                    <a:pt x="581" y="131"/>
                  </a:lnTo>
                  <a:lnTo>
                    <a:pt x="565" y="109"/>
                  </a:lnTo>
                  <a:lnTo>
                    <a:pt x="548" y="85"/>
                  </a:lnTo>
                  <a:lnTo>
                    <a:pt x="527" y="61"/>
                  </a:lnTo>
                  <a:lnTo>
                    <a:pt x="508" y="43"/>
                  </a:lnTo>
                  <a:lnTo>
                    <a:pt x="482" y="23"/>
                  </a:lnTo>
                  <a:lnTo>
                    <a:pt x="455" y="10"/>
                  </a:lnTo>
                  <a:lnTo>
                    <a:pt x="432" y="3"/>
                  </a:lnTo>
                  <a:lnTo>
                    <a:pt x="409" y="0"/>
                  </a:lnTo>
                  <a:lnTo>
                    <a:pt x="383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6429240" y="1719360"/>
              <a:ext cx="324360" cy="762120"/>
              <a:chOff x="6429240" y="1719360"/>
              <a:chExt cx="324360" cy="762120"/>
            </a:xfrm>
          </p:grpSpPr>
          <p:sp>
            <p:nvSpPr>
              <p:cNvPr id="302" name=""/>
              <p:cNvSpPr/>
              <p:nvPr/>
            </p:nvSpPr>
            <p:spPr>
              <a:xfrm>
                <a:off x="6429240" y="1719360"/>
                <a:ext cx="317880" cy="394200"/>
              </a:xfrm>
              <a:custGeom>
                <a:avLst/>
                <a:gdLst/>
                <a:ahLst/>
                <a:rect l="0" t="0" r="r" b="b"/>
                <a:pathLst>
                  <a:path w="883" h="1095">
                    <a:moveTo>
                      <a:pt x="518" y="0"/>
                    </a:moveTo>
                    <a:lnTo>
                      <a:pt x="495" y="0"/>
                    </a:lnTo>
                    <a:lnTo>
                      <a:pt x="461" y="4"/>
                    </a:lnTo>
                    <a:lnTo>
                      <a:pt x="421" y="18"/>
                    </a:lnTo>
                    <a:lnTo>
                      <a:pt x="391" y="40"/>
                    </a:lnTo>
                    <a:lnTo>
                      <a:pt x="361" y="68"/>
                    </a:lnTo>
                    <a:lnTo>
                      <a:pt x="337" y="97"/>
                    </a:lnTo>
                    <a:lnTo>
                      <a:pt x="317" y="129"/>
                    </a:lnTo>
                    <a:lnTo>
                      <a:pt x="290" y="174"/>
                    </a:lnTo>
                    <a:lnTo>
                      <a:pt x="265" y="217"/>
                    </a:lnTo>
                    <a:lnTo>
                      <a:pt x="245" y="267"/>
                    </a:lnTo>
                    <a:lnTo>
                      <a:pt x="223" y="329"/>
                    </a:lnTo>
                    <a:lnTo>
                      <a:pt x="199" y="398"/>
                    </a:lnTo>
                    <a:lnTo>
                      <a:pt x="189" y="444"/>
                    </a:lnTo>
                    <a:lnTo>
                      <a:pt x="174" y="497"/>
                    </a:lnTo>
                    <a:lnTo>
                      <a:pt x="166" y="546"/>
                    </a:lnTo>
                    <a:lnTo>
                      <a:pt x="158" y="591"/>
                    </a:lnTo>
                    <a:lnTo>
                      <a:pt x="153" y="625"/>
                    </a:lnTo>
                    <a:lnTo>
                      <a:pt x="148" y="659"/>
                    </a:lnTo>
                    <a:lnTo>
                      <a:pt x="141" y="712"/>
                    </a:lnTo>
                    <a:lnTo>
                      <a:pt x="136" y="769"/>
                    </a:lnTo>
                    <a:lnTo>
                      <a:pt x="129" y="838"/>
                    </a:lnTo>
                    <a:lnTo>
                      <a:pt x="0" y="838"/>
                    </a:lnTo>
                    <a:lnTo>
                      <a:pt x="317" y="1095"/>
                    </a:lnTo>
                    <a:lnTo>
                      <a:pt x="675" y="838"/>
                    </a:lnTo>
                    <a:lnTo>
                      <a:pt x="530" y="838"/>
                    </a:lnTo>
                    <a:lnTo>
                      <a:pt x="535" y="791"/>
                    </a:lnTo>
                    <a:lnTo>
                      <a:pt x="541" y="739"/>
                    </a:lnTo>
                    <a:lnTo>
                      <a:pt x="549" y="682"/>
                    </a:lnTo>
                    <a:lnTo>
                      <a:pt x="556" y="625"/>
                    </a:lnTo>
                    <a:lnTo>
                      <a:pt x="566" y="575"/>
                    </a:lnTo>
                    <a:lnTo>
                      <a:pt x="574" y="530"/>
                    </a:lnTo>
                    <a:lnTo>
                      <a:pt x="591" y="453"/>
                    </a:lnTo>
                    <a:lnTo>
                      <a:pt x="608" y="386"/>
                    </a:lnTo>
                    <a:lnTo>
                      <a:pt x="622" y="338"/>
                    </a:lnTo>
                    <a:lnTo>
                      <a:pt x="634" y="300"/>
                    </a:lnTo>
                    <a:lnTo>
                      <a:pt x="649" y="260"/>
                    </a:lnTo>
                    <a:lnTo>
                      <a:pt x="663" y="231"/>
                    </a:lnTo>
                    <a:lnTo>
                      <a:pt x="678" y="199"/>
                    </a:lnTo>
                    <a:lnTo>
                      <a:pt x="690" y="174"/>
                    </a:lnTo>
                    <a:lnTo>
                      <a:pt x="704" y="151"/>
                    </a:lnTo>
                    <a:lnTo>
                      <a:pt x="717" y="129"/>
                    </a:lnTo>
                    <a:lnTo>
                      <a:pt x="735" y="104"/>
                    </a:lnTo>
                    <a:lnTo>
                      <a:pt x="749" y="86"/>
                    </a:lnTo>
                    <a:lnTo>
                      <a:pt x="767" y="66"/>
                    </a:lnTo>
                    <a:lnTo>
                      <a:pt x="783" y="50"/>
                    </a:lnTo>
                    <a:lnTo>
                      <a:pt x="798" y="38"/>
                    </a:lnTo>
                    <a:lnTo>
                      <a:pt x="816" y="25"/>
                    </a:lnTo>
                    <a:lnTo>
                      <a:pt x="834" y="15"/>
                    </a:lnTo>
                    <a:lnTo>
                      <a:pt x="850" y="9"/>
                    </a:lnTo>
                    <a:lnTo>
                      <a:pt x="864" y="4"/>
                    </a:lnTo>
                    <a:lnTo>
                      <a:pt x="883" y="0"/>
                    </a:lnTo>
                    <a:lnTo>
                      <a:pt x="518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472080" y="2097000"/>
                <a:ext cx="281520" cy="384480"/>
              </a:xfrm>
              <a:custGeom>
                <a:avLst/>
                <a:gdLst/>
                <a:ahLst/>
                <a:rect l="0" t="0" r="r" b="b"/>
                <a:pathLst>
                  <a:path w="782" h="1068">
                    <a:moveTo>
                      <a:pt x="405" y="0"/>
                    </a:moveTo>
                    <a:lnTo>
                      <a:pt x="192" y="152"/>
                    </a:lnTo>
                    <a:lnTo>
                      <a:pt x="0" y="9"/>
                    </a:lnTo>
                    <a:lnTo>
                      <a:pt x="0" y="73"/>
                    </a:lnTo>
                    <a:lnTo>
                      <a:pt x="2" y="164"/>
                    </a:lnTo>
                    <a:lnTo>
                      <a:pt x="9" y="244"/>
                    </a:lnTo>
                    <a:lnTo>
                      <a:pt x="17" y="333"/>
                    </a:lnTo>
                    <a:lnTo>
                      <a:pt x="29" y="424"/>
                    </a:lnTo>
                    <a:lnTo>
                      <a:pt x="44" y="513"/>
                    </a:lnTo>
                    <a:lnTo>
                      <a:pt x="56" y="568"/>
                    </a:lnTo>
                    <a:lnTo>
                      <a:pt x="73" y="636"/>
                    </a:lnTo>
                    <a:lnTo>
                      <a:pt x="88" y="697"/>
                    </a:lnTo>
                    <a:lnTo>
                      <a:pt x="105" y="747"/>
                    </a:lnTo>
                    <a:lnTo>
                      <a:pt x="123" y="793"/>
                    </a:lnTo>
                    <a:lnTo>
                      <a:pt x="143" y="845"/>
                    </a:lnTo>
                    <a:lnTo>
                      <a:pt x="163" y="884"/>
                    </a:lnTo>
                    <a:lnTo>
                      <a:pt x="185" y="922"/>
                    </a:lnTo>
                    <a:lnTo>
                      <a:pt x="208" y="956"/>
                    </a:lnTo>
                    <a:lnTo>
                      <a:pt x="226" y="979"/>
                    </a:lnTo>
                    <a:lnTo>
                      <a:pt x="246" y="999"/>
                    </a:lnTo>
                    <a:lnTo>
                      <a:pt x="264" y="1017"/>
                    </a:lnTo>
                    <a:lnTo>
                      <a:pt x="291" y="1038"/>
                    </a:lnTo>
                    <a:lnTo>
                      <a:pt x="313" y="1049"/>
                    </a:lnTo>
                    <a:lnTo>
                      <a:pt x="335" y="1059"/>
                    </a:lnTo>
                    <a:lnTo>
                      <a:pt x="355" y="1065"/>
                    </a:lnTo>
                    <a:lnTo>
                      <a:pt x="375" y="1068"/>
                    </a:lnTo>
                    <a:lnTo>
                      <a:pt x="395" y="1068"/>
                    </a:lnTo>
                    <a:lnTo>
                      <a:pt x="782" y="1068"/>
                    </a:lnTo>
                    <a:lnTo>
                      <a:pt x="755" y="1063"/>
                    </a:lnTo>
                    <a:lnTo>
                      <a:pt x="730" y="1056"/>
                    </a:lnTo>
                    <a:lnTo>
                      <a:pt x="705" y="1045"/>
                    </a:lnTo>
                    <a:lnTo>
                      <a:pt x="680" y="1029"/>
                    </a:lnTo>
                    <a:lnTo>
                      <a:pt x="656" y="1007"/>
                    </a:lnTo>
                    <a:lnTo>
                      <a:pt x="633" y="983"/>
                    </a:lnTo>
                    <a:lnTo>
                      <a:pt x="610" y="954"/>
                    </a:lnTo>
                    <a:lnTo>
                      <a:pt x="584" y="915"/>
                    </a:lnTo>
                    <a:lnTo>
                      <a:pt x="558" y="867"/>
                    </a:lnTo>
                    <a:lnTo>
                      <a:pt x="544" y="837"/>
                    </a:lnTo>
                    <a:lnTo>
                      <a:pt x="527" y="797"/>
                    </a:lnTo>
                    <a:lnTo>
                      <a:pt x="513" y="758"/>
                    </a:lnTo>
                    <a:lnTo>
                      <a:pt x="498" y="713"/>
                    </a:lnTo>
                    <a:lnTo>
                      <a:pt x="488" y="676"/>
                    </a:lnTo>
                    <a:lnTo>
                      <a:pt x="469" y="602"/>
                    </a:lnTo>
                    <a:lnTo>
                      <a:pt x="454" y="539"/>
                    </a:lnTo>
                    <a:lnTo>
                      <a:pt x="441" y="463"/>
                    </a:lnTo>
                    <a:lnTo>
                      <a:pt x="426" y="374"/>
                    </a:lnTo>
                    <a:lnTo>
                      <a:pt x="415" y="285"/>
                    </a:lnTo>
                    <a:lnTo>
                      <a:pt x="410" y="217"/>
                    </a:lnTo>
                    <a:lnTo>
                      <a:pt x="405" y="139"/>
                    </a:lnTo>
                    <a:lnTo>
                      <a:pt x="403" y="52"/>
                    </a:lnTo>
                    <a:lnTo>
                      <a:pt x="405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"/>
          <p:cNvSpPr/>
          <p:nvPr/>
        </p:nvSpPr>
        <p:spPr>
          <a:xfrm flipV="1">
            <a:off x="6276960" y="2252520"/>
            <a:ext cx="152280" cy="152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356000" y="36543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184800" y="16732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79360" y="35686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00160" y="3902040"/>
            <a:ext cx="16016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 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2847960" y="209520"/>
            <a:ext cx="3448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990720" y="1090440"/>
            <a:ext cx="716292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multi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ail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 design over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ments for an symmetric multiprocesso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asp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, utilizing multiple process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drivers, coding to supporting multiple process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abstraction lay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 flipV="1">
            <a:off x="2062080" y="3508200"/>
            <a:ext cx="0" cy="304920"/>
          </a:xfrm>
          <a:prstGeom prst="line">
            <a:avLst/>
          </a:prstGeom>
          <a:ln w="76320">
            <a:solidFill>
              <a:srgbClr val="b760f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2176560" y="1521000"/>
            <a:ext cx="1671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e matr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452920" y="1521000"/>
            <a:ext cx="1263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87440" y="4910040"/>
            <a:ext cx="16002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2333520" y="4896000"/>
            <a:ext cx="1523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le summ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909800" y="3500280"/>
            <a:ext cx="3049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025720" y="3862440"/>
            <a:ext cx="76320" cy="164952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924cc7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05120" y="4795920"/>
            <a:ext cx="30456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038480" y="3652920"/>
            <a:ext cx="1219320" cy="0"/>
          </a:xfrm>
          <a:prstGeom prst="line">
            <a:avLst/>
          </a:prstGeom>
          <a:ln w="7632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058760" y="1909800"/>
            <a:ext cx="320760" cy="27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7764480" y="1909800"/>
            <a:ext cx="320760" cy="25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Thread Schedu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338120" y="5562720"/>
            <a:ext cx="1606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Thread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287440" y="1981080"/>
            <a:ext cx="1600200" cy="2743560"/>
            <a:chOff x="2287440" y="1981080"/>
            <a:chExt cx="1600200" cy="2743560"/>
          </a:xfrm>
        </p:grpSpPr>
        <p:sp>
          <p:nvSpPr>
            <p:cNvPr id="323" name=""/>
            <p:cNvSpPr/>
            <p:nvPr/>
          </p:nvSpPr>
          <p:spPr>
            <a:xfrm>
              <a:off x="2287440" y="19810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287440" y="22860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287440" y="25909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287440" y="2895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87440" y="32004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87440" y="35053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87440" y="3809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87440" y="41148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87440" y="44197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2" name=""/>
          <p:cNvSpPr txBox="1"/>
          <p:nvPr/>
        </p:nvSpPr>
        <p:spPr>
          <a:xfrm>
            <a:off x="3471840" y="22827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786040" y="22827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2405160" y="289260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1515960" y="1994040"/>
            <a:ext cx="228600" cy="2743200"/>
            <a:chOff x="1515960" y="1994040"/>
            <a:chExt cx="228600" cy="2743200"/>
          </a:xfrm>
        </p:grpSpPr>
        <p:sp>
          <p:nvSpPr>
            <p:cNvPr id="336" name=""/>
            <p:cNvSpPr/>
            <p:nvPr/>
          </p:nvSpPr>
          <p:spPr>
            <a:xfrm>
              <a:off x="1515960" y="19940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515960" y="22986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515960" y="26035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515960" y="29084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15960" y="32130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15960" y="35179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515960" y="38228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515960" y="41274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515960" y="44323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5" name=""/>
          <p:cNvSpPr txBox="1"/>
          <p:nvPr/>
        </p:nvSpPr>
        <p:spPr>
          <a:xfrm>
            <a:off x="1481040" y="22575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81040" y="286704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81040" y="19526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411880" y="1981080"/>
            <a:ext cx="1600200" cy="2743560"/>
            <a:chOff x="5411880" y="1981080"/>
            <a:chExt cx="1600200" cy="2743560"/>
          </a:xfrm>
        </p:grpSpPr>
        <p:sp>
          <p:nvSpPr>
            <p:cNvPr id="349" name=""/>
            <p:cNvSpPr/>
            <p:nvPr/>
          </p:nvSpPr>
          <p:spPr>
            <a:xfrm>
              <a:off x="5411880" y="19810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411880" y="22860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411880" y="25909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11880" y="2895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411880" y="32004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411880" y="35053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11880" y="3809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11880" y="41148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411880" y="44197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8" name=""/>
          <p:cNvSpPr txBox="1"/>
          <p:nvPr/>
        </p:nvSpPr>
        <p:spPr>
          <a:xfrm>
            <a:off x="5452920" y="348948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5452920" y="287964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5452920" y="440388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7469280" y="1981080"/>
            <a:ext cx="228600" cy="2743560"/>
            <a:chOff x="7469280" y="1981080"/>
            <a:chExt cx="228600" cy="2743560"/>
          </a:xfrm>
        </p:grpSpPr>
        <p:sp>
          <p:nvSpPr>
            <p:cNvPr id="362" name=""/>
            <p:cNvSpPr/>
            <p:nvPr/>
          </p:nvSpPr>
          <p:spPr>
            <a:xfrm>
              <a:off x="7469280" y="19810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469280" y="22860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469280" y="25909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469280" y="2895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469280" y="32004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9280" y="35053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469280" y="38098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469280" y="41148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469280" y="44197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"/>
          <p:cNvSpPr txBox="1"/>
          <p:nvPr/>
        </p:nvSpPr>
        <p:spPr>
          <a:xfrm>
            <a:off x="7434360" y="289260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7434360" y="441648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7434360" y="35020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166920" y="197820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2176560" y="1373040"/>
            <a:ext cx="1671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e matr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5445000" y="1373040"/>
            <a:ext cx="1263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525680" y="1790640"/>
            <a:ext cx="228600" cy="2743560"/>
            <a:chOff x="1525680" y="1790640"/>
            <a:chExt cx="228600" cy="2743560"/>
          </a:xfrm>
        </p:grpSpPr>
        <p:sp>
          <p:nvSpPr>
            <p:cNvPr id="378" name=""/>
            <p:cNvSpPr/>
            <p:nvPr/>
          </p:nvSpPr>
          <p:spPr>
            <a:xfrm>
              <a:off x="1525680" y="17906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525680" y="20955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525680" y="2400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525680" y="27050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525680" y="30099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25680" y="33148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25680" y="36194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525680" y="39243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525680" y="42292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2211480" y="4762440"/>
            <a:ext cx="16002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2257560" y="4748040"/>
            <a:ext cx="1523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le summ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490760" y="20588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490760" y="330660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833480" y="2362320"/>
            <a:ext cx="3049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986120" y="1790640"/>
            <a:ext cx="1825560" cy="2743560"/>
            <a:chOff x="1986120" y="1790640"/>
            <a:chExt cx="1825560" cy="2743560"/>
          </a:xfrm>
        </p:grpSpPr>
        <p:sp>
          <p:nvSpPr>
            <p:cNvPr id="393" name=""/>
            <p:cNvSpPr/>
            <p:nvPr/>
          </p:nvSpPr>
          <p:spPr>
            <a:xfrm>
              <a:off x="2211480" y="17906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211480" y="20955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211480" y="2400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211480" y="27050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211480" y="30099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211480" y="3314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11480" y="36194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211480" y="39243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11480" y="42292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1986120" y="2370240"/>
              <a:ext cx="0" cy="304560"/>
            </a:xfrm>
            <a:prstGeom prst="line">
              <a:avLst/>
            </a:prstGeom>
            <a:ln w="76320">
              <a:solidFill>
                <a:srgbClr val="b760f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3962520" y="3505320"/>
            <a:ext cx="1218960" cy="0"/>
          </a:xfrm>
          <a:prstGeom prst="line">
            <a:avLst/>
          </a:prstGeom>
          <a:ln w="7632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1490760" y="26686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058760" y="1762200"/>
            <a:ext cx="320760" cy="27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7756560" y="1762200"/>
            <a:ext cx="320760" cy="25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Thread Schedu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338120" y="5281560"/>
            <a:ext cx="1606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Thread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949400" y="2712960"/>
            <a:ext cx="79200" cy="2554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924cc7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828800" y="4572000"/>
            <a:ext cx="3049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7392960" y="1790640"/>
            <a:ext cx="228600" cy="2743560"/>
            <a:chOff x="7392960" y="1790640"/>
            <a:chExt cx="228600" cy="2743560"/>
          </a:xfrm>
        </p:grpSpPr>
        <p:sp>
          <p:nvSpPr>
            <p:cNvPr id="412" name=""/>
            <p:cNvSpPr/>
            <p:nvPr/>
          </p:nvSpPr>
          <p:spPr>
            <a:xfrm>
              <a:off x="7392960" y="17906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392960" y="20955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92960" y="2400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392960" y="27050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392960" y="30099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92960" y="33148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392960" y="36194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92960" y="39243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392960" y="42292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"/>
          <p:cNvSpPr txBox="1"/>
          <p:nvPr/>
        </p:nvSpPr>
        <p:spPr>
          <a:xfrm>
            <a:off x="3462480" y="26510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2776680" y="20415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2362320" y="3260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124080" y="3260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5411880" y="1790640"/>
            <a:ext cx="1600200" cy="2743560"/>
            <a:chOff x="5411880" y="1790640"/>
            <a:chExt cx="1600200" cy="2743560"/>
          </a:xfrm>
        </p:grpSpPr>
        <p:sp>
          <p:nvSpPr>
            <p:cNvPr id="426" name=""/>
            <p:cNvSpPr/>
            <p:nvPr/>
          </p:nvSpPr>
          <p:spPr>
            <a:xfrm>
              <a:off x="5411880" y="17906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411880" y="20955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411880" y="2400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411880" y="27050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411880" y="30099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11880" y="3314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411880" y="36194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11880" y="39243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411880" y="42292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"/>
          <p:cNvSpPr txBox="1"/>
          <p:nvPr/>
        </p:nvSpPr>
        <p:spPr>
          <a:xfrm>
            <a:off x="5521320" y="327816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5521320" y="388764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5521320" y="419256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7350120" y="3260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7350120" y="388764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7350120" y="419256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1871640" y="1601640"/>
            <a:ext cx="1671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e matr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5757840" y="1601640"/>
            <a:ext cx="1263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906560" y="4991040"/>
            <a:ext cx="16002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952640" y="4976640"/>
            <a:ext cx="1523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le summ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483320" y="2332080"/>
            <a:ext cx="79200" cy="2554200"/>
          </a:xfrm>
          <a:prstGeom prst="rect">
            <a:avLst/>
          </a:prstGeom>
          <a:gradFill rotWithShape="0">
            <a:gsLst>
              <a:gs pos="0">
                <a:srgbClr val="924cc7"/>
              </a:gs>
              <a:gs pos="100000">
                <a:srgbClr val="b760f9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20040" y="4952880"/>
            <a:ext cx="0" cy="304920"/>
          </a:xfrm>
          <a:prstGeom prst="line">
            <a:avLst/>
          </a:prstGeom>
          <a:ln w="76320">
            <a:solidFill>
              <a:srgbClr val="b760f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362720" y="2317680"/>
            <a:ext cx="3049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362720" y="4765680"/>
            <a:ext cx="3049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788160" y="5329080"/>
            <a:ext cx="16002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6834240" y="5315040"/>
            <a:ext cx="1523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le summ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754200" y="1990800"/>
            <a:ext cx="320760" cy="27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8069400" y="1990800"/>
            <a:ext cx="320760" cy="25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Thread Schedu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3624120" y="2309760"/>
            <a:ext cx="192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FindNextThread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1220760" y="2019240"/>
            <a:ext cx="228600" cy="2743560"/>
            <a:chOff x="1220760" y="2019240"/>
            <a:chExt cx="228600" cy="2743560"/>
          </a:xfrm>
        </p:grpSpPr>
        <p:sp>
          <p:nvSpPr>
            <p:cNvPr id="456" name=""/>
            <p:cNvSpPr/>
            <p:nvPr/>
          </p:nvSpPr>
          <p:spPr>
            <a:xfrm>
              <a:off x="1220760" y="20192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20760" y="23241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220760" y="26290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220760" y="29336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220760" y="32385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22076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220760" y="38480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220760" y="41529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220760" y="44578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5" name=""/>
          <p:cNvSpPr txBox="1"/>
          <p:nvPr/>
        </p:nvSpPr>
        <p:spPr>
          <a:xfrm>
            <a:off x="1185840" y="22874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1185840" y="289728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1185840" y="1982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1185840" y="38116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1906560" y="2019240"/>
            <a:ext cx="1600200" cy="2743560"/>
            <a:chOff x="1906560" y="2019240"/>
            <a:chExt cx="1600200" cy="2743560"/>
          </a:xfrm>
        </p:grpSpPr>
        <p:sp>
          <p:nvSpPr>
            <p:cNvPr id="470" name=""/>
            <p:cNvSpPr/>
            <p:nvPr/>
          </p:nvSpPr>
          <p:spPr>
            <a:xfrm>
              <a:off x="1906560" y="20192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906560" y="23241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906560" y="26290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906560" y="29336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906560" y="32385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906560" y="3543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906560" y="38480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906560" y="41529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906560" y="4457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"/>
          <p:cNvSpPr txBox="1"/>
          <p:nvPr/>
        </p:nvSpPr>
        <p:spPr>
          <a:xfrm>
            <a:off x="3166920" y="22874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2481120" y="22874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2100240" y="28972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2862360" y="1982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2481120" y="38116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5640480" y="2019240"/>
            <a:ext cx="1600200" cy="2743560"/>
            <a:chOff x="5640480" y="2019240"/>
            <a:chExt cx="1600200" cy="2743560"/>
          </a:xfrm>
        </p:grpSpPr>
        <p:sp>
          <p:nvSpPr>
            <p:cNvPr id="485" name=""/>
            <p:cNvSpPr/>
            <p:nvPr/>
          </p:nvSpPr>
          <p:spPr>
            <a:xfrm>
              <a:off x="5640480" y="20192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40480" y="23241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40480" y="26290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40480" y="29336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640480" y="32385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640480" y="3543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640480" y="38480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640480" y="41529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40480" y="4457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4" name=""/>
          <p:cNvSpPr txBox="1"/>
          <p:nvPr/>
        </p:nvSpPr>
        <p:spPr>
          <a:xfrm>
            <a:off x="5757840" y="381168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5757840" y="442116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7773840" y="2019240"/>
            <a:ext cx="228600" cy="2743560"/>
            <a:chOff x="7773840" y="2019240"/>
            <a:chExt cx="228600" cy="2743560"/>
          </a:xfrm>
        </p:grpSpPr>
        <p:sp>
          <p:nvSpPr>
            <p:cNvPr id="497" name=""/>
            <p:cNvSpPr/>
            <p:nvPr/>
          </p:nvSpPr>
          <p:spPr>
            <a:xfrm>
              <a:off x="7773840" y="20192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773840" y="23241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773840" y="26290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773840" y="29336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773840" y="32385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77384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773840" y="38480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773840" y="41529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773840" y="44578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6" name=""/>
          <p:cNvSpPr txBox="1"/>
          <p:nvPr/>
        </p:nvSpPr>
        <p:spPr>
          <a:xfrm>
            <a:off x="7738920" y="38116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7738920" y="442116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2286000" y="1266840"/>
            <a:ext cx="4572000" cy="27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mmetric Multiprocessing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2286000" y="228600"/>
            <a:ext cx="4572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600120" y="1467000"/>
            <a:ext cx="7943760" cy="38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driver model includes supporting multiprocessor configu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 conforming to the device driver model are portable and MP-sa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 writers must take extra steps to ensure their drivers are multiprocessor-sa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 execute on any process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, DPC, ISR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2314440" y="228600"/>
            <a:ext cx="45147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1047600" y="1276200"/>
            <a:ext cx="704844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 request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riority level at which the processor is ru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 ISRs run at a priority level corresponding to the priority of the interru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mode runs at the lowest IRQ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scheduling can occur at IRQLs below DPC (or dispatch)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865160" y="628344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2314440" y="228600"/>
            <a:ext cx="45147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471680" y="1409760"/>
            <a:ext cx="6200640" cy="39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via SpinL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PC level or be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InitializeSpinLock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AcquireSpinLock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eleaseSpinLock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s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with IS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SynchronizeExection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990720" y="1581120"/>
            <a:ext cx="7162920" cy="26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zed DPC-level SpinL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AcquireSpinLockAtDpcLevel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eleaseSpinLockFromDpcLevel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aiseIrql(...) / KeLowerIrql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expediti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529000" y="22860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781200" y="1249200"/>
            <a:ext cx="758196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ommon pitfall...use of unguarded cou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0440" y="2381400"/>
            <a:ext cx="8763120" cy="396252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44520" y="2441520"/>
            <a:ext cx="814212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Don’t assume that a one machine code instruction is atom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as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ord ptr [ReferenceCount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This is not portable code, and it doesn’t work on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multiprocessor mac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667560" y="3828960"/>
            <a:ext cx="1143000" cy="1066680"/>
          </a:xfrm>
          <a:prstGeom prst="ellipse">
            <a:avLst/>
          </a:prstGeom>
          <a:noFill/>
          <a:ln w="76320">
            <a:solidFill>
              <a:srgbClr val="fc0128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6834240" y="3990960"/>
            <a:ext cx="804960" cy="73836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829560" y="3990960"/>
            <a:ext cx="804600" cy="73332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895320" y="1333440"/>
            <a:ext cx="735336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locked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ze SpinL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-performa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interlocked, SpinLock is not mixed with other SpinLock functions - interlock functions synchronize from any IRQL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mixed for synchronization, only use at DPC level or be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2529000" y="22860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M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57080" y="1562040"/>
            <a:ext cx="76294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 support built into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kernels UP and MP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rocessor-enabled kernel included standard with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device drivers are MP rea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 to 16 symmetric processors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hardware features supported outside the kernel (H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2314440" y="228600"/>
            <a:ext cx="45147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123920" y="1219320"/>
            <a:ext cx="68961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locked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Inte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ubly Linked 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y Linked 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L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nterlockedAddUlong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nterlockedIncrementLong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nterlockedDecrementLong(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2352600" y="228600"/>
            <a:ext cx="44388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714240" y="1333440"/>
            <a:ext cx="771516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locked LONG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ment and decrement are spe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ed result is tri-state EN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mixable with InterlockedAddUl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guaranteed to be synchronized with other SpinLock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 for shared-reference cou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 non-zero-based cou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 higher level lo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2400480" y="228600"/>
            <a:ext cx="4343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43080" y="1257480"/>
            <a:ext cx="8458200" cy="487692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708120" y="1592280"/>
            <a:ext cx="767700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Sample of negative one (-1) based shared cou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Connectio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ExInterlockIncrementLong (&amp;NoConnections, &amp;CNSpinLock) =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Zero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This is our first connection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opConnectio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ExInterlockDecrmentLong (&amp;NoConnections, &amp;CNSpinLock) =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Negative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last connection was just dropped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71680" y="4076640"/>
            <a:ext cx="8001000" cy="0"/>
          </a:xfrm>
          <a:prstGeom prst="line">
            <a:avLst/>
          </a:prstGeom>
          <a:ln w="76320">
            <a:solidFill>
              <a:srgbClr val="eaec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485640" y="18860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rdware Abstraction Lay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HAL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933480" y="1428840"/>
            <a:ext cx="727704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lates Windows NT from specific hardware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shrink-wrapped OS on wide range of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uniform model for devic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driver on systems with different I/O sub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its system-specific optimiz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rdware Abstraction Lay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1704960" y="228600"/>
            <a:ext cx="5734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bstracted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1057320" y="1733400"/>
            <a:ext cx="702936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-specific I/O   system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bus (or multiple system bus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MA contro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equirement for 82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 contro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equirement for 82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1600200" y="228600"/>
            <a:ext cx="59436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bstracted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1228680" y="1581120"/>
            <a:ext cx="668664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ti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equirement for 82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-specific cache coher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 flus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systems without DMA coh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-specific symmetric multiprocessor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2529000" y="20952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s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1504800" y="1467000"/>
            <a:ext cx="6134040" cy="42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TranslateBusAddress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for multiple b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tes any bus address to a system usable add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GetInterruptVector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for multiple b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s bus interrupt to a system v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GetBusData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channel P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2400480" y="209520"/>
            <a:ext cx="4343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s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43080" y="1257480"/>
            <a:ext cx="8415360" cy="530532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825480" y="1434960"/>
            <a:ext cx="73915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= IoReportUsage (...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ssSpace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space or I/O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c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= HalTranslateBusAddress (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InterfaceType,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MCA, Eisa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BusNumber,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BusRelativeAddres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AddressSpace,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Memory, I/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TranslatedAddress  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!AddressSpace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mapRequired = TRU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tedAddress = MmMapIoSpace (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tedAddres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ngth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SE );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Cache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2400480" y="209520"/>
            <a:ext cx="4343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s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43080" y="1257480"/>
            <a:ext cx="8458200" cy="487692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708120" y="1592280"/>
            <a:ext cx="712620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If source was a translate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ddress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= READ_PORT_ULONG (TranslatedAddres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 or 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_PORT_ULONG (TranslatedAddress, i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variations are read/write: uchar, ushort, ulong, buffer_uchar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buffer_ushort, buffer_ulo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If source was a translated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dd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= READ_REGISTER_ULONG (TranslatedAddress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 or 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_REGISTER_ULONG (TranslatedAddress, i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71680" y="4076640"/>
            <a:ext cx="8001000" cy="0"/>
          </a:xfrm>
          <a:prstGeom prst="line">
            <a:avLst/>
          </a:prstGeom>
          <a:ln w="76320">
            <a:solidFill>
              <a:srgbClr val="eaec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046160" y="1054080"/>
            <a:ext cx="6253560" cy="5048640"/>
            <a:chOff x="1046160" y="1054080"/>
            <a:chExt cx="6253560" cy="5048640"/>
          </a:xfrm>
        </p:grpSpPr>
        <p:sp>
          <p:nvSpPr>
            <p:cNvPr id="46" name=""/>
            <p:cNvSpPr txBox="1"/>
            <p:nvPr/>
          </p:nvSpPr>
          <p:spPr>
            <a:xfrm>
              <a:off x="1046160" y="1898640"/>
              <a:ext cx="1504800" cy="4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Softwar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1047600" y="5027760"/>
              <a:ext cx="1703520" cy="4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Hardwar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665440" y="5478480"/>
              <a:ext cx="881280" cy="578160"/>
            </a:xfrm>
            <a:custGeom>
              <a:avLst/>
              <a:gdLst/>
              <a:ahLst/>
              <a:rect l="0" t="0" r="r" b="b"/>
              <a:pathLst>
                <a:path w="2448" h="1606">
                  <a:moveTo>
                    <a:pt x="0" y="0"/>
                  </a:moveTo>
                  <a:lnTo>
                    <a:pt x="0" y="1606"/>
                  </a:lnTo>
                  <a:lnTo>
                    <a:pt x="2448" y="1606"/>
                  </a:lnTo>
                  <a:lnTo>
                    <a:pt x="244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d3c1"/>
                </a:gs>
                <a:gs pos="100000">
                  <a:srgbClr val="0e9387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66880" y="5270400"/>
              <a:ext cx="1111680" cy="213120"/>
            </a:xfrm>
            <a:custGeom>
              <a:avLst/>
              <a:gdLst/>
              <a:ahLst/>
              <a:rect l="0" t="0" r="r" b="b"/>
              <a:pathLst>
                <a:path w="3088" h="592">
                  <a:moveTo>
                    <a:pt x="3076" y="0"/>
                  </a:moveTo>
                  <a:lnTo>
                    <a:pt x="649" y="0"/>
                  </a:lnTo>
                  <a:lnTo>
                    <a:pt x="649" y="16"/>
                  </a:lnTo>
                  <a:lnTo>
                    <a:pt x="0" y="580"/>
                  </a:lnTo>
                  <a:lnTo>
                    <a:pt x="12" y="584"/>
                  </a:lnTo>
                  <a:lnTo>
                    <a:pt x="2422" y="584"/>
                  </a:lnTo>
                  <a:lnTo>
                    <a:pt x="2435" y="592"/>
                  </a:lnTo>
                  <a:lnTo>
                    <a:pt x="3088" y="16"/>
                  </a:lnTo>
                  <a:lnTo>
                    <a:pt x="3076" y="0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129360" y="5472000"/>
              <a:ext cx="59040" cy="628920"/>
            </a:xfrm>
            <a:custGeom>
              <a:avLst/>
              <a:gdLst/>
              <a:ahLst/>
              <a:rect l="0" t="0" r="r" b="b"/>
              <a:pathLst>
                <a:path w="164" h="1747">
                  <a:moveTo>
                    <a:pt x="0" y="146"/>
                  </a:moveTo>
                  <a:lnTo>
                    <a:pt x="164" y="0"/>
                  </a:lnTo>
                  <a:lnTo>
                    <a:pt x="164" y="4"/>
                  </a:lnTo>
                  <a:lnTo>
                    <a:pt x="164" y="1604"/>
                  </a:lnTo>
                  <a:lnTo>
                    <a:pt x="4" y="1747"/>
                  </a:lnTo>
                  <a:lnTo>
                    <a:pt x="0" y="1743"/>
                  </a:lnTo>
                  <a:lnTo>
                    <a:pt x="0" y="142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59040" y="1684440"/>
              <a:ext cx="4416480" cy="3336840"/>
            </a:xfrm>
            <a:prstGeom prst="rect">
              <a:avLst/>
            </a:prstGeom>
            <a:gradFill rotWithShape="0">
              <a:gsLst>
                <a:gs pos="0">
                  <a:srgbClr val="14d3c1"/>
                </a:gs>
                <a:gs pos="100000">
                  <a:srgbClr val="0e9387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11600" y="1120680"/>
              <a:ext cx="4421160" cy="509760"/>
            </a:xfrm>
            <a:prstGeom prst="rect">
              <a:avLst/>
            </a:prstGeom>
            <a:gradFill rotWithShape="0">
              <a:gsLst>
                <a:gs pos="0">
                  <a:srgbClr val="14d3c1"/>
                </a:gs>
                <a:gs pos="100000">
                  <a:srgbClr val="0e9387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053120" y="3882960"/>
              <a:ext cx="246600" cy="1246680"/>
            </a:xfrm>
            <a:custGeom>
              <a:avLst/>
              <a:gdLst/>
              <a:ahLst/>
              <a:rect l="0" t="0" r="r" b="b"/>
              <a:pathLst>
                <a:path w="685" h="3463">
                  <a:moveTo>
                    <a:pt x="681" y="2881"/>
                  </a:moveTo>
                  <a:lnTo>
                    <a:pt x="16" y="3459"/>
                  </a:lnTo>
                  <a:lnTo>
                    <a:pt x="4" y="3463"/>
                  </a:lnTo>
                  <a:lnTo>
                    <a:pt x="4" y="594"/>
                  </a:lnTo>
                  <a:lnTo>
                    <a:pt x="0" y="594"/>
                  </a:lnTo>
                  <a:lnTo>
                    <a:pt x="685" y="0"/>
                  </a:lnTo>
                  <a:lnTo>
                    <a:pt x="685" y="2869"/>
                  </a:lnTo>
                  <a:lnTo>
                    <a:pt x="681" y="2881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21480" y="3979800"/>
              <a:ext cx="1467360" cy="117720"/>
            </a:xfrm>
            <a:custGeom>
              <a:avLst/>
              <a:gdLst/>
              <a:ahLst/>
              <a:rect l="0" t="0" r="r" b="b"/>
              <a:pathLst>
                <a:path w="4076" h="327">
                  <a:moveTo>
                    <a:pt x="4064" y="0"/>
                  </a:moveTo>
                  <a:lnTo>
                    <a:pt x="373" y="0"/>
                  </a:lnTo>
                  <a:lnTo>
                    <a:pt x="0" y="323"/>
                  </a:lnTo>
                  <a:lnTo>
                    <a:pt x="3703" y="323"/>
                  </a:lnTo>
                  <a:lnTo>
                    <a:pt x="3707" y="327"/>
                  </a:lnTo>
                  <a:lnTo>
                    <a:pt x="4076" y="8"/>
                  </a:lnTo>
                  <a:lnTo>
                    <a:pt x="4064" y="0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75080" y="4802040"/>
              <a:ext cx="2691000" cy="127440"/>
            </a:xfrm>
            <a:custGeom>
              <a:avLst/>
              <a:gdLst/>
              <a:ahLst/>
              <a:rect l="0" t="0" r="r" b="b"/>
              <a:pathLst>
                <a:path w="7475" h="354">
                  <a:moveTo>
                    <a:pt x="196" y="189"/>
                  </a:moveTo>
                  <a:lnTo>
                    <a:pt x="1453" y="189"/>
                  </a:lnTo>
                  <a:lnTo>
                    <a:pt x="1466" y="189"/>
                  </a:lnTo>
                  <a:lnTo>
                    <a:pt x="1646" y="16"/>
                  </a:lnTo>
                  <a:lnTo>
                    <a:pt x="1654" y="0"/>
                  </a:lnTo>
                  <a:lnTo>
                    <a:pt x="6235" y="0"/>
                  </a:lnTo>
                  <a:lnTo>
                    <a:pt x="6235" y="8"/>
                  </a:lnTo>
                  <a:lnTo>
                    <a:pt x="6235" y="202"/>
                  </a:lnTo>
                  <a:lnTo>
                    <a:pt x="6239" y="202"/>
                  </a:lnTo>
                  <a:lnTo>
                    <a:pt x="7475" y="202"/>
                  </a:lnTo>
                  <a:lnTo>
                    <a:pt x="7299" y="354"/>
                  </a:lnTo>
                  <a:lnTo>
                    <a:pt x="8" y="354"/>
                  </a:lnTo>
                  <a:lnTo>
                    <a:pt x="0" y="354"/>
                  </a:lnTo>
                  <a:lnTo>
                    <a:pt x="180" y="202"/>
                  </a:lnTo>
                  <a:lnTo>
                    <a:pt x="196" y="189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70400" y="4927680"/>
              <a:ext cx="2627280" cy="25704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b200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94160" y="5526000"/>
              <a:ext cx="876600" cy="576720"/>
            </a:xfrm>
            <a:custGeom>
              <a:avLst/>
              <a:gdLst/>
              <a:ahLst/>
              <a:rect l="0" t="0" r="r" b="b"/>
              <a:pathLst>
                <a:path w="2435" h="1602">
                  <a:moveTo>
                    <a:pt x="0" y="0"/>
                  </a:moveTo>
                  <a:lnTo>
                    <a:pt x="0" y="1602"/>
                  </a:lnTo>
                  <a:lnTo>
                    <a:pt x="2435" y="1602"/>
                  </a:lnTo>
                  <a:lnTo>
                    <a:pt x="2435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ffb"/>
                </a:gs>
                <a:gs pos="100000">
                  <a:srgbClr val="0b37af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249880" y="5526000"/>
              <a:ext cx="879840" cy="576720"/>
            </a:xfrm>
            <a:custGeom>
              <a:avLst/>
              <a:gdLst/>
              <a:ahLst/>
              <a:rect l="0" t="0" r="r" b="b"/>
              <a:pathLst>
                <a:path w="2444" h="1602">
                  <a:moveTo>
                    <a:pt x="0" y="0"/>
                  </a:moveTo>
                  <a:lnTo>
                    <a:pt x="0" y="1602"/>
                  </a:lnTo>
                  <a:lnTo>
                    <a:pt x="2444" y="1602"/>
                  </a:lnTo>
                  <a:lnTo>
                    <a:pt x="244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ffb"/>
                </a:gs>
                <a:gs pos="100000">
                  <a:srgbClr val="0b37af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367160" y="5522760"/>
              <a:ext cx="876240" cy="57312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100000">
                  <a:srgbClr val="0b37af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186600" y="5478480"/>
              <a:ext cx="881280" cy="578160"/>
            </a:xfrm>
            <a:custGeom>
              <a:avLst/>
              <a:gdLst/>
              <a:ahLst/>
              <a:rect l="0" t="0" r="r" b="b"/>
              <a:pathLst>
                <a:path w="2448" h="1606">
                  <a:moveTo>
                    <a:pt x="0" y="0"/>
                  </a:moveTo>
                  <a:lnTo>
                    <a:pt x="0" y="1606"/>
                  </a:lnTo>
                  <a:lnTo>
                    <a:pt x="2448" y="1606"/>
                  </a:lnTo>
                  <a:lnTo>
                    <a:pt x="244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d3c1"/>
                </a:gs>
                <a:gs pos="100000">
                  <a:srgbClr val="0e9387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064280" y="5275440"/>
              <a:ext cx="233640" cy="779760"/>
            </a:xfrm>
            <a:custGeom>
              <a:avLst/>
              <a:gdLst/>
              <a:ahLst/>
              <a:rect l="0" t="0" r="r" b="b"/>
              <a:pathLst>
                <a:path w="649" h="2166">
                  <a:moveTo>
                    <a:pt x="8" y="2166"/>
                  </a:moveTo>
                  <a:lnTo>
                    <a:pt x="649" y="1608"/>
                  </a:lnTo>
                  <a:lnTo>
                    <a:pt x="649" y="1595"/>
                  </a:lnTo>
                  <a:lnTo>
                    <a:pt x="649" y="0"/>
                  </a:lnTo>
                  <a:lnTo>
                    <a:pt x="640" y="4"/>
                  </a:lnTo>
                  <a:lnTo>
                    <a:pt x="0" y="562"/>
                  </a:lnTo>
                  <a:lnTo>
                    <a:pt x="0" y="2153"/>
                  </a:lnTo>
                  <a:lnTo>
                    <a:pt x="8" y="2166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16280" y="1065240"/>
              <a:ext cx="4482000" cy="60840"/>
            </a:xfrm>
            <a:custGeom>
              <a:avLst/>
              <a:gdLst/>
              <a:ahLst/>
              <a:rect l="0" t="0" r="r" b="b"/>
              <a:pathLst>
                <a:path w="12450" h="169">
                  <a:moveTo>
                    <a:pt x="12450" y="0"/>
                  </a:moveTo>
                  <a:lnTo>
                    <a:pt x="188" y="0"/>
                  </a:lnTo>
                  <a:lnTo>
                    <a:pt x="175" y="4"/>
                  </a:lnTo>
                  <a:lnTo>
                    <a:pt x="0" y="165"/>
                  </a:lnTo>
                  <a:lnTo>
                    <a:pt x="12266" y="165"/>
                  </a:lnTo>
                  <a:lnTo>
                    <a:pt x="12278" y="169"/>
                  </a:lnTo>
                  <a:lnTo>
                    <a:pt x="12450" y="16"/>
                  </a:lnTo>
                  <a:lnTo>
                    <a:pt x="12450" y="0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237440" y="1071720"/>
              <a:ext cx="60840" cy="565560"/>
            </a:xfrm>
            <a:custGeom>
              <a:avLst/>
              <a:gdLst/>
              <a:ahLst/>
              <a:rect l="0" t="0" r="r" b="b"/>
              <a:pathLst>
                <a:path w="169" h="1571">
                  <a:moveTo>
                    <a:pt x="0" y="1563"/>
                  </a:moveTo>
                  <a:lnTo>
                    <a:pt x="0" y="159"/>
                  </a:lnTo>
                  <a:lnTo>
                    <a:pt x="0" y="150"/>
                  </a:lnTo>
                  <a:lnTo>
                    <a:pt x="169" y="4"/>
                  </a:lnTo>
                  <a:lnTo>
                    <a:pt x="169" y="0"/>
                  </a:lnTo>
                  <a:lnTo>
                    <a:pt x="169" y="1416"/>
                  </a:lnTo>
                  <a:lnTo>
                    <a:pt x="169" y="1425"/>
                  </a:lnTo>
                  <a:lnTo>
                    <a:pt x="0" y="1571"/>
                  </a:lnTo>
                  <a:lnTo>
                    <a:pt x="0" y="1563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62280" y="1635120"/>
              <a:ext cx="4476960" cy="52920"/>
            </a:xfrm>
            <a:custGeom>
              <a:avLst/>
              <a:gdLst/>
              <a:ahLst/>
              <a:rect l="0" t="0" r="r" b="b"/>
              <a:pathLst>
                <a:path w="12436" h="147">
                  <a:moveTo>
                    <a:pt x="12436" y="4"/>
                  </a:moveTo>
                  <a:lnTo>
                    <a:pt x="12277" y="147"/>
                  </a:lnTo>
                  <a:lnTo>
                    <a:pt x="12268" y="147"/>
                  </a:lnTo>
                  <a:lnTo>
                    <a:pt x="4" y="147"/>
                  </a:lnTo>
                  <a:lnTo>
                    <a:pt x="0" y="147"/>
                  </a:lnTo>
                  <a:lnTo>
                    <a:pt x="159" y="8"/>
                  </a:lnTo>
                  <a:lnTo>
                    <a:pt x="167" y="0"/>
                  </a:lnTo>
                  <a:lnTo>
                    <a:pt x="12428" y="0"/>
                  </a:lnTo>
                  <a:lnTo>
                    <a:pt x="12436" y="4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180200" y="1584360"/>
              <a:ext cx="119520" cy="2400840"/>
            </a:xfrm>
            <a:custGeom>
              <a:avLst/>
              <a:gdLst/>
              <a:ahLst/>
              <a:rect l="0" t="0" r="r" b="b"/>
              <a:pathLst>
                <a:path w="332" h="6669">
                  <a:moveTo>
                    <a:pt x="0" y="288"/>
                  </a:moveTo>
                  <a:lnTo>
                    <a:pt x="328" y="0"/>
                  </a:lnTo>
                  <a:lnTo>
                    <a:pt x="328" y="6384"/>
                  </a:lnTo>
                  <a:lnTo>
                    <a:pt x="332" y="6384"/>
                  </a:lnTo>
                  <a:lnTo>
                    <a:pt x="4" y="6669"/>
                  </a:lnTo>
                  <a:lnTo>
                    <a:pt x="0" y="6669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186600" y="5272200"/>
              <a:ext cx="1109880" cy="206640"/>
            </a:xfrm>
            <a:custGeom>
              <a:avLst/>
              <a:gdLst/>
              <a:ahLst/>
              <a:rect l="0" t="0" r="r" b="b"/>
              <a:pathLst>
                <a:path w="3083" h="574">
                  <a:moveTo>
                    <a:pt x="636" y="16"/>
                  </a:moveTo>
                  <a:lnTo>
                    <a:pt x="12" y="557"/>
                  </a:lnTo>
                  <a:lnTo>
                    <a:pt x="0" y="570"/>
                  </a:lnTo>
                  <a:lnTo>
                    <a:pt x="2425" y="570"/>
                  </a:lnTo>
                  <a:lnTo>
                    <a:pt x="2434" y="574"/>
                  </a:lnTo>
                  <a:lnTo>
                    <a:pt x="3083" y="4"/>
                  </a:lnTo>
                  <a:lnTo>
                    <a:pt x="3083" y="0"/>
                  </a:lnTo>
                  <a:lnTo>
                    <a:pt x="661" y="0"/>
                  </a:lnTo>
                  <a:lnTo>
                    <a:pt x="636" y="16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705040" y="2921040"/>
              <a:ext cx="3543480" cy="52920"/>
            </a:xfrm>
            <a:custGeom>
              <a:avLst/>
              <a:gdLst/>
              <a:ahLst/>
              <a:rect l="0" t="0" r="r" b="b"/>
              <a:pathLst>
                <a:path w="9843" h="147">
                  <a:moveTo>
                    <a:pt x="9843" y="0"/>
                  </a:moveTo>
                  <a:lnTo>
                    <a:pt x="163" y="0"/>
                  </a:lnTo>
                  <a:lnTo>
                    <a:pt x="163" y="4"/>
                  </a:lnTo>
                  <a:lnTo>
                    <a:pt x="0" y="147"/>
                  </a:lnTo>
                  <a:lnTo>
                    <a:pt x="4" y="147"/>
                  </a:lnTo>
                  <a:lnTo>
                    <a:pt x="9667" y="147"/>
                  </a:lnTo>
                  <a:lnTo>
                    <a:pt x="9675" y="147"/>
                  </a:lnTo>
                  <a:lnTo>
                    <a:pt x="9835" y="4"/>
                  </a:lnTo>
                  <a:lnTo>
                    <a:pt x="9843" y="0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184800" y="2922480"/>
              <a:ext cx="70200" cy="1117800"/>
            </a:xfrm>
            <a:custGeom>
              <a:avLst/>
              <a:gdLst/>
              <a:ahLst/>
              <a:rect l="0" t="0" r="r" b="b"/>
              <a:pathLst>
                <a:path w="195" h="3105">
                  <a:moveTo>
                    <a:pt x="4" y="3105"/>
                  </a:moveTo>
                  <a:lnTo>
                    <a:pt x="190" y="2937"/>
                  </a:lnTo>
                  <a:lnTo>
                    <a:pt x="195" y="2929"/>
                  </a:lnTo>
                  <a:lnTo>
                    <a:pt x="195" y="0"/>
                  </a:lnTo>
                  <a:lnTo>
                    <a:pt x="173" y="0"/>
                  </a:lnTo>
                  <a:lnTo>
                    <a:pt x="8" y="138"/>
                  </a:lnTo>
                  <a:lnTo>
                    <a:pt x="0" y="155"/>
                  </a:lnTo>
                  <a:lnTo>
                    <a:pt x="0" y="3080"/>
                  </a:lnTo>
                  <a:lnTo>
                    <a:pt x="4" y="3105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41680" y="4037040"/>
              <a:ext cx="1425960" cy="63720"/>
            </a:xfrm>
            <a:custGeom>
              <a:avLst/>
              <a:gdLst/>
              <a:ahLst/>
              <a:rect l="0" t="0" r="r" b="b"/>
              <a:pathLst>
                <a:path w="3961" h="177">
                  <a:moveTo>
                    <a:pt x="3945" y="8"/>
                  </a:moveTo>
                  <a:lnTo>
                    <a:pt x="200" y="8"/>
                  </a:lnTo>
                  <a:lnTo>
                    <a:pt x="188" y="0"/>
                  </a:lnTo>
                  <a:lnTo>
                    <a:pt x="0" y="168"/>
                  </a:lnTo>
                  <a:lnTo>
                    <a:pt x="12" y="177"/>
                  </a:lnTo>
                  <a:lnTo>
                    <a:pt x="3781" y="177"/>
                  </a:lnTo>
                  <a:lnTo>
                    <a:pt x="3961" y="12"/>
                  </a:lnTo>
                  <a:lnTo>
                    <a:pt x="3945" y="8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87680" y="5273640"/>
              <a:ext cx="2932560" cy="252720"/>
            </a:xfrm>
            <a:custGeom>
              <a:avLst/>
              <a:gdLst/>
              <a:ahLst/>
              <a:rect l="0" t="0" r="r" b="b"/>
              <a:pathLst>
                <a:path w="8146" h="702">
                  <a:moveTo>
                    <a:pt x="0" y="697"/>
                  </a:moveTo>
                  <a:lnTo>
                    <a:pt x="795" y="12"/>
                  </a:lnTo>
                  <a:lnTo>
                    <a:pt x="816" y="0"/>
                  </a:lnTo>
                  <a:lnTo>
                    <a:pt x="8146" y="0"/>
                  </a:lnTo>
                  <a:lnTo>
                    <a:pt x="8138" y="12"/>
                  </a:lnTo>
                  <a:lnTo>
                    <a:pt x="7338" y="702"/>
                  </a:lnTo>
                  <a:lnTo>
                    <a:pt x="7330" y="702"/>
                  </a:lnTo>
                  <a:lnTo>
                    <a:pt x="16" y="702"/>
                  </a:lnTo>
                  <a:lnTo>
                    <a:pt x="16" y="697"/>
                  </a:lnTo>
                  <a:lnTo>
                    <a:pt x="7326" y="697"/>
                  </a:lnTo>
                  <a:lnTo>
                    <a:pt x="0" y="697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4370400" y="5273640"/>
              <a:ext cx="295200" cy="255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5249880" y="5273640"/>
              <a:ext cx="293760" cy="255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21480" y="4097160"/>
              <a:ext cx="1335600" cy="1038600"/>
            </a:xfrm>
            <a:custGeom>
              <a:avLst/>
              <a:gdLst/>
              <a:ahLst/>
              <a:rect l="0" t="0" r="r" b="b"/>
              <a:pathLst>
                <a:path w="3710" h="2885">
                  <a:moveTo>
                    <a:pt x="3706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156"/>
                  </a:lnTo>
                  <a:lnTo>
                    <a:pt x="0" y="2160"/>
                  </a:lnTo>
                  <a:lnTo>
                    <a:pt x="1239" y="2160"/>
                  </a:lnTo>
                  <a:lnTo>
                    <a:pt x="1239" y="2885"/>
                  </a:lnTo>
                  <a:lnTo>
                    <a:pt x="1244" y="2885"/>
                  </a:lnTo>
                  <a:lnTo>
                    <a:pt x="3706" y="2885"/>
                  </a:lnTo>
                  <a:lnTo>
                    <a:pt x="3710" y="2885"/>
                  </a:lnTo>
                  <a:lnTo>
                    <a:pt x="3710" y="4"/>
                  </a:lnTo>
                  <a:lnTo>
                    <a:pt x="3706" y="0"/>
                  </a:lnTo>
                  <a:close/>
                </a:path>
              </a:pathLst>
            </a:custGeom>
            <a:gradFill rotWithShape="0">
              <a:gsLst>
                <a:gs pos="0">
                  <a:srgbClr val="00dfca"/>
                </a:gs>
                <a:gs pos="100000">
                  <a:srgbClr val="009c8d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102360" y="4875120"/>
              <a:ext cx="66960" cy="316440"/>
            </a:xfrm>
            <a:custGeom>
              <a:avLst/>
              <a:gdLst/>
              <a:ahLst/>
              <a:rect l="0" t="0" r="r" b="b"/>
              <a:pathLst>
                <a:path w="186" h="879">
                  <a:moveTo>
                    <a:pt x="186" y="0"/>
                  </a:moveTo>
                  <a:lnTo>
                    <a:pt x="4" y="154"/>
                  </a:lnTo>
                  <a:lnTo>
                    <a:pt x="0" y="162"/>
                  </a:lnTo>
                  <a:lnTo>
                    <a:pt x="0" y="875"/>
                  </a:lnTo>
                  <a:lnTo>
                    <a:pt x="0" y="879"/>
                  </a:lnTo>
                  <a:lnTo>
                    <a:pt x="181" y="724"/>
                  </a:lnTo>
                  <a:lnTo>
                    <a:pt x="181" y="720"/>
                  </a:lnTo>
                  <a:lnTo>
                    <a:pt x="181" y="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06840" y="2979720"/>
              <a:ext cx="3476880" cy="1822680"/>
            </a:xfrm>
            <a:custGeom>
              <a:avLst/>
              <a:gdLst/>
              <a:ahLst/>
              <a:rect l="0" t="0" r="r" b="b"/>
              <a:pathLst>
                <a:path w="9658" h="5063">
                  <a:moveTo>
                    <a:pt x="0" y="0"/>
                  </a:moveTo>
                  <a:lnTo>
                    <a:pt x="9658" y="0"/>
                  </a:lnTo>
                  <a:lnTo>
                    <a:pt x="9658" y="8"/>
                  </a:lnTo>
                  <a:lnTo>
                    <a:pt x="9658" y="2932"/>
                  </a:lnTo>
                  <a:lnTo>
                    <a:pt x="9658" y="2936"/>
                  </a:lnTo>
                  <a:lnTo>
                    <a:pt x="8552" y="2936"/>
                  </a:lnTo>
                  <a:lnTo>
                    <a:pt x="8544" y="2940"/>
                  </a:lnTo>
                  <a:lnTo>
                    <a:pt x="8372" y="3091"/>
                  </a:lnTo>
                  <a:lnTo>
                    <a:pt x="8368" y="3099"/>
                  </a:lnTo>
                  <a:lnTo>
                    <a:pt x="8368" y="5063"/>
                  </a:lnTo>
                  <a:lnTo>
                    <a:pt x="8368" y="5059"/>
                  </a:lnTo>
                  <a:lnTo>
                    <a:pt x="3781" y="5059"/>
                  </a:lnTo>
                  <a:lnTo>
                    <a:pt x="3781" y="5063"/>
                  </a:lnTo>
                  <a:lnTo>
                    <a:pt x="3781" y="2936"/>
                  </a:lnTo>
                  <a:lnTo>
                    <a:pt x="0" y="2936"/>
                  </a:lnTo>
                  <a:lnTo>
                    <a:pt x="0" y="2932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dfca"/>
                </a:gs>
                <a:gs pos="100000">
                  <a:srgbClr val="009c8d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05040" y="2976480"/>
              <a:ext cx="0" cy="1060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91320" y="4035600"/>
              <a:ext cx="39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98880" y="4041720"/>
              <a:ext cx="73440" cy="827280"/>
            </a:xfrm>
            <a:custGeom>
              <a:avLst/>
              <a:gdLst/>
              <a:ahLst/>
              <a:rect l="0" t="0" r="r" b="b"/>
              <a:pathLst>
                <a:path w="204" h="2298">
                  <a:moveTo>
                    <a:pt x="4" y="176"/>
                  </a:moveTo>
                  <a:lnTo>
                    <a:pt x="200" y="0"/>
                  </a:lnTo>
                  <a:lnTo>
                    <a:pt x="200" y="8"/>
                  </a:lnTo>
                  <a:lnTo>
                    <a:pt x="200" y="2130"/>
                  </a:lnTo>
                  <a:lnTo>
                    <a:pt x="204" y="2130"/>
                  </a:lnTo>
                  <a:lnTo>
                    <a:pt x="12" y="2298"/>
                  </a:lnTo>
                  <a:lnTo>
                    <a:pt x="0" y="2298"/>
                  </a:lnTo>
                  <a:lnTo>
                    <a:pt x="0" y="201"/>
                  </a:lnTo>
                  <a:lnTo>
                    <a:pt x="4" y="176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38440" y="4097160"/>
              <a:ext cx="1364040" cy="1033920"/>
            </a:xfrm>
            <a:custGeom>
              <a:avLst/>
              <a:gdLst/>
              <a:ahLst/>
              <a:rect l="0" t="0" r="r" b="b"/>
              <a:pathLst>
                <a:path w="3789" h="2872">
                  <a:moveTo>
                    <a:pt x="2502" y="2146"/>
                  </a:moveTo>
                  <a:lnTo>
                    <a:pt x="3773" y="2146"/>
                  </a:lnTo>
                  <a:lnTo>
                    <a:pt x="3785" y="2146"/>
                  </a:lnTo>
                  <a:lnTo>
                    <a:pt x="3785" y="12"/>
                  </a:lnTo>
                  <a:lnTo>
                    <a:pt x="3789" y="0"/>
                  </a:lnTo>
                  <a:lnTo>
                    <a:pt x="12" y="0"/>
                  </a:lnTo>
                  <a:lnTo>
                    <a:pt x="0" y="8"/>
                  </a:lnTo>
                  <a:lnTo>
                    <a:pt x="0" y="2872"/>
                  </a:lnTo>
                  <a:lnTo>
                    <a:pt x="2313" y="2872"/>
                  </a:lnTo>
                  <a:lnTo>
                    <a:pt x="2318" y="2872"/>
                  </a:lnTo>
                  <a:lnTo>
                    <a:pt x="2318" y="2315"/>
                  </a:lnTo>
                  <a:lnTo>
                    <a:pt x="2326" y="2315"/>
                  </a:lnTo>
                  <a:lnTo>
                    <a:pt x="2510" y="2160"/>
                  </a:lnTo>
                  <a:lnTo>
                    <a:pt x="2502" y="2146"/>
                  </a:lnTo>
                  <a:close/>
                </a:path>
              </a:pathLst>
            </a:custGeom>
            <a:gradFill rotWithShape="0">
              <a:gsLst>
                <a:gs pos="0">
                  <a:srgbClr val="14d3c1"/>
                </a:gs>
                <a:gs pos="100000">
                  <a:srgbClr val="0e9387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3925800" y="1054080"/>
              <a:ext cx="1601640" cy="68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pplication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3511440" y="1353960"/>
              <a:ext cx="2549520" cy="531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User-mode instruction set)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2879640" y="1838160"/>
              <a:ext cx="4114800" cy="590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indows NT Executive and Subsystem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3724200" y="2206800"/>
              <a:ext cx="2465280" cy="34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 Windows</a:t>
              </a:r>
              <a:r>
                <a:rPr b="0" lang="en-US" sz="19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™</a:t>
              </a: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- OS/2</a:t>
              </a:r>
              <a:r>
                <a:rPr b="0" lang="en-US" sz="19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®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3724200" y="2541600"/>
              <a:ext cx="2138400" cy="34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 POSIX          - Etc.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3692520" y="3278160"/>
              <a:ext cx="1393920" cy="68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/O system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2784600" y="4189320"/>
              <a:ext cx="96516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vice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2784600" y="4524480"/>
              <a:ext cx="95076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river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5967360" y="4363920"/>
              <a:ext cx="93492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ernel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4457880" y="4889520"/>
              <a:ext cx="74916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AL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2894040" y="5545080"/>
              <a:ext cx="378000" cy="254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/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2738520" y="5732640"/>
              <a:ext cx="631800" cy="254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vic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3522600" y="5597640"/>
              <a:ext cx="828720" cy="441360"/>
              <a:chOff x="3522600" y="5597640"/>
              <a:chExt cx="828720" cy="441360"/>
            </a:xfrm>
          </p:grpSpPr>
          <p:sp>
            <p:nvSpPr>
              <p:cNvPr id="93" name=""/>
              <p:cNvSpPr txBox="1"/>
              <p:nvPr/>
            </p:nvSpPr>
            <p:spPr>
              <a:xfrm>
                <a:off x="3541680" y="5597640"/>
                <a:ext cx="80964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DMA/Bu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 txBox="1"/>
              <p:nvPr/>
            </p:nvSpPr>
            <p:spPr>
              <a:xfrm>
                <a:off x="3522600" y="5784840"/>
                <a:ext cx="80172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ontrolle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 txBox="1"/>
            <p:nvPr/>
          </p:nvSpPr>
          <p:spPr>
            <a:xfrm>
              <a:off x="4440240" y="5719680"/>
              <a:ext cx="606600" cy="254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ime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5307120" y="5616720"/>
              <a:ext cx="766800" cy="438120"/>
              <a:chOff x="5307120" y="5616720"/>
              <a:chExt cx="766800" cy="438120"/>
            </a:xfrm>
          </p:grpSpPr>
          <p:sp>
            <p:nvSpPr>
              <p:cNvPr id="97" name=""/>
              <p:cNvSpPr txBox="1"/>
              <p:nvPr/>
            </p:nvSpPr>
            <p:spPr>
              <a:xfrm>
                <a:off x="5381640" y="5616720"/>
                <a:ext cx="65232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aches,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 txBox="1"/>
              <p:nvPr/>
            </p:nvSpPr>
            <p:spPr>
              <a:xfrm>
                <a:off x="5307120" y="5800680"/>
                <a:ext cx="76680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Interrupt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6127920" y="5457960"/>
              <a:ext cx="936720" cy="627120"/>
              <a:chOff x="6127920" y="5457960"/>
              <a:chExt cx="936720" cy="627120"/>
            </a:xfrm>
          </p:grpSpPr>
          <p:sp>
            <p:nvSpPr>
              <p:cNvPr id="100" name=""/>
              <p:cNvSpPr txBox="1"/>
              <p:nvPr/>
            </p:nvSpPr>
            <p:spPr>
              <a:xfrm>
                <a:off x="6388200" y="5457960"/>
                <a:ext cx="47160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PU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 txBox="1"/>
              <p:nvPr/>
            </p:nvSpPr>
            <p:spPr>
              <a:xfrm>
                <a:off x="6195960" y="5645160"/>
                <a:ext cx="80172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Privileged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 txBox="1"/>
              <p:nvPr/>
            </p:nvSpPr>
            <p:spPr>
              <a:xfrm>
                <a:off x="6127920" y="5830920"/>
                <a:ext cx="93672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Architectur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3543120" y="209520"/>
            <a:ext cx="2057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M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619200" y="1295280"/>
            <a:ext cx="7905600" cy="36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manages “adapter object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stracts access to system DMA contro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stracts system memory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GetAdapter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AllocateAdapterChannel(...) IoFreeAdapterChannel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per transfer access to system D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733920" y="209520"/>
            <a:ext cx="1676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M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282680" y="1333440"/>
            <a:ext cx="6578640" cy="34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MapTransfer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tes DMA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umes full memory scatter/gather DMA and full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HAL to thunk DMA transfers if requi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FlushAdapterBuffers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1819440" y="209520"/>
            <a:ext cx="55054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rupt Contro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704880" y="1428840"/>
            <a:ext cx="7734240" cy="43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functions to enable/disable ve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Begin/EndSystemInterrupt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ex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es EO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priorities are abstra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 request level (IRQ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assigns device interrupt IRQ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IRQ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2400480" y="209520"/>
            <a:ext cx="4343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s Interrup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14280" y="928800"/>
            <a:ext cx="8415360" cy="573408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811080" y="1042920"/>
            <a:ext cx="7423200" cy="55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= IoReportUsage 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nterruptVector = HalGetInterruptVector 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InterfaceType,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MCA, Eisa,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BusNumber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BusInterruptLevel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BusInterruptVector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SystemInterruptIrql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SystemInterruptAffinityMask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nterruptObject = NUL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= IoConnectInterrupt 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pInterruptObjec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ServiceRoutin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Context,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(device objec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LL,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optional PKSPIN_L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nterruptVector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nterruptIrql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nterruptIrql,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Syncrhonize Irq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Mode,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Exclusive or sha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nterruptAffinityMask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SE );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ISR uses floating-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1571760" y="1468440"/>
            <a:ext cx="600084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ing multiple proces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90440" y="2362320"/>
            <a:ext cx="8420040" cy="342900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44520" y="244152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85920" y="2644920"/>
            <a:ext cx="7689960" cy="28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LEAN HalStartNextProcessor (pLoaderBlock, pProcessorSta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NoMoreProcesso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FALS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ad ProcessorState into a new proces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TRU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324480" y="3886200"/>
            <a:ext cx="1828800" cy="1523880"/>
            <a:chOff x="6324480" y="3886200"/>
            <a:chExt cx="1828800" cy="1523880"/>
          </a:xfrm>
        </p:grpSpPr>
        <p:sp>
          <p:nvSpPr>
            <p:cNvPr id="565" name=""/>
            <p:cNvSpPr/>
            <p:nvPr/>
          </p:nvSpPr>
          <p:spPr>
            <a:xfrm>
              <a:off x="6324480" y="3886200"/>
              <a:ext cx="1828800" cy="152388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 txBox="1"/>
            <p:nvPr/>
          </p:nvSpPr>
          <p:spPr>
            <a:xfrm>
              <a:off x="6346800" y="389880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400800" y="4419720"/>
              <a:ext cx="1676520" cy="914400"/>
            </a:xfrm>
            <a:prstGeom prst="rect">
              <a:avLst/>
            </a:prstGeom>
            <a:noFill/>
            <a:ln w="12600">
              <a:solidFill>
                <a:srgbClr val="00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 txBox="1"/>
            <p:nvPr/>
          </p:nvSpPr>
          <p:spPr>
            <a:xfrm>
              <a:off x="6402240" y="4402080"/>
              <a:ext cx="15987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gister fi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477120" y="480060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477120" y="495288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781680" y="480060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781680" y="495288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086600" y="480060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086600" y="495288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391520" y="480060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391520" y="495288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477120" y="510552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781680" y="510552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086600" y="510552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391520" y="510552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696080" y="480060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696080" y="495288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696080" y="510552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2209680" y="4495680"/>
            <a:ext cx="4038840" cy="533880"/>
          </a:xfrm>
          <a:custGeom>
            <a:avLst/>
            <a:gdLst/>
            <a:ahLst/>
            <a:rect l="0" t="0" r="r" b="b"/>
            <a:pathLst>
              <a:path fill="none" w="11219" h="1483">
                <a:moveTo>
                  <a:pt x="0" y="0"/>
                </a:moveTo>
                <a:lnTo>
                  <a:pt x="0" y="0"/>
                </a:lnTo>
                <a:cubicBezTo>
                  <a:pt x="0" y="260"/>
                  <a:pt x="518" y="516"/>
                  <a:pt x="1503" y="742"/>
                </a:cubicBezTo>
                <a:cubicBezTo>
                  <a:pt x="2488" y="967"/>
                  <a:pt x="3904" y="1154"/>
                  <a:pt x="5610" y="1284"/>
                </a:cubicBezTo>
                <a:cubicBezTo>
                  <a:pt x="7315" y="1414"/>
                  <a:pt x="9250" y="1483"/>
                  <a:pt x="11219" y="1483"/>
                </a:cubicBezTo>
              </a:path>
            </a:pathLst>
          </a:custGeom>
          <a:ln w="38160">
            <a:solidFill>
              <a:srgbClr val="fafd00"/>
            </a:solidFill>
            <a:round/>
            <a:tail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2133720" y="209520"/>
            <a:ext cx="4876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process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1400040" y="1468440"/>
            <a:ext cx="634356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ing multiple proces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61800" y="2666880"/>
            <a:ext cx="8420040" cy="266688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4520" y="244152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385920" y="2720880"/>
            <a:ext cx="7130880" cy="22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ID  HalInitializeProcessor (pLoaderBloc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Hal internal initialization of the Processor Control Reg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2133720" y="190440"/>
            <a:ext cx="4876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process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2133720" y="209520"/>
            <a:ext cx="4876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process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1606680" y="1390680"/>
            <a:ext cx="593100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RequestIPI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 interprocessor interrupt to specified proces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60440" y="3314880"/>
            <a:ext cx="8223120" cy="266688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876240" y="3478320"/>
            <a:ext cx="506880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ID HalRequestIPI (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)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IPIPort = ProcessorMask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3543120" y="3506760"/>
            <a:ext cx="1225800" cy="396720"/>
            <a:chOff x="3543120" y="3506760"/>
            <a:chExt cx="1225800" cy="396720"/>
          </a:xfrm>
        </p:grpSpPr>
        <p:sp>
          <p:nvSpPr>
            <p:cNvPr id="596" name=""/>
            <p:cNvSpPr/>
            <p:nvPr/>
          </p:nvSpPr>
          <p:spPr>
            <a:xfrm>
              <a:off x="357840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 txBox="1"/>
            <p:nvPr/>
          </p:nvSpPr>
          <p:spPr>
            <a:xfrm>
              <a:off x="3543120" y="350676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03560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 txBox="1"/>
            <p:nvPr/>
          </p:nvSpPr>
          <p:spPr>
            <a:xfrm>
              <a:off x="4000680" y="350676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700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 txBox="1"/>
            <p:nvPr/>
          </p:nvSpPr>
          <p:spPr>
            <a:xfrm>
              <a:off x="3771720" y="350676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49280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 txBox="1"/>
            <p:nvPr/>
          </p:nvSpPr>
          <p:spPr>
            <a:xfrm>
              <a:off x="4457880" y="350676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26420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 txBox="1"/>
            <p:nvPr/>
          </p:nvSpPr>
          <p:spPr>
            <a:xfrm>
              <a:off x="4228920" y="350676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5635800" y="3924360"/>
            <a:ext cx="2286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600520" y="38876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635800" y="5067360"/>
            <a:ext cx="2286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600520" y="50306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635800" y="4305240"/>
            <a:ext cx="2286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600520" y="4268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635800" y="4686480"/>
            <a:ext cx="2286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600520" y="46497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635800" y="5448240"/>
            <a:ext cx="2286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600520" y="5411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6000840" y="3878280"/>
            <a:ext cx="466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6000840" y="4259160"/>
            <a:ext cx="1679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1 - interru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6000840" y="4640400"/>
            <a:ext cx="1679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2 - interru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6000840" y="5402160"/>
            <a:ext cx="1679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4 - interru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6000840" y="5021280"/>
            <a:ext cx="466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882960" y="4000680"/>
            <a:ext cx="1524240" cy="533880"/>
          </a:xfrm>
          <a:custGeom>
            <a:avLst/>
            <a:gdLst/>
            <a:ahLst/>
            <a:rect l="0" t="0" r="r" b="b"/>
            <a:pathLst>
              <a:path fill="none" w="4234" h="1483">
                <a:moveTo>
                  <a:pt x="0" y="0"/>
                </a:moveTo>
                <a:lnTo>
                  <a:pt x="0" y="0"/>
                </a:lnTo>
                <a:cubicBezTo>
                  <a:pt x="0" y="260"/>
                  <a:pt x="196" y="516"/>
                  <a:pt x="567" y="742"/>
                </a:cubicBezTo>
                <a:cubicBezTo>
                  <a:pt x="939" y="967"/>
                  <a:pt x="1473" y="1154"/>
                  <a:pt x="2117" y="1284"/>
                </a:cubicBezTo>
                <a:cubicBezTo>
                  <a:pt x="2761" y="1414"/>
                  <a:pt x="3491" y="1483"/>
                  <a:pt x="4234" y="1483"/>
                </a:cubicBezTo>
              </a:path>
            </a:pathLst>
          </a:custGeom>
          <a:ln w="76320">
            <a:solidFill>
              <a:srgbClr val="fafd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2209680" y="209520"/>
            <a:ext cx="4724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Tim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1247760" y="1352520"/>
            <a:ext cx="664848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iodic c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calls kernel at periodic intervals from each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calls kernel at specified rate from each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PerformanceCounter for fine grain tim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-time clock mainten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,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 txBox="1"/>
          <p:nvPr/>
        </p:nvSpPr>
        <p:spPr>
          <a:xfrm>
            <a:off x="485640" y="2301840"/>
            <a:ext cx="817236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tting U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61960" y="1619280"/>
            <a:ext cx="80200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automatically detects proper HAL to install shipped with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will automatically install MP kernel on recognized MP configu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d-party HALs supported by Set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EM-supplied disket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 or MP kernel installed based on setup information file on OEM-supplied disket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tting U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052640"/>
            <a:ext cx="8496360" cy="54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8120" indent="-438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305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86 HALs includ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A/EIS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486c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A/EISA with 486 c stepping process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mca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channel H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ast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T Manhatt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cbus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ollary MP techn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ncr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CR MP product lines (3x seri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oli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ivette LSX50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sp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Q SYSTEMPRO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SYSTEMPRO/XL,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r, ALR, ICL, Micron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wyse7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yse 740 and 76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305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us, others v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EM diskette during Set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orized Windows NT rese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Multiprocess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3809880"/>
            <a:ext cx="6934320" cy="380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19320" y="3809880"/>
            <a:ext cx="69343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System b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48520" y="4495680"/>
            <a:ext cx="1600200" cy="1676520"/>
          </a:xfrm>
          <a:prstGeom prst="rect">
            <a:avLst/>
          </a:prstGeom>
          <a:gradFill rotWithShape="0">
            <a:gsLst>
              <a:gs pos="0">
                <a:srgbClr val="5cb28c"/>
              </a:gs>
              <a:gs pos="100000">
                <a:srgbClr val="84ffc8"/>
              </a:gs>
            </a:gsLst>
            <a:lin ang="2700000"/>
          </a:gra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442200" y="4784760"/>
            <a:ext cx="12668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41911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38680" y="35812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5812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35812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35812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38280" y="41911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4495680"/>
            <a:ext cx="1371600" cy="685800"/>
          </a:xfrm>
          <a:prstGeom prst="rect">
            <a:avLst/>
          </a:prstGeom>
          <a:gradFill rotWithShape="0">
            <a:gsLst>
              <a:gs pos="0">
                <a:srgbClr val="5cb28c"/>
              </a:gs>
              <a:gs pos="100000">
                <a:srgbClr val="84ffc8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89280" y="4525920"/>
            <a:ext cx="1278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ue lo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51814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7400" y="5486400"/>
            <a:ext cx="838440" cy="838440"/>
            <a:chOff x="2057400" y="5486400"/>
            <a:chExt cx="838440" cy="838440"/>
          </a:xfrm>
        </p:grpSpPr>
        <p:sp>
          <p:nvSpPr>
            <p:cNvPr id="122" name=""/>
            <p:cNvSpPr/>
            <p:nvPr/>
          </p:nvSpPr>
          <p:spPr>
            <a:xfrm>
              <a:off x="2057400" y="548640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62320" y="548640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57400" y="563868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62320" y="563868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57400" y="579132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62320" y="579132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57400" y="594360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62320" y="594360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57400" y="609588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62320" y="609588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57400" y="624852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62320" y="624852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"/>
          <p:cNvSpPr txBox="1"/>
          <p:nvPr/>
        </p:nvSpPr>
        <p:spPr>
          <a:xfrm>
            <a:off x="1927080" y="4811760"/>
            <a:ext cx="12222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EISA b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41911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90800" y="4495680"/>
            <a:ext cx="1619280" cy="9907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790800" y="4495680"/>
            <a:ext cx="16192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igh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295280" y="2286000"/>
            <a:ext cx="914400" cy="1341360"/>
            <a:chOff x="1295280" y="2286000"/>
            <a:chExt cx="914400" cy="1341360"/>
          </a:xfrm>
        </p:grpSpPr>
        <p:sp>
          <p:nvSpPr>
            <p:cNvPr id="139" name=""/>
            <p:cNvSpPr/>
            <p:nvPr/>
          </p:nvSpPr>
          <p:spPr>
            <a:xfrm>
              <a:off x="1295280" y="2286000"/>
              <a:ext cx="914400" cy="83808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3276720"/>
              <a:ext cx="914400" cy="3049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1355760" y="23464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1355760" y="3230640"/>
              <a:ext cx="7905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ch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52480" y="31240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590920" y="2286000"/>
            <a:ext cx="914400" cy="1341360"/>
            <a:chOff x="2590920" y="2286000"/>
            <a:chExt cx="914400" cy="1341360"/>
          </a:xfrm>
        </p:grpSpPr>
        <p:sp>
          <p:nvSpPr>
            <p:cNvPr id="145" name=""/>
            <p:cNvSpPr/>
            <p:nvPr/>
          </p:nvSpPr>
          <p:spPr>
            <a:xfrm>
              <a:off x="2590920" y="2286000"/>
              <a:ext cx="914400" cy="83808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90920" y="3276720"/>
              <a:ext cx="914400" cy="3049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2651040" y="23464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2651040" y="3230640"/>
              <a:ext cx="7905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ch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48120" y="31240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886200" y="2286000"/>
            <a:ext cx="914400" cy="1341360"/>
            <a:chOff x="3886200" y="2286000"/>
            <a:chExt cx="914400" cy="1341360"/>
          </a:xfrm>
        </p:grpSpPr>
        <p:sp>
          <p:nvSpPr>
            <p:cNvPr id="151" name=""/>
            <p:cNvSpPr/>
            <p:nvPr/>
          </p:nvSpPr>
          <p:spPr>
            <a:xfrm>
              <a:off x="3886200" y="2286000"/>
              <a:ext cx="914400" cy="83808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86200" y="3276720"/>
              <a:ext cx="914400" cy="3049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3946680" y="23464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3946680" y="3230640"/>
              <a:ext cx="7905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ch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43400" y="31240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5181480" y="2286000"/>
            <a:ext cx="914400" cy="1341360"/>
            <a:chOff x="5181480" y="2286000"/>
            <a:chExt cx="914400" cy="1341360"/>
          </a:xfrm>
        </p:grpSpPr>
        <p:sp>
          <p:nvSpPr>
            <p:cNvPr id="157" name=""/>
            <p:cNvSpPr/>
            <p:nvPr/>
          </p:nvSpPr>
          <p:spPr>
            <a:xfrm>
              <a:off x="5181480" y="2286000"/>
              <a:ext cx="914400" cy="83808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81480" y="3276720"/>
              <a:ext cx="914400" cy="3049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5241960" y="23464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5241960" y="3230640"/>
              <a:ext cx="7905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ch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38680" y="31240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"/>
          <p:cNvSpPr txBox="1"/>
          <p:nvPr/>
        </p:nvSpPr>
        <p:spPr>
          <a:xfrm>
            <a:off x="1047600" y="1373040"/>
            <a:ext cx="323856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285920" y="1733400"/>
            <a:ext cx="6572160" cy="32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lability of SMP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execution can occur on any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PCs (deferred procedure call) can be executed on any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interrupts can be serviced by any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Multiprocess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2076480" y="209520"/>
            <a:ext cx="4991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Hard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42840" y="1523880"/>
            <a:ext cx="725796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must provide atomic re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be able to interrupt any other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support a periodic timer interru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support a profile interru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