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15160" y="69840"/>
            <a:ext cx="3216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2nd talk) 6/93 </a:t>
            </a:r>
            <a:fld id="{13FD17B5-2660-4D72-B1F2-EB5297F932A8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85640" y="5144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Strate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57320" y="1714680"/>
            <a:ext cx="70293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04480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9680" y="296712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573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56360" y="346716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2560" y="5640480"/>
            <a:ext cx="3772080" cy="457200"/>
            <a:chOff x="2752560" y="5640480"/>
            <a:chExt cx="3772080" cy="457200"/>
          </a:xfrm>
        </p:grpSpPr>
        <p:sp>
          <p:nvSpPr>
            <p:cNvPr id="50" name=""/>
            <p:cNvSpPr/>
            <p:nvPr/>
          </p:nvSpPr>
          <p:spPr>
            <a:xfrm>
              <a:off x="2752560" y="564048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197160" y="572436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154480" y="3664080"/>
            <a:ext cx="1359000" cy="1782720"/>
            <a:chOff x="5154480" y="3664080"/>
            <a:chExt cx="1359000" cy="1782720"/>
          </a:xfrm>
        </p:grpSpPr>
        <p:sp>
          <p:nvSpPr>
            <p:cNvPr id="53" name=""/>
            <p:cNvSpPr/>
            <p:nvPr/>
          </p:nvSpPr>
          <p:spPr>
            <a:xfrm>
              <a:off x="5154480" y="366408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5286240" y="443088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40400" y="297324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30440" y="296712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359712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81160" y="554688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89760" y="538020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2890800"/>
            <a:ext cx="4891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09640" y="30700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97160" y="2043000"/>
            <a:ext cx="2732040" cy="776160"/>
            <a:chOff x="2297160" y="2043000"/>
            <a:chExt cx="2732040" cy="776160"/>
          </a:xfrm>
        </p:grpSpPr>
        <p:sp>
          <p:nvSpPr>
            <p:cNvPr id="63" name=""/>
            <p:cNvSpPr/>
            <p:nvPr/>
          </p:nvSpPr>
          <p:spPr>
            <a:xfrm>
              <a:off x="2297160" y="204300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900520" y="217152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5343480" y="214632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404172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2160" y="435456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366408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520236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366408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7960" y="389088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0240" y="404172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3160" y="434484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7440" y="296712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  The Key To UNIX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3360" y="1739880"/>
            <a:ext cx="847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recognized as the common-denominator protocol across many diverse platforms, including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on Windows NT off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pen, scalable networking protocol for the built-in networking services on Windows NT (file, print, e-ma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s for connectivity to heterogeneous systems, including basic connectivity utilities such as FTP client and server, Telnet, and r*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ramework for heterogeneous client-server development using Windows Sockets and DCE-compliant R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nd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1486080"/>
            <a:ext cx="70866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CP/IP represents Microsoft’s strategic internetworking protocol for Scalable Windows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3314880"/>
            <a:ext cx="716292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evelopments will focus on filling out our TCP/IP technologies to build very large, very manageable Windows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continue to support third party development efforts to build quality connectivity application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22860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Connectivity Options Through ISV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6440" y="1733400"/>
            <a:ext cx="77914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:  client and server under development by several vendors, public domain server availabl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: client development libraries and tools, several X server implementa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MTP, Telnet server, other network services and utilitie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Windows Sockets support allows emerging 16-bit applications to run un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ling Out The Windows NT TCP/IP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33600" y="4210200"/>
            <a:ext cx="2724120" cy="104760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84520" y="1938240"/>
            <a:ext cx="194328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TP, r*, Tel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19240" y="3443400"/>
            <a:ext cx="2108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9360" y="2948040"/>
            <a:ext cx="13208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79840" y="3462480"/>
            <a:ext cx="61596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4120" y="3443400"/>
            <a:ext cx="24004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89480" y="2128680"/>
            <a:ext cx="19810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lib, ONC/R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77960" y="2662200"/>
            <a:ext cx="1892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,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5715000"/>
            <a:ext cx="647640" cy="39996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27400" y="5767560"/>
            <a:ext cx="516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by third parties, or research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51400" y="2948040"/>
            <a:ext cx="16574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W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040" y="6248520"/>
            <a:ext cx="647640" cy="399960"/>
          </a:xfrm>
          <a:prstGeom prst="rect">
            <a:avLst/>
          </a:prstGeom>
          <a:solidFill>
            <a:srgbClr val="006b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6480" y="631980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with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