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005520" y="0"/>
            <a:ext cx="31258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. Allard93101 xhibition’93 (3rd talk) 6/93 </a:t>
            </a:r>
            <a:fld id="{6C897509-5475-4F34-A7EA-7F55122D1D4B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1133640"/>
            <a:ext cx="81723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</a:t>
            </a:r>
            <a:r>
              <a:rPr b="1" lang="en-US" sz="4800" spc="-1" strike="noStrike" baseline="30000">
                <a:solidFill>
                  <a:srgbClr val="fafd00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TCP/IP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echnologies And Strategies</a:t>
            </a: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J. Allard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 Manager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 Technologies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85640" y="228600"/>
            <a:ext cx="8172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sues Introduced With LAN Manager And B-nod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33320" y="2098800"/>
            <a:ext cx="767700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fects only LAN Manager domains which span routed subn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 group “multicasts” are implemented as IP broadcasts and do not pass rou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fects server announcements, DC pulses, logon requests, and messaging (as these are implemented as NetBIOS group multicas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Extensions for LAN Manager offer relief in routed domai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81160" y="228600"/>
            <a:ext cx="8583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 Extensions For LAN Manag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25600" y="4664160"/>
            <a:ext cx="809316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issues a net logon request (NetBIOS multicast to domain resulting in IP broadcas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Request is picked up by local node service and forwarded to the hub over a TCP connectio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ef9100"/>
                </a:solidFill>
                <a:latin typeface="Times New Roman"/>
                <a:ea typeface="Times New Roman"/>
              </a:rPr>
              <a:t>Hub distributes request to all other nodes within the doma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Receiving nodes rebroadcast request, caching name/address mapping from the incoming pack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 on remote subnet attempts to resolve client name/address mapping  via b-node (local broadcas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de (local to DC) “proxies” response on behalf of 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 establishes secure channel with client for authenticatio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166760"/>
            <a:ext cx="8134200" cy="31384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65160" y="1609560"/>
            <a:ext cx="2292480" cy="1192320"/>
          </a:xfrm>
          <a:prstGeom prst="roundRect">
            <a:avLst/>
          </a:prstGeom>
          <a:noFill/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52360" y="2444760"/>
            <a:ext cx="731880" cy="700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808600" y="1652760"/>
            <a:ext cx="2335320" cy="1128600"/>
          </a:xfrm>
          <a:prstGeom prst="roundRect">
            <a:avLst/>
          </a:prstGeom>
          <a:noFill/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4160" y="2987640"/>
            <a:ext cx="2077920" cy="1028880"/>
          </a:xfrm>
          <a:prstGeom prst="roundRect">
            <a:avLst/>
          </a:prstGeom>
          <a:noFill/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275000" y="2666880"/>
            <a:ext cx="730080" cy="700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781760" y="2216160"/>
            <a:ext cx="731880" cy="700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271600" y="2801880"/>
            <a:ext cx="0" cy="6796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71600" y="3552840"/>
            <a:ext cx="12225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15280" y="2781360"/>
            <a:ext cx="0" cy="6490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572080" y="3487680"/>
            <a:ext cx="94320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217600" y="3376440"/>
            <a:ext cx="297000" cy="366840"/>
          </a:xfrm>
          <a:prstGeom prst="rect">
            <a:avLst/>
          </a:prstGeom>
          <a:solidFill>
            <a:srgbClr val="00279f"/>
          </a:solidFill>
          <a:ln w="1260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1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2681280" y="1330200"/>
            <a:ext cx="731880" cy="700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537000" y="1773360"/>
            <a:ext cx="1043280" cy="686160"/>
          </a:xfrm>
          <a:custGeom>
            <a:avLst/>
            <a:gdLst/>
            <a:ahLst/>
            <a:rect l="0" t="0" r="r" b="b"/>
            <a:pathLst>
              <a:path fill="none" w="2898" h="1906">
                <a:moveTo>
                  <a:pt x="2898" y="1906"/>
                </a:moveTo>
                <a:lnTo>
                  <a:pt x="2898" y="1906"/>
                </a:lnTo>
                <a:lnTo>
                  <a:pt x="2898" y="1906"/>
                </a:lnTo>
                <a:cubicBezTo>
                  <a:pt x="2898" y="1571"/>
                  <a:pt x="2764" y="1243"/>
                  <a:pt x="2510" y="953"/>
                </a:cubicBezTo>
                <a:cubicBezTo>
                  <a:pt x="2255" y="663"/>
                  <a:pt x="1890" y="423"/>
                  <a:pt x="1449" y="255"/>
                </a:cubicBezTo>
                <a:cubicBezTo>
                  <a:pt x="1008" y="88"/>
                  <a:pt x="509" y="0"/>
                  <a:pt x="0" y="0"/>
                </a:cubicBezTo>
              </a:path>
            </a:pathLst>
          </a:custGeom>
          <a:ln w="12600">
            <a:solidFill>
              <a:srgbClr val="3365fb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712960" y="2046240"/>
            <a:ext cx="720720" cy="38736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4400" y="3032280"/>
            <a:ext cx="847800" cy="38736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777080" y="2940120"/>
            <a:ext cx="847800" cy="38736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210200" y="3327480"/>
            <a:ext cx="847800" cy="38736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84400" y="1809720"/>
            <a:ext cx="1397520" cy="681480"/>
          </a:xfrm>
          <a:custGeom>
            <a:avLst/>
            <a:gdLst/>
            <a:ahLst/>
            <a:rect l="0" t="0" r="r" b="b"/>
            <a:pathLst>
              <a:path fill="none" w="3882" h="1893">
                <a:moveTo>
                  <a:pt x="0" y="1893"/>
                </a:moveTo>
                <a:lnTo>
                  <a:pt x="0" y="1704"/>
                </a:lnTo>
                <a:lnTo>
                  <a:pt x="4" y="1488"/>
                </a:lnTo>
                <a:lnTo>
                  <a:pt x="4" y="1310"/>
                </a:lnTo>
                <a:lnTo>
                  <a:pt x="4" y="1129"/>
                </a:lnTo>
                <a:lnTo>
                  <a:pt x="4" y="834"/>
                </a:lnTo>
                <a:lnTo>
                  <a:pt x="4" y="596"/>
                </a:lnTo>
                <a:lnTo>
                  <a:pt x="4" y="414"/>
                </a:lnTo>
                <a:lnTo>
                  <a:pt x="17" y="238"/>
                </a:lnTo>
                <a:lnTo>
                  <a:pt x="110" y="97"/>
                </a:lnTo>
                <a:lnTo>
                  <a:pt x="268" y="0"/>
                </a:lnTo>
                <a:lnTo>
                  <a:pt x="793" y="0"/>
                </a:lnTo>
                <a:lnTo>
                  <a:pt x="1032" y="0"/>
                </a:lnTo>
                <a:lnTo>
                  <a:pt x="1271" y="0"/>
                </a:lnTo>
                <a:lnTo>
                  <a:pt x="1584" y="0"/>
                </a:lnTo>
                <a:lnTo>
                  <a:pt x="1822" y="0"/>
                </a:lnTo>
                <a:lnTo>
                  <a:pt x="2060" y="0"/>
                </a:lnTo>
                <a:lnTo>
                  <a:pt x="2377" y="0"/>
                </a:lnTo>
                <a:lnTo>
                  <a:pt x="2690" y="0"/>
                </a:lnTo>
                <a:lnTo>
                  <a:pt x="2930" y="0"/>
                </a:lnTo>
                <a:lnTo>
                  <a:pt x="3247" y="4"/>
                </a:lnTo>
                <a:lnTo>
                  <a:pt x="3450" y="0"/>
                </a:lnTo>
                <a:lnTo>
                  <a:pt x="3613" y="44"/>
                </a:lnTo>
                <a:lnTo>
                  <a:pt x="3732" y="141"/>
                </a:lnTo>
                <a:lnTo>
                  <a:pt x="3803" y="211"/>
                </a:lnTo>
                <a:lnTo>
                  <a:pt x="3882" y="392"/>
                </a:lnTo>
                <a:lnTo>
                  <a:pt x="3878" y="1191"/>
                </a:lnTo>
                <a:lnTo>
                  <a:pt x="3878" y="1368"/>
                </a:lnTo>
                <a:lnTo>
                  <a:pt x="3878" y="1554"/>
                </a:lnTo>
                <a:lnTo>
                  <a:pt x="3812" y="1704"/>
                </a:lnTo>
                <a:lnTo>
                  <a:pt x="3714" y="1801"/>
                </a:lnTo>
                <a:lnTo>
                  <a:pt x="3582" y="1871"/>
                </a:lnTo>
                <a:lnTo>
                  <a:pt x="2761" y="1880"/>
                </a:lnTo>
                <a:lnTo>
                  <a:pt x="2399" y="1876"/>
                </a:lnTo>
                <a:lnTo>
                  <a:pt x="2060" y="1880"/>
                </a:lnTo>
              </a:path>
            </a:pathLst>
          </a:custGeom>
          <a:ln w="12600">
            <a:solidFill>
              <a:srgbClr val="14d3c1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28880" y="3224160"/>
            <a:ext cx="1543320" cy="643320"/>
          </a:xfrm>
          <a:custGeom>
            <a:avLst/>
            <a:gdLst/>
            <a:ahLst/>
            <a:rect l="0" t="0" r="r" b="b"/>
            <a:pathLst>
              <a:path fill="none" w="4287" h="1787">
                <a:moveTo>
                  <a:pt x="3674" y="0"/>
                </a:moveTo>
                <a:lnTo>
                  <a:pt x="3982" y="0"/>
                </a:lnTo>
                <a:lnTo>
                  <a:pt x="4212" y="101"/>
                </a:lnTo>
                <a:lnTo>
                  <a:pt x="4287" y="304"/>
                </a:lnTo>
                <a:lnTo>
                  <a:pt x="4287" y="459"/>
                </a:lnTo>
                <a:lnTo>
                  <a:pt x="4287" y="662"/>
                </a:lnTo>
                <a:lnTo>
                  <a:pt x="4287" y="971"/>
                </a:lnTo>
                <a:lnTo>
                  <a:pt x="4287" y="1125"/>
                </a:lnTo>
                <a:lnTo>
                  <a:pt x="4287" y="1328"/>
                </a:lnTo>
                <a:lnTo>
                  <a:pt x="4287" y="1527"/>
                </a:lnTo>
                <a:lnTo>
                  <a:pt x="4159" y="1664"/>
                </a:lnTo>
                <a:lnTo>
                  <a:pt x="4013" y="1752"/>
                </a:lnTo>
                <a:lnTo>
                  <a:pt x="3762" y="1787"/>
                </a:lnTo>
                <a:lnTo>
                  <a:pt x="3444" y="1787"/>
                </a:lnTo>
                <a:lnTo>
                  <a:pt x="3215" y="1787"/>
                </a:lnTo>
                <a:lnTo>
                  <a:pt x="2986" y="1787"/>
                </a:lnTo>
                <a:lnTo>
                  <a:pt x="2757" y="1787"/>
                </a:lnTo>
                <a:lnTo>
                  <a:pt x="2527" y="1787"/>
                </a:lnTo>
                <a:lnTo>
                  <a:pt x="2298" y="1787"/>
                </a:lnTo>
                <a:lnTo>
                  <a:pt x="1988" y="1787"/>
                </a:lnTo>
                <a:lnTo>
                  <a:pt x="1684" y="1787"/>
                </a:lnTo>
                <a:lnTo>
                  <a:pt x="1375" y="1787"/>
                </a:lnTo>
                <a:lnTo>
                  <a:pt x="1071" y="1787"/>
                </a:lnTo>
                <a:lnTo>
                  <a:pt x="511" y="1787"/>
                </a:lnTo>
                <a:lnTo>
                  <a:pt x="264" y="1765"/>
                </a:lnTo>
                <a:lnTo>
                  <a:pt x="145" y="1686"/>
                </a:lnTo>
                <a:lnTo>
                  <a:pt x="44" y="1549"/>
                </a:lnTo>
                <a:lnTo>
                  <a:pt x="0" y="1435"/>
                </a:lnTo>
                <a:lnTo>
                  <a:pt x="0" y="1173"/>
                </a:lnTo>
                <a:lnTo>
                  <a:pt x="0" y="1019"/>
                </a:lnTo>
                <a:lnTo>
                  <a:pt x="0" y="869"/>
                </a:lnTo>
                <a:lnTo>
                  <a:pt x="0" y="534"/>
                </a:lnTo>
                <a:lnTo>
                  <a:pt x="52" y="343"/>
                </a:lnTo>
                <a:lnTo>
                  <a:pt x="176" y="176"/>
                </a:lnTo>
                <a:lnTo>
                  <a:pt x="317" y="79"/>
                </a:lnTo>
                <a:lnTo>
                  <a:pt x="485" y="0"/>
                </a:lnTo>
                <a:lnTo>
                  <a:pt x="767" y="0"/>
                </a:lnTo>
                <a:lnTo>
                  <a:pt x="1071" y="0"/>
                </a:lnTo>
                <a:lnTo>
                  <a:pt x="1375" y="0"/>
                </a:lnTo>
              </a:path>
            </a:pathLst>
          </a:custGeom>
          <a:ln w="12600">
            <a:solidFill>
              <a:srgbClr val="14d3c1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48440" y="1924200"/>
            <a:ext cx="1671840" cy="663840"/>
          </a:xfrm>
          <a:custGeom>
            <a:avLst/>
            <a:gdLst/>
            <a:ahLst/>
            <a:rect l="0" t="0" r="r" b="b"/>
            <a:pathLst>
              <a:path fill="none" w="4644" h="1844">
                <a:moveTo>
                  <a:pt x="4115" y="1844"/>
                </a:moveTo>
                <a:lnTo>
                  <a:pt x="3912" y="1844"/>
                </a:lnTo>
                <a:lnTo>
                  <a:pt x="3440" y="1844"/>
                </a:lnTo>
                <a:lnTo>
                  <a:pt x="3105" y="1844"/>
                </a:lnTo>
                <a:lnTo>
                  <a:pt x="2836" y="1844"/>
                </a:lnTo>
                <a:lnTo>
                  <a:pt x="2567" y="1844"/>
                </a:lnTo>
                <a:lnTo>
                  <a:pt x="2364" y="1844"/>
                </a:lnTo>
                <a:lnTo>
                  <a:pt x="2160" y="1844"/>
                </a:lnTo>
                <a:lnTo>
                  <a:pt x="1962" y="1844"/>
                </a:lnTo>
                <a:lnTo>
                  <a:pt x="1693" y="1844"/>
                </a:lnTo>
                <a:lnTo>
                  <a:pt x="467" y="1844"/>
                </a:lnTo>
                <a:lnTo>
                  <a:pt x="326" y="1808"/>
                </a:lnTo>
                <a:lnTo>
                  <a:pt x="194" y="1773"/>
                </a:lnTo>
                <a:lnTo>
                  <a:pt x="105" y="1698"/>
                </a:lnTo>
                <a:lnTo>
                  <a:pt x="30" y="1592"/>
                </a:lnTo>
                <a:lnTo>
                  <a:pt x="8" y="1495"/>
                </a:lnTo>
                <a:lnTo>
                  <a:pt x="8" y="1297"/>
                </a:lnTo>
                <a:lnTo>
                  <a:pt x="8" y="1099"/>
                </a:lnTo>
                <a:lnTo>
                  <a:pt x="8" y="895"/>
                </a:lnTo>
                <a:lnTo>
                  <a:pt x="8" y="648"/>
                </a:lnTo>
                <a:lnTo>
                  <a:pt x="0" y="370"/>
                </a:lnTo>
                <a:lnTo>
                  <a:pt x="8" y="216"/>
                </a:lnTo>
                <a:lnTo>
                  <a:pt x="83" y="70"/>
                </a:lnTo>
                <a:lnTo>
                  <a:pt x="255" y="4"/>
                </a:lnTo>
                <a:lnTo>
                  <a:pt x="546" y="0"/>
                </a:lnTo>
                <a:lnTo>
                  <a:pt x="749" y="0"/>
                </a:lnTo>
                <a:lnTo>
                  <a:pt x="1084" y="0"/>
                </a:lnTo>
                <a:lnTo>
                  <a:pt x="1287" y="0"/>
                </a:lnTo>
                <a:lnTo>
                  <a:pt x="1490" y="0"/>
                </a:lnTo>
                <a:lnTo>
                  <a:pt x="1693" y="0"/>
                </a:lnTo>
                <a:lnTo>
                  <a:pt x="1891" y="0"/>
                </a:lnTo>
                <a:lnTo>
                  <a:pt x="2094" y="0"/>
                </a:lnTo>
                <a:lnTo>
                  <a:pt x="2430" y="0"/>
                </a:lnTo>
                <a:lnTo>
                  <a:pt x="2633" y="0"/>
                </a:lnTo>
                <a:lnTo>
                  <a:pt x="2968" y="0"/>
                </a:lnTo>
                <a:lnTo>
                  <a:pt x="3242" y="0"/>
                </a:lnTo>
                <a:lnTo>
                  <a:pt x="3511" y="0"/>
                </a:lnTo>
                <a:lnTo>
                  <a:pt x="3780" y="0"/>
                </a:lnTo>
                <a:lnTo>
                  <a:pt x="4049" y="0"/>
                </a:lnTo>
                <a:lnTo>
                  <a:pt x="4247" y="0"/>
                </a:lnTo>
                <a:lnTo>
                  <a:pt x="4450" y="0"/>
                </a:lnTo>
                <a:lnTo>
                  <a:pt x="4578" y="26"/>
                </a:lnTo>
                <a:lnTo>
                  <a:pt x="4635" y="119"/>
                </a:lnTo>
                <a:lnTo>
                  <a:pt x="4635" y="348"/>
                </a:lnTo>
                <a:lnTo>
                  <a:pt x="4640" y="608"/>
                </a:lnTo>
                <a:lnTo>
                  <a:pt x="4640" y="798"/>
                </a:lnTo>
                <a:lnTo>
                  <a:pt x="4644" y="927"/>
                </a:lnTo>
              </a:path>
            </a:pathLst>
          </a:custGeom>
          <a:ln w="12600">
            <a:solidFill>
              <a:srgbClr val="14d3c1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5361120" y="3673440"/>
            <a:ext cx="452520" cy="422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3224160" y="3701880"/>
            <a:ext cx="452520" cy="422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>
            <a:off x="2709720" y="2673360"/>
            <a:ext cx="452520" cy="422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8"/>
          <a:stretch/>
        </p:blipFill>
        <p:spPr>
          <a:xfrm>
            <a:off x="666720" y="1852560"/>
            <a:ext cx="452520" cy="420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9"/>
          <a:stretch/>
        </p:blipFill>
        <p:spPr>
          <a:xfrm>
            <a:off x="5538960" y="2030400"/>
            <a:ext cx="452520" cy="422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0"/>
          <a:stretch/>
        </p:blipFill>
        <p:spPr>
          <a:xfrm>
            <a:off x="6996240" y="1415880"/>
            <a:ext cx="452520" cy="422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6346800" y="3333600"/>
            <a:ext cx="297000" cy="366840"/>
          </a:xfrm>
          <a:prstGeom prst="rect">
            <a:avLst/>
          </a:prstGeom>
          <a:solidFill>
            <a:srgbClr val="00279f"/>
          </a:solidFill>
          <a:ln w="1260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1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637240" y="4152960"/>
            <a:ext cx="2832120" cy="3668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AN Manager Dom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85800" y="1744560"/>
            <a:ext cx="900360" cy="621720"/>
          </a:xfrm>
          <a:custGeom>
            <a:avLst/>
            <a:gdLst/>
            <a:ahLst/>
            <a:rect l="0" t="0" r="r" b="b"/>
            <a:pathLst>
              <a:path fill="none" w="2501" h="1727">
                <a:moveTo>
                  <a:pt x="2501" y="0"/>
                </a:moveTo>
                <a:lnTo>
                  <a:pt x="2501" y="0"/>
                </a:lnTo>
                <a:cubicBezTo>
                  <a:pt x="2062" y="0"/>
                  <a:pt x="1631" y="80"/>
                  <a:pt x="1250" y="231"/>
                </a:cubicBezTo>
                <a:cubicBezTo>
                  <a:pt x="870" y="383"/>
                  <a:pt x="555" y="601"/>
                  <a:pt x="335" y="864"/>
                </a:cubicBezTo>
                <a:cubicBezTo>
                  <a:pt x="116" y="1126"/>
                  <a:pt x="0" y="1424"/>
                  <a:pt x="0" y="1727"/>
                </a:cubicBezTo>
              </a:path>
            </a:pathLst>
          </a:custGeom>
          <a:ln w="12600">
            <a:solidFill>
              <a:srgbClr val="ef91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36280" y="1644480"/>
            <a:ext cx="4179600" cy="729000"/>
          </a:xfrm>
          <a:custGeom>
            <a:avLst/>
            <a:gdLst/>
            <a:ahLst/>
            <a:rect l="0" t="0" r="r" b="b"/>
            <a:pathLst>
              <a:path fill="none" w="11610" h="2025">
                <a:moveTo>
                  <a:pt x="11610" y="2025"/>
                </a:moveTo>
                <a:lnTo>
                  <a:pt x="11610" y="2025"/>
                </a:lnTo>
                <a:lnTo>
                  <a:pt x="11610" y="2025"/>
                </a:lnTo>
                <a:cubicBezTo>
                  <a:pt x="11610" y="1670"/>
                  <a:pt x="11074" y="1320"/>
                  <a:pt x="10055" y="1012"/>
                </a:cubicBezTo>
                <a:cubicBezTo>
                  <a:pt x="9036" y="705"/>
                  <a:pt x="7570" y="449"/>
                  <a:pt x="5805" y="271"/>
                </a:cubicBezTo>
                <a:cubicBezTo>
                  <a:pt x="4040" y="94"/>
                  <a:pt x="2038" y="0"/>
                  <a:pt x="0" y="0"/>
                </a:cubicBezTo>
              </a:path>
            </a:pathLst>
          </a:custGeom>
          <a:ln w="12600">
            <a:solidFill>
              <a:srgbClr val="ef91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49120" y="228600"/>
            <a:ext cx="86454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 Extensions For LAN Manag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79400" y="1414440"/>
            <a:ext cx="75866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tering” can be done at the node level, allowing administration of which services will be offered (for example, server announcements, logon, etc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a node on every subnet, a hub for each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 not protect against duplicate names in the internet, nor offer internet resource lo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For Workgroup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55480" y="1457280"/>
            <a:ext cx="803268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basic transport architecture as LAN Manager, NetBIOS on top, NDIS at  the bottom.  Fully interoperable with LAN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for Workgroups offers both client and server over NetBIOS (both implemented as protect mode drive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for Windows for Workgroup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 will offer repackaged LAN Manager real-mode MS-DO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ransport adding graphical installation and Windows Sockets suppo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85640" y="228600"/>
            <a:ext cx="8172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nd The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dvanced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90720" y="1973160"/>
            <a:ext cx="7162920" cy="39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networking designed on a transport-independent architecture much like LAN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hough redirector and server don’t interface via NetBIOS, NBT is still used for name registration and re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mhost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ments made to networking software to be more “WAN awar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800600" y="1739880"/>
            <a:ext cx="1290600" cy="76356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ansport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805280" y="2662200"/>
            <a:ext cx="1265400" cy="668160"/>
          </a:xfrm>
          <a:prstGeom prst="rect">
            <a:avLst/>
          </a:prstGeom>
          <a:solidFill>
            <a:srgbClr val="50009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Redir and 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3268800"/>
            <a:ext cx="4000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751800" y="3162240"/>
            <a:ext cx="149544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DI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19400" y="5335560"/>
            <a:ext cx="3772080" cy="613080"/>
            <a:chOff x="2219400" y="5335560"/>
            <a:chExt cx="3772080" cy="613080"/>
          </a:xfrm>
        </p:grpSpPr>
        <p:sp>
          <p:nvSpPr>
            <p:cNvPr id="137" name=""/>
            <p:cNvSpPr/>
            <p:nvPr/>
          </p:nvSpPr>
          <p:spPr>
            <a:xfrm>
              <a:off x="2219400" y="5335560"/>
              <a:ext cx="3772080" cy="45720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2664000" y="5419800"/>
              <a:ext cx="2884320" cy="52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Interface Driver(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468680" y="3359160"/>
            <a:ext cx="1359000" cy="1782720"/>
            <a:chOff x="4468680" y="3359160"/>
            <a:chExt cx="1359000" cy="1782720"/>
          </a:xfrm>
        </p:grpSpPr>
        <p:sp>
          <p:nvSpPr>
            <p:cNvPr id="140" name=""/>
            <p:cNvSpPr/>
            <p:nvPr/>
          </p:nvSpPr>
          <p:spPr>
            <a:xfrm>
              <a:off x="4468680" y="3359160"/>
              <a:ext cx="1359000" cy="1782720"/>
            </a:xfrm>
            <a:prstGeom prst="rect">
              <a:avLst/>
            </a:prstGeom>
            <a:solidFill>
              <a:srgbClr val="b5006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4600440" y="4125960"/>
              <a:ext cx="1144440" cy="316080"/>
            </a:xfrm>
            <a:prstGeom prst="rect">
              <a:avLst/>
            </a:prstGeom>
            <a:solidFill>
              <a:srgbClr val="b50069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BEU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255840" y="3736800"/>
            <a:ext cx="1031760" cy="1073160"/>
            <a:chOff x="3255840" y="3736800"/>
            <a:chExt cx="1031760" cy="1073160"/>
          </a:xfrm>
        </p:grpSpPr>
        <p:sp>
          <p:nvSpPr>
            <p:cNvPr id="143" name=""/>
            <p:cNvSpPr/>
            <p:nvPr/>
          </p:nvSpPr>
          <p:spPr>
            <a:xfrm>
              <a:off x="3255840" y="3736800"/>
              <a:ext cx="1031760" cy="107316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3379680" y="3975120"/>
              <a:ext cx="720720" cy="59076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CP/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460600" y="3359160"/>
            <a:ext cx="1920960" cy="1868040"/>
            <a:chOff x="2460600" y="3359160"/>
            <a:chExt cx="1920960" cy="1868040"/>
          </a:xfrm>
        </p:grpSpPr>
        <p:sp>
          <p:nvSpPr>
            <p:cNvPr id="146" name=""/>
            <p:cNvSpPr/>
            <p:nvPr/>
          </p:nvSpPr>
          <p:spPr>
            <a:xfrm>
              <a:off x="2460600" y="3359160"/>
              <a:ext cx="1908000" cy="28728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60600" y="4897440"/>
              <a:ext cx="1920960" cy="24624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60600" y="3359160"/>
              <a:ext cx="663480" cy="178452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2619360" y="3586320"/>
              <a:ext cx="334800" cy="164088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055960" y="2662200"/>
            <a:ext cx="1303200" cy="530280"/>
            <a:chOff x="2055960" y="2662200"/>
            <a:chExt cx="1303200" cy="530280"/>
          </a:xfrm>
        </p:grpSpPr>
        <p:sp>
          <p:nvSpPr>
            <p:cNvPr id="151" name=""/>
            <p:cNvSpPr/>
            <p:nvPr/>
          </p:nvSpPr>
          <p:spPr>
            <a:xfrm>
              <a:off x="2055960" y="2662200"/>
              <a:ext cx="1303200" cy="530280"/>
            </a:xfrm>
            <a:prstGeom prst="rect">
              <a:avLst/>
            </a:prstGeom>
            <a:solidFill>
              <a:srgbClr val="1f43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2057400" y="2674800"/>
              <a:ext cx="1293840" cy="473040"/>
            </a:xfrm>
            <a:prstGeom prst="rect">
              <a:avLst/>
            </a:prstGeom>
            <a:solidFill>
              <a:srgbClr val="1f43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BIOS 3.0  Interfa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427560" y="2662200"/>
            <a:ext cx="1314360" cy="703440"/>
            <a:chOff x="3427560" y="2662200"/>
            <a:chExt cx="1314360" cy="703440"/>
          </a:xfrm>
        </p:grpSpPr>
        <p:sp>
          <p:nvSpPr>
            <p:cNvPr id="154" name=""/>
            <p:cNvSpPr/>
            <p:nvPr/>
          </p:nvSpPr>
          <p:spPr>
            <a:xfrm>
              <a:off x="3427560" y="2664000"/>
              <a:ext cx="1314360" cy="525600"/>
            </a:xfrm>
            <a:prstGeom prst="rect">
              <a:avLst/>
            </a:prstGeom>
            <a:solidFill>
              <a:srgbClr val="71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3430440" y="2662200"/>
              <a:ext cx="1311120" cy="703440"/>
            </a:xfrm>
            <a:prstGeom prst="rect">
              <a:avLst/>
            </a:prstGeom>
            <a:solidFill>
              <a:srgbClr val="7120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indow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ockets 16/3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852560" y="3292560"/>
            <a:ext cx="4900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76240" y="5241960"/>
            <a:ext cx="48787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684840" y="5075280"/>
            <a:ext cx="163512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54360" y="2585880"/>
            <a:ext cx="48909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068560" y="1738440"/>
            <a:ext cx="2687760" cy="752400"/>
            <a:chOff x="2068560" y="1738440"/>
            <a:chExt cx="2687760" cy="752400"/>
          </a:xfrm>
        </p:grpSpPr>
        <p:sp>
          <p:nvSpPr>
            <p:cNvPr id="161" name=""/>
            <p:cNvSpPr/>
            <p:nvPr/>
          </p:nvSpPr>
          <p:spPr>
            <a:xfrm>
              <a:off x="2068560" y="1738440"/>
              <a:ext cx="2687760" cy="75240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2649600" y="1862280"/>
              <a:ext cx="1571760" cy="51768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“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Aware”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licat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 txBox="1"/>
          <p:nvPr/>
        </p:nvSpPr>
        <p:spPr>
          <a:xfrm>
            <a:off x="1190520" y="2308320"/>
            <a:ext cx="7826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892760" y="1841400"/>
            <a:ext cx="1143000" cy="51768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ansport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797040" y="2031840"/>
            <a:ext cx="755028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 Driver Interface (TD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P Streams-compatible environment for integration of existing transport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level transport APIs (NetBIOS, Windows Sockets) libraries utilize TD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1733400"/>
            <a:ext cx="716292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Sockets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90720" y="151776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specification which defines a Windows programming interface to TCP/IP (WOS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“freedom of choice”, allowing any compliant stack to host any compatible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ers a familiar interface to UNIX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etwork programmers plus Windows-based extens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ing Forces Behind Windows Sock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81200" y="1941480"/>
            <a:ext cx="75834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and corporate developer frustration in authoring applications over multiple TCP/IP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vendors’ desire for third-party application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cessity of a user-mode transport interface for TCP/IP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7308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Sockets Benefi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17680" y="1814400"/>
            <a:ext cx="8110440" cy="35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binary compatibility across all major TCP/IP implem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iar development paradigm for corporate and applications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 functions allow for more “friendly” Windows-based network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versions will add support for multiple trans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728640" y="1252440"/>
            <a:ext cx="7686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TCP/I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based networking and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directions of Microsoft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vendors’ offer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stions and answ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ypical Windows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ckets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06520" y="1835280"/>
            <a:ext cx="8132760" cy="35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connectivity utilities (ftp, talk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l emulation (Telnet, TN3270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TP/POP/MIME electronic mail cl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printing ut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/ODBC client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client-server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"/>
          <p:cNvSpPr txBox="1"/>
          <p:nvPr/>
        </p:nvSpPr>
        <p:spPr>
          <a:xfrm>
            <a:off x="2468520" y="5808600"/>
            <a:ext cx="3765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tom line:  Windows Sockets is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85640" y="228600"/>
            <a:ext cx="817236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Sockets</a:t>
            </a:r>
            <a:br>
              <a:rPr sz="4800"/>
            </a:b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evelopment perspect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92280" y="1366920"/>
            <a:ext cx="799776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SD derived, adding asynchronous select and database routines for Windows-based “friendlines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 Set up for incoming conn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15920" y="1428840"/>
            <a:ext cx="7162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521000" y="3801960"/>
            <a:ext cx="610236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 = socket ( AF_INET, SOCK_STREAM, 0 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ind ( s, addr, addrLen 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sten ( s, backLog 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SAAsyncSelect ( s, hWnd, ACCEPT_MSG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D_ACCEP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198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85640" y="228600"/>
            <a:ext cx="817236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Sockets</a:t>
            </a:r>
            <a:br>
              <a:rPr sz="4800"/>
            </a:b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evelopment perspect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90720" y="1528920"/>
            <a:ext cx="71629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connect, set up re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1733400"/>
            <a:ext cx="716292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181160" y="2235240"/>
            <a:ext cx="67834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NG APIENTRY ServerWndProc ( ...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witch ( message ) 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ase  WM_PAI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ase  ACCEPT_MS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 = accept ( s, newAddr, newAddrLen 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SAAsyncSelect ( conn, hWnd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_MSG, FD_REA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}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206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uture Directions Of    Microsoft TCP/I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54760" y="3780000"/>
            <a:ext cx="2811600" cy="24861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990720" y="2122560"/>
            <a:ext cx="7162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d resource consumption, better 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configuration, centralized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lable Windows-based            networking na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w Microsoft TCP/IP Stac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23960" y="1577880"/>
            <a:ext cx="7697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stack will reduce memory requirements, freeing valuable memory in MS-DOS for Windows-based us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le stack which can be used efficiently by current and future versions of Wind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e to customer demand will result in richer feature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88840" y="2038320"/>
            <a:ext cx="736776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:  Require no more configuration for TCP/IP clients than NetBEUI, AppleTalk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or IP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:  Managing IP addresses and TCP/IP configuration information is cumbersome for both end users and administ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:  Dynamic Host Configuration Protocol (DHC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85640" y="228600"/>
            <a:ext cx="8172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HCP:  Dynamic Configuration And Centralized Manag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ynamic Host Configuration Protocol (DHCP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43080" y="2174760"/>
            <a:ext cx="84596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is working with the IETF and vendors to define a centralized and dynamic configuration mechanism for TCP/IP cl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model facilitates centralized configuration and manage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sing” allows IP addresses to be reclaimed and re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DHCP Work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429680" y="3157560"/>
            <a:ext cx="1050840" cy="11811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382760" y="4597560"/>
            <a:ext cx="1150920" cy="10429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4992840" y="3300480"/>
            <a:ext cx="1150920" cy="10429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1344600" y="5732640"/>
            <a:ext cx="1289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P Client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941720" y="4432320"/>
            <a:ext cx="1276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P Client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7238880" y="2746440"/>
            <a:ext cx="1568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Configu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537000" y="4727520"/>
            <a:ext cx="825480" cy="612720"/>
          </a:xfrm>
          <a:prstGeom prst="rect">
            <a:avLst/>
          </a:prstGeom>
          <a:solidFill>
            <a:srgbClr val="00279f"/>
          </a:solidFill>
          <a:ln w="1260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I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Rou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09760" y="1239840"/>
            <a:ext cx="61563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initializes stack queries for a configuration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 server(s) respond with appropriate configuration information for the particular sub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chooses one of the configur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is responsible to renew the “lease” on the IP address and configuration parame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“releases” lease when shutd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91080" y="4413240"/>
            <a:ext cx="481320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73200" y="5691240"/>
            <a:ext cx="349884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30480" y="5348160"/>
            <a:ext cx="0" cy="33336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943440" y="4424400"/>
            <a:ext cx="0" cy="30780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enefits Of DHCP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12720" y="1595520"/>
            <a:ext cx="7918560" cy="37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or specifies only global and “per-subnet” parameters centrally for the entire internetwork - no individual (workstation) configuration requi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s require no manual configuration whatsoever, mechanism facilitates IP addre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ing a workstation from one subnet to another frees the old IP address for reuse and client is automatically reconfigured at initia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routers capable of forwarding configuration requests eas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270000" y="228600"/>
            <a:ext cx="8604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calable Windows-Based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Nam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06480" y="2062080"/>
            <a:ext cx="73328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:  Maintain the flexibility of NetBIOS naming while minimizing management overhead of IP net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: B-node NBT does not scale well in internetworked enviro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:  Scalable Windows-based Network Naming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tement Of Direc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22360" y="2433600"/>
            <a:ext cx="8099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is Microsoft’s strategic protocol for scalable Windows-based networ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TCP/IP  Technology Time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90560" y="3292560"/>
            <a:ext cx="71215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3029040"/>
            <a:ext cx="0" cy="3538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35440" y="3024360"/>
            <a:ext cx="0" cy="3538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186520" y="3206880"/>
            <a:ext cx="0" cy="3538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64320" y="3089160"/>
            <a:ext cx="0" cy="4111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35080" y="2490840"/>
            <a:ext cx="27525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suppo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aged  with LAN Manager 2.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16080" y="2490840"/>
            <a:ext cx="18493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for Windows for Workgrou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387680" y="3527280"/>
            <a:ext cx="20559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off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TCP/IP suppor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6960" y="2490840"/>
            <a:ext cx="18381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-mode TCP/I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 availa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546960" y="3527280"/>
            <a:ext cx="24811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HCP and scalable Windows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Network Nam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587600" y="3527280"/>
            <a:ext cx="16318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Extens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LAN Mana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327400" y="3181320"/>
            <a:ext cx="0" cy="3538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Solutions Do Other Vendors Off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712800" y="2066760"/>
            <a:ext cx="771840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PC NOS solutions (for example, NetWar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ppleShar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are written to a specific transpor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of these NOS’ offer “IP encapsulation” of their particular protocols for internet rou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hasis on TCP/IP support from these vendors is connectivity and encaps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85640" y="1792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P Encapsulation Work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788000" y="3848040"/>
            <a:ext cx="4253040" cy="22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nd server can communicate over “protocol x” via IP encapsul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apsulation nodes pick up “protocol x” packets, “wrap” them in IP frames, and ship them to other encapsulation node(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ets are then routed through the IP inter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eiving nodes “unwrap” IP packets and redistribute as “protocol x” packets local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22920" y="2841480"/>
            <a:ext cx="387324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3840" y="5187960"/>
            <a:ext cx="45165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52520" y="4267080"/>
            <a:ext cx="920880" cy="8352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7169040" y="1582560"/>
            <a:ext cx="150804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Protocol X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7445520" y="1943280"/>
            <a:ext cx="920880" cy="8352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163440" y="3941640"/>
            <a:ext cx="146988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Protocol X 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5135400" y="1614600"/>
            <a:ext cx="1050840" cy="11811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270320" y="1492200"/>
            <a:ext cx="1581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Encaps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N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623960" y="2049480"/>
            <a:ext cx="3005640" cy="1305360"/>
            <a:chOff x="1623960" y="2049480"/>
            <a:chExt cx="3005640" cy="1305360"/>
          </a:xfrm>
        </p:grpSpPr>
        <p:sp>
          <p:nvSpPr>
            <p:cNvPr id="262" name=""/>
            <p:cNvSpPr/>
            <p:nvPr/>
          </p:nvSpPr>
          <p:spPr>
            <a:xfrm>
              <a:off x="3143160" y="2049480"/>
              <a:ext cx="756000" cy="505080"/>
            </a:xfrm>
            <a:custGeom>
              <a:avLst/>
              <a:gdLst/>
              <a:ahLst/>
              <a:rect l="0" t="0" r="r" b="b"/>
              <a:pathLst>
                <a:path fill="none" w="2100" h="1403">
                  <a:moveTo>
                    <a:pt x="2100" y="1403"/>
                  </a:moveTo>
                  <a:lnTo>
                    <a:pt x="2100" y="1403"/>
                  </a:lnTo>
                  <a:lnTo>
                    <a:pt x="2100" y="1403"/>
                  </a:lnTo>
                  <a:cubicBezTo>
                    <a:pt x="2100" y="1157"/>
                    <a:pt x="2003" y="915"/>
                    <a:pt x="1819" y="701"/>
                  </a:cubicBezTo>
                  <a:cubicBezTo>
                    <a:pt x="1634" y="488"/>
                    <a:pt x="1369" y="311"/>
                    <a:pt x="1050" y="188"/>
                  </a:cubicBezTo>
                  <a:cubicBezTo>
                    <a:pt x="731" y="65"/>
                    <a:pt x="369" y="0"/>
                    <a:pt x="0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98800" y="2554200"/>
              <a:ext cx="595800" cy="273240"/>
            </a:xfrm>
            <a:custGeom>
              <a:avLst/>
              <a:gdLst/>
              <a:ahLst/>
              <a:rect l="0" t="0" r="r" b="b"/>
              <a:pathLst>
                <a:path fill="none" w="1655" h="759">
                  <a:moveTo>
                    <a:pt x="1655" y="759"/>
                  </a:moveTo>
                  <a:lnTo>
                    <a:pt x="1655" y="759"/>
                  </a:lnTo>
                  <a:lnTo>
                    <a:pt x="1655" y="759"/>
                  </a:lnTo>
                  <a:cubicBezTo>
                    <a:pt x="1655" y="626"/>
                    <a:pt x="1579" y="495"/>
                    <a:pt x="1433" y="379"/>
                  </a:cubicBezTo>
                  <a:cubicBezTo>
                    <a:pt x="1288" y="264"/>
                    <a:pt x="1079" y="168"/>
                    <a:pt x="827" y="102"/>
                  </a:cubicBezTo>
                  <a:cubicBezTo>
                    <a:pt x="576" y="35"/>
                    <a:pt x="291" y="0"/>
                    <a:pt x="0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94240" y="2827440"/>
              <a:ext cx="135360" cy="173520"/>
            </a:xfrm>
            <a:custGeom>
              <a:avLst/>
              <a:gdLst/>
              <a:ahLst/>
              <a:rect l="0" t="0" r="r" b="b"/>
              <a:pathLst>
                <a:path fill="none" w="376" h="482">
                  <a:moveTo>
                    <a:pt x="376" y="482"/>
                  </a:moveTo>
                  <a:lnTo>
                    <a:pt x="376" y="482"/>
                  </a:lnTo>
                  <a:lnTo>
                    <a:pt x="376" y="482"/>
                  </a:lnTo>
                  <a:cubicBezTo>
                    <a:pt x="376" y="397"/>
                    <a:pt x="359" y="314"/>
                    <a:pt x="326" y="241"/>
                  </a:cubicBezTo>
                  <a:cubicBezTo>
                    <a:pt x="293" y="168"/>
                    <a:pt x="245" y="107"/>
                    <a:pt x="188" y="65"/>
                  </a:cubicBezTo>
                  <a:cubicBezTo>
                    <a:pt x="131" y="22"/>
                    <a:pt x="66" y="0"/>
                    <a:pt x="0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08400" y="3011400"/>
              <a:ext cx="411480" cy="147960"/>
            </a:xfrm>
            <a:custGeom>
              <a:avLst/>
              <a:gdLst/>
              <a:ahLst/>
              <a:rect l="0" t="0" r="r" b="b"/>
              <a:pathLst>
                <a:path fill="none" w="1143" h="411">
                  <a:moveTo>
                    <a:pt x="0" y="411"/>
                  </a:moveTo>
                  <a:lnTo>
                    <a:pt x="0" y="411"/>
                  </a:lnTo>
                  <a:cubicBezTo>
                    <a:pt x="201" y="411"/>
                    <a:pt x="398" y="392"/>
                    <a:pt x="572" y="356"/>
                  </a:cubicBezTo>
                  <a:cubicBezTo>
                    <a:pt x="745" y="320"/>
                    <a:pt x="890" y="268"/>
                    <a:pt x="990" y="205"/>
                  </a:cubicBezTo>
                  <a:cubicBezTo>
                    <a:pt x="1090" y="143"/>
                    <a:pt x="1143" y="72"/>
                    <a:pt x="1143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522600" y="3147840"/>
              <a:ext cx="662400" cy="138600"/>
            </a:xfrm>
            <a:custGeom>
              <a:avLst/>
              <a:gdLst/>
              <a:ahLst/>
              <a:rect l="0" t="0" r="r" b="b"/>
              <a:pathLst>
                <a:path fill="none" w="1840" h="385">
                  <a:moveTo>
                    <a:pt x="0" y="385"/>
                  </a:moveTo>
                  <a:lnTo>
                    <a:pt x="0" y="385"/>
                  </a:lnTo>
                  <a:cubicBezTo>
                    <a:pt x="323" y="385"/>
                    <a:pt x="640" y="367"/>
                    <a:pt x="920" y="333"/>
                  </a:cubicBezTo>
                  <a:cubicBezTo>
                    <a:pt x="1200" y="300"/>
                    <a:pt x="1432" y="251"/>
                    <a:pt x="1593" y="192"/>
                  </a:cubicBezTo>
                  <a:cubicBezTo>
                    <a:pt x="1755" y="134"/>
                    <a:pt x="1840" y="68"/>
                    <a:pt x="1840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85920" y="3133800"/>
              <a:ext cx="604800" cy="221040"/>
            </a:xfrm>
            <a:custGeom>
              <a:avLst/>
              <a:gdLst/>
              <a:ahLst/>
              <a:rect l="0" t="0" r="r" b="b"/>
              <a:pathLst>
                <a:path fill="none" w="1680" h="61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08"/>
                    <a:pt x="70" y="214"/>
                    <a:pt x="204" y="307"/>
                  </a:cubicBezTo>
                  <a:cubicBezTo>
                    <a:pt x="338" y="401"/>
                    <a:pt x="530" y="478"/>
                    <a:pt x="761" y="532"/>
                  </a:cubicBezTo>
                  <a:cubicBezTo>
                    <a:pt x="993" y="586"/>
                    <a:pt x="1256" y="614"/>
                    <a:pt x="1523" y="614"/>
                  </a:cubicBezTo>
                  <a:cubicBezTo>
                    <a:pt x="1575" y="614"/>
                    <a:pt x="1628" y="613"/>
                    <a:pt x="1680" y="611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806480" y="2781360"/>
              <a:ext cx="367200" cy="356040"/>
            </a:xfrm>
            <a:custGeom>
              <a:avLst/>
              <a:gdLst/>
              <a:ahLst/>
              <a:rect l="0" t="0" r="r" b="b"/>
              <a:pathLst>
                <a:path fill="none" w="1020" h="989">
                  <a:moveTo>
                    <a:pt x="0" y="0"/>
                  </a:moveTo>
                  <a:lnTo>
                    <a:pt x="0" y="0"/>
                  </a:lnTo>
                  <a:cubicBezTo>
                    <a:pt x="0" y="174"/>
                    <a:pt x="47" y="344"/>
                    <a:pt x="137" y="495"/>
                  </a:cubicBezTo>
                  <a:cubicBezTo>
                    <a:pt x="226" y="645"/>
                    <a:pt x="355" y="770"/>
                    <a:pt x="510" y="856"/>
                  </a:cubicBezTo>
                  <a:cubicBezTo>
                    <a:pt x="665" y="943"/>
                    <a:pt x="841" y="989"/>
                    <a:pt x="1020" y="989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23960" y="2567520"/>
              <a:ext cx="170280" cy="225360"/>
            </a:xfrm>
            <a:custGeom>
              <a:avLst/>
              <a:gdLst/>
              <a:ahLst/>
              <a:rect l="0" t="0" r="r" b="b"/>
              <a:pathLst>
                <a:path fill="none" w="473" h="626">
                  <a:moveTo>
                    <a:pt x="5" y="0"/>
                  </a:moveTo>
                  <a:lnTo>
                    <a:pt x="5" y="0"/>
                  </a:lnTo>
                  <a:cubicBezTo>
                    <a:pt x="2" y="29"/>
                    <a:pt x="0" y="58"/>
                    <a:pt x="0" y="88"/>
                  </a:cubicBezTo>
                  <a:cubicBezTo>
                    <a:pt x="0" y="182"/>
                    <a:pt x="18" y="275"/>
                    <a:pt x="51" y="357"/>
                  </a:cubicBezTo>
                  <a:cubicBezTo>
                    <a:pt x="85" y="439"/>
                    <a:pt x="133" y="506"/>
                    <a:pt x="192" y="554"/>
                  </a:cubicBezTo>
                  <a:cubicBezTo>
                    <a:pt x="250" y="601"/>
                    <a:pt x="316" y="626"/>
                    <a:pt x="384" y="626"/>
                  </a:cubicBezTo>
                  <a:cubicBezTo>
                    <a:pt x="414" y="626"/>
                    <a:pt x="444" y="621"/>
                    <a:pt x="473" y="611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23960" y="2221200"/>
              <a:ext cx="687600" cy="333720"/>
            </a:xfrm>
            <a:custGeom>
              <a:avLst/>
              <a:gdLst/>
              <a:ahLst/>
              <a:rect l="0" t="0" r="r" b="b"/>
              <a:pathLst>
                <a:path fill="none" w="1910" h="927">
                  <a:moveTo>
                    <a:pt x="1910" y="0"/>
                  </a:moveTo>
                  <a:lnTo>
                    <a:pt x="1910" y="0"/>
                  </a:lnTo>
                  <a:cubicBezTo>
                    <a:pt x="1584" y="5"/>
                    <a:pt x="1266" y="47"/>
                    <a:pt x="984" y="124"/>
                  </a:cubicBezTo>
                  <a:cubicBezTo>
                    <a:pt x="685" y="205"/>
                    <a:pt x="436" y="323"/>
                    <a:pt x="264" y="464"/>
                  </a:cubicBezTo>
                  <a:cubicBezTo>
                    <a:pt x="91" y="604"/>
                    <a:pt x="0" y="764"/>
                    <a:pt x="0" y="927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309760" y="2117880"/>
              <a:ext cx="538560" cy="103680"/>
            </a:xfrm>
            <a:custGeom>
              <a:avLst/>
              <a:gdLst/>
              <a:ahLst/>
              <a:rect l="0" t="0" r="r" b="b"/>
              <a:pathLst>
                <a:path fill="none" w="1496" h="288">
                  <a:moveTo>
                    <a:pt x="1496" y="0"/>
                  </a:moveTo>
                  <a:lnTo>
                    <a:pt x="1496" y="0"/>
                  </a:lnTo>
                  <a:cubicBezTo>
                    <a:pt x="1233" y="0"/>
                    <a:pt x="975" y="13"/>
                    <a:pt x="748" y="39"/>
                  </a:cubicBezTo>
                  <a:cubicBezTo>
                    <a:pt x="521" y="64"/>
                    <a:pt x="332" y="100"/>
                    <a:pt x="200" y="144"/>
                  </a:cubicBezTo>
                  <a:cubicBezTo>
                    <a:pt x="69" y="188"/>
                    <a:pt x="0" y="237"/>
                    <a:pt x="0" y="288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57680" y="2060640"/>
              <a:ext cx="276480" cy="46440"/>
            </a:xfrm>
            <a:custGeom>
              <a:avLst/>
              <a:gdLst/>
              <a:ahLst/>
              <a:rect l="0" t="0" r="r" b="b"/>
              <a:pathLst>
                <a:path fill="none" w="768" h="129">
                  <a:moveTo>
                    <a:pt x="768" y="0"/>
                  </a:moveTo>
                  <a:lnTo>
                    <a:pt x="768" y="0"/>
                  </a:lnTo>
                  <a:cubicBezTo>
                    <a:pt x="633" y="0"/>
                    <a:pt x="501" y="6"/>
                    <a:pt x="384" y="17"/>
                  </a:cubicBezTo>
                  <a:cubicBezTo>
                    <a:pt x="267" y="29"/>
                    <a:pt x="170" y="45"/>
                    <a:pt x="103" y="65"/>
                  </a:cubicBezTo>
                  <a:cubicBezTo>
                    <a:pt x="35" y="84"/>
                    <a:pt x="0" y="106"/>
                    <a:pt x="0" y="129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2406600" y="2577960"/>
              <a:ext cx="11271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P interne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90720" y="3273480"/>
              <a:ext cx="708480" cy="81360"/>
            </a:xfrm>
            <a:custGeom>
              <a:avLst/>
              <a:gdLst/>
              <a:ahLst/>
              <a:rect l="0" t="0" r="r" b="b"/>
              <a:pathLst>
                <a:path fill="none" w="1968" h="226">
                  <a:moveTo>
                    <a:pt x="0" y="226"/>
                  </a:moveTo>
                  <a:lnTo>
                    <a:pt x="0" y="226"/>
                  </a:lnTo>
                  <a:cubicBezTo>
                    <a:pt x="345" y="226"/>
                    <a:pt x="685" y="216"/>
                    <a:pt x="984" y="196"/>
                  </a:cubicBezTo>
                  <a:cubicBezTo>
                    <a:pt x="1283" y="176"/>
                    <a:pt x="1532" y="147"/>
                    <a:pt x="1704" y="113"/>
                  </a:cubicBezTo>
                  <a:cubicBezTo>
                    <a:pt x="1877" y="79"/>
                    <a:pt x="1968" y="40"/>
                    <a:pt x="1968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516040" y="3841920"/>
            <a:ext cx="1916280" cy="1303200"/>
            <a:chOff x="2516040" y="3841920"/>
            <a:chExt cx="1916280" cy="1303200"/>
          </a:xfrm>
        </p:grpSpPr>
        <p:pic>
          <p:nvPicPr>
            <p:cNvPr id="276" name="" descr=""/>
            <p:cNvPicPr/>
            <p:nvPr/>
          </p:nvPicPr>
          <p:blipFill>
            <a:blip r:embed="rId4"/>
            <a:stretch/>
          </p:blipFill>
          <p:spPr>
            <a:xfrm>
              <a:off x="3381480" y="3963960"/>
              <a:ext cx="105084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 txBox="1"/>
            <p:nvPr/>
          </p:nvSpPr>
          <p:spPr>
            <a:xfrm>
              <a:off x="2516040" y="3841920"/>
              <a:ext cx="158112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c66d"/>
                  </a:solidFill>
                  <a:latin typeface="Times New Roman"/>
                  <a:ea typeface="Times New Roman"/>
                </a:rPr>
                <a:t>Encapsul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c66d"/>
                  </a:solidFill>
                  <a:latin typeface="Times New Roman"/>
                  <a:ea typeface="Times New Roman"/>
                </a:rPr>
                <a:t>Nod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 flipH="1">
            <a:off x="3909960" y="2195640"/>
            <a:ext cx="1189080" cy="306360"/>
          </a:xfrm>
          <a:prstGeom prst="line">
            <a:avLst/>
          </a:prstGeom>
          <a:ln w="12600">
            <a:solidFill>
              <a:srgbClr val="14d3c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17880" y="3373560"/>
            <a:ext cx="1279440" cy="569880"/>
          </a:xfrm>
          <a:prstGeom prst="line">
            <a:avLst/>
          </a:prstGeom>
          <a:ln w="12600">
            <a:solidFill>
              <a:srgbClr val="14d3c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Solutions Do Other Vendors Off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858960" y="1862280"/>
            <a:ext cx="742788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PC-based TCP/IP vendors focus on foreign host connectivity.  Products generally include a TCP/IP stack plus ut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veral vendors offer NBT support, allowing their stack to offer support LAN Manager and Windows for Workgroups networking as well as conne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Solutions Do Other Vendors Off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990720" y="1881360"/>
            <a:ext cx="7162920" cy="38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PC-based TCP/IP implementations are based on TSR technology, “robbing” MS-DOS-based application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veral vendors have (or plan to) offer DLL or VxD-based TCP/IP stacks for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veat:  DLL stacks offer no support for MS-DOS-based applications, must be used exclusively in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Solutions Do Other Vendors Off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627200" y="1965240"/>
            <a:ext cx="58910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third parties provide specialized applications only (written to Windows Socke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Windows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l em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ctronic mail packag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990720" y="1306440"/>
            <a:ext cx="716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is committed to build an extremely scalable Windows-based networking frame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is committed to meeting customer requirements for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has taken an industry leading role in solving TCP/IP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solutions will adhere to open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961920" y="1455840"/>
            <a:ext cx="72198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will provide basic connectivity utilities and is working closely with other vendors to ensure that quality Windows connectivity utilities and other TCP/IP technologies (for example, NFS) are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r direction and focus:  offering a scalable Windows-based networking framework on all current and future Windows plat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-34920" y="14400"/>
            <a:ext cx="9418680" cy="63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CP/IP?   TCP/IP?   TCP/IP?   TCP/IP?  TCP/I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CP/IP?   TCP/IP?   TCP/IP?   TCP/IP? 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?   TCP/IP?   TCP/IP?   TCP/IP?   TCP/IP?  TCP/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P?   TCP/IP?   TCP/IP?   TCP/IP?   TCP/IP?  TCP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IP?    TCP/IP?   TCP/IP?   TCP/IP?   TCP/IP?  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/IP?      TCP/IP?   TCP/IP?   TCP/IP?   TCP/IP?  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P/IP?      TCP/IP?   TCP/IP?   TCP/IP?   TCP/IP?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CP/IP?      TCP/IP?   TCP/IP?   TCP/IP?   TCP/IP?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CP/IP?      TCP/IP?   TCP/IP?   TCP/IP?  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CP/IP?       TCP/IP?   TCP/IP?   TCP/IP?  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?  TCP/IP?      TCP/IP?   TCP/IP?   TCP/IP?   TCP/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85640" y="23050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 And Answ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Did Microsoft            Choose TCP/IP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01480" y="1847880"/>
            <a:ext cx="81406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CP/IP suite of protocols represents robust solutions to real internetworking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is  the “common denominator” protocol on most large corporate and public network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ly all networking vendors (both hardware and software) support TCP/I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90720" y="212256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 over TCP/IP (RFCs 1001/ 1002) provides a routable transport support for LAN Manager-based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ility of TCP/IP on all major OS platforms provides a foundation for foreign host connectiv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98440" y="228600"/>
            <a:ext cx="85485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Does TCP/IP Fit Into Microsoft’s Networking Strateg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28600"/>
            <a:ext cx="8172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Products Leveraging TCP/IP Technolog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944720" y="1928880"/>
            <a:ext cx="5732640" cy="35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2.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 Work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vanced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Microsoft platform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85640" y="228600"/>
            <a:ext cx="81723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AN Manager 2.1 Architec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90720" y="1494000"/>
            <a:ext cx="716292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is based on a flexible, protocol-independent architectur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30560" y="4159080"/>
            <a:ext cx="2629080" cy="5619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32000" y="4724280"/>
            <a:ext cx="2629080" cy="5619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552840" y="4834080"/>
            <a:ext cx="1619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/ICMP/AR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38680" y="4286160"/>
            <a:ext cx="1174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U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349800" y="5311800"/>
            <a:ext cx="2316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Interface Driver(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200400" y="3610080"/>
            <a:ext cx="12952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 o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(N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6120" y="3611520"/>
            <a:ext cx="855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33800" y="5292720"/>
            <a:ext cx="2625840" cy="3430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30560" y="3532320"/>
            <a:ext cx="1360440" cy="6285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491000" y="3532320"/>
            <a:ext cx="1270080" cy="6285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32000" y="2908440"/>
            <a:ext cx="1360440" cy="628560"/>
          </a:xfrm>
          <a:prstGeom prst="rect">
            <a:avLst/>
          </a:prstGeom>
          <a:noFill/>
          <a:ln w="12600">
            <a:solidFill>
              <a:srgbClr val="081d5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492800" y="2908440"/>
            <a:ext cx="1270080" cy="628560"/>
          </a:xfrm>
          <a:prstGeom prst="rect">
            <a:avLst/>
          </a:prstGeom>
          <a:noFill/>
          <a:ln w="1260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19440" y="3543480"/>
            <a:ext cx="177156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91000" y="3543480"/>
            <a:ext cx="1714680" cy="0"/>
          </a:xfrm>
          <a:prstGeom prst="line">
            <a:avLst/>
          </a:prstGeom>
          <a:ln w="12600">
            <a:solidFill>
              <a:srgbClr val="b760f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905120" y="3279600"/>
            <a:ext cx="8762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NetBI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inte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170760" y="3279600"/>
            <a:ext cx="855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b760f9"/>
                </a:solidFill>
                <a:latin typeface="Times New Roman"/>
                <a:ea typeface="Times New Roman"/>
              </a:rPr>
              <a:t>Socket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b760f9"/>
                </a:solidFill>
                <a:latin typeface="Times New Roman"/>
                <a:ea typeface="Times New Roman"/>
              </a:rPr>
              <a:t>inte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662200" y="5299200"/>
            <a:ext cx="3111480" cy="144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052720" y="5073480"/>
            <a:ext cx="855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ND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inte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406680" y="2984400"/>
            <a:ext cx="8748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49680" y="2981160"/>
            <a:ext cx="11523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v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646600" y="3200400"/>
            <a:ext cx="1049400" cy="22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399360" y="4264200"/>
            <a:ext cx="1162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AN Manager 2.1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 TCP/I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50960" y="1871640"/>
            <a:ext cx="76420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functionality facilitated by NetBIOS over TCP/IP (NBT) specified in RFCs 1001/10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-node NBT implementation relies on  IP-level broadcasts for resource registration and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mhost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ile allows static NetBIOS/name address mappings to be specifi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85640" y="228600"/>
            <a:ext cx="81723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1001/1002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NetBIOSOver TCP/IP) Works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b-nod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90720" y="4019400"/>
            <a:ext cx="716292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”, “Client B”, and “Server X” all broadcast to their local subnets to “register” their names with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registration request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ckets.  Workstations are required to defend “registered” names by issuing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gative name registration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ets during confli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” locates “Server X” by broadcasting a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query request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cket to the local subnet, “Server X” responds with a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tive name query respon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B” locates “Server X” by broadcast (if the router passes port 137/138 traffic), or via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mhosts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which overrides the local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query request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cas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83000" y="2841480"/>
            <a:ext cx="52131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1920" y="3736800"/>
            <a:ext cx="451620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625920" y="3089160"/>
            <a:ext cx="1187280" cy="398520"/>
          </a:xfrm>
          <a:prstGeom prst="rect">
            <a:avLst/>
          </a:prstGeom>
          <a:noFill/>
          <a:ln w="1260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Ro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60240" y="2816280"/>
            <a:ext cx="920880" cy="835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7408800" y="1582560"/>
            <a:ext cx="100476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P Client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445520" y="1943280"/>
            <a:ext cx="920880" cy="835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635040" y="2490840"/>
            <a:ext cx="99540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P Client 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957920" y="1504800"/>
            <a:ext cx="1526760" cy="1303560"/>
            <a:chOff x="4957920" y="1504800"/>
            <a:chExt cx="1526760" cy="1303560"/>
          </a:xfrm>
        </p:grpSpPr>
        <p:pic>
          <p:nvPicPr>
            <p:cNvPr id="86" name="" descr=""/>
            <p:cNvPicPr/>
            <p:nvPr/>
          </p:nvPicPr>
          <p:blipFill>
            <a:blip r:embed="rId3"/>
            <a:stretch/>
          </p:blipFill>
          <p:spPr>
            <a:xfrm>
              <a:off x="5433840" y="1627200"/>
              <a:ext cx="105084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 txBox="1"/>
            <p:nvPr/>
          </p:nvSpPr>
          <p:spPr>
            <a:xfrm>
              <a:off x="4957920" y="1504800"/>
              <a:ext cx="10540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c66d"/>
                  </a:solidFill>
                  <a:latin typeface="Times New Roman"/>
                  <a:ea typeface="Times New Roman"/>
                </a:rPr>
                <a:t>Server 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213080" y="2844720"/>
            <a:ext cx="0" cy="21744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14880" y="3508200"/>
            <a:ext cx="0" cy="21600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