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336384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rk Igra(1) 93006 OLE 2.0 PDC 5/93 </a:t>
            </a:r>
            <a:fld id="{BB665596-7185-40AC-B6A8-BE8CE9E82F2E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952560" y="824040"/>
            <a:ext cx="7238880" cy="437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Application Automation</a:t>
            </a:r>
            <a:br>
              <a:rPr sz="4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ark Igra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rogram Manag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ic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Defini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736640"/>
            <a:ext cx="7162920" cy="399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IDispatch : IUnknown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Count(UINT * pc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TypeInfo(UINT itinfo, LCID lcid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TypeInfo ** pptinfo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GetIDsOfNames(REFIID riid, char *rgszNames[], UINT cNames,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 DISPID rgdispid[]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irtual HRESULT Invoke(LONG dispidMember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REFIID ri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LCID lcid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WORD wFlag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PARAMS * pdispparams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VARIANTARG * pvargResult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EXCEPINFO * pexcepinfo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UINT * puArgErr) = 0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::Invok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911160" y="1736640"/>
            <a:ext cx="7321680" cy="296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::Invoke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 of method or property to be acc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ssigns IDs for methods an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ray of arguments to fun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urn val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Passing Argu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093680" y="1736640"/>
            <a:ext cx="6956280" cy="301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argument is a tagged union of type varia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s in union include string, date, object, and oth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atted data is passed using 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ich Data In Varian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825480" y="1736640"/>
            <a:ext cx="749304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 can hold multiple data representations like a clipbo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ed using the VT_UNKNOWN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set data format used for tagged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set has a GU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ch property has a variant type tag, a 32-bit ID an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ation Out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680" y="1736640"/>
            <a:ext cx="8001000" cy="286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, the controlling IUnknow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HelloCF, hello’s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 the programmability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the standard dispatch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Hello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1738440" y="1736640"/>
            <a:ext cx="5667480" cy="303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window with a “Say Hello” button and a text bo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SayHello”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“HelloMessage” proper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reating Type Inform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500040" y="1736640"/>
            <a:ext cx="8143920" cy="29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Object Definition Langu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kTypLib compiles OD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created using DispCreate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CreateTypeInfo accepts a data structure as inpu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kTypLib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80960" y="1271520"/>
            <a:ext cx="8183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2-8B93-1068-9A4C-08002B2E143C), helpstring(“Hello world version 1.0”), version(0.100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ibrary hel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lib("C:\\ole2\\beta\\debug\\stdole.tlb")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3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: IUnknow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helpstring(“Get or set the message used in SayHello”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roppu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HelloMessage ([in] BSTR new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propget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HelloMessage 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SayHello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[uuid(25D9EAC4-8B93-1068-9A4C-08002B2E143C)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oclass Hello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nterface _IHelloProgrammability 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ypeInfo Inpu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949320" y="1114560"/>
            <a:ext cx="724536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atic METHODDATA NEAR rgmdataHelloObj[] =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dSetHelloMsg,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S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1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PUT,  // One of DISPATCH_*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EMPTY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 "HelloMessage",        // Human readable na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ULL,                  // Parameter da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DMEMBER_HELLOMSG,     // Member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METH_GETHELLOMSG,     // Method ind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C_CDECL,              // Calling convention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0,                     // Argument cou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DISPATCH_PROPERTYGET,  // One of DISPATCH_*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T_BSTR                // Return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Declar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-23760" y="1392120"/>
            <a:ext cx="9191520" cy="50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CHello : public _IHelloProgrammabil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tandard OLE stuf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(QueryInterface)(REFIID rii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FAR* FAR*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AddRef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ULONG, Release)(void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* _IHelloProgrammability methods *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void, put_HelloMessage)(THIS_ BSTR Messag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get_HelloMessage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TDMETHOD_(BSTR, SayHello)(THI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WND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hwnd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bstrHelloMsg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Us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1797120" y="1736640"/>
            <a:ext cx="5549760" cy="367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ding and customizing ap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tail exten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-house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ower-user custom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ng end-user tas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ello Implementation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357200" y="1104840"/>
            <a:ext cx="6429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void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put_HelloMessage(BSTR 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ysReAllocString(&amp;m_bstrHelloMsg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get_HelloMessage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_export CDEC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Hello::SayHello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STR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b = SysAllocString(m_bstrHelloMsg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SetDlgItemText(m_hwnd, IDC_HELLOAREA, b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b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78000" y="1260360"/>
            <a:ext cx="8389800" cy="50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StdDispatch creates an IDispatch implemen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supply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Unknown for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grammability interface poi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Info describing programmabilit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 retu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en client asks for IDispatch, return the standard dispatch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andard Dispatch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76240" y="1104840"/>
            <a:ext cx="73915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reating: During constru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LoadTypeLib("hellotyp.tlb", &amp;ptlib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Check erro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ptlib-&gt;GetTypeInfoOfGuid(CLSID_CHelloTlb, &amp;ptinfo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hresult = CreateStdDispatch((IUnknown FAR 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(void FAR*)(_IHelloProgrammability FAR*) phello,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ptinfo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&amp;punkStdDisp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//Using: QueryInte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Unknow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*ppv = this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el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if (riid == IID_IDispatch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m_punkStdDisp-&gt;QueryInterface(riid, ppv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ing DispTest 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836720" y="1736640"/>
            <a:ext cx="54720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ing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an Active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lling 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y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exe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llection Acces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485640" y="228600"/>
            <a:ext cx="8172360" cy="140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ispTest Limitations/Workaround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990720" y="1974960"/>
            <a:ext cx="7162920" cy="323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Array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ndexed Propert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Collection Enumeration Sup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upports manual ite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Named Parame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al parameters are suppor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38160" y="228600"/>
            <a:ext cx="90676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Compon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2155680" y="1736640"/>
            <a:ext cx="4834080" cy="337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2.0 infrastruc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tensible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s scrip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o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952560" y="228600"/>
            <a:ext cx="723888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elivery Schedu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828720" y="1346040"/>
            <a:ext cx="7486560" cy="470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OLE 2.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released and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2DISP.DLL, OLE2NLS.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Libraries first b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MkTypLib.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PTEST.EXE available as testing to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3 ‘9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lease Type Libr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LIB.DLL will be redistribu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79840" y="3382920"/>
            <a:ext cx="184320" cy="9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utomation Mode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6800" y="1581120"/>
            <a:ext cx="761220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bjects manipulated via methods    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tho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 actions (e.g., Print) or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ake argu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e as member functions on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ically set via assignment-like synta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23960" y="1736640"/>
            <a:ext cx="769788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an OLE-defined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run-time-bound access to methods and proper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scripting languages to manipulate ob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building block for system servi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Servi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944640" y="1736640"/>
            <a:ext cx="7254720" cy="199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 a property, get a property, or call a method using IDispatch::Invok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Query object’s capabilities using IDispatch::Get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Vs. ITypeInfo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379520" y="1736640"/>
            <a:ext cx="6386400" cy="30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TypeInfo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crib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 class or typ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ike an .h 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is used to </a:t>
            </a:r>
            <a:r>
              <a:rPr b="1" i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ipulate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an inst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ispatch can return ITypeIn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90440" y="228600"/>
            <a:ext cx="8763120" cy="69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ispatch And Custom Interfa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95360" y="1447920"/>
            <a:ext cx="8153280" cy="272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reate custom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as “Automation”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IDispatch to expose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scripting tools and interproces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ype information can automate deleg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262320" y="4578480"/>
            <a:ext cx="5624640" cy="17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