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3148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Martinez 93006 OLE 2.0 PDC 5/93 </a:t>
            </a:r>
            <a:fld id="{B9DE284B-C0B0-49B1-9A60-B3CD9F95B5B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952560"/>
            <a:ext cx="817236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Container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 Martinez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738440"/>
            <a:ext cx="71629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keep the existing changes made to a storage.  File saves perform 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 the root level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n _l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turns a count of zero then the IStorage is no longer va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238560" y="1739880"/>
            <a:ext cx="2666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ream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38560" y="1739880"/>
            <a:ext cx="2666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ream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Un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738440"/>
            <a:ext cx="7162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lsee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changes to disk, but won’t be physically there until parents comm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oking a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88920" y="13366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285264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Interface Groupin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81200" y="1344600"/>
            <a:ext cx="60912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sic Contai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81200" y="1344600"/>
            <a:ext cx="60912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00480" y="1739880"/>
            <a:ext cx="4365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OleClientSite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Mon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NewObject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00480" y="1739880"/>
            <a:ext cx="4365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OleClientSite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GetMon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Get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questNewObject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738440"/>
            <a:ext cx="716292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s requesting that the container save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the container call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a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is callb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pical 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065320" y="1738440"/>
            <a:ext cx="50148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ng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49280" y="1738440"/>
            <a:ext cx="8247240" cy="36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s requesting that the container display the object.  The container typically gets the IViewObject from the IOleObject and performs a 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tes that the object has just been opened.  Good time to set the hatch border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400480" y="1739880"/>
            <a:ext cx="4129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AdviseSink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Data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R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00480" y="1739880"/>
            <a:ext cx="4129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AdviseSink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Data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R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733400"/>
            <a:ext cx="716292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dviseSink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ate client are where the object is visible to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88920" y="13366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285264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733400"/>
            <a:ext cx="716292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dvise 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host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Host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the application name and objec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733400"/>
            <a:ext cx="71629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OLEIVERB_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IOleClientSite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IViewObject interface by calling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View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he IViewObject by calling IView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41280" y="1738440"/>
            <a:ext cx="66610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imple container implements the absolute minimum number of interfaces required for an open mod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n OLE 1.0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3280"/>
            <a:ext cx="81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oking a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76240" y="14320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30360" y="304308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45908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roo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CreateDocfi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you would OpenFile(OF_CRE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the root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roo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OpenStorag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you would OpenFile; similar fla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open and crea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ot stor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GM_TRANSACTED fl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87800" y="1395360"/>
            <a:ext cx="26668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orage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Elemen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ame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Element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tate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87800" y="1395360"/>
            <a:ext cx="26668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orage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MoveElemen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Enum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Destroy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name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Element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State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85800" y="1738440"/>
            <a:ext cx="597384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amed stream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n IStream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 existing named stream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n IStream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173844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ew named storage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 child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named storage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 child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