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E2F523-F4FC-4625-8869-A1C8420E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is IAdviseSink2; added late in the game; easy for containers to indicate they want the information; just respond properly to Q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risk because all original scenarios still supported; no leap or wide gap to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compound documents and automation working to start; add oth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 id doesn’t change with additions (changes with changes in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we can move past the generalities into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er session goes into detail on vtables, initializ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inter to in-process implementation may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ce defined, only fully compatible changes (e.g., reserved -&gt;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t verify reserved params are 0/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have no data and no access to class with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in comp object, can have C++ classes used direct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.g., cache deals with internal cache node object; is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data so remoting i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OMG interface similar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on DCE standard; different name; same meaning an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than enough bits to number every known molecule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ker registration likely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talk solely from component object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users, whether shipping with OLE2 or later, are equal in nature and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as mantra: when skiing, biking, knitting, medit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heritance: refinement, inverse dependency,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ly, frameworks ship with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cause of code, new versions can be very difficult to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ing hassle comes from inverse and ill specified dependency: operation of base class depends upon correct implementation in derived class (really a problem involving overrid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ilar problems when chang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be general nature of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es problems due to protected and overr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binary standard no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interface is only way for interaction, n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s of aggregate know n in advance; rarely indirect creation of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 pointers (derived from IUnknown) are ref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pointer must have a reference; common use is get, use,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ointer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kinds of pointers not rul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control life time of per-interface resources; special restrictions for aggregatabl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GC because no standard; no standard because no way to create one system which works for al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hing special; a little more expensive for each pointer copy (i.e., each addref); deletion costs defered until last use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special cases to rules: in params; back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rt pointers using templates in C++ worthy idea; argument passing can be ineffe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times a block of memory serves more than one object (i.e., there is more than one reference count); in that case, the mantra becomes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examples; more: enumerators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tle bit of a chicken and egg problem; best examples overlap a bit with later tas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one interface to the component object model itself (the API on compobj.dll) and only one implementation (compobj.d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ing point is familiar (a.k.a. bootst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sier to 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if interface, need at least one call to get pointer to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understanding; do not use what is not docu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use documented info; if you need to use, just ask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V info can be quite revealing; again, don’t code to it; may ch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on classes and simple data types no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information may become clearer the day go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counts buffered betwe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GetClassObject - may launch EXE or load DLL a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ly for 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to pCF-&gt;CreateInstance is special because connection is via channel, no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eds more work; bett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ghtweight - enums, monikers; may have custom marshaling to move themselves from one proce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sely releated to inter-process calls; object table, stub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arshal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OID directly (for class object; no custom marsha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ckObjectExternal - operator on stub mgr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SetContainedObject - internal m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ortant for apps to call CoFreeUnusedLibraries even though it does noth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why DLL can’t self u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der a little different because of compobj view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of vtable is an extra param and indirec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are fixed onc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to object can use inheritance or any other private scheme; e.g. for memor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ccess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ngauges: M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908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ig Wittenberg(1) 93006 OLE 2.0 PDC 5/93 </a:t>
            </a:r>
            <a:fld id="{FA98C395-F9C9-4134-A160-B8E7C1EFE88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25360"/>
            <a:ext cx="81723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aig Wittenber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Develop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5080" y="3123360"/>
            <a:ext cx="1329480" cy="173160"/>
            <a:chOff x="3205080" y="3123360"/>
            <a:chExt cx="1329480" cy="173160"/>
          </a:xfrm>
        </p:grpSpPr>
        <p:sp>
          <p:nvSpPr>
            <p:cNvPr id="75" name=""/>
            <p:cNvSpPr/>
            <p:nvPr/>
          </p:nvSpPr>
          <p:spPr>
            <a:xfrm>
              <a:off x="3205080" y="3209760"/>
              <a:ext cx="114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2440" y="3123360"/>
              <a:ext cx="402120" cy="173160"/>
            </a:xfrm>
            <a:custGeom>
              <a:avLst/>
              <a:gdLst/>
              <a:ahLst/>
              <a:rect l="0" t="0" r="r" b="b"/>
              <a:pathLst>
                <a:path w="1117" h="481">
                  <a:moveTo>
                    <a:pt x="1117" y="238"/>
                  </a:moveTo>
                  <a:lnTo>
                    <a:pt x="39" y="0"/>
                  </a:lnTo>
                  <a:lnTo>
                    <a:pt x="39" y="0"/>
                  </a:lnTo>
                  <a:cubicBezTo>
                    <a:pt x="13" y="77"/>
                    <a:pt x="0" y="157"/>
                    <a:pt x="0" y="238"/>
                  </a:cubicBezTo>
                  <a:cubicBezTo>
                    <a:pt x="0" y="320"/>
                    <a:pt x="13" y="402"/>
                    <a:pt x="41" y="481"/>
                  </a:cubicBezTo>
                  <a:lnTo>
                    <a:pt x="1117" y="23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857840" y="2630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tb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54120" y="255420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2994120"/>
            <a:ext cx="544680" cy="306360"/>
            <a:chOff x="482760" y="2994120"/>
            <a:chExt cx="544680" cy="306360"/>
          </a:xfrm>
        </p:grpSpPr>
        <p:sp>
          <p:nvSpPr>
            <p:cNvPr id="80" name=""/>
            <p:cNvSpPr/>
            <p:nvPr/>
          </p:nvSpPr>
          <p:spPr>
            <a:xfrm>
              <a:off x="482760" y="3036960"/>
              <a:ext cx="544680" cy="2635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2120" y="2994120"/>
              <a:ext cx="4968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nt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78360" y="3122640"/>
            <a:ext cx="1260000" cy="176040"/>
            <a:chOff x="5778360" y="3122640"/>
            <a:chExt cx="1260000" cy="176040"/>
          </a:xfrm>
        </p:grpSpPr>
        <p:sp>
          <p:nvSpPr>
            <p:cNvPr id="83" name=""/>
            <p:cNvSpPr/>
            <p:nvPr/>
          </p:nvSpPr>
          <p:spPr>
            <a:xfrm>
              <a:off x="5778360" y="3209760"/>
              <a:ext cx="10954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3920" y="31226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20000" y="2959200"/>
            <a:ext cx="1197000" cy="582480"/>
            <a:chOff x="7020000" y="2959200"/>
            <a:chExt cx="1197000" cy="582480"/>
          </a:xfrm>
        </p:grpSpPr>
        <p:sp>
          <p:nvSpPr>
            <p:cNvPr id="86" name=""/>
            <p:cNvSpPr/>
            <p:nvPr/>
          </p:nvSpPr>
          <p:spPr>
            <a:xfrm>
              <a:off x="7020000" y="295920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211880" y="308772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48240" y="3013200"/>
            <a:ext cx="1255680" cy="13651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8240" y="3282840"/>
            <a:ext cx="1255680" cy="8254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3552840"/>
            <a:ext cx="1255680" cy="2826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60800" y="299412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60800" y="325764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0800" y="354636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76400" y="3073680"/>
            <a:ext cx="1346760" cy="174600"/>
            <a:chOff x="1076400" y="3073680"/>
            <a:chExt cx="1346760" cy="174600"/>
          </a:xfrm>
        </p:grpSpPr>
        <p:sp>
          <p:nvSpPr>
            <p:cNvPr id="95" name=""/>
            <p:cNvSpPr/>
            <p:nvPr/>
          </p:nvSpPr>
          <p:spPr>
            <a:xfrm>
              <a:off x="1076400" y="3160800"/>
              <a:ext cx="10350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9080" y="3073680"/>
              <a:ext cx="334080" cy="174600"/>
            </a:xfrm>
            <a:custGeom>
              <a:avLst/>
              <a:gdLst/>
              <a:ahLst/>
              <a:rect l="0" t="0" r="r" b="b"/>
              <a:pathLst>
                <a:path w="928" h="485">
                  <a:moveTo>
                    <a:pt x="928" y="242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2" y="78"/>
                    <a:pt x="0" y="159"/>
                    <a:pt x="0" y="241"/>
                  </a:cubicBezTo>
                  <a:cubicBezTo>
                    <a:pt x="0" y="323"/>
                    <a:pt x="12" y="406"/>
                    <a:pt x="35" y="485"/>
                  </a:cubicBezTo>
                  <a:lnTo>
                    <a:pt x="928" y="2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95120" y="2611440"/>
            <a:ext cx="118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u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09840" y="2994120"/>
            <a:ext cx="992160" cy="1096920"/>
            <a:chOff x="2409840" y="2994120"/>
            <a:chExt cx="992160" cy="1096920"/>
          </a:xfrm>
        </p:grpSpPr>
        <p:grpSp>
          <p:nvGrpSpPr>
            <p:cNvPr id="99" name=""/>
            <p:cNvGrpSpPr/>
            <p:nvPr/>
          </p:nvGrpSpPr>
          <p:grpSpPr>
            <a:xfrm>
              <a:off x="2409840" y="2995560"/>
              <a:ext cx="992160" cy="1095480"/>
              <a:chOff x="2409840" y="2995560"/>
              <a:chExt cx="992160" cy="1095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409840" y="2995560"/>
                <a:ext cx="982800" cy="109548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9840" y="3267000"/>
                <a:ext cx="982800" cy="55404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9840" y="3538440"/>
                <a:ext cx="99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643120" y="299412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t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3303720"/>
              <a:ext cx="612720" cy="7365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538360" y="3333600"/>
              <a:ext cx="679320" cy="725760"/>
              <a:chOff x="2538360" y="3333600"/>
              <a:chExt cx="679320" cy="72576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2538360" y="3333600"/>
                <a:ext cx="679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v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38360" y="3549600"/>
                <a:ext cx="625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538360" y="3768840"/>
                <a:ext cx="54144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020000" y="3720960"/>
            <a:ext cx="1197000" cy="582480"/>
            <a:chOff x="7020000" y="3720960"/>
            <a:chExt cx="1197000" cy="582480"/>
          </a:xfrm>
        </p:grpSpPr>
        <p:sp>
          <p:nvSpPr>
            <p:cNvPr id="110" name=""/>
            <p:cNvSpPr/>
            <p:nvPr/>
          </p:nvSpPr>
          <p:spPr>
            <a:xfrm>
              <a:off x="7020000" y="372096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211880" y="384984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16520" y="3400560"/>
            <a:ext cx="1221840" cy="583920"/>
            <a:chOff x="5816520" y="3400560"/>
            <a:chExt cx="1221840" cy="583920"/>
          </a:xfrm>
        </p:grpSpPr>
        <p:sp>
          <p:nvSpPr>
            <p:cNvPr id="113" name=""/>
            <p:cNvSpPr/>
            <p:nvPr/>
          </p:nvSpPr>
          <p:spPr>
            <a:xfrm>
              <a:off x="5816520" y="3400560"/>
              <a:ext cx="905040" cy="476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3920" y="38084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5006880" y="3813120"/>
            <a:ext cx="32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77040" y="44197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;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00320" y="1405080"/>
            <a:ext cx="7013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and EXE extensions loaded based on CLSID (e.g., insert 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onik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“built-in” functionality (e.g., handler, task allo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r replaced functionality indistinguishable from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; support old; low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19200" y="1738440"/>
            <a:ext cx="43052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and po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face Is The Contr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36760" y="1598760"/>
            <a:ext cx="627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meaning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IID, parameters, error codes, memory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abstract class with certain call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of implementation i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new on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19280"/>
            <a:ext cx="87249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ClassFactory, IUnkn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THIS_ REFIID ri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(THIS) 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(THIS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ClassFactory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reateInstance)(THIS_ LPUNKNOWN pUnkOu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ect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LockServer)(THIS_ BOOL fLock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      IClassFactory FAR* LPCLASSFAC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Obj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e or mo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ccess via interfaces; n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notion of class; some objects have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ct creation if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ementation inheritance; reuse via delegation and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is class-specific (even if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With Three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4920" y="2309760"/>
            <a:ext cx="4305600" cy="3137040"/>
            <a:chOff x="2374920" y="2309760"/>
            <a:chExt cx="4305600" cy="3137040"/>
          </a:xfrm>
        </p:grpSpPr>
        <p:sp>
          <p:nvSpPr>
            <p:cNvPr id="129" name=""/>
            <p:cNvSpPr/>
            <p:nvPr/>
          </p:nvSpPr>
          <p:spPr>
            <a:xfrm>
              <a:off x="4646520" y="2309760"/>
              <a:ext cx="2031840" cy="3137040"/>
            </a:xfrm>
            <a:prstGeom prst="rect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480" y="259236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480" y="372420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4856040"/>
              <a:ext cx="311040" cy="3189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72736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2680" y="385920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2680" y="499104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81400" y="240048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74920" y="356076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74920" y="4686120"/>
              <a:ext cx="5875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694400" y="2841480"/>
              <a:ext cx="19861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65760" y="3549600"/>
              <a:ext cx="1643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,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585800"/>
            <a:ext cx="71629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-w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lobally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ytes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CLSID, IID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lloc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t card, run uuidgen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contact Microsoft for 256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result in {} fo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FromIID, StringFrom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09800" y="1428840"/>
            <a:ext cx="71629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run of uuid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:&gt;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uuid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D04FB40-9813-1068-AC20-0080C70E5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form of sa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* szGUID = “{DD04FB40-9813-1068-AC20-0080C70E55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INE_GUID(0xDD04FB40, 0x9813, 0x1068, 0xAC, 0x20, 0x00, 0x80, 0xC7, 0x0E, 0x55, 0x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nimal Regist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8440"/>
            <a:ext cx="716292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need to lis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(when used) i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hard code info;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ample:  composite 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 = CompositeMoni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\InprocServer = ole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s To Su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36600" y="1738440"/>
            <a:ext cx="6670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global, act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; incre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tandard; open,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ok under the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Inherit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82680" y="1422360"/>
            <a:ext cx="65786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fas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smal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rivial cases requir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ood for sensitiv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has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ly a problem with languages: no way to define a strict contract between base and derive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ass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edit contro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kil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Frameworks:  InterViews, MacApp, MFC, Object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abstrac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9800" y="1390680"/>
            <a:ext cx="716292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this-&gt;M2()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2()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Derived : public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Base::M1()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  Base different in context of Deri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ation of call to Base::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8920" y="1738440"/>
            <a:ext cx="60879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es all problems with implementation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afe; completely encaps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at creation time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96960" y="1695600"/>
            <a:ext cx="5988240" cy="3601800"/>
            <a:chOff x="1596960" y="1695600"/>
            <a:chExt cx="5988240" cy="3601800"/>
          </a:xfrm>
        </p:grpSpPr>
        <p:sp>
          <p:nvSpPr>
            <p:cNvPr id="157" name=""/>
            <p:cNvSpPr/>
            <p:nvPr/>
          </p:nvSpPr>
          <p:spPr>
            <a:xfrm>
              <a:off x="2595600" y="2584440"/>
              <a:ext cx="4989600" cy="2712960"/>
            </a:xfrm>
            <a:prstGeom prst="rect">
              <a:avLst/>
            </a:prstGeom>
            <a:solidFill>
              <a:srgbClr val="0020a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8880" y="3030480"/>
              <a:ext cx="1274760" cy="146988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3222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3987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480" y="4753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3289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0480" y="4079880"/>
              <a:ext cx="7063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00200" y="307512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596960" y="386064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96960" y="4621320"/>
              <a:ext cx="4586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3040" y="3867120"/>
              <a:ext cx="1900080" cy="122220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81720" y="4275000"/>
              <a:ext cx="18144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328840"/>
              <a:ext cx="0" cy="693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2114640"/>
              <a:ext cx="19836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169560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0320" y="3481560"/>
              <a:ext cx="3240" cy="374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0600" y="329724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551560" y="286848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9000" y="3405240"/>
              <a:ext cx="2524320" cy="881280"/>
            </a:xfrm>
            <a:custGeom>
              <a:avLst/>
              <a:gdLst/>
              <a:ahLst/>
              <a:rect l="0" t="0" r="r" b="b"/>
              <a:pathLst>
                <a:path fill="none" w="7012" h="2448">
                  <a:moveTo>
                    <a:pt x="0" y="2448"/>
                  </a:moveTo>
                  <a:lnTo>
                    <a:pt x="2906" y="2439"/>
                  </a:lnTo>
                  <a:lnTo>
                    <a:pt x="3555" y="564"/>
                  </a:lnTo>
                  <a:lnTo>
                    <a:pt x="7012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6280" y="2774880"/>
              <a:ext cx="2202120" cy="1416240"/>
            </a:xfrm>
            <a:custGeom>
              <a:avLst/>
              <a:gdLst/>
              <a:ahLst/>
              <a:rect l="0" t="0" r="r" b="b"/>
              <a:pathLst>
                <a:path fill="none" w="6117" h="3934">
                  <a:moveTo>
                    <a:pt x="6117" y="3934"/>
                  </a:moveTo>
                  <a:lnTo>
                    <a:pt x="3846" y="3290"/>
                  </a:lnTo>
                  <a:lnTo>
                    <a:pt x="2368" y="2174"/>
                  </a:lnTo>
                  <a:lnTo>
                    <a:pt x="236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360" y="2619360"/>
              <a:ext cx="122760" cy="308160"/>
            </a:xfrm>
            <a:custGeom>
              <a:avLst/>
              <a:gdLst/>
              <a:ahLst/>
              <a:rect l="0" t="0" r="r" b="b"/>
              <a:pathLst>
                <a:path w="341" h="856">
                  <a:moveTo>
                    <a:pt x="0" y="433"/>
                  </a:moveTo>
                  <a:lnTo>
                    <a:pt x="341" y="0"/>
                  </a:lnTo>
                  <a:lnTo>
                    <a:pt x="341" y="856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7040" y="3265560"/>
              <a:ext cx="127440" cy="327240"/>
            </a:xfrm>
            <a:custGeom>
              <a:avLst/>
              <a:gdLst/>
              <a:ahLst/>
              <a:rect l="0" t="0" r="r" b="b"/>
              <a:pathLst>
                <a:path w="354" h="909">
                  <a:moveTo>
                    <a:pt x="354" y="379"/>
                  </a:moveTo>
                  <a:lnTo>
                    <a:pt x="0" y="0"/>
                  </a:lnTo>
                  <a:lnTo>
                    <a:pt x="52" y="909"/>
                  </a:lnTo>
                  <a:lnTo>
                    <a:pt x="354" y="3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997360" y="3306600"/>
              <a:ext cx="14335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89320" y="3745080"/>
              <a:ext cx="7984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3360" y="4879800"/>
              <a:ext cx="3019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954160" y="267660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40360" y="348948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27560" y="189396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970680" y="31129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080" y="4178160"/>
              <a:ext cx="1969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3760" y="4106880"/>
              <a:ext cx="19836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14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ggregate Or N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97040" y="1738440"/>
            <a:ext cx="62150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common for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imple to make optionally aggreg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s in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76320" y="1738440"/>
            <a:ext cx="53910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control that supports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ata C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6480" y="29718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87760" y="33037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5280" y="2401920"/>
            <a:ext cx="198360" cy="558720"/>
            <a:chOff x="5345280" y="2401920"/>
            <a:chExt cx="198360" cy="558720"/>
          </a:xfrm>
        </p:grpSpPr>
        <p:sp>
          <p:nvSpPr>
            <p:cNvPr id="196" name=""/>
            <p:cNvSpPr/>
            <p:nvPr/>
          </p:nvSpPr>
          <p:spPr>
            <a:xfrm>
              <a:off x="5445000" y="258588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24019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43640" y="311616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08280" y="23544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560" y="250344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7720" y="3127320"/>
            <a:ext cx="1089000" cy="212760"/>
            <a:chOff x="3087720" y="3127320"/>
            <a:chExt cx="1089000" cy="212760"/>
          </a:xfrm>
        </p:grpSpPr>
        <p:sp>
          <p:nvSpPr>
            <p:cNvPr id="202" name=""/>
            <p:cNvSpPr/>
            <p:nvPr/>
          </p:nvSpPr>
          <p:spPr>
            <a:xfrm>
              <a:off x="3087720" y="31273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7880" y="323388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371600" y="28321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7720" y="3622680"/>
            <a:ext cx="1050840" cy="212760"/>
            <a:chOff x="3087720" y="3622680"/>
            <a:chExt cx="1050840" cy="212760"/>
          </a:xfrm>
        </p:grpSpPr>
        <p:sp>
          <p:nvSpPr>
            <p:cNvPr id="206" name=""/>
            <p:cNvSpPr/>
            <p:nvPr/>
          </p:nvSpPr>
          <p:spPr>
            <a:xfrm>
              <a:off x="3087720" y="36226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87880" y="3728880"/>
              <a:ext cx="850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504800" y="33465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43640" y="2552760"/>
            <a:ext cx="362160" cy="572040"/>
          </a:xfrm>
          <a:custGeom>
            <a:avLst/>
            <a:gdLst/>
            <a:ahLst/>
            <a:rect l="0" t="0" r="r" b="b"/>
            <a:pathLst>
              <a:path fill="none" w="1006" h="1589">
                <a:moveTo>
                  <a:pt x="476" y="1589"/>
                </a:moveTo>
                <a:lnTo>
                  <a:pt x="1006" y="58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efault Hand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879560"/>
            <a:ext cx="4989600" cy="444672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6560" y="2325600"/>
            <a:ext cx="1332000" cy="146988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6680" y="3162240"/>
            <a:ext cx="1900080" cy="12222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5360" y="3608280"/>
            <a:ext cx="1814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mo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7040" y="16239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14097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1800" y="9907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64320" y="2776680"/>
            <a:ext cx="3240" cy="37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2592360"/>
            <a:ext cx="198360" cy="21420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875200" y="21636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22640" y="2700360"/>
            <a:ext cx="2524320" cy="881280"/>
          </a:xfrm>
          <a:custGeom>
            <a:avLst/>
            <a:gdLst/>
            <a:ahLst/>
            <a:rect l="0" t="0" r="r" b="b"/>
            <a:pathLst>
              <a:path fill="none" w="7012" h="2448">
                <a:moveTo>
                  <a:pt x="0" y="2448"/>
                </a:moveTo>
                <a:lnTo>
                  <a:pt x="2906" y="2439"/>
                </a:lnTo>
                <a:lnTo>
                  <a:pt x="3555" y="564"/>
                </a:lnTo>
                <a:lnTo>
                  <a:pt x="701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2070000"/>
            <a:ext cx="2202120" cy="1416240"/>
          </a:xfrm>
          <a:custGeom>
            <a:avLst/>
            <a:gdLst/>
            <a:ahLst/>
            <a:rect l="0" t="0" r="r" b="b"/>
            <a:pathLst>
              <a:path fill="none" w="6117" h="3934">
                <a:moveTo>
                  <a:pt x="6117" y="3934"/>
                </a:moveTo>
                <a:lnTo>
                  <a:pt x="3846" y="3290"/>
                </a:lnTo>
                <a:lnTo>
                  <a:pt x="2368" y="2174"/>
                </a:lnTo>
                <a:lnTo>
                  <a:pt x="236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63594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51200" y="11890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294680" y="24084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3473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97760" y="340200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7920" y="47052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9200" y="50371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16360" y="4135320"/>
            <a:ext cx="198360" cy="559080"/>
            <a:chOff x="4716360" y="4135320"/>
            <a:chExt cx="198360" cy="559080"/>
          </a:xfrm>
        </p:grpSpPr>
        <p:sp>
          <p:nvSpPr>
            <p:cNvPr id="231" name=""/>
            <p:cNvSpPr/>
            <p:nvPr/>
          </p:nvSpPr>
          <p:spPr>
            <a:xfrm>
              <a:off x="4816440" y="431964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1353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915080" y="484992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9400" y="2228760"/>
            <a:ext cx="1352880" cy="2667240"/>
          </a:xfrm>
          <a:custGeom>
            <a:avLst/>
            <a:gdLst/>
            <a:ahLst/>
            <a:rect l="0" t="0" r="r" b="b"/>
            <a:pathLst>
              <a:path fill="none" w="3758" h="7409">
                <a:moveTo>
                  <a:pt x="2911" y="7409"/>
                </a:moveTo>
                <a:lnTo>
                  <a:pt x="3758" y="4869"/>
                </a:lnTo>
                <a:lnTo>
                  <a:pt x="375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57560" y="361944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0"/>
                </a:moveTo>
                <a:lnTo>
                  <a:pt x="899" y="741"/>
                </a:lnTo>
                <a:lnTo>
                  <a:pt x="190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9720" y="408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7000" y="42372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25680" y="258300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440080" y="2460600"/>
            <a:ext cx="898560" cy="212760"/>
            <a:chOff x="2440080" y="2460600"/>
            <a:chExt cx="898560" cy="212760"/>
          </a:xfrm>
        </p:grpSpPr>
        <p:sp>
          <p:nvSpPr>
            <p:cNvPr id="240" name=""/>
            <p:cNvSpPr/>
            <p:nvPr/>
          </p:nvSpPr>
          <p:spPr>
            <a:xfrm>
              <a:off x="2440080" y="246060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256716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952560" y="212724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40080" y="2994120"/>
            <a:ext cx="898560" cy="212760"/>
            <a:chOff x="2440080" y="2994120"/>
            <a:chExt cx="898560" cy="212760"/>
          </a:xfrm>
        </p:grpSpPr>
        <p:sp>
          <p:nvSpPr>
            <p:cNvPr id="244" name=""/>
            <p:cNvSpPr/>
            <p:nvPr/>
          </p:nvSpPr>
          <p:spPr>
            <a:xfrm>
              <a:off x="2440080" y="29941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9880" y="31003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40080" y="3489480"/>
            <a:ext cx="898560" cy="212760"/>
            <a:chOff x="2440080" y="3489480"/>
            <a:chExt cx="898560" cy="212760"/>
          </a:xfrm>
        </p:grpSpPr>
        <p:sp>
          <p:nvSpPr>
            <p:cNvPr id="247" name=""/>
            <p:cNvSpPr/>
            <p:nvPr/>
          </p:nvSpPr>
          <p:spPr>
            <a:xfrm>
              <a:off x="2440080" y="34894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359568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857160" y="26989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3960" y="325116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40080" y="4861080"/>
            <a:ext cx="1089000" cy="212760"/>
            <a:chOff x="2440080" y="4861080"/>
            <a:chExt cx="1089000" cy="212760"/>
          </a:xfrm>
        </p:grpSpPr>
        <p:sp>
          <p:nvSpPr>
            <p:cNvPr id="252" name=""/>
            <p:cNvSpPr/>
            <p:nvPr/>
          </p:nvSpPr>
          <p:spPr>
            <a:xfrm>
              <a:off x="2440080" y="4861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4967280"/>
              <a:ext cx="889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743040" y="45655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59160" y="5356080"/>
            <a:ext cx="1050840" cy="212760"/>
            <a:chOff x="2459160" y="5356080"/>
            <a:chExt cx="1050840" cy="212760"/>
          </a:xfrm>
        </p:grpSpPr>
        <p:sp>
          <p:nvSpPr>
            <p:cNvPr id="256" name=""/>
            <p:cNvSpPr/>
            <p:nvPr/>
          </p:nvSpPr>
          <p:spPr>
            <a:xfrm>
              <a:off x="2459160" y="5356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5462640"/>
              <a:ext cx="851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876240" y="50799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7680" y="6070680"/>
            <a:ext cx="2657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Item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4381560"/>
            <a:ext cx="4001040" cy="2095920"/>
          </a:xfrm>
          <a:custGeom>
            <a:avLst/>
            <a:gdLst/>
            <a:ahLst/>
            <a:rect l="0" t="0" r="r" b="b"/>
            <a:pathLst>
              <a:path fill="none" w="11114" h="5822">
                <a:moveTo>
                  <a:pt x="0" y="5822"/>
                </a:moveTo>
                <a:lnTo>
                  <a:pt x="9103" y="5769"/>
                </a:lnTo>
                <a:lnTo>
                  <a:pt x="11114" y="2435"/>
                </a:lnTo>
                <a:lnTo>
                  <a:pt x="11114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Custom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040" y="3156120"/>
            <a:ext cx="3179880" cy="3227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5840" y="290052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65760" y="26859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70600" y="22669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06520" y="364176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6680" y="3747960"/>
            <a:ext cx="222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9000" y="330840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175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6680" y="4281480"/>
            <a:ext cx="223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23960" y="38797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0400" y="443232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278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361800" y="210816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0720" y="2192400"/>
            <a:ext cx="1389240" cy="112716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29160" y="2978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0200" y="244944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7640" y="4183200"/>
            <a:ext cx="151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a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09880" y="2800440"/>
            <a:ext cx="19814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339732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53000" y="2038320"/>
            <a:ext cx="3715200" cy="1371960"/>
          </a:xfrm>
          <a:custGeom>
            <a:avLst/>
            <a:gdLst/>
            <a:ahLst/>
            <a:rect l="0" t="0" r="r" b="b"/>
            <a:pathLst>
              <a:path fill="none" w="10320" h="3811">
                <a:moveTo>
                  <a:pt x="10320" y="3811"/>
                </a:moveTo>
                <a:lnTo>
                  <a:pt x="878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83040" y="53560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2280" y="5462640"/>
            <a:ext cx="52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38600" y="492768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37240" y="24652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Produ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3419640"/>
            <a:ext cx="7182000" cy="15746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ment, naming/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tching, acti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040" y="202392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59000" y="2023920"/>
            <a:ext cx="1444680" cy="82692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55880" y="2004840"/>
            <a:ext cx="1258920" cy="85716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91120" y="2023920"/>
            <a:ext cx="1658880" cy="84780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2023920"/>
            <a:ext cx="23274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040" y="3975120"/>
            <a:ext cx="3218040" cy="2408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8120" y="328140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7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22880" y="264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90400" y="4432320"/>
            <a:ext cx="1844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309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361800" y="2108160"/>
            <a:ext cx="1895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60720" y="2192400"/>
            <a:ext cx="1655640" cy="160344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165480" y="2259000"/>
            <a:ext cx="1430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57720" y="341640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76800" y="4924440"/>
            <a:ext cx="2397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57880" y="3181320"/>
            <a:ext cx="144756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39040" y="42544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038320"/>
            <a:ext cx="3791160" cy="2248200"/>
          </a:xfrm>
          <a:custGeom>
            <a:avLst/>
            <a:gdLst/>
            <a:ahLst/>
            <a:rect l="0" t="0" r="r" b="b"/>
            <a:pathLst>
              <a:path fill="none" w="10531" h="6245">
                <a:moveTo>
                  <a:pt x="10531" y="6245"/>
                </a:moveTo>
                <a:lnTo>
                  <a:pt x="878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689880" y="284652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3962520"/>
            <a:ext cx="212760" cy="19692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38600" y="412740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46560" y="3755880"/>
            <a:ext cx="38160" cy="203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384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lifetime of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utomatic garbag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s:  avoid or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to one process (mor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ules provide for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() returns object ref count; debug code can verify final rel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, Use,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960" y="2362320"/>
            <a:ext cx="819144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DataObj-&gt;EnumFormatEtc(..., &amp;penum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Next(.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Relea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er Lifeti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8440" y="312588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7040" y="254484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3800" y="3952800"/>
            <a:ext cx="2851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3640" y="457668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ing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06760" y="3533760"/>
            <a:ext cx="887760" cy="103680"/>
            <a:chOff x="2606760" y="3533760"/>
            <a:chExt cx="887760" cy="103680"/>
          </a:xfrm>
        </p:grpSpPr>
        <p:sp>
          <p:nvSpPr>
            <p:cNvPr id="339" name=""/>
            <p:cNvSpPr/>
            <p:nvPr/>
          </p:nvSpPr>
          <p:spPr>
            <a:xfrm>
              <a:off x="2606760" y="358452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8640" y="3533760"/>
              <a:ext cx="155880" cy="103680"/>
            </a:xfrm>
            <a:custGeom>
              <a:avLst/>
              <a:gdLst/>
              <a:ahLst/>
              <a:rect l="0" t="0" r="r" b="b"/>
              <a:pathLst>
                <a:path w="433" h="288">
                  <a:moveTo>
                    <a:pt x="0" y="0"/>
                  </a:moveTo>
                  <a:lnTo>
                    <a:pt x="433" y="144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679320" y="298944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9320" y="340056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54200" y="2752560"/>
            <a:ext cx="2764080" cy="103680"/>
            <a:chOff x="1654200" y="2752560"/>
            <a:chExt cx="2764080" cy="103680"/>
          </a:xfrm>
        </p:grpSpPr>
        <p:sp>
          <p:nvSpPr>
            <p:cNvPr id="344" name=""/>
            <p:cNvSpPr/>
            <p:nvPr/>
          </p:nvSpPr>
          <p:spPr>
            <a:xfrm>
              <a:off x="1654200" y="2803680"/>
              <a:ext cx="261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52560"/>
              <a:ext cx="151200" cy="103680"/>
            </a:xfrm>
            <a:custGeom>
              <a:avLst/>
              <a:gdLst/>
              <a:ahLst/>
              <a:rect l="0" t="0" r="r" b="b"/>
              <a:pathLst>
                <a:path w="420" h="288">
                  <a:moveTo>
                    <a:pt x="0" y="0"/>
                  </a:moveTo>
                  <a:lnTo>
                    <a:pt x="420" y="142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976320" y="26449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3875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53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65160" y="3133800"/>
            <a:ext cx="2164320" cy="97200"/>
            <a:chOff x="1865160" y="3133800"/>
            <a:chExt cx="2164320" cy="97200"/>
          </a:xfrm>
        </p:grpSpPr>
        <p:sp>
          <p:nvSpPr>
            <p:cNvPr id="350" name=""/>
            <p:cNvSpPr/>
            <p:nvPr/>
          </p:nvSpPr>
          <p:spPr>
            <a:xfrm>
              <a:off x="1865160" y="3181320"/>
              <a:ext cx="20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3133800"/>
              <a:ext cx="138600" cy="97200"/>
            </a:xfrm>
            <a:custGeom>
              <a:avLst/>
              <a:gdLst/>
              <a:ahLst/>
              <a:rect l="0" t="0" r="r" b="b"/>
              <a:pathLst>
                <a:path w="385" h="270">
                  <a:moveTo>
                    <a:pt x="0" y="0"/>
                  </a:moveTo>
                  <a:lnTo>
                    <a:pt x="385" y="135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164160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97360" y="359244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97360" y="401940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76920" y="3406680"/>
            <a:ext cx="259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64600" y="3352680"/>
            <a:ext cx="152640" cy="106560"/>
          </a:xfrm>
          <a:custGeom>
            <a:avLst/>
            <a:gdLst/>
            <a:ahLst/>
            <a:rect l="0" t="0" r="r" b="b"/>
            <a:pathLst>
              <a:path w="424" h="296">
                <a:moveTo>
                  <a:pt x="0" y="0"/>
                </a:moveTo>
                <a:lnTo>
                  <a:pt x="424" y="150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92560" y="3236760"/>
            <a:ext cx="708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9620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7404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244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612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6680" y="3797280"/>
            <a:ext cx="10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2240" y="3741840"/>
            <a:ext cx="157680" cy="106560"/>
          </a:xfrm>
          <a:custGeom>
            <a:avLst/>
            <a:gdLst/>
            <a:ahLst/>
            <a:rect l="0" t="0" r="r" b="b"/>
            <a:pathLst>
              <a:path w="438" h="296">
                <a:moveTo>
                  <a:pt x="0" y="0"/>
                </a:moveTo>
                <a:lnTo>
                  <a:pt x="438" y="147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08600" y="4191120"/>
            <a:ext cx="100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4000" y="4130640"/>
            <a:ext cx="155880" cy="108360"/>
          </a:xfrm>
          <a:custGeom>
            <a:avLst/>
            <a:gdLst/>
            <a:ahLst/>
            <a:rect l="0" t="0" r="r" b="b"/>
            <a:pathLst>
              <a:path w="433" h="301">
                <a:moveTo>
                  <a:pt x="0" y="0"/>
                </a:moveTo>
                <a:lnTo>
                  <a:pt x="433" y="153"/>
                </a:lnTo>
                <a:lnTo>
                  <a:pt x="0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5840" y="1581120"/>
            <a:ext cx="857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XX::Releas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960" y="1752480"/>
            <a:ext cx="75880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IMP_(ULONG) CXX::Releas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--m_refs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 t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m_ref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8920" y="1308240"/>
            <a:ext cx="662616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ilt upo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RPC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, cach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 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 source and 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terface to component object system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47760" y="1574640"/>
            <a:ext cx="6648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, loc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 related to compound document scenarios in other tal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iti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71640" y="182880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uildVersion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major and minor buil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determine if new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(NULL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efore most us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task allocator; can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initializ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990720"/>
            <a:ext cx="8140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FAR CDelayedRelease : public I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(QueryInterface) (REFIID iid, LPVOID FAR* ppv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AddRef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Release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(IUnknown FAR* pUnk);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CDelayedRelease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AR *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CDelayedRelease (IUnknown FAR* pUn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 = 1;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 = pUn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pUnk)   pUnk-&gt;AddRe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~CDelayedRelease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m_pUnk)   m_pUnk-&gt;Release()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81200" y="201924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45080" y="2019240"/>
            <a:ext cx="1654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8480" y="2019240"/>
            <a:ext cx="1870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0080" y="3228840"/>
            <a:ext cx="289548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1880" y="3228840"/>
            <a:ext cx="173340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00680" y="3228840"/>
            <a:ext cx="2343240" cy="87948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600" y="4448160"/>
            <a:ext cx="9118440" cy="49536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192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04880" y="971640"/>
            <a:ext cx="771516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 CDelayedRelease::QueryInterface(REFIID iid, LPLPVOID pp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iid == IID_IUnknow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+m_ref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NO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els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ResultFromScode(E_NOINTERFAC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AddRef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  return ++m_refs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Relea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--m_refs == 0) {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this;    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28760" y="1063800"/>
            <a:ext cx="648648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uniqu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 and other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- one proces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ieces are compon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16224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4324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33640" y="4367160"/>
            <a:ext cx="180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605560" y="321156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2685960"/>
            <a:ext cx="49536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00560" y="2190600"/>
            <a:ext cx="64764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5219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43000" y="3828960"/>
            <a:ext cx="76212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7480" y="3718080"/>
            <a:ext cx="441360" cy="98280"/>
            <a:chOff x="1887480" y="3718080"/>
            <a:chExt cx="441360" cy="98280"/>
          </a:xfrm>
        </p:grpSpPr>
        <p:sp>
          <p:nvSpPr>
            <p:cNvPr id="396" name=""/>
            <p:cNvSpPr/>
            <p:nvPr/>
          </p:nvSpPr>
          <p:spPr>
            <a:xfrm>
              <a:off x="1887480" y="37180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37670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54440" y="2327400"/>
            <a:ext cx="98280" cy="365040"/>
            <a:chOff x="3754440" y="2327400"/>
            <a:chExt cx="98280" cy="365040"/>
          </a:xfrm>
        </p:grpSpPr>
        <p:sp>
          <p:nvSpPr>
            <p:cNvPr id="399" name=""/>
            <p:cNvSpPr/>
            <p:nvPr/>
          </p:nvSpPr>
          <p:spPr>
            <a:xfrm>
              <a:off x="3754440" y="25909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03760" y="23274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40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92760" y="2860560"/>
            <a:ext cx="98280" cy="289080"/>
            <a:chOff x="5792760" y="2860560"/>
            <a:chExt cx="98280" cy="289080"/>
          </a:xfrm>
        </p:grpSpPr>
        <p:sp>
          <p:nvSpPr>
            <p:cNvPr id="405" name=""/>
            <p:cNvSpPr/>
            <p:nvPr/>
          </p:nvSpPr>
          <p:spPr>
            <a:xfrm>
              <a:off x="5792760" y="286056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080" y="294156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572160" y="390528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47640" y="12002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2960" y="1486080"/>
            <a:ext cx="1067040" cy="1409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92360" y="2936880"/>
            <a:ext cx="98280" cy="289080"/>
            <a:chOff x="2592360" y="2936880"/>
            <a:chExt cx="98280" cy="289080"/>
          </a:xfrm>
        </p:grpSpPr>
        <p:sp>
          <p:nvSpPr>
            <p:cNvPr id="412" name=""/>
            <p:cNvSpPr/>
            <p:nvPr/>
          </p:nvSpPr>
          <p:spPr>
            <a:xfrm>
              <a:off x="2592360" y="29368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1680" y="30178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05440" y="165744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0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8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35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43120" y="2628720"/>
            <a:ext cx="1581480" cy="2362680"/>
          </a:xfrm>
          <a:custGeom>
            <a:avLst/>
            <a:gdLst/>
            <a:ahLst/>
            <a:rect l="0" t="0" r="r" b="b"/>
            <a:pathLst>
              <a:path fill="none" w="4393" h="6563">
                <a:moveTo>
                  <a:pt x="4393" y="0"/>
                </a:moveTo>
                <a:lnTo>
                  <a:pt x="529" y="2964"/>
                </a:lnTo>
                <a:lnTo>
                  <a:pt x="0" y="5875"/>
                </a:lnTo>
                <a:lnTo>
                  <a:pt x="1481" y="6563"/>
                </a:lnTo>
                <a:lnTo>
                  <a:pt x="1481" y="656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42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49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2560" y="3524400"/>
            <a:ext cx="3124440" cy="1467360"/>
          </a:xfrm>
          <a:custGeom>
            <a:avLst/>
            <a:gdLst/>
            <a:ahLst/>
            <a:rect l="0" t="0" r="r" b="b"/>
            <a:pathLst>
              <a:path fill="none" w="8679" h="4076">
                <a:moveTo>
                  <a:pt x="0" y="0"/>
                </a:moveTo>
                <a:lnTo>
                  <a:pt x="4975" y="2276"/>
                </a:lnTo>
                <a:lnTo>
                  <a:pt x="7197" y="3388"/>
                </a:lnTo>
                <a:lnTo>
                  <a:pt x="8679" y="4076"/>
                </a:lnTo>
                <a:lnTo>
                  <a:pt x="8679" y="407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1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Object created first, then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39920" y="1681200"/>
            <a:ext cx="64641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., &amp;pC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rom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-side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68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7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474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477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96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99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02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05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13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81960" y="3219480"/>
            <a:ext cx="7632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30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33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3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3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5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705720" y="2362320"/>
            <a:ext cx="838440" cy="1848240"/>
          </a:xfrm>
          <a:custGeom>
            <a:avLst/>
            <a:gdLst/>
            <a:ahLst/>
            <a:rect l="0" t="0" r="r" b="b"/>
            <a:pathLst>
              <a:path fill="none" w="2329" h="5134">
                <a:moveTo>
                  <a:pt x="0" y="0"/>
                </a:moveTo>
                <a:lnTo>
                  <a:pt x="793" y="3652"/>
                </a:lnTo>
                <a:lnTo>
                  <a:pt x="2329" y="513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557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76800" y="2381400"/>
            <a:ext cx="552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Distance To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82680" y="1738440"/>
            <a:ext cx="6578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in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remote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made primarily b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7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7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8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8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0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0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62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6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5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5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664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60400" y="1738440"/>
            <a:ext cx="7424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handler must be aware of the order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, &amp;p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, &amp;pOb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QI(IID_IPersistStorage, &amp;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S-&gt;Load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’s process need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76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57320" y="1922400"/>
            <a:ext cx="70293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Run (or pObj-&gt;DoVerb(...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class object; may ru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(spe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CF-&gt;CreateInstance(NULL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with marshaled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 to existing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8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9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9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1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1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2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3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4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4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5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6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7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77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8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8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95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0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04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12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18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8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837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840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4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5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5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6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69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Siz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1738440"/>
            <a:ext cx="73216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weight objects - no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-weight objects -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weight - handler or local server fronts large network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possible by transparent nature of rem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27120" y="1738440"/>
            <a:ext cx="608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release of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same for both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Relea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gets last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cleans up and calls ProxyManager to dis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 releases object if last connection, no table strong marshalings and no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9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9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903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1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1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24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3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33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3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4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4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69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74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81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84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96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0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0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1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2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4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4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568520" y="1200240"/>
            <a:ext cx="60087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object available in other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vs. 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unningObjectTable::Register(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Drag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Acti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gisterClass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kObject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etContainedObject (less di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4348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67360" y="447660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125748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586320" y="326880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162240" y="2133720"/>
            <a:ext cx="6098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450040" y="4175280"/>
            <a:ext cx="98280" cy="288720"/>
            <a:chOff x="5450040" y="4175280"/>
            <a:chExt cx="98280" cy="288720"/>
          </a:xfrm>
        </p:grpSpPr>
        <p:sp>
          <p:nvSpPr>
            <p:cNvPr id="1064" name=""/>
            <p:cNvSpPr/>
            <p:nvPr/>
          </p:nvSpPr>
          <p:spPr>
            <a:xfrm>
              <a:off x="5450040" y="41752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99000" y="42559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754440" y="2879640"/>
            <a:ext cx="98280" cy="289080"/>
            <a:chOff x="3754440" y="2879640"/>
            <a:chExt cx="98280" cy="289080"/>
          </a:xfrm>
        </p:grpSpPr>
        <p:sp>
          <p:nvSpPr>
            <p:cNvPr id="1067" name=""/>
            <p:cNvSpPr/>
            <p:nvPr/>
          </p:nvSpPr>
          <p:spPr>
            <a:xfrm>
              <a:off x="3754440" y="287964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3760" y="296064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514760" y="388620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62040" y="14097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5014800" y="522432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48040" y="1657440"/>
            <a:ext cx="35816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00040" y="192420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00040" y="322884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00040" y="474336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0" y="2876400"/>
            <a:ext cx="628920" cy="495720"/>
          </a:xfrm>
          <a:custGeom>
            <a:avLst/>
            <a:gdLst/>
            <a:ahLst/>
            <a:rect l="0" t="0" r="r" b="b"/>
            <a:pathLst>
              <a:path fill="none" w="1747" h="1377">
                <a:moveTo>
                  <a:pt x="0" y="1377"/>
                </a:moveTo>
                <a:lnTo>
                  <a:pt x="52" y="0"/>
                </a:lnTo>
                <a:lnTo>
                  <a:pt x="1747" y="52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38560" y="2933640"/>
            <a:ext cx="514800" cy="1924560"/>
          </a:xfrm>
          <a:custGeom>
            <a:avLst/>
            <a:gdLst/>
            <a:ahLst/>
            <a:rect l="0" t="0" r="r" b="b"/>
            <a:pathLst>
              <a:path fill="none" w="1430" h="5346">
                <a:moveTo>
                  <a:pt x="0" y="5346"/>
                </a:moveTo>
                <a:lnTo>
                  <a:pt x="688" y="2911"/>
                </a:lnTo>
                <a:lnTo>
                  <a:pt x="688" y="476"/>
                </a:lnTo>
                <a:lnTo>
                  <a:pt x="143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78560" y="2362320"/>
            <a:ext cx="175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7505640" y="1676520"/>
            <a:ext cx="266760" cy="628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330960" y="371484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k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952720"/>
            <a:ext cx="2267280" cy="705240"/>
          </a:xfrm>
          <a:custGeom>
            <a:avLst/>
            <a:gdLst/>
            <a:ahLst/>
            <a:rect l="0" t="0" r="r" b="b"/>
            <a:pathLst>
              <a:path fill="none" w="6298" h="1959">
                <a:moveTo>
                  <a:pt x="6298" y="1959"/>
                </a:moveTo>
                <a:lnTo>
                  <a:pt x="2857" y="15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952560" y="6095880"/>
            <a:ext cx="285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 Contain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448080" y="4457880"/>
            <a:ext cx="343440" cy="1486440"/>
          </a:xfrm>
          <a:custGeom>
            <a:avLst/>
            <a:gdLst/>
            <a:ahLst/>
            <a:rect l="0" t="0" r="r" b="b"/>
            <a:pathLst>
              <a:path fill="none" w="954" h="4129">
                <a:moveTo>
                  <a:pt x="0" y="4129"/>
                </a:moveTo>
                <a:lnTo>
                  <a:pt x="954" y="2329"/>
                </a:lnTo>
                <a:lnTo>
                  <a:pt x="848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733320" y="1600200"/>
            <a:ext cx="7677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more objects, can u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s, via CoFreeUnusedLibra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s pointers to class objects for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DllCanUnloadNow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FreeLibrary if allow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global counter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s, PostQuitMessage, etc.; more detail in later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58760" y="1219320"/>
            <a:ext cx="7027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the minimum; ad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 (embed/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s bett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104840" y="1738440"/>
            <a:ext cx="6934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SCTXs (class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SHCTXs (marshal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to understan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to generate remoting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990720" y="2295360"/>
            <a:ext cx="7162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C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7960" y="1341360"/>
            <a:ext cx="812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function calls - no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 - small par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 objects - mos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network RPC - under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overhead depending upon kind of objects (e.g., OLE objects which use the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elay creation of some resources until needed (e.g., IDispatch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24160"/>
            <a:ext cx="78105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 via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via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; C, C++ particularly well su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languages will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ource standard; never required or encouraged to ship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 for code reuse; inheritance not supported betwee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