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 txBox="1"/>
          <p:nvPr/>
        </p:nvSpPr>
        <p:spPr>
          <a:xfrm>
            <a:off x="5578560" y="76320"/>
            <a:ext cx="2998800" cy="39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arrym193006 OLE 2.0 PDC 5/93 </a:t>
            </a:r>
            <a:fld id="{C26DB0FE-4101-46E5-A480-9567E9E031B5}" type="slidenum">
              <a:rPr b="1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 txBox="1"/>
          <p:nvPr/>
        </p:nvSpPr>
        <p:spPr>
          <a:xfrm>
            <a:off x="485640" y="228600"/>
            <a:ext cx="8172360" cy="426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mplementing Simple Objects</a:t>
            </a:r>
            <a:br>
              <a:rPr sz="4800"/>
            </a:br>
            <a:br>
              <a:rPr sz="4800"/>
            </a:br>
            <a:br>
              <a:rPr sz="4800"/>
            </a:br>
            <a:br>
              <a:rPr sz="4800"/>
            </a:br>
            <a:r>
              <a:rPr b="1" lang="en-US" sz="40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Barry MacKichan</a:t>
            </a:r>
            <a:br>
              <a:rPr sz="18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oftware Design Engineer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Mcirosoft Corpora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>
            <a:off x="1523880" y="2590920"/>
            <a:ext cx="6095880" cy="23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OleObject Interfa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1276200" y="1771560"/>
            <a:ext cx="7219800" cy="169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nection to container (client sit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you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Verb and EnumVer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DataObject Interfa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1504800" y="1619280"/>
            <a:ext cx="6800760" cy="315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tting data (and presentation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tting da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a change notif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ghtly different flavors used for data transfer (clipboard, Drag and Drop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IPersistStorage Interfac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1380960" y="1619280"/>
            <a:ext cx="6381720" cy="21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ading and sav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ssigning a storage to an obj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ynchronizing object’s and container’s access to the stor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50472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trategi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752480" y="1486080"/>
            <a:ext cx="6286680" cy="405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++ or C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DLL or an EXE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able also as a stand-alone application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 it read and write file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 the user edit objects directly, without using OL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DI or MDI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50472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++ Or C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1009800" y="1447920"/>
            <a:ext cx="7162920" cy="45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++ vs 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vantages of C++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c vtbl initializ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tter syntax checking by the compil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ceptual model is closer to O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sadvantag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y be unfamili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39852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isting code may be in 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50472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LL Or EXE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1409760" y="1581120"/>
            <a:ext cx="6362640" cy="24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vantages of D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fficienc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re control is therefore pos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ewer concurrency problems (no IMessageFilter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50472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DLL Or EXE?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990720" y="1619280"/>
            <a:ext cx="7201080" cy="283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vantages of EX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f there is existing code, it is probably already an EX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LE will provide IViewObject and IOleCache interfa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eater secur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50472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hoices For This Exampl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2019240" y="1542960"/>
            <a:ext cx="5143680" cy="27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++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L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stand-alone vers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posite of sample co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liberate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 Very Simple Sampl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990720" y="1562040"/>
            <a:ext cx="7201080" cy="33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ts crea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vides required interfa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lements very little functiona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eps as its only ver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presents the first milestone in development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50472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imple Source Cod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1009800" y="1504800"/>
            <a:ext cx="716292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ass header for CSimpleClassFact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mple reference coun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v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llGetClassObj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main (only) entry point to the D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ffers from EXE-based ser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 Simple Objec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504800" y="1752480"/>
            <a:ext cx="6743880" cy="169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 be embedd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ows linking to the whole obj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 a contain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0472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imple Source Cod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2143080" y="1752480"/>
            <a:ext cx="4896000" cy="96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lementation of CSimpleClassFact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imple Source Cod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1143000" y="1695600"/>
            <a:ext cx="6896160" cy="335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10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lass header for CSimp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10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ple interfaces/nested class idi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10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ggregated reference coun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10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sted class initializ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10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ViewObject interface is includ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10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mber variab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imple Source Cod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657440" y="1581120"/>
            <a:ext cx="5867280" cy="111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lementation of CSimp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registration fi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50472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he First Milesto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990720" y="1733400"/>
            <a:ext cx="7162920" cy="25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50472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The EXE Ca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990720" y="1638360"/>
            <a:ext cx="7201080" cy="272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rt up with/Embedding command l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er the class fact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vide IMessageFilter interf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voke and clean up on exi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50472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nhancement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790560" y="1467000"/>
            <a:ext cx="76010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aw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tData in native and metafile forma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umVer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ange notif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tting ext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a transfer for clipboard, Drag and Dro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able linking to the obj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638280" y="42084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 Simple Objec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447920" y="1219320"/>
            <a:ext cx="624852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 Simple Objec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447920" y="1219320"/>
            <a:ext cx="6248520" cy="5381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 txBox="1"/>
          <p:nvPr/>
        </p:nvSpPr>
        <p:spPr>
          <a:xfrm>
            <a:off x="438120" y="4952880"/>
            <a:ext cx="228600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o Drag and Drop or data transf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 Simple Objec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447920" y="1219320"/>
            <a:ext cx="6248520" cy="53816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 txBox="1"/>
          <p:nvPr/>
        </p:nvSpPr>
        <p:spPr>
          <a:xfrm>
            <a:off x="666720" y="4971960"/>
            <a:ext cx="198108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o In-place Activation  or Editi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 Simple Objec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447920" y="1295280"/>
            <a:ext cx="6248520" cy="53816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 txBox="1"/>
          <p:nvPr/>
        </p:nvSpPr>
        <p:spPr>
          <a:xfrm>
            <a:off x="114480" y="5105520"/>
            <a:ext cx="26859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o pseudo-objects or link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50472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 Simple Objec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447920" y="1219320"/>
            <a:ext cx="6248520" cy="5381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 txBox="1"/>
          <p:nvPr/>
        </p:nvSpPr>
        <p:spPr>
          <a:xfrm>
            <a:off x="266760" y="5334120"/>
            <a:ext cx="213372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o message filter or treat-as suppor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485640" y="2682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A Simple Objec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447920" y="1219320"/>
            <a:ext cx="624852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279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485640" y="228600"/>
            <a:ext cx="8172360" cy="7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Simple Object Interfac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1504800" y="1657440"/>
            <a:ext cx="6134040" cy="27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OleObject interfa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DataObj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PersistStora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52600" indent="-552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so need a ClassFactory with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71640" indent="-417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SzPct val="75000"/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ClassFactory interf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