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346800" y="0"/>
            <a:ext cx="2784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b Atkinson1 93006 OLE PDC 4/93 </a:t>
            </a:r>
            <a:fld id="{597594BD-4CD2-4A65-A7F5-ECFAC679B25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407960"/>
            <a:ext cx="81723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Basic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b Atkins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The “Handl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33480" y="1123920"/>
            <a:ext cx="7277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iece of object-specific code that gets loaded in container space to dra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applications take &gt; 20 sec.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-is in 99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runs and initializes object server applicatio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talks to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Structure Of Common Scenar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7960" y="1754280"/>
            <a:ext cx="6329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nly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object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application supporting links to its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bjec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93920" y="49291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tting veneers on your existing data stru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-Only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58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Single-Object 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736640"/>
            <a:ext cx="6286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Object Application Supporting Links To Its P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14480" y="2217600"/>
            <a:ext cx="5315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 -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400" y="1749600"/>
            <a:ext cx="7854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-Tim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presentation Of Interfac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360" y="2473200"/>
            <a:ext cx="9126720" cy="1712880"/>
            <a:chOff x="9360" y="2473200"/>
            <a:chExt cx="9126720" cy="1712880"/>
          </a:xfrm>
        </p:grpSpPr>
        <p:grpSp>
          <p:nvGrpSpPr>
            <p:cNvPr id="103" name=""/>
            <p:cNvGrpSpPr/>
            <p:nvPr/>
          </p:nvGrpSpPr>
          <p:grpSpPr>
            <a:xfrm>
              <a:off x="3209760" y="2931480"/>
              <a:ext cx="1329480" cy="173160"/>
              <a:chOff x="3209760" y="2931480"/>
              <a:chExt cx="1329480" cy="17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209760" y="3017880"/>
                <a:ext cx="114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37120" y="2931480"/>
                <a:ext cx="402120" cy="173160"/>
              </a:xfrm>
              <a:custGeom>
                <a:avLst/>
                <a:gdLst/>
                <a:ahLst/>
                <a:rect l="0" t="0" r="r" b="b"/>
                <a:pathLst>
                  <a:path w="1117" h="481">
                    <a:moveTo>
                      <a:pt x="1117" y="238"/>
                    </a:moveTo>
                    <a:lnTo>
                      <a:pt x="39" y="0"/>
                    </a:lnTo>
                    <a:lnTo>
                      <a:pt x="39" y="0"/>
                    </a:lnTo>
                    <a:cubicBezTo>
                      <a:pt x="13" y="77"/>
                      <a:pt x="0" y="157"/>
                      <a:pt x="0" y="238"/>
                    </a:cubicBezTo>
                    <a:cubicBezTo>
                      <a:pt x="0" y="320"/>
                      <a:pt x="13" y="402"/>
                      <a:pt x="41" y="481"/>
                    </a:cubicBezTo>
                    <a:lnTo>
                      <a:pt x="1117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4862520" y="247320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tb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135160" y="2473200"/>
              <a:ext cx="9684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 da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97000" y="2801880"/>
              <a:ext cx="544680" cy="306360"/>
              <a:chOff x="297000" y="2801880"/>
              <a:chExt cx="544680" cy="306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97000" y="2844720"/>
                <a:ext cx="544680" cy="26352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06360" y="2801880"/>
                <a:ext cx="4953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nt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83400" y="2930400"/>
              <a:ext cx="1240920" cy="176040"/>
              <a:chOff x="5783400" y="2930400"/>
              <a:chExt cx="1240920" cy="17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83400" y="3017880"/>
                <a:ext cx="1095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9880" y="2930400"/>
                <a:ext cx="334440" cy="176040"/>
              </a:xfrm>
              <a:custGeom>
                <a:avLst/>
                <a:gdLst/>
                <a:ahLst/>
                <a:rect l="0" t="0" r="r" b="b"/>
                <a:pathLst>
                  <a:path w="929" h="489">
                    <a:moveTo>
                      <a:pt x="929" y="240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1" y="79"/>
                      <a:pt x="0" y="161"/>
                      <a:pt x="0" y="243"/>
                    </a:cubicBezTo>
                    <a:cubicBezTo>
                      <a:pt x="0" y="326"/>
                      <a:pt x="11" y="409"/>
                      <a:pt x="35" y="489"/>
                    </a:cubicBezTo>
                    <a:lnTo>
                      <a:pt x="929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024680" y="2766960"/>
              <a:ext cx="2111400" cy="1382760"/>
              <a:chOff x="7024680" y="2766960"/>
              <a:chExt cx="2111400" cy="1382760"/>
            </a:xfrm>
          </p:grpSpPr>
          <p:sp>
            <p:nvSpPr>
              <p:cNvPr id="115" name=""/>
              <p:cNvSpPr/>
              <p:nvPr/>
            </p:nvSpPr>
            <p:spPr>
              <a:xfrm>
                <a:off x="7024680" y="2766960"/>
                <a:ext cx="2111400" cy="13827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7201080" y="3090960"/>
                <a:ext cx="15969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n(pobj, arg1, arg2) {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764480" y="3305160"/>
                <a:ext cx="30780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807320" y="3516480"/>
                <a:ext cx="2635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}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52920" y="2820960"/>
              <a:ext cx="1255680" cy="13651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3090960"/>
              <a:ext cx="1255680" cy="82548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2920" y="3360600"/>
              <a:ext cx="1255680" cy="28260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5840" y="280188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965840" y="306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965840" y="333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2480" y="2939040"/>
              <a:ext cx="1346760" cy="174600"/>
              <a:chOff x="852480" y="2939040"/>
              <a:chExt cx="1346760" cy="174600"/>
            </a:xfrm>
          </p:grpSpPr>
          <p:sp>
            <p:nvSpPr>
              <p:cNvPr id="126" name=""/>
              <p:cNvSpPr/>
              <p:nvPr/>
            </p:nvSpPr>
            <p:spPr>
              <a:xfrm>
                <a:off x="852480" y="3025800"/>
                <a:ext cx="10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5160" y="2939040"/>
                <a:ext cx="334080" cy="174600"/>
              </a:xfrm>
              <a:custGeom>
                <a:avLst/>
                <a:gdLst/>
                <a:ahLst/>
                <a:rect l="0" t="0" r="r" b="b"/>
                <a:pathLst>
                  <a:path w="928" h="485">
                    <a:moveTo>
                      <a:pt x="928" y="242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2" y="78"/>
                      <a:pt x="0" y="159"/>
                      <a:pt x="0" y="241"/>
                    </a:cubicBezTo>
                    <a:cubicBezTo>
                      <a:pt x="0" y="323"/>
                      <a:pt x="12" y="406"/>
                      <a:pt x="35" y="485"/>
                    </a:cubicBezTo>
                    <a:lnTo>
                      <a:pt x="928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9360" y="2473200"/>
              <a:ext cx="1189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 variab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24080" y="2801880"/>
              <a:ext cx="992160" cy="1097280"/>
              <a:chOff x="2224080" y="2801880"/>
              <a:chExt cx="992160" cy="10972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24080" y="2803680"/>
                <a:ext cx="992160" cy="1095480"/>
                <a:chOff x="2224080" y="2803680"/>
                <a:chExt cx="992160" cy="1095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24080" y="2803680"/>
                  <a:ext cx="982800" cy="109548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24080" y="3075120"/>
                  <a:ext cx="982800" cy="55404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24080" y="3346560"/>
                  <a:ext cx="992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 txBox="1"/>
              <p:nvPr/>
            </p:nvSpPr>
            <p:spPr>
              <a:xfrm>
                <a:off x="2457360" y="2801880"/>
                <a:ext cx="4507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pt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7760" y="3111480"/>
                <a:ext cx="612720" cy="7365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352600" y="3141720"/>
                <a:ext cx="642960" cy="725400"/>
                <a:chOff x="2352600" y="3141720"/>
                <a:chExt cx="642960" cy="725400"/>
              </a:xfrm>
            </p:grpSpPr>
            <p:sp>
              <p:nvSpPr>
                <p:cNvPr id="137" name=""/>
                <p:cNvSpPr txBox="1"/>
                <p:nvPr/>
              </p:nvSpPr>
              <p:spPr>
                <a:xfrm>
                  <a:off x="2352600" y="3141720"/>
                  <a:ext cx="6429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v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2352600" y="3357720"/>
                  <a:ext cx="5875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352600" y="3576600"/>
                  <a:ext cx="487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Pic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5480" y="2343240"/>
            <a:ext cx="2325600" cy="16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7600" y="3166920"/>
            <a:ext cx="4964040" cy="280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22360" y="1055520"/>
            <a:ext cx="372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with th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ain:  How It Fits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32000" y="3141720"/>
            <a:ext cx="604800" cy="244440"/>
            <a:chOff x="3132000" y="3141720"/>
            <a:chExt cx="604800" cy="244440"/>
          </a:xfrm>
        </p:grpSpPr>
        <p:sp>
          <p:nvSpPr>
            <p:cNvPr id="146" name=""/>
            <p:cNvSpPr/>
            <p:nvPr/>
          </p:nvSpPr>
          <p:spPr>
            <a:xfrm>
              <a:off x="3132000" y="31417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5640" y="325764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89320" y="1700280"/>
            <a:ext cx="1120680" cy="341280"/>
            <a:chOff x="2389320" y="1700280"/>
            <a:chExt cx="1120680" cy="341280"/>
          </a:xfrm>
        </p:grpSpPr>
        <p:sp>
          <p:nvSpPr>
            <p:cNvPr id="149" name=""/>
            <p:cNvSpPr/>
            <p:nvPr/>
          </p:nvSpPr>
          <p:spPr>
            <a:xfrm>
              <a:off x="2389320" y="170028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438280" y="172872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8560" y="2255760"/>
            <a:ext cx="1171440" cy="341280"/>
            <a:chOff x="2338560" y="2255760"/>
            <a:chExt cx="1171440" cy="341280"/>
          </a:xfrm>
        </p:grpSpPr>
        <p:sp>
          <p:nvSpPr>
            <p:cNvPr id="152" name=""/>
            <p:cNvSpPr/>
            <p:nvPr/>
          </p:nvSpPr>
          <p:spPr>
            <a:xfrm>
              <a:off x="2338560" y="2255760"/>
              <a:ext cx="11714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32160" y="228600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View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6920" y="1333440"/>
            <a:ext cx="0" cy="518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84360" y="1044720"/>
            <a:ext cx="1293840" cy="341280"/>
            <a:chOff x="1584360" y="1044720"/>
            <a:chExt cx="1293840" cy="341280"/>
          </a:xfrm>
        </p:grpSpPr>
        <p:sp>
          <p:nvSpPr>
            <p:cNvPr id="156" name=""/>
            <p:cNvSpPr/>
            <p:nvPr/>
          </p:nvSpPr>
          <p:spPr>
            <a:xfrm>
              <a:off x="1584360" y="1044720"/>
              <a:ext cx="1293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633680" y="1073160"/>
              <a:ext cx="1103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1405080"/>
            <a:ext cx="38160" cy="5136840"/>
            <a:chOff x="6540480" y="1405080"/>
            <a:chExt cx="38160" cy="5136840"/>
          </a:xfrm>
        </p:grpSpPr>
        <p:sp>
          <p:nvSpPr>
            <p:cNvPr id="159" name=""/>
            <p:cNvSpPr/>
            <p:nvPr/>
          </p:nvSpPr>
          <p:spPr>
            <a:xfrm>
              <a:off x="654048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864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32360" y="1015920"/>
            <a:ext cx="1571760" cy="341280"/>
            <a:chOff x="5832360" y="1015920"/>
            <a:chExt cx="1571760" cy="341280"/>
          </a:xfrm>
        </p:grpSpPr>
        <p:sp>
          <p:nvSpPr>
            <p:cNvPr id="162" name=""/>
            <p:cNvSpPr/>
            <p:nvPr/>
          </p:nvSpPr>
          <p:spPr>
            <a:xfrm>
              <a:off x="5832360" y="1015920"/>
              <a:ext cx="157176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81680" y="1044720"/>
              <a:ext cx="1306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637320" y="1758960"/>
            <a:ext cx="1120680" cy="341280"/>
            <a:chOff x="6637320" y="1758960"/>
            <a:chExt cx="1120680" cy="341280"/>
          </a:xfrm>
        </p:grpSpPr>
        <p:sp>
          <p:nvSpPr>
            <p:cNvPr id="165" name=""/>
            <p:cNvSpPr/>
            <p:nvPr/>
          </p:nvSpPr>
          <p:spPr>
            <a:xfrm>
              <a:off x="6637320" y="175896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686640" y="17874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72160" y="5479920"/>
            <a:ext cx="244440" cy="400320"/>
            <a:chOff x="4772160" y="5479920"/>
            <a:chExt cx="244440" cy="400320"/>
          </a:xfrm>
        </p:grpSpPr>
        <p:sp>
          <p:nvSpPr>
            <p:cNvPr id="168" name=""/>
            <p:cNvSpPr/>
            <p:nvPr/>
          </p:nvSpPr>
          <p:spPr>
            <a:xfrm>
              <a:off x="4772160" y="54799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520" y="5715000"/>
              <a:ext cx="0" cy="165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03960" y="2043000"/>
            <a:ext cx="604800" cy="244440"/>
            <a:chOff x="7203960" y="2043000"/>
            <a:chExt cx="604800" cy="244440"/>
          </a:xfrm>
        </p:grpSpPr>
        <p:sp>
          <p:nvSpPr>
            <p:cNvPr id="171" name=""/>
            <p:cNvSpPr/>
            <p:nvPr/>
          </p:nvSpPr>
          <p:spPr>
            <a:xfrm>
              <a:off x="7203960" y="2043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040" y="216072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32000" y="2014560"/>
            <a:ext cx="604800" cy="244440"/>
            <a:chOff x="3132000" y="2014560"/>
            <a:chExt cx="604800" cy="244440"/>
          </a:xfrm>
        </p:grpSpPr>
        <p:sp>
          <p:nvSpPr>
            <p:cNvPr id="174" name=""/>
            <p:cNvSpPr/>
            <p:nvPr/>
          </p:nvSpPr>
          <p:spPr>
            <a:xfrm>
              <a:off x="3132000" y="20145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13192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32000" y="2556000"/>
            <a:ext cx="604800" cy="244440"/>
            <a:chOff x="3132000" y="2556000"/>
            <a:chExt cx="604800" cy="244440"/>
          </a:xfrm>
        </p:grpSpPr>
        <p:sp>
          <p:nvSpPr>
            <p:cNvPr id="177" name=""/>
            <p:cNvSpPr/>
            <p:nvPr/>
          </p:nvSpPr>
          <p:spPr>
            <a:xfrm>
              <a:off x="3132000" y="2556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65640" y="267336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35040" y="2270160"/>
            <a:ext cx="477720" cy="244440"/>
            <a:chOff x="1535040" y="2270160"/>
            <a:chExt cx="477720" cy="244440"/>
          </a:xfrm>
        </p:grpSpPr>
        <p:sp>
          <p:nvSpPr>
            <p:cNvPr id="180" name=""/>
            <p:cNvSpPr/>
            <p:nvPr/>
          </p:nvSpPr>
          <p:spPr>
            <a:xfrm>
              <a:off x="1768320" y="22701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5040" y="23875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770960" y="1496880"/>
            <a:ext cx="873360" cy="3405960"/>
            <a:chOff x="7770960" y="1496880"/>
            <a:chExt cx="873360" cy="3405960"/>
          </a:xfrm>
        </p:grpSpPr>
        <p:sp>
          <p:nvSpPr>
            <p:cNvPr id="183" name=""/>
            <p:cNvSpPr/>
            <p:nvPr/>
          </p:nvSpPr>
          <p:spPr>
            <a:xfrm>
              <a:off x="7808760" y="153684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8760" y="153684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149688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0960" y="149688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0040" y="1515960"/>
              <a:ext cx="825840" cy="3358080"/>
            </a:xfrm>
            <a:custGeom>
              <a:avLst/>
              <a:gdLst/>
              <a:ahLst/>
              <a:rect l="0" t="0" r="r" b="b"/>
              <a:pathLst>
                <a:path fill="none" w="2294" h="9328">
                  <a:moveTo>
                    <a:pt x="2294" y="0"/>
                  </a:moveTo>
                  <a:lnTo>
                    <a:pt x="0" y="0"/>
                  </a:lnTo>
                  <a:lnTo>
                    <a:pt x="0" y="9328"/>
                  </a:lnTo>
                  <a:lnTo>
                    <a:pt x="2294" y="9328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0040" y="1515960"/>
              <a:ext cx="835560" cy="3367440"/>
            </a:xfrm>
            <a:custGeom>
              <a:avLst/>
              <a:gdLst/>
              <a:ahLst/>
              <a:rect l="0" t="0" r="r" b="b"/>
              <a:pathLst>
                <a:path fill="none" w="2321" h="9354">
                  <a:moveTo>
                    <a:pt x="2321" y="0"/>
                  </a:moveTo>
                  <a:lnTo>
                    <a:pt x="0" y="0"/>
                  </a:lnTo>
                  <a:lnTo>
                    <a:pt x="0" y="9354"/>
                  </a:lnTo>
                  <a:lnTo>
                    <a:pt x="2321" y="9354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59880" y="1582560"/>
            <a:ext cx="590400" cy="462240"/>
            <a:chOff x="7859880" y="1582560"/>
            <a:chExt cx="590400" cy="462240"/>
          </a:xfrm>
        </p:grpSpPr>
        <p:sp>
          <p:nvSpPr>
            <p:cNvPr id="190" name=""/>
            <p:cNvSpPr txBox="1"/>
            <p:nvPr/>
          </p:nvSpPr>
          <p:spPr>
            <a:xfrm>
              <a:off x="7859880" y="158256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859880" y="177012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97320" y="5896080"/>
            <a:ext cx="114300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57560" y="5465880"/>
            <a:ext cx="7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3640" y="1844640"/>
            <a:ext cx="976680" cy="2487960"/>
            <a:chOff x="593640" y="1844640"/>
            <a:chExt cx="976680" cy="2487960"/>
          </a:xfrm>
        </p:grpSpPr>
        <p:sp>
          <p:nvSpPr>
            <p:cNvPr id="195" name=""/>
            <p:cNvSpPr/>
            <p:nvPr/>
          </p:nvSpPr>
          <p:spPr>
            <a:xfrm>
              <a:off x="631800" y="1913040"/>
              <a:ext cx="929160" cy="2403720"/>
            </a:xfrm>
            <a:custGeom>
              <a:avLst/>
              <a:gdLst/>
              <a:ahLst/>
              <a:rect l="0" t="0" r="r" b="b"/>
              <a:pathLst>
                <a:path fill="none" w="2581" h="6677">
                  <a:moveTo>
                    <a:pt x="0" y="0"/>
                  </a:moveTo>
                  <a:lnTo>
                    <a:pt x="2581" y="0"/>
                  </a:lnTo>
                  <a:lnTo>
                    <a:pt x="2581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1800" y="191304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640" y="1844640"/>
              <a:ext cx="927360" cy="2403720"/>
            </a:xfrm>
            <a:custGeom>
              <a:avLst/>
              <a:gdLst/>
              <a:ahLst/>
              <a:rect l="0" t="0" r="r" b="b"/>
              <a:pathLst>
                <a:path fill="none" w="2576" h="6677">
                  <a:moveTo>
                    <a:pt x="0" y="0"/>
                  </a:moveTo>
                  <a:lnTo>
                    <a:pt x="2576" y="0"/>
                  </a:lnTo>
                  <a:lnTo>
                    <a:pt x="2576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3640" y="1844640"/>
              <a:ext cx="937080" cy="2419560"/>
            </a:xfrm>
            <a:custGeom>
              <a:avLst/>
              <a:gdLst/>
              <a:ahLst/>
              <a:rect l="0" t="0" r="r" b="b"/>
              <a:pathLst>
                <a:path fill="none" w="2603" h="6721">
                  <a:moveTo>
                    <a:pt x="0" y="0"/>
                  </a:moveTo>
                  <a:lnTo>
                    <a:pt x="2603" y="0"/>
                  </a:lnTo>
                  <a:lnTo>
                    <a:pt x="2603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720" y="1878120"/>
              <a:ext cx="929160" cy="2402280"/>
            </a:xfrm>
            <a:custGeom>
              <a:avLst/>
              <a:gdLst/>
              <a:ahLst/>
              <a:rect l="0" t="0" r="r" b="b"/>
              <a:pathLst>
                <a:path fill="none" w="2581" h="6673">
                  <a:moveTo>
                    <a:pt x="0" y="0"/>
                  </a:moveTo>
                  <a:lnTo>
                    <a:pt x="2581" y="0"/>
                  </a:lnTo>
                  <a:lnTo>
                    <a:pt x="2581" y="6673"/>
                  </a:lnTo>
                  <a:lnTo>
                    <a:pt x="0" y="667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720" y="187812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1480" y="1995480"/>
            <a:ext cx="976320" cy="461880"/>
            <a:chOff x="501480" y="1995480"/>
            <a:chExt cx="976320" cy="461880"/>
          </a:xfrm>
        </p:grpSpPr>
        <p:sp>
          <p:nvSpPr>
            <p:cNvPr id="202" name=""/>
            <p:cNvSpPr txBox="1"/>
            <p:nvPr/>
          </p:nvSpPr>
          <p:spPr>
            <a:xfrm>
              <a:off x="501480" y="1995480"/>
              <a:ext cx="90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bed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82520" y="21826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600" y="3411360"/>
            <a:ext cx="1171440" cy="343080"/>
            <a:chOff x="2514600" y="3411360"/>
            <a:chExt cx="1171440" cy="343080"/>
          </a:xfrm>
        </p:grpSpPr>
        <p:sp>
          <p:nvSpPr>
            <p:cNvPr id="205" name=""/>
            <p:cNvSpPr/>
            <p:nvPr/>
          </p:nvSpPr>
          <p:spPr>
            <a:xfrm>
              <a:off x="2514600" y="3411360"/>
              <a:ext cx="11714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1800" y="3441600"/>
              <a:ext cx="83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Cach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13040" y="1555920"/>
            <a:ext cx="2263680" cy="3432240"/>
            <a:chOff x="3713040" y="1555920"/>
            <a:chExt cx="2263680" cy="3432240"/>
          </a:xfrm>
        </p:grpSpPr>
        <p:sp>
          <p:nvSpPr>
            <p:cNvPr id="208" name=""/>
            <p:cNvSpPr/>
            <p:nvPr/>
          </p:nvSpPr>
          <p:spPr>
            <a:xfrm>
              <a:off x="3751200" y="1595520"/>
              <a:ext cx="222552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3040" y="1555920"/>
              <a:ext cx="222408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2120" y="1574640"/>
              <a:ext cx="2222640" cy="339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25760" y="2527200"/>
            <a:ext cx="1111320" cy="341280"/>
            <a:chOff x="1625760" y="2527200"/>
            <a:chExt cx="1111320" cy="341280"/>
          </a:xfrm>
        </p:grpSpPr>
        <p:sp>
          <p:nvSpPr>
            <p:cNvPr id="212" name=""/>
            <p:cNvSpPr/>
            <p:nvPr/>
          </p:nvSpPr>
          <p:spPr>
            <a:xfrm>
              <a:off x="1625760" y="2527200"/>
              <a:ext cx="11113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674720" y="25560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vise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0960" y="1619280"/>
            <a:ext cx="1538280" cy="463680"/>
            <a:chOff x="3990960" y="1619280"/>
            <a:chExt cx="1538280" cy="463680"/>
          </a:xfrm>
        </p:grpSpPr>
        <p:sp>
          <p:nvSpPr>
            <p:cNvPr id="215" name=""/>
            <p:cNvSpPr txBox="1"/>
            <p:nvPr/>
          </p:nvSpPr>
          <p:spPr>
            <a:xfrm>
              <a:off x="4494240" y="1619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990960" y="1808280"/>
              <a:ext cx="1538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fault or otherwi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160800" y="3770280"/>
            <a:ext cx="606240" cy="244440"/>
            <a:chOff x="3160800" y="3770280"/>
            <a:chExt cx="606240" cy="244440"/>
          </a:xfrm>
        </p:grpSpPr>
        <p:sp>
          <p:nvSpPr>
            <p:cNvPr id="218" name=""/>
            <p:cNvSpPr/>
            <p:nvPr/>
          </p:nvSpPr>
          <p:spPr>
            <a:xfrm>
              <a:off x="3160800" y="377028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5520" y="388764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93920" y="4025880"/>
            <a:ext cx="1420920" cy="343080"/>
            <a:chOff x="2293920" y="4025880"/>
            <a:chExt cx="1420920" cy="343080"/>
          </a:xfrm>
        </p:grpSpPr>
        <p:sp>
          <p:nvSpPr>
            <p:cNvPr id="221" name=""/>
            <p:cNvSpPr/>
            <p:nvPr/>
          </p:nvSpPr>
          <p:spPr>
            <a:xfrm>
              <a:off x="2293920" y="402588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400480" y="405612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89920" y="3024360"/>
            <a:ext cx="604800" cy="244440"/>
            <a:chOff x="7189920" y="3024360"/>
            <a:chExt cx="604800" cy="244440"/>
          </a:xfrm>
        </p:grpSpPr>
        <p:sp>
          <p:nvSpPr>
            <p:cNvPr id="224" name=""/>
            <p:cNvSpPr/>
            <p:nvPr/>
          </p:nvSpPr>
          <p:spPr>
            <a:xfrm>
              <a:off x="7189920" y="30243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3200" y="314172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65960" y="3308400"/>
            <a:ext cx="1420920" cy="343080"/>
            <a:chOff x="6465960" y="3308400"/>
            <a:chExt cx="1420920" cy="343080"/>
          </a:xfrm>
        </p:grpSpPr>
        <p:sp>
          <p:nvSpPr>
            <p:cNvPr id="227" name=""/>
            <p:cNvSpPr/>
            <p:nvPr/>
          </p:nvSpPr>
          <p:spPr>
            <a:xfrm>
              <a:off x="6465960" y="330840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570720" y="333864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32000" y="4325760"/>
            <a:ext cx="604800" cy="244440"/>
            <a:chOff x="3132000" y="4325760"/>
            <a:chExt cx="604800" cy="244440"/>
          </a:xfrm>
        </p:grpSpPr>
        <p:sp>
          <p:nvSpPr>
            <p:cNvPr id="230" name=""/>
            <p:cNvSpPr/>
            <p:nvPr/>
          </p:nvSpPr>
          <p:spPr>
            <a:xfrm>
              <a:off x="3132000" y="43257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5640" y="444348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84360" y="4583160"/>
            <a:ext cx="1201680" cy="341280"/>
            <a:chOff x="2484360" y="4583160"/>
            <a:chExt cx="1201680" cy="341280"/>
          </a:xfrm>
        </p:grpSpPr>
        <p:sp>
          <p:nvSpPr>
            <p:cNvPr id="233" name=""/>
            <p:cNvSpPr/>
            <p:nvPr/>
          </p:nvSpPr>
          <p:spPr>
            <a:xfrm>
              <a:off x="2484360" y="4583160"/>
              <a:ext cx="1201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701800" y="461160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03960" y="3800520"/>
            <a:ext cx="604800" cy="243000"/>
            <a:chOff x="7203960" y="3800520"/>
            <a:chExt cx="604800" cy="243000"/>
          </a:xfrm>
        </p:grpSpPr>
        <p:sp>
          <p:nvSpPr>
            <p:cNvPr id="236" name=""/>
            <p:cNvSpPr/>
            <p:nvPr/>
          </p:nvSpPr>
          <p:spPr>
            <a:xfrm>
              <a:off x="7203960" y="3800520"/>
              <a:ext cx="244440" cy="243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9040" y="391644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688080" y="4056120"/>
            <a:ext cx="1069920" cy="341280"/>
            <a:chOff x="6688080" y="4056120"/>
            <a:chExt cx="1069920" cy="341280"/>
          </a:xfrm>
        </p:grpSpPr>
        <p:sp>
          <p:nvSpPr>
            <p:cNvPr id="239" name=""/>
            <p:cNvSpPr/>
            <p:nvPr/>
          </p:nvSpPr>
          <p:spPr>
            <a:xfrm>
              <a:off x="6688080" y="4056120"/>
              <a:ext cx="1069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775560" y="408636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3840" y="4997520"/>
            <a:ext cx="162360" cy="390960"/>
            <a:chOff x="4803840" y="4997520"/>
            <a:chExt cx="162360" cy="390960"/>
          </a:xfrm>
        </p:grpSpPr>
        <p:sp>
          <p:nvSpPr>
            <p:cNvPr id="242" name=""/>
            <p:cNvSpPr/>
            <p:nvPr/>
          </p:nvSpPr>
          <p:spPr>
            <a:xfrm>
              <a:off x="4889520" y="514656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3840" y="5105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786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225" y="7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3840" y="4997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0"/>
                  </a:moveTo>
                  <a:lnTo>
                    <a:pt x="0" y="786"/>
                  </a:lnTo>
                  <a:lnTo>
                    <a:pt x="451" y="786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81760" y="4937040"/>
            <a:ext cx="2873880" cy="671760"/>
          </a:xfrm>
          <a:custGeom>
            <a:avLst/>
            <a:gdLst/>
            <a:ahLst/>
            <a:rect l="0" t="0" r="r" b="b"/>
            <a:pathLst>
              <a:path fill="none" w="7983" h="1866">
                <a:moveTo>
                  <a:pt x="0" y="1866"/>
                </a:moveTo>
                <a:lnTo>
                  <a:pt x="0" y="1866"/>
                </a:lnTo>
                <a:cubicBezTo>
                  <a:pt x="1401" y="1866"/>
                  <a:pt x="2778" y="1780"/>
                  <a:pt x="3992" y="1616"/>
                </a:cubicBezTo>
                <a:cubicBezTo>
                  <a:pt x="5205" y="1452"/>
                  <a:pt x="6213" y="1217"/>
                  <a:pt x="6913" y="933"/>
                </a:cubicBezTo>
                <a:cubicBezTo>
                  <a:pt x="7614" y="649"/>
                  <a:pt x="7983" y="328"/>
                  <a:pt x="7983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4000" y="4408560"/>
            <a:ext cx="2943720" cy="1614960"/>
          </a:xfrm>
          <a:custGeom>
            <a:avLst/>
            <a:gdLst/>
            <a:ahLst/>
            <a:rect l="0" t="0" r="r" b="b"/>
            <a:pathLst>
              <a:path fill="none" w="8177" h="4486">
                <a:moveTo>
                  <a:pt x="0" y="0"/>
                </a:moveTo>
                <a:lnTo>
                  <a:pt x="0" y="0"/>
                </a:lnTo>
                <a:cubicBezTo>
                  <a:pt x="0" y="787"/>
                  <a:pt x="378" y="1561"/>
                  <a:pt x="1096" y="2243"/>
                </a:cubicBezTo>
                <a:cubicBezTo>
                  <a:pt x="1813" y="2925"/>
                  <a:pt x="2845" y="3491"/>
                  <a:pt x="4089" y="3885"/>
                </a:cubicBezTo>
                <a:cubicBezTo>
                  <a:pt x="5332" y="4279"/>
                  <a:pt x="6742" y="4486"/>
                  <a:pt x="8177" y="4486"/>
                </a:cubicBez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16040" y="3279600"/>
            <a:ext cx="477720" cy="244440"/>
            <a:chOff x="1616040" y="3279600"/>
            <a:chExt cx="477720" cy="244440"/>
          </a:xfrm>
        </p:grpSpPr>
        <p:sp>
          <p:nvSpPr>
            <p:cNvPr id="248" name=""/>
            <p:cNvSpPr/>
            <p:nvPr/>
          </p:nvSpPr>
          <p:spPr>
            <a:xfrm>
              <a:off x="1849320" y="32796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16040" y="33973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63560" y="3965400"/>
            <a:ext cx="1111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41600" y="357984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5120" y="1343160"/>
            <a:ext cx="8755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torage space for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implementation of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in a fi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gets a directory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ntainers will choose to use Compound Files implementation to support objects (file format chang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d for 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storage to object with IPersistStorag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36368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and lin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 mix ’n’ matc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development, testing, shipping, delivery, installa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an architecture that lets this controlled chaos actuall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00" y="3886200"/>
            <a:ext cx="70009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1800" y="1173240"/>
            <a:ext cx="7881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object in container with normal container UI tools; inform object of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object to draw itself with IVie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that ability to draw be maintained even when object not running with IOle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pull data from the object with IData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data formats can be cach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for changes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39068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“Verbs” on container’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enumerates verbs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invokes verb with DoVer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can close object, show it, hide i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7120"/>
            <a:ext cx="716292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 Container provides names for it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from deep inside object will use container-provided name as part of source 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container-objec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1440" y="1230480"/>
            <a:ext cx="80629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your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n IStorage (“directory”) from container with IPersist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is container of IStorages and I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atever structure you like inside you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 very much lik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your data at your lei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your data when ask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34460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present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Data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/SetData/Enum/Adv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keyed by familiar clipboard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with optional target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assed on media other than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, files, 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53920" y="1309680"/>
            <a:ext cx="7437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Here avoids doub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GetData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independent of connection establishment and 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is used uniformly in OLE2 for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s, clipboard, 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631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r thing in D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ish to in-place activate, attempt it by negotiating with contai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down, etc., as instructed by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tates:  Container Perspectiv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8680" y="2689200"/>
            <a:ext cx="3420000" cy="1727280"/>
            <a:chOff x="2128680" y="2689200"/>
            <a:chExt cx="3420000" cy="1727280"/>
          </a:xfrm>
        </p:grpSpPr>
        <p:sp>
          <p:nvSpPr>
            <p:cNvPr id="270" name=""/>
            <p:cNvSpPr/>
            <p:nvPr/>
          </p:nvSpPr>
          <p:spPr>
            <a:xfrm flipV="1">
              <a:off x="2128680" y="2766960"/>
              <a:ext cx="3279960" cy="1649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9880" y="2689200"/>
              <a:ext cx="298800" cy="201960"/>
            </a:xfrm>
            <a:custGeom>
              <a:avLst/>
              <a:gdLst/>
              <a:ahLst/>
              <a:rect l="0" t="0" r="r" b="b"/>
              <a:pathLst>
                <a:path w="830" h="561">
                  <a:moveTo>
                    <a:pt x="830" y="0"/>
                  </a:moveTo>
                  <a:lnTo>
                    <a:pt x="0" y="151"/>
                  </a:lnTo>
                  <a:lnTo>
                    <a:pt x="213" y="56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11320" y="2050920"/>
            <a:ext cx="1792440" cy="849240"/>
            <a:chOff x="1111320" y="2050920"/>
            <a:chExt cx="1792440" cy="849240"/>
          </a:xfrm>
        </p:grpSpPr>
        <p:sp>
          <p:nvSpPr>
            <p:cNvPr id="273" name=""/>
            <p:cNvSpPr/>
            <p:nvPr/>
          </p:nvSpPr>
          <p:spPr>
            <a:xfrm>
              <a:off x="1111320" y="2050920"/>
              <a:ext cx="179244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579680" y="2211480"/>
              <a:ext cx="752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23960" y="2425680"/>
              <a:ext cx="71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 dis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48320" y="2095560"/>
            <a:ext cx="1312920" cy="546120"/>
            <a:chOff x="5548320" y="2095560"/>
            <a:chExt cx="1312920" cy="546120"/>
          </a:xfrm>
        </p:grpSpPr>
        <p:sp>
          <p:nvSpPr>
            <p:cNvPr id="277" name=""/>
            <p:cNvSpPr/>
            <p:nvPr/>
          </p:nvSpPr>
          <p:spPr>
            <a:xfrm>
              <a:off x="5548320" y="2095560"/>
              <a:ext cx="1312920" cy="546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837400" y="221148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ad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667480" y="4314960"/>
            <a:ext cx="1434960" cy="849240"/>
            <a:chOff x="5667480" y="4314960"/>
            <a:chExt cx="1434960" cy="849240"/>
          </a:xfrm>
        </p:grpSpPr>
        <p:sp>
          <p:nvSpPr>
            <p:cNvPr id="280" name=""/>
            <p:cNvSpPr/>
            <p:nvPr/>
          </p:nvSpPr>
          <p:spPr>
            <a:xfrm>
              <a:off x="5667480" y="4314960"/>
              <a:ext cx="143496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61240" y="447516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967360" y="4689360"/>
              <a:ext cx="7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7400" y="4389480"/>
            <a:ext cx="1433520" cy="849240"/>
            <a:chOff x="887400" y="4389480"/>
            <a:chExt cx="1433520" cy="849240"/>
          </a:xfrm>
        </p:grpSpPr>
        <p:sp>
          <p:nvSpPr>
            <p:cNvPr id="284" name=""/>
            <p:cNvSpPr/>
            <p:nvPr/>
          </p:nvSpPr>
          <p:spPr>
            <a:xfrm>
              <a:off x="887400" y="4389480"/>
              <a:ext cx="143352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181160" y="454968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255680" y="476424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786040" y="2109960"/>
            <a:ext cx="2740320" cy="167040"/>
            <a:chOff x="2786040" y="2109960"/>
            <a:chExt cx="2740320" cy="167040"/>
          </a:xfrm>
        </p:grpSpPr>
        <p:sp>
          <p:nvSpPr>
            <p:cNvPr id="288" name=""/>
            <p:cNvSpPr/>
            <p:nvPr/>
          </p:nvSpPr>
          <p:spPr>
            <a:xfrm>
              <a:off x="2786040" y="2200320"/>
              <a:ext cx="2600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6640" y="2109960"/>
              <a:ext cx="279720" cy="167040"/>
            </a:xfrm>
            <a:custGeom>
              <a:avLst/>
              <a:gdLst/>
              <a:ahLst/>
              <a:rect l="0" t="0" r="r" b="b"/>
              <a:pathLst>
                <a:path w="777" h="464">
                  <a:moveTo>
                    <a:pt x="777" y="238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77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3621240" y="19479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54160" y="2468520"/>
            <a:ext cx="2676600" cy="167040"/>
            <a:chOff x="2954160" y="2468520"/>
            <a:chExt cx="2676600" cy="167040"/>
          </a:xfrm>
        </p:grpSpPr>
        <p:sp>
          <p:nvSpPr>
            <p:cNvPr id="292" name=""/>
            <p:cNvSpPr/>
            <p:nvPr/>
          </p:nvSpPr>
          <p:spPr>
            <a:xfrm flipH="1">
              <a:off x="3100320" y="2557440"/>
              <a:ext cx="2530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4160" y="2468520"/>
              <a:ext cx="281520" cy="167040"/>
            </a:xfrm>
            <a:custGeom>
              <a:avLst/>
              <a:gdLst/>
              <a:ahLst/>
              <a:rect l="0" t="0" r="r" b="b"/>
              <a:pathLst>
                <a:path w="782" h="464">
                  <a:moveTo>
                    <a:pt x="0" y="234"/>
                  </a:moveTo>
                  <a:lnTo>
                    <a:pt x="782" y="464"/>
                  </a:lnTo>
                  <a:lnTo>
                    <a:pt x="782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530520" y="2290680"/>
            <a:ext cx="1598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ect-&gt;Releas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643800" y="2557440"/>
            <a:ext cx="165600" cy="1783080"/>
            <a:chOff x="6643800" y="2557440"/>
            <a:chExt cx="165600" cy="1783080"/>
          </a:xfrm>
        </p:grpSpPr>
        <p:sp>
          <p:nvSpPr>
            <p:cNvPr id="296" name=""/>
            <p:cNvSpPr/>
            <p:nvPr/>
          </p:nvSpPr>
          <p:spPr>
            <a:xfrm>
              <a:off x="6730920" y="2557440"/>
              <a:ext cx="0" cy="1639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3800" y="4056120"/>
              <a:ext cx="165600" cy="284400"/>
            </a:xfrm>
            <a:custGeom>
              <a:avLst/>
              <a:gdLst/>
              <a:ahLst/>
              <a:rect l="0" t="0" r="r" b="b"/>
              <a:pathLst>
                <a:path w="460" h="790">
                  <a:moveTo>
                    <a:pt x="230" y="790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230" y="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937200" y="2948040"/>
            <a:ext cx="1679760" cy="689040"/>
            <a:chOff x="6937200" y="2948040"/>
            <a:chExt cx="1679760" cy="689040"/>
          </a:xfrm>
        </p:grpSpPr>
        <p:sp>
          <p:nvSpPr>
            <p:cNvPr id="299" name=""/>
            <p:cNvSpPr txBox="1"/>
            <p:nvPr/>
          </p:nvSpPr>
          <p:spPr>
            <a:xfrm>
              <a:off x="7308720" y="29480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Ru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37200" y="3154320"/>
              <a:ext cx="162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called, if needed, b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983280" y="3346560"/>
              <a:ext cx="1633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Hdlr - DoVerb()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07160" y="2674800"/>
            <a:ext cx="165600" cy="1692360"/>
            <a:chOff x="5807160" y="2674800"/>
            <a:chExt cx="165600" cy="1692360"/>
          </a:xfrm>
        </p:grpSpPr>
        <p:sp>
          <p:nvSpPr>
            <p:cNvPr id="303" name=""/>
            <p:cNvSpPr/>
            <p:nvPr/>
          </p:nvSpPr>
          <p:spPr>
            <a:xfrm flipV="1">
              <a:off x="5894280" y="2825640"/>
              <a:ext cx="0" cy="154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7160" y="2674800"/>
              <a:ext cx="165600" cy="282960"/>
            </a:xfrm>
            <a:custGeom>
              <a:avLst/>
              <a:gdLst/>
              <a:ahLst/>
              <a:rect l="0" t="0" r="r" b="b"/>
              <a:pathLst>
                <a:path w="460" h="786">
                  <a:moveTo>
                    <a:pt x="230" y="0"/>
                  </a:moveTo>
                  <a:lnTo>
                    <a:pt x="0" y="786"/>
                  </a:lnTo>
                  <a:lnTo>
                    <a:pt x="460" y="78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51080" y="4943520"/>
            <a:ext cx="3513240" cy="167040"/>
            <a:chOff x="2251080" y="4943520"/>
            <a:chExt cx="3513240" cy="167040"/>
          </a:xfrm>
        </p:grpSpPr>
        <p:sp>
          <p:nvSpPr>
            <p:cNvPr id="306" name=""/>
            <p:cNvSpPr/>
            <p:nvPr/>
          </p:nvSpPr>
          <p:spPr>
            <a:xfrm flipH="1">
              <a:off x="2398680" y="5032440"/>
              <a:ext cx="3365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1080" y="4943520"/>
              <a:ext cx="278280" cy="167040"/>
            </a:xfrm>
            <a:custGeom>
              <a:avLst/>
              <a:gdLst/>
              <a:ahLst/>
              <a:rect l="0" t="0" r="r" b="b"/>
              <a:pathLst>
                <a:path w="773" h="464">
                  <a:moveTo>
                    <a:pt x="0" y="234"/>
                  </a:moveTo>
                  <a:lnTo>
                    <a:pt x="773" y="464"/>
                  </a:lnTo>
                  <a:lnTo>
                    <a:pt x="773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93920" y="4435560"/>
            <a:ext cx="3381840" cy="168480"/>
            <a:chOff x="2293920" y="4435560"/>
            <a:chExt cx="3381840" cy="168480"/>
          </a:xfrm>
        </p:grpSpPr>
        <p:sp>
          <p:nvSpPr>
            <p:cNvPr id="309" name=""/>
            <p:cNvSpPr/>
            <p:nvPr/>
          </p:nvSpPr>
          <p:spPr>
            <a:xfrm>
              <a:off x="2293920" y="4525920"/>
              <a:ext cx="3241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4435560"/>
              <a:ext cx="281520" cy="168480"/>
            </a:xfrm>
            <a:custGeom>
              <a:avLst/>
              <a:gdLst/>
              <a:ahLst/>
              <a:rect l="0" t="0" r="r" b="b"/>
              <a:pathLst>
                <a:path w="782" h="468">
                  <a:moveTo>
                    <a:pt x="782" y="238"/>
                  </a:moveTo>
                  <a:lnTo>
                    <a:pt x="0" y="0"/>
                  </a:lnTo>
                  <a:lnTo>
                    <a:pt x="0" y="468"/>
                  </a:lnTo>
                  <a:lnTo>
                    <a:pt x="78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44840" y="5094360"/>
            <a:ext cx="3527280" cy="304920"/>
            <a:chOff x="2544840" y="5094360"/>
            <a:chExt cx="3527280" cy="304920"/>
          </a:xfrm>
        </p:grpSpPr>
        <p:sp>
          <p:nvSpPr>
            <p:cNvPr id="312" name=""/>
            <p:cNvSpPr txBox="1"/>
            <p:nvPr/>
          </p:nvSpPr>
          <p:spPr>
            <a:xfrm>
              <a:off x="2544840" y="50943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159080" y="5105520"/>
              <a:ext cx="1913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SHOW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90920" y="3468600"/>
            <a:ext cx="1211400" cy="519480"/>
            <a:chOff x="4390920" y="3468600"/>
            <a:chExt cx="1211400" cy="519480"/>
          </a:xfrm>
        </p:grpSpPr>
        <p:sp>
          <p:nvSpPr>
            <p:cNvPr id="315" name=""/>
            <p:cNvSpPr txBox="1"/>
            <p:nvPr/>
          </p:nvSpPr>
          <p:spPr>
            <a:xfrm>
              <a:off x="4390920" y="34686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390920" y="3683160"/>
              <a:ext cx="792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se(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5057640" y="3693960"/>
              <a:ext cx="239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65200" y="4543560"/>
            <a:ext cx="3436920" cy="304920"/>
            <a:chOff x="2365200" y="4543560"/>
            <a:chExt cx="3436920" cy="304920"/>
          </a:xfrm>
        </p:grpSpPr>
        <p:sp>
          <p:nvSpPr>
            <p:cNvPr id="319" name=""/>
            <p:cNvSpPr txBox="1"/>
            <p:nvPr/>
          </p:nvSpPr>
          <p:spPr>
            <a:xfrm>
              <a:off x="2365200" y="4543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979800" y="4554360"/>
              <a:ext cx="1822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HIDE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467240" y="313848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346716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3191040"/>
            <a:ext cx="111240" cy="280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52920" y="3519360"/>
            <a:ext cx="416160" cy="20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60680" y="5362560"/>
            <a:ext cx="3471840" cy="304920"/>
            <a:chOff x="2560680" y="5362560"/>
            <a:chExt cx="3471840" cy="304920"/>
          </a:xfrm>
        </p:grpSpPr>
        <p:sp>
          <p:nvSpPr>
            <p:cNvPr id="326" name=""/>
            <p:cNvSpPr txBox="1"/>
            <p:nvPr/>
          </p:nvSpPr>
          <p:spPr>
            <a:xfrm>
              <a:off x="2560680" y="5362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173480" y="5373720"/>
              <a:ext cx="185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OPEN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ed Top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0400" y="1857240"/>
            <a:ext cx="5083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44600" y="1158840"/>
            <a:ext cx="64548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container, a link is just an embedding that also supports IOle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curre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object implementation provided by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(but useful!) link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link source naming architecture: 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It Wor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562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, interfaces,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versus storag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pace versus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0720" y="1309680"/>
            <a:ext cx="71629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nounce their presence to system when they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aintains “Running Object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inding links to their sources, Running Object Table is consulte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will connect to existing running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00320" y="1174680"/>
            <a:ext cx="6545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specific handlers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lass-specif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Default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only supply the additi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rendering from native or private data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implementation of commands (e.g. play a voice no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50920" y="1801800"/>
            <a:ext cx="68436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 univers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s (usually) is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50920" y="1320840"/>
            <a:ext cx="68421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can choose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ement in a container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.EX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serv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w speci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s to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object/contai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 Between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And OLE 2.0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5200" y="1530360"/>
            <a:ext cx="74739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7200" y="1204920"/>
            <a:ext cx="76914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ly, the container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for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ing document’s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5760" y="5351400"/>
            <a:ext cx="8772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697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container’s perspective, the object is like a picture that knows how to edit it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08160" y="1077840"/>
            <a:ext cx="6727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s like it stores in its fil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esentation (one or more) for use by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ating (server)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360" y="509436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1000"/>
              </a:lnSpc>
              <a:spcAft>
                <a:spcPts val="649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server’s perspective the object is like a document for which it can provide a visual rende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43040"/>
            <a:ext cx="7162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al support on both container- and object- application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tarting up co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object-to-contain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object application is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1280" y="1733400"/>
            <a:ext cx="66610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implementation of Structured Sto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Source Nam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Item Moniker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 windows 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Module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2147760"/>
            <a:ext cx="6400800" cy="3124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00480" y="440676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316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02200" y="4140360"/>
            <a:ext cx="84132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3268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46360" y="2425680"/>
            <a:ext cx="141444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68480" y="3454560"/>
            <a:ext cx="14288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18080" y="2577960"/>
            <a:ext cx="100476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72400" y="2692440"/>
            <a:ext cx="10382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/dr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54360" y="1244520"/>
            <a:ext cx="11970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3270240"/>
            <a:ext cx="1209600" cy="57636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23960" y="318780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2920" y="22003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05000" y="1900080"/>
            <a:ext cx="1495440" cy="1986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he Parts F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2600" y="1922400"/>
            <a:ext cx="1014480" cy="1265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51280" y="318276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26400" y="1935000"/>
            <a:ext cx="990720" cy="1828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1515960"/>
            <a:ext cx="0" cy="298620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76760" y="1109520"/>
            <a:ext cx="15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575320" y="261144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9680" y="28209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871720"/>
            <a:ext cx="2019600" cy="572040"/>
          </a:xfrm>
          <a:custGeom>
            <a:avLst/>
            <a:gdLst/>
            <a:ahLst/>
            <a:rect l="0" t="0" r="r" b="b"/>
            <a:pathLst>
              <a:path fill="none" w="5610" h="1589">
                <a:moveTo>
                  <a:pt x="0" y="1589"/>
                </a:moveTo>
                <a:lnTo>
                  <a:pt x="4494" y="1205"/>
                </a:lnTo>
                <a:lnTo>
                  <a:pt x="1935" y="424"/>
                </a:lnTo>
                <a:lnTo>
                  <a:pt x="561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0880" y="1515960"/>
            <a:ext cx="0" cy="451512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5840" y="120492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5200" y="2287440"/>
            <a:ext cx="59688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5160" y="1554120"/>
            <a:ext cx="0" cy="452916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24600" y="121428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00480" y="5300640"/>
            <a:ext cx="3871800" cy="671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ound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7400" y="3228840"/>
            <a:ext cx="1285920" cy="201456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7440" y="3900600"/>
            <a:ext cx="243000" cy="1385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14800" y="3800520"/>
            <a:ext cx="2157480" cy="1485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