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rem Ips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9907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or sit amet consectetuer adipiscing elit sed di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ummy nibh euis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ncidunt 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oreet dolo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gna aliqu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rci tation ullamcorper suscipit lobortis nisl ut aliquip ex ea 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Lorem Ipsum</dc:title>
</cp:coreProperties>
</file>