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50000">
                  <a:srgbClr val="ebebeb"/>
                </a:gs>
                <a:gs pos="100000">
                  <a:srgbClr val="bcbcbc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cecece"/>
                </a:gs>
                <a:gs pos="100000">
                  <a:srgbClr val="7b7b7b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or sit amet consectetuer adipiscing elit sed di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nummy nibh euism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ncidunt 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oreet dol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gna aliqu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