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12720"/>
            <a:ext cx="8346960" cy="301680"/>
            <a:chOff x="0" y="1512720"/>
            <a:chExt cx="8346960" cy="301680"/>
          </a:xfrm>
        </p:grpSpPr>
        <p:grpSp>
          <p:nvGrpSpPr>
            <p:cNvPr id="1" name=""/>
            <p:cNvGrpSpPr/>
            <p:nvPr/>
          </p:nvGrpSpPr>
          <p:grpSpPr>
            <a:xfrm>
              <a:off x="7966080" y="1512720"/>
              <a:ext cx="380880" cy="299880"/>
              <a:chOff x="7966080" y="1512720"/>
              <a:chExt cx="380880" cy="299880"/>
            </a:xfrm>
          </p:grpSpPr>
          <p:sp>
            <p:nvSpPr>
              <p:cNvPr id="2" name=""/>
              <p:cNvSpPr/>
              <p:nvPr/>
            </p:nvSpPr>
            <p:spPr>
              <a:xfrm>
                <a:off x="8299440" y="1512720"/>
                <a:ext cx="47520" cy="2998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150400" y="1512720"/>
                <a:ext cx="95400" cy="2998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966080" y="1512720"/>
                <a:ext cx="111240" cy="2998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7381800" y="1512720"/>
              <a:ext cx="514440" cy="299880"/>
              <a:chOff x="7381800" y="1512720"/>
              <a:chExt cx="514440" cy="299880"/>
            </a:xfrm>
          </p:grpSpPr>
          <p:sp>
            <p:nvSpPr>
              <p:cNvPr id="6" name=""/>
              <p:cNvSpPr/>
              <p:nvPr/>
            </p:nvSpPr>
            <p:spPr>
              <a:xfrm>
                <a:off x="7696080" y="1512720"/>
                <a:ext cx="200160" cy="2998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381800" y="1512720"/>
                <a:ext cx="244440" cy="29988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" name=""/>
            <p:cNvGrpSpPr/>
            <p:nvPr/>
          </p:nvGrpSpPr>
          <p:grpSpPr>
            <a:xfrm>
              <a:off x="0" y="1512720"/>
              <a:ext cx="7313400" cy="301680"/>
              <a:chOff x="0" y="1512720"/>
              <a:chExt cx="7313400" cy="301680"/>
            </a:xfrm>
          </p:grpSpPr>
          <p:sp>
            <p:nvSpPr>
              <p:cNvPr id="9" name=""/>
              <p:cNvSpPr/>
              <p:nvPr/>
            </p:nvSpPr>
            <p:spPr>
              <a:xfrm>
                <a:off x="7013520" y="1512720"/>
                <a:ext cx="299880" cy="2998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597720" y="1512720"/>
                <a:ext cx="345960" cy="2998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134040" y="1512720"/>
                <a:ext cx="396720" cy="2998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16720" y="1512720"/>
                <a:ext cx="450720" cy="3016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052960" y="1512720"/>
                <a:ext cx="498600" cy="2998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441680" y="1512720"/>
                <a:ext cx="547560" cy="2998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1512720"/>
                <a:ext cx="4375080" cy="2998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24768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