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6845400"/>
              <a:chOff x="0" y="0"/>
              <a:chExt cx="913140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26360" cy="684540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5b52"/>
                  </a:gs>
                </a:gsLst>
                <a:lin ang="27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0" y="0"/>
                <a:ext cx="9131400" cy="6845400"/>
                <a:chOff x="0" y="0"/>
                <a:chExt cx="9131400" cy="6845400"/>
              </a:xfrm>
            </p:grpSpPr>
            <p:sp>
              <p:nvSpPr>
                <p:cNvPr id="4" name=""/>
                <p:cNvSpPr/>
                <p:nvPr/>
              </p:nvSpPr>
              <p:spPr>
                <a:xfrm flipH="1">
                  <a:off x="0" y="0"/>
                  <a:ext cx="209520" cy="20952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 flipH="1">
                  <a:off x="0" y="0"/>
                  <a:ext cx="666720" cy="66672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 flipH="1">
                  <a:off x="0" y="0"/>
                  <a:ext cx="1143000" cy="114300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H="1">
                  <a:off x="0" y="0"/>
                  <a:ext cx="1657440" cy="165744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flipH="1">
                  <a:off x="0" y="0"/>
                  <a:ext cx="2171880" cy="217188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 flipH="1">
                  <a:off x="0" y="0"/>
                  <a:ext cx="2724120" cy="272412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 flipH="1">
                  <a:off x="0" y="0"/>
                  <a:ext cx="3257640" cy="325764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 flipH="1">
                  <a:off x="0" y="0"/>
                  <a:ext cx="3790800" cy="379080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 flipH="1">
                  <a:off x="0" y="0"/>
                  <a:ext cx="4324320" cy="432432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>
                  <a:off x="0" y="0"/>
                  <a:ext cx="4896000" cy="489600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>
                  <a:off x="0" y="0"/>
                  <a:ext cx="5448240" cy="544824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>
                  <a:off x="0" y="0"/>
                  <a:ext cx="5981760" cy="598176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>
                  <a:off x="0" y="19080"/>
                  <a:ext cx="6496200" cy="649620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 flipH="1">
                  <a:off x="184320" y="0"/>
                  <a:ext cx="6845040" cy="684540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H="1">
                  <a:off x="679320" y="0"/>
                  <a:ext cx="6845400" cy="684540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flipH="1">
                  <a:off x="1155600" y="0"/>
                  <a:ext cx="6845400" cy="684540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>
                  <a:off x="1670040" y="0"/>
                  <a:ext cx="6845400" cy="684540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flipH="1">
                  <a:off x="2198520" y="0"/>
                  <a:ext cx="6845400" cy="684540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2724120" y="438120"/>
                  <a:ext cx="6407280" cy="640728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flipH="1">
                  <a:off x="3238560" y="952560"/>
                  <a:ext cx="5892840" cy="589284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flipH="1">
                  <a:off x="3753000" y="1467000"/>
                  <a:ext cx="5378400" cy="537840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 flipH="1">
                  <a:off x="4286160" y="2000160"/>
                  <a:ext cx="4845240" cy="484524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 flipH="1">
                  <a:off x="4843440" y="2557440"/>
                  <a:ext cx="4278240" cy="427824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 flipH="1">
                  <a:off x="5391000" y="3105000"/>
                  <a:ext cx="3740400" cy="374040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 flipH="1">
                  <a:off x="5924520" y="3638520"/>
                  <a:ext cx="3206880" cy="320688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 flipH="1">
                  <a:off x="6458040" y="4172040"/>
                  <a:ext cx="2673360" cy="267336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 flipH="1">
                  <a:off x="6972480" y="4686480"/>
                  <a:ext cx="2158920" cy="215892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 flipH="1">
                  <a:off x="7505640" y="5219640"/>
                  <a:ext cx="1625760" cy="162576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 flipH="1">
                  <a:off x="7981920" y="5695920"/>
                  <a:ext cx="1149480" cy="114948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 flipH="1">
                  <a:off x="8477280" y="6191280"/>
                  <a:ext cx="654120" cy="65412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 flipH="1">
                  <a:off x="8934480" y="6648480"/>
                  <a:ext cx="196920" cy="196920"/>
                </a:xfrm>
                <a:prstGeom prst="line">
                  <a:avLst/>
                </a:prstGeom>
                <a:ln w="12600">
                  <a:solidFill>
                    <a:srgbClr val="006c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dc00d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c00dc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c00d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c00d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c00dc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c00d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