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76320"/>
            <a:ext cx="8991720" cy="6553440"/>
            <a:chOff x="76320" y="76320"/>
            <a:chExt cx="8991720" cy="6553440"/>
          </a:xfrm>
        </p:grpSpPr>
        <p:grpSp>
          <p:nvGrpSpPr>
            <p:cNvPr id="1" name=""/>
            <p:cNvGrpSpPr/>
            <p:nvPr/>
          </p:nvGrpSpPr>
          <p:grpSpPr>
            <a:xfrm>
              <a:off x="76320" y="76320"/>
              <a:ext cx="457560" cy="6553440"/>
              <a:chOff x="76320" y="76320"/>
              <a:chExt cx="457560" cy="6553440"/>
            </a:xfrm>
          </p:grpSpPr>
          <p:sp>
            <p:nvSpPr>
              <p:cNvPr id="2" name=""/>
              <p:cNvSpPr/>
              <p:nvPr/>
            </p:nvSpPr>
            <p:spPr>
              <a:xfrm>
                <a:off x="76320" y="76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6320" y="533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990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1447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05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362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19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276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733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4191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4648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5105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5562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6019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89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610480" y="76320"/>
              <a:ext cx="457560" cy="6553440"/>
              <a:chOff x="8610480" y="76320"/>
              <a:chExt cx="457560" cy="6553440"/>
            </a:xfrm>
          </p:grpSpPr>
          <p:sp>
            <p:nvSpPr>
              <p:cNvPr id="17" name=""/>
              <p:cNvSpPr/>
              <p:nvPr/>
            </p:nvSpPr>
            <p:spPr>
              <a:xfrm>
                <a:off x="8610480" y="76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610480" y="533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610480" y="990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10480" y="1447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610480" y="1905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610480" y="2362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10480" y="2819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610480" y="3276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610480" y="3733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610480" y="41911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aec5e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610480" y="46483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e5405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610480" y="51055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610480" y="55627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00968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610480" y="6019920"/>
                <a:ext cx="457560" cy="609840"/>
              </a:xfrm>
              <a:custGeom>
                <a:avLst/>
                <a:gdLst/>
                <a:ahLst/>
                <a:rect l="0" t="0" r="r" b="b"/>
                <a:pathLst>
                  <a:path w="1271" h="1694">
                    <a:moveTo>
                      <a:pt x="0" y="1694"/>
                    </a:moveTo>
                    <a:lnTo>
                      <a:pt x="890" y="1694"/>
                    </a:lnTo>
                    <a:lnTo>
                      <a:pt x="1271" y="0"/>
                    </a:lnTo>
                    <a:lnTo>
                      <a:pt x="380" y="0"/>
                    </a:lnTo>
                    <a:lnTo>
                      <a:pt x="0" y="1694"/>
                    </a:lnTo>
                    <a:close/>
                  </a:path>
                </a:pathLst>
              </a:custGeom>
              <a:solidFill>
                <a:srgbClr val="ff5008"/>
              </a:solidFill>
              <a:ln w="12600">
                <a:solidFill>
                  <a:srgbClr val="00968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9688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9688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9688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9688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9688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009688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