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43360"/>
              <a:chOff x="76320" y="162000"/>
              <a:chExt cx="152280" cy="654336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24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10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096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382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668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54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40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26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12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098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384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670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4956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242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28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14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00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386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672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0958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244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530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181160" y="60948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15740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e the purpose of the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y your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181160" y="60948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Topics of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5740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e the main ideas you’ll be talking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181160" y="60948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Topic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15740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ails about this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ing information and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it relates to your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181160" y="60948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Topic tw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15740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ails about this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ing information and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it relates to your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181160" y="60948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Topic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15740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ails about this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ing information and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it relates to your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181160" y="60948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Real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5740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 an example or real life anecd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pathize with the audience’s situation if appropr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181160" y="60948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What This M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15740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a strong statement that summarizes how you feel or think about this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ize key points you want your audience to 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181160" y="60948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Next Ste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5740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ize any actions required of your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ize any follow up action items required of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rosoft Corporation</cp:lastModifiedBy>
  <cp:revision>0</cp:revision>
  <dc:subject/>
  <dc:title>General</dc:title>
</cp:coreProperties>
</file>