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31400" cy="6845400"/>
            <a:chOff x="0" y="0"/>
            <a:chExt cx="9131400" cy="68454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31400" cy="6845400"/>
            </a:xfrm>
            <a:prstGeom prst="rect">
              <a:avLst/>
            </a:prstGeom>
            <a:gradFill rotWithShape="0">
              <a:gsLst>
                <a:gs pos="0">
                  <a:srgbClr val="4c0000"/>
                </a:gs>
                <a:gs pos="50000">
                  <a:srgbClr val="ff0000"/>
                </a:gs>
                <a:gs pos="100000">
                  <a:srgbClr val="4c0000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284040" y="358920"/>
              <a:ext cx="8577360" cy="6067440"/>
              <a:chOff x="284040" y="358920"/>
              <a:chExt cx="8577360" cy="6067440"/>
            </a:xfrm>
          </p:grpSpPr>
          <p:grpSp>
            <p:nvGrpSpPr>
              <p:cNvPr id="3" name=""/>
              <p:cNvGrpSpPr/>
              <p:nvPr/>
            </p:nvGrpSpPr>
            <p:grpSpPr>
              <a:xfrm>
                <a:off x="284040" y="358920"/>
                <a:ext cx="8577360" cy="6067440"/>
                <a:chOff x="284040" y="358920"/>
                <a:chExt cx="8577360" cy="6067440"/>
              </a:xfrm>
            </p:grpSpPr>
            <p:sp>
              <p:nvSpPr>
                <p:cNvPr id="4" name=""/>
                <p:cNvSpPr/>
                <p:nvPr/>
              </p:nvSpPr>
              <p:spPr>
                <a:xfrm>
                  <a:off x="284040" y="358920"/>
                  <a:ext cx="8577360" cy="12384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284040" y="587520"/>
                  <a:ext cx="8577360" cy="12384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284040" y="816120"/>
                  <a:ext cx="8577360" cy="12384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284040" y="1044720"/>
                  <a:ext cx="8577360" cy="12384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284040" y="1273320"/>
                  <a:ext cx="8577360" cy="12384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284040" y="1501920"/>
                  <a:ext cx="8577360" cy="12384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284040" y="1730520"/>
                  <a:ext cx="8577360" cy="12384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284040" y="1959120"/>
                  <a:ext cx="8577360" cy="12384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284040" y="2187720"/>
                  <a:ext cx="8577360" cy="12384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284040" y="2416320"/>
                  <a:ext cx="8577360" cy="12384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284040" y="2644920"/>
                  <a:ext cx="8577360" cy="12384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284040" y="2873520"/>
                  <a:ext cx="8577360" cy="12384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284040" y="3102120"/>
                  <a:ext cx="8577360" cy="12384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284040" y="3330720"/>
                  <a:ext cx="8577360" cy="12384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284040" y="3559320"/>
                  <a:ext cx="8577360" cy="12384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284040" y="3787920"/>
                  <a:ext cx="8577360" cy="12384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284040" y="4016520"/>
                  <a:ext cx="8577360" cy="12384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284040" y="4245120"/>
                  <a:ext cx="8577360" cy="12384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284040" y="4473720"/>
                  <a:ext cx="8577360" cy="12384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284040" y="4702320"/>
                  <a:ext cx="8577360" cy="12384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284040" y="4930920"/>
                  <a:ext cx="8577360" cy="12384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" name=""/>
                <p:cNvSpPr/>
                <p:nvPr/>
              </p:nvSpPr>
              <p:spPr>
                <a:xfrm>
                  <a:off x="284040" y="5159520"/>
                  <a:ext cx="8577360" cy="12384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" name=""/>
                <p:cNvSpPr/>
                <p:nvPr/>
              </p:nvSpPr>
              <p:spPr>
                <a:xfrm>
                  <a:off x="284040" y="5388120"/>
                  <a:ext cx="8577360" cy="12384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284040" y="5616720"/>
                  <a:ext cx="8577360" cy="12384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284040" y="5845320"/>
                  <a:ext cx="8577360" cy="12384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284040" y="6073920"/>
                  <a:ext cx="8577360" cy="12384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284040" y="6302520"/>
                  <a:ext cx="8577360" cy="12384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1" name=""/>
              <p:cNvSpPr/>
              <p:nvPr/>
            </p:nvSpPr>
            <p:spPr>
              <a:xfrm>
                <a:off x="457200" y="457200"/>
                <a:ext cx="8229600" cy="586728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685800" y="399960"/>
            <a:ext cx="777240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0000"/>
                </a:solidFill>
                <a:latin typeface="Book Antiqua"/>
                <a:ea typeface="Book Antiqua"/>
              </a:rPr>
              <a:t>Lorem Ips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685800" y="1752480"/>
            <a:ext cx="777240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  <a:ea typeface="Book Antiqua"/>
              </a:rPr>
              <a:t>Delor sit amet consectetuer adipiscing elit sed dia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Font typeface="Arial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  <a:ea typeface="Book Antiqua"/>
              </a:rPr>
              <a:t>Nonummy nibh euism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Tincidunt 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Laoreet dolo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Font typeface="Arial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  <a:ea typeface="Book Antiqua"/>
              </a:rPr>
              <a:t>Magna aliqu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  <a:ea typeface="Book Antiqua"/>
              </a:rPr>
              <a:t>Exerci tation ullamcorper suscipit lobortis nisl ut aliquip ex ea 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rosoft Corporation</dc:creator>
  <dc:description/>
  <dc:language>en-US</dc:language>
  <cp:lastModifiedBy>Microsoft Corporation</cp:lastModifiedBy>
  <cp:revision>0</cp:revision>
  <dc:subject/>
  <dc:title>Lorem Ipsum</dc:title>
</cp:coreProperties>
</file>