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85920"/>
            <a:ext cx="9133200" cy="6186960"/>
            <a:chOff x="0" y="385920"/>
            <a:chExt cx="9133200" cy="6186960"/>
          </a:xfrm>
        </p:grpSpPr>
        <p:grpSp>
          <p:nvGrpSpPr>
            <p:cNvPr id="1" name=""/>
            <p:cNvGrpSpPr/>
            <p:nvPr/>
          </p:nvGrpSpPr>
          <p:grpSpPr>
            <a:xfrm>
              <a:off x="0" y="385920"/>
              <a:ext cx="965520" cy="456120"/>
              <a:chOff x="0" y="385920"/>
              <a:chExt cx="965520" cy="45612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85920"/>
                <a:ext cx="319320" cy="456120"/>
              </a:xfrm>
              <a:custGeom>
                <a:avLst/>
                <a:gdLst/>
                <a:ahLst/>
                <a:rect l="0" t="0" r="r" b="b"/>
                <a:pathLst>
                  <a:path w="887" h="1267">
                    <a:moveTo>
                      <a:pt x="0" y="0"/>
                    </a:moveTo>
                    <a:lnTo>
                      <a:pt x="887" y="0"/>
                    </a:lnTo>
                    <a:lnTo>
                      <a:pt x="728" y="1267"/>
                    </a:lnTo>
                    <a:lnTo>
                      <a:pt x="0" y="12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297000" y="385920"/>
                <a:ext cx="263880" cy="456120"/>
              </a:xfrm>
              <a:custGeom>
                <a:avLst/>
                <a:gdLst/>
                <a:ahLst/>
                <a:rect l="0" t="0" r="r" b="b"/>
                <a:pathLst>
                  <a:path w="733" h="1267">
                    <a:moveTo>
                      <a:pt x="151" y="0"/>
                    </a:moveTo>
                    <a:lnTo>
                      <a:pt x="0" y="1267"/>
                    </a:lnTo>
                    <a:lnTo>
                      <a:pt x="581" y="1267"/>
                    </a:lnTo>
                    <a:lnTo>
                      <a:pt x="733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34960" y="385920"/>
                <a:ext cx="219600" cy="456120"/>
              </a:xfrm>
              <a:custGeom>
                <a:avLst/>
                <a:gdLst/>
                <a:ahLst/>
                <a:rect l="0" t="0" r="r" b="b"/>
                <a:pathLst>
                  <a:path w="610" h="1267">
                    <a:moveTo>
                      <a:pt x="153" y="0"/>
                    </a:moveTo>
                    <a:lnTo>
                      <a:pt x="0" y="1267"/>
                    </a:lnTo>
                    <a:lnTo>
                      <a:pt x="458" y="1267"/>
                    </a:lnTo>
                    <a:lnTo>
                      <a:pt x="610" y="0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5400" y="385920"/>
                <a:ext cx="162360" cy="456120"/>
              </a:xfrm>
              <a:custGeom>
                <a:avLst/>
                <a:gdLst/>
                <a:ahLst/>
                <a:rect l="0" t="0" r="r" b="b"/>
                <a:pathLst>
                  <a:path w="451" h="1267">
                    <a:moveTo>
                      <a:pt x="150" y="0"/>
                    </a:moveTo>
                    <a:lnTo>
                      <a:pt x="0" y="1267"/>
                    </a:lnTo>
                    <a:lnTo>
                      <a:pt x="300" y="1267"/>
                    </a:lnTo>
                    <a:lnTo>
                      <a:pt x="451" y="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5720" y="385920"/>
                <a:ext cx="109800" cy="456120"/>
              </a:xfrm>
              <a:custGeom>
                <a:avLst/>
                <a:gdLst/>
                <a:ahLst/>
                <a:rect l="0" t="0" r="r" b="b"/>
                <a:pathLst>
                  <a:path w="305" h="1267">
                    <a:moveTo>
                      <a:pt x="143" y="0"/>
                    </a:moveTo>
                    <a:lnTo>
                      <a:pt x="0" y="1267"/>
                    </a:lnTo>
                    <a:lnTo>
                      <a:pt x="154" y="1267"/>
                    </a:lnTo>
                    <a:lnTo>
                      <a:pt x="305" y="0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38080" y="6257880"/>
              <a:ext cx="8295120" cy="315000"/>
              <a:chOff x="838080" y="6257880"/>
              <a:chExt cx="8295120" cy="315000"/>
            </a:xfrm>
          </p:grpSpPr>
          <p:sp>
            <p:nvSpPr>
              <p:cNvPr id="8" name=""/>
              <p:cNvSpPr/>
              <p:nvPr/>
            </p:nvSpPr>
            <p:spPr>
              <a:xfrm>
                <a:off x="838080" y="6496200"/>
                <a:ext cx="8295120" cy="76680"/>
              </a:xfrm>
              <a:custGeom>
                <a:avLst/>
                <a:gdLst/>
                <a:ahLst/>
                <a:rect l="0" t="0" r="r" b="b"/>
                <a:pathLst>
                  <a:path w="23042" h="213">
                    <a:moveTo>
                      <a:pt x="0" y="213"/>
                    </a:moveTo>
                    <a:lnTo>
                      <a:pt x="23042" y="213"/>
                    </a:lnTo>
                    <a:lnTo>
                      <a:pt x="23042" y="0"/>
                    </a:lnTo>
                    <a:lnTo>
                      <a:pt x="50" y="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65080" y="6377040"/>
                <a:ext cx="8268120" cy="76680"/>
              </a:xfrm>
              <a:custGeom>
                <a:avLst/>
                <a:gdLst/>
                <a:ahLst/>
                <a:rect l="0" t="0" r="r" b="b"/>
                <a:pathLst>
                  <a:path w="22967" h="213">
                    <a:moveTo>
                      <a:pt x="0" y="213"/>
                    </a:moveTo>
                    <a:lnTo>
                      <a:pt x="22967" y="213"/>
                    </a:lnTo>
                    <a:lnTo>
                      <a:pt x="22967" y="0"/>
                    </a:lnTo>
                    <a:lnTo>
                      <a:pt x="50" y="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2080" y="6257880"/>
                <a:ext cx="8241120" cy="79560"/>
              </a:xfrm>
              <a:custGeom>
                <a:avLst/>
                <a:gdLst/>
                <a:ahLst/>
                <a:rect l="0" t="0" r="r" b="b"/>
                <a:pathLst>
                  <a:path w="22892" h="221">
                    <a:moveTo>
                      <a:pt x="0" y="221"/>
                    </a:moveTo>
                    <a:lnTo>
                      <a:pt x="22892" y="212"/>
                    </a:lnTo>
                    <a:lnTo>
                      <a:pt x="22892" y="0"/>
                    </a:lnTo>
                    <a:lnTo>
                      <a:pt x="50" y="0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271440"/>
            <a:ext cx="777564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685880"/>
            <a:ext cx="77630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e9b03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e9b03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