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31400" cy="6845400"/>
            <a:chOff x="0" y="0"/>
            <a:chExt cx="9131400" cy="68454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31400" cy="684540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176040" y="160200"/>
              <a:ext cx="8782200" cy="6527880"/>
              <a:chOff x="176040" y="160200"/>
              <a:chExt cx="8782200" cy="6527880"/>
            </a:xfrm>
          </p:grpSpPr>
          <p:sp>
            <p:nvSpPr>
              <p:cNvPr id="3" name=""/>
              <p:cNvSpPr/>
              <p:nvPr/>
            </p:nvSpPr>
            <p:spPr>
              <a:xfrm>
                <a:off x="190440" y="171360"/>
                <a:ext cx="8763120" cy="651528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176040" y="6688080"/>
                <a:ext cx="87789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958240" y="160200"/>
                <a:ext cx="0" cy="6523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79280" y="177840"/>
                <a:ext cx="0" cy="6483240"/>
              </a:xfrm>
              <a:prstGeom prst="line">
                <a:avLst/>
              </a:prstGeom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179280" y="162000"/>
                <a:ext cx="877428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" name=""/>
            <p:cNvGrpSpPr/>
            <p:nvPr/>
          </p:nvGrpSpPr>
          <p:grpSpPr>
            <a:xfrm>
              <a:off x="376200" y="206280"/>
              <a:ext cx="8426520" cy="1652760"/>
              <a:chOff x="376200" y="206280"/>
              <a:chExt cx="8426520" cy="1652760"/>
            </a:xfrm>
          </p:grpSpPr>
          <p:grpSp>
            <p:nvGrpSpPr>
              <p:cNvPr id="9" name=""/>
              <p:cNvGrpSpPr/>
              <p:nvPr/>
            </p:nvGrpSpPr>
            <p:grpSpPr>
              <a:xfrm>
                <a:off x="376200" y="655560"/>
                <a:ext cx="8426520" cy="1203480"/>
                <a:chOff x="376200" y="655560"/>
                <a:chExt cx="8426520" cy="1203480"/>
              </a:xfrm>
            </p:grpSpPr>
            <p:grpSp>
              <p:nvGrpSpPr>
                <p:cNvPr id="10" name=""/>
                <p:cNvGrpSpPr/>
                <p:nvPr/>
              </p:nvGrpSpPr>
              <p:grpSpPr>
                <a:xfrm>
                  <a:off x="407880" y="660240"/>
                  <a:ext cx="8342280" cy="1195560"/>
                  <a:chOff x="407880" y="660240"/>
                  <a:chExt cx="8342280" cy="1195560"/>
                </a:xfrm>
              </p:grpSpPr>
              <p:sp>
                <p:nvSpPr>
                  <p:cNvPr id="11" name=""/>
                  <p:cNvSpPr/>
                  <p:nvPr/>
                </p:nvSpPr>
                <p:spPr>
                  <a:xfrm>
                    <a:off x="407880" y="660240"/>
                    <a:ext cx="8336160" cy="0"/>
                  </a:xfrm>
                  <a:prstGeom prst="line">
                    <a:avLst/>
                  </a:prstGeom>
                  <a:ln w="12600">
                    <a:solidFill>
                      <a:srgbClr val="91919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>
                    <a:off x="407880" y="957240"/>
                    <a:ext cx="8336160" cy="0"/>
                  </a:xfrm>
                  <a:prstGeom prst="line">
                    <a:avLst/>
                  </a:prstGeom>
                  <a:ln w="12600">
                    <a:solidFill>
                      <a:srgbClr val="91919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>
                    <a:off x="407880" y="1258920"/>
                    <a:ext cx="8318520" cy="0"/>
                  </a:xfrm>
                  <a:prstGeom prst="line">
                    <a:avLst/>
                  </a:prstGeom>
                  <a:ln w="12600">
                    <a:solidFill>
                      <a:srgbClr val="91919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>
                    <a:off x="407880" y="1555920"/>
                    <a:ext cx="8342280" cy="0"/>
                  </a:xfrm>
                  <a:prstGeom prst="line">
                    <a:avLst/>
                  </a:prstGeom>
                  <a:ln w="12600">
                    <a:solidFill>
                      <a:srgbClr val="91919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>
                    <a:off x="407880" y="1855800"/>
                    <a:ext cx="8296560" cy="0"/>
                  </a:xfrm>
                  <a:prstGeom prst="line">
                    <a:avLst/>
                  </a:prstGeom>
                  <a:ln w="12600">
                    <a:solidFill>
                      <a:srgbClr val="91919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" name=""/>
                <p:cNvSpPr/>
                <p:nvPr/>
              </p:nvSpPr>
              <p:spPr>
                <a:xfrm>
                  <a:off x="376200" y="655560"/>
                  <a:ext cx="130320" cy="1203480"/>
                </a:xfrm>
                <a:prstGeom prst="rect">
                  <a:avLst/>
                </a:pr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8672400" y="655560"/>
                  <a:ext cx="130320" cy="1203480"/>
                </a:xfrm>
                <a:prstGeom prst="rect">
                  <a:avLst/>
                </a:pr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" name=""/>
              <p:cNvGrpSpPr/>
              <p:nvPr/>
            </p:nvGrpSpPr>
            <p:grpSpPr>
              <a:xfrm>
                <a:off x="698400" y="206280"/>
                <a:ext cx="7765200" cy="1460880"/>
                <a:chOff x="698400" y="206280"/>
                <a:chExt cx="7765200" cy="1460880"/>
              </a:xfrm>
            </p:grpSpPr>
            <p:grpSp>
              <p:nvGrpSpPr>
                <p:cNvPr id="19" name=""/>
                <p:cNvGrpSpPr/>
                <p:nvPr/>
              </p:nvGrpSpPr>
              <p:grpSpPr>
                <a:xfrm>
                  <a:off x="698400" y="952560"/>
                  <a:ext cx="546480" cy="714600"/>
                  <a:chOff x="698400" y="952560"/>
                  <a:chExt cx="546480" cy="714600"/>
                </a:xfrm>
              </p:grpSpPr>
              <p:sp>
                <p:nvSpPr>
                  <p:cNvPr id="20" name=""/>
                  <p:cNvSpPr/>
                  <p:nvPr/>
                </p:nvSpPr>
                <p:spPr>
                  <a:xfrm flipV="1">
                    <a:off x="971640" y="968400"/>
                    <a:ext cx="0" cy="569880"/>
                  </a:xfrm>
                  <a:prstGeom prst="line">
                    <a:avLst/>
                  </a:prstGeom>
                  <a:ln w="25560">
                    <a:solidFill>
                      <a:srgbClr val="91919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" name=""/>
                  <p:cNvSpPr/>
                  <p:nvPr/>
                </p:nvSpPr>
                <p:spPr>
                  <a:xfrm>
                    <a:off x="960480" y="952560"/>
                    <a:ext cx="284400" cy="187560"/>
                  </a:xfrm>
                  <a:custGeom>
                    <a:avLst/>
                    <a:gdLst/>
                    <a:ahLst/>
                    <a:rect l="0" t="0" r="r" b="b"/>
                    <a:pathLst>
                      <a:path w="790" h="521">
                        <a:moveTo>
                          <a:pt x="0" y="0"/>
                        </a:moveTo>
                        <a:lnTo>
                          <a:pt x="74" y="0"/>
                        </a:lnTo>
                        <a:lnTo>
                          <a:pt x="149" y="0"/>
                        </a:lnTo>
                        <a:lnTo>
                          <a:pt x="202" y="35"/>
                        </a:lnTo>
                        <a:lnTo>
                          <a:pt x="251" y="101"/>
                        </a:lnTo>
                        <a:lnTo>
                          <a:pt x="357" y="136"/>
                        </a:lnTo>
                        <a:lnTo>
                          <a:pt x="459" y="171"/>
                        </a:lnTo>
                        <a:lnTo>
                          <a:pt x="561" y="136"/>
                        </a:lnTo>
                        <a:lnTo>
                          <a:pt x="662" y="101"/>
                        </a:lnTo>
                        <a:lnTo>
                          <a:pt x="710" y="70"/>
                        </a:lnTo>
                        <a:lnTo>
                          <a:pt x="790" y="0"/>
                        </a:lnTo>
                        <a:lnTo>
                          <a:pt x="684" y="207"/>
                        </a:lnTo>
                        <a:lnTo>
                          <a:pt x="609" y="384"/>
                        </a:lnTo>
                        <a:lnTo>
                          <a:pt x="508" y="486"/>
                        </a:lnTo>
                        <a:lnTo>
                          <a:pt x="406" y="521"/>
                        </a:lnTo>
                        <a:lnTo>
                          <a:pt x="277" y="521"/>
                        </a:lnTo>
                        <a:lnTo>
                          <a:pt x="202" y="450"/>
                        </a:lnTo>
                        <a:lnTo>
                          <a:pt x="176" y="450"/>
                        </a:lnTo>
                        <a:lnTo>
                          <a:pt x="127" y="419"/>
                        </a:lnTo>
                        <a:lnTo>
                          <a:pt x="74" y="419"/>
                        </a:lnTo>
                        <a:lnTo>
                          <a:pt x="0" y="41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919191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" name=""/>
                  <p:cNvSpPr/>
                  <p:nvPr/>
                </p:nvSpPr>
                <p:spPr>
                  <a:xfrm>
                    <a:off x="698400" y="1465200"/>
                    <a:ext cx="282960" cy="201960"/>
                  </a:xfrm>
                  <a:custGeom>
                    <a:avLst/>
                    <a:gdLst/>
                    <a:ahLst/>
                    <a:rect l="0" t="0" r="r" b="b"/>
                    <a:pathLst>
                      <a:path w="786" h="561">
                        <a:moveTo>
                          <a:pt x="459" y="534"/>
                        </a:moveTo>
                        <a:lnTo>
                          <a:pt x="623" y="450"/>
                        </a:lnTo>
                        <a:lnTo>
                          <a:pt x="734" y="367"/>
                        </a:lnTo>
                        <a:lnTo>
                          <a:pt x="786" y="255"/>
                        </a:lnTo>
                        <a:lnTo>
                          <a:pt x="786" y="167"/>
                        </a:lnTo>
                        <a:lnTo>
                          <a:pt x="734" y="83"/>
                        </a:lnTo>
                        <a:lnTo>
                          <a:pt x="623" y="26"/>
                        </a:lnTo>
                        <a:lnTo>
                          <a:pt x="486" y="0"/>
                        </a:lnTo>
                        <a:lnTo>
                          <a:pt x="327" y="26"/>
                        </a:lnTo>
                        <a:lnTo>
                          <a:pt x="176" y="97"/>
                        </a:lnTo>
                        <a:lnTo>
                          <a:pt x="52" y="194"/>
                        </a:lnTo>
                        <a:lnTo>
                          <a:pt x="0" y="309"/>
                        </a:lnTo>
                        <a:lnTo>
                          <a:pt x="0" y="393"/>
                        </a:lnTo>
                        <a:lnTo>
                          <a:pt x="52" y="477"/>
                        </a:lnTo>
                        <a:lnTo>
                          <a:pt x="163" y="534"/>
                        </a:lnTo>
                        <a:lnTo>
                          <a:pt x="300" y="561"/>
                        </a:lnTo>
                        <a:lnTo>
                          <a:pt x="459" y="534"/>
                        </a:lnTo>
                        <a:close/>
                      </a:path>
                    </a:pathLst>
                  </a:custGeom>
                  <a:solidFill>
                    <a:srgbClr val="919191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" name=""/>
                <p:cNvGrpSpPr/>
                <p:nvPr/>
              </p:nvGrpSpPr>
              <p:grpSpPr>
                <a:xfrm>
                  <a:off x="7684920" y="484200"/>
                  <a:ext cx="778680" cy="827280"/>
                  <a:chOff x="7684920" y="484200"/>
                  <a:chExt cx="778680" cy="827280"/>
                </a:xfrm>
              </p:grpSpPr>
              <p:sp>
                <p:nvSpPr>
                  <p:cNvPr id="24" name=""/>
                  <p:cNvSpPr/>
                  <p:nvPr/>
                </p:nvSpPr>
                <p:spPr>
                  <a:xfrm flipV="1">
                    <a:off x="7966080" y="633240"/>
                    <a:ext cx="0" cy="554040"/>
                  </a:xfrm>
                  <a:prstGeom prst="line">
                    <a:avLst/>
                  </a:prstGeom>
                  <a:ln w="25560">
                    <a:solidFill>
                      <a:srgbClr val="91919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" name=""/>
                  <p:cNvSpPr/>
                  <p:nvPr/>
                </p:nvSpPr>
                <p:spPr>
                  <a:xfrm>
                    <a:off x="7684920" y="1116000"/>
                    <a:ext cx="290880" cy="195480"/>
                  </a:xfrm>
                  <a:custGeom>
                    <a:avLst/>
                    <a:gdLst/>
                    <a:ahLst/>
                    <a:rect l="0" t="0" r="r" b="b"/>
                    <a:pathLst>
                      <a:path w="808" h="543">
                        <a:moveTo>
                          <a:pt x="473" y="516"/>
                        </a:moveTo>
                        <a:lnTo>
                          <a:pt x="640" y="435"/>
                        </a:lnTo>
                        <a:lnTo>
                          <a:pt x="753" y="354"/>
                        </a:lnTo>
                        <a:lnTo>
                          <a:pt x="808" y="245"/>
                        </a:lnTo>
                        <a:lnTo>
                          <a:pt x="808" y="161"/>
                        </a:lnTo>
                        <a:lnTo>
                          <a:pt x="753" y="80"/>
                        </a:lnTo>
                        <a:lnTo>
                          <a:pt x="640" y="26"/>
                        </a:lnTo>
                        <a:lnTo>
                          <a:pt x="501" y="0"/>
                        </a:lnTo>
                        <a:lnTo>
                          <a:pt x="335" y="26"/>
                        </a:lnTo>
                        <a:lnTo>
                          <a:pt x="165" y="107"/>
                        </a:lnTo>
                        <a:lnTo>
                          <a:pt x="55" y="188"/>
                        </a:lnTo>
                        <a:lnTo>
                          <a:pt x="0" y="300"/>
                        </a:lnTo>
                        <a:lnTo>
                          <a:pt x="0" y="381"/>
                        </a:lnTo>
                        <a:lnTo>
                          <a:pt x="55" y="462"/>
                        </a:lnTo>
                        <a:lnTo>
                          <a:pt x="165" y="516"/>
                        </a:lnTo>
                        <a:lnTo>
                          <a:pt x="307" y="543"/>
                        </a:lnTo>
                        <a:lnTo>
                          <a:pt x="473" y="516"/>
                        </a:lnTo>
                        <a:close/>
                      </a:path>
                    </a:pathLst>
                  </a:custGeom>
                  <a:solidFill>
                    <a:srgbClr val="919191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>
                    <a:off x="7964640" y="484200"/>
                    <a:ext cx="481320" cy="314640"/>
                  </a:xfrm>
                  <a:custGeom>
                    <a:avLst/>
                    <a:gdLst/>
                    <a:ahLst/>
                    <a:rect l="0" t="0" r="r" b="b"/>
                    <a:pathLst>
                      <a:path w="1337" h="874">
                        <a:moveTo>
                          <a:pt x="1337" y="507"/>
                        </a:moveTo>
                        <a:lnTo>
                          <a:pt x="1279" y="591"/>
                        </a:lnTo>
                        <a:lnTo>
                          <a:pt x="1192" y="647"/>
                        </a:lnTo>
                        <a:lnTo>
                          <a:pt x="1105" y="675"/>
                        </a:lnTo>
                        <a:lnTo>
                          <a:pt x="1048" y="703"/>
                        </a:lnTo>
                        <a:lnTo>
                          <a:pt x="871" y="703"/>
                        </a:lnTo>
                        <a:lnTo>
                          <a:pt x="697" y="703"/>
                        </a:lnTo>
                        <a:lnTo>
                          <a:pt x="523" y="675"/>
                        </a:lnTo>
                        <a:lnTo>
                          <a:pt x="346" y="703"/>
                        </a:lnTo>
                        <a:lnTo>
                          <a:pt x="260" y="703"/>
                        </a:lnTo>
                        <a:lnTo>
                          <a:pt x="173" y="759"/>
                        </a:lnTo>
                        <a:lnTo>
                          <a:pt x="86" y="790"/>
                        </a:lnTo>
                        <a:lnTo>
                          <a:pt x="0" y="874"/>
                        </a:lnTo>
                        <a:lnTo>
                          <a:pt x="0" y="366"/>
                        </a:lnTo>
                        <a:lnTo>
                          <a:pt x="86" y="279"/>
                        </a:lnTo>
                        <a:lnTo>
                          <a:pt x="173" y="223"/>
                        </a:lnTo>
                        <a:lnTo>
                          <a:pt x="260" y="195"/>
                        </a:lnTo>
                        <a:lnTo>
                          <a:pt x="346" y="167"/>
                        </a:lnTo>
                        <a:lnTo>
                          <a:pt x="523" y="167"/>
                        </a:lnTo>
                        <a:lnTo>
                          <a:pt x="697" y="195"/>
                        </a:lnTo>
                        <a:lnTo>
                          <a:pt x="871" y="195"/>
                        </a:lnTo>
                        <a:lnTo>
                          <a:pt x="1048" y="167"/>
                        </a:lnTo>
                        <a:lnTo>
                          <a:pt x="1105" y="167"/>
                        </a:lnTo>
                        <a:lnTo>
                          <a:pt x="1192" y="111"/>
                        </a:lnTo>
                        <a:lnTo>
                          <a:pt x="1279" y="83"/>
                        </a:lnTo>
                        <a:lnTo>
                          <a:pt x="1337" y="0"/>
                        </a:lnTo>
                        <a:lnTo>
                          <a:pt x="1337" y="507"/>
                        </a:lnTo>
                        <a:close/>
                      </a:path>
                    </a:pathLst>
                  </a:custGeom>
                  <a:solidFill>
                    <a:srgbClr val="919191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" name=""/>
                  <p:cNvSpPr/>
                  <p:nvPr/>
                </p:nvSpPr>
                <p:spPr>
                  <a:xfrm flipV="1">
                    <a:off x="8453520" y="495360"/>
                    <a:ext cx="0" cy="579240"/>
                  </a:xfrm>
                  <a:prstGeom prst="line">
                    <a:avLst/>
                  </a:prstGeom>
                  <a:ln w="25560">
                    <a:solidFill>
                      <a:srgbClr val="91919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" name=""/>
                  <p:cNvSpPr/>
                  <p:nvPr/>
                </p:nvSpPr>
                <p:spPr>
                  <a:xfrm>
                    <a:off x="8174160" y="1006560"/>
                    <a:ext cx="289440" cy="194040"/>
                  </a:xfrm>
                  <a:custGeom>
                    <a:avLst/>
                    <a:gdLst/>
                    <a:ahLst/>
                    <a:rect l="0" t="0" r="r" b="b"/>
                    <a:pathLst>
                      <a:path w="804" h="539">
                        <a:moveTo>
                          <a:pt x="470" y="513"/>
                        </a:moveTo>
                        <a:lnTo>
                          <a:pt x="636" y="432"/>
                        </a:lnTo>
                        <a:lnTo>
                          <a:pt x="749" y="351"/>
                        </a:lnTo>
                        <a:lnTo>
                          <a:pt x="804" y="244"/>
                        </a:lnTo>
                        <a:lnTo>
                          <a:pt x="804" y="161"/>
                        </a:lnTo>
                        <a:lnTo>
                          <a:pt x="749" y="80"/>
                        </a:lnTo>
                        <a:lnTo>
                          <a:pt x="636" y="26"/>
                        </a:lnTo>
                        <a:lnTo>
                          <a:pt x="498" y="0"/>
                        </a:lnTo>
                        <a:lnTo>
                          <a:pt x="333" y="26"/>
                        </a:lnTo>
                        <a:lnTo>
                          <a:pt x="164" y="107"/>
                        </a:lnTo>
                        <a:lnTo>
                          <a:pt x="54" y="188"/>
                        </a:lnTo>
                        <a:lnTo>
                          <a:pt x="0" y="298"/>
                        </a:lnTo>
                        <a:lnTo>
                          <a:pt x="0" y="378"/>
                        </a:lnTo>
                        <a:lnTo>
                          <a:pt x="54" y="459"/>
                        </a:lnTo>
                        <a:lnTo>
                          <a:pt x="164" y="513"/>
                        </a:lnTo>
                        <a:lnTo>
                          <a:pt x="306" y="539"/>
                        </a:lnTo>
                        <a:lnTo>
                          <a:pt x="470" y="513"/>
                        </a:lnTo>
                        <a:close/>
                      </a:path>
                    </a:pathLst>
                  </a:custGeom>
                  <a:solidFill>
                    <a:srgbClr val="919191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" name=""/>
                <p:cNvGrpSpPr/>
                <p:nvPr/>
              </p:nvGrpSpPr>
              <p:grpSpPr>
                <a:xfrm>
                  <a:off x="1406520" y="206280"/>
                  <a:ext cx="802080" cy="826200"/>
                  <a:chOff x="1406520" y="206280"/>
                  <a:chExt cx="802080" cy="826200"/>
                </a:xfrm>
              </p:grpSpPr>
              <p:sp>
                <p:nvSpPr>
                  <p:cNvPr id="30" name=""/>
                  <p:cNvSpPr/>
                  <p:nvPr/>
                </p:nvSpPr>
                <p:spPr>
                  <a:xfrm flipV="1">
                    <a:off x="1700280" y="360360"/>
                    <a:ext cx="0" cy="560520"/>
                  </a:xfrm>
                  <a:prstGeom prst="line">
                    <a:avLst/>
                  </a:prstGeom>
                  <a:ln w="25560">
                    <a:solidFill>
                      <a:srgbClr val="91919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" name=""/>
                  <p:cNvSpPr/>
                  <p:nvPr/>
                </p:nvSpPr>
                <p:spPr>
                  <a:xfrm>
                    <a:off x="1406520" y="831960"/>
                    <a:ext cx="302040" cy="200520"/>
                  </a:xfrm>
                  <a:custGeom>
                    <a:avLst/>
                    <a:gdLst/>
                    <a:ahLst/>
                    <a:rect l="0" t="0" r="r" b="b"/>
                    <a:pathLst>
                      <a:path w="839" h="557">
                        <a:moveTo>
                          <a:pt x="491" y="529"/>
                        </a:moveTo>
                        <a:lnTo>
                          <a:pt x="664" y="447"/>
                        </a:lnTo>
                        <a:lnTo>
                          <a:pt x="782" y="363"/>
                        </a:lnTo>
                        <a:lnTo>
                          <a:pt x="839" y="252"/>
                        </a:lnTo>
                        <a:lnTo>
                          <a:pt x="839" y="166"/>
                        </a:lnTo>
                        <a:lnTo>
                          <a:pt x="782" y="82"/>
                        </a:lnTo>
                        <a:lnTo>
                          <a:pt x="664" y="27"/>
                        </a:lnTo>
                        <a:lnTo>
                          <a:pt x="520" y="0"/>
                        </a:lnTo>
                        <a:lnTo>
                          <a:pt x="348" y="27"/>
                        </a:lnTo>
                        <a:lnTo>
                          <a:pt x="172" y="110"/>
                        </a:lnTo>
                        <a:lnTo>
                          <a:pt x="57" y="194"/>
                        </a:lnTo>
                        <a:lnTo>
                          <a:pt x="0" y="307"/>
                        </a:lnTo>
                        <a:lnTo>
                          <a:pt x="0" y="390"/>
                        </a:lnTo>
                        <a:lnTo>
                          <a:pt x="57" y="474"/>
                        </a:lnTo>
                        <a:lnTo>
                          <a:pt x="172" y="529"/>
                        </a:lnTo>
                        <a:lnTo>
                          <a:pt x="319" y="557"/>
                        </a:lnTo>
                        <a:lnTo>
                          <a:pt x="491" y="529"/>
                        </a:lnTo>
                        <a:close/>
                      </a:path>
                    </a:pathLst>
                  </a:custGeom>
                  <a:solidFill>
                    <a:srgbClr val="919191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>
                    <a:off x="1697040" y="206280"/>
                    <a:ext cx="493920" cy="324360"/>
                  </a:xfrm>
                  <a:custGeom>
                    <a:avLst/>
                    <a:gdLst/>
                    <a:ahLst/>
                    <a:rect l="0" t="0" r="r" b="b"/>
                    <a:pathLst>
                      <a:path w="1372" h="901">
                        <a:moveTo>
                          <a:pt x="1372" y="522"/>
                        </a:moveTo>
                        <a:lnTo>
                          <a:pt x="1313" y="609"/>
                        </a:lnTo>
                        <a:lnTo>
                          <a:pt x="1224" y="666"/>
                        </a:lnTo>
                        <a:lnTo>
                          <a:pt x="1135" y="696"/>
                        </a:lnTo>
                        <a:lnTo>
                          <a:pt x="1075" y="725"/>
                        </a:lnTo>
                        <a:lnTo>
                          <a:pt x="894" y="725"/>
                        </a:lnTo>
                        <a:lnTo>
                          <a:pt x="716" y="725"/>
                        </a:lnTo>
                        <a:lnTo>
                          <a:pt x="537" y="696"/>
                        </a:lnTo>
                        <a:lnTo>
                          <a:pt x="356" y="725"/>
                        </a:lnTo>
                        <a:lnTo>
                          <a:pt x="267" y="725"/>
                        </a:lnTo>
                        <a:lnTo>
                          <a:pt x="178" y="783"/>
                        </a:lnTo>
                        <a:lnTo>
                          <a:pt x="89" y="815"/>
                        </a:lnTo>
                        <a:lnTo>
                          <a:pt x="0" y="901"/>
                        </a:lnTo>
                        <a:lnTo>
                          <a:pt x="0" y="378"/>
                        </a:lnTo>
                        <a:lnTo>
                          <a:pt x="89" y="289"/>
                        </a:lnTo>
                        <a:lnTo>
                          <a:pt x="178" y="231"/>
                        </a:lnTo>
                        <a:lnTo>
                          <a:pt x="267" y="201"/>
                        </a:lnTo>
                        <a:lnTo>
                          <a:pt x="356" y="172"/>
                        </a:lnTo>
                        <a:lnTo>
                          <a:pt x="537" y="172"/>
                        </a:lnTo>
                        <a:lnTo>
                          <a:pt x="716" y="201"/>
                        </a:lnTo>
                        <a:lnTo>
                          <a:pt x="894" y="201"/>
                        </a:lnTo>
                        <a:lnTo>
                          <a:pt x="1075" y="172"/>
                        </a:lnTo>
                        <a:lnTo>
                          <a:pt x="1135" y="172"/>
                        </a:lnTo>
                        <a:lnTo>
                          <a:pt x="1224" y="115"/>
                        </a:lnTo>
                        <a:lnTo>
                          <a:pt x="1313" y="86"/>
                        </a:lnTo>
                        <a:lnTo>
                          <a:pt x="1372" y="0"/>
                        </a:lnTo>
                        <a:lnTo>
                          <a:pt x="1372" y="522"/>
                        </a:lnTo>
                        <a:close/>
                      </a:path>
                    </a:pathLst>
                  </a:custGeom>
                  <a:solidFill>
                    <a:srgbClr val="919191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" name=""/>
                  <p:cNvSpPr/>
                  <p:nvPr/>
                </p:nvSpPr>
                <p:spPr>
                  <a:xfrm flipV="1">
                    <a:off x="2198520" y="222120"/>
                    <a:ext cx="0" cy="576360"/>
                  </a:xfrm>
                  <a:prstGeom prst="line">
                    <a:avLst/>
                  </a:prstGeom>
                  <a:ln w="25560">
                    <a:solidFill>
                      <a:srgbClr val="91919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" name=""/>
                  <p:cNvSpPr/>
                  <p:nvPr/>
                </p:nvSpPr>
                <p:spPr>
                  <a:xfrm>
                    <a:off x="1906560" y="720720"/>
                    <a:ext cx="302040" cy="200520"/>
                  </a:xfrm>
                  <a:custGeom>
                    <a:avLst/>
                    <a:gdLst/>
                    <a:ahLst/>
                    <a:rect l="0" t="0" r="r" b="b"/>
                    <a:pathLst>
                      <a:path w="839" h="557">
                        <a:moveTo>
                          <a:pt x="491" y="529"/>
                        </a:moveTo>
                        <a:lnTo>
                          <a:pt x="664" y="447"/>
                        </a:lnTo>
                        <a:lnTo>
                          <a:pt x="782" y="363"/>
                        </a:lnTo>
                        <a:lnTo>
                          <a:pt x="839" y="252"/>
                        </a:lnTo>
                        <a:lnTo>
                          <a:pt x="839" y="166"/>
                        </a:lnTo>
                        <a:lnTo>
                          <a:pt x="782" y="82"/>
                        </a:lnTo>
                        <a:lnTo>
                          <a:pt x="664" y="27"/>
                        </a:lnTo>
                        <a:lnTo>
                          <a:pt x="520" y="0"/>
                        </a:lnTo>
                        <a:lnTo>
                          <a:pt x="348" y="27"/>
                        </a:lnTo>
                        <a:lnTo>
                          <a:pt x="172" y="110"/>
                        </a:lnTo>
                        <a:lnTo>
                          <a:pt x="57" y="194"/>
                        </a:lnTo>
                        <a:lnTo>
                          <a:pt x="0" y="307"/>
                        </a:lnTo>
                        <a:lnTo>
                          <a:pt x="0" y="390"/>
                        </a:lnTo>
                        <a:lnTo>
                          <a:pt x="57" y="474"/>
                        </a:lnTo>
                        <a:lnTo>
                          <a:pt x="172" y="529"/>
                        </a:lnTo>
                        <a:lnTo>
                          <a:pt x="319" y="557"/>
                        </a:lnTo>
                        <a:lnTo>
                          <a:pt x="491" y="529"/>
                        </a:lnTo>
                        <a:close/>
                      </a:path>
                    </a:pathLst>
                  </a:custGeom>
                  <a:solidFill>
                    <a:srgbClr val="919191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da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647640" y="681120"/>
            <a:ext cx="778680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Lorem Ips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85800" y="2085840"/>
            <a:ext cx="778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19191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lor sit amet consectetuer adipiscing elit sed dia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919191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onummy nibh euism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919191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incidunt 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919191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aoreet dolo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919191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gna aliqu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19191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xerci tation ullamcorper suscipit lobortis nisl ut aliquip ex ea 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rosoft Corporation</dc:creator>
  <dc:description/>
  <dc:language>en-US</dc:language>
  <cp:lastModifiedBy>Microsoft Corporation</cp:lastModifiedBy>
  <cp:revision>0</cp:revision>
  <dc:subject/>
  <dc:title>Lorem Ipsum</dc:title>
</cp:coreProperties>
</file>