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040"/>
            <a:chOff x="0" y="0"/>
            <a:chExt cx="9131400" cy="6845040"/>
          </a:xfrm>
        </p:grpSpPr>
        <p:grpSp>
          <p:nvGrpSpPr>
            <p:cNvPr id="1" name=""/>
            <p:cNvGrpSpPr/>
            <p:nvPr/>
          </p:nvGrpSpPr>
          <p:grpSpPr>
            <a:xfrm>
              <a:off x="0" y="5334120"/>
              <a:ext cx="685800" cy="685800"/>
              <a:chOff x="0" y="5334120"/>
              <a:chExt cx="685800" cy="685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5334120"/>
                <a:ext cx="68580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52280" y="5486400"/>
                <a:ext cx="112680" cy="112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533520" y="5867280"/>
              <a:ext cx="304920" cy="304920"/>
              <a:chOff x="533520" y="5867280"/>
              <a:chExt cx="304920" cy="304920"/>
            </a:xfrm>
          </p:grpSpPr>
          <p:sp>
            <p:nvSpPr>
              <p:cNvPr id="5" name=""/>
              <p:cNvSpPr/>
              <p:nvPr/>
            </p:nvSpPr>
            <p:spPr>
              <a:xfrm>
                <a:off x="533520" y="586728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120" y="593424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25280" y="6032520"/>
              <a:ext cx="457200" cy="457200"/>
              <a:chOff x="125280" y="6032520"/>
              <a:chExt cx="457200" cy="457200"/>
            </a:xfrm>
          </p:grpSpPr>
          <p:sp>
            <p:nvSpPr>
              <p:cNvPr id="8" name=""/>
              <p:cNvSpPr/>
              <p:nvPr/>
            </p:nvSpPr>
            <p:spPr>
              <a:xfrm>
                <a:off x="125280" y="60325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27160" y="6134040"/>
                <a:ext cx="74520" cy="74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2470320" y="6464160"/>
              <a:ext cx="380880" cy="380880"/>
              <a:chOff x="2470320" y="6464160"/>
              <a:chExt cx="380880" cy="380880"/>
            </a:xfrm>
          </p:grpSpPr>
          <p:sp>
            <p:nvSpPr>
              <p:cNvPr id="11" name=""/>
              <p:cNvSpPr/>
              <p:nvPr/>
            </p:nvSpPr>
            <p:spPr>
              <a:xfrm>
                <a:off x="2470320" y="6464160"/>
                <a:ext cx="380880" cy="380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554200" y="6548400"/>
                <a:ext cx="63360" cy="63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0" y="4419720"/>
              <a:ext cx="380880" cy="380880"/>
              <a:chOff x="0" y="4419720"/>
              <a:chExt cx="380880" cy="380880"/>
            </a:xfrm>
          </p:grpSpPr>
          <p:sp>
            <p:nvSpPr>
              <p:cNvPr id="14" name=""/>
              <p:cNvSpPr/>
              <p:nvPr/>
            </p:nvSpPr>
            <p:spPr>
              <a:xfrm>
                <a:off x="0" y="4419720"/>
                <a:ext cx="380880" cy="380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4240" y="4503600"/>
                <a:ext cx="63360" cy="63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6553080" y="6095880"/>
              <a:ext cx="685800" cy="685800"/>
              <a:chOff x="6553080" y="6095880"/>
              <a:chExt cx="685800" cy="685800"/>
            </a:xfrm>
          </p:grpSpPr>
          <p:sp>
            <p:nvSpPr>
              <p:cNvPr id="17" name=""/>
              <p:cNvSpPr/>
              <p:nvPr/>
            </p:nvSpPr>
            <p:spPr>
              <a:xfrm>
                <a:off x="6553080" y="6095880"/>
                <a:ext cx="68580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705720" y="6248520"/>
                <a:ext cx="112680" cy="112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"/>
            <p:cNvGrpSpPr/>
            <p:nvPr/>
          </p:nvGrpSpPr>
          <p:grpSpPr>
            <a:xfrm>
              <a:off x="6172200" y="6400800"/>
              <a:ext cx="380880" cy="380880"/>
              <a:chOff x="6172200" y="6400800"/>
              <a:chExt cx="380880" cy="380880"/>
            </a:xfrm>
          </p:grpSpPr>
          <p:sp>
            <p:nvSpPr>
              <p:cNvPr id="20" name=""/>
              <p:cNvSpPr/>
              <p:nvPr/>
            </p:nvSpPr>
            <p:spPr>
              <a:xfrm>
                <a:off x="6172200" y="6400800"/>
                <a:ext cx="380880" cy="380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256440" y="6485040"/>
                <a:ext cx="63360" cy="63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7238880" y="6095880"/>
              <a:ext cx="380880" cy="380880"/>
              <a:chOff x="7238880" y="6095880"/>
              <a:chExt cx="380880" cy="380880"/>
            </a:xfrm>
          </p:grpSpPr>
          <p:sp>
            <p:nvSpPr>
              <p:cNvPr id="23" name=""/>
              <p:cNvSpPr/>
              <p:nvPr/>
            </p:nvSpPr>
            <p:spPr>
              <a:xfrm>
                <a:off x="7238880" y="6095880"/>
                <a:ext cx="380880" cy="380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323120" y="6180120"/>
                <a:ext cx="63360" cy="63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8597880" y="1801800"/>
              <a:ext cx="533520" cy="533520"/>
              <a:chOff x="8597880" y="1801800"/>
              <a:chExt cx="533520" cy="533520"/>
            </a:xfrm>
          </p:grpSpPr>
          <p:sp>
            <p:nvSpPr>
              <p:cNvPr id="26" name=""/>
              <p:cNvSpPr/>
              <p:nvPr/>
            </p:nvSpPr>
            <p:spPr>
              <a:xfrm>
                <a:off x="8597880" y="180180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17040" y="1920960"/>
                <a:ext cx="87480" cy="87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"/>
            <p:cNvGrpSpPr/>
            <p:nvPr/>
          </p:nvGrpSpPr>
          <p:grpSpPr>
            <a:xfrm>
              <a:off x="8686800" y="2514600"/>
              <a:ext cx="228600" cy="228600"/>
              <a:chOff x="8686800" y="2514600"/>
              <a:chExt cx="228600" cy="228600"/>
            </a:xfrm>
          </p:grpSpPr>
          <p:sp>
            <p:nvSpPr>
              <p:cNvPr id="29" name=""/>
              <p:cNvSpPr/>
              <p:nvPr/>
            </p:nvSpPr>
            <p:spPr>
              <a:xfrm>
                <a:off x="8686800" y="25146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737560" y="2565360"/>
                <a:ext cx="38160" cy="38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" name=""/>
            <p:cNvGrpSpPr/>
            <p:nvPr/>
          </p:nvGrpSpPr>
          <p:grpSpPr>
            <a:xfrm>
              <a:off x="1371600" y="0"/>
              <a:ext cx="533520" cy="533520"/>
              <a:chOff x="1371600" y="0"/>
              <a:chExt cx="533520" cy="533520"/>
            </a:xfrm>
          </p:grpSpPr>
          <p:sp>
            <p:nvSpPr>
              <p:cNvPr id="32" name=""/>
              <p:cNvSpPr/>
              <p:nvPr/>
            </p:nvSpPr>
            <p:spPr>
              <a:xfrm>
                <a:off x="1371600" y="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88960" y="117360"/>
                <a:ext cx="88920" cy="88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1905120" y="152280"/>
              <a:ext cx="380880" cy="380880"/>
              <a:chOff x="1905120" y="152280"/>
              <a:chExt cx="380880" cy="380880"/>
            </a:xfrm>
          </p:grpSpPr>
          <p:sp>
            <p:nvSpPr>
              <p:cNvPr id="35" name=""/>
              <p:cNvSpPr/>
              <p:nvPr/>
            </p:nvSpPr>
            <p:spPr>
              <a:xfrm>
                <a:off x="1905120" y="152280"/>
                <a:ext cx="380880" cy="380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89000" y="236520"/>
                <a:ext cx="63360" cy="63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