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0"/>
            <a:ext cx="1143360" cy="6782040"/>
            <a:chOff x="77760" y="0"/>
            <a:chExt cx="1143360" cy="6782040"/>
          </a:xfrm>
        </p:grpSpPr>
        <p:grpSp>
          <p:nvGrpSpPr>
            <p:cNvPr id="1" name="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2" name="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solidFill>
                <a:srgbClr val="a8a8a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120" cy="608472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0120" cy="1078200"/>
              <a:chOff x="81000" y="5703840"/>
              <a:chExt cx="1140120" cy="107820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099120"/>
                <a:ext cx="395640" cy="289440"/>
              </a:xfrm>
              <a:custGeom>
                <a:avLst/>
                <a:gdLst/>
                <a:ahLst/>
                <a:rect l="0" t="0" r="r" b="b"/>
                <a:pathLst>
                  <a:path w="1099" h="804">
                    <a:moveTo>
                      <a:pt x="0" y="667"/>
                    </a:moveTo>
                    <a:lnTo>
                      <a:pt x="176" y="804"/>
                    </a:lnTo>
                    <a:lnTo>
                      <a:pt x="1099" y="136"/>
                    </a:lnTo>
                    <a:lnTo>
                      <a:pt x="922" y="0"/>
                    </a:lnTo>
                    <a:lnTo>
                      <a:pt x="0" y="667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3120" cy="57600"/>
              </a:xfrm>
              <a:custGeom>
                <a:avLst/>
                <a:gdLst/>
                <a:ahLst/>
                <a:rect l="0" t="0" r="r" b="b"/>
                <a:pathLst>
                  <a:path w="1342" h="160">
                    <a:moveTo>
                      <a:pt x="0" y="0"/>
                    </a:moveTo>
                    <a:lnTo>
                      <a:pt x="195" y="160"/>
                    </a:lnTo>
                    <a:lnTo>
                      <a:pt x="1342" y="160"/>
                    </a:lnTo>
                    <a:lnTo>
                      <a:pt x="11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" y="5703840"/>
                <a:ext cx="190800" cy="439920"/>
              </a:xfrm>
              <a:custGeom>
                <a:avLst/>
                <a:gdLst/>
                <a:ahLst/>
                <a:rect l="0" t="0" r="r" b="b"/>
                <a:pathLst>
                  <a:path w="530" h="1222">
                    <a:moveTo>
                      <a:pt x="194" y="1222"/>
                    </a:moveTo>
                    <a:lnTo>
                      <a:pt x="530" y="140"/>
                    </a:lnTo>
                    <a:lnTo>
                      <a:pt x="331" y="0"/>
                    </a:lnTo>
                    <a:lnTo>
                      <a:pt x="0" y="1068"/>
                    </a:lnTo>
                    <a:lnTo>
                      <a:pt x="194" y="1222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2000" cy="57600"/>
              </a:xfrm>
              <a:custGeom>
                <a:avLst/>
                <a:gdLst/>
                <a:ahLst/>
                <a:rect l="0" t="0" r="r" b="b"/>
                <a:pathLst>
                  <a:path w="1200" h="160">
                    <a:moveTo>
                      <a:pt x="66" y="160"/>
                    </a:moveTo>
                    <a:lnTo>
                      <a:pt x="0" y="0"/>
                    </a:lnTo>
                    <a:lnTo>
                      <a:pt x="1015" y="0"/>
                    </a:lnTo>
                    <a:lnTo>
                      <a:pt x="1200" y="160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0960" cy="290880"/>
              </a:xfrm>
              <a:custGeom>
                <a:avLst/>
                <a:gdLst/>
                <a:ahLst/>
                <a:rect l="0" t="0" r="r" b="b"/>
                <a:pathLst>
                  <a:path w="1086" h="808">
                    <a:moveTo>
                      <a:pt x="0" y="668"/>
                    </a:moveTo>
                    <a:lnTo>
                      <a:pt x="181" y="808"/>
                    </a:lnTo>
                    <a:lnTo>
                      <a:pt x="1086" y="144"/>
                    </a:lnTo>
                    <a:lnTo>
                      <a:pt x="909" y="0"/>
                    </a:lnTo>
                    <a:lnTo>
                      <a:pt x="0" y="668"/>
                    </a:lnTo>
                    <a:close/>
                  </a:path>
                </a:pathLst>
              </a:custGeom>
              <a:solidFill>
                <a:srgbClr val="a8a8a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22240" y="6338880"/>
                <a:ext cx="184680" cy="443160"/>
              </a:xfrm>
              <a:custGeom>
                <a:avLst/>
                <a:gdLst/>
                <a:ahLst/>
                <a:rect l="0" t="0" r="r" b="b"/>
                <a:pathLst>
                  <a:path w="513" h="1231">
                    <a:moveTo>
                      <a:pt x="302" y="1002"/>
                    </a:moveTo>
                    <a:lnTo>
                      <a:pt x="513" y="1231"/>
                    </a:lnTo>
                    <a:lnTo>
                      <a:pt x="178" y="140"/>
                    </a:lnTo>
                    <a:lnTo>
                      <a:pt x="0" y="0"/>
                    </a:lnTo>
                    <a:lnTo>
                      <a:pt x="302" y="100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7280" cy="441720"/>
              </a:xfrm>
              <a:custGeom>
                <a:avLst/>
                <a:gdLst/>
                <a:ahLst/>
                <a:rect l="0" t="0" r="r" b="b"/>
                <a:pathLst>
                  <a:path w="548" h="1227">
                    <a:moveTo>
                      <a:pt x="195" y="1227"/>
                    </a:moveTo>
                    <a:lnTo>
                      <a:pt x="548" y="153"/>
                    </a:lnTo>
                    <a:lnTo>
                      <a:pt x="332" y="0"/>
                    </a:lnTo>
                    <a:lnTo>
                      <a:pt x="0" y="1074"/>
                    </a:lnTo>
                    <a:lnTo>
                      <a:pt x="195" y="122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25920" cy="949680"/>
              </a:xfrm>
              <a:custGeom>
                <a:avLst/>
                <a:gdLst/>
                <a:ahLst/>
                <a:rect l="0" t="0" r="r" b="b"/>
                <a:pathLst>
                  <a:path w="2572" h="2638">
                    <a:moveTo>
                      <a:pt x="1484" y="0"/>
                    </a:moveTo>
                    <a:lnTo>
                      <a:pt x="1121" y="1094"/>
                    </a:lnTo>
                    <a:lnTo>
                      <a:pt x="0" y="1094"/>
                    </a:lnTo>
                    <a:lnTo>
                      <a:pt x="943" y="1776"/>
                    </a:lnTo>
                    <a:lnTo>
                      <a:pt x="716" y="2488"/>
                    </a:lnTo>
                    <a:lnTo>
                      <a:pt x="1315" y="2044"/>
                    </a:lnTo>
                    <a:lnTo>
                      <a:pt x="2151" y="2638"/>
                    </a:lnTo>
                    <a:lnTo>
                      <a:pt x="1856" y="1635"/>
                    </a:lnTo>
                    <a:lnTo>
                      <a:pt x="2572" y="1094"/>
                    </a:lnTo>
                    <a:lnTo>
                      <a:pt x="1836" y="1094"/>
                    </a:lnTo>
                    <a:lnTo>
                      <a:pt x="1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212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