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c0ffc0"/>
                </a:gs>
                <a:gs pos="100000">
                  <a:srgbClr val="739973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w="2556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w="7632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8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18097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0ff4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40ff4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