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6840" y="563400"/>
            <a:ext cx="4799520" cy="6150240"/>
            <a:chOff x="2166840" y="563400"/>
            <a:chExt cx="4799520" cy="6150240"/>
          </a:xfrm>
        </p:grpSpPr>
        <p:sp>
          <p:nvSpPr>
            <p:cNvPr id="1" name=""/>
            <p:cNvSpPr/>
            <p:nvPr/>
          </p:nvSpPr>
          <p:spPr>
            <a:xfrm>
              <a:off x="4500720" y="930240"/>
              <a:ext cx="138600" cy="1778400"/>
            </a:xfrm>
            <a:custGeom>
              <a:avLst/>
              <a:gdLst/>
              <a:ahLst/>
              <a:rect l="0" t="0" r="r" b="b"/>
              <a:pathLst>
                <a:path w="385" h="4940">
                  <a:moveTo>
                    <a:pt x="0" y="4940"/>
                  </a:moveTo>
                  <a:lnTo>
                    <a:pt x="0" y="0"/>
                  </a:lnTo>
                  <a:lnTo>
                    <a:pt x="385" y="0"/>
                  </a:lnTo>
                  <a:lnTo>
                    <a:pt x="385" y="4787"/>
                  </a:lnTo>
                  <a:lnTo>
                    <a:pt x="0" y="4940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498920" y="3016080"/>
              <a:ext cx="132120" cy="574920"/>
            </a:xfrm>
            <a:custGeom>
              <a:avLst/>
              <a:gdLst/>
              <a:ahLst/>
              <a:rect l="0" t="0" r="r" b="b"/>
              <a:pathLst>
                <a:path w="367" h="1597">
                  <a:moveTo>
                    <a:pt x="0" y="129"/>
                  </a:moveTo>
                  <a:lnTo>
                    <a:pt x="367" y="0"/>
                  </a:lnTo>
                  <a:lnTo>
                    <a:pt x="326" y="1451"/>
                  </a:lnTo>
                  <a:lnTo>
                    <a:pt x="0" y="1597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84520" y="3957480"/>
              <a:ext cx="132120" cy="394200"/>
            </a:xfrm>
            <a:custGeom>
              <a:avLst/>
              <a:gdLst/>
              <a:ahLst/>
              <a:rect l="0" t="0" r="r" b="b"/>
              <a:pathLst>
                <a:path w="367" h="1095">
                  <a:moveTo>
                    <a:pt x="8" y="941"/>
                  </a:moveTo>
                  <a:lnTo>
                    <a:pt x="0" y="121"/>
                  </a:lnTo>
                  <a:lnTo>
                    <a:pt x="367" y="0"/>
                  </a:lnTo>
                  <a:lnTo>
                    <a:pt x="318" y="1095"/>
                  </a:lnTo>
                  <a:lnTo>
                    <a:pt x="8" y="94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94240" y="4707000"/>
              <a:ext cx="81360" cy="367200"/>
            </a:xfrm>
            <a:custGeom>
              <a:avLst/>
              <a:gdLst/>
              <a:ahLst/>
              <a:rect l="0" t="0" r="r" b="b"/>
              <a:pathLst>
                <a:path w="226" h="1020">
                  <a:moveTo>
                    <a:pt x="57" y="899"/>
                  </a:moveTo>
                  <a:lnTo>
                    <a:pt x="0" y="0"/>
                  </a:lnTo>
                  <a:lnTo>
                    <a:pt x="226" y="113"/>
                  </a:lnTo>
                  <a:lnTo>
                    <a:pt x="210" y="1020"/>
                  </a:lnTo>
                  <a:lnTo>
                    <a:pt x="57" y="899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25920" y="5324400"/>
              <a:ext cx="55800" cy="209880"/>
            </a:xfrm>
            <a:custGeom>
              <a:avLst/>
              <a:gdLst/>
              <a:ahLst/>
              <a:rect l="0" t="0" r="r" b="b"/>
              <a:pathLst>
                <a:path w="155" h="583">
                  <a:moveTo>
                    <a:pt x="17" y="446"/>
                  </a:moveTo>
                  <a:lnTo>
                    <a:pt x="0" y="0"/>
                  </a:lnTo>
                  <a:lnTo>
                    <a:pt x="155" y="88"/>
                  </a:lnTo>
                  <a:lnTo>
                    <a:pt x="124" y="583"/>
                  </a:lnTo>
                  <a:lnTo>
                    <a:pt x="17" y="446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25920" y="5778360"/>
              <a:ext cx="46440" cy="935280"/>
            </a:xfrm>
            <a:custGeom>
              <a:avLst/>
              <a:gdLst/>
              <a:ahLst/>
              <a:rect l="0" t="0" r="r" b="b"/>
              <a:pathLst>
                <a:path w="129" h="2598">
                  <a:moveTo>
                    <a:pt x="64" y="2598"/>
                  </a:moveTo>
                  <a:lnTo>
                    <a:pt x="0" y="0"/>
                  </a:lnTo>
                  <a:lnTo>
                    <a:pt x="129" y="161"/>
                  </a:lnTo>
                  <a:lnTo>
                    <a:pt x="64" y="2598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27400" y="5707080"/>
              <a:ext cx="368640" cy="205200"/>
            </a:xfrm>
            <a:custGeom>
              <a:avLst/>
              <a:gdLst/>
              <a:ahLst/>
              <a:rect l="0" t="0" r="r" b="b"/>
              <a:pathLst>
                <a:path w="1024" h="570">
                  <a:moveTo>
                    <a:pt x="0" y="517"/>
                  </a:moveTo>
                  <a:lnTo>
                    <a:pt x="211" y="447"/>
                  </a:lnTo>
                  <a:lnTo>
                    <a:pt x="410" y="349"/>
                  </a:lnTo>
                  <a:lnTo>
                    <a:pt x="644" y="172"/>
                  </a:lnTo>
                  <a:lnTo>
                    <a:pt x="803" y="0"/>
                  </a:lnTo>
                  <a:lnTo>
                    <a:pt x="1024" y="186"/>
                  </a:lnTo>
                  <a:lnTo>
                    <a:pt x="830" y="327"/>
                  </a:lnTo>
                  <a:lnTo>
                    <a:pt x="591" y="487"/>
                  </a:lnTo>
                  <a:lnTo>
                    <a:pt x="268" y="570"/>
                  </a:lnTo>
                  <a:lnTo>
                    <a:pt x="0" y="517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00400" y="4584600"/>
              <a:ext cx="736920" cy="1024200"/>
            </a:xfrm>
            <a:custGeom>
              <a:avLst/>
              <a:gdLst/>
              <a:ahLst/>
              <a:rect l="0" t="0" r="r" b="b"/>
              <a:pathLst>
                <a:path w="2047" h="2845">
                  <a:moveTo>
                    <a:pt x="1584" y="2845"/>
                  </a:moveTo>
                  <a:lnTo>
                    <a:pt x="1786" y="2717"/>
                  </a:lnTo>
                  <a:lnTo>
                    <a:pt x="1972" y="2558"/>
                  </a:lnTo>
                  <a:lnTo>
                    <a:pt x="2029" y="2435"/>
                  </a:lnTo>
                  <a:lnTo>
                    <a:pt x="2047" y="2272"/>
                  </a:lnTo>
                  <a:lnTo>
                    <a:pt x="1989" y="2064"/>
                  </a:lnTo>
                  <a:lnTo>
                    <a:pt x="1870" y="1870"/>
                  </a:lnTo>
                  <a:lnTo>
                    <a:pt x="1676" y="1698"/>
                  </a:lnTo>
                  <a:lnTo>
                    <a:pt x="740" y="1142"/>
                  </a:lnTo>
                  <a:lnTo>
                    <a:pt x="586" y="1036"/>
                  </a:lnTo>
                  <a:lnTo>
                    <a:pt x="489" y="917"/>
                  </a:lnTo>
                  <a:lnTo>
                    <a:pt x="458" y="732"/>
                  </a:lnTo>
                  <a:lnTo>
                    <a:pt x="515" y="546"/>
                  </a:lnTo>
                  <a:lnTo>
                    <a:pt x="683" y="418"/>
                  </a:lnTo>
                  <a:lnTo>
                    <a:pt x="978" y="229"/>
                  </a:lnTo>
                  <a:lnTo>
                    <a:pt x="546" y="0"/>
                  </a:lnTo>
                  <a:lnTo>
                    <a:pt x="242" y="180"/>
                  </a:lnTo>
                  <a:lnTo>
                    <a:pt x="119" y="308"/>
                  </a:lnTo>
                  <a:lnTo>
                    <a:pt x="8" y="542"/>
                  </a:lnTo>
                  <a:lnTo>
                    <a:pt x="0" y="833"/>
                  </a:lnTo>
                  <a:lnTo>
                    <a:pt x="127" y="1133"/>
                  </a:lnTo>
                  <a:lnTo>
                    <a:pt x="343" y="1322"/>
                  </a:lnTo>
                  <a:lnTo>
                    <a:pt x="1372" y="1950"/>
                  </a:lnTo>
                  <a:lnTo>
                    <a:pt x="1579" y="2091"/>
                  </a:lnTo>
                  <a:lnTo>
                    <a:pt x="1654" y="2276"/>
                  </a:lnTo>
                  <a:lnTo>
                    <a:pt x="1654" y="2426"/>
                  </a:lnTo>
                  <a:lnTo>
                    <a:pt x="1359" y="2682"/>
                  </a:lnTo>
                  <a:lnTo>
                    <a:pt x="1584" y="2845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708440" y="3803760"/>
              <a:ext cx="503640" cy="668520"/>
            </a:xfrm>
            <a:custGeom>
              <a:avLst/>
              <a:gdLst/>
              <a:ahLst/>
              <a:rect l="0" t="0" r="r" b="b"/>
              <a:pathLst>
                <a:path w="1399" h="1857">
                  <a:moveTo>
                    <a:pt x="406" y="1857"/>
                  </a:moveTo>
                  <a:lnTo>
                    <a:pt x="719" y="1760"/>
                  </a:lnTo>
                  <a:lnTo>
                    <a:pt x="962" y="1575"/>
                  </a:lnTo>
                  <a:lnTo>
                    <a:pt x="1161" y="1394"/>
                  </a:lnTo>
                  <a:lnTo>
                    <a:pt x="1324" y="1169"/>
                  </a:lnTo>
                  <a:lnTo>
                    <a:pt x="1399" y="895"/>
                  </a:lnTo>
                  <a:lnTo>
                    <a:pt x="1395" y="612"/>
                  </a:lnTo>
                  <a:lnTo>
                    <a:pt x="1320" y="418"/>
                  </a:lnTo>
                  <a:lnTo>
                    <a:pt x="1219" y="282"/>
                  </a:lnTo>
                  <a:lnTo>
                    <a:pt x="1064" y="158"/>
                  </a:lnTo>
                  <a:lnTo>
                    <a:pt x="962" y="61"/>
                  </a:lnTo>
                  <a:lnTo>
                    <a:pt x="794" y="0"/>
                  </a:lnTo>
                  <a:lnTo>
                    <a:pt x="268" y="229"/>
                  </a:lnTo>
                  <a:lnTo>
                    <a:pt x="468" y="410"/>
                  </a:lnTo>
                  <a:lnTo>
                    <a:pt x="605" y="573"/>
                  </a:lnTo>
                  <a:lnTo>
                    <a:pt x="702" y="701"/>
                  </a:lnTo>
                  <a:lnTo>
                    <a:pt x="777" y="864"/>
                  </a:lnTo>
                  <a:lnTo>
                    <a:pt x="777" y="1085"/>
                  </a:lnTo>
                  <a:lnTo>
                    <a:pt x="640" y="1231"/>
                  </a:lnTo>
                  <a:lnTo>
                    <a:pt x="464" y="1363"/>
                  </a:lnTo>
                  <a:lnTo>
                    <a:pt x="220" y="1509"/>
                  </a:lnTo>
                  <a:lnTo>
                    <a:pt x="0" y="1628"/>
                  </a:lnTo>
                  <a:lnTo>
                    <a:pt x="406" y="1857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64080" y="1889280"/>
              <a:ext cx="2227680" cy="1829160"/>
            </a:xfrm>
            <a:custGeom>
              <a:avLst/>
              <a:gdLst/>
              <a:ahLst/>
              <a:rect l="0" t="0" r="r" b="b"/>
              <a:pathLst>
                <a:path w="6188" h="5081">
                  <a:moveTo>
                    <a:pt x="2055" y="4781"/>
                  </a:moveTo>
                  <a:lnTo>
                    <a:pt x="1632" y="4701"/>
                  </a:lnTo>
                  <a:lnTo>
                    <a:pt x="1318" y="4565"/>
                  </a:lnTo>
                  <a:lnTo>
                    <a:pt x="1133" y="4419"/>
                  </a:lnTo>
                  <a:lnTo>
                    <a:pt x="970" y="4216"/>
                  </a:lnTo>
                  <a:lnTo>
                    <a:pt x="921" y="4031"/>
                  </a:lnTo>
                  <a:lnTo>
                    <a:pt x="948" y="3850"/>
                  </a:lnTo>
                  <a:lnTo>
                    <a:pt x="1018" y="3687"/>
                  </a:lnTo>
                  <a:lnTo>
                    <a:pt x="1203" y="3519"/>
                  </a:lnTo>
                  <a:lnTo>
                    <a:pt x="1455" y="3414"/>
                  </a:lnTo>
                  <a:lnTo>
                    <a:pt x="1764" y="3299"/>
                  </a:lnTo>
                  <a:lnTo>
                    <a:pt x="4896" y="2200"/>
                  </a:lnTo>
                  <a:lnTo>
                    <a:pt x="5324" y="1988"/>
                  </a:lnTo>
                  <a:lnTo>
                    <a:pt x="5686" y="1755"/>
                  </a:lnTo>
                  <a:lnTo>
                    <a:pt x="5928" y="1569"/>
                  </a:lnTo>
                  <a:lnTo>
                    <a:pt x="6091" y="1367"/>
                  </a:lnTo>
                  <a:lnTo>
                    <a:pt x="6188" y="1098"/>
                  </a:lnTo>
                  <a:lnTo>
                    <a:pt x="6180" y="815"/>
                  </a:lnTo>
                  <a:lnTo>
                    <a:pt x="6113" y="599"/>
                  </a:lnTo>
                  <a:lnTo>
                    <a:pt x="6043" y="396"/>
                  </a:lnTo>
                  <a:lnTo>
                    <a:pt x="5888" y="242"/>
                  </a:lnTo>
                  <a:lnTo>
                    <a:pt x="5646" y="79"/>
                  </a:lnTo>
                  <a:lnTo>
                    <a:pt x="5355" y="0"/>
                  </a:lnTo>
                  <a:lnTo>
                    <a:pt x="5170" y="17"/>
                  </a:lnTo>
                  <a:lnTo>
                    <a:pt x="4901" y="30"/>
                  </a:lnTo>
                  <a:lnTo>
                    <a:pt x="4645" y="88"/>
                  </a:lnTo>
                  <a:lnTo>
                    <a:pt x="4362" y="202"/>
                  </a:lnTo>
                  <a:lnTo>
                    <a:pt x="4141" y="348"/>
                  </a:lnTo>
                  <a:lnTo>
                    <a:pt x="3965" y="467"/>
                  </a:lnTo>
                  <a:lnTo>
                    <a:pt x="3872" y="657"/>
                  </a:lnTo>
                  <a:lnTo>
                    <a:pt x="3956" y="824"/>
                  </a:lnTo>
                  <a:lnTo>
                    <a:pt x="4141" y="806"/>
                  </a:lnTo>
                  <a:lnTo>
                    <a:pt x="4353" y="754"/>
                  </a:lnTo>
                  <a:lnTo>
                    <a:pt x="4556" y="696"/>
                  </a:lnTo>
                  <a:lnTo>
                    <a:pt x="4715" y="661"/>
                  </a:lnTo>
                  <a:lnTo>
                    <a:pt x="4901" y="661"/>
                  </a:lnTo>
                  <a:lnTo>
                    <a:pt x="5090" y="718"/>
                  </a:lnTo>
                  <a:lnTo>
                    <a:pt x="5218" y="899"/>
                  </a:lnTo>
                  <a:lnTo>
                    <a:pt x="5201" y="1093"/>
                  </a:lnTo>
                  <a:lnTo>
                    <a:pt x="5104" y="1261"/>
                  </a:lnTo>
                  <a:lnTo>
                    <a:pt x="4945" y="1424"/>
                  </a:lnTo>
                  <a:lnTo>
                    <a:pt x="4617" y="1591"/>
                  </a:lnTo>
                  <a:lnTo>
                    <a:pt x="4005" y="1830"/>
                  </a:lnTo>
                  <a:lnTo>
                    <a:pt x="855" y="2977"/>
                  </a:lnTo>
                  <a:lnTo>
                    <a:pt x="542" y="3153"/>
                  </a:lnTo>
                  <a:lnTo>
                    <a:pt x="299" y="3365"/>
                  </a:lnTo>
                  <a:lnTo>
                    <a:pt x="127" y="3568"/>
                  </a:lnTo>
                  <a:lnTo>
                    <a:pt x="26" y="3784"/>
                  </a:lnTo>
                  <a:lnTo>
                    <a:pt x="0" y="4022"/>
                  </a:lnTo>
                  <a:lnTo>
                    <a:pt x="35" y="4199"/>
                  </a:lnTo>
                  <a:lnTo>
                    <a:pt x="97" y="4375"/>
                  </a:lnTo>
                  <a:lnTo>
                    <a:pt x="260" y="4569"/>
                  </a:lnTo>
                  <a:lnTo>
                    <a:pt x="560" y="4829"/>
                  </a:lnTo>
                  <a:lnTo>
                    <a:pt x="873" y="5006"/>
                  </a:lnTo>
                  <a:lnTo>
                    <a:pt x="1203" y="5081"/>
                  </a:lnTo>
                  <a:lnTo>
                    <a:pt x="2055" y="4781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03800" y="5207040"/>
              <a:ext cx="582840" cy="668520"/>
            </a:xfrm>
            <a:custGeom>
              <a:avLst/>
              <a:gdLst/>
              <a:ahLst/>
              <a:rect l="0" t="0" r="r" b="b"/>
              <a:pathLst>
                <a:path w="1619" h="1857">
                  <a:moveTo>
                    <a:pt x="1619" y="1857"/>
                  </a:moveTo>
                  <a:lnTo>
                    <a:pt x="754" y="1500"/>
                  </a:lnTo>
                  <a:lnTo>
                    <a:pt x="515" y="1341"/>
                  </a:lnTo>
                  <a:lnTo>
                    <a:pt x="321" y="1169"/>
                  </a:lnTo>
                  <a:lnTo>
                    <a:pt x="136" y="966"/>
                  </a:lnTo>
                  <a:lnTo>
                    <a:pt x="39" y="789"/>
                  </a:lnTo>
                  <a:lnTo>
                    <a:pt x="0" y="604"/>
                  </a:lnTo>
                  <a:lnTo>
                    <a:pt x="8" y="418"/>
                  </a:lnTo>
                  <a:lnTo>
                    <a:pt x="83" y="224"/>
                  </a:lnTo>
                  <a:lnTo>
                    <a:pt x="194" y="0"/>
                  </a:lnTo>
                  <a:lnTo>
                    <a:pt x="529" y="229"/>
                  </a:lnTo>
                  <a:lnTo>
                    <a:pt x="418" y="432"/>
                  </a:lnTo>
                  <a:lnTo>
                    <a:pt x="418" y="630"/>
                  </a:lnTo>
                  <a:lnTo>
                    <a:pt x="537" y="842"/>
                  </a:lnTo>
                  <a:lnTo>
                    <a:pt x="714" y="1037"/>
                  </a:lnTo>
                  <a:lnTo>
                    <a:pt x="984" y="1253"/>
                  </a:lnTo>
                  <a:lnTo>
                    <a:pt x="1279" y="1398"/>
                  </a:lnTo>
                  <a:lnTo>
                    <a:pt x="1465" y="1548"/>
                  </a:lnTo>
                  <a:lnTo>
                    <a:pt x="1548" y="1667"/>
                  </a:lnTo>
                  <a:lnTo>
                    <a:pt x="1619" y="1857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60640" y="2844720"/>
              <a:ext cx="1568880" cy="2283120"/>
            </a:xfrm>
            <a:custGeom>
              <a:avLst/>
              <a:gdLst/>
              <a:ahLst/>
              <a:rect l="0" t="0" r="r" b="b"/>
              <a:pathLst>
                <a:path w="4358" h="6342">
                  <a:moveTo>
                    <a:pt x="2316" y="6342"/>
                  </a:moveTo>
                  <a:lnTo>
                    <a:pt x="2567" y="6214"/>
                  </a:lnTo>
                  <a:lnTo>
                    <a:pt x="2854" y="5976"/>
                  </a:lnTo>
                  <a:lnTo>
                    <a:pt x="2955" y="5751"/>
                  </a:lnTo>
                  <a:lnTo>
                    <a:pt x="3026" y="5535"/>
                  </a:lnTo>
                  <a:lnTo>
                    <a:pt x="2986" y="5283"/>
                  </a:lnTo>
                  <a:lnTo>
                    <a:pt x="2809" y="4961"/>
                  </a:lnTo>
                  <a:lnTo>
                    <a:pt x="2686" y="4816"/>
                  </a:lnTo>
                  <a:lnTo>
                    <a:pt x="2510" y="4688"/>
                  </a:lnTo>
                  <a:lnTo>
                    <a:pt x="1143" y="3991"/>
                  </a:lnTo>
                  <a:lnTo>
                    <a:pt x="886" y="3806"/>
                  </a:lnTo>
                  <a:lnTo>
                    <a:pt x="780" y="3718"/>
                  </a:lnTo>
                  <a:lnTo>
                    <a:pt x="705" y="3528"/>
                  </a:lnTo>
                  <a:lnTo>
                    <a:pt x="754" y="3378"/>
                  </a:lnTo>
                  <a:lnTo>
                    <a:pt x="948" y="3255"/>
                  </a:lnTo>
                  <a:lnTo>
                    <a:pt x="1297" y="3126"/>
                  </a:lnTo>
                  <a:lnTo>
                    <a:pt x="3441" y="2297"/>
                  </a:lnTo>
                  <a:lnTo>
                    <a:pt x="3776" y="2076"/>
                  </a:lnTo>
                  <a:lnTo>
                    <a:pt x="4050" y="1838"/>
                  </a:lnTo>
                  <a:lnTo>
                    <a:pt x="4204" y="1671"/>
                  </a:lnTo>
                  <a:lnTo>
                    <a:pt x="4341" y="1472"/>
                  </a:lnTo>
                  <a:lnTo>
                    <a:pt x="4358" y="1208"/>
                  </a:lnTo>
                  <a:lnTo>
                    <a:pt x="4288" y="943"/>
                  </a:lnTo>
                  <a:lnTo>
                    <a:pt x="4204" y="736"/>
                  </a:lnTo>
                  <a:lnTo>
                    <a:pt x="4058" y="555"/>
                  </a:lnTo>
                  <a:lnTo>
                    <a:pt x="3860" y="374"/>
                  </a:lnTo>
                  <a:lnTo>
                    <a:pt x="3653" y="220"/>
                  </a:lnTo>
                  <a:lnTo>
                    <a:pt x="3543" y="127"/>
                  </a:lnTo>
                  <a:lnTo>
                    <a:pt x="3335" y="0"/>
                  </a:lnTo>
                  <a:lnTo>
                    <a:pt x="2593" y="268"/>
                  </a:lnTo>
                  <a:lnTo>
                    <a:pt x="2862" y="458"/>
                  </a:lnTo>
                  <a:lnTo>
                    <a:pt x="3061" y="639"/>
                  </a:lnTo>
                  <a:lnTo>
                    <a:pt x="3259" y="802"/>
                  </a:lnTo>
                  <a:lnTo>
                    <a:pt x="3441" y="983"/>
                  </a:lnTo>
                  <a:lnTo>
                    <a:pt x="3543" y="1199"/>
                  </a:lnTo>
                  <a:lnTo>
                    <a:pt x="3472" y="1424"/>
                  </a:lnTo>
                  <a:lnTo>
                    <a:pt x="3215" y="1627"/>
                  </a:lnTo>
                  <a:lnTo>
                    <a:pt x="2818" y="1821"/>
                  </a:lnTo>
                  <a:lnTo>
                    <a:pt x="934" y="2597"/>
                  </a:lnTo>
                  <a:lnTo>
                    <a:pt x="705" y="2681"/>
                  </a:lnTo>
                  <a:lnTo>
                    <a:pt x="388" y="2879"/>
                  </a:lnTo>
                  <a:lnTo>
                    <a:pt x="189" y="3077"/>
                  </a:lnTo>
                  <a:lnTo>
                    <a:pt x="39" y="3330"/>
                  </a:lnTo>
                  <a:lnTo>
                    <a:pt x="0" y="3616"/>
                  </a:lnTo>
                  <a:lnTo>
                    <a:pt x="44" y="3846"/>
                  </a:lnTo>
                  <a:lnTo>
                    <a:pt x="176" y="4031"/>
                  </a:lnTo>
                  <a:lnTo>
                    <a:pt x="370" y="4185"/>
                  </a:lnTo>
                  <a:lnTo>
                    <a:pt x="701" y="4406"/>
                  </a:lnTo>
                  <a:lnTo>
                    <a:pt x="2148" y="5133"/>
                  </a:lnTo>
                  <a:lnTo>
                    <a:pt x="2338" y="5279"/>
                  </a:lnTo>
                  <a:lnTo>
                    <a:pt x="2510" y="5451"/>
                  </a:lnTo>
                  <a:lnTo>
                    <a:pt x="2457" y="5698"/>
                  </a:lnTo>
                  <a:lnTo>
                    <a:pt x="2214" y="5971"/>
                  </a:lnTo>
                  <a:lnTo>
                    <a:pt x="1914" y="6148"/>
                  </a:lnTo>
                  <a:lnTo>
                    <a:pt x="2316" y="6342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333600" y="1844640"/>
              <a:ext cx="1060920" cy="922680"/>
            </a:xfrm>
            <a:custGeom>
              <a:avLst/>
              <a:gdLst/>
              <a:ahLst/>
              <a:rect l="0" t="0" r="r" b="b"/>
              <a:pathLst>
                <a:path w="2947" h="2563">
                  <a:moveTo>
                    <a:pt x="2947" y="2439"/>
                  </a:moveTo>
                  <a:lnTo>
                    <a:pt x="2947" y="1985"/>
                  </a:lnTo>
                  <a:lnTo>
                    <a:pt x="2480" y="1919"/>
                  </a:lnTo>
                  <a:lnTo>
                    <a:pt x="1976" y="1853"/>
                  </a:lnTo>
                  <a:lnTo>
                    <a:pt x="1619" y="1764"/>
                  </a:lnTo>
                  <a:lnTo>
                    <a:pt x="1385" y="1667"/>
                  </a:lnTo>
                  <a:lnTo>
                    <a:pt x="1134" y="1539"/>
                  </a:lnTo>
                  <a:lnTo>
                    <a:pt x="971" y="1385"/>
                  </a:lnTo>
                  <a:lnTo>
                    <a:pt x="852" y="1208"/>
                  </a:lnTo>
                  <a:lnTo>
                    <a:pt x="794" y="1018"/>
                  </a:lnTo>
                  <a:lnTo>
                    <a:pt x="794" y="833"/>
                  </a:lnTo>
                  <a:lnTo>
                    <a:pt x="852" y="727"/>
                  </a:lnTo>
                  <a:lnTo>
                    <a:pt x="922" y="630"/>
                  </a:lnTo>
                  <a:lnTo>
                    <a:pt x="1125" y="560"/>
                  </a:lnTo>
                  <a:lnTo>
                    <a:pt x="1310" y="560"/>
                  </a:lnTo>
                  <a:lnTo>
                    <a:pt x="1522" y="621"/>
                  </a:lnTo>
                  <a:lnTo>
                    <a:pt x="1747" y="687"/>
                  </a:lnTo>
                  <a:lnTo>
                    <a:pt x="1976" y="718"/>
                  </a:lnTo>
                  <a:lnTo>
                    <a:pt x="2104" y="551"/>
                  </a:lnTo>
                  <a:lnTo>
                    <a:pt x="2047" y="379"/>
                  </a:lnTo>
                  <a:lnTo>
                    <a:pt x="1831" y="185"/>
                  </a:lnTo>
                  <a:lnTo>
                    <a:pt x="1601" y="79"/>
                  </a:lnTo>
                  <a:lnTo>
                    <a:pt x="1407" y="30"/>
                  </a:lnTo>
                  <a:lnTo>
                    <a:pt x="1204" y="8"/>
                  </a:lnTo>
                  <a:lnTo>
                    <a:pt x="979" y="0"/>
                  </a:lnTo>
                  <a:lnTo>
                    <a:pt x="777" y="17"/>
                  </a:lnTo>
                  <a:lnTo>
                    <a:pt x="599" y="66"/>
                  </a:lnTo>
                  <a:lnTo>
                    <a:pt x="379" y="145"/>
                  </a:lnTo>
                  <a:lnTo>
                    <a:pt x="220" y="291"/>
                  </a:lnTo>
                  <a:lnTo>
                    <a:pt x="97" y="436"/>
                  </a:lnTo>
                  <a:lnTo>
                    <a:pt x="26" y="639"/>
                  </a:lnTo>
                  <a:lnTo>
                    <a:pt x="0" y="833"/>
                  </a:lnTo>
                  <a:lnTo>
                    <a:pt x="39" y="1045"/>
                  </a:lnTo>
                  <a:lnTo>
                    <a:pt x="97" y="1256"/>
                  </a:lnTo>
                  <a:lnTo>
                    <a:pt x="220" y="1456"/>
                  </a:lnTo>
                  <a:lnTo>
                    <a:pt x="357" y="1654"/>
                  </a:lnTo>
                  <a:lnTo>
                    <a:pt x="551" y="1848"/>
                  </a:lnTo>
                  <a:lnTo>
                    <a:pt x="746" y="2016"/>
                  </a:lnTo>
                  <a:lnTo>
                    <a:pt x="957" y="2152"/>
                  </a:lnTo>
                  <a:lnTo>
                    <a:pt x="1173" y="2267"/>
                  </a:lnTo>
                  <a:lnTo>
                    <a:pt x="1368" y="2355"/>
                  </a:lnTo>
                  <a:lnTo>
                    <a:pt x="1628" y="2421"/>
                  </a:lnTo>
                  <a:lnTo>
                    <a:pt x="1928" y="2505"/>
                  </a:lnTo>
                  <a:lnTo>
                    <a:pt x="2277" y="2563"/>
                  </a:lnTo>
                  <a:lnTo>
                    <a:pt x="2625" y="2545"/>
                  </a:lnTo>
                  <a:lnTo>
                    <a:pt x="2947" y="2439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66840" y="925560"/>
              <a:ext cx="2242080" cy="870480"/>
            </a:xfrm>
            <a:custGeom>
              <a:avLst/>
              <a:gdLst/>
              <a:ahLst/>
              <a:rect l="0" t="0" r="r" b="b"/>
              <a:pathLst>
                <a:path w="6228" h="2418">
                  <a:moveTo>
                    <a:pt x="6228" y="2418"/>
                  </a:moveTo>
                  <a:lnTo>
                    <a:pt x="5805" y="2370"/>
                  </a:lnTo>
                  <a:lnTo>
                    <a:pt x="5456" y="2312"/>
                  </a:lnTo>
                  <a:lnTo>
                    <a:pt x="5201" y="2255"/>
                  </a:lnTo>
                  <a:lnTo>
                    <a:pt x="4932" y="2202"/>
                  </a:lnTo>
                  <a:lnTo>
                    <a:pt x="4676" y="2175"/>
                  </a:lnTo>
                  <a:lnTo>
                    <a:pt x="4410" y="2184"/>
                  </a:lnTo>
                  <a:lnTo>
                    <a:pt x="4141" y="2202"/>
                  </a:lnTo>
                  <a:lnTo>
                    <a:pt x="3943" y="2127"/>
                  </a:lnTo>
                  <a:lnTo>
                    <a:pt x="4243" y="1942"/>
                  </a:lnTo>
                  <a:lnTo>
                    <a:pt x="4432" y="1814"/>
                  </a:lnTo>
                  <a:lnTo>
                    <a:pt x="4600" y="1681"/>
                  </a:lnTo>
                  <a:lnTo>
                    <a:pt x="4715" y="1535"/>
                  </a:lnTo>
                  <a:lnTo>
                    <a:pt x="4243" y="1689"/>
                  </a:lnTo>
                  <a:lnTo>
                    <a:pt x="3771" y="1845"/>
                  </a:lnTo>
                  <a:lnTo>
                    <a:pt x="3453" y="1924"/>
                  </a:lnTo>
                  <a:lnTo>
                    <a:pt x="2955" y="1981"/>
                  </a:lnTo>
                  <a:lnTo>
                    <a:pt x="2633" y="1981"/>
                  </a:lnTo>
                  <a:lnTo>
                    <a:pt x="2342" y="1959"/>
                  </a:lnTo>
                  <a:lnTo>
                    <a:pt x="2144" y="1884"/>
                  </a:lnTo>
                  <a:lnTo>
                    <a:pt x="2025" y="1795"/>
                  </a:lnTo>
                  <a:lnTo>
                    <a:pt x="2324" y="1716"/>
                  </a:lnTo>
                  <a:lnTo>
                    <a:pt x="2523" y="1610"/>
                  </a:lnTo>
                  <a:lnTo>
                    <a:pt x="2642" y="1495"/>
                  </a:lnTo>
                  <a:lnTo>
                    <a:pt x="2796" y="1359"/>
                  </a:lnTo>
                  <a:lnTo>
                    <a:pt x="2399" y="1473"/>
                  </a:lnTo>
                  <a:lnTo>
                    <a:pt x="2042" y="1535"/>
                  </a:lnTo>
                  <a:lnTo>
                    <a:pt x="1667" y="1570"/>
                  </a:lnTo>
                  <a:lnTo>
                    <a:pt x="1336" y="1553"/>
                  </a:lnTo>
                  <a:lnTo>
                    <a:pt x="1120" y="1473"/>
                  </a:lnTo>
                  <a:lnTo>
                    <a:pt x="1027" y="1376"/>
                  </a:lnTo>
                  <a:lnTo>
                    <a:pt x="1239" y="1284"/>
                  </a:lnTo>
                  <a:lnTo>
                    <a:pt x="1380" y="1187"/>
                  </a:lnTo>
                  <a:lnTo>
                    <a:pt x="1503" y="1076"/>
                  </a:lnTo>
                  <a:lnTo>
                    <a:pt x="1494" y="1010"/>
                  </a:lnTo>
                  <a:lnTo>
                    <a:pt x="1155" y="1085"/>
                  </a:lnTo>
                  <a:lnTo>
                    <a:pt x="789" y="1125"/>
                  </a:lnTo>
                  <a:lnTo>
                    <a:pt x="480" y="1121"/>
                  </a:lnTo>
                  <a:lnTo>
                    <a:pt x="224" y="1076"/>
                  </a:lnTo>
                  <a:lnTo>
                    <a:pt x="83" y="1010"/>
                  </a:lnTo>
                  <a:lnTo>
                    <a:pt x="0" y="904"/>
                  </a:lnTo>
                  <a:lnTo>
                    <a:pt x="529" y="825"/>
                  </a:lnTo>
                  <a:lnTo>
                    <a:pt x="1362" y="688"/>
                  </a:lnTo>
                  <a:lnTo>
                    <a:pt x="2399" y="524"/>
                  </a:lnTo>
                  <a:lnTo>
                    <a:pt x="3273" y="313"/>
                  </a:lnTo>
                  <a:lnTo>
                    <a:pt x="4084" y="114"/>
                  </a:lnTo>
                  <a:lnTo>
                    <a:pt x="4498" y="39"/>
                  </a:lnTo>
                  <a:lnTo>
                    <a:pt x="4843" y="0"/>
                  </a:lnTo>
                  <a:lnTo>
                    <a:pt x="5139" y="8"/>
                  </a:lnTo>
                  <a:lnTo>
                    <a:pt x="5342" y="30"/>
                  </a:lnTo>
                  <a:lnTo>
                    <a:pt x="5531" y="119"/>
                  </a:lnTo>
                  <a:lnTo>
                    <a:pt x="5681" y="313"/>
                  </a:lnTo>
                  <a:lnTo>
                    <a:pt x="5739" y="515"/>
                  </a:lnTo>
                  <a:lnTo>
                    <a:pt x="5805" y="653"/>
                  </a:lnTo>
                  <a:lnTo>
                    <a:pt x="5928" y="702"/>
                  </a:lnTo>
                  <a:lnTo>
                    <a:pt x="6105" y="688"/>
                  </a:lnTo>
                  <a:lnTo>
                    <a:pt x="6228" y="640"/>
                  </a:lnTo>
                  <a:lnTo>
                    <a:pt x="6228" y="2418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421160" y="563400"/>
              <a:ext cx="297000" cy="31428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724280" y="925560"/>
              <a:ext cx="2242080" cy="870480"/>
            </a:xfrm>
            <a:custGeom>
              <a:avLst/>
              <a:gdLst/>
              <a:ahLst/>
              <a:rect l="0" t="0" r="r" b="b"/>
              <a:pathLst>
                <a:path w="6228" h="2418">
                  <a:moveTo>
                    <a:pt x="0" y="2418"/>
                  </a:moveTo>
                  <a:lnTo>
                    <a:pt x="423" y="2370"/>
                  </a:lnTo>
                  <a:lnTo>
                    <a:pt x="771" y="2312"/>
                  </a:lnTo>
                  <a:lnTo>
                    <a:pt x="1027" y="2255"/>
                  </a:lnTo>
                  <a:lnTo>
                    <a:pt x="1296" y="2202"/>
                  </a:lnTo>
                  <a:lnTo>
                    <a:pt x="1552" y="2175"/>
                  </a:lnTo>
                  <a:lnTo>
                    <a:pt x="1817" y="2184"/>
                  </a:lnTo>
                  <a:lnTo>
                    <a:pt x="2086" y="2202"/>
                  </a:lnTo>
                  <a:lnTo>
                    <a:pt x="2285" y="2127"/>
                  </a:lnTo>
                  <a:lnTo>
                    <a:pt x="1985" y="1942"/>
                  </a:lnTo>
                  <a:lnTo>
                    <a:pt x="1795" y="1814"/>
                  </a:lnTo>
                  <a:lnTo>
                    <a:pt x="1628" y="1681"/>
                  </a:lnTo>
                  <a:lnTo>
                    <a:pt x="1512" y="1535"/>
                  </a:lnTo>
                  <a:lnTo>
                    <a:pt x="1985" y="1689"/>
                  </a:lnTo>
                  <a:lnTo>
                    <a:pt x="2457" y="1845"/>
                  </a:lnTo>
                  <a:lnTo>
                    <a:pt x="2774" y="1924"/>
                  </a:lnTo>
                  <a:lnTo>
                    <a:pt x="3273" y="1981"/>
                  </a:lnTo>
                  <a:lnTo>
                    <a:pt x="3594" y="1981"/>
                  </a:lnTo>
                  <a:lnTo>
                    <a:pt x="3885" y="1959"/>
                  </a:lnTo>
                  <a:lnTo>
                    <a:pt x="4084" y="1884"/>
                  </a:lnTo>
                  <a:lnTo>
                    <a:pt x="4203" y="1795"/>
                  </a:lnTo>
                  <a:lnTo>
                    <a:pt x="3903" y="1716"/>
                  </a:lnTo>
                  <a:lnTo>
                    <a:pt x="3705" y="1610"/>
                  </a:lnTo>
                  <a:lnTo>
                    <a:pt x="3568" y="1495"/>
                  </a:lnTo>
                  <a:lnTo>
                    <a:pt x="3431" y="1359"/>
                  </a:lnTo>
                  <a:lnTo>
                    <a:pt x="3828" y="1473"/>
                  </a:lnTo>
                  <a:lnTo>
                    <a:pt x="4185" y="1535"/>
                  </a:lnTo>
                  <a:lnTo>
                    <a:pt x="4560" y="1570"/>
                  </a:lnTo>
                  <a:lnTo>
                    <a:pt x="4892" y="1553"/>
                  </a:lnTo>
                  <a:lnTo>
                    <a:pt x="5108" y="1473"/>
                  </a:lnTo>
                  <a:lnTo>
                    <a:pt x="5201" y="1376"/>
                  </a:lnTo>
                  <a:lnTo>
                    <a:pt x="4989" y="1284"/>
                  </a:lnTo>
                  <a:lnTo>
                    <a:pt x="4848" y="1187"/>
                  </a:lnTo>
                  <a:lnTo>
                    <a:pt x="4724" y="1076"/>
                  </a:lnTo>
                  <a:lnTo>
                    <a:pt x="4733" y="1010"/>
                  </a:lnTo>
                  <a:lnTo>
                    <a:pt x="5073" y="1085"/>
                  </a:lnTo>
                  <a:lnTo>
                    <a:pt x="5439" y="1125"/>
                  </a:lnTo>
                  <a:lnTo>
                    <a:pt x="5783" y="1116"/>
                  </a:lnTo>
                  <a:lnTo>
                    <a:pt x="6003" y="1076"/>
                  </a:lnTo>
                  <a:lnTo>
                    <a:pt x="6144" y="1010"/>
                  </a:lnTo>
                  <a:lnTo>
                    <a:pt x="6228" y="904"/>
                  </a:lnTo>
                  <a:lnTo>
                    <a:pt x="5699" y="825"/>
                  </a:lnTo>
                  <a:lnTo>
                    <a:pt x="4795" y="697"/>
                  </a:lnTo>
                  <a:lnTo>
                    <a:pt x="3828" y="524"/>
                  </a:lnTo>
                  <a:lnTo>
                    <a:pt x="2955" y="313"/>
                  </a:lnTo>
                  <a:lnTo>
                    <a:pt x="2144" y="114"/>
                  </a:lnTo>
                  <a:lnTo>
                    <a:pt x="1729" y="39"/>
                  </a:lnTo>
                  <a:lnTo>
                    <a:pt x="1384" y="0"/>
                  </a:lnTo>
                  <a:lnTo>
                    <a:pt x="1089" y="8"/>
                  </a:lnTo>
                  <a:lnTo>
                    <a:pt x="886" y="30"/>
                  </a:lnTo>
                  <a:lnTo>
                    <a:pt x="696" y="119"/>
                  </a:lnTo>
                  <a:lnTo>
                    <a:pt x="546" y="313"/>
                  </a:lnTo>
                  <a:lnTo>
                    <a:pt x="489" y="515"/>
                  </a:lnTo>
                  <a:lnTo>
                    <a:pt x="423" y="653"/>
                  </a:lnTo>
                  <a:lnTo>
                    <a:pt x="299" y="702"/>
                  </a:lnTo>
                  <a:lnTo>
                    <a:pt x="123" y="688"/>
                  </a:lnTo>
                  <a:lnTo>
                    <a:pt x="0" y="640"/>
                  </a:lnTo>
                  <a:lnTo>
                    <a:pt x="0" y="2418"/>
                  </a:lnTo>
                  <a:close/>
                </a:path>
              </a:pathLst>
            </a:custGeom>
            <a:solidFill>
              <a:srgbClr val="7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399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77156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