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29000"/>
            <a:ext cx="9131760" cy="3416760"/>
            <a:chOff x="0" y="3429000"/>
            <a:chExt cx="9131760" cy="3416760"/>
          </a:xfrm>
        </p:grpSpPr>
        <p:sp>
          <p:nvSpPr>
            <p:cNvPr id="1" name=""/>
            <p:cNvSpPr/>
            <p:nvPr/>
          </p:nvSpPr>
          <p:spPr>
            <a:xfrm>
              <a:off x="0" y="6423120"/>
              <a:ext cx="9131760" cy="422640"/>
            </a:xfrm>
            <a:custGeom>
              <a:avLst/>
              <a:gdLst/>
              <a:ahLst/>
              <a:rect l="0" t="0" r="r" b="b"/>
              <a:pathLst>
                <a:path w="25366" h="1174">
                  <a:moveTo>
                    <a:pt x="0" y="1174"/>
                  </a:moveTo>
                  <a:lnTo>
                    <a:pt x="25366" y="1174"/>
                  </a:lnTo>
                  <a:lnTo>
                    <a:pt x="25366" y="358"/>
                  </a:lnTo>
                  <a:lnTo>
                    <a:pt x="24550" y="490"/>
                  </a:lnTo>
                  <a:lnTo>
                    <a:pt x="22482" y="578"/>
                  </a:lnTo>
                  <a:lnTo>
                    <a:pt x="20273" y="446"/>
                  </a:lnTo>
                  <a:lnTo>
                    <a:pt x="18248" y="622"/>
                  </a:lnTo>
                  <a:lnTo>
                    <a:pt x="17260" y="622"/>
                  </a:lnTo>
                  <a:lnTo>
                    <a:pt x="16696" y="578"/>
                  </a:lnTo>
                  <a:lnTo>
                    <a:pt x="15236" y="358"/>
                  </a:lnTo>
                  <a:lnTo>
                    <a:pt x="13124" y="402"/>
                  </a:lnTo>
                  <a:lnTo>
                    <a:pt x="12039" y="88"/>
                  </a:lnTo>
                  <a:lnTo>
                    <a:pt x="10725" y="224"/>
                  </a:lnTo>
                  <a:lnTo>
                    <a:pt x="9781" y="358"/>
                  </a:lnTo>
                  <a:lnTo>
                    <a:pt x="9032" y="402"/>
                  </a:lnTo>
                  <a:lnTo>
                    <a:pt x="7713" y="314"/>
                  </a:lnTo>
                  <a:lnTo>
                    <a:pt x="6351" y="224"/>
                  </a:lnTo>
                  <a:lnTo>
                    <a:pt x="4982" y="88"/>
                  </a:lnTo>
                  <a:lnTo>
                    <a:pt x="3338" y="176"/>
                  </a:lnTo>
                  <a:lnTo>
                    <a:pt x="1693" y="314"/>
                  </a:lnTo>
                  <a:lnTo>
                    <a:pt x="564" y="44"/>
                  </a:lnTo>
                  <a:lnTo>
                    <a:pt x="0" y="0"/>
                  </a:lnTo>
                  <a:lnTo>
                    <a:pt x="0" y="1174"/>
                  </a:lnTo>
                  <a:close/>
                </a:path>
              </a:pathLst>
            </a:custGeom>
            <a:solidFill>
              <a:srgbClr val="00004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3429000"/>
              <a:ext cx="3400920" cy="3348360"/>
              <a:chOff x="0" y="3429000"/>
              <a:chExt cx="3400920" cy="33483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136440" y="3429000"/>
                <a:ext cx="3007080" cy="3348360"/>
                <a:chOff x="136440" y="3429000"/>
                <a:chExt cx="3007080" cy="334836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1004760" y="5342040"/>
                  <a:ext cx="289440" cy="1267200"/>
                  <a:chOff x="1004760" y="5342040"/>
                  <a:chExt cx="289440" cy="12672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1011240" y="5945040"/>
                    <a:ext cx="282960" cy="518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86" h="1439">
                        <a:moveTo>
                          <a:pt x="0" y="1439"/>
                        </a:moveTo>
                        <a:lnTo>
                          <a:pt x="116" y="1119"/>
                        </a:lnTo>
                        <a:lnTo>
                          <a:pt x="215" y="765"/>
                        </a:lnTo>
                        <a:lnTo>
                          <a:pt x="266" y="607"/>
                        </a:lnTo>
                        <a:lnTo>
                          <a:pt x="338" y="428"/>
                        </a:lnTo>
                        <a:lnTo>
                          <a:pt x="433" y="239"/>
                        </a:lnTo>
                        <a:lnTo>
                          <a:pt x="505" y="121"/>
                        </a:lnTo>
                        <a:lnTo>
                          <a:pt x="559" y="63"/>
                        </a:lnTo>
                        <a:lnTo>
                          <a:pt x="631" y="16"/>
                        </a:lnTo>
                        <a:lnTo>
                          <a:pt x="712" y="0"/>
                        </a:lnTo>
                        <a:lnTo>
                          <a:pt x="748" y="40"/>
                        </a:lnTo>
                        <a:lnTo>
                          <a:pt x="786" y="134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1004760" y="5342040"/>
                    <a:ext cx="192600" cy="12672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35" h="3520">
                        <a:moveTo>
                          <a:pt x="2" y="3520"/>
                        </a:moveTo>
                        <a:lnTo>
                          <a:pt x="0" y="3193"/>
                        </a:lnTo>
                        <a:lnTo>
                          <a:pt x="0" y="2944"/>
                        </a:lnTo>
                        <a:lnTo>
                          <a:pt x="11" y="2771"/>
                        </a:lnTo>
                        <a:lnTo>
                          <a:pt x="17" y="2558"/>
                        </a:lnTo>
                        <a:lnTo>
                          <a:pt x="17" y="2339"/>
                        </a:lnTo>
                        <a:lnTo>
                          <a:pt x="20" y="2156"/>
                        </a:lnTo>
                        <a:lnTo>
                          <a:pt x="35" y="1988"/>
                        </a:lnTo>
                        <a:lnTo>
                          <a:pt x="53" y="1694"/>
                        </a:lnTo>
                        <a:lnTo>
                          <a:pt x="80" y="1374"/>
                        </a:lnTo>
                        <a:lnTo>
                          <a:pt x="112" y="1050"/>
                        </a:lnTo>
                        <a:lnTo>
                          <a:pt x="140" y="701"/>
                        </a:lnTo>
                        <a:lnTo>
                          <a:pt x="164" y="495"/>
                        </a:lnTo>
                        <a:lnTo>
                          <a:pt x="181" y="414"/>
                        </a:lnTo>
                        <a:lnTo>
                          <a:pt x="232" y="273"/>
                        </a:lnTo>
                        <a:lnTo>
                          <a:pt x="276" y="172"/>
                        </a:lnTo>
                        <a:lnTo>
                          <a:pt x="330" y="91"/>
                        </a:lnTo>
                        <a:lnTo>
                          <a:pt x="383" y="20"/>
                        </a:lnTo>
                        <a:lnTo>
                          <a:pt x="422" y="0"/>
                        </a:lnTo>
                        <a:lnTo>
                          <a:pt x="473" y="0"/>
                        </a:lnTo>
                        <a:lnTo>
                          <a:pt x="517" y="26"/>
                        </a:lnTo>
                        <a:lnTo>
                          <a:pt x="535" y="60"/>
                        </a:lnTo>
                      </a:path>
                    </a:pathLst>
                  </a:custGeom>
                  <a:ln w="25560">
                    <a:solidFill>
                      <a:srgbClr val="00004c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"/>
                <p:cNvGrpSpPr/>
                <p:nvPr/>
              </p:nvGrpSpPr>
              <p:grpSpPr>
                <a:xfrm>
                  <a:off x="434880" y="5253120"/>
                  <a:ext cx="582840" cy="1367280"/>
                  <a:chOff x="434880" y="5253120"/>
                  <a:chExt cx="582840" cy="1367280"/>
                </a:xfrm>
              </p:grpSpPr>
              <p:sp>
                <p:nvSpPr>
                  <p:cNvPr id="8" name=""/>
                  <p:cNvSpPr/>
                  <p:nvPr/>
                </p:nvSpPr>
                <p:spPr>
                  <a:xfrm>
                    <a:off x="663480" y="6048360"/>
                    <a:ext cx="354240" cy="5720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984" h="1589">
                        <a:moveTo>
                          <a:pt x="984" y="1589"/>
                        </a:moveTo>
                        <a:lnTo>
                          <a:pt x="839" y="1437"/>
                        </a:lnTo>
                        <a:lnTo>
                          <a:pt x="782" y="1343"/>
                        </a:lnTo>
                        <a:lnTo>
                          <a:pt x="743" y="1269"/>
                        </a:lnTo>
                        <a:lnTo>
                          <a:pt x="525" y="533"/>
                        </a:lnTo>
                        <a:lnTo>
                          <a:pt x="407" y="299"/>
                        </a:lnTo>
                        <a:lnTo>
                          <a:pt x="316" y="151"/>
                        </a:lnTo>
                        <a:lnTo>
                          <a:pt x="250" y="80"/>
                        </a:lnTo>
                        <a:lnTo>
                          <a:pt x="168" y="23"/>
                        </a:lnTo>
                        <a:lnTo>
                          <a:pt x="90" y="0"/>
                        </a:lnTo>
                        <a:lnTo>
                          <a:pt x="30" y="13"/>
                        </a:lnTo>
                        <a:lnTo>
                          <a:pt x="0" y="107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434880" y="5253120"/>
                    <a:ext cx="540000" cy="1360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500" h="3780">
                        <a:moveTo>
                          <a:pt x="1500" y="3780"/>
                        </a:moveTo>
                        <a:lnTo>
                          <a:pt x="1458" y="3480"/>
                        </a:lnTo>
                        <a:lnTo>
                          <a:pt x="986" y="1428"/>
                        </a:lnTo>
                        <a:lnTo>
                          <a:pt x="777" y="796"/>
                        </a:lnTo>
                        <a:lnTo>
                          <a:pt x="713" y="585"/>
                        </a:lnTo>
                        <a:lnTo>
                          <a:pt x="633" y="346"/>
                        </a:lnTo>
                        <a:lnTo>
                          <a:pt x="540" y="164"/>
                        </a:lnTo>
                        <a:lnTo>
                          <a:pt x="453" y="70"/>
                        </a:lnTo>
                        <a:lnTo>
                          <a:pt x="343" y="3"/>
                        </a:lnTo>
                        <a:lnTo>
                          <a:pt x="232" y="0"/>
                        </a:lnTo>
                        <a:lnTo>
                          <a:pt x="158" y="73"/>
                        </a:lnTo>
                        <a:lnTo>
                          <a:pt x="0" y="423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"/>
                <p:cNvSpPr/>
                <p:nvPr/>
              </p:nvSpPr>
              <p:spPr>
                <a:xfrm>
                  <a:off x="666720" y="6046920"/>
                  <a:ext cx="127440" cy="568800"/>
                </a:xfrm>
                <a:custGeom>
                  <a:avLst/>
                  <a:gdLst/>
                  <a:ahLst/>
                  <a:rect l="0" t="0" r="r" b="b"/>
                  <a:pathLst>
                    <a:path fill="none" w="354" h="1580">
                      <a:moveTo>
                        <a:pt x="0" y="1580"/>
                      </a:moveTo>
                      <a:lnTo>
                        <a:pt x="52" y="1229"/>
                      </a:lnTo>
                      <a:lnTo>
                        <a:pt x="97" y="840"/>
                      </a:lnTo>
                      <a:lnTo>
                        <a:pt x="120" y="666"/>
                      </a:lnTo>
                      <a:lnTo>
                        <a:pt x="152" y="470"/>
                      </a:lnTo>
                      <a:lnTo>
                        <a:pt x="195" y="262"/>
                      </a:lnTo>
                      <a:lnTo>
                        <a:pt x="227" y="133"/>
                      </a:lnTo>
                      <a:lnTo>
                        <a:pt x="251" y="70"/>
                      </a:lnTo>
                      <a:lnTo>
                        <a:pt x="285" y="18"/>
                      </a:lnTo>
                      <a:lnTo>
                        <a:pt x="321" y="0"/>
                      </a:lnTo>
                      <a:lnTo>
                        <a:pt x="337" y="44"/>
                      </a:lnTo>
                      <a:lnTo>
                        <a:pt x="354" y="147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662040" y="5389560"/>
                  <a:ext cx="87840" cy="1387800"/>
                </a:xfrm>
                <a:custGeom>
                  <a:avLst/>
                  <a:gdLst/>
                  <a:ahLst/>
                  <a:rect l="0" t="0" r="r" b="b"/>
                  <a:pathLst>
                    <a:path fill="none" w="244" h="3855">
                      <a:moveTo>
                        <a:pt x="1" y="3855"/>
                      </a:moveTo>
                      <a:lnTo>
                        <a:pt x="0" y="3496"/>
                      </a:lnTo>
                      <a:lnTo>
                        <a:pt x="0" y="3223"/>
                      </a:lnTo>
                      <a:lnTo>
                        <a:pt x="5" y="3034"/>
                      </a:lnTo>
                      <a:lnTo>
                        <a:pt x="8" y="2801"/>
                      </a:lnTo>
                      <a:lnTo>
                        <a:pt x="8" y="2561"/>
                      </a:lnTo>
                      <a:lnTo>
                        <a:pt x="9" y="2362"/>
                      </a:lnTo>
                      <a:lnTo>
                        <a:pt x="16" y="2177"/>
                      </a:lnTo>
                      <a:lnTo>
                        <a:pt x="24" y="1854"/>
                      </a:lnTo>
                      <a:lnTo>
                        <a:pt x="36" y="1503"/>
                      </a:lnTo>
                      <a:lnTo>
                        <a:pt x="51" y="1149"/>
                      </a:lnTo>
                      <a:lnTo>
                        <a:pt x="64" y="768"/>
                      </a:lnTo>
                      <a:lnTo>
                        <a:pt x="75" y="543"/>
                      </a:lnTo>
                      <a:lnTo>
                        <a:pt x="83" y="454"/>
                      </a:lnTo>
                      <a:lnTo>
                        <a:pt x="106" y="299"/>
                      </a:lnTo>
                      <a:lnTo>
                        <a:pt x="126" y="188"/>
                      </a:lnTo>
                      <a:lnTo>
                        <a:pt x="150" y="99"/>
                      </a:lnTo>
                      <a:lnTo>
                        <a:pt x="174" y="22"/>
                      </a:lnTo>
                      <a:lnTo>
                        <a:pt x="193" y="0"/>
                      </a:lnTo>
                      <a:lnTo>
                        <a:pt x="216" y="0"/>
                      </a:lnTo>
                      <a:lnTo>
                        <a:pt x="236" y="29"/>
                      </a:lnTo>
                      <a:lnTo>
                        <a:pt x="244" y="66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36440" y="4102200"/>
                  <a:ext cx="302040" cy="2381760"/>
                </a:xfrm>
                <a:custGeom>
                  <a:avLst/>
                  <a:gdLst/>
                  <a:ahLst/>
                  <a:rect l="0" t="0" r="r" b="b"/>
                  <a:pathLst>
                    <a:path fill="none" w="839" h="6616">
                      <a:moveTo>
                        <a:pt x="839" y="6616"/>
                      </a:moveTo>
                      <a:lnTo>
                        <a:pt x="816" y="6090"/>
                      </a:lnTo>
                      <a:lnTo>
                        <a:pt x="549" y="2504"/>
                      </a:lnTo>
                      <a:lnTo>
                        <a:pt x="431" y="1394"/>
                      </a:lnTo>
                      <a:lnTo>
                        <a:pt x="400" y="1025"/>
                      </a:lnTo>
                      <a:lnTo>
                        <a:pt x="353" y="609"/>
                      </a:lnTo>
                      <a:lnTo>
                        <a:pt x="306" y="286"/>
                      </a:lnTo>
                      <a:lnTo>
                        <a:pt x="251" y="120"/>
                      </a:lnTo>
                      <a:lnTo>
                        <a:pt x="195" y="9"/>
                      </a:lnTo>
                      <a:lnTo>
                        <a:pt x="133" y="0"/>
                      </a:lnTo>
                      <a:lnTo>
                        <a:pt x="86" y="129"/>
                      </a:lnTo>
                      <a:lnTo>
                        <a:pt x="0" y="739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"/>
                <p:cNvGrpSpPr/>
                <p:nvPr/>
              </p:nvGrpSpPr>
              <p:grpSpPr>
                <a:xfrm>
                  <a:off x="325440" y="3429000"/>
                  <a:ext cx="327240" cy="3319920"/>
                  <a:chOff x="325440" y="3429000"/>
                  <a:chExt cx="327240" cy="3319920"/>
                </a:xfrm>
              </p:grpSpPr>
              <p:sp>
                <p:nvSpPr>
                  <p:cNvPr id="14" name=""/>
                  <p:cNvSpPr/>
                  <p:nvPr/>
                </p:nvSpPr>
                <p:spPr>
                  <a:xfrm>
                    <a:off x="325440" y="5911920"/>
                    <a:ext cx="198720" cy="8370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52" h="2325">
                        <a:moveTo>
                          <a:pt x="552" y="2325"/>
                        </a:moveTo>
                        <a:lnTo>
                          <a:pt x="474" y="2102"/>
                        </a:lnTo>
                        <a:lnTo>
                          <a:pt x="435" y="1963"/>
                        </a:lnTo>
                        <a:lnTo>
                          <a:pt x="420" y="1854"/>
                        </a:lnTo>
                        <a:lnTo>
                          <a:pt x="296" y="780"/>
                        </a:lnTo>
                        <a:lnTo>
                          <a:pt x="225" y="440"/>
                        </a:lnTo>
                        <a:lnTo>
                          <a:pt x="178" y="223"/>
                        </a:lnTo>
                        <a:lnTo>
                          <a:pt x="139" y="115"/>
                        </a:lnTo>
                        <a:lnTo>
                          <a:pt x="93" y="30"/>
                        </a:lnTo>
                        <a:lnTo>
                          <a:pt x="54" y="0"/>
                        </a:lnTo>
                        <a:lnTo>
                          <a:pt x="15" y="23"/>
                        </a:lnTo>
                        <a:lnTo>
                          <a:pt x="0" y="154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72960" y="3429000"/>
                    <a:ext cx="279720" cy="30675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77" h="8521">
                        <a:moveTo>
                          <a:pt x="0" y="8521"/>
                        </a:moveTo>
                        <a:lnTo>
                          <a:pt x="274" y="5364"/>
                        </a:lnTo>
                        <a:lnTo>
                          <a:pt x="305" y="4855"/>
                        </a:lnTo>
                        <a:lnTo>
                          <a:pt x="376" y="4036"/>
                        </a:lnTo>
                        <a:lnTo>
                          <a:pt x="440" y="3180"/>
                        </a:lnTo>
                        <a:lnTo>
                          <a:pt x="479" y="2717"/>
                        </a:lnTo>
                        <a:lnTo>
                          <a:pt x="494" y="2223"/>
                        </a:lnTo>
                        <a:lnTo>
                          <a:pt x="518" y="1759"/>
                        </a:lnTo>
                        <a:lnTo>
                          <a:pt x="565" y="1219"/>
                        </a:lnTo>
                        <a:lnTo>
                          <a:pt x="604" y="725"/>
                        </a:lnTo>
                        <a:lnTo>
                          <a:pt x="667" y="293"/>
                        </a:lnTo>
                        <a:lnTo>
                          <a:pt x="706" y="23"/>
                        </a:lnTo>
                        <a:lnTo>
                          <a:pt x="737" y="0"/>
                        </a:lnTo>
                        <a:lnTo>
                          <a:pt x="761" y="138"/>
                        </a:lnTo>
                        <a:lnTo>
                          <a:pt x="777" y="617"/>
                        </a:lnTo>
                      </a:path>
                    </a:pathLst>
                  </a:custGeom>
                  <a:ln w="25560">
                    <a:solidFill>
                      <a:srgbClr val="00004c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422280" y="4805280"/>
                    <a:ext cx="224280" cy="11307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23" h="3141">
                        <a:moveTo>
                          <a:pt x="0" y="3141"/>
                        </a:moveTo>
                        <a:lnTo>
                          <a:pt x="118" y="2462"/>
                        </a:lnTo>
                        <a:lnTo>
                          <a:pt x="189" y="1675"/>
                        </a:lnTo>
                        <a:lnTo>
                          <a:pt x="229" y="1327"/>
                        </a:lnTo>
                        <a:lnTo>
                          <a:pt x="284" y="926"/>
                        </a:lnTo>
                        <a:lnTo>
                          <a:pt x="355" y="509"/>
                        </a:lnTo>
                        <a:lnTo>
                          <a:pt x="410" y="246"/>
                        </a:lnTo>
                        <a:lnTo>
                          <a:pt x="449" y="115"/>
                        </a:lnTo>
                        <a:lnTo>
                          <a:pt x="505" y="23"/>
                        </a:lnTo>
                        <a:lnTo>
                          <a:pt x="568" y="0"/>
                        </a:lnTo>
                        <a:lnTo>
                          <a:pt x="600" y="69"/>
                        </a:lnTo>
                        <a:lnTo>
                          <a:pt x="623" y="277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6880" y="5207040"/>
                    <a:ext cx="103680" cy="5511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8" h="1531">
                        <a:moveTo>
                          <a:pt x="0" y="0"/>
                        </a:moveTo>
                        <a:lnTo>
                          <a:pt x="46" y="100"/>
                        </a:lnTo>
                        <a:lnTo>
                          <a:pt x="109" y="208"/>
                        </a:lnTo>
                        <a:lnTo>
                          <a:pt x="163" y="425"/>
                        </a:lnTo>
                        <a:lnTo>
                          <a:pt x="210" y="610"/>
                        </a:lnTo>
                        <a:lnTo>
                          <a:pt x="249" y="797"/>
                        </a:lnTo>
                        <a:lnTo>
                          <a:pt x="265" y="959"/>
                        </a:lnTo>
                        <a:lnTo>
                          <a:pt x="280" y="1113"/>
                        </a:lnTo>
                        <a:lnTo>
                          <a:pt x="288" y="1322"/>
                        </a:lnTo>
                        <a:lnTo>
                          <a:pt x="288" y="1531"/>
                        </a:lnTo>
                      </a:path>
                    </a:pathLst>
                  </a:custGeom>
                  <a:ln w="12600">
                    <a:solidFill>
                      <a:srgbClr val="00004c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"/>
                <p:cNvSpPr/>
                <p:nvPr/>
              </p:nvSpPr>
              <p:spPr>
                <a:xfrm>
                  <a:off x="1603440" y="6280200"/>
                  <a:ext cx="352800" cy="279720"/>
                </a:xfrm>
                <a:custGeom>
                  <a:avLst/>
                  <a:gdLst/>
                  <a:ahLst/>
                  <a:rect l="0" t="0" r="r" b="b"/>
                  <a:pathLst>
                    <a:path fill="none" w="980" h="777">
                      <a:moveTo>
                        <a:pt x="980" y="777"/>
                      </a:moveTo>
                      <a:lnTo>
                        <a:pt x="836" y="702"/>
                      </a:lnTo>
                      <a:lnTo>
                        <a:pt x="779" y="656"/>
                      </a:lnTo>
                      <a:lnTo>
                        <a:pt x="740" y="620"/>
                      </a:lnTo>
                      <a:lnTo>
                        <a:pt x="523" y="260"/>
                      </a:lnTo>
                      <a:lnTo>
                        <a:pt x="406" y="146"/>
                      </a:lnTo>
                      <a:lnTo>
                        <a:pt x="316" y="74"/>
                      </a:lnTo>
                      <a:lnTo>
                        <a:pt x="250" y="39"/>
                      </a:lnTo>
                      <a:lnTo>
                        <a:pt x="168" y="11"/>
                      </a:lnTo>
                      <a:lnTo>
                        <a:pt x="90" y="0"/>
                      </a:lnTo>
                      <a:lnTo>
                        <a:pt x="30" y="6"/>
                      </a:lnTo>
                      <a:lnTo>
                        <a:pt x="0" y="52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673360" y="6173640"/>
                  <a:ext cx="470160" cy="302040"/>
                </a:xfrm>
                <a:custGeom>
                  <a:avLst/>
                  <a:gdLst/>
                  <a:ahLst/>
                  <a:rect l="0" t="0" r="r" b="b"/>
                  <a:pathLst>
                    <a:path fill="none" w="1306" h="839">
                      <a:moveTo>
                        <a:pt x="0" y="839"/>
                      </a:moveTo>
                      <a:lnTo>
                        <a:pt x="193" y="653"/>
                      </a:lnTo>
                      <a:lnTo>
                        <a:pt x="357" y="446"/>
                      </a:lnTo>
                      <a:lnTo>
                        <a:pt x="441" y="354"/>
                      </a:lnTo>
                      <a:lnTo>
                        <a:pt x="560" y="250"/>
                      </a:lnTo>
                      <a:lnTo>
                        <a:pt x="720" y="139"/>
                      </a:lnTo>
                      <a:lnTo>
                        <a:pt x="839" y="70"/>
                      </a:lnTo>
                      <a:lnTo>
                        <a:pt x="929" y="37"/>
                      </a:lnTo>
                      <a:lnTo>
                        <a:pt x="1048" y="9"/>
                      </a:lnTo>
                      <a:lnTo>
                        <a:pt x="1182" y="0"/>
                      </a:lnTo>
                      <a:lnTo>
                        <a:pt x="1241" y="23"/>
                      </a:lnTo>
                      <a:lnTo>
                        <a:pt x="1306" y="78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657520" y="5816520"/>
                  <a:ext cx="322560" cy="748080"/>
                </a:xfrm>
                <a:custGeom>
                  <a:avLst/>
                  <a:gdLst/>
                  <a:ahLst/>
                  <a:rect l="0" t="0" r="r" b="b"/>
                  <a:pathLst>
                    <a:path fill="none" w="896" h="2078">
                      <a:moveTo>
                        <a:pt x="4" y="2078"/>
                      </a:moveTo>
                      <a:lnTo>
                        <a:pt x="0" y="1885"/>
                      </a:lnTo>
                      <a:lnTo>
                        <a:pt x="0" y="1738"/>
                      </a:lnTo>
                      <a:lnTo>
                        <a:pt x="19" y="1636"/>
                      </a:lnTo>
                      <a:lnTo>
                        <a:pt x="29" y="1510"/>
                      </a:lnTo>
                      <a:lnTo>
                        <a:pt x="29" y="1381"/>
                      </a:lnTo>
                      <a:lnTo>
                        <a:pt x="34" y="1273"/>
                      </a:lnTo>
                      <a:lnTo>
                        <a:pt x="59" y="1173"/>
                      </a:lnTo>
                      <a:lnTo>
                        <a:pt x="89" y="1000"/>
                      </a:lnTo>
                      <a:lnTo>
                        <a:pt x="134" y="811"/>
                      </a:lnTo>
                      <a:lnTo>
                        <a:pt x="188" y="620"/>
                      </a:lnTo>
                      <a:lnTo>
                        <a:pt x="233" y="414"/>
                      </a:lnTo>
                      <a:lnTo>
                        <a:pt x="273" y="292"/>
                      </a:lnTo>
                      <a:lnTo>
                        <a:pt x="303" y="244"/>
                      </a:lnTo>
                      <a:lnTo>
                        <a:pt x="387" y="161"/>
                      </a:lnTo>
                      <a:lnTo>
                        <a:pt x="463" y="101"/>
                      </a:lnTo>
                      <a:lnTo>
                        <a:pt x="553" y="53"/>
                      </a:lnTo>
                      <a:lnTo>
                        <a:pt x="642" y="11"/>
                      </a:lnTo>
                      <a:lnTo>
                        <a:pt x="707" y="0"/>
                      </a:lnTo>
                      <a:lnTo>
                        <a:pt x="791" y="0"/>
                      </a:lnTo>
                      <a:lnTo>
                        <a:pt x="866" y="15"/>
                      </a:lnTo>
                      <a:lnTo>
                        <a:pt x="896" y="35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442880" y="5999040"/>
                  <a:ext cx="562320" cy="676800"/>
                </a:xfrm>
                <a:custGeom>
                  <a:avLst/>
                  <a:gdLst/>
                  <a:ahLst/>
                  <a:rect l="0" t="0" r="r" b="b"/>
                  <a:pathLst>
                    <a:path fill="none" w="1562" h="1880">
                      <a:moveTo>
                        <a:pt x="1562" y="1880"/>
                      </a:moveTo>
                      <a:lnTo>
                        <a:pt x="1518" y="1731"/>
                      </a:lnTo>
                      <a:lnTo>
                        <a:pt x="1027" y="711"/>
                      </a:lnTo>
                      <a:lnTo>
                        <a:pt x="809" y="396"/>
                      </a:lnTo>
                      <a:lnTo>
                        <a:pt x="743" y="290"/>
                      </a:lnTo>
                      <a:lnTo>
                        <a:pt x="659" y="172"/>
                      </a:lnTo>
                      <a:lnTo>
                        <a:pt x="562" y="81"/>
                      </a:lnTo>
                      <a:lnTo>
                        <a:pt x="472" y="35"/>
                      </a:lnTo>
                      <a:lnTo>
                        <a:pt x="357" y="1"/>
                      </a:lnTo>
                      <a:lnTo>
                        <a:pt x="242" y="0"/>
                      </a:lnTo>
                      <a:lnTo>
                        <a:pt x="164" y="36"/>
                      </a:lnTo>
                      <a:lnTo>
                        <a:pt x="0" y="210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133720" y="5516640"/>
                  <a:ext cx="510120" cy="1040040"/>
                </a:xfrm>
                <a:custGeom>
                  <a:avLst/>
                  <a:gdLst/>
                  <a:ahLst/>
                  <a:rect l="0" t="0" r="r" b="b"/>
                  <a:pathLst>
                    <a:path fill="none" w="1417" h="2889">
                      <a:moveTo>
                        <a:pt x="0" y="2889"/>
                      </a:moveTo>
                      <a:lnTo>
                        <a:pt x="506" y="1819"/>
                      </a:lnTo>
                      <a:lnTo>
                        <a:pt x="565" y="1646"/>
                      </a:lnTo>
                      <a:lnTo>
                        <a:pt x="690" y="1368"/>
                      </a:lnTo>
                      <a:lnTo>
                        <a:pt x="808" y="1078"/>
                      </a:lnTo>
                      <a:lnTo>
                        <a:pt x="867" y="920"/>
                      </a:lnTo>
                      <a:lnTo>
                        <a:pt x="902" y="753"/>
                      </a:lnTo>
                      <a:lnTo>
                        <a:pt x="948" y="596"/>
                      </a:lnTo>
                      <a:lnTo>
                        <a:pt x="1023" y="413"/>
                      </a:lnTo>
                      <a:lnTo>
                        <a:pt x="1105" y="245"/>
                      </a:lnTo>
                      <a:lnTo>
                        <a:pt x="1211" y="98"/>
                      </a:lnTo>
                      <a:lnTo>
                        <a:pt x="1292" y="6"/>
                      </a:lnTo>
                      <a:lnTo>
                        <a:pt x="1342" y="0"/>
                      </a:lnTo>
                      <a:lnTo>
                        <a:pt x="1389" y="46"/>
                      </a:lnTo>
                      <a:lnTo>
                        <a:pt x="1417" y="208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2222640" y="5979960"/>
                  <a:ext cx="408240" cy="384480"/>
                </a:xfrm>
                <a:custGeom>
                  <a:avLst/>
                  <a:gdLst/>
                  <a:ahLst/>
                  <a:rect l="0" t="0" r="r" b="b"/>
                  <a:pathLst>
                    <a:path fill="none" w="1134" h="1068">
                      <a:moveTo>
                        <a:pt x="0" y="1068"/>
                      </a:moveTo>
                      <a:lnTo>
                        <a:pt x="215" y="837"/>
                      </a:lnTo>
                      <a:lnTo>
                        <a:pt x="349" y="570"/>
                      </a:lnTo>
                      <a:lnTo>
                        <a:pt x="421" y="450"/>
                      </a:lnTo>
                      <a:lnTo>
                        <a:pt x="518" y="313"/>
                      </a:lnTo>
                      <a:lnTo>
                        <a:pt x="650" y="172"/>
                      </a:lnTo>
                      <a:lnTo>
                        <a:pt x="747" y="85"/>
                      </a:lnTo>
                      <a:lnTo>
                        <a:pt x="822" y="40"/>
                      </a:lnTo>
                      <a:lnTo>
                        <a:pt x="922" y="6"/>
                      </a:lnTo>
                      <a:lnTo>
                        <a:pt x="1034" y="0"/>
                      </a:lnTo>
                      <a:lnTo>
                        <a:pt x="1084" y="23"/>
                      </a:lnTo>
                      <a:lnTo>
                        <a:pt x="1134" y="93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2049480" y="6119640"/>
                  <a:ext cx="195480" cy="186120"/>
                </a:xfrm>
                <a:custGeom>
                  <a:avLst/>
                  <a:gdLst/>
                  <a:ahLst/>
                  <a:rect l="0" t="0" r="r" b="b"/>
                  <a:pathLst>
                    <a:path fill="none" w="543" h="517">
                      <a:moveTo>
                        <a:pt x="0" y="0"/>
                      </a:moveTo>
                      <a:lnTo>
                        <a:pt x="90" y="33"/>
                      </a:lnTo>
                      <a:lnTo>
                        <a:pt x="202" y="71"/>
                      </a:lnTo>
                      <a:lnTo>
                        <a:pt x="303" y="144"/>
                      </a:lnTo>
                      <a:lnTo>
                        <a:pt x="393" y="205"/>
                      </a:lnTo>
                      <a:lnTo>
                        <a:pt x="468" y="270"/>
                      </a:lnTo>
                      <a:lnTo>
                        <a:pt x="505" y="323"/>
                      </a:lnTo>
                      <a:lnTo>
                        <a:pt x="530" y="375"/>
                      </a:lnTo>
                      <a:lnTo>
                        <a:pt x="543" y="446"/>
                      </a:lnTo>
                      <a:lnTo>
                        <a:pt x="543" y="517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906480" y="4486320"/>
                  <a:ext cx="487800" cy="2100600"/>
                </a:xfrm>
                <a:custGeom>
                  <a:avLst/>
                  <a:gdLst/>
                  <a:ahLst/>
                  <a:rect l="0" t="0" r="r" b="b"/>
                  <a:pathLst>
                    <a:path fill="none" w="1355" h="5835">
                      <a:moveTo>
                        <a:pt x="0" y="5835"/>
                      </a:moveTo>
                      <a:lnTo>
                        <a:pt x="484" y="3673"/>
                      </a:lnTo>
                      <a:lnTo>
                        <a:pt x="540" y="3323"/>
                      </a:lnTo>
                      <a:lnTo>
                        <a:pt x="660" y="2763"/>
                      </a:lnTo>
                      <a:lnTo>
                        <a:pt x="773" y="2178"/>
                      </a:lnTo>
                      <a:lnTo>
                        <a:pt x="829" y="1858"/>
                      </a:lnTo>
                      <a:lnTo>
                        <a:pt x="862" y="1521"/>
                      </a:lnTo>
                      <a:lnTo>
                        <a:pt x="907" y="1205"/>
                      </a:lnTo>
                      <a:lnTo>
                        <a:pt x="979" y="834"/>
                      </a:lnTo>
                      <a:lnTo>
                        <a:pt x="1057" y="494"/>
                      </a:lnTo>
                      <a:lnTo>
                        <a:pt x="1158" y="198"/>
                      </a:lnTo>
                      <a:lnTo>
                        <a:pt x="1236" y="13"/>
                      </a:lnTo>
                      <a:lnTo>
                        <a:pt x="1284" y="0"/>
                      </a:lnTo>
                      <a:lnTo>
                        <a:pt x="1328" y="94"/>
                      </a:lnTo>
                      <a:lnTo>
                        <a:pt x="1355" y="420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993600" y="5424480"/>
                  <a:ext cx="386280" cy="779760"/>
                </a:xfrm>
                <a:custGeom>
                  <a:avLst/>
                  <a:gdLst/>
                  <a:ahLst/>
                  <a:rect l="0" t="0" r="r" b="b"/>
                  <a:pathLst>
                    <a:path fill="none" w="1073" h="2166">
                      <a:moveTo>
                        <a:pt x="0" y="2166"/>
                      </a:moveTo>
                      <a:lnTo>
                        <a:pt x="203" y="1698"/>
                      </a:lnTo>
                      <a:lnTo>
                        <a:pt x="331" y="1156"/>
                      </a:lnTo>
                      <a:lnTo>
                        <a:pt x="399" y="914"/>
                      </a:lnTo>
                      <a:lnTo>
                        <a:pt x="491" y="637"/>
                      </a:lnTo>
                      <a:lnTo>
                        <a:pt x="615" y="349"/>
                      </a:lnTo>
                      <a:lnTo>
                        <a:pt x="706" y="172"/>
                      </a:lnTo>
                      <a:lnTo>
                        <a:pt x="777" y="81"/>
                      </a:lnTo>
                      <a:lnTo>
                        <a:pt x="872" y="13"/>
                      </a:lnTo>
                      <a:lnTo>
                        <a:pt x="979" y="0"/>
                      </a:lnTo>
                      <a:lnTo>
                        <a:pt x="1026" y="47"/>
                      </a:lnTo>
                      <a:lnTo>
                        <a:pt x="1073" y="189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28720" y="5707080"/>
                  <a:ext cx="189360" cy="375120"/>
                </a:xfrm>
                <a:custGeom>
                  <a:avLst/>
                  <a:gdLst/>
                  <a:ahLst/>
                  <a:rect l="0" t="0" r="r" b="b"/>
                  <a:pathLst>
                    <a:path fill="none" w="526" h="1042">
                      <a:moveTo>
                        <a:pt x="0" y="0"/>
                      </a:moveTo>
                      <a:lnTo>
                        <a:pt x="87" y="67"/>
                      </a:lnTo>
                      <a:lnTo>
                        <a:pt x="197" y="144"/>
                      </a:lnTo>
                      <a:lnTo>
                        <a:pt x="293" y="289"/>
                      </a:lnTo>
                      <a:lnTo>
                        <a:pt x="380" y="413"/>
                      </a:lnTo>
                      <a:lnTo>
                        <a:pt x="454" y="544"/>
                      </a:lnTo>
                      <a:lnTo>
                        <a:pt x="490" y="652"/>
                      </a:lnTo>
                      <a:lnTo>
                        <a:pt x="514" y="756"/>
                      </a:lnTo>
                      <a:lnTo>
                        <a:pt x="526" y="898"/>
                      </a:lnTo>
                      <a:lnTo>
                        <a:pt x="526" y="1042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1890720" y="4919760"/>
                  <a:ext cx="267120" cy="1748160"/>
                </a:xfrm>
                <a:custGeom>
                  <a:avLst/>
                  <a:gdLst/>
                  <a:ahLst/>
                  <a:rect l="0" t="0" r="r" b="b"/>
                  <a:pathLst>
                    <a:path fill="none" w="742" h="4856">
                      <a:moveTo>
                        <a:pt x="738" y="4856"/>
                      </a:moveTo>
                      <a:lnTo>
                        <a:pt x="742" y="4154"/>
                      </a:lnTo>
                      <a:lnTo>
                        <a:pt x="742" y="3831"/>
                      </a:lnTo>
                      <a:lnTo>
                        <a:pt x="726" y="3603"/>
                      </a:lnTo>
                      <a:lnTo>
                        <a:pt x="717" y="3330"/>
                      </a:lnTo>
                      <a:lnTo>
                        <a:pt x="719" y="3044"/>
                      </a:lnTo>
                      <a:lnTo>
                        <a:pt x="712" y="2804"/>
                      </a:lnTo>
                      <a:lnTo>
                        <a:pt x="693" y="2588"/>
                      </a:lnTo>
                      <a:lnTo>
                        <a:pt x="668" y="2204"/>
                      </a:lnTo>
                      <a:lnTo>
                        <a:pt x="632" y="1788"/>
                      </a:lnTo>
                      <a:lnTo>
                        <a:pt x="588" y="1365"/>
                      </a:lnTo>
                      <a:lnTo>
                        <a:pt x="547" y="914"/>
                      </a:lnTo>
                      <a:lnTo>
                        <a:pt x="517" y="643"/>
                      </a:lnTo>
                      <a:lnTo>
                        <a:pt x="489" y="538"/>
                      </a:lnTo>
                      <a:lnTo>
                        <a:pt x="419" y="355"/>
                      </a:lnTo>
                      <a:lnTo>
                        <a:pt x="358" y="222"/>
                      </a:lnTo>
                      <a:lnTo>
                        <a:pt x="286" y="115"/>
                      </a:lnTo>
                      <a:lnTo>
                        <a:pt x="211" y="27"/>
                      </a:lnTo>
                      <a:lnTo>
                        <a:pt x="158" y="2"/>
                      </a:lnTo>
                      <a:lnTo>
                        <a:pt x="86" y="0"/>
                      </a:lnTo>
                      <a:lnTo>
                        <a:pt x="30" y="30"/>
                      </a:lnTo>
                      <a:lnTo>
                        <a:pt x="0" y="80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" name=""/>
              <p:cNvGrpSpPr/>
              <p:nvPr/>
            </p:nvGrpSpPr>
            <p:grpSpPr>
              <a:xfrm>
                <a:off x="0" y="3462480"/>
                <a:ext cx="3400920" cy="3287880"/>
                <a:chOff x="0" y="3462480"/>
                <a:chExt cx="3400920" cy="3287880"/>
              </a:xfrm>
            </p:grpSpPr>
            <p:sp>
              <p:nvSpPr>
                <p:cNvPr id="30" name=""/>
                <p:cNvSpPr/>
                <p:nvPr/>
              </p:nvSpPr>
              <p:spPr>
                <a:xfrm>
                  <a:off x="611280" y="5823000"/>
                  <a:ext cx="59040" cy="484560"/>
                </a:xfrm>
                <a:custGeom>
                  <a:avLst/>
                  <a:gdLst/>
                  <a:ahLst/>
                  <a:rect l="0" t="0" r="r" b="b"/>
                  <a:pathLst>
                    <a:path w="164" h="1346">
                      <a:moveTo>
                        <a:pt x="160" y="210"/>
                      </a:moveTo>
                      <a:lnTo>
                        <a:pt x="126" y="0"/>
                      </a:lnTo>
                      <a:lnTo>
                        <a:pt x="103" y="3"/>
                      </a:lnTo>
                      <a:lnTo>
                        <a:pt x="86" y="14"/>
                      </a:lnTo>
                      <a:lnTo>
                        <a:pt x="70" y="72"/>
                      </a:lnTo>
                      <a:lnTo>
                        <a:pt x="32" y="247"/>
                      </a:lnTo>
                      <a:lnTo>
                        <a:pt x="20" y="323"/>
                      </a:lnTo>
                      <a:lnTo>
                        <a:pt x="12" y="400"/>
                      </a:lnTo>
                      <a:lnTo>
                        <a:pt x="2" y="633"/>
                      </a:lnTo>
                      <a:lnTo>
                        <a:pt x="0" y="702"/>
                      </a:lnTo>
                      <a:lnTo>
                        <a:pt x="2" y="789"/>
                      </a:lnTo>
                      <a:lnTo>
                        <a:pt x="8" y="884"/>
                      </a:lnTo>
                      <a:lnTo>
                        <a:pt x="23" y="1027"/>
                      </a:lnTo>
                      <a:lnTo>
                        <a:pt x="36" y="1121"/>
                      </a:lnTo>
                      <a:lnTo>
                        <a:pt x="55" y="1223"/>
                      </a:lnTo>
                      <a:lnTo>
                        <a:pt x="92" y="1346"/>
                      </a:lnTo>
                      <a:lnTo>
                        <a:pt x="72" y="1190"/>
                      </a:lnTo>
                      <a:lnTo>
                        <a:pt x="57" y="1048"/>
                      </a:lnTo>
                      <a:lnTo>
                        <a:pt x="48" y="917"/>
                      </a:lnTo>
                      <a:lnTo>
                        <a:pt x="51" y="789"/>
                      </a:lnTo>
                      <a:lnTo>
                        <a:pt x="55" y="702"/>
                      </a:lnTo>
                      <a:lnTo>
                        <a:pt x="48" y="593"/>
                      </a:lnTo>
                      <a:lnTo>
                        <a:pt x="45" y="502"/>
                      </a:lnTo>
                      <a:lnTo>
                        <a:pt x="60" y="323"/>
                      </a:lnTo>
                      <a:lnTo>
                        <a:pt x="62" y="229"/>
                      </a:lnTo>
                      <a:lnTo>
                        <a:pt x="76" y="152"/>
                      </a:lnTo>
                      <a:lnTo>
                        <a:pt x="103" y="54"/>
                      </a:lnTo>
                      <a:lnTo>
                        <a:pt x="117" y="130"/>
                      </a:lnTo>
                      <a:lnTo>
                        <a:pt x="164" y="254"/>
                      </a:lnTo>
                      <a:lnTo>
                        <a:pt x="160" y="21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" name=""/>
                <p:cNvGrpSpPr/>
                <p:nvPr/>
              </p:nvGrpSpPr>
              <p:grpSpPr>
                <a:xfrm>
                  <a:off x="892080" y="5348160"/>
                  <a:ext cx="552600" cy="1080000"/>
                  <a:chOff x="892080" y="5348160"/>
                  <a:chExt cx="552600" cy="1080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1279440" y="5981760"/>
                    <a:ext cx="81360" cy="4464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1240">
                        <a:moveTo>
                          <a:pt x="44" y="0"/>
                        </a:moveTo>
                        <a:lnTo>
                          <a:pt x="90" y="93"/>
                        </a:lnTo>
                        <a:lnTo>
                          <a:pt x="135" y="243"/>
                        </a:lnTo>
                        <a:lnTo>
                          <a:pt x="181" y="449"/>
                        </a:lnTo>
                        <a:lnTo>
                          <a:pt x="226" y="713"/>
                        </a:lnTo>
                        <a:lnTo>
                          <a:pt x="226" y="993"/>
                        </a:lnTo>
                        <a:lnTo>
                          <a:pt x="204" y="1240"/>
                        </a:lnTo>
                        <a:lnTo>
                          <a:pt x="181" y="1240"/>
                        </a:lnTo>
                        <a:lnTo>
                          <a:pt x="204" y="993"/>
                        </a:lnTo>
                        <a:lnTo>
                          <a:pt x="204" y="790"/>
                        </a:lnTo>
                        <a:lnTo>
                          <a:pt x="158" y="562"/>
                        </a:lnTo>
                        <a:lnTo>
                          <a:pt x="90" y="339"/>
                        </a:lnTo>
                        <a:lnTo>
                          <a:pt x="0" y="56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892080" y="5742000"/>
                    <a:ext cx="132120" cy="44316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1231">
                        <a:moveTo>
                          <a:pt x="358" y="192"/>
                        </a:moveTo>
                        <a:lnTo>
                          <a:pt x="282" y="0"/>
                        </a:lnTo>
                        <a:lnTo>
                          <a:pt x="231" y="3"/>
                        </a:lnTo>
                        <a:lnTo>
                          <a:pt x="192" y="13"/>
                        </a:lnTo>
                        <a:lnTo>
                          <a:pt x="157" y="66"/>
                        </a:lnTo>
                        <a:lnTo>
                          <a:pt x="73" y="226"/>
                        </a:lnTo>
                        <a:lnTo>
                          <a:pt x="45" y="295"/>
                        </a:lnTo>
                        <a:lnTo>
                          <a:pt x="28" y="365"/>
                        </a:lnTo>
                        <a:lnTo>
                          <a:pt x="5" y="578"/>
                        </a:lnTo>
                        <a:lnTo>
                          <a:pt x="0" y="642"/>
                        </a:lnTo>
                        <a:lnTo>
                          <a:pt x="5" y="722"/>
                        </a:lnTo>
                        <a:lnTo>
                          <a:pt x="19" y="809"/>
                        </a:lnTo>
                        <a:lnTo>
                          <a:pt x="53" y="938"/>
                        </a:lnTo>
                        <a:lnTo>
                          <a:pt x="81" y="1025"/>
                        </a:lnTo>
                        <a:lnTo>
                          <a:pt x="123" y="1118"/>
                        </a:lnTo>
                        <a:lnTo>
                          <a:pt x="206" y="1231"/>
                        </a:lnTo>
                        <a:lnTo>
                          <a:pt x="163" y="1088"/>
                        </a:lnTo>
                        <a:lnTo>
                          <a:pt x="129" y="958"/>
                        </a:lnTo>
                        <a:lnTo>
                          <a:pt x="109" y="838"/>
                        </a:lnTo>
                        <a:lnTo>
                          <a:pt x="115" y="722"/>
                        </a:lnTo>
                        <a:lnTo>
                          <a:pt x="123" y="642"/>
                        </a:lnTo>
                        <a:lnTo>
                          <a:pt x="109" y="542"/>
                        </a:lnTo>
                        <a:lnTo>
                          <a:pt x="101" y="458"/>
                        </a:lnTo>
                        <a:lnTo>
                          <a:pt x="135" y="295"/>
                        </a:lnTo>
                        <a:lnTo>
                          <a:pt x="140" y="209"/>
                        </a:lnTo>
                        <a:lnTo>
                          <a:pt x="171" y="139"/>
                        </a:lnTo>
                        <a:lnTo>
                          <a:pt x="231" y="49"/>
                        </a:lnTo>
                        <a:lnTo>
                          <a:pt x="262" y="119"/>
                        </a:lnTo>
                        <a:lnTo>
                          <a:pt x="367" y="232"/>
                        </a:lnTo>
                        <a:lnTo>
                          <a:pt x="358" y="192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1117440" y="5348160"/>
                    <a:ext cx="327240" cy="798840"/>
                  </a:xfrm>
                  <a:custGeom>
                    <a:avLst/>
                    <a:gdLst/>
                    <a:ahLst/>
                    <a:rect l="0" t="0" r="r" b="b"/>
                    <a:pathLst>
                      <a:path w="909" h="2219">
                        <a:moveTo>
                          <a:pt x="203" y="0"/>
                        </a:moveTo>
                        <a:lnTo>
                          <a:pt x="241" y="6"/>
                        </a:lnTo>
                        <a:lnTo>
                          <a:pt x="296" y="26"/>
                        </a:lnTo>
                        <a:lnTo>
                          <a:pt x="259" y="36"/>
                        </a:lnTo>
                        <a:lnTo>
                          <a:pt x="288" y="63"/>
                        </a:lnTo>
                        <a:lnTo>
                          <a:pt x="320" y="93"/>
                        </a:lnTo>
                        <a:lnTo>
                          <a:pt x="369" y="106"/>
                        </a:lnTo>
                        <a:lnTo>
                          <a:pt x="442" y="100"/>
                        </a:lnTo>
                        <a:lnTo>
                          <a:pt x="522" y="83"/>
                        </a:lnTo>
                        <a:lnTo>
                          <a:pt x="728" y="100"/>
                        </a:lnTo>
                        <a:lnTo>
                          <a:pt x="530" y="86"/>
                        </a:lnTo>
                        <a:lnTo>
                          <a:pt x="442" y="113"/>
                        </a:lnTo>
                        <a:lnTo>
                          <a:pt x="369" y="106"/>
                        </a:lnTo>
                        <a:lnTo>
                          <a:pt x="320" y="126"/>
                        </a:lnTo>
                        <a:lnTo>
                          <a:pt x="358" y="150"/>
                        </a:lnTo>
                        <a:lnTo>
                          <a:pt x="331" y="163"/>
                        </a:lnTo>
                        <a:lnTo>
                          <a:pt x="398" y="213"/>
                        </a:lnTo>
                        <a:lnTo>
                          <a:pt x="548" y="207"/>
                        </a:lnTo>
                        <a:lnTo>
                          <a:pt x="740" y="384"/>
                        </a:lnTo>
                        <a:lnTo>
                          <a:pt x="548" y="213"/>
                        </a:lnTo>
                        <a:lnTo>
                          <a:pt x="398" y="227"/>
                        </a:lnTo>
                        <a:lnTo>
                          <a:pt x="358" y="233"/>
                        </a:lnTo>
                        <a:lnTo>
                          <a:pt x="436" y="290"/>
                        </a:lnTo>
                        <a:lnTo>
                          <a:pt x="387" y="290"/>
                        </a:lnTo>
                        <a:lnTo>
                          <a:pt x="472" y="360"/>
                        </a:lnTo>
                        <a:lnTo>
                          <a:pt x="632" y="447"/>
                        </a:lnTo>
                        <a:lnTo>
                          <a:pt x="816" y="604"/>
                        </a:lnTo>
                        <a:lnTo>
                          <a:pt x="629" y="460"/>
                        </a:lnTo>
                        <a:lnTo>
                          <a:pt x="466" y="374"/>
                        </a:lnTo>
                        <a:lnTo>
                          <a:pt x="419" y="377"/>
                        </a:lnTo>
                        <a:lnTo>
                          <a:pt x="493" y="427"/>
                        </a:lnTo>
                        <a:lnTo>
                          <a:pt x="442" y="440"/>
                        </a:lnTo>
                        <a:lnTo>
                          <a:pt x="504" y="507"/>
                        </a:lnTo>
                        <a:lnTo>
                          <a:pt x="891" y="1042"/>
                        </a:lnTo>
                        <a:lnTo>
                          <a:pt x="504" y="517"/>
                        </a:lnTo>
                        <a:lnTo>
                          <a:pt x="448" y="517"/>
                        </a:lnTo>
                        <a:lnTo>
                          <a:pt x="510" y="597"/>
                        </a:lnTo>
                        <a:lnTo>
                          <a:pt x="466" y="591"/>
                        </a:lnTo>
                        <a:lnTo>
                          <a:pt x="522" y="694"/>
                        </a:lnTo>
                        <a:lnTo>
                          <a:pt x="682" y="878"/>
                        </a:lnTo>
                        <a:lnTo>
                          <a:pt x="848" y="1143"/>
                        </a:lnTo>
                        <a:lnTo>
                          <a:pt x="682" y="881"/>
                        </a:lnTo>
                        <a:lnTo>
                          <a:pt x="519" y="701"/>
                        </a:lnTo>
                        <a:lnTo>
                          <a:pt x="466" y="678"/>
                        </a:lnTo>
                        <a:lnTo>
                          <a:pt x="504" y="744"/>
                        </a:lnTo>
                        <a:lnTo>
                          <a:pt x="472" y="731"/>
                        </a:lnTo>
                        <a:lnTo>
                          <a:pt x="522" y="835"/>
                        </a:lnTo>
                        <a:lnTo>
                          <a:pt x="653" y="1025"/>
                        </a:lnTo>
                        <a:lnTo>
                          <a:pt x="909" y="1277"/>
                        </a:lnTo>
                        <a:lnTo>
                          <a:pt x="659" y="1028"/>
                        </a:lnTo>
                        <a:lnTo>
                          <a:pt x="519" y="838"/>
                        </a:lnTo>
                        <a:lnTo>
                          <a:pt x="498" y="838"/>
                        </a:lnTo>
                        <a:lnTo>
                          <a:pt x="737" y="1407"/>
                        </a:lnTo>
                        <a:lnTo>
                          <a:pt x="487" y="838"/>
                        </a:lnTo>
                        <a:lnTo>
                          <a:pt x="519" y="915"/>
                        </a:lnTo>
                        <a:lnTo>
                          <a:pt x="487" y="888"/>
                        </a:lnTo>
                        <a:lnTo>
                          <a:pt x="536" y="1005"/>
                        </a:lnTo>
                        <a:lnTo>
                          <a:pt x="702" y="1270"/>
                        </a:lnTo>
                        <a:lnTo>
                          <a:pt x="536" y="1025"/>
                        </a:lnTo>
                        <a:lnTo>
                          <a:pt x="493" y="1005"/>
                        </a:lnTo>
                        <a:lnTo>
                          <a:pt x="536" y="1078"/>
                        </a:lnTo>
                        <a:lnTo>
                          <a:pt x="734" y="1597"/>
                        </a:lnTo>
                        <a:lnTo>
                          <a:pt x="580" y="1196"/>
                        </a:lnTo>
                        <a:lnTo>
                          <a:pt x="522" y="1078"/>
                        </a:lnTo>
                        <a:lnTo>
                          <a:pt x="493" y="1065"/>
                        </a:lnTo>
                        <a:lnTo>
                          <a:pt x="530" y="1150"/>
                        </a:lnTo>
                        <a:lnTo>
                          <a:pt x="498" y="1136"/>
                        </a:lnTo>
                        <a:lnTo>
                          <a:pt x="548" y="1240"/>
                        </a:lnTo>
                        <a:lnTo>
                          <a:pt x="571" y="1327"/>
                        </a:lnTo>
                        <a:lnTo>
                          <a:pt x="824" y="1624"/>
                        </a:lnTo>
                        <a:lnTo>
                          <a:pt x="565" y="1333"/>
                        </a:lnTo>
                        <a:lnTo>
                          <a:pt x="536" y="1270"/>
                        </a:lnTo>
                        <a:lnTo>
                          <a:pt x="504" y="1253"/>
                        </a:lnTo>
                        <a:lnTo>
                          <a:pt x="565" y="1420"/>
                        </a:lnTo>
                        <a:lnTo>
                          <a:pt x="498" y="1253"/>
                        </a:lnTo>
                        <a:lnTo>
                          <a:pt x="536" y="1333"/>
                        </a:lnTo>
                        <a:lnTo>
                          <a:pt x="493" y="1313"/>
                        </a:lnTo>
                        <a:lnTo>
                          <a:pt x="522" y="1383"/>
                        </a:lnTo>
                        <a:lnTo>
                          <a:pt x="609" y="1627"/>
                        </a:lnTo>
                        <a:lnTo>
                          <a:pt x="693" y="1774"/>
                        </a:lnTo>
                        <a:lnTo>
                          <a:pt x="609" y="1627"/>
                        </a:lnTo>
                        <a:lnTo>
                          <a:pt x="519" y="1393"/>
                        </a:lnTo>
                        <a:lnTo>
                          <a:pt x="487" y="1383"/>
                        </a:lnTo>
                        <a:lnTo>
                          <a:pt x="498" y="1440"/>
                        </a:lnTo>
                        <a:lnTo>
                          <a:pt x="565" y="1597"/>
                        </a:lnTo>
                        <a:lnTo>
                          <a:pt x="493" y="1457"/>
                        </a:lnTo>
                        <a:lnTo>
                          <a:pt x="472" y="1407"/>
                        </a:lnTo>
                        <a:lnTo>
                          <a:pt x="504" y="1534"/>
                        </a:lnTo>
                        <a:lnTo>
                          <a:pt x="466" y="1510"/>
                        </a:lnTo>
                        <a:lnTo>
                          <a:pt x="481" y="1611"/>
                        </a:lnTo>
                        <a:lnTo>
                          <a:pt x="455" y="1567"/>
                        </a:lnTo>
                        <a:lnTo>
                          <a:pt x="436" y="1604"/>
                        </a:lnTo>
                        <a:lnTo>
                          <a:pt x="442" y="1711"/>
                        </a:lnTo>
                        <a:lnTo>
                          <a:pt x="603" y="2219"/>
                        </a:lnTo>
                        <a:lnTo>
                          <a:pt x="430" y="1711"/>
                        </a:lnTo>
                        <a:lnTo>
                          <a:pt x="430" y="1597"/>
                        </a:lnTo>
                        <a:lnTo>
                          <a:pt x="430" y="1530"/>
                        </a:lnTo>
                        <a:lnTo>
                          <a:pt x="395" y="1567"/>
                        </a:lnTo>
                        <a:lnTo>
                          <a:pt x="104" y="1901"/>
                        </a:lnTo>
                        <a:lnTo>
                          <a:pt x="404" y="1534"/>
                        </a:lnTo>
                        <a:lnTo>
                          <a:pt x="430" y="1440"/>
                        </a:lnTo>
                        <a:lnTo>
                          <a:pt x="398" y="1457"/>
                        </a:lnTo>
                        <a:lnTo>
                          <a:pt x="442" y="1343"/>
                        </a:lnTo>
                        <a:lnTo>
                          <a:pt x="404" y="1390"/>
                        </a:lnTo>
                        <a:lnTo>
                          <a:pt x="340" y="1554"/>
                        </a:lnTo>
                        <a:lnTo>
                          <a:pt x="398" y="1377"/>
                        </a:lnTo>
                        <a:lnTo>
                          <a:pt x="430" y="1307"/>
                        </a:lnTo>
                        <a:lnTo>
                          <a:pt x="425" y="1307"/>
                        </a:lnTo>
                        <a:lnTo>
                          <a:pt x="387" y="1343"/>
                        </a:lnTo>
                        <a:lnTo>
                          <a:pt x="314" y="1434"/>
                        </a:lnTo>
                        <a:lnTo>
                          <a:pt x="66" y="1500"/>
                        </a:lnTo>
                        <a:lnTo>
                          <a:pt x="320" y="1420"/>
                        </a:lnTo>
                        <a:lnTo>
                          <a:pt x="398" y="1313"/>
                        </a:lnTo>
                        <a:lnTo>
                          <a:pt x="425" y="1230"/>
                        </a:lnTo>
                        <a:lnTo>
                          <a:pt x="387" y="1230"/>
                        </a:lnTo>
                        <a:lnTo>
                          <a:pt x="425" y="1150"/>
                        </a:lnTo>
                        <a:lnTo>
                          <a:pt x="375" y="1166"/>
                        </a:lnTo>
                        <a:lnTo>
                          <a:pt x="203" y="1327"/>
                        </a:lnTo>
                        <a:lnTo>
                          <a:pt x="375" y="1163"/>
                        </a:lnTo>
                        <a:lnTo>
                          <a:pt x="413" y="1065"/>
                        </a:lnTo>
                        <a:lnTo>
                          <a:pt x="369" y="1092"/>
                        </a:lnTo>
                        <a:lnTo>
                          <a:pt x="398" y="1015"/>
                        </a:lnTo>
                        <a:lnTo>
                          <a:pt x="358" y="1065"/>
                        </a:lnTo>
                        <a:lnTo>
                          <a:pt x="387" y="952"/>
                        </a:lnTo>
                        <a:lnTo>
                          <a:pt x="352" y="1008"/>
                        </a:lnTo>
                        <a:lnTo>
                          <a:pt x="197" y="1257"/>
                        </a:lnTo>
                        <a:lnTo>
                          <a:pt x="358" y="1008"/>
                        </a:lnTo>
                        <a:lnTo>
                          <a:pt x="395" y="865"/>
                        </a:lnTo>
                        <a:lnTo>
                          <a:pt x="352" y="895"/>
                        </a:lnTo>
                        <a:lnTo>
                          <a:pt x="98" y="1035"/>
                        </a:lnTo>
                        <a:lnTo>
                          <a:pt x="352" y="888"/>
                        </a:lnTo>
                        <a:lnTo>
                          <a:pt x="381" y="764"/>
                        </a:lnTo>
                        <a:lnTo>
                          <a:pt x="346" y="785"/>
                        </a:lnTo>
                        <a:lnTo>
                          <a:pt x="375" y="711"/>
                        </a:lnTo>
                        <a:lnTo>
                          <a:pt x="340" y="738"/>
                        </a:lnTo>
                        <a:lnTo>
                          <a:pt x="221" y="1085"/>
                        </a:lnTo>
                        <a:lnTo>
                          <a:pt x="346" y="708"/>
                        </a:lnTo>
                        <a:lnTo>
                          <a:pt x="346" y="611"/>
                        </a:lnTo>
                        <a:lnTo>
                          <a:pt x="308" y="658"/>
                        </a:lnTo>
                        <a:lnTo>
                          <a:pt x="235" y="851"/>
                        </a:lnTo>
                        <a:lnTo>
                          <a:pt x="326" y="597"/>
                        </a:lnTo>
                        <a:lnTo>
                          <a:pt x="340" y="517"/>
                        </a:lnTo>
                        <a:lnTo>
                          <a:pt x="308" y="554"/>
                        </a:lnTo>
                        <a:lnTo>
                          <a:pt x="215" y="711"/>
                        </a:lnTo>
                        <a:lnTo>
                          <a:pt x="0" y="801"/>
                        </a:lnTo>
                        <a:lnTo>
                          <a:pt x="221" y="701"/>
                        </a:lnTo>
                        <a:lnTo>
                          <a:pt x="302" y="531"/>
                        </a:lnTo>
                        <a:lnTo>
                          <a:pt x="314" y="424"/>
                        </a:lnTo>
                        <a:lnTo>
                          <a:pt x="276" y="474"/>
                        </a:lnTo>
                        <a:lnTo>
                          <a:pt x="296" y="374"/>
                        </a:lnTo>
                        <a:lnTo>
                          <a:pt x="154" y="638"/>
                        </a:lnTo>
                        <a:lnTo>
                          <a:pt x="288" y="360"/>
                        </a:lnTo>
                        <a:lnTo>
                          <a:pt x="302" y="283"/>
                        </a:lnTo>
                        <a:lnTo>
                          <a:pt x="259" y="344"/>
                        </a:lnTo>
                        <a:lnTo>
                          <a:pt x="264" y="220"/>
                        </a:lnTo>
                        <a:lnTo>
                          <a:pt x="209" y="277"/>
                        </a:lnTo>
                        <a:lnTo>
                          <a:pt x="11" y="487"/>
                        </a:lnTo>
                        <a:lnTo>
                          <a:pt x="209" y="270"/>
                        </a:lnTo>
                        <a:lnTo>
                          <a:pt x="235" y="150"/>
                        </a:lnTo>
                        <a:lnTo>
                          <a:pt x="203" y="183"/>
                        </a:lnTo>
                        <a:lnTo>
                          <a:pt x="221" y="93"/>
                        </a:lnTo>
                        <a:lnTo>
                          <a:pt x="192" y="120"/>
                        </a:lnTo>
                        <a:lnTo>
                          <a:pt x="186" y="50"/>
                        </a:lnTo>
                        <a:lnTo>
                          <a:pt x="192" y="20"/>
                        </a:lnTo>
                        <a:lnTo>
                          <a:pt x="203" y="0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" name=""/>
                <p:cNvSpPr/>
                <p:nvPr/>
              </p:nvSpPr>
              <p:spPr>
                <a:xfrm>
                  <a:off x="789120" y="6091200"/>
                  <a:ext cx="35280" cy="486000"/>
                </a:xfrm>
                <a:custGeom>
                  <a:avLst/>
                  <a:gdLst/>
                  <a:ahLst/>
                  <a:rect l="0" t="0" r="r" b="b"/>
                  <a:pathLst>
                    <a:path w="98" h="1350">
                      <a:moveTo>
                        <a:pt x="19" y="0"/>
                      </a:moveTo>
                      <a:lnTo>
                        <a:pt x="38" y="101"/>
                      </a:lnTo>
                      <a:lnTo>
                        <a:pt x="59" y="264"/>
                      </a:lnTo>
                      <a:lnTo>
                        <a:pt x="78" y="489"/>
                      </a:lnTo>
                      <a:lnTo>
                        <a:pt x="98" y="777"/>
                      </a:lnTo>
                      <a:lnTo>
                        <a:pt x="98" y="1081"/>
                      </a:lnTo>
                      <a:lnTo>
                        <a:pt x="88" y="1350"/>
                      </a:lnTo>
                      <a:lnTo>
                        <a:pt x="78" y="1350"/>
                      </a:lnTo>
                      <a:lnTo>
                        <a:pt x="88" y="1081"/>
                      </a:lnTo>
                      <a:lnTo>
                        <a:pt x="88" y="860"/>
                      </a:lnTo>
                      <a:lnTo>
                        <a:pt x="68" y="613"/>
                      </a:lnTo>
                      <a:lnTo>
                        <a:pt x="38" y="369"/>
                      </a:lnTo>
                      <a:lnTo>
                        <a:pt x="0" y="61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12800" y="5396040"/>
                  <a:ext cx="151200" cy="875160"/>
                </a:xfrm>
                <a:custGeom>
                  <a:avLst/>
                  <a:gdLst/>
                  <a:ahLst/>
                  <a:rect l="0" t="0" r="r" b="b"/>
                  <a:pathLst>
                    <a:path w="420" h="2431">
                      <a:moveTo>
                        <a:pt x="93" y="0"/>
                      </a:moveTo>
                      <a:lnTo>
                        <a:pt x="112" y="7"/>
                      </a:lnTo>
                      <a:lnTo>
                        <a:pt x="137" y="29"/>
                      </a:lnTo>
                      <a:lnTo>
                        <a:pt x="120" y="40"/>
                      </a:lnTo>
                      <a:lnTo>
                        <a:pt x="133" y="69"/>
                      </a:lnTo>
                      <a:lnTo>
                        <a:pt x="148" y="102"/>
                      </a:lnTo>
                      <a:lnTo>
                        <a:pt x="171" y="117"/>
                      </a:lnTo>
                      <a:lnTo>
                        <a:pt x="205" y="109"/>
                      </a:lnTo>
                      <a:lnTo>
                        <a:pt x="241" y="91"/>
                      </a:lnTo>
                      <a:lnTo>
                        <a:pt x="337" y="109"/>
                      </a:lnTo>
                      <a:lnTo>
                        <a:pt x="245" y="95"/>
                      </a:lnTo>
                      <a:lnTo>
                        <a:pt x="205" y="124"/>
                      </a:lnTo>
                      <a:lnTo>
                        <a:pt x="171" y="117"/>
                      </a:lnTo>
                      <a:lnTo>
                        <a:pt x="148" y="139"/>
                      </a:lnTo>
                      <a:lnTo>
                        <a:pt x="166" y="164"/>
                      </a:lnTo>
                      <a:lnTo>
                        <a:pt x="154" y="179"/>
                      </a:lnTo>
                      <a:lnTo>
                        <a:pt x="184" y="234"/>
                      </a:lnTo>
                      <a:lnTo>
                        <a:pt x="253" y="226"/>
                      </a:lnTo>
                      <a:lnTo>
                        <a:pt x="343" y="420"/>
                      </a:lnTo>
                      <a:lnTo>
                        <a:pt x="253" y="234"/>
                      </a:lnTo>
                      <a:lnTo>
                        <a:pt x="184" y="248"/>
                      </a:lnTo>
                      <a:lnTo>
                        <a:pt x="166" y="256"/>
                      </a:lnTo>
                      <a:lnTo>
                        <a:pt x="202" y="318"/>
                      </a:lnTo>
                      <a:lnTo>
                        <a:pt x="179" y="318"/>
                      </a:lnTo>
                      <a:lnTo>
                        <a:pt x="218" y="395"/>
                      </a:lnTo>
                      <a:lnTo>
                        <a:pt x="292" y="490"/>
                      </a:lnTo>
                      <a:lnTo>
                        <a:pt x="377" y="663"/>
                      </a:lnTo>
                      <a:lnTo>
                        <a:pt x="291" y="504"/>
                      </a:lnTo>
                      <a:lnTo>
                        <a:pt x="215" y="409"/>
                      </a:lnTo>
                      <a:lnTo>
                        <a:pt x="194" y="413"/>
                      </a:lnTo>
                      <a:lnTo>
                        <a:pt x="227" y="468"/>
                      </a:lnTo>
                      <a:lnTo>
                        <a:pt x="205" y="483"/>
                      </a:lnTo>
                      <a:lnTo>
                        <a:pt x="233" y="556"/>
                      </a:lnTo>
                      <a:lnTo>
                        <a:pt x="412" y="1142"/>
                      </a:lnTo>
                      <a:lnTo>
                        <a:pt x="233" y="567"/>
                      </a:lnTo>
                      <a:lnTo>
                        <a:pt x="207" y="567"/>
                      </a:lnTo>
                      <a:lnTo>
                        <a:pt x="235" y="656"/>
                      </a:lnTo>
                      <a:lnTo>
                        <a:pt x="215" y="648"/>
                      </a:lnTo>
                      <a:lnTo>
                        <a:pt x="241" y="762"/>
                      </a:lnTo>
                      <a:lnTo>
                        <a:pt x="316" y="963"/>
                      </a:lnTo>
                      <a:lnTo>
                        <a:pt x="392" y="1252"/>
                      </a:lnTo>
                      <a:lnTo>
                        <a:pt x="316" y="967"/>
                      </a:lnTo>
                      <a:lnTo>
                        <a:pt x="240" y="769"/>
                      </a:lnTo>
                      <a:lnTo>
                        <a:pt x="215" y="743"/>
                      </a:lnTo>
                      <a:lnTo>
                        <a:pt x="233" y="817"/>
                      </a:lnTo>
                      <a:lnTo>
                        <a:pt x="218" y="802"/>
                      </a:lnTo>
                      <a:lnTo>
                        <a:pt x="241" y="915"/>
                      </a:lnTo>
                      <a:lnTo>
                        <a:pt x="301" y="1124"/>
                      </a:lnTo>
                      <a:lnTo>
                        <a:pt x="420" y="1398"/>
                      </a:lnTo>
                      <a:lnTo>
                        <a:pt x="304" y="1128"/>
                      </a:lnTo>
                      <a:lnTo>
                        <a:pt x="240" y="919"/>
                      </a:lnTo>
                      <a:lnTo>
                        <a:pt x="230" y="919"/>
                      </a:lnTo>
                      <a:lnTo>
                        <a:pt x="341" y="1541"/>
                      </a:lnTo>
                      <a:lnTo>
                        <a:pt x="225" y="919"/>
                      </a:lnTo>
                      <a:lnTo>
                        <a:pt x="240" y="1003"/>
                      </a:lnTo>
                      <a:lnTo>
                        <a:pt x="225" y="974"/>
                      </a:lnTo>
                      <a:lnTo>
                        <a:pt x="248" y="1102"/>
                      </a:lnTo>
                      <a:lnTo>
                        <a:pt x="325" y="1391"/>
                      </a:lnTo>
                      <a:lnTo>
                        <a:pt x="248" y="1124"/>
                      </a:lnTo>
                      <a:lnTo>
                        <a:pt x="227" y="1102"/>
                      </a:lnTo>
                      <a:lnTo>
                        <a:pt x="248" y="1182"/>
                      </a:lnTo>
                      <a:lnTo>
                        <a:pt x="340" y="1750"/>
                      </a:lnTo>
                      <a:lnTo>
                        <a:pt x="268" y="1311"/>
                      </a:lnTo>
                      <a:lnTo>
                        <a:pt x="241" y="1182"/>
                      </a:lnTo>
                      <a:lnTo>
                        <a:pt x="227" y="1168"/>
                      </a:lnTo>
                      <a:lnTo>
                        <a:pt x="245" y="1259"/>
                      </a:lnTo>
                      <a:lnTo>
                        <a:pt x="230" y="1245"/>
                      </a:lnTo>
                      <a:lnTo>
                        <a:pt x="253" y="1358"/>
                      </a:lnTo>
                      <a:lnTo>
                        <a:pt x="264" y="1453"/>
                      </a:lnTo>
                      <a:lnTo>
                        <a:pt x="381" y="1779"/>
                      </a:lnTo>
                      <a:lnTo>
                        <a:pt x="261" y="1461"/>
                      </a:lnTo>
                      <a:lnTo>
                        <a:pt x="248" y="1391"/>
                      </a:lnTo>
                      <a:lnTo>
                        <a:pt x="233" y="1373"/>
                      </a:lnTo>
                      <a:lnTo>
                        <a:pt x="261" y="1556"/>
                      </a:lnTo>
                      <a:lnTo>
                        <a:pt x="230" y="1373"/>
                      </a:lnTo>
                      <a:lnTo>
                        <a:pt x="248" y="1461"/>
                      </a:lnTo>
                      <a:lnTo>
                        <a:pt x="227" y="1439"/>
                      </a:lnTo>
                      <a:lnTo>
                        <a:pt x="241" y="1515"/>
                      </a:lnTo>
                      <a:lnTo>
                        <a:pt x="281" y="1783"/>
                      </a:lnTo>
                      <a:lnTo>
                        <a:pt x="321" y="1945"/>
                      </a:lnTo>
                      <a:lnTo>
                        <a:pt x="281" y="1783"/>
                      </a:lnTo>
                      <a:lnTo>
                        <a:pt x="240" y="1526"/>
                      </a:lnTo>
                      <a:lnTo>
                        <a:pt x="225" y="1515"/>
                      </a:lnTo>
                      <a:lnTo>
                        <a:pt x="230" y="1578"/>
                      </a:lnTo>
                      <a:lnTo>
                        <a:pt x="261" y="1750"/>
                      </a:lnTo>
                      <a:lnTo>
                        <a:pt x="227" y="1596"/>
                      </a:lnTo>
                      <a:lnTo>
                        <a:pt x="218" y="1541"/>
                      </a:lnTo>
                      <a:lnTo>
                        <a:pt x="233" y="1680"/>
                      </a:lnTo>
                      <a:lnTo>
                        <a:pt x="215" y="1654"/>
                      </a:lnTo>
                      <a:lnTo>
                        <a:pt x="222" y="1764"/>
                      </a:lnTo>
                      <a:lnTo>
                        <a:pt x="210" y="1717"/>
                      </a:lnTo>
                      <a:lnTo>
                        <a:pt x="202" y="1757"/>
                      </a:lnTo>
                      <a:lnTo>
                        <a:pt x="205" y="1875"/>
                      </a:lnTo>
                      <a:lnTo>
                        <a:pt x="278" y="2431"/>
                      </a:lnTo>
                      <a:lnTo>
                        <a:pt x="199" y="1875"/>
                      </a:lnTo>
                      <a:lnTo>
                        <a:pt x="199" y="1750"/>
                      </a:lnTo>
                      <a:lnTo>
                        <a:pt x="199" y="1676"/>
                      </a:lnTo>
                      <a:lnTo>
                        <a:pt x="183" y="1717"/>
                      </a:lnTo>
                      <a:lnTo>
                        <a:pt x="48" y="2084"/>
                      </a:lnTo>
                      <a:lnTo>
                        <a:pt x="187" y="1680"/>
                      </a:lnTo>
                      <a:lnTo>
                        <a:pt x="199" y="1578"/>
                      </a:lnTo>
                      <a:lnTo>
                        <a:pt x="184" y="1596"/>
                      </a:lnTo>
                      <a:lnTo>
                        <a:pt x="205" y="1472"/>
                      </a:lnTo>
                      <a:lnTo>
                        <a:pt x="187" y="1523"/>
                      </a:lnTo>
                      <a:lnTo>
                        <a:pt x="158" y="1702"/>
                      </a:lnTo>
                      <a:lnTo>
                        <a:pt x="184" y="1508"/>
                      </a:lnTo>
                      <a:lnTo>
                        <a:pt x="199" y="1431"/>
                      </a:lnTo>
                      <a:lnTo>
                        <a:pt x="197" y="1431"/>
                      </a:lnTo>
                      <a:lnTo>
                        <a:pt x="179" y="1472"/>
                      </a:lnTo>
                      <a:lnTo>
                        <a:pt x="146" y="1570"/>
                      </a:lnTo>
                      <a:lnTo>
                        <a:pt x="30" y="1644"/>
                      </a:lnTo>
                      <a:lnTo>
                        <a:pt x="148" y="1556"/>
                      </a:lnTo>
                      <a:lnTo>
                        <a:pt x="184" y="1439"/>
                      </a:lnTo>
                      <a:lnTo>
                        <a:pt x="197" y="1347"/>
                      </a:lnTo>
                      <a:lnTo>
                        <a:pt x="179" y="1347"/>
                      </a:lnTo>
                      <a:lnTo>
                        <a:pt x="197" y="1259"/>
                      </a:lnTo>
                      <a:lnTo>
                        <a:pt x="174" y="1278"/>
                      </a:lnTo>
                      <a:lnTo>
                        <a:pt x="93" y="1453"/>
                      </a:lnTo>
                      <a:lnTo>
                        <a:pt x="174" y="1274"/>
                      </a:lnTo>
                      <a:lnTo>
                        <a:pt x="191" y="1168"/>
                      </a:lnTo>
                      <a:lnTo>
                        <a:pt x="171" y="1197"/>
                      </a:lnTo>
                      <a:lnTo>
                        <a:pt x="184" y="1113"/>
                      </a:lnTo>
                      <a:lnTo>
                        <a:pt x="166" y="1168"/>
                      </a:lnTo>
                      <a:lnTo>
                        <a:pt x="179" y="1043"/>
                      </a:lnTo>
                      <a:lnTo>
                        <a:pt x="163" y="1106"/>
                      </a:lnTo>
                      <a:lnTo>
                        <a:pt x="91" y="1376"/>
                      </a:lnTo>
                      <a:lnTo>
                        <a:pt x="166" y="1106"/>
                      </a:lnTo>
                      <a:lnTo>
                        <a:pt x="183" y="948"/>
                      </a:lnTo>
                      <a:lnTo>
                        <a:pt x="163" y="981"/>
                      </a:lnTo>
                      <a:lnTo>
                        <a:pt x="45" y="1135"/>
                      </a:lnTo>
                      <a:lnTo>
                        <a:pt x="163" y="974"/>
                      </a:lnTo>
                      <a:lnTo>
                        <a:pt x="176" y="838"/>
                      </a:lnTo>
                      <a:lnTo>
                        <a:pt x="160" y="860"/>
                      </a:lnTo>
                      <a:lnTo>
                        <a:pt x="174" y="780"/>
                      </a:lnTo>
                      <a:lnTo>
                        <a:pt x="158" y="809"/>
                      </a:lnTo>
                      <a:lnTo>
                        <a:pt x="102" y="1190"/>
                      </a:lnTo>
                      <a:lnTo>
                        <a:pt x="160" y="776"/>
                      </a:lnTo>
                      <a:lnTo>
                        <a:pt x="160" y="670"/>
                      </a:lnTo>
                      <a:lnTo>
                        <a:pt x="143" y="721"/>
                      </a:lnTo>
                      <a:lnTo>
                        <a:pt x="109" y="934"/>
                      </a:lnTo>
                      <a:lnTo>
                        <a:pt x="151" y="656"/>
                      </a:lnTo>
                      <a:lnTo>
                        <a:pt x="158" y="567"/>
                      </a:lnTo>
                      <a:lnTo>
                        <a:pt x="143" y="607"/>
                      </a:lnTo>
                      <a:lnTo>
                        <a:pt x="99" y="780"/>
                      </a:lnTo>
                      <a:lnTo>
                        <a:pt x="0" y="879"/>
                      </a:lnTo>
                      <a:lnTo>
                        <a:pt x="102" y="769"/>
                      </a:lnTo>
                      <a:lnTo>
                        <a:pt x="140" y="581"/>
                      </a:lnTo>
                      <a:lnTo>
                        <a:pt x="146" y="464"/>
                      </a:lnTo>
                      <a:lnTo>
                        <a:pt x="128" y="519"/>
                      </a:lnTo>
                      <a:lnTo>
                        <a:pt x="137" y="409"/>
                      </a:lnTo>
                      <a:lnTo>
                        <a:pt x="71" y="699"/>
                      </a:lnTo>
                      <a:lnTo>
                        <a:pt x="133" y="395"/>
                      </a:lnTo>
                      <a:lnTo>
                        <a:pt x="140" y="311"/>
                      </a:lnTo>
                      <a:lnTo>
                        <a:pt x="120" y="376"/>
                      </a:lnTo>
                      <a:lnTo>
                        <a:pt x="123" y="241"/>
                      </a:lnTo>
                      <a:lnTo>
                        <a:pt x="96" y="303"/>
                      </a:lnTo>
                      <a:lnTo>
                        <a:pt x="5" y="534"/>
                      </a:lnTo>
                      <a:lnTo>
                        <a:pt x="96" y="296"/>
                      </a:lnTo>
                      <a:lnTo>
                        <a:pt x="109" y="164"/>
                      </a:lnTo>
                      <a:lnTo>
                        <a:pt x="93" y="201"/>
                      </a:lnTo>
                      <a:lnTo>
                        <a:pt x="102" y="102"/>
                      </a:lnTo>
                      <a:lnTo>
                        <a:pt x="88" y="131"/>
                      </a:lnTo>
                      <a:lnTo>
                        <a:pt x="85" y="54"/>
                      </a:lnTo>
                      <a:lnTo>
                        <a:pt x="88" y="21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" name=""/>
                <p:cNvGrpSpPr/>
                <p:nvPr/>
              </p:nvGrpSpPr>
              <p:grpSpPr>
                <a:xfrm>
                  <a:off x="206280" y="5394240"/>
                  <a:ext cx="468720" cy="1227600"/>
                  <a:chOff x="206280" y="5394240"/>
                  <a:chExt cx="468720" cy="122760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574560" y="6068880"/>
                    <a:ext cx="100440" cy="55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79" h="1536">
                        <a:moveTo>
                          <a:pt x="223" y="0"/>
                        </a:moveTo>
                        <a:lnTo>
                          <a:pt x="203" y="29"/>
                        </a:lnTo>
                        <a:lnTo>
                          <a:pt x="113" y="302"/>
                        </a:lnTo>
                        <a:lnTo>
                          <a:pt x="56" y="560"/>
                        </a:lnTo>
                        <a:lnTo>
                          <a:pt x="0" y="883"/>
                        </a:lnTo>
                        <a:lnTo>
                          <a:pt x="0" y="1230"/>
                        </a:lnTo>
                        <a:lnTo>
                          <a:pt x="28" y="1536"/>
                        </a:lnTo>
                        <a:lnTo>
                          <a:pt x="56" y="1536"/>
                        </a:lnTo>
                        <a:lnTo>
                          <a:pt x="28" y="1230"/>
                        </a:lnTo>
                        <a:lnTo>
                          <a:pt x="28" y="976"/>
                        </a:lnTo>
                        <a:lnTo>
                          <a:pt x="85" y="696"/>
                        </a:lnTo>
                        <a:lnTo>
                          <a:pt x="166" y="420"/>
                        </a:lnTo>
                        <a:lnTo>
                          <a:pt x="279" y="69"/>
                        </a:lnTo>
                        <a:lnTo>
                          <a:pt x="223" y="0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206280" y="5394240"/>
                    <a:ext cx="403560" cy="705240"/>
                  </a:xfrm>
                  <a:custGeom>
                    <a:avLst/>
                    <a:gdLst/>
                    <a:ahLst/>
                    <a:rect l="0" t="0" r="r" b="b"/>
                    <a:pathLst>
                      <a:path w="1121" h="1959">
                        <a:moveTo>
                          <a:pt x="632" y="26"/>
                        </a:moveTo>
                        <a:lnTo>
                          <a:pt x="558" y="0"/>
                        </a:lnTo>
                        <a:lnTo>
                          <a:pt x="511" y="53"/>
                        </a:lnTo>
                        <a:lnTo>
                          <a:pt x="462" y="70"/>
                        </a:lnTo>
                        <a:lnTo>
                          <a:pt x="350" y="86"/>
                        </a:lnTo>
                        <a:lnTo>
                          <a:pt x="78" y="86"/>
                        </a:lnTo>
                        <a:lnTo>
                          <a:pt x="350" y="100"/>
                        </a:lnTo>
                        <a:lnTo>
                          <a:pt x="429" y="70"/>
                        </a:lnTo>
                        <a:lnTo>
                          <a:pt x="479" y="86"/>
                        </a:lnTo>
                        <a:lnTo>
                          <a:pt x="415" y="120"/>
                        </a:lnTo>
                        <a:lnTo>
                          <a:pt x="462" y="120"/>
                        </a:lnTo>
                        <a:lnTo>
                          <a:pt x="415" y="173"/>
                        </a:lnTo>
                        <a:lnTo>
                          <a:pt x="61" y="464"/>
                        </a:lnTo>
                        <a:lnTo>
                          <a:pt x="429" y="173"/>
                        </a:lnTo>
                        <a:lnTo>
                          <a:pt x="415" y="207"/>
                        </a:lnTo>
                        <a:lnTo>
                          <a:pt x="365" y="260"/>
                        </a:lnTo>
                        <a:lnTo>
                          <a:pt x="318" y="277"/>
                        </a:lnTo>
                        <a:lnTo>
                          <a:pt x="222" y="294"/>
                        </a:lnTo>
                        <a:lnTo>
                          <a:pt x="61" y="260"/>
                        </a:lnTo>
                        <a:lnTo>
                          <a:pt x="318" y="294"/>
                        </a:lnTo>
                        <a:lnTo>
                          <a:pt x="365" y="260"/>
                        </a:lnTo>
                        <a:lnTo>
                          <a:pt x="415" y="240"/>
                        </a:lnTo>
                        <a:lnTo>
                          <a:pt x="400" y="294"/>
                        </a:lnTo>
                        <a:lnTo>
                          <a:pt x="365" y="310"/>
                        </a:lnTo>
                        <a:lnTo>
                          <a:pt x="46" y="481"/>
                        </a:lnTo>
                        <a:lnTo>
                          <a:pt x="365" y="327"/>
                        </a:lnTo>
                        <a:lnTo>
                          <a:pt x="400" y="327"/>
                        </a:lnTo>
                        <a:lnTo>
                          <a:pt x="365" y="377"/>
                        </a:lnTo>
                        <a:lnTo>
                          <a:pt x="318" y="431"/>
                        </a:lnTo>
                        <a:lnTo>
                          <a:pt x="46" y="535"/>
                        </a:lnTo>
                        <a:lnTo>
                          <a:pt x="350" y="410"/>
                        </a:lnTo>
                        <a:lnTo>
                          <a:pt x="365" y="410"/>
                        </a:lnTo>
                        <a:lnTo>
                          <a:pt x="383" y="431"/>
                        </a:lnTo>
                        <a:lnTo>
                          <a:pt x="318" y="498"/>
                        </a:lnTo>
                        <a:lnTo>
                          <a:pt x="383" y="481"/>
                        </a:lnTo>
                        <a:lnTo>
                          <a:pt x="301" y="568"/>
                        </a:lnTo>
                        <a:lnTo>
                          <a:pt x="236" y="619"/>
                        </a:lnTo>
                        <a:lnTo>
                          <a:pt x="111" y="655"/>
                        </a:lnTo>
                        <a:lnTo>
                          <a:pt x="46" y="655"/>
                        </a:lnTo>
                        <a:lnTo>
                          <a:pt x="157" y="639"/>
                        </a:lnTo>
                        <a:lnTo>
                          <a:pt x="286" y="602"/>
                        </a:lnTo>
                        <a:lnTo>
                          <a:pt x="318" y="585"/>
                        </a:lnTo>
                        <a:lnTo>
                          <a:pt x="286" y="639"/>
                        </a:lnTo>
                        <a:lnTo>
                          <a:pt x="222" y="705"/>
                        </a:lnTo>
                        <a:lnTo>
                          <a:pt x="111" y="742"/>
                        </a:lnTo>
                        <a:lnTo>
                          <a:pt x="0" y="772"/>
                        </a:lnTo>
                        <a:lnTo>
                          <a:pt x="143" y="722"/>
                        </a:lnTo>
                        <a:lnTo>
                          <a:pt x="236" y="669"/>
                        </a:lnTo>
                        <a:lnTo>
                          <a:pt x="318" y="619"/>
                        </a:lnTo>
                        <a:lnTo>
                          <a:pt x="333" y="602"/>
                        </a:lnTo>
                        <a:lnTo>
                          <a:pt x="318" y="655"/>
                        </a:lnTo>
                        <a:lnTo>
                          <a:pt x="350" y="639"/>
                        </a:lnTo>
                        <a:lnTo>
                          <a:pt x="383" y="655"/>
                        </a:lnTo>
                        <a:lnTo>
                          <a:pt x="318" y="705"/>
                        </a:lnTo>
                        <a:lnTo>
                          <a:pt x="318" y="742"/>
                        </a:lnTo>
                        <a:lnTo>
                          <a:pt x="236" y="809"/>
                        </a:lnTo>
                        <a:lnTo>
                          <a:pt x="269" y="809"/>
                        </a:lnTo>
                        <a:lnTo>
                          <a:pt x="236" y="846"/>
                        </a:lnTo>
                        <a:lnTo>
                          <a:pt x="125" y="913"/>
                        </a:lnTo>
                        <a:lnTo>
                          <a:pt x="29" y="929"/>
                        </a:lnTo>
                        <a:lnTo>
                          <a:pt x="172" y="893"/>
                        </a:lnTo>
                        <a:lnTo>
                          <a:pt x="254" y="846"/>
                        </a:lnTo>
                        <a:lnTo>
                          <a:pt x="301" y="826"/>
                        </a:lnTo>
                        <a:lnTo>
                          <a:pt x="301" y="876"/>
                        </a:lnTo>
                        <a:lnTo>
                          <a:pt x="301" y="893"/>
                        </a:lnTo>
                        <a:lnTo>
                          <a:pt x="254" y="966"/>
                        </a:lnTo>
                        <a:lnTo>
                          <a:pt x="207" y="1016"/>
                        </a:lnTo>
                        <a:lnTo>
                          <a:pt x="236" y="1016"/>
                        </a:lnTo>
                        <a:lnTo>
                          <a:pt x="193" y="1050"/>
                        </a:lnTo>
                        <a:lnTo>
                          <a:pt x="29" y="1136"/>
                        </a:lnTo>
                        <a:lnTo>
                          <a:pt x="143" y="1083"/>
                        </a:lnTo>
                        <a:lnTo>
                          <a:pt x="222" y="1050"/>
                        </a:lnTo>
                        <a:lnTo>
                          <a:pt x="222" y="1103"/>
                        </a:lnTo>
                        <a:lnTo>
                          <a:pt x="172" y="1116"/>
                        </a:lnTo>
                        <a:lnTo>
                          <a:pt x="222" y="1103"/>
                        </a:lnTo>
                        <a:lnTo>
                          <a:pt x="222" y="1136"/>
                        </a:lnTo>
                        <a:lnTo>
                          <a:pt x="193" y="1170"/>
                        </a:lnTo>
                        <a:lnTo>
                          <a:pt x="46" y="1220"/>
                        </a:lnTo>
                        <a:lnTo>
                          <a:pt x="172" y="1170"/>
                        </a:lnTo>
                        <a:lnTo>
                          <a:pt x="172" y="1187"/>
                        </a:lnTo>
                        <a:lnTo>
                          <a:pt x="193" y="1203"/>
                        </a:lnTo>
                        <a:lnTo>
                          <a:pt x="46" y="1324"/>
                        </a:lnTo>
                        <a:lnTo>
                          <a:pt x="157" y="1237"/>
                        </a:lnTo>
                        <a:lnTo>
                          <a:pt x="193" y="1220"/>
                        </a:lnTo>
                        <a:lnTo>
                          <a:pt x="207" y="1257"/>
                        </a:lnTo>
                        <a:lnTo>
                          <a:pt x="172" y="1290"/>
                        </a:lnTo>
                        <a:lnTo>
                          <a:pt x="207" y="1273"/>
                        </a:lnTo>
                        <a:lnTo>
                          <a:pt x="172" y="1377"/>
                        </a:lnTo>
                        <a:lnTo>
                          <a:pt x="29" y="1495"/>
                        </a:lnTo>
                        <a:lnTo>
                          <a:pt x="172" y="1377"/>
                        </a:lnTo>
                        <a:lnTo>
                          <a:pt x="157" y="1427"/>
                        </a:lnTo>
                        <a:lnTo>
                          <a:pt x="207" y="1377"/>
                        </a:lnTo>
                        <a:lnTo>
                          <a:pt x="207" y="1427"/>
                        </a:lnTo>
                        <a:lnTo>
                          <a:pt x="222" y="1669"/>
                        </a:lnTo>
                        <a:lnTo>
                          <a:pt x="365" y="1959"/>
                        </a:lnTo>
                        <a:lnTo>
                          <a:pt x="222" y="1652"/>
                        </a:lnTo>
                        <a:lnTo>
                          <a:pt x="222" y="1532"/>
                        </a:lnTo>
                        <a:lnTo>
                          <a:pt x="236" y="1444"/>
                        </a:lnTo>
                        <a:lnTo>
                          <a:pt x="254" y="1377"/>
                        </a:lnTo>
                        <a:lnTo>
                          <a:pt x="286" y="1257"/>
                        </a:lnTo>
                        <a:lnTo>
                          <a:pt x="318" y="1307"/>
                        </a:lnTo>
                        <a:lnTo>
                          <a:pt x="526" y="1959"/>
                        </a:lnTo>
                        <a:lnTo>
                          <a:pt x="333" y="1307"/>
                        </a:lnTo>
                        <a:lnTo>
                          <a:pt x="333" y="1237"/>
                        </a:lnTo>
                        <a:lnTo>
                          <a:pt x="365" y="1273"/>
                        </a:lnTo>
                        <a:lnTo>
                          <a:pt x="400" y="1909"/>
                        </a:lnTo>
                        <a:lnTo>
                          <a:pt x="383" y="1360"/>
                        </a:lnTo>
                        <a:lnTo>
                          <a:pt x="365" y="1257"/>
                        </a:lnTo>
                        <a:lnTo>
                          <a:pt x="350" y="1220"/>
                        </a:lnTo>
                        <a:lnTo>
                          <a:pt x="365" y="1136"/>
                        </a:lnTo>
                        <a:lnTo>
                          <a:pt x="383" y="1203"/>
                        </a:lnTo>
                        <a:lnTo>
                          <a:pt x="429" y="1340"/>
                        </a:lnTo>
                        <a:lnTo>
                          <a:pt x="479" y="1427"/>
                        </a:lnTo>
                        <a:lnTo>
                          <a:pt x="609" y="1548"/>
                        </a:lnTo>
                        <a:lnTo>
                          <a:pt x="881" y="1772"/>
                        </a:lnTo>
                        <a:lnTo>
                          <a:pt x="526" y="1444"/>
                        </a:lnTo>
                        <a:lnTo>
                          <a:pt x="462" y="1360"/>
                        </a:lnTo>
                        <a:lnTo>
                          <a:pt x="429" y="1307"/>
                        </a:lnTo>
                        <a:lnTo>
                          <a:pt x="400" y="1237"/>
                        </a:lnTo>
                        <a:lnTo>
                          <a:pt x="415" y="1050"/>
                        </a:lnTo>
                        <a:lnTo>
                          <a:pt x="429" y="1103"/>
                        </a:lnTo>
                        <a:lnTo>
                          <a:pt x="429" y="996"/>
                        </a:lnTo>
                        <a:lnTo>
                          <a:pt x="429" y="966"/>
                        </a:lnTo>
                        <a:lnTo>
                          <a:pt x="462" y="1050"/>
                        </a:lnTo>
                        <a:lnTo>
                          <a:pt x="770" y="1685"/>
                        </a:lnTo>
                        <a:lnTo>
                          <a:pt x="511" y="1170"/>
                        </a:lnTo>
                        <a:lnTo>
                          <a:pt x="479" y="1116"/>
                        </a:lnTo>
                        <a:lnTo>
                          <a:pt x="462" y="1050"/>
                        </a:lnTo>
                        <a:lnTo>
                          <a:pt x="462" y="859"/>
                        </a:lnTo>
                        <a:lnTo>
                          <a:pt x="479" y="876"/>
                        </a:lnTo>
                        <a:lnTo>
                          <a:pt x="494" y="772"/>
                        </a:lnTo>
                        <a:lnTo>
                          <a:pt x="543" y="809"/>
                        </a:lnTo>
                        <a:lnTo>
                          <a:pt x="781" y="1515"/>
                        </a:lnTo>
                        <a:lnTo>
                          <a:pt x="656" y="1170"/>
                        </a:lnTo>
                        <a:lnTo>
                          <a:pt x="609" y="1016"/>
                        </a:lnTo>
                        <a:lnTo>
                          <a:pt x="543" y="876"/>
                        </a:lnTo>
                        <a:lnTo>
                          <a:pt x="543" y="792"/>
                        </a:lnTo>
                        <a:lnTo>
                          <a:pt x="526" y="655"/>
                        </a:lnTo>
                        <a:lnTo>
                          <a:pt x="558" y="669"/>
                        </a:lnTo>
                        <a:lnTo>
                          <a:pt x="688" y="1377"/>
                        </a:lnTo>
                        <a:lnTo>
                          <a:pt x="543" y="619"/>
                        </a:lnTo>
                        <a:lnTo>
                          <a:pt x="543" y="552"/>
                        </a:lnTo>
                        <a:lnTo>
                          <a:pt x="558" y="602"/>
                        </a:lnTo>
                        <a:lnTo>
                          <a:pt x="558" y="447"/>
                        </a:lnTo>
                        <a:lnTo>
                          <a:pt x="591" y="498"/>
                        </a:lnTo>
                        <a:lnTo>
                          <a:pt x="591" y="410"/>
                        </a:lnTo>
                        <a:lnTo>
                          <a:pt x="638" y="464"/>
                        </a:lnTo>
                        <a:lnTo>
                          <a:pt x="705" y="639"/>
                        </a:lnTo>
                        <a:lnTo>
                          <a:pt x="781" y="742"/>
                        </a:lnTo>
                        <a:lnTo>
                          <a:pt x="928" y="913"/>
                        </a:lnTo>
                        <a:lnTo>
                          <a:pt x="1007" y="1066"/>
                        </a:lnTo>
                        <a:lnTo>
                          <a:pt x="781" y="742"/>
                        </a:lnTo>
                        <a:lnTo>
                          <a:pt x="720" y="655"/>
                        </a:lnTo>
                        <a:lnTo>
                          <a:pt x="656" y="535"/>
                        </a:lnTo>
                        <a:lnTo>
                          <a:pt x="638" y="447"/>
                        </a:lnTo>
                        <a:lnTo>
                          <a:pt x="609" y="294"/>
                        </a:lnTo>
                        <a:lnTo>
                          <a:pt x="623" y="310"/>
                        </a:lnTo>
                        <a:lnTo>
                          <a:pt x="656" y="294"/>
                        </a:lnTo>
                        <a:lnTo>
                          <a:pt x="638" y="227"/>
                        </a:lnTo>
                        <a:lnTo>
                          <a:pt x="670" y="294"/>
                        </a:lnTo>
                        <a:lnTo>
                          <a:pt x="705" y="360"/>
                        </a:lnTo>
                        <a:lnTo>
                          <a:pt x="781" y="431"/>
                        </a:lnTo>
                        <a:lnTo>
                          <a:pt x="898" y="498"/>
                        </a:lnTo>
                        <a:lnTo>
                          <a:pt x="1121" y="669"/>
                        </a:lnTo>
                        <a:lnTo>
                          <a:pt x="752" y="410"/>
                        </a:lnTo>
                        <a:lnTo>
                          <a:pt x="705" y="344"/>
                        </a:lnTo>
                        <a:lnTo>
                          <a:pt x="688" y="310"/>
                        </a:lnTo>
                        <a:lnTo>
                          <a:pt x="688" y="136"/>
                        </a:lnTo>
                        <a:lnTo>
                          <a:pt x="720" y="190"/>
                        </a:lnTo>
                        <a:lnTo>
                          <a:pt x="770" y="277"/>
                        </a:lnTo>
                        <a:lnTo>
                          <a:pt x="863" y="410"/>
                        </a:lnTo>
                        <a:lnTo>
                          <a:pt x="992" y="552"/>
                        </a:lnTo>
                        <a:lnTo>
                          <a:pt x="1024" y="619"/>
                        </a:lnTo>
                        <a:lnTo>
                          <a:pt x="749" y="277"/>
                        </a:lnTo>
                        <a:lnTo>
                          <a:pt x="720" y="153"/>
                        </a:lnTo>
                        <a:lnTo>
                          <a:pt x="735" y="70"/>
                        </a:lnTo>
                        <a:lnTo>
                          <a:pt x="659" y="16"/>
                        </a:lnTo>
                        <a:lnTo>
                          <a:pt x="632" y="26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" name=""/>
                <p:cNvSpPr/>
                <p:nvPr/>
              </p:nvSpPr>
              <p:spPr>
                <a:xfrm>
                  <a:off x="0" y="4356000"/>
                  <a:ext cx="232200" cy="1229040"/>
                </a:xfrm>
                <a:custGeom>
                  <a:avLst/>
                  <a:gdLst/>
                  <a:ahLst/>
                  <a:rect l="0" t="0" r="r" b="b"/>
                  <a:pathLst>
                    <a:path w="645" h="3414">
                      <a:moveTo>
                        <a:pt x="362" y="46"/>
                      </a:moveTo>
                      <a:lnTo>
                        <a:pt x="322" y="0"/>
                      </a:lnTo>
                      <a:lnTo>
                        <a:pt x="291" y="92"/>
                      </a:lnTo>
                      <a:lnTo>
                        <a:pt x="267" y="120"/>
                      </a:lnTo>
                      <a:lnTo>
                        <a:pt x="205" y="147"/>
                      </a:lnTo>
                      <a:lnTo>
                        <a:pt x="47" y="147"/>
                      </a:lnTo>
                      <a:lnTo>
                        <a:pt x="205" y="175"/>
                      </a:lnTo>
                      <a:lnTo>
                        <a:pt x="244" y="120"/>
                      </a:lnTo>
                      <a:lnTo>
                        <a:pt x="275" y="147"/>
                      </a:lnTo>
                      <a:lnTo>
                        <a:pt x="236" y="212"/>
                      </a:lnTo>
                      <a:lnTo>
                        <a:pt x="267" y="212"/>
                      </a:lnTo>
                      <a:lnTo>
                        <a:pt x="236" y="305"/>
                      </a:lnTo>
                      <a:lnTo>
                        <a:pt x="31" y="813"/>
                      </a:lnTo>
                      <a:lnTo>
                        <a:pt x="244" y="305"/>
                      </a:lnTo>
                      <a:lnTo>
                        <a:pt x="236" y="360"/>
                      </a:lnTo>
                      <a:lnTo>
                        <a:pt x="212" y="453"/>
                      </a:lnTo>
                      <a:lnTo>
                        <a:pt x="181" y="480"/>
                      </a:lnTo>
                      <a:lnTo>
                        <a:pt x="125" y="508"/>
                      </a:lnTo>
                      <a:lnTo>
                        <a:pt x="31" y="453"/>
                      </a:lnTo>
                      <a:lnTo>
                        <a:pt x="181" y="508"/>
                      </a:lnTo>
                      <a:lnTo>
                        <a:pt x="212" y="453"/>
                      </a:lnTo>
                      <a:lnTo>
                        <a:pt x="236" y="416"/>
                      </a:lnTo>
                      <a:lnTo>
                        <a:pt x="228" y="508"/>
                      </a:lnTo>
                      <a:lnTo>
                        <a:pt x="212" y="545"/>
                      </a:lnTo>
                      <a:lnTo>
                        <a:pt x="23" y="841"/>
                      </a:lnTo>
                      <a:lnTo>
                        <a:pt x="212" y="573"/>
                      </a:lnTo>
                      <a:lnTo>
                        <a:pt x="228" y="573"/>
                      </a:lnTo>
                      <a:lnTo>
                        <a:pt x="212" y="656"/>
                      </a:lnTo>
                      <a:lnTo>
                        <a:pt x="181" y="749"/>
                      </a:lnTo>
                      <a:lnTo>
                        <a:pt x="23" y="934"/>
                      </a:lnTo>
                      <a:lnTo>
                        <a:pt x="205" y="712"/>
                      </a:lnTo>
                      <a:lnTo>
                        <a:pt x="212" y="712"/>
                      </a:lnTo>
                      <a:lnTo>
                        <a:pt x="220" y="749"/>
                      </a:lnTo>
                      <a:lnTo>
                        <a:pt x="181" y="869"/>
                      </a:lnTo>
                      <a:lnTo>
                        <a:pt x="220" y="841"/>
                      </a:lnTo>
                      <a:lnTo>
                        <a:pt x="173" y="989"/>
                      </a:lnTo>
                      <a:lnTo>
                        <a:pt x="133" y="1072"/>
                      </a:lnTo>
                      <a:lnTo>
                        <a:pt x="62" y="1137"/>
                      </a:lnTo>
                      <a:lnTo>
                        <a:pt x="23" y="1137"/>
                      </a:lnTo>
                      <a:lnTo>
                        <a:pt x="94" y="1109"/>
                      </a:lnTo>
                      <a:lnTo>
                        <a:pt x="165" y="1045"/>
                      </a:lnTo>
                      <a:lnTo>
                        <a:pt x="181" y="1017"/>
                      </a:lnTo>
                      <a:lnTo>
                        <a:pt x="165" y="1109"/>
                      </a:lnTo>
                      <a:lnTo>
                        <a:pt x="125" y="1230"/>
                      </a:lnTo>
                      <a:lnTo>
                        <a:pt x="62" y="1294"/>
                      </a:lnTo>
                      <a:lnTo>
                        <a:pt x="0" y="1341"/>
                      </a:lnTo>
                      <a:lnTo>
                        <a:pt x="78" y="1257"/>
                      </a:lnTo>
                      <a:lnTo>
                        <a:pt x="133" y="1165"/>
                      </a:lnTo>
                      <a:lnTo>
                        <a:pt x="181" y="1072"/>
                      </a:lnTo>
                      <a:lnTo>
                        <a:pt x="189" y="1045"/>
                      </a:lnTo>
                      <a:lnTo>
                        <a:pt x="181" y="1137"/>
                      </a:lnTo>
                      <a:lnTo>
                        <a:pt x="205" y="1109"/>
                      </a:lnTo>
                      <a:lnTo>
                        <a:pt x="220" y="1137"/>
                      </a:lnTo>
                      <a:lnTo>
                        <a:pt x="181" y="1230"/>
                      </a:lnTo>
                      <a:lnTo>
                        <a:pt x="181" y="1294"/>
                      </a:lnTo>
                      <a:lnTo>
                        <a:pt x="133" y="1405"/>
                      </a:lnTo>
                      <a:lnTo>
                        <a:pt x="157" y="1405"/>
                      </a:lnTo>
                      <a:lnTo>
                        <a:pt x="133" y="1470"/>
                      </a:lnTo>
                      <a:lnTo>
                        <a:pt x="70" y="1590"/>
                      </a:lnTo>
                      <a:lnTo>
                        <a:pt x="15" y="1618"/>
                      </a:lnTo>
                      <a:lnTo>
                        <a:pt x="102" y="1553"/>
                      </a:lnTo>
                      <a:lnTo>
                        <a:pt x="149" y="1470"/>
                      </a:lnTo>
                      <a:lnTo>
                        <a:pt x="173" y="1442"/>
                      </a:lnTo>
                      <a:lnTo>
                        <a:pt x="173" y="1526"/>
                      </a:lnTo>
                      <a:lnTo>
                        <a:pt x="173" y="1553"/>
                      </a:lnTo>
                      <a:lnTo>
                        <a:pt x="149" y="1683"/>
                      </a:lnTo>
                      <a:lnTo>
                        <a:pt x="117" y="1767"/>
                      </a:lnTo>
                      <a:lnTo>
                        <a:pt x="133" y="1767"/>
                      </a:lnTo>
                      <a:lnTo>
                        <a:pt x="109" y="1832"/>
                      </a:lnTo>
                      <a:lnTo>
                        <a:pt x="15" y="1980"/>
                      </a:lnTo>
                      <a:lnTo>
                        <a:pt x="78" y="1887"/>
                      </a:lnTo>
                      <a:lnTo>
                        <a:pt x="125" y="1832"/>
                      </a:lnTo>
                      <a:lnTo>
                        <a:pt x="125" y="1924"/>
                      </a:lnTo>
                      <a:lnTo>
                        <a:pt x="102" y="1943"/>
                      </a:lnTo>
                      <a:lnTo>
                        <a:pt x="125" y="1924"/>
                      </a:lnTo>
                      <a:lnTo>
                        <a:pt x="125" y="1980"/>
                      </a:lnTo>
                      <a:lnTo>
                        <a:pt x="109" y="2035"/>
                      </a:lnTo>
                      <a:lnTo>
                        <a:pt x="23" y="2128"/>
                      </a:lnTo>
                      <a:lnTo>
                        <a:pt x="102" y="2035"/>
                      </a:lnTo>
                      <a:lnTo>
                        <a:pt x="102" y="2072"/>
                      </a:lnTo>
                      <a:lnTo>
                        <a:pt x="109" y="2100"/>
                      </a:lnTo>
                      <a:lnTo>
                        <a:pt x="23" y="2304"/>
                      </a:lnTo>
                      <a:lnTo>
                        <a:pt x="94" y="2156"/>
                      </a:lnTo>
                      <a:lnTo>
                        <a:pt x="109" y="2128"/>
                      </a:lnTo>
                      <a:lnTo>
                        <a:pt x="117" y="2193"/>
                      </a:lnTo>
                      <a:lnTo>
                        <a:pt x="102" y="2248"/>
                      </a:lnTo>
                      <a:lnTo>
                        <a:pt x="117" y="2220"/>
                      </a:lnTo>
                      <a:lnTo>
                        <a:pt x="102" y="2396"/>
                      </a:lnTo>
                      <a:lnTo>
                        <a:pt x="15" y="2600"/>
                      </a:lnTo>
                      <a:lnTo>
                        <a:pt x="102" y="2396"/>
                      </a:lnTo>
                      <a:lnTo>
                        <a:pt x="94" y="2489"/>
                      </a:lnTo>
                      <a:lnTo>
                        <a:pt x="117" y="2396"/>
                      </a:lnTo>
                      <a:lnTo>
                        <a:pt x="117" y="2489"/>
                      </a:lnTo>
                      <a:lnTo>
                        <a:pt x="125" y="2905"/>
                      </a:lnTo>
                      <a:lnTo>
                        <a:pt x="212" y="3414"/>
                      </a:lnTo>
                      <a:lnTo>
                        <a:pt x="125" y="2877"/>
                      </a:lnTo>
                      <a:lnTo>
                        <a:pt x="125" y="2664"/>
                      </a:lnTo>
                      <a:lnTo>
                        <a:pt x="133" y="2516"/>
                      </a:lnTo>
                      <a:lnTo>
                        <a:pt x="149" y="2396"/>
                      </a:lnTo>
                      <a:lnTo>
                        <a:pt x="165" y="2193"/>
                      </a:lnTo>
                      <a:lnTo>
                        <a:pt x="181" y="2276"/>
                      </a:lnTo>
                      <a:lnTo>
                        <a:pt x="307" y="3414"/>
                      </a:lnTo>
                      <a:lnTo>
                        <a:pt x="189" y="2276"/>
                      </a:lnTo>
                      <a:lnTo>
                        <a:pt x="189" y="2156"/>
                      </a:lnTo>
                      <a:lnTo>
                        <a:pt x="212" y="2220"/>
                      </a:lnTo>
                      <a:lnTo>
                        <a:pt x="228" y="3330"/>
                      </a:lnTo>
                      <a:lnTo>
                        <a:pt x="220" y="2368"/>
                      </a:lnTo>
                      <a:lnTo>
                        <a:pt x="212" y="2193"/>
                      </a:lnTo>
                      <a:lnTo>
                        <a:pt x="205" y="2128"/>
                      </a:lnTo>
                      <a:lnTo>
                        <a:pt x="212" y="1980"/>
                      </a:lnTo>
                      <a:lnTo>
                        <a:pt x="220" y="2100"/>
                      </a:lnTo>
                      <a:lnTo>
                        <a:pt x="244" y="2341"/>
                      </a:lnTo>
                      <a:lnTo>
                        <a:pt x="275" y="2489"/>
                      </a:lnTo>
                      <a:lnTo>
                        <a:pt x="354" y="2701"/>
                      </a:lnTo>
                      <a:lnTo>
                        <a:pt x="504" y="3090"/>
                      </a:lnTo>
                      <a:lnTo>
                        <a:pt x="307" y="2516"/>
                      </a:lnTo>
                      <a:lnTo>
                        <a:pt x="267" y="2368"/>
                      </a:lnTo>
                      <a:lnTo>
                        <a:pt x="244" y="2276"/>
                      </a:lnTo>
                      <a:lnTo>
                        <a:pt x="228" y="2156"/>
                      </a:lnTo>
                      <a:lnTo>
                        <a:pt x="236" y="1832"/>
                      </a:lnTo>
                      <a:lnTo>
                        <a:pt x="244" y="1924"/>
                      </a:lnTo>
                      <a:lnTo>
                        <a:pt x="244" y="1739"/>
                      </a:lnTo>
                      <a:lnTo>
                        <a:pt x="244" y="1683"/>
                      </a:lnTo>
                      <a:lnTo>
                        <a:pt x="267" y="1832"/>
                      </a:lnTo>
                      <a:lnTo>
                        <a:pt x="440" y="2933"/>
                      </a:lnTo>
                      <a:lnTo>
                        <a:pt x="291" y="2035"/>
                      </a:lnTo>
                      <a:lnTo>
                        <a:pt x="275" y="1943"/>
                      </a:lnTo>
                      <a:lnTo>
                        <a:pt x="267" y="1832"/>
                      </a:lnTo>
                      <a:lnTo>
                        <a:pt x="267" y="1498"/>
                      </a:lnTo>
                      <a:lnTo>
                        <a:pt x="275" y="1526"/>
                      </a:lnTo>
                      <a:lnTo>
                        <a:pt x="283" y="1341"/>
                      </a:lnTo>
                      <a:lnTo>
                        <a:pt x="315" y="1405"/>
                      </a:lnTo>
                      <a:lnTo>
                        <a:pt x="448" y="2637"/>
                      </a:lnTo>
                      <a:lnTo>
                        <a:pt x="377" y="2035"/>
                      </a:lnTo>
                      <a:lnTo>
                        <a:pt x="354" y="1767"/>
                      </a:lnTo>
                      <a:lnTo>
                        <a:pt x="315" y="1526"/>
                      </a:lnTo>
                      <a:lnTo>
                        <a:pt x="315" y="1378"/>
                      </a:lnTo>
                      <a:lnTo>
                        <a:pt x="307" y="1137"/>
                      </a:lnTo>
                      <a:lnTo>
                        <a:pt x="322" y="1165"/>
                      </a:lnTo>
                      <a:lnTo>
                        <a:pt x="393" y="2396"/>
                      </a:lnTo>
                      <a:lnTo>
                        <a:pt x="315" y="1072"/>
                      </a:lnTo>
                      <a:lnTo>
                        <a:pt x="315" y="961"/>
                      </a:lnTo>
                      <a:lnTo>
                        <a:pt x="322" y="1045"/>
                      </a:lnTo>
                      <a:lnTo>
                        <a:pt x="322" y="776"/>
                      </a:lnTo>
                      <a:lnTo>
                        <a:pt x="338" y="869"/>
                      </a:lnTo>
                      <a:lnTo>
                        <a:pt x="338" y="712"/>
                      </a:lnTo>
                      <a:lnTo>
                        <a:pt x="370" y="813"/>
                      </a:lnTo>
                      <a:lnTo>
                        <a:pt x="409" y="1109"/>
                      </a:lnTo>
                      <a:lnTo>
                        <a:pt x="448" y="1294"/>
                      </a:lnTo>
                      <a:lnTo>
                        <a:pt x="535" y="1590"/>
                      </a:lnTo>
                      <a:lnTo>
                        <a:pt x="583" y="1860"/>
                      </a:lnTo>
                      <a:lnTo>
                        <a:pt x="448" y="1294"/>
                      </a:lnTo>
                      <a:lnTo>
                        <a:pt x="417" y="1137"/>
                      </a:lnTo>
                      <a:lnTo>
                        <a:pt x="377" y="934"/>
                      </a:lnTo>
                      <a:lnTo>
                        <a:pt x="370" y="776"/>
                      </a:lnTo>
                      <a:lnTo>
                        <a:pt x="354" y="508"/>
                      </a:lnTo>
                      <a:lnTo>
                        <a:pt x="362" y="545"/>
                      </a:lnTo>
                      <a:lnTo>
                        <a:pt x="377" y="508"/>
                      </a:lnTo>
                      <a:lnTo>
                        <a:pt x="370" y="397"/>
                      </a:lnTo>
                      <a:lnTo>
                        <a:pt x="385" y="508"/>
                      </a:lnTo>
                      <a:lnTo>
                        <a:pt x="409" y="628"/>
                      </a:lnTo>
                      <a:lnTo>
                        <a:pt x="448" y="749"/>
                      </a:lnTo>
                      <a:lnTo>
                        <a:pt x="520" y="869"/>
                      </a:lnTo>
                      <a:lnTo>
                        <a:pt x="645" y="1165"/>
                      </a:lnTo>
                      <a:lnTo>
                        <a:pt x="432" y="712"/>
                      </a:lnTo>
                      <a:lnTo>
                        <a:pt x="409" y="601"/>
                      </a:lnTo>
                      <a:lnTo>
                        <a:pt x="393" y="545"/>
                      </a:lnTo>
                      <a:lnTo>
                        <a:pt x="393" y="240"/>
                      </a:lnTo>
                      <a:lnTo>
                        <a:pt x="417" y="332"/>
                      </a:lnTo>
                      <a:lnTo>
                        <a:pt x="440" y="480"/>
                      </a:lnTo>
                      <a:lnTo>
                        <a:pt x="496" y="712"/>
                      </a:lnTo>
                      <a:lnTo>
                        <a:pt x="575" y="961"/>
                      </a:lnTo>
                      <a:lnTo>
                        <a:pt x="590" y="1072"/>
                      </a:lnTo>
                      <a:lnTo>
                        <a:pt x="432" y="480"/>
                      </a:lnTo>
                      <a:lnTo>
                        <a:pt x="417" y="268"/>
                      </a:lnTo>
                      <a:lnTo>
                        <a:pt x="424" y="120"/>
                      </a:lnTo>
                      <a:lnTo>
                        <a:pt x="377" y="27"/>
                      </a:lnTo>
                      <a:lnTo>
                        <a:pt x="362" y="46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" name=""/>
                <p:cNvGrpSpPr/>
                <p:nvPr/>
              </p:nvGrpSpPr>
              <p:grpSpPr>
                <a:xfrm>
                  <a:off x="158760" y="3462480"/>
                  <a:ext cx="721080" cy="3287880"/>
                  <a:chOff x="158760" y="3462480"/>
                  <a:chExt cx="721080" cy="3287880"/>
                </a:xfrm>
              </p:grpSpPr>
              <p:sp>
                <p:nvSpPr>
                  <p:cNvPr id="42" name=""/>
                  <p:cNvSpPr/>
                  <p:nvPr/>
                </p:nvSpPr>
                <p:spPr>
                  <a:xfrm>
                    <a:off x="270000" y="5945040"/>
                    <a:ext cx="57600" cy="805320"/>
                  </a:xfrm>
                  <a:custGeom>
                    <a:avLst/>
                    <a:gdLst/>
                    <a:ahLst/>
                    <a:rect l="0" t="0" r="r" b="b"/>
                    <a:pathLst>
                      <a:path w="160" h="2237">
                        <a:moveTo>
                          <a:pt x="128" y="0"/>
                        </a:moveTo>
                        <a:lnTo>
                          <a:pt x="116" y="43"/>
                        </a:lnTo>
                        <a:lnTo>
                          <a:pt x="65" y="441"/>
                        </a:lnTo>
                        <a:lnTo>
                          <a:pt x="32" y="815"/>
                        </a:lnTo>
                        <a:lnTo>
                          <a:pt x="0" y="1286"/>
                        </a:lnTo>
                        <a:lnTo>
                          <a:pt x="0" y="1791"/>
                        </a:lnTo>
                        <a:lnTo>
                          <a:pt x="16" y="2237"/>
                        </a:lnTo>
                        <a:lnTo>
                          <a:pt x="32" y="2237"/>
                        </a:lnTo>
                        <a:lnTo>
                          <a:pt x="16" y="1791"/>
                        </a:lnTo>
                        <a:lnTo>
                          <a:pt x="16" y="1421"/>
                        </a:lnTo>
                        <a:lnTo>
                          <a:pt x="49" y="1014"/>
                        </a:lnTo>
                        <a:lnTo>
                          <a:pt x="95" y="612"/>
                        </a:lnTo>
                        <a:lnTo>
                          <a:pt x="160" y="101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158760" y="5121360"/>
                    <a:ext cx="190800" cy="976680"/>
                  </a:xfrm>
                  <a:custGeom>
                    <a:avLst/>
                    <a:gdLst/>
                    <a:ahLst/>
                    <a:rect l="0" t="0" r="r" b="b"/>
                    <a:pathLst>
                      <a:path w="530" h="2713">
                        <a:moveTo>
                          <a:pt x="523" y="422"/>
                        </a:moveTo>
                        <a:lnTo>
                          <a:pt x="485" y="242"/>
                        </a:lnTo>
                        <a:lnTo>
                          <a:pt x="467" y="174"/>
                        </a:lnTo>
                        <a:lnTo>
                          <a:pt x="429" y="116"/>
                        </a:lnTo>
                        <a:lnTo>
                          <a:pt x="393" y="63"/>
                        </a:lnTo>
                        <a:lnTo>
                          <a:pt x="343" y="9"/>
                        </a:lnTo>
                        <a:lnTo>
                          <a:pt x="301" y="0"/>
                        </a:lnTo>
                        <a:lnTo>
                          <a:pt x="262" y="24"/>
                        </a:lnTo>
                        <a:lnTo>
                          <a:pt x="217" y="53"/>
                        </a:lnTo>
                        <a:lnTo>
                          <a:pt x="168" y="101"/>
                        </a:lnTo>
                        <a:lnTo>
                          <a:pt x="136" y="203"/>
                        </a:lnTo>
                        <a:lnTo>
                          <a:pt x="105" y="349"/>
                        </a:lnTo>
                        <a:lnTo>
                          <a:pt x="74" y="460"/>
                        </a:lnTo>
                        <a:lnTo>
                          <a:pt x="49" y="577"/>
                        </a:lnTo>
                        <a:lnTo>
                          <a:pt x="19" y="733"/>
                        </a:lnTo>
                        <a:lnTo>
                          <a:pt x="0" y="1058"/>
                        </a:lnTo>
                        <a:lnTo>
                          <a:pt x="6" y="1306"/>
                        </a:lnTo>
                        <a:lnTo>
                          <a:pt x="31" y="1665"/>
                        </a:lnTo>
                        <a:lnTo>
                          <a:pt x="74" y="1975"/>
                        </a:lnTo>
                        <a:lnTo>
                          <a:pt x="168" y="2713"/>
                        </a:lnTo>
                        <a:lnTo>
                          <a:pt x="131" y="1922"/>
                        </a:lnTo>
                        <a:lnTo>
                          <a:pt x="112" y="1650"/>
                        </a:lnTo>
                        <a:lnTo>
                          <a:pt x="98" y="1407"/>
                        </a:lnTo>
                        <a:lnTo>
                          <a:pt x="92" y="1150"/>
                        </a:lnTo>
                        <a:lnTo>
                          <a:pt x="105" y="864"/>
                        </a:lnTo>
                        <a:lnTo>
                          <a:pt x="118" y="645"/>
                        </a:lnTo>
                        <a:lnTo>
                          <a:pt x="143" y="373"/>
                        </a:lnTo>
                        <a:lnTo>
                          <a:pt x="181" y="242"/>
                        </a:lnTo>
                        <a:lnTo>
                          <a:pt x="230" y="194"/>
                        </a:lnTo>
                        <a:lnTo>
                          <a:pt x="362" y="164"/>
                        </a:lnTo>
                        <a:lnTo>
                          <a:pt x="442" y="257"/>
                        </a:lnTo>
                        <a:lnTo>
                          <a:pt x="530" y="456"/>
                        </a:lnTo>
                        <a:lnTo>
                          <a:pt x="523" y="422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407880" y="3462480"/>
                    <a:ext cx="471960" cy="1391040"/>
                    <a:chOff x="407880" y="3462480"/>
                    <a:chExt cx="471960" cy="13910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407880" y="3462480"/>
                      <a:ext cx="260640" cy="13896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24" h="3860">
                          <a:moveTo>
                            <a:pt x="672" y="298"/>
                          </a:moveTo>
                          <a:lnTo>
                            <a:pt x="682" y="88"/>
                          </a:lnTo>
                          <a:lnTo>
                            <a:pt x="724" y="73"/>
                          </a:lnTo>
                          <a:lnTo>
                            <a:pt x="677" y="0"/>
                          </a:lnTo>
                          <a:lnTo>
                            <a:pt x="657" y="4"/>
                          </a:lnTo>
                          <a:lnTo>
                            <a:pt x="626" y="34"/>
                          </a:lnTo>
                          <a:lnTo>
                            <a:pt x="624" y="97"/>
                          </a:lnTo>
                          <a:lnTo>
                            <a:pt x="596" y="136"/>
                          </a:lnTo>
                          <a:lnTo>
                            <a:pt x="352" y="689"/>
                          </a:lnTo>
                          <a:lnTo>
                            <a:pt x="19" y="846"/>
                          </a:lnTo>
                          <a:lnTo>
                            <a:pt x="347" y="684"/>
                          </a:lnTo>
                          <a:lnTo>
                            <a:pt x="533" y="342"/>
                          </a:lnTo>
                          <a:lnTo>
                            <a:pt x="596" y="293"/>
                          </a:lnTo>
                          <a:lnTo>
                            <a:pt x="539" y="440"/>
                          </a:lnTo>
                          <a:lnTo>
                            <a:pt x="596" y="449"/>
                          </a:lnTo>
                          <a:lnTo>
                            <a:pt x="287" y="1047"/>
                          </a:lnTo>
                          <a:lnTo>
                            <a:pt x="498" y="669"/>
                          </a:lnTo>
                          <a:lnTo>
                            <a:pt x="599" y="562"/>
                          </a:lnTo>
                          <a:lnTo>
                            <a:pt x="596" y="645"/>
                          </a:lnTo>
                          <a:lnTo>
                            <a:pt x="559" y="762"/>
                          </a:lnTo>
                          <a:lnTo>
                            <a:pt x="533" y="865"/>
                          </a:lnTo>
                          <a:lnTo>
                            <a:pt x="461" y="1096"/>
                          </a:lnTo>
                          <a:lnTo>
                            <a:pt x="327" y="1502"/>
                          </a:lnTo>
                          <a:lnTo>
                            <a:pt x="157" y="1971"/>
                          </a:lnTo>
                          <a:lnTo>
                            <a:pt x="23" y="2304"/>
                          </a:lnTo>
                          <a:lnTo>
                            <a:pt x="169" y="1903"/>
                          </a:lnTo>
                          <a:lnTo>
                            <a:pt x="256" y="1658"/>
                          </a:lnTo>
                          <a:lnTo>
                            <a:pt x="368" y="1355"/>
                          </a:lnTo>
                          <a:lnTo>
                            <a:pt x="426" y="1164"/>
                          </a:lnTo>
                          <a:lnTo>
                            <a:pt x="523" y="929"/>
                          </a:lnTo>
                          <a:lnTo>
                            <a:pt x="559" y="826"/>
                          </a:lnTo>
                          <a:lnTo>
                            <a:pt x="596" y="728"/>
                          </a:lnTo>
                          <a:lnTo>
                            <a:pt x="576" y="738"/>
                          </a:lnTo>
                          <a:lnTo>
                            <a:pt x="607" y="797"/>
                          </a:lnTo>
                          <a:lnTo>
                            <a:pt x="572" y="865"/>
                          </a:lnTo>
                          <a:lnTo>
                            <a:pt x="523" y="1062"/>
                          </a:lnTo>
                          <a:lnTo>
                            <a:pt x="466" y="1272"/>
                          </a:lnTo>
                          <a:lnTo>
                            <a:pt x="401" y="1433"/>
                          </a:lnTo>
                          <a:lnTo>
                            <a:pt x="511" y="1096"/>
                          </a:lnTo>
                          <a:lnTo>
                            <a:pt x="559" y="929"/>
                          </a:lnTo>
                          <a:lnTo>
                            <a:pt x="596" y="797"/>
                          </a:lnTo>
                          <a:lnTo>
                            <a:pt x="607" y="797"/>
                          </a:lnTo>
                          <a:lnTo>
                            <a:pt x="581" y="993"/>
                          </a:lnTo>
                          <a:lnTo>
                            <a:pt x="614" y="943"/>
                          </a:lnTo>
                          <a:lnTo>
                            <a:pt x="596" y="1062"/>
                          </a:lnTo>
                          <a:lnTo>
                            <a:pt x="559" y="1199"/>
                          </a:lnTo>
                          <a:lnTo>
                            <a:pt x="488" y="1399"/>
                          </a:lnTo>
                          <a:lnTo>
                            <a:pt x="401" y="1536"/>
                          </a:lnTo>
                          <a:lnTo>
                            <a:pt x="327" y="1702"/>
                          </a:lnTo>
                          <a:lnTo>
                            <a:pt x="266" y="1839"/>
                          </a:lnTo>
                          <a:lnTo>
                            <a:pt x="302" y="1771"/>
                          </a:lnTo>
                          <a:lnTo>
                            <a:pt x="423" y="1526"/>
                          </a:lnTo>
                          <a:lnTo>
                            <a:pt x="559" y="1233"/>
                          </a:lnTo>
                          <a:lnTo>
                            <a:pt x="582" y="1164"/>
                          </a:lnTo>
                          <a:lnTo>
                            <a:pt x="607" y="1062"/>
                          </a:lnTo>
                          <a:lnTo>
                            <a:pt x="577" y="1287"/>
                          </a:lnTo>
                          <a:lnTo>
                            <a:pt x="629" y="1204"/>
                          </a:lnTo>
                          <a:lnTo>
                            <a:pt x="582" y="1502"/>
                          </a:lnTo>
                          <a:lnTo>
                            <a:pt x="572" y="1565"/>
                          </a:lnTo>
                          <a:lnTo>
                            <a:pt x="557" y="1605"/>
                          </a:lnTo>
                          <a:lnTo>
                            <a:pt x="496" y="1766"/>
                          </a:lnTo>
                          <a:lnTo>
                            <a:pt x="428" y="1913"/>
                          </a:lnTo>
                          <a:lnTo>
                            <a:pt x="300" y="2172"/>
                          </a:lnTo>
                          <a:lnTo>
                            <a:pt x="181" y="2407"/>
                          </a:lnTo>
                          <a:lnTo>
                            <a:pt x="0" y="2744"/>
                          </a:lnTo>
                          <a:lnTo>
                            <a:pt x="217" y="2304"/>
                          </a:lnTo>
                          <a:lnTo>
                            <a:pt x="438" y="1869"/>
                          </a:lnTo>
                          <a:lnTo>
                            <a:pt x="523" y="1702"/>
                          </a:lnTo>
                          <a:lnTo>
                            <a:pt x="576" y="1521"/>
                          </a:lnTo>
                          <a:lnTo>
                            <a:pt x="619" y="1443"/>
                          </a:lnTo>
                          <a:lnTo>
                            <a:pt x="627" y="1453"/>
                          </a:lnTo>
                          <a:lnTo>
                            <a:pt x="375" y="2216"/>
                          </a:lnTo>
                          <a:lnTo>
                            <a:pt x="569" y="1693"/>
                          </a:lnTo>
                          <a:lnTo>
                            <a:pt x="616" y="1673"/>
                          </a:lnTo>
                          <a:lnTo>
                            <a:pt x="561" y="1957"/>
                          </a:lnTo>
                          <a:lnTo>
                            <a:pt x="609" y="1893"/>
                          </a:lnTo>
                          <a:lnTo>
                            <a:pt x="534" y="2206"/>
                          </a:lnTo>
                          <a:lnTo>
                            <a:pt x="488" y="2407"/>
                          </a:lnTo>
                          <a:lnTo>
                            <a:pt x="401" y="2573"/>
                          </a:lnTo>
                          <a:lnTo>
                            <a:pt x="279" y="2773"/>
                          </a:lnTo>
                          <a:lnTo>
                            <a:pt x="169" y="2975"/>
                          </a:lnTo>
                          <a:lnTo>
                            <a:pt x="84" y="3112"/>
                          </a:lnTo>
                          <a:lnTo>
                            <a:pt x="23" y="3180"/>
                          </a:lnTo>
                          <a:lnTo>
                            <a:pt x="378" y="2641"/>
                          </a:lnTo>
                          <a:lnTo>
                            <a:pt x="459" y="2485"/>
                          </a:lnTo>
                          <a:lnTo>
                            <a:pt x="498" y="2372"/>
                          </a:lnTo>
                          <a:lnTo>
                            <a:pt x="554" y="2172"/>
                          </a:lnTo>
                          <a:lnTo>
                            <a:pt x="607" y="1981"/>
                          </a:lnTo>
                          <a:lnTo>
                            <a:pt x="551" y="2255"/>
                          </a:lnTo>
                          <a:lnTo>
                            <a:pt x="596" y="2157"/>
                          </a:lnTo>
                          <a:lnTo>
                            <a:pt x="549" y="2382"/>
                          </a:lnTo>
                          <a:lnTo>
                            <a:pt x="589" y="2333"/>
                          </a:lnTo>
                          <a:lnTo>
                            <a:pt x="542" y="2597"/>
                          </a:lnTo>
                          <a:lnTo>
                            <a:pt x="596" y="2504"/>
                          </a:lnTo>
                          <a:lnTo>
                            <a:pt x="547" y="2641"/>
                          </a:lnTo>
                          <a:lnTo>
                            <a:pt x="488" y="2842"/>
                          </a:lnTo>
                          <a:lnTo>
                            <a:pt x="438" y="2901"/>
                          </a:lnTo>
                          <a:lnTo>
                            <a:pt x="285" y="3146"/>
                          </a:lnTo>
                          <a:lnTo>
                            <a:pt x="146" y="3283"/>
                          </a:lnTo>
                          <a:lnTo>
                            <a:pt x="299" y="3122"/>
                          </a:lnTo>
                          <a:lnTo>
                            <a:pt x="426" y="2911"/>
                          </a:lnTo>
                          <a:lnTo>
                            <a:pt x="547" y="2710"/>
                          </a:lnTo>
                          <a:lnTo>
                            <a:pt x="582" y="2612"/>
                          </a:lnTo>
                          <a:lnTo>
                            <a:pt x="534" y="2812"/>
                          </a:lnTo>
                          <a:lnTo>
                            <a:pt x="572" y="2773"/>
                          </a:lnTo>
                          <a:lnTo>
                            <a:pt x="549" y="2876"/>
                          </a:lnTo>
                          <a:lnTo>
                            <a:pt x="536" y="3014"/>
                          </a:lnTo>
                          <a:lnTo>
                            <a:pt x="559" y="2975"/>
                          </a:lnTo>
                          <a:lnTo>
                            <a:pt x="529" y="3092"/>
                          </a:lnTo>
                          <a:lnTo>
                            <a:pt x="438" y="3283"/>
                          </a:lnTo>
                          <a:lnTo>
                            <a:pt x="378" y="3312"/>
                          </a:lnTo>
                          <a:lnTo>
                            <a:pt x="302" y="3347"/>
                          </a:lnTo>
                          <a:lnTo>
                            <a:pt x="449" y="3249"/>
                          </a:lnTo>
                          <a:lnTo>
                            <a:pt x="547" y="3078"/>
                          </a:lnTo>
                          <a:lnTo>
                            <a:pt x="572" y="2946"/>
                          </a:lnTo>
                          <a:lnTo>
                            <a:pt x="534" y="3234"/>
                          </a:lnTo>
                          <a:lnTo>
                            <a:pt x="576" y="3161"/>
                          </a:lnTo>
                          <a:lnTo>
                            <a:pt x="551" y="3317"/>
                          </a:lnTo>
                          <a:lnTo>
                            <a:pt x="511" y="3532"/>
                          </a:lnTo>
                          <a:lnTo>
                            <a:pt x="266" y="3860"/>
                          </a:lnTo>
                          <a:lnTo>
                            <a:pt x="513" y="3557"/>
                          </a:lnTo>
                          <a:lnTo>
                            <a:pt x="536" y="3449"/>
                          </a:lnTo>
                          <a:lnTo>
                            <a:pt x="551" y="3381"/>
                          </a:lnTo>
                          <a:lnTo>
                            <a:pt x="592" y="3298"/>
                          </a:lnTo>
                          <a:lnTo>
                            <a:pt x="619" y="3454"/>
                          </a:lnTo>
                          <a:lnTo>
                            <a:pt x="629" y="3161"/>
                          </a:lnTo>
                          <a:lnTo>
                            <a:pt x="672" y="298"/>
                          </a:lnTo>
                          <a:close/>
                        </a:path>
                      </a:pathLst>
                    </a:custGeom>
                    <a:solidFill>
                      <a:srgbClr val="00004c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631800" y="3462480"/>
                      <a:ext cx="248040" cy="13910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89" h="3864">
                          <a:moveTo>
                            <a:pt x="0" y="3363"/>
                          </a:moveTo>
                          <a:lnTo>
                            <a:pt x="4" y="3197"/>
                          </a:lnTo>
                          <a:lnTo>
                            <a:pt x="42" y="3290"/>
                          </a:lnTo>
                          <a:lnTo>
                            <a:pt x="27" y="3061"/>
                          </a:lnTo>
                          <a:lnTo>
                            <a:pt x="65" y="3095"/>
                          </a:lnTo>
                          <a:lnTo>
                            <a:pt x="197" y="3864"/>
                          </a:lnTo>
                          <a:lnTo>
                            <a:pt x="76" y="3197"/>
                          </a:lnTo>
                          <a:lnTo>
                            <a:pt x="62" y="3085"/>
                          </a:lnTo>
                          <a:lnTo>
                            <a:pt x="50" y="2968"/>
                          </a:lnTo>
                          <a:lnTo>
                            <a:pt x="76" y="2997"/>
                          </a:lnTo>
                          <a:lnTo>
                            <a:pt x="152" y="3212"/>
                          </a:lnTo>
                          <a:lnTo>
                            <a:pt x="245" y="3567"/>
                          </a:lnTo>
                          <a:lnTo>
                            <a:pt x="113" y="3095"/>
                          </a:lnTo>
                          <a:lnTo>
                            <a:pt x="70" y="2963"/>
                          </a:lnTo>
                          <a:lnTo>
                            <a:pt x="65" y="2777"/>
                          </a:lnTo>
                          <a:lnTo>
                            <a:pt x="93" y="2836"/>
                          </a:lnTo>
                          <a:lnTo>
                            <a:pt x="88" y="2626"/>
                          </a:lnTo>
                          <a:lnTo>
                            <a:pt x="113" y="2694"/>
                          </a:lnTo>
                          <a:lnTo>
                            <a:pt x="233" y="3397"/>
                          </a:lnTo>
                          <a:lnTo>
                            <a:pt x="101" y="2597"/>
                          </a:lnTo>
                          <a:lnTo>
                            <a:pt x="88" y="2460"/>
                          </a:lnTo>
                          <a:lnTo>
                            <a:pt x="124" y="2538"/>
                          </a:lnTo>
                          <a:lnTo>
                            <a:pt x="222" y="2929"/>
                          </a:lnTo>
                          <a:lnTo>
                            <a:pt x="113" y="2529"/>
                          </a:lnTo>
                          <a:lnTo>
                            <a:pt x="76" y="2324"/>
                          </a:lnTo>
                          <a:lnTo>
                            <a:pt x="113" y="2392"/>
                          </a:lnTo>
                          <a:lnTo>
                            <a:pt x="88" y="2261"/>
                          </a:lnTo>
                          <a:lnTo>
                            <a:pt x="124" y="2295"/>
                          </a:lnTo>
                          <a:lnTo>
                            <a:pt x="158" y="2529"/>
                          </a:lnTo>
                          <a:lnTo>
                            <a:pt x="328" y="2968"/>
                          </a:lnTo>
                          <a:lnTo>
                            <a:pt x="149" y="2460"/>
                          </a:lnTo>
                          <a:lnTo>
                            <a:pt x="113" y="2261"/>
                          </a:lnTo>
                          <a:lnTo>
                            <a:pt x="101" y="2158"/>
                          </a:lnTo>
                          <a:lnTo>
                            <a:pt x="135" y="2261"/>
                          </a:lnTo>
                          <a:lnTo>
                            <a:pt x="113" y="2027"/>
                          </a:lnTo>
                          <a:lnTo>
                            <a:pt x="135" y="2056"/>
                          </a:lnTo>
                          <a:lnTo>
                            <a:pt x="155" y="2173"/>
                          </a:lnTo>
                          <a:lnTo>
                            <a:pt x="394" y="2534"/>
                          </a:lnTo>
                          <a:lnTo>
                            <a:pt x="266" y="2319"/>
                          </a:lnTo>
                          <a:lnTo>
                            <a:pt x="192" y="2202"/>
                          </a:lnTo>
                          <a:lnTo>
                            <a:pt x="170" y="2163"/>
                          </a:lnTo>
                          <a:lnTo>
                            <a:pt x="117" y="1925"/>
                          </a:lnTo>
                          <a:lnTo>
                            <a:pt x="135" y="1968"/>
                          </a:lnTo>
                          <a:lnTo>
                            <a:pt x="124" y="1822"/>
                          </a:lnTo>
                          <a:lnTo>
                            <a:pt x="119" y="1847"/>
                          </a:lnTo>
                          <a:lnTo>
                            <a:pt x="168" y="1910"/>
                          </a:lnTo>
                          <a:lnTo>
                            <a:pt x="134" y="1749"/>
                          </a:lnTo>
                          <a:lnTo>
                            <a:pt x="171" y="1788"/>
                          </a:lnTo>
                          <a:lnTo>
                            <a:pt x="264" y="1861"/>
                          </a:lnTo>
                          <a:lnTo>
                            <a:pt x="361" y="1998"/>
                          </a:lnTo>
                          <a:lnTo>
                            <a:pt x="606" y="2495"/>
                          </a:lnTo>
                          <a:lnTo>
                            <a:pt x="294" y="1891"/>
                          </a:lnTo>
                          <a:lnTo>
                            <a:pt x="176" y="1749"/>
                          </a:lnTo>
                          <a:lnTo>
                            <a:pt x="144" y="1628"/>
                          </a:lnTo>
                          <a:lnTo>
                            <a:pt x="189" y="1691"/>
                          </a:lnTo>
                          <a:lnTo>
                            <a:pt x="135" y="1452"/>
                          </a:lnTo>
                          <a:lnTo>
                            <a:pt x="171" y="1467"/>
                          </a:lnTo>
                          <a:lnTo>
                            <a:pt x="149" y="1345"/>
                          </a:lnTo>
                          <a:lnTo>
                            <a:pt x="152" y="1321"/>
                          </a:lnTo>
                          <a:lnTo>
                            <a:pt x="200" y="1423"/>
                          </a:lnTo>
                          <a:lnTo>
                            <a:pt x="153" y="1243"/>
                          </a:lnTo>
                          <a:lnTo>
                            <a:pt x="190" y="1243"/>
                          </a:lnTo>
                          <a:lnTo>
                            <a:pt x="149" y="1121"/>
                          </a:lnTo>
                          <a:lnTo>
                            <a:pt x="171" y="1121"/>
                          </a:lnTo>
                          <a:lnTo>
                            <a:pt x="149" y="1053"/>
                          </a:lnTo>
                          <a:lnTo>
                            <a:pt x="186" y="1053"/>
                          </a:lnTo>
                          <a:lnTo>
                            <a:pt x="261" y="1199"/>
                          </a:lnTo>
                          <a:lnTo>
                            <a:pt x="384" y="1379"/>
                          </a:lnTo>
                          <a:lnTo>
                            <a:pt x="508" y="1525"/>
                          </a:lnTo>
                          <a:lnTo>
                            <a:pt x="617" y="1628"/>
                          </a:lnTo>
                          <a:lnTo>
                            <a:pt x="353" y="1321"/>
                          </a:lnTo>
                          <a:lnTo>
                            <a:pt x="294" y="1223"/>
                          </a:lnTo>
                          <a:lnTo>
                            <a:pt x="200" y="1097"/>
                          </a:lnTo>
                          <a:lnTo>
                            <a:pt x="186" y="1053"/>
                          </a:lnTo>
                          <a:lnTo>
                            <a:pt x="160" y="920"/>
                          </a:lnTo>
                          <a:lnTo>
                            <a:pt x="197" y="954"/>
                          </a:lnTo>
                          <a:lnTo>
                            <a:pt x="155" y="740"/>
                          </a:lnTo>
                          <a:lnTo>
                            <a:pt x="179" y="740"/>
                          </a:lnTo>
                          <a:lnTo>
                            <a:pt x="149" y="589"/>
                          </a:lnTo>
                          <a:lnTo>
                            <a:pt x="186" y="589"/>
                          </a:lnTo>
                          <a:lnTo>
                            <a:pt x="209" y="662"/>
                          </a:lnTo>
                          <a:lnTo>
                            <a:pt x="294" y="769"/>
                          </a:lnTo>
                          <a:lnTo>
                            <a:pt x="534" y="1023"/>
                          </a:lnTo>
                          <a:lnTo>
                            <a:pt x="269" y="720"/>
                          </a:lnTo>
                          <a:lnTo>
                            <a:pt x="209" y="652"/>
                          </a:lnTo>
                          <a:lnTo>
                            <a:pt x="197" y="589"/>
                          </a:lnTo>
                          <a:lnTo>
                            <a:pt x="160" y="487"/>
                          </a:lnTo>
                          <a:lnTo>
                            <a:pt x="186" y="521"/>
                          </a:lnTo>
                          <a:lnTo>
                            <a:pt x="124" y="384"/>
                          </a:lnTo>
                          <a:lnTo>
                            <a:pt x="149" y="423"/>
                          </a:lnTo>
                          <a:lnTo>
                            <a:pt x="205" y="418"/>
                          </a:lnTo>
                          <a:lnTo>
                            <a:pt x="361" y="599"/>
                          </a:lnTo>
                          <a:lnTo>
                            <a:pt x="197" y="423"/>
                          </a:lnTo>
                          <a:lnTo>
                            <a:pt x="149" y="287"/>
                          </a:lnTo>
                          <a:lnTo>
                            <a:pt x="197" y="287"/>
                          </a:lnTo>
                          <a:lnTo>
                            <a:pt x="400" y="287"/>
                          </a:lnTo>
                          <a:lnTo>
                            <a:pt x="689" y="151"/>
                          </a:lnTo>
                          <a:lnTo>
                            <a:pt x="510" y="248"/>
                          </a:lnTo>
                          <a:lnTo>
                            <a:pt x="258" y="316"/>
                          </a:lnTo>
                          <a:lnTo>
                            <a:pt x="186" y="287"/>
                          </a:lnTo>
                          <a:lnTo>
                            <a:pt x="160" y="219"/>
                          </a:lnTo>
                          <a:lnTo>
                            <a:pt x="135" y="116"/>
                          </a:lnTo>
                          <a:lnTo>
                            <a:pt x="80" y="0"/>
                          </a:lnTo>
                          <a:lnTo>
                            <a:pt x="65" y="48"/>
                          </a:lnTo>
                          <a:lnTo>
                            <a:pt x="52" y="9"/>
                          </a:lnTo>
                          <a:lnTo>
                            <a:pt x="0" y="3363"/>
                          </a:lnTo>
                          <a:close/>
                        </a:path>
                      </a:pathLst>
                    </a:custGeom>
                    <a:solidFill>
                      <a:srgbClr val="00004c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" name=""/>
                  <p:cNvSpPr/>
                  <p:nvPr/>
                </p:nvSpPr>
                <p:spPr>
                  <a:xfrm>
                    <a:off x="635040" y="4859280"/>
                    <a:ext cx="65520" cy="106236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2951">
                        <a:moveTo>
                          <a:pt x="37" y="0"/>
                        </a:moveTo>
                        <a:lnTo>
                          <a:pt x="73" y="225"/>
                        </a:lnTo>
                        <a:lnTo>
                          <a:pt x="109" y="582"/>
                        </a:lnTo>
                        <a:lnTo>
                          <a:pt x="147" y="1076"/>
                        </a:lnTo>
                        <a:lnTo>
                          <a:pt x="182" y="1703"/>
                        </a:lnTo>
                        <a:lnTo>
                          <a:pt x="182" y="2373"/>
                        </a:lnTo>
                        <a:lnTo>
                          <a:pt x="165" y="2951"/>
                        </a:lnTo>
                        <a:lnTo>
                          <a:pt x="147" y="2951"/>
                        </a:lnTo>
                        <a:lnTo>
                          <a:pt x="165" y="2373"/>
                        </a:lnTo>
                        <a:lnTo>
                          <a:pt x="165" y="1879"/>
                        </a:lnTo>
                        <a:lnTo>
                          <a:pt x="126" y="1340"/>
                        </a:lnTo>
                        <a:lnTo>
                          <a:pt x="73" y="807"/>
                        </a:lnTo>
                        <a:lnTo>
                          <a:pt x="0" y="13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99880" y="4424400"/>
                    <a:ext cx="194040" cy="9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539" h="2642">
                        <a:moveTo>
                          <a:pt x="155" y="2642"/>
                        </a:moveTo>
                        <a:lnTo>
                          <a:pt x="119" y="2188"/>
                        </a:lnTo>
                        <a:lnTo>
                          <a:pt x="101" y="1994"/>
                        </a:lnTo>
                        <a:lnTo>
                          <a:pt x="61" y="1756"/>
                        </a:lnTo>
                        <a:lnTo>
                          <a:pt x="22" y="1526"/>
                        </a:lnTo>
                        <a:lnTo>
                          <a:pt x="8" y="1394"/>
                        </a:lnTo>
                        <a:lnTo>
                          <a:pt x="0" y="1261"/>
                        </a:lnTo>
                        <a:lnTo>
                          <a:pt x="8" y="1062"/>
                        </a:lnTo>
                        <a:lnTo>
                          <a:pt x="17" y="864"/>
                        </a:lnTo>
                        <a:lnTo>
                          <a:pt x="79" y="361"/>
                        </a:lnTo>
                        <a:lnTo>
                          <a:pt x="101" y="246"/>
                        </a:lnTo>
                        <a:lnTo>
                          <a:pt x="155" y="114"/>
                        </a:lnTo>
                        <a:lnTo>
                          <a:pt x="195" y="30"/>
                        </a:lnTo>
                        <a:lnTo>
                          <a:pt x="252" y="0"/>
                        </a:lnTo>
                        <a:lnTo>
                          <a:pt x="296" y="30"/>
                        </a:lnTo>
                        <a:lnTo>
                          <a:pt x="353" y="114"/>
                        </a:lnTo>
                        <a:lnTo>
                          <a:pt x="407" y="268"/>
                        </a:lnTo>
                        <a:lnTo>
                          <a:pt x="420" y="379"/>
                        </a:lnTo>
                        <a:lnTo>
                          <a:pt x="460" y="537"/>
                        </a:lnTo>
                        <a:lnTo>
                          <a:pt x="487" y="679"/>
                        </a:lnTo>
                        <a:lnTo>
                          <a:pt x="531" y="1372"/>
                        </a:lnTo>
                        <a:lnTo>
                          <a:pt x="539" y="1504"/>
                        </a:lnTo>
                        <a:lnTo>
                          <a:pt x="531" y="1725"/>
                        </a:lnTo>
                        <a:lnTo>
                          <a:pt x="500" y="2373"/>
                        </a:lnTo>
                        <a:lnTo>
                          <a:pt x="500" y="1742"/>
                        </a:lnTo>
                        <a:lnTo>
                          <a:pt x="487" y="1465"/>
                        </a:lnTo>
                        <a:lnTo>
                          <a:pt x="478" y="1287"/>
                        </a:lnTo>
                        <a:lnTo>
                          <a:pt x="456" y="1062"/>
                        </a:lnTo>
                        <a:lnTo>
                          <a:pt x="429" y="833"/>
                        </a:lnTo>
                        <a:lnTo>
                          <a:pt x="397" y="608"/>
                        </a:lnTo>
                        <a:lnTo>
                          <a:pt x="358" y="401"/>
                        </a:lnTo>
                        <a:lnTo>
                          <a:pt x="327" y="216"/>
                        </a:lnTo>
                        <a:lnTo>
                          <a:pt x="296" y="114"/>
                        </a:lnTo>
                        <a:lnTo>
                          <a:pt x="256" y="70"/>
                        </a:lnTo>
                        <a:lnTo>
                          <a:pt x="221" y="114"/>
                        </a:lnTo>
                        <a:lnTo>
                          <a:pt x="186" y="207"/>
                        </a:lnTo>
                        <a:lnTo>
                          <a:pt x="172" y="379"/>
                        </a:lnTo>
                        <a:lnTo>
                          <a:pt x="172" y="507"/>
                        </a:lnTo>
                        <a:lnTo>
                          <a:pt x="164" y="754"/>
                        </a:lnTo>
                        <a:lnTo>
                          <a:pt x="150" y="899"/>
                        </a:lnTo>
                        <a:lnTo>
                          <a:pt x="110" y="1137"/>
                        </a:lnTo>
                        <a:lnTo>
                          <a:pt x="101" y="1261"/>
                        </a:lnTo>
                        <a:lnTo>
                          <a:pt x="92" y="1381"/>
                        </a:lnTo>
                        <a:lnTo>
                          <a:pt x="92" y="1557"/>
                        </a:lnTo>
                        <a:lnTo>
                          <a:pt x="164" y="2148"/>
                        </a:lnTo>
                        <a:lnTo>
                          <a:pt x="155" y="2642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" name=""/>
                <p:cNvSpPr/>
                <p:nvPr/>
              </p:nvSpPr>
              <p:spPr>
                <a:xfrm>
                  <a:off x="1506600" y="6291360"/>
                  <a:ext cx="100440" cy="270360"/>
                </a:xfrm>
                <a:custGeom>
                  <a:avLst/>
                  <a:gdLst/>
                  <a:ahLst/>
                  <a:rect l="0" t="0" r="r" b="b"/>
                  <a:pathLst>
                    <a:path w="279" h="751">
                      <a:moveTo>
                        <a:pt x="223" y="0"/>
                      </a:moveTo>
                      <a:lnTo>
                        <a:pt x="203" y="14"/>
                      </a:lnTo>
                      <a:lnTo>
                        <a:pt x="113" y="147"/>
                      </a:lnTo>
                      <a:lnTo>
                        <a:pt x="56" y="274"/>
                      </a:lnTo>
                      <a:lnTo>
                        <a:pt x="0" y="431"/>
                      </a:lnTo>
                      <a:lnTo>
                        <a:pt x="0" y="602"/>
                      </a:lnTo>
                      <a:lnTo>
                        <a:pt x="28" y="751"/>
                      </a:lnTo>
                      <a:lnTo>
                        <a:pt x="56" y="751"/>
                      </a:lnTo>
                      <a:lnTo>
                        <a:pt x="28" y="602"/>
                      </a:lnTo>
                      <a:lnTo>
                        <a:pt x="28" y="477"/>
                      </a:lnTo>
                      <a:lnTo>
                        <a:pt x="85" y="340"/>
                      </a:lnTo>
                      <a:lnTo>
                        <a:pt x="166" y="205"/>
                      </a:lnTo>
                      <a:lnTo>
                        <a:pt x="279" y="34"/>
                      </a:lnTo>
                      <a:lnTo>
                        <a:pt x="223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122640" y="6194520"/>
                  <a:ext cx="135360" cy="262440"/>
                </a:xfrm>
                <a:custGeom>
                  <a:avLst/>
                  <a:gdLst/>
                  <a:ahLst/>
                  <a:rect l="0" t="0" r="r" b="b"/>
                  <a:pathLst>
                    <a:path w="376" h="729">
                      <a:moveTo>
                        <a:pt x="74" y="0"/>
                      </a:moveTo>
                      <a:lnTo>
                        <a:pt x="150" y="54"/>
                      </a:lnTo>
                      <a:lnTo>
                        <a:pt x="225" y="142"/>
                      </a:lnTo>
                      <a:lnTo>
                        <a:pt x="301" y="265"/>
                      </a:lnTo>
                      <a:lnTo>
                        <a:pt x="376" y="419"/>
                      </a:lnTo>
                      <a:lnTo>
                        <a:pt x="376" y="584"/>
                      </a:lnTo>
                      <a:lnTo>
                        <a:pt x="339" y="729"/>
                      </a:lnTo>
                      <a:lnTo>
                        <a:pt x="301" y="729"/>
                      </a:lnTo>
                      <a:lnTo>
                        <a:pt x="339" y="584"/>
                      </a:lnTo>
                      <a:lnTo>
                        <a:pt x="339" y="464"/>
                      </a:lnTo>
                      <a:lnTo>
                        <a:pt x="263" y="331"/>
                      </a:lnTo>
                      <a:lnTo>
                        <a:pt x="150" y="200"/>
                      </a:lnTo>
                      <a:lnTo>
                        <a:pt x="0" y="33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468520" y="6048360"/>
                  <a:ext cx="225720" cy="260640"/>
                </a:xfrm>
                <a:custGeom>
                  <a:avLst/>
                  <a:gdLst/>
                  <a:ahLst/>
                  <a:rect l="0" t="0" r="r" b="b"/>
                  <a:pathLst>
                    <a:path w="627" h="724">
                      <a:moveTo>
                        <a:pt x="612" y="113"/>
                      </a:moveTo>
                      <a:lnTo>
                        <a:pt x="482" y="0"/>
                      </a:lnTo>
                      <a:lnTo>
                        <a:pt x="395" y="1"/>
                      </a:lnTo>
                      <a:lnTo>
                        <a:pt x="328" y="7"/>
                      </a:lnTo>
                      <a:lnTo>
                        <a:pt x="269" y="39"/>
                      </a:lnTo>
                      <a:lnTo>
                        <a:pt x="125" y="132"/>
                      </a:lnTo>
                      <a:lnTo>
                        <a:pt x="77" y="173"/>
                      </a:lnTo>
                      <a:lnTo>
                        <a:pt x="48" y="215"/>
                      </a:lnTo>
                      <a:lnTo>
                        <a:pt x="9" y="340"/>
                      </a:lnTo>
                      <a:lnTo>
                        <a:pt x="0" y="378"/>
                      </a:lnTo>
                      <a:lnTo>
                        <a:pt x="9" y="425"/>
                      </a:lnTo>
                      <a:lnTo>
                        <a:pt x="33" y="475"/>
                      </a:lnTo>
                      <a:lnTo>
                        <a:pt x="91" y="552"/>
                      </a:lnTo>
                      <a:lnTo>
                        <a:pt x="139" y="603"/>
                      </a:lnTo>
                      <a:lnTo>
                        <a:pt x="211" y="657"/>
                      </a:lnTo>
                      <a:lnTo>
                        <a:pt x="352" y="724"/>
                      </a:lnTo>
                      <a:lnTo>
                        <a:pt x="279" y="640"/>
                      </a:lnTo>
                      <a:lnTo>
                        <a:pt x="221" y="563"/>
                      </a:lnTo>
                      <a:lnTo>
                        <a:pt x="187" y="493"/>
                      </a:lnTo>
                      <a:lnTo>
                        <a:pt x="197" y="425"/>
                      </a:lnTo>
                      <a:lnTo>
                        <a:pt x="211" y="378"/>
                      </a:lnTo>
                      <a:lnTo>
                        <a:pt x="187" y="318"/>
                      </a:lnTo>
                      <a:lnTo>
                        <a:pt x="173" y="269"/>
                      </a:lnTo>
                      <a:lnTo>
                        <a:pt x="231" y="173"/>
                      </a:lnTo>
                      <a:lnTo>
                        <a:pt x="240" y="123"/>
                      </a:lnTo>
                      <a:lnTo>
                        <a:pt x="293" y="82"/>
                      </a:lnTo>
                      <a:lnTo>
                        <a:pt x="395" y="29"/>
                      </a:lnTo>
                      <a:lnTo>
                        <a:pt x="448" y="70"/>
                      </a:lnTo>
                      <a:lnTo>
                        <a:pt x="627" y="136"/>
                      </a:lnTo>
                      <a:lnTo>
                        <a:pt x="612" y="11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2846520" y="5819760"/>
                  <a:ext cx="554400" cy="471960"/>
                </a:xfrm>
                <a:custGeom>
                  <a:avLst/>
                  <a:gdLst/>
                  <a:ahLst/>
                  <a:rect l="0" t="0" r="r" b="b"/>
                  <a:pathLst>
                    <a:path w="1540" h="1311">
                      <a:moveTo>
                        <a:pt x="345" y="0"/>
                      </a:moveTo>
                      <a:lnTo>
                        <a:pt x="410" y="3"/>
                      </a:lnTo>
                      <a:lnTo>
                        <a:pt x="504" y="15"/>
                      </a:lnTo>
                      <a:lnTo>
                        <a:pt x="440" y="21"/>
                      </a:lnTo>
                      <a:lnTo>
                        <a:pt x="489" y="37"/>
                      </a:lnTo>
                      <a:lnTo>
                        <a:pt x="543" y="55"/>
                      </a:lnTo>
                      <a:lnTo>
                        <a:pt x="627" y="63"/>
                      </a:lnTo>
                      <a:lnTo>
                        <a:pt x="750" y="59"/>
                      </a:lnTo>
                      <a:lnTo>
                        <a:pt x="883" y="49"/>
                      </a:lnTo>
                      <a:lnTo>
                        <a:pt x="1235" y="59"/>
                      </a:lnTo>
                      <a:lnTo>
                        <a:pt x="898" y="51"/>
                      </a:lnTo>
                      <a:lnTo>
                        <a:pt x="750" y="67"/>
                      </a:lnTo>
                      <a:lnTo>
                        <a:pt x="627" y="63"/>
                      </a:lnTo>
                      <a:lnTo>
                        <a:pt x="543" y="74"/>
                      </a:lnTo>
                      <a:lnTo>
                        <a:pt x="607" y="88"/>
                      </a:lnTo>
                      <a:lnTo>
                        <a:pt x="563" y="96"/>
                      </a:lnTo>
                      <a:lnTo>
                        <a:pt x="676" y="126"/>
                      </a:lnTo>
                      <a:lnTo>
                        <a:pt x="928" y="122"/>
                      </a:lnTo>
                      <a:lnTo>
                        <a:pt x="1254" y="226"/>
                      </a:lnTo>
                      <a:lnTo>
                        <a:pt x="928" y="126"/>
                      </a:lnTo>
                      <a:lnTo>
                        <a:pt x="676" y="134"/>
                      </a:lnTo>
                      <a:lnTo>
                        <a:pt x="607" y="138"/>
                      </a:lnTo>
                      <a:lnTo>
                        <a:pt x="740" y="171"/>
                      </a:lnTo>
                      <a:lnTo>
                        <a:pt x="657" y="171"/>
                      </a:lnTo>
                      <a:lnTo>
                        <a:pt x="800" y="213"/>
                      </a:lnTo>
                      <a:lnTo>
                        <a:pt x="1071" y="264"/>
                      </a:lnTo>
                      <a:lnTo>
                        <a:pt x="1383" y="358"/>
                      </a:lnTo>
                      <a:lnTo>
                        <a:pt x="1066" y="272"/>
                      </a:lnTo>
                      <a:lnTo>
                        <a:pt x="790" y="220"/>
                      </a:lnTo>
                      <a:lnTo>
                        <a:pt x="711" y="222"/>
                      </a:lnTo>
                      <a:lnTo>
                        <a:pt x="834" y="252"/>
                      </a:lnTo>
                      <a:lnTo>
                        <a:pt x="750" y="260"/>
                      </a:lnTo>
                      <a:lnTo>
                        <a:pt x="854" y="299"/>
                      </a:lnTo>
                      <a:lnTo>
                        <a:pt x="1511" y="616"/>
                      </a:lnTo>
                      <a:lnTo>
                        <a:pt x="854" y="305"/>
                      </a:lnTo>
                      <a:lnTo>
                        <a:pt x="760" y="305"/>
                      </a:lnTo>
                      <a:lnTo>
                        <a:pt x="864" y="354"/>
                      </a:lnTo>
                      <a:lnTo>
                        <a:pt x="790" y="350"/>
                      </a:lnTo>
                      <a:lnTo>
                        <a:pt x="883" y="411"/>
                      </a:lnTo>
                      <a:lnTo>
                        <a:pt x="1156" y="519"/>
                      </a:lnTo>
                      <a:lnTo>
                        <a:pt x="1437" y="675"/>
                      </a:lnTo>
                      <a:lnTo>
                        <a:pt x="1156" y="521"/>
                      </a:lnTo>
                      <a:lnTo>
                        <a:pt x="879" y="415"/>
                      </a:lnTo>
                      <a:lnTo>
                        <a:pt x="790" y="401"/>
                      </a:lnTo>
                      <a:lnTo>
                        <a:pt x="854" y="440"/>
                      </a:lnTo>
                      <a:lnTo>
                        <a:pt x="800" y="432"/>
                      </a:lnTo>
                      <a:lnTo>
                        <a:pt x="883" y="494"/>
                      </a:lnTo>
                      <a:lnTo>
                        <a:pt x="1105" y="606"/>
                      </a:lnTo>
                      <a:lnTo>
                        <a:pt x="1540" y="754"/>
                      </a:lnTo>
                      <a:lnTo>
                        <a:pt x="1115" y="608"/>
                      </a:lnTo>
                      <a:lnTo>
                        <a:pt x="879" y="496"/>
                      </a:lnTo>
                      <a:lnTo>
                        <a:pt x="844" y="496"/>
                      </a:lnTo>
                      <a:lnTo>
                        <a:pt x="1249" y="831"/>
                      </a:lnTo>
                      <a:lnTo>
                        <a:pt x="824" y="496"/>
                      </a:lnTo>
                      <a:lnTo>
                        <a:pt x="879" y="541"/>
                      </a:lnTo>
                      <a:lnTo>
                        <a:pt x="824" y="525"/>
                      </a:lnTo>
                      <a:lnTo>
                        <a:pt x="908" y="594"/>
                      </a:lnTo>
                      <a:lnTo>
                        <a:pt x="1190" y="750"/>
                      </a:lnTo>
                      <a:lnTo>
                        <a:pt x="908" y="606"/>
                      </a:lnTo>
                      <a:lnTo>
                        <a:pt x="834" y="594"/>
                      </a:lnTo>
                      <a:lnTo>
                        <a:pt x="908" y="638"/>
                      </a:lnTo>
                      <a:lnTo>
                        <a:pt x="1245" y="943"/>
                      </a:lnTo>
                      <a:lnTo>
                        <a:pt x="982" y="707"/>
                      </a:lnTo>
                      <a:lnTo>
                        <a:pt x="883" y="638"/>
                      </a:lnTo>
                      <a:lnTo>
                        <a:pt x="834" y="630"/>
                      </a:lnTo>
                      <a:lnTo>
                        <a:pt x="898" y="679"/>
                      </a:lnTo>
                      <a:lnTo>
                        <a:pt x="844" y="671"/>
                      </a:lnTo>
                      <a:lnTo>
                        <a:pt x="928" y="732"/>
                      </a:lnTo>
                      <a:lnTo>
                        <a:pt x="967" y="784"/>
                      </a:lnTo>
                      <a:lnTo>
                        <a:pt x="1397" y="959"/>
                      </a:lnTo>
                      <a:lnTo>
                        <a:pt x="957" y="787"/>
                      </a:lnTo>
                      <a:lnTo>
                        <a:pt x="908" y="750"/>
                      </a:lnTo>
                      <a:lnTo>
                        <a:pt x="854" y="740"/>
                      </a:lnTo>
                      <a:lnTo>
                        <a:pt x="957" y="839"/>
                      </a:lnTo>
                      <a:lnTo>
                        <a:pt x="844" y="740"/>
                      </a:lnTo>
                      <a:lnTo>
                        <a:pt x="908" y="787"/>
                      </a:lnTo>
                      <a:lnTo>
                        <a:pt x="834" y="776"/>
                      </a:lnTo>
                      <a:lnTo>
                        <a:pt x="883" y="817"/>
                      </a:lnTo>
                      <a:lnTo>
                        <a:pt x="1031" y="961"/>
                      </a:lnTo>
                      <a:lnTo>
                        <a:pt x="1175" y="1049"/>
                      </a:lnTo>
                      <a:lnTo>
                        <a:pt x="1031" y="961"/>
                      </a:lnTo>
                      <a:lnTo>
                        <a:pt x="879" y="823"/>
                      </a:lnTo>
                      <a:lnTo>
                        <a:pt x="824" y="817"/>
                      </a:lnTo>
                      <a:lnTo>
                        <a:pt x="844" y="851"/>
                      </a:lnTo>
                      <a:lnTo>
                        <a:pt x="957" y="943"/>
                      </a:lnTo>
                      <a:lnTo>
                        <a:pt x="834" y="860"/>
                      </a:lnTo>
                      <a:lnTo>
                        <a:pt x="800" y="831"/>
                      </a:lnTo>
                      <a:lnTo>
                        <a:pt x="854" y="906"/>
                      </a:lnTo>
                      <a:lnTo>
                        <a:pt x="790" y="892"/>
                      </a:lnTo>
                      <a:lnTo>
                        <a:pt x="814" y="951"/>
                      </a:lnTo>
                      <a:lnTo>
                        <a:pt x="770" y="926"/>
                      </a:lnTo>
                      <a:lnTo>
                        <a:pt x="740" y="947"/>
                      </a:lnTo>
                      <a:lnTo>
                        <a:pt x="750" y="1011"/>
                      </a:lnTo>
                      <a:lnTo>
                        <a:pt x="1022" y="1311"/>
                      </a:lnTo>
                      <a:lnTo>
                        <a:pt x="731" y="1011"/>
                      </a:lnTo>
                      <a:lnTo>
                        <a:pt x="731" y="943"/>
                      </a:lnTo>
                      <a:lnTo>
                        <a:pt x="731" y="904"/>
                      </a:lnTo>
                      <a:lnTo>
                        <a:pt x="671" y="926"/>
                      </a:lnTo>
                      <a:lnTo>
                        <a:pt x="177" y="1124"/>
                      </a:lnTo>
                      <a:lnTo>
                        <a:pt x="686" y="906"/>
                      </a:lnTo>
                      <a:lnTo>
                        <a:pt x="731" y="851"/>
                      </a:lnTo>
                      <a:lnTo>
                        <a:pt x="676" y="860"/>
                      </a:lnTo>
                      <a:lnTo>
                        <a:pt x="750" y="793"/>
                      </a:lnTo>
                      <a:lnTo>
                        <a:pt x="686" y="821"/>
                      </a:lnTo>
                      <a:lnTo>
                        <a:pt x="578" y="918"/>
                      </a:lnTo>
                      <a:lnTo>
                        <a:pt x="676" y="813"/>
                      </a:lnTo>
                      <a:lnTo>
                        <a:pt x="731" y="772"/>
                      </a:lnTo>
                      <a:lnTo>
                        <a:pt x="721" y="772"/>
                      </a:lnTo>
                      <a:lnTo>
                        <a:pt x="657" y="793"/>
                      </a:lnTo>
                      <a:lnTo>
                        <a:pt x="533" y="847"/>
                      </a:lnTo>
                      <a:lnTo>
                        <a:pt x="113" y="886"/>
                      </a:lnTo>
                      <a:lnTo>
                        <a:pt x="543" y="839"/>
                      </a:lnTo>
                      <a:lnTo>
                        <a:pt x="676" y="776"/>
                      </a:lnTo>
                      <a:lnTo>
                        <a:pt x="721" y="726"/>
                      </a:lnTo>
                      <a:lnTo>
                        <a:pt x="657" y="726"/>
                      </a:lnTo>
                      <a:lnTo>
                        <a:pt x="721" y="679"/>
                      </a:lnTo>
                      <a:lnTo>
                        <a:pt x="637" y="689"/>
                      </a:lnTo>
                      <a:lnTo>
                        <a:pt x="345" y="784"/>
                      </a:lnTo>
                      <a:lnTo>
                        <a:pt x="637" y="687"/>
                      </a:lnTo>
                      <a:lnTo>
                        <a:pt x="701" y="630"/>
                      </a:lnTo>
                      <a:lnTo>
                        <a:pt x="627" y="645"/>
                      </a:lnTo>
                      <a:lnTo>
                        <a:pt x="676" y="600"/>
                      </a:lnTo>
                      <a:lnTo>
                        <a:pt x="607" y="630"/>
                      </a:lnTo>
                      <a:lnTo>
                        <a:pt x="657" y="563"/>
                      </a:lnTo>
                      <a:lnTo>
                        <a:pt x="597" y="596"/>
                      </a:lnTo>
                      <a:lnTo>
                        <a:pt x="335" y="742"/>
                      </a:lnTo>
                      <a:lnTo>
                        <a:pt x="607" y="596"/>
                      </a:lnTo>
                      <a:lnTo>
                        <a:pt x="671" y="511"/>
                      </a:lnTo>
                      <a:lnTo>
                        <a:pt x="597" y="529"/>
                      </a:lnTo>
                      <a:lnTo>
                        <a:pt x="167" y="612"/>
                      </a:lnTo>
                      <a:lnTo>
                        <a:pt x="597" y="525"/>
                      </a:lnTo>
                      <a:lnTo>
                        <a:pt x="647" y="452"/>
                      </a:lnTo>
                      <a:lnTo>
                        <a:pt x="587" y="464"/>
                      </a:lnTo>
                      <a:lnTo>
                        <a:pt x="637" y="421"/>
                      </a:lnTo>
                      <a:lnTo>
                        <a:pt x="578" y="436"/>
                      </a:lnTo>
                      <a:lnTo>
                        <a:pt x="374" y="642"/>
                      </a:lnTo>
                      <a:lnTo>
                        <a:pt x="587" y="419"/>
                      </a:lnTo>
                      <a:lnTo>
                        <a:pt x="587" y="361"/>
                      </a:lnTo>
                      <a:lnTo>
                        <a:pt x="523" y="389"/>
                      </a:lnTo>
                      <a:lnTo>
                        <a:pt x="400" y="503"/>
                      </a:lnTo>
                      <a:lnTo>
                        <a:pt x="553" y="354"/>
                      </a:lnTo>
                      <a:lnTo>
                        <a:pt x="578" y="305"/>
                      </a:lnTo>
                      <a:lnTo>
                        <a:pt x="523" y="327"/>
                      </a:lnTo>
                      <a:lnTo>
                        <a:pt x="365" y="421"/>
                      </a:lnTo>
                      <a:lnTo>
                        <a:pt x="0" y="474"/>
                      </a:lnTo>
                      <a:lnTo>
                        <a:pt x="374" y="415"/>
                      </a:lnTo>
                      <a:lnTo>
                        <a:pt x="513" y="313"/>
                      </a:lnTo>
                      <a:lnTo>
                        <a:pt x="533" y="250"/>
                      </a:lnTo>
                      <a:lnTo>
                        <a:pt x="469" y="280"/>
                      </a:lnTo>
                      <a:lnTo>
                        <a:pt x="504" y="220"/>
                      </a:lnTo>
                      <a:lnTo>
                        <a:pt x="261" y="377"/>
                      </a:lnTo>
                      <a:lnTo>
                        <a:pt x="489" y="213"/>
                      </a:lnTo>
                      <a:lnTo>
                        <a:pt x="513" y="167"/>
                      </a:lnTo>
                      <a:lnTo>
                        <a:pt x="440" y="203"/>
                      </a:lnTo>
                      <a:lnTo>
                        <a:pt x="449" y="130"/>
                      </a:lnTo>
                      <a:lnTo>
                        <a:pt x="355" y="163"/>
                      </a:lnTo>
                      <a:lnTo>
                        <a:pt x="19" y="287"/>
                      </a:lnTo>
                      <a:lnTo>
                        <a:pt x="355" y="159"/>
                      </a:lnTo>
                      <a:lnTo>
                        <a:pt x="400" y="88"/>
                      </a:lnTo>
                      <a:lnTo>
                        <a:pt x="345" y="108"/>
                      </a:lnTo>
                      <a:lnTo>
                        <a:pt x="374" y="55"/>
                      </a:lnTo>
                      <a:lnTo>
                        <a:pt x="325" y="71"/>
                      </a:lnTo>
                      <a:lnTo>
                        <a:pt x="315" y="29"/>
                      </a:lnTo>
                      <a:lnTo>
                        <a:pt x="325" y="11"/>
                      </a:lnTo>
                      <a:lnTo>
                        <a:pt x="345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198440" y="6070680"/>
                  <a:ext cx="424080" cy="348120"/>
                </a:xfrm>
                <a:custGeom>
                  <a:avLst/>
                  <a:gdLst/>
                  <a:ahLst/>
                  <a:rect l="0" t="0" r="r" b="b"/>
                  <a:pathLst>
                    <a:path w="1178" h="967">
                      <a:moveTo>
                        <a:pt x="665" y="13"/>
                      </a:moveTo>
                      <a:lnTo>
                        <a:pt x="587" y="0"/>
                      </a:lnTo>
                      <a:lnTo>
                        <a:pt x="537" y="26"/>
                      </a:lnTo>
                      <a:lnTo>
                        <a:pt x="485" y="34"/>
                      </a:lnTo>
                      <a:lnTo>
                        <a:pt x="368" y="42"/>
                      </a:lnTo>
                      <a:lnTo>
                        <a:pt x="83" y="42"/>
                      </a:lnTo>
                      <a:lnTo>
                        <a:pt x="368" y="49"/>
                      </a:lnTo>
                      <a:lnTo>
                        <a:pt x="451" y="34"/>
                      </a:lnTo>
                      <a:lnTo>
                        <a:pt x="504" y="42"/>
                      </a:lnTo>
                      <a:lnTo>
                        <a:pt x="436" y="59"/>
                      </a:lnTo>
                      <a:lnTo>
                        <a:pt x="485" y="59"/>
                      </a:lnTo>
                      <a:lnTo>
                        <a:pt x="436" y="85"/>
                      </a:lnTo>
                      <a:lnTo>
                        <a:pt x="64" y="229"/>
                      </a:lnTo>
                      <a:lnTo>
                        <a:pt x="451" y="85"/>
                      </a:lnTo>
                      <a:lnTo>
                        <a:pt x="436" y="102"/>
                      </a:lnTo>
                      <a:lnTo>
                        <a:pt x="384" y="128"/>
                      </a:lnTo>
                      <a:lnTo>
                        <a:pt x="335" y="136"/>
                      </a:lnTo>
                      <a:lnTo>
                        <a:pt x="233" y="145"/>
                      </a:lnTo>
                      <a:lnTo>
                        <a:pt x="64" y="128"/>
                      </a:lnTo>
                      <a:lnTo>
                        <a:pt x="335" y="145"/>
                      </a:lnTo>
                      <a:lnTo>
                        <a:pt x="384" y="128"/>
                      </a:lnTo>
                      <a:lnTo>
                        <a:pt x="436" y="118"/>
                      </a:lnTo>
                      <a:lnTo>
                        <a:pt x="421" y="145"/>
                      </a:lnTo>
                      <a:lnTo>
                        <a:pt x="384" y="153"/>
                      </a:lnTo>
                      <a:lnTo>
                        <a:pt x="49" y="237"/>
                      </a:lnTo>
                      <a:lnTo>
                        <a:pt x="384" y="161"/>
                      </a:lnTo>
                      <a:lnTo>
                        <a:pt x="421" y="161"/>
                      </a:lnTo>
                      <a:lnTo>
                        <a:pt x="384" y="186"/>
                      </a:lnTo>
                      <a:lnTo>
                        <a:pt x="335" y="212"/>
                      </a:lnTo>
                      <a:lnTo>
                        <a:pt x="49" y="264"/>
                      </a:lnTo>
                      <a:lnTo>
                        <a:pt x="368" y="202"/>
                      </a:lnTo>
                      <a:lnTo>
                        <a:pt x="384" y="202"/>
                      </a:lnTo>
                      <a:lnTo>
                        <a:pt x="402" y="212"/>
                      </a:lnTo>
                      <a:lnTo>
                        <a:pt x="335" y="246"/>
                      </a:lnTo>
                      <a:lnTo>
                        <a:pt x="402" y="237"/>
                      </a:lnTo>
                      <a:lnTo>
                        <a:pt x="316" y="281"/>
                      </a:lnTo>
                      <a:lnTo>
                        <a:pt x="249" y="305"/>
                      </a:lnTo>
                      <a:lnTo>
                        <a:pt x="116" y="324"/>
                      </a:lnTo>
                      <a:lnTo>
                        <a:pt x="49" y="324"/>
                      </a:lnTo>
                      <a:lnTo>
                        <a:pt x="166" y="315"/>
                      </a:lnTo>
                      <a:lnTo>
                        <a:pt x="301" y="297"/>
                      </a:lnTo>
                      <a:lnTo>
                        <a:pt x="335" y="289"/>
                      </a:lnTo>
                      <a:lnTo>
                        <a:pt x="301" y="315"/>
                      </a:lnTo>
                      <a:lnTo>
                        <a:pt x="233" y="348"/>
                      </a:lnTo>
                      <a:lnTo>
                        <a:pt x="116" y="366"/>
                      </a:lnTo>
                      <a:lnTo>
                        <a:pt x="0" y="381"/>
                      </a:lnTo>
                      <a:lnTo>
                        <a:pt x="150" y="356"/>
                      </a:lnTo>
                      <a:lnTo>
                        <a:pt x="249" y="330"/>
                      </a:lnTo>
                      <a:lnTo>
                        <a:pt x="335" y="305"/>
                      </a:lnTo>
                      <a:lnTo>
                        <a:pt x="350" y="297"/>
                      </a:lnTo>
                      <a:lnTo>
                        <a:pt x="335" y="324"/>
                      </a:lnTo>
                      <a:lnTo>
                        <a:pt x="368" y="315"/>
                      </a:lnTo>
                      <a:lnTo>
                        <a:pt x="402" y="324"/>
                      </a:lnTo>
                      <a:lnTo>
                        <a:pt x="335" y="348"/>
                      </a:lnTo>
                      <a:lnTo>
                        <a:pt x="335" y="366"/>
                      </a:lnTo>
                      <a:lnTo>
                        <a:pt x="249" y="399"/>
                      </a:lnTo>
                      <a:lnTo>
                        <a:pt x="282" y="399"/>
                      </a:lnTo>
                      <a:lnTo>
                        <a:pt x="249" y="417"/>
                      </a:lnTo>
                      <a:lnTo>
                        <a:pt x="132" y="450"/>
                      </a:lnTo>
                      <a:lnTo>
                        <a:pt x="30" y="459"/>
                      </a:lnTo>
                      <a:lnTo>
                        <a:pt x="181" y="441"/>
                      </a:lnTo>
                      <a:lnTo>
                        <a:pt x="267" y="417"/>
                      </a:lnTo>
                      <a:lnTo>
                        <a:pt x="316" y="408"/>
                      </a:lnTo>
                      <a:lnTo>
                        <a:pt x="316" y="432"/>
                      </a:lnTo>
                      <a:lnTo>
                        <a:pt x="316" y="441"/>
                      </a:lnTo>
                      <a:lnTo>
                        <a:pt x="267" y="477"/>
                      </a:lnTo>
                      <a:lnTo>
                        <a:pt x="218" y="501"/>
                      </a:lnTo>
                      <a:lnTo>
                        <a:pt x="249" y="501"/>
                      </a:lnTo>
                      <a:lnTo>
                        <a:pt x="202" y="518"/>
                      </a:lnTo>
                      <a:lnTo>
                        <a:pt x="30" y="561"/>
                      </a:lnTo>
                      <a:lnTo>
                        <a:pt x="150" y="534"/>
                      </a:lnTo>
                      <a:lnTo>
                        <a:pt x="233" y="518"/>
                      </a:lnTo>
                      <a:lnTo>
                        <a:pt x="233" y="544"/>
                      </a:lnTo>
                      <a:lnTo>
                        <a:pt x="181" y="551"/>
                      </a:lnTo>
                      <a:lnTo>
                        <a:pt x="233" y="544"/>
                      </a:lnTo>
                      <a:lnTo>
                        <a:pt x="233" y="561"/>
                      </a:lnTo>
                      <a:lnTo>
                        <a:pt x="202" y="577"/>
                      </a:lnTo>
                      <a:lnTo>
                        <a:pt x="49" y="602"/>
                      </a:lnTo>
                      <a:lnTo>
                        <a:pt x="181" y="577"/>
                      </a:lnTo>
                      <a:lnTo>
                        <a:pt x="181" y="586"/>
                      </a:lnTo>
                      <a:lnTo>
                        <a:pt x="202" y="594"/>
                      </a:lnTo>
                      <a:lnTo>
                        <a:pt x="49" y="653"/>
                      </a:lnTo>
                      <a:lnTo>
                        <a:pt x="166" y="610"/>
                      </a:lnTo>
                      <a:lnTo>
                        <a:pt x="202" y="602"/>
                      </a:lnTo>
                      <a:lnTo>
                        <a:pt x="218" y="620"/>
                      </a:lnTo>
                      <a:lnTo>
                        <a:pt x="181" y="637"/>
                      </a:lnTo>
                      <a:lnTo>
                        <a:pt x="218" y="628"/>
                      </a:lnTo>
                      <a:lnTo>
                        <a:pt x="181" y="679"/>
                      </a:lnTo>
                      <a:lnTo>
                        <a:pt x="30" y="738"/>
                      </a:lnTo>
                      <a:lnTo>
                        <a:pt x="181" y="679"/>
                      </a:lnTo>
                      <a:lnTo>
                        <a:pt x="166" y="704"/>
                      </a:lnTo>
                      <a:lnTo>
                        <a:pt x="218" y="679"/>
                      </a:lnTo>
                      <a:lnTo>
                        <a:pt x="218" y="704"/>
                      </a:lnTo>
                      <a:lnTo>
                        <a:pt x="233" y="824"/>
                      </a:lnTo>
                      <a:lnTo>
                        <a:pt x="384" y="967"/>
                      </a:lnTo>
                      <a:lnTo>
                        <a:pt x="233" y="816"/>
                      </a:lnTo>
                      <a:lnTo>
                        <a:pt x="233" y="756"/>
                      </a:lnTo>
                      <a:lnTo>
                        <a:pt x="249" y="712"/>
                      </a:lnTo>
                      <a:lnTo>
                        <a:pt x="267" y="679"/>
                      </a:lnTo>
                      <a:lnTo>
                        <a:pt x="301" y="620"/>
                      </a:lnTo>
                      <a:lnTo>
                        <a:pt x="335" y="645"/>
                      </a:lnTo>
                      <a:lnTo>
                        <a:pt x="553" y="967"/>
                      </a:lnTo>
                      <a:lnTo>
                        <a:pt x="350" y="645"/>
                      </a:lnTo>
                      <a:lnTo>
                        <a:pt x="350" y="610"/>
                      </a:lnTo>
                      <a:lnTo>
                        <a:pt x="384" y="628"/>
                      </a:lnTo>
                      <a:lnTo>
                        <a:pt x="421" y="943"/>
                      </a:lnTo>
                      <a:lnTo>
                        <a:pt x="402" y="671"/>
                      </a:lnTo>
                      <a:lnTo>
                        <a:pt x="384" y="620"/>
                      </a:lnTo>
                      <a:lnTo>
                        <a:pt x="368" y="602"/>
                      </a:lnTo>
                      <a:lnTo>
                        <a:pt x="384" y="561"/>
                      </a:lnTo>
                      <a:lnTo>
                        <a:pt x="402" y="594"/>
                      </a:lnTo>
                      <a:lnTo>
                        <a:pt x="451" y="661"/>
                      </a:lnTo>
                      <a:lnTo>
                        <a:pt x="504" y="704"/>
                      </a:lnTo>
                      <a:lnTo>
                        <a:pt x="640" y="765"/>
                      </a:lnTo>
                      <a:lnTo>
                        <a:pt x="926" y="875"/>
                      </a:lnTo>
                      <a:lnTo>
                        <a:pt x="553" y="712"/>
                      </a:lnTo>
                      <a:lnTo>
                        <a:pt x="485" y="671"/>
                      </a:lnTo>
                      <a:lnTo>
                        <a:pt x="451" y="645"/>
                      </a:lnTo>
                      <a:lnTo>
                        <a:pt x="421" y="610"/>
                      </a:lnTo>
                      <a:lnTo>
                        <a:pt x="436" y="518"/>
                      </a:lnTo>
                      <a:lnTo>
                        <a:pt x="451" y="544"/>
                      </a:lnTo>
                      <a:lnTo>
                        <a:pt x="451" y="492"/>
                      </a:lnTo>
                      <a:lnTo>
                        <a:pt x="451" y="477"/>
                      </a:lnTo>
                      <a:lnTo>
                        <a:pt x="485" y="518"/>
                      </a:lnTo>
                      <a:lnTo>
                        <a:pt x="809" y="832"/>
                      </a:lnTo>
                      <a:lnTo>
                        <a:pt x="537" y="577"/>
                      </a:lnTo>
                      <a:lnTo>
                        <a:pt x="504" y="551"/>
                      </a:lnTo>
                      <a:lnTo>
                        <a:pt x="485" y="518"/>
                      </a:lnTo>
                      <a:lnTo>
                        <a:pt x="485" y="424"/>
                      </a:lnTo>
                      <a:lnTo>
                        <a:pt x="504" y="432"/>
                      </a:lnTo>
                      <a:lnTo>
                        <a:pt x="519" y="381"/>
                      </a:lnTo>
                      <a:lnTo>
                        <a:pt x="571" y="399"/>
                      </a:lnTo>
                      <a:lnTo>
                        <a:pt x="821" y="748"/>
                      </a:lnTo>
                      <a:lnTo>
                        <a:pt x="689" y="577"/>
                      </a:lnTo>
                      <a:lnTo>
                        <a:pt x="640" y="501"/>
                      </a:lnTo>
                      <a:lnTo>
                        <a:pt x="571" y="432"/>
                      </a:lnTo>
                      <a:lnTo>
                        <a:pt x="571" y="391"/>
                      </a:lnTo>
                      <a:lnTo>
                        <a:pt x="553" y="324"/>
                      </a:lnTo>
                      <a:lnTo>
                        <a:pt x="587" y="330"/>
                      </a:lnTo>
                      <a:lnTo>
                        <a:pt x="723" y="679"/>
                      </a:lnTo>
                      <a:lnTo>
                        <a:pt x="571" y="305"/>
                      </a:lnTo>
                      <a:lnTo>
                        <a:pt x="571" y="272"/>
                      </a:lnTo>
                      <a:lnTo>
                        <a:pt x="587" y="297"/>
                      </a:lnTo>
                      <a:lnTo>
                        <a:pt x="587" y="220"/>
                      </a:lnTo>
                      <a:lnTo>
                        <a:pt x="621" y="246"/>
                      </a:lnTo>
                      <a:lnTo>
                        <a:pt x="621" y="202"/>
                      </a:lnTo>
                      <a:lnTo>
                        <a:pt x="671" y="229"/>
                      </a:lnTo>
                      <a:lnTo>
                        <a:pt x="741" y="315"/>
                      </a:lnTo>
                      <a:lnTo>
                        <a:pt x="821" y="366"/>
                      </a:lnTo>
                      <a:lnTo>
                        <a:pt x="975" y="450"/>
                      </a:lnTo>
                      <a:lnTo>
                        <a:pt x="1058" y="526"/>
                      </a:lnTo>
                      <a:lnTo>
                        <a:pt x="821" y="366"/>
                      </a:lnTo>
                      <a:lnTo>
                        <a:pt x="757" y="324"/>
                      </a:lnTo>
                      <a:lnTo>
                        <a:pt x="689" y="264"/>
                      </a:lnTo>
                      <a:lnTo>
                        <a:pt x="671" y="220"/>
                      </a:lnTo>
                      <a:lnTo>
                        <a:pt x="640" y="145"/>
                      </a:lnTo>
                      <a:lnTo>
                        <a:pt x="655" y="153"/>
                      </a:lnTo>
                      <a:lnTo>
                        <a:pt x="689" y="145"/>
                      </a:lnTo>
                      <a:lnTo>
                        <a:pt x="671" y="112"/>
                      </a:lnTo>
                      <a:lnTo>
                        <a:pt x="704" y="145"/>
                      </a:lnTo>
                      <a:lnTo>
                        <a:pt x="741" y="177"/>
                      </a:lnTo>
                      <a:lnTo>
                        <a:pt x="821" y="212"/>
                      </a:lnTo>
                      <a:lnTo>
                        <a:pt x="944" y="246"/>
                      </a:lnTo>
                      <a:lnTo>
                        <a:pt x="1178" y="330"/>
                      </a:lnTo>
                      <a:lnTo>
                        <a:pt x="791" y="202"/>
                      </a:lnTo>
                      <a:lnTo>
                        <a:pt x="741" y="169"/>
                      </a:lnTo>
                      <a:lnTo>
                        <a:pt x="723" y="153"/>
                      </a:lnTo>
                      <a:lnTo>
                        <a:pt x="723" y="67"/>
                      </a:lnTo>
                      <a:lnTo>
                        <a:pt x="757" y="93"/>
                      </a:lnTo>
                      <a:lnTo>
                        <a:pt x="809" y="136"/>
                      </a:lnTo>
                      <a:lnTo>
                        <a:pt x="907" y="202"/>
                      </a:lnTo>
                      <a:lnTo>
                        <a:pt x="1043" y="272"/>
                      </a:lnTo>
                      <a:lnTo>
                        <a:pt x="1076" y="305"/>
                      </a:lnTo>
                      <a:lnTo>
                        <a:pt x="787" y="136"/>
                      </a:lnTo>
                      <a:lnTo>
                        <a:pt x="757" y="75"/>
                      </a:lnTo>
                      <a:lnTo>
                        <a:pt x="772" y="34"/>
                      </a:lnTo>
                      <a:lnTo>
                        <a:pt x="692" y="8"/>
                      </a:lnTo>
                      <a:lnTo>
                        <a:pt x="665" y="1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05120" y="6213600"/>
                  <a:ext cx="319320" cy="344880"/>
                </a:xfrm>
                <a:custGeom>
                  <a:avLst/>
                  <a:gdLst/>
                  <a:ahLst/>
                  <a:rect l="0" t="0" r="r" b="b"/>
                  <a:pathLst>
                    <a:path w="887" h="958">
                      <a:moveTo>
                        <a:pt x="209" y="958"/>
                      </a:moveTo>
                      <a:lnTo>
                        <a:pt x="30" y="551"/>
                      </a:lnTo>
                      <a:lnTo>
                        <a:pt x="18" y="534"/>
                      </a:lnTo>
                      <a:lnTo>
                        <a:pt x="6" y="499"/>
                      </a:lnTo>
                      <a:lnTo>
                        <a:pt x="6" y="464"/>
                      </a:lnTo>
                      <a:lnTo>
                        <a:pt x="0" y="430"/>
                      </a:lnTo>
                      <a:lnTo>
                        <a:pt x="6" y="389"/>
                      </a:lnTo>
                      <a:lnTo>
                        <a:pt x="24" y="331"/>
                      </a:lnTo>
                      <a:lnTo>
                        <a:pt x="123" y="104"/>
                      </a:lnTo>
                      <a:lnTo>
                        <a:pt x="147" y="86"/>
                      </a:lnTo>
                      <a:lnTo>
                        <a:pt x="190" y="46"/>
                      </a:lnTo>
                      <a:lnTo>
                        <a:pt x="240" y="23"/>
                      </a:lnTo>
                      <a:lnTo>
                        <a:pt x="313" y="5"/>
                      </a:lnTo>
                      <a:lnTo>
                        <a:pt x="369" y="0"/>
                      </a:lnTo>
                      <a:lnTo>
                        <a:pt x="418" y="11"/>
                      </a:lnTo>
                      <a:lnTo>
                        <a:pt x="481" y="28"/>
                      </a:lnTo>
                      <a:lnTo>
                        <a:pt x="554" y="69"/>
                      </a:lnTo>
                      <a:lnTo>
                        <a:pt x="641" y="115"/>
                      </a:lnTo>
                      <a:lnTo>
                        <a:pt x="690" y="150"/>
                      </a:lnTo>
                      <a:lnTo>
                        <a:pt x="727" y="191"/>
                      </a:lnTo>
                      <a:lnTo>
                        <a:pt x="745" y="214"/>
                      </a:lnTo>
                      <a:lnTo>
                        <a:pt x="819" y="337"/>
                      </a:lnTo>
                      <a:lnTo>
                        <a:pt x="825" y="343"/>
                      </a:lnTo>
                      <a:lnTo>
                        <a:pt x="844" y="395"/>
                      </a:lnTo>
                      <a:lnTo>
                        <a:pt x="850" y="430"/>
                      </a:lnTo>
                      <a:lnTo>
                        <a:pt x="887" y="609"/>
                      </a:lnTo>
                      <a:lnTo>
                        <a:pt x="838" y="505"/>
                      </a:lnTo>
                      <a:lnTo>
                        <a:pt x="795" y="424"/>
                      </a:lnTo>
                      <a:lnTo>
                        <a:pt x="745" y="343"/>
                      </a:lnTo>
                      <a:lnTo>
                        <a:pt x="684" y="261"/>
                      </a:lnTo>
                      <a:lnTo>
                        <a:pt x="474" y="75"/>
                      </a:lnTo>
                      <a:lnTo>
                        <a:pt x="418" y="52"/>
                      </a:lnTo>
                      <a:lnTo>
                        <a:pt x="369" y="40"/>
                      </a:lnTo>
                      <a:lnTo>
                        <a:pt x="332" y="40"/>
                      </a:lnTo>
                      <a:lnTo>
                        <a:pt x="289" y="63"/>
                      </a:lnTo>
                      <a:lnTo>
                        <a:pt x="233" y="127"/>
                      </a:lnTo>
                      <a:lnTo>
                        <a:pt x="172" y="348"/>
                      </a:lnTo>
                      <a:lnTo>
                        <a:pt x="110" y="499"/>
                      </a:lnTo>
                      <a:lnTo>
                        <a:pt x="104" y="534"/>
                      </a:lnTo>
                      <a:lnTo>
                        <a:pt x="110" y="569"/>
                      </a:lnTo>
                      <a:lnTo>
                        <a:pt x="116" y="604"/>
                      </a:lnTo>
                      <a:lnTo>
                        <a:pt x="166" y="679"/>
                      </a:lnTo>
                      <a:lnTo>
                        <a:pt x="135" y="609"/>
                      </a:lnTo>
                      <a:lnTo>
                        <a:pt x="196" y="755"/>
                      </a:lnTo>
                      <a:lnTo>
                        <a:pt x="227" y="831"/>
                      </a:lnTo>
                      <a:lnTo>
                        <a:pt x="240" y="889"/>
                      </a:lnTo>
                      <a:lnTo>
                        <a:pt x="215" y="947"/>
                      </a:lnTo>
                      <a:lnTo>
                        <a:pt x="209" y="958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736640" y="6091200"/>
                  <a:ext cx="356040" cy="327240"/>
                </a:xfrm>
                <a:custGeom>
                  <a:avLst/>
                  <a:gdLst/>
                  <a:ahLst/>
                  <a:rect l="0" t="0" r="r" b="b"/>
                  <a:pathLst>
                    <a:path w="989" h="909">
                      <a:moveTo>
                        <a:pt x="977" y="141"/>
                      </a:moveTo>
                      <a:lnTo>
                        <a:pt x="906" y="81"/>
                      </a:lnTo>
                      <a:lnTo>
                        <a:pt x="872" y="58"/>
                      </a:lnTo>
                      <a:lnTo>
                        <a:pt x="802" y="39"/>
                      </a:lnTo>
                      <a:lnTo>
                        <a:pt x="733" y="21"/>
                      </a:lnTo>
                      <a:lnTo>
                        <a:pt x="641" y="3"/>
                      </a:lnTo>
                      <a:lnTo>
                        <a:pt x="561" y="0"/>
                      </a:lnTo>
                      <a:lnTo>
                        <a:pt x="490" y="8"/>
                      </a:lnTo>
                      <a:lnTo>
                        <a:pt x="407" y="17"/>
                      </a:lnTo>
                      <a:lnTo>
                        <a:pt x="314" y="34"/>
                      </a:lnTo>
                      <a:lnTo>
                        <a:pt x="256" y="68"/>
                      </a:lnTo>
                      <a:lnTo>
                        <a:pt x="196" y="117"/>
                      </a:lnTo>
                      <a:lnTo>
                        <a:pt x="138" y="154"/>
                      </a:lnTo>
                      <a:lnTo>
                        <a:pt x="92" y="193"/>
                      </a:lnTo>
                      <a:lnTo>
                        <a:pt x="36" y="245"/>
                      </a:lnTo>
                      <a:lnTo>
                        <a:pt x="0" y="354"/>
                      </a:lnTo>
                      <a:lnTo>
                        <a:pt x="12" y="437"/>
                      </a:lnTo>
                      <a:lnTo>
                        <a:pt x="58" y="558"/>
                      </a:lnTo>
                      <a:lnTo>
                        <a:pt x="138" y="662"/>
                      </a:lnTo>
                      <a:lnTo>
                        <a:pt x="314" y="909"/>
                      </a:lnTo>
                      <a:lnTo>
                        <a:pt x="246" y="644"/>
                      </a:lnTo>
                      <a:lnTo>
                        <a:pt x="209" y="553"/>
                      </a:lnTo>
                      <a:lnTo>
                        <a:pt x="184" y="472"/>
                      </a:lnTo>
                      <a:lnTo>
                        <a:pt x="172" y="385"/>
                      </a:lnTo>
                      <a:lnTo>
                        <a:pt x="196" y="289"/>
                      </a:lnTo>
                      <a:lnTo>
                        <a:pt x="221" y="216"/>
                      </a:lnTo>
                      <a:lnTo>
                        <a:pt x="268" y="125"/>
                      </a:lnTo>
                      <a:lnTo>
                        <a:pt x="339" y="81"/>
                      </a:lnTo>
                      <a:lnTo>
                        <a:pt x="431" y="65"/>
                      </a:lnTo>
                      <a:lnTo>
                        <a:pt x="674" y="55"/>
                      </a:lnTo>
                      <a:lnTo>
                        <a:pt x="826" y="86"/>
                      </a:lnTo>
                      <a:lnTo>
                        <a:pt x="989" y="152"/>
                      </a:lnTo>
                      <a:lnTo>
                        <a:pt x="977" y="141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990800" y="5853240"/>
                  <a:ext cx="368640" cy="321120"/>
                </a:xfrm>
                <a:custGeom>
                  <a:avLst/>
                  <a:gdLst/>
                  <a:ahLst/>
                  <a:rect l="0" t="0" r="r" b="b"/>
                  <a:pathLst>
                    <a:path w="1024" h="892">
                      <a:moveTo>
                        <a:pt x="299" y="892"/>
                      </a:moveTo>
                      <a:lnTo>
                        <a:pt x="227" y="738"/>
                      </a:lnTo>
                      <a:lnTo>
                        <a:pt x="196" y="674"/>
                      </a:lnTo>
                      <a:lnTo>
                        <a:pt x="124" y="593"/>
                      </a:lnTo>
                      <a:lnTo>
                        <a:pt x="49" y="516"/>
                      </a:lnTo>
                      <a:lnTo>
                        <a:pt x="9" y="471"/>
                      </a:lnTo>
                      <a:lnTo>
                        <a:pt x="0" y="425"/>
                      </a:lnTo>
                      <a:lnTo>
                        <a:pt x="18" y="358"/>
                      </a:lnTo>
                      <a:lnTo>
                        <a:pt x="31" y="291"/>
                      </a:lnTo>
                      <a:lnTo>
                        <a:pt x="143" y="123"/>
                      </a:lnTo>
                      <a:lnTo>
                        <a:pt x="196" y="82"/>
                      </a:lnTo>
                      <a:lnTo>
                        <a:pt x="290" y="37"/>
                      </a:lnTo>
                      <a:lnTo>
                        <a:pt x="371" y="9"/>
                      </a:lnTo>
                      <a:lnTo>
                        <a:pt x="474" y="0"/>
                      </a:lnTo>
                      <a:lnTo>
                        <a:pt x="559" y="19"/>
                      </a:lnTo>
                      <a:lnTo>
                        <a:pt x="665" y="37"/>
                      </a:lnTo>
                      <a:lnTo>
                        <a:pt x="768" y="91"/>
                      </a:lnTo>
                      <a:lnTo>
                        <a:pt x="805" y="127"/>
                      </a:lnTo>
                      <a:lnTo>
                        <a:pt x="871" y="182"/>
                      </a:lnTo>
                      <a:lnTo>
                        <a:pt x="924" y="229"/>
                      </a:lnTo>
                      <a:lnTo>
                        <a:pt x="1014" y="461"/>
                      </a:lnTo>
                      <a:lnTo>
                        <a:pt x="1024" y="506"/>
                      </a:lnTo>
                      <a:lnTo>
                        <a:pt x="1005" y="583"/>
                      </a:lnTo>
                      <a:lnTo>
                        <a:pt x="949" y="802"/>
                      </a:lnTo>
                      <a:lnTo>
                        <a:pt x="952" y="588"/>
                      </a:lnTo>
                      <a:lnTo>
                        <a:pt x="924" y="493"/>
                      </a:lnTo>
                      <a:lnTo>
                        <a:pt x="899" y="435"/>
                      </a:lnTo>
                      <a:lnTo>
                        <a:pt x="858" y="358"/>
                      </a:lnTo>
                      <a:lnTo>
                        <a:pt x="818" y="281"/>
                      </a:lnTo>
                      <a:lnTo>
                        <a:pt x="755" y="205"/>
                      </a:lnTo>
                      <a:lnTo>
                        <a:pt x="684" y="136"/>
                      </a:lnTo>
                      <a:lnTo>
                        <a:pt x="621" y="73"/>
                      </a:lnTo>
                      <a:lnTo>
                        <a:pt x="559" y="37"/>
                      </a:lnTo>
                      <a:lnTo>
                        <a:pt x="486" y="24"/>
                      </a:lnTo>
                      <a:lnTo>
                        <a:pt x="414" y="37"/>
                      </a:lnTo>
                      <a:lnTo>
                        <a:pt x="361" y="70"/>
                      </a:lnTo>
                      <a:lnTo>
                        <a:pt x="330" y="127"/>
                      </a:lnTo>
                      <a:lnTo>
                        <a:pt x="330" y="172"/>
                      </a:lnTo>
                      <a:lnTo>
                        <a:pt x="308" y="255"/>
                      </a:lnTo>
                      <a:lnTo>
                        <a:pt x="277" y="304"/>
                      </a:lnTo>
                      <a:lnTo>
                        <a:pt x="205" y="384"/>
                      </a:lnTo>
                      <a:lnTo>
                        <a:pt x="196" y="425"/>
                      </a:lnTo>
                      <a:lnTo>
                        <a:pt x="184" y="466"/>
                      </a:lnTo>
                      <a:lnTo>
                        <a:pt x="184" y="525"/>
                      </a:lnTo>
                      <a:lnTo>
                        <a:pt x="308" y="725"/>
                      </a:lnTo>
                      <a:lnTo>
                        <a:pt x="299" y="892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189160" y="5530680"/>
                  <a:ext cx="486000" cy="465480"/>
                </a:xfrm>
                <a:custGeom>
                  <a:avLst/>
                  <a:gdLst/>
                  <a:ahLst/>
                  <a:rect l="0" t="0" r="r" b="b"/>
                  <a:pathLst>
                    <a:path w="1350" h="1293">
                      <a:moveTo>
                        <a:pt x="1254" y="99"/>
                      </a:moveTo>
                      <a:lnTo>
                        <a:pt x="1272" y="29"/>
                      </a:lnTo>
                      <a:lnTo>
                        <a:pt x="1350" y="24"/>
                      </a:lnTo>
                      <a:lnTo>
                        <a:pt x="1263" y="0"/>
                      </a:lnTo>
                      <a:lnTo>
                        <a:pt x="1226" y="1"/>
                      </a:lnTo>
                      <a:lnTo>
                        <a:pt x="1167" y="11"/>
                      </a:lnTo>
                      <a:lnTo>
                        <a:pt x="1164" y="32"/>
                      </a:lnTo>
                      <a:lnTo>
                        <a:pt x="1111" y="45"/>
                      </a:lnTo>
                      <a:lnTo>
                        <a:pt x="657" y="230"/>
                      </a:lnTo>
                      <a:lnTo>
                        <a:pt x="37" y="283"/>
                      </a:lnTo>
                      <a:lnTo>
                        <a:pt x="648" y="229"/>
                      </a:lnTo>
                      <a:lnTo>
                        <a:pt x="993" y="114"/>
                      </a:lnTo>
                      <a:lnTo>
                        <a:pt x="1111" y="98"/>
                      </a:lnTo>
                      <a:lnTo>
                        <a:pt x="1006" y="147"/>
                      </a:lnTo>
                      <a:lnTo>
                        <a:pt x="1111" y="150"/>
                      </a:lnTo>
                      <a:lnTo>
                        <a:pt x="536" y="350"/>
                      </a:lnTo>
                      <a:lnTo>
                        <a:pt x="928" y="224"/>
                      </a:lnTo>
                      <a:lnTo>
                        <a:pt x="1117" y="188"/>
                      </a:lnTo>
                      <a:lnTo>
                        <a:pt x="1111" y="216"/>
                      </a:lnTo>
                      <a:lnTo>
                        <a:pt x="1043" y="255"/>
                      </a:lnTo>
                      <a:lnTo>
                        <a:pt x="993" y="289"/>
                      </a:lnTo>
                      <a:lnTo>
                        <a:pt x="860" y="366"/>
                      </a:lnTo>
                      <a:lnTo>
                        <a:pt x="611" y="502"/>
                      </a:lnTo>
                      <a:lnTo>
                        <a:pt x="294" y="660"/>
                      </a:lnTo>
                      <a:lnTo>
                        <a:pt x="43" y="772"/>
                      </a:lnTo>
                      <a:lnTo>
                        <a:pt x="316" y="637"/>
                      </a:lnTo>
                      <a:lnTo>
                        <a:pt x="477" y="555"/>
                      </a:lnTo>
                      <a:lnTo>
                        <a:pt x="686" y="453"/>
                      </a:lnTo>
                      <a:lnTo>
                        <a:pt x="795" y="389"/>
                      </a:lnTo>
                      <a:lnTo>
                        <a:pt x="975" y="311"/>
                      </a:lnTo>
                      <a:lnTo>
                        <a:pt x="1043" y="276"/>
                      </a:lnTo>
                      <a:lnTo>
                        <a:pt x="1111" y="243"/>
                      </a:lnTo>
                      <a:lnTo>
                        <a:pt x="1074" y="247"/>
                      </a:lnTo>
                      <a:lnTo>
                        <a:pt x="1133" y="266"/>
                      </a:lnTo>
                      <a:lnTo>
                        <a:pt x="1068" y="289"/>
                      </a:lnTo>
                      <a:lnTo>
                        <a:pt x="975" y="355"/>
                      </a:lnTo>
                      <a:lnTo>
                        <a:pt x="869" y="425"/>
                      </a:lnTo>
                      <a:lnTo>
                        <a:pt x="748" y="479"/>
                      </a:lnTo>
                      <a:lnTo>
                        <a:pt x="953" y="366"/>
                      </a:lnTo>
                      <a:lnTo>
                        <a:pt x="1043" y="311"/>
                      </a:lnTo>
                      <a:lnTo>
                        <a:pt x="1111" y="266"/>
                      </a:lnTo>
                      <a:lnTo>
                        <a:pt x="1133" y="266"/>
                      </a:lnTo>
                      <a:lnTo>
                        <a:pt x="1083" y="332"/>
                      </a:lnTo>
                      <a:lnTo>
                        <a:pt x="1145" y="316"/>
                      </a:lnTo>
                      <a:lnTo>
                        <a:pt x="1111" y="355"/>
                      </a:lnTo>
                      <a:lnTo>
                        <a:pt x="1043" y="401"/>
                      </a:lnTo>
                      <a:lnTo>
                        <a:pt x="909" y="468"/>
                      </a:lnTo>
                      <a:lnTo>
                        <a:pt x="748" y="514"/>
                      </a:lnTo>
                      <a:lnTo>
                        <a:pt x="611" y="569"/>
                      </a:lnTo>
                      <a:lnTo>
                        <a:pt x="496" y="615"/>
                      </a:lnTo>
                      <a:lnTo>
                        <a:pt x="564" y="592"/>
                      </a:lnTo>
                      <a:lnTo>
                        <a:pt x="788" y="510"/>
                      </a:lnTo>
                      <a:lnTo>
                        <a:pt x="1043" y="412"/>
                      </a:lnTo>
                      <a:lnTo>
                        <a:pt x="1086" y="389"/>
                      </a:lnTo>
                      <a:lnTo>
                        <a:pt x="1133" y="355"/>
                      </a:lnTo>
                      <a:lnTo>
                        <a:pt x="1077" y="430"/>
                      </a:lnTo>
                      <a:lnTo>
                        <a:pt x="1173" y="402"/>
                      </a:lnTo>
                      <a:lnTo>
                        <a:pt x="1086" y="502"/>
                      </a:lnTo>
                      <a:lnTo>
                        <a:pt x="1068" y="524"/>
                      </a:lnTo>
                      <a:lnTo>
                        <a:pt x="1040" y="537"/>
                      </a:lnTo>
                      <a:lnTo>
                        <a:pt x="925" y="591"/>
                      </a:lnTo>
                      <a:lnTo>
                        <a:pt x="798" y="640"/>
                      </a:lnTo>
                      <a:lnTo>
                        <a:pt x="561" y="728"/>
                      </a:lnTo>
                      <a:lnTo>
                        <a:pt x="338" y="806"/>
                      </a:lnTo>
                      <a:lnTo>
                        <a:pt x="0" y="919"/>
                      </a:lnTo>
                      <a:lnTo>
                        <a:pt x="406" y="772"/>
                      </a:lnTo>
                      <a:lnTo>
                        <a:pt x="816" y="625"/>
                      </a:lnTo>
                      <a:lnTo>
                        <a:pt x="975" y="569"/>
                      </a:lnTo>
                      <a:lnTo>
                        <a:pt x="1074" y="509"/>
                      </a:lnTo>
                      <a:lnTo>
                        <a:pt x="1154" y="483"/>
                      </a:lnTo>
                      <a:lnTo>
                        <a:pt x="1170" y="486"/>
                      </a:lnTo>
                      <a:lnTo>
                        <a:pt x="698" y="742"/>
                      </a:lnTo>
                      <a:lnTo>
                        <a:pt x="1061" y="566"/>
                      </a:lnTo>
                      <a:lnTo>
                        <a:pt x="1148" y="560"/>
                      </a:lnTo>
                      <a:lnTo>
                        <a:pt x="1046" y="656"/>
                      </a:lnTo>
                      <a:lnTo>
                        <a:pt x="1136" y="633"/>
                      </a:lnTo>
                      <a:lnTo>
                        <a:pt x="996" y="739"/>
                      </a:lnTo>
                      <a:lnTo>
                        <a:pt x="909" y="806"/>
                      </a:lnTo>
                      <a:lnTo>
                        <a:pt x="748" y="862"/>
                      </a:lnTo>
                      <a:lnTo>
                        <a:pt x="521" y="929"/>
                      </a:lnTo>
                      <a:lnTo>
                        <a:pt x="316" y="996"/>
                      </a:lnTo>
                      <a:lnTo>
                        <a:pt x="158" y="1042"/>
                      </a:lnTo>
                      <a:lnTo>
                        <a:pt x="43" y="1065"/>
                      </a:lnTo>
                      <a:lnTo>
                        <a:pt x="705" y="885"/>
                      </a:lnTo>
                      <a:lnTo>
                        <a:pt x="857" y="832"/>
                      </a:lnTo>
                      <a:lnTo>
                        <a:pt x="928" y="795"/>
                      </a:lnTo>
                      <a:lnTo>
                        <a:pt x="1033" y="728"/>
                      </a:lnTo>
                      <a:lnTo>
                        <a:pt x="1133" y="664"/>
                      </a:lnTo>
                      <a:lnTo>
                        <a:pt x="1027" y="755"/>
                      </a:lnTo>
                      <a:lnTo>
                        <a:pt x="1111" y="723"/>
                      </a:lnTo>
                      <a:lnTo>
                        <a:pt x="1024" y="798"/>
                      </a:lnTo>
                      <a:lnTo>
                        <a:pt x="1099" y="782"/>
                      </a:lnTo>
                      <a:lnTo>
                        <a:pt x="1012" y="870"/>
                      </a:lnTo>
                      <a:lnTo>
                        <a:pt x="1111" y="839"/>
                      </a:lnTo>
                      <a:lnTo>
                        <a:pt x="1021" y="885"/>
                      </a:lnTo>
                      <a:lnTo>
                        <a:pt x="909" y="952"/>
                      </a:lnTo>
                      <a:lnTo>
                        <a:pt x="816" y="972"/>
                      </a:lnTo>
                      <a:lnTo>
                        <a:pt x="533" y="1053"/>
                      </a:lnTo>
                      <a:lnTo>
                        <a:pt x="272" y="1099"/>
                      </a:lnTo>
                      <a:lnTo>
                        <a:pt x="558" y="1045"/>
                      </a:lnTo>
                      <a:lnTo>
                        <a:pt x="795" y="975"/>
                      </a:lnTo>
                      <a:lnTo>
                        <a:pt x="1021" y="908"/>
                      </a:lnTo>
                      <a:lnTo>
                        <a:pt x="1086" y="875"/>
                      </a:lnTo>
                      <a:lnTo>
                        <a:pt x="996" y="942"/>
                      </a:lnTo>
                      <a:lnTo>
                        <a:pt x="1068" y="929"/>
                      </a:lnTo>
                      <a:lnTo>
                        <a:pt x="1024" y="963"/>
                      </a:lnTo>
                      <a:lnTo>
                        <a:pt x="999" y="1009"/>
                      </a:lnTo>
                      <a:lnTo>
                        <a:pt x="1043" y="996"/>
                      </a:lnTo>
                      <a:lnTo>
                        <a:pt x="987" y="1035"/>
                      </a:lnTo>
                      <a:lnTo>
                        <a:pt x="816" y="1099"/>
                      </a:lnTo>
                      <a:lnTo>
                        <a:pt x="705" y="1109"/>
                      </a:lnTo>
                      <a:lnTo>
                        <a:pt x="564" y="1121"/>
                      </a:lnTo>
                      <a:lnTo>
                        <a:pt x="838" y="1088"/>
                      </a:lnTo>
                      <a:lnTo>
                        <a:pt x="1021" y="1031"/>
                      </a:lnTo>
                      <a:lnTo>
                        <a:pt x="1068" y="986"/>
                      </a:lnTo>
                      <a:lnTo>
                        <a:pt x="996" y="1083"/>
                      </a:lnTo>
                      <a:lnTo>
                        <a:pt x="1074" y="1058"/>
                      </a:lnTo>
                      <a:lnTo>
                        <a:pt x="1027" y="1111"/>
                      </a:lnTo>
                      <a:lnTo>
                        <a:pt x="953" y="1183"/>
                      </a:lnTo>
                      <a:lnTo>
                        <a:pt x="496" y="1293"/>
                      </a:lnTo>
                      <a:lnTo>
                        <a:pt x="956" y="1191"/>
                      </a:lnTo>
                      <a:lnTo>
                        <a:pt x="999" y="1155"/>
                      </a:lnTo>
                      <a:lnTo>
                        <a:pt x="1027" y="1132"/>
                      </a:lnTo>
                      <a:lnTo>
                        <a:pt x="1105" y="1104"/>
                      </a:lnTo>
                      <a:lnTo>
                        <a:pt x="1154" y="1157"/>
                      </a:lnTo>
                      <a:lnTo>
                        <a:pt x="1173" y="1058"/>
                      </a:lnTo>
                      <a:lnTo>
                        <a:pt x="1254" y="99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2080" y="5530680"/>
                  <a:ext cx="470160" cy="468720"/>
                </a:xfrm>
                <a:custGeom>
                  <a:avLst/>
                  <a:gdLst/>
                  <a:ahLst/>
                  <a:rect l="0" t="0" r="r" b="b"/>
                  <a:pathLst>
                    <a:path w="1306" h="1302">
                      <a:moveTo>
                        <a:pt x="0" y="1133"/>
                      </a:moveTo>
                      <a:lnTo>
                        <a:pt x="9" y="1078"/>
                      </a:lnTo>
                      <a:lnTo>
                        <a:pt x="80" y="1109"/>
                      </a:lnTo>
                      <a:lnTo>
                        <a:pt x="52" y="1032"/>
                      </a:lnTo>
                      <a:lnTo>
                        <a:pt x="124" y="1043"/>
                      </a:lnTo>
                      <a:lnTo>
                        <a:pt x="372" y="1302"/>
                      </a:lnTo>
                      <a:lnTo>
                        <a:pt x="146" y="1078"/>
                      </a:lnTo>
                      <a:lnTo>
                        <a:pt x="118" y="1040"/>
                      </a:lnTo>
                      <a:lnTo>
                        <a:pt x="96" y="1001"/>
                      </a:lnTo>
                      <a:lnTo>
                        <a:pt x="146" y="1010"/>
                      </a:lnTo>
                      <a:lnTo>
                        <a:pt x="289" y="1083"/>
                      </a:lnTo>
                      <a:lnTo>
                        <a:pt x="463" y="1202"/>
                      </a:lnTo>
                      <a:lnTo>
                        <a:pt x="214" y="1043"/>
                      </a:lnTo>
                      <a:lnTo>
                        <a:pt x="133" y="999"/>
                      </a:lnTo>
                      <a:lnTo>
                        <a:pt x="124" y="936"/>
                      </a:lnTo>
                      <a:lnTo>
                        <a:pt x="177" y="955"/>
                      </a:lnTo>
                      <a:lnTo>
                        <a:pt x="167" y="885"/>
                      </a:lnTo>
                      <a:lnTo>
                        <a:pt x="214" y="908"/>
                      </a:lnTo>
                      <a:lnTo>
                        <a:pt x="441" y="1145"/>
                      </a:lnTo>
                      <a:lnTo>
                        <a:pt x="192" y="875"/>
                      </a:lnTo>
                      <a:lnTo>
                        <a:pt x="167" y="829"/>
                      </a:lnTo>
                      <a:lnTo>
                        <a:pt x="236" y="855"/>
                      </a:lnTo>
                      <a:lnTo>
                        <a:pt x="419" y="987"/>
                      </a:lnTo>
                      <a:lnTo>
                        <a:pt x="214" y="852"/>
                      </a:lnTo>
                      <a:lnTo>
                        <a:pt x="146" y="783"/>
                      </a:lnTo>
                      <a:lnTo>
                        <a:pt x="214" y="806"/>
                      </a:lnTo>
                      <a:lnTo>
                        <a:pt x="167" y="762"/>
                      </a:lnTo>
                      <a:lnTo>
                        <a:pt x="236" y="773"/>
                      </a:lnTo>
                      <a:lnTo>
                        <a:pt x="301" y="852"/>
                      </a:lnTo>
                      <a:lnTo>
                        <a:pt x="621" y="1001"/>
                      </a:lnTo>
                      <a:lnTo>
                        <a:pt x="282" y="829"/>
                      </a:lnTo>
                      <a:lnTo>
                        <a:pt x="214" y="762"/>
                      </a:lnTo>
                      <a:lnTo>
                        <a:pt x="192" y="727"/>
                      </a:lnTo>
                      <a:lnTo>
                        <a:pt x="257" y="762"/>
                      </a:lnTo>
                      <a:lnTo>
                        <a:pt x="214" y="683"/>
                      </a:lnTo>
                      <a:lnTo>
                        <a:pt x="257" y="693"/>
                      </a:lnTo>
                      <a:lnTo>
                        <a:pt x="295" y="732"/>
                      </a:lnTo>
                      <a:lnTo>
                        <a:pt x="746" y="854"/>
                      </a:lnTo>
                      <a:lnTo>
                        <a:pt x="503" y="781"/>
                      </a:lnTo>
                      <a:lnTo>
                        <a:pt x="363" y="742"/>
                      </a:lnTo>
                      <a:lnTo>
                        <a:pt x="323" y="729"/>
                      </a:lnTo>
                      <a:lnTo>
                        <a:pt x="223" y="648"/>
                      </a:lnTo>
                      <a:lnTo>
                        <a:pt x="257" y="663"/>
                      </a:lnTo>
                      <a:lnTo>
                        <a:pt x="236" y="614"/>
                      </a:lnTo>
                      <a:lnTo>
                        <a:pt x="226" y="622"/>
                      </a:lnTo>
                      <a:lnTo>
                        <a:pt x="320" y="644"/>
                      </a:lnTo>
                      <a:lnTo>
                        <a:pt x="254" y="589"/>
                      </a:lnTo>
                      <a:lnTo>
                        <a:pt x="326" y="603"/>
                      </a:lnTo>
                      <a:lnTo>
                        <a:pt x="500" y="627"/>
                      </a:lnTo>
                      <a:lnTo>
                        <a:pt x="684" y="673"/>
                      </a:lnTo>
                      <a:lnTo>
                        <a:pt x="1147" y="840"/>
                      </a:lnTo>
                      <a:lnTo>
                        <a:pt x="556" y="637"/>
                      </a:lnTo>
                      <a:lnTo>
                        <a:pt x="332" y="589"/>
                      </a:lnTo>
                      <a:lnTo>
                        <a:pt x="273" y="548"/>
                      </a:lnTo>
                      <a:lnTo>
                        <a:pt x="357" y="570"/>
                      </a:lnTo>
                      <a:lnTo>
                        <a:pt x="257" y="489"/>
                      </a:lnTo>
                      <a:lnTo>
                        <a:pt x="326" y="494"/>
                      </a:lnTo>
                      <a:lnTo>
                        <a:pt x="282" y="453"/>
                      </a:lnTo>
                      <a:lnTo>
                        <a:pt x="289" y="445"/>
                      </a:lnTo>
                      <a:lnTo>
                        <a:pt x="379" y="480"/>
                      </a:lnTo>
                      <a:lnTo>
                        <a:pt x="292" y="419"/>
                      </a:lnTo>
                      <a:lnTo>
                        <a:pt x="360" y="419"/>
                      </a:lnTo>
                      <a:lnTo>
                        <a:pt x="282" y="378"/>
                      </a:lnTo>
                      <a:lnTo>
                        <a:pt x="326" y="378"/>
                      </a:lnTo>
                      <a:lnTo>
                        <a:pt x="282" y="355"/>
                      </a:lnTo>
                      <a:lnTo>
                        <a:pt x="351" y="355"/>
                      </a:lnTo>
                      <a:lnTo>
                        <a:pt x="494" y="404"/>
                      </a:lnTo>
                      <a:lnTo>
                        <a:pt x="728" y="465"/>
                      </a:lnTo>
                      <a:lnTo>
                        <a:pt x="964" y="514"/>
                      </a:lnTo>
                      <a:lnTo>
                        <a:pt x="1169" y="548"/>
                      </a:lnTo>
                      <a:lnTo>
                        <a:pt x="669" y="445"/>
                      </a:lnTo>
                      <a:lnTo>
                        <a:pt x="556" y="412"/>
                      </a:lnTo>
                      <a:lnTo>
                        <a:pt x="379" y="370"/>
                      </a:lnTo>
                      <a:lnTo>
                        <a:pt x="351" y="355"/>
                      </a:lnTo>
                      <a:lnTo>
                        <a:pt x="304" y="310"/>
                      </a:lnTo>
                      <a:lnTo>
                        <a:pt x="372" y="321"/>
                      </a:lnTo>
                      <a:lnTo>
                        <a:pt x="295" y="249"/>
                      </a:lnTo>
                      <a:lnTo>
                        <a:pt x="338" y="249"/>
                      </a:lnTo>
                      <a:lnTo>
                        <a:pt x="282" y="198"/>
                      </a:lnTo>
                      <a:lnTo>
                        <a:pt x="351" y="198"/>
                      </a:lnTo>
                      <a:lnTo>
                        <a:pt x="394" y="223"/>
                      </a:lnTo>
                      <a:lnTo>
                        <a:pt x="556" y="259"/>
                      </a:lnTo>
                      <a:lnTo>
                        <a:pt x="1011" y="345"/>
                      </a:lnTo>
                      <a:lnTo>
                        <a:pt x="509" y="242"/>
                      </a:lnTo>
                      <a:lnTo>
                        <a:pt x="394" y="219"/>
                      </a:lnTo>
                      <a:lnTo>
                        <a:pt x="372" y="198"/>
                      </a:lnTo>
                      <a:lnTo>
                        <a:pt x="304" y="164"/>
                      </a:lnTo>
                      <a:lnTo>
                        <a:pt x="351" y="175"/>
                      </a:lnTo>
                      <a:lnTo>
                        <a:pt x="236" y="129"/>
                      </a:lnTo>
                      <a:lnTo>
                        <a:pt x="282" y="142"/>
                      </a:lnTo>
                      <a:lnTo>
                        <a:pt x="388" y="141"/>
                      </a:lnTo>
                      <a:lnTo>
                        <a:pt x="684" y="201"/>
                      </a:lnTo>
                      <a:lnTo>
                        <a:pt x="372" y="142"/>
                      </a:lnTo>
                      <a:lnTo>
                        <a:pt x="282" y="96"/>
                      </a:lnTo>
                      <a:lnTo>
                        <a:pt x="372" y="96"/>
                      </a:lnTo>
                      <a:lnTo>
                        <a:pt x="759" y="96"/>
                      </a:lnTo>
                      <a:lnTo>
                        <a:pt x="1306" y="50"/>
                      </a:lnTo>
                      <a:lnTo>
                        <a:pt x="967" y="83"/>
                      </a:lnTo>
                      <a:lnTo>
                        <a:pt x="487" y="106"/>
                      </a:lnTo>
                      <a:lnTo>
                        <a:pt x="351" y="96"/>
                      </a:lnTo>
                      <a:lnTo>
                        <a:pt x="304" y="73"/>
                      </a:lnTo>
                      <a:lnTo>
                        <a:pt x="257" y="39"/>
                      </a:lnTo>
                      <a:lnTo>
                        <a:pt x="152" y="0"/>
                      </a:lnTo>
                      <a:lnTo>
                        <a:pt x="124" y="16"/>
                      </a:lnTo>
                      <a:lnTo>
                        <a:pt x="99" y="3"/>
                      </a:lnTo>
                      <a:lnTo>
                        <a:pt x="0" y="113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608200" y="6002280"/>
                  <a:ext cx="124200" cy="354240"/>
                </a:xfrm>
                <a:custGeom>
                  <a:avLst/>
                  <a:gdLst/>
                  <a:ahLst/>
                  <a:rect l="0" t="0" r="r" b="b"/>
                  <a:pathLst>
                    <a:path w="345" h="984">
                      <a:moveTo>
                        <a:pt x="70" y="0"/>
                      </a:moveTo>
                      <a:lnTo>
                        <a:pt x="139" y="75"/>
                      </a:lnTo>
                      <a:lnTo>
                        <a:pt x="206" y="194"/>
                      </a:lnTo>
                      <a:lnTo>
                        <a:pt x="278" y="358"/>
                      </a:lnTo>
                      <a:lnTo>
                        <a:pt x="345" y="568"/>
                      </a:lnTo>
                      <a:lnTo>
                        <a:pt x="345" y="791"/>
                      </a:lnTo>
                      <a:lnTo>
                        <a:pt x="312" y="984"/>
                      </a:lnTo>
                      <a:lnTo>
                        <a:pt x="278" y="984"/>
                      </a:lnTo>
                      <a:lnTo>
                        <a:pt x="312" y="791"/>
                      </a:lnTo>
                      <a:lnTo>
                        <a:pt x="312" y="627"/>
                      </a:lnTo>
                      <a:lnTo>
                        <a:pt x="240" y="446"/>
                      </a:lnTo>
                      <a:lnTo>
                        <a:pt x="139" y="269"/>
                      </a:lnTo>
                      <a:lnTo>
                        <a:pt x="0" y="45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530280" y="5641920"/>
                  <a:ext cx="336960" cy="667080"/>
                </a:xfrm>
                <a:custGeom>
                  <a:avLst/>
                  <a:gdLst/>
                  <a:ahLst/>
                  <a:rect l="0" t="0" r="r" b="b"/>
                  <a:pathLst>
                    <a:path w="936" h="1853">
                      <a:moveTo>
                        <a:pt x="925" y="288"/>
                      </a:moveTo>
                      <a:lnTo>
                        <a:pt x="858" y="165"/>
                      </a:lnTo>
                      <a:lnTo>
                        <a:pt x="826" y="119"/>
                      </a:lnTo>
                      <a:lnTo>
                        <a:pt x="759" y="79"/>
                      </a:lnTo>
                      <a:lnTo>
                        <a:pt x="694" y="43"/>
                      </a:lnTo>
                      <a:lnTo>
                        <a:pt x="606" y="6"/>
                      </a:lnTo>
                      <a:lnTo>
                        <a:pt x="531" y="0"/>
                      </a:lnTo>
                      <a:lnTo>
                        <a:pt x="464" y="16"/>
                      </a:lnTo>
                      <a:lnTo>
                        <a:pt x="385" y="36"/>
                      </a:lnTo>
                      <a:lnTo>
                        <a:pt x="298" y="69"/>
                      </a:lnTo>
                      <a:lnTo>
                        <a:pt x="242" y="139"/>
                      </a:lnTo>
                      <a:lnTo>
                        <a:pt x="186" y="238"/>
                      </a:lnTo>
                      <a:lnTo>
                        <a:pt x="131" y="314"/>
                      </a:lnTo>
                      <a:lnTo>
                        <a:pt x="87" y="394"/>
                      </a:lnTo>
                      <a:lnTo>
                        <a:pt x="34" y="500"/>
                      </a:lnTo>
                      <a:lnTo>
                        <a:pt x="0" y="722"/>
                      </a:lnTo>
                      <a:lnTo>
                        <a:pt x="11" y="891"/>
                      </a:lnTo>
                      <a:lnTo>
                        <a:pt x="55" y="1137"/>
                      </a:lnTo>
                      <a:lnTo>
                        <a:pt x="131" y="1349"/>
                      </a:lnTo>
                      <a:lnTo>
                        <a:pt x="298" y="1853"/>
                      </a:lnTo>
                      <a:lnTo>
                        <a:pt x="232" y="1313"/>
                      </a:lnTo>
                      <a:lnTo>
                        <a:pt x="198" y="1127"/>
                      </a:lnTo>
                      <a:lnTo>
                        <a:pt x="174" y="961"/>
                      </a:lnTo>
                      <a:lnTo>
                        <a:pt x="163" y="785"/>
                      </a:lnTo>
                      <a:lnTo>
                        <a:pt x="186" y="589"/>
                      </a:lnTo>
                      <a:lnTo>
                        <a:pt x="209" y="440"/>
                      </a:lnTo>
                      <a:lnTo>
                        <a:pt x="254" y="255"/>
                      </a:lnTo>
                      <a:lnTo>
                        <a:pt x="321" y="165"/>
                      </a:lnTo>
                      <a:lnTo>
                        <a:pt x="408" y="132"/>
                      </a:lnTo>
                      <a:lnTo>
                        <a:pt x="638" y="112"/>
                      </a:lnTo>
                      <a:lnTo>
                        <a:pt x="782" y="175"/>
                      </a:lnTo>
                      <a:lnTo>
                        <a:pt x="936" y="311"/>
                      </a:lnTo>
                      <a:lnTo>
                        <a:pt x="925" y="288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73280" y="5165640"/>
                  <a:ext cx="344880" cy="652680"/>
                </a:xfrm>
                <a:custGeom>
                  <a:avLst/>
                  <a:gdLst/>
                  <a:ahLst/>
                  <a:rect l="0" t="0" r="r" b="b"/>
                  <a:pathLst>
                    <a:path w="958" h="1813">
                      <a:moveTo>
                        <a:pt x="281" y="1813"/>
                      </a:moveTo>
                      <a:lnTo>
                        <a:pt x="212" y="1499"/>
                      </a:lnTo>
                      <a:lnTo>
                        <a:pt x="183" y="1369"/>
                      </a:lnTo>
                      <a:lnTo>
                        <a:pt x="116" y="1205"/>
                      </a:lnTo>
                      <a:lnTo>
                        <a:pt x="46" y="1049"/>
                      </a:lnTo>
                      <a:lnTo>
                        <a:pt x="8" y="958"/>
                      </a:lnTo>
                      <a:lnTo>
                        <a:pt x="0" y="864"/>
                      </a:lnTo>
                      <a:lnTo>
                        <a:pt x="17" y="727"/>
                      </a:lnTo>
                      <a:lnTo>
                        <a:pt x="29" y="590"/>
                      </a:lnTo>
                      <a:lnTo>
                        <a:pt x="134" y="250"/>
                      </a:lnTo>
                      <a:lnTo>
                        <a:pt x="183" y="166"/>
                      </a:lnTo>
                      <a:lnTo>
                        <a:pt x="272" y="76"/>
                      </a:lnTo>
                      <a:lnTo>
                        <a:pt x="348" y="20"/>
                      </a:lnTo>
                      <a:lnTo>
                        <a:pt x="444" y="0"/>
                      </a:lnTo>
                      <a:lnTo>
                        <a:pt x="523" y="40"/>
                      </a:lnTo>
                      <a:lnTo>
                        <a:pt x="622" y="76"/>
                      </a:lnTo>
                      <a:lnTo>
                        <a:pt x="719" y="186"/>
                      </a:lnTo>
                      <a:lnTo>
                        <a:pt x="754" y="260"/>
                      </a:lnTo>
                      <a:lnTo>
                        <a:pt x="815" y="370"/>
                      </a:lnTo>
                      <a:lnTo>
                        <a:pt x="865" y="463"/>
                      </a:lnTo>
                      <a:lnTo>
                        <a:pt x="950" y="938"/>
                      </a:lnTo>
                      <a:lnTo>
                        <a:pt x="958" y="1029"/>
                      </a:lnTo>
                      <a:lnTo>
                        <a:pt x="941" y="1185"/>
                      </a:lnTo>
                      <a:lnTo>
                        <a:pt x="888" y="1629"/>
                      </a:lnTo>
                      <a:lnTo>
                        <a:pt x="891" y="1195"/>
                      </a:lnTo>
                      <a:lnTo>
                        <a:pt x="865" y="1002"/>
                      </a:lnTo>
                      <a:lnTo>
                        <a:pt x="842" y="884"/>
                      </a:lnTo>
                      <a:lnTo>
                        <a:pt x="804" y="727"/>
                      </a:lnTo>
                      <a:lnTo>
                        <a:pt x="766" y="570"/>
                      </a:lnTo>
                      <a:lnTo>
                        <a:pt x="707" y="417"/>
                      </a:lnTo>
                      <a:lnTo>
                        <a:pt x="639" y="277"/>
                      </a:lnTo>
                      <a:lnTo>
                        <a:pt x="581" y="150"/>
                      </a:lnTo>
                      <a:lnTo>
                        <a:pt x="523" y="76"/>
                      </a:lnTo>
                      <a:lnTo>
                        <a:pt x="456" y="50"/>
                      </a:lnTo>
                      <a:lnTo>
                        <a:pt x="389" y="76"/>
                      </a:lnTo>
                      <a:lnTo>
                        <a:pt x="339" y="143"/>
                      </a:lnTo>
                      <a:lnTo>
                        <a:pt x="310" y="260"/>
                      </a:lnTo>
                      <a:lnTo>
                        <a:pt x="310" y="350"/>
                      </a:lnTo>
                      <a:lnTo>
                        <a:pt x="289" y="517"/>
                      </a:lnTo>
                      <a:lnTo>
                        <a:pt x="260" y="617"/>
                      </a:lnTo>
                      <a:lnTo>
                        <a:pt x="192" y="781"/>
                      </a:lnTo>
                      <a:lnTo>
                        <a:pt x="183" y="864"/>
                      </a:lnTo>
                      <a:lnTo>
                        <a:pt x="172" y="948"/>
                      </a:lnTo>
                      <a:lnTo>
                        <a:pt x="172" y="1069"/>
                      </a:lnTo>
                      <a:lnTo>
                        <a:pt x="289" y="1472"/>
                      </a:lnTo>
                      <a:lnTo>
                        <a:pt x="281" y="181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965160" y="4510080"/>
                  <a:ext cx="832320" cy="952920"/>
                  <a:chOff x="965160" y="4510080"/>
                  <a:chExt cx="832320" cy="9529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>
                    <a:off x="965160" y="4510080"/>
                    <a:ext cx="457560" cy="948240"/>
                  </a:xfrm>
                  <a:custGeom>
                    <a:avLst/>
                    <a:gdLst/>
                    <a:ahLst/>
                    <a:rect l="0" t="0" r="r" b="b"/>
                    <a:pathLst>
                      <a:path w="1271" h="2634">
                        <a:moveTo>
                          <a:pt x="1180" y="203"/>
                        </a:moveTo>
                        <a:lnTo>
                          <a:pt x="1198" y="60"/>
                        </a:lnTo>
                        <a:lnTo>
                          <a:pt x="1271" y="50"/>
                        </a:lnTo>
                        <a:lnTo>
                          <a:pt x="1189" y="0"/>
                        </a:lnTo>
                        <a:lnTo>
                          <a:pt x="1154" y="3"/>
                        </a:lnTo>
                        <a:lnTo>
                          <a:pt x="1098" y="23"/>
                        </a:lnTo>
                        <a:lnTo>
                          <a:pt x="1095" y="66"/>
                        </a:lnTo>
                        <a:lnTo>
                          <a:pt x="1046" y="93"/>
                        </a:lnTo>
                        <a:lnTo>
                          <a:pt x="618" y="470"/>
                        </a:lnTo>
                        <a:lnTo>
                          <a:pt x="35" y="577"/>
                        </a:lnTo>
                        <a:lnTo>
                          <a:pt x="610" y="467"/>
                        </a:lnTo>
                        <a:lnTo>
                          <a:pt x="935" y="233"/>
                        </a:lnTo>
                        <a:lnTo>
                          <a:pt x="1046" y="200"/>
                        </a:lnTo>
                        <a:lnTo>
                          <a:pt x="946" y="300"/>
                        </a:lnTo>
                        <a:lnTo>
                          <a:pt x="1046" y="306"/>
                        </a:lnTo>
                        <a:lnTo>
                          <a:pt x="505" y="715"/>
                        </a:lnTo>
                        <a:lnTo>
                          <a:pt x="873" y="457"/>
                        </a:lnTo>
                        <a:lnTo>
                          <a:pt x="1052" y="383"/>
                        </a:lnTo>
                        <a:lnTo>
                          <a:pt x="1046" y="440"/>
                        </a:lnTo>
                        <a:lnTo>
                          <a:pt x="981" y="520"/>
                        </a:lnTo>
                        <a:lnTo>
                          <a:pt x="935" y="590"/>
                        </a:lnTo>
                        <a:lnTo>
                          <a:pt x="809" y="748"/>
                        </a:lnTo>
                        <a:lnTo>
                          <a:pt x="575" y="1025"/>
                        </a:lnTo>
                        <a:lnTo>
                          <a:pt x="277" y="1345"/>
                        </a:lnTo>
                        <a:lnTo>
                          <a:pt x="40" y="1572"/>
                        </a:lnTo>
                        <a:lnTo>
                          <a:pt x="297" y="1298"/>
                        </a:lnTo>
                        <a:lnTo>
                          <a:pt x="449" y="1132"/>
                        </a:lnTo>
                        <a:lnTo>
                          <a:pt x="646" y="925"/>
                        </a:lnTo>
                        <a:lnTo>
                          <a:pt x="748" y="795"/>
                        </a:lnTo>
                        <a:lnTo>
                          <a:pt x="917" y="633"/>
                        </a:lnTo>
                        <a:lnTo>
                          <a:pt x="981" y="563"/>
                        </a:lnTo>
                        <a:lnTo>
                          <a:pt x="1046" y="497"/>
                        </a:lnTo>
                        <a:lnTo>
                          <a:pt x="1011" y="503"/>
                        </a:lnTo>
                        <a:lnTo>
                          <a:pt x="1066" y="543"/>
                        </a:lnTo>
                        <a:lnTo>
                          <a:pt x="1005" y="590"/>
                        </a:lnTo>
                        <a:lnTo>
                          <a:pt x="917" y="725"/>
                        </a:lnTo>
                        <a:lnTo>
                          <a:pt x="818" y="868"/>
                        </a:lnTo>
                        <a:lnTo>
                          <a:pt x="704" y="978"/>
                        </a:lnTo>
                        <a:lnTo>
                          <a:pt x="897" y="748"/>
                        </a:lnTo>
                        <a:lnTo>
                          <a:pt x="981" y="633"/>
                        </a:lnTo>
                        <a:lnTo>
                          <a:pt x="1046" y="543"/>
                        </a:lnTo>
                        <a:lnTo>
                          <a:pt x="1066" y="543"/>
                        </a:lnTo>
                        <a:lnTo>
                          <a:pt x="1019" y="678"/>
                        </a:lnTo>
                        <a:lnTo>
                          <a:pt x="1078" y="643"/>
                        </a:lnTo>
                        <a:lnTo>
                          <a:pt x="1046" y="725"/>
                        </a:lnTo>
                        <a:lnTo>
                          <a:pt x="981" y="818"/>
                        </a:lnTo>
                        <a:lnTo>
                          <a:pt x="856" y="955"/>
                        </a:lnTo>
                        <a:lnTo>
                          <a:pt x="704" y="1048"/>
                        </a:lnTo>
                        <a:lnTo>
                          <a:pt x="575" y="1162"/>
                        </a:lnTo>
                        <a:lnTo>
                          <a:pt x="467" y="1255"/>
                        </a:lnTo>
                        <a:lnTo>
                          <a:pt x="531" y="1208"/>
                        </a:lnTo>
                        <a:lnTo>
                          <a:pt x="742" y="1042"/>
                        </a:lnTo>
                        <a:lnTo>
                          <a:pt x="981" y="841"/>
                        </a:lnTo>
                        <a:lnTo>
                          <a:pt x="1022" y="795"/>
                        </a:lnTo>
                        <a:lnTo>
                          <a:pt x="1066" y="725"/>
                        </a:lnTo>
                        <a:lnTo>
                          <a:pt x="1014" y="878"/>
                        </a:lnTo>
                        <a:lnTo>
                          <a:pt x="1104" y="821"/>
                        </a:lnTo>
                        <a:lnTo>
                          <a:pt x="1022" y="1025"/>
                        </a:lnTo>
                        <a:lnTo>
                          <a:pt x="1005" y="1068"/>
                        </a:lnTo>
                        <a:lnTo>
                          <a:pt x="979" y="1095"/>
                        </a:lnTo>
                        <a:lnTo>
                          <a:pt x="871" y="1205"/>
                        </a:lnTo>
                        <a:lnTo>
                          <a:pt x="751" y="1305"/>
                        </a:lnTo>
                        <a:lnTo>
                          <a:pt x="528" y="1482"/>
                        </a:lnTo>
                        <a:lnTo>
                          <a:pt x="318" y="1642"/>
                        </a:lnTo>
                        <a:lnTo>
                          <a:pt x="0" y="1872"/>
                        </a:lnTo>
                        <a:lnTo>
                          <a:pt x="382" y="1572"/>
                        </a:lnTo>
                        <a:lnTo>
                          <a:pt x="768" y="1275"/>
                        </a:lnTo>
                        <a:lnTo>
                          <a:pt x="917" y="1162"/>
                        </a:lnTo>
                        <a:lnTo>
                          <a:pt x="1011" y="1038"/>
                        </a:lnTo>
                        <a:lnTo>
                          <a:pt x="1087" y="985"/>
                        </a:lnTo>
                        <a:lnTo>
                          <a:pt x="1101" y="991"/>
                        </a:lnTo>
                        <a:lnTo>
                          <a:pt x="657" y="1512"/>
                        </a:lnTo>
                        <a:lnTo>
                          <a:pt x="999" y="1155"/>
                        </a:lnTo>
                        <a:lnTo>
                          <a:pt x="1081" y="1142"/>
                        </a:lnTo>
                        <a:lnTo>
                          <a:pt x="984" y="1335"/>
                        </a:lnTo>
                        <a:lnTo>
                          <a:pt x="1069" y="1292"/>
                        </a:lnTo>
                        <a:lnTo>
                          <a:pt x="938" y="1505"/>
                        </a:lnTo>
                        <a:lnTo>
                          <a:pt x="856" y="1642"/>
                        </a:lnTo>
                        <a:lnTo>
                          <a:pt x="704" y="1756"/>
                        </a:lnTo>
                        <a:lnTo>
                          <a:pt x="490" y="1892"/>
                        </a:lnTo>
                        <a:lnTo>
                          <a:pt x="297" y="2030"/>
                        </a:lnTo>
                        <a:lnTo>
                          <a:pt x="148" y="2124"/>
                        </a:lnTo>
                        <a:lnTo>
                          <a:pt x="40" y="2170"/>
                        </a:lnTo>
                        <a:lnTo>
                          <a:pt x="663" y="1802"/>
                        </a:lnTo>
                        <a:lnTo>
                          <a:pt x="806" y="1696"/>
                        </a:lnTo>
                        <a:lnTo>
                          <a:pt x="873" y="1619"/>
                        </a:lnTo>
                        <a:lnTo>
                          <a:pt x="973" y="1482"/>
                        </a:lnTo>
                        <a:lnTo>
                          <a:pt x="1066" y="1352"/>
                        </a:lnTo>
                        <a:lnTo>
                          <a:pt x="967" y="1539"/>
                        </a:lnTo>
                        <a:lnTo>
                          <a:pt x="1046" y="1472"/>
                        </a:lnTo>
                        <a:lnTo>
                          <a:pt x="964" y="1625"/>
                        </a:lnTo>
                        <a:lnTo>
                          <a:pt x="1034" y="1592"/>
                        </a:lnTo>
                        <a:lnTo>
                          <a:pt x="952" y="1772"/>
                        </a:lnTo>
                        <a:lnTo>
                          <a:pt x="1046" y="1709"/>
                        </a:lnTo>
                        <a:lnTo>
                          <a:pt x="961" y="1802"/>
                        </a:lnTo>
                        <a:lnTo>
                          <a:pt x="856" y="1939"/>
                        </a:lnTo>
                        <a:lnTo>
                          <a:pt x="768" y="1980"/>
                        </a:lnTo>
                        <a:lnTo>
                          <a:pt x="502" y="2147"/>
                        </a:lnTo>
                        <a:lnTo>
                          <a:pt x="256" y="2240"/>
                        </a:lnTo>
                        <a:lnTo>
                          <a:pt x="525" y="2130"/>
                        </a:lnTo>
                        <a:lnTo>
                          <a:pt x="748" y="1987"/>
                        </a:lnTo>
                        <a:lnTo>
                          <a:pt x="961" y="1849"/>
                        </a:lnTo>
                        <a:lnTo>
                          <a:pt x="1022" y="1782"/>
                        </a:lnTo>
                        <a:lnTo>
                          <a:pt x="938" y="1919"/>
                        </a:lnTo>
                        <a:lnTo>
                          <a:pt x="1005" y="1892"/>
                        </a:lnTo>
                        <a:lnTo>
                          <a:pt x="964" y="1962"/>
                        </a:lnTo>
                        <a:lnTo>
                          <a:pt x="941" y="2057"/>
                        </a:lnTo>
                        <a:lnTo>
                          <a:pt x="981" y="2030"/>
                        </a:lnTo>
                        <a:lnTo>
                          <a:pt x="929" y="2110"/>
                        </a:lnTo>
                        <a:lnTo>
                          <a:pt x="768" y="2240"/>
                        </a:lnTo>
                        <a:lnTo>
                          <a:pt x="663" y="2260"/>
                        </a:lnTo>
                        <a:lnTo>
                          <a:pt x="531" y="2284"/>
                        </a:lnTo>
                        <a:lnTo>
                          <a:pt x="789" y="2217"/>
                        </a:lnTo>
                        <a:lnTo>
                          <a:pt x="961" y="2100"/>
                        </a:lnTo>
                        <a:lnTo>
                          <a:pt x="1005" y="2010"/>
                        </a:lnTo>
                        <a:lnTo>
                          <a:pt x="938" y="2207"/>
                        </a:lnTo>
                        <a:lnTo>
                          <a:pt x="1011" y="2157"/>
                        </a:lnTo>
                        <a:lnTo>
                          <a:pt x="967" y="2264"/>
                        </a:lnTo>
                        <a:lnTo>
                          <a:pt x="897" y="2411"/>
                        </a:lnTo>
                        <a:lnTo>
                          <a:pt x="467" y="2634"/>
                        </a:lnTo>
                        <a:lnTo>
                          <a:pt x="900" y="2427"/>
                        </a:lnTo>
                        <a:lnTo>
                          <a:pt x="941" y="2354"/>
                        </a:lnTo>
                        <a:lnTo>
                          <a:pt x="967" y="2307"/>
                        </a:lnTo>
                        <a:lnTo>
                          <a:pt x="1040" y="2250"/>
                        </a:lnTo>
                        <a:lnTo>
                          <a:pt x="1087" y="2357"/>
                        </a:lnTo>
                        <a:lnTo>
                          <a:pt x="1104" y="2157"/>
                        </a:lnTo>
                        <a:lnTo>
                          <a:pt x="1180" y="203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352520" y="4510080"/>
                    <a:ext cx="444960" cy="9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236" h="2647">
                        <a:moveTo>
                          <a:pt x="0" y="2304"/>
                        </a:moveTo>
                        <a:lnTo>
                          <a:pt x="8" y="2190"/>
                        </a:lnTo>
                        <a:lnTo>
                          <a:pt x="76" y="2254"/>
                        </a:lnTo>
                        <a:lnTo>
                          <a:pt x="49" y="2097"/>
                        </a:lnTo>
                        <a:lnTo>
                          <a:pt x="117" y="2120"/>
                        </a:lnTo>
                        <a:lnTo>
                          <a:pt x="353" y="2647"/>
                        </a:lnTo>
                        <a:lnTo>
                          <a:pt x="138" y="2190"/>
                        </a:lnTo>
                        <a:lnTo>
                          <a:pt x="111" y="2113"/>
                        </a:lnTo>
                        <a:lnTo>
                          <a:pt x="91" y="2033"/>
                        </a:lnTo>
                        <a:lnTo>
                          <a:pt x="138" y="2053"/>
                        </a:lnTo>
                        <a:lnTo>
                          <a:pt x="273" y="2200"/>
                        </a:lnTo>
                        <a:lnTo>
                          <a:pt x="439" y="2444"/>
                        </a:lnTo>
                        <a:lnTo>
                          <a:pt x="202" y="2120"/>
                        </a:lnTo>
                        <a:lnTo>
                          <a:pt x="126" y="2030"/>
                        </a:lnTo>
                        <a:lnTo>
                          <a:pt x="117" y="1902"/>
                        </a:lnTo>
                        <a:lnTo>
                          <a:pt x="167" y="1942"/>
                        </a:lnTo>
                        <a:lnTo>
                          <a:pt x="158" y="1799"/>
                        </a:lnTo>
                        <a:lnTo>
                          <a:pt x="202" y="1846"/>
                        </a:lnTo>
                        <a:lnTo>
                          <a:pt x="418" y="2327"/>
                        </a:lnTo>
                        <a:lnTo>
                          <a:pt x="182" y="1779"/>
                        </a:lnTo>
                        <a:lnTo>
                          <a:pt x="158" y="1685"/>
                        </a:lnTo>
                        <a:lnTo>
                          <a:pt x="223" y="1739"/>
                        </a:lnTo>
                        <a:lnTo>
                          <a:pt x="397" y="2007"/>
                        </a:lnTo>
                        <a:lnTo>
                          <a:pt x="202" y="1732"/>
                        </a:lnTo>
                        <a:lnTo>
                          <a:pt x="138" y="1592"/>
                        </a:lnTo>
                        <a:lnTo>
                          <a:pt x="202" y="1639"/>
                        </a:lnTo>
                        <a:lnTo>
                          <a:pt x="158" y="1549"/>
                        </a:lnTo>
                        <a:lnTo>
                          <a:pt x="223" y="1572"/>
                        </a:lnTo>
                        <a:lnTo>
                          <a:pt x="285" y="1732"/>
                        </a:lnTo>
                        <a:lnTo>
                          <a:pt x="588" y="2033"/>
                        </a:lnTo>
                        <a:lnTo>
                          <a:pt x="267" y="1685"/>
                        </a:lnTo>
                        <a:lnTo>
                          <a:pt x="202" y="1549"/>
                        </a:lnTo>
                        <a:lnTo>
                          <a:pt x="182" y="1479"/>
                        </a:lnTo>
                        <a:lnTo>
                          <a:pt x="244" y="1549"/>
                        </a:lnTo>
                        <a:lnTo>
                          <a:pt x="202" y="1388"/>
                        </a:lnTo>
                        <a:lnTo>
                          <a:pt x="244" y="1408"/>
                        </a:lnTo>
                        <a:lnTo>
                          <a:pt x="279" y="1489"/>
                        </a:lnTo>
                        <a:lnTo>
                          <a:pt x="706" y="1735"/>
                        </a:lnTo>
                        <a:lnTo>
                          <a:pt x="477" y="1589"/>
                        </a:lnTo>
                        <a:lnTo>
                          <a:pt x="344" y="1509"/>
                        </a:lnTo>
                        <a:lnTo>
                          <a:pt x="305" y="1482"/>
                        </a:lnTo>
                        <a:lnTo>
                          <a:pt x="211" y="1318"/>
                        </a:lnTo>
                        <a:lnTo>
                          <a:pt x="244" y="1348"/>
                        </a:lnTo>
                        <a:lnTo>
                          <a:pt x="223" y="1248"/>
                        </a:lnTo>
                        <a:lnTo>
                          <a:pt x="214" y="1265"/>
                        </a:lnTo>
                        <a:lnTo>
                          <a:pt x="302" y="1308"/>
                        </a:lnTo>
                        <a:lnTo>
                          <a:pt x="241" y="1198"/>
                        </a:lnTo>
                        <a:lnTo>
                          <a:pt x="308" y="1225"/>
                        </a:lnTo>
                        <a:lnTo>
                          <a:pt x="474" y="1275"/>
                        </a:lnTo>
                        <a:lnTo>
                          <a:pt x="647" y="1368"/>
                        </a:lnTo>
                        <a:lnTo>
                          <a:pt x="1086" y="1709"/>
                        </a:lnTo>
                        <a:lnTo>
                          <a:pt x="527" y="1295"/>
                        </a:lnTo>
                        <a:lnTo>
                          <a:pt x="315" y="1198"/>
                        </a:lnTo>
                        <a:lnTo>
                          <a:pt x="258" y="1115"/>
                        </a:lnTo>
                        <a:lnTo>
                          <a:pt x="339" y="1158"/>
                        </a:lnTo>
                        <a:lnTo>
                          <a:pt x="244" y="995"/>
                        </a:lnTo>
                        <a:lnTo>
                          <a:pt x="308" y="1005"/>
                        </a:lnTo>
                        <a:lnTo>
                          <a:pt x="267" y="921"/>
                        </a:lnTo>
                        <a:lnTo>
                          <a:pt x="273" y="905"/>
                        </a:lnTo>
                        <a:lnTo>
                          <a:pt x="359" y="975"/>
                        </a:lnTo>
                        <a:lnTo>
                          <a:pt x="276" y="851"/>
                        </a:lnTo>
                        <a:lnTo>
                          <a:pt x="342" y="851"/>
                        </a:lnTo>
                        <a:lnTo>
                          <a:pt x="267" y="768"/>
                        </a:lnTo>
                        <a:lnTo>
                          <a:pt x="308" y="768"/>
                        </a:lnTo>
                        <a:lnTo>
                          <a:pt x="267" y="721"/>
                        </a:lnTo>
                        <a:lnTo>
                          <a:pt x="333" y="721"/>
                        </a:lnTo>
                        <a:lnTo>
                          <a:pt x="468" y="821"/>
                        </a:lnTo>
                        <a:lnTo>
                          <a:pt x="688" y="945"/>
                        </a:lnTo>
                        <a:lnTo>
                          <a:pt x="912" y="1045"/>
                        </a:lnTo>
                        <a:lnTo>
                          <a:pt x="1107" y="1115"/>
                        </a:lnTo>
                        <a:lnTo>
                          <a:pt x="633" y="905"/>
                        </a:lnTo>
                        <a:lnTo>
                          <a:pt x="527" y="838"/>
                        </a:lnTo>
                        <a:lnTo>
                          <a:pt x="359" y="751"/>
                        </a:lnTo>
                        <a:lnTo>
                          <a:pt x="333" y="721"/>
                        </a:lnTo>
                        <a:lnTo>
                          <a:pt x="288" y="630"/>
                        </a:lnTo>
                        <a:lnTo>
                          <a:pt x="353" y="653"/>
                        </a:lnTo>
                        <a:lnTo>
                          <a:pt x="279" y="507"/>
                        </a:lnTo>
                        <a:lnTo>
                          <a:pt x="321" y="507"/>
                        </a:lnTo>
                        <a:lnTo>
                          <a:pt x="267" y="403"/>
                        </a:lnTo>
                        <a:lnTo>
                          <a:pt x="333" y="403"/>
                        </a:lnTo>
                        <a:lnTo>
                          <a:pt x="374" y="453"/>
                        </a:lnTo>
                        <a:lnTo>
                          <a:pt x="527" y="527"/>
                        </a:lnTo>
                        <a:lnTo>
                          <a:pt x="957" y="701"/>
                        </a:lnTo>
                        <a:lnTo>
                          <a:pt x="483" y="493"/>
                        </a:lnTo>
                        <a:lnTo>
                          <a:pt x="374" y="447"/>
                        </a:lnTo>
                        <a:lnTo>
                          <a:pt x="353" y="403"/>
                        </a:lnTo>
                        <a:lnTo>
                          <a:pt x="288" y="333"/>
                        </a:lnTo>
                        <a:lnTo>
                          <a:pt x="333" y="357"/>
                        </a:lnTo>
                        <a:lnTo>
                          <a:pt x="223" y="263"/>
                        </a:lnTo>
                        <a:lnTo>
                          <a:pt x="267" y="290"/>
                        </a:lnTo>
                        <a:lnTo>
                          <a:pt x="368" y="286"/>
                        </a:lnTo>
                        <a:lnTo>
                          <a:pt x="647" y="410"/>
                        </a:lnTo>
                        <a:lnTo>
                          <a:pt x="353" y="290"/>
                        </a:lnTo>
                        <a:lnTo>
                          <a:pt x="267" y="196"/>
                        </a:lnTo>
                        <a:lnTo>
                          <a:pt x="353" y="196"/>
                        </a:lnTo>
                        <a:lnTo>
                          <a:pt x="718" y="196"/>
                        </a:lnTo>
                        <a:lnTo>
                          <a:pt x="1236" y="103"/>
                        </a:lnTo>
                        <a:lnTo>
                          <a:pt x="915" y="170"/>
                        </a:lnTo>
                        <a:lnTo>
                          <a:pt x="462" y="216"/>
                        </a:lnTo>
                        <a:lnTo>
                          <a:pt x="333" y="196"/>
                        </a:lnTo>
                        <a:lnTo>
                          <a:pt x="288" y="150"/>
                        </a:lnTo>
                        <a:lnTo>
                          <a:pt x="244" y="80"/>
                        </a:lnTo>
                        <a:lnTo>
                          <a:pt x="144" y="0"/>
                        </a:lnTo>
                        <a:lnTo>
                          <a:pt x="117" y="33"/>
                        </a:lnTo>
                        <a:lnTo>
                          <a:pt x="94" y="6"/>
                        </a:lnTo>
                        <a:lnTo>
                          <a:pt x="0" y="2304"/>
                        </a:lnTo>
                        <a:close/>
                      </a:path>
                    </a:pathLst>
                  </a:custGeom>
                  <a:solidFill>
                    <a:srgbClr val="00004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1360440" y="5465880"/>
                  <a:ext cx="113040" cy="727560"/>
                </a:xfrm>
                <a:custGeom>
                  <a:avLst/>
                  <a:gdLst/>
                  <a:ahLst/>
                  <a:rect l="0" t="0" r="r" b="b"/>
                  <a:pathLst>
                    <a:path w="314" h="2021">
                      <a:moveTo>
                        <a:pt x="64" y="0"/>
                      </a:moveTo>
                      <a:lnTo>
                        <a:pt x="125" y="154"/>
                      </a:lnTo>
                      <a:lnTo>
                        <a:pt x="188" y="398"/>
                      </a:lnTo>
                      <a:lnTo>
                        <a:pt x="252" y="737"/>
                      </a:lnTo>
                      <a:lnTo>
                        <a:pt x="314" y="1166"/>
                      </a:lnTo>
                      <a:lnTo>
                        <a:pt x="314" y="1626"/>
                      </a:lnTo>
                      <a:lnTo>
                        <a:pt x="283" y="2021"/>
                      </a:lnTo>
                      <a:lnTo>
                        <a:pt x="252" y="2021"/>
                      </a:lnTo>
                      <a:lnTo>
                        <a:pt x="283" y="1626"/>
                      </a:lnTo>
                      <a:lnTo>
                        <a:pt x="283" y="1287"/>
                      </a:lnTo>
                      <a:lnTo>
                        <a:pt x="219" y="918"/>
                      </a:lnTo>
                      <a:lnTo>
                        <a:pt x="125" y="553"/>
                      </a:lnTo>
                      <a:lnTo>
                        <a:pt x="0" y="9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977760" y="6191280"/>
                  <a:ext cx="295560" cy="349560"/>
                </a:xfrm>
                <a:custGeom>
                  <a:avLst/>
                  <a:gdLst/>
                  <a:ahLst/>
                  <a:rect l="0" t="0" r="r" b="b"/>
                  <a:pathLst>
                    <a:path w="821" h="971">
                      <a:moveTo>
                        <a:pt x="821" y="971"/>
                      </a:moveTo>
                      <a:lnTo>
                        <a:pt x="699" y="756"/>
                      </a:lnTo>
                      <a:lnTo>
                        <a:pt x="597" y="515"/>
                      </a:lnTo>
                      <a:lnTo>
                        <a:pt x="542" y="409"/>
                      </a:lnTo>
                      <a:lnTo>
                        <a:pt x="465" y="289"/>
                      </a:lnTo>
                      <a:lnTo>
                        <a:pt x="365" y="161"/>
                      </a:lnTo>
                      <a:lnTo>
                        <a:pt x="293" y="81"/>
                      </a:lnTo>
                      <a:lnTo>
                        <a:pt x="238" y="43"/>
                      </a:lnTo>
                      <a:lnTo>
                        <a:pt x="161" y="12"/>
                      </a:lnTo>
                      <a:lnTo>
                        <a:pt x="77" y="0"/>
                      </a:lnTo>
                      <a:lnTo>
                        <a:pt x="39" y="26"/>
                      </a:lnTo>
                      <a:lnTo>
                        <a:pt x="0" y="89"/>
                      </a:lnTo>
                      <a:lnTo>
                        <a:pt x="821" y="971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220760" y="4913280"/>
                  <a:ext cx="924120" cy="1251360"/>
                </a:xfrm>
                <a:custGeom>
                  <a:avLst/>
                  <a:gdLst/>
                  <a:ahLst/>
                  <a:rect l="0" t="0" r="r" b="b"/>
                  <a:pathLst>
                    <a:path w="2567" h="3476">
                      <a:moveTo>
                        <a:pt x="1993" y="0"/>
                      </a:moveTo>
                      <a:lnTo>
                        <a:pt x="1888" y="11"/>
                      </a:lnTo>
                      <a:lnTo>
                        <a:pt x="1734" y="40"/>
                      </a:lnTo>
                      <a:lnTo>
                        <a:pt x="1839" y="58"/>
                      </a:lnTo>
                      <a:lnTo>
                        <a:pt x="1753" y="98"/>
                      </a:lnTo>
                      <a:lnTo>
                        <a:pt x="1660" y="150"/>
                      </a:lnTo>
                      <a:lnTo>
                        <a:pt x="1524" y="168"/>
                      </a:lnTo>
                      <a:lnTo>
                        <a:pt x="1321" y="156"/>
                      </a:lnTo>
                      <a:lnTo>
                        <a:pt x="1091" y="127"/>
                      </a:lnTo>
                      <a:lnTo>
                        <a:pt x="512" y="156"/>
                      </a:lnTo>
                      <a:lnTo>
                        <a:pt x="1073" y="139"/>
                      </a:lnTo>
                      <a:lnTo>
                        <a:pt x="1321" y="174"/>
                      </a:lnTo>
                      <a:lnTo>
                        <a:pt x="1524" y="168"/>
                      </a:lnTo>
                      <a:lnTo>
                        <a:pt x="1660" y="197"/>
                      </a:lnTo>
                      <a:lnTo>
                        <a:pt x="1561" y="237"/>
                      </a:lnTo>
                      <a:lnTo>
                        <a:pt x="1629" y="255"/>
                      </a:lnTo>
                      <a:lnTo>
                        <a:pt x="1438" y="336"/>
                      </a:lnTo>
                      <a:lnTo>
                        <a:pt x="1024" y="324"/>
                      </a:lnTo>
                      <a:lnTo>
                        <a:pt x="481" y="603"/>
                      </a:lnTo>
                      <a:lnTo>
                        <a:pt x="1024" y="336"/>
                      </a:lnTo>
                      <a:lnTo>
                        <a:pt x="1438" y="353"/>
                      </a:lnTo>
                      <a:lnTo>
                        <a:pt x="1561" y="365"/>
                      </a:lnTo>
                      <a:lnTo>
                        <a:pt x="1339" y="458"/>
                      </a:lnTo>
                      <a:lnTo>
                        <a:pt x="1481" y="458"/>
                      </a:lnTo>
                      <a:lnTo>
                        <a:pt x="1233" y="562"/>
                      </a:lnTo>
                      <a:lnTo>
                        <a:pt x="777" y="701"/>
                      </a:lnTo>
                      <a:lnTo>
                        <a:pt x="259" y="952"/>
                      </a:lnTo>
                      <a:lnTo>
                        <a:pt x="795" y="725"/>
                      </a:lnTo>
                      <a:lnTo>
                        <a:pt x="1252" y="580"/>
                      </a:lnTo>
                      <a:lnTo>
                        <a:pt x="1389" y="591"/>
                      </a:lnTo>
                      <a:lnTo>
                        <a:pt x="1178" y="672"/>
                      </a:lnTo>
                      <a:lnTo>
                        <a:pt x="1321" y="690"/>
                      </a:lnTo>
                      <a:lnTo>
                        <a:pt x="1147" y="788"/>
                      </a:lnTo>
                      <a:lnTo>
                        <a:pt x="49" y="1631"/>
                      </a:lnTo>
                      <a:lnTo>
                        <a:pt x="1147" y="812"/>
                      </a:lnTo>
                      <a:lnTo>
                        <a:pt x="1302" y="812"/>
                      </a:lnTo>
                      <a:lnTo>
                        <a:pt x="1128" y="940"/>
                      </a:lnTo>
                      <a:lnTo>
                        <a:pt x="1252" y="934"/>
                      </a:lnTo>
                      <a:lnTo>
                        <a:pt x="1091" y="1085"/>
                      </a:lnTo>
                      <a:lnTo>
                        <a:pt x="641" y="1375"/>
                      </a:lnTo>
                      <a:lnTo>
                        <a:pt x="172" y="1793"/>
                      </a:lnTo>
                      <a:lnTo>
                        <a:pt x="641" y="1387"/>
                      </a:lnTo>
                      <a:lnTo>
                        <a:pt x="1110" y="1097"/>
                      </a:lnTo>
                      <a:lnTo>
                        <a:pt x="1252" y="1056"/>
                      </a:lnTo>
                      <a:lnTo>
                        <a:pt x="1147" y="1167"/>
                      </a:lnTo>
                      <a:lnTo>
                        <a:pt x="1233" y="1149"/>
                      </a:lnTo>
                      <a:lnTo>
                        <a:pt x="1091" y="1306"/>
                      </a:lnTo>
                      <a:lnTo>
                        <a:pt x="734" y="1602"/>
                      </a:lnTo>
                      <a:lnTo>
                        <a:pt x="0" y="1996"/>
                      </a:lnTo>
                      <a:lnTo>
                        <a:pt x="715" y="1613"/>
                      </a:lnTo>
                      <a:lnTo>
                        <a:pt x="1110" y="1317"/>
                      </a:lnTo>
                      <a:lnTo>
                        <a:pt x="1166" y="1317"/>
                      </a:lnTo>
                      <a:lnTo>
                        <a:pt x="487" y="2205"/>
                      </a:lnTo>
                      <a:lnTo>
                        <a:pt x="1203" y="1317"/>
                      </a:lnTo>
                      <a:lnTo>
                        <a:pt x="1110" y="1433"/>
                      </a:lnTo>
                      <a:lnTo>
                        <a:pt x="1203" y="1393"/>
                      </a:lnTo>
                      <a:lnTo>
                        <a:pt x="1054" y="1573"/>
                      </a:lnTo>
                      <a:lnTo>
                        <a:pt x="592" y="1990"/>
                      </a:lnTo>
                      <a:lnTo>
                        <a:pt x="1054" y="1602"/>
                      </a:lnTo>
                      <a:lnTo>
                        <a:pt x="1178" y="1573"/>
                      </a:lnTo>
                      <a:lnTo>
                        <a:pt x="1054" y="1694"/>
                      </a:lnTo>
                      <a:lnTo>
                        <a:pt x="505" y="2501"/>
                      </a:lnTo>
                      <a:lnTo>
                        <a:pt x="937" y="1874"/>
                      </a:lnTo>
                      <a:lnTo>
                        <a:pt x="1091" y="1694"/>
                      </a:lnTo>
                      <a:lnTo>
                        <a:pt x="1178" y="1671"/>
                      </a:lnTo>
                      <a:lnTo>
                        <a:pt x="1073" y="1799"/>
                      </a:lnTo>
                      <a:lnTo>
                        <a:pt x="1166" y="1781"/>
                      </a:lnTo>
                      <a:lnTo>
                        <a:pt x="1024" y="1938"/>
                      </a:lnTo>
                      <a:lnTo>
                        <a:pt x="956" y="2077"/>
                      </a:lnTo>
                      <a:lnTo>
                        <a:pt x="246" y="2541"/>
                      </a:lnTo>
                      <a:lnTo>
                        <a:pt x="968" y="2089"/>
                      </a:lnTo>
                      <a:lnTo>
                        <a:pt x="1054" y="1990"/>
                      </a:lnTo>
                      <a:lnTo>
                        <a:pt x="1147" y="1961"/>
                      </a:lnTo>
                      <a:lnTo>
                        <a:pt x="968" y="2228"/>
                      </a:lnTo>
                      <a:lnTo>
                        <a:pt x="1166" y="1961"/>
                      </a:lnTo>
                      <a:lnTo>
                        <a:pt x="1054" y="2089"/>
                      </a:lnTo>
                      <a:lnTo>
                        <a:pt x="1178" y="2060"/>
                      </a:lnTo>
                      <a:lnTo>
                        <a:pt x="1091" y="2170"/>
                      </a:lnTo>
                      <a:lnTo>
                        <a:pt x="851" y="2553"/>
                      </a:lnTo>
                      <a:lnTo>
                        <a:pt x="604" y="2786"/>
                      </a:lnTo>
                      <a:lnTo>
                        <a:pt x="851" y="2553"/>
                      </a:lnTo>
                      <a:lnTo>
                        <a:pt x="1110" y="2188"/>
                      </a:lnTo>
                      <a:lnTo>
                        <a:pt x="1203" y="2170"/>
                      </a:lnTo>
                      <a:lnTo>
                        <a:pt x="1166" y="2257"/>
                      </a:lnTo>
                      <a:lnTo>
                        <a:pt x="968" y="2501"/>
                      </a:lnTo>
                      <a:lnTo>
                        <a:pt x="1178" y="2286"/>
                      </a:lnTo>
                      <a:lnTo>
                        <a:pt x="1233" y="2205"/>
                      </a:lnTo>
                      <a:lnTo>
                        <a:pt x="1147" y="2402"/>
                      </a:lnTo>
                      <a:lnTo>
                        <a:pt x="1252" y="2367"/>
                      </a:lnTo>
                      <a:lnTo>
                        <a:pt x="1215" y="2524"/>
                      </a:lnTo>
                      <a:lnTo>
                        <a:pt x="1284" y="2454"/>
                      </a:lnTo>
                      <a:lnTo>
                        <a:pt x="1339" y="2512"/>
                      </a:lnTo>
                      <a:lnTo>
                        <a:pt x="1321" y="2682"/>
                      </a:lnTo>
                      <a:lnTo>
                        <a:pt x="869" y="3476"/>
                      </a:lnTo>
                      <a:lnTo>
                        <a:pt x="1358" y="2682"/>
                      </a:lnTo>
                      <a:lnTo>
                        <a:pt x="1358" y="2501"/>
                      </a:lnTo>
                      <a:lnTo>
                        <a:pt x="1358" y="2396"/>
                      </a:lnTo>
                      <a:lnTo>
                        <a:pt x="1463" y="2454"/>
                      </a:lnTo>
                      <a:lnTo>
                        <a:pt x="2271" y="2983"/>
                      </a:lnTo>
                      <a:lnTo>
                        <a:pt x="1419" y="2402"/>
                      </a:lnTo>
                      <a:lnTo>
                        <a:pt x="1358" y="2257"/>
                      </a:lnTo>
                      <a:lnTo>
                        <a:pt x="1438" y="2286"/>
                      </a:lnTo>
                      <a:lnTo>
                        <a:pt x="1321" y="2106"/>
                      </a:lnTo>
                      <a:lnTo>
                        <a:pt x="1419" y="2176"/>
                      </a:lnTo>
                      <a:lnTo>
                        <a:pt x="1617" y="2431"/>
                      </a:lnTo>
                      <a:lnTo>
                        <a:pt x="1438" y="2159"/>
                      </a:lnTo>
                      <a:lnTo>
                        <a:pt x="1358" y="2048"/>
                      </a:lnTo>
                      <a:lnTo>
                        <a:pt x="1376" y="2048"/>
                      </a:lnTo>
                      <a:lnTo>
                        <a:pt x="1481" y="2106"/>
                      </a:lnTo>
                      <a:lnTo>
                        <a:pt x="1679" y="2246"/>
                      </a:lnTo>
                      <a:lnTo>
                        <a:pt x="2376" y="2356"/>
                      </a:lnTo>
                      <a:lnTo>
                        <a:pt x="1660" y="2228"/>
                      </a:lnTo>
                      <a:lnTo>
                        <a:pt x="1438" y="2060"/>
                      </a:lnTo>
                      <a:lnTo>
                        <a:pt x="1376" y="1926"/>
                      </a:lnTo>
                      <a:lnTo>
                        <a:pt x="1481" y="1926"/>
                      </a:lnTo>
                      <a:lnTo>
                        <a:pt x="1376" y="1799"/>
                      </a:lnTo>
                      <a:lnTo>
                        <a:pt x="1512" y="1828"/>
                      </a:lnTo>
                      <a:lnTo>
                        <a:pt x="1993" y="2077"/>
                      </a:lnTo>
                      <a:lnTo>
                        <a:pt x="1512" y="1822"/>
                      </a:lnTo>
                      <a:lnTo>
                        <a:pt x="1401" y="1671"/>
                      </a:lnTo>
                      <a:lnTo>
                        <a:pt x="1524" y="1712"/>
                      </a:lnTo>
                      <a:lnTo>
                        <a:pt x="1438" y="1596"/>
                      </a:lnTo>
                      <a:lnTo>
                        <a:pt x="1561" y="1671"/>
                      </a:lnTo>
                      <a:lnTo>
                        <a:pt x="1481" y="1497"/>
                      </a:lnTo>
                      <a:lnTo>
                        <a:pt x="1580" y="1584"/>
                      </a:lnTo>
                      <a:lnTo>
                        <a:pt x="2012" y="1967"/>
                      </a:lnTo>
                      <a:lnTo>
                        <a:pt x="1561" y="1584"/>
                      </a:lnTo>
                      <a:lnTo>
                        <a:pt x="1463" y="1358"/>
                      </a:lnTo>
                      <a:lnTo>
                        <a:pt x="1580" y="1404"/>
                      </a:lnTo>
                      <a:lnTo>
                        <a:pt x="2283" y="1625"/>
                      </a:lnTo>
                      <a:lnTo>
                        <a:pt x="1580" y="1393"/>
                      </a:lnTo>
                      <a:lnTo>
                        <a:pt x="1493" y="1196"/>
                      </a:lnTo>
                      <a:lnTo>
                        <a:pt x="1598" y="1230"/>
                      </a:lnTo>
                      <a:lnTo>
                        <a:pt x="1512" y="1120"/>
                      </a:lnTo>
                      <a:lnTo>
                        <a:pt x="1617" y="1161"/>
                      </a:lnTo>
                      <a:lnTo>
                        <a:pt x="1944" y="1700"/>
                      </a:lnTo>
                      <a:lnTo>
                        <a:pt x="1598" y="1109"/>
                      </a:lnTo>
                      <a:lnTo>
                        <a:pt x="1598" y="963"/>
                      </a:lnTo>
                      <a:lnTo>
                        <a:pt x="1697" y="1027"/>
                      </a:lnTo>
                      <a:lnTo>
                        <a:pt x="1913" y="1335"/>
                      </a:lnTo>
                      <a:lnTo>
                        <a:pt x="1648" y="940"/>
                      </a:lnTo>
                      <a:lnTo>
                        <a:pt x="1617" y="812"/>
                      </a:lnTo>
                      <a:lnTo>
                        <a:pt x="1697" y="871"/>
                      </a:lnTo>
                      <a:lnTo>
                        <a:pt x="1956" y="1120"/>
                      </a:lnTo>
                      <a:lnTo>
                        <a:pt x="2567" y="1259"/>
                      </a:lnTo>
                      <a:lnTo>
                        <a:pt x="1944" y="1097"/>
                      </a:lnTo>
                      <a:lnTo>
                        <a:pt x="1716" y="829"/>
                      </a:lnTo>
                      <a:lnTo>
                        <a:pt x="1679" y="661"/>
                      </a:lnTo>
                      <a:lnTo>
                        <a:pt x="1783" y="742"/>
                      </a:lnTo>
                      <a:lnTo>
                        <a:pt x="1734" y="580"/>
                      </a:lnTo>
                      <a:lnTo>
                        <a:pt x="2135" y="998"/>
                      </a:lnTo>
                      <a:lnTo>
                        <a:pt x="1753" y="562"/>
                      </a:lnTo>
                      <a:lnTo>
                        <a:pt x="1716" y="446"/>
                      </a:lnTo>
                      <a:lnTo>
                        <a:pt x="1839" y="533"/>
                      </a:lnTo>
                      <a:lnTo>
                        <a:pt x="1820" y="348"/>
                      </a:lnTo>
                      <a:lnTo>
                        <a:pt x="1975" y="435"/>
                      </a:lnTo>
                      <a:lnTo>
                        <a:pt x="2536" y="765"/>
                      </a:lnTo>
                      <a:lnTo>
                        <a:pt x="1975" y="429"/>
                      </a:lnTo>
                      <a:lnTo>
                        <a:pt x="1913" y="237"/>
                      </a:lnTo>
                      <a:lnTo>
                        <a:pt x="1993" y="284"/>
                      </a:lnTo>
                      <a:lnTo>
                        <a:pt x="1944" y="150"/>
                      </a:lnTo>
                      <a:lnTo>
                        <a:pt x="2030" y="185"/>
                      </a:lnTo>
                      <a:lnTo>
                        <a:pt x="2049" y="75"/>
                      </a:lnTo>
                      <a:lnTo>
                        <a:pt x="2030" y="29"/>
                      </a:lnTo>
                      <a:lnTo>
                        <a:pt x="1993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08280" y="5578560"/>
                  <a:ext cx="341640" cy="568800"/>
                </a:xfrm>
                <a:custGeom>
                  <a:avLst/>
                  <a:gdLst/>
                  <a:ahLst/>
                  <a:rect l="0" t="0" r="r" b="b"/>
                  <a:pathLst>
                    <a:path w="949" h="1580">
                      <a:moveTo>
                        <a:pt x="949" y="568"/>
                      </a:moveTo>
                      <a:lnTo>
                        <a:pt x="850" y="57"/>
                      </a:lnTo>
                      <a:lnTo>
                        <a:pt x="725" y="8"/>
                      </a:lnTo>
                      <a:lnTo>
                        <a:pt x="619" y="0"/>
                      </a:lnTo>
                      <a:lnTo>
                        <a:pt x="458" y="22"/>
                      </a:lnTo>
                      <a:lnTo>
                        <a:pt x="356" y="79"/>
                      </a:lnTo>
                      <a:lnTo>
                        <a:pt x="246" y="159"/>
                      </a:lnTo>
                      <a:lnTo>
                        <a:pt x="136" y="300"/>
                      </a:lnTo>
                      <a:lnTo>
                        <a:pt x="75" y="499"/>
                      </a:lnTo>
                      <a:lnTo>
                        <a:pt x="45" y="667"/>
                      </a:lnTo>
                      <a:lnTo>
                        <a:pt x="0" y="899"/>
                      </a:lnTo>
                      <a:lnTo>
                        <a:pt x="0" y="1056"/>
                      </a:lnTo>
                      <a:lnTo>
                        <a:pt x="75" y="1263"/>
                      </a:lnTo>
                      <a:lnTo>
                        <a:pt x="216" y="1440"/>
                      </a:lnTo>
                      <a:lnTo>
                        <a:pt x="356" y="1580"/>
                      </a:lnTo>
                      <a:lnTo>
                        <a:pt x="276" y="1368"/>
                      </a:lnTo>
                      <a:lnTo>
                        <a:pt x="246" y="1166"/>
                      </a:lnTo>
                      <a:lnTo>
                        <a:pt x="261" y="959"/>
                      </a:lnTo>
                      <a:lnTo>
                        <a:pt x="276" y="772"/>
                      </a:lnTo>
                      <a:lnTo>
                        <a:pt x="307" y="587"/>
                      </a:lnTo>
                      <a:lnTo>
                        <a:pt x="356" y="422"/>
                      </a:lnTo>
                      <a:lnTo>
                        <a:pt x="371" y="294"/>
                      </a:lnTo>
                      <a:lnTo>
                        <a:pt x="432" y="165"/>
                      </a:lnTo>
                      <a:lnTo>
                        <a:pt x="573" y="63"/>
                      </a:lnTo>
                      <a:lnTo>
                        <a:pt x="695" y="71"/>
                      </a:lnTo>
                      <a:lnTo>
                        <a:pt x="816" y="355"/>
                      </a:lnTo>
                      <a:lnTo>
                        <a:pt x="911" y="422"/>
                      </a:lnTo>
                      <a:lnTo>
                        <a:pt x="949" y="568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079720" y="5164200"/>
                  <a:ext cx="381240" cy="695520"/>
                </a:xfrm>
                <a:custGeom>
                  <a:avLst/>
                  <a:gdLst/>
                  <a:ahLst/>
                  <a:rect l="0" t="0" r="r" b="b"/>
                  <a:pathLst>
                    <a:path w="1059" h="1932">
                      <a:moveTo>
                        <a:pt x="23" y="308"/>
                      </a:moveTo>
                      <a:lnTo>
                        <a:pt x="244" y="0"/>
                      </a:lnTo>
                      <a:lnTo>
                        <a:pt x="383" y="8"/>
                      </a:lnTo>
                      <a:lnTo>
                        <a:pt x="503" y="26"/>
                      </a:lnTo>
                      <a:lnTo>
                        <a:pt x="601" y="109"/>
                      </a:lnTo>
                      <a:lnTo>
                        <a:pt x="842" y="358"/>
                      </a:lnTo>
                      <a:lnTo>
                        <a:pt x="920" y="468"/>
                      </a:lnTo>
                      <a:lnTo>
                        <a:pt x="980" y="575"/>
                      </a:lnTo>
                      <a:lnTo>
                        <a:pt x="1036" y="907"/>
                      </a:lnTo>
                      <a:lnTo>
                        <a:pt x="1059" y="1006"/>
                      </a:lnTo>
                      <a:lnTo>
                        <a:pt x="1036" y="1134"/>
                      </a:lnTo>
                      <a:lnTo>
                        <a:pt x="999" y="1267"/>
                      </a:lnTo>
                      <a:lnTo>
                        <a:pt x="902" y="1475"/>
                      </a:lnTo>
                      <a:lnTo>
                        <a:pt x="823" y="1609"/>
                      </a:lnTo>
                      <a:lnTo>
                        <a:pt x="703" y="1754"/>
                      </a:lnTo>
                      <a:lnTo>
                        <a:pt x="462" y="1932"/>
                      </a:lnTo>
                      <a:lnTo>
                        <a:pt x="583" y="1706"/>
                      </a:lnTo>
                      <a:lnTo>
                        <a:pt x="684" y="1502"/>
                      </a:lnTo>
                      <a:lnTo>
                        <a:pt x="745" y="1312"/>
                      </a:lnTo>
                      <a:lnTo>
                        <a:pt x="721" y="1134"/>
                      </a:lnTo>
                      <a:lnTo>
                        <a:pt x="703" y="1006"/>
                      </a:lnTo>
                      <a:lnTo>
                        <a:pt x="745" y="851"/>
                      </a:lnTo>
                      <a:lnTo>
                        <a:pt x="763" y="720"/>
                      </a:lnTo>
                      <a:lnTo>
                        <a:pt x="661" y="468"/>
                      </a:lnTo>
                      <a:lnTo>
                        <a:pt x="643" y="332"/>
                      </a:lnTo>
                      <a:lnTo>
                        <a:pt x="560" y="225"/>
                      </a:lnTo>
                      <a:lnTo>
                        <a:pt x="383" y="83"/>
                      </a:lnTo>
                      <a:lnTo>
                        <a:pt x="300" y="192"/>
                      </a:lnTo>
                      <a:lnTo>
                        <a:pt x="0" y="370"/>
                      </a:lnTo>
                      <a:lnTo>
                        <a:pt x="23" y="308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" name=""/>
            <p:cNvGrpSpPr/>
            <p:nvPr/>
          </p:nvGrpSpPr>
          <p:grpSpPr>
            <a:xfrm>
              <a:off x="6670800" y="4929120"/>
              <a:ext cx="2460960" cy="1916280"/>
              <a:chOff x="6670800" y="4929120"/>
              <a:chExt cx="2460960" cy="19162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6942240" y="4929120"/>
                <a:ext cx="2028960" cy="1911600"/>
                <a:chOff x="6942240" y="4929120"/>
                <a:chExt cx="2028960" cy="19116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8688240" y="6013440"/>
                  <a:ext cx="282960" cy="441720"/>
                </a:xfrm>
                <a:custGeom>
                  <a:avLst/>
                  <a:gdLst/>
                  <a:ahLst/>
                  <a:rect l="0" t="0" r="r" b="b"/>
                  <a:pathLst>
                    <a:path fill="none" w="786" h="1227">
                      <a:moveTo>
                        <a:pt x="0" y="1227"/>
                      </a:moveTo>
                      <a:lnTo>
                        <a:pt x="116" y="955"/>
                      </a:lnTo>
                      <a:lnTo>
                        <a:pt x="215" y="652"/>
                      </a:lnTo>
                      <a:lnTo>
                        <a:pt x="266" y="517"/>
                      </a:lnTo>
                      <a:lnTo>
                        <a:pt x="338" y="365"/>
                      </a:lnTo>
                      <a:lnTo>
                        <a:pt x="433" y="203"/>
                      </a:lnTo>
                      <a:lnTo>
                        <a:pt x="505" y="103"/>
                      </a:lnTo>
                      <a:lnTo>
                        <a:pt x="559" y="54"/>
                      </a:lnTo>
                      <a:lnTo>
                        <a:pt x="631" y="14"/>
                      </a:lnTo>
                      <a:lnTo>
                        <a:pt x="712" y="0"/>
                      </a:lnTo>
                      <a:lnTo>
                        <a:pt x="748" y="34"/>
                      </a:lnTo>
                      <a:lnTo>
                        <a:pt x="786" y="114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780320" y="5896080"/>
                  <a:ext cx="225720" cy="749520"/>
                </a:xfrm>
                <a:custGeom>
                  <a:avLst/>
                  <a:gdLst/>
                  <a:ahLst/>
                  <a:rect l="0" t="0" r="r" b="b"/>
                  <a:pathLst>
                    <a:path fill="none" w="627" h="2082">
                      <a:moveTo>
                        <a:pt x="627" y="2082"/>
                      </a:moveTo>
                      <a:lnTo>
                        <a:pt x="503" y="837"/>
                      </a:lnTo>
                      <a:lnTo>
                        <a:pt x="406" y="216"/>
                      </a:lnTo>
                      <a:lnTo>
                        <a:pt x="375" y="88"/>
                      </a:lnTo>
                      <a:lnTo>
                        <a:pt x="327" y="22"/>
                      </a:lnTo>
                      <a:lnTo>
                        <a:pt x="233" y="0"/>
                      </a:lnTo>
                      <a:lnTo>
                        <a:pt x="154" y="26"/>
                      </a:lnTo>
                      <a:lnTo>
                        <a:pt x="74" y="92"/>
                      </a:lnTo>
                      <a:lnTo>
                        <a:pt x="0" y="211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807320" y="4929120"/>
                  <a:ext cx="302040" cy="1900440"/>
                </a:xfrm>
                <a:custGeom>
                  <a:avLst/>
                  <a:gdLst/>
                  <a:ahLst/>
                  <a:rect l="0" t="0" r="r" b="b"/>
                  <a:pathLst>
                    <a:path fill="none" w="839" h="5279">
                      <a:moveTo>
                        <a:pt x="834" y="5279"/>
                      </a:moveTo>
                      <a:lnTo>
                        <a:pt x="839" y="4516"/>
                      </a:lnTo>
                      <a:lnTo>
                        <a:pt x="839" y="4165"/>
                      </a:lnTo>
                      <a:lnTo>
                        <a:pt x="821" y="3917"/>
                      </a:lnTo>
                      <a:lnTo>
                        <a:pt x="810" y="3620"/>
                      </a:lnTo>
                      <a:lnTo>
                        <a:pt x="813" y="3310"/>
                      </a:lnTo>
                      <a:lnTo>
                        <a:pt x="805" y="3048"/>
                      </a:lnTo>
                      <a:lnTo>
                        <a:pt x="784" y="2814"/>
                      </a:lnTo>
                      <a:lnTo>
                        <a:pt x="755" y="2396"/>
                      </a:lnTo>
                      <a:lnTo>
                        <a:pt x="715" y="1944"/>
                      </a:lnTo>
                      <a:lnTo>
                        <a:pt x="665" y="1484"/>
                      </a:lnTo>
                      <a:lnTo>
                        <a:pt x="619" y="994"/>
                      </a:lnTo>
                      <a:lnTo>
                        <a:pt x="585" y="699"/>
                      </a:lnTo>
                      <a:lnTo>
                        <a:pt x="553" y="585"/>
                      </a:lnTo>
                      <a:lnTo>
                        <a:pt x="474" y="386"/>
                      </a:lnTo>
                      <a:lnTo>
                        <a:pt x="405" y="242"/>
                      </a:lnTo>
                      <a:lnTo>
                        <a:pt x="323" y="125"/>
                      </a:lnTo>
                      <a:lnTo>
                        <a:pt x="238" y="29"/>
                      </a:lnTo>
                      <a:lnTo>
                        <a:pt x="179" y="2"/>
                      </a:lnTo>
                      <a:lnTo>
                        <a:pt x="97" y="0"/>
                      </a:lnTo>
                      <a:lnTo>
                        <a:pt x="34" y="32"/>
                      </a:lnTo>
                      <a:lnTo>
                        <a:pt x="0" y="87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780320" y="5630760"/>
                  <a:ext cx="313200" cy="608400"/>
                </a:xfrm>
                <a:custGeom>
                  <a:avLst/>
                  <a:gdLst/>
                  <a:ahLst/>
                  <a:rect l="0" t="0" r="r" b="b"/>
                  <a:pathLst>
                    <a:path fill="none" w="870" h="1690">
                      <a:moveTo>
                        <a:pt x="870" y="1690"/>
                      </a:moveTo>
                      <a:lnTo>
                        <a:pt x="741" y="1317"/>
                      </a:lnTo>
                      <a:lnTo>
                        <a:pt x="632" y="897"/>
                      </a:lnTo>
                      <a:lnTo>
                        <a:pt x="574" y="714"/>
                      </a:lnTo>
                      <a:lnTo>
                        <a:pt x="493" y="504"/>
                      </a:lnTo>
                      <a:lnTo>
                        <a:pt x="387" y="280"/>
                      </a:lnTo>
                      <a:lnTo>
                        <a:pt x="311" y="141"/>
                      </a:lnTo>
                      <a:lnTo>
                        <a:pt x="253" y="76"/>
                      </a:lnTo>
                      <a:lnTo>
                        <a:pt x="171" y="21"/>
                      </a:lnTo>
                      <a:lnTo>
                        <a:pt x="81" y="0"/>
                      </a:lnTo>
                      <a:lnTo>
                        <a:pt x="42" y="46"/>
                      </a:lnTo>
                      <a:lnTo>
                        <a:pt x="0" y="155"/>
                      </a:lnTo>
                    </a:path>
                  </a:pathLst>
                </a:custGeom>
                <a:ln w="12600">
                  <a:solidFill>
                    <a:srgbClr val="00004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8327880" y="6173640"/>
                  <a:ext cx="302040" cy="667080"/>
                </a:xfrm>
                <a:custGeom>
                  <a:avLst/>
                  <a:gdLst/>
                  <a:ahLst/>
                  <a:rect l="0" t="0" r="r" b="b"/>
                  <a:pathLst>
                    <a:path fill="none" w="839" h="1853">
                      <a:moveTo>
                        <a:pt x="839" y="1853"/>
                      </a:moveTo>
                      <a:lnTo>
                        <a:pt x="716" y="1676"/>
                      </a:lnTo>
                      <a:lnTo>
                        <a:pt x="667" y="1566"/>
                      </a:lnTo>
                      <a:lnTo>
                        <a:pt x="634" y="1479"/>
                      </a:lnTo>
                      <a:lnTo>
                        <a:pt x="448" y="621"/>
                      </a:lnTo>
                      <a:lnTo>
                        <a:pt x="347" y="349"/>
                      </a:lnTo>
                      <a:lnTo>
                        <a:pt x="270" y="176"/>
                      </a:lnTo>
                      <a:lnTo>
                        <a:pt x="214" y="94"/>
                      </a:lnTo>
                      <a:lnTo>
                        <a:pt x="143" y="27"/>
                      </a:lnTo>
                      <a:lnTo>
                        <a:pt x="77" y="0"/>
                      </a:lnTo>
                      <a:lnTo>
                        <a:pt x="25" y="15"/>
                      </a:lnTo>
                      <a:lnTo>
                        <a:pt x="0" y="125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543800" y="5630760"/>
                  <a:ext cx="649800" cy="1010160"/>
                </a:xfrm>
                <a:custGeom>
                  <a:avLst/>
                  <a:gdLst/>
                  <a:ahLst/>
                  <a:rect l="0" t="0" r="r" b="b"/>
                  <a:pathLst>
                    <a:path fill="none" w="1805" h="2806">
                      <a:moveTo>
                        <a:pt x="1805" y="2806"/>
                      </a:moveTo>
                      <a:lnTo>
                        <a:pt x="1755" y="2584"/>
                      </a:lnTo>
                      <a:lnTo>
                        <a:pt x="1186" y="1061"/>
                      </a:lnTo>
                      <a:lnTo>
                        <a:pt x="935" y="591"/>
                      </a:lnTo>
                      <a:lnTo>
                        <a:pt x="859" y="434"/>
                      </a:lnTo>
                      <a:lnTo>
                        <a:pt x="762" y="257"/>
                      </a:lnTo>
                      <a:lnTo>
                        <a:pt x="651" y="122"/>
                      </a:lnTo>
                      <a:lnTo>
                        <a:pt x="547" y="52"/>
                      </a:lnTo>
                      <a:lnTo>
                        <a:pt x="413" y="2"/>
                      </a:lnTo>
                      <a:lnTo>
                        <a:pt x="280" y="0"/>
                      </a:lnTo>
                      <a:lnTo>
                        <a:pt x="190" y="54"/>
                      </a:lnTo>
                      <a:lnTo>
                        <a:pt x="0" y="314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96320" y="4957920"/>
                  <a:ext cx="646560" cy="1675080"/>
                </a:xfrm>
                <a:custGeom>
                  <a:avLst/>
                  <a:gdLst/>
                  <a:ahLst/>
                  <a:rect l="0" t="0" r="r" b="b"/>
                  <a:pathLst>
                    <a:path fill="none" w="1796" h="4653">
                      <a:moveTo>
                        <a:pt x="0" y="4653"/>
                      </a:moveTo>
                      <a:lnTo>
                        <a:pt x="477" y="3335"/>
                      </a:lnTo>
                      <a:lnTo>
                        <a:pt x="733" y="2673"/>
                      </a:lnTo>
                      <a:lnTo>
                        <a:pt x="957" y="2041"/>
                      </a:lnTo>
                      <a:lnTo>
                        <a:pt x="1094" y="1605"/>
                      </a:lnTo>
                      <a:lnTo>
                        <a:pt x="1160" y="1372"/>
                      </a:lnTo>
                      <a:lnTo>
                        <a:pt x="1200" y="1121"/>
                      </a:lnTo>
                      <a:lnTo>
                        <a:pt x="1253" y="888"/>
                      </a:lnTo>
                      <a:lnTo>
                        <a:pt x="1341" y="612"/>
                      </a:lnTo>
                      <a:lnTo>
                        <a:pt x="1435" y="367"/>
                      </a:lnTo>
                      <a:lnTo>
                        <a:pt x="1558" y="147"/>
                      </a:lnTo>
                      <a:lnTo>
                        <a:pt x="1651" y="12"/>
                      </a:lnTo>
                      <a:lnTo>
                        <a:pt x="1708" y="0"/>
                      </a:lnTo>
                      <a:lnTo>
                        <a:pt x="1765" y="67"/>
                      </a:lnTo>
                      <a:lnTo>
                        <a:pt x="1796" y="312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8153280" y="5651640"/>
                  <a:ext cx="475200" cy="573480"/>
                </a:xfrm>
                <a:custGeom>
                  <a:avLst/>
                  <a:gdLst/>
                  <a:ahLst/>
                  <a:rect l="0" t="0" r="r" b="b"/>
                  <a:pathLst>
                    <a:path fill="none" w="1320" h="1593">
                      <a:moveTo>
                        <a:pt x="0" y="1593"/>
                      </a:moveTo>
                      <a:lnTo>
                        <a:pt x="246" y="1249"/>
                      </a:lnTo>
                      <a:lnTo>
                        <a:pt x="402" y="852"/>
                      </a:lnTo>
                      <a:lnTo>
                        <a:pt x="486" y="675"/>
                      </a:lnTo>
                      <a:lnTo>
                        <a:pt x="596" y="468"/>
                      </a:lnTo>
                      <a:lnTo>
                        <a:pt x="750" y="255"/>
                      </a:lnTo>
                      <a:lnTo>
                        <a:pt x="860" y="127"/>
                      </a:lnTo>
                      <a:lnTo>
                        <a:pt x="944" y="61"/>
                      </a:lnTo>
                      <a:lnTo>
                        <a:pt x="1064" y="8"/>
                      </a:lnTo>
                      <a:lnTo>
                        <a:pt x="1192" y="0"/>
                      </a:lnTo>
                      <a:lnTo>
                        <a:pt x="1249" y="74"/>
                      </a:lnTo>
                      <a:lnTo>
                        <a:pt x="1320" y="194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958160" y="5856120"/>
                  <a:ext cx="225720" cy="278280"/>
                </a:xfrm>
                <a:custGeom>
                  <a:avLst/>
                  <a:gdLst/>
                  <a:ahLst/>
                  <a:rect l="0" t="0" r="r" b="b"/>
                  <a:pathLst>
                    <a:path fill="none" w="627" h="773">
                      <a:moveTo>
                        <a:pt x="0" y="0"/>
                      </a:moveTo>
                      <a:lnTo>
                        <a:pt x="104" y="49"/>
                      </a:lnTo>
                      <a:lnTo>
                        <a:pt x="233" y="107"/>
                      </a:lnTo>
                      <a:lnTo>
                        <a:pt x="350" y="215"/>
                      </a:lnTo>
                      <a:lnTo>
                        <a:pt x="454" y="307"/>
                      </a:lnTo>
                      <a:lnTo>
                        <a:pt x="540" y="404"/>
                      </a:lnTo>
                      <a:lnTo>
                        <a:pt x="583" y="483"/>
                      </a:lnTo>
                      <a:lnTo>
                        <a:pt x="612" y="561"/>
                      </a:lnTo>
                      <a:lnTo>
                        <a:pt x="627" y="666"/>
                      </a:lnTo>
                      <a:lnTo>
                        <a:pt x="627" y="773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90040" y="5483160"/>
                  <a:ext cx="192600" cy="1103760"/>
                </a:xfrm>
                <a:custGeom>
                  <a:avLst/>
                  <a:gdLst/>
                  <a:ahLst/>
                  <a:rect l="0" t="0" r="r" b="b"/>
                  <a:pathLst>
                    <a:path fill="none" w="535" h="3066">
                      <a:moveTo>
                        <a:pt x="2" y="3066"/>
                      </a:moveTo>
                      <a:lnTo>
                        <a:pt x="0" y="2781"/>
                      </a:lnTo>
                      <a:lnTo>
                        <a:pt x="0" y="2564"/>
                      </a:lnTo>
                      <a:lnTo>
                        <a:pt x="11" y="2414"/>
                      </a:lnTo>
                      <a:lnTo>
                        <a:pt x="17" y="2228"/>
                      </a:lnTo>
                      <a:lnTo>
                        <a:pt x="17" y="2037"/>
                      </a:lnTo>
                      <a:lnTo>
                        <a:pt x="20" y="1878"/>
                      </a:lnTo>
                      <a:lnTo>
                        <a:pt x="35" y="1731"/>
                      </a:lnTo>
                      <a:lnTo>
                        <a:pt x="53" y="1476"/>
                      </a:lnTo>
                      <a:lnTo>
                        <a:pt x="80" y="1196"/>
                      </a:lnTo>
                      <a:lnTo>
                        <a:pt x="112" y="914"/>
                      </a:lnTo>
                      <a:lnTo>
                        <a:pt x="140" y="611"/>
                      </a:lnTo>
                      <a:lnTo>
                        <a:pt x="164" y="431"/>
                      </a:lnTo>
                      <a:lnTo>
                        <a:pt x="181" y="361"/>
                      </a:lnTo>
                      <a:lnTo>
                        <a:pt x="232" y="238"/>
                      </a:lnTo>
                      <a:lnTo>
                        <a:pt x="276" y="149"/>
                      </a:lnTo>
                      <a:lnTo>
                        <a:pt x="330" y="79"/>
                      </a:lnTo>
                      <a:lnTo>
                        <a:pt x="383" y="17"/>
                      </a:lnTo>
                      <a:lnTo>
                        <a:pt x="422" y="0"/>
                      </a:lnTo>
                      <a:lnTo>
                        <a:pt x="473" y="0"/>
                      </a:lnTo>
                      <a:lnTo>
                        <a:pt x="517" y="23"/>
                      </a:lnTo>
                      <a:lnTo>
                        <a:pt x="535" y="52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477280" y="6195960"/>
                  <a:ext cx="233640" cy="308160"/>
                </a:xfrm>
                <a:custGeom>
                  <a:avLst/>
                  <a:gdLst/>
                  <a:ahLst/>
                  <a:rect l="0" t="0" r="r" b="b"/>
                  <a:pathLst>
                    <a:path fill="none" w="649" h="856">
                      <a:moveTo>
                        <a:pt x="649" y="856"/>
                      </a:moveTo>
                      <a:lnTo>
                        <a:pt x="552" y="666"/>
                      </a:lnTo>
                      <a:lnTo>
                        <a:pt x="472" y="455"/>
                      </a:lnTo>
                      <a:lnTo>
                        <a:pt x="428" y="361"/>
                      </a:lnTo>
                      <a:lnTo>
                        <a:pt x="371" y="255"/>
                      </a:lnTo>
                      <a:lnTo>
                        <a:pt x="291" y="141"/>
                      </a:lnTo>
                      <a:lnTo>
                        <a:pt x="233" y="70"/>
                      </a:lnTo>
                      <a:lnTo>
                        <a:pt x="185" y="39"/>
                      </a:lnTo>
                      <a:lnTo>
                        <a:pt x="127" y="8"/>
                      </a:lnTo>
                      <a:lnTo>
                        <a:pt x="61" y="0"/>
                      </a:lnTo>
                      <a:lnTo>
                        <a:pt x="30" y="22"/>
                      </a:lnTo>
                      <a:lnTo>
                        <a:pt x="0" y="79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8550360" y="5826240"/>
                  <a:ext cx="159120" cy="770400"/>
                </a:xfrm>
                <a:custGeom>
                  <a:avLst/>
                  <a:gdLst/>
                  <a:ahLst/>
                  <a:rect l="0" t="0" r="r" b="b"/>
                  <a:pathLst>
                    <a:path fill="none" w="442" h="2140">
                      <a:moveTo>
                        <a:pt x="440" y="2140"/>
                      </a:moveTo>
                      <a:lnTo>
                        <a:pt x="442" y="1941"/>
                      </a:lnTo>
                      <a:lnTo>
                        <a:pt x="442" y="1790"/>
                      </a:lnTo>
                      <a:lnTo>
                        <a:pt x="433" y="1685"/>
                      </a:lnTo>
                      <a:lnTo>
                        <a:pt x="428" y="1555"/>
                      </a:lnTo>
                      <a:lnTo>
                        <a:pt x="428" y="1422"/>
                      </a:lnTo>
                      <a:lnTo>
                        <a:pt x="425" y="1311"/>
                      </a:lnTo>
                      <a:lnTo>
                        <a:pt x="413" y="1208"/>
                      </a:lnTo>
                      <a:lnTo>
                        <a:pt x="398" y="1030"/>
                      </a:lnTo>
                      <a:lnTo>
                        <a:pt x="376" y="835"/>
                      </a:lnTo>
                      <a:lnTo>
                        <a:pt x="349" y="638"/>
                      </a:lnTo>
                      <a:lnTo>
                        <a:pt x="326" y="426"/>
                      </a:lnTo>
                      <a:lnTo>
                        <a:pt x="307" y="301"/>
                      </a:lnTo>
                      <a:lnTo>
                        <a:pt x="292" y="252"/>
                      </a:lnTo>
                      <a:lnTo>
                        <a:pt x="250" y="166"/>
                      </a:lnTo>
                      <a:lnTo>
                        <a:pt x="214" y="104"/>
                      </a:lnTo>
                      <a:lnTo>
                        <a:pt x="170" y="55"/>
                      </a:lnTo>
                      <a:lnTo>
                        <a:pt x="125" y="12"/>
                      </a:lnTo>
                      <a:lnTo>
                        <a:pt x="93" y="0"/>
                      </a:lnTo>
                      <a:lnTo>
                        <a:pt x="51" y="0"/>
                      </a:lnTo>
                      <a:lnTo>
                        <a:pt x="14" y="16"/>
                      </a:lnTo>
                      <a:lnTo>
                        <a:pt x="0" y="36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8694720" y="6307200"/>
                  <a:ext cx="249480" cy="289440"/>
                </a:xfrm>
                <a:custGeom>
                  <a:avLst/>
                  <a:gdLst/>
                  <a:ahLst/>
                  <a:rect l="0" t="0" r="r" b="b"/>
                  <a:pathLst>
                    <a:path fill="none" w="693" h="804">
                      <a:moveTo>
                        <a:pt x="0" y="804"/>
                      </a:moveTo>
                      <a:lnTo>
                        <a:pt x="101" y="727"/>
                      </a:lnTo>
                      <a:lnTo>
                        <a:pt x="142" y="680"/>
                      </a:lnTo>
                      <a:lnTo>
                        <a:pt x="169" y="642"/>
                      </a:lnTo>
                      <a:lnTo>
                        <a:pt x="322" y="270"/>
                      </a:lnTo>
                      <a:lnTo>
                        <a:pt x="406" y="151"/>
                      </a:lnTo>
                      <a:lnTo>
                        <a:pt x="470" y="76"/>
                      </a:lnTo>
                      <a:lnTo>
                        <a:pt x="517" y="40"/>
                      </a:lnTo>
                      <a:lnTo>
                        <a:pt x="574" y="11"/>
                      </a:lnTo>
                      <a:lnTo>
                        <a:pt x="629" y="0"/>
                      </a:lnTo>
                      <a:lnTo>
                        <a:pt x="672" y="6"/>
                      </a:lnTo>
                      <a:lnTo>
                        <a:pt x="693" y="54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942240" y="5665680"/>
                  <a:ext cx="582840" cy="1008360"/>
                </a:xfrm>
                <a:custGeom>
                  <a:avLst/>
                  <a:gdLst/>
                  <a:ahLst/>
                  <a:rect l="0" t="0" r="r" b="b"/>
                  <a:pathLst>
                    <a:path fill="none" w="1619" h="2801">
                      <a:moveTo>
                        <a:pt x="1619" y="2801"/>
                      </a:moveTo>
                      <a:lnTo>
                        <a:pt x="1564" y="2477"/>
                      </a:lnTo>
                      <a:lnTo>
                        <a:pt x="1487" y="2117"/>
                      </a:lnTo>
                      <a:lnTo>
                        <a:pt x="1427" y="1839"/>
                      </a:lnTo>
                      <a:lnTo>
                        <a:pt x="1356" y="1594"/>
                      </a:lnTo>
                      <a:lnTo>
                        <a:pt x="1266" y="1375"/>
                      </a:lnTo>
                      <a:lnTo>
                        <a:pt x="1177" y="1144"/>
                      </a:lnTo>
                      <a:lnTo>
                        <a:pt x="1053" y="945"/>
                      </a:lnTo>
                      <a:lnTo>
                        <a:pt x="792" y="547"/>
                      </a:lnTo>
                      <a:lnTo>
                        <a:pt x="718" y="430"/>
                      </a:lnTo>
                      <a:lnTo>
                        <a:pt x="665" y="373"/>
                      </a:lnTo>
                      <a:lnTo>
                        <a:pt x="539" y="226"/>
                      </a:lnTo>
                      <a:lnTo>
                        <a:pt x="468" y="155"/>
                      </a:lnTo>
                      <a:lnTo>
                        <a:pt x="384" y="98"/>
                      </a:lnTo>
                      <a:lnTo>
                        <a:pt x="252" y="35"/>
                      </a:lnTo>
                      <a:lnTo>
                        <a:pt x="163" y="5"/>
                      </a:lnTo>
                      <a:lnTo>
                        <a:pt x="99" y="0"/>
                      </a:lnTo>
                      <a:lnTo>
                        <a:pt x="39" y="16"/>
                      </a:lnTo>
                      <a:lnTo>
                        <a:pt x="0" y="57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323120" y="5776920"/>
                  <a:ext cx="241560" cy="830520"/>
                </a:xfrm>
                <a:custGeom>
                  <a:avLst/>
                  <a:gdLst/>
                  <a:ahLst/>
                  <a:rect l="0" t="0" r="r" b="b"/>
                  <a:pathLst>
                    <a:path fill="none" w="671" h="2307">
                      <a:moveTo>
                        <a:pt x="671" y="2307"/>
                      </a:moveTo>
                      <a:lnTo>
                        <a:pt x="308" y="88"/>
                      </a:lnTo>
                      <a:lnTo>
                        <a:pt x="282" y="57"/>
                      </a:lnTo>
                      <a:lnTo>
                        <a:pt x="242" y="17"/>
                      </a:lnTo>
                      <a:lnTo>
                        <a:pt x="207" y="8"/>
                      </a:lnTo>
                      <a:lnTo>
                        <a:pt x="145" y="0"/>
                      </a:lnTo>
                      <a:lnTo>
                        <a:pt x="105" y="8"/>
                      </a:lnTo>
                      <a:lnTo>
                        <a:pt x="66" y="35"/>
                      </a:lnTo>
                      <a:lnTo>
                        <a:pt x="26" y="74"/>
                      </a:lnTo>
                      <a:lnTo>
                        <a:pt x="0" y="145"/>
                      </a:lnTo>
                    </a:path>
                  </a:pathLst>
                </a:custGeom>
                <a:ln w="25560">
                  <a:solidFill>
                    <a:srgbClr val="00004c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70800" y="4937040"/>
                <a:ext cx="2460960" cy="1908360"/>
                <a:chOff x="6670800" y="4937040"/>
                <a:chExt cx="2460960" cy="1908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701120" y="5668920"/>
                  <a:ext cx="86040" cy="518040"/>
                </a:xfrm>
                <a:custGeom>
                  <a:avLst/>
                  <a:gdLst/>
                  <a:ahLst/>
                  <a:rect l="0" t="0" r="r" b="b"/>
                  <a:pathLst>
                    <a:path w="239" h="1439">
                      <a:moveTo>
                        <a:pt x="239" y="0"/>
                      </a:moveTo>
                      <a:lnTo>
                        <a:pt x="150" y="92"/>
                      </a:lnTo>
                      <a:lnTo>
                        <a:pt x="101" y="273"/>
                      </a:lnTo>
                      <a:lnTo>
                        <a:pt x="48" y="516"/>
                      </a:lnTo>
                      <a:lnTo>
                        <a:pt x="0" y="821"/>
                      </a:lnTo>
                      <a:lnTo>
                        <a:pt x="0" y="1152"/>
                      </a:lnTo>
                      <a:lnTo>
                        <a:pt x="26" y="1439"/>
                      </a:lnTo>
                      <a:lnTo>
                        <a:pt x="48" y="1439"/>
                      </a:lnTo>
                      <a:lnTo>
                        <a:pt x="26" y="1152"/>
                      </a:lnTo>
                      <a:lnTo>
                        <a:pt x="26" y="909"/>
                      </a:lnTo>
                      <a:lnTo>
                        <a:pt x="74" y="649"/>
                      </a:lnTo>
                      <a:lnTo>
                        <a:pt x="150" y="384"/>
                      </a:lnTo>
                      <a:lnTo>
                        <a:pt x="234" y="39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8602560" y="5681520"/>
                  <a:ext cx="136800" cy="535320"/>
                </a:xfrm>
                <a:custGeom>
                  <a:avLst/>
                  <a:gdLst/>
                  <a:ahLst/>
                  <a:rect l="0" t="0" r="r" b="b"/>
                  <a:pathLst>
                    <a:path w="380" h="1487">
                      <a:moveTo>
                        <a:pt x="77" y="0"/>
                      </a:moveTo>
                      <a:lnTo>
                        <a:pt x="152" y="113"/>
                      </a:lnTo>
                      <a:lnTo>
                        <a:pt x="227" y="293"/>
                      </a:lnTo>
                      <a:lnTo>
                        <a:pt x="305" y="542"/>
                      </a:lnTo>
                      <a:lnTo>
                        <a:pt x="380" y="858"/>
                      </a:lnTo>
                      <a:lnTo>
                        <a:pt x="380" y="1196"/>
                      </a:lnTo>
                      <a:lnTo>
                        <a:pt x="342" y="1487"/>
                      </a:lnTo>
                      <a:lnTo>
                        <a:pt x="305" y="1487"/>
                      </a:lnTo>
                      <a:lnTo>
                        <a:pt x="342" y="1196"/>
                      </a:lnTo>
                      <a:lnTo>
                        <a:pt x="342" y="947"/>
                      </a:lnTo>
                      <a:lnTo>
                        <a:pt x="265" y="675"/>
                      </a:lnTo>
                      <a:lnTo>
                        <a:pt x="152" y="406"/>
                      </a:lnTo>
                      <a:lnTo>
                        <a:pt x="0" y="69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556400" y="5923080"/>
                  <a:ext cx="376560" cy="636840"/>
                </a:xfrm>
                <a:custGeom>
                  <a:avLst/>
                  <a:gdLst/>
                  <a:ahLst/>
                  <a:rect l="0" t="0" r="r" b="b"/>
                  <a:pathLst>
                    <a:path w="1046" h="1769">
                      <a:moveTo>
                        <a:pt x="688" y="13"/>
                      </a:moveTo>
                      <a:lnTo>
                        <a:pt x="641" y="13"/>
                      </a:lnTo>
                      <a:lnTo>
                        <a:pt x="612" y="43"/>
                      </a:lnTo>
                      <a:lnTo>
                        <a:pt x="583" y="73"/>
                      </a:lnTo>
                      <a:lnTo>
                        <a:pt x="567" y="86"/>
                      </a:lnTo>
                      <a:lnTo>
                        <a:pt x="522" y="116"/>
                      </a:lnTo>
                      <a:lnTo>
                        <a:pt x="478" y="159"/>
                      </a:lnTo>
                      <a:lnTo>
                        <a:pt x="433" y="173"/>
                      </a:lnTo>
                      <a:lnTo>
                        <a:pt x="329" y="189"/>
                      </a:lnTo>
                      <a:lnTo>
                        <a:pt x="75" y="189"/>
                      </a:lnTo>
                      <a:lnTo>
                        <a:pt x="329" y="202"/>
                      </a:lnTo>
                      <a:lnTo>
                        <a:pt x="404" y="173"/>
                      </a:lnTo>
                      <a:lnTo>
                        <a:pt x="449" y="189"/>
                      </a:lnTo>
                      <a:lnTo>
                        <a:pt x="389" y="219"/>
                      </a:lnTo>
                      <a:lnTo>
                        <a:pt x="433" y="219"/>
                      </a:lnTo>
                      <a:lnTo>
                        <a:pt x="389" y="259"/>
                      </a:lnTo>
                      <a:lnTo>
                        <a:pt x="60" y="508"/>
                      </a:lnTo>
                      <a:lnTo>
                        <a:pt x="404" y="259"/>
                      </a:lnTo>
                      <a:lnTo>
                        <a:pt x="389" y="289"/>
                      </a:lnTo>
                      <a:lnTo>
                        <a:pt x="344" y="335"/>
                      </a:lnTo>
                      <a:lnTo>
                        <a:pt x="300" y="346"/>
                      </a:lnTo>
                      <a:lnTo>
                        <a:pt x="209" y="365"/>
                      </a:lnTo>
                      <a:lnTo>
                        <a:pt x="60" y="335"/>
                      </a:lnTo>
                      <a:lnTo>
                        <a:pt x="300" y="365"/>
                      </a:lnTo>
                      <a:lnTo>
                        <a:pt x="344" y="335"/>
                      </a:lnTo>
                      <a:lnTo>
                        <a:pt x="389" y="319"/>
                      </a:lnTo>
                      <a:lnTo>
                        <a:pt x="373" y="365"/>
                      </a:lnTo>
                      <a:lnTo>
                        <a:pt x="344" y="378"/>
                      </a:lnTo>
                      <a:lnTo>
                        <a:pt x="47" y="521"/>
                      </a:lnTo>
                      <a:lnTo>
                        <a:pt x="344" y="392"/>
                      </a:lnTo>
                      <a:lnTo>
                        <a:pt x="373" y="392"/>
                      </a:lnTo>
                      <a:lnTo>
                        <a:pt x="344" y="435"/>
                      </a:lnTo>
                      <a:lnTo>
                        <a:pt x="300" y="478"/>
                      </a:lnTo>
                      <a:lnTo>
                        <a:pt x="47" y="565"/>
                      </a:lnTo>
                      <a:lnTo>
                        <a:pt x="329" y="465"/>
                      </a:lnTo>
                      <a:lnTo>
                        <a:pt x="344" y="465"/>
                      </a:lnTo>
                      <a:lnTo>
                        <a:pt x="360" y="478"/>
                      </a:lnTo>
                      <a:lnTo>
                        <a:pt x="300" y="535"/>
                      </a:lnTo>
                      <a:lnTo>
                        <a:pt x="360" y="521"/>
                      </a:lnTo>
                      <a:lnTo>
                        <a:pt x="282" y="594"/>
                      </a:lnTo>
                      <a:lnTo>
                        <a:pt x="224" y="638"/>
                      </a:lnTo>
                      <a:lnTo>
                        <a:pt x="107" y="665"/>
                      </a:lnTo>
                      <a:lnTo>
                        <a:pt x="47" y="665"/>
                      </a:lnTo>
                      <a:lnTo>
                        <a:pt x="148" y="651"/>
                      </a:lnTo>
                      <a:lnTo>
                        <a:pt x="269" y="621"/>
                      </a:lnTo>
                      <a:lnTo>
                        <a:pt x="300" y="608"/>
                      </a:lnTo>
                      <a:lnTo>
                        <a:pt x="269" y="651"/>
                      </a:lnTo>
                      <a:lnTo>
                        <a:pt x="209" y="711"/>
                      </a:lnTo>
                      <a:lnTo>
                        <a:pt x="107" y="738"/>
                      </a:lnTo>
                      <a:lnTo>
                        <a:pt x="0" y="767"/>
                      </a:lnTo>
                      <a:lnTo>
                        <a:pt x="135" y="724"/>
                      </a:lnTo>
                      <a:lnTo>
                        <a:pt x="224" y="681"/>
                      </a:lnTo>
                      <a:lnTo>
                        <a:pt x="300" y="638"/>
                      </a:lnTo>
                      <a:lnTo>
                        <a:pt x="313" y="621"/>
                      </a:lnTo>
                      <a:lnTo>
                        <a:pt x="300" y="665"/>
                      </a:lnTo>
                      <a:lnTo>
                        <a:pt x="329" y="651"/>
                      </a:lnTo>
                      <a:lnTo>
                        <a:pt x="360" y="665"/>
                      </a:lnTo>
                      <a:lnTo>
                        <a:pt x="300" y="711"/>
                      </a:lnTo>
                      <a:lnTo>
                        <a:pt x="300" y="738"/>
                      </a:lnTo>
                      <a:lnTo>
                        <a:pt x="224" y="797"/>
                      </a:lnTo>
                      <a:lnTo>
                        <a:pt x="253" y="797"/>
                      </a:lnTo>
                      <a:lnTo>
                        <a:pt x="224" y="827"/>
                      </a:lnTo>
                      <a:lnTo>
                        <a:pt x="120" y="885"/>
                      </a:lnTo>
                      <a:lnTo>
                        <a:pt x="31" y="898"/>
                      </a:lnTo>
                      <a:lnTo>
                        <a:pt x="164" y="870"/>
                      </a:lnTo>
                      <a:lnTo>
                        <a:pt x="240" y="827"/>
                      </a:lnTo>
                      <a:lnTo>
                        <a:pt x="282" y="811"/>
                      </a:lnTo>
                      <a:lnTo>
                        <a:pt x="282" y="854"/>
                      </a:lnTo>
                      <a:lnTo>
                        <a:pt x="282" y="870"/>
                      </a:lnTo>
                      <a:lnTo>
                        <a:pt x="240" y="928"/>
                      </a:lnTo>
                      <a:lnTo>
                        <a:pt x="193" y="971"/>
                      </a:lnTo>
                      <a:lnTo>
                        <a:pt x="224" y="971"/>
                      </a:lnTo>
                      <a:lnTo>
                        <a:pt x="180" y="1001"/>
                      </a:lnTo>
                      <a:lnTo>
                        <a:pt x="31" y="1074"/>
                      </a:lnTo>
                      <a:lnTo>
                        <a:pt x="135" y="1031"/>
                      </a:lnTo>
                      <a:lnTo>
                        <a:pt x="209" y="1001"/>
                      </a:lnTo>
                      <a:lnTo>
                        <a:pt x="209" y="1044"/>
                      </a:lnTo>
                      <a:lnTo>
                        <a:pt x="164" y="1058"/>
                      </a:lnTo>
                      <a:lnTo>
                        <a:pt x="209" y="1044"/>
                      </a:lnTo>
                      <a:lnTo>
                        <a:pt x="209" y="1074"/>
                      </a:lnTo>
                      <a:lnTo>
                        <a:pt x="180" y="1104"/>
                      </a:lnTo>
                      <a:lnTo>
                        <a:pt x="47" y="1147"/>
                      </a:lnTo>
                      <a:lnTo>
                        <a:pt x="164" y="1104"/>
                      </a:lnTo>
                      <a:lnTo>
                        <a:pt x="164" y="1114"/>
                      </a:lnTo>
                      <a:lnTo>
                        <a:pt x="180" y="1131"/>
                      </a:lnTo>
                      <a:lnTo>
                        <a:pt x="47" y="1233"/>
                      </a:lnTo>
                      <a:lnTo>
                        <a:pt x="148" y="1160"/>
                      </a:lnTo>
                      <a:lnTo>
                        <a:pt x="180" y="1147"/>
                      </a:lnTo>
                      <a:lnTo>
                        <a:pt x="193" y="1174"/>
                      </a:lnTo>
                      <a:lnTo>
                        <a:pt x="164" y="1204"/>
                      </a:lnTo>
                      <a:lnTo>
                        <a:pt x="193" y="1190"/>
                      </a:lnTo>
                      <a:lnTo>
                        <a:pt x="164" y="1277"/>
                      </a:lnTo>
                      <a:lnTo>
                        <a:pt x="31" y="1377"/>
                      </a:lnTo>
                      <a:lnTo>
                        <a:pt x="164" y="1277"/>
                      </a:lnTo>
                      <a:lnTo>
                        <a:pt x="148" y="1320"/>
                      </a:lnTo>
                      <a:lnTo>
                        <a:pt x="193" y="1277"/>
                      </a:lnTo>
                      <a:lnTo>
                        <a:pt x="193" y="1320"/>
                      </a:lnTo>
                      <a:lnTo>
                        <a:pt x="209" y="1523"/>
                      </a:lnTo>
                      <a:lnTo>
                        <a:pt x="344" y="1769"/>
                      </a:lnTo>
                      <a:lnTo>
                        <a:pt x="209" y="1509"/>
                      </a:lnTo>
                      <a:lnTo>
                        <a:pt x="209" y="1406"/>
                      </a:lnTo>
                      <a:lnTo>
                        <a:pt x="224" y="1333"/>
                      </a:lnTo>
                      <a:lnTo>
                        <a:pt x="240" y="1277"/>
                      </a:lnTo>
                      <a:lnTo>
                        <a:pt x="269" y="1174"/>
                      </a:lnTo>
                      <a:lnTo>
                        <a:pt x="300" y="1217"/>
                      </a:lnTo>
                      <a:lnTo>
                        <a:pt x="493" y="1769"/>
                      </a:lnTo>
                      <a:lnTo>
                        <a:pt x="313" y="1217"/>
                      </a:lnTo>
                      <a:lnTo>
                        <a:pt x="313" y="1160"/>
                      </a:lnTo>
                      <a:lnTo>
                        <a:pt x="344" y="1190"/>
                      </a:lnTo>
                      <a:lnTo>
                        <a:pt x="373" y="1726"/>
                      </a:lnTo>
                      <a:lnTo>
                        <a:pt x="360" y="1260"/>
                      </a:lnTo>
                      <a:lnTo>
                        <a:pt x="344" y="1174"/>
                      </a:lnTo>
                      <a:lnTo>
                        <a:pt x="329" y="1147"/>
                      </a:lnTo>
                      <a:lnTo>
                        <a:pt x="344" y="1074"/>
                      </a:lnTo>
                      <a:lnTo>
                        <a:pt x="360" y="1131"/>
                      </a:lnTo>
                      <a:lnTo>
                        <a:pt x="404" y="1250"/>
                      </a:lnTo>
                      <a:lnTo>
                        <a:pt x="449" y="1320"/>
                      </a:lnTo>
                      <a:lnTo>
                        <a:pt x="567" y="1423"/>
                      </a:lnTo>
                      <a:lnTo>
                        <a:pt x="824" y="1609"/>
                      </a:lnTo>
                      <a:lnTo>
                        <a:pt x="493" y="1333"/>
                      </a:lnTo>
                      <a:lnTo>
                        <a:pt x="433" y="1260"/>
                      </a:lnTo>
                      <a:lnTo>
                        <a:pt x="404" y="1217"/>
                      </a:lnTo>
                      <a:lnTo>
                        <a:pt x="373" y="1160"/>
                      </a:lnTo>
                      <a:lnTo>
                        <a:pt x="389" y="1001"/>
                      </a:lnTo>
                      <a:lnTo>
                        <a:pt x="404" y="1044"/>
                      </a:lnTo>
                      <a:lnTo>
                        <a:pt x="404" y="958"/>
                      </a:lnTo>
                      <a:lnTo>
                        <a:pt x="404" y="928"/>
                      </a:lnTo>
                      <a:lnTo>
                        <a:pt x="433" y="1001"/>
                      </a:lnTo>
                      <a:lnTo>
                        <a:pt x="719" y="1536"/>
                      </a:lnTo>
                      <a:lnTo>
                        <a:pt x="478" y="1104"/>
                      </a:lnTo>
                      <a:lnTo>
                        <a:pt x="449" y="1058"/>
                      </a:lnTo>
                      <a:lnTo>
                        <a:pt x="433" y="1001"/>
                      </a:lnTo>
                      <a:lnTo>
                        <a:pt x="433" y="840"/>
                      </a:lnTo>
                      <a:lnTo>
                        <a:pt x="449" y="854"/>
                      </a:lnTo>
                      <a:lnTo>
                        <a:pt x="462" y="767"/>
                      </a:lnTo>
                      <a:lnTo>
                        <a:pt x="506" y="797"/>
                      </a:lnTo>
                      <a:lnTo>
                        <a:pt x="732" y="1393"/>
                      </a:lnTo>
                      <a:lnTo>
                        <a:pt x="612" y="1104"/>
                      </a:lnTo>
                      <a:lnTo>
                        <a:pt x="567" y="971"/>
                      </a:lnTo>
                      <a:lnTo>
                        <a:pt x="506" y="854"/>
                      </a:lnTo>
                      <a:lnTo>
                        <a:pt x="506" y="784"/>
                      </a:lnTo>
                      <a:lnTo>
                        <a:pt x="493" y="665"/>
                      </a:lnTo>
                      <a:lnTo>
                        <a:pt x="522" y="681"/>
                      </a:lnTo>
                      <a:lnTo>
                        <a:pt x="641" y="1277"/>
                      </a:lnTo>
                      <a:lnTo>
                        <a:pt x="506" y="638"/>
                      </a:lnTo>
                      <a:lnTo>
                        <a:pt x="506" y="578"/>
                      </a:lnTo>
                      <a:lnTo>
                        <a:pt x="522" y="621"/>
                      </a:lnTo>
                      <a:lnTo>
                        <a:pt x="522" y="492"/>
                      </a:lnTo>
                      <a:lnTo>
                        <a:pt x="552" y="535"/>
                      </a:lnTo>
                      <a:lnTo>
                        <a:pt x="552" y="465"/>
                      </a:lnTo>
                      <a:lnTo>
                        <a:pt x="596" y="508"/>
                      </a:lnTo>
                      <a:lnTo>
                        <a:pt x="656" y="651"/>
                      </a:lnTo>
                      <a:lnTo>
                        <a:pt x="732" y="738"/>
                      </a:lnTo>
                      <a:lnTo>
                        <a:pt x="865" y="885"/>
                      </a:lnTo>
                      <a:lnTo>
                        <a:pt x="941" y="1014"/>
                      </a:lnTo>
                      <a:lnTo>
                        <a:pt x="732" y="738"/>
                      </a:lnTo>
                      <a:lnTo>
                        <a:pt x="672" y="665"/>
                      </a:lnTo>
                      <a:lnTo>
                        <a:pt x="612" y="565"/>
                      </a:lnTo>
                      <a:lnTo>
                        <a:pt x="596" y="492"/>
                      </a:lnTo>
                      <a:lnTo>
                        <a:pt x="567" y="365"/>
                      </a:lnTo>
                      <a:lnTo>
                        <a:pt x="583" y="378"/>
                      </a:lnTo>
                      <a:lnTo>
                        <a:pt x="612" y="365"/>
                      </a:lnTo>
                      <a:lnTo>
                        <a:pt x="596" y="305"/>
                      </a:lnTo>
                      <a:lnTo>
                        <a:pt x="628" y="365"/>
                      </a:lnTo>
                      <a:lnTo>
                        <a:pt x="656" y="421"/>
                      </a:lnTo>
                      <a:lnTo>
                        <a:pt x="732" y="478"/>
                      </a:lnTo>
                      <a:lnTo>
                        <a:pt x="837" y="535"/>
                      </a:lnTo>
                      <a:lnTo>
                        <a:pt x="1046" y="681"/>
                      </a:lnTo>
                      <a:lnTo>
                        <a:pt x="703" y="465"/>
                      </a:lnTo>
                      <a:lnTo>
                        <a:pt x="656" y="405"/>
                      </a:lnTo>
                      <a:lnTo>
                        <a:pt x="641" y="378"/>
                      </a:lnTo>
                      <a:lnTo>
                        <a:pt x="641" y="232"/>
                      </a:lnTo>
                      <a:lnTo>
                        <a:pt x="672" y="275"/>
                      </a:lnTo>
                      <a:lnTo>
                        <a:pt x="719" y="346"/>
                      </a:lnTo>
                      <a:lnTo>
                        <a:pt x="808" y="465"/>
                      </a:lnTo>
                      <a:lnTo>
                        <a:pt x="925" y="578"/>
                      </a:lnTo>
                      <a:lnTo>
                        <a:pt x="957" y="638"/>
                      </a:lnTo>
                      <a:lnTo>
                        <a:pt x="672" y="335"/>
                      </a:lnTo>
                      <a:lnTo>
                        <a:pt x="672" y="246"/>
                      </a:lnTo>
                      <a:lnTo>
                        <a:pt x="688" y="173"/>
                      </a:lnTo>
                      <a:lnTo>
                        <a:pt x="672" y="129"/>
                      </a:lnTo>
                      <a:lnTo>
                        <a:pt x="656" y="116"/>
                      </a:lnTo>
                      <a:lnTo>
                        <a:pt x="672" y="86"/>
                      </a:lnTo>
                      <a:lnTo>
                        <a:pt x="688" y="43"/>
                      </a:lnTo>
                      <a:lnTo>
                        <a:pt x="719" y="13"/>
                      </a:lnTo>
                      <a:lnTo>
                        <a:pt x="748" y="0"/>
                      </a:lnTo>
                      <a:lnTo>
                        <a:pt x="688" y="1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818480" y="5278320"/>
                  <a:ext cx="233640" cy="554400"/>
                </a:xfrm>
                <a:custGeom>
                  <a:avLst/>
                  <a:gdLst/>
                  <a:ahLst/>
                  <a:rect l="0" t="0" r="r" b="b"/>
                  <a:pathLst>
                    <a:path w="649" h="1540">
                      <a:moveTo>
                        <a:pt x="649" y="552"/>
                      </a:moveTo>
                      <a:lnTo>
                        <a:pt x="583" y="57"/>
                      </a:lnTo>
                      <a:lnTo>
                        <a:pt x="494" y="8"/>
                      </a:lnTo>
                      <a:lnTo>
                        <a:pt x="424" y="0"/>
                      </a:lnTo>
                      <a:lnTo>
                        <a:pt x="313" y="22"/>
                      </a:lnTo>
                      <a:lnTo>
                        <a:pt x="242" y="79"/>
                      </a:lnTo>
                      <a:lnTo>
                        <a:pt x="167" y="154"/>
                      </a:lnTo>
                      <a:lnTo>
                        <a:pt x="92" y="291"/>
                      </a:lnTo>
                      <a:lnTo>
                        <a:pt x="52" y="486"/>
                      </a:lnTo>
                      <a:lnTo>
                        <a:pt x="30" y="649"/>
                      </a:lnTo>
                      <a:lnTo>
                        <a:pt x="0" y="878"/>
                      </a:lnTo>
                      <a:lnTo>
                        <a:pt x="0" y="1028"/>
                      </a:lnTo>
                      <a:lnTo>
                        <a:pt x="52" y="1232"/>
                      </a:lnTo>
                      <a:lnTo>
                        <a:pt x="149" y="1404"/>
                      </a:lnTo>
                      <a:lnTo>
                        <a:pt x="242" y="1540"/>
                      </a:lnTo>
                      <a:lnTo>
                        <a:pt x="189" y="1333"/>
                      </a:lnTo>
                      <a:lnTo>
                        <a:pt x="167" y="1138"/>
                      </a:lnTo>
                      <a:lnTo>
                        <a:pt x="180" y="935"/>
                      </a:lnTo>
                      <a:lnTo>
                        <a:pt x="189" y="755"/>
                      </a:lnTo>
                      <a:lnTo>
                        <a:pt x="211" y="574"/>
                      </a:lnTo>
                      <a:lnTo>
                        <a:pt x="242" y="411"/>
                      </a:lnTo>
                      <a:lnTo>
                        <a:pt x="255" y="286"/>
                      </a:lnTo>
                      <a:lnTo>
                        <a:pt x="295" y="163"/>
                      </a:lnTo>
                      <a:lnTo>
                        <a:pt x="393" y="61"/>
                      </a:lnTo>
                      <a:lnTo>
                        <a:pt x="477" y="70"/>
                      </a:lnTo>
                      <a:lnTo>
                        <a:pt x="556" y="348"/>
                      </a:lnTo>
                      <a:lnTo>
                        <a:pt x="622" y="411"/>
                      </a:lnTo>
                      <a:lnTo>
                        <a:pt x="649" y="552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415280" y="4937040"/>
                  <a:ext cx="511560" cy="1135440"/>
                </a:xfrm>
                <a:custGeom>
                  <a:avLst/>
                  <a:gdLst/>
                  <a:ahLst/>
                  <a:rect l="0" t="0" r="r" b="b"/>
                  <a:pathLst>
                    <a:path w="1421" h="3154">
                      <a:moveTo>
                        <a:pt x="1105" y="0"/>
                      </a:moveTo>
                      <a:lnTo>
                        <a:pt x="1047" y="8"/>
                      </a:lnTo>
                      <a:lnTo>
                        <a:pt x="958" y="35"/>
                      </a:lnTo>
                      <a:lnTo>
                        <a:pt x="1018" y="54"/>
                      </a:lnTo>
                      <a:lnTo>
                        <a:pt x="969" y="89"/>
                      </a:lnTo>
                      <a:lnTo>
                        <a:pt x="919" y="135"/>
                      </a:lnTo>
                      <a:lnTo>
                        <a:pt x="844" y="154"/>
                      </a:lnTo>
                      <a:lnTo>
                        <a:pt x="730" y="143"/>
                      </a:lnTo>
                      <a:lnTo>
                        <a:pt x="605" y="116"/>
                      </a:lnTo>
                      <a:lnTo>
                        <a:pt x="282" y="143"/>
                      </a:lnTo>
                      <a:lnTo>
                        <a:pt x="595" y="127"/>
                      </a:lnTo>
                      <a:lnTo>
                        <a:pt x="730" y="159"/>
                      </a:lnTo>
                      <a:lnTo>
                        <a:pt x="844" y="154"/>
                      </a:lnTo>
                      <a:lnTo>
                        <a:pt x="919" y="178"/>
                      </a:lnTo>
                      <a:lnTo>
                        <a:pt x="865" y="216"/>
                      </a:lnTo>
                      <a:lnTo>
                        <a:pt x="901" y="232"/>
                      </a:lnTo>
                      <a:lnTo>
                        <a:pt x="797" y="306"/>
                      </a:lnTo>
                      <a:lnTo>
                        <a:pt x="566" y="295"/>
                      </a:lnTo>
                      <a:lnTo>
                        <a:pt x="267" y="547"/>
                      </a:lnTo>
                      <a:lnTo>
                        <a:pt x="566" y="306"/>
                      </a:lnTo>
                      <a:lnTo>
                        <a:pt x="797" y="322"/>
                      </a:lnTo>
                      <a:lnTo>
                        <a:pt x="865" y="330"/>
                      </a:lnTo>
                      <a:lnTo>
                        <a:pt x="740" y="414"/>
                      </a:lnTo>
                      <a:lnTo>
                        <a:pt x="818" y="414"/>
                      </a:lnTo>
                      <a:lnTo>
                        <a:pt x="683" y="511"/>
                      </a:lnTo>
                      <a:lnTo>
                        <a:pt x="431" y="639"/>
                      </a:lnTo>
                      <a:lnTo>
                        <a:pt x="142" y="862"/>
                      </a:lnTo>
                      <a:lnTo>
                        <a:pt x="442" y="655"/>
                      </a:lnTo>
                      <a:lnTo>
                        <a:pt x="694" y="528"/>
                      </a:lnTo>
                      <a:lnTo>
                        <a:pt x="769" y="539"/>
                      </a:lnTo>
                      <a:lnTo>
                        <a:pt x="652" y="612"/>
                      </a:lnTo>
                      <a:lnTo>
                        <a:pt x="730" y="628"/>
                      </a:lnTo>
                      <a:lnTo>
                        <a:pt x="634" y="717"/>
                      </a:lnTo>
                      <a:lnTo>
                        <a:pt x="28" y="1482"/>
                      </a:lnTo>
                      <a:lnTo>
                        <a:pt x="634" y="736"/>
                      </a:lnTo>
                      <a:lnTo>
                        <a:pt x="720" y="736"/>
                      </a:lnTo>
                      <a:lnTo>
                        <a:pt x="626" y="854"/>
                      </a:lnTo>
                      <a:lnTo>
                        <a:pt x="694" y="846"/>
                      </a:lnTo>
                      <a:lnTo>
                        <a:pt x="605" y="986"/>
                      </a:lnTo>
                      <a:lnTo>
                        <a:pt x="356" y="1249"/>
                      </a:lnTo>
                      <a:lnTo>
                        <a:pt x="96" y="1626"/>
                      </a:lnTo>
                      <a:lnTo>
                        <a:pt x="356" y="1257"/>
                      </a:lnTo>
                      <a:lnTo>
                        <a:pt x="616" y="997"/>
                      </a:lnTo>
                      <a:lnTo>
                        <a:pt x="694" y="959"/>
                      </a:lnTo>
                      <a:lnTo>
                        <a:pt x="634" y="1060"/>
                      </a:lnTo>
                      <a:lnTo>
                        <a:pt x="683" y="1043"/>
                      </a:lnTo>
                      <a:lnTo>
                        <a:pt x="605" y="1184"/>
                      </a:lnTo>
                      <a:lnTo>
                        <a:pt x="405" y="1455"/>
                      </a:lnTo>
                      <a:lnTo>
                        <a:pt x="0" y="1813"/>
                      </a:lnTo>
                      <a:lnTo>
                        <a:pt x="395" y="1466"/>
                      </a:lnTo>
                      <a:lnTo>
                        <a:pt x="616" y="1195"/>
                      </a:lnTo>
                      <a:lnTo>
                        <a:pt x="644" y="1195"/>
                      </a:lnTo>
                      <a:lnTo>
                        <a:pt x="269" y="2002"/>
                      </a:lnTo>
                      <a:lnTo>
                        <a:pt x="665" y="1195"/>
                      </a:lnTo>
                      <a:lnTo>
                        <a:pt x="616" y="1301"/>
                      </a:lnTo>
                      <a:lnTo>
                        <a:pt x="665" y="1265"/>
                      </a:lnTo>
                      <a:lnTo>
                        <a:pt x="585" y="1428"/>
                      </a:lnTo>
                      <a:lnTo>
                        <a:pt x="327" y="1805"/>
                      </a:lnTo>
                      <a:lnTo>
                        <a:pt x="585" y="1455"/>
                      </a:lnTo>
                      <a:lnTo>
                        <a:pt x="652" y="1428"/>
                      </a:lnTo>
                      <a:lnTo>
                        <a:pt x="585" y="1536"/>
                      </a:lnTo>
                      <a:lnTo>
                        <a:pt x="280" y="2270"/>
                      </a:lnTo>
                      <a:lnTo>
                        <a:pt x="520" y="1699"/>
                      </a:lnTo>
                      <a:lnTo>
                        <a:pt x="605" y="1536"/>
                      </a:lnTo>
                      <a:lnTo>
                        <a:pt x="652" y="1517"/>
                      </a:lnTo>
                      <a:lnTo>
                        <a:pt x="595" y="1634"/>
                      </a:lnTo>
                      <a:lnTo>
                        <a:pt x="644" y="1618"/>
                      </a:lnTo>
                      <a:lnTo>
                        <a:pt x="566" y="1758"/>
                      </a:lnTo>
                      <a:lnTo>
                        <a:pt x="530" y="1886"/>
                      </a:lnTo>
                      <a:lnTo>
                        <a:pt x="134" y="2308"/>
                      </a:lnTo>
                      <a:lnTo>
                        <a:pt x="538" y="1894"/>
                      </a:lnTo>
                      <a:lnTo>
                        <a:pt x="585" y="1805"/>
                      </a:lnTo>
                      <a:lnTo>
                        <a:pt x="634" y="1777"/>
                      </a:lnTo>
                      <a:lnTo>
                        <a:pt x="538" y="2021"/>
                      </a:lnTo>
                      <a:lnTo>
                        <a:pt x="644" y="1777"/>
                      </a:lnTo>
                      <a:lnTo>
                        <a:pt x="585" y="1894"/>
                      </a:lnTo>
                      <a:lnTo>
                        <a:pt x="652" y="1867"/>
                      </a:lnTo>
                      <a:lnTo>
                        <a:pt x="605" y="1967"/>
                      </a:lnTo>
                      <a:lnTo>
                        <a:pt x="473" y="2316"/>
                      </a:lnTo>
                      <a:lnTo>
                        <a:pt x="334" y="2526"/>
                      </a:lnTo>
                      <a:lnTo>
                        <a:pt x="473" y="2316"/>
                      </a:lnTo>
                      <a:lnTo>
                        <a:pt x="616" y="1983"/>
                      </a:lnTo>
                      <a:lnTo>
                        <a:pt x="665" y="1967"/>
                      </a:lnTo>
                      <a:lnTo>
                        <a:pt x="644" y="2046"/>
                      </a:lnTo>
                      <a:lnTo>
                        <a:pt x="538" y="2270"/>
                      </a:lnTo>
                      <a:lnTo>
                        <a:pt x="652" y="2075"/>
                      </a:lnTo>
                      <a:lnTo>
                        <a:pt x="683" y="2002"/>
                      </a:lnTo>
                      <a:lnTo>
                        <a:pt x="634" y="2181"/>
                      </a:lnTo>
                      <a:lnTo>
                        <a:pt x="694" y="2146"/>
                      </a:lnTo>
                      <a:lnTo>
                        <a:pt x="673" y="2289"/>
                      </a:lnTo>
                      <a:lnTo>
                        <a:pt x="712" y="2227"/>
                      </a:lnTo>
                      <a:lnTo>
                        <a:pt x="740" y="2279"/>
                      </a:lnTo>
                      <a:lnTo>
                        <a:pt x="730" y="2434"/>
                      </a:lnTo>
                      <a:lnTo>
                        <a:pt x="481" y="3154"/>
                      </a:lnTo>
                      <a:lnTo>
                        <a:pt x="751" y="2434"/>
                      </a:lnTo>
                      <a:lnTo>
                        <a:pt x="751" y="2270"/>
                      </a:lnTo>
                      <a:lnTo>
                        <a:pt x="751" y="2173"/>
                      </a:lnTo>
                      <a:lnTo>
                        <a:pt x="808" y="2227"/>
                      </a:lnTo>
                      <a:lnTo>
                        <a:pt x="1258" y="2705"/>
                      </a:lnTo>
                      <a:lnTo>
                        <a:pt x="787" y="2181"/>
                      </a:lnTo>
                      <a:lnTo>
                        <a:pt x="751" y="2046"/>
                      </a:lnTo>
                      <a:lnTo>
                        <a:pt x="797" y="2075"/>
                      </a:lnTo>
                      <a:lnTo>
                        <a:pt x="730" y="1910"/>
                      </a:lnTo>
                      <a:lnTo>
                        <a:pt x="787" y="1975"/>
                      </a:lnTo>
                      <a:lnTo>
                        <a:pt x="893" y="2208"/>
                      </a:lnTo>
                      <a:lnTo>
                        <a:pt x="797" y="1959"/>
                      </a:lnTo>
                      <a:lnTo>
                        <a:pt x="751" y="1859"/>
                      </a:lnTo>
                      <a:lnTo>
                        <a:pt x="761" y="1859"/>
                      </a:lnTo>
                      <a:lnTo>
                        <a:pt x="818" y="1910"/>
                      </a:lnTo>
                      <a:lnTo>
                        <a:pt x="930" y="2037"/>
                      </a:lnTo>
                      <a:lnTo>
                        <a:pt x="1315" y="2135"/>
                      </a:lnTo>
                      <a:lnTo>
                        <a:pt x="919" y="2021"/>
                      </a:lnTo>
                      <a:lnTo>
                        <a:pt x="797" y="1867"/>
                      </a:lnTo>
                      <a:lnTo>
                        <a:pt x="761" y="1750"/>
                      </a:lnTo>
                      <a:lnTo>
                        <a:pt x="818" y="1750"/>
                      </a:lnTo>
                      <a:lnTo>
                        <a:pt x="761" y="1634"/>
                      </a:lnTo>
                      <a:lnTo>
                        <a:pt x="836" y="1661"/>
                      </a:lnTo>
                      <a:lnTo>
                        <a:pt x="1105" y="1886"/>
                      </a:lnTo>
                      <a:lnTo>
                        <a:pt x="836" y="1653"/>
                      </a:lnTo>
                      <a:lnTo>
                        <a:pt x="777" y="1517"/>
                      </a:lnTo>
                      <a:lnTo>
                        <a:pt x="844" y="1555"/>
                      </a:lnTo>
                      <a:lnTo>
                        <a:pt x="797" y="1447"/>
                      </a:lnTo>
                      <a:lnTo>
                        <a:pt x="865" y="1517"/>
                      </a:lnTo>
                      <a:lnTo>
                        <a:pt x="818" y="1358"/>
                      </a:lnTo>
                      <a:lnTo>
                        <a:pt x="873" y="1436"/>
                      </a:lnTo>
                      <a:lnTo>
                        <a:pt x="1115" y="1786"/>
                      </a:lnTo>
                      <a:lnTo>
                        <a:pt x="865" y="1436"/>
                      </a:lnTo>
                      <a:lnTo>
                        <a:pt x="808" y="1233"/>
                      </a:lnTo>
                      <a:lnTo>
                        <a:pt x="873" y="1276"/>
                      </a:lnTo>
                      <a:lnTo>
                        <a:pt x="1266" y="1474"/>
                      </a:lnTo>
                      <a:lnTo>
                        <a:pt x="873" y="1265"/>
                      </a:lnTo>
                      <a:lnTo>
                        <a:pt x="826" y="1087"/>
                      </a:lnTo>
                      <a:lnTo>
                        <a:pt x="883" y="1114"/>
                      </a:lnTo>
                      <a:lnTo>
                        <a:pt x="836" y="1016"/>
                      </a:lnTo>
                      <a:lnTo>
                        <a:pt x="893" y="1051"/>
                      </a:lnTo>
                      <a:lnTo>
                        <a:pt x="1076" y="1544"/>
                      </a:lnTo>
                      <a:lnTo>
                        <a:pt x="883" y="1008"/>
                      </a:lnTo>
                      <a:lnTo>
                        <a:pt x="883" y="873"/>
                      </a:lnTo>
                      <a:lnTo>
                        <a:pt x="940" y="932"/>
                      </a:lnTo>
                      <a:lnTo>
                        <a:pt x="1057" y="1211"/>
                      </a:lnTo>
                      <a:lnTo>
                        <a:pt x="912" y="854"/>
                      </a:lnTo>
                      <a:lnTo>
                        <a:pt x="893" y="736"/>
                      </a:lnTo>
                      <a:lnTo>
                        <a:pt x="940" y="789"/>
                      </a:lnTo>
                      <a:lnTo>
                        <a:pt x="1084" y="1016"/>
                      </a:lnTo>
                      <a:lnTo>
                        <a:pt x="1421" y="1141"/>
                      </a:lnTo>
                      <a:lnTo>
                        <a:pt x="1076" y="997"/>
                      </a:lnTo>
                      <a:lnTo>
                        <a:pt x="951" y="753"/>
                      </a:lnTo>
                      <a:lnTo>
                        <a:pt x="930" y="601"/>
                      </a:lnTo>
                      <a:lnTo>
                        <a:pt x="987" y="674"/>
                      </a:lnTo>
                      <a:lnTo>
                        <a:pt x="958" y="528"/>
                      </a:lnTo>
                      <a:lnTo>
                        <a:pt x="1183" y="908"/>
                      </a:lnTo>
                      <a:lnTo>
                        <a:pt x="969" y="511"/>
                      </a:lnTo>
                      <a:lnTo>
                        <a:pt x="951" y="403"/>
                      </a:lnTo>
                      <a:lnTo>
                        <a:pt x="1018" y="484"/>
                      </a:lnTo>
                      <a:lnTo>
                        <a:pt x="1008" y="314"/>
                      </a:lnTo>
                      <a:lnTo>
                        <a:pt x="1094" y="395"/>
                      </a:lnTo>
                      <a:lnTo>
                        <a:pt x="1403" y="693"/>
                      </a:lnTo>
                      <a:lnTo>
                        <a:pt x="1094" y="387"/>
                      </a:lnTo>
                      <a:lnTo>
                        <a:pt x="1057" y="216"/>
                      </a:lnTo>
                      <a:lnTo>
                        <a:pt x="1105" y="260"/>
                      </a:lnTo>
                      <a:lnTo>
                        <a:pt x="1076" y="135"/>
                      </a:lnTo>
                      <a:lnTo>
                        <a:pt x="1123" y="170"/>
                      </a:lnTo>
                      <a:lnTo>
                        <a:pt x="1133" y="70"/>
                      </a:lnTo>
                      <a:lnTo>
                        <a:pt x="1123" y="27"/>
                      </a:lnTo>
                      <a:lnTo>
                        <a:pt x="1105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028000" y="5146560"/>
                  <a:ext cx="213120" cy="632160"/>
                </a:xfrm>
                <a:custGeom>
                  <a:avLst/>
                  <a:gdLst/>
                  <a:ahLst/>
                  <a:rect l="0" t="0" r="r" b="b"/>
                  <a:pathLst>
                    <a:path w="592" h="1756">
                      <a:moveTo>
                        <a:pt x="12" y="280"/>
                      </a:moveTo>
                      <a:lnTo>
                        <a:pt x="136" y="0"/>
                      </a:lnTo>
                      <a:lnTo>
                        <a:pt x="215" y="8"/>
                      </a:lnTo>
                      <a:lnTo>
                        <a:pt x="282" y="24"/>
                      </a:lnTo>
                      <a:lnTo>
                        <a:pt x="336" y="99"/>
                      </a:lnTo>
                      <a:lnTo>
                        <a:pt x="471" y="326"/>
                      </a:lnTo>
                      <a:lnTo>
                        <a:pt x="515" y="425"/>
                      </a:lnTo>
                      <a:lnTo>
                        <a:pt x="549" y="523"/>
                      </a:lnTo>
                      <a:lnTo>
                        <a:pt x="580" y="824"/>
                      </a:lnTo>
                      <a:lnTo>
                        <a:pt x="592" y="914"/>
                      </a:lnTo>
                      <a:lnTo>
                        <a:pt x="580" y="1030"/>
                      </a:lnTo>
                      <a:lnTo>
                        <a:pt x="559" y="1152"/>
                      </a:lnTo>
                      <a:lnTo>
                        <a:pt x="505" y="1340"/>
                      </a:lnTo>
                      <a:lnTo>
                        <a:pt x="461" y="1462"/>
                      </a:lnTo>
                      <a:lnTo>
                        <a:pt x="393" y="1594"/>
                      </a:lnTo>
                      <a:lnTo>
                        <a:pt x="259" y="1756"/>
                      </a:lnTo>
                      <a:lnTo>
                        <a:pt x="326" y="1551"/>
                      </a:lnTo>
                      <a:lnTo>
                        <a:pt x="382" y="1365"/>
                      </a:lnTo>
                      <a:lnTo>
                        <a:pt x="416" y="1192"/>
                      </a:lnTo>
                      <a:lnTo>
                        <a:pt x="403" y="1030"/>
                      </a:lnTo>
                      <a:lnTo>
                        <a:pt x="393" y="914"/>
                      </a:lnTo>
                      <a:lnTo>
                        <a:pt x="416" y="773"/>
                      </a:lnTo>
                      <a:lnTo>
                        <a:pt x="426" y="655"/>
                      </a:lnTo>
                      <a:lnTo>
                        <a:pt x="369" y="425"/>
                      </a:lnTo>
                      <a:lnTo>
                        <a:pt x="359" y="301"/>
                      </a:lnTo>
                      <a:lnTo>
                        <a:pt x="313" y="204"/>
                      </a:lnTo>
                      <a:lnTo>
                        <a:pt x="215" y="75"/>
                      </a:lnTo>
                      <a:lnTo>
                        <a:pt x="168" y="175"/>
                      </a:lnTo>
                      <a:lnTo>
                        <a:pt x="0" y="336"/>
                      </a:lnTo>
                      <a:lnTo>
                        <a:pt x="12" y="28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250120" y="6200640"/>
                  <a:ext cx="86040" cy="644760"/>
                </a:xfrm>
                <a:custGeom>
                  <a:avLst/>
                  <a:gdLst/>
                  <a:ahLst/>
                  <a:rect l="0" t="0" r="r" b="b"/>
                  <a:pathLst>
                    <a:path w="239" h="1791">
                      <a:moveTo>
                        <a:pt x="191" y="0"/>
                      </a:moveTo>
                      <a:lnTo>
                        <a:pt x="174" y="34"/>
                      </a:lnTo>
                      <a:lnTo>
                        <a:pt x="96" y="353"/>
                      </a:lnTo>
                      <a:lnTo>
                        <a:pt x="48" y="652"/>
                      </a:lnTo>
                      <a:lnTo>
                        <a:pt x="0" y="1030"/>
                      </a:lnTo>
                      <a:lnTo>
                        <a:pt x="0" y="1434"/>
                      </a:lnTo>
                      <a:lnTo>
                        <a:pt x="24" y="1791"/>
                      </a:lnTo>
                      <a:lnTo>
                        <a:pt x="48" y="1791"/>
                      </a:lnTo>
                      <a:lnTo>
                        <a:pt x="24" y="1434"/>
                      </a:lnTo>
                      <a:lnTo>
                        <a:pt x="24" y="1138"/>
                      </a:lnTo>
                      <a:lnTo>
                        <a:pt x="72" y="811"/>
                      </a:lnTo>
                      <a:lnTo>
                        <a:pt x="142" y="489"/>
                      </a:lnTo>
                      <a:lnTo>
                        <a:pt x="239" y="81"/>
                      </a:lnTo>
                      <a:lnTo>
                        <a:pt x="191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8969400" y="6037200"/>
                  <a:ext cx="78120" cy="389160"/>
                </a:xfrm>
                <a:custGeom>
                  <a:avLst/>
                  <a:gdLst/>
                  <a:ahLst/>
                  <a:rect l="0" t="0" r="r" b="b"/>
                  <a:pathLst>
                    <a:path w="217" h="1081">
                      <a:moveTo>
                        <a:pt x="43" y="0"/>
                      </a:moveTo>
                      <a:lnTo>
                        <a:pt x="86" y="81"/>
                      </a:lnTo>
                      <a:lnTo>
                        <a:pt x="130" y="212"/>
                      </a:lnTo>
                      <a:lnTo>
                        <a:pt x="173" y="392"/>
                      </a:lnTo>
                      <a:lnTo>
                        <a:pt x="217" y="622"/>
                      </a:lnTo>
                      <a:lnTo>
                        <a:pt x="217" y="866"/>
                      </a:lnTo>
                      <a:lnTo>
                        <a:pt x="195" y="1081"/>
                      </a:lnTo>
                      <a:lnTo>
                        <a:pt x="173" y="1081"/>
                      </a:lnTo>
                      <a:lnTo>
                        <a:pt x="195" y="866"/>
                      </a:lnTo>
                      <a:lnTo>
                        <a:pt x="195" y="689"/>
                      </a:lnTo>
                      <a:lnTo>
                        <a:pt x="152" y="490"/>
                      </a:lnTo>
                      <a:lnTo>
                        <a:pt x="86" y="296"/>
                      </a:lnTo>
                      <a:lnTo>
                        <a:pt x="0" y="49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574120" y="5829480"/>
                  <a:ext cx="135360" cy="387720"/>
                </a:xfrm>
                <a:custGeom>
                  <a:avLst/>
                  <a:gdLst/>
                  <a:ahLst/>
                  <a:rect l="0" t="0" r="r" b="b"/>
                  <a:pathLst>
                    <a:path w="376" h="1077">
                      <a:moveTo>
                        <a:pt x="368" y="168"/>
                      </a:moveTo>
                      <a:lnTo>
                        <a:pt x="290" y="0"/>
                      </a:lnTo>
                      <a:lnTo>
                        <a:pt x="237" y="2"/>
                      </a:lnTo>
                      <a:lnTo>
                        <a:pt x="197" y="11"/>
                      </a:lnTo>
                      <a:lnTo>
                        <a:pt x="162" y="58"/>
                      </a:lnTo>
                      <a:lnTo>
                        <a:pt x="74" y="197"/>
                      </a:lnTo>
                      <a:lnTo>
                        <a:pt x="46" y="258"/>
                      </a:lnTo>
                      <a:lnTo>
                        <a:pt x="28" y="320"/>
                      </a:lnTo>
                      <a:lnTo>
                        <a:pt x="5" y="506"/>
                      </a:lnTo>
                      <a:lnTo>
                        <a:pt x="0" y="562"/>
                      </a:lnTo>
                      <a:lnTo>
                        <a:pt x="5" y="632"/>
                      </a:lnTo>
                      <a:lnTo>
                        <a:pt x="20" y="707"/>
                      </a:lnTo>
                      <a:lnTo>
                        <a:pt x="54" y="822"/>
                      </a:lnTo>
                      <a:lnTo>
                        <a:pt x="83" y="897"/>
                      </a:lnTo>
                      <a:lnTo>
                        <a:pt x="127" y="979"/>
                      </a:lnTo>
                      <a:lnTo>
                        <a:pt x="211" y="1077"/>
                      </a:lnTo>
                      <a:lnTo>
                        <a:pt x="168" y="952"/>
                      </a:lnTo>
                      <a:lnTo>
                        <a:pt x="133" y="839"/>
                      </a:lnTo>
                      <a:lnTo>
                        <a:pt x="113" y="733"/>
                      </a:lnTo>
                      <a:lnTo>
                        <a:pt x="119" y="632"/>
                      </a:lnTo>
                      <a:lnTo>
                        <a:pt x="127" y="562"/>
                      </a:lnTo>
                      <a:lnTo>
                        <a:pt x="113" y="475"/>
                      </a:lnTo>
                      <a:lnTo>
                        <a:pt x="104" y="402"/>
                      </a:lnTo>
                      <a:lnTo>
                        <a:pt x="139" y="258"/>
                      </a:lnTo>
                      <a:lnTo>
                        <a:pt x="145" y="183"/>
                      </a:lnTo>
                      <a:lnTo>
                        <a:pt x="176" y="122"/>
                      </a:lnTo>
                      <a:lnTo>
                        <a:pt x="237" y="43"/>
                      </a:lnTo>
                      <a:lnTo>
                        <a:pt x="269" y="104"/>
                      </a:lnTo>
                      <a:lnTo>
                        <a:pt x="376" y="203"/>
                      </a:lnTo>
                      <a:lnTo>
                        <a:pt x="368" y="168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8802720" y="5483160"/>
                  <a:ext cx="329040" cy="700560"/>
                </a:xfrm>
                <a:custGeom>
                  <a:avLst/>
                  <a:gdLst/>
                  <a:ahLst/>
                  <a:rect l="0" t="0" r="r" b="b"/>
                  <a:pathLst>
                    <a:path w="914" h="1946">
                      <a:moveTo>
                        <a:pt x="204" y="0"/>
                      </a:moveTo>
                      <a:lnTo>
                        <a:pt x="243" y="5"/>
                      </a:lnTo>
                      <a:lnTo>
                        <a:pt x="299" y="23"/>
                      </a:lnTo>
                      <a:lnTo>
                        <a:pt x="261" y="32"/>
                      </a:lnTo>
                      <a:lnTo>
                        <a:pt x="290" y="55"/>
                      </a:lnTo>
                      <a:lnTo>
                        <a:pt x="322" y="82"/>
                      </a:lnTo>
                      <a:lnTo>
                        <a:pt x="372" y="93"/>
                      </a:lnTo>
                      <a:lnTo>
                        <a:pt x="445" y="87"/>
                      </a:lnTo>
                      <a:lnTo>
                        <a:pt x="524" y="73"/>
                      </a:lnTo>
                      <a:lnTo>
                        <a:pt x="733" y="87"/>
                      </a:lnTo>
                      <a:lnTo>
                        <a:pt x="533" y="76"/>
                      </a:lnTo>
                      <a:lnTo>
                        <a:pt x="445" y="99"/>
                      </a:lnTo>
                      <a:lnTo>
                        <a:pt x="372" y="93"/>
                      </a:lnTo>
                      <a:lnTo>
                        <a:pt x="322" y="111"/>
                      </a:lnTo>
                      <a:lnTo>
                        <a:pt x="360" y="131"/>
                      </a:lnTo>
                      <a:lnTo>
                        <a:pt x="334" y="143"/>
                      </a:lnTo>
                      <a:lnTo>
                        <a:pt x="401" y="187"/>
                      </a:lnTo>
                      <a:lnTo>
                        <a:pt x="551" y="181"/>
                      </a:lnTo>
                      <a:lnTo>
                        <a:pt x="745" y="336"/>
                      </a:lnTo>
                      <a:lnTo>
                        <a:pt x="551" y="187"/>
                      </a:lnTo>
                      <a:lnTo>
                        <a:pt x="401" y="199"/>
                      </a:lnTo>
                      <a:lnTo>
                        <a:pt x="360" y="205"/>
                      </a:lnTo>
                      <a:lnTo>
                        <a:pt x="439" y="254"/>
                      </a:lnTo>
                      <a:lnTo>
                        <a:pt x="390" y="254"/>
                      </a:lnTo>
                      <a:lnTo>
                        <a:pt x="474" y="316"/>
                      </a:lnTo>
                      <a:lnTo>
                        <a:pt x="635" y="392"/>
                      </a:lnTo>
                      <a:lnTo>
                        <a:pt x="821" y="531"/>
                      </a:lnTo>
                      <a:lnTo>
                        <a:pt x="632" y="404"/>
                      </a:lnTo>
                      <a:lnTo>
                        <a:pt x="469" y="328"/>
                      </a:lnTo>
                      <a:lnTo>
                        <a:pt x="422" y="330"/>
                      </a:lnTo>
                      <a:lnTo>
                        <a:pt x="495" y="374"/>
                      </a:lnTo>
                      <a:lnTo>
                        <a:pt x="445" y="386"/>
                      </a:lnTo>
                      <a:lnTo>
                        <a:pt x="507" y="445"/>
                      </a:lnTo>
                      <a:lnTo>
                        <a:pt x="897" y="914"/>
                      </a:lnTo>
                      <a:lnTo>
                        <a:pt x="507" y="453"/>
                      </a:lnTo>
                      <a:lnTo>
                        <a:pt x="451" y="453"/>
                      </a:lnTo>
                      <a:lnTo>
                        <a:pt x="512" y="525"/>
                      </a:lnTo>
                      <a:lnTo>
                        <a:pt x="469" y="519"/>
                      </a:lnTo>
                      <a:lnTo>
                        <a:pt x="524" y="610"/>
                      </a:lnTo>
                      <a:lnTo>
                        <a:pt x="686" y="771"/>
                      </a:lnTo>
                      <a:lnTo>
                        <a:pt x="853" y="1002"/>
                      </a:lnTo>
                      <a:lnTo>
                        <a:pt x="686" y="774"/>
                      </a:lnTo>
                      <a:lnTo>
                        <a:pt x="521" y="616"/>
                      </a:lnTo>
                      <a:lnTo>
                        <a:pt x="469" y="595"/>
                      </a:lnTo>
                      <a:lnTo>
                        <a:pt x="507" y="654"/>
                      </a:lnTo>
                      <a:lnTo>
                        <a:pt x="474" y="642"/>
                      </a:lnTo>
                      <a:lnTo>
                        <a:pt x="524" y="733"/>
                      </a:lnTo>
                      <a:lnTo>
                        <a:pt x="656" y="900"/>
                      </a:lnTo>
                      <a:lnTo>
                        <a:pt x="914" y="1119"/>
                      </a:lnTo>
                      <a:lnTo>
                        <a:pt x="662" y="903"/>
                      </a:lnTo>
                      <a:lnTo>
                        <a:pt x="521" y="736"/>
                      </a:lnTo>
                      <a:lnTo>
                        <a:pt x="501" y="736"/>
                      </a:lnTo>
                      <a:lnTo>
                        <a:pt x="742" y="1234"/>
                      </a:lnTo>
                      <a:lnTo>
                        <a:pt x="489" y="736"/>
                      </a:lnTo>
                      <a:lnTo>
                        <a:pt x="521" y="803"/>
                      </a:lnTo>
                      <a:lnTo>
                        <a:pt x="489" y="780"/>
                      </a:lnTo>
                      <a:lnTo>
                        <a:pt x="539" y="882"/>
                      </a:lnTo>
                      <a:lnTo>
                        <a:pt x="707" y="1113"/>
                      </a:lnTo>
                      <a:lnTo>
                        <a:pt x="539" y="900"/>
                      </a:lnTo>
                      <a:lnTo>
                        <a:pt x="495" y="882"/>
                      </a:lnTo>
                      <a:lnTo>
                        <a:pt x="539" y="946"/>
                      </a:lnTo>
                      <a:lnTo>
                        <a:pt x="739" y="1400"/>
                      </a:lnTo>
                      <a:lnTo>
                        <a:pt x="583" y="1049"/>
                      </a:lnTo>
                      <a:lnTo>
                        <a:pt x="524" y="946"/>
                      </a:lnTo>
                      <a:lnTo>
                        <a:pt x="495" y="935"/>
                      </a:lnTo>
                      <a:lnTo>
                        <a:pt x="533" y="1008"/>
                      </a:lnTo>
                      <a:lnTo>
                        <a:pt x="501" y="996"/>
                      </a:lnTo>
                      <a:lnTo>
                        <a:pt x="551" y="1087"/>
                      </a:lnTo>
                      <a:lnTo>
                        <a:pt x="574" y="1163"/>
                      </a:lnTo>
                      <a:lnTo>
                        <a:pt x="829" y="1424"/>
                      </a:lnTo>
                      <a:lnTo>
                        <a:pt x="568" y="1169"/>
                      </a:lnTo>
                      <a:lnTo>
                        <a:pt x="539" y="1113"/>
                      </a:lnTo>
                      <a:lnTo>
                        <a:pt x="507" y="1099"/>
                      </a:lnTo>
                      <a:lnTo>
                        <a:pt x="568" y="1245"/>
                      </a:lnTo>
                      <a:lnTo>
                        <a:pt x="501" y="1099"/>
                      </a:lnTo>
                      <a:lnTo>
                        <a:pt x="539" y="1169"/>
                      </a:lnTo>
                      <a:lnTo>
                        <a:pt x="495" y="1151"/>
                      </a:lnTo>
                      <a:lnTo>
                        <a:pt x="524" y="1213"/>
                      </a:lnTo>
                      <a:lnTo>
                        <a:pt x="612" y="1427"/>
                      </a:lnTo>
                      <a:lnTo>
                        <a:pt x="698" y="1557"/>
                      </a:lnTo>
                      <a:lnTo>
                        <a:pt x="612" y="1427"/>
                      </a:lnTo>
                      <a:lnTo>
                        <a:pt x="521" y="1222"/>
                      </a:lnTo>
                      <a:lnTo>
                        <a:pt x="489" y="1213"/>
                      </a:lnTo>
                      <a:lnTo>
                        <a:pt x="501" y="1263"/>
                      </a:lnTo>
                      <a:lnTo>
                        <a:pt x="568" y="1400"/>
                      </a:lnTo>
                      <a:lnTo>
                        <a:pt x="495" y="1277"/>
                      </a:lnTo>
                      <a:lnTo>
                        <a:pt x="474" y="1234"/>
                      </a:lnTo>
                      <a:lnTo>
                        <a:pt x="507" y="1345"/>
                      </a:lnTo>
                      <a:lnTo>
                        <a:pt x="469" y="1324"/>
                      </a:lnTo>
                      <a:lnTo>
                        <a:pt x="483" y="1412"/>
                      </a:lnTo>
                      <a:lnTo>
                        <a:pt x="457" y="1374"/>
                      </a:lnTo>
                      <a:lnTo>
                        <a:pt x="439" y="1406"/>
                      </a:lnTo>
                      <a:lnTo>
                        <a:pt x="445" y="1501"/>
                      </a:lnTo>
                      <a:lnTo>
                        <a:pt x="606" y="1946"/>
                      </a:lnTo>
                      <a:lnTo>
                        <a:pt x="434" y="1501"/>
                      </a:lnTo>
                      <a:lnTo>
                        <a:pt x="434" y="1400"/>
                      </a:lnTo>
                      <a:lnTo>
                        <a:pt x="434" y="1342"/>
                      </a:lnTo>
                      <a:lnTo>
                        <a:pt x="398" y="1374"/>
                      </a:lnTo>
                      <a:lnTo>
                        <a:pt x="105" y="1668"/>
                      </a:lnTo>
                      <a:lnTo>
                        <a:pt x="407" y="1345"/>
                      </a:lnTo>
                      <a:lnTo>
                        <a:pt x="434" y="1263"/>
                      </a:lnTo>
                      <a:lnTo>
                        <a:pt x="401" y="1277"/>
                      </a:lnTo>
                      <a:lnTo>
                        <a:pt x="445" y="1178"/>
                      </a:lnTo>
                      <a:lnTo>
                        <a:pt x="407" y="1219"/>
                      </a:lnTo>
                      <a:lnTo>
                        <a:pt x="343" y="1362"/>
                      </a:lnTo>
                      <a:lnTo>
                        <a:pt x="401" y="1207"/>
                      </a:lnTo>
                      <a:lnTo>
                        <a:pt x="434" y="1146"/>
                      </a:lnTo>
                      <a:lnTo>
                        <a:pt x="428" y="1146"/>
                      </a:lnTo>
                      <a:lnTo>
                        <a:pt x="390" y="1178"/>
                      </a:lnTo>
                      <a:lnTo>
                        <a:pt x="316" y="1257"/>
                      </a:lnTo>
                      <a:lnTo>
                        <a:pt x="67" y="1316"/>
                      </a:lnTo>
                      <a:lnTo>
                        <a:pt x="322" y="1245"/>
                      </a:lnTo>
                      <a:lnTo>
                        <a:pt x="401" y="1151"/>
                      </a:lnTo>
                      <a:lnTo>
                        <a:pt x="428" y="1078"/>
                      </a:lnTo>
                      <a:lnTo>
                        <a:pt x="390" y="1078"/>
                      </a:lnTo>
                      <a:lnTo>
                        <a:pt x="428" y="1008"/>
                      </a:lnTo>
                      <a:lnTo>
                        <a:pt x="378" y="1023"/>
                      </a:lnTo>
                      <a:lnTo>
                        <a:pt x="204" y="1163"/>
                      </a:lnTo>
                      <a:lnTo>
                        <a:pt x="378" y="1020"/>
                      </a:lnTo>
                      <a:lnTo>
                        <a:pt x="416" y="935"/>
                      </a:lnTo>
                      <a:lnTo>
                        <a:pt x="372" y="958"/>
                      </a:lnTo>
                      <a:lnTo>
                        <a:pt x="401" y="891"/>
                      </a:lnTo>
                      <a:lnTo>
                        <a:pt x="360" y="935"/>
                      </a:lnTo>
                      <a:lnTo>
                        <a:pt x="390" y="835"/>
                      </a:lnTo>
                      <a:lnTo>
                        <a:pt x="355" y="885"/>
                      </a:lnTo>
                      <a:lnTo>
                        <a:pt x="198" y="1102"/>
                      </a:lnTo>
                      <a:lnTo>
                        <a:pt x="360" y="885"/>
                      </a:lnTo>
                      <a:lnTo>
                        <a:pt x="398" y="759"/>
                      </a:lnTo>
                      <a:lnTo>
                        <a:pt x="355" y="785"/>
                      </a:lnTo>
                      <a:lnTo>
                        <a:pt x="99" y="908"/>
                      </a:lnTo>
                      <a:lnTo>
                        <a:pt x="355" y="780"/>
                      </a:lnTo>
                      <a:lnTo>
                        <a:pt x="384" y="671"/>
                      </a:lnTo>
                      <a:lnTo>
                        <a:pt x="349" y="689"/>
                      </a:lnTo>
                      <a:lnTo>
                        <a:pt x="378" y="624"/>
                      </a:lnTo>
                      <a:lnTo>
                        <a:pt x="343" y="648"/>
                      </a:lnTo>
                      <a:lnTo>
                        <a:pt x="222" y="952"/>
                      </a:lnTo>
                      <a:lnTo>
                        <a:pt x="349" y="621"/>
                      </a:lnTo>
                      <a:lnTo>
                        <a:pt x="349" y="536"/>
                      </a:lnTo>
                      <a:lnTo>
                        <a:pt x="311" y="577"/>
                      </a:lnTo>
                      <a:lnTo>
                        <a:pt x="237" y="747"/>
                      </a:lnTo>
                      <a:lnTo>
                        <a:pt x="328" y="525"/>
                      </a:lnTo>
                      <a:lnTo>
                        <a:pt x="343" y="453"/>
                      </a:lnTo>
                      <a:lnTo>
                        <a:pt x="311" y="487"/>
                      </a:lnTo>
                      <a:lnTo>
                        <a:pt x="216" y="624"/>
                      </a:lnTo>
                      <a:lnTo>
                        <a:pt x="0" y="703"/>
                      </a:lnTo>
                      <a:lnTo>
                        <a:pt x="222" y="616"/>
                      </a:lnTo>
                      <a:lnTo>
                        <a:pt x="305" y="465"/>
                      </a:lnTo>
                      <a:lnTo>
                        <a:pt x="316" y="371"/>
                      </a:lnTo>
                      <a:lnTo>
                        <a:pt x="278" y="415"/>
                      </a:lnTo>
                      <a:lnTo>
                        <a:pt x="299" y="328"/>
                      </a:lnTo>
                      <a:lnTo>
                        <a:pt x="155" y="560"/>
                      </a:lnTo>
                      <a:lnTo>
                        <a:pt x="290" y="316"/>
                      </a:lnTo>
                      <a:lnTo>
                        <a:pt x="305" y="248"/>
                      </a:lnTo>
                      <a:lnTo>
                        <a:pt x="261" y="301"/>
                      </a:lnTo>
                      <a:lnTo>
                        <a:pt x="267" y="193"/>
                      </a:lnTo>
                      <a:lnTo>
                        <a:pt x="210" y="243"/>
                      </a:lnTo>
                      <a:lnTo>
                        <a:pt x="11" y="427"/>
                      </a:lnTo>
                      <a:lnTo>
                        <a:pt x="210" y="237"/>
                      </a:lnTo>
                      <a:lnTo>
                        <a:pt x="237" y="131"/>
                      </a:lnTo>
                      <a:lnTo>
                        <a:pt x="204" y="161"/>
                      </a:lnTo>
                      <a:lnTo>
                        <a:pt x="222" y="82"/>
                      </a:lnTo>
                      <a:lnTo>
                        <a:pt x="193" y="105"/>
                      </a:lnTo>
                      <a:lnTo>
                        <a:pt x="187" y="43"/>
                      </a:lnTo>
                      <a:lnTo>
                        <a:pt x="193" y="17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413920" y="6213600"/>
                  <a:ext cx="65520" cy="271800"/>
                </a:xfrm>
                <a:custGeom>
                  <a:avLst/>
                  <a:gdLst/>
                  <a:ahLst/>
                  <a:rect l="0" t="0" r="r" b="b"/>
                  <a:pathLst>
                    <a:path w="182" h="755">
                      <a:moveTo>
                        <a:pt x="147" y="0"/>
                      </a:moveTo>
                      <a:lnTo>
                        <a:pt x="111" y="57"/>
                      </a:lnTo>
                      <a:lnTo>
                        <a:pt x="71" y="149"/>
                      </a:lnTo>
                      <a:lnTo>
                        <a:pt x="35" y="273"/>
                      </a:lnTo>
                      <a:lnTo>
                        <a:pt x="0" y="433"/>
                      </a:lnTo>
                      <a:lnTo>
                        <a:pt x="0" y="605"/>
                      </a:lnTo>
                      <a:lnTo>
                        <a:pt x="17" y="755"/>
                      </a:lnTo>
                      <a:lnTo>
                        <a:pt x="35" y="755"/>
                      </a:lnTo>
                      <a:lnTo>
                        <a:pt x="17" y="605"/>
                      </a:lnTo>
                      <a:lnTo>
                        <a:pt x="17" y="481"/>
                      </a:lnTo>
                      <a:lnTo>
                        <a:pt x="53" y="343"/>
                      </a:lnTo>
                      <a:lnTo>
                        <a:pt x="111" y="207"/>
                      </a:lnTo>
                      <a:lnTo>
                        <a:pt x="182" y="35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694720" y="6067440"/>
                  <a:ext cx="111600" cy="270360"/>
                </a:xfrm>
                <a:custGeom>
                  <a:avLst/>
                  <a:gdLst/>
                  <a:ahLst/>
                  <a:rect l="0" t="0" r="r" b="b"/>
                  <a:pathLst>
                    <a:path w="310" h="751">
                      <a:moveTo>
                        <a:pt x="7" y="117"/>
                      </a:moveTo>
                      <a:lnTo>
                        <a:pt x="71" y="0"/>
                      </a:lnTo>
                      <a:lnTo>
                        <a:pt x="114" y="2"/>
                      </a:lnTo>
                      <a:lnTo>
                        <a:pt x="148" y="8"/>
                      </a:lnTo>
                      <a:lnTo>
                        <a:pt x="176" y="40"/>
                      </a:lnTo>
                      <a:lnTo>
                        <a:pt x="248" y="137"/>
                      </a:lnTo>
                      <a:lnTo>
                        <a:pt x="272" y="180"/>
                      </a:lnTo>
                      <a:lnTo>
                        <a:pt x="286" y="223"/>
                      </a:lnTo>
                      <a:lnTo>
                        <a:pt x="305" y="353"/>
                      </a:lnTo>
                      <a:lnTo>
                        <a:pt x="310" y="392"/>
                      </a:lnTo>
                      <a:lnTo>
                        <a:pt x="305" y="440"/>
                      </a:lnTo>
                      <a:lnTo>
                        <a:pt x="294" y="493"/>
                      </a:lnTo>
                      <a:lnTo>
                        <a:pt x="265" y="573"/>
                      </a:lnTo>
                      <a:lnTo>
                        <a:pt x="241" y="626"/>
                      </a:lnTo>
                      <a:lnTo>
                        <a:pt x="205" y="682"/>
                      </a:lnTo>
                      <a:lnTo>
                        <a:pt x="136" y="751"/>
                      </a:lnTo>
                      <a:lnTo>
                        <a:pt x="171" y="664"/>
                      </a:lnTo>
                      <a:lnTo>
                        <a:pt x="200" y="585"/>
                      </a:lnTo>
                      <a:lnTo>
                        <a:pt x="217" y="511"/>
                      </a:lnTo>
                      <a:lnTo>
                        <a:pt x="212" y="440"/>
                      </a:lnTo>
                      <a:lnTo>
                        <a:pt x="205" y="392"/>
                      </a:lnTo>
                      <a:lnTo>
                        <a:pt x="217" y="331"/>
                      </a:lnTo>
                      <a:lnTo>
                        <a:pt x="224" y="280"/>
                      </a:lnTo>
                      <a:lnTo>
                        <a:pt x="195" y="180"/>
                      </a:lnTo>
                      <a:lnTo>
                        <a:pt x="190" y="127"/>
                      </a:lnTo>
                      <a:lnTo>
                        <a:pt x="164" y="85"/>
                      </a:lnTo>
                      <a:lnTo>
                        <a:pt x="114" y="30"/>
                      </a:lnTo>
                      <a:lnTo>
                        <a:pt x="88" y="72"/>
                      </a:lnTo>
                      <a:lnTo>
                        <a:pt x="0" y="141"/>
                      </a:lnTo>
                      <a:lnTo>
                        <a:pt x="7" y="117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44080" y="5826240"/>
                  <a:ext cx="273240" cy="489240"/>
                </a:xfrm>
                <a:custGeom>
                  <a:avLst/>
                  <a:gdLst/>
                  <a:ahLst/>
                  <a:rect l="0" t="0" r="r" b="b"/>
                  <a:pathLst>
                    <a:path w="759" h="1359">
                      <a:moveTo>
                        <a:pt x="587" y="0"/>
                      </a:moveTo>
                      <a:lnTo>
                        <a:pt x="556" y="4"/>
                      </a:lnTo>
                      <a:lnTo>
                        <a:pt x="512" y="17"/>
                      </a:lnTo>
                      <a:lnTo>
                        <a:pt x="543" y="22"/>
                      </a:lnTo>
                      <a:lnTo>
                        <a:pt x="516" y="39"/>
                      </a:lnTo>
                      <a:lnTo>
                        <a:pt x="490" y="57"/>
                      </a:lnTo>
                      <a:lnTo>
                        <a:pt x="450" y="66"/>
                      </a:lnTo>
                      <a:lnTo>
                        <a:pt x="389" y="61"/>
                      </a:lnTo>
                      <a:lnTo>
                        <a:pt x="321" y="52"/>
                      </a:lnTo>
                      <a:lnTo>
                        <a:pt x="149" y="61"/>
                      </a:lnTo>
                      <a:lnTo>
                        <a:pt x="317" y="52"/>
                      </a:lnTo>
                      <a:lnTo>
                        <a:pt x="389" y="70"/>
                      </a:lnTo>
                      <a:lnTo>
                        <a:pt x="450" y="66"/>
                      </a:lnTo>
                      <a:lnTo>
                        <a:pt x="490" y="79"/>
                      </a:lnTo>
                      <a:lnTo>
                        <a:pt x="459" y="92"/>
                      </a:lnTo>
                      <a:lnTo>
                        <a:pt x="481" y="101"/>
                      </a:lnTo>
                      <a:lnTo>
                        <a:pt x="424" y="132"/>
                      </a:lnTo>
                      <a:lnTo>
                        <a:pt x="299" y="127"/>
                      </a:lnTo>
                      <a:lnTo>
                        <a:pt x="141" y="233"/>
                      </a:lnTo>
                      <a:lnTo>
                        <a:pt x="299" y="132"/>
                      </a:lnTo>
                      <a:lnTo>
                        <a:pt x="424" y="141"/>
                      </a:lnTo>
                      <a:lnTo>
                        <a:pt x="459" y="141"/>
                      </a:lnTo>
                      <a:lnTo>
                        <a:pt x="393" y="176"/>
                      </a:lnTo>
                      <a:lnTo>
                        <a:pt x="437" y="176"/>
                      </a:lnTo>
                      <a:lnTo>
                        <a:pt x="366" y="220"/>
                      </a:lnTo>
                      <a:lnTo>
                        <a:pt x="229" y="273"/>
                      </a:lnTo>
                      <a:lnTo>
                        <a:pt x="79" y="370"/>
                      </a:lnTo>
                      <a:lnTo>
                        <a:pt x="233" y="282"/>
                      </a:lnTo>
                      <a:lnTo>
                        <a:pt x="370" y="229"/>
                      </a:lnTo>
                      <a:lnTo>
                        <a:pt x="411" y="229"/>
                      </a:lnTo>
                      <a:lnTo>
                        <a:pt x="348" y="260"/>
                      </a:lnTo>
                      <a:lnTo>
                        <a:pt x="389" y="268"/>
                      </a:lnTo>
                      <a:lnTo>
                        <a:pt x="339" y="313"/>
                      </a:lnTo>
                      <a:lnTo>
                        <a:pt x="13" y="639"/>
                      </a:lnTo>
                      <a:lnTo>
                        <a:pt x="339" y="317"/>
                      </a:lnTo>
                      <a:lnTo>
                        <a:pt x="384" y="317"/>
                      </a:lnTo>
                      <a:lnTo>
                        <a:pt x="335" y="366"/>
                      </a:lnTo>
                      <a:lnTo>
                        <a:pt x="370" y="361"/>
                      </a:lnTo>
                      <a:lnTo>
                        <a:pt x="321" y="423"/>
                      </a:lnTo>
                      <a:lnTo>
                        <a:pt x="189" y="537"/>
                      </a:lnTo>
                      <a:lnTo>
                        <a:pt x="52" y="702"/>
                      </a:lnTo>
                      <a:lnTo>
                        <a:pt x="189" y="537"/>
                      </a:lnTo>
                      <a:lnTo>
                        <a:pt x="326" y="427"/>
                      </a:lnTo>
                      <a:lnTo>
                        <a:pt x="370" y="414"/>
                      </a:lnTo>
                      <a:lnTo>
                        <a:pt x="339" y="454"/>
                      </a:lnTo>
                      <a:lnTo>
                        <a:pt x="366" y="449"/>
                      </a:lnTo>
                      <a:lnTo>
                        <a:pt x="321" y="511"/>
                      </a:lnTo>
                      <a:lnTo>
                        <a:pt x="216" y="626"/>
                      </a:lnTo>
                      <a:lnTo>
                        <a:pt x="0" y="781"/>
                      </a:lnTo>
                      <a:lnTo>
                        <a:pt x="207" y="630"/>
                      </a:lnTo>
                      <a:lnTo>
                        <a:pt x="326" y="511"/>
                      </a:lnTo>
                      <a:lnTo>
                        <a:pt x="343" y="511"/>
                      </a:lnTo>
                      <a:lnTo>
                        <a:pt x="145" y="860"/>
                      </a:lnTo>
                      <a:lnTo>
                        <a:pt x="352" y="511"/>
                      </a:lnTo>
                      <a:lnTo>
                        <a:pt x="326" y="560"/>
                      </a:lnTo>
                      <a:lnTo>
                        <a:pt x="352" y="542"/>
                      </a:lnTo>
                      <a:lnTo>
                        <a:pt x="313" y="617"/>
                      </a:lnTo>
                      <a:lnTo>
                        <a:pt x="171" y="777"/>
                      </a:lnTo>
                      <a:lnTo>
                        <a:pt x="313" y="626"/>
                      </a:lnTo>
                      <a:lnTo>
                        <a:pt x="348" y="617"/>
                      </a:lnTo>
                      <a:lnTo>
                        <a:pt x="313" y="661"/>
                      </a:lnTo>
                      <a:lnTo>
                        <a:pt x="145" y="979"/>
                      </a:lnTo>
                      <a:lnTo>
                        <a:pt x="273" y="733"/>
                      </a:lnTo>
                      <a:lnTo>
                        <a:pt x="321" y="661"/>
                      </a:lnTo>
                      <a:lnTo>
                        <a:pt x="348" y="652"/>
                      </a:lnTo>
                      <a:lnTo>
                        <a:pt x="317" y="706"/>
                      </a:lnTo>
                      <a:lnTo>
                        <a:pt x="343" y="697"/>
                      </a:lnTo>
                      <a:lnTo>
                        <a:pt x="299" y="759"/>
                      </a:lnTo>
                      <a:lnTo>
                        <a:pt x="282" y="812"/>
                      </a:lnTo>
                      <a:lnTo>
                        <a:pt x="70" y="993"/>
                      </a:lnTo>
                      <a:lnTo>
                        <a:pt x="286" y="816"/>
                      </a:lnTo>
                      <a:lnTo>
                        <a:pt x="313" y="777"/>
                      </a:lnTo>
                      <a:lnTo>
                        <a:pt x="339" y="768"/>
                      </a:lnTo>
                      <a:lnTo>
                        <a:pt x="286" y="869"/>
                      </a:lnTo>
                      <a:lnTo>
                        <a:pt x="343" y="768"/>
                      </a:lnTo>
                      <a:lnTo>
                        <a:pt x="313" y="816"/>
                      </a:lnTo>
                      <a:lnTo>
                        <a:pt x="348" y="803"/>
                      </a:lnTo>
                      <a:lnTo>
                        <a:pt x="321" y="847"/>
                      </a:lnTo>
                      <a:lnTo>
                        <a:pt x="251" y="997"/>
                      </a:lnTo>
                      <a:lnTo>
                        <a:pt x="180" y="1085"/>
                      </a:lnTo>
                      <a:lnTo>
                        <a:pt x="251" y="997"/>
                      </a:lnTo>
                      <a:lnTo>
                        <a:pt x="326" y="852"/>
                      </a:lnTo>
                      <a:lnTo>
                        <a:pt x="352" y="847"/>
                      </a:lnTo>
                      <a:lnTo>
                        <a:pt x="343" y="882"/>
                      </a:lnTo>
                      <a:lnTo>
                        <a:pt x="286" y="979"/>
                      </a:lnTo>
                      <a:lnTo>
                        <a:pt x="348" y="891"/>
                      </a:lnTo>
                      <a:lnTo>
                        <a:pt x="366" y="860"/>
                      </a:lnTo>
                      <a:lnTo>
                        <a:pt x="339" y="940"/>
                      </a:lnTo>
                      <a:lnTo>
                        <a:pt x="370" y="927"/>
                      </a:lnTo>
                      <a:lnTo>
                        <a:pt x="357" y="988"/>
                      </a:lnTo>
                      <a:lnTo>
                        <a:pt x="380" y="962"/>
                      </a:lnTo>
                      <a:lnTo>
                        <a:pt x="393" y="984"/>
                      </a:lnTo>
                      <a:lnTo>
                        <a:pt x="389" y="1046"/>
                      </a:lnTo>
                      <a:lnTo>
                        <a:pt x="255" y="1359"/>
                      </a:lnTo>
                      <a:lnTo>
                        <a:pt x="397" y="1046"/>
                      </a:lnTo>
                      <a:lnTo>
                        <a:pt x="397" y="979"/>
                      </a:lnTo>
                      <a:lnTo>
                        <a:pt x="397" y="935"/>
                      </a:lnTo>
                      <a:lnTo>
                        <a:pt x="428" y="962"/>
                      </a:lnTo>
                      <a:lnTo>
                        <a:pt x="671" y="1165"/>
                      </a:lnTo>
                      <a:lnTo>
                        <a:pt x="419" y="940"/>
                      </a:lnTo>
                      <a:lnTo>
                        <a:pt x="397" y="882"/>
                      </a:lnTo>
                      <a:lnTo>
                        <a:pt x="424" y="891"/>
                      </a:lnTo>
                      <a:lnTo>
                        <a:pt x="389" y="821"/>
                      </a:lnTo>
                      <a:lnTo>
                        <a:pt x="419" y="852"/>
                      </a:lnTo>
                      <a:lnTo>
                        <a:pt x="477" y="953"/>
                      </a:lnTo>
                      <a:lnTo>
                        <a:pt x="424" y="843"/>
                      </a:lnTo>
                      <a:lnTo>
                        <a:pt x="397" y="799"/>
                      </a:lnTo>
                      <a:lnTo>
                        <a:pt x="406" y="799"/>
                      </a:lnTo>
                      <a:lnTo>
                        <a:pt x="437" y="821"/>
                      </a:lnTo>
                      <a:lnTo>
                        <a:pt x="494" y="878"/>
                      </a:lnTo>
                      <a:lnTo>
                        <a:pt x="702" y="918"/>
                      </a:lnTo>
                      <a:lnTo>
                        <a:pt x="490" y="869"/>
                      </a:lnTo>
                      <a:lnTo>
                        <a:pt x="424" y="803"/>
                      </a:lnTo>
                      <a:lnTo>
                        <a:pt x="406" y="755"/>
                      </a:lnTo>
                      <a:lnTo>
                        <a:pt x="437" y="755"/>
                      </a:lnTo>
                      <a:lnTo>
                        <a:pt x="406" y="706"/>
                      </a:lnTo>
                      <a:lnTo>
                        <a:pt x="446" y="715"/>
                      </a:lnTo>
                      <a:lnTo>
                        <a:pt x="587" y="812"/>
                      </a:lnTo>
                      <a:lnTo>
                        <a:pt x="446" y="710"/>
                      </a:lnTo>
                      <a:lnTo>
                        <a:pt x="415" y="652"/>
                      </a:lnTo>
                      <a:lnTo>
                        <a:pt x="450" y="670"/>
                      </a:lnTo>
                      <a:lnTo>
                        <a:pt x="424" y="621"/>
                      </a:lnTo>
                      <a:lnTo>
                        <a:pt x="459" y="652"/>
                      </a:lnTo>
                      <a:lnTo>
                        <a:pt x="437" y="582"/>
                      </a:lnTo>
                      <a:lnTo>
                        <a:pt x="464" y="617"/>
                      </a:lnTo>
                      <a:lnTo>
                        <a:pt x="596" y="768"/>
                      </a:lnTo>
                      <a:lnTo>
                        <a:pt x="459" y="617"/>
                      </a:lnTo>
                      <a:lnTo>
                        <a:pt x="428" y="529"/>
                      </a:lnTo>
                      <a:lnTo>
                        <a:pt x="464" y="546"/>
                      </a:lnTo>
                      <a:lnTo>
                        <a:pt x="675" y="635"/>
                      </a:lnTo>
                      <a:lnTo>
                        <a:pt x="464" y="542"/>
                      </a:lnTo>
                      <a:lnTo>
                        <a:pt x="441" y="467"/>
                      </a:lnTo>
                      <a:lnTo>
                        <a:pt x="468" y="480"/>
                      </a:lnTo>
                      <a:lnTo>
                        <a:pt x="446" y="436"/>
                      </a:lnTo>
                      <a:lnTo>
                        <a:pt x="477" y="454"/>
                      </a:lnTo>
                      <a:lnTo>
                        <a:pt x="574" y="665"/>
                      </a:lnTo>
                      <a:lnTo>
                        <a:pt x="468" y="432"/>
                      </a:lnTo>
                      <a:lnTo>
                        <a:pt x="468" y="374"/>
                      </a:lnTo>
                      <a:lnTo>
                        <a:pt x="503" y="401"/>
                      </a:lnTo>
                      <a:lnTo>
                        <a:pt x="561" y="520"/>
                      </a:lnTo>
                      <a:lnTo>
                        <a:pt x="486" y="366"/>
                      </a:lnTo>
                      <a:lnTo>
                        <a:pt x="477" y="317"/>
                      </a:lnTo>
                      <a:lnTo>
                        <a:pt x="503" y="339"/>
                      </a:lnTo>
                      <a:lnTo>
                        <a:pt x="578" y="436"/>
                      </a:lnTo>
                      <a:lnTo>
                        <a:pt x="759" y="489"/>
                      </a:lnTo>
                      <a:lnTo>
                        <a:pt x="574" y="427"/>
                      </a:lnTo>
                      <a:lnTo>
                        <a:pt x="508" y="326"/>
                      </a:lnTo>
                      <a:lnTo>
                        <a:pt x="494" y="260"/>
                      </a:lnTo>
                      <a:lnTo>
                        <a:pt x="530" y="291"/>
                      </a:lnTo>
                      <a:lnTo>
                        <a:pt x="512" y="229"/>
                      </a:lnTo>
                      <a:lnTo>
                        <a:pt x="631" y="392"/>
                      </a:lnTo>
                      <a:lnTo>
                        <a:pt x="516" y="220"/>
                      </a:lnTo>
                      <a:lnTo>
                        <a:pt x="508" y="171"/>
                      </a:lnTo>
                      <a:lnTo>
                        <a:pt x="543" y="211"/>
                      </a:lnTo>
                      <a:lnTo>
                        <a:pt x="538" y="136"/>
                      </a:lnTo>
                      <a:lnTo>
                        <a:pt x="583" y="171"/>
                      </a:lnTo>
                      <a:lnTo>
                        <a:pt x="750" y="299"/>
                      </a:lnTo>
                      <a:lnTo>
                        <a:pt x="583" y="167"/>
                      </a:lnTo>
                      <a:lnTo>
                        <a:pt x="561" y="92"/>
                      </a:lnTo>
                      <a:lnTo>
                        <a:pt x="587" y="114"/>
                      </a:lnTo>
                      <a:lnTo>
                        <a:pt x="574" y="57"/>
                      </a:lnTo>
                      <a:lnTo>
                        <a:pt x="600" y="74"/>
                      </a:lnTo>
                      <a:lnTo>
                        <a:pt x="605" y="30"/>
                      </a:lnTo>
                      <a:lnTo>
                        <a:pt x="600" y="13"/>
                      </a:lnTo>
                      <a:lnTo>
                        <a:pt x="587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935920" y="6318360"/>
                  <a:ext cx="71640" cy="279720"/>
                </a:xfrm>
                <a:custGeom>
                  <a:avLst/>
                  <a:gdLst/>
                  <a:ahLst/>
                  <a:rect l="0" t="0" r="r" b="b"/>
                  <a:pathLst>
                    <a:path w="199" h="777">
                      <a:moveTo>
                        <a:pt x="40" y="0"/>
                      </a:moveTo>
                      <a:lnTo>
                        <a:pt x="54" y="15"/>
                      </a:lnTo>
                      <a:lnTo>
                        <a:pt x="119" y="153"/>
                      </a:lnTo>
                      <a:lnTo>
                        <a:pt x="159" y="282"/>
                      </a:lnTo>
                      <a:lnTo>
                        <a:pt x="199" y="447"/>
                      </a:lnTo>
                      <a:lnTo>
                        <a:pt x="199" y="622"/>
                      </a:lnTo>
                      <a:lnTo>
                        <a:pt x="179" y="777"/>
                      </a:lnTo>
                      <a:lnTo>
                        <a:pt x="159" y="777"/>
                      </a:lnTo>
                      <a:lnTo>
                        <a:pt x="179" y="622"/>
                      </a:lnTo>
                      <a:lnTo>
                        <a:pt x="179" y="494"/>
                      </a:lnTo>
                      <a:lnTo>
                        <a:pt x="139" y="351"/>
                      </a:lnTo>
                      <a:lnTo>
                        <a:pt x="80" y="212"/>
                      </a:lnTo>
                      <a:lnTo>
                        <a:pt x="0" y="35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270920" y="5810400"/>
                  <a:ext cx="65520" cy="476640"/>
                </a:xfrm>
                <a:custGeom>
                  <a:avLst/>
                  <a:gdLst/>
                  <a:ahLst/>
                  <a:rect l="0" t="0" r="r" b="b"/>
                  <a:pathLst>
                    <a:path w="182" h="1324">
                      <a:moveTo>
                        <a:pt x="149" y="0"/>
                      </a:moveTo>
                      <a:lnTo>
                        <a:pt x="182" y="48"/>
                      </a:lnTo>
                      <a:lnTo>
                        <a:pt x="128" y="551"/>
                      </a:lnTo>
                      <a:lnTo>
                        <a:pt x="135" y="698"/>
                      </a:lnTo>
                      <a:lnTo>
                        <a:pt x="158" y="1324"/>
                      </a:lnTo>
                      <a:lnTo>
                        <a:pt x="51" y="824"/>
                      </a:lnTo>
                      <a:lnTo>
                        <a:pt x="26" y="679"/>
                      </a:lnTo>
                      <a:lnTo>
                        <a:pt x="7" y="564"/>
                      </a:lnTo>
                      <a:lnTo>
                        <a:pt x="0" y="451"/>
                      </a:lnTo>
                      <a:lnTo>
                        <a:pt x="21" y="336"/>
                      </a:lnTo>
                      <a:lnTo>
                        <a:pt x="46" y="190"/>
                      </a:lnTo>
                      <a:lnTo>
                        <a:pt x="149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670800" y="5662440"/>
                  <a:ext cx="397080" cy="671760"/>
                </a:xfrm>
                <a:custGeom>
                  <a:avLst/>
                  <a:gdLst/>
                  <a:ahLst/>
                  <a:rect l="0" t="0" r="r" b="b"/>
                  <a:pathLst>
                    <a:path w="1103" h="1866">
                      <a:moveTo>
                        <a:pt x="755" y="0"/>
                      </a:moveTo>
                      <a:lnTo>
                        <a:pt x="697" y="59"/>
                      </a:lnTo>
                      <a:lnTo>
                        <a:pt x="619" y="72"/>
                      </a:lnTo>
                      <a:lnTo>
                        <a:pt x="575" y="88"/>
                      </a:lnTo>
                      <a:lnTo>
                        <a:pt x="530" y="134"/>
                      </a:lnTo>
                      <a:lnTo>
                        <a:pt x="575" y="140"/>
                      </a:lnTo>
                      <a:lnTo>
                        <a:pt x="512" y="169"/>
                      </a:lnTo>
                      <a:lnTo>
                        <a:pt x="418" y="191"/>
                      </a:lnTo>
                      <a:lnTo>
                        <a:pt x="205" y="191"/>
                      </a:lnTo>
                      <a:lnTo>
                        <a:pt x="423" y="204"/>
                      </a:lnTo>
                      <a:lnTo>
                        <a:pt x="512" y="175"/>
                      </a:lnTo>
                      <a:lnTo>
                        <a:pt x="546" y="191"/>
                      </a:lnTo>
                      <a:lnTo>
                        <a:pt x="452" y="253"/>
                      </a:lnTo>
                      <a:lnTo>
                        <a:pt x="520" y="266"/>
                      </a:lnTo>
                      <a:lnTo>
                        <a:pt x="447" y="326"/>
                      </a:lnTo>
                      <a:lnTo>
                        <a:pt x="392" y="382"/>
                      </a:lnTo>
                      <a:lnTo>
                        <a:pt x="59" y="407"/>
                      </a:lnTo>
                      <a:lnTo>
                        <a:pt x="392" y="396"/>
                      </a:lnTo>
                      <a:lnTo>
                        <a:pt x="447" y="345"/>
                      </a:lnTo>
                      <a:lnTo>
                        <a:pt x="501" y="355"/>
                      </a:lnTo>
                      <a:lnTo>
                        <a:pt x="442" y="407"/>
                      </a:lnTo>
                      <a:lnTo>
                        <a:pt x="267" y="512"/>
                      </a:lnTo>
                      <a:lnTo>
                        <a:pt x="88" y="541"/>
                      </a:lnTo>
                      <a:lnTo>
                        <a:pt x="267" y="517"/>
                      </a:lnTo>
                      <a:lnTo>
                        <a:pt x="442" y="428"/>
                      </a:lnTo>
                      <a:lnTo>
                        <a:pt x="473" y="455"/>
                      </a:lnTo>
                      <a:lnTo>
                        <a:pt x="400" y="517"/>
                      </a:lnTo>
                      <a:lnTo>
                        <a:pt x="361" y="557"/>
                      </a:lnTo>
                      <a:lnTo>
                        <a:pt x="132" y="644"/>
                      </a:lnTo>
                      <a:lnTo>
                        <a:pt x="361" y="563"/>
                      </a:lnTo>
                      <a:lnTo>
                        <a:pt x="400" y="528"/>
                      </a:lnTo>
                      <a:lnTo>
                        <a:pt x="457" y="536"/>
                      </a:lnTo>
                      <a:lnTo>
                        <a:pt x="392" y="598"/>
                      </a:lnTo>
                      <a:lnTo>
                        <a:pt x="447" y="603"/>
                      </a:lnTo>
                      <a:lnTo>
                        <a:pt x="345" y="673"/>
                      </a:lnTo>
                      <a:lnTo>
                        <a:pt x="70" y="795"/>
                      </a:lnTo>
                      <a:lnTo>
                        <a:pt x="345" y="690"/>
                      </a:lnTo>
                      <a:lnTo>
                        <a:pt x="436" y="679"/>
                      </a:lnTo>
                      <a:lnTo>
                        <a:pt x="369" y="743"/>
                      </a:lnTo>
                      <a:lnTo>
                        <a:pt x="418" y="735"/>
                      </a:lnTo>
                      <a:lnTo>
                        <a:pt x="345" y="816"/>
                      </a:lnTo>
                      <a:lnTo>
                        <a:pt x="395" y="805"/>
                      </a:lnTo>
                      <a:lnTo>
                        <a:pt x="340" y="881"/>
                      </a:lnTo>
                      <a:lnTo>
                        <a:pt x="244" y="947"/>
                      </a:lnTo>
                      <a:lnTo>
                        <a:pt x="156" y="990"/>
                      </a:lnTo>
                      <a:lnTo>
                        <a:pt x="20" y="1003"/>
                      </a:lnTo>
                      <a:lnTo>
                        <a:pt x="148" y="1003"/>
                      </a:lnTo>
                      <a:lnTo>
                        <a:pt x="244" y="957"/>
                      </a:lnTo>
                      <a:lnTo>
                        <a:pt x="340" y="905"/>
                      </a:lnTo>
                      <a:lnTo>
                        <a:pt x="395" y="911"/>
                      </a:lnTo>
                      <a:lnTo>
                        <a:pt x="317" y="1003"/>
                      </a:lnTo>
                      <a:lnTo>
                        <a:pt x="379" y="1003"/>
                      </a:lnTo>
                      <a:lnTo>
                        <a:pt x="301" y="1068"/>
                      </a:lnTo>
                      <a:lnTo>
                        <a:pt x="0" y="1348"/>
                      </a:lnTo>
                      <a:lnTo>
                        <a:pt x="306" y="1076"/>
                      </a:lnTo>
                      <a:lnTo>
                        <a:pt x="358" y="1087"/>
                      </a:lnTo>
                      <a:lnTo>
                        <a:pt x="273" y="1157"/>
                      </a:lnTo>
                      <a:lnTo>
                        <a:pt x="327" y="1173"/>
                      </a:lnTo>
                      <a:lnTo>
                        <a:pt x="254" y="1238"/>
                      </a:lnTo>
                      <a:lnTo>
                        <a:pt x="312" y="1227"/>
                      </a:lnTo>
                      <a:lnTo>
                        <a:pt x="132" y="1453"/>
                      </a:lnTo>
                      <a:lnTo>
                        <a:pt x="317" y="1238"/>
                      </a:lnTo>
                      <a:lnTo>
                        <a:pt x="244" y="1305"/>
                      </a:lnTo>
                      <a:lnTo>
                        <a:pt x="296" y="1308"/>
                      </a:lnTo>
                      <a:lnTo>
                        <a:pt x="244" y="1381"/>
                      </a:lnTo>
                      <a:lnTo>
                        <a:pt x="288" y="1364"/>
                      </a:lnTo>
                      <a:lnTo>
                        <a:pt x="228" y="1451"/>
                      </a:lnTo>
                      <a:lnTo>
                        <a:pt x="288" y="1389"/>
                      </a:lnTo>
                      <a:lnTo>
                        <a:pt x="249" y="1494"/>
                      </a:lnTo>
                      <a:lnTo>
                        <a:pt x="205" y="1758"/>
                      </a:lnTo>
                      <a:lnTo>
                        <a:pt x="228" y="1866"/>
                      </a:lnTo>
                      <a:lnTo>
                        <a:pt x="210" y="1758"/>
                      </a:lnTo>
                      <a:lnTo>
                        <a:pt x="254" y="1499"/>
                      </a:lnTo>
                      <a:lnTo>
                        <a:pt x="301" y="1467"/>
                      </a:lnTo>
                      <a:lnTo>
                        <a:pt x="312" y="1545"/>
                      </a:lnTo>
                      <a:lnTo>
                        <a:pt x="345" y="1451"/>
                      </a:lnTo>
                      <a:lnTo>
                        <a:pt x="384" y="1480"/>
                      </a:lnTo>
                      <a:lnTo>
                        <a:pt x="509" y="1860"/>
                      </a:lnTo>
                      <a:lnTo>
                        <a:pt x="392" y="1453"/>
                      </a:lnTo>
                      <a:lnTo>
                        <a:pt x="392" y="1364"/>
                      </a:lnTo>
                      <a:lnTo>
                        <a:pt x="442" y="1416"/>
                      </a:lnTo>
                      <a:lnTo>
                        <a:pt x="442" y="1696"/>
                      </a:lnTo>
                      <a:lnTo>
                        <a:pt x="442" y="1394"/>
                      </a:lnTo>
                      <a:lnTo>
                        <a:pt x="413" y="1265"/>
                      </a:lnTo>
                      <a:lnTo>
                        <a:pt x="462" y="1332"/>
                      </a:lnTo>
                      <a:lnTo>
                        <a:pt x="546" y="1545"/>
                      </a:lnTo>
                      <a:lnTo>
                        <a:pt x="882" y="1860"/>
                      </a:lnTo>
                      <a:lnTo>
                        <a:pt x="552" y="1529"/>
                      </a:lnTo>
                      <a:lnTo>
                        <a:pt x="462" y="1313"/>
                      </a:lnTo>
                      <a:lnTo>
                        <a:pt x="452" y="1184"/>
                      </a:lnTo>
                      <a:lnTo>
                        <a:pt x="496" y="1249"/>
                      </a:lnTo>
                      <a:lnTo>
                        <a:pt x="473" y="1098"/>
                      </a:lnTo>
                      <a:lnTo>
                        <a:pt x="512" y="1157"/>
                      </a:lnTo>
                      <a:lnTo>
                        <a:pt x="552" y="1294"/>
                      </a:lnTo>
                      <a:lnTo>
                        <a:pt x="755" y="1766"/>
                      </a:lnTo>
                      <a:lnTo>
                        <a:pt x="560" y="1289"/>
                      </a:lnTo>
                      <a:lnTo>
                        <a:pt x="512" y="1157"/>
                      </a:lnTo>
                      <a:lnTo>
                        <a:pt x="501" y="990"/>
                      </a:lnTo>
                      <a:lnTo>
                        <a:pt x="535" y="1036"/>
                      </a:lnTo>
                      <a:lnTo>
                        <a:pt x="525" y="927"/>
                      </a:lnTo>
                      <a:lnTo>
                        <a:pt x="562" y="957"/>
                      </a:lnTo>
                      <a:lnTo>
                        <a:pt x="786" y="1615"/>
                      </a:lnTo>
                      <a:lnTo>
                        <a:pt x="575" y="941"/>
                      </a:lnTo>
                      <a:lnTo>
                        <a:pt x="560" y="808"/>
                      </a:lnTo>
                      <a:lnTo>
                        <a:pt x="601" y="841"/>
                      </a:lnTo>
                      <a:lnTo>
                        <a:pt x="669" y="1348"/>
                      </a:lnTo>
                      <a:lnTo>
                        <a:pt x="614" y="824"/>
                      </a:lnTo>
                      <a:lnTo>
                        <a:pt x="570" y="717"/>
                      </a:lnTo>
                      <a:lnTo>
                        <a:pt x="570" y="684"/>
                      </a:lnTo>
                      <a:lnTo>
                        <a:pt x="606" y="754"/>
                      </a:lnTo>
                      <a:lnTo>
                        <a:pt x="586" y="611"/>
                      </a:lnTo>
                      <a:lnTo>
                        <a:pt x="596" y="574"/>
                      </a:lnTo>
                      <a:lnTo>
                        <a:pt x="619" y="652"/>
                      </a:lnTo>
                      <a:lnTo>
                        <a:pt x="619" y="517"/>
                      </a:lnTo>
                      <a:lnTo>
                        <a:pt x="658" y="541"/>
                      </a:lnTo>
                      <a:lnTo>
                        <a:pt x="726" y="749"/>
                      </a:lnTo>
                      <a:lnTo>
                        <a:pt x="939" y="1030"/>
                      </a:lnTo>
                      <a:lnTo>
                        <a:pt x="1009" y="1227"/>
                      </a:lnTo>
                      <a:lnTo>
                        <a:pt x="939" y="1017"/>
                      </a:lnTo>
                      <a:lnTo>
                        <a:pt x="731" y="735"/>
                      </a:lnTo>
                      <a:lnTo>
                        <a:pt x="664" y="533"/>
                      </a:lnTo>
                      <a:lnTo>
                        <a:pt x="643" y="407"/>
                      </a:lnTo>
                      <a:lnTo>
                        <a:pt x="687" y="452"/>
                      </a:lnTo>
                      <a:lnTo>
                        <a:pt x="669" y="331"/>
                      </a:lnTo>
                      <a:lnTo>
                        <a:pt x="710" y="407"/>
                      </a:lnTo>
                      <a:lnTo>
                        <a:pt x="742" y="504"/>
                      </a:lnTo>
                      <a:lnTo>
                        <a:pt x="1103" y="784"/>
                      </a:lnTo>
                      <a:lnTo>
                        <a:pt x="755" y="504"/>
                      </a:lnTo>
                      <a:lnTo>
                        <a:pt x="716" y="404"/>
                      </a:lnTo>
                      <a:lnTo>
                        <a:pt x="721" y="237"/>
                      </a:lnTo>
                      <a:lnTo>
                        <a:pt x="742" y="280"/>
                      </a:lnTo>
                      <a:lnTo>
                        <a:pt x="786" y="407"/>
                      </a:lnTo>
                      <a:lnTo>
                        <a:pt x="1028" y="695"/>
                      </a:lnTo>
                      <a:lnTo>
                        <a:pt x="786" y="390"/>
                      </a:lnTo>
                      <a:lnTo>
                        <a:pt x="749" y="266"/>
                      </a:lnTo>
                      <a:lnTo>
                        <a:pt x="736" y="153"/>
                      </a:lnTo>
                      <a:lnTo>
                        <a:pt x="794" y="215"/>
                      </a:lnTo>
                      <a:lnTo>
                        <a:pt x="775" y="145"/>
                      </a:lnTo>
                      <a:lnTo>
                        <a:pt x="765" y="105"/>
                      </a:lnTo>
                      <a:lnTo>
                        <a:pt x="749" y="70"/>
                      </a:lnTo>
                      <a:lnTo>
                        <a:pt x="721" y="59"/>
                      </a:lnTo>
                      <a:lnTo>
                        <a:pt x="755" y="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24680" y="5773680"/>
                  <a:ext cx="189360" cy="465480"/>
                </a:xfrm>
                <a:custGeom>
                  <a:avLst/>
                  <a:gdLst/>
                  <a:ahLst/>
                  <a:rect l="0" t="0" r="r" b="b"/>
                  <a:pathLst>
                    <a:path w="526" h="1293">
                      <a:moveTo>
                        <a:pt x="517" y="136"/>
                      </a:moveTo>
                      <a:lnTo>
                        <a:pt x="331" y="0"/>
                      </a:lnTo>
                      <a:lnTo>
                        <a:pt x="274" y="4"/>
                      </a:lnTo>
                      <a:lnTo>
                        <a:pt x="225" y="17"/>
                      </a:lnTo>
                      <a:lnTo>
                        <a:pt x="186" y="70"/>
                      </a:lnTo>
                      <a:lnTo>
                        <a:pt x="88" y="242"/>
                      </a:lnTo>
                      <a:lnTo>
                        <a:pt x="57" y="313"/>
                      </a:lnTo>
                      <a:lnTo>
                        <a:pt x="30" y="383"/>
                      </a:lnTo>
                      <a:lnTo>
                        <a:pt x="8" y="608"/>
                      </a:lnTo>
                      <a:lnTo>
                        <a:pt x="0" y="675"/>
                      </a:lnTo>
                      <a:lnTo>
                        <a:pt x="8" y="759"/>
                      </a:lnTo>
                      <a:lnTo>
                        <a:pt x="22" y="847"/>
                      </a:lnTo>
                      <a:lnTo>
                        <a:pt x="61" y="988"/>
                      </a:lnTo>
                      <a:lnTo>
                        <a:pt x="97" y="1076"/>
                      </a:lnTo>
                      <a:lnTo>
                        <a:pt x="146" y="1173"/>
                      </a:lnTo>
                      <a:lnTo>
                        <a:pt x="243" y="1293"/>
                      </a:lnTo>
                      <a:lnTo>
                        <a:pt x="195" y="1143"/>
                      </a:lnTo>
                      <a:lnTo>
                        <a:pt x="155" y="1002"/>
                      </a:lnTo>
                      <a:lnTo>
                        <a:pt x="127" y="878"/>
                      </a:lnTo>
                      <a:lnTo>
                        <a:pt x="137" y="759"/>
                      </a:lnTo>
                      <a:lnTo>
                        <a:pt x="146" y="675"/>
                      </a:lnTo>
                      <a:lnTo>
                        <a:pt x="127" y="573"/>
                      </a:lnTo>
                      <a:lnTo>
                        <a:pt x="119" y="485"/>
                      </a:lnTo>
                      <a:lnTo>
                        <a:pt x="159" y="313"/>
                      </a:lnTo>
                      <a:lnTo>
                        <a:pt x="168" y="224"/>
                      </a:lnTo>
                      <a:lnTo>
                        <a:pt x="203" y="149"/>
                      </a:lnTo>
                      <a:lnTo>
                        <a:pt x="274" y="57"/>
                      </a:lnTo>
                      <a:lnTo>
                        <a:pt x="349" y="57"/>
                      </a:lnTo>
                      <a:lnTo>
                        <a:pt x="526" y="180"/>
                      </a:lnTo>
                      <a:lnTo>
                        <a:pt x="517" y="136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453440" y="5551560"/>
                  <a:ext cx="343440" cy="501840"/>
                </a:xfrm>
                <a:custGeom>
                  <a:avLst/>
                  <a:gdLst/>
                  <a:ahLst/>
                  <a:rect l="0" t="0" r="r" b="b"/>
                  <a:pathLst>
                    <a:path w="954" h="1394">
                      <a:moveTo>
                        <a:pt x="672" y="1394"/>
                      </a:moveTo>
                      <a:lnTo>
                        <a:pt x="742" y="1154"/>
                      </a:lnTo>
                      <a:lnTo>
                        <a:pt x="771" y="1054"/>
                      </a:lnTo>
                      <a:lnTo>
                        <a:pt x="835" y="928"/>
                      </a:lnTo>
                      <a:lnTo>
                        <a:pt x="905" y="806"/>
                      </a:lnTo>
                      <a:lnTo>
                        <a:pt x="944" y="736"/>
                      </a:lnTo>
                      <a:lnTo>
                        <a:pt x="954" y="665"/>
                      </a:lnTo>
                      <a:lnTo>
                        <a:pt x="933" y="557"/>
                      </a:lnTo>
                      <a:lnTo>
                        <a:pt x="923" y="452"/>
                      </a:lnTo>
                      <a:lnTo>
                        <a:pt x="817" y="191"/>
                      </a:lnTo>
                      <a:lnTo>
                        <a:pt x="771" y="126"/>
                      </a:lnTo>
                      <a:lnTo>
                        <a:pt x="685" y="56"/>
                      </a:lnTo>
                      <a:lnTo>
                        <a:pt x="605" y="13"/>
                      </a:lnTo>
                      <a:lnTo>
                        <a:pt x="512" y="0"/>
                      </a:lnTo>
                      <a:lnTo>
                        <a:pt x="434" y="29"/>
                      </a:lnTo>
                      <a:lnTo>
                        <a:pt x="339" y="56"/>
                      </a:lnTo>
                      <a:lnTo>
                        <a:pt x="241" y="142"/>
                      </a:lnTo>
                      <a:lnTo>
                        <a:pt x="201" y="196"/>
                      </a:lnTo>
                      <a:lnTo>
                        <a:pt x="144" y="283"/>
                      </a:lnTo>
                      <a:lnTo>
                        <a:pt x="95" y="355"/>
                      </a:lnTo>
                      <a:lnTo>
                        <a:pt x="10" y="723"/>
                      </a:lnTo>
                      <a:lnTo>
                        <a:pt x="0" y="793"/>
                      </a:lnTo>
                      <a:lnTo>
                        <a:pt x="20" y="912"/>
                      </a:lnTo>
                      <a:lnTo>
                        <a:pt x="69" y="1257"/>
                      </a:lnTo>
                      <a:lnTo>
                        <a:pt x="67" y="920"/>
                      </a:lnTo>
                      <a:lnTo>
                        <a:pt x="95" y="771"/>
                      </a:lnTo>
                      <a:lnTo>
                        <a:pt x="116" y="679"/>
                      </a:lnTo>
                      <a:lnTo>
                        <a:pt x="154" y="557"/>
                      </a:lnTo>
                      <a:lnTo>
                        <a:pt x="191" y="439"/>
                      </a:lnTo>
                      <a:lnTo>
                        <a:pt x="251" y="318"/>
                      </a:lnTo>
                      <a:lnTo>
                        <a:pt x="318" y="212"/>
                      </a:lnTo>
                      <a:lnTo>
                        <a:pt x="375" y="113"/>
                      </a:lnTo>
                      <a:lnTo>
                        <a:pt x="434" y="56"/>
                      </a:lnTo>
                      <a:lnTo>
                        <a:pt x="501" y="35"/>
                      </a:lnTo>
                      <a:lnTo>
                        <a:pt x="568" y="56"/>
                      </a:lnTo>
                      <a:lnTo>
                        <a:pt x="615" y="105"/>
                      </a:lnTo>
                      <a:lnTo>
                        <a:pt x="646" y="196"/>
                      </a:lnTo>
                      <a:lnTo>
                        <a:pt x="646" y="269"/>
                      </a:lnTo>
                      <a:lnTo>
                        <a:pt x="664" y="396"/>
                      </a:lnTo>
                      <a:lnTo>
                        <a:pt x="692" y="474"/>
                      </a:lnTo>
                      <a:lnTo>
                        <a:pt x="760" y="601"/>
                      </a:lnTo>
                      <a:lnTo>
                        <a:pt x="771" y="665"/>
                      </a:lnTo>
                      <a:lnTo>
                        <a:pt x="781" y="728"/>
                      </a:lnTo>
                      <a:lnTo>
                        <a:pt x="781" y="823"/>
                      </a:lnTo>
                      <a:lnTo>
                        <a:pt x="664" y="1133"/>
                      </a:lnTo>
                      <a:lnTo>
                        <a:pt x="672" y="1394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128000" y="6122880"/>
                  <a:ext cx="284400" cy="456120"/>
                </a:xfrm>
                <a:custGeom>
                  <a:avLst/>
                  <a:gdLst/>
                  <a:ahLst/>
                  <a:rect l="0" t="0" r="r" b="b"/>
                  <a:pathLst>
                    <a:path w="790" h="1267">
                      <a:moveTo>
                        <a:pt x="773" y="202"/>
                      </a:moveTo>
                      <a:lnTo>
                        <a:pt x="607" y="0"/>
                      </a:lnTo>
                      <a:lnTo>
                        <a:pt x="504" y="5"/>
                      </a:lnTo>
                      <a:lnTo>
                        <a:pt x="414" y="17"/>
                      </a:lnTo>
                      <a:lnTo>
                        <a:pt x="341" y="71"/>
                      </a:lnTo>
                      <a:lnTo>
                        <a:pt x="162" y="235"/>
                      </a:lnTo>
                      <a:lnTo>
                        <a:pt x="103" y="307"/>
                      </a:lnTo>
                      <a:lnTo>
                        <a:pt x="58" y="378"/>
                      </a:lnTo>
                      <a:lnTo>
                        <a:pt x="17" y="595"/>
                      </a:lnTo>
                      <a:lnTo>
                        <a:pt x="0" y="660"/>
                      </a:lnTo>
                      <a:lnTo>
                        <a:pt x="17" y="743"/>
                      </a:lnTo>
                      <a:lnTo>
                        <a:pt x="44" y="831"/>
                      </a:lnTo>
                      <a:lnTo>
                        <a:pt x="117" y="968"/>
                      </a:lnTo>
                      <a:lnTo>
                        <a:pt x="175" y="1055"/>
                      </a:lnTo>
                      <a:lnTo>
                        <a:pt x="265" y="1150"/>
                      </a:lnTo>
                      <a:lnTo>
                        <a:pt x="445" y="1267"/>
                      </a:lnTo>
                      <a:lnTo>
                        <a:pt x="355" y="1119"/>
                      </a:lnTo>
                      <a:lnTo>
                        <a:pt x="279" y="985"/>
                      </a:lnTo>
                      <a:lnTo>
                        <a:pt x="234" y="860"/>
                      </a:lnTo>
                      <a:lnTo>
                        <a:pt x="251" y="743"/>
                      </a:lnTo>
                      <a:lnTo>
                        <a:pt x="265" y="660"/>
                      </a:lnTo>
                      <a:lnTo>
                        <a:pt x="234" y="558"/>
                      </a:lnTo>
                      <a:lnTo>
                        <a:pt x="220" y="473"/>
                      </a:lnTo>
                      <a:lnTo>
                        <a:pt x="296" y="307"/>
                      </a:lnTo>
                      <a:lnTo>
                        <a:pt x="310" y="217"/>
                      </a:lnTo>
                      <a:lnTo>
                        <a:pt x="372" y="147"/>
                      </a:lnTo>
                      <a:lnTo>
                        <a:pt x="504" y="54"/>
                      </a:lnTo>
                      <a:lnTo>
                        <a:pt x="566" y="126"/>
                      </a:lnTo>
                      <a:lnTo>
                        <a:pt x="790" y="243"/>
                      </a:lnTo>
                      <a:lnTo>
                        <a:pt x="773" y="202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464600" y="6275520"/>
                  <a:ext cx="289440" cy="308160"/>
                </a:xfrm>
                <a:custGeom>
                  <a:avLst/>
                  <a:gdLst/>
                  <a:ahLst/>
                  <a:rect l="0" t="0" r="r" b="b"/>
                  <a:pathLst>
                    <a:path w="804" h="856">
                      <a:moveTo>
                        <a:pt x="17" y="136"/>
                      </a:moveTo>
                      <a:lnTo>
                        <a:pt x="185" y="0"/>
                      </a:lnTo>
                      <a:lnTo>
                        <a:pt x="291" y="3"/>
                      </a:lnTo>
                      <a:lnTo>
                        <a:pt x="383" y="11"/>
                      </a:lnTo>
                      <a:lnTo>
                        <a:pt x="456" y="48"/>
                      </a:lnTo>
                      <a:lnTo>
                        <a:pt x="639" y="159"/>
                      </a:lnTo>
                      <a:lnTo>
                        <a:pt x="699" y="207"/>
                      </a:lnTo>
                      <a:lnTo>
                        <a:pt x="744" y="254"/>
                      </a:lnTo>
                      <a:lnTo>
                        <a:pt x="787" y="402"/>
                      </a:lnTo>
                      <a:lnTo>
                        <a:pt x="804" y="446"/>
                      </a:lnTo>
                      <a:lnTo>
                        <a:pt x="787" y="502"/>
                      </a:lnTo>
                      <a:lnTo>
                        <a:pt x="759" y="562"/>
                      </a:lnTo>
                      <a:lnTo>
                        <a:pt x="685" y="654"/>
                      </a:lnTo>
                      <a:lnTo>
                        <a:pt x="625" y="713"/>
                      </a:lnTo>
                      <a:lnTo>
                        <a:pt x="533" y="777"/>
                      </a:lnTo>
                      <a:lnTo>
                        <a:pt x="351" y="856"/>
                      </a:lnTo>
                      <a:lnTo>
                        <a:pt x="442" y="756"/>
                      </a:lnTo>
                      <a:lnTo>
                        <a:pt x="519" y="665"/>
                      </a:lnTo>
                      <a:lnTo>
                        <a:pt x="565" y="581"/>
                      </a:lnTo>
                      <a:lnTo>
                        <a:pt x="547" y="502"/>
                      </a:lnTo>
                      <a:lnTo>
                        <a:pt x="533" y="446"/>
                      </a:lnTo>
                      <a:lnTo>
                        <a:pt x="565" y="377"/>
                      </a:lnTo>
                      <a:lnTo>
                        <a:pt x="579" y="319"/>
                      </a:lnTo>
                      <a:lnTo>
                        <a:pt x="502" y="207"/>
                      </a:lnTo>
                      <a:lnTo>
                        <a:pt x="488" y="147"/>
                      </a:lnTo>
                      <a:lnTo>
                        <a:pt x="425" y="99"/>
                      </a:lnTo>
                      <a:lnTo>
                        <a:pt x="291" y="36"/>
                      </a:lnTo>
                      <a:lnTo>
                        <a:pt x="228" y="85"/>
                      </a:lnTo>
                      <a:lnTo>
                        <a:pt x="0" y="164"/>
                      </a:lnTo>
                      <a:lnTo>
                        <a:pt x="17" y="136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121600" y="4973760"/>
                  <a:ext cx="554400" cy="702000"/>
                </a:xfrm>
                <a:custGeom>
                  <a:avLst/>
                  <a:gdLst/>
                  <a:ahLst/>
                  <a:rect l="0" t="0" r="r" b="b"/>
                  <a:pathLst>
                    <a:path w="1540" h="1950">
                      <a:moveTo>
                        <a:pt x="1431" y="150"/>
                      </a:moveTo>
                      <a:lnTo>
                        <a:pt x="1452" y="44"/>
                      </a:lnTo>
                      <a:lnTo>
                        <a:pt x="1540" y="37"/>
                      </a:lnTo>
                      <a:lnTo>
                        <a:pt x="1441" y="0"/>
                      </a:lnTo>
                      <a:lnTo>
                        <a:pt x="1399" y="2"/>
                      </a:lnTo>
                      <a:lnTo>
                        <a:pt x="1332" y="17"/>
                      </a:lnTo>
                      <a:lnTo>
                        <a:pt x="1328" y="49"/>
                      </a:lnTo>
                      <a:lnTo>
                        <a:pt x="1268" y="69"/>
                      </a:lnTo>
                      <a:lnTo>
                        <a:pt x="751" y="348"/>
                      </a:lnTo>
                      <a:lnTo>
                        <a:pt x="42" y="427"/>
                      </a:lnTo>
                      <a:lnTo>
                        <a:pt x="740" y="345"/>
                      </a:lnTo>
                      <a:lnTo>
                        <a:pt x="1133" y="172"/>
                      </a:lnTo>
                      <a:lnTo>
                        <a:pt x="1268" y="148"/>
                      </a:lnTo>
                      <a:lnTo>
                        <a:pt x="1147" y="222"/>
                      </a:lnTo>
                      <a:lnTo>
                        <a:pt x="1268" y="227"/>
                      </a:lnTo>
                      <a:lnTo>
                        <a:pt x="613" y="528"/>
                      </a:lnTo>
                      <a:lnTo>
                        <a:pt x="1058" y="338"/>
                      </a:lnTo>
                      <a:lnTo>
                        <a:pt x="1275" y="284"/>
                      </a:lnTo>
                      <a:lnTo>
                        <a:pt x="1268" y="326"/>
                      </a:lnTo>
                      <a:lnTo>
                        <a:pt x="1190" y="385"/>
                      </a:lnTo>
                      <a:lnTo>
                        <a:pt x="1133" y="437"/>
                      </a:lnTo>
                      <a:lnTo>
                        <a:pt x="981" y="553"/>
                      </a:lnTo>
                      <a:lnTo>
                        <a:pt x="697" y="758"/>
                      </a:lnTo>
                      <a:lnTo>
                        <a:pt x="336" y="996"/>
                      </a:lnTo>
                      <a:lnTo>
                        <a:pt x="49" y="1164"/>
                      </a:lnTo>
                      <a:lnTo>
                        <a:pt x="360" y="960"/>
                      </a:lnTo>
                      <a:lnTo>
                        <a:pt x="545" y="837"/>
                      </a:lnTo>
                      <a:lnTo>
                        <a:pt x="782" y="684"/>
                      </a:lnTo>
                      <a:lnTo>
                        <a:pt x="906" y="587"/>
                      </a:lnTo>
                      <a:lnTo>
                        <a:pt x="1111" y="469"/>
                      </a:lnTo>
                      <a:lnTo>
                        <a:pt x="1190" y="417"/>
                      </a:lnTo>
                      <a:lnTo>
                        <a:pt x="1268" y="368"/>
                      </a:lnTo>
                      <a:lnTo>
                        <a:pt x="1226" y="373"/>
                      </a:lnTo>
                      <a:lnTo>
                        <a:pt x="1293" y="402"/>
                      </a:lnTo>
                      <a:lnTo>
                        <a:pt x="1219" y="437"/>
                      </a:lnTo>
                      <a:lnTo>
                        <a:pt x="1111" y="536"/>
                      </a:lnTo>
                      <a:lnTo>
                        <a:pt x="991" y="642"/>
                      </a:lnTo>
                      <a:lnTo>
                        <a:pt x="853" y="723"/>
                      </a:lnTo>
                      <a:lnTo>
                        <a:pt x="1087" y="553"/>
                      </a:lnTo>
                      <a:lnTo>
                        <a:pt x="1190" y="469"/>
                      </a:lnTo>
                      <a:lnTo>
                        <a:pt x="1268" y="402"/>
                      </a:lnTo>
                      <a:lnTo>
                        <a:pt x="1293" y="402"/>
                      </a:lnTo>
                      <a:lnTo>
                        <a:pt x="1236" y="501"/>
                      </a:lnTo>
                      <a:lnTo>
                        <a:pt x="1307" y="476"/>
                      </a:lnTo>
                      <a:lnTo>
                        <a:pt x="1268" y="536"/>
                      </a:lnTo>
                      <a:lnTo>
                        <a:pt x="1190" y="605"/>
                      </a:lnTo>
                      <a:lnTo>
                        <a:pt x="1037" y="706"/>
                      </a:lnTo>
                      <a:lnTo>
                        <a:pt x="853" y="775"/>
                      </a:lnTo>
                      <a:lnTo>
                        <a:pt x="697" y="859"/>
                      </a:lnTo>
                      <a:lnTo>
                        <a:pt x="567" y="928"/>
                      </a:lnTo>
                      <a:lnTo>
                        <a:pt x="644" y="894"/>
                      </a:lnTo>
                      <a:lnTo>
                        <a:pt x="899" y="770"/>
                      </a:lnTo>
                      <a:lnTo>
                        <a:pt x="1190" y="622"/>
                      </a:lnTo>
                      <a:lnTo>
                        <a:pt x="1240" y="587"/>
                      </a:lnTo>
                      <a:lnTo>
                        <a:pt x="1293" y="536"/>
                      </a:lnTo>
                      <a:lnTo>
                        <a:pt x="1229" y="649"/>
                      </a:lnTo>
                      <a:lnTo>
                        <a:pt x="1339" y="607"/>
                      </a:lnTo>
                      <a:lnTo>
                        <a:pt x="1240" y="758"/>
                      </a:lnTo>
                      <a:lnTo>
                        <a:pt x="1219" y="790"/>
                      </a:lnTo>
                      <a:lnTo>
                        <a:pt x="1187" y="810"/>
                      </a:lnTo>
                      <a:lnTo>
                        <a:pt x="1055" y="891"/>
                      </a:lnTo>
                      <a:lnTo>
                        <a:pt x="910" y="965"/>
                      </a:lnTo>
                      <a:lnTo>
                        <a:pt x="641" y="1097"/>
                      </a:lnTo>
                      <a:lnTo>
                        <a:pt x="386" y="1216"/>
                      </a:lnTo>
                      <a:lnTo>
                        <a:pt x="0" y="1386"/>
                      </a:lnTo>
                      <a:lnTo>
                        <a:pt x="464" y="1164"/>
                      </a:lnTo>
                      <a:lnTo>
                        <a:pt x="931" y="943"/>
                      </a:lnTo>
                      <a:lnTo>
                        <a:pt x="1111" y="859"/>
                      </a:lnTo>
                      <a:lnTo>
                        <a:pt x="1226" y="768"/>
                      </a:lnTo>
                      <a:lnTo>
                        <a:pt x="1318" y="728"/>
                      </a:lnTo>
                      <a:lnTo>
                        <a:pt x="1335" y="733"/>
                      </a:lnTo>
                      <a:lnTo>
                        <a:pt x="797" y="1120"/>
                      </a:lnTo>
                      <a:lnTo>
                        <a:pt x="1211" y="854"/>
                      </a:lnTo>
                      <a:lnTo>
                        <a:pt x="1311" y="844"/>
                      </a:lnTo>
                      <a:lnTo>
                        <a:pt x="1194" y="989"/>
                      </a:lnTo>
                      <a:lnTo>
                        <a:pt x="1296" y="956"/>
                      </a:lnTo>
                      <a:lnTo>
                        <a:pt x="1136" y="1115"/>
                      </a:lnTo>
                      <a:lnTo>
                        <a:pt x="1037" y="1216"/>
                      </a:lnTo>
                      <a:lnTo>
                        <a:pt x="853" y="1300"/>
                      </a:lnTo>
                      <a:lnTo>
                        <a:pt x="595" y="1401"/>
                      </a:lnTo>
                      <a:lnTo>
                        <a:pt x="360" y="1502"/>
                      </a:lnTo>
                      <a:lnTo>
                        <a:pt x="180" y="1572"/>
                      </a:lnTo>
                      <a:lnTo>
                        <a:pt x="49" y="1606"/>
                      </a:lnTo>
                      <a:lnTo>
                        <a:pt x="804" y="1334"/>
                      </a:lnTo>
                      <a:lnTo>
                        <a:pt x="977" y="1255"/>
                      </a:lnTo>
                      <a:lnTo>
                        <a:pt x="1058" y="1199"/>
                      </a:lnTo>
                      <a:lnTo>
                        <a:pt x="1180" y="1097"/>
                      </a:lnTo>
                      <a:lnTo>
                        <a:pt x="1293" y="1001"/>
                      </a:lnTo>
                      <a:lnTo>
                        <a:pt x="1173" y="1139"/>
                      </a:lnTo>
                      <a:lnTo>
                        <a:pt x="1268" y="1090"/>
                      </a:lnTo>
                      <a:lnTo>
                        <a:pt x="1169" y="1204"/>
                      </a:lnTo>
                      <a:lnTo>
                        <a:pt x="1254" y="1179"/>
                      </a:lnTo>
                      <a:lnTo>
                        <a:pt x="1154" y="1312"/>
                      </a:lnTo>
                      <a:lnTo>
                        <a:pt x="1268" y="1265"/>
                      </a:lnTo>
                      <a:lnTo>
                        <a:pt x="1165" y="1334"/>
                      </a:lnTo>
                      <a:lnTo>
                        <a:pt x="1037" y="1436"/>
                      </a:lnTo>
                      <a:lnTo>
                        <a:pt x="931" y="1465"/>
                      </a:lnTo>
                      <a:lnTo>
                        <a:pt x="609" y="1589"/>
                      </a:lnTo>
                      <a:lnTo>
                        <a:pt x="311" y="1658"/>
                      </a:lnTo>
                      <a:lnTo>
                        <a:pt x="637" y="1577"/>
                      </a:lnTo>
                      <a:lnTo>
                        <a:pt x="906" y="1470"/>
                      </a:lnTo>
                      <a:lnTo>
                        <a:pt x="1165" y="1369"/>
                      </a:lnTo>
                      <a:lnTo>
                        <a:pt x="1240" y="1320"/>
                      </a:lnTo>
                      <a:lnTo>
                        <a:pt x="1136" y="1421"/>
                      </a:lnTo>
                      <a:lnTo>
                        <a:pt x="1219" y="1401"/>
                      </a:lnTo>
                      <a:lnTo>
                        <a:pt x="1169" y="1453"/>
                      </a:lnTo>
                      <a:lnTo>
                        <a:pt x="1140" y="1522"/>
                      </a:lnTo>
                      <a:lnTo>
                        <a:pt x="1190" y="1502"/>
                      </a:lnTo>
                      <a:lnTo>
                        <a:pt x="1126" y="1562"/>
                      </a:lnTo>
                      <a:lnTo>
                        <a:pt x="931" y="1658"/>
                      </a:lnTo>
                      <a:lnTo>
                        <a:pt x="804" y="1673"/>
                      </a:lnTo>
                      <a:lnTo>
                        <a:pt x="644" y="1690"/>
                      </a:lnTo>
                      <a:lnTo>
                        <a:pt x="956" y="1641"/>
                      </a:lnTo>
                      <a:lnTo>
                        <a:pt x="1165" y="1554"/>
                      </a:lnTo>
                      <a:lnTo>
                        <a:pt x="1219" y="1488"/>
                      </a:lnTo>
                      <a:lnTo>
                        <a:pt x="1136" y="1633"/>
                      </a:lnTo>
                      <a:lnTo>
                        <a:pt x="1226" y="1596"/>
                      </a:lnTo>
                      <a:lnTo>
                        <a:pt x="1173" y="1675"/>
                      </a:lnTo>
                      <a:lnTo>
                        <a:pt x="1087" y="1784"/>
                      </a:lnTo>
                      <a:lnTo>
                        <a:pt x="567" y="1950"/>
                      </a:lnTo>
                      <a:lnTo>
                        <a:pt x="1090" y="1796"/>
                      </a:lnTo>
                      <a:lnTo>
                        <a:pt x="1140" y="1742"/>
                      </a:lnTo>
                      <a:lnTo>
                        <a:pt x="1173" y="1708"/>
                      </a:lnTo>
                      <a:lnTo>
                        <a:pt x="1261" y="1666"/>
                      </a:lnTo>
                      <a:lnTo>
                        <a:pt x="1318" y="1745"/>
                      </a:lnTo>
                      <a:lnTo>
                        <a:pt x="1339" y="1596"/>
                      </a:lnTo>
                      <a:lnTo>
                        <a:pt x="1431" y="150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62640" y="5738760"/>
                  <a:ext cx="489240" cy="519480"/>
                </a:xfrm>
                <a:custGeom>
                  <a:avLst/>
                  <a:gdLst/>
                  <a:ahLst/>
                  <a:rect l="0" t="0" r="r" b="b"/>
                  <a:pathLst>
                    <a:path w="1359" h="1443">
                      <a:moveTo>
                        <a:pt x="766" y="19"/>
                      </a:moveTo>
                      <a:lnTo>
                        <a:pt x="677" y="0"/>
                      </a:lnTo>
                      <a:lnTo>
                        <a:pt x="620" y="39"/>
                      </a:lnTo>
                      <a:lnTo>
                        <a:pt x="560" y="51"/>
                      </a:lnTo>
                      <a:lnTo>
                        <a:pt x="425" y="63"/>
                      </a:lnTo>
                      <a:lnTo>
                        <a:pt x="95" y="63"/>
                      </a:lnTo>
                      <a:lnTo>
                        <a:pt x="425" y="73"/>
                      </a:lnTo>
                      <a:lnTo>
                        <a:pt x="521" y="51"/>
                      </a:lnTo>
                      <a:lnTo>
                        <a:pt x="581" y="63"/>
                      </a:lnTo>
                      <a:lnTo>
                        <a:pt x="503" y="88"/>
                      </a:lnTo>
                      <a:lnTo>
                        <a:pt x="560" y="88"/>
                      </a:lnTo>
                      <a:lnTo>
                        <a:pt x="503" y="127"/>
                      </a:lnTo>
                      <a:lnTo>
                        <a:pt x="74" y="342"/>
                      </a:lnTo>
                      <a:lnTo>
                        <a:pt x="521" y="127"/>
                      </a:lnTo>
                      <a:lnTo>
                        <a:pt x="503" y="152"/>
                      </a:lnTo>
                      <a:lnTo>
                        <a:pt x="443" y="191"/>
                      </a:lnTo>
                      <a:lnTo>
                        <a:pt x="386" y="204"/>
                      </a:lnTo>
                      <a:lnTo>
                        <a:pt x="269" y="216"/>
                      </a:lnTo>
                      <a:lnTo>
                        <a:pt x="74" y="191"/>
                      </a:lnTo>
                      <a:lnTo>
                        <a:pt x="386" y="216"/>
                      </a:lnTo>
                      <a:lnTo>
                        <a:pt x="443" y="191"/>
                      </a:lnTo>
                      <a:lnTo>
                        <a:pt x="503" y="177"/>
                      </a:lnTo>
                      <a:lnTo>
                        <a:pt x="485" y="216"/>
                      </a:lnTo>
                      <a:lnTo>
                        <a:pt x="443" y="228"/>
                      </a:lnTo>
                      <a:lnTo>
                        <a:pt x="56" y="354"/>
                      </a:lnTo>
                      <a:lnTo>
                        <a:pt x="443" y="241"/>
                      </a:lnTo>
                      <a:lnTo>
                        <a:pt x="485" y="241"/>
                      </a:lnTo>
                      <a:lnTo>
                        <a:pt x="443" y="278"/>
                      </a:lnTo>
                      <a:lnTo>
                        <a:pt x="386" y="317"/>
                      </a:lnTo>
                      <a:lnTo>
                        <a:pt x="56" y="394"/>
                      </a:lnTo>
                      <a:lnTo>
                        <a:pt x="425" y="302"/>
                      </a:lnTo>
                      <a:lnTo>
                        <a:pt x="443" y="302"/>
                      </a:lnTo>
                      <a:lnTo>
                        <a:pt x="464" y="317"/>
                      </a:lnTo>
                      <a:lnTo>
                        <a:pt x="386" y="367"/>
                      </a:lnTo>
                      <a:lnTo>
                        <a:pt x="464" y="354"/>
                      </a:lnTo>
                      <a:lnTo>
                        <a:pt x="365" y="419"/>
                      </a:lnTo>
                      <a:lnTo>
                        <a:pt x="287" y="456"/>
                      </a:lnTo>
                      <a:lnTo>
                        <a:pt x="134" y="483"/>
                      </a:lnTo>
                      <a:lnTo>
                        <a:pt x="56" y="483"/>
                      </a:lnTo>
                      <a:lnTo>
                        <a:pt x="191" y="470"/>
                      </a:lnTo>
                      <a:lnTo>
                        <a:pt x="347" y="443"/>
                      </a:lnTo>
                      <a:lnTo>
                        <a:pt x="386" y="431"/>
                      </a:lnTo>
                      <a:lnTo>
                        <a:pt x="347" y="470"/>
                      </a:lnTo>
                      <a:lnTo>
                        <a:pt x="269" y="520"/>
                      </a:lnTo>
                      <a:lnTo>
                        <a:pt x="134" y="547"/>
                      </a:lnTo>
                      <a:lnTo>
                        <a:pt x="0" y="569"/>
                      </a:lnTo>
                      <a:lnTo>
                        <a:pt x="173" y="532"/>
                      </a:lnTo>
                      <a:lnTo>
                        <a:pt x="287" y="493"/>
                      </a:lnTo>
                      <a:lnTo>
                        <a:pt x="386" y="456"/>
                      </a:lnTo>
                      <a:lnTo>
                        <a:pt x="404" y="443"/>
                      </a:lnTo>
                      <a:lnTo>
                        <a:pt x="386" y="483"/>
                      </a:lnTo>
                      <a:lnTo>
                        <a:pt x="425" y="470"/>
                      </a:lnTo>
                      <a:lnTo>
                        <a:pt x="464" y="483"/>
                      </a:lnTo>
                      <a:lnTo>
                        <a:pt x="386" y="520"/>
                      </a:lnTo>
                      <a:lnTo>
                        <a:pt x="386" y="547"/>
                      </a:lnTo>
                      <a:lnTo>
                        <a:pt x="287" y="596"/>
                      </a:lnTo>
                      <a:lnTo>
                        <a:pt x="326" y="596"/>
                      </a:lnTo>
                      <a:lnTo>
                        <a:pt x="287" y="623"/>
                      </a:lnTo>
                      <a:lnTo>
                        <a:pt x="152" y="672"/>
                      </a:lnTo>
                      <a:lnTo>
                        <a:pt x="35" y="685"/>
                      </a:lnTo>
                      <a:lnTo>
                        <a:pt x="209" y="658"/>
                      </a:lnTo>
                      <a:lnTo>
                        <a:pt x="308" y="623"/>
                      </a:lnTo>
                      <a:lnTo>
                        <a:pt x="365" y="608"/>
                      </a:lnTo>
                      <a:lnTo>
                        <a:pt x="365" y="645"/>
                      </a:lnTo>
                      <a:lnTo>
                        <a:pt x="365" y="658"/>
                      </a:lnTo>
                      <a:lnTo>
                        <a:pt x="308" y="712"/>
                      </a:lnTo>
                      <a:lnTo>
                        <a:pt x="251" y="749"/>
                      </a:lnTo>
                      <a:lnTo>
                        <a:pt x="287" y="749"/>
                      </a:lnTo>
                      <a:lnTo>
                        <a:pt x="234" y="773"/>
                      </a:lnTo>
                      <a:lnTo>
                        <a:pt x="35" y="837"/>
                      </a:lnTo>
                      <a:lnTo>
                        <a:pt x="173" y="798"/>
                      </a:lnTo>
                      <a:lnTo>
                        <a:pt x="269" y="773"/>
                      </a:lnTo>
                      <a:lnTo>
                        <a:pt x="269" y="813"/>
                      </a:lnTo>
                      <a:lnTo>
                        <a:pt x="209" y="822"/>
                      </a:lnTo>
                      <a:lnTo>
                        <a:pt x="269" y="813"/>
                      </a:lnTo>
                      <a:lnTo>
                        <a:pt x="269" y="837"/>
                      </a:lnTo>
                      <a:lnTo>
                        <a:pt x="234" y="862"/>
                      </a:lnTo>
                      <a:lnTo>
                        <a:pt x="56" y="899"/>
                      </a:lnTo>
                      <a:lnTo>
                        <a:pt x="209" y="862"/>
                      </a:lnTo>
                      <a:lnTo>
                        <a:pt x="209" y="874"/>
                      </a:lnTo>
                      <a:lnTo>
                        <a:pt x="234" y="886"/>
                      </a:lnTo>
                      <a:lnTo>
                        <a:pt x="56" y="975"/>
                      </a:lnTo>
                      <a:lnTo>
                        <a:pt x="191" y="911"/>
                      </a:lnTo>
                      <a:lnTo>
                        <a:pt x="234" y="899"/>
                      </a:lnTo>
                      <a:lnTo>
                        <a:pt x="251" y="926"/>
                      </a:lnTo>
                      <a:lnTo>
                        <a:pt x="209" y="950"/>
                      </a:lnTo>
                      <a:lnTo>
                        <a:pt x="251" y="938"/>
                      </a:lnTo>
                      <a:lnTo>
                        <a:pt x="209" y="1014"/>
                      </a:lnTo>
                      <a:lnTo>
                        <a:pt x="35" y="1101"/>
                      </a:lnTo>
                      <a:lnTo>
                        <a:pt x="209" y="1014"/>
                      </a:lnTo>
                      <a:lnTo>
                        <a:pt x="191" y="1051"/>
                      </a:lnTo>
                      <a:lnTo>
                        <a:pt x="251" y="1014"/>
                      </a:lnTo>
                      <a:lnTo>
                        <a:pt x="251" y="1051"/>
                      </a:lnTo>
                      <a:lnTo>
                        <a:pt x="269" y="1229"/>
                      </a:lnTo>
                      <a:lnTo>
                        <a:pt x="443" y="1443"/>
                      </a:lnTo>
                      <a:lnTo>
                        <a:pt x="269" y="1217"/>
                      </a:lnTo>
                      <a:lnTo>
                        <a:pt x="269" y="1129"/>
                      </a:lnTo>
                      <a:lnTo>
                        <a:pt x="287" y="1064"/>
                      </a:lnTo>
                      <a:lnTo>
                        <a:pt x="308" y="1014"/>
                      </a:lnTo>
                      <a:lnTo>
                        <a:pt x="347" y="926"/>
                      </a:lnTo>
                      <a:lnTo>
                        <a:pt x="386" y="963"/>
                      </a:lnTo>
                      <a:lnTo>
                        <a:pt x="638" y="1443"/>
                      </a:lnTo>
                      <a:lnTo>
                        <a:pt x="404" y="963"/>
                      </a:lnTo>
                      <a:lnTo>
                        <a:pt x="404" y="911"/>
                      </a:lnTo>
                      <a:lnTo>
                        <a:pt x="443" y="938"/>
                      </a:lnTo>
                      <a:lnTo>
                        <a:pt x="485" y="1407"/>
                      </a:lnTo>
                      <a:lnTo>
                        <a:pt x="464" y="1002"/>
                      </a:lnTo>
                      <a:lnTo>
                        <a:pt x="443" y="926"/>
                      </a:lnTo>
                      <a:lnTo>
                        <a:pt x="425" y="899"/>
                      </a:lnTo>
                      <a:lnTo>
                        <a:pt x="443" y="837"/>
                      </a:lnTo>
                      <a:lnTo>
                        <a:pt x="464" y="886"/>
                      </a:lnTo>
                      <a:lnTo>
                        <a:pt x="521" y="987"/>
                      </a:lnTo>
                      <a:lnTo>
                        <a:pt x="581" y="1051"/>
                      </a:lnTo>
                      <a:lnTo>
                        <a:pt x="738" y="1141"/>
                      </a:lnTo>
                      <a:lnTo>
                        <a:pt x="1068" y="1306"/>
                      </a:lnTo>
                      <a:lnTo>
                        <a:pt x="638" y="1064"/>
                      </a:lnTo>
                      <a:lnTo>
                        <a:pt x="560" y="1002"/>
                      </a:lnTo>
                      <a:lnTo>
                        <a:pt x="521" y="963"/>
                      </a:lnTo>
                      <a:lnTo>
                        <a:pt x="485" y="911"/>
                      </a:lnTo>
                      <a:lnTo>
                        <a:pt x="503" y="773"/>
                      </a:lnTo>
                      <a:lnTo>
                        <a:pt x="521" y="813"/>
                      </a:lnTo>
                      <a:lnTo>
                        <a:pt x="521" y="734"/>
                      </a:lnTo>
                      <a:lnTo>
                        <a:pt x="521" y="712"/>
                      </a:lnTo>
                      <a:lnTo>
                        <a:pt x="560" y="773"/>
                      </a:lnTo>
                      <a:lnTo>
                        <a:pt x="933" y="1242"/>
                      </a:lnTo>
                      <a:lnTo>
                        <a:pt x="620" y="862"/>
                      </a:lnTo>
                      <a:lnTo>
                        <a:pt x="581" y="822"/>
                      </a:lnTo>
                      <a:lnTo>
                        <a:pt x="560" y="773"/>
                      </a:lnTo>
                      <a:lnTo>
                        <a:pt x="560" y="633"/>
                      </a:lnTo>
                      <a:lnTo>
                        <a:pt x="581" y="645"/>
                      </a:lnTo>
                      <a:lnTo>
                        <a:pt x="599" y="569"/>
                      </a:lnTo>
                      <a:lnTo>
                        <a:pt x="659" y="596"/>
                      </a:lnTo>
                      <a:lnTo>
                        <a:pt x="947" y="1116"/>
                      </a:lnTo>
                      <a:lnTo>
                        <a:pt x="795" y="862"/>
                      </a:lnTo>
                      <a:lnTo>
                        <a:pt x="738" y="749"/>
                      </a:lnTo>
                      <a:lnTo>
                        <a:pt x="659" y="645"/>
                      </a:lnTo>
                      <a:lnTo>
                        <a:pt x="659" y="584"/>
                      </a:lnTo>
                      <a:lnTo>
                        <a:pt x="638" y="483"/>
                      </a:lnTo>
                      <a:lnTo>
                        <a:pt x="677" y="493"/>
                      </a:lnTo>
                      <a:lnTo>
                        <a:pt x="834" y="1014"/>
                      </a:lnTo>
                      <a:lnTo>
                        <a:pt x="659" y="456"/>
                      </a:lnTo>
                      <a:lnTo>
                        <a:pt x="659" y="407"/>
                      </a:lnTo>
                      <a:lnTo>
                        <a:pt x="677" y="443"/>
                      </a:lnTo>
                      <a:lnTo>
                        <a:pt x="677" y="329"/>
                      </a:lnTo>
                      <a:lnTo>
                        <a:pt x="717" y="367"/>
                      </a:lnTo>
                      <a:lnTo>
                        <a:pt x="717" y="302"/>
                      </a:lnTo>
                      <a:lnTo>
                        <a:pt x="774" y="342"/>
                      </a:lnTo>
                      <a:lnTo>
                        <a:pt x="855" y="470"/>
                      </a:lnTo>
                      <a:lnTo>
                        <a:pt x="947" y="547"/>
                      </a:lnTo>
                      <a:lnTo>
                        <a:pt x="1125" y="672"/>
                      </a:lnTo>
                      <a:lnTo>
                        <a:pt x="1220" y="785"/>
                      </a:lnTo>
                      <a:lnTo>
                        <a:pt x="947" y="547"/>
                      </a:lnTo>
                      <a:lnTo>
                        <a:pt x="873" y="483"/>
                      </a:lnTo>
                      <a:lnTo>
                        <a:pt x="795" y="394"/>
                      </a:lnTo>
                      <a:lnTo>
                        <a:pt x="774" y="329"/>
                      </a:lnTo>
                      <a:lnTo>
                        <a:pt x="738" y="216"/>
                      </a:lnTo>
                      <a:lnTo>
                        <a:pt x="756" y="228"/>
                      </a:lnTo>
                      <a:lnTo>
                        <a:pt x="795" y="216"/>
                      </a:lnTo>
                      <a:lnTo>
                        <a:pt x="774" y="167"/>
                      </a:lnTo>
                      <a:lnTo>
                        <a:pt x="813" y="216"/>
                      </a:lnTo>
                      <a:lnTo>
                        <a:pt x="855" y="265"/>
                      </a:lnTo>
                      <a:lnTo>
                        <a:pt x="947" y="317"/>
                      </a:lnTo>
                      <a:lnTo>
                        <a:pt x="1089" y="367"/>
                      </a:lnTo>
                      <a:lnTo>
                        <a:pt x="1359" y="493"/>
                      </a:lnTo>
                      <a:lnTo>
                        <a:pt x="912" y="302"/>
                      </a:lnTo>
                      <a:lnTo>
                        <a:pt x="855" y="253"/>
                      </a:lnTo>
                      <a:lnTo>
                        <a:pt x="834" y="228"/>
                      </a:lnTo>
                      <a:lnTo>
                        <a:pt x="834" y="100"/>
                      </a:lnTo>
                      <a:lnTo>
                        <a:pt x="873" y="140"/>
                      </a:lnTo>
                      <a:lnTo>
                        <a:pt x="933" y="204"/>
                      </a:lnTo>
                      <a:lnTo>
                        <a:pt x="1047" y="302"/>
                      </a:lnTo>
                      <a:lnTo>
                        <a:pt x="1203" y="407"/>
                      </a:lnTo>
                      <a:lnTo>
                        <a:pt x="1242" y="456"/>
                      </a:lnTo>
                      <a:lnTo>
                        <a:pt x="908" y="204"/>
                      </a:lnTo>
                      <a:lnTo>
                        <a:pt x="873" y="113"/>
                      </a:lnTo>
                      <a:lnTo>
                        <a:pt x="891" y="51"/>
                      </a:lnTo>
                      <a:lnTo>
                        <a:pt x="798" y="12"/>
                      </a:lnTo>
                      <a:lnTo>
                        <a:pt x="766" y="19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599240" y="5810400"/>
                  <a:ext cx="406800" cy="493920"/>
                </a:xfrm>
                <a:custGeom>
                  <a:avLst/>
                  <a:gdLst/>
                  <a:ahLst/>
                  <a:rect l="0" t="0" r="r" b="b"/>
                  <a:pathLst>
                    <a:path w="1130" h="1372">
                      <a:moveTo>
                        <a:pt x="1116" y="213"/>
                      </a:moveTo>
                      <a:lnTo>
                        <a:pt x="1035" y="122"/>
                      </a:lnTo>
                      <a:lnTo>
                        <a:pt x="997" y="88"/>
                      </a:lnTo>
                      <a:lnTo>
                        <a:pt x="916" y="58"/>
                      </a:lnTo>
                      <a:lnTo>
                        <a:pt x="837" y="31"/>
                      </a:lnTo>
                      <a:lnTo>
                        <a:pt x="732" y="4"/>
                      </a:lnTo>
                      <a:lnTo>
                        <a:pt x="641" y="0"/>
                      </a:lnTo>
                      <a:lnTo>
                        <a:pt x="560" y="12"/>
                      </a:lnTo>
                      <a:lnTo>
                        <a:pt x="465" y="26"/>
                      </a:lnTo>
                      <a:lnTo>
                        <a:pt x="359" y="51"/>
                      </a:lnTo>
                      <a:lnTo>
                        <a:pt x="292" y="103"/>
                      </a:lnTo>
                      <a:lnTo>
                        <a:pt x="225" y="176"/>
                      </a:lnTo>
                      <a:lnTo>
                        <a:pt x="158" y="233"/>
                      </a:lnTo>
                      <a:lnTo>
                        <a:pt x="105" y="291"/>
                      </a:lnTo>
                      <a:lnTo>
                        <a:pt x="42" y="370"/>
                      </a:lnTo>
                      <a:lnTo>
                        <a:pt x="0" y="534"/>
                      </a:lnTo>
                      <a:lnTo>
                        <a:pt x="14" y="659"/>
                      </a:lnTo>
                      <a:lnTo>
                        <a:pt x="66" y="842"/>
                      </a:lnTo>
                      <a:lnTo>
                        <a:pt x="158" y="999"/>
                      </a:lnTo>
                      <a:lnTo>
                        <a:pt x="359" y="1372"/>
                      </a:lnTo>
                      <a:lnTo>
                        <a:pt x="281" y="972"/>
                      </a:lnTo>
                      <a:lnTo>
                        <a:pt x="239" y="835"/>
                      </a:lnTo>
                      <a:lnTo>
                        <a:pt x="211" y="712"/>
                      </a:lnTo>
                      <a:lnTo>
                        <a:pt x="196" y="581"/>
                      </a:lnTo>
                      <a:lnTo>
                        <a:pt x="225" y="436"/>
                      </a:lnTo>
                      <a:lnTo>
                        <a:pt x="253" y="326"/>
                      </a:lnTo>
                      <a:lnTo>
                        <a:pt x="306" y="188"/>
                      </a:lnTo>
                      <a:lnTo>
                        <a:pt x="387" y="122"/>
                      </a:lnTo>
                      <a:lnTo>
                        <a:pt x="493" y="98"/>
                      </a:lnTo>
                      <a:lnTo>
                        <a:pt x="771" y="83"/>
                      </a:lnTo>
                      <a:lnTo>
                        <a:pt x="944" y="130"/>
                      </a:lnTo>
                      <a:lnTo>
                        <a:pt x="1130" y="230"/>
                      </a:lnTo>
                      <a:lnTo>
                        <a:pt x="1116" y="213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893000" y="5459400"/>
                  <a:ext cx="416160" cy="483120"/>
                </a:xfrm>
                <a:custGeom>
                  <a:avLst/>
                  <a:gdLst/>
                  <a:ahLst/>
                  <a:rect l="0" t="0" r="r" b="b"/>
                  <a:pathLst>
                    <a:path w="1156" h="1342">
                      <a:moveTo>
                        <a:pt x="338" y="1342"/>
                      </a:moveTo>
                      <a:lnTo>
                        <a:pt x="257" y="1110"/>
                      </a:lnTo>
                      <a:lnTo>
                        <a:pt x="221" y="1014"/>
                      </a:lnTo>
                      <a:lnTo>
                        <a:pt x="140" y="892"/>
                      </a:lnTo>
                      <a:lnTo>
                        <a:pt x="56" y="776"/>
                      </a:lnTo>
                      <a:lnTo>
                        <a:pt x="10" y="709"/>
                      </a:lnTo>
                      <a:lnTo>
                        <a:pt x="0" y="640"/>
                      </a:lnTo>
                      <a:lnTo>
                        <a:pt x="21" y="539"/>
                      </a:lnTo>
                      <a:lnTo>
                        <a:pt x="35" y="437"/>
                      </a:lnTo>
                      <a:lnTo>
                        <a:pt x="162" y="185"/>
                      </a:lnTo>
                      <a:lnTo>
                        <a:pt x="221" y="123"/>
                      </a:lnTo>
                      <a:lnTo>
                        <a:pt x="327" y="56"/>
                      </a:lnTo>
                      <a:lnTo>
                        <a:pt x="419" y="14"/>
                      </a:lnTo>
                      <a:lnTo>
                        <a:pt x="535" y="0"/>
                      </a:lnTo>
                      <a:lnTo>
                        <a:pt x="631" y="29"/>
                      </a:lnTo>
                      <a:lnTo>
                        <a:pt x="751" y="56"/>
                      </a:lnTo>
                      <a:lnTo>
                        <a:pt x="867" y="138"/>
                      </a:lnTo>
                      <a:lnTo>
                        <a:pt x="909" y="192"/>
                      </a:lnTo>
                      <a:lnTo>
                        <a:pt x="983" y="274"/>
                      </a:lnTo>
                      <a:lnTo>
                        <a:pt x="1043" y="344"/>
                      </a:lnTo>
                      <a:lnTo>
                        <a:pt x="1145" y="694"/>
                      </a:lnTo>
                      <a:lnTo>
                        <a:pt x="1156" y="761"/>
                      </a:lnTo>
                      <a:lnTo>
                        <a:pt x="1135" y="877"/>
                      </a:lnTo>
                      <a:lnTo>
                        <a:pt x="1071" y="1206"/>
                      </a:lnTo>
                      <a:lnTo>
                        <a:pt x="1075" y="884"/>
                      </a:lnTo>
                      <a:lnTo>
                        <a:pt x="1043" y="741"/>
                      </a:lnTo>
                      <a:lnTo>
                        <a:pt x="1015" y="655"/>
                      </a:lnTo>
                      <a:lnTo>
                        <a:pt x="969" y="539"/>
                      </a:lnTo>
                      <a:lnTo>
                        <a:pt x="923" y="423"/>
                      </a:lnTo>
                      <a:lnTo>
                        <a:pt x="853" y="308"/>
                      </a:lnTo>
                      <a:lnTo>
                        <a:pt x="772" y="204"/>
                      </a:lnTo>
                      <a:lnTo>
                        <a:pt x="701" y="111"/>
                      </a:lnTo>
                      <a:lnTo>
                        <a:pt x="631" y="56"/>
                      </a:lnTo>
                      <a:lnTo>
                        <a:pt x="549" y="37"/>
                      </a:lnTo>
                      <a:lnTo>
                        <a:pt x="468" y="56"/>
                      </a:lnTo>
                      <a:lnTo>
                        <a:pt x="408" y="106"/>
                      </a:lnTo>
                      <a:lnTo>
                        <a:pt x="373" y="192"/>
                      </a:lnTo>
                      <a:lnTo>
                        <a:pt x="373" y="259"/>
                      </a:lnTo>
                      <a:lnTo>
                        <a:pt x="348" y="383"/>
                      </a:lnTo>
                      <a:lnTo>
                        <a:pt x="313" y="457"/>
                      </a:lnTo>
                      <a:lnTo>
                        <a:pt x="232" y="578"/>
                      </a:lnTo>
                      <a:lnTo>
                        <a:pt x="221" y="640"/>
                      </a:lnTo>
                      <a:lnTo>
                        <a:pt x="207" y="702"/>
                      </a:lnTo>
                      <a:lnTo>
                        <a:pt x="207" y="791"/>
                      </a:lnTo>
                      <a:lnTo>
                        <a:pt x="348" y="1090"/>
                      </a:lnTo>
                      <a:lnTo>
                        <a:pt x="338" y="1342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594640" y="4973760"/>
                  <a:ext cx="536760" cy="703800"/>
                </a:xfrm>
                <a:custGeom>
                  <a:avLst/>
                  <a:gdLst/>
                  <a:ahLst/>
                  <a:rect l="0" t="0" r="r" b="b"/>
                  <a:pathLst>
                    <a:path w="1491" h="1955">
                      <a:moveTo>
                        <a:pt x="0" y="1701"/>
                      </a:moveTo>
                      <a:lnTo>
                        <a:pt x="10" y="1618"/>
                      </a:lnTo>
                      <a:lnTo>
                        <a:pt x="92" y="1664"/>
                      </a:lnTo>
                      <a:lnTo>
                        <a:pt x="60" y="1549"/>
                      </a:lnTo>
                      <a:lnTo>
                        <a:pt x="141" y="1566"/>
                      </a:lnTo>
                      <a:lnTo>
                        <a:pt x="425" y="1955"/>
                      </a:lnTo>
                      <a:lnTo>
                        <a:pt x="166" y="1618"/>
                      </a:lnTo>
                      <a:lnTo>
                        <a:pt x="134" y="1561"/>
                      </a:lnTo>
                      <a:lnTo>
                        <a:pt x="110" y="1502"/>
                      </a:lnTo>
                      <a:lnTo>
                        <a:pt x="166" y="1517"/>
                      </a:lnTo>
                      <a:lnTo>
                        <a:pt x="330" y="1625"/>
                      </a:lnTo>
                      <a:lnTo>
                        <a:pt x="528" y="1805"/>
                      </a:lnTo>
                      <a:lnTo>
                        <a:pt x="244" y="1566"/>
                      </a:lnTo>
                      <a:lnTo>
                        <a:pt x="152" y="1499"/>
                      </a:lnTo>
                      <a:lnTo>
                        <a:pt x="141" y="1405"/>
                      </a:lnTo>
                      <a:lnTo>
                        <a:pt x="202" y="1434"/>
                      </a:lnTo>
                      <a:lnTo>
                        <a:pt x="191" y="1328"/>
                      </a:lnTo>
                      <a:lnTo>
                        <a:pt x="244" y="1363"/>
                      </a:lnTo>
                      <a:lnTo>
                        <a:pt x="503" y="1719"/>
                      </a:lnTo>
                      <a:lnTo>
                        <a:pt x="220" y="1314"/>
                      </a:lnTo>
                      <a:lnTo>
                        <a:pt x="191" y="1245"/>
                      </a:lnTo>
                      <a:lnTo>
                        <a:pt x="269" y="1284"/>
                      </a:lnTo>
                      <a:lnTo>
                        <a:pt x="479" y="1482"/>
                      </a:lnTo>
                      <a:lnTo>
                        <a:pt x="244" y="1279"/>
                      </a:lnTo>
                      <a:lnTo>
                        <a:pt x="166" y="1176"/>
                      </a:lnTo>
                      <a:lnTo>
                        <a:pt x="244" y="1210"/>
                      </a:lnTo>
                      <a:lnTo>
                        <a:pt x="191" y="1144"/>
                      </a:lnTo>
                      <a:lnTo>
                        <a:pt x="269" y="1161"/>
                      </a:lnTo>
                      <a:lnTo>
                        <a:pt x="344" y="1279"/>
                      </a:lnTo>
                      <a:lnTo>
                        <a:pt x="709" y="1502"/>
                      </a:lnTo>
                      <a:lnTo>
                        <a:pt x="322" y="1245"/>
                      </a:lnTo>
                      <a:lnTo>
                        <a:pt x="244" y="1144"/>
                      </a:lnTo>
                      <a:lnTo>
                        <a:pt x="220" y="1092"/>
                      </a:lnTo>
                      <a:lnTo>
                        <a:pt x="294" y="1144"/>
                      </a:lnTo>
                      <a:lnTo>
                        <a:pt x="244" y="1025"/>
                      </a:lnTo>
                      <a:lnTo>
                        <a:pt x="294" y="1040"/>
                      </a:lnTo>
                      <a:lnTo>
                        <a:pt x="337" y="1099"/>
                      </a:lnTo>
                      <a:lnTo>
                        <a:pt x="852" y="1281"/>
                      </a:lnTo>
                      <a:lnTo>
                        <a:pt x="574" y="1173"/>
                      </a:lnTo>
                      <a:lnTo>
                        <a:pt x="415" y="1114"/>
                      </a:lnTo>
                      <a:lnTo>
                        <a:pt x="369" y="1094"/>
                      </a:lnTo>
                      <a:lnTo>
                        <a:pt x="255" y="974"/>
                      </a:lnTo>
                      <a:lnTo>
                        <a:pt x="294" y="996"/>
                      </a:lnTo>
                      <a:lnTo>
                        <a:pt x="269" y="922"/>
                      </a:lnTo>
                      <a:lnTo>
                        <a:pt x="259" y="934"/>
                      </a:lnTo>
                      <a:lnTo>
                        <a:pt x="365" y="966"/>
                      </a:lnTo>
                      <a:lnTo>
                        <a:pt x="290" y="885"/>
                      </a:lnTo>
                      <a:lnTo>
                        <a:pt x="372" y="905"/>
                      </a:lnTo>
                      <a:lnTo>
                        <a:pt x="571" y="942"/>
                      </a:lnTo>
                      <a:lnTo>
                        <a:pt x="781" y="1011"/>
                      </a:lnTo>
                      <a:lnTo>
                        <a:pt x="1310" y="1262"/>
                      </a:lnTo>
                      <a:lnTo>
                        <a:pt x="635" y="956"/>
                      </a:lnTo>
                      <a:lnTo>
                        <a:pt x="379" y="885"/>
                      </a:lnTo>
                      <a:lnTo>
                        <a:pt x="312" y="823"/>
                      </a:lnTo>
                      <a:lnTo>
                        <a:pt x="408" y="855"/>
                      </a:lnTo>
                      <a:lnTo>
                        <a:pt x="294" y="735"/>
                      </a:lnTo>
                      <a:lnTo>
                        <a:pt x="372" y="742"/>
                      </a:lnTo>
                      <a:lnTo>
                        <a:pt x="322" y="680"/>
                      </a:lnTo>
                      <a:lnTo>
                        <a:pt x="330" y="668"/>
                      </a:lnTo>
                      <a:lnTo>
                        <a:pt x="432" y="720"/>
                      </a:lnTo>
                      <a:lnTo>
                        <a:pt x="333" y="629"/>
                      </a:lnTo>
                      <a:lnTo>
                        <a:pt x="411" y="629"/>
                      </a:lnTo>
                      <a:lnTo>
                        <a:pt x="322" y="567"/>
                      </a:lnTo>
                      <a:lnTo>
                        <a:pt x="372" y="567"/>
                      </a:lnTo>
                      <a:lnTo>
                        <a:pt x="322" y="533"/>
                      </a:lnTo>
                      <a:lnTo>
                        <a:pt x="401" y="533"/>
                      </a:lnTo>
                      <a:lnTo>
                        <a:pt x="564" y="607"/>
                      </a:lnTo>
                      <a:lnTo>
                        <a:pt x="831" y="698"/>
                      </a:lnTo>
                      <a:lnTo>
                        <a:pt x="1101" y="772"/>
                      </a:lnTo>
                      <a:lnTo>
                        <a:pt x="1335" y="823"/>
                      </a:lnTo>
                      <a:lnTo>
                        <a:pt x="763" y="668"/>
                      </a:lnTo>
                      <a:lnTo>
                        <a:pt x="635" y="619"/>
                      </a:lnTo>
                      <a:lnTo>
                        <a:pt x="432" y="555"/>
                      </a:lnTo>
                      <a:lnTo>
                        <a:pt x="401" y="533"/>
                      </a:lnTo>
                      <a:lnTo>
                        <a:pt x="347" y="465"/>
                      </a:lnTo>
                      <a:lnTo>
                        <a:pt x="425" y="482"/>
                      </a:lnTo>
                      <a:lnTo>
                        <a:pt x="337" y="374"/>
                      </a:lnTo>
                      <a:lnTo>
                        <a:pt x="386" y="374"/>
                      </a:lnTo>
                      <a:lnTo>
                        <a:pt x="322" y="298"/>
                      </a:lnTo>
                      <a:lnTo>
                        <a:pt x="401" y="298"/>
                      </a:lnTo>
                      <a:lnTo>
                        <a:pt x="450" y="335"/>
                      </a:lnTo>
                      <a:lnTo>
                        <a:pt x="635" y="389"/>
                      </a:lnTo>
                      <a:lnTo>
                        <a:pt x="1154" y="518"/>
                      </a:lnTo>
                      <a:lnTo>
                        <a:pt x="581" y="364"/>
                      </a:lnTo>
                      <a:lnTo>
                        <a:pt x="450" y="330"/>
                      </a:lnTo>
                      <a:lnTo>
                        <a:pt x="425" y="298"/>
                      </a:lnTo>
                      <a:lnTo>
                        <a:pt x="347" y="246"/>
                      </a:lnTo>
                      <a:lnTo>
                        <a:pt x="401" y="263"/>
                      </a:lnTo>
                      <a:lnTo>
                        <a:pt x="269" y="194"/>
                      </a:lnTo>
                      <a:lnTo>
                        <a:pt x="322" y="214"/>
                      </a:lnTo>
                      <a:lnTo>
                        <a:pt x="443" y="211"/>
                      </a:lnTo>
                      <a:lnTo>
                        <a:pt x="781" y="303"/>
                      </a:lnTo>
                      <a:lnTo>
                        <a:pt x="425" y="214"/>
                      </a:lnTo>
                      <a:lnTo>
                        <a:pt x="322" y="145"/>
                      </a:lnTo>
                      <a:lnTo>
                        <a:pt x="425" y="145"/>
                      </a:lnTo>
                      <a:lnTo>
                        <a:pt x="866" y="145"/>
                      </a:lnTo>
                      <a:lnTo>
                        <a:pt x="1491" y="76"/>
                      </a:lnTo>
                      <a:lnTo>
                        <a:pt x="1104" y="125"/>
                      </a:lnTo>
                      <a:lnTo>
                        <a:pt x="557" y="160"/>
                      </a:lnTo>
                      <a:lnTo>
                        <a:pt x="401" y="145"/>
                      </a:lnTo>
                      <a:lnTo>
                        <a:pt x="347" y="110"/>
                      </a:lnTo>
                      <a:lnTo>
                        <a:pt x="294" y="59"/>
                      </a:lnTo>
                      <a:lnTo>
                        <a:pt x="173" y="0"/>
                      </a:lnTo>
                      <a:lnTo>
                        <a:pt x="141" y="24"/>
                      </a:lnTo>
                      <a:lnTo>
                        <a:pt x="113" y="4"/>
                      </a:lnTo>
                      <a:lnTo>
                        <a:pt x="0" y="1701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750080" y="6099120"/>
                  <a:ext cx="289440" cy="308160"/>
                </a:xfrm>
                <a:custGeom>
                  <a:avLst/>
                  <a:gdLst/>
                  <a:ahLst/>
                  <a:rect l="0" t="0" r="r" b="b"/>
                  <a:pathLst>
                    <a:path w="804" h="856">
                      <a:moveTo>
                        <a:pt x="787" y="136"/>
                      </a:moveTo>
                      <a:lnTo>
                        <a:pt x="618" y="0"/>
                      </a:lnTo>
                      <a:lnTo>
                        <a:pt x="512" y="3"/>
                      </a:lnTo>
                      <a:lnTo>
                        <a:pt x="421" y="11"/>
                      </a:lnTo>
                      <a:lnTo>
                        <a:pt x="347" y="48"/>
                      </a:lnTo>
                      <a:lnTo>
                        <a:pt x="164" y="159"/>
                      </a:lnTo>
                      <a:lnTo>
                        <a:pt x="105" y="207"/>
                      </a:lnTo>
                      <a:lnTo>
                        <a:pt x="59" y="254"/>
                      </a:lnTo>
                      <a:lnTo>
                        <a:pt x="17" y="402"/>
                      </a:lnTo>
                      <a:lnTo>
                        <a:pt x="0" y="446"/>
                      </a:lnTo>
                      <a:lnTo>
                        <a:pt x="17" y="502"/>
                      </a:lnTo>
                      <a:lnTo>
                        <a:pt x="45" y="562"/>
                      </a:lnTo>
                      <a:lnTo>
                        <a:pt x="119" y="654"/>
                      </a:lnTo>
                      <a:lnTo>
                        <a:pt x="178" y="713"/>
                      </a:lnTo>
                      <a:lnTo>
                        <a:pt x="270" y="777"/>
                      </a:lnTo>
                      <a:lnTo>
                        <a:pt x="453" y="856"/>
                      </a:lnTo>
                      <a:lnTo>
                        <a:pt x="361" y="756"/>
                      </a:lnTo>
                      <a:lnTo>
                        <a:pt x="284" y="665"/>
                      </a:lnTo>
                      <a:lnTo>
                        <a:pt x="239" y="581"/>
                      </a:lnTo>
                      <a:lnTo>
                        <a:pt x="256" y="502"/>
                      </a:lnTo>
                      <a:lnTo>
                        <a:pt x="270" y="446"/>
                      </a:lnTo>
                      <a:lnTo>
                        <a:pt x="239" y="377"/>
                      </a:lnTo>
                      <a:lnTo>
                        <a:pt x="225" y="319"/>
                      </a:lnTo>
                      <a:lnTo>
                        <a:pt x="302" y="207"/>
                      </a:lnTo>
                      <a:lnTo>
                        <a:pt x="316" y="147"/>
                      </a:lnTo>
                      <a:lnTo>
                        <a:pt x="379" y="99"/>
                      </a:lnTo>
                      <a:lnTo>
                        <a:pt x="512" y="36"/>
                      </a:lnTo>
                      <a:lnTo>
                        <a:pt x="575" y="85"/>
                      </a:lnTo>
                      <a:lnTo>
                        <a:pt x="804" y="164"/>
                      </a:lnTo>
                      <a:lnTo>
                        <a:pt x="787" y="136"/>
                      </a:lnTo>
                      <a:close/>
                    </a:path>
                  </a:pathLst>
                </a:custGeom>
                <a:solidFill>
                  <a:srgbClr val="00004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00c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300c3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