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5560" y="14400"/>
            <a:ext cx="9020160" cy="6691320"/>
            <a:chOff x="25560" y="14400"/>
            <a:chExt cx="9020160" cy="6691320"/>
          </a:xfrm>
        </p:grpSpPr>
        <p:sp>
          <p:nvSpPr>
            <p:cNvPr id="1" name=""/>
            <p:cNvSpPr/>
            <p:nvPr/>
          </p:nvSpPr>
          <p:spPr>
            <a:xfrm>
              <a:off x="76320" y="152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1295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320" y="2438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320" y="3581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4724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5867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20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63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6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249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92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535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39080" y="487692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39080" y="601992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688160" y="65502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45160" y="65502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38160" y="3189240"/>
              <a:ext cx="282960" cy="263880"/>
              <a:chOff x="38160" y="3189240"/>
              <a:chExt cx="282960" cy="263880"/>
            </a:xfrm>
          </p:grpSpPr>
          <p:sp>
            <p:nvSpPr>
              <p:cNvPr id="19" name=""/>
              <p:cNvSpPr/>
              <p:nvPr/>
            </p:nvSpPr>
            <p:spPr>
              <a:xfrm>
                <a:off x="131760" y="31892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00160" y="331776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160" y="33210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25560" y="2058840"/>
              <a:ext cx="282600" cy="263880"/>
              <a:chOff x="25560" y="2058840"/>
              <a:chExt cx="282600" cy="263880"/>
            </a:xfrm>
          </p:grpSpPr>
          <p:sp>
            <p:nvSpPr>
              <p:cNvPr id="23" name=""/>
              <p:cNvSpPr/>
              <p:nvPr/>
            </p:nvSpPr>
            <p:spPr>
              <a:xfrm>
                <a:off x="119160" y="2058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7200" y="2187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560" y="2190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38160" y="4351320"/>
              <a:ext cx="282960" cy="263880"/>
              <a:chOff x="38160" y="4351320"/>
              <a:chExt cx="282960" cy="263880"/>
            </a:xfrm>
          </p:grpSpPr>
          <p:sp>
            <p:nvSpPr>
              <p:cNvPr id="27" name=""/>
              <p:cNvSpPr/>
              <p:nvPr/>
            </p:nvSpPr>
            <p:spPr>
              <a:xfrm>
                <a:off x="131760" y="435132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00160" y="447984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8160" y="44830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38160" y="5487840"/>
              <a:ext cx="282960" cy="263880"/>
              <a:chOff x="38160" y="5487840"/>
              <a:chExt cx="282960" cy="263880"/>
            </a:xfrm>
          </p:grpSpPr>
          <p:sp>
            <p:nvSpPr>
              <p:cNvPr id="31" name=""/>
              <p:cNvSpPr/>
              <p:nvPr/>
            </p:nvSpPr>
            <p:spPr>
              <a:xfrm>
                <a:off x="131760" y="5487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00160" y="5616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160" y="5619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38160" y="915840"/>
              <a:ext cx="282960" cy="263880"/>
              <a:chOff x="38160" y="915840"/>
              <a:chExt cx="282960" cy="263880"/>
            </a:xfrm>
          </p:grpSpPr>
          <p:sp>
            <p:nvSpPr>
              <p:cNvPr id="35" name=""/>
              <p:cNvSpPr/>
              <p:nvPr/>
            </p:nvSpPr>
            <p:spPr>
              <a:xfrm>
                <a:off x="131760" y="915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00160" y="1044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8160" y="1047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"/>
            <p:cNvGrpSpPr/>
            <p:nvPr/>
          </p:nvGrpSpPr>
          <p:grpSpPr>
            <a:xfrm>
              <a:off x="304920" y="52560"/>
              <a:ext cx="282600" cy="263880"/>
              <a:chOff x="304920" y="52560"/>
              <a:chExt cx="282600" cy="263880"/>
            </a:xfrm>
          </p:grpSpPr>
          <p:sp>
            <p:nvSpPr>
              <p:cNvPr id="39" name=""/>
              <p:cNvSpPr/>
              <p:nvPr/>
            </p:nvSpPr>
            <p:spPr>
              <a:xfrm>
                <a:off x="398520" y="5256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66560" y="18108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04920" y="18432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1447920" y="39600"/>
              <a:ext cx="282600" cy="263880"/>
              <a:chOff x="1447920" y="39600"/>
              <a:chExt cx="282600" cy="263880"/>
            </a:xfrm>
          </p:grpSpPr>
          <p:sp>
            <p:nvSpPr>
              <p:cNvPr id="43" name=""/>
              <p:cNvSpPr/>
              <p:nvPr/>
            </p:nvSpPr>
            <p:spPr>
              <a:xfrm>
                <a:off x="1541520" y="396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09560" y="1681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447920" y="1713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2590920" y="27000"/>
              <a:ext cx="282600" cy="263880"/>
              <a:chOff x="2590920" y="27000"/>
              <a:chExt cx="282600" cy="263880"/>
            </a:xfrm>
          </p:grpSpPr>
          <p:sp>
            <p:nvSpPr>
              <p:cNvPr id="47" name=""/>
              <p:cNvSpPr/>
              <p:nvPr/>
            </p:nvSpPr>
            <p:spPr>
              <a:xfrm>
                <a:off x="2684520" y="270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52560" y="1555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590920" y="1587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759120" y="39600"/>
              <a:ext cx="282960" cy="263880"/>
              <a:chOff x="3759120" y="39600"/>
              <a:chExt cx="282960" cy="263880"/>
            </a:xfrm>
          </p:grpSpPr>
          <p:sp>
            <p:nvSpPr>
              <p:cNvPr id="51" name=""/>
              <p:cNvSpPr/>
              <p:nvPr/>
            </p:nvSpPr>
            <p:spPr>
              <a:xfrm>
                <a:off x="3852720" y="396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21120" y="1681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59120" y="1713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876920" y="14400"/>
              <a:ext cx="282600" cy="263880"/>
              <a:chOff x="4876920" y="14400"/>
              <a:chExt cx="282600" cy="263880"/>
            </a:xfrm>
          </p:grpSpPr>
          <p:sp>
            <p:nvSpPr>
              <p:cNvPr id="55" name=""/>
              <p:cNvSpPr/>
              <p:nvPr/>
            </p:nvSpPr>
            <p:spPr>
              <a:xfrm>
                <a:off x="49705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3856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769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019920" y="14400"/>
              <a:ext cx="282600" cy="263880"/>
              <a:chOff x="6019920" y="14400"/>
              <a:chExt cx="282600" cy="263880"/>
            </a:xfrm>
          </p:grpSpPr>
          <p:sp>
            <p:nvSpPr>
              <p:cNvPr id="59" name=""/>
              <p:cNvSpPr/>
              <p:nvPr/>
            </p:nvSpPr>
            <p:spPr>
              <a:xfrm>
                <a:off x="61135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8156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199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75520" y="14400"/>
              <a:ext cx="282960" cy="263880"/>
              <a:chOff x="7175520" y="14400"/>
              <a:chExt cx="282960" cy="263880"/>
            </a:xfrm>
          </p:grpSpPr>
          <p:sp>
            <p:nvSpPr>
              <p:cNvPr id="63" name=""/>
              <p:cNvSpPr/>
              <p:nvPr/>
            </p:nvSpPr>
            <p:spPr>
              <a:xfrm>
                <a:off x="72691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752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755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8445600" y="6415200"/>
              <a:ext cx="282960" cy="263880"/>
              <a:chOff x="8445600" y="6415200"/>
              <a:chExt cx="282960" cy="263880"/>
            </a:xfrm>
          </p:grpSpPr>
          <p:sp>
            <p:nvSpPr>
              <p:cNvPr id="67" name=""/>
              <p:cNvSpPr/>
              <p:nvPr/>
            </p:nvSpPr>
            <p:spPr>
              <a:xfrm>
                <a:off x="8539200" y="64152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607600" y="6543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445600" y="65469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7315200" y="6440400"/>
              <a:ext cx="282960" cy="263880"/>
              <a:chOff x="7315200" y="6440400"/>
              <a:chExt cx="282960" cy="263880"/>
            </a:xfrm>
          </p:grpSpPr>
          <p:sp>
            <p:nvSpPr>
              <p:cNvPr id="71" name=""/>
              <p:cNvSpPr/>
              <p:nvPr/>
            </p:nvSpPr>
            <p:spPr>
              <a:xfrm>
                <a:off x="7408800" y="6440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477200" y="6568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5200" y="6572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8763120" y="5627520"/>
              <a:ext cx="282600" cy="263880"/>
              <a:chOff x="8763120" y="5627520"/>
              <a:chExt cx="282600" cy="263880"/>
            </a:xfrm>
          </p:grpSpPr>
          <p:sp>
            <p:nvSpPr>
              <p:cNvPr id="75" name=""/>
              <p:cNvSpPr/>
              <p:nvPr/>
            </p:nvSpPr>
            <p:spPr>
              <a:xfrm>
                <a:off x="8856720" y="562752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24760" y="575640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63120" y="57592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737560" y="4497480"/>
              <a:ext cx="282960" cy="263880"/>
              <a:chOff x="8737560" y="4497480"/>
              <a:chExt cx="282960" cy="263880"/>
            </a:xfrm>
          </p:grpSpPr>
          <p:sp>
            <p:nvSpPr>
              <p:cNvPr id="79" name=""/>
              <p:cNvSpPr/>
              <p:nvPr/>
            </p:nvSpPr>
            <p:spPr>
              <a:xfrm>
                <a:off x="8831160" y="449748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899560" y="462600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737560" y="462924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e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7b00e4"/>
                </a:solidFill>
                <a:uFillTx/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4e47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4e47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4e4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4e47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4e47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4e47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4e47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4e47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4e47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4e47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4e47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4e47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