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31400" cy="95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76767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695600"/>
            <a:ext cx="9131400" cy="954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efefef"/>
              </a:gs>
              <a:gs pos="100000">
                <a:srgbClr val="676767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55840" cy="15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676767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