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400"/>
            <a:chOff x="0" y="0"/>
            <a:chExt cx="913176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040" cy="6845400"/>
              <a:chOff x="0" y="0"/>
              <a:chExt cx="913104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4557600" cy="342900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cccc"/>
                  </a:gs>
                </a:gsLst>
                <a:path path="rect">
                  <a:fillToRect l="0" t="0" r="10000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429000"/>
                <a:ext cx="4556160" cy="341640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cccc"/>
                  </a:gs>
                </a:gsLst>
                <a:path path="rect">
                  <a:fillToRect l="0" t="100000" r="10000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573440" y="0"/>
                <a:ext cx="4557600" cy="342900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cccc"/>
                  </a:gs>
                </a:gsLst>
                <a:path path="rect">
                  <a:fillToRect l="100000" t="0" r="0" b="10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573440" y="3429000"/>
                <a:ext cx="4557600" cy="341640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cccc"/>
                  </a:gs>
                </a:gsLst>
                <a:path path="rect">
                  <a:fillToRect l="100000" t="100000" r="0" b="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285840" y="324000"/>
              <a:ext cx="8570880" cy="621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bcb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0600" y="417600"/>
              <a:ext cx="8361360" cy="6022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bcb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66560" y="500040"/>
              <a:ext cx="8204040" cy="585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bcbc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0" y="0"/>
              <a:ext cx="9131760" cy="6845400"/>
              <a:chOff x="0" y="0"/>
              <a:chExt cx="9131760" cy="684540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4103640" y="0"/>
                <a:ext cx="897480" cy="533880"/>
                <a:chOff x="4103640" y="0"/>
                <a:chExt cx="897480" cy="533880"/>
              </a:xfrm>
            </p:grpSpPr>
            <p:grpSp>
              <p:nvGrpSpPr>
                <p:cNvPr id="11" name=""/>
                <p:cNvGrpSpPr/>
                <p:nvPr/>
              </p:nvGrpSpPr>
              <p:grpSpPr>
                <a:xfrm>
                  <a:off x="4702320" y="0"/>
                  <a:ext cx="298800" cy="533880"/>
                  <a:chOff x="4702320" y="0"/>
                  <a:chExt cx="298800" cy="533880"/>
                </a:xfrm>
              </p:grpSpPr>
              <p:sp>
                <p:nvSpPr>
                  <p:cNvPr id="12" name=""/>
                  <p:cNvSpPr/>
                  <p:nvPr/>
                </p:nvSpPr>
                <p:spPr>
                  <a:xfrm>
                    <a:off x="484992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420" y="0"/>
                        </a:moveTo>
                        <a:lnTo>
                          <a:pt x="420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2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02320" y="0"/>
                    <a:ext cx="1479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11" y="1483"/>
                        </a:lnTo>
                        <a:lnTo>
                          <a:pt x="4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" name=""/>
                <p:cNvGrpSpPr/>
                <p:nvPr/>
              </p:nvGrpSpPr>
              <p:grpSpPr>
                <a:xfrm>
                  <a:off x="4402080" y="0"/>
                  <a:ext cx="300600" cy="533880"/>
                  <a:chOff x="4402080" y="0"/>
                  <a:chExt cx="300600" cy="533880"/>
                </a:xfrm>
              </p:grpSpPr>
              <p:sp>
                <p:nvSpPr>
                  <p:cNvPr id="15" name=""/>
                  <p:cNvSpPr/>
                  <p:nvPr/>
                </p:nvSpPr>
                <p:spPr>
                  <a:xfrm>
                    <a:off x="4552920" y="0"/>
                    <a:ext cx="1497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83">
                        <a:moveTo>
                          <a:pt x="416" y="0"/>
                        </a:moveTo>
                        <a:lnTo>
                          <a:pt x="416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16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440208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20" y="1483"/>
                        </a:lnTo>
                        <a:lnTo>
                          <a:pt x="4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4103640" y="0"/>
                  <a:ext cx="298800" cy="533880"/>
                  <a:chOff x="4103640" y="0"/>
                  <a:chExt cx="298800" cy="53388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4254480" y="0"/>
                    <a:ext cx="14796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83">
                        <a:moveTo>
                          <a:pt x="411" y="0"/>
                        </a:moveTo>
                        <a:lnTo>
                          <a:pt x="411" y="962"/>
                        </a:lnTo>
                        <a:lnTo>
                          <a:pt x="0" y="1483"/>
                        </a:lnTo>
                        <a:lnTo>
                          <a:pt x="0" y="0"/>
                        </a:lnTo>
                        <a:lnTo>
                          <a:pt x="41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4103640" y="0"/>
                    <a:ext cx="151200" cy="5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83">
                        <a:moveTo>
                          <a:pt x="0" y="0"/>
                        </a:moveTo>
                        <a:lnTo>
                          <a:pt x="0" y="962"/>
                        </a:lnTo>
                        <a:lnTo>
                          <a:pt x="420" y="1483"/>
                        </a:lnTo>
                        <a:lnTo>
                          <a:pt x="4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" name=""/>
              <p:cNvGrpSpPr/>
              <p:nvPr/>
            </p:nvGrpSpPr>
            <p:grpSpPr>
              <a:xfrm>
                <a:off x="4103640" y="6324480"/>
                <a:ext cx="897480" cy="520920"/>
                <a:chOff x="4103640" y="6324480"/>
                <a:chExt cx="897480" cy="520920"/>
              </a:xfrm>
            </p:grpSpPr>
            <p:grpSp>
              <p:nvGrpSpPr>
                <p:cNvPr id="21" name=""/>
                <p:cNvGrpSpPr/>
                <p:nvPr/>
              </p:nvGrpSpPr>
              <p:grpSpPr>
                <a:xfrm>
                  <a:off x="4702320" y="6324480"/>
                  <a:ext cx="298800" cy="520920"/>
                  <a:chOff x="4702320" y="6324480"/>
                  <a:chExt cx="298800" cy="5209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>
                    <a:off x="4849920" y="632448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420" y="1447"/>
                        </a:moveTo>
                        <a:lnTo>
                          <a:pt x="420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20" y="144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4702320" y="6324480"/>
                    <a:ext cx="1479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11" y="0"/>
                        </a:lnTo>
                        <a:lnTo>
                          <a:pt x="411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4402080" y="6324480"/>
                  <a:ext cx="300600" cy="520920"/>
                  <a:chOff x="4402080" y="6324480"/>
                  <a:chExt cx="300600" cy="5209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4552920" y="6324480"/>
                    <a:ext cx="1497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1447">
                        <a:moveTo>
                          <a:pt x="416" y="1447"/>
                        </a:moveTo>
                        <a:lnTo>
                          <a:pt x="416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16" y="144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4402080" y="632448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20" y="0"/>
                        </a:lnTo>
                        <a:lnTo>
                          <a:pt x="420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4103640" y="6324480"/>
                  <a:ext cx="298800" cy="520920"/>
                  <a:chOff x="4103640" y="6324480"/>
                  <a:chExt cx="298800" cy="52092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>
                    <a:off x="4254480" y="6324480"/>
                    <a:ext cx="14796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1447">
                        <a:moveTo>
                          <a:pt x="411" y="1447"/>
                        </a:moveTo>
                        <a:lnTo>
                          <a:pt x="411" y="508"/>
                        </a:lnTo>
                        <a:lnTo>
                          <a:pt x="0" y="0"/>
                        </a:lnTo>
                        <a:lnTo>
                          <a:pt x="0" y="1447"/>
                        </a:lnTo>
                        <a:lnTo>
                          <a:pt x="411" y="1447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4103640" y="6324480"/>
                    <a:ext cx="151200" cy="520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47">
                        <a:moveTo>
                          <a:pt x="0" y="1447"/>
                        </a:moveTo>
                        <a:lnTo>
                          <a:pt x="0" y="508"/>
                        </a:lnTo>
                        <a:lnTo>
                          <a:pt x="420" y="0"/>
                        </a:lnTo>
                        <a:lnTo>
                          <a:pt x="420" y="1447"/>
                        </a:lnTo>
                        <a:lnTo>
                          <a:pt x="0" y="1447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" name=""/>
              <p:cNvGrpSpPr/>
              <p:nvPr/>
            </p:nvGrpSpPr>
            <p:grpSpPr>
              <a:xfrm>
                <a:off x="0" y="2909880"/>
                <a:ext cx="495720" cy="1057320"/>
                <a:chOff x="0" y="2909880"/>
                <a:chExt cx="495720" cy="1057320"/>
              </a:xfrm>
            </p:grpSpPr>
            <p:grpSp>
              <p:nvGrpSpPr>
                <p:cNvPr id="31" name=""/>
                <p:cNvGrpSpPr/>
                <p:nvPr/>
              </p:nvGrpSpPr>
              <p:grpSpPr>
                <a:xfrm>
                  <a:off x="0" y="3614760"/>
                  <a:ext cx="495720" cy="352440"/>
                  <a:chOff x="0" y="3614760"/>
                  <a:chExt cx="495720" cy="35244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0" y="379080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0" y="361476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" name=""/>
                <p:cNvGrpSpPr/>
                <p:nvPr/>
              </p:nvGrpSpPr>
              <p:grpSpPr>
                <a:xfrm>
                  <a:off x="0" y="3262320"/>
                  <a:ext cx="495720" cy="352440"/>
                  <a:chOff x="0" y="3262320"/>
                  <a:chExt cx="495720" cy="352440"/>
                </a:xfrm>
              </p:grpSpPr>
              <p:sp>
                <p:nvSpPr>
                  <p:cNvPr id="35" name=""/>
                  <p:cNvSpPr/>
                  <p:nvPr/>
                </p:nvSpPr>
                <p:spPr>
                  <a:xfrm>
                    <a:off x="0" y="343836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0" y="326232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0" y="2909880"/>
                  <a:ext cx="495720" cy="352440"/>
                  <a:chOff x="0" y="2909880"/>
                  <a:chExt cx="495720" cy="35244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0" y="308592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490"/>
                        </a:moveTo>
                        <a:lnTo>
                          <a:pt x="893" y="490"/>
                        </a:lnTo>
                        <a:lnTo>
                          <a:pt x="1377" y="0"/>
                        </a:lnTo>
                        <a:lnTo>
                          <a:pt x="0" y="0"/>
                        </a:lnTo>
                        <a:lnTo>
                          <a:pt x="0" y="49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0" y="2909880"/>
                    <a:ext cx="495720" cy="17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377" h="490">
                        <a:moveTo>
                          <a:pt x="0" y="0"/>
                        </a:moveTo>
                        <a:lnTo>
                          <a:pt x="893" y="0"/>
                        </a:lnTo>
                        <a:lnTo>
                          <a:pt x="1377" y="490"/>
                        </a:lnTo>
                        <a:lnTo>
                          <a:pt x="0" y="4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" name=""/>
              <p:cNvGrpSpPr/>
              <p:nvPr/>
            </p:nvGrpSpPr>
            <p:grpSpPr>
              <a:xfrm>
                <a:off x="8628120" y="2924280"/>
                <a:ext cx="503640" cy="1009800"/>
                <a:chOff x="8628120" y="2924280"/>
                <a:chExt cx="503640" cy="1009800"/>
              </a:xfrm>
            </p:grpSpPr>
            <p:grpSp>
              <p:nvGrpSpPr>
                <p:cNvPr id="41" name=""/>
                <p:cNvGrpSpPr/>
                <p:nvPr/>
              </p:nvGrpSpPr>
              <p:grpSpPr>
                <a:xfrm>
                  <a:off x="8628120" y="3597120"/>
                  <a:ext cx="503640" cy="336960"/>
                  <a:chOff x="8628120" y="3597120"/>
                  <a:chExt cx="503640" cy="336960"/>
                </a:xfrm>
              </p:grpSpPr>
              <p:sp>
                <p:nvSpPr>
                  <p:cNvPr id="42" name=""/>
                  <p:cNvSpPr/>
                  <p:nvPr/>
                </p:nvSpPr>
                <p:spPr>
                  <a:xfrm>
                    <a:off x="8628120" y="376560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628120" y="359712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" name=""/>
                <p:cNvGrpSpPr/>
                <p:nvPr/>
              </p:nvGrpSpPr>
              <p:grpSpPr>
                <a:xfrm>
                  <a:off x="8628120" y="3260880"/>
                  <a:ext cx="503640" cy="336600"/>
                  <a:chOff x="8628120" y="3260880"/>
                  <a:chExt cx="503640" cy="33660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8628120" y="342900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628120" y="326088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" name=""/>
                <p:cNvGrpSpPr/>
                <p:nvPr/>
              </p:nvGrpSpPr>
              <p:grpSpPr>
                <a:xfrm>
                  <a:off x="8628120" y="2924280"/>
                  <a:ext cx="503640" cy="336600"/>
                  <a:chOff x="8628120" y="2924280"/>
                  <a:chExt cx="503640" cy="33660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8628120" y="309240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468"/>
                        </a:moveTo>
                        <a:lnTo>
                          <a:pt x="492" y="468"/>
                        </a:lnTo>
                        <a:lnTo>
                          <a:pt x="0" y="0"/>
                        </a:lnTo>
                        <a:lnTo>
                          <a:pt x="1399" y="0"/>
                        </a:lnTo>
                        <a:lnTo>
                          <a:pt x="1399" y="468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8628120" y="2924280"/>
                    <a:ext cx="503640" cy="1684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468">
                        <a:moveTo>
                          <a:pt x="1399" y="0"/>
                        </a:moveTo>
                        <a:lnTo>
                          <a:pt x="492" y="0"/>
                        </a:lnTo>
                        <a:lnTo>
                          <a:pt x="0" y="468"/>
                        </a:lnTo>
                        <a:lnTo>
                          <a:pt x="1399" y="468"/>
                        </a:lnTo>
                        <a:lnTo>
                          <a:pt x="1399" y="0"/>
                        </a:lnTo>
                        <a:close/>
                      </a:path>
                    </a:pathLst>
                  </a:custGeom>
                  <a:solidFill>
                    <a:srgbClr val="00bcb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