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97040" cy="6553440"/>
            <a:chOff x="0" y="0"/>
            <a:chExt cx="8897040" cy="65534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534360" cy="6553440"/>
            </a:xfrm>
            <a:custGeom>
              <a:avLst/>
              <a:gdLst/>
              <a:ahLst/>
              <a:rect l="0" t="0" r="r" b="b"/>
              <a:pathLst>
                <a:path w="18151" h="18204">
                  <a:moveTo>
                    <a:pt x="18151" y="15981"/>
                  </a:moveTo>
                  <a:lnTo>
                    <a:pt x="2169" y="0"/>
                  </a:lnTo>
                  <a:lnTo>
                    <a:pt x="0" y="0"/>
                  </a:lnTo>
                  <a:lnTo>
                    <a:pt x="0" y="2275"/>
                  </a:lnTo>
                  <a:lnTo>
                    <a:pt x="15928" y="18204"/>
                  </a:lnTo>
                  <a:lnTo>
                    <a:pt x="18151" y="15981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52520" y="0"/>
              <a:ext cx="5810760" cy="5467680"/>
            </a:xfrm>
            <a:custGeom>
              <a:avLst/>
              <a:gdLst/>
              <a:ahLst/>
              <a:rect l="0" t="0" r="r" b="b"/>
              <a:pathLst>
                <a:path w="16141" h="15188">
                  <a:moveTo>
                    <a:pt x="1904" y="0"/>
                  </a:moveTo>
                  <a:lnTo>
                    <a:pt x="16141" y="14235"/>
                  </a:lnTo>
                  <a:lnTo>
                    <a:pt x="15189" y="15188"/>
                  </a:lnTo>
                  <a:lnTo>
                    <a:pt x="0" y="0"/>
                  </a:lnTo>
                  <a:lnTo>
                    <a:pt x="1904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48080" y="0"/>
              <a:ext cx="5029560" cy="4420080"/>
            </a:xfrm>
            <a:custGeom>
              <a:avLst/>
              <a:gdLst/>
              <a:ahLst/>
              <a:rect l="0" t="0" r="r" b="b"/>
              <a:pathLst>
                <a:path w="13971" h="12278">
                  <a:moveTo>
                    <a:pt x="3386" y="0"/>
                  </a:moveTo>
                  <a:lnTo>
                    <a:pt x="13971" y="10585"/>
                  </a:lnTo>
                  <a:lnTo>
                    <a:pt x="12277" y="12278"/>
                  </a:lnTo>
                  <a:lnTo>
                    <a:pt x="0" y="0"/>
                  </a:lnTo>
                  <a:lnTo>
                    <a:pt x="3386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96000" y="0"/>
              <a:ext cx="4001040" cy="3696120"/>
            </a:xfrm>
            <a:custGeom>
              <a:avLst/>
              <a:gdLst/>
              <a:ahLst/>
              <a:rect l="0" t="0" r="r" b="b"/>
              <a:pathLst>
                <a:path w="11114" h="10267">
                  <a:moveTo>
                    <a:pt x="0" y="0"/>
                  </a:moveTo>
                  <a:lnTo>
                    <a:pt x="10267" y="10267"/>
                  </a:lnTo>
                  <a:lnTo>
                    <a:pt x="11114" y="9421"/>
                  </a:lnTo>
                  <a:lnTo>
                    <a:pt x="16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