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543480"/>
            <a:ext cx="9131400" cy="3301920"/>
            <a:chOff x="0" y="3543480"/>
            <a:chExt cx="9131400" cy="3301920"/>
          </a:xfrm>
        </p:grpSpPr>
        <p:sp>
          <p:nvSpPr>
            <p:cNvPr id="1" name=""/>
            <p:cNvSpPr/>
            <p:nvPr/>
          </p:nvSpPr>
          <p:spPr>
            <a:xfrm>
              <a:off x="0" y="6477120"/>
              <a:ext cx="9131400" cy="3682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0000b2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400800" y="3543480"/>
              <a:ext cx="2630880" cy="3148200"/>
              <a:chOff x="6400800" y="3543480"/>
              <a:chExt cx="2630880" cy="3148200"/>
            </a:xfrm>
          </p:grpSpPr>
          <p:grpSp>
            <p:nvGrpSpPr>
              <p:cNvPr id="3" name=""/>
              <p:cNvGrpSpPr/>
              <p:nvPr/>
            </p:nvGrpSpPr>
            <p:grpSpPr>
              <a:xfrm>
                <a:off x="6746760" y="3543480"/>
                <a:ext cx="2284920" cy="3148200"/>
                <a:chOff x="6746760" y="3543480"/>
                <a:chExt cx="2284920" cy="3148200"/>
              </a:xfrm>
            </p:grpSpPr>
            <p:sp>
              <p:nvSpPr>
                <p:cNvPr id="4" name=""/>
                <p:cNvSpPr/>
                <p:nvPr/>
              </p:nvSpPr>
              <p:spPr>
                <a:xfrm>
                  <a:off x="6746760" y="3630600"/>
                  <a:ext cx="2284920" cy="2808720"/>
                </a:xfrm>
                <a:custGeom>
                  <a:avLst/>
                  <a:gdLst/>
                  <a:ahLst/>
                  <a:rect l="0" t="0" r="r" b="b"/>
                  <a:pathLst>
                    <a:path w="6347" h="7802">
                      <a:moveTo>
                        <a:pt x="3582" y="0"/>
                      </a:moveTo>
                      <a:lnTo>
                        <a:pt x="3975" y="147"/>
                      </a:lnTo>
                      <a:lnTo>
                        <a:pt x="4349" y="343"/>
                      </a:lnTo>
                      <a:lnTo>
                        <a:pt x="4703" y="569"/>
                      </a:lnTo>
                      <a:lnTo>
                        <a:pt x="5029" y="825"/>
                      </a:lnTo>
                      <a:lnTo>
                        <a:pt x="5324" y="1129"/>
                      </a:lnTo>
                      <a:lnTo>
                        <a:pt x="5580" y="1454"/>
                      </a:lnTo>
                      <a:lnTo>
                        <a:pt x="5806" y="1807"/>
                      </a:lnTo>
                      <a:lnTo>
                        <a:pt x="6003" y="2172"/>
                      </a:lnTo>
                      <a:lnTo>
                        <a:pt x="6150" y="2565"/>
                      </a:lnTo>
                      <a:lnTo>
                        <a:pt x="6259" y="2968"/>
                      </a:lnTo>
                      <a:lnTo>
                        <a:pt x="6327" y="3380"/>
                      </a:lnTo>
                      <a:lnTo>
                        <a:pt x="6347" y="3803"/>
                      </a:lnTo>
                      <a:lnTo>
                        <a:pt x="6327" y="4225"/>
                      </a:lnTo>
                      <a:lnTo>
                        <a:pt x="6259" y="4638"/>
                      </a:lnTo>
                      <a:lnTo>
                        <a:pt x="6150" y="5041"/>
                      </a:lnTo>
                      <a:lnTo>
                        <a:pt x="6003" y="5424"/>
                      </a:lnTo>
                      <a:lnTo>
                        <a:pt x="5806" y="5797"/>
                      </a:lnTo>
                      <a:lnTo>
                        <a:pt x="5580" y="6152"/>
                      </a:lnTo>
                      <a:lnTo>
                        <a:pt x="5324" y="6476"/>
                      </a:lnTo>
                      <a:lnTo>
                        <a:pt x="5029" y="6781"/>
                      </a:lnTo>
                      <a:lnTo>
                        <a:pt x="4703" y="7046"/>
                      </a:lnTo>
                      <a:lnTo>
                        <a:pt x="4349" y="7262"/>
                      </a:lnTo>
                      <a:lnTo>
                        <a:pt x="3975" y="7458"/>
                      </a:lnTo>
                      <a:lnTo>
                        <a:pt x="3582" y="7606"/>
                      </a:lnTo>
                      <a:lnTo>
                        <a:pt x="3178" y="7714"/>
                      </a:lnTo>
                      <a:lnTo>
                        <a:pt x="2765" y="7783"/>
                      </a:lnTo>
                      <a:lnTo>
                        <a:pt x="2352" y="7802"/>
                      </a:lnTo>
                      <a:lnTo>
                        <a:pt x="1929" y="7783"/>
                      </a:lnTo>
                      <a:lnTo>
                        <a:pt x="1515" y="7714"/>
                      </a:lnTo>
                      <a:lnTo>
                        <a:pt x="1111" y="7606"/>
                      </a:lnTo>
                      <a:lnTo>
                        <a:pt x="728" y="7458"/>
                      </a:lnTo>
                      <a:lnTo>
                        <a:pt x="354" y="7262"/>
                      </a:lnTo>
                      <a:lnTo>
                        <a:pt x="0" y="7046"/>
                      </a:lnTo>
                      <a:lnTo>
                        <a:pt x="226" y="6722"/>
                      </a:lnTo>
                      <a:lnTo>
                        <a:pt x="550" y="6928"/>
                      </a:lnTo>
                      <a:lnTo>
                        <a:pt x="885" y="7095"/>
                      </a:lnTo>
                      <a:lnTo>
                        <a:pt x="1239" y="7232"/>
                      </a:lnTo>
                      <a:lnTo>
                        <a:pt x="1604" y="7331"/>
                      </a:lnTo>
                      <a:lnTo>
                        <a:pt x="1968" y="7390"/>
                      </a:lnTo>
                      <a:lnTo>
                        <a:pt x="2352" y="7409"/>
                      </a:lnTo>
                      <a:lnTo>
                        <a:pt x="2726" y="7390"/>
                      </a:lnTo>
                      <a:lnTo>
                        <a:pt x="3100" y="7331"/>
                      </a:lnTo>
                      <a:lnTo>
                        <a:pt x="3464" y="7232"/>
                      </a:lnTo>
                      <a:lnTo>
                        <a:pt x="3818" y="7095"/>
                      </a:lnTo>
                      <a:lnTo>
                        <a:pt x="4152" y="6928"/>
                      </a:lnTo>
                      <a:lnTo>
                        <a:pt x="4467" y="6722"/>
                      </a:lnTo>
                      <a:lnTo>
                        <a:pt x="4763" y="6486"/>
                      </a:lnTo>
                      <a:lnTo>
                        <a:pt x="5029" y="6221"/>
                      </a:lnTo>
                      <a:lnTo>
                        <a:pt x="5265" y="5926"/>
                      </a:lnTo>
                      <a:lnTo>
                        <a:pt x="5471" y="5601"/>
                      </a:lnTo>
                      <a:lnTo>
                        <a:pt x="5649" y="5267"/>
                      </a:lnTo>
                      <a:lnTo>
                        <a:pt x="5786" y="4923"/>
                      </a:lnTo>
                      <a:lnTo>
                        <a:pt x="5875" y="4549"/>
                      </a:lnTo>
                      <a:lnTo>
                        <a:pt x="5934" y="4176"/>
                      </a:lnTo>
                      <a:lnTo>
                        <a:pt x="5954" y="3803"/>
                      </a:lnTo>
                      <a:lnTo>
                        <a:pt x="5934" y="3419"/>
                      </a:lnTo>
                      <a:lnTo>
                        <a:pt x="5875" y="3046"/>
                      </a:lnTo>
                      <a:lnTo>
                        <a:pt x="5786" y="2683"/>
                      </a:lnTo>
                      <a:lnTo>
                        <a:pt x="5649" y="2339"/>
                      </a:lnTo>
                      <a:lnTo>
                        <a:pt x="5471" y="1995"/>
                      </a:lnTo>
                      <a:lnTo>
                        <a:pt x="5265" y="1680"/>
                      </a:lnTo>
                      <a:lnTo>
                        <a:pt x="5029" y="1385"/>
                      </a:lnTo>
                      <a:lnTo>
                        <a:pt x="4763" y="1120"/>
                      </a:lnTo>
                      <a:lnTo>
                        <a:pt x="4467" y="884"/>
                      </a:lnTo>
                      <a:lnTo>
                        <a:pt x="4152" y="677"/>
                      </a:lnTo>
                      <a:lnTo>
                        <a:pt x="3818" y="501"/>
                      </a:lnTo>
                      <a:lnTo>
                        <a:pt x="3464" y="373"/>
                      </a:lnTo>
                      <a:lnTo>
                        <a:pt x="3473" y="343"/>
                      </a:lnTo>
                      <a:lnTo>
                        <a:pt x="3582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ff"/>
                    </a:gs>
                    <a:gs pos="100000">
                      <a:srgbClr val="0000b2"/>
                    </a:gs>
                  </a:gsLst>
                  <a:lin ang="0"/>
                </a:gra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 flipV="1">
                  <a:off x="6802560" y="6000840"/>
                  <a:ext cx="226800" cy="40932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2600" rIns="102600" tIns="57600" bIns="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 flipV="1">
                  <a:off x="8064360" y="3814920"/>
                  <a:ext cx="79560" cy="15696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2600" rIns="102600" tIns="57600" bIns="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 flipV="1">
                  <a:off x="8197920" y="3543480"/>
                  <a:ext cx="79200" cy="15696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2600" rIns="102600" tIns="57600" bIns="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7054920" y="6450120"/>
                  <a:ext cx="1333800" cy="241560"/>
                </a:xfrm>
                <a:custGeom>
                  <a:avLst/>
                  <a:gdLst/>
                  <a:ahLst/>
                  <a:rect l="0" t="0" r="r" b="b"/>
                  <a:pathLst>
                    <a:path w="3705" h="671">
                      <a:moveTo>
                        <a:pt x="15" y="430"/>
                      </a:moveTo>
                      <a:lnTo>
                        <a:pt x="90" y="355"/>
                      </a:lnTo>
                      <a:lnTo>
                        <a:pt x="195" y="284"/>
                      </a:lnTo>
                      <a:lnTo>
                        <a:pt x="391" y="189"/>
                      </a:lnTo>
                      <a:lnTo>
                        <a:pt x="617" y="132"/>
                      </a:lnTo>
                      <a:lnTo>
                        <a:pt x="828" y="82"/>
                      </a:lnTo>
                      <a:lnTo>
                        <a:pt x="1114" y="37"/>
                      </a:lnTo>
                      <a:lnTo>
                        <a:pt x="1385" y="12"/>
                      </a:lnTo>
                      <a:lnTo>
                        <a:pt x="1701" y="0"/>
                      </a:lnTo>
                      <a:lnTo>
                        <a:pt x="2094" y="6"/>
                      </a:lnTo>
                      <a:lnTo>
                        <a:pt x="2500" y="25"/>
                      </a:lnTo>
                      <a:lnTo>
                        <a:pt x="2786" y="63"/>
                      </a:lnTo>
                      <a:lnTo>
                        <a:pt x="3087" y="120"/>
                      </a:lnTo>
                      <a:lnTo>
                        <a:pt x="3373" y="208"/>
                      </a:lnTo>
                      <a:lnTo>
                        <a:pt x="3524" y="290"/>
                      </a:lnTo>
                      <a:lnTo>
                        <a:pt x="3614" y="361"/>
                      </a:lnTo>
                      <a:lnTo>
                        <a:pt x="3705" y="475"/>
                      </a:lnTo>
                      <a:lnTo>
                        <a:pt x="3554" y="538"/>
                      </a:lnTo>
                      <a:lnTo>
                        <a:pt x="3298" y="589"/>
                      </a:lnTo>
                      <a:lnTo>
                        <a:pt x="2982" y="620"/>
                      </a:lnTo>
                      <a:lnTo>
                        <a:pt x="2681" y="652"/>
                      </a:lnTo>
                      <a:lnTo>
                        <a:pt x="2319" y="664"/>
                      </a:lnTo>
                      <a:lnTo>
                        <a:pt x="1928" y="671"/>
                      </a:lnTo>
                      <a:lnTo>
                        <a:pt x="1550" y="671"/>
                      </a:lnTo>
                      <a:lnTo>
                        <a:pt x="1159" y="664"/>
                      </a:lnTo>
                      <a:lnTo>
                        <a:pt x="722" y="633"/>
                      </a:lnTo>
                      <a:lnTo>
                        <a:pt x="376" y="595"/>
                      </a:lnTo>
                      <a:lnTo>
                        <a:pt x="90" y="532"/>
                      </a:lnTo>
                      <a:lnTo>
                        <a:pt x="0" y="481"/>
                      </a:lnTo>
                      <a:lnTo>
                        <a:pt x="15" y="43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ff"/>
                    </a:gs>
                    <a:gs pos="100000">
                      <a:srgbClr val="000019"/>
                    </a:gs>
                  </a:gsLst>
                  <a:lin ang="0"/>
                </a:gra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" name=""/>
              <p:cNvGrpSpPr/>
              <p:nvPr/>
            </p:nvGrpSpPr>
            <p:grpSpPr>
              <a:xfrm>
                <a:off x="6400800" y="3825720"/>
                <a:ext cx="2376360" cy="2371680"/>
                <a:chOff x="6400800" y="3825720"/>
                <a:chExt cx="2376360" cy="2371680"/>
              </a:xfrm>
            </p:grpSpPr>
            <p:sp>
              <p:nvSpPr>
                <p:cNvPr id="10" name=""/>
                <p:cNvSpPr/>
                <p:nvPr/>
              </p:nvSpPr>
              <p:spPr>
                <a:xfrm>
                  <a:off x="6400800" y="3825720"/>
                  <a:ext cx="2376360" cy="237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ff"/>
                    </a:gs>
                    <a:gs pos="100000">
                      <a:srgbClr val="000066"/>
                    </a:gs>
                  </a:gsLst>
                  <a:lin ang="0"/>
                </a:gra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1" name=""/>
                <p:cNvGrpSpPr/>
                <p:nvPr/>
              </p:nvGrpSpPr>
              <p:grpSpPr>
                <a:xfrm>
                  <a:off x="6400800" y="4073400"/>
                  <a:ext cx="2208600" cy="1759680"/>
                  <a:chOff x="6400800" y="4073400"/>
                  <a:chExt cx="2208600" cy="1759680"/>
                </a:xfrm>
              </p:grpSpPr>
              <p:sp>
                <p:nvSpPr>
                  <p:cNvPr id="12" name=""/>
                  <p:cNvSpPr/>
                  <p:nvPr/>
                </p:nvSpPr>
                <p:spPr>
                  <a:xfrm>
                    <a:off x="6713640" y="4718160"/>
                    <a:ext cx="0" cy="20520"/>
                  </a:xfrm>
                  <a:custGeom>
                    <a:avLst/>
                    <a:gdLst/>
                    <a:ahLst/>
                    <a:rect l="0" t="0" r="r" b="b"/>
                    <a:pathLst>
                      <a:path w="0" h="57">
                        <a:moveTo>
                          <a:pt x="0" y="0"/>
                        </a:moveTo>
                        <a:lnTo>
                          <a:pt x="0" y="57"/>
                        </a:lnTo>
                        <a:lnTo>
                          <a:pt x="0" y="57"/>
                        </a:lnTo>
                        <a:lnTo>
                          <a:pt x="0" y="2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0">
                    <a:noFill/>
                  </a:ln>
                </p:spPr>
                <p:txBody>
                  <a:bodyPr lIns="90000" rIns="90000" tIns="-24480" bIns="-24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>
                    <a:off x="6751800" y="4767120"/>
                    <a:ext cx="11520" cy="9720"/>
                  </a:xfrm>
                  <a:custGeom>
                    <a:avLst/>
                    <a:gdLst/>
                    <a:ahLst/>
                    <a:rect l="0" t="0" r="r" b="b"/>
                    <a:pathLst>
                      <a:path w="32" h="27">
                        <a:moveTo>
                          <a:pt x="0" y="0"/>
                        </a:moveTo>
                        <a:lnTo>
                          <a:pt x="32" y="0"/>
                        </a:lnTo>
                        <a:lnTo>
                          <a:pt x="32" y="27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0">
                    <a:noFill/>
                  </a:ln>
                </p:spPr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>
                    <a:off x="6878520" y="4702320"/>
                    <a:ext cx="79560" cy="74880"/>
                  </a:xfrm>
                  <a:custGeom>
                    <a:avLst/>
                    <a:gdLst/>
                    <a:ahLst/>
                    <a:rect l="0" t="0" r="r" b="b"/>
                    <a:pathLst>
                      <a:path w="221" h="208">
                        <a:moveTo>
                          <a:pt x="221" y="0"/>
                        </a:moveTo>
                        <a:lnTo>
                          <a:pt x="135" y="0"/>
                        </a:lnTo>
                        <a:lnTo>
                          <a:pt x="89" y="55"/>
                        </a:lnTo>
                        <a:lnTo>
                          <a:pt x="57" y="55"/>
                        </a:lnTo>
                        <a:lnTo>
                          <a:pt x="32" y="83"/>
                        </a:lnTo>
                        <a:lnTo>
                          <a:pt x="0" y="83"/>
                        </a:lnTo>
                        <a:lnTo>
                          <a:pt x="0" y="156"/>
                        </a:lnTo>
                        <a:lnTo>
                          <a:pt x="53" y="208"/>
                        </a:lnTo>
                        <a:lnTo>
                          <a:pt x="180" y="208"/>
                        </a:lnTo>
                        <a:lnTo>
                          <a:pt x="221" y="156"/>
                        </a:lnTo>
                        <a:lnTo>
                          <a:pt x="221" y="0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0">
                    <a:noFill/>
                  </a:ln>
                </p:spPr>
                <p:txBody>
                  <a:bodyPr lIns="90000" rIns="90000" tIns="29880" bIns="29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>
                    <a:off x="6400800" y="4762440"/>
                    <a:ext cx="714600" cy="930600"/>
                  </a:xfrm>
                  <a:custGeom>
                    <a:avLst/>
                    <a:gdLst/>
                    <a:ahLst/>
                    <a:rect l="0" t="0" r="r" b="b"/>
                    <a:pathLst>
                      <a:path w="1985" h="2585">
                        <a:moveTo>
                          <a:pt x="472" y="0"/>
                        </a:moveTo>
                        <a:lnTo>
                          <a:pt x="437" y="70"/>
                        </a:lnTo>
                        <a:lnTo>
                          <a:pt x="284" y="205"/>
                        </a:lnTo>
                        <a:lnTo>
                          <a:pt x="244" y="332"/>
                        </a:lnTo>
                        <a:lnTo>
                          <a:pt x="131" y="420"/>
                        </a:lnTo>
                        <a:lnTo>
                          <a:pt x="52" y="595"/>
                        </a:lnTo>
                        <a:lnTo>
                          <a:pt x="52" y="700"/>
                        </a:lnTo>
                        <a:lnTo>
                          <a:pt x="0" y="884"/>
                        </a:lnTo>
                        <a:lnTo>
                          <a:pt x="69" y="963"/>
                        </a:lnTo>
                        <a:lnTo>
                          <a:pt x="249" y="1200"/>
                        </a:lnTo>
                        <a:lnTo>
                          <a:pt x="301" y="1169"/>
                        </a:lnTo>
                        <a:lnTo>
                          <a:pt x="611" y="1169"/>
                        </a:lnTo>
                        <a:lnTo>
                          <a:pt x="760" y="1226"/>
                        </a:lnTo>
                        <a:lnTo>
                          <a:pt x="743" y="1406"/>
                        </a:lnTo>
                        <a:lnTo>
                          <a:pt x="852" y="1652"/>
                        </a:lnTo>
                        <a:lnTo>
                          <a:pt x="843" y="1717"/>
                        </a:lnTo>
                        <a:lnTo>
                          <a:pt x="887" y="1792"/>
                        </a:lnTo>
                        <a:lnTo>
                          <a:pt x="821" y="1963"/>
                        </a:lnTo>
                        <a:lnTo>
                          <a:pt x="900" y="2177"/>
                        </a:lnTo>
                        <a:lnTo>
                          <a:pt x="944" y="2348"/>
                        </a:lnTo>
                        <a:lnTo>
                          <a:pt x="997" y="2453"/>
                        </a:lnTo>
                        <a:lnTo>
                          <a:pt x="1054" y="2585"/>
                        </a:lnTo>
                        <a:lnTo>
                          <a:pt x="1159" y="2567"/>
                        </a:lnTo>
                        <a:lnTo>
                          <a:pt x="1334" y="2471"/>
                        </a:lnTo>
                        <a:lnTo>
                          <a:pt x="1412" y="2352"/>
                        </a:lnTo>
                        <a:lnTo>
                          <a:pt x="1408" y="2274"/>
                        </a:lnTo>
                        <a:lnTo>
                          <a:pt x="1508" y="2204"/>
                        </a:lnTo>
                        <a:lnTo>
                          <a:pt x="1491" y="2090"/>
                        </a:lnTo>
                        <a:lnTo>
                          <a:pt x="1644" y="1906"/>
                        </a:lnTo>
                        <a:lnTo>
                          <a:pt x="1666" y="1757"/>
                        </a:lnTo>
                        <a:lnTo>
                          <a:pt x="1626" y="1704"/>
                        </a:lnTo>
                        <a:lnTo>
                          <a:pt x="1644" y="1643"/>
                        </a:lnTo>
                        <a:lnTo>
                          <a:pt x="1609" y="1586"/>
                        </a:lnTo>
                        <a:lnTo>
                          <a:pt x="1723" y="1441"/>
                        </a:lnTo>
                        <a:lnTo>
                          <a:pt x="1723" y="1367"/>
                        </a:lnTo>
                        <a:lnTo>
                          <a:pt x="1884" y="1243"/>
                        </a:lnTo>
                        <a:lnTo>
                          <a:pt x="1985" y="911"/>
                        </a:lnTo>
                        <a:lnTo>
                          <a:pt x="1841" y="998"/>
                        </a:lnTo>
                        <a:lnTo>
                          <a:pt x="1710" y="959"/>
                        </a:lnTo>
                        <a:lnTo>
                          <a:pt x="1727" y="880"/>
                        </a:lnTo>
                        <a:lnTo>
                          <a:pt x="1600" y="792"/>
                        </a:lnTo>
                        <a:lnTo>
                          <a:pt x="1539" y="582"/>
                        </a:lnTo>
                        <a:lnTo>
                          <a:pt x="1417" y="411"/>
                        </a:lnTo>
                        <a:lnTo>
                          <a:pt x="1417" y="289"/>
                        </a:lnTo>
                        <a:lnTo>
                          <a:pt x="1351" y="284"/>
                        </a:lnTo>
                        <a:lnTo>
                          <a:pt x="1307" y="302"/>
                        </a:lnTo>
                        <a:lnTo>
                          <a:pt x="1119" y="236"/>
                        </a:lnTo>
                        <a:lnTo>
                          <a:pt x="1071" y="284"/>
                        </a:lnTo>
                        <a:lnTo>
                          <a:pt x="1032" y="346"/>
                        </a:lnTo>
                        <a:lnTo>
                          <a:pt x="930" y="232"/>
                        </a:lnTo>
                        <a:lnTo>
                          <a:pt x="834" y="205"/>
                        </a:lnTo>
                        <a:lnTo>
                          <a:pt x="826" y="65"/>
                        </a:lnTo>
                        <a:lnTo>
                          <a:pt x="681" y="87"/>
                        </a:lnTo>
                        <a:lnTo>
                          <a:pt x="594" y="56"/>
                        </a:lnTo>
                        <a:lnTo>
                          <a:pt x="472" y="0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" name=""/>
                  <p:cNvSpPr/>
                  <p:nvPr/>
                </p:nvSpPr>
                <p:spPr>
                  <a:xfrm>
                    <a:off x="8053560" y="4995720"/>
                    <a:ext cx="25920" cy="43200"/>
                  </a:xfrm>
                  <a:custGeom>
                    <a:avLst/>
                    <a:gdLst/>
                    <a:ahLst/>
                    <a:rect l="0" t="0" r="r" b="b"/>
                    <a:pathLst>
                      <a:path w="72" h="120">
                        <a:moveTo>
                          <a:pt x="29" y="0"/>
                        </a:moveTo>
                        <a:lnTo>
                          <a:pt x="42" y="37"/>
                        </a:lnTo>
                        <a:lnTo>
                          <a:pt x="29" y="59"/>
                        </a:lnTo>
                        <a:lnTo>
                          <a:pt x="29" y="82"/>
                        </a:lnTo>
                        <a:lnTo>
                          <a:pt x="72" y="101"/>
                        </a:lnTo>
                        <a:lnTo>
                          <a:pt x="72" y="120"/>
                        </a:lnTo>
                        <a:lnTo>
                          <a:pt x="42" y="101"/>
                        </a:lnTo>
                        <a:lnTo>
                          <a:pt x="12" y="120"/>
                        </a:lnTo>
                        <a:lnTo>
                          <a:pt x="0" y="101"/>
                        </a:lnTo>
                        <a:lnTo>
                          <a:pt x="12" y="82"/>
                        </a:lnTo>
                        <a:lnTo>
                          <a:pt x="0" y="59"/>
                        </a:lnTo>
                        <a:lnTo>
                          <a:pt x="12" y="18"/>
                        </a:lnTo>
                        <a:lnTo>
                          <a:pt x="29" y="0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0">
                    <a:noFill/>
                  </a:ln>
                </p:spPr>
                <p:txBody>
                  <a:bodyPr lIns="90000" rIns="90000" tIns="-1800" bIns="-1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>
                    <a:off x="7918560" y="5189400"/>
                    <a:ext cx="106560" cy="152640"/>
                  </a:xfrm>
                  <a:custGeom>
                    <a:avLst/>
                    <a:gdLst/>
                    <a:ahLst/>
                    <a:rect l="0" t="0" r="r" b="b"/>
                    <a:pathLst>
                      <a:path w="296" h="424">
                        <a:moveTo>
                          <a:pt x="0" y="214"/>
                        </a:moveTo>
                        <a:lnTo>
                          <a:pt x="107" y="214"/>
                        </a:lnTo>
                        <a:lnTo>
                          <a:pt x="228" y="0"/>
                        </a:lnTo>
                        <a:lnTo>
                          <a:pt x="296" y="121"/>
                        </a:lnTo>
                        <a:lnTo>
                          <a:pt x="244" y="424"/>
                        </a:lnTo>
                        <a:lnTo>
                          <a:pt x="23" y="353"/>
                        </a:lnTo>
                        <a:lnTo>
                          <a:pt x="0" y="214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" name=""/>
                  <p:cNvSpPr/>
                  <p:nvPr/>
                </p:nvSpPr>
                <p:spPr>
                  <a:xfrm>
                    <a:off x="8132760" y="5248440"/>
                    <a:ext cx="184680" cy="147960"/>
                  </a:xfrm>
                  <a:custGeom>
                    <a:avLst/>
                    <a:gdLst/>
                    <a:ahLst/>
                    <a:rect l="0" t="0" r="r" b="b"/>
                    <a:pathLst>
                      <a:path w="513" h="411">
                        <a:moveTo>
                          <a:pt x="29" y="97"/>
                        </a:moveTo>
                        <a:lnTo>
                          <a:pt x="0" y="0"/>
                        </a:lnTo>
                        <a:lnTo>
                          <a:pt x="174" y="40"/>
                        </a:lnTo>
                        <a:lnTo>
                          <a:pt x="420" y="142"/>
                        </a:lnTo>
                        <a:lnTo>
                          <a:pt x="420" y="216"/>
                        </a:lnTo>
                        <a:lnTo>
                          <a:pt x="513" y="411"/>
                        </a:lnTo>
                        <a:lnTo>
                          <a:pt x="322" y="224"/>
                        </a:lnTo>
                        <a:lnTo>
                          <a:pt x="195" y="240"/>
                        </a:lnTo>
                        <a:lnTo>
                          <a:pt x="29" y="97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" name=""/>
                  <p:cNvSpPr/>
                  <p:nvPr/>
                </p:nvSpPr>
                <p:spPr>
                  <a:xfrm>
                    <a:off x="8485200" y="5551560"/>
                    <a:ext cx="124200" cy="159120"/>
                  </a:xfrm>
                  <a:custGeom>
                    <a:avLst/>
                    <a:gdLst/>
                    <a:ahLst/>
                    <a:rect l="0" t="0" r="r" b="b"/>
                    <a:pathLst>
                      <a:path w="345" h="442">
                        <a:moveTo>
                          <a:pt x="210" y="0"/>
                        </a:moveTo>
                        <a:lnTo>
                          <a:pt x="345" y="131"/>
                        </a:lnTo>
                        <a:lnTo>
                          <a:pt x="71" y="442"/>
                        </a:lnTo>
                        <a:lnTo>
                          <a:pt x="0" y="371"/>
                        </a:lnTo>
                        <a:lnTo>
                          <a:pt x="198" y="173"/>
                        </a:lnTo>
                        <a:lnTo>
                          <a:pt x="210" y="0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>
                    <a:off x="6622920" y="4462560"/>
                    <a:ext cx="60840" cy="103680"/>
                  </a:xfrm>
                  <a:custGeom>
                    <a:avLst/>
                    <a:gdLst/>
                    <a:ahLst/>
                    <a:rect l="0" t="0" r="r" b="b"/>
                    <a:pathLst>
                      <a:path w="169" h="288">
                        <a:moveTo>
                          <a:pt x="169" y="227"/>
                        </a:moveTo>
                        <a:lnTo>
                          <a:pt x="122" y="189"/>
                        </a:lnTo>
                        <a:lnTo>
                          <a:pt x="122" y="61"/>
                        </a:lnTo>
                        <a:lnTo>
                          <a:pt x="146" y="36"/>
                        </a:lnTo>
                        <a:lnTo>
                          <a:pt x="107" y="36"/>
                        </a:lnTo>
                        <a:lnTo>
                          <a:pt x="131" y="0"/>
                        </a:lnTo>
                        <a:lnTo>
                          <a:pt x="100" y="0"/>
                        </a:lnTo>
                        <a:lnTo>
                          <a:pt x="61" y="40"/>
                        </a:lnTo>
                        <a:lnTo>
                          <a:pt x="61" y="119"/>
                        </a:lnTo>
                        <a:lnTo>
                          <a:pt x="80" y="136"/>
                        </a:lnTo>
                        <a:lnTo>
                          <a:pt x="80" y="172"/>
                        </a:lnTo>
                        <a:lnTo>
                          <a:pt x="69" y="172"/>
                        </a:lnTo>
                        <a:lnTo>
                          <a:pt x="38" y="201"/>
                        </a:lnTo>
                        <a:lnTo>
                          <a:pt x="38" y="235"/>
                        </a:lnTo>
                        <a:lnTo>
                          <a:pt x="0" y="288"/>
                        </a:lnTo>
                        <a:lnTo>
                          <a:pt x="126" y="288"/>
                        </a:lnTo>
                        <a:lnTo>
                          <a:pt x="169" y="227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" name=""/>
                  <p:cNvSpPr/>
                  <p:nvPr/>
                </p:nvSpPr>
                <p:spPr>
                  <a:xfrm>
                    <a:off x="6602400" y="4497480"/>
                    <a:ext cx="32040" cy="36720"/>
                  </a:xfrm>
                  <a:custGeom>
                    <a:avLst/>
                    <a:gdLst/>
                    <a:ahLst/>
                    <a:rect l="0" t="0" r="r" b="b"/>
                    <a:pathLst>
                      <a:path w="89" h="102">
                        <a:moveTo>
                          <a:pt x="75" y="36"/>
                        </a:moveTo>
                        <a:lnTo>
                          <a:pt x="89" y="36"/>
                        </a:lnTo>
                        <a:lnTo>
                          <a:pt x="89" y="0"/>
                        </a:lnTo>
                        <a:lnTo>
                          <a:pt x="58" y="0"/>
                        </a:lnTo>
                        <a:lnTo>
                          <a:pt x="0" y="66"/>
                        </a:lnTo>
                        <a:lnTo>
                          <a:pt x="0" y="102"/>
                        </a:lnTo>
                        <a:lnTo>
                          <a:pt x="55" y="102"/>
                        </a:lnTo>
                        <a:lnTo>
                          <a:pt x="75" y="77"/>
                        </a:lnTo>
                        <a:lnTo>
                          <a:pt x="75" y="36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0">
                    <a:noFill/>
                  </a:ln>
                </p:spPr>
                <p:txBody>
                  <a:bodyPr lIns="90000" rIns="90000" tIns="-8280" bIns="-8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" name=""/>
                  <p:cNvSpPr/>
                  <p:nvPr/>
                </p:nvSpPr>
                <p:spPr>
                  <a:xfrm>
                    <a:off x="6553080" y="4435560"/>
                    <a:ext cx="405000" cy="341640"/>
                  </a:xfrm>
                  <a:custGeom>
                    <a:avLst/>
                    <a:gdLst/>
                    <a:ahLst/>
                    <a:rect l="0" t="0" r="r" b="b"/>
                    <a:pathLst>
                      <a:path w="1125" h="949">
                        <a:moveTo>
                          <a:pt x="741" y="0"/>
                        </a:moveTo>
                        <a:lnTo>
                          <a:pt x="741" y="64"/>
                        </a:lnTo>
                        <a:lnTo>
                          <a:pt x="763" y="90"/>
                        </a:lnTo>
                        <a:lnTo>
                          <a:pt x="885" y="90"/>
                        </a:lnTo>
                        <a:lnTo>
                          <a:pt x="885" y="124"/>
                        </a:lnTo>
                        <a:lnTo>
                          <a:pt x="798" y="124"/>
                        </a:lnTo>
                        <a:lnTo>
                          <a:pt x="798" y="227"/>
                        </a:lnTo>
                        <a:lnTo>
                          <a:pt x="759" y="180"/>
                        </a:lnTo>
                        <a:lnTo>
                          <a:pt x="759" y="248"/>
                        </a:lnTo>
                        <a:lnTo>
                          <a:pt x="707" y="308"/>
                        </a:lnTo>
                        <a:lnTo>
                          <a:pt x="672" y="274"/>
                        </a:lnTo>
                        <a:lnTo>
                          <a:pt x="619" y="317"/>
                        </a:lnTo>
                        <a:lnTo>
                          <a:pt x="611" y="304"/>
                        </a:lnTo>
                        <a:lnTo>
                          <a:pt x="540" y="304"/>
                        </a:lnTo>
                        <a:lnTo>
                          <a:pt x="580" y="261"/>
                        </a:lnTo>
                        <a:lnTo>
                          <a:pt x="580" y="244"/>
                        </a:lnTo>
                        <a:lnTo>
                          <a:pt x="544" y="210"/>
                        </a:lnTo>
                        <a:lnTo>
                          <a:pt x="544" y="163"/>
                        </a:lnTo>
                        <a:lnTo>
                          <a:pt x="501" y="210"/>
                        </a:lnTo>
                        <a:lnTo>
                          <a:pt x="501" y="304"/>
                        </a:lnTo>
                        <a:lnTo>
                          <a:pt x="448" y="304"/>
                        </a:lnTo>
                        <a:lnTo>
                          <a:pt x="383" y="368"/>
                        </a:lnTo>
                        <a:lnTo>
                          <a:pt x="357" y="368"/>
                        </a:lnTo>
                        <a:lnTo>
                          <a:pt x="322" y="416"/>
                        </a:lnTo>
                        <a:lnTo>
                          <a:pt x="187" y="416"/>
                        </a:lnTo>
                        <a:lnTo>
                          <a:pt x="235" y="477"/>
                        </a:lnTo>
                        <a:lnTo>
                          <a:pt x="235" y="575"/>
                        </a:lnTo>
                        <a:lnTo>
                          <a:pt x="191" y="631"/>
                        </a:lnTo>
                        <a:lnTo>
                          <a:pt x="135" y="575"/>
                        </a:lnTo>
                        <a:lnTo>
                          <a:pt x="34" y="575"/>
                        </a:lnTo>
                        <a:lnTo>
                          <a:pt x="34" y="644"/>
                        </a:lnTo>
                        <a:lnTo>
                          <a:pt x="0" y="687"/>
                        </a:lnTo>
                        <a:lnTo>
                          <a:pt x="0" y="781"/>
                        </a:lnTo>
                        <a:lnTo>
                          <a:pt x="65" y="854"/>
                        </a:lnTo>
                        <a:lnTo>
                          <a:pt x="161" y="854"/>
                        </a:lnTo>
                        <a:lnTo>
                          <a:pt x="313" y="674"/>
                        </a:lnTo>
                        <a:lnTo>
                          <a:pt x="444" y="674"/>
                        </a:lnTo>
                        <a:lnTo>
                          <a:pt x="461" y="640"/>
                        </a:lnTo>
                        <a:lnTo>
                          <a:pt x="492" y="674"/>
                        </a:lnTo>
                        <a:lnTo>
                          <a:pt x="488" y="708"/>
                        </a:lnTo>
                        <a:lnTo>
                          <a:pt x="615" y="833"/>
                        </a:lnTo>
                        <a:lnTo>
                          <a:pt x="615" y="889"/>
                        </a:lnTo>
                        <a:lnTo>
                          <a:pt x="641" y="863"/>
                        </a:lnTo>
                        <a:lnTo>
                          <a:pt x="628" y="833"/>
                        </a:lnTo>
                        <a:lnTo>
                          <a:pt x="641" y="816"/>
                        </a:lnTo>
                        <a:lnTo>
                          <a:pt x="663" y="833"/>
                        </a:lnTo>
                        <a:lnTo>
                          <a:pt x="672" y="828"/>
                        </a:lnTo>
                        <a:lnTo>
                          <a:pt x="540" y="670"/>
                        </a:lnTo>
                        <a:lnTo>
                          <a:pt x="540" y="614"/>
                        </a:lnTo>
                        <a:lnTo>
                          <a:pt x="580" y="614"/>
                        </a:lnTo>
                        <a:lnTo>
                          <a:pt x="580" y="644"/>
                        </a:lnTo>
                        <a:lnTo>
                          <a:pt x="707" y="786"/>
                        </a:lnTo>
                        <a:lnTo>
                          <a:pt x="707" y="828"/>
                        </a:lnTo>
                        <a:lnTo>
                          <a:pt x="759" y="893"/>
                        </a:lnTo>
                        <a:lnTo>
                          <a:pt x="746" y="906"/>
                        </a:lnTo>
                        <a:lnTo>
                          <a:pt x="785" y="949"/>
                        </a:lnTo>
                        <a:lnTo>
                          <a:pt x="842" y="884"/>
                        </a:lnTo>
                        <a:lnTo>
                          <a:pt x="807" y="841"/>
                        </a:lnTo>
                        <a:lnTo>
                          <a:pt x="842" y="803"/>
                        </a:lnTo>
                        <a:lnTo>
                          <a:pt x="890" y="803"/>
                        </a:lnTo>
                        <a:lnTo>
                          <a:pt x="911" y="781"/>
                        </a:lnTo>
                        <a:lnTo>
                          <a:pt x="946" y="781"/>
                        </a:lnTo>
                        <a:lnTo>
                          <a:pt x="903" y="726"/>
                        </a:lnTo>
                        <a:lnTo>
                          <a:pt x="924" y="695"/>
                        </a:lnTo>
                        <a:lnTo>
                          <a:pt x="924" y="605"/>
                        </a:lnTo>
                        <a:lnTo>
                          <a:pt x="968" y="558"/>
                        </a:lnTo>
                        <a:lnTo>
                          <a:pt x="986" y="575"/>
                        </a:lnTo>
                        <a:lnTo>
                          <a:pt x="1025" y="575"/>
                        </a:lnTo>
                        <a:lnTo>
                          <a:pt x="1007" y="601"/>
                        </a:lnTo>
                        <a:lnTo>
                          <a:pt x="1042" y="640"/>
                        </a:lnTo>
                        <a:lnTo>
                          <a:pt x="1064" y="605"/>
                        </a:lnTo>
                        <a:lnTo>
                          <a:pt x="1090" y="605"/>
                        </a:lnTo>
                        <a:lnTo>
                          <a:pt x="1090" y="593"/>
                        </a:lnTo>
                        <a:lnTo>
                          <a:pt x="1077" y="593"/>
                        </a:lnTo>
                        <a:lnTo>
                          <a:pt x="1055" y="575"/>
                        </a:lnTo>
                        <a:lnTo>
                          <a:pt x="1112" y="502"/>
                        </a:lnTo>
                        <a:lnTo>
                          <a:pt x="1112" y="605"/>
                        </a:lnTo>
                        <a:lnTo>
                          <a:pt x="1125" y="605"/>
                        </a:lnTo>
                        <a:lnTo>
                          <a:pt x="1125" y="0"/>
                        </a:lnTo>
                        <a:lnTo>
                          <a:pt x="741" y="0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>
                    <a:off x="6726240" y="4073400"/>
                    <a:ext cx="1727640" cy="1219680"/>
                  </a:xfrm>
                  <a:custGeom>
                    <a:avLst/>
                    <a:gdLst/>
                    <a:ahLst/>
                    <a:rect l="0" t="0" r="r" b="b"/>
                    <a:pathLst>
                      <a:path w="4799" h="3388">
                        <a:moveTo>
                          <a:pt x="0" y="996"/>
                        </a:moveTo>
                        <a:lnTo>
                          <a:pt x="141" y="891"/>
                        </a:lnTo>
                        <a:lnTo>
                          <a:pt x="273" y="688"/>
                        </a:lnTo>
                        <a:lnTo>
                          <a:pt x="436" y="592"/>
                        </a:lnTo>
                        <a:lnTo>
                          <a:pt x="604" y="706"/>
                        </a:lnTo>
                        <a:lnTo>
                          <a:pt x="626" y="798"/>
                        </a:lnTo>
                        <a:lnTo>
                          <a:pt x="586" y="798"/>
                        </a:lnTo>
                        <a:lnTo>
                          <a:pt x="520" y="789"/>
                        </a:lnTo>
                        <a:lnTo>
                          <a:pt x="604" y="891"/>
                        </a:lnTo>
                        <a:lnTo>
                          <a:pt x="952" y="758"/>
                        </a:lnTo>
                        <a:lnTo>
                          <a:pt x="908" y="658"/>
                        </a:lnTo>
                        <a:lnTo>
                          <a:pt x="1058" y="486"/>
                        </a:lnTo>
                        <a:lnTo>
                          <a:pt x="1155" y="491"/>
                        </a:lnTo>
                        <a:lnTo>
                          <a:pt x="1062" y="548"/>
                        </a:lnTo>
                        <a:lnTo>
                          <a:pt x="983" y="675"/>
                        </a:lnTo>
                        <a:lnTo>
                          <a:pt x="983" y="758"/>
                        </a:lnTo>
                        <a:lnTo>
                          <a:pt x="1124" y="852"/>
                        </a:lnTo>
                        <a:lnTo>
                          <a:pt x="1328" y="587"/>
                        </a:lnTo>
                        <a:lnTo>
                          <a:pt x="2033" y="276"/>
                        </a:lnTo>
                        <a:lnTo>
                          <a:pt x="2029" y="100"/>
                        </a:lnTo>
                        <a:lnTo>
                          <a:pt x="2351" y="35"/>
                        </a:lnTo>
                        <a:lnTo>
                          <a:pt x="2532" y="127"/>
                        </a:lnTo>
                        <a:lnTo>
                          <a:pt x="2959" y="0"/>
                        </a:lnTo>
                        <a:lnTo>
                          <a:pt x="3092" y="65"/>
                        </a:lnTo>
                        <a:lnTo>
                          <a:pt x="3378" y="372"/>
                        </a:lnTo>
                        <a:lnTo>
                          <a:pt x="3706" y="311"/>
                        </a:lnTo>
                        <a:lnTo>
                          <a:pt x="3909" y="421"/>
                        </a:lnTo>
                        <a:lnTo>
                          <a:pt x="4416" y="399"/>
                        </a:lnTo>
                        <a:lnTo>
                          <a:pt x="4799" y="522"/>
                        </a:lnTo>
                        <a:lnTo>
                          <a:pt x="4764" y="688"/>
                        </a:lnTo>
                        <a:lnTo>
                          <a:pt x="4438" y="798"/>
                        </a:lnTo>
                        <a:lnTo>
                          <a:pt x="4495" y="909"/>
                        </a:lnTo>
                        <a:lnTo>
                          <a:pt x="4354" y="970"/>
                        </a:lnTo>
                        <a:lnTo>
                          <a:pt x="4345" y="1189"/>
                        </a:lnTo>
                        <a:lnTo>
                          <a:pt x="4222" y="1343"/>
                        </a:lnTo>
                        <a:lnTo>
                          <a:pt x="4169" y="1203"/>
                        </a:lnTo>
                        <a:lnTo>
                          <a:pt x="4239" y="1075"/>
                        </a:lnTo>
                        <a:lnTo>
                          <a:pt x="4226" y="811"/>
                        </a:lnTo>
                        <a:lnTo>
                          <a:pt x="4098" y="948"/>
                        </a:lnTo>
                        <a:lnTo>
                          <a:pt x="3997" y="1023"/>
                        </a:lnTo>
                        <a:lnTo>
                          <a:pt x="3900" y="904"/>
                        </a:lnTo>
                        <a:lnTo>
                          <a:pt x="3829" y="1203"/>
                        </a:lnTo>
                        <a:lnTo>
                          <a:pt x="3904" y="1203"/>
                        </a:lnTo>
                        <a:lnTo>
                          <a:pt x="3886" y="1404"/>
                        </a:lnTo>
                        <a:lnTo>
                          <a:pt x="3798" y="1615"/>
                        </a:lnTo>
                        <a:lnTo>
                          <a:pt x="3692" y="1698"/>
                        </a:lnTo>
                        <a:lnTo>
                          <a:pt x="3781" y="1839"/>
                        </a:lnTo>
                        <a:lnTo>
                          <a:pt x="3723" y="1935"/>
                        </a:lnTo>
                        <a:lnTo>
                          <a:pt x="3701" y="1852"/>
                        </a:lnTo>
                        <a:lnTo>
                          <a:pt x="3701" y="1821"/>
                        </a:lnTo>
                        <a:lnTo>
                          <a:pt x="3631" y="1773"/>
                        </a:lnTo>
                        <a:lnTo>
                          <a:pt x="3515" y="1834"/>
                        </a:lnTo>
                        <a:lnTo>
                          <a:pt x="3617" y="2067"/>
                        </a:lnTo>
                        <a:lnTo>
                          <a:pt x="3653" y="2190"/>
                        </a:lnTo>
                        <a:lnTo>
                          <a:pt x="3533" y="2510"/>
                        </a:lnTo>
                        <a:lnTo>
                          <a:pt x="3312" y="2599"/>
                        </a:lnTo>
                        <a:lnTo>
                          <a:pt x="3131" y="2581"/>
                        </a:lnTo>
                        <a:lnTo>
                          <a:pt x="3220" y="2713"/>
                        </a:lnTo>
                        <a:lnTo>
                          <a:pt x="3228" y="2897"/>
                        </a:lnTo>
                        <a:lnTo>
                          <a:pt x="3101" y="3116"/>
                        </a:lnTo>
                        <a:lnTo>
                          <a:pt x="2955" y="2998"/>
                        </a:lnTo>
                        <a:lnTo>
                          <a:pt x="2933" y="3125"/>
                        </a:lnTo>
                        <a:lnTo>
                          <a:pt x="3043" y="3230"/>
                        </a:lnTo>
                        <a:lnTo>
                          <a:pt x="3136" y="3388"/>
                        </a:lnTo>
                        <a:lnTo>
                          <a:pt x="2981" y="3296"/>
                        </a:lnTo>
                        <a:lnTo>
                          <a:pt x="2796" y="2761"/>
                        </a:lnTo>
                        <a:lnTo>
                          <a:pt x="2571" y="2616"/>
                        </a:lnTo>
                        <a:lnTo>
                          <a:pt x="2404" y="2629"/>
                        </a:lnTo>
                        <a:lnTo>
                          <a:pt x="2192" y="2932"/>
                        </a:lnTo>
                        <a:lnTo>
                          <a:pt x="2219" y="3042"/>
                        </a:lnTo>
                        <a:lnTo>
                          <a:pt x="2148" y="3257"/>
                        </a:lnTo>
                        <a:lnTo>
                          <a:pt x="2077" y="3257"/>
                        </a:lnTo>
                        <a:lnTo>
                          <a:pt x="1835" y="2805"/>
                        </a:lnTo>
                        <a:lnTo>
                          <a:pt x="1835" y="2612"/>
                        </a:lnTo>
                        <a:lnTo>
                          <a:pt x="1782" y="2682"/>
                        </a:lnTo>
                        <a:lnTo>
                          <a:pt x="1645" y="2677"/>
                        </a:lnTo>
                        <a:lnTo>
                          <a:pt x="1698" y="2559"/>
                        </a:lnTo>
                        <a:lnTo>
                          <a:pt x="1482" y="2405"/>
                        </a:lnTo>
                        <a:lnTo>
                          <a:pt x="1213" y="2405"/>
                        </a:lnTo>
                        <a:lnTo>
                          <a:pt x="983" y="2251"/>
                        </a:lnTo>
                        <a:lnTo>
                          <a:pt x="970" y="2405"/>
                        </a:lnTo>
                        <a:lnTo>
                          <a:pt x="1159" y="2546"/>
                        </a:lnTo>
                        <a:lnTo>
                          <a:pt x="1226" y="2542"/>
                        </a:lnTo>
                        <a:lnTo>
                          <a:pt x="1031" y="2735"/>
                        </a:lnTo>
                        <a:lnTo>
                          <a:pt x="837" y="2778"/>
                        </a:lnTo>
                        <a:lnTo>
                          <a:pt x="837" y="2669"/>
                        </a:lnTo>
                        <a:lnTo>
                          <a:pt x="560" y="2286"/>
                        </a:lnTo>
                        <a:lnTo>
                          <a:pt x="524" y="2185"/>
                        </a:lnTo>
                        <a:lnTo>
                          <a:pt x="674" y="2058"/>
                        </a:lnTo>
                        <a:lnTo>
                          <a:pt x="657" y="1904"/>
                        </a:lnTo>
                        <a:lnTo>
                          <a:pt x="657" y="1733"/>
                        </a:lnTo>
                        <a:lnTo>
                          <a:pt x="732" y="1698"/>
                        </a:lnTo>
                        <a:lnTo>
                          <a:pt x="657" y="1615"/>
                        </a:lnTo>
                        <a:lnTo>
                          <a:pt x="657" y="996"/>
                        </a:lnTo>
                        <a:lnTo>
                          <a:pt x="268" y="996"/>
                        </a:lnTo>
                        <a:lnTo>
                          <a:pt x="379" y="852"/>
                        </a:lnTo>
                        <a:lnTo>
                          <a:pt x="370" y="798"/>
                        </a:lnTo>
                        <a:lnTo>
                          <a:pt x="242" y="926"/>
                        </a:lnTo>
                        <a:lnTo>
                          <a:pt x="198" y="996"/>
                        </a:lnTo>
                        <a:lnTo>
                          <a:pt x="0" y="996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" name=""/>
                  <p:cNvSpPr/>
                  <p:nvPr/>
                </p:nvSpPr>
                <p:spPr>
                  <a:xfrm>
                    <a:off x="8089920" y="4572000"/>
                    <a:ext cx="147960" cy="248040"/>
                  </a:xfrm>
                  <a:custGeom>
                    <a:avLst/>
                    <a:gdLst/>
                    <a:ahLst/>
                    <a:rect l="0" t="0" r="r" b="b"/>
                    <a:pathLst>
                      <a:path w="411" h="689">
                        <a:moveTo>
                          <a:pt x="277" y="0"/>
                        </a:moveTo>
                        <a:lnTo>
                          <a:pt x="277" y="88"/>
                        </a:lnTo>
                        <a:lnTo>
                          <a:pt x="243" y="143"/>
                        </a:lnTo>
                        <a:lnTo>
                          <a:pt x="252" y="237"/>
                        </a:lnTo>
                        <a:lnTo>
                          <a:pt x="210" y="363"/>
                        </a:lnTo>
                        <a:lnTo>
                          <a:pt x="138" y="477"/>
                        </a:lnTo>
                        <a:lnTo>
                          <a:pt x="29" y="554"/>
                        </a:lnTo>
                        <a:lnTo>
                          <a:pt x="0" y="681"/>
                        </a:lnTo>
                        <a:lnTo>
                          <a:pt x="46" y="689"/>
                        </a:lnTo>
                        <a:lnTo>
                          <a:pt x="46" y="571"/>
                        </a:lnTo>
                        <a:lnTo>
                          <a:pt x="192" y="563"/>
                        </a:lnTo>
                        <a:lnTo>
                          <a:pt x="306" y="482"/>
                        </a:lnTo>
                        <a:lnTo>
                          <a:pt x="306" y="317"/>
                        </a:lnTo>
                        <a:lnTo>
                          <a:pt x="339" y="258"/>
                        </a:lnTo>
                        <a:lnTo>
                          <a:pt x="281" y="151"/>
                        </a:lnTo>
                        <a:lnTo>
                          <a:pt x="360" y="118"/>
                        </a:lnTo>
                        <a:lnTo>
                          <a:pt x="411" y="33"/>
                        </a:lnTo>
                        <a:lnTo>
                          <a:pt x="306" y="50"/>
                        </a:lnTo>
                        <a:lnTo>
                          <a:pt x="277" y="0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" name=""/>
                  <p:cNvSpPr/>
                  <p:nvPr/>
                </p:nvSpPr>
                <p:spPr>
                  <a:xfrm>
                    <a:off x="7526160" y="5237280"/>
                    <a:ext cx="28800" cy="55800"/>
                  </a:xfrm>
                  <a:custGeom>
                    <a:avLst/>
                    <a:gdLst/>
                    <a:ahLst/>
                    <a:rect l="0" t="0" r="r" b="b"/>
                    <a:pathLst>
                      <a:path w="80" h="155">
                        <a:moveTo>
                          <a:pt x="37" y="0"/>
                        </a:moveTo>
                        <a:lnTo>
                          <a:pt x="0" y="69"/>
                        </a:lnTo>
                        <a:lnTo>
                          <a:pt x="27" y="155"/>
                        </a:lnTo>
                        <a:lnTo>
                          <a:pt x="80" y="92"/>
                        </a:lnTo>
                        <a:lnTo>
                          <a:pt x="37" y="0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0">
                    <a:noFill/>
                  </a:ln>
                </p:spPr>
                <p:txBody>
                  <a:bodyPr lIns="90000" rIns="90000" tIns="10800" bIns="10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>
                    <a:off x="7753320" y="5297400"/>
                    <a:ext cx="348120" cy="147960"/>
                  </a:xfrm>
                  <a:custGeom>
                    <a:avLst/>
                    <a:gdLst/>
                    <a:ahLst/>
                    <a:rect l="0" t="0" r="r" b="b"/>
                    <a:pathLst>
                      <a:path w="967" h="411">
                        <a:moveTo>
                          <a:pt x="0" y="0"/>
                        </a:moveTo>
                        <a:lnTo>
                          <a:pt x="146" y="28"/>
                        </a:lnTo>
                        <a:lnTo>
                          <a:pt x="363" y="182"/>
                        </a:lnTo>
                        <a:lnTo>
                          <a:pt x="332" y="266"/>
                        </a:lnTo>
                        <a:lnTo>
                          <a:pt x="509" y="340"/>
                        </a:lnTo>
                        <a:lnTo>
                          <a:pt x="967" y="340"/>
                        </a:lnTo>
                        <a:lnTo>
                          <a:pt x="466" y="411"/>
                        </a:lnTo>
                        <a:lnTo>
                          <a:pt x="332" y="266"/>
                        </a:lnTo>
                        <a:lnTo>
                          <a:pt x="202" y="237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" name=""/>
                  <p:cNvSpPr/>
                  <p:nvPr/>
                </p:nvSpPr>
                <p:spPr>
                  <a:xfrm>
                    <a:off x="8031240" y="5421240"/>
                    <a:ext cx="373320" cy="349560"/>
                  </a:xfrm>
                  <a:custGeom>
                    <a:avLst/>
                    <a:gdLst/>
                    <a:ahLst/>
                    <a:rect l="0" t="0" r="r" b="b"/>
                    <a:pathLst>
                      <a:path w="1037" h="971">
                        <a:moveTo>
                          <a:pt x="863" y="949"/>
                        </a:moveTo>
                        <a:lnTo>
                          <a:pt x="836" y="953"/>
                        </a:lnTo>
                        <a:lnTo>
                          <a:pt x="815" y="971"/>
                        </a:lnTo>
                        <a:lnTo>
                          <a:pt x="789" y="936"/>
                        </a:lnTo>
                        <a:lnTo>
                          <a:pt x="697" y="893"/>
                        </a:lnTo>
                        <a:lnTo>
                          <a:pt x="680" y="825"/>
                        </a:lnTo>
                        <a:lnTo>
                          <a:pt x="649" y="803"/>
                        </a:lnTo>
                        <a:lnTo>
                          <a:pt x="575" y="803"/>
                        </a:lnTo>
                        <a:lnTo>
                          <a:pt x="575" y="752"/>
                        </a:lnTo>
                        <a:lnTo>
                          <a:pt x="549" y="739"/>
                        </a:lnTo>
                        <a:lnTo>
                          <a:pt x="545" y="692"/>
                        </a:lnTo>
                        <a:lnTo>
                          <a:pt x="483" y="683"/>
                        </a:lnTo>
                        <a:lnTo>
                          <a:pt x="431" y="670"/>
                        </a:lnTo>
                        <a:lnTo>
                          <a:pt x="383" y="683"/>
                        </a:lnTo>
                        <a:lnTo>
                          <a:pt x="383" y="692"/>
                        </a:lnTo>
                        <a:lnTo>
                          <a:pt x="274" y="726"/>
                        </a:lnTo>
                        <a:lnTo>
                          <a:pt x="274" y="747"/>
                        </a:lnTo>
                        <a:lnTo>
                          <a:pt x="178" y="747"/>
                        </a:lnTo>
                        <a:lnTo>
                          <a:pt x="121" y="777"/>
                        </a:lnTo>
                        <a:lnTo>
                          <a:pt x="65" y="747"/>
                        </a:lnTo>
                        <a:lnTo>
                          <a:pt x="60" y="739"/>
                        </a:lnTo>
                        <a:lnTo>
                          <a:pt x="60" y="670"/>
                        </a:lnTo>
                        <a:lnTo>
                          <a:pt x="43" y="614"/>
                        </a:lnTo>
                        <a:lnTo>
                          <a:pt x="21" y="559"/>
                        </a:lnTo>
                        <a:lnTo>
                          <a:pt x="34" y="520"/>
                        </a:lnTo>
                        <a:lnTo>
                          <a:pt x="13" y="503"/>
                        </a:lnTo>
                        <a:lnTo>
                          <a:pt x="0" y="412"/>
                        </a:lnTo>
                        <a:lnTo>
                          <a:pt x="13" y="347"/>
                        </a:lnTo>
                        <a:lnTo>
                          <a:pt x="69" y="300"/>
                        </a:lnTo>
                        <a:lnTo>
                          <a:pt x="195" y="266"/>
                        </a:lnTo>
                        <a:lnTo>
                          <a:pt x="226" y="223"/>
                        </a:lnTo>
                        <a:lnTo>
                          <a:pt x="213" y="180"/>
                        </a:lnTo>
                        <a:lnTo>
                          <a:pt x="243" y="167"/>
                        </a:lnTo>
                        <a:lnTo>
                          <a:pt x="252" y="188"/>
                        </a:lnTo>
                        <a:lnTo>
                          <a:pt x="265" y="154"/>
                        </a:lnTo>
                        <a:lnTo>
                          <a:pt x="339" y="98"/>
                        </a:lnTo>
                        <a:lnTo>
                          <a:pt x="383" y="124"/>
                        </a:lnTo>
                        <a:lnTo>
                          <a:pt x="431" y="111"/>
                        </a:lnTo>
                        <a:lnTo>
                          <a:pt x="448" y="55"/>
                        </a:lnTo>
                        <a:lnTo>
                          <a:pt x="496" y="42"/>
                        </a:lnTo>
                        <a:lnTo>
                          <a:pt x="483" y="8"/>
                        </a:lnTo>
                        <a:lnTo>
                          <a:pt x="553" y="34"/>
                        </a:lnTo>
                        <a:lnTo>
                          <a:pt x="610" y="21"/>
                        </a:lnTo>
                        <a:lnTo>
                          <a:pt x="641" y="150"/>
                        </a:lnTo>
                        <a:lnTo>
                          <a:pt x="680" y="188"/>
                        </a:lnTo>
                        <a:lnTo>
                          <a:pt x="719" y="188"/>
                        </a:lnTo>
                        <a:lnTo>
                          <a:pt x="736" y="111"/>
                        </a:lnTo>
                        <a:lnTo>
                          <a:pt x="728" y="68"/>
                        </a:lnTo>
                        <a:lnTo>
                          <a:pt x="736" y="8"/>
                        </a:lnTo>
                        <a:lnTo>
                          <a:pt x="758" y="0"/>
                        </a:lnTo>
                        <a:lnTo>
                          <a:pt x="789" y="77"/>
                        </a:lnTo>
                        <a:lnTo>
                          <a:pt x="815" y="98"/>
                        </a:lnTo>
                        <a:lnTo>
                          <a:pt x="832" y="167"/>
                        </a:lnTo>
                        <a:lnTo>
                          <a:pt x="863" y="266"/>
                        </a:lnTo>
                        <a:lnTo>
                          <a:pt x="911" y="291"/>
                        </a:lnTo>
                        <a:lnTo>
                          <a:pt x="967" y="364"/>
                        </a:lnTo>
                        <a:lnTo>
                          <a:pt x="976" y="399"/>
                        </a:lnTo>
                        <a:lnTo>
                          <a:pt x="1024" y="446"/>
                        </a:lnTo>
                        <a:lnTo>
                          <a:pt x="1037" y="524"/>
                        </a:lnTo>
                        <a:lnTo>
                          <a:pt x="1037" y="589"/>
                        </a:lnTo>
                        <a:lnTo>
                          <a:pt x="1024" y="683"/>
                        </a:lnTo>
                        <a:lnTo>
                          <a:pt x="976" y="747"/>
                        </a:lnTo>
                        <a:lnTo>
                          <a:pt x="958" y="825"/>
                        </a:lnTo>
                        <a:lnTo>
                          <a:pt x="958" y="893"/>
                        </a:lnTo>
                        <a:lnTo>
                          <a:pt x="911" y="906"/>
                        </a:lnTo>
                        <a:lnTo>
                          <a:pt x="863" y="949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" name=""/>
                  <p:cNvSpPr/>
                  <p:nvPr/>
                </p:nvSpPr>
                <p:spPr>
                  <a:xfrm>
                    <a:off x="8329680" y="5791320"/>
                    <a:ext cx="27360" cy="41760"/>
                  </a:xfrm>
                  <a:custGeom>
                    <a:avLst/>
                    <a:gdLst/>
                    <a:ahLst/>
                    <a:rect l="0" t="0" r="r" b="b"/>
                    <a:pathLst>
                      <a:path w="76" h="116">
                        <a:moveTo>
                          <a:pt x="38" y="105"/>
                        </a:moveTo>
                        <a:lnTo>
                          <a:pt x="13" y="86"/>
                        </a:lnTo>
                        <a:lnTo>
                          <a:pt x="13" y="67"/>
                        </a:lnTo>
                        <a:lnTo>
                          <a:pt x="13" y="49"/>
                        </a:lnTo>
                        <a:lnTo>
                          <a:pt x="6" y="30"/>
                        </a:lnTo>
                        <a:lnTo>
                          <a:pt x="0" y="0"/>
                        </a:lnTo>
                        <a:lnTo>
                          <a:pt x="13" y="0"/>
                        </a:lnTo>
                        <a:lnTo>
                          <a:pt x="38" y="18"/>
                        </a:lnTo>
                        <a:lnTo>
                          <a:pt x="52" y="11"/>
                        </a:lnTo>
                        <a:lnTo>
                          <a:pt x="59" y="11"/>
                        </a:lnTo>
                        <a:lnTo>
                          <a:pt x="76" y="0"/>
                        </a:lnTo>
                        <a:lnTo>
                          <a:pt x="76" y="49"/>
                        </a:lnTo>
                        <a:lnTo>
                          <a:pt x="66" y="67"/>
                        </a:lnTo>
                        <a:lnTo>
                          <a:pt x="59" y="86"/>
                        </a:lnTo>
                        <a:lnTo>
                          <a:pt x="59" y="98"/>
                        </a:lnTo>
                        <a:lnTo>
                          <a:pt x="52" y="105"/>
                        </a:lnTo>
                        <a:lnTo>
                          <a:pt x="52" y="116"/>
                        </a:lnTo>
                        <a:lnTo>
                          <a:pt x="38" y="105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0">
                    <a:noFill/>
                  </a:ln>
                </p:spPr>
                <p:txBody>
                  <a:bodyPr lIns="90000" rIns="90000" tIns="-3240" bIns="-3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>
                    <a:off x="7023240" y="5389560"/>
                    <a:ext cx="39960" cy="167040"/>
                  </a:xfrm>
                  <a:custGeom>
                    <a:avLst/>
                    <a:gdLst/>
                    <a:ahLst/>
                    <a:rect l="0" t="0" r="r" b="b"/>
                    <a:pathLst>
                      <a:path w="111" h="464">
                        <a:moveTo>
                          <a:pt x="14" y="161"/>
                        </a:moveTo>
                        <a:lnTo>
                          <a:pt x="56" y="123"/>
                        </a:lnTo>
                        <a:lnTo>
                          <a:pt x="89" y="0"/>
                        </a:lnTo>
                        <a:lnTo>
                          <a:pt x="111" y="186"/>
                        </a:lnTo>
                        <a:lnTo>
                          <a:pt x="74" y="417"/>
                        </a:lnTo>
                        <a:lnTo>
                          <a:pt x="0" y="464"/>
                        </a:lnTo>
                        <a:lnTo>
                          <a:pt x="0" y="353"/>
                        </a:lnTo>
                        <a:lnTo>
                          <a:pt x="22" y="281"/>
                        </a:lnTo>
                        <a:lnTo>
                          <a:pt x="14" y="161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685800" y="2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orem Ipsu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lor sit amet consectetuer adipiscing elit sed diam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Arial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nummy nibh euismo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ff7f00"/>
              </a:buClr>
              <a:buSzPct val="6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incidunt u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ff7f00"/>
              </a:buClr>
              <a:buSzPct val="6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oreet dolor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Arial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gna aliqu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erci tation ullamcorper suscipit lobortis nisl ut aliquip ex ea c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rosoft Corporation</dc:creator>
  <dc:description/>
  <dc:language>en-US</dc:language>
  <cp:lastModifiedBy>Microsoft Corporation</cp:lastModifiedBy>
  <cp:revision>0</cp:revision>
  <dc:subject/>
  <dc:title>Lorem Ipsum</dc:title>
</cp:coreProperties>
</file>