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rai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the subject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what the audience will learn in this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out any relevant background and interest of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the topics to be 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the times allotted to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verview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the big picture of the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how all the individual topics fit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ssary of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the terms as used in this su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pic 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an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se to re-enforc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pic Tw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det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an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se to re-enforce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what has been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ways to apply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feedback of training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ere to get more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raining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oks, articles, electronic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lting services, other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Corporation</cp:lastModifiedBy>
  <cp:revision>0</cp:revision>
  <dc:subject/>
  <dc:title>Training</dc:title>
</cp:coreProperties>
</file>