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2840" cy="6845400"/>
              <a:chOff x="0" y="0"/>
              <a:chExt cx="9132840" cy="684540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0" y="0"/>
                <a:ext cx="642960" cy="72396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0" y="0"/>
                <a:ext cx="1150920" cy="12952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0" y="0"/>
                <a:ext cx="1676520" cy="188604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0" y="0"/>
                <a:ext cx="2166840" cy="24382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0" y="0"/>
                <a:ext cx="2674800" cy="300996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3200400" cy="360036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0" y="0"/>
                <a:ext cx="3726000" cy="419112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4267080" cy="48006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0" y="0"/>
                <a:ext cx="4757760" cy="53532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0" y="0"/>
                <a:ext cx="5300640" cy="59626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0" y="0"/>
                <a:ext cx="5824440" cy="65530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82600" y="0"/>
                <a:ext cx="6084720" cy="68454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790560" y="0"/>
                <a:ext cx="6085080" cy="68454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1314360" y="0"/>
                <a:ext cx="6085080" cy="68454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1789200" y="0"/>
                <a:ext cx="6084720" cy="68454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314440" y="0"/>
                <a:ext cx="6085080" cy="68454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2811600" y="6480"/>
                <a:ext cx="6078240" cy="683892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3843360" y="895320"/>
                <a:ext cx="5289480" cy="59500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317840" y="1428840"/>
                <a:ext cx="4815000" cy="541656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4808520" y="1981080"/>
                <a:ext cx="4324320" cy="486432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5316480" y="2552760"/>
                <a:ext cx="3816360" cy="429264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5859360" y="3162240"/>
                <a:ext cx="3273480" cy="368316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6400800" y="3772080"/>
                <a:ext cx="2732040" cy="307332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6908760" y="4343400"/>
                <a:ext cx="2224080" cy="25020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7434360" y="4933800"/>
                <a:ext cx="1698480" cy="19116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7924680" y="5486400"/>
                <a:ext cx="1208160" cy="13590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8399520" y="6019920"/>
                <a:ext cx="733320" cy="82548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8872560" y="6553080"/>
                <a:ext cx="260280" cy="29232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0" y="0"/>
                <a:ext cx="203040" cy="2286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3363840" y="361800"/>
                <a:ext cx="5762520" cy="6483600"/>
              </a:xfrm>
              <a:prstGeom prst="line">
                <a:avLst/>
              </a:prstGeom>
              <a:ln w="12600">
                <a:solidFill>
                  <a:srgbClr val="006c6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" name="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gradFill rotWithShape="0">
              <a:gsLst>
                <a:gs pos="0">
                  <a:srgbClr val="003631"/>
                </a:gs>
                <a:gs pos="100000">
                  <a:srgbClr val="00b7a5"/>
                </a:gs>
              </a:gsLst>
              <a:lin ang="5400000"/>
            </a:gradFill>
            <a:ln w="12600">
              <a:solidFill>
                <a:srgbClr val="d9319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7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39fd1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39fd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d93192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39fd1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