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4600" cy="1524600"/>
            <a:chOff x="399960" y="209520"/>
            <a:chExt cx="1524600" cy="152460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4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9960" y="209520"/>
              <a:ext cx="1524600" cy="1524600"/>
              <a:chOff x="399960" y="209520"/>
              <a:chExt cx="1524600" cy="1524600"/>
            </a:xfrm>
          </p:grpSpPr>
          <p:sp>
            <p:nvSpPr>
              <p:cNvPr id="3" name=""/>
              <p:cNvSpPr/>
              <p:nvPr/>
            </p:nvSpPr>
            <p:spPr>
              <a:xfrm>
                <a:off x="1162080" y="20952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0" y="423"/>
                    </a:moveTo>
                    <a:lnTo>
                      <a:pt x="0" y="0"/>
                    </a:lnTo>
                    <a:lnTo>
                      <a:pt x="2118" y="2118"/>
                    </a:lnTo>
                    <a:lnTo>
                      <a:pt x="1695" y="2118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20952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2118" y="0"/>
                    </a:moveTo>
                    <a:lnTo>
                      <a:pt x="2118" y="423"/>
                    </a:lnTo>
                    <a:lnTo>
                      <a:pt x="423" y="2118"/>
                    </a:lnTo>
                    <a:lnTo>
                      <a:pt x="0" y="2118"/>
                    </a:lnTo>
                    <a:lnTo>
                      <a:pt x="2118" y="0"/>
                    </a:lnTo>
                    <a:close/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162080" y="97164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1695" y="0"/>
                    </a:moveTo>
                    <a:lnTo>
                      <a:pt x="2118" y="0"/>
                    </a:lnTo>
                    <a:lnTo>
                      <a:pt x="0" y="2118"/>
                    </a:lnTo>
                    <a:lnTo>
                      <a:pt x="0" y="1695"/>
                    </a:lnTo>
                    <a:lnTo>
                      <a:pt x="1695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99960" y="971640"/>
                <a:ext cx="762480" cy="762480"/>
              </a:xfrm>
              <a:custGeom>
                <a:avLst/>
                <a:gdLst/>
                <a:ahLst/>
                <a:rect l="0" t="0" r="r" b="b"/>
                <a:pathLst>
                  <a:path w="2118" h="2118">
                    <a:moveTo>
                      <a:pt x="423" y="0"/>
                    </a:moveTo>
                    <a:lnTo>
                      <a:pt x="2118" y="1695"/>
                    </a:lnTo>
                    <a:lnTo>
                      <a:pt x="2118" y="2118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14400" y="419040"/>
            <a:ext cx="76960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c000c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981080"/>
            <a:ext cx="769608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