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5862600"/>
            <a:ext cx="8839440" cy="833400"/>
            <a:chOff x="152280" y="5862600"/>
            <a:chExt cx="8839440" cy="833400"/>
          </a:xfrm>
        </p:grpSpPr>
        <p:grpSp>
          <p:nvGrpSpPr>
            <p:cNvPr id="1" name=""/>
            <p:cNvGrpSpPr/>
            <p:nvPr/>
          </p:nvGrpSpPr>
          <p:grpSpPr>
            <a:xfrm>
              <a:off x="152280" y="6033960"/>
              <a:ext cx="8839440" cy="531000"/>
              <a:chOff x="152280" y="6033960"/>
              <a:chExt cx="8839440" cy="531000"/>
            </a:xfrm>
          </p:grpSpPr>
          <p:sp>
            <p:nvSpPr>
              <p:cNvPr id="2" name=""/>
              <p:cNvSpPr/>
              <p:nvPr/>
            </p:nvSpPr>
            <p:spPr>
              <a:xfrm>
                <a:off x="152280" y="6039000"/>
                <a:ext cx="8834400" cy="52380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50000">
                    <a:srgbClr val="ffffff"/>
                  </a:gs>
                  <a:gs pos="100000">
                    <a:srgbClr val="cccccc"/>
                  </a:gs>
                </a:gsLst>
                <a:lin ang="27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52280" y="6033960"/>
                <a:ext cx="8839440" cy="531000"/>
                <a:chOff x="152280" y="6033960"/>
                <a:chExt cx="8839440" cy="53100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152280" y="603396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0" y="438"/>
                      </a:moveTo>
                      <a:lnTo>
                        <a:pt x="0" y="0"/>
                      </a:lnTo>
                      <a:lnTo>
                        <a:pt x="2455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52280" y="621504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0" y="438"/>
                      </a:moveTo>
                      <a:lnTo>
                        <a:pt x="0" y="0"/>
                      </a:lnTo>
                      <a:lnTo>
                        <a:pt x="24554" y="0"/>
                      </a:lnTo>
                    </a:path>
                  </a:pathLst>
                </a:custGeom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152280" y="639612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0" y="438"/>
                      </a:moveTo>
                      <a:lnTo>
                        <a:pt x="0" y="0"/>
                      </a:lnTo>
                      <a:lnTo>
                        <a:pt x="24554" y="0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152280" y="604512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24554" y="0"/>
                      </a:moveTo>
                      <a:lnTo>
                        <a:pt x="24554" y="438"/>
                      </a:lnTo>
                      <a:lnTo>
                        <a:pt x="0" y="438"/>
                      </a:ln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52280" y="622620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24554" y="0"/>
                      </a:moveTo>
                      <a:lnTo>
                        <a:pt x="24554" y="438"/>
                      </a:lnTo>
                      <a:lnTo>
                        <a:pt x="0" y="438"/>
                      </a:lnTo>
                    </a:path>
                  </a:pathLst>
                </a:custGeom>
                <a:ln w="12600">
                  <a:solidFill>
                    <a:srgbClr val="47474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52280" y="6407280"/>
                  <a:ext cx="8839440" cy="157680"/>
                </a:xfrm>
                <a:custGeom>
                  <a:avLst/>
                  <a:gdLst/>
                  <a:ahLst/>
                  <a:rect l="0" t="0" r="r" b="b"/>
                  <a:pathLst>
                    <a:path fill="none" w="24554" h="438">
                      <a:moveTo>
                        <a:pt x="24554" y="0"/>
                      </a:moveTo>
                      <a:lnTo>
                        <a:pt x="24554" y="438"/>
                      </a:lnTo>
                      <a:lnTo>
                        <a:pt x="0" y="438"/>
                      </a:lnTo>
                    </a:path>
                  </a:pathLst>
                </a:custGeom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" name=""/>
            <p:cNvGrpSpPr/>
            <p:nvPr/>
          </p:nvGrpSpPr>
          <p:grpSpPr>
            <a:xfrm>
              <a:off x="8078760" y="5862600"/>
              <a:ext cx="658800" cy="833400"/>
              <a:chOff x="8078760" y="5862600"/>
              <a:chExt cx="658800" cy="833400"/>
            </a:xfrm>
          </p:grpSpPr>
          <p:sp>
            <p:nvSpPr>
              <p:cNvPr id="11" name=""/>
              <p:cNvSpPr/>
              <p:nvPr/>
            </p:nvSpPr>
            <p:spPr>
              <a:xfrm>
                <a:off x="8089920" y="5862600"/>
                <a:ext cx="635040" cy="83340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50000">
                    <a:srgbClr val="ffffff"/>
                  </a:gs>
                  <a:gs pos="100000">
                    <a:srgbClr val="cccccc"/>
                  </a:gs>
                </a:gsLst>
                <a:lin ang="5400000"/>
              </a:gradFill>
              <a:ln w="12600">
                <a:solidFill>
                  <a:srgbClr val="dadada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 txBox="1"/>
              <p:nvPr/>
            </p:nvSpPr>
            <p:spPr>
              <a:xfrm>
                <a:off x="8078760" y="5961240"/>
                <a:ext cx="658800" cy="63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YOU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LOG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Book Antiqua"/>
                  </a:rPr>
                  <a:t>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0020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