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31400" cy="95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695600"/>
            <a:ext cx="9131400" cy="95400"/>
          </a:xfrm>
          <a:prstGeom prst="rect">
            <a:avLst/>
          </a:prstGeom>
          <a:solidFill>
            <a:srgbClr val="bfcbe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840" y="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b7a5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