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9080"/>
            <a:ext cx="9132840" cy="6826320"/>
            <a:chOff x="0" y="19080"/>
            <a:chExt cx="9132840" cy="6826320"/>
          </a:xfrm>
        </p:grpSpPr>
        <p:grpSp>
          <p:nvGrpSpPr>
            <p:cNvPr id="1" name=""/>
            <p:cNvGrpSpPr/>
            <p:nvPr/>
          </p:nvGrpSpPr>
          <p:grpSpPr>
            <a:xfrm>
              <a:off x="0" y="19080"/>
              <a:ext cx="9106200" cy="6742080"/>
              <a:chOff x="0" y="19080"/>
              <a:chExt cx="9106200" cy="67420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373960" y="19080"/>
                <a:ext cx="732240" cy="811440"/>
                <a:chOff x="8373960" y="19080"/>
                <a:chExt cx="732240" cy="8114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8710560" y="19080"/>
                  <a:ext cx="49320" cy="3538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8373960" y="396720"/>
                  <a:ext cx="317520" cy="554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8790120" y="396720"/>
                  <a:ext cx="316080" cy="554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8710560" y="474840"/>
                  <a:ext cx="49320" cy="3556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" name=""/>
              <p:cNvGrpSpPr/>
              <p:nvPr/>
            </p:nvGrpSpPr>
            <p:grpSpPr>
              <a:xfrm>
                <a:off x="8291520" y="19080"/>
                <a:ext cx="50760" cy="811440"/>
                <a:chOff x="8291520" y="19080"/>
                <a:chExt cx="50760" cy="81144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291520" y="19080"/>
                  <a:ext cx="50760" cy="3538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8291520" y="474840"/>
                  <a:ext cx="50760" cy="3556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"/>
              <p:cNvGrpSpPr/>
              <p:nvPr/>
            </p:nvGrpSpPr>
            <p:grpSpPr>
              <a:xfrm>
                <a:off x="7535880" y="19080"/>
                <a:ext cx="733320" cy="811440"/>
                <a:chOff x="7535880" y="19080"/>
                <a:chExt cx="733320" cy="81144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7873920" y="19080"/>
                  <a:ext cx="47520" cy="3538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535880" y="396720"/>
                  <a:ext cx="317520" cy="554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951680" y="396720"/>
                  <a:ext cx="317520" cy="554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873920" y="474840"/>
                  <a:ext cx="47520" cy="3556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" name=""/>
              <p:cNvGrpSpPr/>
              <p:nvPr/>
            </p:nvGrpSpPr>
            <p:grpSpPr>
              <a:xfrm>
                <a:off x="7453440" y="19080"/>
                <a:ext cx="49320" cy="811440"/>
                <a:chOff x="7453440" y="19080"/>
                <a:chExt cx="49320" cy="811440"/>
              </a:xfrm>
            </p:grpSpPr>
            <p:sp>
              <p:nvSpPr>
                <p:cNvPr id="16" name=""/>
                <p:cNvSpPr/>
                <p:nvPr/>
              </p:nvSpPr>
              <p:spPr>
                <a:xfrm>
                  <a:off x="7453440" y="19080"/>
                  <a:ext cx="49320" cy="3538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453440" y="474840"/>
                  <a:ext cx="49320" cy="3556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" name=""/>
              <p:cNvGrpSpPr/>
              <p:nvPr/>
            </p:nvGrpSpPr>
            <p:grpSpPr>
              <a:xfrm>
                <a:off x="6699240" y="19080"/>
                <a:ext cx="731880" cy="811440"/>
                <a:chOff x="6699240" y="19080"/>
                <a:chExt cx="731880" cy="811440"/>
              </a:xfrm>
            </p:grpSpPr>
            <p:sp>
              <p:nvSpPr>
                <p:cNvPr id="19" name=""/>
                <p:cNvSpPr/>
                <p:nvPr/>
              </p:nvSpPr>
              <p:spPr>
                <a:xfrm>
                  <a:off x="7035840" y="19080"/>
                  <a:ext cx="49320" cy="3538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240" y="396720"/>
                  <a:ext cx="316080" cy="554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115040" y="396720"/>
                  <a:ext cx="316080" cy="554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7035840" y="474840"/>
                  <a:ext cx="49320" cy="3556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" name=""/>
              <p:cNvGrpSpPr/>
              <p:nvPr/>
            </p:nvGrpSpPr>
            <p:grpSpPr>
              <a:xfrm>
                <a:off x="6616800" y="19080"/>
                <a:ext cx="49320" cy="811440"/>
                <a:chOff x="6616800" y="19080"/>
                <a:chExt cx="49320" cy="81144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6616800" y="19080"/>
                  <a:ext cx="49320" cy="3538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6616800" y="474840"/>
                  <a:ext cx="49320" cy="3556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5861160" y="19080"/>
                <a:ext cx="733320" cy="811440"/>
                <a:chOff x="5861160" y="19080"/>
                <a:chExt cx="733320" cy="81144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6199200" y="19080"/>
                  <a:ext cx="49320" cy="3538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861160" y="396720"/>
                  <a:ext cx="317520" cy="554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6276960" y="396720"/>
                  <a:ext cx="317520" cy="554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199200" y="474840"/>
                  <a:ext cx="49320" cy="3556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5780160" y="19080"/>
                <a:ext cx="49320" cy="811440"/>
                <a:chOff x="5780160" y="19080"/>
                <a:chExt cx="49320" cy="81144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5780160" y="19080"/>
                  <a:ext cx="49320" cy="3538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5780160" y="474840"/>
                  <a:ext cx="49320" cy="3556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" name=""/>
              <p:cNvGrpSpPr/>
              <p:nvPr/>
            </p:nvGrpSpPr>
            <p:grpSpPr>
              <a:xfrm>
                <a:off x="5024520" y="19080"/>
                <a:ext cx="731880" cy="811440"/>
                <a:chOff x="5024520" y="19080"/>
                <a:chExt cx="731880" cy="811440"/>
              </a:xfrm>
            </p:grpSpPr>
            <p:sp>
              <p:nvSpPr>
                <p:cNvPr id="35" name=""/>
                <p:cNvSpPr/>
                <p:nvPr/>
              </p:nvSpPr>
              <p:spPr>
                <a:xfrm>
                  <a:off x="5361120" y="19080"/>
                  <a:ext cx="50760" cy="3538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5024520" y="396720"/>
                  <a:ext cx="316080" cy="554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440320" y="396720"/>
                  <a:ext cx="316080" cy="554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361120" y="474840"/>
                  <a:ext cx="50760" cy="3556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4943520" y="19080"/>
                <a:ext cx="49320" cy="811440"/>
                <a:chOff x="4943520" y="19080"/>
                <a:chExt cx="49320" cy="81144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4943520" y="19080"/>
                  <a:ext cx="49320" cy="3538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943520" y="474840"/>
                  <a:ext cx="49320" cy="3556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4186080" y="19080"/>
                <a:ext cx="733680" cy="811440"/>
                <a:chOff x="4186080" y="19080"/>
                <a:chExt cx="733680" cy="81144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524480" y="19080"/>
                  <a:ext cx="47520" cy="3538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4186080" y="396720"/>
                  <a:ext cx="317520" cy="554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4602240" y="396720"/>
                  <a:ext cx="317520" cy="554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4524480" y="474840"/>
                  <a:ext cx="47520" cy="3556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05440" y="19080"/>
                <a:ext cx="49320" cy="811440"/>
                <a:chOff x="4105440" y="19080"/>
                <a:chExt cx="49320" cy="8114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105440" y="19080"/>
                  <a:ext cx="49320" cy="3538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4105440" y="474840"/>
                  <a:ext cx="49320" cy="3556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3349800" y="19080"/>
                <a:ext cx="731880" cy="811440"/>
                <a:chOff x="3349800" y="19080"/>
                <a:chExt cx="731880" cy="81144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3686040" y="19080"/>
                  <a:ext cx="49320" cy="3538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349800" y="396720"/>
                  <a:ext cx="316080" cy="554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765600" y="396720"/>
                  <a:ext cx="316080" cy="554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686040" y="474840"/>
                  <a:ext cx="49320" cy="3556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3268800" y="19080"/>
                <a:ext cx="49320" cy="811440"/>
                <a:chOff x="3268800" y="19080"/>
                <a:chExt cx="49320" cy="81144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268800" y="19080"/>
                  <a:ext cx="49320" cy="3538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268800" y="474840"/>
                  <a:ext cx="49320" cy="3556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2511360" y="19080"/>
                <a:ext cx="733680" cy="811440"/>
                <a:chOff x="2511360" y="19080"/>
                <a:chExt cx="733680" cy="8114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2849400" y="19080"/>
                  <a:ext cx="49320" cy="3538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511360" y="396720"/>
                  <a:ext cx="317520" cy="554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927520" y="396720"/>
                  <a:ext cx="317520" cy="554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849400" y="474840"/>
                  <a:ext cx="49320" cy="3556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2432160" y="19080"/>
                <a:ext cx="49320" cy="811440"/>
                <a:chOff x="2432160" y="19080"/>
                <a:chExt cx="49320" cy="81144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2432160" y="474840"/>
                  <a:ext cx="49320" cy="3556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432160" y="19080"/>
                  <a:ext cx="49320" cy="3538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1674720" y="19080"/>
                <a:ext cx="732240" cy="811440"/>
                <a:chOff x="1674720" y="19080"/>
                <a:chExt cx="732240" cy="8114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2013120" y="19080"/>
                  <a:ext cx="49320" cy="3538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74720" y="396720"/>
                  <a:ext cx="316080" cy="554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090880" y="396720"/>
                  <a:ext cx="316080" cy="554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013120" y="474840"/>
                  <a:ext cx="49320" cy="3556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1593720" y="19080"/>
                <a:ext cx="50760" cy="811440"/>
                <a:chOff x="1593720" y="19080"/>
                <a:chExt cx="50760" cy="81144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593720" y="474840"/>
                  <a:ext cx="50760" cy="3556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593720" y="19080"/>
                  <a:ext cx="50760" cy="3538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836640" y="19080"/>
                <a:ext cx="733320" cy="811440"/>
                <a:chOff x="836640" y="19080"/>
                <a:chExt cx="733320" cy="81144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1174680" y="19080"/>
                  <a:ext cx="49320" cy="3538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36640" y="396720"/>
                  <a:ext cx="317520" cy="554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252440" y="396720"/>
                  <a:ext cx="317520" cy="5544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174680" y="474840"/>
                  <a:ext cx="49320" cy="3556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755640" y="19080"/>
                <a:ext cx="49320" cy="811440"/>
                <a:chOff x="755640" y="19080"/>
                <a:chExt cx="49320" cy="8114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755640" y="474840"/>
                  <a:ext cx="49320" cy="3556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755640" y="19080"/>
                  <a:ext cx="49320" cy="35388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0" y="19080"/>
                <a:ext cx="731880" cy="6742080"/>
                <a:chOff x="0" y="19080"/>
                <a:chExt cx="731880" cy="6742080"/>
              </a:xfrm>
            </p:grpSpPr>
            <p:grpSp>
              <p:nvGrpSpPr>
                <p:cNvPr id="83" name=""/>
                <p:cNvGrpSpPr/>
                <p:nvPr/>
              </p:nvGrpSpPr>
              <p:grpSpPr>
                <a:xfrm>
                  <a:off x="0" y="19080"/>
                  <a:ext cx="731880" cy="811440"/>
                  <a:chOff x="0" y="19080"/>
                  <a:chExt cx="731880" cy="81144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>
                    <a:off x="336600" y="474840"/>
                    <a:ext cx="50760" cy="35568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336600" y="19080"/>
                    <a:ext cx="50760" cy="35388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0" y="396720"/>
                    <a:ext cx="31608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414360" y="396720"/>
                    <a:ext cx="31752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0" y="853920"/>
                  <a:ext cx="731880" cy="54000"/>
                  <a:chOff x="0" y="853920"/>
                  <a:chExt cx="731880" cy="5400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0" y="853920"/>
                    <a:ext cx="316080" cy="54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414360" y="853920"/>
                    <a:ext cx="317520" cy="54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0" y="930240"/>
                  <a:ext cx="731880" cy="812880"/>
                  <a:chOff x="0" y="930240"/>
                  <a:chExt cx="731880" cy="8128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336600" y="930240"/>
                    <a:ext cx="50760" cy="3571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0" y="1309680"/>
                    <a:ext cx="31608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414360" y="1309680"/>
                    <a:ext cx="31752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336600" y="1389240"/>
                    <a:ext cx="50760" cy="35388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"/>
                <p:cNvGrpSpPr/>
                <p:nvPr/>
              </p:nvGrpSpPr>
              <p:grpSpPr>
                <a:xfrm>
                  <a:off x="0" y="1765440"/>
                  <a:ext cx="731880" cy="55440"/>
                  <a:chOff x="0" y="1765440"/>
                  <a:chExt cx="731880" cy="5544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>
                    <a:off x="0" y="1765440"/>
                    <a:ext cx="31608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414360" y="1765440"/>
                    <a:ext cx="31752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0" y="1844640"/>
                  <a:ext cx="731880" cy="809640"/>
                  <a:chOff x="0" y="1844640"/>
                  <a:chExt cx="731880" cy="80964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336600" y="1844640"/>
                    <a:ext cx="50760" cy="35388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0" y="2220840"/>
                    <a:ext cx="316080" cy="572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2240" bIns="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414360" y="2220840"/>
                    <a:ext cx="317520" cy="572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2240" bIns="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336600" y="2300400"/>
                    <a:ext cx="50760" cy="35388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0" y="2678040"/>
                  <a:ext cx="731880" cy="55440"/>
                  <a:chOff x="0" y="2678040"/>
                  <a:chExt cx="731880" cy="5544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0" y="2678040"/>
                    <a:ext cx="31608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414360" y="2678040"/>
                    <a:ext cx="31752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0" y="2755800"/>
                  <a:ext cx="731880" cy="812880"/>
                  <a:chOff x="0" y="2755800"/>
                  <a:chExt cx="731880" cy="812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336600" y="2755800"/>
                    <a:ext cx="50760" cy="35388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0" y="3133800"/>
                    <a:ext cx="31608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414360" y="3133800"/>
                    <a:ext cx="31752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36600" y="3211560"/>
                    <a:ext cx="50760" cy="3571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0" y="3591000"/>
                  <a:ext cx="731880" cy="55440"/>
                  <a:chOff x="0" y="3591000"/>
                  <a:chExt cx="731880" cy="5544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0" y="3591000"/>
                    <a:ext cx="31608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14360" y="3591000"/>
                    <a:ext cx="31752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0" y="3670200"/>
                  <a:ext cx="731880" cy="809640"/>
                  <a:chOff x="0" y="3670200"/>
                  <a:chExt cx="731880" cy="8096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336600" y="3670200"/>
                    <a:ext cx="50760" cy="35388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0" y="4046400"/>
                    <a:ext cx="31608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14360" y="4046400"/>
                    <a:ext cx="31752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336600" y="4125960"/>
                    <a:ext cx="50760" cy="35388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0" y="4502160"/>
                  <a:ext cx="731880" cy="57240"/>
                  <a:chOff x="0" y="4502160"/>
                  <a:chExt cx="731880" cy="5724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0" y="4502160"/>
                    <a:ext cx="316080" cy="572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2240" bIns="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414360" y="4502160"/>
                    <a:ext cx="317520" cy="572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2240" bIns="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0" y="4581360"/>
                  <a:ext cx="731880" cy="809640"/>
                  <a:chOff x="0" y="4581360"/>
                  <a:chExt cx="731880" cy="80964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336600" y="4581360"/>
                    <a:ext cx="50760" cy="35388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0" y="4959360"/>
                    <a:ext cx="31608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414360" y="4959360"/>
                    <a:ext cx="31752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336600" y="5037120"/>
                    <a:ext cx="50760" cy="35388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0" y="5415120"/>
                  <a:ext cx="731880" cy="55440"/>
                  <a:chOff x="0" y="5415120"/>
                  <a:chExt cx="731880" cy="5544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0" y="5415120"/>
                    <a:ext cx="31608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414360" y="5415120"/>
                    <a:ext cx="31752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0" y="5492880"/>
                  <a:ext cx="731880" cy="812880"/>
                  <a:chOff x="0" y="5492880"/>
                  <a:chExt cx="731880" cy="81288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336600" y="5492880"/>
                    <a:ext cx="50760" cy="3571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0" y="5872320"/>
                    <a:ext cx="316080" cy="54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14360" y="5872320"/>
                    <a:ext cx="317520" cy="540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336600" y="5950080"/>
                    <a:ext cx="50760" cy="35568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0" y="6327720"/>
                  <a:ext cx="731880" cy="433440"/>
                  <a:chOff x="0" y="6327720"/>
                  <a:chExt cx="731880" cy="43344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336600" y="6407280"/>
                    <a:ext cx="50760" cy="35388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0" y="6327720"/>
                    <a:ext cx="31608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14360" y="6327720"/>
                    <a:ext cx="317520" cy="55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40" name=""/>
            <p:cNvSpPr/>
            <p:nvPr/>
          </p:nvSpPr>
          <p:spPr>
            <a:xfrm>
              <a:off x="768240" y="857160"/>
              <a:ext cx="8364600" cy="0"/>
            </a:xfrm>
            <a:prstGeom prst="line">
              <a:avLst/>
            </a:prstGeom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5000" y="857160"/>
              <a:ext cx="0" cy="5988240"/>
            </a:xfrm>
            <a:prstGeom prst="line">
              <a:avLst/>
            </a:prstGeom>
            <a:ln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66680" y="108576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66680" y="24004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ff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ff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