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81560" cy="6845760"/>
            <a:chOff x="0" y="0"/>
            <a:chExt cx="781560" cy="6845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81200" cy="684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c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81560" cy="6845760"/>
            </a:xfrm>
            <a:custGeom>
              <a:avLst/>
              <a:gdLst/>
              <a:ahLst/>
              <a:rect l="0" t="0" r="r" b="b"/>
              <a:pathLst>
                <a:path fill="none" w="2171" h="19016">
                  <a:moveTo>
                    <a:pt x="0" y="0"/>
                  </a:moveTo>
                  <a:lnTo>
                    <a:pt x="0" y="19016"/>
                  </a:lnTo>
                  <a:lnTo>
                    <a:pt x="724" y="19016"/>
                  </a:lnTo>
                  <a:lnTo>
                    <a:pt x="724" y="0"/>
                  </a:lnTo>
                  <a:lnTo>
                    <a:pt x="1447" y="0"/>
                  </a:lnTo>
                  <a:lnTo>
                    <a:pt x="1447" y="19016"/>
                  </a:lnTo>
                  <a:lnTo>
                    <a:pt x="2171" y="19016"/>
                  </a:lnTo>
                  <a:lnTo>
                    <a:pt x="2171" y="0"/>
                  </a:lnTo>
                  <a:lnTo>
                    <a:pt x="2171" y="655"/>
                  </a:lnTo>
                  <a:lnTo>
                    <a:pt x="0" y="655"/>
                  </a:lnTo>
                  <a:lnTo>
                    <a:pt x="0" y="1311"/>
                  </a:lnTo>
                  <a:lnTo>
                    <a:pt x="2171" y="1311"/>
                  </a:lnTo>
                  <a:lnTo>
                    <a:pt x="2171" y="1967"/>
                  </a:lnTo>
                  <a:lnTo>
                    <a:pt x="0" y="1967"/>
                  </a:lnTo>
                  <a:lnTo>
                    <a:pt x="0" y="2622"/>
                  </a:lnTo>
                  <a:lnTo>
                    <a:pt x="2171" y="2622"/>
                  </a:lnTo>
                  <a:lnTo>
                    <a:pt x="2171" y="3278"/>
                  </a:lnTo>
                  <a:lnTo>
                    <a:pt x="0" y="3278"/>
                  </a:lnTo>
                  <a:lnTo>
                    <a:pt x="0" y="3934"/>
                  </a:lnTo>
                  <a:lnTo>
                    <a:pt x="2171" y="3934"/>
                  </a:lnTo>
                  <a:lnTo>
                    <a:pt x="2171" y="4589"/>
                  </a:lnTo>
                  <a:lnTo>
                    <a:pt x="0" y="4589"/>
                  </a:lnTo>
                  <a:lnTo>
                    <a:pt x="0" y="5246"/>
                  </a:lnTo>
                  <a:lnTo>
                    <a:pt x="2171" y="5246"/>
                  </a:lnTo>
                  <a:lnTo>
                    <a:pt x="2171" y="5902"/>
                  </a:lnTo>
                  <a:lnTo>
                    <a:pt x="0" y="5902"/>
                  </a:lnTo>
                  <a:lnTo>
                    <a:pt x="0" y="6557"/>
                  </a:lnTo>
                  <a:lnTo>
                    <a:pt x="2171" y="6557"/>
                  </a:lnTo>
                  <a:lnTo>
                    <a:pt x="2171" y="7213"/>
                  </a:lnTo>
                  <a:lnTo>
                    <a:pt x="0" y="7213"/>
                  </a:lnTo>
                  <a:lnTo>
                    <a:pt x="0" y="7869"/>
                  </a:lnTo>
                  <a:lnTo>
                    <a:pt x="2171" y="7869"/>
                  </a:lnTo>
                  <a:lnTo>
                    <a:pt x="2171" y="8524"/>
                  </a:lnTo>
                  <a:lnTo>
                    <a:pt x="0" y="8524"/>
                  </a:lnTo>
                  <a:lnTo>
                    <a:pt x="0" y="9180"/>
                  </a:lnTo>
                  <a:lnTo>
                    <a:pt x="2171" y="9180"/>
                  </a:lnTo>
                  <a:lnTo>
                    <a:pt x="2171" y="9836"/>
                  </a:lnTo>
                  <a:lnTo>
                    <a:pt x="0" y="9836"/>
                  </a:lnTo>
                  <a:lnTo>
                    <a:pt x="0" y="10491"/>
                  </a:lnTo>
                  <a:lnTo>
                    <a:pt x="2171" y="10491"/>
                  </a:lnTo>
                  <a:lnTo>
                    <a:pt x="2171" y="11147"/>
                  </a:lnTo>
                  <a:lnTo>
                    <a:pt x="0" y="11147"/>
                  </a:lnTo>
                  <a:lnTo>
                    <a:pt x="0" y="11803"/>
                  </a:lnTo>
                  <a:lnTo>
                    <a:pt x="2171" y="11803"/>
                  </a:lnTo>
                  <a:lnTo>
                    <a:pt x="2171" y="12458"/>
                  </a:lnTo>
                  <a:lnTo>
                    <a:pt x="0" y="12458"/>
                  </a:lnTo>
                  <a:lnTo>
                    <a:pt x="0" y="13114"/>
                  </a:lnTo>
                  <a:lnTo>
                    <a:pt x="2171" y="13114"/>
                  </a:lnTo>
                  <a:lnTo>
                    <a:pt x="2171" y="13770"/>
                  </a:lnTo>
                  <a:lnTo>
                    <a:pt x="0" y="13770"/>
                  </a:lnTo>
                  <a:lnTo>
                    <a:pt x="0" y="14426"/>
                  </a:lnTo>
                  <a:lnTo>
                    <a:pt x="2171" y="14426"/>
                  </a:lnTo>
                  <a:lnTo>
                    <a:pt x="2171" y="15082"/>
                  </a:lnTo>
                  <a:lnTo>
                    <a:pt x="0" y="15082"/>
                  </a:lnTo>
                  <a:lnTo>
                    <a:pt x="0" y="15738"/>
                  </a:lnTo>
                  <a:lnTo>
                    <a:pt x="2171" y="15738"/>
                  </a:lnTo>
                  <a:lnTo>
                    <a:pt x="2171" y="16394"/>
                  </a:lnTo>
                  <a:lnTo>
                    <a:pt x="0" y="16394"/>
                  </a:lnTo>
                  <a:lnTo>
                    <a:pt x="0" y="17049"/>
                  </a:lnTo>
                  <a:lnTo>
                    <a:pt x="2171" y="17049"/>
                  </a:lnTo>
                  <a:lnTo>
                    <a:pt x="2171" y="17705"/>
                  </a:lnTo>
                  <a:lnTo>
                    <a:pt x="0" y="17705"/>
                  </a:lnTo>
                  <a:lnTo>
                    <a:pt x="0" y="18361"/>
                  </a:lnTo>
                  <a:lnTo>
                    <a:pt x="2171" y="18361"/>
                  </a:lnTo>
                  <a:lnTo>
                    <a:pt x="2171" y="19016"/>
                  </a:lnTo>
                  <a:lnTo>
                    <a:pt x="0" y="19016"/>
                  </a:lnTo>
                  <a:lnTo>
                    <a:pt x="0" y="19016"/>
                  </a:lnTo>
                  <a:lnTo>
                    <a:pt x="2171" y="19016"/>
                  </a:lnTo>
                  <a:lnTo>
                    <a:pt x="2171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066680" y="57168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066680" y="198108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