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84040" y="358920"/>
            <a:ext cx="8577360" cy="6067440"/>
            <a:chOff x="284040" y="358920"/>
            <a:chExt cx="8577360" cy="6067440"/>
          </a:xfrm>
        </p:grpSpPr>
        <p:grpSp>
          <p:nvGrpSpPr>
            <p:cNvPr id="1" name=""/>
            <p:cNvGrpSpPr/>
            <p:nvPr/>
          </p:nvGrpSpPr>
          <p:grpSpPr>
            <a:xfrm>
              <a:off x="284040" y="358920"/>
              <a:ext cx="8577360" cy="6067440"/>
              <a:chOff x="284040" y="358920"/>
              <a:chExt cx="8577360" cy="6067440"/>
            </a:xfrm>
          </p:grpSpPr>
          <p:sp>
            <p:nvSpPr>
              <p:cNvPr id="2" name=""/>
              <p:cNvSpPr/>
              <p:nvPr/>
            </p:nvSpPr>
            <p:spPr>
              <a:xfrm>
                <a:off x="284040" y="358920"/>
                <a:ext cx="8577360" cy="123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284040" y="587520"/>
                <a:ext cx="8577360" cy="123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284040" y="816120"/>
                <a:ext cx="8577360" cy="123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284040" y="1044720"/>
                <a:ext cx="8577360" cy="123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84040" y="1273320"/>
                <a:ext cx="8577360" cy="123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84040" y="1501920"/>
                <a:ext cx="8577360" cy="123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284040" y="1730520"/>
                <a:ext cx="8577360" cy="123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284040" y="1959120"/>
                <a:ext cx="8577360" cy="123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284040" y="2187720"/>
                <a:ext cx="8577360" cy="123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84040" y="2416320"/>
                <a:ext cx="8577360" cy="123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284040" y="2644920"/>
                <a:ext cx="8577360" cy="123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84040" y="2873520"/>
                <a:ext cx="8577360" cy="123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84040" y="3102120"/>
                <a:ext cx="8577360" cy="123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284040" y="3330720"/>
                <a:ext cx="8577360" cy="123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284040" y="3559320"/>
                <a:ext cx="8577360" cy="123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284040" y="3787920"/>
                <a:ext cx="8577360" cy="123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84040" y="4016520"/>
                <a:ext cx="8577360" cy="123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284040" y="4245120"/>
                <a:ext cx="8577360" cy="123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284040" y="4473720"/>
                <a:ext cx="8577360" cy="123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84040" y="4702320"/>
                <a:ext cx="8577360" cy="123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284040" y="4930920"/>
                <a:ext cx="8577360" cy="123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284040" y="5159520"/>
                <a:ext cx="8577360" cy="123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84040" y="5388120"/>
                <a:ext cx="8577360" cy="123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84040" y="5616720"/>
                <a:ext cx="8577360" cy="123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284040" y="5845320"/>
                <a:ext cx="8577360" cy="123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284040" y="6073920"/>
                <a:ext cx="8577360" cy="123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284040" y="6302520"/>
                <a:ext cx="8577360" cy="123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457200" y="1600200"/>
              <a:ext cx="8229600" cy="4724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752480"/>
            <a:ext cx="777240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