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5560" y="14400"/>
            <a:ext cx="9020160" cy="6691320"/>
            <a:chOff x="25560" y="14400"/>
            <a:chExt cx="9020160" cy="6691320"/>
          </a:xfrm>
        </p:grpSpPr>
        <p:sp>
          <p:nvSpPr>
            <p:cNvPr id="1" name=""/>
            <p:cNvSpPr/>
            <p:nvPr/>
          </p:nvSpPr>
          <p:spPr>
            <a:xfrm>
              <a:off x="76320" y="152280"/>
              <a:ext cx="152280" cy="68580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320" y="1295280"/>
              <a:ext cx="152280" cy="68580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6320" y="2438280"/>
              <a:ext cx="152280" cy="68580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6320" y="3581280"/>
              <a:ext cx="152280" cy="68580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320" y="4724280"/>
              <a:ext cx="152280" cy="68580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320" y="5867280"/>
              <a:ext cx="152280" cy="68580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77880" y="149400"/>
              <a:ext cx="685800" cy="15228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820880" y="149400"/>
              <a:ext cx="685800" cy="15228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963880" y="149400"/>
              <a:ext cx="685800" cy="15228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106880" y="149400"/>
              <a:ext cx="685800" cy="15228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249880" y="149400"/>
              <a:ext cx="685800" cy="15228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92880" y="149400"/>
              <a:ext cx="685800" cy="15228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535880" y="149400"/>
              <a:ext cx="685800" cy="15228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839080" y="4876920"/>
              <a:ext cx="152280" cy="68580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839080" y="6019920"/>
              <a:ext cx="152280" cy="68580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688160" y="6550200"/>
              <a:ext cx="685800" cy="15228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545160" y="6550200"/>
              <a:ext cx="685800" cy="15228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b7a5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38160" y="3189240"/>
              <a:ext cx="282960" cy="263880"/>
              <a:chOff x="38160" y="3189240"/>
              <a:chExt cx="282960" cy="263880"/>
            </a:xfrm>
          </p:grpSpPr>
          <p:sp>
            <p:nvSpPr>
              <p:cNvPr id="19" name=""/>
              <p:cNvSpPr/>
              <p:nvPr/>
            </p:nvSpPr>
            <p:spPr>
              <a:xfrm>
                <a:off x="131760" y="318924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00160" y="331776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160" y="332100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" name=""/>
            <p:cNvGrpSpPr/>
            <p:nvPr/>
          </p:nvGrpSpPr>
          <p:grpSpPr>
            <a:xfrm>
              <a:off x="25560" y="2058840"/>
              <a:ext cx="282600" cy="263880"/>
              <a:chOff x="25560" y="2058840"/>
              <a:chExt cx="282600" cy="263880"/>
            </a:xfrm>
          </p:grpSpPr>
          <p:sp>
            <p:nvSpPr>
              <p:cNvPr id="23" name=""/>
              <p:cNvSpPr/>
              <p:nvPr/>
            </p:nvSpPr>
            <p:spPr>
              <a:xfrm>
                <a:off x="119160" y="205884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87200" y="21877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560" y="219060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"/>
            <p:cNvGrpSpPr/>
            <p:nvPr/>
          </p:nvGrpSpPr>
          <p:grpSpPr>
            <a:xfrm>
              <a:off x="38160" y="4351320"/>
              <a:ext cx="282960" cy="263880"/>
              <a:chOff x="38160" y="4351320"/>
              <a:chExt cx="282960" cy="263880"/>
            </a:xfrm>
          </p:grpSpPr>
          <p:sp>
            <p:nvSpPr>
              <p:cNvPr id="27" name=""/>
              <p:cNvSpPr/>
              <p:nvPr/>
            </p:nvSpPr>
            <p:spPr>
              <a:xfrm>
                <a:off x="131760" y="435132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00160" y="447984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8160" y="448308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"/>
            <p:cNvGrpSpPr/>
            <p:nvPr/>
          </p:nvGrpSpPr>
          <p:grpSpPr>
            <a:xfrm>
              <a:off x="38160" y="5487840"/>
              <a:ext cx="282960" cy="263880"/>
              <a:chOff x="38160" y="5487840"/>
              <a:chExt cx="282960" cy="263880"/>
            </a:xfrm>
          </p:grpSpPr>
          <p:sp>
            <p:nvSpPr>
              <p:cNvPr id="31" name=""/>
              <p:cNvSpPr/>
              <p:nvPr/>
            </p:nvSpPr>
            <p:spPr>
              <a:xfrm>
                <a:off x="131760" y="548784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00160" y="56167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160" y="561960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38160" y="915840"/>
              <a:ext cx="282960" cy="263880"/>
              <a:chOff x="38160" y="915840"/>
              <a:chExt cx="282960" cy="263880"/>
            </a:xfrm>
          </p:grpSpPr>
          <p:sp>
            <p:nvSpPr>
              <p:cNvPr id="35" name=""/>
              <p:cNvSpPr/>
              <p:nvPr/>
            </p:nvSpPr>
            <p:spPr>
              <a:xfrm>
                <a:off x="131760" y="91584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200160" y="10447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8160" y="104760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" name=""/>
            <p:cNvGrpSpPr/>
            <p:nvPr/>
          </p:nvGrpSpPr>
          <p:grpSpPr>
            <a:xfrm>
              <a:off x="304920" y="52560"/>
              <a:ext cx="282600" cy="263880"/>
              <a:chOff x="304920" y="52560"/>
              <a:chExt cx="282600" cy="263880"/>
            </a:xfrm>
          </p:grpSpPr>
          <p:sp>
            <p:nvSpPr>
              <p:cNvPr id="39" name=""/>
              <p:cNvSpPr/>
              <p:nvPr/>
            </p:nvSpPr>
            <p:spPr>
              <a:xfrm>
                <a:off x="398520" y="5256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66560" y="18108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304920" y="18432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1447920" y="39600"/>
              <a:ext cx="282600" cy="263880"/>
              <a:chOff x="1447920" y="39600"/>
              <a:chExt cx="282600" cy="263880"/>
            </a:xfrm>
          </p:grpSpPr>
          <p:sp>
            <p:nvSpPr>
              <p:cNvPr id="43" name=""/>
              <p:cNvSpPr/>
              <p:nvPr/>
            </p:nvSpPr>
            <p:spPr>
              <a:xfrm>
                <a:off x="1541520" y="3960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609560" y="1681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447920" y="17136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2590920" y="27000"/>
              <a:ext cx="282600" cy="263880"/>
              <a:chOff x="2590920" y="27000"/>
              <a:chExt cx="282600" cy="263880"/>
            </a:xfrm>
          </p:grpSpPr>
          <p:sp>
            <p:nvSpPr>
              <p:cNvPr id="47" name=""/>
              <p:cNvSpPr/>
              <p:nvPr/>
            </p:nvSpPr>
            <p:spPr>
              <a:xfrm>
                <a:off x="2684520" y="2700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752560" y="1555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590920" y="15876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3759120" y="39600"/>
              <a:ext cx="282960" cy="263880"/>
              <a:chOff x="3759120" y="39600"/>
              <a:chExt cx="282960" cy="263880"/>
            </a:xfrm>
          </p:grpSpPr>
          <p:sp>
            <p:nvSpPr>
              <p:cNvPr id="51" name=""/>
              <p:cNvSpPr/>
              <p:nvPr/>
            </p:nvSpPr>
            <p:spPr>
              <a:xfrm>
                <a:off x="3852720" y="3960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21120" y="1681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759120" y="17136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4876920" y="14400"/>
              <a:ext cx="282600" cy="263880"/>
              <a:chOff x="4876920" y="14400"/>
              <a:chExt cx="282600" cy="263880"/>
            </a:xfrm>
          </p:grpSpPr>
          <p:sp>
            <p:nvSpPr>
              <p:cNvPr id="55" name=""/>
              <p:cNvSpPr/>
              <p:nvPr/>
            </p:nvSpPr>
            <p:spPr>
              <a:xfrm>
                <a:off x="4970520" y="1440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038560" y="1429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876920" y="14616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6019920" y="14400"/>
              <a:ext cx="282600" cy="263880"/>
              <a:chOff x="6019920" y="14400"/>
              <a:chExt cx="282600" cy="263880"/>
            </a:xfrm>
          </p:grpSpPr>
          <p:sp>
            <p:nvSpPr>
              <p:cNvPr id="59" name=""/>
              <p:cNvSpPr/>
              <p:nvPr/>
            </p:nvSpPr>
            <p:spPr>
              <a:xfrm>
                <a:off x="6113520" y="1440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181560" y="1429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019920" y="14616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7175520" y="14400"/>
              <a:ext cx="282960" cy="263880"/>
              <a:chOff x="7175520" y="14400"/>
              <a:chExt cx="282960" cy="263880"/>
            </a:xfrm>
          </p:grpSpPr>
          <p:sp>
            <p:nvSpPr>
              <p:cNvPr id="63" name=""/>
              <p:cNvSpPr/>
              <p:nvPr/>
            </p:nvSpPr>
            <p:spPr>
              <a:xfrm>
                <a:off x="7269120" y="1440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7520" y="1429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175520" y="14616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8445600" y="6415200"/>
              <a:ext cx="282960" cy="263880"/>
              <a:chOff x="8445600" y="6415200"/>
              <a:chExt cx="282960" cy="263880"/>
            </a:xfrm>
          </p:grpSpPr>
          <p:sp>
            <p:nvSpPr>
              <p:cNvPr id="67" name=""/>
              <p:cNvSpPr/>
              <p:nvPr/>
            </p:nvSpPr>
            <p:spPr>
              <a:xfrm>
                <a:off x="8539200" y="641520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607600" y="65437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445600" y="654696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7315200" y="6440400"/>
              <a:ext cx="282960" cy="263880"/>
              <a:chOff x="7315200" y="6440400"/>
              <a:chExt cx="282960" cy="263880"/>
            </a:xfrm>
          </p:grpSpPr>
          <p:sp>
            <p:nvSpPr>
              <p:cNvPr id="71" name=""/>
              <p:cNvSpPr/>
              <p:nvPr/>
            </p:nvSpPr>
            <p:spPr>
              <a:xfrm>
                <a:off x="7408800" y="644040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477200" y="656892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315200" y="657216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8763120" y="5627520"/>
              <a:ext cx="282600" cy="263880"/>
              <a:chOff x="8763120" y="5627520"/>
              <a:chExt cx="282600" cy="263880"/>
            </a:xfrm>
          </p:grpSpPr>
          <p:sp>
            <p:nvSpPr>
              <p:cNvPr id="75" name=""/>
              <p:cNvSpPr/>
              <p:nvPr/>
            </p:nvSpPr>
            <p:spPr>
              <a:xfrm>
                <a:off x="8856720" y="562752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24760" y="575640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763120" y="575928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8737560" y="4497480"/>
              <a:ext cx="282960" cy="263880"/>
              <a:chOff x="8737560" y="4497480"/>
              <a:chExt cx="282960" cy="263880"/>
            </a:xfrm>
          </p:grpSpPr>
          <p:sp>
            <p:nvSpPr>
              <p:cNvPr id="79" name=""/>
              <p:cNvSpPr/>
              <p:nvPr/>
            </p:nvSpPr>
            <p:spPr>
              <a:xfrm>
                <a:off x="8831160" y="4497480"/>
                <a:ext cx="95760" cy="159120"/>
              </a:xfrm>
              <a:custGeom>
                <a:avLst/>
                <a:gdLst/>
                <a:ahLst/>
                <a:rect l="0" t="0" r="r" b="b"/>
                <a:pathLst>
                  <a:path w="266" h="442">
                    <a:moveTo>
                      <a:pt x="123" y="0"/>
                    </a:moveTo>
                    <a:lnTo>
                      <a:pt x="0" y="136"/>
                    </a:lnTo>
                    <a:lnTo>
                      <a:pt x="0" y="315"/>
                    </a:lnTo>
                    <a:lnTo>
                      <a:pt x="120" y="442"/>
                    </a:lnTo>
                    <a:lnTo>
                      <a:pt x="266" y="322"/>
                    </a:lnTo>
                    <a:lnTo>
                      <a:pt x="266" y="13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899560" y="4626000"/>
                <a:ext cx="120960" cy="127440"/>
              </a:xfrm>
              <a:custGeom>
                <a:avLst/>
                <a:gdLst/>
                <a:ahLst/>
                <a:rect l="0" t="0" r="r" b="b"/>
                <a:pathLst>
                  <a:path w="336" h="354">
                    <a:moveTo>
                      <a:pt x="307" y="0"/>
                    </a:moveTo>
                    <a:lnTo>
                      <a:pt x="127" y="33"/>
                    </a:lnTo>
                    <a:lnTo>
                      <a:pt x="17" y="174"/>
                    </a:lnTo>
                    <a:lnTo>
                      <a:pt x="0" y="354"/>
                    </a:lnTo>
                    <a:lnTo>
                      <a:pt x="220" y="337"/>
                    </a:lnTo>
                    <a:lnTo>
                      <a:pt x="336" y="191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737560" y="4629240"/>
                <a:ext cx="132120" cy="132120"/>
              </a:xfrm>
              <a:custGeom>
                <a:avLst/>
                <a:gdLst/>
                <a:ahLst/>
                <a:rect l="0" t="0" r="r" b="b"/>
                <a:pathLst>
                  <a:path w="367" h="367">
                    <a:moveTo>
                      <a:pt x="28" y="0"/>
                    </a:moveTo>
                    <a:lnTo>
                      <a:pt x="206" y="33"/>
                    </a:lnTo>
                    <a:lnTo>
                      <a:pt x="315" y="174"/>
                    </a:lnTo>
                    <a:lnTo>
                      <a:pt x="367" y="367"/>
                    </a:lnTo>
                    <a:lnTo>
                      <a:pt x="114" y="338"/>
                    </a:lnTo>
                    <a:lnTo>
                      <a:pt x="0" y="19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f0e30"/>
              </a:solidFill>
              <a:ln w="12600">
                <a:solidFill>
                  <a:srgbClr val="00b7a5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e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 u="sng">
                <a:solidFill>
                  <a:srgbClr val="e3beff"/>
                </a:solidFill>
                <a:uFillTx/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fef9"/>
              </a:buClr>
              <a:buFont typeface="Arial"/>
              <a:buChar char=""/>
            </a:pPr>
            <a:r>
              <a:rPr b="0" lang="en-US" sz="3200" spc="-1" strike="noStrike">
                <a:solidFill>
                  <a:srgbClr val="c0fef9"/>
                </a:solidFill>
                <a:latin typeface="Book Antiqua"/>
                <a:ea typeface="Book Antiqua"/>
              </a:rPr>
              <a:t>Delor sit amet consectetuer adipiscing elit sed di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0fef9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c0fef9"/>
                </a:solidFill>
                <a:latin typeface="Book Antiqua"/>
                <a:ea typeface="Book Antiqua"/>
              </a:rPr>
              <a:t>Nonummy nibh euism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0fef9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c0fef9"/>
                </a:solidFill>
                <a:latin typeface="Book Antiqua"/>
                <a:ea typeface="Book Antiqua"/>
              </a:rPr>
              <a:t>Tincidunt 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0fef9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c0fef9"/>
                </a:solidFill>
                <a:latin typeface="Book Antiqua"/>
                <a:ea typeface="Book Antiqua"/>
              </a:rPr>
              <a:t>Laoreet dol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0fef9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c0fef9"/>
                </a:solidFill>
                <a:latin typeface="Book Antiqua"/>
                <a:ea typeface="Book Antiqua"/>
              </a:rPr>
              <a:t>Magna aliqu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fef9"/>
              </a:buClr>
              <a:buFont typeface="Arial"/>
              <a:buChar char=""/>
            </a:pPr>
            <a:r>
              <a:rPr b="0" lang="en-US" sz="3200" spc="-1" strike="noStrike">
                <a:solidFill>
                  <a:srgbClr val="c0fef9"/>
                </a:solidFill>
                <a:latin typeface="Book Antiqua"/>
                <a:ea typeface="Book Antiqua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