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57240"/>
            <a:ext cx="9131760" cy="5888160"/>
            <a:chOff x="0" y="957240"/>
            <a:chExt cx="9131760" cy="5888160"/>
          </a:xfrm>
        </p:grpSpPr>
        <p:sp>
          <p:nvSpPr>
            <p:cNvPr id="1" name=""/>
            <p:cNvSpPr/>
            <p:nvPr/>
          </p:nvSpPr>
          <p:spPr>
            <a:xfrm>
              <a:off x="0" y="6400800"/>
              <a:ext cx="9131400" cy="444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6e3a6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957240"/>
              <a:ext cx="9131760" cy="5653440"/>
              <a:chOff x="0" y="957240"/>
              <a:chExt cx="9131760" cy="56534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2890800" y="957240"/>
                <a:ext cx="4815000" cy="4567680"/>
                <a:chOff x="2890800" y="957240"/>
                <a:chExt cx="4815000" cy="456768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3508200" y="957240"/>
                  <a:ext cx="4197600" cy="3967560"/>
                  <a:chOff x="3508200" y="957240"/>
                  <a:chExt cx="4197600" cy="396756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3508200" y="961920"/>
                    <a:ext cx="2202120" cy="1771920"/>
                  </a:xfrm>
                  <a:custGeom>
                    <a:avLst/>
                    <a:gdLst/>
                    <a:ahLst/>
                    <a:rect l="0" t="0" r="r" b="b"/>
                    <a:pathLst>
                      <a:path w="6117" h="4922">
                        <a:moveTo>
                          <a:pt x="4635" y="4555"/>
                        </a:moveTo>
                        <a:lnTo>
                          <a:pt x="4456" y="4411"/>
                        </a:lnTo>
                        <a:lnTo>
                          <a:pt x="4216" y="4071"/>
                        </a:lnTo>
                        <a:lnTo>
                          <a:pt x="4065" y="4071"/>
                        </a:lnTo>
                        <a:lnTo>
                          <a:pt x="4023" y="3927"/>
                        </a:lnTo>
                        <a:lnTo>
                          <a:pt x="4150" y="3848"/>
                        </a:lnTo>
                        <a:lnTo>
                          <a:pt x="4150" y="3646"/>
                        </a:lnTo>
                        <a:lnTo>
                          <a:pt x="4263" y="3587"/>
                        </a:lnTo>
                        <a:lnTo>
                          <a:pt x="4588" y="3188"/>
                        </a:lnTo>
                        <a:lnTo>
                          <a:pt x="4545" y="3102"/>
                        </a:lnTo>
                        <a:lnTo>
                          <a:pt x="4762" y="2821"/>
                        </a:lnTo>
                        <a:lnTo>
                          <a:pt x="4851" y="2847"/>
                        </a:lnTo>
                        <a:lnTo>
                          <a:pt x="4894" y="2991"/>
                        </a:lnTo>
                        <a:lnTo>
                          <a:pt x="4851" y="3076"/>
                        </a:lnTo>
                        <a:lnTo>
                          <a:pt x="4809" y="3102"/>
                        </a:lnTo>
                        <a:lnTo>
                          <a:pt x="4809" y="3246"/>
                        </a:lnTo>
                        <a:lnTo>
                          <a:pt x="4851" y="3220"/>
                        </a:lnTo>
                        <a:lnTo>
                          <a:pt x="4743" y="3502"/>
                        </a:lnTo>
                        <a:lnTo>
                          <a:pt x="4635" y="3646"/>
                        </a:lnTo>
                        <a:lnTo>
                          <a:pt x="4677" y="3783"/>
                        </a:lnTo>
                        <a:lnTo>
                          <a:pt x="4719" y="3587"/>
                        </a:lnTo>
                        <a:lnTo>
                          <a:pt x="4809" y="3672"/>
                        </a:lnTo>
                        <a:lnTo>
                          <a:pt x="4828" y="3534"/>
                        </a:lnTo>
                        <a:lnTo>
                          <a:pt x="4894" y="3502"/>
                        </a:lnTo>
                        <a:lnTo>
                          <a:pt x="4936" y="3587"/>
                        </a:lnTo>
                        <a:lnTo>
                          <a:pt x="4983" y="3502"/>
                        </a:lnTo>
                        <a:lnTo>
                          <a:pt x="4983" y="3417"/>
                        </a:lnTo>
                        <a:lnTo>
                          <a:pt x="5157" y="3502"/>
                        </a:lnTo>
                        <a:lnTo>
                          <a:pt x="5223" y="3443"/>
                        </a:lnTo>
                        <a:lnTo>
                          <a:pt x="5049" y="3358"/>
                        </a:lnTo>
                        <a:lnTo>
                          <a:pt x="5025" y="3273"/>
                        </a:lnTo>
                        <a:lnTo>
                          <a:pt x="5157" y="3273"/>
                        </a:lnTo>
                        <a:lnTo>
                          <a:pt x="5199" y="3390"/>
                        </a:lnTo>
                        <a:lnTo>
                          <a:pt x="5350" y="3273"/>
                        </a:lnTo>
                        <a:lnTo>
                          <a:pt x="5181" y="3161"/>
                        </a:lnTo>
                        <a:lnTo>
                          <a:pt x="5223" y="3076"/>
                        </a:lnTo>
                        <a:lnTo>
                          <a:pt x="5350" y="3129"/>
                        </a:lnTo>
                        <a:lnTo>
                          <a:pt x="5416" y="3220"/>
                        </a:lnTo>
                        <a:lnTo>
                          <a:pt x="5416" y="3273"/>
                        </a:lnTo>
                        <a:lnTo>
                          <a:pt x="5637" y="3390"/>
                        </a:lnTo>
                        <a:lnTo>
                          <a:pt x="5637" y="3246"/>
                        </a:lnTo>
                        <a:lnTo>
                          <a:pt x="5811" y="3332"/>
                        </a:lnTo>
                        <a:lnTo>
                          <a:pt x="5787" y="3129"/>
                        </a:lnTo>
                        <a:lnTo>
                          <a:pt x="5811" y="2965"/>
                        </a:lnTo>
                        <a:lnTo>
                          <a:pt x="5726" y="2991"/>
                        </a:lnTo>
                        <a:lnTo>
                          <a:pt x="5703" y="3076"/>
                        </a:lnTo>
                        <a:lnTo>
                          <a:pt x="5595" y="3017"/>
                        </a:lnTo>
                        <a:lnTo>
                          <a:pt x="5416" y="2965"/>
                        </a:lnTo>
                        <a:lnTo>
                          <a:pt x="5350" y="2991"/>
                        </a:lnTo>
                        <a:lnTo>
                          <a:pt x="5331" y="2795"/>
                        </a:lnTo>
                        <a:lnTo>
                          <a:pt x="5265" y="2932"/>
                        </a:lnTo>
                        <a:lnTo>
                          <a:pt x="5223" y="2821"/>
                        </a:lnTo>
                        <a:lnTo>
                          <a:pt x="5157" y="2736"/>
                        </a:lnTo>
                        <a:lnTo>
                          <a:pt x="5049" y="2795"/>
                        </a:lnTo>
                        <a:lnTo>
                          <a:pt x="5002" y="2677"/>
                        </a:lnTo>
                        <a:lnTo>
                          <a:pt x="5025" y="2618"/>
                        </a:lnTo>
                        <a:lnTo>
                          <a:pt x="5223" y="2592"/>
                        </a:lnTo>
                        <a:lnTo>
                          <a:pt x="5439" y="2533"/>
                        </a:lnTo>
                        <a:lnTo>
                          <a:pt x="5265" y="2303"/>
                        </a:lnTo>
                        <a:lnTo>
                          <a:pt x="5133" y="2251"/>
                        </a:lnTo>
                        <a:lnTo>
                          <a:pt x="5133" y="2133"/>
                        </a:lnTo>
                        <a:lnTo>
                          <a:pt x="5115" y="2192"/>
                        </a:lnTo>
                        <a:lnTo>
                          <a:pt x="5265" y="2107"/>
                        </a:lnTo>
                        <a:lnTo>
                          <a:pt x="5223" y="2022"/>
                        </a:lnTo>
                        <a:lnTo>
                          <a:pt x="5049" y="1963"/>
                        </a:lnTo>
                        <a:lnTo>
                          <a:pt x="5049" y="1878"/>
                        </a:lnTo>
                        <a:lnTo>
                          <a:pt x="5308" y="1878"/>
                        </a:lnTo>
                        <a:lnTo>
                          <a:pt x="5595" y="1740"/>
                        </a:lnTo>
                        <a:lnTo>
                          <a:pt x="5985" y="1485"/>
                        </a:lnTo>
                        <a:lnTo>
                          <a:pt x="6117" y="713"/>
                        </a:lnTo>
                        <a:lnTo>
                          <a:pt x="5595" y="0"/>
                        </a:lnTo>
                        <a:lnTo>
                          <a:pt x="4762" y="58"/>
                        </a:lnTo>
                        <a:lnTo>
                          <a:pt x="3388" y="687"/>
                        </a:lnTo>
                        <a:lnTo>
                          <a:pt x="3237" y="484"/>
                        </a:lnTo>
                        <a:lnTo>
                          <a:pt x="2709" y="713"/>
                        </a:lnTo>
                        <a:lnTo>
                          <a:pt x="2404" y="687"/>
                        </a:lnTo>
                        <a:lnTo>
                          <a:pt x="2427" y="458"/>
                        </a:lnTo>
                        <a:lnTo>
                          <a:pt x="2295" y="602"/>
                        </a:lnTo>
                        <a:lnTo>
                          <a:pt x="2098" y="602"/>
                        </a:lnTo>
                        <a:lnTo>
                          <a:pt x="2230" y="739"/>
                        </a:lnTo>
                        <a:lnTo>
                          <a:pt x="2187" y="824"/>
                        </a:lnTo>
                        <a:lnTo>
                          <a:pt x="2140" y="739"/>
                        </a:lnTo>
                        <a:lnTo>
                          <a:pt x="2056" y="765"/>
                        </a:lnTo>
                        <a:lnTo>
                          <a:pt x="1811" y="713"/>
                        </a:lnTo>
                        <a:lnTo>
                          <a:pt x="1703" y="883"/>
                        </a:lnTo>
                        <a:lnTo>
                          <a:pt x="1834" y="883"/>
                        </a:lnTo>
                        <a:lnTo>
                          <a:pt x="1924" y="968"/>
                        </a:lnTo>
                        <a:lnTo>
                          <a:pt x="1769" y="968"/>
                        </a:lnTo>
                        <a:lnTo>
                          <a:pt x="1660" y="968"/>
                        </a:lnTo>
                        <a:lnTo>
                          <a:pt x="1594" y="883"/>
                        </a:lnTo>
                        <a:lnTo>
                          <a:pt x="1463" y="1053"/>
                        </a:lnTo>
                        <a:lnTo>
                          <a:pt x="1397" y="1197"/>
                        </a:lnTo>
                        <a:lnTo>
                          <a:pt x="1270" y="968"/>
                        </a:lnTo>
                        <a:lnTo>
                          <a:pt x="1270" y="1112"/>
                        </a:lnTo>
                        <a:lnTo>
                          <a:pt x="1049" y="1171"/>
                        </a:lnTo>
                        <a:lnTo>
                          <a:pt x="1223" y="1341"/>
                        </a:lnTo>
                        <a:lnTo>
                          <a:pt x="1354" y="1367"/>
                        </a:lnTo>
                        <a:lnTo>
                          <a:pt x="1444" y="1511"/>
                        </a:lnTo>
                        <a:lnTo>
                          <a:pt x="1637" y="1485"/>
                        </a:lnTo>
                        <a:lnTo>
                          <a:pt x="1529" y="1256"/>
                        </a:lnTo>
                        <a:lnTo>
                          <a:pt x="1618" y="1112"/>
                        </a:lnTo>
                        <a:lnTo>
                          <a:pt x="1684" y="1223"/>
                        </a:lnTo>
                        <a:lnTo>
                          <a:pt x="1618" y="1367"/>
                        </a:lnTo>
                        <a:lnTo>
                          <a:pt x="1684" y="1485"/>
                        </a:lnTo>
                        <a:lnTo>
                          <a:pt x="1703" y="1367"/>
                        </a:lnTo>
                        <a:lnTo>
                          <a:pt x="1811" y="1282"/>
                        </a:lnTo>
                        <a:lnTo>
                          <a:pt x="1966" y="1197"/>
                        </a:lnTo>
                        <a:lnTo>
                          <a:pt x="2032" y="1256"/>
                        </a:lnTo>
                        <a:lnTo>
                          <a:pt x="1924" y="1341"/>
                        </a:lnTo>
                        <a:lnTo>
                          <a:pt x="1792" y="1426"/>
                        </a:lnTo>
                        <a:lnTo>
                          <a:pt x="1726" y="1596"/>
                        </a:lnTo>
                        <a:lnTo>
                          <a:pt x="1529" y="1649"/>
                        </a:lnTo>
                        <a:lnTo>
                          <a:pt x="1270" y="1511"/>
                        </a:lnTo>
                        <a:lnTo>
                          <a:pt x="1223" y="1649"/>
                        </a:lnTo>
                        <a:lnTo>
                          <a:pt x="828" y="1681"/>
                        </a:lnTo>
                        <a:lnTo>
                          <a:pt x="611" y="1793"/>
                        </a:lnTo>
                        <a:lnTo>
                          <a:pt x="479" y="1740"/>
                        </a:lnTo>
                        <a:lnTo>
                          <a:pt x="479" y="1878"/>
                        </a:lnTo>
                        <a:lnTo>
                          <a:pt x="611" y="1852"/>
                        </a:lnTo>
                        <a:lnTo>
                          <a:pt x="635" y="2022"/>
                        </a:lnTo>
                        <a:lnTo>
                          <a:pt x="809" y="1995"/>
                        </a:lnTo>
                        <a:lnTo>
                          <a:pt x="875" y="1878"/>
                        </a:lnTo>
                        <a:lnTo>
                          <a:pt x="893" y="1963"/>
                        </a:lnTo>
                        <a:lnTo>
                          <a:pt x="1180" y="1937"/>
                        </a:lnTo>
                        <a:lnTo>
                          <a:pt x="1331" y="1852"/>
                        </a:lnTo>
                        <a:lnTo>
                          <a:pt x="1378" y="2022"/>
                        </a:lnTo>
                        <a:lnTo>
                          <a:pt x="1289" y="1995"/>
                        </a:lnTo>
                        <a:lnTo>
                          <a:pt x="1246" y="2048"/>
                        </a:lnTo>
                        <a:lnTo>
                          <a:pt x="1270" y="2166"/>
                        </a:lnTo>
                        <a:lnTo>
                          <a:pt x="983" y="2192"/>
                        </a:lnTo>
                        <a:lnTo>
                          <a:pt x="828" y="2225"/>
                        </a:lnTo>
                        <a:lnTo>
                          <a:pt x="875" y="2362"/>
                        </a:lnTo>
                        <a:lnTo>
                          <a:pt x="785" y="2303"/>
                        </a:lnTo>
                        <a:lnTo>
                          <a:pt x="719" y="2388"/>
                        </a:lnTo>
                        <a:lnTo>
                          <a:pt x="550" y="2251"/>
                        </a:lnTo>
                        <a:lnTo>
                          <a:pt x="503" y="2388"/>
                        </a:lnTo>
                        <a:lnTo>
                          <a:pt x="329" y="2336"/>
                        </a:lnTo>
                        <a:lnTo>
                          <a:pt x="239" y="2421"/>
                        </a:lnTo>
                        <a:lnTo>
                          <a:pt x="197" y="2481"/>
                        </a:lnTo>
                        <a:lnTo>
                          <a:pt x="89" y="2481"/>
                        </a:lnTo>
                        <a:lnTo>
                          <a:pt x="42" y="2618"/>
                        </a:lnTo>
                        <a:lnTo>
                          <a:pt x="174" y="2677"/>
                        </a:lnTo>
                        <a:lnTo>
                          <a:pt x="352" y="2651"/>
                        </a:lnTo>
                        <a:lnTo>
                          <a:pt x="437" y="2762"/>
                        </a:lnTo>
                        <a:lnTo>
                          <a:pt x="569" y="2736"/>
                        </a:lnTo>
                        <a:lnTo>
                          <a:pt x="743" y="2677"/>
                        </a:lnTo>
                        <a:lnTo>
                          <a:pt x="893" y="2736"/>
                        </a:lnTo>
                        <a:lnTo>
                          <a:pt x="959" y="2651"/>
                        </a:lnTo>
                        <a:lnTo>
                          <a:pt x="983" y="2703"/>
                        </a:lnTo>
                        <a:lnTo>
                          <a:pt x="875" y="2795"/>
                        </a:lnTo>
                        <a:lnTo>
                          <a:pt x="653" y="2821"/>
                        </a:lnTo>
                        <a:lnTo>
                          <a:pt x="762" y="2932"/>
                        </a:lnTo>
                        <a:lnTo>
                          <a:pt x="437" y="2965"/>
                        </a:lnTo>
                        <a:lnTo>
                          <a:pt x="437" y="3076"/>
                        </a:lnTo>
                        <a:lnTo>
                          <a:pt x="286" y="3102"/>
                        </a:lnTo>
                        <a:lnTo>
                          <a:pt x="197" y="3102"/>
                        </a:lnTo>
                        <a:lnTo>
                          <a:pt x="174" y="3129"/>
                        </a:lnTo>
                        <a:lnTo>
                          <a:pt x="23" y="3076"/>
                        </a:lnTo>
                        <a:lnTo>
                          <a:pt x="42" y="3129"/>
                        </a:lnTo>
                        <a:lnTo>
                          <a:pt x="0" y="3273"/>
                        </a:lnTo>
                        <a:lnTo>
                          <a:pt x="155" y="3273"/>
                        </a:lnTo>
                        <a:lnTo>
                          <a:pt x="174" y="3358"/>
                        </a:lnTo>
                        <a:lnTo>
                          <a:pt x="305" y="3299"/>
                        </a:lnTo>
                        <a:lnTo>
                          <a:pt x="395" y="3299"/>
                        </a:lnTo>
                        <a:lnTo>
                          <a:pt x="414" y="3390"/>
                        </a:lnTo>
                        <a:lnTo>
                          <a:pt x="522" y="3358"/>
                        </a:lnTo>
                        <a:lnTo>
                          <a:pt x="479" y="3188"/>
                        </a:lnTo>
                        <a:lnTo>
                          <a:pt x="701" y="3188"/>
                        </a:lnTo>
                        <a:lnTo>
                          <a:pt x="719" y="3273"/>
                        </a:lnTo>
                        <a:lnTo>
                          <a:pt x="875" y="3246"/>
                        </a:lnTo>
                        <a:lnTo>
                          <a:pt x="1025" y="3273"/>
                        </a:lnTo>
                        <a:lnTo>
                          <a:pt x="1072" y="3102"/>
                        </a:lnTo>
                        <a:lnTo>
                          <a:pt x="1115" y="3188"/>
                        </a:lnTo>
                        <a:lnTo>
                          <a:pt x="1025" y="3299"/>
                        </a:lnTo>
                        <a:lnTo>
                          <a:pt x="851" y="3417"/>
                        </a:lnTo>
                        <a:lnTo>
                          <a:pt x="743" y="3502"/>
                        </a:lnTo>
                        <a:lnTo>
                          <a:pt x="917" y="3475"/>
                        </a:lnTo>
                        <a:lnTo>
                          <a:pt x="940" y="3587"/>
                        </a:lnTo>
                        <a:lnTo>
                          <a:pt x="959" y="3646"/>
                        </a:lnTo>
                        <a:lnTo>
                          <a:pt x="1223" y="3502"/>
                        </a:lnTo>
                        <a:lnTo>
                          <a:pt x="1463" y="3246"/>
                        </a:lnTo>
                        <a:lnTo>
                          <a:pt x="1246" y="3358"/>
                        </a:lnTo>
                        <a:lnTo>
                          <a:pt x="1138" y="3188"/>
                        </a:lnTo>
                        <a:lnTo>
                          <a:pt x="1397" y="3129"/>
                        </a:lnTo>
                        <a:lnTo>
                          <a:pt x="1223" y="3076"/>
                        </a:lnTo>
                        <a:lnTo>
                          <a:pt x="1378" y="2932"/>
                        </a:lnTo>
                        <a:lnTo>
                          <a:pt x="1552" y="3246"/>
                        </a:lnTo>
                        <a:lnTo>
                          <a:pt x="1594" y="3076"/>
                        </a:lnTo>
                        <a:lnTo>
                          <a:pt x="1684" y="3220"/>
                        </a:lnTo>
                        <a:lnTo>
                          <a:pt x="1858" y="3044"/>
                        </a:lnTo>
                        <a:lnTo>
                          <a:pt x="1769" y="3358"/>
                        </a:lnTo>
                        <a:lnTo>
                          <a:pt x="1792" y="3502"/>
                        </a:lnTo>
                        <a:lnTo>
                          <a:pt x="1486" y="3561"/>
                        </a:lnTo>
                        <a:lnTo>
                          <a:pt x="2008" y="3587"/>
                        </a:lnTo>
                        <a:lnTo>
                          <a:pt x="1769" y="3561"/>
                        </a:lnTo>
                        <a:lnTo>
                          <a:pt x="1877" y="3273"/>
                        </a:lnTo>
                        <a:lnTo>
                          <a:pt x="2140" y="3220"/>
                        </a:lnTo>
                        <a:lnTo>
                          <a:pt x="2230" y="3102"/>
                        </a:lnTo>
                        <a:lnTo>
                          <a:pt x="2295" y="3358"/>
                        </a:lnTo>
                        <a:lnTo>
                          <a:pt x="2056" y="3417"/>
                        </a:lnTo>
                        <a:lnTo>
                          <a:pt x="2253" y="3443"/>
                        </a:lnTo>
                        <a:lnTo>
                          <a:pt x="2446" y="3475"/>
                        </a:lnTo>
                        <a:lnTo>
                          <a:pt x="2338" y="3332"/>
                        </a:lnTo>
                        <a:lnTo>
                          <a:pt x="2404" y="3102"/>
                        </a:lnTo>
                        <a:lnTo>
                          <a:pt x="2531" y="3220"/>
                        </a:lnTo>
                        <a:lnTo>
                          <a:pt x="2488" y="3443"/>
                        </a:lnTo>
                        <a:lnTo>
                          <a:pt x="2686" y="3534"/>
                        </a:lnTo>
                        <a:lnTo>
                          <a:pt x="2187" y="3672"/>
                        </a:lnTo>
                        <a:lnTo>
                          <a:pt x="2667" y="3646"/>
                        </a:lnTo>
                        <a:lnTo>
                          <a:pt x="2728" y="3731"/>
                        </a:lnTo>
                        <a:lnTo>
                          <a:pt x="2860" y="3613"/>
                        </a:lnTo>
                        <a:lnTo>
                          <a:pt x="2949" y="3731"/>
                        </a:lnTo>
                        <a:lnTo>
                          <a:pt x="3190" y="3332"/>
                        </a:lnTo>
                        <a:lnTo>
                          <a:pt x="3322" y="3390"/>
                        </a:lnTo>
                        <a:lnTo>
                          <a:pt x="3407" y="3783"/>
                        </a:lnTo>
                        <a:lnTo>
                          <a:pt x="3039" y="3534"/>
                        </a:lnTo>
                        <a:lnTo>
                          <a:pt x="3148" y="3672"/>
                        </a:lnTo>
                        <a:lnTo>
                          <a:pt x="3364" y="3613"/>
                        </a:lnTo>
                        <a:lnTo>
                          <a:pt x="3388" y="3783"/>
                        </a:lnTo>
                        <a:lnTo>
                          <a:pt x="3364" y="3927"/>
                        </a:lnTo>
                        <a:lnTo>
                          <a:pt x="3190" y="3613"/>
                        </a:lnTo>
                        <a:lnTo>
                          <a:pt x="2907" y="3927"/>
                        </a:lnTo>
                        <a:lnTo>
                          <a:pt x="2620" y="3757"/>
                        </a:lnTo>
                        <a:lnTo>
                          <a:pt x="2775" y="3960"/>
                        </a:lnTo>
                        <a:lnTo>
                          <a:pt x="3039" y="4012"/>
                        </a:lnTo>
                        <a:lnTo>
                          <a:pt x="3256" y="4038"/>
                        </a:lnTo>
                        <a:lnTo>
                          <a:pt x="3454" y="4411"/>
                        </a:lnTo>
                        <a:lnTo>
                          <a:pt x="2818" y="4038"/>
                        </a:lnTo>
                        <a:lnTo>
                          <a:pt x="2818" y="4182"/>
                        </a:lnTo>
                        <a:lnTo>
                          <a:pt x="2295" y="4215"/>
                        </a:lnTo>
                        <a:lnTo>
                          <a:pt x="2140" y="4097"/>
                        </a:lnTo>
                        <a:lnTo>
                          <a:pt x="1990" y="4215"/>
                        </a:lnTo>
                        <a:lnTo>
                          <a:pt x="2272" y="4215"/>
                        </a:lnTo>
                        <a:lnTo>
                          <a:pt x="2884" y="4215"/>
                        </a:lnTo>
                        <a:lnTo>
                          <a:pt x="3148" y="4156"/>
                        </a:lnTo>
                        <a:lnTo>
                          <a:pt x="3388" y="4215"/>
                        </a:lnTo>
                        <a:lnTo>
                          <a:pt x="3407" y="4385"/>
                        </a:lnTo>
                        <a:lnTo>
                          <a:pt x="2884" y="4385"/>
                        </a:lnTo>
                        <a:lnTo>
                          <a:pt x="2860" y="4437"/>
                        </a:lnTo>
                        <a:lnTo>
                          <a:pt x="2775" y="4352"/>
                        </a:lnTo>
                        <a:lnTo>
                          <a:pt x="2559" y="4385"/>
                        </a:lnTo>
                        <a:lnTo>
                          <a:pt x="2667" y="4411"/>
                        </a:lnTo>
                        <a:lnTo>
                          <a:pt x="2446" y="4581"/>
                        </a:lnTo>
                        <a:lnTo>
                          <a:pt x="2728" y="4411"/>
                        </a:lnTo>
                        <a:lnTo>
                          <a:pt x="2860" y="4437"/>
                        </a:lnTo>
                        <a:lnTo>
                          <a:pt x="3172" y="4411"/>
                        </a:lnTo>
                        <a:lnTo>
                          <a:pt x="3454" y="4437"/>
                        </a:lnTo>
                        <a:lnTo>
                          <a:pt x="3256" y="4496"/>
                        </a:lnTo>
                        <a:lnTo>
                          <a:pt x="3280" y="4640"/>
                        </a:lnTo>
                        <a:lnTo>
                          <a:pt x="3364" y="4640"/>
                        </a:lnTo>
                        <a:lnTo>
                          <a:pt x="3341" y="4555"/>
                        </a:lnTo>
                        <a:lnTo>
                          <a:pt x="3562" y="4529"/>
                        </a:lnTo>
                        <a:lnTo>
                          <a:pt x="4000" y="4411"/>
                        </a:lnTo>
                        <a:lnTo>
                          <a:pt x="4305" y="4614"/>
                        </a:lnTo>
                        <a:lnTo>
                          <a:pt x="4305" y="4699"/>
                        </a:lnTo>
                        <a:lnTo>
                          <a:pt x="3736" y="4725"/>
                        </a:lnTo>
                        <a:lnTo>
                          <a:pt x="3539" y="4667"/>
                        </a:lnTo>
                        <a:lnTo>
                          <a:pt x="3407" y="4725"/>
                        </a:lnTo>
                        <a:lnTo>
                          <a:pt x="3520" y="4752"/>
                        </a:lnTo>
                        <a:lnTo>
                          <a:pt x="3760" y="4810"/>
                        </a:lnTo>
                        <a:lnTo>
                          <a:pt x="4023" y="4752"/>
                        </a:lnTo>
                        <a:lnTo>
                          <a:pt x="4456" y="4810"/>
                        </a:lnTo>
                        <a:lnTo>
                          <a:pt x="4456" y="4922"/>
                        </a:lnTo>
                        <a:lnTo>
                          <a:pt x="4635" y="4555"/>
                        </a:lnTo>
                        <a:close/>
                      </a:path>
                    </a:pathLst>
                  </a:custGeom>
                  <a:solidFill>
                    <a:srgbClr val="a6e3a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747960" y="2489040"/>
                    <a:ext cx="1711800" cy="2435760"/>
                  </a:xfrm>
                  <a:custGeom>
                    <a:avLst/>
                    <a:gdLst/>
                    <a:ahLst/>
                    <a:rect l="0" t="0" r="r" b="b"/>
                    <a:pathLst>
                      <a:path w="4755" h="6766">
                        <a:moveTo>
                          <a:pt x="3403" y="6596"/>
                        </a:moveTo>
                        <a:lnTo>
                          <a:pt x="3360" y="6281"/>
                        </a:lnTo>
                        <a:lnTo>
                          <a:pt x="3314" y="6137"/>
                        </a:lnTo>
                        <a:lnTo>
                          <a:pt x="3314" y="6052"/>
                        </a:lnTo>
                        <a:lnTo>
                          <a:pt x="3229" y="5653"/>
                        </a:lnTo>
                        <a:lnTo>
                          <a:pt x="3187" y="5627"/>
                        </a:lnTo>
                        <a:lnTo>
                          <a:pt x="3187" y="5594"/>
                        </a:lnTo>
                        <a:lnTo>
                          <a:pt x="3187" y="5541"/>
                        </a:lnTo>
                        <a:lnTo>
                          <a:pt x="3098" y="5286"/>
                        </a:lnTo>
                        <a:lnTo>
                          <a:pt x="3032" y="5227"/>
                        </a:lnTo>
                        <a:lnTo>
                          <a:pt x="2943" y="5168"/>
                        </a:lnTo>
                        <a:lnTo>
                          <a:pt x="2882" y="5030"/>
                        </a:lnTo>
                        <a:lnTo>
                          <a:pt x="2769" y="4945"/>
                        </a:lnTo>
                        <a:lnTo>
                          <a:pt x="2596" y="4886"/>
                        </a:lnTo>
                        <a:lnTo>
                          <a:pt x="2333" y="4827"/>
                        </a:lnTo>
                        <a:lnTo>
                          <a:pt x="2267" y="4886"/>
                        </a:lnTo>
                        <a:lnTo>
                          <a:pt x="2136" y="4886"/>
                        </a:lnTo>
                        <a:lnTo>
                          <a:pt x="2093" y="4800"/>
                        </a:lnTo>
                        <a:lnTo>
                          <a:pt x="2028" y="4774"/>
                        </a:lnTo>
                        <a:lnTo>
                          <a:pt x="1920" y="4800"/>
                        </a:lnTo>
                        <a:lnTo>
                          <a:pt x="1835" y="4742"/>
                        </a:lnTo>
                        <a:lnTo>
                          <a:pt x="1746" y="4800"/>
                        </a:lnTo>
                        <a:lnTo>
                          <a:pt x="1680" y="4800"/>
                        </a:lnTo>
                        <a:lnTo>
                          <a:pt x="1638" y="4827"/>
                        </a:lnTo>
                        <a:lnTo>
                          <a:pt x="1530" y="4886"/>
                        </a:lnTo>
                        <a:lnTo>
                          <a:pt x="1596" y="4827"/>
                        </a:lnTo>
                        <a:lnTo>
                          <a:pt x="1596" y="4800"/>
                        </a:lnTo>
                        <a:lnTo>
                          <a:pt x="1596" y="4774"/>
                        </a:lnTo>
                        <a:lnTo>
                          <a:pt x="1573" y="4715"/>
                        </a:lnTo>
                        <a:lnTo>
                          <a:pt x="1046" y="4663"/>
                        </a:lnTo>
                        <a:lnTo>
                          <a:pt x="938" y="4663"/>
                        </a:lnTo>
                        <a:lnTo>
                          <a:pt x="830" y="4663"/>
                        </a:lnTo>
                        <a:lnTo>
                          <a:pt x="699" y="4689"/>
                        </a:lnTo>
                        <a:lnTo>
                          <a:pt x="633" y="4774"/>
                        </a:lnTo>
                        <a:lnTo>
                          <a:pt x="417" y="4800"/>
                        </a:lnTo>
                        <a:lnTo>
                          <a:pt x="483" y="4742"/>
                        </a:lnTo>
                        <a:lnTo>
                          <a:pt x="525" y="4715"/>
                        </a:lnTo>
                        <a:lnTo>
                          <a:pt x="567" y="4715"/>
                        </a:lnTo>
                        <a:lnTo>
                          <a:pt x="567" y="4689"/>
                        </a:lnTo>
                        <a:lnTo>
                          <a:pt x="591" y="4663"/>
                        </a:lnTo>
                        <a:lnTo>
                          <a:pt x="656" y="4630"/>
                        </a:lnTo>
                        <a:lnTo>
                          <a:pt x="656" y="4604"/>
                        </a:lnTo>
                        <a:lnTo>
                          <a:pt x="614" y="4545"/>
                        </a:lnTo>
                        <a:lnTo>
                          <a:pt x="549" y="4401"/>
                        </a:lnTo>
                        <a:lnTo>
                          <a:pt x="483" y="4375"/>
                        </a:lnTo>
                        <a:lnTo>
                          <a:pt x="286" y="4486"/>
                        </a:lnTo>
                        <a:lnTo>
                          <a:pt x="0" y="4486"/>
                        </a:lnTo>
                        <a:lnTo>
                          <a:pt x="112" y="4460"/>
                        </a:lnTo>
                        <a:lnTo>
                          <a:pt x="178" y="4460"/>
                        </a:lnTo>
                        <a:lnTo>
                          <a:pt x="244" y="4460"/>
                        </a:lnTo>
                        <a:lnTo>
                          <a:pt x="502" y="4316"/>
                        </a:lnTo>
                        <a:lnTo>
                          <a:pt x="614" y="4427"/>
                        </a:lnTo>
                        <a:lnTo>
                          <a:pt x="722" y="4545"/>
                        </a:lnTo>
                        <a:lnTo>
                          <a:pt x="811" y="4571"/>
                        </a:lnTo>
                        <a:lnTo>
                          <a:pt x="938" y="4545"/>
                        </a:lnTo>
                        <a:lnTo>
                          <a:pt x="1004" y="4571"/>
                        </a:lnTo>
                        <a:lnTo>
                          <a:pt x="1112" y="4545"/>
                        </a:lnTo>
                        <a:lnTo>
                          <a:pt x="1202" y="4571"/>
                        </a:lnTo>
                        <a:lnTo>
                          <a:pt x="1202" y="4460"/>
                        </a:lnTo>
                        <a:lnTo>
                          <a:pt x="1286" y="4375"/>
                        </a:lnTo>
                        <a:lnTo>
                          <a:pt x="1244" y="4460"/>
                        </a:lnTo>
                        <a:lnTo>
                          <a:pt x="1268" y="4519"/>
                        </a:lnTo>
                        <a:lnTo>
                          <a:pt x="1286" y="4545"/>
                        </a:lnTo>
                        <a:lnTo>
                          <a:pt x="1441" y="4604"/>
                        </a:lnTo>
                        <a:lnTo>
                          <a:pt x="1573" y="4571"/>
                        </a:lnTo>
                        <a:lnTo>
                          <a:pt x="1770" y="4519"/>
                        </a:lnTo>
                        <a:lnTo>
                          <a:pt x="1920" y="4427"/>
                        </a:lnTo>
                        <a:lnTo>
                          <a:pt x="1943" y="4460"/>
                        </a:lnTo>
                        <a:lnTo>
                          <a:pt x="1878" y="4486"/>
                        </a:lnTo>
                        <a:lnTo>
                          <a:pt x="1793" y="4519"/>
                        </a:lnTo>
                        <a:lnTo>
                          <a:pt x="1573" y="4571"/>
                        </a:lnTo>
                        <a:lnTo>
                          <a:pt x="1812" y="4630"/>
                        </a:lnTo>
                        <a:lnTo>
                          <a:pt x="1920" y="4663"/>
                        </a:lnTo>
                        <a:lnTo>
                          <a:pt x="2004" y="4630"/>
                        </a:lnTo>
                        <a:lnTo>
                          <a:pt x="1962" y="4427"/>
                        </a:lnTo>
                        <a:lnTo>
                          <a:pt x="1896" y="4375"/>
                        </a:lnTo>
                        <a:lnTo>
                          <a:pt x="1746" y="4316"/>
                        </a:lnTo>
                        <a:lnTo>
                          <a:pt x="1680" y="4316"/>
                        </a:lnTo>
                        <a:lnTo>
                          <a:pt x="1704" y="4375"/>
                        </a:lnTo>
                        <a:lnTo>
                          <a:pt x="1596" y="4401"/>
                        </a:lnTo>
                        <a:lnTo>
                          <a:pt x="1573" y="4375"/>
                        </a:lnTo>
                        <a:lnTo>
                          <a:pt x="1596" y="4290"/>
                        </a:lnTo>
                        <a:lnTo>
                          <a:pt x="1465" y="4257"/>
                        </a:lnTo>
                        <a:lnTo>
                          <a:pt x="1333" y="4257"/>
                        </a:lnTo>
                        <a:lnTo>
                          <a:pt x="1310" y="4316"/>
                        </a:lnTo>
                        <a:lnTo>
                          <a:pt x="1268" y="4257"/>
                        </a:lnTo>
                        <a:lnTo>
                          <a:pt x="1375" y="4231"/>
                        </a:lnTo>
                        <a:lnTo>
                          <a:pt x="1375" y="4205"/>
                        </a:lnTo>
                        <a:lnTo>
                          <a:pt x="1418" y="4146"/>
                        </a:lnTo>
                        <a:lnTo>
                          <a:pt x="1465" y="4087"/>
                        </a:lnTo>
                        <a:lnTo>
                          <a:pt x="1465" y="4002"/>
                        </a:lnTo>
                        <a:lnTo>
                          <a:pt x="1441" y="3975"/>
                        </a:lnTo>
                        <a:lnTo>
                          <a:pt x="1375" y="3916"/>
                        </a:lnTo>
                        <a:lnTo>
                          <a:pt x="1177" y="3779"/>
                        </a:lnTo>
                        <a:lnTo>
                          <a:pt x="1352" y="3831"/>
                        </a:lnTo>
                        <a:lnTo>
                          <a:pt x="1418" y="3890"/>
                        </a:lnTo>
                        <a:lnTo>
                          <a:pt x="1483" y="3916"/>
                        </a:lnTo>
                        <a:lnTo>
                          <a:pt x="1549" y="3916"/>
                        </a:lnTo>
                        <a:lnTo>
                          <a:pt x="1615" y="3831"/>
                        </a:lnTo>
                        <a:lnTo>
                          <a:pt x="1549" y="3916"/>
                        </a:lnTo>
                        <a:lnTo>
                          <a:pt x="1507" y="4034"/>
                        </a:lnTo>
                        <a:lnTo>
                          <a:pt x="1483" y="4146"/>
                        </a:lnTo>
                        <a:lnTo>
                          <a:pt x="1507" y="4172"/>
                        </a:lnTo>
                        <a:lnTo>
                          <a:pt x="1549" y="4146"/>
                        </a:lnTo>
                        <a:lnTo>
                          <a:pt x="1615" y="4172"/>
                        </a:lnTo>
                        <a:lnTo>
                          <a:pt x="1662" y="4172"/>
                        </a:lnTo>
                        <a:lnTo>
                          <a:pt x="1727" y="4172"/>
                        </a:lnTo>
                        <a:lnTo>
                          <a:pt x="1793" y="4172"/>
                        </a:lnTo>
                        <a:lnTo>
                          <a:pt x="1896" y="4205"/>
                        </a:lnTo>
                        <a:lnTo>
                          <a:pt x="1746" y="3858"/>
                        </a:lnTo>
                        <a:lnTo>
                          <a:pt x="1680" y="3858"/>
                        </a:lnTo>
                        <a:lnTo>
                          <a:pt x="1835" y="3858"/>
                        </a:lnTo>
                        <a:lnTo>
                          <a:pt x="1962" y="3687"/>
                        </a:lnTo>
                        <a:lnTo>
                          <a:pt x="2225" y="3465"/>
                        </a:lnTo>
                        <a:lnTo>
                          <a:pt x="2093" y="3576"/>
                        </a:lnTo>
                        <a:lnTo>
                          <a:pt x="2004" y="3720"/>
                        </a:lnTo>
                        <a:lnTo>
                          <a:pt x="1920" y="3831"/>
                        </a:lnTo>
                        <a:lnTo>
                          <a:pt x="1878" y="3890"/>
                        </a:lnTo>
                        <a:lnTo>
                          <a:pt x="1920" y="3916"/>
                        </a:lnTo>
                        <a:lnTo>
                          <a:pt x="1920" y="4002"/>
                        </a:lnTo>
                        <a:lnTo>
                          <a:pt x="1943" y="3943"/>
                        </a:lnTo>
                        <a:lnTo>
                          <a:pt x="2004" y="3890"/>
                        </a:lnTo>
                        <a:lnTo>
                          <a:pt x="2051" y="3890"/>
                        </a:lnTo>
                        <a:lnTo>
                          <a:pt x="2070" y="3943"/>
                        </a:lnTo>
                        <a:lnTo>
                          <a:pt x="2004" y="3943"/>
                        </a:lnTo>
                        <a:lnTo>
                          <a:pt x="1962" y="3975"/>
                        </a:lnTo>
                        <a:lnTo>
                          <a:pt x="1962" y="4061"/>
                        </a:lnTo>
                        <a:lnTo>
                          <a:pt x="1986" y="4146"/>
                        </a:lnTo>
                        <a:lnTo>
                          <a:pt x="2028" y="4087"/>
                        </a:lnTo>
                        <a:lnTo>
                          <a:pt x="2070" y="4087"/>
                        </a:lnTo>
                        <a:lnTo>
                          <a:pt x="2070" y="4119"/>
                        </a:lnTo>
                        <a:lnTo>
                          <a:pt x="2051" y="4146"/>
                        </a:lnTo>
                        <a:lnTo>
                          <a:pt x="2004" y="4172"/>
                        </a:lnTo>
                        <a:lnTo>
                          <a:pt x="2004" y="4231"/>
                        </a:lnTo>
                        <a:lnTo>
                          <a:pt x="2028" y="4257"/>
                        </a:lnTo>
                        <a:lnTo>
                          <a:pt x="2070" y="4257"/>
                        </a:lnTo>
                        <a:lnTo>
                          <a:pt x="2093" y="4257"/>
                        </a:lnTo>
                        <a:lnTo>
                          <a:pt x="2093" y="4231"/>
                        </a:lnTo>
                        <a:lnTo>
                          <a:pt x="2159" y="4375"/>
                        </a:lnTo>
                        <a:lnTo>
                          <a:pt x="2136" y="4427"/>
                        </a:lnTo>
                        <a:lnTo>
                          <a:pt x="2117" y="4460"/>
                        </a:lnTo>
                        <a:lnTo>
                          <a:pt x="2117" y="4519"/>
                        </a:lnTo>
                        <a:lnTo>
                          <a:pt x="2183" y="4519"/>
                        </a:lnTo>
                        <a:lnTo>
                          <a:pt x="2183" y="4460"/>
                        </a:lnTo>
                        <a:lnTo>
                          <a:pt x="2070" y="4119"/>
                        </a:lnTo>
                        <a:lnTo>
                          <a:pt x="2028" y="3890"/>
                        </a:lnTo>
                        <a:lnTo>
                          <a:pt x="2051" y="3779"/>
                        </a:lnTo>
                        <a:lnTo>
                          <a:pt x="2004" y="3687"/>
                        </a:lnTo>
                        <a:lnTo>
                          <a:pt x="1854" y="3635"/>
                        </a:lnTo>
                        <a:lnTo>
                          <a:pt x="2028" y="3687"/>
                        </a:lnTo>
                        <a:lnTo>
                          <a:pt x="2117" y="3550"/>
                        </a:lnTo>
                        <a:lnTo>
                          <a:pt x="2070" y="3635"/>
                        </a:lnTo>
                        <a:lnTo>
                          <a:pt x="2117" y="3720"/>
                        </a:lnTo>
                        <a:lnTo>
                          <a:pt x="2093" y="3805"/>
                        </a:lnTo>
                        <a:lnTo>
                          <a:pt x="2136" y="3858"/>
                        </a:lnTo>
                        <a:lnTo>
                          <a:pt x="2093" y="3916"/>
                        </a:lnTo>
                        <a:lnTo>
                          <a:pt x="2136" y="4061"/>
                        </a:lnTo>
                        <a:lnTo>
                          <a:pt x="2159" y="4205"/>
                        </a:lnTo>
                        <a:lnTo>
                          <a:pt x="2267" y="4316"/>
                        </a:lnTo>
                        <a:lnTo>
                          <a:pt x="2356" y="4290"/>
                        </a:lnTo>
                        <a:lnTo>
                          <a:pt x="2291" y="4205"/>
                        </a:lnTo>
                        <a:lnTo>
                          <a:pt x="2267" y="4087"/>
                        </a:lnTo>
                        <a:lnTo>
                          <a:pt x="2201" y="4034"/>
                        </a:lnTo>
                        <a:lnTo>
                          <a:pt x="2225" y="3943"/>
                        </a:lnTo>
                        <a:lnTo>
                          <a:pt x="2267" y="3858"/>
                        </a:lnTo>
                        <a:lnTo>
                          <a:pt x="2314" y="3943"/>
                        </a:lnTo>
                        <a:lnTo>
                          <a:pt x="2291" y="3975"/>
                        </a:lnTo>
                        <a:lnTo>
                          <a:pt x="2291" y="4034"/>
                        </a:lnTo>
                        <a:lnTo>
                          <a:pt x="2314" y="4146"/>
                        </a:lnTo>
                        <a:lnTo>
                          <a:pt x="2356" y="4172"/>
                        </a:lnTo>
                        <a:lnTo>
                          <a:pt x="2398" y="4172"/>
                        </a:lnTo>
                        <a:lnTo>
                          <a:pt x="2422" y="4146"/>
                        </a:lnTo>
                        <a:lnTo>
                          <a:pt x="2464" y="4087"/>
                        </a:lnTo>
                        <a:lnTo>
                          <a:pt x="2445" y="4002"/>
                        </a:lnTo>
                        <a:lnTo>
                          <a:pt x="2464" y="3975"/>
                        </a:lnTo>
                        <a:lnTo>
                          <a:pt x="2553" y="4002"/>
                        </a:lnTo>
                        <a:lnTo>
                          <a:pt x="2553" y="4061"/>
                        </a:lnTo>
                        <a:lnTo>
                          <a:pt x="2530" y="4034"/>
                        </a:lnTo>
                        <a:lnTo>
                          <a:pt x="2511" y="4087"/>
                        </a:lnTo>
                        <a:lnTo>
                          <a:pt x="2464" y="4146"/>
                        </a:lnTo>
                        <a:lnTo>
                          <a:pt x="2464" y="4231"/>
                        </a:lnTo>
                        <a:lnTo>
                          <a:pt x="2488" y="4316"/>
                        </a:lnTo>
                        <a:lnTo>
                          <a:pt x="2619" y="4231"/>
                        </a:lnTo>
                        <a:lnTo>
                          <a:pt x="2661" y="4205"/>
                        </a:lnTo>
                        <a:lnTo>
                          <a:pt x="2619" y="4061"/>
                        </a:lnTo>
                        <a:lnTo>
                          <a:pt x="2703" y="4119"/>
                        </a:lnTo>
                        <a:lnTo>
                          <a:pt x="2727" y="4172"/>
                        </a:lnTo>
                        <a:lnTo>
                          <a:pt x="2727" y="4231"/>
                        </a:lnTo>
                        <a:lnTo>
                          <a:pt x="2703" y="4257"/>
                        </a:lnTo>
                        <a:lnTo>
                          <a:pt x="2750" y="4316"/>
                        </a:lnTo>
                        <a:lnTo>
                          <a:pt x="2703" y="4349"/>
                        </a:lnTo>
                        <a:lnTo>
                          <a:pt x="2685" y="4290"/>
                        </a:lnTo>
                        <a:lnTo>
                          <a:pt x="2596" y="4316"/>
                        </a:lnTo>
                        <a:lnTo>
                          <a:pt x="2596" y="4375"/>
                        </a:lnTo>
                        <a:lnTo>
                          <a:pt x="2638" y="4375"/>
                        </a:lnTo>
                        <a:lnTo>
                          <a:pt x="2685" y="4349"/>
                        </a:lnTo>
                        <a:lnTo>
                          <a:pt x="2727" y="4401"/>
                        </a:lnTo>
                        <a:lnTo>
                          <a:pt x="2685" y="4427"/>
                        </a:lnTo>
                        <a:lnTo>
                          <a:pt x="2685" y="4486"/>
                        </a:lnTo>
                        <a:lnTo>
                          <a:pt x="2727" y="4486"/>
                        </a:lnTo>
                        <a:lnTo>
                          <a:pt x="2727" y="4604"/>
                        </a:lnTo>
                        <a:lnTo>
                          <a:pt x="2750" y="4663"/>
                        </a:lnTo>
                        <a:lnTo>
                          <a:pt x="2793" y="4689"/>
                        </a:lnTo>
                        <a:lnTo>
                          <a:pt x="2816" y="4663"/>
                        </a:lnTo>
                        <a:lnTo>
                          <a:pt x="2793" y="4604"/>
                        </a:lnTo>
                        <a:lnTo>
                          <a:pt x="2727" y="4571"/>
                        </a:lnTo>
                        <a:lnTo>
                          <a:pt x="2769" y="4519"/>
                        </a:lnTo>
                        <a:lnTo>
                          <a:pt x="2835" y="4519"/>
                        </a:lnTo>
                        <a:lnTo>
                          <a:pt x="2924" y="4519"/>
                        </a:lnTo>
                        <a:lnTo>
                          <a:pt x="2990" y="4604"/>
                        </a:lnTo>
                        <a:lnTo>
                          <a:pt x="3074" y="4715"/>
                        </a:lnTo>
                        <a:lnTo>
                          <a:pt x="3098" y="4800"/>
                        </a:lnTo>
                        <a:lnTo>
                          <a:pt x="3229" y="4945"/>
                        </a:lnTo>
                        <a:lnTo>
                          <a:pt x="3295" y="4997"/>
                        </a:lnTo>
                        <a:lnTo>
                          <a:pt x="3295" y="4912"/>
                        </a:lnTo>
                        <a:lnTo>
                          <a:pt x="3295" y="4853"/>
                        </a:lnTo>
                        <a:lnTo>
                          <a:pt x="3229" y="4630"/>
                        </a:lnTo>
                        <a:lnTo>
                          <a:pt x="3187" y="4689"/>
                        </a:lnTo>
                        <a:lnTo>
                          <a:pt x="3163" y="4630"/>
                        </a:lnTo>
                        <a:lnTo>
                          <a:pt x="3187" y="4604"/>
                        </a:lnTo>
                        <a:lnTo>
                          <a:pt x="3206" y="4519"/>
                        </a:lnTo>
                        <a:lnTo>
                          <a:pt x="3163" y="4375"/>
                        </a:lnTo>
                        <a:lnTo>
                          <a:pt x="3098" y="4316"/>
                        </a:lnTo>
                        <a:lnTo>
                          <a:pt x="2882" y="4205"/>
                        </a:lnTo>
                        <a:lnTo>
                          <a:pt x="2858" y="4231"/>
                        </a:lnTo>
                        <a:lnTo>
                          <a:pt x="2750" y="4146"/>
                        </a:lnTo>
                        <a:lnTo>
                          <a:pt x="2793" y="4119"/>
                        </a:lnTo>
                        <a:lnTo>
                          <a:pt x="2901" y="4205"/>
                        </a:lnTo>
                        <a:lnTo>
                          <a:pt x="3032" y="4257"/>
                        </a:lnTo>
                        <a:lnTo>
                          <a:pt x="3009" y="4205"/>
                        </a:lnTo>
                        <a:lnTo>
                          <a:pt x="2990" y="4231"/>
                        </a:lnTo>
                        <a:lnTo>
                          <a:pt x="2943" y="4205"/>
                        </a:lnTo>
                        <a:lnTo>
                          <a:pt x="2966" y="4172"/>
                        </a:lnTo>
                        <a:lnTo>
                          <a:pt x="2990" y="4146"/>
                        </a:lnTo>
                        <a:lnTo>
                          <a:pt x="2966" y="4087"/>
                        </a:lnTo>
                        <a:lnTo>
                          <a:pt x="2901" y="4087"/>
                        </a:lnTo>
                        <a:lnTo>
                          <a:pt x="2816" y="4119"/>
                        </a:lnTo>
                        <a:lnTo>
                          <a:pt x="2858" y="4034"/>
                        </a:lnTo>
                        <a:lnTo>
                          <a:pt x="2943" y="3975"/>
                        </a:lnTo>
                        <a:lnTo>
                          <a:pt x="2661" y="3235"/>
                        </a:lnTo>
                        <a:lnTo>
                          <a:pt x="2488" y="2725"/>
                        </a:lnTo>
                        <a:lnTo>
                          <a:pt x="2051" y="2666"/>
                        </a:lnTo>
                        <a:lnTo>
                          <a:pt x="1399" y="2666"/>
                        </a:lnTo>
                        <a:lnTo>
                          <a:pt x="1680" y="2633"/>
                        </a:lnTo>
                        <a:lnTo>
                          <a:pt x="1896" y="2633"/>
                        </a:lnTo>
                        <a:lnTo>
                          <a:pt x="1943" y="2522"/>
                        </a:lnTo>
                        <a:lnTo>
                          <a:pt x="2004" y="2495"/>
                        </a:lnTo>
                        <a:lnTo>
                          <a:pt x="2004" y="2410"/>
                        </a:lnTo>
                        <a:lnTo>
                          <a:pt x="2004" y="2325"/>
                        </a:lnTo>
                        <a:lnTo>
                          <a:pt x="2070" y="2266"/>
                        </a:lnTo>
                        <a:lnTo>
                          <a:pt x="2051" y="2181"/>
                        </a:lnTo>
                        <a:lnTo>
                          <a:pt x="2070" y="1985"/>
                        </a:lnTo>
                        <a:lnTo>
                          <a:pt x="2070" y="1867"/>
                        </a:lnTo>
                        <a:lnTo>
                          <a:pt x="2136" y="1900"/>
                        </a:lnTo>
                        <a:lnTo>
                          <a:pt x="2159" y="1985"/>
                        </a:lnTo>
                        <a:lnTo>
                          <a:pt x="2117" y="1985"/>
                        </a:lnTo>
                        <a:lnTo>
                          <a:pt x="2136" y="2096"/>
                        </a:lnTo>
                        <a:lnTo>
                          <a:pt x="2183" y="2155"/>
                        </a:lnTo>
                        <a:lnTo>
                          <a:pt x="2136" y="2214"/>
                        </a:lnTo>
                        <a:lnTo>
                          <a:pt x="2159" y="2266"/>
                        </a:lnTo>
                        <a:lnTo>
                          <a:pt x="2136" y="2351"/>
                        </a:lnTo>
                        <a:lnTo>
                          <a:pt x="2136" y="2410"/>
                        </a:lnTo>
                        <a:lnTo>
                          <a:pt x="2093" y="2410"/>
                        </a:lnTo>
                        <a:lnTo>
                          <a:pt x="2070" y="2437"/>
                        </a:lnTo>
                        <a:lnTo>
                          <a:pt x="2004" y="2554"/>
                        </a:lnTo>
                        <a:lnTo>
                          <a:pt x="2004" y="2581"/>
                        </a:lnTo>
                        <a:lnTo>
                          <a:pt x="2136" y="2607"/>
                        </a:lnTo>
                        <a:lnTo>
                          <a:pt x="2183" y="2607"/>
                        </a:lnTo>
                        <a:lnTo>
                          <a:pt x="2248" y="2633"/>
                        </a:lnTo>
                        <a:lnTo>
                          <a:pt x="2488" y="2633"/>
                        </a:lnTo>
                        <a:lnTo>
                          <a:pt x="2464" y="2410"/>
                        </a:lnTo>
                        <a:lnTo>
                          <a:pt x="2398" y="2299"/>
                        </a:lnTo>
                        <a:lnTo>
                          <a:pt x="2314" y="2240"/>
                        </a:lnTo>
                        <a:lnTo>
                          <a:pt x="2225" y="2214"/>
                        </a:lnTo>
                        <a:lnTo>
                          <a:pt x="2159" y="2240"/>
                        </a:lnTo>
                        <a:lnTo>
                          <a:pt x="2093" y="2240"/>
                        </a:lnTo>
                        <a:lnTo>
                          <a:pt x="2070" y="2155"/>
                        </a:lnTo>
                        <a:lnTo>
                          <a:pt x="2070" y="2070"/>
                        </a:lnTo>
                        <a:lnTo>
                          <a:pt x="2051" y="2070"/>
                        </a:lnTo>
                        <a:lnTo>
                          <a:pt x="2070" y="1900"/>
                        </a:lnTo>
                        <a:lnTo>
                          <a:pt x="2136" y="1900"/>
                        </a:lnTo>
                        <a:lnTo>
                          <a:pt x="2183" y="1985"/>
                        </a:lnTo>
                        <a:lnTo>
                          <a:pt x="2136" y="2011"/>
                        </a:lnTo>
                        <a:lnTo>
                          <a:pt x="2159" y="2070"/>
                        </a:lnTo>
                        <a:lnTo>
                          <a:pt x="2225" y="2122"/>
                        </a:lnTo>
                        <a:lnTo>
                          <a:pt x="2267" y="2155"/>
                        </a:lnTo>
                        <a:lnTo>
                          <a:pt x="2314" y="2122"/>
                        </a:lnTo>
                        <a:lnTo>
                          <a:pt x="2291" y="2096"/>
                        </a:lnTo>
                        <a:lnTo>
                          <a:pt x="2291" y="2037"/>
                        </a:lnTo>
                        <a:lnTo>
                          <a:pt x="2225" y="2011"/>
                        </a:lnTo>
                        <a:lnTo>
                          <a:pt x="2159" y="1926"/>
                        </a:lnTo>
                        <a:lnTo>
                          <a:pt x="2093" y="1900"/>
                        </a:lnTo>
                        <a:lnTo>
                          <a:pt x="2051" y="1926"/>
                        </a:lnTo>
                        <a:lnTo>
                          <a:pt x="2028" y="1952"/>
                        </a:lnTo>
                        <a:lnTo>
                          <a:pt x="2004" y="1985"/>
                        </a:lnTo>
                        <a:lnTo>
                          <a:pt x="1986" y="2011"/>
                        </a:lnTo>
                        <a:lnTo>
                          <a:pt x="1962" y="2037"/>
                        </a:lnTo>
                        <a:lnTo>
                          <a:pt x="1920" y="2122"/>
                        </a:lnTo>
                        <a:lnTo>
                          <a:pt x="1835" y="2181"/>
                        </a:lnTo>
                        <a:lnTo>
                          <a:pt x="1812" y="2122"/>
                        </a:lnTo>
                        <a:lnTo>
                          <a:pt x="1896" y="2070"/>
                        </a:lnTo>
                        <a:lnTo>
                          <a:pt x="1896" y="2011"/>
                        </a:lnTo>
                        <a:lnTo>
                          <a:pt x="1943" y="1985"/>
                        </a:lnTo>
                        <a:lnTo>
                          <a:pt x="1962" y="1926"/>
                        </a:lnTo>
                        <a:lnTo>
                          <a:pt x="1943" y="1867"/>
                        </a:lnTo>
                        <a:lnTo>
                          <a:pt x="1878" y="1841"/>
                        </a:lnTo>
                        <a:lnTo>
                          <a:pt x="1812" y="1755"/>
                        </a:lnTo>
                        <a:lnTo>
                          <a:pt x="1812" y="1643"/>
                        </a:lnTo>
                        <a:lnTo>
                          <a:pt x="1835" y="1755"/>
                        </a:lnTo>
                        <a:lnTo>
                          <a:pt x="1878" y="1814"/>
                        </a:lnTo>
                        <a:lnTo>
                          <a:pt x="1962" y="1669"/>
                        </a:lnTo>
                        <a:lnTo>
                          <a:pt x="1943" y="1551"/>
                        </a:lnTo>
                        <a:lnTo>
                          <a:pt x="1962" y="1466"/>
                        </a:lnTo>
                        <a:lnTo>
                          <a:pt x="2004" y="1499"/>
                        </a:lnTo>
                        <a:lnTo>
                          <a:pt x="2028" y="1584"/>
                        </a:lnTo>
                        <a:lnTo>
                          <a:pt x="2136" y="1610"/>
                        </a:lnTo>
                        <a:lnTo>
                          <a:pt x="2183" y="1499"/>
                        </a:lnTo>
                        <a:lnTo>
                          <a:pt x="2051" y="1414"/>
                        </a:lnTo>
                        <a:lnTo>
                          <a:pt x="2004" y="1296"/>
                        </a:lnTo>
                        <a:lnTo>
                          <a:pt x="2051" y="1296"/>
                        </a:lnTo>
                        <a:lnTo>
                          <a:pt x="2093" y="1388"/>
                        </a:lnTo>
                        <a:lnTo>
                          <a:pt x="2159" y="1440"/>
                        </a:lnTo>
                        <a:lnTo>
                          <a:pt x="2136" y="1296"/>
                        </a:lnTo>
                        <a:lnTo>
                          <a:pt x="2028" y="1270"/>
                        </a:lnTo>
                        <a:lnTo>
                          <a:pt x="1943" y="1296"/>
                        </a:lnTo>
                        <a:lnTo>
                          <a:pt x="1962" y="1414"/>
                        </a:lnTo>
                        <a:lnTo>
                          <a:pt x="1962" y="1551"/>
                        </a:lnTo>
                        <a:lnTo>
                          <a:pt x="1896" y="1551"/>
                        </a:lnTo>
                        <a:lnTo>
                          <a:pt x="1878" y="1440"/>
                        </a:lnTo>
                        <a:lnTo>
                          <a:pt x="1896" y="1244"/>
                        </a:lnTo>
                        <a:lnTo>
                          <a:pt x="1986" y="1185"/>
                        </a:lnTo>
                        <a:lnTo>
                          <a:pt x="2093" y="1218"/>
                        </a:lnTo>
                        <a:lnTo>
                          <a:pt x="2136" y="1100"/>
                        </a:lnTo>
                        <a:lnTo>
                          <a:pt x="2093" y="1041"/>
                        </a:lnTo>
                        <a:lnTo>
                          <a:pt x="2028" y="1100"/>
                        </a:lnTo>
                        <a:lnTo>
                          <a:pt x="1986" y="1185"/>
                        </a:lnTo>
                        <a:lnTo>
                          <a:pt x="1962" y="1100"/>
                        </a:lnTo>
                        <a:lnTo>
                          <a:pt x="1962" y="982"/>
                        </a:lnTo>
                        <a:lnTo>
                          <a:pt x="1986" y="812"/>
                        </a:lnTo>
                        <a:lnTo>
                          <a:pt x="2004" y="726"/>
                        </a:lnTo>
                        <a:lnTo>
                          <a:pt x="2093" y="726"/>
                        </a:lnTo>
                        <a:lnTo>
                          <a:pt x="2159" y="785"/>
                        </a:lnTo>
                        <a:lnTo>
                          <a:pt x="2117" y="419"/>
                        </a:lnTo>
                        <a:lnTo>
                          <a:pt x="2004" y="478"/>
                        </a:lnTo>
                        <a:lnTo>
                          <a:pt x="1896" y="530"/>
                        </a:lnTo>
                        <a:lnTo>
                          <a:pt x="1896" y="648"/>
                        </a:lnTo>
                        <a:lnTo>
                          <a:pt x="1854" y="615"/>
                        </a:lnTo>
                        <a:lnTo>
                          <a:pt x="1727" y="615"/>
                        </a:lnTo>
                        <a:lnTo>
                          <a:pt x="1638" y="674"/>
                        </a:lnTo>
                        <a:lnTo>
                          <a:pt x="1615" y="700"/>
                        </a:lnTo>
                        <a:lnTo>
                          <a:pt x="1596" y="648"/>
                        </a:lnTo>
                        <a:lnTo>
                          <a:pt x="1615" y="589"/>
                        </a:lnTo>
                        <a:lnTo>
                          <a:pt x="1662" y="530"/>
                        </a:lnTo>
                        <a:lnTo>
                          <a:pt x="1727" y="589"/>
                        </a:lnTo>
                        <a:lnTo>
                          <a:pt x="1793" y="589"/>
                        </a:lnTo>
                        <a:lnTo>
                          <a:pt x="1835" y="556"/>
                        </a:lnTo>
                        <a:lnTo>
                          <a:pt x="1835" y="504"/>
                        </a:lnTo>
                        <a:lnTo>
                          <a:pt x="1878" y="478"/>
                        </a:lnTo>
                        <a:lnTo>
                          <a:pt x="1962" y="478"/>
                        </a:lnTo>
                        <a:lnTo>
                          <a:pt x="1986" y="419"/>
                        </a:lnTo>
                        <a:lnTo>
                          <a:pt x="2028" y="445"/>
                        </a:lnTo>
                        <a:lnTo>
                          <a:pt x="2070" y="419"/>
                        </a:lnTo>
                        <a:lnTo>
                          <a:pt x="2028" y="137"/>
                        </a:lnTo>
                        <a:lnTo>
                          <a:pt x="2445" y="0"/>
                        </a:lnTo>
                        <a:lnTo>
                          <a:pt x="2394" y="327"/>
                        </a:lnTo>
                        <a:lnTo>
                          <a:pt x="2380" y="419"/>
                        </a:lnTo>
                        <a:lnTo>
                          <a:pt x="2422" y="419"/>
                        </a:lnTo>
                        <a:lnTo>
                          <a:pt x="2464" y="360"/>
                        </a:lnTo>
                        <a:lnTo>
                          <a:pt x="2488" y="360"/>
                        </a:lnTo>
                        <a:lnTo>
                          <a:pt x="2511" y="445"/>
                        </a:lnTo>
                        <a:lnTo>
                          <a:pt x="2464" y="478"/>
                        </a:lnTo>
                        <a:lnTo>
                          <a:pt x="2422" y="504"/>
                        </a:lnTo>
                        <a:lnTo>
                          <a:pt x="2445" y="589"/>
                        </a:lnTo>
                        <a:lnTo>
                          <a:pt x="2464" y="589"/>
                        </a:lnTo>
                        <a:lnTo>
                          <a:pt x="2488" y="556"/>
                        </a:lnTo>
                        <a:lnTo>
                          <a:pt x="2488" y="530"/>
                        </a:lnTo>
                        <a:lnTo>
                          <a:pt x="2488" y="445"/>
                        </a:lnTo>
                        <a:lnTo>
                          <a:pt x="2530" y="419"/>
                        </a:lnTo>
                        <a:lnTo>
                          <a:pt x="2530" y="530"/>
                        </a:lnTo>
                        <a:lnTo>
                          <a:pt x="2596" y="556"/>
                        </a:lnTo>
                        <a:lnTo>
                          <a:pt x="2553" y="648"/>
                        </a:lnTo>
                        <a:lnTo>
                          <a:pt x="2638" y="615"/>
                        </a:lnTo>
                        <a:lnTo>
                          <a:pt x="2727" y="589"/>
                        </a:lnTo>
                        <a:lnTo>
                          <a:pt x="2835" y="556"/>
                        </a:lnTo>
                        <a:lnTo>
                          <a:pt x="2901" y="556"/>
                        </a:lnTo>
                        <a:lnTo>
                          <a:pt x="2924" y="615"/>
                        </a:lnTo>
                        <a:lnTo>
                          <a:pt x="3032" y="589"/>
                        </a:lnTo>
                        <a:lnTo>
                          <a:pt x="3051" y="615"/>
                        </a:lnTo>
                        <a:lnTo>
                          <a:pt x="3187" y="589"/>
                        </a:lnTo>
                        <a:lnTo>
                          <a:pt x="3271" y="648"/>
                        </a:lnTo>
                        <a:lnTo>
                          <a:pt x="3379" y="648"/>
                        </a:lnTo>
                        <a:lnTo>
                          <a:pt x="3379" y="478"/>
                        </a:lnTo>
                        <a:lnTo>
                          <a:pt x="3403" y="478"/>
                        </a:lnTo>
                        <a:lnTo>
                          <a:pt x="3403" y="615"/>
                        </a:lnTo>
                        <a:lnTo>
                          <a:pt x="3492" y="674"/>
                        </a:lnTo>
                        <a:lnTo>
                          <a:pt x="3534" y="615"/>
                        </a:lnTo>
                        <a:lnTo>
                          <a:pt x="3577" y="615"/>
                        </a:lnTo>
                        <a:lnTo>
                          <a:pt x="3620" y="700"/>
                        </a:lnTo>
                        <a:lnTo>
                          <a:pt x="3732" y="700"/>
                        </a:lnTo>
                        <a:lnTo>
                          <a:pt x="3709" y="615"/>
                        </a:lnTo>
                        <a:lnTo>
                          <a:pt x="3774" y="615"/>
                        </a:lnTo>
                        <a:lnTo>
                          <a:pt x="3751" y="674"/>
                        </a:lnTo>
                        <a:lnTo>
                          <a:pt x="3709" y="674"/>
                        </a:lnTo>
                        <a:lnTo>
                          <a:pt x="3751" y="726"/>
                        </a:lnTo>
                        <a:lnTo>
                          <a:pt x="3817" y="726"/>
                        </a:lnTo>
                        <a:lnTo>
                          <a:pt x="3817" y="674"/>
                        </a:lnTo>
                        <a:lnTo>
                          <a:pt x="3798" y="615"/>
                        </a:lnTo>
                        <a:lnTo>
                          <a:pt x="3840" y="615"/>
                        </a:lnTo>
                        <a:lnTo>
                          <a:pt x="3840" y="445"/>
                        </a:lnTo>
                        <a:lnTo>
                          <a:pt x="3906" y="615"/>
                        </a:lnTo>
                        <a:lnTo>
                          <a:pt x="3967" y="700"/>
                        </a:lnTo>
                        <a:lnTo>
                          <a:pt x="4033" y="726"/>
                        </a:lnTo>
                        <a:lnTo>
                          <a:pt x="4079" y="674"/>
                        </a:lnTo>
                        <a:lnTo>
                          <a:pt x="4164" y="759"/>
                        </a:lnTo>
                        <a:lnTo>
                          <a:pt x="4164" y="478"/>
                        </a:lnTo>
                        <a:lnTo>
                          <a:pt x="4277" y="419"/>
                        </a:lnTo>
                        <a:lnTo>
                          <a:pt x="4277" y="589"/>
                        </a:lnTo>
                        <a:lnTo>
                          <a:pt x="4295" y="648"/>
                        </a:lnTo>
                        <a:lnTo>
                          <a:pt x="4342" y="726"/>
                        </a:lnTo>
                        <a:lnTo>
                          <a:pt x="4319" y="785"/>
                        </a:lnTo>
                        <a:lnTo>
                          <a:pt x="4277" y="726"/>
                        </a:lnTo>
                        <a:lnTo>
                          <a:pt x="4230" y="785"/>
                        </a:lnTo>
                        <a:lnTo>
                          <a:pt x="4164" y="759"/>
                        </a:lnTo>
                        <a:lnTo>
                          <a:pt x="4079" y="726"/>
                        </a:lnTo>
                        <a:lnTo>
                          <a:pt x="4056" y="812"/>
                        </a:lnTo>
                        <a:lnTo>
                          <a:pt x="4122" y="844"/>
                        </a:lnTo>
                        <a:lnTo>
                          <a:pt x="4211" y="844"/>
                        </a:lnTo>
                        <a:lnTo>
                          <a:pt x="4230" y="929"/>
                        </a:lnTo>
                        <a:lnTo>
                          <a:pt x="4295" y="982"/>
                        </a:lnTo>
                        <a:lnTo>
                          <a:pt x="4361" y="929"/>
                        </a:lnTo>
                        <a:lnTo>
                          <a:pt x="4342" y="844"/>
                        </a:lnTo>
                        <a:lnTo>
                          <a:pt x="4384" y="759"/>
                        </a:lnTo>
                        <a:lnTo>
                          <a:pt x="4342" y="615"/>
                        </a:lnTo>
                        <a:lnTo>
                          <a:pt x="4384" y="445"/>
                        </a:lnTo>
                        <a:lnTo>
                          <a:pt x="4403" y="445"/>
                        </a:lnTo>
                        <a:lnTo>
                          <a:pt x="4450" y="530"/>
                        </a:lnTo>
                        <a:lnTo>
                          <a:pt x="4403" y="556"/>
                        </a:lnTo>
                        <a:lnTo>
                          <a:pt x="4450" y="615"/>
                        </a:lnTo>
                        <a:lnTo>
                          <a:pt x="4535" y="589"/>
                        </a:lnTo>
                        <a:lnTo>
                          <a:pt x="4600" y="589"/>
                        </a:lnTo>
                        <a:lnTo>
                          <a:pt x="4558" y="674"/>
                        </a:lnTo>
                        <a:lnTo>
                          <a:pt x="4577" y="726"/>
                        </a:lnTo>
                        <a:lnTo>
                          <a:pt x="4492" y="759"/>
                        </a:lnTo>
                        <a:lnTo>
                          <a:pt x="4558" y="844"/>
                        </a:lnTo>
                        <a:lnTo>
                          <a:pt x="4600" y="929"/>
                        </a:lnTo>
                        <a:lnTo>
                          <a:pt x="4535" y="1073"/>
                        </a:lnTo>
                        <a:lnTo>
                          <a:pt x="4427" y="1015"/>
                        </a:lnTo>
                        <a:lnTo>
                          <a:pt x="4403" y="1159"/>
                        </a:lnTo>
                        <a:lnTo>
                          <a:pt x="4492" y="1185"/>
                        </a:lnTo>
                        <a:lnTo>
                          <a:pt x="4450" y="1244"/>
                        </a:lnTo>
                        <a:lnTo>
                          <a:pt x="4384" y="1159"/>
                        </a:lnTo>
                        <a:lnTo>
                          <a:pt x="4384" y="1244"/>
                        </a:lnTo>
                        <a:lnTo>
                          <a:pt x="4450" y="1296"/>
                        </a:lnTo>
                        <a:lnTo>
                          <a:pt x="4253" y="1218"/>
                        </a:lnTo>
                        <a:lnTo>
                          <a:pt x="4122" y="1100"/>
                        </a:lnTo>
                        <a:lnTo>
                          <a:pt x="4014" y="1159"/>
                        </a:lnTo>
                        <a:lnTo>
                          <a:pt x="3882" y="1100"/>
                        </a:lnTo>
                        <a:lnTo>
                          <a:pt x="3859" y="1041"/>
                        </a:lnTo>
                        <a:lnTo>
                          <a:pt x="3990" y="982"/>
                        </a:lnTo>
                        <a:lnTo>
                          <a:pt x="3967" y="903"/>
                        </a:lnTo>
                        <a:lnTo>
                          <a:pt x="3859" y="870"/>
                        </a:lnTo>
                        <a:lnTo>
                          <a:pt x="3840" y="982"/>
                        </a:lnTo>
                        <a:lnTo>
                          <a:pt x="3751" y="956"/>
                        </a:lnTo>
                        <a:lnTo>
                          <a:pt x="3732" y="870"/>
                        </a:lnTo>
                        <a:lnTo>
                          <a:pt x="3709" y="1015"/>
                        </a:lnTo>
                        <a:lnTo>
                          <a:pt x="3601" y="1126"/>
                        </a:lnTo>
                        <a:lnTo>
                          <a:pt x="3534" y="1073"/>
                        </a:lnTo>
                        <a:lnTo>
                          <a:pt x="3553" y="903"/>
                        </a:lnTo>
                        <a:lnTo>
                          <a:pt x="3534" y="785"/>
                        </a:lnTo>
                        <a:lnTo>
                          <a:pt x="3445" y="812"/>
                        </a:lnTo>
                        <a:lnTo>
                          <a:pt x="3314" y="785"/>
                        </a:lnTo>
                        <a:lnTo>
                          <a:pt x="3140" y="726"/>
                        </a:lnTo>
                        <a:lnTo>
                          <a:pt x="2858" y="726"/>
                        </a:lnTo>
                        <a:lnTo>
                          <a:pt x="2769" y="726"/>
                        </a:lnTo>
                        <a:lnTo>
                          <a:pt x="2793" y="785"/>
                        </a:lnTo>
                        <a:lnTo>
                          <a:pt x="2793" y="844"/>
                        </a:lnTo>
                        <a:lnTo>
                          <a:pt x="2769" y="982"/>
                        </a:lnTo>
                        <a:lnTo>
                          <a:pt x="2685" y="982"/>
                        </a:lnTo>
                        <a:lnTo>
                          <a:pt x="2638" y="903"/>
                        </a:lnTo>
                        <a:lnTo>
                          <a:pt x="2572" y="929"/>
                        </a:lnTo>
                        <a:lnTo>
                          <a:pt x="2553" y="1100"/>
                        </a:lnTo>
                        <a:lnTo>
                          <a:pt x="2619" y="1041"/>
                        </a:lnTo>
                        <a:lnTo>
                          <a:pt x="2685" y="1126"/>
                        </a:lnTo>
                        <a:lnTo>
                          <a:pt x="2638" y="1244"/>
                        </a:lnTo>
                        <a:lnTo>
                          <a:pt x="2661" y="1329"/>
                        </a:lnTo>
                        <a:lnTo>
                          <a:pt x="2793" y="1296"/>
                        </a:lnTo>
                        <a:lnTo>
                          <a:pt x="2924" y="1270"/>
                        </a:lnTo>
                        <a:lnTo>
                          <a:pt x="2924" y="1159"/>
                        </a:lnTo>
                        <a:lnTo>
                          <a:pt x="2769" y="1100"/>
                        </a:lnTo>
                        <a:lnTo>
                          <a:pt x="2966" y="1073"/>
                        </a:lnTo>
                        <a:lnTo>
                          <a:pt x="2990" y="1100"/>
                        </a:lnTo>
                        <a:lnTo>
                          <a:pt x="3051" y="1041"/>
                        </a:lnTo>
                        <a:lnTo>
                          <a:pt x="3116" y="1073"/>
                        </a:lnTo>
                        <a:lnTo>
                          <a:pt x="3248" y="1041"/>
                        </a:lnTo>
                        <a:lnTo>
                          <a:pt x="3314" y="929"/>
                        </a:lnTo>
                        <a:lnTo>
                          <a:pt x="3295" y="759"/>
                        </a:lnTo>
                        <a:lnTo>
                          <a:pt x="3337" y="929"/>
                        </a:lnTo>
                        <a:lnTo>
                          <a:pt x="3379" y="1041"/>
                        </a:lnTo>
                        <a:lnTo>
                          <a:pt x="3553" y="1041"/>
                        </a:lnTo>
                        <a:lnTo>
                          <a:pt x="3577" y="812"/>
                        </a:lnTo>
                        <a:lnTo>
                          <a:pt x="3643" y="812"/>
                        </a:lnTo>
                        <a:lnTo>
                          <a:pt x="3601" y="1015"/>
                        </a:lnTo>
                        <a:lnTo>
                          <a:pt x="3709" y="1015"/>
                        </a:lnTo>
                        <a:lnTo>
                          <a:pt x="3948" y="1100"/>
                        </a:lnTo>
                        <a:lnTo>
                          <a:pt x="3798" y="1218"/>
                        </a:lnTo>
                        <a:lnTo>
                          <a:pt x="4056" y="1355"/>
                        </a:lnTo>
                        <a:lnTo>
                          <a:pt x="4319" y="1440"/>
                        </a:lnTo>
                        <a:lnTo>
                          <a:pt x="4403" y="1551"/>
                        </a:lnTo>
                        <a:lnTo>
                          <a:pt x="4361" y="1610"/>
                        </a:lnTo>
                        <a:lnTo>
                          <a:pt x="4277" y="1532"/>
                        </a:lnTo>
                        <a:lnTo>
                          <a:pt x="4056" y="1414"/>
                        </a:lnTo>
                        <a:lnTo>
                          <a:pt x="3882" y="1388"/>
                        </a:lnTo>
                        <a:lnTo>
                          <a:pt x="3709" y="1329"/>
                        </a:lnTo>
                        <a:lnTo>
                          <a:pt x="3643" y="1244"/>
                        </a:lnTo>
                        <a:lnTo>
                          <a:pt x="3379" y="1185"/>
                        </a:lnTo>
                        <a:lnTo>
                          <a:pt x="3163" y="1244"/>
                        </a:lnTo>
                        <a:lnTo>
                          <a:pt x="2990" y="1329"/>
                        </a:lnTo>
                        <a:lnTo>
                          <a:pt x="2816" y="1466"/>
                        </a:lnTo>
                        <a:lnTo>
                          <a:pt x="2727" y="1610"/>
                        </a:lnTo>
                        <a:lnTo>
                          <a:pt x="2750" y="1723"/>
                        </a:lnTo>
                        <a:lnTo>
                          <a:pt x="2835" y="1867"/>
                        </a:lnTo>
                        <a:lnTo>
                          <a:pt x="2924" y="1841"/>
                        </a:lnTo>
                        <a:lnTo>
                          <a:pt x="3051" y="1755"/>
                        </a:lnTo>
                        <a:lnTo>
                          <a:pt x="3140" y="1697"/>
                        </a:lnTo>
                        <a:lnTo>
                          <a:pt x="3140" y="1532"/>
                        </a:lnTo>
                        <a:lnTo>
                          <a:pt x="3229" y="1551"/>
                        </a:lnTo>
                        <a:lnTo>
                          <a:pt x="3163" y="1697"/>
                        </a:lnTo>
                        <a:lnTo>
                          <a:pt x="3337" y="1814"/>
                        </a:lnTo>
                        <a:lnTo>
                          <a:pt x="3360" y="1952"/>
                        </a:lnTo>
                        <a:lnTo>
                          <a:pt x="3643" y="1755"/>
                        </a:lnTo>
                        <a:lnTo>
                          <a:pt x="3666" y="1841"/>
                        </a:lnTo>
                        <a:lnTo>
                          <a:pt x="3577" y="1926"/>
                        </a:lnTo>
                        <a:lnTo>
                          <a:pt x="3732" y="1952"/>
                        </a:lnTo>
                        <a:lnTo>
                          <a:pt x="3732" y="2037"/>
                        </a:lnTo>
                        <a:lnTo>
                          <a:pt x="3601" y="2070"/>
                        </a:lnTo>
                        <a:lnTo>
                          <a:pt x="3445" y="1926"/>
                        </a:lnTo>
                        <a:lnTo>
                          <a:pt x="3229" y="1985"/>
                        </a:lnTo>
                        <a:lnTo>
                          <a:pt x="3098" y="2011"/>
                        </a:lnTo>
                        <a:lnTo>
                          <a:pt x="3009" y="1985"/>
                        </a:lnTo>
                        <a:lnTo>
                          <a:pt x="2835" y="1926"/>
                        </a:lnTo>
                        <a:lnTo>
                          <a:pt x="2990" y="2096"/>
                        </a:lnTo>
                        <a:lnTo>
                          <a:pt x="3140" y="2240"/>
                        </a:lnTo>
                        <a:lnTo>
                          <a:pt x="3314" y="2214"/>
                        </a:lnTo>
                        <a:lnTo>
                          <a:pt x="3445" y="2240"/>
                        </a:lnTo>
                        <a:lnTo>
                          <a:pt x="3445" y="2325"/>
                        </a:lnTo>
                        <a:lnTo>
                          <a:pt x="3314" y="2325"/>
                        </a:lnTo>
                        <a:lnTo>
                          <a:pt x="3187" y="2240"/>
                        </a:lnTo>
                        <a:lnTo>
                          <a:pt x="3098" y="2240"/>
                        </a:lnTo>
                        <a:lnTo>
                          <a:pt x="3116" y="2384"/>
                        </a:lnTo>
                        <a:lnTo>
                          <a:pt x="3009" y="2410"/>
                        </a:lnTo>
                        <a:lnTo>
                          <a:pt x="2858" y="2351"/>
                        </a:lnTo>
                        <a:lnTo>
                          <a:pt x="2882" y="2214"/>
                        </a:lnTo>
                        <a:lnTo>
                          <a:pt x="2966" y="2351"/>
                        </a:lnTo>
                        <a:lnTo>
                          <a:pt x="2990" y="2266"/>
                        </a:lnTo>
                        <a:lnTo>
                          <a:pt x="2835" y="2122"/>
                        </a:lnTo>
                        <a:lnTo>
                          <a:pt x="2685" y="2155"/>
                        </a:lnTo>
                        <a:lnTo>
                          <a:pt x="2703" y="2299"/>
                        </a:lnTo>
                        <a:lnTo>
                          <a:pt x="2793" y="2554"/>
                        </a:lnTo>
                        <a:lnTo>
                          <a:pt x="2990" y="3124"/>
                        </a:lnTo>
                        <a:lnTo>
                          <a:pt x="3229" y="3491"/>
                        </a:lnTo>
                        <a:lnTo>
                          <a:pt x="3379" y="3687"/>
                        </a:lnTo>
                        <a:lnTo>
                          <a:pt x="3445" y="3779"/>
                        </a:lnTo>
                        <a:lnTo>
                          <a:pt x="3468" y="3779"/>
                        </a:lnTo>
                        <a:lnTo>
                          <a:pt x="3426" y="3661"/>
                        </a:lnTo>
                        <a:lnTo>
                          <a:pt x="3379" y="3550"/>
                        </a:lnTo>
                        <a:lnTo>
                          <a:pt x="3403" y="3576"/>
                        </a:lnTo>
                        <a:lnTo>
                          <a:pt x="3492" y="3517"/>
                        </a:lnTo>
                        <a:lnTo>
                          <a:pt x="3601" y="3517"/>
                        </a:lnTo>
                        <a:lnTo>
                          <a:pt x="3859" y="3432"/>
                        </a:lnTo>
                        <a:lnTo>
                          <a:pt x="3906" y="3379"/>
                        </a:lnTo>
                        <a:lnTo>
                          <a:pt x="3882" y="3491"/>
                        </a:lnTo>
                        <a:lnTo>
                          <a:pt x="3534" y="3609"/>
                        </a:lnTo>
                        <a:lnTo>
                          <a:pt x="3511" y="3687"/>
                        </a:lnTo>
                        <a:lnTo>
                          <a:pt x="3553" y="3746"/>
                        </a:lnTo>
                        <a:lnTo>
                          <a:pt x="3577" y="3805"/>
                        </a:lnTo>
                        <a:lnTo>
                          <a:pt x="3553" y="3890"/>
                        </a:lnTo>
                        <a:lnTo>
                          <a:pt x="3601" y="4061"/>
                        </a:lnTo>
                        <a:lnTo>
                          <a:pt x="3751" y="4172"/>
                        </a:lnTo>
                        <a:lnTo>
                          <a:pt x="3774" y="4061"/>
                        </a:lnTo>
                        <a:lnTo>
                          <a:pt x="3732" y="3916"/>
                        </a:lnTo>
                        <a:lnTo>
                          <a:pt x="3709" y="3890"/>
                        </a:lnTo>
                        <a:lnTo>
                          <a:pt x="3798" y="3858"/>
                        </a:lnTo>
                        <a:lnTo>
                          <a:pt x="3798" y="3916"/>
                        </a:lnTo>
                        <a:lnTo>
                          <a:pt x="3774" y="4002"/>
                        </a:lnTo>
                        <a:lnTo>
                          <a:pt x="3798" y="4119"/>
                        </a:lnTo>
                        <a:lnTo>
                          <a:pt x="3840" y="4146"/>
                        </a:lnTo>
                        <a:lnTo>
                          <a:pt x="3948" y="4460"/>
                        </a:lnTo>
                        <a:lnTo>
                          <a:pt x="3967" y="4630"/>
                        </a:lnTo>
                        <a:lnTo>
                          <a:pt x="3840" y="4827"/>
                        </a:lnTo>
                        <a:lnTo>
                          <a:pt x="3817" y="4886"/>
                        </a:lnTo>
                        <a:lnTo>
                          <a:pt x="3925" y="4774"/>
                        </a:lnTo>
                        <a:lnTo>
                          <a:pt x="3990" y="4742"/>
                        </a:lnTo>
                        <a:lnTo>
                          <a:pt x="4056" y="4742"/>
                        </a:lnTo>
                        <a:lnTo>
                          <a:pt x="4122" y="4800"/>
                        </a:lnTo>
                        <a:lnTo>
                          <a:pt x="4187" y="4742"/>
                        </a:lnTo>
                        <a:lnTo>
                          <a:pt x="4098" y="4912"/>
                        </a:lnTo>
                        <a:lnTo>
                          <a:pt x="4033" y="4886"/>
                        </a:lnTo>
                        <a:lnTo>
                          <a:pt x="3990" y="4886"/>
                        </a:lnTo>
                        <a:lnTo>
                          <a:pt x="3967" y="4971"/>
                        </a:lnTo>
                        <a:lnTo>
                          <a:pt x="3906" y="5056"/>
                        </a:lnTo>
                        <a:lnTo>
                          <a:pt x="3840" y="5090"/>
                        </a:lnTo>
                        <a:lnTo>
                          <a:pt x="3859" y="5168"/>
                        </a:lnTo>
                        <a:lnTo>
                          <a:pt x="3906" y="5168"/>
                        </a:lnTo>
                        <a:lnTo>
                          <a:pt x="3925" y="5260"/>
                        </a:lnTo>
                        <a:lnTo>
                          <a:pt x="3882" y="5260"/>
                        </a:lnTo>
                        <a:lnTo>
                          <a:pt x="3840" y="5227"/>
                        </a:lnTo>
                        <a:lnTo>
                          <a:pt x="3798" y="5116"/>
                        </a:lnTo>
                        <a:lnTo>
                          <a:pt x="3751" y="5142"/>
                        </a:lnTo>
                        <a:lnTo>
                          <a:pt x="3709" y="5312"/>
                        </a:lnTo>
                        <a:lnTo>
                          <a:pt x="3709" y="5456"/>
                        </a:lnTo>
                        <a:lnTo>
                          <a:pt x="3732" y="5653"/>
                        </a:lnTo>
                        <a:lnTo>
                          <a:pt x="3732" y="5797"/>
                        </a:lnTo>
                        <a:lnTo>
                          <a:pt x="3732" y="5908"/>
                        </a:lnTo>
                        <a:lnTo>
                          <a:pt x="3817" y="6111"/>
                        </a:lnTo>
                        <a:lnTo>
                          <a:pt x="3840" y="6170"/>
                        </a:lnTo>
                        <a:lnTo>
                          <a:pt x="4403" y="6000"/>
                        </a:lnTo>
                        <a:lnTo>
                          <a:pt x="4492" y="5908"/>
                        </a:lnTo>
                        <a:lnTo>
                          <a:pt x="4535" y="5712"/>
                        </a:lnTo>
                        <a:lnTo>
                          <a:pt x="4516" y="5627"/>
                        </a:lnTo>
                        <a:lnTo>
                          <a:pt x="4535" y="5541"/>
                        </a:lnTo>
                        <a:lnTo>
                          <a:pt x="4535" y="5627"/>
                        </a:lnTo>
                        <a:lnTo>
                          <a:pt x="4689" y="5483"/>
                        </a:lnTo>
                        <a:lnTo>
                          <a:pt x="4755" y="5483"/>
                        </a:lnTo>
                        <a:lnTo>
                          <a:pt x="4755" y="5627"/>
                        </a:lnTo>
                        <a:lnTo>
                          <a:pt x="4689" y="5686"/>
                        </a:lnTo>
                        <a:lnTo>
                          <a:pt x="4643" y="5797"/>
                        </a:lnTo>
                        <a:lnTo>
                          <a:pt x="4689" y="5797"/>
                        </a:lnTo>
                        <a:lnTo>
                          <a:pt x="4624" y="6085"/>
                        </a:lnTo>
                        <a:lnTo>
                          <a:pt x="4577" y="6196"/>
                        </a:lnTo>
                        <a:lnTo>
                          <a:pt x="4558" y="6137"/>
                        </a:lnTo>
                        <a:lnTo>
                          <a:pt x="4469" y="6196"/>
                        </a:lnTo>
                        <a:lnTo>
                          <a:pt x="4427" y="6255"/>
                        </a:lnTo>
                        <a:lnTo>
                          <a:pt x="4319" y="6255"/>
                        </a:lnTo>
                        <a:lnTo>
                          <a:pt x="4319" y="6308"/>
                        </a:lnTo>
                        <a:lnTo>
                          <a:pt x="4211" y="6255"/>
                        </a:lnTo>
                        <a:lnTo>
                          <a:pt x="4056" y="6255"/>
                        </a:lnTo>
                        <a:lnTo>
                          <a:pt x="3906" y="6367"/>
                        </a:lnTo>
                        <a:lnTo>
                          <a:pt x="3859" y="6478"/>
                        </a:lnTo>
                        <a:lnTo>
                          <a:pt x="3859" y="6596"/>
                        </a:lnTo>
                        <a:lnTo>
                          <a:pt x="3882" y="6766"/>
                        </a:lnTo>
                        <a:lnTo>
                          <a:pt x="3403" y="6596"/>
                        </a:lnTo>
                        <a:close/>
                      </a:path>
                    </a:pathLst>
                  </a:custGeom>
                  <a:solidFill>
                    <a:srgbClr val="a6e3a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5089680" y="957240"/>
                    <a:ext cx="1600560" cy="3959640"/>
                  </a:xfrm>
                  <a:custGeom>
                    <a:avLst/>
                    <a:gdLst/>
                    <a:ahLst/>
                    <a:rect l="0" t="0" r="r" b="b"/>
                    <a:pathLst>
                      <a:path w="4446" h="10999">
                        <a:moveTo>
                          <a:pt x="957" y="10769"/>
                        </a:moveTo>
                        <a:lnTo>
                          <a:pt x="807" y="10684"/>
                        </a:lnTo>
                        <a:lnTo>
                          <a:pt x="1112" y="9712"/>
                        </a:lnTo>
                        <a:lnTo>
                          <a:pt x="1131" y="9285"/>
                        </a:lnTo>
                        <a:lnTo>
                          <a:pt x="1154" y="9252"/>
                        </a:lnTo>
                        <a:lnTo>
                          <a:pt x="1436" y="9028"/>
                        </a:lnTo>
                        <a:lnTo>
                          <a:pt x="1394" y="8917"/>
                        </a:lnTo>
                        <a:lnTo>
                          <a:pt x="957" y="8654"/>
                        </a:lnTo>
                        <a:lnTo>
                          <a:pt x="1065" y="8680"/>
                        </a:lnTo>
                        <a:lnTo>
                          <a:pt x="1088" y="8601"/>
                        </a:lnTo>
                        <a:lnTo>
                          <a:pt x="1088" y="8371"/>
                        </a:lnTo>
                        <a:lnTo>
                          <a:pt x="1154" y="8628"/>
                        </a:lnTo>
                        <a:lnTo>
                          <a:pt x="1351" y="8825"/>
                        </a:lnTo>
                        <a:lnTo>
                          <a:pt x="1436" y="8798"/>
                        </a:lnTo>
                        <a:lnTo>
                          <a:pt x="1502" y="8943"/>
                        </a:lnTo>
                        <a:lnTo>
                          <a:pt x="1675" y="8858"/>
                        </a:lnTo>
                        <a:lnTo>
                          <a:pt x="1788" y="8654"/>
                        </a:lnTo>
                        <a:lnTo>
                          <a:pt x="1896" y="8312"/>
                        </a:lnTo>
                        <a:lnTo>
                          <a:pt x="1919" y="8253"/>
                        </a:lnTo>
                        <a:lnTo>
                          <a:pt x="1961" y="7996"/>
                        </a:lnTo>
                        <a:lnTo>
                          <a:pt x="1919" y="7858"/>
                        </a:lnTo>
                        <a:lnTo>
                          <a:pt x="1872" y="7799"/>
                        </a:lnTo>
                        <a:lnTo>
                          <a:pt x="1896" y="7713"/>
                        </a:lnTo>
                        <a:lnTo>
                          <a:pt x="1436" y="7313"/>
                        </a:lnTo>
                        <a:lnTo>
                          <a:pt x="1286" y="7313"/>
                        </a:lnTo>
                        <a:lnTo>
                          <a:pt x="1304" y="7254"/>
                        </a:lnTo>
                        <a:lnTo>
                          <a:pt x="694" y="7510"/>
                        </a:lnTo>
                        <a:lnTo>
                          <a:pt x="807" y="7398"/>
                        </a:lnTo>
                        <a:lnTo>
                          <a:pt x="1286" y="7227"/>
                        </a:lnTo>
                        <a:lnTo>
                          <a:pt x="1154" y="7142"/>
                        </a:lnTo>
                        <a:lnTo>
                          <a:pt x="1065" y="7083"/>
                        </a:lnTo>
                        <a:lnTo>
                          <a:pt x="1023" y="6938"/>
                        </a:lnTo>
                        <a:lnTo>
                          <a:pt x="826" y="6853"/>
                        </a:lnTo>
                        <a:lnTo>
                          <a:pt x="783" y="6708"/>
                        </a:lnTo>
                        <a:lnTo>
                          <a:pt x="868" y="6827"/>
                        </a:lnTo>
                        <a:lnTo>
                          <a:pt x="891" y="6682"/>
                        </a:lnTo>
                        <a:lnTo>
                          <a:pt x="891" y="6170"/>
                        </a:lnTo>
                        <a:lnTo>
                          <a:pt x="1023" y="6281"/>
                        </a:lnTo>
                        <a:lnTo>
                          <a:pt x="1088" y="6511"/>
                        </a:lnTo>
                        <a:lnTo>
                          <a:pt x="1065" y="6597"/>
                        </a:lnTo>
                        <a:lnTo>
                          <a:pt x="1065" y="6682"/>
                        </a:lnTo>
                        <a:lnTo>
                          <a:pt x="1196" y="6656"/>
                        </a:lnTo>
                        <a:lnTo>
                          <a:pt x="1131" y="6800"/>
                        </a:lnTo>
                        <a:lnTo>
                          <a:pt x="1154" y="6879"/>
                        </a:lnTo>
                        <a:lnTo>
                          <a:pt x="1328" y="7056"/>
                        </a:lnTo>
                        <a:lnTo>
                          <a:pt x="1351" y="6997"/>
                        </a:lnTo>
                        <a:lnTo>
                          <a:pt x="1394" y="7142"/>
                        </a:lnTo>
                        <a:lnTo>
                          <a:pt x="1741" y="7424"/>
                        </a:lnTo>
                        <a:lnTo>
                          <a:pt x="1961" y="7510"/>
                        </a:lnTo>
                        <a:lnTo>
                          <a:pt x="2135" y="7254"/>
                        </a:lnTo>
                        <a:lnTo>
                          <a:pt x="2135" y="7142"/>
                        </a:lnTo>
                        <a:lnTo>
                          <a:pt x="2004" y="6971"/>
                        </a:lnTo>
                        <a:lnTo>
                          <a:pt x="1764" y="6767"/>
                        </a:lnTo>
                        <a:lnTo>
                          <a:pt x="1394" y="6511"/>
                        </a:lnTo>
                        <a:lnTo>
                          <a:pt x="1088" y="6196"/>
                        </a:lnTo>
                        <a:lnTo>
                          <a:pt x="849" y="5999"/>
                        </a:lnTo>
                        <a:lnTo>
                          <a:pt x="760" y="5710"/>
                        </a:lnTo>
                        <a:lnTo>
                          <a:pt x="741" y="5368"/>
                        </a:lnTo>
                        <a:lnTo>
                          <a:pt x="826" y="5086"/>
                        </a:lnTo>
                        <a:lnTo>
                          <a:pt x="934" y="4888"/>
                        </a:lnTo>
                        <a:lnTo>
                          <a:pt x="1023" y="4770"/>
                        </a:lnTo>
                        <a:lnTo>
                          <a:pt x="1154" y="4343"/>
                        </a:lnTo>
                        <a:lnTo>
                          <a:pt x="1088" y="4258"/>
                        </a:lnTo>
                        <a:lnTo>
                          <a:pt x="915" y="4343"/>
                        </a:lnTo>
                        <a:lnTo>
                          <a:pt x="741" y="4369"/>
                        </a:lnTo>
                        <a:lnTo>
                          <a:pt x="436" y="4343"/>
                        </a:lnTo>
                        <a:lnTo>
                          <a:pt x="741" y="4199"/>
                        </a:lnTo>
                        <a:lnTo>
                          <a:pt x="760" y="4113"/>
                        </a:lnTo>
                        <a:lnTo>
                          <a:pt x="1004" y="4087"/>
                        </a:lnTo>
                        <a:lnTo>
                          <a:pt x="1004" y="4002"/>
                        </a:lnTo>
                        <a:lnTo>
                          <a:pt x="633" y="3916"/>
                        </a:lnTo>
                        <a:lnTo>
                          <a:pt x="436" y="3601"/>
                        </a:lnTo>
                        <a:lnTo>
                          <a:pt x="567" y="3285"/>
                        </a:lnTo>
                        <a:lnTo>
                          <a:pt x="980" y="3660"/>
                        </a:lnTo>
                        <a:lnTo>
                          <a:pt x="1023" y="3542"/>
                        </a:lnTo>
                        <a:lnTo>
                          <a:pt x="915" y="3371"/>
                        </a:lnTo>
                        <a:lnTo>
                          <a:pt x="957" y="3259"/>
                        </a:lnTo>
                        <a:lnTo>
                          <a:pt x="807" y="3115"/>
                        </a:lnTo>
                        <a:lnTo>
                          <a:pt x="718" y="3226"/>
                        </a:lnTo>
                        <a:lnTo>
                          <a:pt x="760" y="3029"/>
                        </a:lnTo>
                        <a:lnTo>
                          <a:pt x="694" y="2858"/>
                        </a:lnTo>
                        <a:lnTo>
                          <a:pt x="370" y="2739"/>
                        </a:lnTo>
                        <a:lnTo>
                          <a:pt x="131" y="2680"/>
                        </a:lnTo>
                        <a:lnTo>
                          <a:pt x="150" y="2457"/>
                        </a:lnTo>
                        <a:lnTo>
                          <a:pt x="0" y="1458"/>
                        </a:lnTo>
                        <a:lnTo>
                          <a:pt x="1633" y="59"/>
                        </a:lnTo>
                        <a:lnTo>
                          <a:pt x="1591" y="203"/>
                        </a:lnTo>
                        <a:lnTo>
                          <a:pt x="1656" y="0"/>
                        </a:lnTo>
                        <a:lnTo>
                          <a:pt x="1675" y="118"/>
                        </a:lnTo>
                        <a:lnTo>
                          <a:pt x="1764" y="256"/>
                        </a:lnTo>
                        <a:lnTo>
                          <a:pt x="1938" y="170"/>
                        </a:lnTo>
                        <a:lnTo>
                          <a:pt x="1961" y="289"/>
                        </a:lnTo>
                        <a:lnTo>
                          <a:pt x="2135" y="203"/>
                        </a:lnTo>
                        <a:lnTo>
                          <a:pt x="2177" y="289"/>
                        </a:lnTo>
                        <a:lnTo>
                          <a:pt x="2268" y="170"/>
                        </a:lnTo>
                        <a:lnTo>
                          <a:pt x="2310" y="256"/>
                        </a:lnTo>
                        <a:lnTo>
                          <a:pt x="2376" y="118"/>
                        </a:lnTo>
                        <a:lnTo>
                          <a:pt x="2460" y="59"/>
                        </a:lnTo>
                        <a:lnTo>
                          <a:pt x="2507" y="118"/>
                        </a:lnTo>
                        <a:lnTo>
                          <a:pt x="2573" y="59"/>
                        </a:lnTo>
                        <a:lnTo>
                          <a:pt x="2638" y="170"/>
                        </a:lnTo>
                        <a:lnTo>
                          <a:pt x="2723" y="170"/>
                        </a:lnTo>
                        <a:lnTo>
                          <a:pt x="2770" y="59"/>
                        </a:lnTo>
                        <a:lnTo>
                          <a:pt x="2873" y="144"/>
                        </a:lnTo>
                        <a:lnTo>
                          <a:pt x="2920" y="229"/>
                        </a:lnTo>
                        <a:lnTo>
                          <a:pt x="3117" y="170"/>
                        </a:lnTo>
                        <a:lnTo>
                          <a:pt x="3225" y="118"/>
                        </a:lnTo>
                        <a:lnTo>
                          <a:pt x="3310" y="118"/>
                        </a:lnTo>
                        <a:lnTo>
                          <a:pt x="3488" y="203"/>
                        </a:lnTo>
                        <a:lnTo>
                          <a:pt x="3422" y="289"/>
                        </a:lnTo>
                        <a:lnTo>
                          <a:pt x="3422" y="427"/>
                        </a:lnTo>
                        <a:lnTo>
                          <a:pt x="3357" y="486"/>
                        </a:lnTo>
                        <a:lnTo>
                          <a:pt x="3399" y="519"/>
                        </a:lnTo>
                        <a:lnTo>
                          <a:pt x="3488" y="545"/>
                        </a:lnTo>
                        <a:lnTo>
                          <a:pt x="3488" y="630"/>
                        </a:lnTo>
                        <a:lnTo>
                          <a:pt x="3488" y="768"/>
                        </a:lnTo>
                        <a:lnTo>
                          <a:pt x="3422" y="860"/>
                        </a:lnTo>
                        <a:lnTo>
                          <a:pt x="3422" y="716"/>
                        </a:lnTo>
                        <a:lnTo>
                          <a:pt x="3333" y="597"/>
                        </a:lnTo>
                        <a:lnTo>
                          <a:pt x="3117" y="597"/>
                        </a:lnTo>
                        <a:lnTo>
                          <a:pt x="3136" y="742"/>
                        </a:lnTo>
                        <a:lnTo>
                          <a:pt x="3244" y="742"/>
                        </a:lnTo>
                        <a:lnTo>
                          <a:pt x="3333" y="768"/>
                        </a:lnTo>
                        <a:lnTo>
                          <a:pt x="3507" y="860"/>
                        </a:lnTo>
                        <a:lnTo>
                          <a:pt x="3596" y="860"/>
                        </a:lnTo>
                        <a:lnTo>
                          <a:pt x="3727" y="768"/>
                        </a:lnTo>
                        <a:lnTo>
                          <a:pt x="3704" y="913"/>
                        </a:lnTo>
                        <a:lnTo>
                          <a:pt x="3835" y="1031"/>
                        </a:lnTo>
                        <a:lnTo>
                          <a:pt x="3704" y="1143"/>
                        </a:lnTo>
                        <a:lnTo>
                          <a:pt x="3746" y="1254"/>
                        </a:lnTo>
                        <a:lnTo>
                          <a:pt x="3812" y="1373"/>
                        </a:lnTo>
                        <a:lnTo>
                          <a:pt x="3943" y="1517"/>
                        </a:lnTo>
                        <a:lnTo>
                          <a:pt x="4098" y="1570"/>
                        </a:lnTo>
                        <a:lnTo>
                          <a:pt x="4122" y="1603"/>
                        </a:lnTo>
                        <a:lnTo>
                          <a:pt x="4272" y="1688"/>
                        </a:lnTo>
                        <a:lnTo>
                          <a:pt x="4356" y="1826"/>
                        </a:lnTo>
                        <a:lnTo>
                          <a:pt x="4403" y="1885"/>
                        </a:lnTo>
                        <a:lnTo>
                          <a:pt x="4338" y="1911"/>
                        </a:lnTo>
                        <a:lnTo>
                          <a:pt x="4272" y="1800"/>
                        </a:lnTo>
                        <a:lnTo>
                          <a:pt x="4122" y="1688"/>
                        </a:lnTo>
                        <a:lnTo>
                          <a:pt x="4056" y="1800"/>
                        </a:lnTo>
                        <a:lnTo>
                          <a:pt x="3901" y="1859"/>
                        </a:lnTo>
                        <a:lnTo>
                          <a:pt x="3901" y="1773"/>
                        </a:lnTo>
                        <a:lnTo>
                          <a:pt x="3727" y="1911"/>
                        </a:lnTo>
                        <a:lnTo>
                          <a:pt x="3770" y="1826"/>
                        </a:lnTo>
                        <a:lnTo>
                          <a:pt x="3727" y="1747"/>
                        </a:lnTo>
                        <a:lnTo>
                          <a:pt x="3572" y="1747"/>
                        </a:lnTo>
                        <a:lnTo>
                          <a:pt x="3441" y="1714"/>
                        </a:lnTo>
                        <a:lnTo>
                          <a:pt x="3291" y="1629"/>
                        </a:lnTo>
                        <a:lnTo>
                          <a:pt x="3291" y="1747"/>
                        </a:lnTo>
                        <a:lnTo>
                          <a:pt x="3310" y="1800"/>
                        </a:lnTo>
                        <a:lnTo>
                          <a:pt x="3441" y="1826"/>
                        </a:lnTo>
                        <a:lnTo>
                          <a:pt x="3554" y="1859"/>
                        </a:lnTo>
                        <a:lnTo>
                          <a:pt x="3685" y="1911"/>
                        </a:lnTo>
                        <a:lnTo>
                          <a:pt x="3727" y="1997"/>
                        </a:lnTo>
                        <a:lnTo>
                          <a:pt x="3596" y="1997"/>
                        </a:lnTo>
                        <a:lnTo>
                          <a:pt x="3465" y="1970"/>
                        </a:lnTo>
                        <a:lnTo>
                          <a:pt x="3465" y="2082"/>
                        </a:lnTo>
                        <a:lnTo>
                          <a:pt x="3554" y="2115"/>
                        </a:lnTo>
                        <a:lnTo>
                          <a:pt x="3704" y="2082"/>
                        </a:lnTo>
                        <a:lnTo>
                          <a:pt x="3812" y="2056"/>
                        </a:lnTo>
                        <a:lnTo>
                          <a:pt x="3878" y="1970"/>
                        </a:lnTo>
                        <a:lnTo>
                          <a:pt x="3967" y="2312"/>
                        </a:lnTo>
                        <a:lnTo>
                          <a:pt x="4098" y="2371"/>
                        </a:lnTo>
                        <a:lnTo>
                          <a:pt x="4183" y="2457"/>
                        </a:lnTo>
                        <a:lnTo>
                          <a:pt x="4248" y="2430"/>
                        </a:lnTo>
                        <a:lnTo>
                          <a:pt x="4291" y="2371"/>
                        </a:lnTo>
                        <a:lnTo>
                          <a:pt x="4380" y="2489"/>
                        </a:lnTo>
                        <a:lnTo>
                          <a:pt x="4446" y="2516"/>
                        </a:lnTo>
                        <a:lnTo>
                          <a:pt x="3704" y="2601"/>
                        </a:lnTo>
                        <a:lnTo>
                          <a:pt x="2657" y="2430"/>
                        </a:lnTo>
                        <a:lnTo>
                          <a:pt x="1525" y="2542"/>
                        </a:lnTo>
                        <a:lnTo>
                          <a:pt x="1394" y="3226"/>
                        </a:lnTo>
                        <a:lnTo>
                          <a:pt x="1656" y="3857"/>
                        </a:lnTo>
                        <a:lnTo>
                          <a:pt x="1699" y="3712"/>
                        </a:lnTo>
                        <a:lnTo>
                          <a:pt x="1788" y="3798"/>
                        </a:lnTo>
                        <a:lnTo>
                          <a:pt x="1722" y="4054"/>
                        </a:lnTo>
                        <a:lnTo>
                          <a:pt x="1807" y="4172"/>
                        </a:lnTo>
                        <a:lnTo>
                          <a:pt x="1896" y="3916"/>
                        </a:lnTo>
                        <a:lnTo>
                          <a:pt x="1961" y="4172"/>
                        </a:lnTo>
                        <a:lnTo>
                          <a:pt x="1919" y="4488"/>
                        </a:lnTo>
                        <a:lnTo>
                          <a:pt x="1830" y="4626"/>
                        </a:lnTo>
                        <a:lnTo>
                          <a:pt x="1675" y="4658"/>
                        </a:lnTo>
                        <a:lnTo>
                          <a:pt x="1502" y="4514"/>
                        </a:lnTo>
                        <a:lnTo>
                          <a:pt x="1567" y="4402"/>
                        </a:lnTo>
                        <a:lnTo>
                          <a:pt x="1609" y="4402"/>
                        </a:lnTo>
                        <a:lnTo>
                          <a:pt x="1656" y="4199"/>
                        </a:lnTo>
                        <a:lnTo>
                          <a:pt x="1436" y="4172"/>
                        </a:lnTo>
                        <a:lnTo>
                          <a:pt x="1394" y="4369"/>
                        </a:lnTo>
                        <a:lnTo>
                          <a:pt x="1436" y="4514"/>
                        </a:lnTo>
                        <a:lnTo>
                          <a:pt x="1525" y="4573"/>
                        </a:lnTo>
                        <a:lnTo>
                          <a:pt x="1502" y="4685"/>
                        </a:lnTo>
                        <a:lnTo>
                          <a:pt x="1483" y="4770"/>
                        </a:lnTo>
                        <a:lnTo>
                          <a:pt x="1459" y="4829"/>
                        </a:lnTo>
                        <a:lnTo>
                          <a:pt x="1394" y="4770"/>
                        </a:lnTo>
                        <a:lnTo>
                          <a:pt x="1351" y="5026"/>
                        </a:lnTo>
                        <a:lnTo>
                          <a:pt x="1328" y="5112"/>
                        </a:lnTo>
                        <a:lnTo>
                          <a:pt x="1304" y="5171"/>
                        </a:lnTo>
                        <a:lnTo>
                          <a:pt x="1328" y="5283"/>
                        </a:lnTo>
                        <a:lnTo>
                          <a:pt x="1394" y="5315"/>
                        </a:lnTo>
                        <a:lnTo>
                          <a:pt x="1351" y="5427"/>
                        </a:lnTo>
                        <a:lnTo>
                          <a:pt x="1262" y="5486"/>
                        </a:lnTo>
                        <a:lnTo>
                          <a:pt x="1239" y="5598"/>
                        </a:lnTo>
                        <a:lnTo>
                          <a:pt x="1286" y="5775"/>
                        </a:lnTo>
                        <a:lnTo>
                          <a:pt x="1351" y="5887"/>
                        </a:lnTo>
                        <a:lnTo>
                          <a:pt x="1436" y="5966"/>
                        </a:lnTo>
                        <a:lnTo>
                          <a:pt x="1525" y="5940"/>
                        </a:lnTo>
                        <a:lnTo>
                          <a:pt x="1788" y="6170"/>
                        </a:lnTo>
                        <a:lnTo>
                          <a:pt x="1872" y="6281"/>
                        </a:lnTo>
                        <a:lnTo>
                          <a:pt x="2352" y="6629"/>
                        </a:lnTo>
                        <a:lnTo>
                          <a:pt x="2657" y="6570"/>
                        </a:lnTo>
                        <a:lnTo>
                          <a:pt x="2897" y="6800"/>
                        </a:lnTo>
                        <a:lnTo>
                          <a:pt x="2615" y="7227"/>
                        </a:lnTo>
                        <a:lnTo>
                          <a:pt x="2394" y="7799"/>
                        </a:lnTo>
                        <a:lnTo>
                          <a:pt x="2573" y="7799"/>
                        </a:lnTo>
                        <a:lnTo>
                          <a:pt x="2704" y="7766"/>
                        </a:lnTo>
                        <a:lnTo>
                          <a:pt x="2723" y="7254"/>
                        </a:lnTo>
                        <a:lnTo>
                          <a:pt x="2723" y="7484"/>
                        </a:lnTo>
                        <a:lnTo>
                          <a:pt x="2746" y="7569"/>
                        </a:lnTo>
                        <a:lnTo>
                          <a:pt x="2770" y="7681"/>
                        </a:lnTo>
                        <a:lnTo>
                          <a:pt x="2723" y="7766"/>
                        </a:lnTo>
                        <a:lnTo>
                          <a:pt x="2746" y="7858"/>
                        </a:lnTo>
                        <a:lnTo>
                          <a:pt x="2831" y="7713"/>
                        </a:lnTo>
                        <a:lnTo>
                          <a:pt x="2939" y="7713"/>
                        </a:lnTo>
                        <a:lnTo>
                          <a:pt x="2873" y="6938"/>
                        </a:lnTo>
                        <a:lnTo>
                          <a:pt x="2939" y="6800"/>
                        </a:lnTo>
                        <a:lnTo>
                          <a:pt x="2873" y="7056"/>
                        </a:lnTo>
                        <a:lnTo>
                          <a:pt x="2939" y="7109"/>
                        </a:lnTo>
                        <a:lnTo>
                          <a:pt x="2873" y="7339"/>
                        </a:lnTo>
                        <a:lnTo>
                          <a:pt x="2920" y="7569"/>
                        </a:lnTo>
                        <a:lnTo>
                          <a:pt x="3009" y="7766"/>
                        </a:lnTo>
                        <a:lnTo>
                          <a:pt x="2812" y="7884"/>
                        </a:lnTo>
                        <a:lnTo>
                          <a:pt x="2657" y="7970"/>
                        </a:lnTo>
                        <a:lnTo>
                          <a:pt x="2854" y="8140"/>
                        </a:lnTo>
                        <a:lnTo>
                          <a:pt x="2723" y="8167"/>
                        </a:lnTo>
                        <a:lnTo>
                          <a:pt x="2615" y="8108"/>
                        </a:lnTo>
                        <a:lnTo>
                          <a:pt x="2376" y="8055"/>
                        </a:lnTo>
                        <a:lnTo>
                          <a:pt x="2352" y="8312"/>
                        </a:lnTo>
                        <a:lnTo>
                          <a:pt x="2376" y="8371"/>
                        </a:lnTo>
                        <a:lnTo>
                          <a:pt x="2268" y="8542"/>
                        </a:lnTo>
                        <a:lnTo>
                          <a:pt x="2177" y="8713"/>
                        </a:lnTo>
                        <a:lnTo>
                          <a:pt x="2177" y="8917"/>
                        </a:lnTo>
                        <a:lnTo>
                          <a:pt x="2704" y="8825"/>
                        </a:lnTo>
                        <a:lnTo>
                          <a:pt x="2681" y="8917"/>
                        </a:lnTo>
                        <a:lnTo>
                          <a:pt x="2591" y="8996"/>
                        </a:lnTo>
                        <a:lnTo>
                          <a:pt x="2135" y="9055"/>
                        </a:lnTo>
                        <a:lnTo>
                          <a:pt x="1830" y="9541"/>
                        </a:lnTo>
                        <a:lnTo>
                          <a:pt x="1567" y="9968"/>
                        </a:lnTo>
                        <a:lnTo>
                          <a:pt x="1502" y="10053"/>
                        </a:lnTo>
                        <a:lnTo>
                          <a:pt x="1502" y="10369"/>
                        </a:lnTo>
                        <a:lnTo>
                          <a:pt x="1633" y="10342"/>
                        </a:lnTo>
                        <a:lnTo>
                          <a:pt x="1788" y="10999"/>
                        </a:lnTo>
                        <a:lnTo>
                          <a:pt x="957" y="10769"/>
                        </a:lnTo>
                        <a:close/>
                      </a:path>
                    </a:pathLst>
                  </a:custGeom>
                  <a:solidFill>
                    <a:srgbClr val="a6e3a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5506920" y="1647720"/>
                    <a:ext cx="2198880" cy="1773720"/>
                  </a:xfrm>
                  <a:custGeom>
                    <a:avLst/>
                    <a:gdLst/>
                    <a:ahLst/>
                    <a:rect l="0" t="0" r="r" b="b"/>
                    <a:pathLst>
                      <a:path w="6108" h="4927">
                        <a:moveTo>
                          <a:pt x="1479" y="4560"/>
                        </a:moveTo>
                        <a:lnTo>
                          <a:pt x="1658" y="4416"/>
                        </a:lnTo>
                        <a:lnTo>
                          <a:pt x="1898" y="4076"/>
                        </a:lnTo>
                        <a:lnTo>
                          <a:pt x="2048" y="4076"/>
                        </a:lnTo>
                        <a:lnTo>
                          <a:pt x="2090" y="3932"/>
                        </a:lnTo>
                        <a:lnTo>
                          <a:pt x="1963" y="3853"/>
                        </a:lnTo>
                        <a:lnTo>
                          <a:pt x="1963" y="3649"/>
                        </a:lnTo>
                        <a:lnTo>
                          <a:pt x="1851" y="3590"/>
                        </a:lnTo>
                        <a:lnTo>
                          <a:pt x="1526" y="3190"/>
                        </a:lnTo>
                        <a:lnTo>
                          <a:pt x="1569" y="3105"/>
                        </a:lnTo>
                        <a:lnTo>
                          <a:pt x="1353" y="2824"/>
                        </a:lnTo>
                        <a:lnTo>
                          <a:pt x="1263" y="2850"/>
                        </a:lnTo>
                        <a:lnTo>
                          <a:pt x="1221" y="2994"/>
                        </a:lnTo>
                        <a:lnTo>
                          <a:pt x="1263" y="3079"/>
                        </a:lnTo>
                        <a:lnTo>
                          <a:pt x="1306" y="3105"/>
                        </a:lnTo>
                        <a:lnTo>
                          <a:pt x="1306" y="3249"/>
                        </a:lnTo>
                        <a:lnTo>
                          <a:pt x="1263" y="3223"/>
                        </a:lnTo>
                        <a:lnTo>
                          <a:pt x="1371" y="3505"/>
                        </a:lnTo>
                        <a:lnTo>
                          <a:pt x="1479" y="3649"/>
                        </a:lnTo>
                        <a:lnTo>
                          <a:pt x="1437" y="3787"/>
                        </a:lnTo>
                        <a:lnTo>
                          <a:pt x="1395" y="3590"/>
                        </a:lnTo>
                        <a:lnTo>
                          <a:pt x="1306" y="3675"/>
                        </a:lnTo>
                        <a:lnTo>
                          <a:pt x="1287" y="3538"/>
                        </a:lnTo>
                        <a:lnTo>
                          <a:pt x="1221" y="3505"/>
                        </a:lnTo>
                        <a:lnTo>
                          <a:pt x="1179" y="3590"/>
                        </a:lnTo>
                        <a:lnTo>
                          <a:pt x="1132" y="3505"/>
                        </a:lnTo>
                        <a:lnTo>
                          <a:pt x="1132" y="3420"/>
                        </a:lnTo>
                        <a:lnTo>
                          <a:pt x="958" y="3505"/>
                        </a:lnTo>
                        <a:lnTo>
                          <a:pt x="892" y="3446"/>
                        </a:lnTo>
                        <a:lnTo>
                          <a:pt x="1066" y="3361"/>
                        </a:lnTo>
                        <a:lnTo>
                          <a:pt x="1089" y="3276"/>
                        </a:lnTo>
                        <a:lnTo>
                          <a:pt x="958" y="3276"/>
                        </a:lnTo>
                        <a:lnTo>
                          <a:pt x="916" y="3393"/>
                        </a:lnTo>
                        <a:lnTo>
                          <a:pt x="765" y="3276"/>
                        </a:lnTo>
                        <a:lnTo>
                          <a:pt x="934" y="3164"/>
                        </a:lnTo>
                        <a:lnTo>
                          <a:pt x="892" y="3079"/>
                        </a:lnTo>
                        <a:lnTo>
                          <a:pt x="765" y="3131"/>
                        </a:lnTo>
                        <a:lnTo>
                          <a:pt x="700" y="3223"/>
                        </a:lnTo>
                        <a:lnTo>
                          <a:pt x="700" y="3276"/>
                        </a:lnTo>
                        <a:lnTo>
                          <a:pt x="479" y="3393"/>
                        </a:lnTo>
                        <a:lnTo>
                          <a:pt x="479" y="3249"/>
                        </a:lnTo>
                        <a:lnTo>
                          <a:pt x="305" y="3334"/>
                        </a:lnTo>
                        <a:lnTo>
                          <a:pt x="328" y="3131"/>
                        </a:lnTo>
                        <a:lnTo>
                          <a:pt x="305" y="2968"/>
                        </a:lnTo>
                        <a:lnTo>
                          <a:pt x="389" y="2994"/>
                        </a:lnTo>
                        <a:lnTo>
                          <a:pt x="413" y="3079"/>
                        </a:lnTo>
                        <a:lnTo>
                          <a:pt x="521" y="3020"/>
                        </a:lnTo>
                        <a:lnTo>
                          <a:pt x="700" y="2968"/>
                        </a:lnTo>
                        <a:lnTo>
                          <a:pt x="765" y="2994"/>
                        </a:lnTo>
                        <a:lnTo>
                          <a:pt x="784" y="2797"/>
                        </a:lnTo>
                        <a:lnTo>
                          <a:pt x="850" y="2935"/>
                        </a:lnTo>
                        <a:lnTo>
                          <a:pt x="892" y="2824"/>
                        </a:lnTo>
                        <a:lnTo>
                          <a:pt x="958" y="2738"/>
                        </a:lnTo>
                        <a:lnTo>
                          <a:pt x="1066" y="2797"/>
                        </a:lnTo>
                        <a:lnTo>
                          <a:pt x="1113" y="2679"/>
                        </a:lnTo>
                        <a:lnTo>
                          <a:pt x="1089" y="2621"/>
                        </a:lnTo>
                        <a:lnTo>
                          <a:pt x="892" y="2594"/>
                        </a:lnTo>
                        <a:lnTo>
                          <a:pt x="676" y="2535"/>
                        </a:lnTo>
                        <a:lnTo>
                          <a:pt x="850" y="2306"/>
                        </a:lnTo>
                        <a:lnTo>
                          <a:pt x="981" y="2254"/>
                        </a:lnTo>
                        <a:lnTo>
                          <a:pt x="981" y="2136"/>
                        </a:lnTo>
                        <a:lnTo>
                          <a:pt x="1000" y="2195"/>
                        </a:lnTo>
                        <a:lnTo>
                          <a:pt x="850" y="2110"/>
                        </a:lnTo>
                        <a:lnTo>
                          <a:pt x="892" y="2024"/>
                        </a:lnTo>
                        <a:lnTo>
                          <a:pt x="1066" y="1966"/>
                        </a:lnTo>
                        <a:lnTo>
                          <a:pt x="1066" y="1880"/>
                        </a:lnTo>
                        <a:lnTo>
                          <a:pt x="808" y="1880"/>
                        </a:lnTo>
                        <a:lnTo>
                          <a:pt x="521" y="1743"/>
                        </a:lnTo>
                        <a:lnTo>
                          <a:pt x="131" y="1487"/>
                        </a:lnTo>
                        <a:lnTo>
                          <a:pt x="0" y="713"/>
                        </a:lnTo>
                        <a:lnTo>
                          <a:pt x="521" y="0"/>
                        </a:lnTo>
                        <a:lnTo>
                          <a:pt x="1353" y="58"/>
                        </a:lnTo>
                        <a:lnTo>
                          <a:pt x="2724" y="687"/>
                        </a:lnTo>
                        <a:lnTo>
                          <a:pt x="2875" y="484"/>
                        </a:lnTo>
                        <a:lnTo>
                          <a:pt x="3402" y="713"/>
                        </a:lnTo>
                        <a:lnTo>
                          <a:pt x="3707" y="687"/>
                        </a:lnTo>
                        <a:lnTo>
                          <a:pt x="3684" y="458"/>
                        </a:lnTo>
                        <a:lnTo>
                          <a:pt x="3815" y="602"/>
                        </a:lnTo>
                        <a:lnTo>
                          <a:pt x="4013" y="602"/>
                        </a:lnTo>
                        <a:lnTo>
                          <a:pt x="3881" y="740"/>
                        </a:lnTo>
                        <a:lnTo>
                          <a:pt x="3923" y="825"/>
                        </a:lnTo>
                        <a:lnTo>
                          <a:pt x="3970" y="740"/>
                        </a:lnTo>
                        <a:lnTo>
                          <a:pt x="4055" y="766"/>
                        </a:lnTo>
                        <a:lnTo>
                          <a:pt x="4299" y="713"/>
                        </a:lnTo>
                        <a:lnTo>
                          <a:pt x="4407" y="884"/>
                        </a:lnTo>
                        <a:lnTo>
                          <a:pt x="4276" y="884"/>
                        </a:lnTo>
                        <a:lnTo>
                          <a:pt x="4186" y="969"/>
                        </a:lnTo>
                        <a:lnTo>
                          <a:pt x="4341" y="969"/>
                        </a:lnTo>
                        <a:lnTo>
                          <a:pt x="4450" y="969"/>
                        </a:lnTo>
                        <a:lnTo>
                          <a:pt x="4515" y="884"/>
                        </a:lnTo>
                        <a:lnTo>
                          <a:pt x="4647" y="1054"/>
                        </a:lnTo>
                        <a:lnTo>
                          <a:pt x="4713" y="1198"/>
                        </a:lnTo>
                        <a:lnTo>
                          <a:pt x="4839" y="969"/>
                        </a:lnTo>
                        <a:lnTo>
                          <a:pt x="4839" y="1113"/>
                        </a:lnTo>
                        <a:lnTo>
                          <a:pt x="5060" y="1172"/>
                        </a:lnTo>
                        <a:lnTo>
                          <a:pt x="4886" y="1343"/>
                        </a:lnTo>
                        <a:lnTo>
                          <a:pt x="4755" y="1369"/>
                        </a:lnTo>
                        <a:lnTo>
                          <a:pt x="4666" y="1514"/>
                        </a:lnTo>
                        <a:lnTo>
                          <a:pt x="4473" y="1487"/>
                        </a:lnTo>
                        <a:lnTo>
                          <a:pt x="4581" y="1258"/>
                        </a:lnTo>
                        <a:lnTo>
                          <a:pt x="4492" y="1113"/>
                        </a:lnTo>
                        <a:lnTo>
                          <a:pt x="4426" y="1224"/>
                        </a:lnTo>
                        <a:lnTo>
                          <a:pt x="4492" y="1369"/>
                        </a:lnTo>
                        <a:lnTo>
                          <a:pt x="4426" y="1487"/>
                        </a:lnTo>
                        <a:lnTo>
                          <a:pt x="4407" y="1369"/>
                        </a:lnTo>
                        <a:lnTo>
                          <a:pt x="4299" y="1284"/>
                        </a:lnTo>
                        <a:lnTo>
                          <a:pt x="4144" y="1198"/>
                        </a:lnTo>
                        <a:lnTo>
                          <a:pt x="4078" y="1258"/>
                        </a:lnTo>
                        <a:lnTo>
                          <a:pt x="4186" y="1343"/>
                        </a:lnTo>
                        <a:lnTo>
                          <a:pt x="4318" y="1428"/>
                        </a:lnTo>
                        <a:lnTo>
                          <a:pt x="4384" y="1599"/>
                        </a:lnTo>
                        <a:lnTo>
                          <a:pt x="4581" y="1651"/>
                        </a:lnTo>
                        <a:lnTo>
                          <a:pt x="4839" y="1514"/>
                        </a:lnTo>
                        <a:lnTo>
                          <a:pt x="4886" y="1651"/>
                        </a:lnTo>
                        <a:lnTo>
                          <a:pt x="5281" y="1684"/>
                        </a:lnTo>
                        <a:lnTo>
                          <a:pt x="5497" y="1795"/>
                        </a:lnTo>
                        <a:lnTo>
                          <a:pt x="5629" y="1743"/>
                        </a:lnTo>
                        <a:lnTo>
                          <a:pt x="5629" y="1880"/>
                        </a:lnTo>
                        <a:lnTo>
                          <a:pt x="5497" y="1854"/>
                        </a:lnTo>
                        <a:lnTo>
                          <a:pt x="5474" y="2024"/>
                        </a:lnTo>
                        <a:lnTo>
                          <a:pt x="5300" y="1998"/>
                        </a:lnTo>
                        <a:lnTo>
                          <a:pt x="5234" y="1880"/>
                        </a:lnTo>
                        <a:lnTo>
                          <a:pt x="5215" y="1966"/>
                        </a:lnTo>
                        <a:lnTo>
                          <a:pt x="4929" y="1939"/>
                        </a:lnTo>
                        <a:lnTo>
                          <a:pt x="4778" y="1854"/>
                        </a:lnTo>
                        <a:lnTo>
                          <a:pt x="4731" y="2024"/>
                        </a:lnTo>
                        <a:lnTo>
                          <a:pt x="4821" y="1998"/>
                        </a:lnTo>
                        <a:lnTo>
                          <a:pt x="4863" y="2051"/>
                        </a:lnTo>
                        <a:lnTo>
                          <a:pt x="4839" y="2169"/>
                        </a:lnTo>
                        <a:lnTo>
                          <a:pt x="5126" y="2195"/>
                        </a:lnTo>
                        <a:lnTo>
                          <a:pt x="5281" y="2228"/>
                        </a:lnTo>
                        <a:lnTo>
                          <a:pt x="5234" y="2365"/>
                        </a:lnTo>
                        <a:lnTo>
                          <a:pt x="5323" y="2306"/>
                        </a:lnTo>
                        <a:lnTo>
                          <a:pt x="5389" y="2391"/>
                        </a:lnTo>
                        <a:lnTo>
                          <a:pt x="5558" y="2254"/>
                        </a:lnTo>
                        <a:lnTo>
                          <a:pt x="5605" y="2391"/>
                        </a:lnTo>
                        <a:lnTo>
                          <a:pt x="5779" y="2339"/>
                        </a:lnTo>
                        <a:lnTo>
                          <a:pt x="5868" y="2424"/>
                        </a:lnTo>
                        <a:lnTo>
                          <a:pt x="5911" y="2483"/>
                        </a:lnTo>
                        <a:lnTo>
                          <a:pt x="6019" y="2483"/>
                        </a:lnTo>
                        <a:lnTo>
                          <a:pt x="6066" y="2621"/>
                        </a:lnTo>
                        <a:lnTo>
                          <a:pt x="5934" y="2679"/>
                        </a:lnTo>
                        <a:lnTo>
                          <a:pt x="5756" y="2653"/>
                        </a:lnTo>
                        <a:lnTo>
                          <a:pt x="5671" y="2765"/>
                        </a:lnTo>
                        <a:lnTo>
                          <a:pt x="5540" y="2738"/>
                        </a:lnTo>
                        <a:lnTo>
                          <a:pt x="5366" y="2679"/>
                        </a:lnTo>
                        <a:lnTo>
                          <a:pt x="5215" y="2738"/>
                        </a:lnTo>
                        <a:lnTo>
                          <a:pt x="5150" y="2653"/>
                        </a:lnTo>
                        <a:lnTo>
                          <a:pt x="5126" y="2706"/>
                        </a:lnTo>
                        <a:lnTo>
                          <a:pt x="5234" y="2797"/>
                        </a:lnTo>
                        <a:lnTo>
                          <a:pt x="5455" y="2824"/>
                        </a:lnTo>
                        <a:lnTo>
                          <a:pt x="5347" y="2935"/>
                        </a:lnTo>
                        <a:lnTo>
                          <a:pt x="5671" y="2968"/>
                        </a:lnTo>
                        <a:lnTo>
                          <a:pt x="5671" y="3079"/>
                        </a:lnTo>
                        <a:lnTo>
                          <a:pt x="5821" y="3105"/>
                        </a:lnTo>
                        <a:lnTo>
                          <a:pt x="5911" y="3105"/>
                        </a:lnTo>
                        <a:lnTo>
                          <a:pt x="5934" y="3131"/>
                        </a:lnTo>
                        <a:lnTo>
                          <a:pt x="6084" y="3079"/>
                        </a:lnTo>
                        <a:lnTo>
                          <a:pt x="6066" y="3131"/>
                        </a:lnTo>
                        <a:lnTo>
                          <a:pt x="6108" y="3276"/>
                        </a:lnTo>
                        <a:lnTo>
                          <a:pt x="5953" y="3276"/>
                        </a:lnTo>
                        <a:lnTo>
                          <a:pt x="5934" y="3361"/>
                        </a:lnTo>
                        <a:lnTo>
                          <a:pt x="5803" y="3302"/>
                        </a:lnTo>
                        <a:lnTo>
                          <a:pt x="5713" y="3302"/>
                        </a:lnTo>
                        <a:lnTo>
                          <a:pt x="5695" y="3393"/>
                        </a:lnTo>
                        <a:lnTo>
                          <a:pt x="5586" y="3361"/>
                        </a:lnTo>
                        <a:lnTo>
                          <a:pt x="5629" y="3190"/>
                        </a:lnTo>
                        <a:lnTo>
                          <a:pt x="5408" y="3190"/>
                        </a:lnTo>
                        <a:lnTo>
                          <a:pt x="5389" y="3276"/>
                        </a:lnTo>
                        <a:lnTo>
                          <a:pt x="5234" y="3249"/>
                        </a:lnTo>
                        <a:lnTo>
                          <a:pt x="5084" y="3276"/>
                        </a:lnTo>
                        <a:lnTo>
                          <a:pt x="5037" y="3105"/>
                        </a:lnTo>
                        <a:lnTo>
                          <a:pt x="4995" y="3190"/>
                        </a:lnTo>
                        <a:lnTo>
                          <a:pt x="5084" y="3302"/>
                        </a:lnTo>
                        <a:lnTo>
                          <a:pt x="5258" y="3420"/>
                        </a:lnTo>
                        <a:lnTo>
                          <a:pt x="5366" y="3505"/>
                        </a:lnTo>
                        <a:lnTo>
                          <a:pt x="5192" y="3479"/>
                        </a:lnTo>
                        <a:lnTo>
                          <a:pt x="5168" y="3590"/>
                        </a:lnTo>
                        <a:lnTo>
                          <a:pt x="5150" y="3649"/>
                        </a:lnTo>
                        <a:lnTo>
                          <a:pt x="4886" y="3505"/>
                        </a:lnTo>
                        <a:lnTo>
                          <a:pt x="4647" y="3249"/>
                        </a:lnTo>
                        <a:lnTo>
                          <a:pt x="4863" y="3361"/>
                        </a:lnTo>
                        <a:lnTo>
                          <a:pt x="4971" y="3190"/>
                        </a:lnTo>
                        <a:lnTo>
                          <a:pt x="4713" y="3131"/>
                        </a:lnTo>
                        <a:lnTo>
                          <a:pt x="4886" y="3079"/>
                        </a:lnTo>
                        <a:lnTo>
                          <a:pt x="4731" y="2935"/>
                        </a:lnTo>
                        <a:lnTo>
                          <a:pt x="4558" y="3249"/>
                        </a:lnTo>
                        <a:lnTo>
                          <a:pt x="4515" y="3079"/>
                        </a:lnTo>
                        <a:lnTo>
                          <a:pt x="4426" y="3223"/>
                        </a:lnTo>
                        <a:lnTo>
                          <a:pt x="4252" y="3046"/>
                        </a:lnTo>
                        <a:lnTo>
                          <a:pt x="4341" y="3361"/>
                        </a:lnTo>
                        <a:lnTo>
                          <a:pt x="4318" y="3505"/>
                        </a:lnTo>
                        <a:lnTo>
                          <a:pt x="4623" y="3564"/>
                        </a:lnTo>
                        <a:lnTo>
                          <a:pt x="4102" y="3590"/>
                        </a:lnTo>
                        <a:lnTo>
                          <a:pt x="4341" y="3564"/>
                        </a:lnTo>
                        <a:lnTo>
                          <a:pt x="4233" y="3276"/>
                        </a:lnTo>
                        <a:lnTo>
                          <a:pt x="3970" y="3223"/>
                        </a:lnTo>
                        <a:lnTo>
                          <a:pt x="3881" y="3105"/>
                        </a:lnTo>
                        <a:lnTo>
                          <a:pt x="3815" y="3361"/>
                        </a:lnTo>
                        <a:lnTo>
                          <a:pt x="4055" y="3420"/>
                        </a:lnTo>
                        <a:lnTo>
                          <a:pt x="3858" y="3446"/>
                        </a:lnTo>
                        <a:lnTo>
                          <a:pt x="3665" y="3479"/>
                        </a:lnTo>
                        <a:lnTo>
                          <a:pt x="3773" y="3334"/>
                        </a:lnTo>
                        <a:lnTo>
                          <a:pt x="3707" y="3105"/>
                        </a:lnTo>
                        <a:lnTo>
                          <a:pt x="3580" y="3223"/>
                        </a:lnTo>
                        <a:lnTo>
                          <a:pt x="3623" y="3446"/>
                        </a:lnTo>
                        <a:lnTo>
                          <a:pt x="3425" y="3538"/>
                        </a:lnTo>
                        <a:lnTo>
                          <a:pt x="3923" y="3675"/>
                        </a:lnTo>
                        <a:lnTo>
                          <a:pt x="3444" y="3649"/>
                        </a:lnTo>
                        <a:lnTo>
                          <a:pt x="3383" y="3735"/>
                        </a:lnTo>
                        <a:lnTo>
                          <a:pt x="3252" y="3616"/>
                        </a:lnTo>
                        <a:lnTo>
                          <a:pt x="3162" y="3735"/>
                        </a:lnTo>
                        <a:lnTo>
                          <a:pt x="2922" y="3334"/>
                        </a:lnTo>
                        <a:lnTo>
                          <a:pt x="2790" y="3393"/>
                        </a:lnTo>
                        <a:lnTo>
                          <a:pt x="2706" y="3787"/>
                        </a:lnTo>
                        <a:lnTo>
                          <a:pt x="3073" y="3538"/>
                        </a:lnTo>
                        <a:lnTo>
                          <a:pt x="2964" y="3675"/>
                        </a:lnTo>
                        <a:lnTo>
                          <a:pt x="2748" y="3616"/>
                        </a:lnTo>
                        <a:lnTo>
                          <a:pt x="2724" y="3787"/>
                        </a:lnTo>
                        <a:lnTo>
                          <a:pt x="2748" y="3932"/>
                        </a:lnTo>
                        <a:lnTo>
                          <a:pt x="2922" y="3616"/>
                        </a:lnTo>
                        <a:lnTo>
                          <a:pt x="3205" y="3932"/>
                        </a:lnTo>
                        <a:lnTo>
                          <a:pt x="3491" y="3761"/>
                        </a:lnTo>
                        <a:lnTo>
                          <a:pt x="3336" y="3964"/>
                        </a:lnTo>
                        <a:lnTo>
                          <a:pt x="3073" y="4017"/>
                        </a:lnTo>
                        <a:lnTo>
                          <a:pt x="2856" y="4043"/>
                        </a:lnTo>
                        <a:lnTo>
                          <a:pt x="2659" y="4416"/>
                        </a:lnTo>
                        <a:lnTo>
                          <a:pt x="3294" y="4043"/>
                        </a:lnTo>
                        <a:lnTo>
                          <a:pt x="3294" y="4187"/>
                        </a:lnTo>
                        <a:lnTo>
                          <a:pt x="3815" y="4220"/>
                        </a:lnTo>
                        <a:lnTo>
                          <a:pt x="3970" y="4102"/>
                        </a:lnTo>
                        <a:lnTo>
                          <a:pt x="4121" y="4220"/>
                        </a:lnTo>
                        <a:lnTo>
                          <a:pt x="3839" y="4220"/>
                        </a:lnTo>
                        <a:lnTo>
                          <a:pt x="3228" y="4220"/>
                        </a:lnTo>
                        <a:lnTo>
                          <a:pt x="2964" y="4161"/>
                        </a:lnTo>
                        <a:lnTo>
                          <a:pt x="2724" y="4220"/>
                        </a:lnTo>
                        <a:lnTo>
                          <a:pt x="2706" y="4390"/>
                        </a:lnTo>
                        <a:lnTo>
                          <a:pt x="3228" y="4390"/>
                        </a:lnTo>
                        <a:lnTo>
                          <a:pt x="3252" y="4442"/>
                        </a:lnTo>
                        <a:lnTo>
                          <a:pt x="3336" y="4357"/>
                        </a:lnTo>
                        <a:lnTo>
                          <a:pt x="3552" y="4390"/>
                        </a:lnTo>
                        <a:lnTo>
                          <a:pt x="3444" y="4416"/>
                        </a:lnTo>
                        <a:lnTo>
                          <a:pt x="3665" y="4587"/>
                        </a:lnTo>
                        <a:lnTo>
                          <a:pt x="3383" y="4416"/>
                        </a:lnTo>
                        <a:lnTo>
                          <a:pt x="3252" y="4442"/>
                        </a:lnTo>
                        <a:lnTo>
                          <a:pt x="2940" y="4416"/>
                        </a:lnTo>
                        <a:lnTo>
                          <a:pt x="2659" y="4442"/>
                        </a:lnTo>
                        <a:lnTo>
                          <a:pt x="2856" y="4501"/>
                        </a:lnTo>
                        <a:lnTo>
                          <a:pt x="2832" y="4646"/>
                        </a:lnTo>
                        <a:lnTo>
                          <a:pt x="2748" y="4646"/>
                        </a:lnTo>
                        <a:lnTo>
                          <a:pt x="2771" y="4560"/>
                        </a:lnTo>
                        <a:lnTo>
                          <a:pt x="2551" y="4534"/>
                        </a:lnTo>
                        <a:lnTo>
                          <a:pt x="2114" y="4416"/>
                        </a:lnTo>
                        <a:lnTo>
                          <a:pt x="1808" y="4619"/>
                        </a:lnTo>
                        <a:lnTo>
                          <a:pt x="1808" y="4704"/>
                        </a:lnTo>
                        <a:lnTo>
                          <a:pt x="2377" y="4731"/>
                        </a:lnTo>
                        <a:lnTo>
                          <a:pt x="2574" y="4672"/>
                        </a:lnTo>
                        <a:lnTo>
                          <a:pt x="2706" y="4731"/>
                        </a:lnTo>
                        <a:lnTo>
                          <a:pt x="2593" y="4757"/>
                        </a:lnTo>
                        <a:lnTo>
                          <a:pt x="2353" y="4816"/>
                        </a:lnTo>
                        <a:lnTo>
                          <a:pt x="2090" y="4757"/>
                        </a:lnTo>
                        <a:lnTo>
                          <a:pt x="1658" y="4816"/>
                        </a:lnTo>
                        <a:lnTo>
                          <a:pt x="1658" y="4927"/>
                        </a:lnTo>
                        <a:lnTo>
                          <a:pt x="1479" y="4560"/>
                        </a:lnTo>
                        <a:close/>
                      </a:path>
                    </a:pathLst>
                  </a:custGeom>
                  <a:solidFill>
                    <a:srgbClr val="a6e3a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5800680" y="2919240"/>
                    <a:ext cx="563760" cy="1256040"/>
                  </a:xfrm>
                  <a:custGeom>
                    <a:avLst/>
                    <a:gdLst/>
                    <a:ahLst/>
                    <a:rect l="0" t="0" r="r" b="b"/>
                    <a:pathLst>
                      <a:path w="1566" h="3489">
                        <a:moveTo>
                          <a:pt x="535" y="3489"/>
                        </a:moveTo>
                        <a:lnTo>
                          <a:pt x="706" y="3463"/>
                        </a:lnTo>
                        <a:lnTo>
                          <a:pt x="1026" y="3202"/>
                        </a:lnTo>
                        <a:lnTo>
                          <a:pt x="1155" y="3202"/>
                        </a:lnTo>
                        <a:lnTo>
                          <a:pt x="919" y="3117"/>
                        </a:lnTo>
                        <a:lnTo>
                          <a:pt x="706" y="3463"/>
                        </a:lnTo>
                        <a:lnTo>
                          <a:pt x="725" y="3032"/>
                        </a:lnTo>
                        <a:lnTo>
                          <a:pt x="706" y="2804"/>
                        </a:lnTo>
                        <a:lnTo>
                          <a:pt x="1566" y="2661"/>
                        </a:lnTo>
                        <a:lnTo>
                          <a:pt x="1543" y="2550"/>
                        </a:lnTo>
                        <a:lnTo>
                          <a:pt x="1520" y="2608"/>
                        </a:lnTo>
                        <a:lnTo>
                          <a:pt x="1501" y="2661"/>
                        </a:lnTo>
                        <a:lnTo>
                          <a:pt x="1437" y="2634"/>
                        </a:lnTo>
                        <a:lnTo>
                          <a:pt x="1326" y="2693"/>
                        </a:lnTo>
                        <a:lnTo>
                          <a:pt x="1284" y="2661"/>
                        </a:lnTo>
                        <a:lnTo>
                          <a:pt x="1349" y="2550"/>
                        </a:lnTo>
                        <a:lnTo>
                          <a:pt x="1307" y="2439"/>
                        </a:lnTo>
                        <a:lnTo>
                          <a:pt x="1372" y="2322"/>
                        </a:lnTo>
                        <a:lnTo>
                          <a:pt x="1326" y="2295"/>
                        </a:lnTo>
                        <a:lnTo>
                          <a:pt x="1284" y="2380"/>
                        </a:lnTo>
                        <a:lnTo>
                          <a:pt x="1220" y="2380"/>
                        </a:lnTo>
                        <a:lnTo>
                          <a:pt x="1261" y="2524"/>
                        </a:lnTo>
                        <a:lnTo>
                          <a:pt x="1220" y="2634"/>
                        </a:lnTo>
                        <a:lnTo>
                          <a:pt x="961" y="2745"/>
                        </a:lnTo>
                        <a:lnTo>
                          <a:pt x="878" y="2661"/>
                        </a:lnTo>
                        <a:lnTo>
                          <a:pt x="725" y="2745"/>
                        </a:lnTo>
                        <a:lnTo>
                          <a:pt x="943" y="1701"/>
                        </a:lnTo>
                        <a:lnTo>
                          <a:pt x="984" y="1532"/>
                        </a:lnTo>
                        <a:lnTo>
                          <a:pt x="1026" y="1303"/>
                        </a:lnTo>
                        <a:lnTo>
                          <a:pt x="1049" y="1271"/>
                        </a:lnTo>
                        <a:lnTo>
                          <a:pt x="1520" y="1108"/>
                        </a:lnTo>
                        <a:lnTo>
                          <a:pt x="1326" y="1049"/>
                        </a:lnTo>
                        <a:lnTo>
                          <a:pt x="1307" y="932"/>
                        </a:lnTo>
                        <a:lnTo>
                          <a:pt x="1197" y="932"/>
                        </a:lnTo>
                        <a:lnTo>
                          <a:pt x="1220" y="1049"/>
                        </a:lnTo>
                        <a:lnTo>
                          <a:pt x="1113" y="1108"/>
                        </a:lnTo>
                        <a:lnTo>
                          <a:pt x="1090" y="991"/>
                        </a:lnTo>
                        <a:lnTo>
                          <a:pt x="1155" y="964"/>
                        </a:lnTo>
                        <a:lnTo>
                          <a:pt x="1220" y="880"/>
                        </a:lnTo>
                        <a:lnTo>
                          <a:pt x="1155" y="880"/>
                        </a:lnTo>
                        <a:lnTo>
                          <a:pt x="1090" y="880"/>
                        </a:lnTo>
                        <a:lnTo>
                          <a:pt x="1072" y="736"/>
                        </a:lnTo>
                        <a:lnTo>
                          <a:pt x="1113" y="710"/>
                        </a:lnTo>
                        <a:lnTo>
                          <a:pt x="1155" y="651"/>
                        </a:lnTo>
                        <a:lnTo>
                          <a:pt x="1136" y="593"/>
                        </a:lnTo>
                        <a:lnTo>
                          <a:pt x="1113" y="625"/>
                        </a:lnTo>
                        <a:lnTo>
                          <a:pt x="1049" y="567"/>
                        </a:lnTo>
                        <a:lnTo>
                          <a:pt x="1072" y="482"/>
                        </a:lnTo>
                        <a:lnTo>
                          <a:pt x="1113" y="397"/>
                        </a:lnTo>
                        <a:lnTo>
                          <a:pt x="1072" y="280"/>
                        </a:lnTo>
                        <a:lnTo>
                          <a:pt x="961" y="345"/>
                        </a:lnTo>
                        <a:lnTo>
                          <a:pt x="855" y="143"/>
                        </a:lnTo>
                        <a:lnTo>
                          <a:pt x="447" y="58"/>
                        </a:lnTo>
                        <a:lnTo>
                          <a:pt x="341" y="0"/>
                        </a:lnTo>
                        <a:lnTo>
                          <a:pt x="641" y="254"/>
                        </a:lnTo>
                        <a:lnTo>
                          <a:pt x="748" y="254"/>
                        </a:lnTo>
                        <a:lnTo>
                          <a:pt x="836" y="345"/>
                        </a:lnTo>
                        <a:lnTo>
                          <a:pt x="896" y="397"/>
                        </a:lnTo>
                        <a:lnTo>
                          <a:pt x="896" y="508"/>
                        </a:lnTo>
                        <a:lnTo>
                          <a:pt x="878" y="508"/>
                        </a:lnTo>
                        <a:lnTo>
                          <a:pt x="855" y="423"/>
                        </a:lnTo>
                        <a:lnTo>
                          <a:pt x="748" y="397"/>
                        </a:lnTo>
                        <a:lnTo>
                          <a:pt x="706" y="312"/>
                        </a:lnTo>
                        <a:lnTo>
                          <a:pt x="641" y="345"/>
                        </a:lnTo>
                        <a:lnTo>
                          <a:pt x="600" y="423"/>
                        </a:lnTo>
                        <a:lnTo>
                          <a:pt x="535" y="397"/>
                        </a:lnTo>
                        <a:lnTo>
                          <a:pt x="554" y="508"/>
                        </a:lnTo>
                        <a:lnTo>
                          <a:pt x="600" y="508"/>
                        </a:lnTo>
                        <a:lnTo>
                          <a:pt x="618" y="456"/>
                        </a:lnTo>
                        <a:lnTo>
                          <a:pt x="683" y="508"/>
                        </a:lnTo>
                        <a:lnTo>
                          <a:pt x="725" y="593"/>
                        </a:lnTo>
                        <a:lnTo>
                          <a:pt x="855" y="567"/>
                        </a:lnTo>
                        <a:lnTo>
                          <a:pt x="943" y="593"/>
                        </a:lnTo>
                        <a:lnTo>
                          <a:pt x="961" y="736"/>
                        </a:lnTo>
                        <a:lnTo>
                          <a:pt x="855" y="710"/>
                        </a:lnTo>
                        <a:lnTo>
                          <a:pt x="855" y="625"/>
                        </a:lnTo>
                        <a:lnTo>
                          <a:pt x="795" y="651"/>
                        </a:lnTo>
                        <a:lnTo>
                          <a:pt x="706" y="651"/>
                        </a:lnTo>
                        <a:lnTo>
                          <a:pt x="600" y="678"/>
                        </a:lnTo>
                        <a:lnTo>
                          <a:pt x="489" y="625"/>
                        </a:lnTo>
                        <a:lnTo>
                          <a:pt x="471" y="795"/>
                        </a:lnTo>
                        <a:lnTo>
                          <a:pt x="554" y="762"/>
                        </a:lnTo>
                        <a:lnTo>
                          <a:pt x="618" y="710"/>
                        </a:lnTo>
                        <a:lnTo>
                          <a:pt x="683" y="736"/>
                        </a:lnTo>
                        <a:lnTo>
                          <a:pt x="748" y="795"/>
                        </a:lnTo>
                        <a:lnTo>
                          <a:pt x="813" y="821"/>
                        </a:lnTo>
                        <a:lnTo>
                          <a:pt x="878" y="847"/>
                        </a:lnTo>
                        <a:lnTo>
                          <a:pt x="943" y="795"/>
                        </a:lnTo>
                        <a:lnTo>
                          <a:pt x="919" y="1023"/>
                        </a:lnTo>
                        <a:lnTo>
                          <a:pt x="813" y="847"/>
                        </a:lnTo>
                        <a:lnTo>
                          <a:pt x="641" y="762"/>
                        </a:lnTo>
                        <a:lnTo>
                          <a:pt x="641" y="880"/>
                        </a:lnTo>
                        <a:lnTo>
                          <a:pt x="660" y="847"/>
                        </a:lnTo>
                        <a:lnTo>
                          <a:pt x="706" y="991"/>
                        </a:lnTo>
                        <a:lnTo>
                          <a:pt x="748" y="1075"/>
                        </a:lnTo>
                        <a:lnTo>
                          <a:pt x="660" y="1108"/>
                        </a:lnTo>
                        <a:lnTo>
                          <a:pt x="618" y="1108"/>
                        </a:lnTo>
                        <a:lnTo>
                          <a:pt x="535" y="1049"/>
                        </a:lnTo>
                        <a:lnTo>
                          <a:pt x="489" y="964"/>
                        </a:lnTo>
                        <a:lnTo>
                          <a:pt x="489" y="795"/>
                        </a:lnTo>
                        <a:lnTo>
                          <a:pt x="406" y="710"/>
                        </a:lnTo>
                        <a:lnTo>
                          <a:pt x="424" y="625"/>
                        </a:lnTo>
                        <a:lnTo>
                          <a:pt x="489" y="534"/>
                        </a:lnTo>
                        <a:lnTo>
                          <a:pt x="535" y="482"/>
                        </a:lnTo>
                        <a:lnTo>
                          <a:pt x="471" y="456"/>
                        </a:lnTo>
                        <a:lnTo>
                          <a:pt x="383" y="456"/>
                        </a:lnTo>
                        <a:lnTo>
                          <a:pt x="253" y="254"/>
                        </a:lnTo>
                        <a:lnTo>
                          <a:pt x="341" y="482"/>
                        </a:lnTo>
                        <a:lnTo>
                          <a:pt x="318" y="625"/>
                        </a:lnTo>
                        <a:lnTo>
                          <a:pt x="235" y="567"/>
                        </a:lnTo>
                        <a:lnTo>
                          <a:pt x="341" y="710"/>
                        </a:lnTo>
                        <a:lnTo>
                          <a:pt x="341" y="821"/>
                        </a:lnTo>
                        <a:lnTo>
                          <a:pt x="235" y="762"/>
                        </a:lnTo>
                        <a:lnTo>
                          <a:pt x="147" y="678"/>
                        </a:lnTo>
                        <a:lnTo>
                          <a:pt x="0" y="736"/>
                        </a:lnTo>
                        <a:lnTo>
                          <a:pt x="318" y="880"/>
                        </a:lnTo>
                        <a:lnTo>
                          <a:pt x="341" y="964"/>
                        </a:lnTo>
                        <a:lnTo>
                          <a:pt x="235" y="1049"/>
                        </a:lnTo>
                        <a:lnTo>
                          <a:pt x="60" y="991"/>
                        </a:lnTo>
                        <a:lnTo>
                          <a:pt x="235" y="1134"/>
                        </a:lnTo>
                        <a:lnTo>
                          <a:pt x="341" y="1134"/>
                        </a:lnTo>
                        <a:lnTo>
                          <a:pt x="406" y="1075"/>
                        </a:lnTo>
                        <a:lnTo>
                          <a:pt x="512" y="1134"/>
                        </a:lnTo>
                        <a:lnTo>
                          <a:pt x="424" y="1219"/>
                        </a:lnTo>
                        <a:lnTo>
                          <a:pt x="300" y="1193"/>
                        </a:lnTo>
                        <a:lnTo>
                          <a:pt x="277" y="1245"/>
                        </a:lnTo>
                        <a:lnTo>
                          <a:pt x="383" y="1245"/>
                        </a:lnTo>
                        <a:lnTo>
                          <a:pt x="447" y="1330"/>
                        </a:lnTo>
                        <a:lnTo>
                          <a:pt x="512" y="1245"/>
                        </a:lnTo>
                        <a:lnTo>
                          <a:pt x="577" y="1245"/>
                        </a:lnTo>
                        <a:lnTo>
                          <a:pt x="600" y="1330"/>
                        </a:lnTo>
                        <a:lnTo>
                          <a:pt x="706" y="1362"/>
                        </a:lnTo>
                        <a:lnTo>
                          <a:pt x="706" y="1193"/>
                        </a:lnTo>
                        <a:lnTo>
                          <a:pt x="795" y="1160"/>
                        </a:lnTo>
                        <a:lnTo>
                          <a:pt x="878" y="1193"/>
                        </a:lnTo>
                        <a:lnTo>
                          <a:pt x="878" y="1245"/>
                        </a:lnTo>
                        <a:lnTo>
                          <a:pt x="813" y="1330"/>
                        </a:lnTo>
                        <a:lnTo>
                          <a:pt x="813" y="1388"/>
                        </a:lnTo>
                        <a:lnTo>
                          <a:pt x="683" y="1219"/>
                        </a:lnTo>
                        <a:lnTo>
                          <a:pt x="577" y="1245"/>
                        </a:lnTo>
                        <a:lnTo>
                          <a:pt x="600" y="1303"/>
                        </a:lnTo>
                        <a:lnTo>
                          <a:pt x="683" y="1303"/>
                        </a:lnTo>
                        <a:lnTo>
                          <a:pt x="795" y="1440"/>
                        </a:lnTo>
                        <a:lnTo>
                          <a:pt x="795" y="1787"/>
                        </a:lnTo>
                        <a:lnTo>
                          <a:pt x="748" y="1813"/>
                        </a:lnTo>
                        <a:lnTo>
                          <a:pt x="725" y="1872"/>
                        </a:lnTo>
                        <a:lnTo>
                          <a:pt x="748" y="1956"/>
                        </a:lnTo>
                        <a:lnTo>
                          <a:pt x="725" y="2354"/>
                        </a:lnTo>
                        <a:lnTo>
                          <a:pt x="683" y="2380"/>
                        </a:lnTo>
                        <a:lnTo>
                          <a:pt x="521" y="3045"/>
                        </a:lnTo>
                        <a:lnTo>
                          <a:pt x="424" y="2947"/>
                        </a:lnTo>
                        <a:lnTo>
                          <a:pt x="535" y="3489"/>
                        </a:lnTo>
                        <a:close/>
                      </a:path>
                    </a:pathLst>
                  </a:custGeom>
                  <a:solidFill>
                    <a:srgbClr val="a6e3a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5662440" y="3240000"/>
                    <a:ext cx="1713240" cy="1663920"/>
                  </a:xfrm>
                  <a:custGeom>
                    <a:avLst/>
                    <a:gdLst/>
                    <a:ahLst/>
                    <a:rect l="0" t="0" r="r" b="b"/>
                    <a:pathLst>
                      <a:path w="4759" h="4622">
                        <a:moveTo>
                          <a:pt x="0" y="4087"/>
                        </a:moveTo>
                        <a:lnTo>
                          <a:pt x="329" y="3969"/>
                        </a:lnTo>
                        <a:lnTo>
                          <a:pt x="390" y="3799"/>
                        </a:lnTo>
                        <a:lnTo>
                          <a:pt x="653" y="3630"/>
                        </a:lnTo>
                        <a:lnTo>
                          <a:pt x="84" y="3486"/>
                        </a:lnTo>
                        <a:lnTo>
                          <a:pt x="150" y="3323"/>
                        </a:lnTo>
                        <a:lnTo>
                          <a:pt x="305" y="3460"/>
                        </a:lnTo>
                        <a:lnTo>
                          <a:pt x="564" y="3264"/>
                        </a:lnTo>
                        <a:lnTo>
                          <a:pt x="390" y="3401"/>
                        </a:lnTo>
                        <a:lnTo>
                          <a:pt x="456" y="3486"/>
                        </a:lnTo>
                        <a:lnTo>
                          <a:pt x="630" y="3512"/>
                        </a:lnTo>
                        <a:lnTo>
                          <a:pt x="1109" y="3036"/>
                        </a:lnTo>
                        <a:lnTo>
                          <a:pt x="1001" y="2918"/>
                        </a:lnTo>
                        <a:lnTo>
                          <a:pt x="916" y="2611"/>
                        </a:lnTo>
                        <a:lnTo>
                          <a:pt x="1067" y="2494"/>
                        </a:lnTo>
                        <a:lnTo>
                          <a:pt x="1180" y="2775"/>
                        </a:lnTo>
                        <a:lnTo>
                          <a:pt x="1241" y="2722"/>
                        </a:lnTo>
                        <a:lnTo>
                          <a:pt x="1415" y="2271"/>
                        </a:lnTo>
                        <a:lnTo>
                          <a:pt x="1941" y="1755"/>
                        </a:lnTo>
                        <a:lnTo>
                          <a:pt x="1918" y="1416"/>
                        </a:lnTo>
                        <a:lnTo>
                          <a:pt x="2049" y="1077"/>
                        </a:lnTo>
                        <a:lnTo>
                          <a:pt x="2031" y="933"/>
                        </a:lnTo>
                        <a:lnTo>
                          <a:pt x="2139" y="992"/>
                        </a:lnTo>
                        <a:lnTo>
                          <a:pt x="2247" y="966"/>
                        </a:lnTo>
                        <a:lnTo>
                          <a:pt x="2685" y="822"/>
                        </a:lnTo>
                        <a:lnTo>
                          <a:pt x="2836" y="789"/>
                        </a:lnTo>
                        <a:lnTo>
                          <a:pt x="2793" y="704"/>
                        </a:lnTo>
                        <a:lnTo>
                          <a:pt x="2704" y="620"/>
                        </a:lnTo>
                        <a:lnTo>
                          <a:pt x="2751" y="450"/>
                        </a:lnTo>
                        <a:lnTo>
                          <a:pt x="2836" y="365"/>
                        </a:lnTo>
                        <a:lnTo>
                          <a:pt x="2770" y="228"/>
                        </a:lnTo>
                        <a:lnTo>
                          <a:pt x="2859" y="0"/>
                        </a:lnTo>
                        <a:lnTo>
                          <a:pt x="2817" y="195"/>
                        </a:lnTo>
                        <a:lnTo>
                          <a:pt x="2901" y="313"/>
                        </a:lnTo>
                        <a:lnTo>
                          <a:pt x="2859" y="450"/>
                        </a:lnTo>
                        <a:lnTo>
                          <a:pt x="2770" y="483"/>
                        </a:lnTo>
                        <a:lnTo>
                          <a:pt x="2770" y="593"/>
                        </a:lnTo>
                        <a:lnTo>
                          <a:pt x="2817" y="652"/>
                        </a:lnTo>
                        <a:lnTo>
                          <a:pt x="2859" y="620"/>
                        </a:lnTo>
                        <a:lnTo>
                          <a:pt x="2859" y="678"/>
                        </a:lnTo>
                        <a:lnTo>
                          <a:pt x="2859" y="822"/>
                        </a:lnTo>
                        <a:lnTo>
                          <a:pt x="2925" y="874"/>
                        </a:lnTo>
                        <a:lnTo>
                          <a:pt x="3033" y="822"/>
                        </a:lnTo>
                        <a:lnTo>
                          <a:pt x="3207" y="593"/>
                        </a:lnTo>
                        <a:lnTo>
                          <a:pt x="3075" y="848"/>
                        </a:lnTo>
                        <a:lnTo>
                          <a:pt x="3010" y="933"/>
                        </a:lnTo>
                        <a:lnTo>
                          <a:pt x="2751" y="933"/>
                        </a:lnTo>
                        <a:lnTo>
                          <a:pt x="2270" y="1050"/>
                        </a:lnTo>
                        <a:lnTo>
                          <a:pt x="2223" y="1187"/>
                        </a:lnTo>
                        <a:lnTo>
                          <a:pt x="2422" y="1187"/>
                        </a:lnTo>
                        <a:lnTo>
                          <a:pt x="2398" y="1050"/>
                        </a:lnTo>
                        <a:lnTo>
                          <a:pt x="2464" y="1050"/>
                        </a:lnTo>
                        <a:lnTo>
                          <a:pt x="2506" y="1135"/>
                        </a:lnTo>
                        <a:lnTo>
                          <a:pt x="2727" y="1103"/>
                        </a:lnTo>
                        <a:lnTo>
                          <a:pt x="2685" y="966"/>
                        </a:lnTo>
                        <a:lnTo>
                          <a:pt x="2770" y="992"/>
                        </a:lnTo>
                        <a:lnTo>
                          <a:pt x="2817" y="1077"/>
                        </a:lnTo>
                        <a:lnTo>
                          <a:pt x="3118" y="992"/>
                        </a:lnTo>
                        <a:lnTo>
                          <a:pt x="3146" y="874"/>
                        </a:lnTo>
                        <a:lnTo>
                          <a:pt x="3296" y="848"/>
                        </a:lnTo>
                        <a:lnTo>
                          <a:pt x="3296" y="966"/>
                        </a:lnTo>
                        <a:lnTo>
                          <a:pt x="3405" y="933"/>
                        </a:lnTo>
                        <a:lnTo>
                          <a:pt x="3489" y="763"/>
                        </a:lnTo>
                        <a:lnTo>
                          <a:pt x="3555" y="874"/>
                        </a:lnTo>
                        <a:lnTo>
                          <a:pt x="3668" y="907"/>
                        </a:lnTo>
                        <a:lnTo>
                          <a:pt x="3734" y="1018"/>
                        </a:lnTo>
                        <a:lnTo>
                          <a:pt x="3842" y="992"/>
                        </a:lnTo>
                        <a:lnTo>
                          <a:pt x="3926" y="1050"/>
                        </a:lnTo>
                        <a:lnTo>
                          <a:pt x="4519" y="822"/>
                        </a:lnTo>
                        <a:lnTo>
                          <a:pt x="4345" y="966"/>
                        </a:lnTo>
                        <a:lnTo>
                          <a:pt x="4058" y="1050"/>
                        </a:lnTo>
                        <a:lnTo>
                          <a:pt x="3842" y="1077"/>
                        </a:lnTo>
                        <a:lnTo>
                          <a:pt x="3687" y="1077"/>
                        </a:lnTo>
                        <a:lnTo>
                          <a:pt x="3555" y="1077"/>
                        </a:lnTo>
                        <a:lnTo>
                          <a:pt x="3578" y="1187"/>
                        </a:lnTo>
                        <a:lnTo>
                          <a:pt x="3602" y="1246"/>
                        </a:lnTo>
                        <a:lnTo>
                          <a:pt x="3489" y="1272"/>
                        </a:lnTo>
                        <a:lnTo>
                          <a:pt x="3513" y="1018"/>
                        </a:lnTo>
                        <a:lnTo>
                          <a:pt x="3381" y="992"/>
                        </a:lnTo>
                        <a:lnTo>
                          <a:pt x="3357" y="1103"/>
                        </a:lnTo>
                        <a:lnTo>
                          <a:pt x="3231" y="1018"/>
                        </a:lnTo>
                        <a:lnTo>
                          <a:pt x="3165" y="1187"/>
                        </a:lnTo>
                        <a:lnTo>
                          <a:pt x="3075" y="1135"/>
                        </a:lnTo>
                        <a:lnTo>
                          <a:pt x="2770" y="1187"/>
                        </a:lnTo>
                        <a:lnTo>
                          <a:pt x="2859" y="1220"/>
                        </a:lnTo>
                        <a:lnTo>
                          <a:pt x="2751" y="1272"/>
                        </a:lnTo>
                        <a:lnTo>
                          <a:pt x="2685" y="1187"/>
                        </a:lnTo>
                        <a:lnTo>
                          <a:pt x="2554" y="1272"/>
                        </a:lnTo>
                        <a:lnTo>
                          <a:pt x="2727" y="1305"/>
                        </a:lnTo>
                        <a:lnTo>
                          <a:pt x="2727" y="1390"/>
                        </a:lnTo>
                        <a:lnTo>
                          <a:pt x="2596" y="1331"/>
                        </a:lnTo>
                        <a:lnTo>
                          <a:pt x="2506" y="1390"/>
                        </a:lnTo>
                        <a:lnTo>
                          <a:pt x="2619" y="1501"/>
                        </a:lnTo>
                        <a:lnTo>
                          <a:pt x="2488" y="1560"/>
                        </a:lnTo>
                        <a:lnTo>
                          <a:pt x="2464" y="1442"/>
                        </a:lnTo>
                        <a:lnTo>
                          <a:pt x="2380" y="1357"/>
                        </a:lnTo>
                        <a:lnTo>
                          <a:pt x="2313" y="1560"/>
                        </a:lnTo>
                        <a:lnTo>
                          <a:pt x="2355" y="1586"/>
                        </a:lnTo>
                        <a:lnTo>
                          <a:pt x="2270" y="1644"/>
                        </a:lnTo>
                        <a:lnTo>
                          <a:pt x="2285" y="1370"/>
                        </a:lnTo>
                        <a:lnTo>
                          <a:pt x="2064" y="1312"/>
                        </a:lnTo>
                        <a:lnTo>
                          <a:pt x="2031" y="1612"/>
                        </a:lnTo>
                        <a:lnTo>
                          <a:pt x="2073" y="1755"/>
                        </a:lnTo>
                        <a:lnTo>
                          <a:pt x="2139" y="1612"/>
                        </a:lnTo>
                        <a:lnTo>
                          <a:pt x="2247" y="1644"/>
                        </a:lnTo>
                        <a:lnTo>
                          <a:pt x="2313" y="1703"/>
                        </a:lnTo>
                        <a:lnTo>
                          <a:pt x="2554" y="1442"/>
                        </a:lnTo>
                        <a:lnTo>
                          <a:pt x="2685" y="1501"/>
                        </a:lnTo>
                        <a:lnTo>
                          <a:pt x="2817" y="1442"/>
                        </a:lnTo>
                        <a:lnTo>
                          <a:pt x="3075" y="1416"/>
                        </a:lnTo>
                        <a:lnTo>
                          <a:pt x="3010" y="1533"/>
                        </a:lnTo>
                        <a:lnTo>
                          <a:pt x="3249" y="1501"/>
                        </a:lnTo>
                        <a:lnTo>
                          <a:pt x="3273" y="1305"/>
                        </a:lnTo>
                        <a:lnTo>
                          <a:pt x="3357" y="1272"/>
                        </a:lnTo>
                        <a:lnTo>
                          <a:pt x="3339" y="1390"/>
                        </a:lnTo>
                        <a:lnTo>
                          <a:pt x="3470" y="1331"/>
                        </a:lnTo>
                        <a:lnTo>
                          <a:pt x="3447" y="1246"/>
                        </a:lnTo>
                        <a:lnTo>
                          <a:pt x="3536" y="1305"/>
                        </a:lnTo>
                        <a:lnTo>
                          <a:pt x="3799" y="1161"/>
                        </a:lnTo>
                        <a:lnTo>
                          <a:pt x="4039" y="966"/>
                        </a:lnTo>
                        <a:lnTo>
                          <a:pt x="4124" y="1018"/>
                        </a:lnTo>
                        <a:lnTo>
                          <a:pt x="4190" y="907"/>
                        </a:lnTo>
                        <a:lnTo>
                          <a:pt x="4472" y="822"/>
                        </a:lnTo>
                        <a:lnTo>
                          <a:pt x="4759" y="704"/>
                        </a:lnTo>
                        <a:lnTo>
                          <a:pt x="4016" y="1050"/>
                        </a:lnTo>
                        <a:lnTo>
                          <a:pt x="3950" y="1161"/>
                        </a:lnTo>
                        <a:lnTo>
                          <a:pt x="4039" y="1220"/>
                        </a:lnTo>
                        <a:lnTo>
                          <a:pt x="3818" y="1246"/>
                        </a:lnTo>
                        <a:lnTo>
                          <a:pt x="3621" y="1416"/>
                        </a:lnTo>
                        <a:lnTo>
                          <a:pt x="3273" y="1586"/>
                        </a:lnTo>
                        <a:lnTo>
                          <a:pt x="2967" y="1729"/>
                        </a:lnTo>
                        <a:lnTo>
                          <a:pt x="2619" y="1840"/>
                        </a:lnTo>
                        <a:lnTo>
                          <a:pt x="2270" y="1925"/>
                        </a:lnTo>
                        <a:lnTo>
                          <a:pt x="1786" y="2238"/>
                        </a:lnTo>
                        <a:lnTo>
                          <a:pt x="1678" y="2585"/>
                        </a:lnTo>
                        <a:lnTo>
                          <a:pt x="1570" y="2611"/>
                        </a:lnTo>
                        <a:lnTo>
                          <a:pt x="1528" y="2722"/>
                        </a:lnTo>
                        <a:lnTo>
                          <a:pt x="1786" y="2696"/>
                        </a:lnTo>
                        <a:lnTo>
                          <a:pt x="2205" y="2611"/>
                        </a:lnTo>
                        <a:lnTo>
                          <a:pt x="2158" y="2696"/>
                        </a:lnTo>
                        <a:lnTo>
                          <a:pt x="1570" y="2892"/>
                        </a:lnTo>
                        <a:lnTo>
                          <a:pt x="1349" y="2892"/>
                        </a:lnTo>
                        <a:lnTo>
                          <a:pt x="1283" y="3010"/>
                        </a:lnTo>
                        <a:lnTo>
                          <a:pt x="1349" y="3036"/>
                        </a:lnTo>
                        <a:lnTo>
                          <a:pt x="1481" y="3062"/>
                        </a:lnTo>
                        <a:lnTo>
                          <a:pt x="1612" y="3062"/>
                        </a:lnTo>
                        <a:lnTo>
                          <a:pt x="1786" y="3088"/>
                        </a:lnTo>
                        <a:lnTo>
                          <a:pt x="1720" y="3147"/>
                        </a:lnTo>
                        <a:lnTo>
                          <a:pt x="1899" y="3264"/>
                        </a:lnTo>
                        <a:lnTo>
                          <a:pt x="1678" y="3179"/>
                        </a:lnTo>
                        <a:lnTo>
                          <a:pt x="1570" y="3179"/>
                        </a:lnTo>
                        <a:lnTo>
                          <a:pt x="1528" y="3232"/>
                        </a:lnTo>
                        <a:lnTo>
                          <a:pt x="1264" y="3179"/>
                        </a:lnTo>
                        <a:lnTo>
                          <a:pt x="1024" y="3512"/>
                        </a:lnTo>
                        <a:lnTo>
                          <a:pt x="677" y="3969"/>
                        </a:lnTo>
                        <a:lnTo>
                          <a:pt x="305" y="4426"/>
                        </a:lnTo>
                        <a:lnTo>
                          <a:pt x="390" y="4426"/>
                        </a:lnTo>
                        <a:lnTo>
                          <a:pt x="1241" y="4485"/>
                        </a:lnTo>
                        <a:lnTo>
                          <a:pt x="1349" y="4452"/>
                        </a:lnTo>
                        <a:lnTo>
                          <a:pt x="1546" y="4485"/>
                        </a:lnTo>
                        <a:lnTo>
                          <a:pt x="2073" y="4315"/>
                        </a:lnTo>
                        <a:lnTo>
                          <a:pt x="1372" y="4596"/>
                        </a:lnTo>
                        <a:lnTo>
                          <a:pt x="1067" y="4622"/>
                        </a:lnTo>
                        <a:lnTo>
                          <a:pt x="869" y="4511"/>
                        </a:lnTo>
                        <a:lnTo>
                          <a:pt x="785" y="4563"/>
                        </a:lnTo>
                        <a:lnTo>
                          <a:pt x="390" y="4563"/>
                        </a:lnTo>
                        <a:lnTo>
                          <a:pt x="197" y="4622"/>
                        </a:lnTo>
                        <a:lnTo>
                          <a:pt x="0" y="4087"/>
                        </a:lnTo>
                        <a:close/>
                      </a:path>
                    </a:pathLst>
                  </a:custGeom>
                  <a:solidFill>
                    <a:srgbClr val="a6e3a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" name=""/>
                <p:cNvSpPr/>
                <p:nvPr/>
              </p:nvSpPr>
              <p:spPr>
                <a:xfrm>
                  <a:off x="2890800" y="4443480"/>
                  <a:ext cx="1194120" cy="1081440"/>
                </a:xfrm>
                <a:custGeom>
                  <a:avLst/>
                  <a:gdLst/>
                  <a:ahLst/>
                  <a:rect l="0" t="0" r="r" b="b"/>
                  <a:pathLst>
                    <a:path w="3317" h="3004">
                      <a:moveTo>
                        <a:pt x="2280" y="2548"/>
                      </a:moveTo>
                      <a:lnTo>
                        <a:pt x="2032" y="2398"/>
                      </a:lnTo>
                      <a:lnTo>
                        <a:pt x="1962" y="2333"/>
                      </a:lnTo>
                      <a:lnTo>
                        <a:pt x="1897" y="2267"/>
                      </a:lnTo>
                      <a:lnTo>
                        <a:pt x="1625" y="1531"/>
                      </a:lnTo>
                      <a:lnTo>
                        <a:pt x="2032" y="1400"/>
                      </a:lnTo>
                      <a:lnTo>
                        <a:pt x="2439" y="1263"/>
                      </a:lnTo>
                      <a:lnTo>
                        <a:pt x="2709" y="1126"/>
                      </a:lnTo>
                      <a:lnTo>
                        <a:pt x="2639" y="1061"/>
                      </a:lnTo>
                      <a:lnTo>
                        <a:pt x="2574" y="1198"/>
                      </a:lnTo>
                      <a:lnTo>
                        <a:pt x="2509" y="1061"/>
                      </a:lnTo>
                      <a:lnTo>
                        <a:pt x="2509" y="1126"/>
                      </a:lnTo>
                      <a:lnTo>
                        <a:pt x="2439" y="996"/>
                      </a:lnTo>
                      <a:lnTo>
                        <a:pt x="2373" y="1198"/>
                      </a:lnTo>
                      <a:lnTo>
                        <a:pt x="2102" y="1400"/>
                      </a:lnTo>
                      <a:lnTo>
                        <a:pt x="1691" y="1328"/>
                      </a:lnTo>
                      <a:lnTo>
                        <a:pt x="1897" y="1126"/>
                      </a:lnTo>
                      <a:lnTo>
                        <a:pt x="2303" y="996"/>
                      </a:lnTo>
                      <a:lnTo>
                        <a:pt x="2439" y="866"/>
                      </a:lnTo>
                      <a:lnTo>
                        <a:pt x="2639" y="931"/>
                      </a:lnTo>
                      <a:lnTo>
                        <a:pt x="2845" y="794"/>
                      </a:lnTo>
                      <a:lnTo>
                        <a:pt x="3181" y="729"/>
                      </a:lnTo>
                      <a:lnTo>
                        <a:pt x="3251" y="664"/>
                      </a:lnTo>
                      <a:lnTo>
                        <a:pt x="3050" y="664"/>
                      </a:lnTo>
                      <a:lnTo>
                        <a:pt x="2980" y="664"/>
                      </a:lnTo>
                      <a:lnTo>
                        <a:pt x="2980" y="599"/>
                      </a:lnTo>
                      <a:lnTo>
                        <a:pt x="2915" y="664"/>
                      </a:lnTo>
                      <a:lnTo>
                        <a:pt x="2779" y="599"/>
                      </a:lnTo>
                      <a:lnTo>
                        <a:pt x="2709" y="729"/>
                      </a:lnTo>
                      <a:lnTo>
                        <a:pt x="2639" y="664"/>
                      </a:lnTo>
                      <a:lnTo>
                        <a:pt x="2779" y="664"/>
                      </a:lnTo>
                      <a:lnTo>
                        <a:pt x="2779" y="534"/>
                      </a:lnTo>
                      <a:lnTo>
                        <a:pt x="3116" y="534"/>
                      </a:lnTo>
                      <a:lnTo>
                        <a:pt x="2980" y="462"/>
                      </a:lnTo>
                      <a:lnTo>
                        <a:pt x="3317" y="267"/>
                      </a:lnTo>
                      <a:lnTo>
                        <a:pt x="3181" y="195"/>
                      </a:lnTo>
                      <a:lnTo>
                        <a:pt x="3116" y="267"/>
                      </a:lnTo>
                      <a:lnTo>
                        <a:pt x="2980" y="130"/>
                      </a:lnTo>
                      <a:lnTo>
                        <a:pt x="2845" y="195"/>
                      </a:lnTo>
                      <a:lnTo>
                        <a:pt x="2915" y="267"/>
                      </a:lnTo>
                      <a:lnTo>
                        <a:pt x="2779" y="267"/>
                      </a:lnTo>
                      <a:lnTo>
                        <a:pt x="2709" y="397"/>
                      </a:lnTo>
                      <a:lnTo>
                        <a:pt x="2639" y="397"/>
                      </a:lnTo>
                      <a:lnTo>
                        <a:pt x="2509" y="534"/>
                      </a:lnTo>
                      <a:lnTo>
                        <a:pt x="2439" y="534"/>
                      </a:lnTo>
                      <a:lnTo>
                        <a:pt x="2373" y="599"/>
                      </a:lnTo>
                      <a:lnTo>
                        <a:pt x="2233" y="664"/>
                      </a:lnTo>
                      <a:lnTo>
                        <a:pt x="2102" y="794"/>
                      </a:lnTo>
                      <a:lnTo>
                        <a:pt x="1962" y="794"/>
                      </a:lnTo>
                      <a:lnTo>
                        <a:pt x="1897" y="866"/>
                      </a:lnTo>
                      <a:lnTo>
                        <a:pt x="1962" y="664"/>
                      </a:lnTo>
                      <a:lnTo>
                        <a:pt x="2102" y="664"/>
                      </a:lnTo>
                      <a:lnTo>
                        <a:pt x="2102" y="534"/>
                      </a:lnTo>
                      <a:lnTo>
                        <a:pt x="2233" y="534"/>
                      </a:lnTo>
                      <a:lnTo>
                        <a:pt x="2303" y="397"/>
                      </a:lnTo>
                      <a:lnTo>
                        <a:pt x="2709" y="267"/>
                      </a:lnTo>
                      <a:lnTo>
                        <a:pt x="2439" y="267"/>
                      </a:lnTo>
                      <a:lnTo>
                        <a:pt x="2509" y="195"/>
                      </a:lnTo>
                      <a:lnTo>
                        <a:pt x="2303" y="267"/>
                      </a:lnTo>
                      <a:lnTo>
                        <a:pt x="2233" y="267"/>
                      </a:lnTo>
                      <a:lnTo>
                        <a:pt x="2102" y="397"/>
                      </a:lnTo>
                      <a:lnTo>
                        <a:pt x="2102" y="332"/>
                      </a:lnTo>
                      <a:lnTo>
                        <a:pt x="2168" y="267"/>
                      </a:lnTo>
                      <a:lnTo>
                        <a:pt x="2168" y="195"/>
                      </a:lnTo>
                      <a:lnTo>
                        <a:pt x="2303" y="65"/>
                      </a:lnTo>
                      <a:lnTo>
                        <a:pt x="2233" y="0"/>
                      </a:lnTo>
                      <a:lnTo>
                        <a:pt x="2168" y="0"/>
                      </a:lnTo>
                      <a:lnTo>
                        <a:pt x="2032" y="130"/>
                      </a:lnTo>
                      <a:lnTo>
                        <a:pt x="2102" y="195"/>
                      </a:lnTo>
                      <a:lnTo>
                        <a:pt x="1962" y="195"/>
                      </a:lnTo>
                      <a:lnTo>
                        <a:pt x="1761" y="130"/>
                      </a:lnTo>
                      <a:lnTo>
                        <a:pt x="1897" y="195"/>
                      </a:lnTo>
                      <a:lnTo>
                        <a:pt x="1761" y="267"/>
                      </a:lnTo>
                      <a:lnTo>
                        <a:pt x="1691" y="130"/>
                      </a:lnTo>
                      <a:lnTo>
                        <a:pt x="1691" y="195"/>
                      </a:lnTo>
                      <a:lnTo>
                        <a:pt x="1625" y="130"/>
                      </a:lnTo>
                      <a:lnTo>
                        <a:pt x="1691" y="397"/>
                      </a:lnTo>
                      <a:lnTo>
                        <a:pt x="1761" y="397"/>
                      </a:lnTo>
                      <a:lnTo>
                        <a:pt x="1827" y="599"/>
                      </a:lnTo>
                      <a:lnTo>
                        <a:pt x="1827" y="664"/>
                      </a:lnTo>
                      <a:lnTo>
                        <a:pt x="1761" y="599"/>
                      </a:lnTo>
                      <a:lnTo>
                        <a:pt x="1625" y="599"/>
                      </a:lnTo>
                      <a:lnTo>
                        <a:pt x="1691" y="664"/>
                      </a:lnTo>
                      <a:lnTo>
                        <a:pt x="1625" y="664"/>
                      </a:lnTo>
                      <a:lnTo>
                        <a:pt x="1489" y="729"/>
                      </a:lnTo>
                      <a:lnTo>
                        <a:pt x="1083" y="599"/>
                      </a:lnTo>
                      <a:lnTo>
                        <a:pt x="1013" y="599"/>
                      </a:lnTo>
                      <a:lnTo>
                        <a:pt x="948" y="599"/>
                      </a:lnTo>
                      <a:lnTo>
                        <a:pt x="948" y="462"/>
                      </a:lnTo>
                      <a:lnTo>
                        <a:pt x="812" y="462"/>
                      </a:lnTo>
                      <a:lnTo>
                        <a:pt x="812" y="397"/>
                      </a:lnTo>
                      <a:lnTo>
                        <a:pt x="677" y="462"/>
                      </a:lnTo>
                      <a:lnTo>
                        <a:pt x="541" y="332"/>
                      </a:lnTo>
                      <a:lnTo>
                        <a:pt x="476" y="267"/>
                      </a:lnTo>
                      <a:lnTo>
                        <a:pt x="336" y="195"/>
                      </a:lnTo>
                      <a:lnTo>
                        <a:pt x="205" y="267"/>
                      </a:lnTo>
                      <a:lnTo>
                        <a:pt x="65" y="195"/>
                      </a:lnTo>
                      <a:lnTo>
                        <a:pt x="0" y="332"/>
                      </a:lnTo>
                      <a:lnTo>
                        <a:pt x="541" y="534"/>
                      </a:lnTo>
                      <a:lnTo>
                        <a:pt x="336" y="534"/>
                      </a:lnTo>
                      <a:lnTo>
                        <a:pt x="65" y="462"/>
                      </a:lnTo>
                      <a:lnTo>
                        <a:pt x="270" y="599"/>
                      </a:lnTo>
                      <a:lnTo>
                        <a:pt x="205" y="664"/>
                      </a:lnTo>
                      <a:lnTo>
                        <a:pt x="406" y="794"/>
                      </a:lnTo>
                      <a:lnTo>
                        <a:pt x="541" y="729"/>
                      </a:lnTo>
                      <a:lnTo>
                        <a:pt x="541" y="794"/>
                      </a:lnTo>
                      <a:lnTo>
                        <a:pt x="948" y="729"/>
                      </a:lnTo>
                      <a:lnTo>
                        <a:pt x="1013" y="931"/>
                      </a:lnTo>
                      <a:lnTo>
                        <a:pt x="1083" y="1061"/>
                      </a:lnTo>
                      <a:lnTo>
                        <a:pt x="1625" y="1263"/>
                      </a:lnTo>
                      <a:lnTo>
                        <a:pt x="1625" y="1400"/>
                      </a:lnTo>
                      <a:lnTo>
                        <a:pt x="1153" y="1126"/>
                      </a:lnTo>
                      <a:lnTo>
                        <a:pt x="1013" y="1126"/>
                      </a:lnTo>
                      <a:lnTo>
                        <a:pt x="812" y="866"/>
                      </a:lnTo>
                      <a:lnTo>
                        <a:pt x="476" y="794"/>
                      </a:lnTo>
                      <a:lnTo>
                        <a:pt x="677" y="931"/>
                      </a:lnTo>
                      <a:lnTo>
                        <a:pt x="878" y="1061"/>
                      </a:lnTo>
                      <a:lnTo>
                        <a:pt x="812" y="996"/>
                      </a:lnTo>
                      <a:lnTo>
                        <a:pt x="948" y="1198"/>
                      </a:lnTo>
                      <a:lnTo>
                        <a:pt x="1153" y="1263"/>
                      </a:lnTo>
                      <a:lnTo>
                        <a:pt x="1354" y="1400"/>
                      </a:lnTo>
                      <a:lnTo>
                        <a:pt x="1827" y="2333"/>
                      </a:lnTo>
                      <a:lnTo>
                        <a:pt x="1761" y="2398"/>
                      </a:lnTo>
                      <a:lnTo>
                        <a:pt x="1897" y="2463"/>
                      </a:lnTo>
                      <a:lnTo>
                        <a:pt x="1836" y="2508"/>
                      </a:lnTo>
                      <a:lnTo>
                        <a:pt x="1962" y="2665"/>
                      </a:lnTo>
                      <a:lnTo>
                        <a:pt x="2032" y="2730"/>
                      </a:lnTo>
                      <a:lnTo>
                        <a:pt x="2102" y="3004"/>
                      </a:lnTo>
                      <a:lnTo>
                        <a:pt x="2280" y="2548"/>
                      </a:lnTo>
                      <a:close/>
                    </a:path>
                  </a:pathLst>
                </a:custGeom>
                <a:solidFill>
                  <a:srgbClr val="a6e3a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0" y="4848120"/>
                <a:ext cx="9131760" cy="1762560"/>
              </a:xfrm>
              <a:custGeom>
                <a:avLst/>
                <a:gdLst/>
                <a:ahLst/>
                <a:rect l="0" t="0" r="r" b="b"/>
                <a:pathLst>
                  <a:path w="25366" h="4896">
                    <a:moveTo>
                      <a:pt x="25349" y="3198"/>
                    </a:moveTo>
                    <a:lnTo>
                      <a:pt x="24528" y="3043"/>
                    </a:lnTo>
                    <a:lnTo>
                      <a:pt x="24030" y="2739"/>
                    </a:lnTo>
                    <a:lnTo>
                      <a:pt x="23364" y="2624"/>
                    </a:lnTo>
                    <a:lnTo>
                      <a:pt x="23466" y="2399"/>
                    </a:lnTo>
                    <a:lnTo>
                      <a:pt x="23073" y="2272"/>
                    </a:lnTo>
                    <a:lnTo>
                      <a:pt x="22787" y="2117"/>
                    </a:lnTo>
                    <a:lnTo>
                      <a:pt x="22297" y="2020"/>
                    </a:lnTo>
                    <a:lnTo>
                      <a:pt x="21913" y="2148"/>
                    </a:lnTo>
                    <a:lnTo>
                      <a:pt x="21525" y="1897"/>
                    </a:lnTo>
                    <a:lnTo>
                      <a:pt x="21424" y="1544"/>
                    </a:lnTo>
                    <a:lnTo>
                      <a:pt x="20546" y="1203"/>
                    </a:lnTo>
                    <a:lnTo>
                      <a:pt x="20352" y="855"/>
                    </a:lnTo>
                    <a:lnTo>
                      <a:pt x="19973" y="564"/>
                    </a:lnTo>
                    <a:lnTo>
                      <a:pt x="19973" y="317"/>
                    </a:lnTo>
                    <a:lnTo>
                      <a:pt x="19775" y="0"/>
                    </a:lnTo>
                    <a:lnTo>
                      <a:pt x="19290" y="92"/>
                    </a:lnTo>
                    <a:lnTo>
                      <a:pt x="18901" y="410"/>
                    </a:lnTo>
                    <a:lnTo>
                      <a:pt x="18314" y="282"/>
                    </a:lnTo>
                    <a:lnTo>
                      <a:pt x="17829" y="410"/>
                    </a:lnTo>
                    <a:lnTo>
                      <a:pt x="16762" y="158"/>
                    </a:lnTo>
                    <a:lnTo>
                      <a:pt x="16281" y="61"/>
                    </a:lnTo>
                    <a:lnTo>
                      <a:pt x="15889" y="185"/>
                    </a:lnTo>
                    <a:lnTo>
                      <a:pt x="15501" y="61"/>
                    </a:lnTo>
                    <a:lnTo>
                      <a:pt x="15210" y="0"/>
                    </a:lnTo>
                    <a:lnTo>
                      <a:pt x="15016" y="343"/>
                    </a:lnTo>
                    <a:lnTo>
                      <a:pt x="14434" y="216"/>
                    </a:lnTo>
                    <a:lnTo>
                      <a:pt x="14142" y="30"/>
                    </a:lnTo>
                    <a:lnTo>
                      <a:pt x="13556" y="92"/>
                    </a:lnTo>
                    <a:lnTo>
                      <a:pt x="13556" y="317"/>
                    </a:lnTo>
                    <a:lnTo>
                      <a:pt x="13556" y="564"/>
                    </a:lnTo>
                    <a:lnTo>
                      <a:pt x="13075" y="445"/>
                    </a:lnTo>
                    <a:lnTo>
                      <a:pt x="12687" y="92"/>
                    </a:lnTo>
                    <a:lnTo>
                      <a:pt x="12392" y="185"/>
                    </a:lnTo>
                    <a:lnTo>
                      <a:pt x="12498" y="445"/>
                    </a:lnTo>
                    <a:lnTo>
                      <a:pt x="12004" y="661"/>
                    </a:lnTo>
                    <a:lnTo>
                      <a:pt x="11770" y="886"/>
                    </a:lnTo>
                    <a:lnTo>
                      <a:pt x="11461" y="855"/>
                    </a:lnTo>
                    <a:lnTo>
                      <a:pt x="11148" y="820"/>
                    </a:lnTo>
                    <a:lnTo>
                      <a:pt x="10840" y="564"/>
                    </a:lnTo>
                    <a:lnTo>
                      <a:pt x="10258" y="379"/>
                    </a:lnTo>
                    <a:lnTo>
                      <a:pt x="9966" y="511"/>
                    </a:lnTo>
                    <a:lnTo>
                      <a:pt x="9777" y="564"/>
                    </a:lnTo>
                    <a:lnTo>
                      <a:pt x="9675" y="410"/>
                    </a:lnTo>
                    <a:lnTo>
                      <a:pt x="9292" y="410"/>
                    </a:lnTo>
                    <a:lnTo>
                      <a:pt x="9195" y="533"/>
                    </a:lnTo>
                    <a:lnTo>
                      <a:pt x="9578" y="855"/>
                    </a:lnTo>
                    <a:lnTo>
                      <a:pt x="8313" y="886"/>
                    </a:lnTo>
                    <a:lnTo>
                      <a:pt x="8026" y="921"/>
                    </a:lnTo>
                    <a:lnTo>
                      <a:pt x="7643" y="1203"/>
                    </a:lnTo>
                    <a:lnTo>
                      <a:pt x="7541" y="1394"/>
                    </a:lnTo>
                    <a:lnTo>
                      <a:pt x="7254" y="1544"/>
                    </a:lnTo>
                    <a:lnTo>
                      <a:pt x="7056" y="1487"/>
                    </a:lnTo>
                    <a:lnTo>
                      <a:pt x="6955" y="1610"/>
                    </a:lnTo>
                    <a:lnTo>
                      <a:pt x="6853" y="1769"/>
                    </a:lnTo>
                    <a:lnTo>
                      <a:pt x="6955" y="1923"/>
                    </a:lnTo>
                    <a:lnTo>
                      <a:pt x="6567" y="2272"/>
                    </a:lnTo>
                    <a:lnTo>
                      <a:pt x="6182" y="2183"/>
                    </a:lnTo>
                    <a:lnTo>
                      <a:pt x="5591" y="2117"/>
                    </a:lnTo>
                    <a:lnTo>
                      <a:pt x="5498" y="2272"/>
                    </a:lnTo>
                    <a:lnTo>
                      <a:pt x="5401" y="2399"/>
                    </a:lnTo>
                    <a:lnTo>
                      <a:pt x="5591" y="2466"/>
                    </a:lnTo>
                    <a:lnTo>
                      <a:pt x="5697" y="2840"/>
                    </a:lnTo>
                    <a:lnTo>
                      <a:pt x="5304" y="3255"/>
                    </a:lnTo>
                    <a:lnTo>
                      <a:pt x="4916" y="3669"/>
                    </a:lnTo>
                    <a:lnTo>
                      <a:pt x="4339" y="3669"/>
                    </a:lnTo>
                    <a:lnTo>
                      <a:pt x="3047" y="4041"/>
                    </a:lnTo>
                    <a:lnTo>
                      <a:pt x="0" y="4336"/>
                    </a:lnTo>
                    <a:lnTo>
                      <a:pt x="3704" y="4473"/>
                    </a:lnTo>
                    <a:lnTo>
                      <a:pt x="4722" y="4420"/>
                    </a:lnTo>
                    <a:lnTo>
                      <a:pt x="4242" y="4297"/>
                    </a:lnTo>
                    <a:lnTo>
                      <a:pt x="4916" y="4204"/>
                    </a:lnTo>
                    <a:lnTo>
                      <a:pt x="5988" y="4235"/>
                    </a:lnTo>
                    <a:lnTo>
                      <a:pt x="5697" y="4332"/>
                    </a:lnTo>
                    <a:lnTo>
                      <a:pt x="7435" y="4385"/>
                    </a:lnTo>
                    <a:lnTo>
                      <a:pt x="8436" y="4451"/>
                    </a:lnTo>
                    <a:lnTo>
                      <a:pt x="7466" y="4614"/>
                    </a:lnTo>
                    <a:lnTo>
                      <a:pt x="6395" y="4738"/>
                    </a:lnTo>
                    <a:lnTo>
                      <a:pt x="5719" y="4830"/>
                    </a:lnTo>
                    <a:lnTo>
                      <a:pt x="7660" y="4804"/>
                    </a:lnTo>
                    <a:lnTo>
                      <a:pt x="10275" y="4896"/>
                    </a:lnTo>
                    <a:lnTo>
                      <a:pt x="12339" y="4892"/>
                    </a:lnTo>
                    <a:lnTo>
                      <a:pt x="13728" y="4777"/>
                    </a:lnTo>
                    <a:lnTo>
                      <a:pt x="14852" y="4760"/>
                    </a:lnTo>
                    <a:lnTo>
                      <a:pt x="17732" y="4804"/>
                    </a:lnTo>
                    <a:lnTo>
                      <a:pt x="19775" y="4645"/>
                    </a:lnTo>
                    <a:lnTo>
                      <a:pt x="20546" y="4486"/>
                    </a:lnTo>
                    <a:lnTo>
                      <a:pt x="19581" y="4385"/>
                    </a:lnTo>
                    <a:lnTo>
                      <a:pt x="19002" y="4420"/>
                    </a:lnTo>
                    <a:lnTo>
                      <a:pt x="18124" y="4235"/>
                    </a:lnTo>
                    <a:lnTo>
                      <a:pt x="19290" y="4169"/>
                    </a:lnTo>
                    <a:lnTo>
                      <a:pt x="20361" y="4297"/>
                    </a:lnTo>
                    <a:lnTo>
                      <a:pt x="22337" y="4363"/>
                    </a:lnTo>
                    <a:lnTo>
                      <a:pt x="21993" y="4138"/>
                    </a:lnTo>
                    <a:lnTo>
                      <a:pt x="20842" y="4041"/>
                    </a:lnTo>
                    <a:lnTo>
                      <a:pt x="21812" y="4076"/>
                    </a:lnTo>
                    <a:lnTo>
                      <a:pt x="22839" y="4244"/>
                    </a:lnTo>
                    <a:lnTo>
                      <a:pt x="25366" y="4266"/>
                    </a:lnTo>
                    <a:lnTo>
                      <a:pt x="25349" y="3198"/>
                    </a:lnTo>
                    <a:close/>
                  </a:path>
                </a:pathLst>
              </a:custGeom>
              <a:solidFill>
                <a:srgbClr val="a6e3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d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8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