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448080"/>
            <a:ext cx="9131760" cy="3397680"/>
            <a:chOff x="0" y="3448080"/>
            <a:chExt cx="9131760" cy="3397680"/>
          </a:xfrm>
        </p:grpSpPr>
        <p:grpSp>
          <p:nvGrpSpPr>
            <p:cNvPr id="1" name=""/>
            <p:cNvGrpSpPr/>
            <p:nvPr/>
          </p:nvGrpSpPr>
          <p:grpSpPr>
            <a:xfrm>
              <a:off x="6613560" y="4905360"/>
              <a:ext cx="2454480" cy="1910160"/>
              <a:chOff x="6613560" y="4905360"/>
              <a:chExt cx="2454480" cy="19101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7404120" y="4913280"/>
                <a:ext cx="776520" cy="972000"/>
                <a:chOff x="7404120" y="4913280"/>
                <a:chExt cx="776520" cy="9720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7756560" y="5253120"/>
                  <a:ext cx="236880" cy="554400"/>
                </a:xfrm>
                <a:custGeom>
                  <a:avLst/>
                  <a:gdLst/>
                  <a:ahLst/>
                  <a:rect l="0" t="0" r="r" b="b"/>
                  <a:pathLst>
                    <a:path w="658" h="1540">
                      <a:moveTo>
                        <a:pt x="658" y="551"/>
                      </a:moveTo>
                      <a:lnTo>
                        <a:pt x="590" y="56"/>
                      </a:lnTo>
                      <a:lnTo>
                        <a:pt x="501" y="8"/>
                      </a:lnTo>
                      <a:lnTo>
                        <a:pt x="429" y="0"/>
                      </a:lnTo>
                      <a:lnTo>
                        <a:pt x="317" y="21"/>
                      </a:lnTo>
                      <a:lnTo>
                        <a:pt x="245" y="78"/>
                      </a:lnTo>
                      <a:lnTo>
                        <a:pt x="169" y="156"/>
                      </a:lnTo>
                      <a:lnTo>
                        <a:pt x="93" y="294"/>
                      </a:lnTo>
                      <a:lnTo>
                        <a:pt x="55" y="486"/>
                      </a:lnTo>
                      <a:lnTo>
                        <a:pt x="29" y="646"/>
                      </a:lnTo>
                      <a:lnTo>
                        <a:pt x="0" y="881"/>
                      </a:lnTo>
                      <a:lnTo>
                        <a:pt x="0" y="1028"/>
                      </a:lnTo>
                      <a:lnTo>
                        <a:pt x="55" y="1228"/>
                      </a:lnTo>
                      <a:lnTo>
                        <a:pt x="152" y="1402"/>
                      </a:lnTo>
                      <a:lnTo>
                        <a:pt x="245" y="1540"/>
                      </a:lnTo>
                      <a:lnTo>
                        <a:pt x="190" y="1332"/>
                      </a:lnTo>
                      <a:lnTo>
                        <a:pt x="169" y="1141"/>
                      </a:lnTo>
                      <a:lnTo>
                        <a:pt x="182" y="937"/>
                      </a:lnTo>
                      <a:lnTo>
                        <a:pt x="190" y="755"/>
                      </a:lnTo>
                      <a:lnTo>
                        <a:pt x="216" y="573"/>
                      </a:lnTo>
                      <a:lnTo>
                        <a:pt x="245" y="408"/>
                      </a:lnTo>
                      <a:lnTo>
                        <a:pt x="258" y="286"/>
                      </a:lnTo>
                      <a:lnTo>
                        <a:pt x="300" y="164"/>
                      </a:lnTo>
                      <a:lnTo>
                        <a:pt x="399" y="60"/>
                      </a:lnTo>
                      <a:lnTo>
                        <a:pt x="484" y="69"/>
                      </a:lnTo>
                      <a:lnTo>
                        <a:pt x="564" y="346"/>
                      </a:lnTo>
                      <a:lnTo>
                        <a:pt x="632" y="408"/>
                      </a:lnTo>
                      <a:lnTo>
                        <a:pt x="658" y="551"/>
                      </a:lnTo>
                      <a:close/>
                    </a:path>
                  </a:pathLst>
                </a:custGeom>
                <a:solidFill>
                  <a:srgbClr val="a6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7404120" y="4913280"/>
                  <a:ext cx="425880" cy="972000"/>
                </a:xfrm>
                <a:custGeom>
                  <a:avLst/>
                  <a:gdLst/>
                  <a:ahLst/>
                  <a:rect l="0" t="0" r="r" b="b"/>
                  <a:pathLst>
                    <a:path w="1183" h="2700">
                      <a:moveTo>
                        <a:pt x="972" y="0"/>
                      </a:moveTo>
                      <a:lnTo>
                        <a:pt x="912" y="8"/>
                      </a:lnTo>
                      <a:lnTo>
                        <a:pt x="824" y="34"/>
                      </a:lnTo>
                      <a:lnTo>
                        <a:pt x="885" y="52"/>
                      </a:lnTo>
                      <a:lnTo>
                        <a:pt x="837" y="87"/>
                      </a:lnTo>
                      <a:lnTo>
                        <a:pt x="781" y="135"/>
                      </a:lnTo>
                      <a:lnTo>
                        <a:pt x="410" y="222"/>
                      </a:lnTo>
                      <a:lnTo>
                        <a:pt x="596" y="174"/>
                      </a:lnTo>
                      <a:lnTo>
                        <a:pt x="708" y="152"/>
                      </a:lnTo>
                      <a:lnTo>
                        <a:pt x="781" y="183"/>
                      </a:lnTo>
                      <a:lnTo>
                        <a:pt x="729" y="218"/>
                      </a:lnTo>
                      <a:lnTo>
                        <a:pt x="764" y="235"/>
                      </a:lnTo>
                      <a:lnTo>
                        <a:pt x="660" y="305"/>
                      </a:lnTo>
                      <a:lnTo>
                        <a:pt x="267" y="410"/>
                      </a:lnTo>
                      <a:lnTo>
                        <a:pt x="540" y="318"/>
                      </a:lnTo>
                      <a:lnTo>
                        <a:pt x="660" y="323"/>
                      </a:lnTo>
                      <a:lnTo>
                        <a:pt x="729" y="331"/>
                      </a:lnTo>
                      <a:lnTo>
                        <a:pt x="609" y="410"/>
                      </a:lnTo>
                      <a:lnTo>
                        <a:pt x="682" y="410"/>
                      </a:lnTo>
                      <a:lnTo>
                        <a:pt x="553" y="510"/>
                      </a:lnTo>
                      <a:lnTo>
                        <a:pt x="298" y="637"/>
                      </a:lnTo>
                      <a:lnTo>
                        <a:pt x="125" y="791"/>
                      </a:lnTo>
                      <a:lnTo>
                        <a:pt x="307" y="655"/>
                      </a:lnTo>
                      <a:lnTo>
                        <a:pt x="561" y="528"/>
                      </a:lnTo>
                      <a:lnTo>
                        <a:pt x="635" y="537"/>
                      </a:lnTo>
                      <a:lnTo>
                        <a:pt x="522" y="611"/>
                      </a:lnTo>
                      <a:lnTo>
                        <a:pt x="596" y="628"/>
                      </a:lnTo>
                      <a:lnTo>
                        <a:pt x="501" y="717"/>
                      </a:lnTo>
                      <a:lnTo>
                        <a:pt x="194" y="952"/>
                      </a:lnTo>
                      <a:lnTo>
                        <a:pt x="501" y="734"/>
                      </a:lnTo>
                      <a:lnTo>
                        <a:pt x="587" y="734"/>
                      </a:lnTo>
                      <a:lnTo>
                        <a:pt x="492" y="852"/>
                      </a:lnTo>
                      <a:lnTo>
                        <a:pt x="561" y="848"/>
                      </a:lnTo>
                      <a:lnTo>
                        <a:pt x="471" y="987"/>
                      </a:lnTo>
                      <a:lnTo>
                        <a:pt x="219" y="1249"/>
                      </a:lnTo>
                      <a:lnTo>
                        <a:pt x="219" y="1258"/>
                      </a:lnTo>
                      <a:lnTo>
                        <a:pt x="484" y="996"/>
                      </a:lnTo>
                      <a:lnTo>
                        <a:pt x="561" y="957"/>
                      </a:lnTo>
                      <a:lnTo>
                        <a:pt x="501" y="1057"/>
                      </a:lnTo>
                      <a:lnTo>
                        <a:pt x="553" y="1040"/>
                      </a:lnTo>
                      <a:lnTo>
                        <a:pt x="471" y="1180"/>
                      </a:lnTo>
                      <a:lnTo>
                        <a:pt x="271" y="1450"/>
                      </a:lnTo>
                      <a:lnTo>
                        <a:pt x="129" y="1625"/>
                      </a:lnTo>
                      <a:lnTo>
                        <a:pt x="258" y="1459"/>
                      </a:lnTo>
                      <a:lnTo>
                        <a:pt x="484" y="1197"/>
                      </a:lnTo>
                      <a:lnTo>
                        <a:pt x="509" y="1197"/>
                      </a:lnTo>
                      <a:lnTo>
                        <a:pt x="133" y="2001"/>
                      </a:lnTo>
                      <a:lnTo>
                        <a:pt x="535" y="1197"/>
                      </a:lnTo>
                      <a:lnTo>
                        <a:pt x="484" y="1297"/>
                      </a:lnTo>
                      <a:lnTo>
                        <a:pt x="535" y="1263"/>
                      </a:lnTo>
                      <a:lnTo>
                        <a:pt x="449" y="1424"/>
                      </a:lnTo>
                      <a:lnTo>
                        <a:pt x="189" y="1800"/>
                      </a:lnTo>
                      <a:lnTo>
                        <a:pt x="449" y="1450"/>
                      </a:lnTo>
                      <a:lnTo>
                        <a:pt x="522" y="1424"/>
                      </a:lnTo>
                      <a:lnTo>
                        <a:pt x="449" y="1533"/>
                      </a:lnTo>
                      <a:lnTo>
                        <a:pt x="146" y="2268"/>
                      </a:lnTo>
                      <a:lnTo>
                        <a:pt x="389" y="1695"/>
                      </a:lnTo>
                      <a:lnTo>
                        <a:pt x="471" y="1533"/>
                      </a:lnTo>
                      <a:lnTo>
                        <a:pt x="522" y="1511"/>
                      </a:lnTo>
                      <a:lnTo>
                        <a:pt x="462" y="1629"/>
                      </a:lnTo>
                      <a:lnTo>
                        <a:pt x="509" y="1616"/>
                      </a:lnTo>
                      <a:lnTo>
                        <a:pt x="432" y="1756"/>
                      </a:lnTo>
                      <a:lnTo>
                        <a:pt x="397" y="1887"/>
                      </a:lnTo>
                      <a:lnTo>
                        <a:pt x="0" y="2303"/>
                      </a:lnTo>
                      <a:lnTo>
                        <a:pt x="406" y="1891"/>
                      </a:lnTo>
                      <a:lnTo>
                        <a:pt x="449" y="1800"/>
                      </a:lnTo>
                      <a:lnTo>
                        <a:pt x="501" y="1773"/>
                      </a:lnTo>
                      <a:lnTo>
                        <a:pt x="406" y="2018"/>
                      </a:lnTo>
                      <a:lnTo>
                        <a:pt x="509" y="1773"/>
                      </a:lnTo>
                      <a:lnTo>
                        <a:pt x="449" y="1891"/>
                      </a:lnTo>
                      <a:lnTo>
                        <a:pt x="522" y="1865"/>
                      </a:lnTo>
                      <a:lnTo>
                        <a:pt x="471" y="1966"/>
                      </a:lnTo>
                      <a:lnTo>
                        <a:pt x="337" y="2312"/>
                      </a:lnTo>
                      <a:lnTo>
                        <a:pt x="198" y="2517"/>
                      </a:lnTo>
                      <a:lnTo>
                        <a:pt x="337" y="2312"/>
                      </a:lnTo>
                      <a:lnTo>
                        <a:pt x="484" y="1983"/>
                      </a:lnTo>
                      <a:lnTo>
                        <a:pt x="535" y="1966"/>
                      </a:lnTo>
                      <a:lnTo>
                        <a:pt x="509" y="2045"/>
                      </a:lnTo>
                      <a:lnTo>
                        <a:pt x="406" y="2268"/>
                      </a:lnTo>
                      <a:lnTo>
                        <a:pt x="522" y="2076"/>
                      </a:lnTo>
                      <a:lnTo>
                        <a:pt x="553" y="2001"/>
                      </a:lnTo>
                      <a:lnTo>
                        <a:pt x="501" y="2172"/>
                      </a:lnTo>
                      <a:lnTo>
                        <a:pt x="561" y="2141"/>
                      </a:lnTo>
                      <a:lnTo>
                        <a:pt x="540" y="2285"/>
                      </a:lnTo>
                      <a:lnTo>
                        <a:pt x="578" y="2224"/>
                      </a:lnTo>
                      <a:lnTo>
                        <a:pt x="609" y="2277"/>
                      </a:lnTo>
                      <a:lnTo>
                        <a:pt x="596" y="2430"/>
                      </a:lnTo>
                      <a:lnTo>
                        <a:pt x="617" y="2430"/>
                      </a:lnTo>
                      <a:lnTo>
                        <a:pt x="617" y="2268"/>
                      </a:lnTo>
                      <a:lnTo>
                        <a:pt x="617" y="2167"/>
                      </a:lnTo>
                      <a:lnTo>
                        <a:pt x="673" y="2224"/>
                      </a:lnTo>
                      <a:lnTo>
                        <a:pt x="1127" y="2700"/>
                      </a:lnTo>
                      <a:lnTo>
                        <a:pt x="647" y="2172"/>
                      </a:lnTo>
                      <a:lnTo>
                        <a:pt x="617" y="2045"/>
                      </a:lnTo>
                      <a:lnTo>
                        <a:pt x="660" y="2076"/>
                      </a:lnTo>
                      <a:lnTo>
                        <a:pt x="596" y="1909"/>
                      </a:lnTo>
                      <a:lnTo>
                        <a:pt x="647" y="1974"/>
                      </a:lnTo>
                      <a:lnTo>
                        <a:pt x="760" y="2207"/>
                      </a:lnTo>
                      <a:lnTo>
                        <a:pt x="660" y="1957"/>
                      </a:lnTo>
                      <a:lnTo>
                        <a:pt x="617" y="1852"/>
                      </a:lnTo>
                      <a:lnTo>
                        <a:pt x="626" y="1852"/>
                      </a:lnTo>
                      <a:lnTo>
                        <a:pt x="682" y="1909"/>
                      </a:lnTo>
                      <a:lnTo>
                        <a:pt x="794" y="2036"/>
                      </a:lnTo>
                      <a:lnTo>
                        <a:pt x="1183" y="2133"/>
                      </a:lnTo>
                      <a:lnTo>
                        <a:pt x="781" y="2018"/>
                      </a:lnTo>
                      <a:lnTo>
                        <a:pt x="660" y="1865"/>
                      </a:lnTo>
                      <a:lnTo>
                        <a:pt x="626" y="1747"/>
                      </a:lnTo>
                      <a:lnTo>
                        <a:pt x="682" y="1747"/>
                      </a:lnTo>
                      <a:lnTo>
                        <a:pt x="626" y="1629"/>
                      </a:lnTo>
                      <a:lnTo>
                        <a:pt x="704" y="1660"/>
                      </a:lnTo>
                      <a:lnTo>
                        <a:pt x="704" y="1651"/>
                      </a:lnTo>
                      <a:lnTo>
                        <a:pt x="639" y="1511"/>
                      </a:lnTo>
                      <a:lnTo>
                        <a:pt x="708" y="1555"/>
                      </a:lnTo>
                      <a:lnTo>
                        <a:pt x="660" y="1442"/>
                      </a:lnTo>
                      <a:lnTo>
                        <a:pt x="729" y="1511"/>
                      </a:lnTo>
                      <a:lnTo>
                        <a:pt x="682" y="1354"/>
                      </a:lnTo>
                      <a:lnTo>
                        <a:pt x="738" y="1433"/>
                      </a:lnTo>
                      <a:lnTo>
                        <a:pt x="985" y="1782"/>
                      </a:lnTo>
                      <a:lnTo>
                        <a:pt x="729" y="1433"/>
                      </a:lnTo>
                      <a:lnTo>
                        <a:pt x="673" y="1232"/>
                      </a:lnTo>
                      <a:lnTo>
                        <a:pt x="846" y="1428"/>
                      </a:lnTo>
                      <a:lnTo>
                        <a:pt x="738" y="1263"/>
                      </a:lnTo>
                      <a:lnTo>
                        <a:pt x="691" y="1083"/>
                      </a:lnTo>
                      <a:lnTo>
                        <a:pt x="747" y="1110"/>
                      </a:lnTo>
                      <a:lnTo>
                        <a:pt x="704" y="1014"/>
                      </a:lnTo>
                      <a:lnTo>
                        <a:pt x="760" y="1049"/>
                      </a:lnTo>
                      <a:lnTo>
                        <a:pt x="985" y="1433"/>
                      </a:lnTo>
                      <a:lnTo>
                        <a:pt x="747" y="1009"/>
                      </a:lnTo>
                      <a:lnTo>
                        <a:pt x="747" y="874"/>
                      </a:lnTo>
                      <a:lnTo>
                        <a:pt x="803" y="931"/>
                      </a:lnTo>
                      <a:lnTo>
                        <a:pt x="925" y="1214"/>
                      </a:lnTo>
                      <a:lnTo>
                        <a:pt x="777" y="852"/>
                      </a:lnTo>
                      <a:lnTo>
                        <a:pt x="760" y="734"/>
                      </a:lnTo>
                      <a:lnTo>
                        <a:pt x="803" y="787"/>
                      </a:lnTo>
                      <a:lnTo>
                        <a:pt x="946" y="1014"/>
                      </a:lnTo>
                      <a:lnTo>
                        <a:pt x="942" y="996"/>
                      </a:lnTo>
                      <a:lnTo>
                        <a:pt x="816" y="752"/>
                      </a:lnTo>
                      <a:lnTo>
                        <a:pt x="794" y="598"/>
                      </a:lnTo>
                      <a:lnTo>
                        <a:pt x="855" y="672"/>
                      </a:lnTo>
                      <a:lnTo>
                        <a:pt x="824" y="528"/>
                      </a:lnTo>
                      <a:lnTo>
                        <a:pt x="1024" y="870"/>
                      </a:lnTo>
                      <a:lnTo>
                        <a:pt x="837" y="510"/>
                      </a:lnTo>
                      <a:lnTo>
                        <a:pt x="816" y="401"/>
                      </a:lnTo>
                      <a:lnTo>
                        <a:pt x="885" y="480"/>
                      </a:lnTo>
                      <a:lnTo>
                        <a:pt x="872" y="314"/>
                      </a:lnTo>
                      <a:lnTo>
                        <a:pt x="963" y="393"/>
                      </a:lnTo>
                      <a:lnTo>
                        <a:pt x="1071" y="598"/>
                      </a:lnTo>
                      <a:lnTo>
                        <a:pt x="963" y="384"/>
                      </a:lnTo>
                      <a:lnTo>
                        <a:pt x="925" y="218"/>
                      </a:lnTo>
                      <a:lnTo>
                        <a:pt x="972" y="262"/>
                      </a:lnTo>
                      <a:lnTo>
                        <a:pt x="942" y="135"/>
                      </a:lnTo>
                      <a:lnTo>
                        <a:pt x="989" y="174"/>
                      </a:lnTo>
                      <a:lnTo>
                        <a:pt x="1002" y="69"/>
                      </a:lnTo>
                      <a:lnTo>
                        <a:pt x="989" y="26"/>
                      </a:lnTo>
                      <a:lnTo>
                        <a:pt x="972" y="0"/>
                      </a:lnTo>
                      <a:close/>
                    </a:path>
                  </a:pathLst>
                </a:custGeom>
                <a:solidFill>
                  <a:srgbClr val="a6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7966080" y="5121360"/>
                  <a:ext cx="214560" cy="632160"/>
                </a:xfrm>
                <a:custGeom>
                  <a:avLst/>
                  <a:gdLst/>
                  <a:ahLst/>
                  <a:rect l="0" t="0" r="r" b="b"/>
                  <a:pathLst>
                    <a:path w="596" h="1756">
                      <a:moveTo>
                        <a:pt x="12" y="282"/>
                      </a:moveTo>
                      <a:lnTo>
                        <a:pt x="139" y="0"/>
                      </a:lnTo>
                      <a:lnTo>
                        <a:pt x="215" y="8"/>
                      </a:lnTo>
                      <a:lnTo>
                        <a:pt x="282" y="26"/>
                      </a:lnTo>
                      <a:lnTo>
                        <a:pt x="338" y="99"/>
                      </a:lnTo>
                      <a:lnTo>
                        <a:pt x="473" y="325"/>
                      </a:lnTo>
                      <a:lnTo>
                        <a:pt x="516" y="430"/>
                      </a:lnTo>
                      <a:lnTo>
                        <a:pt x="549" y="525"/>
                      </a:lnTo>
                      <a:lnTo>
                        <a:pt x="583" y="825"/>
                      </a:lnTo>
                      <a:lnTo>
                        <a:pt x="596" y="913"/>
                      </a:lnTo>
                      <a:lnTo>
                        <a:pt x="583" y="1030"/>
                      </a:lnTo>
                      <a:lnTo>
                        <a:pt x="562" y="1152"/>
                      </a:lnTo>
                      <a:lnTo>
                        <a:pt x="507" y="1343"/>
                      </a:lnTo>
                      <a:lnTo>
                        <a:pt x="461" y="1465"/>
                      </a:lnTo>
                      <a:lnTo>
                        <a:pt x="393" y="1595"/>
                      </a:lnTo>
                      <a:lnTo>
                        <a:pt x="257" y="1756"/>
                      </a:lnTo>
                      <a:lnTo>
                        <a:pt x="326" y="1556"/>
                      </a:lnTo>
                      <a:lnTo>
                        <a:pt x="385" y="1369"/>
                      </a:lnTo>
                      <a:lnTo>
                        <a:pt x="418" y="1195"/>
                      </a:lnTo>
                      <a:lnTo>
                        <a:pt x="406" y="1030"/>
                      </a:lnTo>
                      <a:lnTo>
                        <a:pt x="393" y="913"/>
                      </a:lnTo>
                      <a:lnTo>
                        <a:pt x="418" y="773"/>
                      </a:lnTo>
                      <a:lnTo>
                        <a:pt x="427" y="660"/>
                      </a:lnTo>
                      <a:lnTo>
                        <a:pt x="372" y="430"/>
                      </a:lnTo>
                      <a:lnTo>
                        <a:pt x="359" y="304"/>
                      </a:lnTo>
                      <a:lnTo>
                        <a:pt x="313" y="204"/>
                      </a:lnTo>
                      <a:lnTo>
                        <a:pt x="215" y="73"/>
                      </a:lnTo>
                      <a:lnTo>
                        <a:pt x="168" y="178"/>
                      </a:lnTo>
                      <a:lnTo>
                        <a:pt x="0" y="338"/>
                      </a:lnTo>
                      <a:lnTo>
                        <a:pt x="12" y="282"/>
                      </a:lnTo>
                      <a:close/>
                    </a:path>
                  </a:pathLst>
                </a:custGeom>
                <a:solidFill>
                  <a:srgbClr val="a6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6613560" y="4905360"/>
                <a:ext cx="2454480" cy="1910160"/>
                <a:chOff x="6613560" y="4905360"/>
                <a:chExt cx="2454480" cy="1910160"/>
              </a:xfrm>
            </p:grpSpPr>
            <p:grpSp>
              <p:nvGrpSpPr>
                <p:cNvPr id="7" name=""/>
                <p:cNvGrpSpPr/>
                <p:nvPr/>
              </p:nvGrpSpPr>
              <p:grpSpPr>
                <a:xfrm>
                  <a:off x="7496280" y="4905360"/>
                  <a:ext cx="551160" cy="1891080"/>
                  <a:chOff x="7496280" y="4905360"/>
                  <a:chExt cx="551160" cy="1891080"/>
                </a:xfrm>
              </p:grpSpPr>
              <p:grpSp>
                <p:nvGrpSpPr>
                  <p:cNvPr id="8" name=""/>
                  <p:cNvGrpSpPr/>
                  <p:nvPr/>
                </p:nvGrpSpPr>
                <p:grpSpPr>
                  <a:xfrm>
                    <a:off x="7496280" y="4905360"/>
                    <a:ext cx="551160" cy="1891080"/>
                    <a:chOff x="7496280" y="4905360"/>
                    <a:chExt cx="551160" cy="1891080"/>
                  </a:xfrm>
                </p:grpSpPr>
                <p:grpSp>
                  <p:nvGrpSpPr>
                    <p:cNvPr id="9" name=""/>
                    <p:cNvGrpSpPr/>
                    <p:nvPr/>
                  </p:nvGrpSpPr>
                  <p:grpSpPr>
                    <a:xfrm>
                      <a:off x="7496280" y="5867280"/>
                      <a:ext cx="447840" cy="746640"/>
                      <a:chOff x="7496280" y="5867280"/>
                      <a:chExt cx="447840" cy="746640"/>
                    </a:xfrm>
                  </p:grpSpPr>
                  <p:sp>
                    <p:nvSpPr>
                      <p:cNvPr id="10" name=""/>
                      <p:cNvSpPr/>
                      <p:nvPr/>
                    </p:nvSpPr>
                    <p:spPr>
                      <a:xfrm>
                        <a:off x="7718400" y="5867280"/>
                        <a:ext cx="225720" cy="746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627" h="2074">
                            <a:moveTo>
                              <a:pt x="627" y="2074"/>
                            </a:moveTo>
                            <a:lnTo>
                              <a:pt x="503" y="834"/>
                            </a:lnTo>
                            <a:lnTo>
                              <a:pt x="406" y="216"/>
                            </a:lnTo>
                            <a:lnTo>
                              <a:pt x="375" y="88"/>
                            </a:lnTo>
                            <a:lnTo>
                              <a:pt x="327" y="22"/>
                            </a:lnTo>
                            <a:lnTo>
                              <a:pt x="233" y="0"/>
                            </a:lnTo>
                            <a:lnTo>
                              <a:pt x="154" y="26"/>
                            </a:lnTo>
                            <a:lnTo>
                              <a:pt x="74" y="92"/>
                            </a:lnTo>
                            <a:lnTo>
                              <a:pt x="0" y="211"/>
                            </a:lnTo>
                          </a:path>
                        </a:pathLst>
                      </a:custGeom>
                      <a:ln w="25560">
                        <a:solidFill>
                          <a:srgbClr val="a6ffff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7496280" y="5894280"/>
                        <a:ext cx="335160" cy="547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931" h="1522">
                            <a:moveTo>
                              <a:pt x="691" y="13"/>
                            </a:moveTo>
                            <a:lnTo>
                              <a:pt x="644" y="13"/>
                            </a:lnTo>
                            <a:lnTo>
                              <a:pt x="614" y="43"/>
                            </a:lnTo>
                            <a:lnTo>
                              <a:pt x="584" y="73"/>
                            </a:lnTo>
                            <a:lnTo>
                              <a:pt x="571" y="86"/>
                            </a:lnTo>
                            <a:lnTo>
                              <a:pt x="528" y="117"/>
                            </a:lnTo>
                            <a:lnTo>
                              <a:pt x="476" y="160"/>
                            </a:lnTo>
                            <a:lnTo>
                              <a:pt x="433" y="173"/>
                            </a:lnTo>
                            <a:lnTo>
                              <a:pt x="334" y="190"/>
                            </a:lnTo>
                            <a:lnTo>
                              <a:pt x="197" y="229"/>
                            </a:lnTo>
                            <a:lnTo>
                              <a:pt x="334" y="203"/>
                            </a:lnTo>
                            <a:lnTo>
                              <a:pt x="407" y="173"/>
                            </a:lnTo>
                            <a:lnTo>
                              <a:pt x="450" y="190"/>
                            </a:lnTo>
                            <a:lnTo>
                              <a:pt x="385" y="221"/>
                            </a:lnTo>
                            <a:lnTo>
                              <a:pt x="433" y="221"/>
                            </a:lnTo>
                            <a:lnTo>
                              <a:pt x="385" y="260"/>
                            </a:lnTo>
                            <a:lnTo>
                              <a:pt x="64" y="507"/>
                            </a:lnTo>
                            <a:lnTo>
                              <a:pt x="407" y="260"/>
                            </a:lnTo>
                            <a:lnTo>
                              <a:pt x="385" y="294"/>
                            </a:lnTo>
                            <a:lnTo>
                              <a:pt x="347" y="338"/>
                            </a:lnTo>
                            <a:lnTo>
                              <a:pt x="304" y="346"/>
                            </a:lnTo>
                            <a:lnTo>
                              <a:pt x="210" y="364"/>
                            </a:lnTo>
                            <a:lnTo>
                              <a:pt x="64" y="338"/>
                            </a:lnTo>
                            <a:lnTo>
                              <a:pt x="304" y="364"/>
                            </a:lnTo>
                            <a:lnTo>
                              <a:pt x="347" y="338"/>
                            </a:lnTo>
                            <a:lnTo>
                              <a:pt x="385" y="320"/>
                            </a:lnTo>
                            <a:lnTo>
                              <a:pt x="377" y="364"/>
                            </a:lnTo>
                            <a:lnTo>
                              <a:pt x="347" y="377"/>
                            </a:lnTo>
                            <a:lnTo>
                              <a:pt x="47" y="520"/>
                            </a:lnTo>
                            <a:lnTo>
                              <a:pt x="347" y="390"/>
                            </a:lnTo>
                            <a:lnTo>
                              <a:pt x="377" y="390"/>
                            </a:lnTo>
                            <a:lnTo>
                              <a:pt x="347" y="433"/>
                            </a:lnTo>
                            <a:lnTo>
                              <a:pt x="304" y="481"/>
                            </a:lnTo>
                            <a:lnTo>
                              <a:pt x="47" y="563"/>
                            </a:lnTo>
                            <a:lnTo>
                              <a:pt x="334" y="459"/>
                            </a:lnTo>
                            <a:lnTo>
                              <a:pt x="347" y="459"/>
                            </a:lnTo>
                            <a:lnTo>
                              <a:pt x="364" y="481"/>
                            </a:lnTo>
                            <a:lnTo>
                              <a:pt x="304" y="533"/>
                            </a:lnTo>
                            <a:lnTo>
                              <a:pt x="364" y="520"/>
                            </a:lnTo>
                            <a:lnTo>
                              <a:pt x="282" y="593"/>
                            </a:lnTo>
                            <a:lnTo>
                              <a:pt x="227" y="637"/>
                            </a:lnTo>
                            <a:lnTo>
                              <a:pt x="107" y="667"/>
                            </a:lnTo>
                            <a:lnTo>
                              <a:pt x="47" y="667"/>
                            </a:lnTo>
                            <a:lnTo>
                              <a:pt x="150" y="650"/>
                            </a:lnTo>
                            <a:lnTo>
                              <a:pt x="270" y="619"/>
                            </a:lnTo>
                            <a:lnTo>
                              <a:pt x="304" y="606"/>
                            </a:lnTo>
                            <a:lnTo>
                              <a:pt x="270" y="650"/>
                            </a:lnTo>
                            <a:lnTo>
                              <a:pt x="210" y="710"/>
                            </a:lnTo>
                            <a:lnTo>
                              <a:pt x="107" y="736"/>
                            </a:lnTo>
                            <a:lnTo>
                              <a:pt x="0" y="768"/>
                            </a:lnTo>
                            <a:lnTo>
                              <a:pt x="137" y="723"/>
                            </a:lnTo>
                            <a:lnTo>
                              <a:pt x="227" y="684"/>
                            </a:lnTo>
                            <a:lnTo>
                              <a:pt x="304" y="637"/>
                            </a:lnTo>
                            <a:lnTo>
                              <a:pt x="317" y="619"/>
                            </a:lnTo>
                            <a:lnTo>
                              <a:pt x="304" y="667"/>
                            </a:lnTo>
                            <a:lnTo>
                              <a:pt x="334" y="650"/>
                            </a:lnTo>
                            <a:lnTo>
                              <a:pt x="364" y="667"/>
                            </a:lnTo>
                            <a:lnTo>
                              <a:pt x="304" y="710"/>
                            </a:lnTo>
                            <a:lnTo>
                              <a:pt x="304" y="736"/>
                            </a:lnTo>
                            <a:lnTo>
                              <a:pt x="227" y="798"/>
                            </a:lnTo>
                            <a:lnTo>
                              <a:pt x="252" y="798"/>
                            </a:lnTo>
                            <a:lnTo>
                              <a:pt x="227" y="828"/>
                            </a:lnTo>
                            <a:lnTo>
                              <a:pt x="120" y="889"/>
                            </a:lnTo>
                            <a:lnTo>
                              <a:pt x="30" y="902"/>
                            </a:lnTo>
                            <a:lnTo>
                              <a:pt x="162" y="872"/>
                            </a:lnTo>
                            <a:lnTo>
                              <a:pt x="244" y="828"/>
                            </a:lnTo>
                            <a:lnTo>
                              <a:pt x="282" y="811"/>
                            </a:lnTo>
                            <a:lnTo>
                              <a:pt x="282" y="854"/>
                            </a:lnTo>
                            <a:lnTo>
                              <a:pt x="282" y="872"/>
                            </a:lnTo>
                            <a:lnTo>
                              <a:pt x="244" y="928"/>
                            </a:lnTo>
                            <a:lnTo>
                              <a:pt x="197" y="971"/>
                            </a:lnTo>
                            <a:lnTo>
                              <a:pt x="227" y="971"/>
                            </a:lnTo>
                            <a:lnTo>
                              <a:pt x="184" y="1002"/>
                            </a:lnTo>
                            <a:lnTo>
                              <a:pt x="30" y="1075"/>
                            </a:lnTo>
                            <a:lnTo>
                              <a:pt x="137" y="1032"/>
                            </a:lnTo>
                            <a:lnTo>
                              <a:pt x="210" y="1002"/>
                            </a:lnTo>
                            <a:lnTo>
                              <a:pt x="210" y="1045"/>
                            </a:lnTo>
                            <a:lnTo>
                              <a:pt x="162" y="1062"/>
                            </a:lnTo>
                            <a:lnTo>
                              <a:pt x="210" y="1045"/>
                            </a:lnTo>
                            <a:lnTo>
                              <a:pt x="210" y="1075"/>
                            </a:lnTo>
                            <a:lnTo>
                              <a:pt x="184" y="1106"/>
                            </a:lnTo>
                            <a:lnTo>
                              <a:pt x="47" y="1149"/>
                            </a:lnTo>
                            <a:lnTo>
                              <a:pt x="162" y="1106"/>
                            </a:lnTo>
                            <a:lnTo>
                              <a:pt x="162" y="1119"/>
                            </a:lnTo>
                            <a:lnTo>
                              <a:pt x="184" y="1132"/>
                            </a:lnTo>
                            <a:lnTo>
                              <a:pt x="47" y="1236"/>
                            </a:lnTo>
                            <a:lnTo>
                              <a:pt x="150" y="1162"/>
                            </a:lnTo>
                            <a:lnTo>
                              <a:pt x="184" y="1149"/>
                            </a:lnTo>
                            <a:lnTo>
                              <a:pt x="197" y="1175"/>
                            </a:lnTo>
                            <a:lnTo>
                              <a:pt x="162" y="1205"/>
                            </a:lnTo>
                            <a:lnTo>
                              <a:pt x="197" y="1192"/>
                            </a:lnTo>
                            <a:lnTo>
                              <a:pt x="162" y="1275"/>
                            </a:lnTo>
                            <a:lnTo>
                              <a:pt x="30" y="1374"/>
                            </a:lnTo>
                            <a:lnTo>
                              <a:pt x="162" y="1275"/>
                            </a:lnTo>
                            <a:lnTo>
                              <a:pt x="150" y="1318"/>
                            </a:lnTo>
                            <a:lnTo>
                              <a:pt x="197" y="1275"/>
                            </a:lnTo>
                            <a:lnTo>
                              <a:pt x="197" y="1318"/>
                            </a:lnTo>
                            <a:lnTo>
                              <a:pt x="210" y="1522"/>
                            </a:lnTo>
                            <a:lnTo>
                              <a:pt x="210" y="1509"/>
                            </a:lnTo>
                            <a:lnTo>
                              <a:pt x="210" y="1405"/>
                            </a:lnTo>
                            <a:lnTo>
                              <a:pt x="227" y="1331"/>
                            </a:lnTo>
                            <a:lnTo>
                              <a:pt x="244" y="1275"/>
                            </a:lnTo>
                            <a:lnTo>
                              <a:pt x="270" y="1175"/>
                            </a:lnTo>
                            <a:lnTo>
                              <a:pt x="304" y="1218"/>
                            </a:lnTo>
                            <a:lnTo>
                              <a:pt x="317" y="1218"/>
                            </a:lnTo>
                            <a:lnTo>
                              <a:pt x="317" y="1162"/>
                            </a:lnTo>
                            <a:lnTo>
                              <a:pt x="347" y="1192"/>
                            </a:lnTo>
                            <a:lnTo>
                              <a:pt x="364" y="1262"/>
                            </a:lnTo>
                            <a:lnTo>
                              <a:pt x="347" y="1175"/>
                            </a:lnTo>
                            <a:lnTo>
                              <a:pt x="334" y="1149"/>
                            </a:lnTo>
                            <a:lnTo>
                              <a:pt x="347" y="1075"/>
                            </a:lnTo>
                            <a:lnTo>
                              <a:pt x="364" y="1132"/>
                            </a:lnTo>
                            <a:lnTo>
                              <a:pt x="407" y="1253"/>
                            </a:lnTo>
                            <a:lnTo>
                              <a:pt x="450" y="1318"/>
                            </a:lnTo>
                            <a:lnTo>
                              <a:pt x="571" y="1422"/>
                            </a:lnTo>
                            <a:lnTo>
                              <a:pt x="494" y="1331"/>
                            </a:lnTo>
                            <a:lnTo>
                              <a:pt x="433" y="1262"/>
                            </a:lnTo>
                            <a:lnTo>
                              <a:pt x="407" y="1218"/>
                            </a:lnTo>
                            <a:lnTo>
                              <a:pt x="377" y="1162"/>
                            </a:lnTo>
                            <a:lnTo>
                              <a:pt x="385" y="1002"/>
                            </a:lnTo>
                            <a:lnTo>
                              <a:pt x="407" y="1045"/>
                            </a:lnTo>
                            <a:lnTo>
                              <a:pt x="407" y="958"/>
                            </a:lnTo>
                            <a:lnTo>
                              <a:pt x="407" y="928"/>
                            </a:lnTo>
                            <a:lnTo>
                              <a:pt x="433" y="1002"/>
                            </a:lnTo>
                            <a:lnTo>
                              <a:pt x="588" y="1257"/>
                            </a:lnTo>
                            <a:lnTo>
                              <a:pt x="476" y="1106"/>
                            </a:lnTo>
                            <a:lnTo>
                              <a:pt x="450" y="1062"/>
                            </a:lnTo>
                            <a:lnTo>
                              <a:pt x="433" y="1002"/>
                            </a:lnTo>
                            <a:lnTo>
                              <a:pt x="433" y="841"/>
                            </a:lnTo>
                            <a:lnTo>
                              <a:pt x="450" y="854"/>
                            </a:lnTo>
                            <a:lnTo>
                              <a:pt x="463" y="768"/>
                            </a:lnTo>
                            <a:lnTo>
                              <a:pt x="506" y="798"/>
                            </a:lnTo>
                            <a:lnTo>
                              <a:pt x="708" y="1262"/>
                            </a:lnTo>
                            <a:lnTo>
                              <a:pt x="614" y="1106"/>
                            </a:lnTo>
                            <a:lnTo>
                              <a:pt x="571" y="971"/>
                            </a:lnTo>
                            <a:lnTo>
                              <a:pt x="506" y="854"/>
                            </a:lnTo>
                            <a:lnTo>
                              <a:pt x="506" y="785"/>
                            </a:lnTo>
                            <a:lnTo>
                              <a:pt x="494" y="667"/>
                            </a:lnTo>
                            <a:lnTo>
                              <a:pt x="528" y="684"/>
                            </a:lnTo>
                            <a:lnTo>
                              <a:pt x="695" y="984"/>
                            </a:lnTo>
                            <a:lnTo>
                              <a:pt x="506" y="637"/>
                            </a:lnTo>
                            <a:lnTo>
                              <a:pt x="506" y="576"/>
                            </a:lnTo>
                            <a:lnTo>
                              <a:pt x="528" y="619"/>
                            </a:lnTo>
                            <a:lnTo>
                              <a:pt x="528" y="494"/>
                            </a:lnTo>
                            <a:lnTo>
                              <a:pt x="554" y="533"/>
                            </a:lnTo>
                            <a:lnTo>
                              <a:pt x="554" y="459"/>
                            </a:lnTo>
                            <a:lnTo>
                              <a:pt x="597" y="507"/>
                            </a:lnTo>
                            <a:lnTo>
                              <a:pt x="661" y="650"/>
                            </a:lnTo>
                            <a:lnTo>
                              <a:pt x="734" y="736"/>
                            </a:lnTo>
                            <a:lnTo>
                              <a:pt x="867" y="889"/>
                            </a:lnTo>
                            <a:lnTo>
                              <a:pt x="734" y="736"/>
                            </a:lnTo>
                            <a:lnTo>
                              <a:pt x="674" y="667"/>
                            </a:lnTo>
                            <a:lnTo>
                              <a:pt x="614" y="563"/>
                            </a:lnTo>
                            <a:lnTo>
                              <a:pt x="597" y="494"/>
                            </a:lnTo>
                            <a:lnTo>
                              <a:pt x="571" y="364"/>
                            </a:lnTo>
                            <a:lnTo>
                              <a:pt x="584" y="377"/>
                            </a:lnTo>
                            <a:lnTo>
                              <a:pt x="614" y="364"/>
                            </a:lnTo>
                            <a:lnTo>
                              <a:pt x="597" y="307"/>
                            </a:lnTo>
                            <a:lnTo>
                              <a:pt x="627" y="364"/>
                            </a:lnTo>
                            <a:lnTo>
                              <a:pt x="661" y="420"/>
                            </a:lnTo>
                            <a:lnTo>
                              <a:pt x="734" y="481"/>
                            </a:lnTo>
                            <a:lnTo>
                              <a:pt x="841" y="533"/>
                            </a:lnTo>
                            <a:lnTo>
                              <a:pt x="704" y="459"/>
                            </a:lnTo>
                            <a:lnTo>
                              <a:pt x="661" y="403"/>
                            </a:lnTo>
                            <a:lnTo>
                              <a:pt x="644" y="377"/>
                            </a:lnTo>
                            <a:lnTo>
                              <a:pt x="644" y="234"/>
                            </a:lnTo>
                            <a:lnTo>
                              <a:pt x="674" y="277"/>
                            </a:lnTo>
                            <a:lnTo>
                              <a:pt x="721" y="346"/>
                            </a:lnTo>
                            <a:lnTo>
                              <a:pt x="785" y="407"/>
                            </a:lnTo>
                            <a:lnTo>
                              <a:pt x="931" y="576"/>
                            </a:lnTo>
                            <a:lnTo>
                              <a:pt x="682" y="234"/>
                            </a:lnTo>
                            <a:lnTo>
                              <a:pt x="674" y="247"/>
                            </a:lnTo>
                            <a:lnTo>
                              <a:pt x="691" y="173"/>
                            </a:lnTo>
                            <a:lnTo>
                              <a:pt x="674" y="130"/>
                            </a:lnTo>
                            <a:lnTo>
                              <a:pt x="661" y="117"/>
                            </a:lnTo>
                            <a:lnTo>
                              <a:pt x="674" y="86"/>
                            </a:lnTo>
                            <a:lnTo>
                              <a:pt x="691" y="43"/>
                            </a:lnTo>
                            <a:lnTo>
                              <a:pt x="721" y="13"/>
                            </a:lnTo>
                            <a:lnTo>
                              <a:pt x="747" y="0"/>
                            </a:lnTo>
                            <a:lnTo>
                              <a:pt x="691" y="13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" name=""/>
                    <p:cNvGrpSpPr/>
                    <p:nvPr/>
                  </p:nvGrpSpPr>
                  <p:grpSpPr>
                    <a:xfrm>
                      <a:off x="7639200" y="4905360"/>
                      <a:ext cx="408240" cy="1891080"/>
                      <a:chOff x="7639200" y="4905360"/>
                      <a:chExt cx="408240" cy="1891080"/>
                    </a:xfrm>
                  </p:grpSpPr>
                  <p:sp>
                    <p:nvSpPr>
                      <p:cNvPr id="13" name=""/>
                      <p:cNvSpPr/>
                      <p:nvPr/>
                    </p:nvSpPr>
                    <p:spPr>
                      <a:xfrm>
                        <a:off x="7745400" y="4905360"/>
                        <a:ext cx="302040" cy="18910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839" h="5253">
                            <a:moveTo>
                              <a:pt x="835" y="5253"/>
                            </a:moveTo>
                            <a:lnTo>
                              <a:pt x="839" y="4495"/>
                            </a:lnTo>
                            <a:lnTo>
                              <a:pt x="839" y="4142"/>
                            </a:lnTo>
                            <a:lnTo>
                              <a:pt x="822" y="3899"/>
                            </a:lnTo>
                            <a:lnTo>
                              <a:pt x="808" y="3603"/>
                            </a:lnTo>
                            <a:lnTo>
                              <a:pt x="813" y="3290"/>
                            </a:lnTo>
                            <a:lnTo>
                              <a:pt x="804" y="3034"/>
                            </a:lnTo>
                            <a:lnTo>
                              <a:pt x="782" y="2801"/>
                            </a:lnTo>
                            <a:lnTo>
                              <a:pt x="756" y="2386"/>
                            </a:lnTo>
                            <a:lnTo>
                              <a:pt x="716" y="1936"/>
                            </a:lnTo>
                            <a:lnTo>
                              <a:pt x="663" y="1478"/>
                            </a:lnTo>
                            <a:lnTo>
                              <a:pt x="618" y="987"/>
                            </a:lnTo>
                            <a:lnTo>
                              <a:pt x="583" y="696"/>
                            </a:lnTo>
                            <a:lnTo>
                              <a:pt x="552" y="582"/>
                            </a:lnTo>
                            <a:lnTo>
                              <a:pt x="472" y="388"/>
                            </a:lnTo>
                            <a:lnTo>
                              <a:pt x="406" y="242"/>
                            </a:lnTo>
                            <a:lnTo>
                              <a:pt x="322" y="123"/>
                            </a:lnTo>
                            <a:lnTo>
                              <a:pt x="239" y="30"/>
                            </a:lnTo>
                            <a:lnTo>
                              <a:pt x="180" y="4"/>
                            </a:lnTo>
                            <a:lnTo>
                              <a:pt x="97" y="0"/>
                            </a:lnTo>
                            <a:lnTo>
                              <a:pt x="35" y="30"/>
                            </a:lnTo>
                            <a:lnTo>
                              <a:pt x="0" y="88"/>
                            </a:lnTo>
                          </a:path>
                        </a:pathLst>
                      </a:custGeom>
                      <a:ln w="25560">
                        <a:solidFill>
                          <a:srgbClr val="a6ffff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" name=""/>
                      <p:cNvSpPr/>
                      <p:nvPr/>
                    </p:nvSpPr>
                    <p:spPr>
                      <a:xfrm>
                        <a:off x="7639200" y="5641920"/>
                        <a:ext cx="89280" cy="518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248" h="1439">
                            <a:moveTo>
                              <a:pt x="248" y="0"/>
                            </a:moveTo>
                            <a:lnTo>
                              <a:pt x="156" y="95"/>
                            </a:lnTo>
                            <a:lnTo>
                              <a:pt x="104" y="272"/>
                            </a:lnTo>
                            <a:lnTo>
                              <a:pt x="51" y="516"/>
                            </a:lnTo>
                            <a:lnTo>
                              <a:pt x="0" y="823"/>
                            </a:lnTo>
                            <a:lnTo>
                              <a:pt x="0" y="1149"/>
                            </a:lnTo>
                            <a:lnTo>
                              <a:pt x="27" y="1439"/>
                            </a:lnTo>
                            <a:lnTo>
                              <a:pt x="51" y="1439"/>
                            </a:lnTo>
                            <a:lnTo>
                              <a:pt x="27" y="1149"/>
                            </a:lnTo>
                            <a:lnTo>
                              <a:pt x="27" y="910"/>
                            </a:lnTo>
                            <a:lnTo>
                              <a:pt x="80" y="650"/>
                            </a:lnTo>
                            <a:lnTo>
                              <a:pt x="156" y="382"/>
                            </a:lnTo>
                            <a:lnTo>
                              <a:pt x="244" y="38"/>
                            </a:lnTo>
                            <a:lnTo>
                              <a:pt x="248" y="0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" name=""/>
                  <p:cNvSpPr/>
                  <p:nvPr/>
                </p:nvSpPr>
                <p:spPr>
                  <a:xfrm>
                    <a:off x="7718400" y="5603760"/>
                    <a:ext cx="313200" cy="6051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870" h="1681">
                        <a:moveTo>
                          <a:pt x="870" y="1681"/>
                        </a:moveTo>
                        <a:lnTo>
                          <a:pt x="742" y="1306"/>
                        </a:lnTo>
                        <a:lnTo>
                          <a:pt x="631" y="891"/>
                        </a:lnTo>
                        <a:lnTo>
                          <a:pt x="574" y="709"/>
                        </a:lnTo>
                        <a:lnTo>
                          <a:pt x="494" y="498"/>
                        </a:lnTo>
                        <a:lnTo>
                          <a:pt x="389" y="277"/>
                        </a:lnTo>
                        <a:lnTo>
                          <a:pt x="309" y="141"/>
                        </a:lnTo>
                        <a:lnTo>
                          <a:pt x="252" y="74"/>
                        </a:lnTo>
                        <a:lnTo>
                          <a:pt x="171" y="22"/>
                        </a:lnTo>
                        <a:lnTo>
                          <a:pt x="83" y="0"/>
                        </a:lnTo>
                        <a:lnTo>
                          <a:pt x="44" y="48"/>
                        </a:lnTo>
                        <a:lnTo>
                          <a:pt x="0" y="154"/>
                        </a:lnTo>
                      </a:path>
                    </a:pathLst>
                  </a:custGeom>
                  <a:ln w="12600">
                    <a:solidFill>
                      <a:srgbClr val="a6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" name=""/>
                <p:cNvGrpSpPr/>
                <p:nvPr/>
              </p:nvGrpSpPr>
              <p:grpSpPr>
                <a:xfrm>
                  <a:off x="8186760" y="6143760"/>
                  <a:ext cx="378000" cy="671760"/>
                  <a:chOff x="8186760" y="6143760"/>
                  <a:chExt cx="378000" cy="671760"/>
                </a:xfrm>
              </p:grpSpPr>
              <p:sp>
                <p:nvSpPr>
                  <p:cNvPr id="17" name=""/>
                  <p:cNvSpPr/>
                  <p:nvPr/>
                </p:nvSpPr>
                <p:spPr>
                  <a:xfrm>
                    <a:off x="8186760" y="6170760"/>
                    <a:ext cx="89280" cy="64476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1791">
                        <a:moveTo>
                          <a:pt x="197" y="0"/>
                        </a:moveTo>
                        <a:lnTo>
                          <a:pt x="180" y="34"/>
                        </a:lnTo>
                        <a:lnTo>
                          <a:pt x="100" y="356"/>
                        </a:lnTo>
                        <a:lnTo>
                          <a:pt x="51" y="651"/>
                        </a:lnTo>
                        <a:lnTo>
                          <a:pt x="0" y="1030"/>
                        </a:lnTo>
                        <a:lnTo>
                          <a:pt x="0" y="1430"/>
                        </a:lnTo>
                        <a:lnTo>
                          <a:pt x="23" y="1791"/>
                        </a:lnTo>
                        <a:lnTo>
                          <a:pt x="51" y="1791"/>
                        </a:lnTo>
                        <a:lnTo>
                          <a:pt x="23" y="1430"/>
                        </a:lnTo>
                        <a:lnTo>
                          <a:pt x="23" y="1139"/>
                        </a:lnTo>
                        <a:lnTo>
                          <a:pt x="76" y="812"/>
                        </a:lnTo>
                        <a:lnTo>
                          <a:pt x="148" y="491"/>
                        </a:lnTo>
                        <a:lnTo>
                          <a:pt x="248" y="82"/>
                        </a:lnTo>
                        <a:lnTo>
                          <a:pt x="197" y="0"/>
                        </a:lnTo>
                        <a:close/>
                      </a:path>
                    </a:pathLst>
                  </a:custGeom>
                  <a:solidFill>
                    <a:srgbClr val="a6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8264520" y="6143760"/>
                    <a:ext cx="300240" cy="6638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834" h="1844">
                        <a:moveTo>
                          <a:pt x="834" y="1844"/>
                        </a:moveTo>
                        <a:lnTo>
                          <a:pt x="710" y="1667"/>
                        </a:lnTo>
                        <a:lnTo>
                          <a:pt x="662" y="1557"/>
                        </a:lnTo>
                        <a:lnTo>
                          <a:pt x="627" y="1473"/>
                        </a:lnTo>
                        <a:lnTo>
                          <a:pt x="446" y="617"/>
                        </a:lnTo>
                        <a:lnTo>
                          <a:pt x="348" y="348"/>
                        </a:lnTo>
                        <a:lnTo>
                          <a:pt x="268" y="176"/>
                        </a:lnTo>
                        <a:lnTo>
                          <a:pt x="211" y="92"/>
                        </a:lnTo>
                        <a:lnTo>
                          <a:pt x="145" y="26"/>
                        </a:lnTo>
                        <a:lnTo>
                          <a:pt x="74" y="0"/>
                        </a:lnTo>
                        <a:lnTo>
                          <a:pt x="26" y="17"/>
                        </a:lnTo>
                        <a:lnTo>
                          <a:pt x="0" y="127"/>
                        </a:lnTo>
                      </a:path>
                    </a:pathLst>
                  </a:custGeom>
                  <a:ln w="25560">
                    <a:solidFill>
                      <a:srgbClr val="a6ffff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" name=""/>
                <p:cNvGrpSpPr/>
                <p:nvPr/>
              </p:nvGrpSpPr>
              <p:grpSpPr>
                <a:xfrm>
                  <a:off x="7483320" y="4933800"/>
                  <a:ext cx="1094400" cy="1675080"/>
                  <a:chOff x="7483320" y="4933800"/>
                  <a:chExt cx="1094400" cy="16750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483320" y="5603760"/>
                    <a:ext cx="646560" cy="10051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796" h="2792">
                        <a:moveTo>
                          <a:pt x="1796" y="2792"/>
                        </a:moveTo>
                        <a:lnTo>
                          <a:pt x="1748" y="2571"/>
                        </a:lnTo>
                        <a:lnTo>
                          <a:pt x="1182" y="1053"/>
                        </a:lnTo>
                        <a:lnTo>
                          <a:pt x="931" y="586"/>
                        </a:lnTo>
                        <a:lnTo>
                          <a:pt x="856" y="427"/>
                        </a:lnTo>
                        <a:lnTo>
                          <a:pt x="759" y="255"/>
                        </a:lnTo>
                        <a:lnTo>
                          <a:pt x="644" y="123"/>
                        </a:lnTo>
                        <a:lnTo>
                          <a:pt x="543" y="52"/>
                        </a:lnTo>
                        <a:lnTo>
                          <a:pt x="414" y="4"/>
                        </a:lnTo>
                        <a:lnTo>
                          <a:pt x="282" y="0"/>
                        </a:lnTo>
                        <a:lnTo>
                          <a:pt x="189" y="52"/>
                        </a:lnTo>
                        <a:lnTo>
                          <a:pt x="0" y="308"/>
                        </a:lnTo>
                      </a:path>
                    </a:pathLst>
                  </a:custGeom>
                  <a:ln w="25560">
                    <a:solidFill>
                      <a:srgbClr val="a6ffff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7934400" y="4933800"/>
                    <a:ext cx="643320" cy="16671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787" h="4631">
                        <a:moveTo>
                          <a:pt x="0" y="4631"/>
                        </a:moveTo>
                        <a:lnTo>
                          <a:pt x="472" y="3317"/>
                        </a:lnTo>
                        <a:lnTo>
                          <a:pt x="728" y="2660"/>
                        </a:lnTo>
                        <a:lnTo>
                          <a:pt x="953" y="2032"/>
                        </a:lnTo>
                        <a:lnTo>
                          <a:pt x="1090" y="1596"/>
                        </a:lnTo>
                        <a:lnTo>
                          <a:pt x="1156" y="1362"/>
                        </a:lnTo>
                        <a:lnTo>
                          <a:pt x="1196" y="1115"/>
                        </a:lnTo>
                        <a:lnTo>
                          <a:pt x="1248" y="886"/>
                        </a:lnTo>
                        <a:lnTo>
                          <a:pt x="1337" y="608"/>
                        </a:lnTo>
                        <a:lnTo>
                          <a:pt x="1430" y="361"/>
                        </a:lnTo>
                        <a:lnTo>
                          <a:pt x="1549" y="145"/>
                        </a:lnTo>
                        <a:lnTo>
                          <a:pt x="1642" y="13"/>
                        </a:lnTo>
                        <a:lnTo>
                          <a:pt x="1699" y="0"/>
                        </a:lnTo>
                        <a:lnTo>
                          <a:pt x="1757" y="66"/>
                        </a:lnTo>
                        <a:lnTo>
                          <a:pt x="1787" y="308"/>
                        </a:lnTo>
                      </a:path>
                    </a:pathLst>
                  </a:custGeom>
                  <a:ln w="25560">
                    <a:solidFill>
                      <a:srgbClr val="a6ffff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089920" y="5624640"/>
                    <a:ext cx="473400" cy="5702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315" h="1584">
                        <a:moveTo>
                          <a:pt x="0" y="1584"/>
                        </a:moveTo>
                        <a:lnTo>
                          <a:pt x="246" y="1240"/>
                        </a:lnTo>
                        <a:lnTo>
                          <a:pt x="401" y="847"/>
                        </a:lnTo>
                        <a:lnTo>
                          <a:pt x="485" y="670"/>
                        </a:lnTo>
                        <a:lnTo>
                          <a:pt x="595" y="463"/>
                        </a:lnTo>
                        <a:lnTo>
                          <a:pt x="750" y="251"/>
                        </a:lnTo>
                        <a:lnTo>
                          <a:pt x="860" y="127"/>
                        </a:lnTo>
                        <a:lnTo>
                          <a:pt x="944" y="61"/>
                        </a:lnTo>
                        <a:lnTo>
                          <a:pt x="1059" y="8"/>
                        </a:lnTo>
                        <a:lnTo>
                          <a:pt x="1187" y="0"/>
                        </a:lnTo>
                        <a:lnTo>
                          <a:pt x="1244" y="74"/>
                        </a:lnTo>
                        <a:lnTo>
                          <a:pt x="1315" y="194"/>
                        </a:lnTo>
                      </a:path>
                    </a:pathLst>
                  </a:custGeom>
                  <a:ln w="25560">
                    <a:solidFill>
                      <a:srgbClr val="a6ffff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896240" y="5827680"/>
                    <a:ext cx="224280" cy="2764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23" h="768">
                        <a:moveTo>
                          <a:pt x="0" y="0"/>
                        </a:moveTo>
                        <a:lnTo>
                          <a:pt x="105" y="48"/>
                        </a:lnTo>
                        <a:lnTo>
                          <a:pt x="234" y="105"/>
                        </a:lnTo>
                        <a:lnTo>
                          <a:pt x="349" y="216"/>
                        </a:lnTo>
                        <a:lnTo>
                          <a:pt x="450" y="304"/>
                        </a:lnTo>
                        <a:lnTo>
                          <a:pt x="535" y="402"/>
                        </a:lnTo>
                        <a:lnTo>
                          <a:pt x="579" y="486"/>
                        </a:lnTo>
                        <a:lnTo>
                          <a:pt x="610" y="556"/>
                        </a:lnTo>
                        <a:lnTo>
                          <a:pt x="623" y="662"/>
                        </a:lnTo>
                        <a:lnTo>
                          <a:pt x="623" y="768"/>
                        </a:lnTo>
                      </a:path>
                    </a:pathLst>
                  </a:custGeom>
                  <a:ln w="25560">
                    <a:solidFill>
                      <a:srgbClr val="a6ffff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8319960" y="5456160"/>
                  <a:ext cx="748080" cy="1108440"/>
                  <a:chOff x="8319960" y="5456160"/>
                  <a:chExt cx="748080" cy="11084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8508960" y="5456160"/>
                    <a:ext cx="559080" cy="1103760"/>
                    <a:chOff x="8508960" y="5456160"/>
                    <a:chExt cx="559080" cy="110376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8902800" y="6008760"/>
                      <a:ext cx="81360" cy="3891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26" h="1081">
                          <a:moveTo>
                            <a:pt x="43" y="0"/>
                          </a:moveTo>
                          <a:lnTo>
                            <a:pt x="91" y="77"/>
                          </a:lnTo>
                          <a:lnTo>
                            <a:pt x="135" y="210"/>
                          </a:lnTo>
                          <a:lnTo>
                            <a:pt x="183" y="391"/>
                          </a:lnTo>
                          <a:lnTo>
                            <a:pt x="226" y="625"/>
                          </a:lnTo>
                          <a:lnTo>
                            <a:pt x="226" y="870"/>
                          </a:lnTo>
                          <a:lnTo>
                            <a:pt x="203" y="1081"/>
                          </a:lnTo>
                          <a:lnTo>
                            <a:pt x="183" y="1081"/>
                          </a:lnTo>
                          <a:lnTo>
                            <a:pt x="203" y="870"/>
                          </a:lnTo>
                          <a:lnTo>
                            <a:pt x="203" y="689"/>
                          </a:lnTo>
                          <a:lnTo>
                            <a:pt x="158" y="490"/>
                          </a:lnTo>
                          <a:lnTo>
                            <a:pt x="91" y="292"/>
                          </a:lnTo>
                          <a:lnTo>
                            <a:pt x="0" y="47"/>
                          </a:lnTo>
                          <a:lnTo>
                            <a:pt x="43" y="0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8508960" y="5800680"/>
                      <a:ext cx="138600" cy="3891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85" h="1081">
                          <a:moveTo>
                            <a:pt x="377" y="172"/>
                          </a:moveTo>
                          <a:lnTo>
                            <a:pt x="299" y="0"/>
                          </a:lnTo>
                          <a:lnTo>
                            <a:pt x="244" y="4"/>
                          </a:lnTo>
                          <a:lnTo>
                            <a:pt x="203" y="12"/>
                          </a:lnTo>
                          <a:lnTo>
                            <a:pt x="166" y="60"/>
                          </a:lnTo>
                          <a:lnTo>
                            <a:pt x="78" y="197"/>
                          </a:lnTo>
                          <a:lnTo>
                            <a:pt x="45" y="262"/>
                          </a:lnTo>
                          <a:lnTo>
                            <a:pt x="28" y="322"/>
                          </a:lnTo>
                          <a:lnTo>
                            <a:pt x="4" y="512"/>
                          </a:lnTo>
                          <a:lnTo>
                            <a:pt x="0" y="564"/>
                          </a:lnTo>
                          <a:lnTo>
                            <a:pt x="4" y="633"/>
                          </a:lnTo>
                          <a:lnTo>
                            <a:pt x="20" y="711"/>
                          </a:lnTo>
                          <a:lnTo>
                            <a:pt x="57" y="823"/>
                          </a:lnTo>
                          <a:lnTo>
                            <a:pt x="86" y="900"/>
                          </a:lnTo>
                          <a:lnTo>
                            <a:pt x="128" y="982"/>
                          </a:lnTo>
                          <a:lnTo>
                            <a:pt x="215" y="1081"/>
                          </a:lnTo>
                          <a:lnTo>
                            <a:pt x="170" y="956"/>
                          </a:lnTo>
                          <a:lnTo>
                            <a:pt x="137" y="840"/>
                          </a:lnTo>
                          <a:lnTo>
                            <a:pt x="116" y="737"/>
                          </a:lnTo>
                          <a:lnTo>
                            <a:pt x="120" y="633"/>
                          </a:lnTo>
                          <a:lnTo>
                            <a:pt x="128" y="564"/>
                          </a:lnTo>
                          <a:lnTo>
                            <a:pt x="116" y="477"/>
                          </a:lnTo>
                          <a:lnTo>
                            <a:pt x="108" y="404"/>
                          </a:lnTo>
                          <a:lnTo>
                            <a:pt x="141" y="262"/>
                          </a:lnTo>
                          <a:lnTo>
                            <a:pt x="149" y="185"/>
                          </a:lnTo>
                          <a:lnTo>
                            <a:pt x="182" y="124"/>
                          </a:lnTo>
                          <a:lnTo>
                            <a:pt x="244" y="43"/>
                          </a:lnTo>
                          <a:lnTo>
                            <a:pt x="277" y="107"/>
                          </a:lnTo>
                          <a:lnTo>
                            <a:pt x="385" y="206"/>
                          </a:lnTo>
                          <a:lnTo>
                            <a:pt x="377" y="172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8737560" y="5456160"/>
                      <a:ext cx="330480" cy="700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18" h="1946">
                          <a:moveTo>
                            <a:pt x="205" y="0"/>
                          </a:moveTo>
                          <a:lnTo>
                            <a:pt x="244" y="4"/>
                          </a:lnTo>
                          <a:lnTo>
                            <a:pt x="300" y="21"/>
                          </a:lnTo>
                          <a:lnTo>
                            <a:pt x="261" y="30"/>
                          </a:lnTo>
                          <a:lnTo>
                            <a:pt x="291" y="56"/>
                          </a:lnTo>
                          <a:lnTo>
                            <a:pt x="325" y="82"/>
                          </a:lnTo>
                          <a:lnTo>
                            <a:pt x="372" y="95"/>
                          </a:lnTo>
                          <a:lnTo>
                            <a:pt x="445" y="87"/>
                          </a:lnTo>
                          <a:lnTo>
                            <a:pt x="523" y="73"/>
                          </a:lnTo>
                          <a:lnTo>
                            <a:pt x="733" y="87"/>
                          </a:lnTo>
                          <a:lnTo>
                            <a:pt x="532" y="78"/>
                          </a:lnTo>
                          <a:lnTo>
                            <a:pt x="445" y="100"/>
                          </a:lnTo>
                          <a:lnTo>
                            <a:pt x="372" y="95"/>
                          </a:lnTo>
                          <a:lnTo>
                            <a:pt x="325" y="113"/>
                          </a:lnTo>
                          <a:lnTo>
                            <a:pt x="364" y="130"/>
                          </a:lnTo>
                          <a:lnTo>
                            <a:pt x="338" y="143"/>
                          </a:lnTo>
                          <a:lnTo>
                            <a:pt x="398" y="187"/>
                          </a:lnTo>
                          <a:lnTo>
                            <a:pt x="553" y="182"/>
                          </a:lnTo>
                          <a:lnTo>
                            <a:pt x="746" y="339"/>
                          </a:lnTo>
                          <a:lnTo>
                            <a:pt x="553" y="187"/>
                          </a:lnTo>
                          <a:lnTo>
                            <a:pt x="398" y="200"/>
                          </a:lnTo>
                          <a:lnTo>
                            <a:pt x="364" y="204"/>
                          </a:lnTo>
                          <a:lnTo>
                            <a:pt x="437" y="256"/>
                          </a:lnTo>
                          <a:lnTo>
                            <a:pt x="390" y="256"/>
                          </a:lnTo>
                          <a:lnTo>
                            <a:pt x="476" y="317"/>
                          </a:lnTo>
                          <a:lnTo>
                            <a:pt x="639" y="395"/>
                          </a:lnTo>
                          <a:lnTo>
                            <a:pt x="823" y="531"/>
                          </a:lnTo>
                          <a:lnTo>
                            <a:pt x="635" y="404"/>
                          </a:lnTo>
                          <a:lnTo>
                            <a:pt x="468" y="330"/>
                          </a:lnTo>
                          <a:lnTo>
                            <a:pt x="420" y="330"/>
                          </a:lnTo>
                          <a:lnTo>
                            <a:pt x="493" y="378"/>
                          </a:lnTo>
                          <a:lnTo>
                            <a:pt x="445" y="387"/>
                          </a:lnTo>
                          <a:lnTo>
                            <a:pt x="506" y="448"/>
                          </a:lnTo>
                          <a:lnTo>
                            <a:pt x="901" y="914"/>
                          </a:lnTo>
                          <a:lnTo>
                            <a:pt x="506" y="456"/>
                          </a:lnTo>
                          <a:lnTo>
                            <a:pt x="450" y="456"/>
                          </a:lnTo>
                          <a:lnTo>
                            <a:pt x="515" y="527"/>
                          </a:lnTo>
                          <a:lnTo>
                            <a:pt x="468" y="523"/>
                          </a:lnTo>
                          <a:lnTo>
                            <a:pt x="523" y="614"/>
                          </a:lnTo>
                          <a:lnTo>
                            <a:pt x="686" y="771"/>
                          </a:lnTo>
                          <a:lnTo>
                            <a:pt x="858" y="1001"/>
                          </a:lnTo>
                          <a:lnTo>
                            <a:pt x="686" y="775"/>
                          </a:lnTo>
                          <a:lnTo>
                            <a:pt x="523" y="618"/>
                          </a:lnTo>
                          <a:lnTo>
                            <a:pt x="468" y="597"/>
                          </a:lnTo>
                          <a:lnTo>
                            <a:pt x="506" y="657"/>
                          </a:lnTo>
                          <a:lnTo>
                            <a:pt x="476" y="644"/>
                          </a:lnTo>
                          <a:lnTo>
                            <a:pt x="523" y="731"/>
                          </a:lnTo>
                          <a:lnTo>
                            <a:pt x="656" y="901"/>
                          </a:lnTo>
                          <a:lnTo>
                            <a:pt x="918" y="1119"/>
                          </a:lnTo>
                          <a:lnTo>
                            <a:pt x="665" y="901"/>
                          </a:lnTo>
                          <a:lnTo>
                            <a:pt x="523" y="736"/>
                          </a:lnTo>
                          <a:lnTo>
                            <a:pt x="502" y="736"/>
                          </a:lnTo>
                          <a:lnTo>
                            <a:pt x="742" y="1236"/>
                          </a:lnTo>
                          <a:lnTo>
                            <a:pt x="489" y="736"/>
                          </a:lnTo>
                          <a:lnTo>
                            <a:pt x="523" y="801"/>
                          </a:lnTo>
                          <a:lnTo>
                            <a:pt x="489" y="779"/>
                          </a:lnTo>
                          <a:lnTo>
                            <a:pt x="541" y="884"/>
                          </a:lnTo>
                          <a:lnTo>
                            <a:pt x="708" y="1114"/>
                          </a:lnTo>
                          <a:lnTo>
                            <a:pt x="541" y="901"/>
                          </a:lnTo>
                          <a:lnTo>
                            <a:pt x="493" y="884"/>
                          </a:lnTo>
                          <a:lnTo>
                            <a:pt x="541" y="945"/>
                          </a:lnTo>
                          <a:lnTo>
                            <a:pt x="742" y="1401"/>
                          </a:lnTo>
                          <a:lnTo>
                            <a:pt x="583" y="1049"/>
                          </a:lnTo>
                          <a:lnTo>
                            <a:pt x="523" y="945"/>
                          </a:lnTo>
                          <a:lnTo>
                            <a:pt x="493" y="936"/>
                          </a:lnTo>
                          <a:lnTo>
                            <a:pt x="532" y="1010"/>
                          </a:lnTo>
                          <a:lnTo>
                            <a:pt x="502" y="997"/>
                          </a:lnTo>
                          <a:lnTo>
                            <a:pt x="553" y="1088"/>
                          </a:lnTo>
                          <a:lnTo>
                            <a:pt x="575" y="1162"/>
                          </a:lnTo>
                          <a:lnTo>
                            <a:pt x="832" y="1427"/>
                          </a:lnTo>
                          <a:lnTo>
                            <a:pt x="571" y="1171"/>
                          </a:lnTo>
                          <a:lnTo>
                            <a:pt x="541" y="1114"/>
                          </a:lnTo>
                          <a:lnTo>
                            <a:pt x="506" y="1101"/>
                          </a:lnTo>
                          <a:lnTo>
                            <a:pt x="571" y="1245"/>
                          </a:lnTo>
                          <a:lnTo>
                            <a:pt x="502" y="1101"/>
                          </a:lnTo>
                          <a:lnTo>
                            <a:pt x="541" y="1171"/>
                          </a:lnTo>
                          <a:lnTo>
                            <a:pt x="493" y="1153"/>
                          </a:lnTo>
                          <a:lnTo>
                            <a:pt x="523" y="1214"/>
                          </a:lnTo>
                          <a:lnTo>
                            <a:pt x="613" y="1427"/>
                          </a:lnTo>
                          <a:lnTo>
                            <a:pt x="699" y="1559"/>
                          </a:lnTo>
                          <a:lnTo>
                            <a:pt x="613" y="1427"/>
                          </a:lnTo>
                          <a:lnTo>
                            <a:pt x="523" y="1223"/>
                          </a:lnTo>
                          <a:lnTo>
                            <a:pt x="489" y="1214"/>
                          </a:lnTo>
                          <a:lnTo>
                            <a:pt x="502" y="1262"/>
                          </a:lnTo>
                          <a:lnTo>
                            <a:pt x="571" y="1401"/>
                          </a:lnTo>
                          <a:lnTo>
                            <a:pt x="493" y="1280"/>
                          </a:lnTo>
                          <a:lnTo>
                            <a:pt x="476" y="1236"/>
                          </a:lnTo>
                          <a:lnTo>
                            <a:pt x="506" y="1345"/>
                          </a:lnTo>
                          <a:lnTo>
                            <a:pt x="468" y="1327"/>
                          </a:lnTo>
                          <a:lnTo>
                            <a:pt x="485" y="1414"/>
                          </a:lnTo>
                          <a:lnTo>
                            <a:pt x="458" y="1375"/>
                          </a:lnTo>
                          <a:lnTo>
                            <a:pt x="437" y="1410"/>
                          </a:lnTo>
                          <a:lnTo>
                            <a:pt x="445" y="1502"/>
                          </a:lnTo>
                          <a:lnTo>
                            <a:pt x="609" y="1946"/>
                          </a:lnTo>
                          <a:lnTo>
                            <a:pt x="432" y="1502"/>
                          </a:lnTo>
                          <a:lnTo>
                            <a:pt x="432" y="1401"/>
                          </a:lnTo>
                          <a:lnTo>
                            <a:pt x="432" y="1345"/>
                          </a:lnTo>
                          <a:lnTo>
                            <a:pt x="398" y="1375"/>
                          </a:lnTo>
                          <a:lnTo>
                            <a:pt x="107" y="1668"/>
                          </a:lnTo>
                          <a:lnTo>
                            <a:pt x="407" y="1345"/>
                          </a:lnTo>
                          <a:lnTo>
                            <a:pt x="432" y="1262"/>
                          </a:lnTo>
                          <a:lnTo>
                            <a:pt x="398" y="1280"/>
                          </a:lnTo>
                          <a:lnTo>
                            <a:pt x="445" y="1179"/>
                          </a:lnTo>
                          <a:lnTo>
                            <a:pt x="407" y="1219"/>
                          </a:lnTo>
                          <a:lnTo>
                            <a:pt x="347" y="1362"/>
                          </a:lnTo>
                          <a:lnTo>
                            <a:pt x="398" y="1210"/>
                          </a:lnTo>
                          <a:lnTo>
                            <a:pt x="432" y="1145"/>
                          </a:lnTo>
                          <a:lnTo>
                            <a:pt x="428" y="1145"/>
                          </a:lnTo>
                          <a:lnTo>
                            <a:pt x="390" y="1179"/>
                          </a:lnTo>
                          <a:lnTo>
                            <a:pt x="317" y="1258"/>
                          </a:lnTo>
                          <a:lnTo>
                            <a:pt x="68" y="1319"/>
                          </a:lnTo>
                          <a:lnTo>
                            <a:pt x="325" y="1245"/>
                          </a:lnTo>
                          <a:lnTo>
                            <a:pt x="398" y="1153"/>
                          </a:lnTo>
                          <a:lnTo>
                            <a:pt x="428" y="1079"/>
                          </a:lnTo>
                          <a:lnTo>
                            <a:pt x="390" y="1079"/>
                          </a:lnTo>
                          <a:lnTo>
                            <a:pt x="428" y="1010"/>
                          </a:lnTo>
                          <a:lnTo>
                            <a:pt x="377" y="1023"/>
                          </a:lnTo>
                          <a:lnTo>
                            <a:pt x="205" y="1162"/>
                          </a:lnTo>
                          <a:lnTo>
                            <a:pt x="377" y="1019"/>
                          </a:lnTo>
                          <a:lnTo>
                            <a:pt x="415" y="936"/>
                          </a:lnTo>
                          <a:lnTo>
                            <a:pt x="372" y="958"/>
                          </a:lnTo>
                          <a:lnTo>
                            <a:pt x="398" y="892"/>
                          </a:lnTo>
                          <a:lnTo>
                            <a:pt x="364" y="936"/>
                          </a:lnTo>
                          <a:lnTo>
                            <a:pt x="390" y="836"/>
                          </a:lnTo>
                          <a:lnTo>
                            <a:pt x="355" y="884"/>
                          </a:lnTo>
                          <a:lnTo>
                            <a:pt x="201" y="1101"/>
                          </a:lnTo>
                          <a:lnTo>
                            <a:pt x="364" y="884"/>
                          </a:lnTo>
                          <a:lnTo>
                            <a:pt x="398" y="757"/>
                          </a:lnTo>
                          <a:lnTo>
                            <a:pt x="355" y="784"/>
                          </a:lnTo>
                          <a:lnTo>
                            <a:pt x="98" y="910"/>
                          </a:lnTo>
                          <a:lnTo>
                            <a:pt x="355" y="779"/>
                          </a:lnTo>
                          <a:lnTo>
                            <a:pt x="381" y="670"/>
                          </a:lnTo>
                          <a:lnTo>
                            <a:pt x="351" y="688"/>
                          </a:lnTo>
                          <a:lnTo>
                            <a:pt x="377" y="627"/>
                          </a:lnTo>
                          <a:lnTo>
                            <a:pt x="347" y="649"/>
                          </a:lnTo>
                          <a:lnTo>
                            <a:pt x="222" y="953"/>
                          </a:lnTo>
                          <a:lnTo>
                            <a:pt x="351" y="623"/>
                          </a:lnTo>
                          <a:lnTo>
                            <a:pt x="351" y="540"/>
                          </a:lnTo>
                          <a:lnTo>
                            <a:pt x="312" y="579"/>
                          </a:lnTo>
                          <a:lnTo>
                            <a:pt x="240" y="744"/>
                          </a:lnTo>
                          <a:lnTo>
                            <a:pt x="330" y="527"/>
                          </a:lnTo>
                          <a:lnTo>
                            <a:pt x="347" y="456"/>
                          </a:lnTo>
                          <a:lnTo>
                            <a:pt x="312" y="488"/>
                          </a:lnTo>
                          <a:lnTo>
                            <a:pt x="218" y="627"/>
                          </a:lnTo>
                          <a:lnTo>
                            <a:pt x="0" y="701"/>
                          </a:lnTo>
                          <a:lnTo>
                            <a:pt x="222" y="618"/>
                          </a:lnTo>
                          <a:lnTo>
                            <a:pt x="308" y="469"/>
                          </a:lnTo>
                          <a:lnTo>
                            <a:pt x="317" y="374"/>
                          </a:lnTo>
                          <a:lnTo>
                            <a:pt x="278" y="417"/>
                          </a:lnTo>
                          <a:lnTo>
                            <a:pt x="300" y="330"/>
                          </a:lnTo>
                          <a:lnTo>
                            <a:pt x="158" y="562"/>
                          </a:lnTo>
                          <a:lnTo>
                            <a:pt x="291" y="317"/>
                          </a:lnTo>
                          <a:lnTo>
                            <a:pt x="308" y="247"/>
                          </a:lnTo>
                          <a:lnTo>
                            <a:pt x="261" y="304"/>
                          </a:lnTo>
                          <a:lnTo>
                            <a:pt x="270" y="195"/>
                          </a:lnTo>
                          <a:lnTo>
                            <a:pt x="214" y="243"/>
                          </a:lnTo>
                          <a:lnTo>
                            <a:pt x="12" y="430"/>
                          </a:lnTo>
                          <a:lnTo>
                            <a:pt x="214" y="239"/>
                          </a:lnTo>
                          <a:lnTo>
                            <a:pt x="240" y="130"/>
                          </a:lnTo>
                          <a:lnTo>
                            <a:pt x="205" y="160"/>
                          </a:lnTo>
                          <a:lnTo>
                            <a:pt x="222" y="82"/>
                          </a:lnTo>
                          <a:lnTo>
                            <a:pt x="192" y="104"/>
                          </a:lnTo>
                          <a:lnTo>
                            <a:pt x="188" y="43"/>
                          </a:lnTo>
                          <a:lnTo>
                            <a:pt x="192" y="17"/>
                          </a:lnTo>
                          <a:lnTo>
                            <a:pt x="205" y="0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>
                      <a:off x="8623440" y="5989680"/>
                      <a:ext cx="281520" cy="4384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82" h="1218">
                          <a:moveTo>
                            <a:pt x="0" y="1218"/>
                          </a:moveTo>
                          <a:lnTo>
                            <a:pt x="114" y="949"/>
                          </a:lnTo>
                          <a:lnTo>
                            <a:pt x="217" y="649"/>
                          </a:lnTo>
                          <a:lnTo>
                            <a:pt x="265" y="511"/>
                          </a:lnTo>
                          <a:lnTo>
                            <a:pt x="336" y="361"/>
                          </a:lnTo>
                          <a:lnTo>
                            <a:pt x="433" y="198"/>
                          </a:lnTo>
                          <a:lnTo>
                            <a:pt x="503" y="101"/>
                          </a:lnTo>
                          <a:lnTo>
                            <a:pt x="561" y="52"/>
                          </a:lnTo>
                          <a:lnTo>
                            <a:pt x="632" y="13"/>
                          </a:lnTo>
                          <a:lnTo>
                            <a:pt x="707" y="0"/>
                          </a:lnTo>
                          <a:lnTo>
                            <a:pt x="742" y="35"/>
                          </a:lnTo>
                          <a:lnTo>
                            <a:pt x="782" y="110"/>
                          </a:lnTo>
                        </a:path>
                      </a:pathLst>
                    </a:custGeom>
                    <a:ln w="25560">
                      <a:solidFill>
                        <a:srgbClr val="a6ffff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624880" y="5460840"/>
                      <a:ext cx="192600" cy="10990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535" h="3053">
                          <a:moveTo>
                            <a:pt x="4" y="3053"/>
                          </a:moveTo>
                          <a:lnTo>
                            <a:pt x="0" y="2766"/>
                          </a:lnTo>
                          <a:lnTo>
                            <a:pt x="0" y="2550"/>
                          </a:lnTo>
                          <a:lnTo>
                            <a:pt x="13" y="2405"/>
                          </a:lnTo>
                          <a:lnTo>
                            <a:pt x="17" y="2219"/>
                          </a:lnTo>
                          <a:lnTo>
                            <a:pt x="17" y="2029"/>
                          </a:lnTo>
                          <a:lnTo>
                            <a:pt x="22" y="1870"/>
                          </a:lnTo>
                          <a:lnTo>
                            <a:pt x="35" y="1720"/>
                          </a:lnTo>
                          <a:lnTo>
                            <a:pt x="52" y="1473"/>
                          </a:lnTo>
                          <a:lnTo>
                            <a:pt x="79" y="1191"/>
                          </a:lnTo>
                          <a:lnTo>
                            <a:pt x="114" y="909"/>
                          </a:lnTo>
                          <a:lnTo>
                            <a:pt x="142" y="612"/>
                          </a:lnTo>
                          <a:lnTo>
                            <a:pt x="164" y="432"/>
                          </a:lnTo>
                          <a:lnTo>
                            <a:pt x="181" y="361"/>
                          </a:lnTo>
                          <a:lnTo>
                            <a:pt x="230" y="238"/>
                          </a:lnTo>
                          <a:lnTo>
                            <a:pt x="278" y="149"/>
                          </a:lnTo>
                          <a:lnTo>
                            <a:pt x="331" y="79"/>
                          </a:lnTo>
                          <a:lnTo>
                            <a:pt x="384" y="17"/>
                          </a:lnTo>
                          <a:lnTo>
                            <a:pt x="420" y="0"/>
                          </a:lnTo>
                          <a:lnTo>
                            <a:pt x="473" y="0"/>
                          </a:lnTo>
                          <a:lnTo>
                            <a:pt x="517" y="22"/>
                          </a:lnTo>
                          <a:lnTo>
                            <a:pt x="535" y="52"/>
                          </a:lnTo>
                        </a:path>
                      </a:pathLst>
                    </a:custGeom>
                    <a:ln w="25560">
                      <a:solidFill>
                        <a:srgbClr val="a6ffff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" name=""/>
                  <p:cNvGrpSpPr/>
                  <p:nvPr/>
                </p:nvGrpSpPr>
                <p:grpSpPr>
                  <a:xfrm>
                    <a:off x="8319960" y="5797440"/>
                    <a:ext cx="424440" cy="767160"/>
                    <a:chOff x="8319960" y="5797440"/>
                    <a:chExt cx="424440" cy="767160"/>
                  </a:xfrm>
                </p:grpSpPr>
                <p:sp>
                  <p:nvSpPr>
                    <p:cNvPr id="32" name=""/>
                    <p:cNvSpPr/>
                    <p:nvPr/>
                  </p:nvSpPr>
                  <p:spPr>
                    <a:xfrm>
                      <a:off x="8350200" y="6183360"/>
                      <a:ext cx="68760" cy="2732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1" h="759">
                          <a:moveTo>
                            <a:pt x="152" y="0"/>
                          </a:moveTo>
                          <a:lnTo>
                            <a:pt x="113" y="55"/>
                          </a:lnTo>
                          <a:lnTo>
                            <a:pt x="78" y="149"/>
                          </a:lnTo>
                          <a:lnTo>
                            <a:pt x="38" y="276"/>
                          </a:lnTo>
                          <a:lnTo>
                            <a:pt x="0" y="439"/>
                          </a:lnTo>
                          <a:lnTo>
                            <a:pt x="0" y="606"/>
                          </a:lnTo>
                          <a:lnTo>
                            <a:pt x="19" y="759"/>
                          </a:lnTo>
                          <a:lnTo>
                            <a:pt x="38" y="759"/>
                          </a:lnTo>
                          <a:lnTo>
                            <a:pt x="19" y="606"/>
                          </a:lnTo>
                          <a:lnTo>
                            <a:pt x="19" y="482"/>
                          </a:lnTo>
                          <a:lnTo>
                            <a:pt x="59" y="345"/>
                          </a:lnTo>
                          <a:lnTo>
                            <a:pt x="113" y="208"/>
                          </a:lnTo>
                          <a:lnTo>
                            <a:pt x="191" y="34"/>
                          </a:lnTo>
                          <a:lnTo>
                            <a:pt x="152" y="0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" name=""/>
                    <p:cNvSpPr/>
                    <p:nvPr/>
                  </p:nvSpPr>
                  <p:spPr>
                    <a:xfrm>
                      <a:off x="8629560" y="6037200"/>
                      <a:ext cx="114840" cy="2732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19" h="759">
                          <a:moveTo>
                            <a:pt x="8" y="119"/>
                          </a:moveTo>
                          <a:lnTo>
                            <a:pt x="73" y="0"/>
                          </a:lnTo>
                          <a:lnTo>
                            <a:pt x="119" y="0"/>
                          </a:lnTo>
                          <a:lnTo>
                            <a:pt x="151" y="8"/>
                          </a:lnTo>
                          <a:lnTo>
                            <a:pt x="180" y="42"/>
                          </a:lnTo>
                          <a:lnTo>
                            <a:pt x="254" y="140"/>
                          </a:lnTo>
                          <a:lnTo>
                            <a:pt x="278" y="183"/>
                          </a:lnTo>
                          <a:lnTo>
                            <a:pt x="295" y="225"/>
                          </a:lnTo>
                          <a:lnTo>
                            <a:pt x="315" y="357"/>
                          </a:lnTo>
                          <a:lnTo>
                            <a:pt x="319" y="397"/>
                          </a:lnTo>
                          <a:lnTo>
                            <a:pt x="315" y="444"/>
                          </a:lnTo>
                          <a:lnTo>
                            <a:pt x="303" y="499"/>
                          </a:lnTo>
                          <a:lnTo>
                            <a:pt x="274" y="580"/>
                          </a:lnTo>
                          <a:lnTo>
                            <a:pt x="250" y="631"/>
                          </a:lnTo>
                          <a:lnTo>
                            <a:pt x="212" y="691"/>
                          </a:lnTo>
                          <a:lnTo>
                            <a:pt x="139" y="759"/>
                          </a:lnTo>
                          <a:lnTo>
                            <a:pt x="176" y="669"/>
                          </a:lnTo>
                          <a:lnTo>
                            <a:pt x="204" y="593"/>
                          </a:lnTo>
                          <a:lnTo>
                            <a:pt x="224" y="516"/>
                          </a:lnTo>
                          <a:lnTo>
                            <a:pt x="216" y="444"/>
                          </a:lnTo>
                          <a:lnTo>
                            <a:pt x="212" y="397"/>
                          </a:lnTo>
                          <a:lnTo>
                            <a:pt x="224" y="332"/>
                          </a:lnTo>
                          <a:lnTo>
                            <a:pt x="228" y="281"/>
                          </a:lnTo>
                          <a:lnTo>
                            <a:pt x="200" y="183"/>
                          </a:lnTo>
                          <a:lnTo>
                            <a:pt x="196" y="127"/>
                          </a:lnTo>
                          <a:lnTo>
                            <a:pt x="167" y="85"/>
                          </a:lnTo>
                          <a:lnTo>
                            <a:pt x="119" y="29"/>
                          </a:lnTo>
                          <a:lnTo>
                            <a:pt x="90" y="72"/>
                          </a:lnTo>
                          <a:lnTo>
                            <a:pt x="0" y="144"/>
                          </a:lnTo>
                          <a:lnTo>
                            <a:pt x="8" y="119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" name=""/>
                    <p:cNvSpPr/>
                    <p:nvPr/>
                  </p:nvSpPr>
                  <p:spPr>
                    <a:xfrm>
                      <a:off x="8319960" y="5797440"/>
                      <a:ext cx="217800" cy="4291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05" h="1192">
                          <a:moveTo>
                            <a:pt x="478" y="0"/>
                          </a:moveTo>
                          <a:lnTo>
                            <a:pt x="448" y="4"/>
                          </a:lnTo>
                          <a:lnTo>
                            <a:pt x="402" y="17"/>
                          </a:lnTo>
                          <a:lnTo>
                            <a:pt x="436" y="21"/>
                          </a:lnTo>
                          <a:lnTo>
                            <a:pt x="406" y="38"/>
                          </a:lnTo>
                          <a:lnTo>
                            <a:pt x="381" y="56"/>
                          </a:lnTo>
                          <a:lnTo>
                            <a:pt x="347" y="64"/>
                          </a:lnTo>
                          <a:lnTo>
                            <a:pt x="372" y="56"/>
                          </a:lnTo>
                          <a:lnTo>
                            <a:pt x="143" y="112"/>
                          </a:lnTo>
                          <a:lnTo>
                            <a:pt x="347" y="64"/>
                          </a:lnTo>
                          <a:lnTo>
                            <a:pt x="381" y="81"/>
                          </a:lnTo>
                          <a:lnTo>
                            <a:pt x="355" y="94"/>
                          </a:lnTo>
                          <a:lnTo>
                            <a:pt x="376" y="103"/>
                          </a:lnTo>
                          <a:lnTo>
                            <a:pt x="317" y="133"/>
                          </a:lnTo>
                          <a:lnTo>
                            <a:pt x="135" y="176"/>
                          </a:lnTo>
                          <a:lnTo>
                            <a:pt x="317" y="142"/>
                          </a:lnTo>
                          <a:lnTo>
                            <a:pt x="355" y="142"/>
                          </a:lnTo>
                          <a:lnTo>
                            <a:pt x="287" y="176"/>
                          </a:lnTo>
                          <a:lnTo>
                            <a:pt x="330" y="176"/>
                          </a:lnTo>
                          <a:lnTo>
                            <a:pt x="257" y="220"/>
                          </a:lnTo>
                          <a:lnTo>
                            <a:pt x="122" y="276"/>
                          </a:lnTo>
                          <a:lnTo>
                            <a:pt x="261" y="232"/>
                          </a:lnTo>
                          <a:lnTo>
                            <a:pt x="305" y="232"/>
                          </a:lnTo>
                          <a:lnTo>
                            <a:pt x="240" y="263"/>
                          </a:lnTo>
                          <a:lnTo>
                            <a:pt x="283" y="271"/>
                          </a:lnTo>
                          <a:lnTo>
                            <a:pt x="232" y="315"/>
                          </a:lnTo>
                          <a:lnTo>
                            <a:pt x="29" y="415"/>
                          </a:lnTo>
                          <a:lnTo>
                            <a:pt x="232" y="320"/>
                          </a:lnTo>
                          <a:lnTo>
                            <a:pt x="278" y="320"/>
                          </a:lnTo>
                          <a:lnTo>
                            <a:pt x="228" y="367"/>
                          </a:lnTo>
                          <a:lnTo>
                            <a:pt x="261" y="363"/>
                          </a:lnTo>
                          <a:lnTo>
                            <a:pt x="215" y="428"/>
                          </a:lnTo>
                          <a:lnTo>
                            <a:pt x="80" y="501"/>
                          </a:lnTo>
                          <a:lnTo>
                            <a:pt x="219" y="432"/>
                          </a:lnTo>
                          <a:lnTo>
                            <a:pt x="261" y="419"/>
                          </a:lnTo>
                          <a:lnTo>
                            <a:pt x="232" y="458"/>
                          </a:lnTo>
                          <a:lnTo>
                            <a:pt x="257" y="453"/>
                          </a:lnTo>
                          <a:lnTo>
                            <a:pt x="215" y="514"/>
                          </a:lnTo>
                          <a:lnTo>
                            <a:pt x="42" y="622"/>
                          </a:lnTo>
                          <a:lnTo>
                            <a:pt x="219" y="514"/>
                          </a:lnTo>
                          <a:lnTo>
                            <a:pt x="236" y="514"/>
                          </a:lnTo>
                          <a:lnTo>
                            <a:pt x="63" y="691"/>
                          </a:lnTo>
                          <a:lnTo>
                            <a:pt x="245" y="514"/>
                          </a:lnTo>
                          <a:lnTo>
                            <a:pt x="219" y="566"/>
                          </a:lnTo>
                          <a:lnTo>
                            <a:pt x="245" y="548"/>
                          </a:lnTo>
                          <a:lnTo>
                            <a:pt x="207" y="622"/>
                          </a:lnTo>
                          <a:lnTo>
                            <a:pt x="21" y="781"/>
                          </a:lnTo>
                          <a:lnTo>
                            <a:pt x="207" y="626"/>
                          </a:lnTo>
                          <a:lnTo>
                            <a:pt x="240" y="622"/>
                          </a:lnTo>
                          <a:lnTo>
                            <a:pt x="207" y="661"/>
                          </a:lnTo>
                          <a:lnTo>
                            <a:pt x="29" y="855"/>
                          </a:lnTo>
                          <a:lnTo>
                            <a:pt x="164" y="734"/>
                          </a:lnTo>
                          <a:lnTo>
                            <a:pt x="215" y="661"/>
                          </a:lnTo>
                          <a:lnTo>
                            <a:pt x="240" y="652"/>
                          </a:lnTo>
                          <a:lnTo>
                            <a:pt x="211" y="708"/>
                          </a:lnTo>
                          <a:lnTo>
                            <a:pt x="236" y="699"/>
                          </a:lnTo>
                          <a:lnTo>
                            <a:pt x="194" y="760"/>
                          </a:lnTo>
                          <a:lnTo>
                            <a:pt x="173" y="812"/>
                          </a:lnTo>
                          <a:lnTo>
                            <a:pt x="0" y="963"/>
                          </a:lnTo>
                          <a:lnTo>
                            <a:pt x="177" y="820"/>
                          </a:lnTo>
                          <a:lnTo>
                            <a:pt x="207" y="777"/>
                          </a:lnTo>
                          <a:lnTo>
                            <a:pt x="232" y="768"/>
                          </a:lnTo>
                          <a:lnTo>
                            <a:pt x="139" y="951"/>
                          </a:lnTo>
                          <a:lnTo>
                            <a:pt x="236" y="768"/>
                          </a:lnTo>
                          <a:lnTo>
                            <a:pt x="207" y="820"/>
                          </a:lnTo>
                          <a:lnTo>
                            <a:pt x="240" y="803"/>
                          </a:lnTo>
                          <a:lnTo>
                            <a:pt x="215" y="850"/>
                          </a:lnTo>
                          <a:lnTo>
                            <a:pt x="143" y="1002"/>
                          </a:lnTo>
                          <a:lnTo>
                            <a:pt x="71" y="1089"/>
                          </a:lnTo>
                          <a:lnTo>
                            <a:pt x="143" y="1002"/>
                          </a:lnTo>
                          <a:lnTo>
                            <a:pt x="219" y="855"/>
                          </a:lnTo>
                          <a:lnTo>
                            <a:pt x="245" y="850"/>
                          </a:lnTo>
                          <a:lnTo>
                            <a:pt x="236" y="885"/>
                          </a:lnTo>
                          <a:lnTo>
                            <a:pt x="177" y="985"/>
                          </a:lnTo>
                          <a:lnTo>
                            <a:pt x="240" y="893"/>
                          </a:lnTo>
                          <a:lnTo>
                            <a:pt x="257" y="863"/>
                          </a:lnTo>
                          <a:lnTo>
                            <a:pt x="232" y="942"/>
                          </a:lnTo>
                          <a:lnTo>
                            <a:pt x="261" y="929"/>
                          </a:lnTo>
                          <a:lnTo>
                            <a:pt x="249" y="994"/>
                          </a:lnTo>
                          <a:lnTo>
                            <a:pt x="274" y="963"/>
                          </a:lnTo>
                          <a:lnTo>
                            <a:pt x="287" y="989"/>
                          </a:lnTo>
                          <a:lnTo>
                            <a:pt x="283" y="1050"/>
                          </a:lnTo>
                          <a:lnTo>
                            <a:pt x="322" y="1192"/>
                          </a:lnTo>
                          <a:lnTo>
                            <a:pt x="291" y="1050"/>
                          </a:lnTo>
                          <a:lnTo>
                            <a:pt x="291" y="985"/>
                          </a:lnTo>
                          <a:lnTo>
                            <a:pt x="291" y="938"/>
                          </a:lnTo>
                          <a:lnTo>
                            <a:pt x="322" y="963"/>
                          </a:lnTo>
                          <a:lnTo>
                            <a:pt x="512" y="1132"/>
                          </a:lnTo>
                          <a:lnTo>
                            <a:pt x="313" y="942"/>
                          </a:lnTo>
                          <a:lnTo>
                            <a:pt x="291" y="885"/>
                          </a:lnTo>
                          <a:lnTo>
                            <a:pt x="317" y="893"/>
                          </a:lnTo>
                          <a:lnTo>
                            <a:pt x="283" y="824"/>
                          </a:lnTo>
                          <a:lnTo>
                            <a:pt x="313" y="855"/>
                          </a:lnTo>
                          <a:lnTo>
                            <a:pt x="372" y="955"/>
                          </a:lnTo>
                          <a:lnTo>
                            <a:pt x="317" y="846"/>
                          </a:lnTo>
                          <a:lnTo>
                            <a:pt x="291" y="799"/>
                          </a:lnTo>
                          <a:lnTo>
                            <a:pt x="299" y="799"/>
                          </a:lnTo>
                          <a:lnTo>
                            <a:pt x="330" y="824"/>
                          </a:lnTo>
                          <a:lnTo>
                            <a:pt x="385" y="881"/>
                          </a:lnTo>
                          <a:lnTo>
                            <a:pt x="474" y="946"/>
                          </a:lnTo>
                          <a:lnTo>
                            <a:pt x="381" y="872"/>
                          </a:lnTo>
                          <a:lnTo>
                            <a:pt x="317" y="803"/>
                          </a:lnTo>
                          <a:lnTo>
                            <a:pt x="299" y="755"/>
                          </a:lnTo>
                          <a:lnTo>
                            <a:pt x="330" y="755"/>
                          </a:lnTo>
                          <a:lnTo>
                            <a:pt x="299" y="708"/>
                          </a:lnTo>
                          <a:lnTo>
                            <a:pt x="338" y="717"/>
                          </a:lnTo>
                          <a:lnTo>
                            <a:pt x="478" y="812"/>
                          </a:lnTo>
                          <a:lnTo>
                            <a:pt x="338" y="712"/>
                          </a:lnTo>
                          <a:lnTo>
                            <a:pt x="309" y="652"/>
                          </a:lnTo>
                          <a:lnTo>
                            <a:pt x="347" y="673"/>
                          </a:lnTo>
                          <a:lnTo>
                            <a:pt x="317" y="622"/>
                          </a:lnTo>
                          <a:lnTo>
                            <a:pt x="355" y="652"/>
                          </a:lnTo>
                          <a:lnTo>
                            <a:pt x="330" y="587"/>
                          </a:lnTo>
                          <a:lnTo>
                            <a:pt x="360" y="622"/>
                          </a:lnTo>
                          <a:lnTo>
                            <a:pt x="486" y="768"/>
                          </a:lnTo>
                          <a:lnTo>
                            <a:pt x="355" y="622"/>
                          </a:lnTo>
                          <a:lnTo>
                            <a:pt x="322" y="535"/>
                          </a:lnTo>
                          <a:lnTo>
                            <a:pt x="360" y="553"/>
                          </a:lnTo>
                          <a:lnTo>
                            <a:pt x="571" y="635"/>
                          </a:lnTo>
                          <a:lnTo>
                            <a:pt x="360" y="548"/>
                          </a:lnTo>
                          <a:lnTo>
                            <a:pt x="334" y="471"/>
                          </a:lnTo>
                          <a:lnTo>
                            <a:pt x="364" y="484"/>
                          </a:lnTo>
                          <a:lnTo>
                            <a:pt x="338" y="441"/>
                          </a:lnTo>
                          <a:lnTo>
                            <a:pt x="372" y="458"/>
                          </a:lnTo>
                          <a:lnTo>
                            <a:pt x="465" y="665"/>
                          </a:lnTo>
                          <a:lnTo>
                            <a:pt x="364" y="436"/>
                          </a:lnTo>
                          <a:lnTo>
                            <a:pt x="364" y="380"/>
                          </a:lnTo>
                          <a:lnTo>
                            <a:pt x="393" y="406"/>
                          </a:lnTo>
                          <a:lnTo>
                            <a:pt x="453" y="527"/>
                          </a:lnTo>
                          <a:lnTo>
                            <a:pt x="376" y="367"/>
                          </a:lnTo>
                          <a:lnTo>
                            <a:pt x="372" y="320"/>
                          </a:lnTo>
                          <a:lnTo>
                            <a:pt x="393" y="341"/>
                          </a:lnTo>
                          <a:lnTo>
                            <a:pt x="554" y="557"/>
                          </a:lnTo>
                          <a:lnTo>
                            <a:pt x="465" y="432"/>
                          </a:lnTo>
                          <a:lnTo>
                            <a:pt x="398" y="328"/>
                          </a:lnTo>
                          <a:lnTo>
                            <a:pt x="385" y="263"/>
                          </a:lnTo>
                          <a:lnTo>
                            <a:pt x="423" y="293"/>
                          </a:lnTo>
                          <a:lnTo>
                            <a:pt x="402" y="232"/>
                          </a:lnTo>
                          <a:lnTo>
                            <a:pt x="524" y="397"/>
                          </a:lnTo>
                          <a:lnTo>
                            <a:pt x="406" y="220"/>
                          </a:lnTo>
                          <a:lnTo>
                            <a:pt x="398" y="172"/>
                          </a:lnTo>
                          <a:lnTo>
                            <a:pt x="436" y="211"/>
                          </a:lnTo>
                          <a:lnTo>
                            <a:pt x="431" y="138"/>
                          </a:lnTo>
                          <a:lnTo>
                            <a:pt x="474" y="172"/>
                          </a:lnTo>
                          <a:lnTo>
                            <a:pt x="605" y="315"/>
                          </a:lnTo>
                          <a:lnTo>
                            <a:pt x="474" y="168"/>
                          </a:lnTo>
                          <a:lnTo>
                            <a:pt x="453" y="94"/>
                          </a:lnTo>
                          <a:lnTo>
                            <a:pt x="478" y="116"/>
                          </a:lnTo>
                          <a:lnTo>
                            <a:pt x="465" y="56"/>
                          </a:lnTo>
                          <a:lnTo>
                            <a:pt x="495" y="77"/>
                          </a:lnTo>
                          <a:lnTo>
                            <a:pt x="499" y="30"/>
                          </a:lnTo>
                          <a:lnTo>
                            <a:pt x="495" y="12"/>
                          </a:lnTo>
                          <a:lnTo>
                            <a:pt x="478" y="0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" name=""/>
                    <p:cNvSpPr/>
                    <p:nvPr/>
                  </p:nvSpPr>
                  <p:spPr>
                    <a:xfrm>
                      <a:off x="8413920" y="6165720"/>
                      <a:ext cx="232200" cy="3067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45" h="852">
                          <a:moveTo>
                            <a:pt x="645" y="852"/>
                          </a:moveTo>
                          <a:lnTo>
                            <a:pt x="548" y="662"/>
                          </a:lnTo>
                          <a:lnTo>
                            <a:pt x="468" y="455"/>
                          </a:lnTo>
                          <a:lnTo>
                            <a:pt x="424" y="361"/>
                          </a:lnTo>
                          <a:lnTo>
                            <a:pt x="367" y="255"/>
                          </a:lnTo>
                          <a:lnTo>
                            <a:pt x="287" y="141"/>
                          </a:lnTo>
                          <a:lnTo>
                            <a:pt x="230" y="70"/>
                          </a:lnTo>
                          <a:lnTo>
                            <a:pt x="181" y="39"/>
                          </a:lnTo>
                          <a:lnTo>
                            <a:pt x="127" y="8"/>
                          </a:lnTo>
                          <a:lnTo>
                            <a:pt x="61" y="0"/>
                          </a:lnTo>
                          <a:lnTo>
                            <a:pt x="30" y="22"/>
                          </a:lnTo>
                          <a:lnTo>
                            <a:pt x="0" y="79"/>
                          </a:lnTo>
                        </a:path>
                      </a:pathLst>
                    </a:custGeom>
                    <a:ln w="25560">
                      <a:solidFill>
                        <a:srgbClr val="a6ffff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" name=""/>
                    <p:cNvSpPr/>
                    <p:nvPr/>
                  </p:nvSpPr>
                  <p:spPr>
                    <a:xfrm>
                      <a:off x="8485200" y="5797440"/>
                      <a:ext cx="159120" cy="7671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442" h="2131">
                          <a:moveTo>
                            <a:pt x="438" y="2131"/>
                          </a:moveTo>
                          <a:lnTo>
                            <a:pt x="442" y="1933"/>
                          </a:lnTo>
                          <a:lnTo>
                            <a:pt x="442" y="1779"/>
                          </a:lnTo>
                          <a:lnTo>
                            <a:pt x="434" y="1677"/>
                          </a:lnTo>
                          <a:lnTo>
                            <a:pt x="429" y="1544"/>
                          </a:lnTo>
                          <a:lnTo>
                            <a:pt x="429" y="1416"/>
                          </a:lnTo>
                          <a:lnTo>
                            <a:pt x="425" y="1306"/>
                          </a:lnTo>
                          <a:lnTo>
                            <a:pt x="412" y="1204"/>
                          </a:lnTo>
                          <a:lnTo>
                            <a:pt x="398" y="1024"/>
                          </a:lnTo>
                          <a:lnTo>
                            <a:pt x="376" y="830"/>
                          </a:lnTo>
                          <a:lnTo>
                            <a:pt x="350" y="636"/>
                          </a:lnTo>
                          <a:lnTo>
                            <a:pt x="327" y="427"/>
                          </a:lnTo>
                          <a:lnTo>
                            <a:pt x="305" y="299"/>
                          </a:lnTo>
                          <a:lnTo>
                            <a:pt x="292" y="251"/>
                          </a:lnTo>
                          <a:lnTo>
                            <a:pt x="252" y="167"/>
                          </a:lnTo>
                          <a:lnTo>
                            <a:pt x="212" y="105"/>
                          </a:lnTo>
                          <a:lnTo>
                            <a:pt x="168" y="57"/>
                          </a:lnTo>
                          <a:lnTo>
                            <a:pt x="124" y="13"/>
                          </a:lnTo>
                          <a:lnTo>
                            <a:pt x="92" y="0"/>
                          </a:lnTo>
                          <a:lnTo>
                            <a:pt x="52" y="0"/>
                          </a:lnTo>
                          <a:lnTo>
                            <a:pt x="13" y="17"/>
                          </a:lnTo>
                          <a:lnTo>
                            <a:pt x="0" y="35"/>
                          </a:lnTo>
                        </a:path>
                      </a:pathLst>
                    </a:custGeom>
                    <a:ln w="25560">
                      <a:solidFill>
                        <a:srgbClr val="a6ffff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" name=""/>
                <p:cNvGrpSpPr/>
                <p:nvPr/>
              </p:nvGrpSpPr>
              <p:grpSpPr>
                <a:xfrm>
                  <a:off x="8629560" y="6276960"/>
                  <a:ext cx="315000" cy="292680"/>
                  <a:chOff x="8629560" y="6276960"/>
                  <a:chExt cx="315000" cy="292680"/>
                </a:xfrm>
              </p:grpSpPr>
              <p:sp>
                <p:nvSpPr>
                  <p:cNvPr id="38" name=""/>
                  <p:cNvSpPr/>
                  <p:nvPr/>
                </p:nvSpPr>
                <p:spPr>
                  <a:xfrm>
                    <a:off x="8871120" y="6288120"/>
                    <a:ext cx="73440" cy="28152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782">
                        <a:moveTo>
                          <a:pt x="39" y="0"/>
                        </a:moveTo>
                        <a:lnTo>
                          <a:pt x="50" y="17"/>
                        </a:lnTo>
                        <a:lnTo>
                          <a:pt x="121" y="153"/>
                        </a:lnTo>
                        <a:lnTo>
                          <a:pt x="161" y="282"/>
                        </a:lnTo>
                        <a:lnTo>
                          <a:pt x="204" y="448"/>
                        </a:lnTo>
                        <a:lnTo>
                          <a:pt x="204" y="624"/>
                        </a:lnTo>
                        <a:lnTo>
                          <a:pt x="185" y="782"/>
                        </a:lnTo>
                        <a:lnTo>
                          <a:pt x="161" y="782"/>
                        </a:lnTo>
                        <a:lnTo>
                          <a:pt x="185" y="624"/>
                        </a:lnTo>
                        <a:lnTo>
                          <a:pt x="185" y="495"/>
                        </a:lnTo>
                        <a:lnTo>
                          <a:pt x="141" y="350"/>
                        </a:lnTo>
                        <a:lnTo>
                          <a:pt x="79" y="209"/>
                        </a:lnTo>
                        <a:lnTo>
                          <a:pt x="0" y="34"/>
                        </a:lnTo>
                        <a:lnTo>
                          <a:pt x="39" y="0"/>
                        </a:lnTo>
                        <a:close/>
                      </a:path>
                    </a:pathLst>
                  </a:custGeom>
                  <a:solidFill>
                    <a:srgbClr val="a6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8629560" y="6276960"/>
                    <a:ext cx="251280" cy="290880"/>
                  </a:xfrm>
                  <a:custGeom>
                    <a:avLst/>
                    <a:gdLst/>
                    <a:ahLst/>
                    <a:rect l="0" t="0" r="r" b="b"/>
                    <a:pathLst>
                      <a:path w="698" h="808">
                        <a:moveTo>
                          <a:pt x="0" y="808"/>
                        </a:moveTo>
                        <a:lnTo>
                          <a:pt x="101" y="732"/>
                        </a:lnTo>
                        <a:lnTo>
                          <a:pt x="144" y="685"/>
                        </a:lnTo>
                        <a:lnTo>
                          <a:pt x="169" y="646"/>
                        </a:lnTo>
                        <a:lnTo>
                          <a:pt x="328" y="269"/>
                        </a:lnTo>
                        <a:lnTo>
                          <a:pt x="413" y="153"/>
                        </a:lnTo>
                        <a:lnTo>
                          <a:pt x="476" y="76"/>
                        </a:lnTo>
                        <a:lnTo>
                          <a:pt x="524" y="42"/>
                        </a:lnTo>
                        <a:lnTo>
                          <a:pt x="584" y="12"/>
                        </a:lnTo>
                        <a:lnTo>
                          <a:pt x="639" y="0"/>
                        </a:lnTo>
                        <a:lnTo>
                          <a:pt x="677" y="8"/>
                        </a:lnTo>
                        <a:lnTo>
                          <a:pt x="698" y="55"/>
                        </a:lnTo>
                        <a:lnTo>
                          <a:pt x="0" y="808"/>
                        </a:lnTo>
                        <a:close/>
                      </a:path>
                    </a:pathLst>
                  </a:custGeom>
                  <a:solidFill>
                    <a:srgbClr val="a6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" name=""/>
                <p:cNvGrpSpPr/>
                <p:nvPr/>
              </p:nvGrpSpPr>
              <p:grpSpPr>
                <a:xfrm>
                  <a:off x="6613560" y="5524560"/>
                  <a:ext cx="1124280" cy="1117800"/>
                  <a:chOff x="6613560" y="5524560"/>
                  <a:chExt cx="1124280" cy="1117800"/>
                </a:xfrm>
              </p:grpSpPr>
              <p:grpSp>
                <p:nvGrpSpPr>
                  <p:cNvPr id="41" name=""/>
                  <p:cNvGrpSpPr/>
                  <p:nvPr/>
                </p:nvGrpSpPr>
                <p:grpSpPr>
                  <a:xfrm>
                    <a:off x="6883560" y="5638680"/>
                    <a:ext cx="620640" cy="1003680"/>
                    <a:chOff x="6883560" y="5638680"/>
                    <a:chExt cx="620640" cy="1003680"/>
                  </a:xfrm>
                </p:grpSpPr>
                <p:sp>
                  <p:nvSpPr>
                    <p:cNvPr id="42" name=""/>
                    <p:cNvSpPr/>
                    <p:nvPr/>
                  </p:nvSpPr>
                  <p:spPr>
                    <a:xfrm>
                      <a:off x="6883560" y="5638680"/>
                      <a:ext cx="581400" cy="1003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1615" h="2788">
                          <a:moveTo>
                            <a:pt x="1615" y="2788"/>
                          </a:moveTo>
                          <a:lnTo>
                            <a:pt x="1558" y="2462"/>
                          </a:lnTo>
                          <a:lnTo>
                            <a:pt x="1483" y="2105"/>
                          </a:lnTo>
                          <a:lnTo>
                            <a:pt x="1421" y="1831"/>
                          </a:lnTo>
                          <a:lnTo>
                            <a:pt x="1351" y="1584"/>
                          </a:lnTo>
                          <a:lnTo>
                            <a:pt x="1263" y="1368"/>
                          </a:lnTo>
                          <a:lnTo>
                            <a:pt x="1173" y="1134"/>
                          </a:lnTo>
                          <a:lnTo>
                            <a:pt x="1050" y="940"/>
                          </a:lnTo>
                          <a:lnTo>
                            <a:pt x="794" y="542"/>
                          </a:lnTo>
                          <a:lnTo>
                            <a:pt x="719" y="427"/>
                          </a:lnTo>
                          <a:lnTo>
                            <a:pt x="666" y="370"/>
                          </a:lnTo>
                          <a:lnTo>
                            <a:pt x="538" y="220"/>
                          </a:lnTo>
                          <a:lnTo>
                            <a:pt x="468" y="154"/>
                          </a:lnTo>
                          <a:lnTo>
                            <a:pt x="383" y="97"/>
                          </a:lnTo>
                          <a:lnTo>
                            <a:pt x="251" y="35"/>
                          </a:lnTo>
                          <a:lnTo>
                            <a:pt x="163" y="4"/>
                          </a:lnTo>
                          <a:lnTo>
                            <a:pt x="101" y="0"/>
                          </a:lnTo>
                          <a:lnTo>
                            <a:pt x="39" y="17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ln w="25560">
                      <a:solidFill>
                        <a:srgbClr val="a6ffff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" name=""/>
                    <p:cNvSpPr/>
                    <p:nvPr/>
                  </p:nvSpPr>
                  <p:spPr>
                    <a:xfrm>
                      <a:off x="7262640" y="5748480"/>
                      <a:ext cx="241560" cy="827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671" h="2298">
                          <a:moveTo>
                            <a:pt x="671" y="2298"/>
                          </a:moveTo>
                          <a:lnTo>
                            <a:pt x="308" y="88"/>
                          </a:lnTo>
                          <a:lnTo>
                            <a:pt x="282" y="57"/>
                          </a:lnTo>
                          <a:lnTo>
                            <a:pt x="242" y="17"/>
                          </a:lnTo>
                          <a:lnTo>
                            <a:pt x="207" y="8"/>
                          </a:lnTo>
                          <a:lnTo>
                            <a:pt x="145" y="0"/>
                          </a:lnTo>
                          <a:lnTo>
                            <a:pt x="105" y="8"/>
                          </a:lnTo>
                          <a:lnTo>
                            <a:pt x="66" y="35"/>
                          </a:lnTo>
                          <a:lnTo>
                            <a:pt x="26" y="74"/>
                          </a:lnTo>
                          <a:lnTo>
                            <a:pt x="0" y="145"/>
                          </a:lnTo>
                        </a:path>
                      </a:pathLst>
                    </a:custGeom>
                    <a:ln w="25560">
                      <a:solidFill>
                        <a:srgbClr val="a6ffff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" name=""/>
                  <p:cNvGrpSpPr/>
                  <p:nvPr/>
                </p:nvGrpSpPr>
                <p:grpSpPr>
                  <a:xfrm>
                    <a:off x="6613560" y="5524560"/>
                    <a:ext cx="1124280" cy="1030680"/>
                    <a:chOff x="6613560" y="5524560"/>
                    <a:chExt cx="1124280" cy="1030680"/>
                  </a:xfrm>
                </p:grpSpPr>
                <p:sp>
                  <p:nvSpPr>
                    <p:cNvPr id="45" name=""/>
                    <p:cNvSpPr/>
                    <p:nvPr/>
                  </p:nvSpPr>
                  <p:spPr>
                    <a:xfrm>
                      <a:off x="7211880" y="5781600"/>
                      <a:ext cx="66960" cy="4780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86" h="1328">
                          <a:moveTo>
                            <a:pt x="151" y="0"/>
                          </a:moveTo>
                          <a:lnTo>
                            <a:pt x="186" y="47"/>
                          </a:lnTo>
                          <a:lnTo>
                            <a:pt x="132" y="553"/>
                          </a:lnTo>
                          <a:lnTo>
                            <a:pt x="139" y="697"/>
                          </a:lnTo>
                          <a:lnTo>
                            <a:pt x="159" y="1328"/>
                          </a:lnTo>
                          <a:lnTo>
                            <a:pt x="50" y="826"/>
                          </a:lnTo>
                          <a:lnTo>
                            <a:pt x="27" y="679"/>
                          </a:lnTo>
                          <a:lnTo>
                            <a:pt x="7" y="566"/>
                          </a:lnTo>
                          <a:lnTo>
                            <a:pt x="0" y="453"/>
                          </a:lnTo>
                          <a:lnTo>
                            <a:pt x="23" y="337"/>
                          </a:lnTo>
                          <a:lnTo>
                            <a:pt x="42" y="190"/>
                          </a:lnTo>
                          <a:lnTo>
                            <a:pt x="151" y="0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" name=""/>
                    <p:cNvSpPr/>
                    <p:nvPr/>
                  </p:nvSpPr>
                  <p:spPr>
                    <a:xfrm>
                      <a:off x="6613560" y="5635800"/>
                      <a:ext cx="333720" cy="6717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27" h="1866">
                          <a:moveTo>
                            <a:pt x="759" y="0"/>
                          </a:moveTo>
                          <a:lnTo>
                            <a:pt x="699" y="56"/>
                          </a:lnTo>
                          <a:lnTo>
                            <a:pt x="618" y="73"/>
                          </a:lnTo>
                          <a:lnTo>
                            <a:pt x="575" y="86"/>
                          </a:lnTo>
                          <a:lnTo>
                            <a:pt x="536" y="139"/>
                          </a:lnTo>
                          <a:lnTo>
                            <a:pt x="575" y="143"/>
                          </a:lnTo>
                          <a:lnTo>
                            <a:pt x="515" y="173"/>
                          </a:lnTo>
                          <a:lnTo>
                            <a:pt x="424" y="186"/>
                          </a:lnTo>
                          <a:lnTo>
                            <a:pt x="210" y="186"/>
                          </a:lnTo>
                          <a:lnTo>
                            <a:pt x="428" y="200"/>
                          </a:lnTo>
                          <a:lnTo>
                            <a:pt x="515" y="173"/>
                          </a:lnTo>
                          <a:lnTo>
                            <a:pt x="549" y="186"/>
                          </a:lnTo>
                          <a:lnTo>
                            <a:pt x="458" y="247"/>
                          </a:lnTo>
                          <a:lnTo>
                            <a:pt x="528" y="265"/>
                          </a:lnTo>
                          <a:lnTo>
                            <a:pt x="450" y="321"/>
                          </a:lnTo>
                          <a:lnTo>
                            <a:pt x="394" y="382"/>
                          </a:lnTo>
                          <a:lnTo>
                            <a:pt x="64" y="404"/>
                          </a:lnTo>
                          <a:lnTo>
                            <a:pt x="394" y="395"/>
                          </a:lnTo>
                          <a:lnTo>
                            <a:pt x="450" y="339"/>
                          </a:lnTo>
                          <a:lnTo>
                            <a:pt x="506" y="356"/>
                          </a:lnTo>
                          <a:lnTo>
                            <a:pt x="445" y="404"/>
                          </a:lnTo>
                          <a:lnTo>
                            <a:pt x="270" y="508"/>
                          </a:lnTo>
                          <a:lnTo>
                            <a:pt x="90" y="539"/>
                          </a:lnTo>
                          <a:lnTo>
                            <a:pt x="270" y="513"/>
                          </a:lnTo>
                          <a:lnTo>
                            <a:pt x="445" y="426"/>
                          </a:lnTo>
                          <a:lnTo>
                            <a:pt x="476" y="452"/>
                          </a:lnTo>
                          <a:lnTo>
                            <a:pt x="402" y="513"/>
                          </a:lnTo>
                          <a:lnTo>
                            <a:pt x="364" y="556"/>
                          </a:lnTo>
                          <a:lnTo>
                            <a:pt x="132" y="643"/>
                          </a:lnTo>
                          <a:lnTo>
                            <a:pt x="364" y="560"/>
                          </a:lnTo>
                          <a:lnTo>
                            <a:pt x="402" y="526"/>
                          </a:lnTo>
                          <a:lnTo>
                            <a:pt x="464" y="534"/>
                          </a:lnTo>
                          <a:lnTo>
                            <a:pt x="394" y="600"/>
                          </a:lnTo>
                          <a:lnTo>
                            <a:pt x="450" y="604"/>
                          </a:lnTo>
                          <a:lnTo>
                            <a:pt x="347" y="673"/>
                          </a:lnTo>
                          <a:lnTo>
                            <a:pt x="72" y="791"/>
                          </a:lnTo>
                          <a:lnTo>
                            <a:pt x="347" y="686"/>
                          </a:lnTo>
                          <a:lnTo>
                            <a:pt x="441" y="678"/>
                          </a:lnTo>
                          <a:lnTo>
                            <a:pt x="372" y="743"/>
                          </a:lnTo>
                          <a:lnTo>
                            <a:pt x="424" y="734"/>
                          </a:lnTo>
                          <a:lnTo>
                            <a:pt x="347" y="813"/>
                          </a:lnTo>
                          <a:lnTo>
                            <a:pt x="398" y="804"/>
                          </a:lnTo>
                          <a:lnTo>
                            <a:pt x="342" y="882"/>
                          </a:lnTo>
                          <a:lnTo>
                            <a:pt x="244" y="948"/>
                          </a:lnTo>
                          <a:lnTo>
                            <a:pt x="154" y="988"/>
                          </a:lnTo>
                          <a:lnTo>
                            <a:pt x="21" y="1001"/>
                          </a:lnTo>
                          <a:lnTo>
                            <a:pt x="150" y="1001"/>
                          </a:lnTo>
                          <a:lnTo>
                            <a:pt x="244" y="957"/>
                          </a:lnTo>
                          <a:lnTo>
                            <a:pt x="342" y="904"/>
                          </a:lnTo>
                          <a:lnTo>
                            <a:pt x="398" y="913"/>
                          </a:lnTo>
                          <a:lnTo>
                            <a:pt x="321" y="1001"/>
                          </a:lnTo>
                          <a:lnTo>
                            <a:pt x="381" y="1001"/>
                          </a:lnTo>
                          <a:lnTo>
                            <a:pt x="304" y="1070"/>
                          </a:lnTo>
                          <a:lnTo>
                            <a:pt x="0" y="1348"/>
                          </a:lnTo>
                          <a:lnTo>
                            <a:pt x="312" y="1074"/>
                          </a:lnTo>
                          <a:lnTo>
                            <a:pt x="360" y="1083"/>
                          </a:lnTo>
                          <a:lnTo>
                            <a:pt x="274" y="1153"/>
                          </a:lnTo>
                          <a:lnTo>
                            <a:pt x="330" y="1170"/>
                          </a:lnTo>
                          <a:lnTo>
                            <a:pt x="257" y="1235"/>
                          </a:lnTo>
                          <a:lnTo>
                            <a:pt x="317" y="1222"/>
                          </a:lnTo>
                          <a:lnTo>
                            <a:pt x="132" y="1448"/>
                          </a:lnTo>
                          <a:lnTo>
                            <a:pt x="321" y="1235"/>
                          </a:lnTo>
                          <a:lnTo>
                            <a:pt x="244" y="1305"/>
                          </a:lnTo>
                          <a:lnTo>
                            <a:pt x="300" y="1305"/>
                          </a:lnTo>
                          <a:lnTo>
                            <a:pt x="244" y="1379"/>
                          </a:lnTo>
                          <a:lnTo>
                            <a:pt x="287" y="1361"/>
                          </a:lnTo>
                          <a:lnTo>
                            <a:pt x="231" y="1448"/>
                          </a:lnTo>
                          <a:lnTo>
                            <a:pt x="287" y="1388"/>
                          </a:lnTo>
                          <a:lnTo>
                            <a:pt x="252" y="1492"/>
                          </a:lnTo>
                          <a:lnTo>
                            <a:pt x="210" y="1761"/>
                          </a:lnTo>
                          <a:lnTo>
                            <a:pt x="231" y="1866"/>
                          </a:lnTo>
                          <a:lnTo>
                            <a:pt x="214" y="1761"/>
                          </a:lnTo>
                          <a:lnTo>
                            <a:pt x="257" y="1496"/>
                          </a:lnTo>
                          <a:lnTo>
                            <a:pt x="304" y="1466"/>
                          </a:lnTo>
                          <a:lnTo>
                            <a:pt x="317" y="1544"/>
                          </a:lnTo>
                          <a:lnTo>
                            <a:pt x="347" y="1448"/>
                          </a:lnTo>
                          <a:lnTo>
                            <a:pt x="385" y="1479"/>
                          </a:lnTo>
                          <a:lnTo>
                            <a:pt x="515" y="1861"/>
                          </a:lnTo>
                          <a:lnTo>
                            <a:pt x="394" y="1448"/>
                          </a:lnTo>
                          <a:lnTo>
                            <a:pt x="394" y="1361"/>
                          </a:lnTo>
                          <a:lnTo>
                            <a:pt x="445" y="1414"/>
                          </a:lnTo>
                          <a:lnTo>
                            <a:pt x="445" y="1692"/>
                          </a:lnTo>
                          <a:lnTo>
                            <a:pt x="445" y="1392"/>
                          </a:lnTo>
                          <a:lnTo>
                            <a:pt x="420" y="1261"/>
                          </a:lnTo>
                          <a:lnTo>
                            <a:pt x="468" y="1331"/>
                          </a:lnTo>
                          <a:lnTo>
                            <a:pt x="669" y="1635"/>
                          </a:lnTo>
                          <a:lnTo>
                            <a:pt x="468" y="1314"/>
                          </a:lnTo>
                          <a:lnTo>
                            <a:pt x="458" y="1179"/>
                          </a:lnTo>
                          <a:lnTo>
                            <a:pt x="502" y="1244"/>
                          </a:lnTo>
                          <a:lnTo>
                            <a:pt x="476" y="1096"/>
                          </a:lnTo>
                          <a:lnTo>
                            <a:pt x="515" y="1153"/>
                          </a:lnTo>
                          <a:lnTo>
                            <a:pt x="554" y="1292"/>
                          </a:lnTo>
                          <a:lnTo>
                            <a:pt x="772" y="1509"/>
                          </a:lnTo>
                          <a:lnTo>
                            <a:pt x="562" y="1288"/>
                          </a:lnTo>
                          <a:lnTo>
                            <a:pt x="515" y="1153"/>
                          </a:lnTo>
                          <a:lnTo>
                            <a:pt x="506" y="988"/>
                          </a:lnTo>
                          <a:lnTo>
                            <a:pt x="541" y="1035"/>
                          </a:lnTo>
                          <a:lnTo>
                            <a:pt x="532" y="926"/>
                          </a:lnTo>
                          <a:lnTo>
                            <a:pt x="562" y="957"/>
                          </a:lnTo>
                          <a:lnTo>
                            <a:pt x="764" y="1253"/>
                          </a:lnTo>
                          <a:lnTo>
                            <a:pt x="575" y="940"/>
                          </a:lnTo>
                          <a:lnTo>
                            <a:pt x="562" y="804"/>
                          </a:lnTo>
                          <a:lnTo>
                            <a:pt x="601" y="843"/>
                          </a:lnTo>
                          <a:lnTo>
                            <a:pt x="794" y="1083"/>
                          </a:lnTo>
                          <a:lnTo>
                            <a:pt x="614" y="826"/>
                          </a:lnTo>
                          <a:lnTo>
                            <a:pt x="571" y="717"/>
                          </a:lnTo>
                          <a:lnTo>
                            <a:pt x="571" y="682"/>
                          </a:lnTo>
                          <a:lnTo>
                            <a:pt x="605" y="752"/>
                          </a:lnTo>
                          <a:lnTo>
                            <a:pt x="588" y="613"/>
                          </a:lnTo>
                          <a:lnTo>
                            <a:pt x="596" y="569"/>
                          </a:lnTo>
                          <a:lnTo>
                            <a:pt x="618" y="652"/>
                          </a:lnTo>
                          <a:lnTo>
                            <a:pt x="618" y="513"/>
                          </a:lnTo>
                          <a:lnTo>
                            <a:pt x="661" y="539"/>
                          </a:lnTo>
                          <a:lnTo>
                            <a:pt x="729" y="747"/>
                          </a:lnTo>
                          <a:lnTo>
                            <a:pt x="862" y="921"/>
                          </a:lnTo>
                          <a:lnTo>
                            <a:pt x="734" y="734"/>
                          </a:lnTo>
                          <a:lnTo>
                            <a:pt x="665" y="530"/>
                          </a:lnTo>
                          <a:lnTo>
                            <a:pt x="648" y="404"/>
                          </a:lnTo>
                          <a:lnTo>
                            <a:pt x="691" y="452"/>
                          </a:lnTo>
                          <a:lnTo>
                            <a:pt x="674" y="326"/>
                          </a:lnTo>
                          <a:lnTo>
                            <a:pt x="712" y="404"/>
                          </a:lnTo>
                          <a:lnTo>
                            <a:pt x="742" y="500"/>
                          </a:lnTo>
                          <a:lnTo>
                            <a:pt x="922" y="704"/>
                          </a:lnTo>
                          <a:lnTo>
                            <a:pt x="759" y="500"/>
                          </a:lnTo>
                          <a:lnTo>
                            <a:pt x="716" y="404"/>
                          </a:lnTo>
                          <a:lnTo>
                            <a:pt x="721" y="234"/>
                          </a:lnTo>
                          <a:lnTo>
                            <a:pt x="742" y="278"/>
                          </a:lnTo>
                          <a:lnTo>
                            <a:pt x="789" y="404"/>
                          </a:lnTo>
                          <a:lnTo>
                            <a:pt x="927" y="508"/>
                          </a:lnTo>
                          <a:lnTo>
                            <a:pt x="789" y="391"/>
                          </a:lnTo>
                          <a:lnTo>
                            <a:pt x="755" y="265"/>
                          </a:lnTo>
                          <a:lnTo>
                            <a:pt x="738" y="156"/>
                          </a:lnTo>
                          <a:lnTo>
                            <a:pt x="798" y="213"/>
                          </a:lnTo>
                          <a:lnTo>
                            <a:pt x="781" y="147"/>
                          </a:lnTo>
                          <a:lnTo>
                            <a:pt x="768" y="104"/>
                          </a:lnTo>
                          <a:lnTo>
                            <a:pt x="755" y="69"/>
                          </a:lnTo>
                          <a:lnTo>
                            <a:pt x="721" y="56"/>
                          </a:lnTo>
                          <a:lnTo>
                            <a:pt x="759" y="0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" name=""/>
                    <p:cNvSpPr/>
                    <p:nvPr/>
                  </p:nvSpPr>
                  <p:spPr>
                    <a:xfrm>
                      <a:off x="6966000" y="5745240"/>
                      <a:ext cx="192600" cy="46692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35" h="1297">
                          <a:moveTo>
                            <a:pt x="527" y="138"/>
                          </a:moveTo>
                          <a:lnTo>
                            <a:pt x="337" y="0"/>
                          </a:lnTo>
                          <a:lnTo>
                            <a:pt x="278" y="4"/>
                          </a:lnTo>
                          <a:lnTo>
                            <a:pt x="227" y="17"/>
                          </a:lnTo>
                          <a:lnTo>
                            <a:pt x="190" y="69"/>
                          </a:lnTo>
                          <a:lnTo>
                            <a:pt x="88" y="246"/>
                          </a:lnTo>
                          <a:lnTo>
                            <a:pt x="58" y="315"/>
                          </a:lnTo>
                          <a:lnTo>
                            <a:pt x="29" y="384"/>
                          </a:lnTo>
                          <a:lnTo>
                            <a:pt x="8" y="613"/>
                          </a:lnTo>
                          <a:lnTo>
                            <a:pt x="0" y="679"/>
                          </a:lnTo>
                          <a:lnTo>
                            <a:pt x="8" y="765"/>
                          </a:lnTo>
                          <a:lnTo>
                            <a:pt x="21" y="848"/>
                          </a:lnTo>
                          <a:lnTo>
                            <a:pt x="63" y="990"/>
                          </a:lnTo>
                          <a:lnTo>
                            <a:pt x="96" y="1081"/>
                          </a:lnTo>
                          <a:lnTo>
                            <a:pt x="148" y="1176"/>
                          </a:lnTo>
                          <a:lnTo>
                            <a:pt x="248" y="1297"/>
                          </a:lnTo>
                          <a:lnTo>
                            <a:pt x="198" y="1146"/>
                          </a:lnTo>
                          <a:lnTo>
                            <a:pt x="156" y="1003"/>
                          </a:lnTo>
                          <a:lnTo>
                            <a:pt x="130" y="878"/>
                          </a:lnTo>
                          <a:lnTo>
                            <a:pt x="139" y="765"/>
                          </a:lnTo>
                          <a:lnTo>
                            <a:pt x="148" y="679"/>
                          </a:lnTo>
                          <a:lnTo>
                            <a:pt x="130" y="579"/>
                          </a:lnTo>
                          <a:lnTo>
                            <a:pt x="121" y="488"/>
                          </a:lnTo>
                          <a:lnTo>
                            <a:pt x="160" y="315"/>
                          </a:lnTo>
                          <a:lnTo>
                            <a:pt x="173" y="224"/>
                          </a:lnTo>
                          <a:lnTo>
                            <a:pt x="206" y="151"/>
                          </a:lnTo>
                          <a:lnTo>
                            <a:pt x="278" y="56"/>
                          </a:lnTo>
                          <a:lnTo>
                            <a:pt x="353" y="56"/>
                          </a:lnTo>
                          <a:lnTo>
                            <a:pt x="535" y="181"/>
                          </a:lnTo>
                          <a:lnTo>
                            <a:pt x="527" y="138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7392960" y="5524560"/>
                      <a:ext cx="344880" cy="5018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958" h="1394">
                          <a:moveTo>
                            <a:pt x="674" y="1394"/>
                          </a:moveTo>
                          <a:lnTo>
                            <a:pt x="744" y="1156"/>
                          </a:lnTo>
                          <a:lnTo>
                            <a:pt x="774" y="1056"/>
                          </a:lnTo>
                          <a:lnTo>
                            <a:pt x="838" y="931"/>
                          </a:lnTo>
                          <a:lnTo>
                            <a:pt x="907" y="805"/>
                          </a:lnTo>
                          <a:lnTo>
                            <a:pt x="950" y="736"/>
                          </a:lnTo>
                          <a:lnTo>
                            <a:pt x="958" y="666"/>
                          </a:lnTo>
                          <a:lnTo>
                            <a:pt x="937" y="558"/>
                          </a:lnTo>
                          <a:lnTo>
                            <a:pt x="928" y="454"/>
                          </a:lnTo>
                          <a:lnTo>
                            <a:pt x="821" y="190"/>
                          </a:lnTo>
                          <a:lnTo>
                            <a:pt x="774" y="125"/>
                          </a:lnTo>
                          <a:lnTo>
                            <a:pt x="687" y="56"/>
                          </a:lnTo>
                          <a:lnTo>
                            <a:pt x="610" y="12"/>
                          </a:lnTo>
                          <a:lnTo>
                            <a:pt x="515" y="0"/>
                          </a:lnTo>
                          <a:lnTo>
                            <a:pt x="438" y="30"/>
                          </a:lnTo>
                          <a:lnTo>
                            <a:pt x="344" y="56"/>
                          </a:lnTo>
                          <a:lnTo>
                            <a:pt x="241" y="142"/>
                          </a:lnTo>
                          <a:lnTo>
                            <a:pt x="201" y="199"/>
                          </a:lnTo>
                          <a:lnTo>
                            <a:pt x="145" y="285"/>
                          </a:lnTo>
                          <a:lnTo>
                            <a:pt x="94" y="359"/>
                          </a:lnTo>
                          <a:lnTo>
                            <a:pt x="8" y="723"/>
                          </a:lnTo>
                          <a:lnTo>
                            <a:pt x="0" y="792"/>
                          </a:lnTo>
                          <a:lnTo>
                            <a:pt x="21" y="914"/>
                          </a:lnTo>
                          <a:lnTo>
                            <a:pt x="68" y="1260"/>
                          </a:lnTo>
                          <a:lnTo>
                            <a:pt x="68" y="922"/>
                          </a:lnTo>
                          <a:lnTo>
                            <a:pt x="94" y="771"/>
                          </a:lnTo>
                          <a:lnTo>
                            <a:pt x="115" y="679"/>
                          </a:lnTo>
                          <a:lnTo>
                            <a:pt x="154" y="558"/>
                          </a:lnTo>
                          <a:lnTo>
                            <a:pt x="193" y="441"/>
                          </a:lnTo>
                          <a:lnTo>
                            <a:pt x="254" y="320"/>
                          </a:lnTo>
                          <a:lnTo>
                            <a:pt x="322" y="216"/>
                          </a:lnTo>
                          <a:lnTo>
                            <a:pt x="378" y="112"/>
                          </a:lnTo>
                          <a:lnTo>
                            <a:pt x="438" y="56"/>
                          </a:lnTo>
                          <a:lnTo>
                            <a:pt x="507" y="34"/>
                          </a:lnTo>
                          <a:lnTo>
                            <a:pt x="576" y="56"/>
                          </a:lnTo>
                          <a:lnTo>
                            <a:pt x="618" y="103"/>
                          </a:lnTo>
                          <a:lnTo>
                            <a:pt x="653" y="199"/>
                          </a:lnTo>
                          <a:lnTo>
                            <a:pt x="653" y="272"/>
                          </a:lnTo>
                          <a:lnTo>
                            <a:pt x="666" y="398"/>
                          </a:lnTo>
                          <a:lnTo>
                            <a:pt x="696" y="476"/>
                          </a:lnTo>
                          <a:lnTo>
                            <a:pt x="761" y="601"/>
                          </a:lnTo>
                          <a:lnTo>
                            <a:pt x="774" y="666"/>
                          </a:lnTo>
                          <a:lnTo>
                            <a:pt x="782" y="728"/>
                          </a:lnTo>
                          <a:lnTo>
                            <a:pt x="782" y="823"/>
                          </a:lnTo>
                          <a:lnTo>
                            <a:pt x="666" y="1134"/>
                          </a:lnTo>
                          <a:lnTo>
                            <a:pt x="674" y="1394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" name=""/>
                    <p:cNvSpPr/>
                    <p:nvPr/>
                  </p:nvSpPr>
                  <p:spPr>
                    <a:xfrm>
                      <a:off x="7068960" y="6093000"/>
                      <a:ext cx="286200" cy="457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795" h="1271">
                          <a:moveTo>
                            <a:pt x="778" y="203"/>
                          </a:moveTo>
                          <a:lnTo>
                            <a:pt x="612" y="0"/>
                          </a:lnTo>
                          <a:lnTo>
                            <a:pt x="504" y="4"/>
                          </a:lnTo>
                          <a:lnTo>
                            <a:pt x="419" y="17"/>
                          </a:lnTo>
                          <a:lnTo>
                            <a:pt x="346" y="73"/>
                          </a:lnTo>
                          <a:lnTo>
                            <a:pt x="162" y="237"/>
                          </a:lnTo>
                          <a:lnTo>
                            <a:pt x="102" y="311"/>
                          </a:lnTo>
                          <a:lnTo>
                            <a:pt x="59" y="380"/>
                          </a:lnTo>
                          <a:lnTo>
                            <a:pt x="17" y="600"/>
                          </a:lnTo>
                          <a:lnTo>
                            <a:pt x="0" y="666"/>
                          </a:lnTo>
                          <a:lnTo>
                            <a:pt x="17" y="743"/>
                          </a:lnTo>
                          <a:lnTo>
                            <a:pt x="46" y="830"/>
                          </a:lnTo>
                          <a:lnTo>
                            <a:pt x="119" y="968"/>
                          </a:lnTo>
                          <a:lnTo>
                            <a:pt x="179" y="1059"/>
                          </a:lnTo>
                          <a:lnTo>
                            <a:pt x="269" y="1154"/>
                          </a:lnTo>
                          <a:lnTo>
                            <a:pt x="444" y="1271"/>
                          </a:lnTo>
                          <a:lnTo>
                            <a:pt x="359" y="1124"/>
                          </a:lnTo>
                          <a:lnTo>
                            <a:pt x="282" y="985"/>
                          </a:lnTo>
                          <a:lnTo>
                            <a:pt x="239" y="860"/>
                          </a:lnTo>
                          <a:lnTo>
                            <a:pt x="257" y="743"/>
                          </a:lnTo>
                          <a:lnTo>
                            <a:pt x="269" y="666"/>
                          </a:lnTo>
                          <a:lnTo>
                            <a:pt x="239" y="561"/>
                          </a:lnTo>
                          <a:lnTo>
                            <a:pt x="222" y="475"/>
                          </a:lnTo>
                          <a:lnTo>
                            <a:pt x="299" y="311"/>
                          </a:lnTo>
                          <a:lnTo>
                            <a:pt x="312" y="220"/>
                          </a:lnTo>
                          <a:lnTo>
                            <a:pt x="376" y="146"/>
                          </a:lnTo>
                          <a:lnTo>
                            <a:pt x="504" y="56"/>
                          </a:lnTo>
                          <a:lnTo>
                            <a:pt x="568" y="125"/>
                          </a:lnTo>
                          <a:lnTo>
                            <a:pt x="795" y="246"/>
                          </a:lnTo>
                          <a:lnTo>
                            <a:pt x="778" y="203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>
                      <a:off x="7404120" y="6245280"/>
                      <a:ext cx="290880" cy="309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808" h="861">
                          <a:moveTo>
                            <a:pt x="17" y="136"/>
                          </a:moveTo>
                          <a:lnTo>
                            <a:pt x="187" y="0"/>
                          </a:lnTo>
                          <a:lnTo>
                            <a:pt x="295" y="4"/>
                          </a:lnTo>
                          <a:lnTo>
                            <a:pt x="385" y="12"/>
                          </a:lnTo>
                          <a:lnTo>
                            <a:pt x="462" y="47"/>
                          </a:lnTo>
                          <a:lnTo>
                            <a:pt x="642" y="162"/>
                          </a:lnTo>
                          <a:lnTo>
                            <a:pt x="702" y="209"/>
                          </a:lnTo>
                          <a:lnTo>
                            <a:pt x="749" y="257"/>
                          </a:lnTo>
                          <a:lnTo>
                            <a:pt x="791" y="403"/>
                          </a:lnTo>
                          <a:lnTo>
                            <a:pt x="808" y="445"/>
                          </a:lnTo>
                          <a:lnTo>
                            <a:pt x="791" y="505"/>
                          </a:lnTo>
                          <a:lnTo>
                            <a:pt x="762" y="561"/>
                          </a:lnTo>
                          <a:lnTo>
                            <a:pt x="689" y="656"/>
                          </a:lnTo>
                          <a:lnTo>
                            <a:pt x="633" y="716"/>
                          </a:lnTo>
                          <a:lnTo>
                            <a:pt x="538" y="780"/>
                          </a:lnTo>
                          <a:lnTo>
                            <a:pt x="355" y="861"/>
                          </a:lnTo>
                          <a:lnTo>
                            <a:pt x="449" y="759"/>
                          </a:lnTo>
                          <a:lnTo>
                            <a:pt x="526" y="669"/>
                          </a:lnTo>
                          <a:lnTo>
                            <a:pt x="573" y="582"/>
                          </a:lnTo>
                          <a:lnTo>
                            <a:pt x="551" y="505"/>
                          </a:lnTo>
                          <a:lnTo>
                            <a:pt x="538" y="445"/>
                          </a:lnTo>
                          <a:lnTo>
                            <a:pt x="573" y="377"/>
                          </a:lnTo>
                          <a:lnTo>
                            <a:pt x="585" y="317"/>
                          </a:lnTo>
                          <a:lnTo>
                            <a:pt x="509" y="209"/>
                          </a:lnTo>
                          <a:lnTo>
                            <a:pt x="492" y="149"/>
                          </a:lnTo>
                          <a:lnTo>
                            <a:pt x="427" y="102"/>
                          </a:lnTo>
                          <a:lnTo>
                            <a:pt x="295" y="38"/>
                          </a:lnTo>
                          <a:lnTo>
                            <a:pt x="231" y="85"/>
                          </a:lnTo>
                          <a:lnTo>
                            <a:pt x="0" y="166"/>
                          </a:lnTo>
                          <a:lnTo>
                            <a:pt x="17" y="136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1" name=""/>
              <p:cNvSpPr/>
              <p:nvPr/>
            </p:nvSpPr>
            <p:spPr>
              <a:xfrm>
                <a:off x="7203960" y="5710320"/>
                <a:ext cx="386280" cy="520920"/>
              </a:xfrm>
              <a:custGeom>
                <a:avLst/>
                <a:gdLst/>
                <a:ahLst/>
                <a:rect l="0" t="0" r="r" b="b"/>
                <a:pathLst>
                  <a:path w="1073" h="1447">
                    <a:moveTo>
                      <a:pt x="771" y="17"/>
                    </a:moveTo>
                    <a:lnTo>
                      <a:pt x="680" y="0"/>
                    </a:lnTo>
                    <a:lnTo>
                      <a:pt x="625" y="38"/>
                    </a:lnTo>
                    <a:lnTo>
                      <a:pt x="560" y="51"/>
                    </a:lnTo>
                    <a:lnTo>
                      <a:pt x="427" y="64"/>
                    </a:lnTo>
                    <a:lnTo>
                      <a:pt x="427" y="73"/>
                    </a:lnTo>
                    <a:lnTo>
                      <a:pt x="521" y="51"/>
                    </a:lnTo>
                    <a:lnTo>
                      <a:pt x="581" y="64"/>
                    </a:lnTo>
                    <a:lnTo>
                      <a:pt x="504" y="86"/>
                    </a:lnTo>
                    <a:lnTo>
                      <a:pt x="560" y="86"/>
                    </a:lnTo>
                    <a:lnTo>
                      <a:pt x="504" y="129"/>
                    </a:lnTo>
                    <a:lnTo>
                      <a:pt x="73" y="346"/>
                    </a:lnTo>
                    <a:lnTo>
                      <a:pt x="521" y="129"/>
                    </a:lnTo>
                    <a:lnTo>
                      <a:pt x="504" y="155"/>
                    </a:lnTo>
                    <a:lnTo>
                      <a:pt x="444" y="194"/>
                    </a:lnTo>
                    <a:lnTo>
                      <a:pt x="388" y="203"/>
                    </a:lnTo>
                    <a:lnTo>
                      <a:pt x="266" y="216"/>
                    </a:lnTo>
                    <a:lnTo>
                      <a:pt x="73" y="194"/>
                    </a:lnTo>
                    <a:lnTo>
                      <a:pt x="388" y="216"/>
                    </a:lnTo>
                    <a:lnTo>
                      <a:pt x="444" y="194"/>
                    </a:lnTo>
                    <a:lnTo>
                      <a:pt x="504" y="177"/>
                    </a:lnTo>
                    <a:lnTo>
                      <a:pt x="487" y="216"/>
                    </a:lnTo>
                    <a:lnTo>
                      <a:pt x="444" y="229"/>
                    </a:lnTo>
                    <a:lnTo>
                      <a:pt x="55" y="355"/>
                    </a:lnTo>
                    <a:lnTo>
                      <a:pt x="444" y="242"/>
                    </a:lnTo>
                    <a:lnTo>
                      <a:pt x="487" y="242"/>
                    </a:lnTo>
                    <a:lnTo>
                      <a:pt x="444" y="281"/>
                    </a:lnTo>
                    <a:lnTo>
                      <a:pt x="388" y="320"/>
                    </a:lnTo>
                    <a:lnTo>
                      <a:pt x="55" y="394"/>
                    </a:lnTo>
                    <a:lnTo>
                      <a:pt x="427" y="307"/>
                    </a:lnTo>
                    <a:lnTo>
                      <a:pt x="444" y="307"/>
                    </a:lnTo>
                    <a:lnTo>
                      <a:pt x="461" y="320"/>
                    </a:lnTo>
                    <a:lnTo>
                      <a:pt x="388" y="368"/>
                    </a:lnTo>
                    <a:lnTo>
                      <a:pt x="461" y="355"/>
                    </a:lnTo>
                    <a:lnTo>
                      <a:pt x="366" y="420"/>
                    </a:lnTo>
                    <a:lnTo>
                      <a:pt x="285" y="459"/>
                    </a:lnTo>
                    <a:lnTo>
                      <a:pt x="133" y="485"/>
                    </a:lnTo>
                    <a:lnTo>
                      <a:pt x="55" y="485"/>
                    </a:lnTo>
                    <a:lnTo>
                      <a:pt x="185" y="476"/>
                    </a:lnTo>
                    <a:lnTo>
                      <a:pt x="349" y="441"/>
                    </a:lnTo>
                    <a:lnTo>
                      <a:pt x="388" y="433"/>
                    </a:lnTo>
                    <a:lnTo>
                      <a:pt x="349" y="476"/>
                    </a:lnTo>
                    <a:lnTo>
                      <a:pt x="266" y="523"/>
                    </a:lnTo>
                    <a:lnTo>
                      <a:pt x="133" y="549"/>
                    </a:lnTo>
                    <a:lnTo>
                      <a:pt x="0" y="571"/>
                    </a:lnTo>
                    <a:lnTo>
                      <a:pt x="167" y="536"/>
                    </a:lnTo>
                    <a:lnTo>
                      <a:pt x="285" y="498"/>
                    </a:lnTo>
                    <a:lnTo>
                      <a:pt x="388" y="459"/>
                    </a:lnTo>
                    <a:lnTo>
                      <a:pt x="405" y="441"/>
                    </a:lnTo>
                    <a:lnTo>
                      <a:pt x="388" y="485"/>
                    </a:lnTo>
                    <a:lnTo>
                      <a:pt x="427" y="476"/>
                    </a:lnTo>
                    <a:lnTo>
                      <a:pt x="461" y="485"/>
                    </a:lnTo>
                    <a:lnTo>
                      <a:pt x="388" y="523"/>
                    </a:lnTo>
                    <a:lnTo>
                      <a:pt x="388" y="549"/>
                    </a:lnTo>
                    <a:lnTo>
                      <a:pt x="285" y="597"/>
                    </a:lnTo>
                    <a:lnTo>
                      <a:pt x="323" y="597"/>
                    </a:lnTo>
                    <a:lnTo>
                      <a:pt x="285" y="623"/>
                    </a:lnTo>
                    <a:lnTo>
                      <a:pt x="150" y="675"/>
                    </a:lnTo>
                    <a:lnTo>
                      <a:pt x="34" y="688"/>
                    </a:lnTo>
                    <a:lnTo>
                      <a:pt x="206" y="662"/>
                    </a:lnTo>
                    <a:lnTo>
                      <a:pt x="306" y="623"/>
                    </a:lnTo>
                    <a:lnTo>
                      <a:pt x="366" y="610"/>
                    </a:lnTo>
                    <a:lnTo>
                      <a:pt x="366" y="649"/>
                    </a:lnTo>
                    <a:lnTo>
                      <a:pt x="366" y="662"/>
                    </a:lnTo>
                    <a:lnTo>
                      <a:pt x="306" y="714"/>
                    </a:lnTo>
                    <a:lnTo>
                      <a:pt x="249" y="754"/>
                    </a:lnTo>
                    <a:lnTo>
                      <a:pt x="285" y="754"/>
                    </a:lnTo>
                    <a:lnTo>
                      <a:pt x="232" y="776"/>
                    </a:lnTo>
                    <a:lnTo>
                      <a:pt x="34" y="845"/>
                    </a:lnTo>
                    <a:lnTo>
                      <a:pt x="167" y="802"/>
                    </a:lnTo>
                    <a:lnTo>
                      <a:pt x="266" y="776"/>
                    </a:lnTo>
                    <a:lnTo>
                      <a:pt x="266" y="819"/>
                    </a:lnTo>
                    <a:lnTo>
                      <a:pt x="206" y="828"/>
                    </a:lnTo>
                    <a:lnTo>
                      <a:pt x="266" y="819"/>
                    </a:lnTo>
                    <a:lnTo>
                      <a:pt x="266" y="845"/>
                    </a:lnTo>
                    <a:lnTo>
                      <a:pt x="232" y="862"/>
                    </a:lnTo>
                    <a:lnTo>
                      <a:pt x="55" y="901"/>
                    </a:lnTo>
                    <a:lnTo>
                      <a:pt x="206" y="862"/>
                    </a:lnTo>
                    <a:lnTo>
                      <a:pt x="206" y="875"/>
                    </a:lnTo>
                    <a:lnTo>
                      <a:pt x="232" y="888"/>
                    </a:lnTo>
                    <a:lnTo>
                      <a:pt x="55" y="975"/>
                    </a:lnTo>
                    <a:lnTo>
                      <a:pt x="185" y="910"/>
                    </a:lnTo>
                    <a:lnTo>
                      <a:pt x="232" y="901"/>
                    </a:lnTo>
                    <a:lnTo>
                      <a:pt x="249" y="927"/>
                    </a:lnTo>
                    <a:lnTo>
                      <a:pt x="206" y="949"/>
                    </a:lnTo>
                    <a:lnTo>
                      <a:pt x="249" y="940"/>
                    </a:lnTo>
                    <a:lnTo>
                      <a:pt x="206" y="1018"/>
                    </a:lnTo>
                    <a:lnTo>
                      <a:pt x="34" y="1100"/>
                    </a:lnTo>
                    <a:lnTo>
                      <a:pt x="206" y="1018"/>
                    </a:lnTo>
                    <a:lnTo>
                      <a:pt x="185" y="1053"/>
                    </a:lnTo>
                    <a:lnTo>
                      <a:pt x="249" y="1018"/>
                    </a:lnTo>
                    <a:lnTo>
                      <a:pt x="249" y="1053"/>
                    </a:lnTo>
                    <a:lnTo>
                      <a:pt x="266" y="1230"/>
                    </a:lnTo>
                    <a:lnTo>
                      <a:pt x="444" y="1447"/>
                    </a:lnTo>
                    <a:lnTo>
                      <a:pt x="266" y="1222"/>
                    </a:lnTo>
                    <a:lnTo>
                      <a:pt x="266" y="1131"/>
                    </a:lnTo>
                    <a:lnTo>
                      <a:pt x="285" y="1066"/>
                    </a:lnTo>
                    <a:lnTo>
                      <a:pt x="306" y="1018"/>
                    </a:lnTo>
                    <a:lnTo>
                      <a:pt x="349" y="927"/>
                    </a:lnTo>
                    <a:lnTo>
                      <a:pt x="388" y="962"/>
                    </a:lnTo>
                    <a:lnTo>
                      <a:pt x="642" y="1447"/>
                    </a:lnTo>
                    <a:lnTo>
                      <a:pt x="405" y="962"/>
                    </a:lnTo>
                    <a:lnTo>
                      <a:pt x="405" y="910"/>
                    </a:lnTo>
                    <a:lnTo>
                      <a:pt x="444" y="940"/>
                    </a:lnTo>
                    <a:lnTo>
                      <a:pt x="487" y="1412"/>
                    </a:lnTo>
                    <a:lnTo>
                      <a:pt x="461" y="1005"/>
                    </a:lnTo>
                    <a:lnTo>
                      <a:pt x="444" y="927"/>
                    </a:lnTo>
                    <a:lnTo>
                      <a:pt x="427" y="901"/>
                    </a:lnTo>
                    <a:lnTo>
                      <a:pt x="444" y="845"/>
                    </a:lnTo>
                    <a:lnTo>
                      <a:pt x="461" y="888"/>
                    </a:lnTo>
                    <a:lnTo>
                      <a:pt x="521" y="988"/>
                    </a:lnTo>
                    <a:lnTo>
                      <a:pt x="581" y="1053"/>
                    </a:lnTo>
                    <a:lnTo>
                      <a:pt x="741" y="1139"/>
                    </a:lnTo>
                    <a:lnTo>
                      <a:pt x="1073" y="1308"/>
                    </a:lnTo>
                    <a:lnTo>
                      <a:pt x="642" y="1066"/>
                    </a:lnTo>
                    <a:lnTo>
                      <a:pt x="560" y="1005"/>
                    </a:lnTo>
                    <a:lnTo>
                      <a:pt x="521" y="962"/>
                    </a:lnTo>
                    <a:lnTo>
                      <a:pt x="487" y="910"/>
                    </a:lnTo>
                    <a:lnTo>
                      <a:pt x="504" y="776"/>
                    </a:lnTo>
                    <a:lnTo>
                      <a:pt x="521" y="819"/>
                    </a:lnTo>
                    <a:lnTo>
                      <a:pt x="521" y="737"/>
                    </a:lnTo>
                    <a:lnTo>
                      <a:pt x="521" y="714"/>
                    </a:lnTo>
                    <a:lnTo>
                      <a:pt x="560" y="776"/>
                    </a:lnTo>
                    <a:lnTo>
                      <a:pt x="935" y="1243"/>
                    </a:lnTo>
                    <a:lnTo>
                      <a:pt x="625" y="862"/>
                    </a:lnTo>
                    <a:lnTo>
                      <a:pt x="581" y="828"/>
                    </a:lnTo>
                    <a:lnTo>
                      <a:pt x="560" y="776"/>
                    </a:lnTo>
                    <a:lnTo>
                      <a:pt x="560" y="632"/>
                    </a:lnTo>
                    <a:lnTo>
                      <a:pt x="581" y="649"/>
                    </a:lnTo>
                    <a:lnTo>
                      <a:pt x="599" y="571"/>
                    </a:lnTo>
                    <a:lnTo>
                      <a:pt x="663" y="597"/>
                    </a:lnTo>
                    <a:lnTo>
                      <a:pt x="862" y="797"/>
                    </a:lnTo>
                    <a:lnTo>
                      <a:pt x="689" y="606"/>
                    </a:lnTo>
                    <a:lnTo>
                      <a:pt x="663" y="584"/>
                    </a:lnTo>
                    <a:lnTo>
                      <a:pt x="642" y="485"/>
                    </a:lnTo>
                    <a:lnTo>
                      <a:pt x="680" y="498"/>
                    </a:lnTo>
                    <a:lnTo>
                      <a:pt x="836" y="1018"/>
                    </a:lnTo>
                    <a:lnTo>
                      <a:pt x="663" y="459"/>
                    </a:lnTo>
                    <a:lnTo>
                      <a:pt x="663" y="407"/>
                    </a:lnTo>
                    <a:lnTo>
                      <a:pt x="680" y="441"/>
                    </a:lnTo>
                    <a:lnTo>
                      <a:pt x="680" y="333"/>
                    </a:lnTo>
                    <a:lnTo>
                      <a:pt x="715" y="368"/>
                    </a:lnTo>
                    <a:lnTo>
                      <a:pt x="715" y="307"/>
                    </a:lnTo>
                    <a:lnTo>
                      <a:pt x="775" y="346"/>
                    </a:lnTo>
                    <a:lnTo>
                      <a:pt x="858" y="476"/>
                    </a:lnTo>
                    <a:lnTo>
                      <a:pt x="991" y="627"/>
                    </a:lnTo>
                    <a:lnTo>
                      <a:pt x="879" y="485"/>
                    </a:lnTo>
                    <a:lnTo>
                      <a:pt x="797" y="394"/>
                    </a:lnTo>
                    <a:lnTo>
                      <a:pt x="775" y="333"/>
                    </a:lnTo>
                    <a:lnTo>
                      <a:pt x="741" y="216"/>
                    </a:lnTo>
                    <a:lnTo>
                      <a:pt x="758" y="229"/>
                    </a:lnTo>
                    <a:lnTo>
                      <a:pt x="797" y="216"/>
                    </a:lnTo>
                    <a:lnTo>
                      <a:pt x="775" y="168"/>
                    </a:lnTo>
                    <a:lnTo>
                      <a:pt x="815" y="216"/>
                    </a:lnTo>
                    <a:lnTo>
                      <a:pt x="1009" y="385"/>
                    </a:lnTo>
                    <a:lnTo>
                      <a:pt x="858" y="251"/>
                    </a:lnTo>
                    <a:lnTo>
                      <a:pt x="836" y="229"/>
                    </a:lnTo>
                    <a:lnTo>
                      <a:pt x="836" y="103"/>
                    </a:lnTo>
                    <a:lnTo>
                      <a:pt x="879" y="142"/>
                    </a:lnTo>
                    <a:lnTo>
                      <a:pt x="935" y="203"/>
                    </a:lnTo>
                    <a:lnTo>
                      <a:pt x="1064" y="307"/>
                    </a:lnTo>
                    <a:lnTo>
                      <a:pt x="914" y="203"/>
                    </a:lnTo>
                    <a:lnTo>
                      <a:pt x="879" y="116"/>
                    </a:lnTo>
                    <a:lnTo>
                      <a:pt x="897" y="51"/>
                    </a:lnTo>
                    <a:lnTo>
                      <a:pt x="801" y="12"/>
                    </a:lnTo>
                    <a:lnTo>
                      <a:pt x="771" y="17"/>
                    </a:lnTo>
                    <a:close/>
                  </a:path>
                </a:pathLst>
              </a:custGeom>
              <a:solidFill>
                <a:srgbClr val="a6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39120" y="5781600"/>
                <a:ext cx="408240" cy="495720"/>
              </a:xfrm>
              <a:custGeom>
                <a:avLst/>
                <a:gdLst/>
                <a:ahLst/>
                <a:rect l="0" t="0" r="r" b="b"/>
                <a:pathLst>
                  <a:path w="1134" h="1377">
                    <a:moveTo>
                      <a:pt x="1121" y="216"/>
                    </a:moveTo>
                    <a:lnTo>
                      <a:pt x="1039" y="125"/>
                    </a:lnTo>
                    <a:lnTo>
                      <a:pt x="1000" y="90"/>
                    </a:lnTo>
                    <a:lnTo>
                      <a:pt x="918" y="60"/>
                    </a:lnTo>
                    <a:lnTo>
                      <a:pt x="841" y="30"/>
                    </a:lnTo>
                    <a:lnTo>
                      <a:pt x="733" y="4"/>
                    </a:lnTo>
                    <a:lnTo>
                      <a:pt x="643" y="0"/>
                    </a:lnTo>
                    <a:lnTo>
                      <a:pt x="560" y="12"/>
                    </a:lnTo>
                    <a:lnTo>
                      <a:pt x="465" y="25"/>
                    </a:lnTo>
                    <a:lnTo>
                      <a:pt x="357" y="51"/>
                    </a:lnTo>
                    <a:lnTo>
                      <a:pt x="288" y="103"/>
                    </a:lnTo>
                    <a:lnTo>
                      <a:pt x="228" y="177"/>
                    </a:lnTo>
                    <a:lnTo>
                      <a:pt x="159" y="233"/>
                    </a:lnTo>
                    <a:lnTo>
                      <a:pt x="107" y="294"/>
                    </a:lnTo>
                    <a:lnTo>
                      <a:pt x="43" y="373"/>
                    </a:lnTo>
                    <a:lnTo>
                      <a:pt x="0" y="537"/>
                    </a:lnTo>
                    <a:lnTo>
                      <a:pt x="12" y="667"/>
                    </a:lnTo>
                    <a:lnTo>
                      <a:pt x="68" y="844"/>
                    </a:lnTo>
                    <a:lnTo>
                      <a:pt x="159" y="1000"/>
                    </a:lnTo>
                    <a:lnTo>
                      <a:pt x="357" y="1377"/>
                    </a:lnTo>
                    <a:lnTo>
                      <a:pt x="280" y="974"/>
                    </a:lnTo>
                    <a:lnTo>
                      <a:pt x="241" y="836"/>
                    </a:lnTo>
                    <a:lnTo>
                      <a:pt x="211" y="710"/>
                    </a:lnTo>
                    <a:lnTo>
                      <a:pt x="198" y="585"/>
                    </a:lnTo>
                    <a:lnTo>
                      <a:pt x="228" y="442"/>
                    </a:lnTo>
                    <a:lnTo>
                      <a:pt x="254" y="328"/>
                    </a:lnTo>
                    <a:lnTo>
                      <a:pt x="305" y="190"/>
                    </a:lnTo>
                    <a:lnTo>
                      <a:pt x="383" y="125"/>
                    </a:lnTo>
                    <a:lnTo>
                      <a:pt x="491" y="99"/>
                    </a:lnTo>
                    <a:lnTo>
                      <a:pt x="772" y="82"/>
                    </a:lnTo>
                    <a:lnTo>
                      <a:pt x="944" y="129"/>
                    </a:lnTo>
                    <a:lnTo>
                      <a:pt x="1134" y="233"/>
                    </a:lnTo>
                    <a:lnTo>
                      <a:pt x="1121" y="216"/>
                    </a:lnTo>
                    <a:close/>
                  </a:path>
                </a:pathLst>
              </a:custGeom>
              <a:solidFill>
                <a:srgbClr val="a6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1080" y="5432400"/>
                <a:ext cx="417960" cy="484560"/>
              </a:xfrm>
              <a:custGeom>
                <a:avLst/>
                <a:gdLst/>
                <a:ahLst/>
                <a:rect l="0" t="0" r="r" b="b"/>
                <a:pathLst>
                  <a:path w="1161" h="1346">
                    <a:moveTo>
                      <a:pt x="341" y="1346"/>
                    </a:moveTo>
                    <a:lnTo>
                      <a:pt x="258" y="1113"/>
                    </a:lnTo>
                    <a:lnTo>
                      <a:pt x="224" y="1018"/>
                    </a:lnTo>
                    <a:lnTo>
                      <a:pt x="142" y="891"/>
                    </a:lnTo>
                    <a:lnTo>
                      <a:pt x="56" y="775"/>
                    </a:lnTo>
                    <a:lnTo>
                      <a:pt x="8" y="714"/>
                    </a:lnTo>
                    <a:lnTo>
                      <a:pt x="0" y="645"/>
                    </a:lnTo>
                    <a:lnTo>
                      <a:pt x="21" y="541"/>
                    </a:lnTo>
                    <a:lnTo>
                      <a:pt x="34" y="442"/>
                    </a:lnTo>
                    <a:lnTo>
                      <a:pt x="163" y="185"/>
                    </a:lnTo>
                    <a:lnTo>
                      <a:pt x="224" y="125"/>
                    </a:lnTo>
                    <a:lnTo>
                      <a:pt x="332" y="56"/>
                    </a:lnTo>
                    <a:lnTo>
                      <a:pt x="423" y="12"/>
                    </a:lnTo>
                    <a:lnTo>
                      <a:pt x="539" y="0"/>
                    </a:lnTo>
                    <a:lnTo>
                      <a:pt x="630" y="30"/>
                    </a:lnTo>
                    <a:lnTo>
                      <a:pt x="751" y="56"/>
                    </a:lnTo>
                    <a:lnTo>
                      <a:pt x="872" y="138"/>
                    </a:lnTo>
                    <a:lnTo>
                      <a:pt x="911" y="194"/>
                    </a:lnTo>
                    <a:lnTo>
                      <a:pt x="989" y="276"/>
                    </a:lnTo>
                    <a:lnTo>
                      <a:pt x="1049" y="346"/>
                    </a:lnTo>
                    <a:lnTo>
                      <a:pt x="1153" y="697"/>
                    </a:lnTo>
                    <a:lnTo>
                      <a:pt x="1161" y="762"/>
                    </a:lnTo>
                    <a:lnTo>
                      <a:pt x="1140" y="878"/>
                    </a:lnTo>
                    <a:lnTo>
                      <a:pt x="1075" y="1208"/>
                    </a:lnTo>
                    <a:lnTo>
                      <a:pt x="1079" y="887"/>
                    </a:lnTo>
                    <a:lnTo>
                      <a:pt x="1049" y="740"/>
                    </a:lnTo>
                    <a:lnTo>
                      <a:pt x="1019" y="658"/>
                    </a:lnTo>
                    <a:lnTo>
                      <a:pt x="972" y="541"/>
                    </a:lnTo>
                    <a:lnTo>
                      <a:pt x="928" y="424"/>
                    </a:lnTo>
                    <a:lnTo>
                      <a:pt x="854" y="311"/>
                    </a:lnTo>
                    <a:lnTo>
                      <a:pt x="772" y="207"/>
                    </a:lnTo>
                    <a:lnTo>
                      <a:pt x="703" y="112"/>
                    </a:lnTo>
                    <a:lnTo>
                      <a:pt x="630" y="56"/>
                    </a:lnTo>
                    <a:lnTo>
                      <a:pt x="552" y="38"/>
                    </a:lnTo>
                    <a:lnTo>
                      <a:pt x="470" y="56"/>
                    </a:lnTo>
                    <a:lnTo>
                      <a:pt x="410" y="108"/>
                    </a:lnTo>
                    <a:lnTo>
                      <a:pt x="376" y="194"/>
                    </a:lnTo>
                    <a:lnTo>
                      <a:pt x="376" y="259"/>
                    </a:lnTo>
                    <a:lnTo>
                      <a:pt x="350" y="385"/>
                    </a:lnTo>
                    <a:lnTo>
                      <a:pt x="315" y="459"/>
                    </a:lnTo>
                    <a:lnTo>
                      <a:pt x="232" y="580"/>
                    </a:lnTo>
                    <a:lnTo>
                      <a:pt x="224" y="645"/>
                    </a:lnTo>
                    <a:lnTo>
                      <a:pt x="211" y="705"/>
                    </a:lnTo>
                    <a:lnTo>
                      <a:pt x="211" y="792"/>
                    </a:lnTo>
                    <a:lnTo>
                      <a:pt x="350" y="1091"/>
                    </a:lnTo>
                    <a:lnTo>
                      <a:pt x="341" y="1346"/>
                    </a:lnTo>
                    <a:close/>
                  </a:path>
                </a:pathLst>
              </a:custGeom>
              <a:solidFill>
                <a:srgbClr val="a6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308800" y="4950000"/>
                <a:ext cx="617760" cy="675000"/>
                <a:chOff x="8308800" y="4950000"/>
                <a:chExt cx="617760" cy="67500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308800" y="4950000"/>
                  <a:ext cx="305280" cy="675000"/>
                </a:xfrm>
                <a:custGeom>
                  <a:avLst/>
                  <a:gdLst/>
                  <a:ahLst/>
                  <a:rect l="0" t="0" r="r" b="b"/>
                  <a:pathLst>
                    <a:path w="848" h="1875">
                      <a:moveTo>
                        <a:pt x="737" y="152"/>
                      </a:moveTo>
                      <a:lnTo>
                        <a:pt x="758" y="43"/>
                      </a:lnTo>
                      <a:lnTo>
                        <a:pt x="848" y="34"/>
                      </a:lnTo>
                      <a:lnTo>
                        <a:pt x="750" y="0"/>
                      </a:lnTo>
                      <a:lnTo>
                        <a:pt x="707" y="4"/>
                      </a:lnTo>
                      <a:lnTo>
                        <a:pt x="639" y="17"/>
                      </a:lnTo>
                      <a:lnTo>
                        <a:pt x="633" y="47"/>
                      </a:lnTo>
                      <a:lnTo>
                        <a:pt x="569" y="69"/>
                      </a:lnTo>
                      <a:lnTo>
                        <a:pt x="192" y="286"/>
                      </a:lnTo>
                      <a:lnTo>
                        <a:pt x="437" y="173"/>
                      </a:lnTo>
                      <a:lnTo>
                        <a:pt x="569" y="152"/>
                      </a:lnTo>
                      <a:lnTo>
                        <a:pt x="449" y="221"/>
                      </a:lnTo>
                      <a:lnTo>
                        <a:pt x="569" y="230"/>
                      </a:lnTo>
                      <a:lnTo>
                        <a:pt x="128" y="447"/>
                      </a:lnTo>
                      <a:lnTo>
                        <a:pt x="364" y="334"/>
                      </a:lnTo>
                      <a:lnTo>
                        <a:pt x="578" y="278"/>
                      </a:lnTo>
                      <a:lnTo>
                        <a:pt x="569" y="321"/>
                      </a:lnTo>
                      <a:lnTo>
                        <a:pt x="497" y="382"/>
                      </a:lnTo>
                      <a:lnTo>
                        <a:pt x="437" y="434"/>
                      </a:lnTo>
                      <a:lnTo>
                        <a:pt x="287" y="547"/>
                      </a:lnTo>
                      <a:lnTo>
                        <a:pt x="55" y="660"/>
                      </a:lnTo>
                      <a:lnTo>
                        <a:pt x="209" y="587"/>
                      </a:lnTo>
                      <a:lnTo>
                        <a:pt x="415" y="465"/>
                      </a:lnTo>
                      <a:lnTo>
                        <a:pt x="497" y="417"/>
                      </a:lnTo>
                      <a:lnTo>
                        <a:pt x="569" y="365"/>
                      </a:lnTo>
                      <a:lnTo>
                        <a:pt x="531" y="373"/>
                      </a:lnTo>
                      <a:lnTo>
                        <a:pt x="599" y="400"/>
                      </a:lnTo>
                      <a:lnTo>
                        <a:pt x="522" y="434"/>
                      </a:lnTo>
                      <a:lnTo>
                        <a:pt x="415" y="534"/>
                      </a:lnTo>
                      <a:lnTo>
                        <a:pt x="300" y="643"/>
                      </a:lnTo>
                      <a:lnTo>
                        <a:pt x="153" y="721"/>
                      </a:lnTo>
                      <a:lnTo>
                        <a:pt x="394" y="547"/>
                      </a:lnTo>
                      <a:lnTo>
                        <a:pt x="497" y="465"/>
                      </a:lnTo>
                      <a:lnTo>
                        <a:pt x="569" y="400"/>
                      </a:lnTo>
                      <a:lnTo>
                        <a:pt x="599" y="400"/>
                      </a:lnTo>
                      <a:lnTo>
                        <a:pt x="539" y="500"/>
                      </a:lnTo>
                      <a:lnTo>
                        <a:pt x="612" y="473"/>
                      </a:lnTo>
                      <a:lnTo>
                        <a:pt x="569" y="534"/>
                      </a:lnTo>
                      <a:lnTo>
                        <a:pt x="497" y="604"/>
                      </a:lnTo>
                      <a:lnTo>
                        <a:pt x="343" y="704"/>
                      </a:lnTo>
                      <a:lnTo>
                        <a:pt x="153" y="774"/>
                      </a:lnTo>
                      <a:lnTo>
                        <a:pt x="0" y="860"/>
                      </a:lnTo>
                      <a:lnTo>
                        <a:pt x="205" y="769"/>
                      </a:lnTo>
                      <a:lnTo>
                        <a:pt x="497" y="621"/>
                      </a:lnTo>
                      <a:lnTo>
                        <a:pt x="544" y="587"/>
                      </a:lnTo>
                      <a:lnTo>
                        <a:pt x="599" y="534"/>
                      </a:lnTo>
                      <a:lnTo>
                        <a:pt x="531" y="647"/>
                      </a:lnTo>
                      <a:lnTo>
                        <a:pt x="643" y="608"/>
                      </a:lnTo>
                      <a:lnTo>
                        <a:pt x="544" y="756"/>
                      </a:lnTo>
                      <a:lnTo>
                        <a:pt x="522" y="787"/>
                      </a:lnTo>
                      <a:lnTo>
                        <a:pt x="492" y="808"/>
                      </a:lnTo>
                      <a:lnTo>
                        <a:pt x="106" y="1018"/>
                      </a:lnTo>
                      <a:lnTo>
                        <a:pt x="381" y="847"/>
                      </a:lnTo>
                      <a:lnTo>
                        <a:pt x="531" y="765"/>
                      </a:lnTo>
                      <a:lnTo>
                        <a:pt x="621" y="726"/>
                      </a:lnTo>
                      <a:lnTo>
                        <a:pt x="639" y="730"/>
                      </a:lnTo>
                      <a:lnTo>
                        <a:pt x="102" y="1122"/>
                      </a:lnTo>
                      <a:lnTo>
                        <a:pt x="514" y="856"/>
                      </a:lnTo>
                      <a:lnTo>
                        <a:pt x="616" y="847"/>
                      </a:lnTo>
                      <a:lnTo>
                        <a:pt x="497" y="988"/>
                      </a:lnTo>
                      <a:lnTo>
                        <a:pt x="603" y="957"/>
                      </a:lnTo>
                      <a:lnTo>
                        <a:pt x="441" y="1118"/>
                      </a:lnTo>
                      <a:lnTo>
                        <a:pt x="106" y="1335"/>
                      </a:lnTo>
                      <a:lnTo>
                        <a:pt x="484" y="1101"/>
                      </a:lnTo>
                      <a:lnTo>
                        <a:pt x="599" y="1001"/>
                      </a:lnTo>
                      <a:lnTo>
                        <a:pt x="479" y="1140"/>
                      </a:lnTo>
                      <a:lnTo>
                        <a:pt x="569" y="1092"/>
                      </a:lnTo>
                      <a:lnTo>
                        <a:pt x="471" y="1201"/>
                      </a:lnTo>
                      <a:lnTo>
                        <a:pt x="556" y="1175"/>
                      </a:lnTo>
                      <a:lnTo>
                        <a:pt x="458" y="1309"/>
                      </a:lnTo>
                      <a:lnTo>
                        <a:pt x="569" y="1262"/>
                      </a:lnTo>
                      <a:lnTo>
                        <a:pt x="467" y="1335"/>
                      </a:lnTo>
                      <a:lnTo>
                        <a:pt x="343" y="1392"/>
                      </a:lnTo>
                      <a:lnTo>
                        <a:pt x="136" y="1488"/>
                      </a:lnTo>
                      <a:lnTo>
                        <a:pt x="209" y="1466"/>
                      </a:lnTo>
                      <a:lnTo>
                        <a:pt x="467" y="1366"/>
                      </a:lnTo>
                      <a:lnTo>
                        <a:pt x="544" y="1318"/>
                      </a:lnTo>
                      <a:lnTo>
                        <a:pt x="441" y="1418"/>
                      </a:lnTo>
                      <a:lnTo>
                        <a:pt x="522" y="1401"/>
                      </a:lnTo>
                      <a:lnTo>
                        <a:pt x="471" y="1448"/>
                      </a:lnTo>
                      <a:lnTo>
                        <a:pt x="441" y="1518"/>
                      </a:lnTo>
                      <a:lnTo>
                        <a:pt x="497" y="1501"/>
                      </a:lnTo>
                      <a:lnTo>
                        <a:pt x="428" y="1562"/>
                      </a:lnTo>
                      <a:lnTo>
                        <a:pt x="183" y="1692"/>
                      </a:lnTo>
                      <a:lnTo>
                        <a:pt x="467" y="1553"/>
                      </a:lnTo>
                      <a:lnTo>
                        <a:pt x="522" y="1483"/>
                      </a:lnTo>
                      <a:lnTo>
                        <a:pt x="441" y="1631"/>
                      </a:lnTo>
                      <a:lnTo>
                        <a:pt x="531" y="1596"/>
                      </a:lnTo>
                      <a:lnTo>
                        <a:pt x="479" y="1675"/>
                      </a:lnTo>
                      <a:lnTo>
                        <a:pt x="394" y="1783"/>
                      </a:lnTo>
                      <a:lnTo>
                        <a:pt x="317" y="1875"/>
                      </a:lnTo>
                      <a:lnTo>
                        <a:pt x="441" y="1740"/>
                      </a:lnTo>
                      <a:lnTo>
                        <a:pt x="479" y="1705"/>
                      </a:lnTo>
                      <a:lnTo>
                        <a:pt x="565" y="1666"/>
                      </a:lnTo>
                      <a:lnTo>
                        <a:pt x="621" y="1744"/>
                      </a:lnTo>
                      <a:lnTo>
                        <a:pt x="643" y="1596"/>
                      </a:lnTo>
                      <a:lnTo>
                        <a:pt x="737" y="152"/>
                      </a:lnTo>
                      <a:close/>
                    </a:path>
                  </a:pathLst>
                </a:custGeom>
                <a:solidFill>
                  <a:srgbClr val="a6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8529480" y="4950000"/>
                  <a:ext cx="397080" cy="621000"/>
                </a:xfrm>
                <a:custGeom>
                  <a:avLst/>
                  <a:gdLst/>
                  <a:ahLst/>
                  <a:rect l="0" t="0" r="r" b="b"/>
                  <a:pathLst>
                    <a:path w="1103" h="1725">
                      <a:moveTo>
                        <a:pt x="0" y="1699"/>
                      </a:moveTo>
                      <a:lnTo>
                        <a:pt x="8" y="1612"/>
                      </a:lnTo>
                      <a:lnTo>
                        <a:pt x="94" y="1664"/>
                      </a:lnTo>
                      <a:lnTo>
                        <a:pt x="60" y="1547"/>
                      </a:lnTo>
                      <a:lnTo>
                        <a:pt x="142" y="1564"/>
                      </a:lnTo>
                      <a:lnTo>
                        <a:pt x="249" y="1725"/>
                      </a:lnTo>
                      <a:lnTo>
                        <a:pt x="167" y="1612"/>
                      </a:lnTo>
                      <a:lnTo>
                        <a:pt x="137" y="1560"/>
                      </a:lnTo>
                      <a:lnTo>
                        <a:pt x="111" y="1499"/>
                      </a:lnTo>
                      <a:lnTo>
                        <a:pt x="167" y="1516"/>
                      </a:lnTo>
                      <a:lnTo>
                        <a:pt x="331" y="1625"/>
                      </a:lnTo>
                      <a:lnTo>
                        <a:pt x="249" y="1564"/>
                      </a:lnTo>
                      <a:lnTo>
                        <a:pt x="155" y="1499"/>
                      </a:lnTo>
                      <a:lnTo>
                        <a:pt x="142" y="1403"/>
                      </a:lnTo>
                      <a:lnTo>
                        <a:pt x="202" y="1434"/>
                      </a:lnTo>
                      <a:lnTo>
                        <a:pt x="189" y="1325"/>
                      </a:lnTo>
                      <a:lnTo>
                        <a:pt x="249" y="1360"/>
                      </a:lnTo>
                      <a:lnTo>
                        <a:pt x="469" y="1564"/>
                      </a:lnTo>
                      <a:lnTo>
                        <a:pt x="223" y="1312"/>
                      </a:lnTo>
                      <a:lnTo>
                        <a:pt x="189" y="1243"/>
                      </a:lnTo>
                      <a:lnTo>
                        <a:pt x="271" y="1282"/>
                      </a:lnTo>
                      <a:lnTo>
                        <a:pt x="486" y="1481"/>
                      </a:lnTo>
                      <a:lnTo>
                        <a:pt x="249" y="1277"/>
                      </a:lnTo>
                      <a:lnTo>
                        <a:pt x="167" y="1169"/>
                      </a:lnTo>
                      <a:lnTo>
                        <a:pt x="249" y="1208"/>
                      </a:lnTo>
                      <a:lnTo>
                        <a:pt x="189" y="1143"/>
                      </a:lnTo>
                      <a:lnTo>
                        <a:pt x="271" y="1156"/>
                      </a:lnTo>
                      <a:lnTo>
                        <a:pt x="348" y="1277"/>
                      </a:lnTo>
                      <a:lnTo>
                        <a:pt x="322" y="1243"/>
                      </a:lnTo>
                      <a:lnTo>
                        <a:pt x="249" y="1143"/>
                      </a:lnTo>
                      <a:lnTo>
                        <a:pt x="223" y="1091"/>
                      </a:lnTo>
                      <a:lnTo>
                        <a:pt x="297" y="1143"/>
                      </a:lnTo>
                      <a:lnTo>
                        <a:pt x="249" y="1025"/>
                      </a:lnTo>
                      <a:lnTo>
                        <a:pt x="297" y="1043"/>
                      </a:lnTo>
                      <a:lnTo>
                        <a:pt x="335" y="1099"/>
                      </a:lnTo>
                      <a:lnTo>
                        <a:pt x="578" y="1169"/>
                      </a:lnTo>
                      <a:lnTo>
                        <a:pt x="417" y="1117"/>
                      </a:lnTo>
                      <a:lnTo>
                        <a:pt x="374" y="1095"/>
                      </a:lnTo>
                      <a:lnTo>
                        <a:pt x="258" y="978"/>
                      </a:lnTo>
                      <a:lnTo>
                        <a:pt x="297" y="999"/>
                      </a:lnTo>
                      <a:lnTo>
                        <a:pt x="271" y="921"/>
                      </a:lnTo>
                      <a:lnTo>
                        <a:pt x="262" y="934"/>
                      </a:lnTo>
                      <a:lnTo>
                        <a:pt x="370" y="965"/>
                      </a:lnTo>
                      <a:lnTo>
                        <a:pt x="292" y="886"/>
                      </a:lnTo>
                      <a:lnTo>
                        <a:pt x="378" y="904"/>
                      </a:lnTo>
                      <a:lnTo>
                        <a:pt x="578" y="939"/>
                      </a:lnTo>
                      <a:lnTo>
                        <a:pt x="789" y="1012"/>
                      </a:lnTo>
                      <a:lnTo>
                        <a:pt x="642" y="956"/>
                      </a:lnTo>
                      <a:lnTo>
                        <a:pt x="383" y="886"/>
                      </a:lnTo>
                      <a:lnTo>
                        <a:pt x="314" y="825"/>
                      </a:lnTo>
                      <a:lnTo>
                        <a:pt x="413" y="855"/>
                      </a:lnTo>
                      <a:lnTo>
                        <a:pt x="297" y="729"/>
                      </a:lnTo>
                      <a:lnTo>
                        <a:pt x="378" y="738"/>
                      </a:lnTo>
                      <a:lnTo>
                        <a:pt x="322" y="677"/>
                      </a:lnTo>
                      <a:lnTo>
                        <a:pt x="331" y="664"/>
                      </a:lnTo>
                      <a:lnTo>
                        <a:pt x="434" y="716"/>
                      </a:lnTo>
                      <a:lnTo>
                        <a:pt x="335" y="625"/>
                      </a:lnTo>
                      <a:lnTo>
                        <a:pt x="413" y="625"/>
                      </a:lnTo>
                      <a:lnTo>
                        <a:pt x="322" y="564"/>
                      </a:lnTo>
                      <a:lnTo>
                        <a:pt x="378" y="564"/>
                      </a:lnTo>
                      <a:lnTo>
                        <a:pt x="322" y="529"/>
                      </a:lnTo>
                      <a:lnTo>
                        <a:pt x="404" y="529"/>
                      </a:lnTo>
                      <a:lnTo>
                        <a:pt x="569" y="603"/>
                      </a:lnTo>
                      <a:lnTo>
                        <a:pt x="1103" y="773"/>
                      </a:lnTo>
                      <a:lnTo>
                        <a:pt x="771" y="664"/>
                      </a:lnTo>
                      <a:lnTo>
                        <a:pt x="642" y="616"/>
                      </a:lnTo>
                      <a:lnTo>
                        <a:pt x="434" y="555"/>
                      </a:lnTo>
                      <a:lnTo>
                        <a:pt x="404" y="529"/>
                      </a:lnTo>
                      <a:lnTo>
                        <a:pt x="353" y="464"/>
                      </a:lnTo>
                      <a:lnTo>
                        <a:pt x="430" y="477"/>
                      </a:lnTo>
                      <a:lnTo>
                        <a:pt x="335" y="373"/>
                      </a:lnTo>
                      <a:lnTo>
                        <a:pt x="391" y="373"/>
                      </a:lnTo>
                      <a:lnTo>
                        <a:pt x="322" y="295"/>
                      </a:lnTo>
                      <a:lnTo>
                        <a:pt x="404" y="295"/>
                      </a:lnTo>
                      <a:lnTo>
                        <a:pt x="452" y="334"/>
                      </a:lnTo>
                      <a:lnTo>
                        <a:pt x="642" y="386"/>
                      </a:lnTo>
                      <a:lnTo>
                        <a:pt x="586" y="364"/>
                      </a:lnTo>
                      <a:lnTo>
                        <a:pt x="452" y="330"/>
                      </a:lnTo>
                      <a:lnTo>
                        <a:pt x="430" y="295"/>
                      </a:lnTo>
                      <a:lnTo>
                        <a:pt x="353" y="247"/>
                      </a:lnTo>
                      <a:lnTo>
                        <a:pt x="404" y="260"/>
                      </a:lnTo>
                      <a:lnTo>
                        <a:pt x="271" y="195"/>
                      </a:lnTo>
                      <a:lnTo>
                        <a:pt x="322" y="217"/>
                      </a:lnTo>
                      <a:lnTo>
                        <a:pt x="447" y="212"/>
                      </a:lnTo>
                      <a:lnTo>
                        <a:pt x="789" y="299"/>
                      </a:lnTo>
                      <a:lnTo>
                        <a:pt x="430" y="217"/>
                      </a:lnTo>
                      <a:lnTo>
                        <a:pt x="322" y="147"/>
                      </a:lnTo>
                      <a:lnTo>
                        <a:pt x="430" y="147"/>
                      </a:lnTo>
                      <a:lnTo>
                        <a:pt x="870" y="147"/>
                      </a:lnTo>
                      <a:lnTo>
                        <a:pt x="560" y="160"/>
                      </a:lnTo>
                      <a:lnTo>
                        <a:pt x="404" y="147"/>
                      </a:lnTo>
                      <a:lnTo>
                        <a:pt x="353" y="112"/>
                      </a:lnTo>
                      <a:lnTo>
                        <a:pt x="297" y="56"/>
                      </a:lnTo>
                      <a:lnTo>
                        <a:pt x="172" y="0"/>
                      </a:lnTo>
                      <a:lnTo>
                        <a:pt x="142" y="26"/>
                      </a:lnTo>
                      <a:lnTo>
                        <a:pt x="116" y="4"/>
                      </a:lnTo>
                      <a:lnTo>
                        <a:pt x="0" y="1699"/>
                      </a:lnTo>
                      <a:close/>
                    </a:path>
                  </a:pathLst>
                </a:custGeom>
                <a:solidFill>
                  <a:srgbClr val="a6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8537400" y="5654520"/>
                <a:ext cx="140040" cy="535320"/>
              </a:xfrm>
              <a:custGeom>
                <a:avLst/>
                <a:gdLst/>
                <a:ahLst/>
                <a:rect l="0" t="0" r="r" b="b"/>
                <a:pathLst>
                  <a:path w="389" h="1487">
                    <a:moveTo>
                      <a:pt x="78" y="0"/>
                    </a:moveTo>
                    <a:lnTo>
                      <a:pt x="156" y="112"/>
                    </a:lnTo>
                    <a:lnTo>
                      <a:pt x="232" y="290"/>
                    </a:lnTo>
                    <a:lnTo>
                      <a:pt x="314" y="541"/>
                    </a:lnTo>
                    <a:lnTo>
                      <a:pt x="389" y="858"/>
                    </a:lnTo>
                    <a:lnTo>
                      <a:pt x="389" y="1192"/>
                    </a:lnTo>
                    <a:lnTo>
                      <a:pt x="351" y="1487"/>
                    </a:lnTo>
                    <a:lnTo>
                      <a:pt x="314" y="1487"/>
                    </a:lnTo>
                    <a:lnTo>
                      <a:pt x="351" y="1192"/>
                    </a:lnTo>
                    <a:lnTo>
                      <a:pt x="351" y="949"/>
                    </a:lnTo>
                    <a:lnTo>
                      <a:pt x="269" y="675"/>
                    </a:lnTo>
                    <a:lnTo>
                      <a:pt x="156" y="402"/>
                    </a:lnTo>
                    <a:lnTo>
                      <a:pt x="0" y="69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6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88160" y="6068880"/>
                <a:ext cx="292320" cy="309960"/>
              </a:xfrm>
              <a:custGeom>
                <a:avLst/>
                <a:gdLst/>
                <a:ahLst/>
                <a:rect l="0" t="0" r="r" b="b"/>
                <a:pathLst>
                  <a:path w="812" h="861">
                    <a:moveTo>
                      <a:pt x="795" y="136"/>
                    </a:moveTo>
                    <a:lnTo>
                      <a:pt x="624" y="0"/>
                    </a:lnTo>
                    <a:lnTo>
                      <a:pt x="517" y="4"/>
                    </a:lnTo>
                    <a:lnTo>
                      <a:pt x="428" y="12"/>
                    </a:lnTo>
                    <a:lnTo>
                      <a:pt x="350" y="47"/>
                    </a:lnTo>
                    <a:lnTo>
                      <a:pt x="166" y="162"/>
                    </a:lnTo>
                    <a:lnTo>
                      <a:pt x="106" y="209"/>
                    </a:lnTo>
                    <a:lnTo>
                      <a:pt x="59" y="257"/>
                    </a:lnTo>
                    <a:lnTo>
                      <a:pt x="17" y="407"/>
                    </a:lnTo>
                    <a:lnTo>
                      <a:pt x="0" y="450"/>
                    </a:lnTo>
                    <a:lnTo>
                      <a:pt x="17" y="510"/>
                    </a:lnTo>
                    <a:lnTo>
                      <a:pt x="46" y="565"/>
                    </a:lnTo>
                    <a:lnTo>
                      <a:pt x="119" y="660"/>
                    </a:lnTo>
                    <a:lnTo>
                      <a:pt x="179" y="720"/>
                    </a:lnTo>
                    <a:lnTo>
                      <a:pt x="273" y="780"/>
                    </a:lnTo>
                    <a:lnTo>
                      <a:pt x="457" y="861"/>
                    </a:lnTo>
                    <a:lnTo>
                      <a:pt x="362" y="763"/>
                    </a:lnTo>
                    <a:lnTo>
                      <a:pt x="286" y="673"/>
                    </a:lnTo>
                    <a:lnTo>
                      <a:pt x="239" y="587"/>
                    </a:lnTo>
                    <a:lnTo>
                      <a:pt x="260" y="510"/>
                    </a:lnTo>
                    <a:lnTo>
                      <a:pt x="273" y="450"/>
                    </a:lnTo>
                    <a:lnTo>
                      <a:pt x="239" y="381"/>
                    </a:lnTo>
                    <a:lnTo>
                      <a:pt x="226" y="321"/>
                    </a:lnTo>
                    <a:lnTo>
                      <a:pt x="303" y="209"/>
                    </a:lnTo>
                    <a:lnTo>
                      <a:pt x="320" y="149"/>
                    </a:lnTo>
                    <a:lnTo>
                      <a:pt x="384" y="102"/>
                    </a:lnTo>
                    <a:lnTo>
                      <a:pt x="517" y="38"/>
                    </a:lnTo>
                    <a:lnTo>
                      <a:pt x="581" y="85"/>
                    </a:lnTo>
                    <a:lnTo>
                      <a:pt x="812" y="166"/>
                    </a:lnTo>
                    <a:lnTo>
                      <a:pt x="795" y="136"/>
                    </a:lnTo>
                    <a:close/>
                  </a:path>
                </a:pathLst>
              </a:custGeom>
              <a:solidFill>
                <a:srgbClr val="a6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160" y="3448080"/>
              <a:ext cx="3259440" cy="3314880"/>
              <a:chOff x="38160" y="3448080"/>
              <a:chExt cx="3259440" cy="331488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8160" y="3448080"/>
                <a:ext cx="3259440" cy="3314880"/>
                <a:chOff x="38160" y="3448080"/>
                <a:chExt cx="3259440" cy="3314880"/>
              </a:xfrm>
            </p:grpSpPr>
            <p:grpSp>
              <p:nvGrpSpPr>
                <p:cNvPr id="61" name=""/>
                <p:cNvGrpSpPr/>
                <p:nvPr/>
              </p:nvGrpSpPr>
              <p:grpSpPr>
                <a:xfrm>
                  <a:off x="38160" y="3448080"/>
                  <a:ext cx="3259440" cy="3314880"/>
                  <a:chOff x="38160" y="3448080"/>
                  <a:chExt cx="3259440" cy="3314880"/>
                </a:xfrm>
              </p:grpSpPr>
              <p:grpSp>
                <p:nvGrpSpPr>
                  <p:cNvPr id="62" name=""/>
                  <p:cNvGrpSpPr/>
                  <p:nvPr/>
                </p:nvGrpSpPr>
                <p:grpSpPr>
                  <a:xfrm>
                    <a:off x="244440" y="5267160"/>
                    <a:ext cx="1236960" cy="1367280"/>
                    <a:chOff x="244440" y="5267160"/>
                    <a:chExt cx="1236960" cy="1367280"/>
                  </a:xfrm>
                </p:grpSpPr>
                <p:grpSp>
                  <p:nvGrpSpPr>
                    <p:cNvPr id="63" name=""/>
                    <p:cNvGrpSpPr/>
                    <p:nvPr/>
                  </p:nvGrpSpPr>
                  <p:grpSpPr>
                    <a:xfrm>
                      <a:off x="927000" y="5356080"/>
                      <a:ext cx="554400" cy="1262520"/>
                      <a:chOff x="927000" y="5356080"/>
                      <a:chExt cx="554400" cy="1262520"/>
                    </a:xfrm>
                  </p:grpSpPr>
                  <p:grpSp>
                    <p:nvGrpSpPr>
                      <p:cNvPr id="64" name=""/>
                      <p:cNvGrpSpPr/>
                      <p:nvPr/>
                    </p:nvGrpSpPr>
                    <p:grpSpPr>
                      <a:xfrm>
                        <a:off x="927000" y="5362560"/>
                        <a:ext cx="554400" cy="1080000"/>
                        <a:chOff x="927000" y="5362560"/>
                        <a:chExt cx="554400" cy="1080000"/>
                      </a:xfrm>
                    </p:grpSpPr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1314360" y="5992920"/>
                          <a:ext cx="82800" cy="4496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30" h="1249">
                              <a:moveTo>
                                <a:pt x="47" y="0"/>
                              </a:moveTo>
                              <a:lnTo>
                                <a:pt x="94" y="94"/>
                              </a:lnTo>
                              <a:lnTo>
                                <a:pt x="139" y="246"/>
                              </a:lnTo>
                              <a:lnTo>
                                <a:pt x="186" y="454"/>
                              </a:lnTo>
                              <a:lnTo>
                                <a:pt x="230" y="717"/>
                              </a:lnTo>
                              <a:lnTo>
                                <a:pt x="230" y="1003"/>
                              </a:lnTo>
                              <a:lnTo>
                                <a:pt x="210" y="1249"/>
                              </a:lnTo>
                              <a:lnTo>
                                <a:pt x="186" y="1249"/>
                              </a:lnTo>
                              <a:lnTo>
                                <a:pt x="210" y="1003"/>
                              </a:lnTo>
                              <a:lnTo>
                                <a:pt x="210" y="795"/>
                              </a:lnTo>
                              <a:lnTo>
                                <a:pt x="163" y="566"/>
                              </a:lnTo>
                              <a:lnTo>
                                <a:pt x="94" y="342"/>
                              </a:lnTo>
                              <a:lnTo>
                                <a:pt x="0" y="56"/>
                              </a:lnTo>
                              <a:lnTo>
                                <a:pt x="4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6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>
                          <a:off x="927000" y="5754600"/>
                          <a:ext cx="135360" cy="4449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76" h="1236">
                              <a:moveTo>
                                <a:pt x="368" y="194"/>
                              </a:moveTo>
                              <a:lnTo>
                                <a:pt x="290" y="0"/>
                              </a:lnTo>
                              <a:lnTo>
                                <a:pt x="235" y="4"/>
                              </a:lnTo>
                              <a:lnTo>
                                <a:pt x="198" y="12"/>
                              </a:lnTo>
                              <a:lnTo>
                                <a:pt x="161" y="69"/>
                              </a:lnTo>
                              <a:lnTo>
                                <a:pt x="74" y="228"/>
                              </a:lnTo>
                              <a:lnTo>
                                <a:pt x="45" y="297"/>
                              </a:lnTo>
                              <a:lnTo>
                                <a:pt x="28" y="367"/>
                              </a:lnTo>
                              <a:lnTo>
                                <a:pt x="4" y="579"/>
                              </a:lnTo>
                              <a:lnTo>
                                <a:pt x="0" y="644"/>
                              </a:lnTo>
                              <a:lnTo>
                                <a:pt x="4" y="721"/>
                              </a:lnTo>
                              <a:lnTo>
                                <a:pt x="20" y="808"/>
                              </a:lnTo>
                              <a:lnTo>
                                <a:pt x="53" y="943"/>
                              </a:lnTo>
                              <a:lnTo>
                                <a:pt x="82" y="1029"/>
                              </a:lnTo>
                              <a:lnTo>
                                <a:pt x="128" y="1124"/>
                              </a:lnTo>
                              <a:lnTo>
                                <a:pt x="211" y="1236"/>
                              </a:lnTo>
                              <a:lnTo>
                                <a:pt x="169" y="1094"/>
                              </a:lnTo>
                              <a:lnTo>
                                <a:pt x="132" y="960"/>
                              </a:lnTo>
                              <a:lnTo>
                                <a:pt x="112" y="838"/>
                              </a:lnTo>
                              <a:lnTo>
                                <a:pt x="120" y="721"/>
                              </a:lnTo>
                              <a:lnTo>
                                <a:pt x="128" y="644"/>
                              </a:lnTo>
                              <a:lnTo>
                                <a:pt x="112" y="540"/>
                              </a:lnTo>
                              <a:lnTo>
                                <a:pt x="103" y="462"/>
                              </a:lnTo>
                              <a:lnTo>
                                <a:pt x="141" y="297"/>
                              </a:lnTo>
                              <a:lnTo>
                                <a:pt x="145" y="211"/>
                              </a:lnTo>
                              <a:lnTo>
                                <a:pt x="178" y="142"/>
                              </a:lnTo>
                              <a:lnTo>
                                <a:pt x="235" y="51"/>
                              </a:lnTo>
                              <a:lnTo>
                                <a:pt x="268" y="120"/>
                              </a:lnTo>
                              <a:lnTo>
                                <a:pt x="376" y="233"/>
                              </a:lnTo>
                              <a:lnTo>
                                <a:pt x="368" y="19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6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1152360" y="5362560"/>
                          <a:ext cx="329040" cy="7988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914" h="2219">
                              <a:moveTo>
                                <a:pt x="205" y="0"/>
                              </a:moveTo>
                              <a:lnTo>
                                <a:pt x="245" y="8"/>
                              </a:lnTo>
                              <a:lnTo>
                                <a:pt x="300" y="26"/>
                              </a:lnTo>
                              <a:lnTo>
                                <a:pt x="262" y="34"/>
                              </a:lnTo>
                              <a:lnTo>
                                <a:pt x="292" y="61"/>
                              </a:lnTo>
                              <a:lnTo>
                                <a:pt x="322" y="91"/>
                              </a:lnTo>
                              <a:lnTo>
                                <a:pt x="373" y="104"/>
                              </a:lnTo>
                              <a:lnTo>
                                <a:pt x="446" y="95"/>
                              </a:lnTo>
                              <a:lnTo>
                                <a:pt x="528" y="78"/>
                              </a:lnTo>
                              <a:lnTo>
                                <a:pt x="730" y="95"/>
                              </a:lnTo>
                              <a:lnTo>
                                <a:pt x="536" y="82"/>
                              </a:lnTo>
                              <a:lnTo>
                                <a:pt x="446" y="108"/>
                              </a:lnTo>
                              <a:lnTo>
                                <a:pt x="373" y="104"/>
                              </a:lnTo>
                              <a:lnTo>
                                <a:pt x="322" y="122"/>
                              </a:lnTo>
                              <a:lnTo>
                                <a:pt x="360" y="148"/>
                              </a:lnTo>
                              <a:lnTo>
                                <a:pt x="335" y="161"/>
                              </a:lnTo>
                              <a:lnTo>
                                <a:pt x="403" y="209"/>
                              </a:lnTo>
                              <a:lnTo>
                                <a:pt x="553" y="204"/>
                              </a:lnTo>
                              <a:lnTo>
                                <a:pt x="743" y="383"/>
                              </a:lnTo>
                              <a:lnTo>
                                <a:pt x="553" y="209"/>
                              </a:lnTo>
                              <a:lnTo>
                                <a:pt x="403" y="222"/>
                              </a:lnTo>
                              <a:lnTo>
                                <a:pt x="360" y="230"/>
                              </a:lnTo>
                              <a:lnTo>
                                <a:pt x="442" y="287"/>
                              </a:lnTo>
                              <a:lnTo>
                                <a:pt x="390" y="287"/>
                              </a:lnTo>
                              <a:lnTo>
                                <a:pt x="476" y="357"/>
                              </a:lnTo>
                              <a:lnTo>
                                <a:pt x="639" y="444"/>
                              </a:lnTo>
                              <a:lnTo>
                                <a:pt x="820" y="601"/>
                              </a:lnTo>
                              <a:lnTo>
                                <a:pt x="635" y="457"/>
                              </a:lnTo>
                              <a:lnTo>
                                <a:pt x="472" y="370"/>
                              </a:lnTo>
                              <a:lnTo>
                                <a:pt x="425" y="374"/>
                              </a:lnTo>
                              <a:lnTo>
                                <a:pt x="498" y="427"/>
                              </a:lnTo>
                              <a:lnTo>
                                <a:pt x="446" y="440"/>
                              </a:lnTo>
                              <a:lnTo>
                                <a:pt x="510" y="505"/>
                              </a:lnTo>
                              <a:lnTo>
                                <a:pt x="897" y="1041"/>
                              </a:lnTo>
                              <a:lnTo>
                                <a:pt x="510" y="514"/>
                              </a:lnTo>
                              <a:lnTo>
                                <a:pt x="455" y="514"/>
                              </a:lnTo>
                              <a:lnTo>
                                <a:pt x="515" y="597"/>
                              </a:lnTo>
                              <a:lnTo>
                                <a:pt x="472" y="588"/>
                              </a:lnTo>
                              <a:lnTo>
                                <a:pt x="528" y="692"/>
                              </a:lnTo>
                              <a:lnTo>
                                <a:pt x="687" y="875"/>
                              </a:lnTo>
                              <a:lnTo>
                                <a:pt x="854" y="1142"/>
                              </a:lnTo>
                              <a:lnTo>
                                <a:pt x="687" y="880"/>
                              </a:lnTo>
                              <a:lnTo>
                                <a:pt x="523" y="701"/>
                              </a:lnTo>
                              <a:lnTo>
                                <a:pt x="472" y="675"/>
                              </a:lnTo>
                              <a:lnTo>
                                <a:pt x="510" y="745"/>
                              </a:lnTo>
                              <a:lnTo>
                                <a:pt x="476" y="732"/>
                              </a:lnTo>
                              <a:lnTo>
                                <a:pt x="528" y="832"/>
                              </a:lnTo>
                              <a:lnTo>
                                <a:pt x="660" y="1024"/>
                              </a:lnTo>
                              <a:lnTo>
                                <a:pt x="914" y="1277"/>
                              </a:lnTo>
                              <a:lnTo>
                                <a:pt x="665" y="1028"/>
                              </a:lnTo>
                              <a:lnTo>
                                <a:pt x="523" y="836"/>
                              </a:lnTo>
                              <a:lnTo>
                                <a:pt x="502" y="836"/>
                              </a:lnTo>
                              <a:lnTo>
                                <a:pt x="743" y="1408"/>
                              </a:lnTo>
                              <a:lnTo>
                                <a:pt x="493" y="836"/>
                              </a:lnTo>
                              <a:lnTo>
                                <a:pt x="523" y="915"/>
                              </a:lnTo>
                              <a:lnTo>
                                <a:pt x="493" y="888"/>
                              </a:lnTo>
                              <a:lnTo>
                                <a:pt x="540" y="1006"/>
                              </a:lnTo>
                              <a:lnTo>
                                <a:pt x="704" y="1269"/>
                              </a:lnTo>
                              <a:lnTo>
                                <a:pt x="540" y="1024"/>
                              </a:lnTo>
                              <a:lnTo>
                                <a:pt x="498" y="1006"/>
                              </a:lnTo>
                              <a:lnTo>
                                <a:pt x="540" y="1080"/>
                              </a:lnTo>
                              <a:lnTo>
                                <a:pt x="739" y="1595"/>
                              </a:lnTo>
                              <a:lnTo>
                                <a:pt x="583" y="1199"/>
                              </a:lnTo>
                              <a:lnTo>
                                <a:pt x="528" y="1080"/>
                              </a:lnTo>
                              <a:lnTo>
                                <a:pt x="498" y="1063"/>
                              </a:lnTo>
                              <a:lnTo>
                                <a:pt x="536" y="1151"/>
                              </a:lnTo>
                              <a:lnTo>
                                <a:pt x="502" y="1138"/>
                              </a:lnTo>
                              <a:lnTo>
                                <a:pt x="553" y="1242"/>
                              </a:lnTo>
                              <a:lnTo>
                                <a:pt x="575" y="1330"/>
                              </a:lnTo>
                              <a:lnTo>
                                <a:pt x="829" y="1622"/>
                              </a:lnTo>
                              <a:lnTo>
                                <a:pt x="570" y="1334"/>
                              </a:lnTo>
                              <a:lnTo>
                                <a:pt x="540" y="1269"/>
                              </a:lnTo>
                              <a:lnTo>
                                <a:pt x="510" y="1256"/>
                              </a:lnTo>
                              <a:lnTo>
                                <a:pt x="570" y="1421"/>
                              </a:lnTo>
                              <a:lnTo>
                                <a:pt x="502" y="1256"/>
                              </a:lnTo>
                              <a:lnTo>
                                <a:pt x="540" y="1334"/>
                              </a:lnTo>
                              <a:lnTo>
                                <a:pt x="498" y="1312"/>
                              </a:lnTo>
                              <a:lnTo>
                                <a:pt x="528" y="1386"/>
                              </a:lnTo>
                              <a:lnTo>
                                <a:pt x="613" y="1626"/>
                              </a:lnTo>
                              <a:lnTo>
                                <a:pt x="696" y="1774"/>
                              </a:lnTo>
                              <a:lnTo>
                                <a:pt x="613" y="1626"/>
                              </a:lnTo>
                              <a:lnTo>
                                <a:pt x="523" y="1395"/>
                              </a:lnTo>
                              <a:lnTo>
                                <a:pt x="493" y="1386"/>
                              </a:lnTo>
                              <a:lnTo>
                                <a:pt x="502" y="1443"/>
                              </a:lnTo>
                              <a:lnTo>
                                <a:pt x="570" y="1595"/>
                              </a:lnTo>
                              <a:lnTo>
                                <a:pt x="498" y="1460"/>
                              </a:lnTo>
                              <a:lnTo>
                                <a:pt x="476" y="1408"/>
                              </a:lnTo>
                              <a:lnTo>
                                <a:pt x="510" y="1534"/>
                              </a:lnTo>
                              <a:lnTo>
                                <a:pt x="472" y="1513"/>
                              </a:lnTo>
                              <a:lnTo>
                                <a:pt x="485" y="1609"/>
                              </a:lnTo>
                              <a:lnTo>
                                <a:pt x="459" y="1569"/>
                              </a:lnTo>
                              <a:lnTo>
                                <a:pt x="442" y="1600"/>
                              </a:lnTo>
                              <a:lnTo>
                                <a:pt x="446" y="1709"/>
                              </a:lnTo>
                              <a:lnTo>
                                <a:pt x="609" y="2219"/>
                              </a:lnTo>
                              <a:lnTo>
                                <a:pt x="438" y="1709"/>
                              </a:lnTo>
                              <a:lnTo>
                                <a:pt x="438" y="1595"/>
                              </a:lnTo>
                              <a:lnTo>
                                <a:pt x="438" y="1530"/>
                              </a:lnTo>
                              <a:lnTo>
                                <a:pt x="399" y="1569"/>
                              </a:lnTo>
                              <a:lnTo>
                                <a:pt x="107" y="1900"/>
                              </a:lnTo>
                              <a:lnTo>
                                <a:pt x="408" y="1534"/>
                              </a:lnTo>
                              <a:lnTo>
                                <a:pt x="438" y="1443"/>
                              </a:lnTo>
                              <a:lnTo>
                                <a:pt x="403" y="1460"/>
                              </a:lnTo>
                              <a:lnTo>
                                <a:pt x="446" y="1343"/>
                              </a:lnTo>
                              <a:lnTo>
                                <a:pt x="408" y="1391"/>
                              </a:lnTo>
                              <a:lnTo>
                                <a:pt x="343" y="1556"/>
                              </a:lnTo>
                              <a:lnTo>
                                <a:pt x="403" y="1378"/>
                              </a:lnTo>
                              <a:lnTo>
                                <a:pt x="438" y="1308"/>
                              </a:lnTo>
                              <a:lnTo>
                                <a:pt x="429" y="1308"/>
                              </a:lnTo>
                              <a:lnTo>
                                <a:pt x="390" y="1343"/>
                              </a:lnTo>
                              <a:lnTo>
                                <a:pt x="318" y="1434"/>
                              </a:lnTo>
                              <a:lnTo>
                                <a:pt x="68" y="1504"/>
                              </a:lnTo>
                              <a:lnTo>
                                <a:pt x="322" y="1421"/>
                              </a:lnTo>
                              <a:lnTo>
                                <a:pt x="403" y="1312"/>
                              </a:lnTo>
                              <a:lnTo>
                                <a:pt x="429" y="1229"/>
                              </a:lnTo>
                              <a:lnTo>
                                <a:pt x="390" y="1229"/>
                              </a:lnTo>
                              <a:lnTo>
                                <a:pt x="429" y="1151"/>
                              </a:lnTo>
                              <a:lnTo>
                                <a:pt x="378" y="1168"/>
                              </a:lnTo>
                              <a:lnTo>
                                <a:pt x="205" y="1330"/>
                              </a:lnTo>
                              <a:lnTo>
                                <a:pt x="378" y="1164"/>
                              </a:lnTo>
                              <a:lnTo>
                                <a:pt x="416" y="1063"/>
                              </a:lnTo>
                              <a:lnTo>
                                <a:pt x="373" y="1093"/>
                              </a:lnTo>
                              <a:lnTo>
                                <a:pt x="403" y="1015"/>
                              </a:lnTo>
                              <a:lnTo>
                                <a:pt x="360" y="1063"/>
                              </a:lnTo>
                              <a:lnTo>
                                <a:pt x="390" y="949"/>
                              </a:lnTo>
                              <a:lnTo>
                                <a:pt x="356" y="1006"/>
                              </a:lnTo>
                              <a:lnTo>
                                <a:pt x="201" y="1256"/>
                              </a:lnTo>
                              <a:lnTo>
                                <a:pt x="360" y="1006"/>
                              </a:lnTo>
                              <a:lnTo>
                                <a:pt x="399" y="862"/>
                              </a:lnTo>
                              <a:lnTo>
                                <a:pt x="356" y="893"/>
                              </a:lnTo>
                              <a:lnTo>
                                <a:pt x="98" y="1037"/>
                              </a:lnTo>
                              <a:lnTo>
                                <a:pt x="356" y="888"/>
                              </a:lnTo>
                              <a:lnTo>
                                <a:pt x="386" y="762"/>
                              </a:lnTo>
                              <a:lnTo>
                                <a:pt x="352" y="784"/>
                              </a:lnTo>
                              <a:lnTo>
                                <a:pt x="378" y="710"/>
                              </a:lnTo>
                              <a:lnTo>
                                <a:pt x="343" y="736"/>
                              </a:lnTo>
                              <a:lnTo>
                                <a:pt x="222" y="1085"/>
                              </a:lnTo>
                              <a:lnTo>
                                <a:pt x="352" y="705"/>
                              </a:lnTo>
                              <a:lnTo>
                                <a:pt x="352" y="610"/>
                              </a:lnTo>
                              <a:lnTo>
                                <a:pt x="313" y="658"/>
                              </a:lnTo>
                              <a:lnTo>
                                <a:pt x="240" y="849"/>
                              </a:lnTo>
                              <a:lnTo>
                                <a:pt x="330" y="597"/>
                              </a:lnTo>
                              <a:lnTo>
                                <a:pt x="343" y="514"/>
                              </a:lnTo>
                              <a:lnTo>
                                <a:pt x="313" y="553"/>
                              </a:lnTo>
                              <a:lnTo>
                                <a:pt x="218" y="710"/>
                              </a:lnTo>
                              <a:lnTo>
                                <a:pt x="0" y="801"/>
                              </a:lnTo>
                              <a:lnTo>
                                <a:pt x="222" y="701"/>
                              </a:lnTo>
                              <a:lnTo>
                                <a:pt x="305" y="527"/>
                              </a:lnTo>
                              <a:lnTo>
                                <a:pt x="318" y="422"/>
                              </a:lnTo>
                              <a:lnTo>
                                <a:pt x="279" y="470"/>
                              </a:lnTo>
                              <a:lnTo>
                                <a:pt x="300" y="370"/>
                              </a:lnTo>
                              <a:lnTo>
                                <a:pt x="154" y="636"/>
                              </a:lnTo>
                              <a:lnTo>
                                <a:pt x="292" y="357"/>
                              </a:lnTo>
                              <a:lnTo>
                                <a:pt x="305" y="278"/>
                              </a:lnTo>
                              <a:lnTo>
                                <a:pt x="262" y="339"/>
                              </a:lnTo>
                              <a:lnTo>
                                <a:pt x="266" y="217"/>
                              </a:lnTo>
                              <a:lnTo>
                                <a:pt x="209" y="274"/>
                              </a:lnTo>
                              <a:lnTo>
                                <a:pt x="12" y="483"/>
                              </a:lnTo>
                              <a:lnTo>
                                <a:pt x="209" y="265"/>
                              </a:lnTo>
                              <a:lnTo>
                                <a:pt x="240" y="148"/>
                              </a:lnTo>
                              <a:lnTo>
                                <a:pt x="205" y="178"/>
                              </a:lnTo>
                              <a:lnTo>
                                <a:pt x="222" y="91"/>
                              </a:lnTo>
                              <a:lnTo>
                                <a:pt x="192" y="117"/>
                              </a:lnTo>
                              <a:lnTo>
                                <a:pt x="188" y="52"/>
                              </a:lnTo>
                              <a:lnTo>
                                <a:pt x="192" y="21"/>
                              </a:lnTo>
                              <a:lnTo>
                                <a:pt x="20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6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8" name=""/>
                      <p:cNvGrpSpPr/>
                      <p:nvPr/>
                    </p:nvGrpSpPr>
                    <p:grpSpPr>
                      <a:xfrm>
                        <a:off x="1039680" y="5356080"/>
                        <a:ext cx="289440" cy="1262520"/>
                        <a:chOff x="1039680" y="5356080"/>
                        <a:chExt cx="289440" cy="1262520"/>
                      </a:xfrm>
                    </p:grpSpPr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>
                          <a:off x="1046160" y="5956200"/>
                          <a:ext cx="282960" cy="5180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786" h="1439">
                              <a:moveTo>
                                <a:pt x="0" y="1439"/>
                              </a:moveTo>
                              <a:lnTo>
                                <a:pt x="114" y="1117"/>
                              </a:lnTo>
                              <a:lnTo>
                                <a:pt x="217" y="763"/>
                              </a:lnTo>
                              <a:lnTo>
                                <a:pt x="265" y="605"/>
                              </a:lnTo>
                              <a:lnTo>
                                <a:pt x="336" y="428"/>
                              </a:lnTo>
                              <a:lnTo>
                                <a:pt x="433" y="238"/>
                              </a:lnTo>
                              <a:lnTo>
                                <a:pt x="503" y="119"/>
                              </a:lnTo>
                              <a:lnTo>
                                <a:pt x="561" y="66"/>
                              </a:lnTo>
                              <a:lnTo>
                                <a:pt x="632" y="17"/>
                              </a:lnTo>
                              <a:lnTo>
                                <a:pt x="711" y="0"/>
                              </a:lnTo>
                              <a:lnTo>
                                <a:pt x="747" y="39"/>
                              </a:lnTo>
                              <a:lnTo>
                                <a:pt x="786" y="136"/>
                              </a:lnTo>
                            </a:path>
                          </a:pathLst>
                        </a:custGeom>
                        <a:ln w="12600">
                          <a:solidFill>
                            <a:srgbClr val="a6ffff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1039680" y="5356080"/>
                          <a:ext cx="192600" cy="12625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535" h="3507">
                              <a:moveTo>
                                <a:pt x="4" y="3507"/>
                              </a:moveTo>
                              <a:lnTo>
                                <a:pt x="0" y="3185"/>
                              </a:lnTo>
                              <a:lnTo>
                                <a:pt x="0" y="2934"/>
                              </a:lnTo>
                              <a:lnTo>
                                <a:pt x="13" y="2762"/>
                              </a:lnTo>
                              <a:lnTo>
                                <a:pt x="17" y="2549"/>
                              </a:lnTo>
                              <a:lnTo>
                                <a:pt x="17" y="2329"/>
                              </a:lnTo>
                              <a:lnTo>
                                <a:pt x="22" y="2148"/>
                              </a:lnTo>
                              <a:lnTo>
                                <a:pt x="35" y="1980"/>
                              </a:lnTo>
                              <a:lnTo>
                                <a:pt x="52" y="1685"/>
                              </a:lnTo>
                              <a:lnTo>
                                <a:pt x="79" y="1368"/>
                              </a:lnTo>
                              <a:lnTo>
                                <a:pt x="114" y="1046"/>
                              </a:lnTo>
                              <a:lnTo>
                                <a:pt x="142" y="696"/>
                              </a:lnTo>
                              <a:lnTo>
                                <a:pt x="164" y="489"/>
                              </a:lnTo>
                              <a:lnTo>
                                <a:pt x="181" y="410"/>
                              </a:lnTo>
                              <a:lnTo>
                                <a:pt x="230" y="268"/>
                              </a:lnTo>
                              <a:lnTo>
                                <a:pt x="278" y="167"/>
                              </a:lnTo>
                              <a:lnTo>
                                <a:pt x="331" y="88"/>
                              </a:lnTo>
                              <a:lnTo>
                                <a:pt x="384" y="22"/>
                              </a:lnTo>
                              <a:lnTo>
                                <a:pt x="420" y="0"/>
                              </a:lnTo>
                              <a:lnTo>
                                <a:pt x="473" y="0"/>
                              </a:lnTo>
                              <a:lnTo>
                                <a:pt x="517" y="26"/>
                              </a:lnTo>
                              <a:lnTo>
                                <a:pt x="535" y="61"/>
                              </a:lnTo>
                            </a:path>
                          </a:pathLst>
                        </a:custGeom>
                        <a:ln w="25560">
                          <a:solidFill>
                            <a:srgbClr val="a6ffff"/>
                          </a:solidFill>
                          <a:round/>
                        </a:ln>
                      </p:spPr>
                      <p:txBody>
                        <a:bodyPr lIns="102600" rIns="102600" tIns="57600" bIns="57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1" name=""/>
                    <p:cNvGrpSpPr/>
                    <p:nvPr/>
                  </p:nvGrpSpPr>
                  <p:grpSpPr>
                    <a:xfrm>
                      <a:off x="244440" y="5267160"/>
                      <a:ext cx="808560" cy="1367280"/>
                      <a:chOff x="244440" y="5267160"/>
                      <a:chExt cx="808560" cy="1367280"/>
                    </a:xfrm>
                  </p:grpSpPr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244440" y="5407200"/>
                        <a:ext cx="470520" cy="1227240"/>
                        <a:chOff x="244440" y="5407200"/>
                        <a:chExt cx="470520" cy="12272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611280" y="6080040"/>
                          <a:ext cx="103680" cy="5544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288" h="1540">
                              <a:moveTo>
                                <a:pt x="232" y="0"/>
                              </a:moveTo>
                              <a:lnTo>
                                <a:pt x="210" y="30"/>
                              </a:lnTo>
                              <a:lnTo>
                                <a:pt x="118" y="303"/>
                              </a:lnTo>
                              <a:lnTo>
                                <a:pt x="56" y="564"/>
                              </a:lnTo>
                              <a:lnTo>
                                <a:pt x="0" y="889"/>
                              </a:lnTo>
                              <a:lnTo>
                                <a:pt x="0" y="1233"/>
                              </a:lnTo>
                              <a:lnTo>
                                <a:pt x="28" y="1540"/>
                              </a:lnTo>
                              <a:lnTo>
                                <a:pt x="56" y="1540"/>
                              </a:lnTo>
                              <a:lnTo>
                                <a:pt x="28" y="1233"/>
                              </a:lnTo>
                              <a:lnTo>
                                <a:pt x="28" y="980"/>
                              </a:lnTo>
                              <a:lnTo>
                                <a:pt x="89" y="698"/>
                              </a:lnTo>
                              <a:lnTo>
                                <a:pt x="170" y="421"/>
                              </a:lnTo>
                              <a:lnTo>
                                <a:pt x="288" y="69"/>
                              </a:lnTo>
                              <a:lnTo>
                                <a:pt x="23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6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44440" y="5407200"/>
                          <a:ext cx="313200" cy="6019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870" h="1672">
                              <a:moveTo>
                                <a:pt x="634" y="26"/>
                              </a:moveTo>
                              <a:lnTo>
                                <a:pt x="561" y="0"/>
                              </a:lnTo>
                              <a:lnTo>
                                <a:pt x="514" y="52"/>
                              </a:lnTo>
                              <a:lnTo>
                                <a:pt x="463" y="69"/>
                              </a:lnTo>
                              <a:lnTo>
                                <a:pt x="351" y="86"/>
                              </a:lnTo>
                              <a:lnTo>
                                <a:pt x="351" y="99"/>
                              </a:lnTo>
                              <a:lnTo>
                                <a:pt x="428" y="69"/>
                              </a:lnTo>
                              <a:lnTo>
                                <a:pt x="480" y="86"/>
                              </a:lnTo>
                              <a:lnTo>
                                <a:pt x="416" y="121"/>
                              </a:lnTo>
                              <a:lnTo>
                                <a:pt x="463" y="121"/>
                              </a:lnTo>
                              <a:lnTo>
                                <a:pt x="416" y="173"/>
                              </a:lnTo>
                              <a:lnTo>
                                <a:pt x="64" y="464"/>
                              </a:lnTo>
                              <a:lnTo>
                                <a:pt x="428" y="173"/>
                              </a:lnTo>
                              <a:lnTo>
                                <a:pt x="416" y="208"/>
                              </a:lnTo>
                              <a:lnTo>
                                <a:pt x="364" y="260"/>
                              </a:lnTo>
                              <a:lnTo>
                                <a:pt x="317" y="277"/>
                              </a:lnTo>
                              <a:lnTo>
                                <a:pt x="219" y="295"/>
                              </a:lnTo>
                              <a:lnTo>
                                <a:pt x="317" y="295"/>
                              </a:lnTo>
                              <a:lnTo>
                                <a:pt x="364" y="260"/>
                              </a:lnTo>
                              <a:lnTo>
                                <a:pt x="416" y="243"/>
                              </a:lnTo>
                              <a:lnTo>
                                <a:pt x="403" y="295"/>
                              </a:lnTo>
                              <a:lnTo>
                                <a:pt x="364" y="308"/>
                              </a:lnTo>
                              <a:lnTo>
                                <a:pt x="364" y="329"/>
                              </a:lnTo>
                              <a:lnTo>
                                <a:pt x="403" y="329"/>
                              </a:lnTo>
                              <a:lnTo>
                                <a:pt x="364" y="382"/>
                              </a:lnTo>
                              <a:lnTo>
                                <a:pt x="317" y="434"/>
                              </a:lnTo>
                              <a:lnTo>
                                <a:pt x="351" y="412"/>
                              </a:lnTo>
                              <a:lnTo>
                                <a:pt x="364" y="412"/>
                              </a:lnTo>
                              <a:lnTo>
                                <a:pt x="386" y="434"/>
                              </a:lnTo>
                              <a:lnTo>
                                <a:pt x="317" y="499"/>
                              </a:lnTo>
                              <a:lnTo>
                                <a:pt x="386" y="481"/>
                              </a:lnTo>
                              <a:lnTo>
                                <a:pt x="300" y="573"/>
                              </a:lnTo>
                              <a:lnTo>
                                <a:pt x="236" y="620"/>
                              </a:lnTo>
                              <a:lnTo>
                                <a:pt x="111" y="659"/>
                              </a:lnTo>
                              <a:lnTo>
                                <a:pt x="47" y="659"/>
                              </a:lnTo>
                              <a:lnTo>
                                <a:pt x="158" y="642"/>
                              </a:lnTo>
                              <a:lnTo>
                                <a:pt x="287" y="603"/>
                              </a:lnTo>
                              <a:lnTo>
                                <a:pt x="317" y="590"/>
                              </a:lnTo>
                              <a:lnTo>
                                <a:pt x="287" y="642"/>
                              </a:lnTo>
                              <a:lnTo>
                                <a:pt x="219" y="707"/>
                              </a:lnTo>
                              <a:lnTo>
                                <a:pt x="111" y="746"/>
                              </a:lnTo>
                              <a:lnTo>
                                <a:pt x="0" y="777"/>
                              </a:lnTo>
                              <a:lnTo>
                                <a:pt x="141" y="724"/>
                              </a:lnTo>
                              <a:lnTo>
                                <a:pt x="236" y="672"/>
                              </a:lnTo>
                              <a:lnTo>
                                <a:pt x="317" y="620"/>
                              </a:lnTo>
                              <a:lnTo>
                                <a:pt x="334" y="603"/>
                              </a:lnTo>
                              <a:lnTo>
                                <a:pt x="317" y="659"/>
                              </a:lnTo>
                              <a:lnTo>
                                <a:pt x="351" y="642"/>
                              </a:lnTo>
                              <a:lnTo>
                                <a:pt x="386" y="659"/>
                              </a:lnTo>
                              <a:lnTo>
                                <a:pt x="317" y="707"/>
                              </a:lnTo>
                              <a:lnTo>
                                <a:pt x="317" y="746"/>
                              </a:lnTo>
                              <a:lnTo>
                                <a:pt x="236" y="811"/>
                              </a:lnTo>
                              <a:lnTo>
                                <a:pt x="266" y="811"/>
                              </a:lnTo>
                              <a:lnTo>
                                <a:pt x="236" y="851"/>
                              </a:lnTo>
                              <a:lnTo>
                                <a:pt x="128" y="916"/>
                              </a:lnTo>
                              <a:lnTo>
                                <a:pt x="29" y="934"/>
                              </a:lnTo>
                              <a:lnTo>
                                <a:pt x="175" y="895"/>
                              </a:lnTo>
                              <a:lnTo>
                                <a:pt x="253" y="851"/>
                              </a:lnTo>
                              <a:lnTo>
                                <a:pt x="300" y="829"/>
                              </a:lnTo>
                              <a:lnTo>
                                <a:pt x="300" y="882"/>
                              </a:lnTo>
                              <a:lnTo>
                                <a:pt x="300" y="895"/>
                              </a:lnTo>
                              <a:lnTo>
                                <a:pt x="253" y="973"/>
                              </a:lnTo>
                              <a:lnTo>
                                <a:pt x="205" y="1021"/>
                              </a:lnTo>
                              <a:lnTo>
                                <a:pt x="236" y="1021"/>
                              </a:lnTo>
                              <a:lnTo>
                                <a:pt x="192" y="1055"/>
                              </a:lnTo>
                              <a:lnTo>
                                <a:pt x="17" y="1142"/>
                              </a:lnTo>
                              <a:lnTo>
                                <a:pt x="141" y="1086"/>
                              </a:lnTo>
                              <a:lnTo>
                                <a:pt x="219" y="1055"/>
                              </a:lnTo>
                              <a:lnTo>
                                <a:pt x="219" y="1107"/>
                              </a:lnTo>
                              <a:lnTo>
                                <a:pt x="175" y="1120"/>
                              </a:lnTo>
                              <a:lnTo>
                                <a:pt x="219" y="1107"/>
                              </a:lnTo>
                              <a:lnTo>
                                <a:pt x="219" y="1142"/>
                              </a:lnTo>
                              <a:lnTo>
                                <a:pt x="192" y="1177"/>
                              </a:lnTo>
                              <a:lnTo>
                                <a:pt x="47" y="1229"/>
                              </a:lnTo>
                              <a:lnTo>
                                <a:pt x="175" y="1177"/>
                              </a:lnTo>
                              <a:lnTo>
                                <a:pt x="175" y="1194"/>
                              </a:lnTo>
                              <a:lnTo>
                                <a:pt x="192" y="1212"/>
                              </a:lnTo>
                              <a:lnTo>
                                <a:pt x="47" y="1329"/>
                              </a:lnTo>
                              <a:lnTo>
                                <a:pt x="158" y="1242"/>
                              </a:lnTo>
                              <a:lnTo>
                                <a:pt x="192" y="1229"/>
                              </a:lnTo>
                              <a:lnTo>
                                <a:pt x="205" y="1264"/>
                              </a:lnTo>
                              <a:lnTo>
                                <a:pt x="175" y="1294"/>
                              </a:lnTo>
                              <a:lnTo>
                                <a:pt x="205" y="1281"/>
                              </a:lnTo>
                              <a:lnTo>
                                <a:pt x="175" y="1385"/>
                              </a:lnTo>
                              <a:lnTo>
                                <a:pt x="29" y="1498"/>
                              </a:lnTo>
                              <a:lnTo>
                                <a:pt x="175" y="1385"/>
                              </a:lnTo>
                              <a:lnTo>
                                <a:pt x="158" y="1437"/>
                              </a:lnTo>
                              <a:lnTo>
                                <a:pt x="205" y="1385"/>
                              </a:lnTo>
                              <a:lnTo>
                                <a:pt x="205" y="1437"/>
                              </a:lnTo>
                              <a:lnTo>
                                <a:pt x="219" y="1672"/>
                              </a:lnTo>
                              <a:lnTo>
                                <a:pt x="219" y="1654"/>
                              </a:lnTo>
                              <a:lnTo>
                                <a:pt x="219" y="1533"/>
                              </a:lnTo>
                              <a:lnTo>
                                <a:pt x="236" y="1450"/>
                              </a:lnTo>
                              <a:lnTo>
                                <a:pt x="253" y="1385"/>
                              </a:lnTo>
                              <a:lnTo>
                                <a:pt x="287" y="1264"/>
                              </a:lnTo>
                              <a:lnTo>
                                <a:pt x="317" y="1311"/>
                              </a:lnTo>
                              <a:lnTo>
                                <a:pt x="334" y="1311"/>
                              </a:lnTo>
                              <a:lnTo>
                                <a:pt x="334" y="1242"/>
                              </a:lnTo>
                              <a:lnTo>
                                <a:pt x="364" y="1281"/>
                              </a:lnTo>
                              <a:lnTo>
                                <a:pt x="386" y="1368"/>
                              </a:lnTo>
                              <a:lnTo>
                                <a:pt x="364" y="1264"/>
                              </a:lnTo>
                              <a:lnTo>
                                <a:pt x="351" y="1229"/>
                              </a:lnTo>
                              <a:lnTo>
                                <a:pt x="364" y="1142"/>
                              </a:lnTo>
                              <a:lnTo>
                                <a:pt x="386" y="1212"/>
                              </a:lnTo>
                              <a:lnTo>
                                <a:pt x="428" y="1346"/>
                              </a:lnTo>
                              <a:lnTo>
                                <a:pt x="480" y="1437"/>
                              </a:lnTo>
                              <a:lnTo>
                                <a:pt x="612" y="1550"/>
                              </a:lnTo>
                              <a:lnTo>
                                <a:pt x="527" y="1450"/>
                              </a:lnTo>
                              <a:lnTo>
                                <a:pt x="463" y="1368"/>
                              </a:lnTo>
                              <a:lnTo>
                                <a:pt x="428" y="1311"/>
                              </a:lnTo>
                              <a:lnTo>
                                <a:pt x="403" y="1242"/>
                              </a:lnTo>
                              <a:lnTo>
                                <a:pt x="416" y="1055"/>
                              </a:lnTo>
                              <a:lnTo>
                                <a:pt x="428" y="1107"/>
                              </a:lnTo>
                              <a:lnTo>
                                <a:pt x="428" y="1003"/>
                              </a:lnTo>
                              <a:lnTo>
                                <a:pt x="428" y="973"/>
                              </a:lnTo>
                              <a:lnTo>
                                <a:pt x="463" y="1055"/>
                              </a:lnTo>
                              <a:lnTo>
                                <a:pt x="514" y="1177"/>
                              </a:lnTo>
                              <a:lnTo>
                                <a:pt x="480" y="1120"/>
                              </a:lnTo>
                              <a:lnTo>
                                <a:pt x="463" y="1055"/>
                              </a:lnTo>
                              <a:lnTo>
                                <a:pt x="463" y="864"/>
                              </a:lnTo>
                              <a:lnTo>
                                <a:pt x="480" y="882"/>
                              </a:lnTo>
                              <a:lnTo>
                                <a:pt x="497" y="777"/>
                              </a:lnTo>
                              <a:lnTo>
                                <a:pt x="544" y="811"/>
                              </a:lnTo>
                              <a:lnTo>
                                <a:pt x="570" y="908"/>
                              </a:lnTo>
                              <a:lnTo>
                                <a:pt x="661" y="1177"/>
                              </a:lnTo>
                              <a:lnTo>
                                <a:pt x="612" y="1021"/>
                              </a:lnTo>
                              <a:lnTo>
                                <a:pt x="544" y="882"/>
                              </a:lnTo>
                              <a:lnTo>
                                <a:pt x="544" y="798"/>
                              </a:lnTo>
                              <a:lnTo>
                                <a:pt x="527" y="659"/>
                              </a:lnTo>
                              <a:lnTo>
                                <a:pt x="561" y="672"/>
                              </a:lnTo>
                              <a:lnTo>
                                <a:pt x="785" y="1064"/>
                              </a:lnTo>
                              <a:lnTo>
                                <a:pt x="544" y="620"/>
                              </a:lnTo>
                              <a:lnTo>
                                <a:pt x="544" y="555"/>
                              </a:lnTo>
                              <a:lnTo>
                                <a:pt x="561" y="603"/>
                              </a:lnTo>
                              <a:lnTo>
                                <a:pt x="561" y="451"/>
                              </a:lnTo>
                              <a:lnTo>
                                <a:pt x="591" y="499"/>
                              </a:lnTo>
                              <a:lnTo>
                                <a:pt x="591" y="412"/>
                              </a:lnTo>
                              <a:lnTo>
                                <a:pt x="642" y="464"/>
                              </a:lnTo>
                              <a:lnTo>
                                <a:pt x="712" y="642"/>
                              </a:lnTo>
                              <a:lnTo>
                                <a:pt x="785" y="746"/>
                              </a:lnTo>
                              <a:lnTo>
                                <a:pt x="827" y="864"/>
                              </a:lnTo>
                              <a:lnTo>
                                <a:pt x="785" y="746"/>
                              </a:lnTo>
                              <a:lnTo>
                                <a:pt x="725" y="659"/>
                              </a:lnTo>
                              <a:lnTo>
                                <a:pt x="661" y="538"/>
                              </a:lnTo>
                              <a:lnTo>
                                <a:pt x="642" y="451"/>
                              </a:lnTo>
                              <a:lnTo>
                                <a:pt x="612" y="295"/>
                              </a:lnTo>
                              <a:lnTo>
                                <a:pt x="625" y="308"/>
                              </a:lnTo>
                              <a:lnTo>
                                <a:pt x="661" y="295"/>
                              </a:lnTo>
                              <a:lnTo>
                                <a:pt x="642" y="230"/>
                              </a:lnTo>
                              <a:lnTo>
                                <a:pt x="673" y="295"/>
                              </a:lnTo>
                              <a:lnTo>
                                <a:pt x="712" y="364"/>
                              </a:lnTo>
                              <a:lnTo>
                                <a:pt x="785" y="434"/>
                              </a:lnTo>
                              <a:lnTo>
                                <a:pt x="755" y="412"/>
                              </a:lnTo>
                              <a:lnTo>
                                <a:pt x="712" y="347"/>
                              </a:lnTo>
                              <a:lnTo>
                                <a:pt x="690" y="308"/>
                              </a:lnTo>
                              <a:lnTo>
                                <a:pt x="690" y="138"/>
                              </a:lnTo>
                              <a:lnTo>
                                <a:pt x="725" y="191"/>
                              </a:lnTo>
                              <a:lnTo>
                                <a:pt x="772" y="277"/>
                              </a:lnTo>
                              <a:lnTo>
                                <a:pt x="870" y="412"/>
                              </a:lnTo>
                              <a:lnTo>
                                <a:pt x="755" y="277"/>
                              </a:lnTo>
                              <a:lnTo>
                                <a:pt x="725" y="156"/>
                              </a:lnTo>
                              <a:lnTo>
                                <a:pt x="738" y="69"/>
                              </a:lnTo>
                              <a:lnTo>
                                <a:pt x="661" y="17"/>
                              </a:lnTo>
                              <a:lnTo>
                                <a:pt x="634" y="2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6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75" name=""/>
                      <p:cNvGrpSpPr/>
                      <p:nvPr/>
                    </p:nvGrpSpPr>
                    <p:grpSpPr>
                      <a:xfrm>
                        <a:off x="471600" y="5267160"/>
                        <a:ext cx="581400" cy="1362600"/>
                        <a:chOff x="471600" y="5267160"/>
                        <a:chExt cx="581400" cy="1362600"/>
                      </a:xfrm>
                    </p:grpSpPr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>
                          <a:off x="700200" y="6059520"/>
                          <a:ext cx="352800" cy="5702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980" h="1584">
                              <a:moveTo>
                                <a:pt x="980" y="1584"/>
                              </a:moveTo>
                              <a:lnTo>
                                <a:pt x="835" y="1434"/>
                              </a:lnTo>
                              <a:lnTo>
                                <a:pt x="778" y="1337"/>
                              </a:lnTo>
                              <a:lnTo>
                                <a:pt x="738" y="1262"/>
                              </a:lnTo>
                              <a:lnTo>
                                <a:pt x="521" y="533"/>
                              </a:lnTo>
                              <a:lnTo>
                                <a:pt x="406" y="299"/>
                              </a:lnTo>
                              <a:lnTo>
                                <a:pt x="318" y="149"/>
                              </a:lnTo>
                              <a:lnTo>
                                <a:pt x="252" y="79"/>
                              </a:lnTo>
                              <a:lnTo>
                                <a:pt x="167" y="22"/>
                              </a:lnTo>
                              <a:lnTo>
                                <a:pt x="92" y="0"/>
                              </a:lnTo>
                              <a:lnTo>
                                <a:pt x="30" y="13"/>
                              </a:lnTo>
                              <a:lnTo>
                                <a:pt x="0" y="105"/>
                              </a:lnTo>
                            </a:path>
                          </a:pathLst>
                        </a:custGeom>
                        <a:ln w="25560">
                          <a:solidFill>
                            <a:srgbClr val="a6ffff"/>
                          </a:solidFill>
                          <a:round/>
                        </a:ln>
                      </p:spPr>
                      <p:txBody>
                        <a:bodyPr lIns="102600" rIns="102600" tIns="57600" bIns="57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>
                          <a:off x="471600" y="5267160"/>
                          <a:ext cx="538560" cy="13561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1496" h="3767">
                              <a:moveTo>
                                <a:pt x="1496" y="3767"/>
                              </a:moveTo>
                              <a:lnTo>
                                <a:pt x="1457" y="3468"/>
                              </a:lnTo>
                              <a:lnTo>
                                <a:pt x="988" y="1425"/>
                              </a:lnTo>
                              <a:lnTo>
                                <a:pt x="777" y="793"/>
                              </a:lnTo>
                              <a:lnTo>
                                <a:pt x="715" y="582"/>
                              </a:lnTo>
                              <a:lnTo>
                                <a:pt x="636" y="343"/>
                              </a:lnTo>
                              <a:lnTo>
                                <a:pt x="543" y="163"/>
                              </a:lnTo>
                              <a:lnTo>
                                <a:pt x="455" y="70"/>
                              </a:lnTo>
                              <a:lnTo>
                                <a:pt x="343" y="4"/>
                              </a:lnTo>
                              <a:lnTo>
                                <a:pt x="233" y="0"/>
                              </a:lnTo>
                              <a:lnTo>
                                <a:pt x="158" y="74"/>
                              </a:lnTo>
                              <a:lnTo>
                                <a:pt x="0" y="418"/>
                              </a:lnTo>
                            </a:path>
                          </a:pathLst>
                        </a:custGeom>
                        <a:ln w="25560">
                          <a:solidFill>
                            <a:srgbClr val="a6ffff"/>
                          </a:solidFill>
                          <a:round/>
                        </a:ln>
                      </p:spPr>
                      <p:txBody>
                        <a:bodyPr lIns="102600" rIns="102600" tIns="57600" bIns="57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8" name=""/>
                  <p:cNvGrpSpPr/>
                  <p:nvPr/>
                </p:nvGrpSpPr>
                <p:grpSpPr>
                  <a:xfrm>
                    <a:off x="723960" y="5251320"/>
                    <a:ext cx="254160" cy="1383120"/>
                    <a:chOff x="723960" y="5251320"/>
                    <a:chExt cx="254160" cy="1383120"/>
                  </a:xfrm>
                </p:grpSpPr>
                <p:grpSp>
                  <p:nvGrpSpPr>
                    <p:cNvPr id="79" name=""/>
                    <p:cNvGrpSpPr/>
                    <p:nvPr/>
                  </p:nvGrpSpPr>
                  <p:grpSpPr>
                    <a:xfrm>
                      <a:off x="723960" y="5257800"/>
                      <a:ext cx="254160" cy="1181520"/>
                      <a:chOff x="723960" y="5257800"/>
                      <a:chExt cx="254160" cy="1181520"/>
                    </a:xfrm>
                  </p:grpSpPr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900000" y="5950080"/>
                        <a:ext cx="38520" cy="4892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07" h="1359">
                            <a:moveTo>
                              <a:pt x="21" y="0"/>
                            </a:moveTo>
                            <a:lnTo>
                              <a:pt x="43" y="103"/>
                            </a:lnTo>
                            <a:lnTo>
                              <a:pt x="64" y="268"/>
                            </a:lnTo>
                            <a:lnTo>
                              <a:pt x="86" y="493"/>
                            </a:lnTo>
                            <a:lnTo>
                              <a:pt x="107" y="783"/>
                            </a:lnTo>
                            <a:lnTo>
                              <a:pt x="107" y="1091"/>
                            </a:lnTo>
                            <a:lnTo>
                              <a:pt x="97" y="1359"/>
                            </a:lnTo>
                            <a:lnTo>
                              <a:pt x="86" y="1359"/>
                            </a:lnTo>
                            <a:lnTo>
                              <a:pt x="97" y="1091"/>
                            </a:lnTo>
                            <a:lnTo>
                              <a:pt x="97" y="866"/>
                            </a:lnTo>
                            <a:lnTo>
                              <a:pt x="75" y="618"/>
                            </a:lnTo>
                            <a:lnTo>
                              <a:pt x="43" y="371"/>
                            </a:lnTo>
                            <a:lnTo>
                              <a:pt x="0" y="60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723960" y="5683320"/>
                        <a:ext cx="62280" cy="4860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73" h="1350">
                            <a:moveTo>
                              <a:pt x="170" y="211"/>
                            </a:moveTo>
                            <a:lnTo>
                              <a:pt x="135" y="0"/>
                            </a:lnTo>
                            <a:lnTo>
                              <a:pt x="108" y="4"/>
                            </a:lnTo>
                            <a:lnTo>
                              <a:pt x="92" y="12"/>
                            </a:lnTo>
                            <a:lnTo>
                              <a:pt x="73" y="73"/>
                            </a:lnTo>
                            <a:lnTo>
                              <a:pt x="34" y="250"/>
                            </a:lnTo>
                            <a:lnTo>
                              <a:pt x="22" y="324"/>
                            </a:lnTo>
                            <a:lnTo>
                              <a:pt x="11" y="402"/>
                            </a:lnTo>
                            <a:lnTo>
                              <a:pt x="3" y="635"/>
                            </a:lnTo>
                            <a:lnTo>
                              <a:pt x="0" y="705"/>
                            </a:lnTo>
                            <a:lnTo>
                              <a:pt x="3" y="792"/>
                            </a:lnTo>
                            <a:lnTo>
                              <a:pt x="7" y="887"/>
                            </a:lnTo>
                            <a:lnTo>
                              <a:pt x="26" y="1030"/>
                            </a:lnTo>
                            <a:lnTo>
                              <a:pt x="38" y="1125"/>
                            </a:lnTo>
                            <a:lnTo>
                              <a:pt x="58" y="1224"/>
                            </a:lnTo>
                            <a:lnTo>
                              <a:pt x="96" y="1350"/>
                            </a:lnTo>
                            <a:lnTo>
                              <a:pt x="77" y="1194"/>
                            </a:lnTo>
                            <a:lnTo>
                              <a:pt x="62" y="1051"/>
                            </a:lnTo>
                            <a:lnTo>
                              <a:pt x="54" y="917"/>
                            </a:lnTo>
                            <a:lnTo>
                              <a:pt x="54" y="792"/>
                            </a:lnTo>
                            <a:lnTo>
                              <a:pt x="58" y="705"/>
                            </a:lnTo>
                            <a:lnTo>
                              <a:pt x="54" y="596"/>
                            </a:lnTo>
                            <a:lnTo>
                              <a:pt x="46" y="506"/>
                            </a:lnTo>
                            <a:lnTo>
                              <a:pt x="65" y="324"/>
                            </a:lnTo>
                            <a:lnTo>
                              <a:pt x="65" y="229"/>
                            </a:lnTo>
                            <a:lnTo>
                              <a:pt x="81" y="155"/>
                            </a:lnTo>
                            <a:lnTo>
                              <a:pt x="108" y="56"/>
                            </a:lnTo>
                            <a:lnTo>
                              <a:pt x="123" y="129"/>
                            </a:lnTo>
                            <a:lnTo>
                              <a:pt x="173" y="255"/>
                            </a:lnTo>
                            <a:lnTo>
                              <a:pt x="170" y="211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825480" y="5257800"/>
                        <a:ext cx="152640" cy="8751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24" h="2431">
                            <a:moveTo>
                              <a:pt x="91" y="0"/>
                            </a:moveTo>
                            <a:lnTo>
                              <a:pt x="107" y="8"/>
                            </a:lnTo>
                            <a:lnTo>
                              <a:pt x="136" y="30"/>
                            </a:lnTo>
                            <a:lnTo>
                              <a:pt x="116" y="39"/>
                            </a:lnTo>
                            <a:lnTo>
                              <a:pt x="132" y="69"/>
                            </a:lnTo>
                            <a:lnTo>
                              <a:pt x="145" y="104"/>
                            </a:lnTo>
                            <a:lnTo>
                              <a:pt x="170" y="117"/>
                            </a:lnTo>
                            <a:lnTo>
                              <a:pt x="203" y="109"/>
                            </a:lnTo>
                            <a:lnTo>
                              <a:pt x="241" y="91"/>
                            </a:lnTo>
                            <a:lnTo>
                              <a:pt x="341" y="109"/>
                            </a:lnTo>
                            <a:lnTo>
                              <a:pt x="245" y="95"/>
                            </a:lnTo>
                            <a:lnTo>
                              <a:pt x="203" y="126"/>
                            </a:lnTo>
                            <a:lnTo>
                              <a:pt x="170" y="117"/>
                            </a:lnTo>
                            <a:lnTo>
                              <a:pt x="145" y="139"/>
                            </a:lnTo>
                            <a:lnTo>
                              <a:pt x="166" y="165"/>
                            </a:lnTo>
                            <a:lnTo>
                              <a:pt x="153" y="178"/>
                            </a:lnTo>
                            <a:lnTo>
                              <a:pt x="182" y="235"/>
                            </a:lnTo>
                            <a:lnTo>
                              <a:pt x="254" y="226"/>
                            </a:lnTo>
                            <a:lnTo>
                              <a:pt x="345" y="418"/>
                            </a:lnTo>
                            <a:lnTo>
                              <a:pt x="254" y="235"/>
                            </a:lnTo>
                            <a:lnTo>
                              <a:pt x="182" y="248"/>
                            </a:lnTo>
                            <a:lnTo>
                              <a:pt x="166" y="257"/>
                            </a:lnTo>
                            <a:lnTo>
                              <a:pt x="203" y="318"/>
                            </a:lnTo>
                            <a:lnTo>
                              <a:pt x="178" y="318"/>
                            </a:lnTo>
                            <a:lnTo>
                              <a:pt x="216" y="392"/>
                            </a:lnTo>
                            <a:lnTo>
                              <a:pt x="295" y="488"/>
                            </a:lnTo>
                            <a:lnTo>
                              <a:pt x="378" y="659"/>
                            </a:lnTo>
                            <a:lnTo>
                              <a:pt x="291" y="501"/>
                            </a:lnTo>
                            <a:lnTo>
                              <a:pt x="216" y="405"/>
                            </a:lnTo>
                            <a:lnTo>
                              <a:pt x="195" y="410"/>
                            </a:lnTo>
                            <a:lnTo>
                              <a:pt x="229" y="466"/>
                            </a:lnTo>
                            <a:lnTo>
                              <a:pt x="203" y="479"/>
                            </a:lnTo>
                            <a:lnTo>
                              <a:pt x="233" y="554"/>
                            </a:lnTo>
                            <a:lnTo>
                              <a:pt x="416" y="1143"/>
                            </a:lnTo>
                            <a:lnTo>
                              <a:pt x="233" y="562"/>
                            </a:lnTo>
                            <a:lnTo>
                              <a:pt x="207" y="562"/>
                            </a:lnTo>
                            <a:lnTo>
                              <a:pt x="237" y="655"/>
                            </a:lnTo>
                            <a:lnTo>
                              <a:pt x="216" y="646"/>
                            </a:lnTo>
                            <a:lnTo>
                              <a:pt x="241" y="760"/>
                            </a:lnTo>
                            <a:lnTo>
                              <a:pt x="316" y="960"/>
                            </a:lnTo>
                            <a:lnTo>
                              <a:pt x="395" y="1252"/>
                            </a:lnTo>
                            <a:lnTo>
                              <a:pt x="316" y="965"/>
                            </a:lnTo>
                            <a:lnTo>
                              <a:pt x="241" y="768"/>
                            </a:lnTo>
                            <a:lnTo>
                              <a:pt x="216" y="742"/>
                            </a:lnTo>
                            <a:lnTo>
                              <a:pt x="233" y="816"/>
                            </a:lnTo>
                            <a:lnTo>
                              <a:pt x="216" y="799"/>
                            </a:lnTo>
                            <a:lnTo>
                              <a:pt x="241" y="912"/>
                            </a:lnTo>
                            <a:lnTo>
                              <a:pt x="303" y="1122"/>
                            </a:lnTo>
                            <a:lnTo>
                              <a:pt x="424" y="1401"/>
                            </a:lnTo>
                            <a:lnTo>
                              <a:pt x="308" y="1126"/>
                            </a:lnTo>
                            <a:lnTo>
                              <a:pt x="241" y="917"/>
                            </a:lnTo>
                            <a:lnTo>
                              <a:pt x="229" y="917"/>
                            </a:lnTo>
                            <a:lnTo>
                              <a:pt x="345" y="1540"/>
                            </a:lnTo>
                            <a:lnTo>
                              <a:pt x="225" y="917"/>
                            </a:lnTo>
                            <a:lnTo>
                              <a:pt x="241" y="1004"/>
                            </a:lnTo>
                            <a:lnTo>
                              <a:pt x="225" y="973"/>
                            </a:lnTo>
                            <a:lnTo>
                              <a:pt x="250" y="1100"/>
                            </a:lnTo>
                            <a:lnTo>
                              <a:pt x="328" y="1392"/>
                            </a:lnTo>
                            <a:lnTo>
                              <a:pt x="250" y="1122"/>
                            </a:lnTo>
                            <a:lnTo>
                              <a:pt x="229" y="1100"/>
                            </a:lnTo>
                            <a:lnTo>
                              <a:pt x="250" y="1183"/>
                            </a:lnTo>
                            <a:lnTo>
                              <a:pt x="341" y="1750"/>
                            </a:lnTo>
                            <a:lnTo>
                              <a:pt x="270" y="1309"/>
                            </a:lnTo>
                            <a:lnTo>
                              <a:pt x="241" y="1183"/>
                            </a:lnTo>
                            <a:lnTo>
                              <a:pt x="229" y="1170"/>
                            </a:lnTo>
                            <a:lnTo>
                              <a:pt x="245" y="1261"/>
                            </a:lnTo>
                            <a:lnTo>
                              <a:pt x="229" y="1244"/>
                            </a:lnTo>
                            <a:lnTo>
                              <a:pt x="254" y="1357"/>
                            </a:lnTo>
                            <a:lnTo>
                              <a:pt x="266" y="1453"/>
                            </a:lnTo>
                            <a:lnTo>
                              <a:pt x="382" y="1780"/>
                            </a:lnTo>
                            <a:lnTo>
                              <a:pt x="262" y="1462"/>
                            </a:lnTo>
                            <a:lnTo>
                              <a:pt x="250" y="1392"/>
                            </a:lnTo>
                            <a:lnTo>
                              <a:pt x="233" y="1375"/>
                            </a:lnTo>
                            <a:lnTo>
                              <a:pt x="262" y="1558"/>
                            </a:lnTo>
                            <a:lnTo>
                              <a:pt x="229" y="1375"/>
                            </a:lnTo>
                            <a:lnTo>
                              <a:pt x="250" y="1462"/>
                            </a:lnTo>
                            <a:lnTo>
                              <a:pt x="229" y="1440"/>
                            </a:lnTo>
                            <a:lnTo>
                              <a:pt x="241" y="1519"/>
                            </a:lnTo>
                            <a:lnTo>
                              <a:pt x="283" y="1785"/>
                            </a:lnTo>
                            <a:lnTo>
                              <a:pt x="324" y="1943"/>
                            </a:lnTo>
                            <a:lnTo>
                              <a:pt x="283" y="1785"/>
                            </a:lnTo>
                            <a:lnTo>
                              <a:pt x="241" y="1527"/>
                            </a:lnTo>
                            <a:lnTo>
                              <a:pt x="225" y="1519"/>
                            </a:lnTo>
                            <a:lnTo>
                              <a:pt x="229" y="1580"/>
                            </a:lnTo>
                            <a:lnTo>
                              <a:pt x="262" y="1750"/>
                            </a:lnTo>
                            <a:lnTo>
                              <a:pt x="229" y="1597"/>
                            </a:lnTo>
                            <a:lnTo>
                              <a:pt x="216" y="1540"/>
                            </a:lnTo>
                            <a:lnTo>
                              <a:pt x="233" y="1680"/>
                            </a:lnTo>
                            <a:lnTo>
                              <a:pt x="216" y="1658"/>
                            </a:lnTo>
                            <a:lnTo>
                              <a:pt x="220" y="1767"/>
                            </a:lnTo>
                            <a:lnTo>
                              <a:pt x="211" y="1719"/>
                            </a:lnTo>
                            <a:lnTo>
                              <a:pt x="203" y="1758"/>
                            </a:lnTo>
                            <a:lnTo>
                              <a:pt x="203" y="1877"/>
                            </a:lnTo>
                            <a:lnTo>
                              <a:pt x="279" y="2431"/>
                            </a:lnTo>
                            <a:lnTo>
                              <a:pt x="199" y="1877"/>
                            </a:lnTo>
                            <a:lnTo>
                              <a:pt x="199" y="1750"/>
                            </a:lnTo>
                            <a:lnTo>
                              <a:pt x="199" y="1680"/>
                            </a:lnTo>
                            <a:lnTo>
                              <a:pt x="182" y="1719"/>
                            </a:lnTo>
                            <a:lnTo>
                              <a:pt x="49" y="2082"/>
                            </a:lnTo>
                            <a:lnTo>
                              <a:pt x="186" y="1680"/>
                            </a:lnTo>
                            <a:lnTo>
                              <a:pt x="199" y="1580"/>
                            </a:lnTo>
                            <a:lnTo>
                              <a:pt x="182" y="1597"/>
                            </a:lnTo>
                            <a:lnTo>
                              <a:pt x="203" y="1471"/>
                            </a:lnTo>
                            <a:lnTo>
                              <a:pt x="186" y="1523"/>
                            </a:lnTo>
                            <a:lnTo>
                              <a:pt x="157" y="1702"/>
                            </a:lnTo>
                            <a:lnTo>
                              <a:pt x="182" y="1510"/>
                            </a:lnTo>
                            <a:lnTo>
                              <a:pt x="199" y="1431"/>
                            </a:lnTo>
                            <a:lnTo>
                              <a:pt x="195" y="1431"/>
                            </a:lnTo>
                            <a:lnTo>
                              <a:pt x="178" y="1471"/>
                            </a:lnTo>
                            <a:lnTo>
                              <a:pt x="145" y="1571"/>
                            </a:lnTo>
                            <a:lnTo>
                              <a:pt x="33" y="1645"/>
                            </a:lnTo>
                            <a:lnTo>
                              <a:pt x="145" y="1558"/>
                            </a:lnTo>
                            <a:lnTo>
                              <a:pt x="182" y="1440"/>
                            </a:lnTo>
                            <a:lnTo>
                              <a:pt x="195" y="1348"/>
                            </a:lnTo>
                            <a:lnTo>
                              <a:pt x="178" y="1348"/>
                            </a:lnTo>
                            <a:lnTo>
                              <a:pt x="195" y="1261"/>
                            </a:lnTo>
                            <a:lnTo>
                              <a:pt x="174" y="1279"/>
                            </a:lnTo>
                            <a:lnTo>
                              <a:pt x="91" y="1453"/>
                            </a:lnTo>
                            <a:lnTo>
                              <a:pt x="174" y="1274"/>
                            </a:lnTo>
                            <a:lnTo>
                              <a:pt x="190" y="1170"/>
                            </a:lnTo>
                            <a:lnTo>
                              <a:pt x="170" y="1196"/>
                            </a:lnTo>
                            <a:lnTo>
                              <a:pt x="182" y="1113"/>
                            </a:lnTo>
                            <a:lnTo>
                              <a:pt x="166" y="1170"/>
                            </a:lnTo>
                            <a:lnTo>
                              <a:pt x="178" y="1043"/>
                            </a:lnTo>
                            <a:lnTo>
                              <a:pt x="161" y="1104"/>
                            </a:lnTo>
                            <a:lnTo>
                              <a:pt x="87" y="1379"/>
                            </a:lnTo>
                            <a:lnTo>
                              <a:pt x="166" y="1104"/>
                            </a:lnTo>
                            <a:lnTo>
                              <a:pt x="182" y="947"/>
                            </a:lnTo>
                            <a:lnTo>
                              <a:pt x="161" y="982"/>
                            </a:lnTo>
                            <a:lnTo>
                              <a:pt x="45" y="1135"/>
                            </a:lnTo>
                            <a:lnTo>
                              <a:pt x="161" y="973"/>
                            </a:lnTo>
                            <a:lnTo>
                              <a:pt x="174" y="838"/>
                            </a:lnTo>
                            <a:lnTo>
                              <a:pt x="157" y="860"/>
                            </a:lnTo>
                            <a:lnTo>
                              <a:pt x="174" y="777"/>
                            </a:lnTo>
                            <a:lnTo>
                              <a:pt x="157" y="808"/>
                            </a:lnTo>
                            <a:lnTo>
                              <a:pt x="99" y="1191"/>
                            </a:lnTo>
                            <a:lnTo>
                              <a:pt x="157" y="773"/>
                            </a:lnTo>
                            <a:lnTo>
                              <a:pt x="157" y="668"/>
                            </a:lnTo>
                            <a:lnTo>
                              <a:pt x="141" y="720"/>
                            </a:lnTo>
                            <a:lnTo>
                              <a:pt x="107" y="934"/>
                            </a:lnTo>
                            <a:lnTo>
                              <a:pt x="149" y="655"/>
                            </a:lnTo>
                            <a:lnTo>
                              <a:pt x="157" y="562"/>
                            </a:lnTo>
                            <a:lnTo>
                              <a:pt x="141" y="606"/>
                            </a:lnTo>
                            <a:lnTo>
                              <a:pt x="95" y="777"/>
                            </a:lnTo>
                            <a:lnTo>
                              <a:pt x="0" y="877"/>
                            </a:lnTo>
                            <a:lnTo>
                              <a:pt x="99" y="768"/>
                            </a:lnTo>
                            <a:lnTo>
                              <a:pt x="136" y="580"/>
                            </a:lnTo>
                            <a:lnTo>
                              <a:pt x="145" y="462"/>
                            </a:lnTo>
                            <a:lnTo>
                              <a:pt x="124" y="519"/>
                            </a:lnTo>
                            <a:lnTo>
                              <a:pt x="136" y="405"/>
                            </a:lnTo>
                            <a:lnTo>
                              <a:pt x="70" y="698"/>
                            </a:lnTo>
                            <a:lnTo>
                              <a:pt x="132" y="392"/>
                            </a:lnTo>
                            <a:lnTo>
                              <a:pt x="136" y="314"/>
                            </a:lnTo>
                            <a:lnTo>
                              <a:pt x="116" y="375"/>
                            </a:lnTo>
                            <a:lnTo>
                              <a:pt x="120" y="244"/>
                            </a:lnTo>
                            <a:lnTo>
                              <a:pt x="95" y="305"/>
                            </a:lnTo>
                            <a:lnTo>
                              <a:pt x="4" y="532"/>
                            </a:lnTo>
                            <a:lnTo>
                              <a:pt x="95" y="296"/>
                            </a:lnTo>
                            <a:lnTo>
                              <a:pt x="107" y="165"/>
                            </a:lnTo>
                            <a:lnTo>
                              <a:pt x="91" y="200"/>
                            </a:lnTo>
                            <a:lnTo>
                              <a:pt x="99" y="104"/>
                            </a:lnTo>
                            <a:lnTo>
                              <a:pt x="87" y="130"/>
                            </a:lnTo>
                            <a:lnTo>
                              <a:pt x="83" y="56"/>
                            </a:lnTo>
                            <a:lnTo>
                              <a:pt x="87" y="21"/>
                            </a:lnTo>
                            <a:lnTo>
                              <a:pt x="91" y="0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3" name=""/>
                    <p:cNvGrpSpPr/>
                    <p:nvPr/>
                  </p:nvGrpSpPr>
                  <p:grpSpPr>
                    <a:xfrm>
                      <a:off x="774720" y="5251320"/>
                      <a:ext cx="130320" cy="1383120"/>
                      <a:chOff x="774720" y="5251320"/>
                      <a:chExt cx="130320" cy="1383120"/>
                    </a:xfrm>
                  </p:grpSpPr>
                  <p:sp>
                    <p:nvSpPr>
                      <p:cNvPr id="84" name=""/>
                      <p:cNvSpPr/>
                      <p:nvPr/>
                    </p:nvSpPr>
                    <p:spPr>
                      <a:xfrm>
                        <a:off x="779400" y="5907240"/>
                        <a:ext cx="125640" cy="5670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349" h="1575">
                            <a:moveTo>
                              <a:pt x="0" y="1575"/>
                            </a:moveTo>
                            <a:lnTo>
                              <a:pt x="52" y="1222"/>
                            </a:lnTo>
                            <a:lnTo>
                              <a:pt x="97" y="834"/>
                            </a:lnTo>
                            <a:lnTo>
                              <a:pt x="119" y="661"/>
                            </a:lnTo>
                            <a:lnTo>
                              <a:pt x="149" y="463"/>
                            </a:lnTo>
                            <a:lnTo>
                              <a:pt x="195" y="260"/>
                            </a:lnTo>
                            <a:lnTo>
                              <a:pt x="221" y="127"/>
                            </a:lnTo>
                            <a:lnTo>
                              <a:pt x="247" y="70"/>
                            </a:lnTo>
                            <a:lnTo>
                              <a:pt x="278" y="17"/>
                            </a:lnTo>
                            <a:lnTo>
                              <a:pt x="314" y="0"/>
                            </a:lnTo>
                            <a:lnTo>
                              <a:pt x="331" y="44"/>
                            </a:lnTo>
                            <a:lnTo>
                              <a:pt x="349" y="145"/>
                            </a:lnTo>
                          </a:path>
                        </a:pathLst>
                      </a:custGeom>
                      <a:ln w="25560">
                        <a:solidFill>
                          <a:srgbClr val="a6ffff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74720" y="5251320"/>
                        <a:ext cx="86040" cy="13831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239" h="3842">
                            <a:moveTo>
                              <a:pt x="0" y="3842"/>
                            </a:moveTo>
                            <a:lnTo>
                              <a:pt x="0" y="3485"/>
                            </a:lnTo>
                            <a:lnTo>
                              <a:pt x="0" y="3216"/>
                            </a:lnTo>
                            <a:lnTo>
                              <a:pt x="4" y="3027"/>
                            </a:lnTo>
                            <a:lnTo>
                              <a:pt x="8" y="2792"/>
                            </a:lnTo>
                            <a:lnTo>
                              <a:pt x="8" y="2554"/>
                            </a:lnTo>
                            <a:lnTo>
                              <a:pt x="8" y="2351"/>
                            </a:lnTo>
                            <a:lnTo>
                              <a:pt x="17" y="2170"/>
                            </a:lnTo>
                            <a:lnTo>
                              <a:pt x="26" y="1853"/>
                            </a:lnTo>
                            <a:lnTo>
                              <a:pt x="35" y="1500"/>
                            </a:lnTo>
                            <a:lnTo>
                              <a:pt x="52" y="1147"/>
                            </a:lnTo>
                            <a:lnTo>
                              <a:pt x="61" y="762"/>
                            </a:lnTo>
                            <a:lnTo>
                              <a:pt x="74" y="537"/>
                            </a:lnTo>
                            <a:lnTo>
                              <a:pt x="83" y="449"/>
                            </a:lnTo>
                            <a:lnTo>
                              <a:pt x="105" y="299"/>
                            </a:lnTo>
                            <a:lnTo>
                              <a:pt x="124" y="189"/>
                            </a:lnTo>
                            <a:lnTo>
                              <a:pt x="150" y="101"/>
                            </a:lnTo>
                            <a:lnTo>
                              <a:pt x="172" y="22"/>
                            </a:lnTo>
                            <a:lnTo>
                              <a:pt x="190" y="0"/>
                            </a:lnTo>
                            <a:lnTo>
                              <a:pt x="217" y="0"/>
                            </a:lnTo>
                            <a:lnTo>
                              <a:pt x="230" y="30"/>
                            </a:lnTo>
                            <a:lnTo>
                              <a:pt x="239" y="66"/>
                            </a:lnTo>
                          </a:path>
                        </a:pathLst>
                      </a:custGeom>
                      <a:ln w="25560">
                        <a:solidFill>
                          <a:srgbClr val="a6ffff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6" name=""/>
                  <p:cNvGrpSpPr/>
                  <p:nvPr/>
                </p:nvGrpSpPr>
                <p:grpSpPr>
                  <a:xfrm>
                    <a:off x="38160" y="3448080"/>
                    <a:ext cx="854280" cy="3314880"/>
                    <a:chOff x="38160" y="3448080"/>
                    <a:chExt cx="854280" cy="3314880"/>
                  </a:xfrm>
                </p:grpSpPr>
                <p:grpSp>
                  <p:nvGrpSpPr>
                    <p:cNvPr id="87" name=""/>
                    <p:cNvGrpSpPr/>
                    <p:nvPr/>
                  </p:nvGrpSpPr>
                  <p:grpSpPr>
                    <a:xfrm>
                      <a:off x="38160" y="4119480"/>
                      <a:ext cx="436680" cy="2375280"/>
                      <a:chOff x="38160" y="4119480"/>
                      <a:chExt cx="436680" cy="2375280"/>
                    </a:xfrm>
                  </p:grpSpPr>
                  <p:sp>
                    <p:nvSpPr>
                      <p:cNvPr id="88" name=""/>
                      <p:cNvSpPr/>
                      <p:nvPr/>
                    </p:nvSpPr>
                    <p:spPr>
                      <a:xfrm>
                        <a:off x="38160" y="4371840"/>
                        <a:ext cx="209880" cy="1046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583" h="2907">
                            <a:moveTo>
                              <a:pt x="367" y="43"/>
                            </a:moveTo>
                            <a:lnTo>
                              <a:pt x="325" y="0"/>
                            </a:lnTo>
                            <a:lnTo>
                              <a:pt x="296" y="91"/>
                            </a:lnTo>
                            <a:lnTo>
                              <a:pt x="274" y="117"/>
                            </a:lnTo>
                            <a:lnTo>
                              <a:pt x="206" y="148"/>
                            </a:lnTo>
                            <a:lnTo>
                              <a:pt x="50" y="148"/>
                            </a:lnTo>
                            <a:lnTo>
                              <a:pt x="206" y="174"/>
                            </a:lnTo>
                            <a:lnTo>
                              <a:pt x="244" y="117"/>
                            </a:lnTo>
                            <a:lnTo>
                              <a:pt x="278" y="148"/>
                            </a:lnTo>
                            <a:lnTo>
                              <a:pt x="236" y="214"/>
                            </a:lnTo>
                            <a:lnTo>
                              <a:pt x="274" y="214"/>
                            </a:lnTo>
                            <a:lnTo>
                              <a:pt x="236" y="305"/>
                            </a:lnTo>
                            <a:lnTo>
                              <a:pt x="29" y="817"/>
                            </a:lnTo>
                            <a:lnTo>
                              <a:pt x="244" y="305"/>
                            </a:lnTo>
                            <a:lnTo>
                              <a:pt x="236" y="362"/>
                            </a:lnTo>
                            <a:lnTo>
                              <a:pt x="215" y="454"/>
                            </a:lnTo>
                            <a:lnTo>
                              <a:pt x="185" y="480"/>
                            </a:lnTo>
                            <a:lnTo>
                              <a:pt x="126" y="506"/>
                            </a:lnTo>
                            <a:lnTo>
                              <a:pt x="29" y="454"/>
                            </a:lnTo>
                            <a:lnTo>
                              <a:pt x="185" y="506"/>
                            </a:lnTo>
                            <a:lnTo>
                              <a:pt x="215" y="454"/>
                            </a:lnTo>
                            <a:lnTo>
                              <a:pt x="236" y="415"/>
                            </a:lnTo>
                            <a:lnTo>
                              <a:pt x="231" y="506"/>
                            </a:lnTo>
                            <a:lnTo>
                              <a:pt x="215" y="550"/>
                            </a:lnTo>
                            <a:lnTo>
                              <a:pt x="21" y="843"/>
                            </a:lnTo>
                            <a:lnTo>
                              <a:pt x="215" y="576"/>
                            </a:lnTo>
                            <a:lnTo>
                              <a:pt x="231" y="576"/>
                            </a:lnTo>
                            <a:lnTo>
                              <a:pt x="215" y="659"/>
                            </a:lnTo>
                            <a:lnTo>
                              <a:pt x="185" y="751"/>
                            </a:lnTo>
                            <a:lnTo>
                              <a:pt x="21" y="939"/>
                            </a:lnTo>
                            <a:lnTo>
                              <a:pt x="206" y="716"/>
                            </a:lnTo>
                            <a:lnTo>
                              <a:pt x="215" y="716"/>
                            </a:lnTo>
                            <a:lnTo>
                              <a:pt x="223" y="751"/>
                            </a:lnTo>
                            <a:lnTo>
                              <a:pt x="185" y="869"/>
                            </a:lnTo>
                            <a:lnTo>
                              <a:pt x="223" y="843"/>
                            </a:lnTo>
                            <a:lnTo>
                              <a:pt x="172" y="991"/>
                            </a:lnTo>
                            <a:lnTo>
                              <a:pt x="134" y="1075"/>
                            </a:lnTo>
                            <a:lnTo>
                              <a:pt x="63" y="1140"/>
                            </a:lnTo>
                            <a:lnTo>
                              <a:pt x="21" y="1140"/>
                            </a:lnTo>
                            <a:lnTo>
                              <a:pt x="92" y="1114"/>
                            </a:lnTo>
                            <a:lnTo>
                              <a:pt x="164" y="1048"/>
                            </a:lnTo>
                            <a:lnTo>
                              <a:pt x="185" y="1022"/>
                            </a:lnTo>
                            <a:lnTo>
                              <a:pt x="164" y="1114"/>
                            </a:lnTo>
                            <a:lnTo>
                              <a:pt x="126" y="1232"/>
                            </a:lnTo>
                            <a:lnTo>
                              <a:pt x="63" y="1297"/>
                            </a:lnTo>
                            <a:lnTo>
                              <a:pt x="0" y="1341"/>
                            </a:lnTo>
                            <a:lnTo>
                              <a:pt x="80" y="1254"/>
                            </a:lnTo>
                            <a:lnTo>
                              <a:pt x="134" y="1166"/>
                            </a:lnTo>
                            <a:lnTo>
                              <a:pt x="185" y="1075"/>
                            </a:lnTo>
                            <a:lnTo>
                              <a:pt x="194" y="1048"/>
                            </a:lnTo>
                            <a:lnTo>
                              <a:pt x="185" y="1140"/>
                            </a:lnTo>
                            <a:lnTo>
                              <a:pt x="206" y="1114"/>
                            </a:lnTo>
                            <a:lnTo>
                              <a:pt x="223" y="1140"/>
                            </a:lnTo>
                            <a:lnTo>
                              <a:pt x="185" y="1232"/>
                            </a:lnTo>
                            <a:lnTo>
                              <a:pt x="185" y="1297"/>
                            </a:lnTo>
                            <a:lnTo>
                              <a:pt x="134" y="1407"/>
                            </a:lnTo>
                            <a:lnTo>
                              <a:pt x="160" y="1407"/>
                            </a:lnTo>
                            <a:lnTo>
                              <a:pt x="134" y="1473"/>
                            </a:lnTo>
                            <a:lnTo>
                              <a:pt x="71" y="1591"/>
                            </a:lnTo>
                            <a:lnTo>
                              <a:pt x="16" y="1617"/>
                            </a:lnTo>
                            <a:lnTo>
                              <a:pt x="101" y="1552"/>
                            </a:lnTo>
                            <a:lnTo>
                              <a:pt x="151" y="1473"/>
                            </a:lnTo>
                            <a:lnTo>
                              <a:pt x="172" y="1442"/>
                            </a:lnTo>
                            <a:lnTo>
                              <a:pt x="172" y="1526"/>
                            </a:lnTo>
                            <a:lnTo>
                              <a:pt x="172" y="1552"/>
                            </a:lnTo>
                            <a:lnTo>
                              <a:pt x="151" y="1687"/>
                            </a:lnTo>
                            <a:lnTo>
                              <a:pt x="122" y="1770"/>
                            </a:lnTo>
                            <a:lnTo>
                              <a:pt x="134" y="1770"/>
                            </a:lnTo>
                            <a:lnTo>
                              <a:pt x="113" y="1832"/>
                            </a:lnTo>
                            <a:lnTo>
                              <a:pt x="16" y="1980"/>
                            </a:lnTo>
                            <a:lnTo>
                              <a:pt x="80" y="1888"/>
                            </a:lnTo>
                            <a:lnTo>
                              <a:pt x="126" y="1832"/>
                            </a:lnTo>
                            <a:lnTo>
                              <a:pt x="126" y="1923"/>
                            </a:lnTo>
                            <a:lnTo>
                              <a:pt x="101" y="1941"/>
                            </a:lnTo>
                            <a:lnTo>
                              <a:pt x="126" y="1923"/>
                            </a:lnTo>
                            <a:lnTo>
                              <a:pt x="126" y="1980"/>
                            </a:lnTo>
                            <a:lnTo>
                              <a:pt x="113" y="2037"/>
                            </a:lnTo>
                            <a:lnTo>
                              <a:pt x="21" y="2129"/>
                            </a:lnTo>
                            <a:lnTo>
                              <a:pt x="101" y="2037"/>
                            </a:lnTo>
                            <a:lnTo>
                              <a:pt x="101" y="2076"/>
                            </a:lnTo>
                            <a:lnTo>
                              <a:pt x="113" y="2102"/>
                            </a:lnTo>
                            <a:lnTo>
                              <a:pt x="21" y="2303"/>
                            </a:lnTo>
                            <a:lnTo>
                              <a:pt x="92" y="2159"/>
                            </a:lnTo>
                            <a:lnTo>
                              <a:pt x="113" y="2129"/>
                            </a:lnTo>
                            <a:lnTo>
                              <a:pt x="122" y="2194"/>
                            </a:lnTo>
                            <a:lnTo>
                              <a:pt x="101" y="2251"/>
                            </a:lnTo>
                            <a:lnTo>
                              <a:pt x="122" y="2220"/>
                            </a:lnTo>
                            <a:lnTo>
                              <a:pt x="101" y="2400"/>
                            </a:lnTo>
                            <a:lnTo>
                              <a:pt x="16" y="2601"/>
                            </a:lnTo>
                            <a:lnTo>
                              <a:pt x="101" y="2400"/>
                            </a:lnTo>
                            <a:lnTo>
                              <a:pt x="92" y="2491"/>
                            </a:lnTo>
                            <a:lnTo>
                              <a:pt x="122" y="2400"/>
                            </a:lnTo>
                            <a:lnTo>
                              <a:pt x="122" y="2491"/>
                            </a:lnTo>
                            <a:lnTo>
                              <a:pt x="126" y="2907"/>
                            </a:lnTo>
                            <a:lnTo>
                              <a:pt x="126" y="2876"/>
                            </a:lnTo>
                            <a:lnTo>
                              <a:pt x="126" y="2666"/>
                            </a:lnTo>
                            <a:lnTo>
                              <a:pt x="134" y="2522"/>
                            </a:lnTo>
                            <a:lnTo>
                              <a:pt x="151" y="2400"/>
                            </a:lnTo>
                            <a:lnTo>
                              <a:pt x="164" y="2194"/>
                            </a:lnTo>
                            <a:lnTo>
                              <a:pt x="185" y="2277"/>
                            </a:lnTo>
                            <a:lnTo>
                              <a:pt x="194" y="2277"/>
                            </a:lnTo>
                            <a:lnTo>
                              <a:pt x="194" y="2159"/>
                            </a:lnTo>
                            <a:lnTo>
                              <a:pt x="215" y="2220"/>
                            </a:lnTo>
                            <a:lnTo>
                              <a:pt x="223" y="2373"/>
                            </a:lnTo>
                            <a:lnTo>
                              <a:pt x="215" y="2194"/>
                            </a:lnTo>
                            <a:lnTo>
                              <a:pt x="206" y="2129"/>
                            </a:lnTo>
                            <a:lnTo>
                              <a:pt x="215" y="1980"/>
                            </a:lnTo>
                            <a:lnTo>
                              <a:pt x="223" y="2102"/>
                            </a:lnTo>
                            <a:lnTo>
                              <a:pt x="244" y="2343"/>
                            </a:lnTo>
                            <a:lnTo>
                              <a:pt x="278" y="2491"/>
                            </a:lnTo>
                            <a:lnTo>
                              <a:pt x="359" y="2701"/>
                            </a:lnTo>
                            <a:lnTo>
                              <a:pt x="308" y="2522"/>
                            </a:lnTo>
                            <a:lnTo>
                              <a:pt x="274" y="2373"/>
                            </a:lnTo>
                            <a:lnTo>
                              <a:pt x="244" y="2277"/>
                            </a:lnTo>
                            <a:lnTo>
                              <a:pt x="231" y="2159"/>
                            </a:lnTo>
                            <a:lnTo>
                              <a:pt x="236" y="1832"/>
                            </a:lnTo>
                            <a:lnTo>
                              <a:pt x="244" y="1923"/>
                            </a:lnTo>
                            <a:lnTo>
                              <a:pt x="244" y="1740"/>
                            </a:lnTo>
                            <a:lnTo>
                              <a:pt x="244" y="1687"/>
                            </a:lnTo>
                            <a:lnTo>
                              <a:pt x="274" y="1832"/>
                            </a:lnTo>
                            <a:lnTo>
                              <a:pt x="296" y="2037"/>
                            </a:lnTo>
                            <a:lnTo>
                              <a:pt x="278" y="1941"/>
                            </a:lnTo>
                            <a:lnTo>
                              <a:pt x="274" y="1832"/>
                            </a:lnTo>
                            <a:lnTo>
                              <a:pt x="274" y="1499"/>
                            </a:lnTo>
                            <a:lnTo>
                              <a:pt x="278" y="1526"/>
                            </a:lnTo>
                            <a:lnTo>
                              <a:pt x="286" y="1341"/>
                            </a:lnTo>
                            <a:lnTo>
                              <a:pt x="317" y="1407"/>
                            </a:lnTo>
                            <a:lnTo>
                              <a:pt x="380" y="2037"/>
                            </a:lnTo>
                            <a:lnTo>
                              <a:pt x="359" y="1770"/>
                            </a:lnTo>
                            <a:lnTo>
                              <a:pt x="317" y="1526"/>
                            </a:lnTo>
                            <a:lnTo>
                              <a:pt x="317" y="1380"/>
                            </a:lnTo>
                            <a:lnTo>
                              <a:pt x="308" y="1140"/>
                            </a:lnTo>
                            <a:lnTo>
                              <a:pt x="325" y="1166"/>
                            </a:lnTo>
                            <a:lnTo>
                              <a:pt x="317" y="1075"/>
                            </a:lnTo>
                            <a:lnTo>
                              <a:pt x="317" y="965"/>
                            </a:lnTo>
                            <a:lnTo>
                              <a:pt x="325" y="1048"/>
                            </a:lnTo>
                            <a:lnTo>
                              <a:pt x="325" y="777"/>
                            </a:lnTo>
                            <a:lnTo>
                              <a:pt x="346" y="869"/>
                            </a:lnTo>
                            <a:lnTo>
                              <a:pt x="346" y="716"/>
                            </a:lnTo>
                            <a:lnTo>
                              <a:pt x="376" y="817"/>
                            </a:lnTo>
                            <a:lnTo>
                              <a:pt x="418" y="1114"/>
                            </a:lnTo>
                            <a:lnTo>
                              <a:pt x="452" y="1297"/>
                            </a:lnTo>
                            <a:lnTo>
                              <a:pt x="422" y="1140"/>
                            </a:lnTo>
                            <a:lnTo>
                              <a:pt x="380" y="939"/>
                            </a:lnTo>
                            <a:lnTo>
                              <a:pt x="376" y="777"/>
                            </a:lnTo>
                            <a:lnTo>
                              <a:pt x="359" y="506"/>
                            </a:lnTo>
                            <a:lnTo>
                              <a:pt x="367" y="550"/>
                            </a:lnTo>
                            <a:lnTo>
                              <a:pt x="380" y="506"/>
                            </a:lnTo>
                            <a:lnTo>
                              <a:pt x="376" y="397"/>
                            </a:lnTo>
                            <a:lnTo>
                              <a:pt x="389" y="506"/>
                            </a:lnTo>
                            <a:lnTo>
                              <a:pt x="418" y="633"/>
                            </a:lnTo>
                            <a:lnTo>
                              <a:pt x="452" y="751"/>
                            </a:lnTo>
                            <a:lnTo>
                              <a:pt x="439" y="716"/>
                            </a:lnTo>
                            <a:lnTo>
                              <a:pt x="418" y="603"/>
                            </a:lnTo>
                            <a:lnTo>
                              <a:pt x="397" y="550"/>
                            </a:lnTo>
                            <a:lnTo>
                              <a:pt x="397" y="244"/>
                            </a:lnTo>
                            <a:lnTo>
                              <a:pt x="422" y="336"/>
                            </a:lnTo>
                            <a:lnTo>
                              <a:pt x="448" y="480"/>
                            </a:lnTo>
                            <a:lnTo>
                              <a:pt x="502" y="716"/>
                            </a:lnTo>
                            <a:lnTo>
                              <a:pt x="583" y="965"/>
                            </a:lnTo>
                            <a:lnTo>
                              <a:pt x="439" y="480"/>
                            </a:lnTo>
                            <a:lnTo>
                              <a:pt x="422" y="270"/>
                            </a:lnTo>
                            <a:lnTo>
                              <a:pt x="431" y="117"/>
                            </a:lnTo>
                            <a:lnTo>
                              <a:pt x="380" y="26"/>
                            </a:lnTo>
                            <a:lnTo>
                              <a:pt x="367" y="43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9" name=""/>
                      <p:cNvSpPr/>
                      <p:nvPr/>
                    </p:nvSpPr>
                    <p:spPr>
                      <a:xfrm>
                        <a:off x="174600" y="4119480"/>
                        <a:ext cx="300240" cy="23752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834" h="6598">
                            <a:moveTo>
                              <a:pt x="834" y="6598"/>
                            </a:moveTo>
                            <a:lnTo>
                              <a:pt x="812" y="6074"/>
                            </a:lnTo>
                            <a:lnTo>
                              <a:pt x="543" y="2496"/>
                            </a:lnTo>
                            <a:lnTo>
                              <a:pt x="428" y="1389"/>
                            </a:lnTo>
                            <a:lnTo>
                              <a:pt x="396" y="1023"/>
                            </a:lnTo>
                            <a:lnTo>
                              <a:pt x="352" y="604"/>
                            </a:lnTo>
                            <a:lnTo>
                              <a:pt x="304" y="286"/>
                            </a:lnTo>
                            <a:lnTo>
                              <a:pt x="251" y="119"/>
                            </a:lnTo>
                            <a:lnTo>
                              <a:pt x="194" y="8"/>
                            </a:lnTo>
                            <a:lnTo>
                              <a:pt x="132" y="0"/>
                            </a:lnTo>
                            <a:lnTo>
                              <a:pt x="88" y="127"/>
                            </a:lnTo>
                            <a:lnTo>
                              <a:pt x="0" y="736"/>
                            </a:lnTo>
                          </a:path>
                        </a:pathLst>
                      </a:custGeom>
                      <a:ln w="25560">
                        <a:solidFill>
                          <a:srgbClr val="a6ffff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" name=""/>
                    <p:cNvGrpSpPr/>
                    <p:nvPr/>
                  </p:nvGrpSpPr>
                  <p:grpSpPr>
                    <a:xfrm>
                      <a:off x="196920" y="3448080"/>
                      <a:ext cx="695520" cy="3314880"/>
                      <a:chOff x="196920" y="3448080"/>
                      <a:chExt cx="695520" cy="3314880"/>
                    </a:xfrm>
                  </p:grpSpPr>
                  <p:grpSp>
                    <p:nvGrpSpPr>
                      <p:cNvPr id="91" name=""/>
                      <p:cNvGrpSpPr/>
                      <p:nvPr/>
                    </p:nvGrpSpPr>
                    <p:grpSpPr>
                      <a:xfrm>
                        <a:off x="196920" y="3481560"/>
                        <a:ext cx="695520" cy="3281400"/>
                        <a:chOff x="196920" y="3481560"/>
                        <a:chExt cx="695520" cy="3281400"/>
                      </a:xfrm>
                    </p:grpSpPr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>
                          <a:off x="307800" y="5956200"/>
                          <a:ext cx="59040" cy="8067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64" h="2241">
                              <a:moveTo>
                                <a:pt x="130" y="0"/>
                              </a:moveTo>
                              <a:lnTo>
                                <a:pt x="118" y="43"/>
                              </a:lnTo>
                              <a:lnTo>
                                <a:pt x="64" y="444"/>
                              </a:lnTo>
                              <a:lnTo>
                                <a:pt x="30" y="819"/>
                              </a:lnTo>
                              <a:lnTo>
                                <a:pt x="0" y="1291"/>
                              </a:lnTo>
                              <a:lnTo>
                                <a:pt x="0" y="1792"/>
                              </a:lnTo>
                              <a:lnTo>
                                <a:pt x="11" y="2241"/>
                              </a:lnTo>
                              <a:lnTo>
                                <a:pt x="30" y="2241"/>
                              </a:lnTo>
                              <a:lnTo>
                                <a:pt x="11" y="1792"/>
                              </a:lnTo>
                              <a:lnTo>
                                <a:pt x="11" y="1426"/>
                              </a:lnTo>
                              <a:lnTo>
                                <a:pt x="45" y="1015"/>
                              </a:lnTo>
                              <a:lnTo>
                                <a:pt x="95" y="614"/>
                              </a:lnTo>
                              <a:lnTo>
                                <a:pt x="164" y="100"/>
                              </a:lnTo>
                              <a:lnTo>
                                <a:pt x="13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6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>
                          <a:off x="196920" y="5135400"/>
                          <a:ext cx="192600" cy="97668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535" h="2713">
                              <a:moveTo>
                                <a:pt x="527" y="423"/>
                              </a:moveTo>
                              <a:lnTo>
                                <a:pt x="489" y="244"/>
                              </a:lnTo>
                              <a:lnTo>
                                <a:pt x="472" y="174"/>
                              </a:lnTo>
                              <a:lnTo>
                                <a:pt x="434" y="117"/>
                              </a:lnTo>
                              <a:lnTo>
                                <a:pt x="395" y="61"/>
                              </a:lnTo>
                              <a:lnTo>
                                <a:pt x="345" y="8"/>
                              </a:lnTo>
                              <a:lnTo>
                                <a:pt x="303" y="0"/>
                              </a:lnTo>
                              <a:lnTo>
                                <a:pt x="265" y="26"/>
                              </a:lnTo>
                              <a:lnTo>
                                <a:pt x="223" y="52"/>
                              </a:lnTo>
                              <a:lnTo>
                                <a:pt x="173" y="100"/>
                              </a:lnTo>
                              <a:lnTo>
                                <a:pt x="139" y="205"/>
                              </a:lnTo>
                              <a:lnTo>
                                <a:pt x="109" y="349"/>
                              </a:lnTo>
                              <a:lnTo>
                                <a:pt x="75" y="462"/>
                              </a:lnTo>
                              <a:lnTo>
                                <a:pt x="50" y="580"/>
                              </a:lnTo>
                              <a:lnTo>
                                <a:pt x="21" y="730"/>
                              </a:lnTo>
                              <a:lnTo>
                                <a:pt x="0" y="1057"/>
                              </a:lnTo>
                              <a:lnTo>
                                <a:pt x="8" y="1306"/>
                              </a:lnTo>
                              <a:lnTo>
                                <a:pt x="33" y="1664"/>
                              </a:lnTo>
                              <a:lnTo>
                                <a:pt x="75" y="1979"/>
                              </a:lnTo>
                              <a:lnTo>
                                <a:pt x="173" y="2713"/>
                              </a:lnTo>
                              <a:lnTo>
                                <a:pt x="135" y="1922"/>
                              </a:lnTo>
                              <a:lnTo>
                                <a:pt x="113" y="1651"/>
                              </a:lnTo>
                              <a:lnTo>
                                <a:pt x="100" y="1407"/>
                              </a:lnTo>
                              <a:lnTo>
                                <a:pt x="92" y="1149"/>
                              </a:lnTo>
                              <a:lnTo>
                                <a:pt x="109" y="861"/>
                              </a:lnTo>
                              <a:lnTo>
                                <a:pt x="121" y="646"/>
                              </a:lnTo>
                              <a:lnTo>
                                <a:pt x="148" y="375"/>
                              </a:lnTo>
                              <a:lnTo>
                                <a:pt x="185" y="244"/>
                              </a:lnTo>
                              <a:lnTo>
                                <a:pt x="236" y="196"/>
                              </a:lnTo>
                              <a:lnTo>
                                <a:pt x="362" y="165"/>
                              </a:lnTo>
                              <a:lnTo>
                                <a:pt x="447" y="257"/>
                              </a:lnTo>
                              <a:lnTo>
                                <a:pt x="535" y="458"/>
                              </a:lnTo>
                              <a:lnTo>
                                <a:pt x="527" y="42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6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4" name=""/>
                        <p:cNvGrpSpPr/>
                        <p:nvPr/>
                      </p:nvGrpSpPr>
                      <p:grpSpPr>
                        <a:xfrm>
                          <a:off x="509760" y="3481560"/>
                          <a:ext cx="382680" cy="1389600"/>
                          <a:chOff x="509760" y="3481560"/>
                          <a:chExt cx="382680" cy="1389600"/>
                        </a:xfrm>
                      </p:grpSpPr>
                      <p:sp>
                        <p:nvSpPr>
                          <p:cNvPr id="95" name=""/>
                          <p:cNvSpPr/>
                          <p:nvPr/>
                        </p:nvSpPr>
                        <p:spPr>
                          <a:xfrm>
                            <a:off x="509760" y="3481560"/>
                            <a:ext cx="198720" cy="13305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552" h="3696">
                                <a:moveTo>
                                  <a:pt x="497" y="302"/>
                                </a:moveTo>
                                <a:lnTo>
                                  <a:pt x="510" y="87"/>
                                </a:lnTo>
                                <a:lnTo>
                                  <a:pt x="552" y="74"/>
                                </a:lnTo>
                                <a:lnTo>
                                  <a:pt x="501" y="0"/>
                                </a:lnTo>
                                <a:lnTo>
                                  <a:pt x="484" y="4"/>
                                </a:lnTo>
                                <a:lnTo>
                                  <a:pt x="455" y="35"/>
                                </a:lnTo>
                                <a:lnTo>
                                  <a:pt x="451" y="96"/>
                                </a:lnTo>
                                <a:lnTo>
                                  <a:pt x="421" y="135"/>
                                </a:lnTo>
                                <a:lnTo>
                                  <a:pt x="176" y="683"/>
                                </a:lnTo>
                                <a:lnTo>
                                  <a:pt x="168" y="678"/>
                                </a:lnTo>
                                <a:lnTo>
                                  <a:pt x="358" y="345"/>
                                </a:lnTo>
                                <a:lnTo>
                                  <a:pt x="421" y="297"/>
                                </a:lnTo>
                                <a:lnTo>
                                  <a:pt x="362" y="442"/>
                                </a:lnTo>
                                <a:lnTo>
                                  <a:pt x="421" y="450"/>
                                </a:lnTo>
                                <a:lnTo>
                                  <a:pt x="109" y="1042"/>
                                </a:lnTo>
                                <a:lnTo>
                                  <a:pt x="324" y="665"/>
                                </a:lnTo>
                                <a:lnTo>
                                  <a:pt x="425" y="564"/>
                                </a:lnTo>
                                <a:lnTo>
                                  <a:pt x="421" y="639"/>
                                </a:lnTo>
                                <a:lnTo>
                                  <a:pt x="388" y="761"/>
                                </a:lnTo>
                                <a:lnTo>
                                  <a:pt x="358" y="862"/>
                                </a:lnTo>
                                <a:lnTo>
                                  <a:pt x="282" y="1090"/>
                                </a:lnTo>
                                <a:lnTo>
                                  <a:pt x="147" y="1497"/>
                                </a:lnTo>
                                <a:lnTo>
                                  <a:pt x="75" y="1659"/>
                                </a:lnTo>
                                <a:lnTo>
                                  <a:pt x="189" y="1352"/>
                                </a:lnTo>
                                <a:lnTo>
                                  <a:pt x="252" y="1164"/>
                                </a:lnTo>
                                <a:lnTo>
                                  <a:pt x="346" y="928"/>
                                </a:lnTo>
                                <a:lnTo>
                                  <a:pt x="388" y="823"/>
                                </a:lnTo>
                                <a:lnTo>
                                  <a:pt x="421" y="726"/>
                                </a:lnTo>
                                <a:lnTo>
                                  <a:pt x="400" y="735"/>
                                </a:lnTo>
                                <a:lnTo>
                                  <a:pt x="434" y="796"/>
                                </a:lnTo>
                                <a:lnTo>
                                  <a:pt x="400" y="862"/>
                                </a:lnTo>
                                <a:lnTo>
                                  <a:pt x="346" y="1059"/>
                                </a:lnTo>
                                <a:lnTo>
                                  <a:pt x="291" y="1269"/>
                                </a:lnTo>
                                <a:lnTo>
                                  <a:pt x="223" y="1431"/>
                                </a:lnTo>
                                <a:lnTo>
                                  <a:pt x="337" y="1090"/>
                                </a:lnTo>
                                <a:lnTo>
                                  <a:pt x="388" y="928"/>
                                </a:lnTo>
                                <a:lnTo>
                                  <a:pt x="421" y="796"/>
                                </a:lnTo>
                                <a:lnTo>
                                  <a:pt x="434" y="796"/>
                                </a:lnTo>
                                <a:lnTo>
                                  <a:pt x="409" y="989"/>
                                </a:lnTo>
                                <a:lnTo>
                                  <a:pt x="438" y="941"/>
                                </a:lnTo>
                                <a:lnTo>
                                  <a:pt x="421" y="1059"/>
                                </a:lnTo>
                                <a:lnTo>
                                  <a:pt x="388" y="1199"/>
                                </a:lnTo>
                                <a:lnTo>
                                  <a:pt x="308" y="1396"/>
                                </a:lnTo>
                                <a:lnTo>
                                  <a:pt x="223" y="1532"/>
                                </a:lnTo>
                                <a:lnTo>
                                  <a:pt x="147" y="1703"/>
                                </a:lnTo>
                                <a:lnTo>
                                  <a:pt x="84" y="1838"/>
                                </a:lnTo>
                                <a:lnTo>
                                  <a:pt x="126" y="1768"/>
                                </a:lnTo>
                                <a:lnTo>
                                  <a:pt x="248" y="1523"/>
                                </a:lnTo>
                                <a:lnTo>
                                  <a:pt x="388" y="1230"/>
                                </a:lnTo>
                                <a:lnTo>
                                  <a:pt x="409" y="1164"/>
                                </a:lnTo>
                                <a:lnTo>
                                  <a:pt x="434" y="1059"/>
                                </a:lnTo>
                                <a:lnTo>
                                  <a:pt x="404" y="1287"/>
                                </a:lnTo>
                                <a:lnTo>
                                  <a:pt x="459" y="1204"/>
                                </a:lnTo>
                                <a:lnTo>
                                  <a:pt x="409" y="1497"/>
                                </a:lnTo>
                                <a:lnTo>
                                  <a:pt x="400" y="1563"/>
                                </a:lnTo>
                                <a:lnTo>
                                  <a:pt x="383" y="1602"/>
                                </a:lnTo>
                                <a:lnTo>
                                  <a:pt x="320" y="1764"/>
                                </a:lnTo>
                                <a:lnTo>
                                  <a:pt x="252" y="1914"/>
                                </a:lnTo>
                                <a:lnTo>
                                  <a:pt x="122" y="2168"/>
                                </a:lnTo>
                                <a:lnTo>
                                  <a:pt x="0" y="2404"/>
                                </a:lnTo>
                                <a:lnTo>
                                  <a:pt x="37" y="2299"/>
                                </a:lnTo>
                                <a:lnTo>
                                  <a:pt x="260" y="1870"/>
                                </a:lnTo>
                                <a:lnTo>
                                  <a:pt x="346" y="1703"/>
                                </a:lnTo>
                                <a:lnTo>
                                  <a:pt x="400" y="1519"/>
                                </a:lnTo>
                                <a:lnTo>
                                  <a:pt x="442" y="1440"/>
                                </a:lnTo>
                                <a:lnTo>
                                  <a:pt x="455" y="1449"/>
                                </a:lnTo>
                                <a:lnTo>
                                  <a:pt x="197" y="2212"/>
                                </a:lnTo>
                                <a:lnTo>
                                  <a:pt x="396" y="1694"/>
                                </a:lnTo>
                                <a:lnTo>
                                  <a:pt x="438" y="1672"/>
                                </a:lnTo>
                                <a:lnTo>
                                  <a:pt x="388" y="1958"/>
                                </a:lnTo>
                                <a:lnTo>
                                  <a:pt x="434" y="1892"/>
                                </a:lnTo>
                                <a:lnTo>
                                  <a:pt x="358" y="2203"/>
                                </a:lnTo>
                                <a:lnTo>
                                  <a:pt x="308" y="2404"/>
                                </a:lnTo>
                                <a:lnTo>
                                  <a:pt x="223" y="2571"/>
                                </a:lnTo>
                                <a:lnTo>
                                  <a:pt x="96" y="2772"/>
                                </a:lnTo>
                                <a:lnTo>
                                  <a:pt x="201" y="2641"/>
                                </a:lnTo>
                                <a:lnTo>
                                  <a:pt x="282" y="2479"/>
                                </a:lnTo>
                                <a:lnTo>
                                  <a:pt x="324" y="2369"/>
                                </a:lnTo>
                                <a:lnTo>
                                  <a:pt x="383" y="2168"/>
                                </a:lnTo>
                                <a:lnTo>
                                  <a:pt x="434" y="1980"/>
                                </a:lnTo>
                                <a:lnTo>
                                  <a:pt x="375" y="2251"/>
                                </a:lnTo>
                                <a:lnTo>
                                  <a:pt x="421" y="2155"/>
                                </a:lnTo>
                                <a:lnTo>
                                  <a:pt x="371" y="2378"/>
                                </a:lnTo>
                                <a:lnTo>
                                  <a:pt x="413" y="2330"/>
                                </a:lnTo>
                                <a:lnTo>
                                  <a:pt x="367" y="2597"/>
                                </a:lnTo>
                                <a:lnTo>
                                  <a:pt x="421" y="2501"/>
                                </a:lnTo>
                                <a:lnTo>
                                  <a:pt x="371" y="2641"/>
                                </a:lnTo>
                                <a:lnTo>
                                  <a:pt x="308" y="2838"/>
                                </a:lnTo>
                                <a:lnTo>
                                  <a:pt x="260" y="2899"/>
                                </a:lnTo>
                                <a:lnTo>
                                  <a:pt x="109" y="3144"/>
                                </a:lnTo>
                                <a:lnTo>
                                  <a:pt x="122" y="3122"/>
                                </a:lnTo>
                                <a:lnTo>
                                  <a:pt x="252" y="2908"/>
                                </a:lnTo>
                                <a:lnTo>
                                  <a:pt x="371" y="2706"/>
                                </a:lnTo>
                                <a:lnTo>
                                  <a:pt x="409" y="2610"/>
                                </a:lnTo>
                                <a:lnTo>
                                  <a:pt x="358" y="2811"/>
                                </a:lnTo>
                                <a:lnTo>
                                  <a:pt x="400" y="2772"/>
                                </a:lnTo>
                                <a:lnTo>
                                  <a:pt x="371" y="2873"/>
                                </a:lnTo>
                                <a:lnTo>
                                  <a:pt x="358" y="3013"/>
                                </a:lnTo>
                                <a:lnTo>
                                  <a:pt x="388" y="2969"/>
                                </a:lnTo>
                                <a:lnTo>
                                  <a:pt x="354" y="3092"/>
                                </a:lnTo>
                                <a:lnTo>
                                  <a:pt x="260" y="3280"/>
                                </a:lnTo>
                                <a:lnTo>
                                  <a:pt x="201" y="3311"/>
                                </a:lnTo>
                                <a:lnTo>
                                  <a:pt x="273" y="3245"/>
                                </a:lnTo>
                                <a:lnTo>
                                  <a:pt x="371" y="3078"/>
                                </a:lnTo>
                                <a:lnTo>
                                  <a:pt x="400" y="2943"/>
                                </a:lnTo>
                                <a:lnTo>
                                  <a:pt x="358" y="3232"/>
                                </a:lnTo>
                                <a:lnTo>
                                  <a:pt x="400" y="3157"/>
                                </a:lnTo>
                                <a:lnTo>
                                  <a:pt x="375" y="3315"/>
                                </a:lnTo>
                                <a:lnTo>
                                  <a:pt x="337" y="3534"/>
                                </a:lnTo>
                                <a:lnTo>
                                  <a:pt x="244" y="3696"/>
                                </a:lnTo>
                                <a:lnTo>
                                  <a:pt x="358" y="3446"/>
                                </a:lnTo>
                                <a:lnTo>
                                  <a:pt x="375" y="3376"/>
                                </a:lnTo>
                                <a:lnTo>
                                  <a:pt x="417" y="3293"/>
                                </a:lnTo>
                                <a:lnTo>
                                  <a:pt x="442" y="3451"/>
                                </a:lnTo>
                                <a:lnTo>
                                  <a:pt x="459" y="3157"/>
                                </a:lnTo>
                                <a:lnTo>
                                  <a:pt x="497" y="30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6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" name=""/>
                          <p:cNvSpPr/>
                          <p:nvPr/>
                        </p:nvSpPr>
                        <p:spPr>
                          <a:xfrm>
                            <a:off x="668160" y="3481560"/>
                            <a:ext cx="224280" cy="138960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623" h="3860">
                                <a:moveTo>
                                  <a:pt x="0" y="3361"/>
                                </a:moveTo>
                                <a:lnTo>
                                  <a:pt x="4" y="3199"/>
                                </a:lnTo>
                                <a:lnTo>
                                  <a:pt x="46" y="3291"/>
                                </a:lnTo>
                                <a:lnTo>
                                  <a:pt x="25" y="3059"/>
                                </a:lnTo>
                                <a:lnTo>
                                  <a:pt x="67" y="3089"/>
                                </a:lnTo>
                                <a:lnTo>
                                  <a:pt x="204" y="3860"/>
                                </a:lnTo>
                                <a:lnTo>
                                  <a:pt x="76" y="3199"/>
                                </a:lnTo>
                                <a:lnTo>
                                  <a:pt x="63" y="3080"/>
                                </a:lnTo>
                                <a:lnTo>
                                  <a:pt x="54" y="2967"/>
                                </a:lnTo>
                                <a:lnTo>
                                  <a:pt x="76" y="2993"/>
                                </a:lnTo>
                                <a:lnTo>
                                  <a:pt x="157" y="3212"/>
                                </a:lnTo>
                                <a:lnTo>
                                  <a:pt x="246" y="3567"/>
                                </a:lnTo>
                                <a:lnTo>
                                  <a:pt x="114" y="3089"/>
                                </a:lnTo>
                                <a:lnTo>
                                  <a:pt x="71" y="2962"/>
                                </a:lnTo>
                                <a:lnTo>
                                  <a:pt x="67" y="2777"/>
                                </a:lnTo>
                                <a:lnTo>
                                  <a:pt x="93" y="2834"/>
                                </a:lnTo>
                                <a:lnTo>
                                  <a:pt x="88" y="2620"/>
                                </a:lnTo>
                                <a:lnTo>
                                  <a:pt x="114" y="2694"/>
                                </a:lnTo>
                                <a:lnTo>
                                  <a:pt x="237" y="3396"/>
                                </a:lnTo>
                                <a:lnTo>
                                  <a:pt x="101" y="2593"/>
                                </a:lnTo>
                                <a:lnTo>
                                  <a:pt x="88" y="2458"/>
                                </a:lnTo>
                                <a:lnTo>
                                  <a:pt x="126" y="2536"/>
                                </a:lnTo>
                                <a:lnTo>
                                  <a:pt x="225" y="2927"/>
                                </a:lnTo>
                                <a:lnTo>
                                  <a:pt x="114" y="2523"/>
                                </a:lnTo>
                                <a:lnTo>
                                  <a:pt x="76" y="2322"/>
                                </a:lnTo>
                                <a:lnTo>
                                  <a:pt x="114" y="2387"/>
                                </a:lnTo>
                                <a:lnTo>
                                  <a:pt x="88" y="2260"/>
                                </a:lnTo>
                                <a:lnTo>
                                  <a:pt x="126" y="2291"/>
                                </a:lnTo>
                                <a:lnTo>
                                  <a:pt x="161" y="2523"/>
                                </a:lnTo>
                                <a:lnTo>
                                  <a:pt x="330" y="2967"/>
                                </a:lnTo>
                                <a:lnTo>
                                  <a:pt x="152" y="2458"/>
                                </a:lnTo>
                                <a:lnTo>
                                  <a:pt x="114" y="2260"/>
                                </a:lnTo>
                                <a:lnTo>
                                  <a:pt x="101" y="2151"/>
                                </a:lnTo>
                                <a:lnTo>
                                  <a:pt x="139" y="2260"/>
                                </a:lnTo>
                                <a:lnTo>
                                  <a:pt x="114" y="2028"/>
                                </a:lnTo>
                                <a:lnTo>
                                  <a:pt x="139" y="2055"/>
                                </a:lnTo>
                                <a:lnTo>
                                  <a:pt x="157" y="2173"/>
                                </a:lnTo>
                                <a:lnTo>
                                  <a:pt x="398" y="2528"/>
                                </a:lnTo>
                                <a:lnTo>
                                  <a:pt x="267" y="2317"/>
                                </a:lnTo>
                                <a:lnTo>
                                  <a:pt x="191" y="2199"/>
                                </a:lnTo>
                                <a:lnTo>
                                  <a:pt x="174" y="2155"/>
                                </a:lnTo>
                                <a:lnTo>
                                  <a:pt x="122" y="1923"/>
                                </a:lnTo>
                                <a:lnTo>
                                  <a:pt x="139" y="1967"/>
                                </a:lnTo>
                                <a:lnTo>
                                  <a:pt x="126" y="1822"/>
                                </a:lnTo>
                                <a:lnTo>
                                  <a:pt x="122" y="1849"/>
                                </a:lnTo>
                                <a:lnTo>
                                  <a:pt x="170" y="1910"/>
                                </a:lnTo>
                                <a:lnTo>
                                  <a:pt x="135" y="1752"/>
                                </a:lnTo>
                                <a:lnTo>
                                  <a:pt x="174" y="1787"/>
                                </a:lnTo>
                                <a:lnTo>
                                  <a:pt x="267" y="1862"/>
                                </a:lnTo>
                                <a:lnTo>
                                  <a:pt x="368" y="1998"/>
                                </a:lnTo>
                                <a:lnTo>
                                  <a:pt x="568" y="2230"/>
                                </a:lnTo>
                                <a:lnTo>
                                  <a:pt x="297" y="1893"/>
                                </a:lnTo>
                                <a:lnTo>
                                  <a:pt x="178" y="1752"/>
                                </a:lnTo>
                                <a:lnTo>
                                  <a:pt x="148" y="1625"/>
                                </a:lnTo>
                                <a:lnTo>
                                  <a:pt x="191" y="1687"/>
                                </a:lnTo>
                                <a:lnTo>
                                  <a:pt x="139" y="1450"/>
                                </a:lnTo>
                                <a:lnTo>
                                  <a:pt x="174" y="1468"/>
                                </a:lnTo>
                                <a:lnTo>
                                  <a:pt x="152" y="1345"/>
                                </a:lnTo>
                                <a:lnTo>
                                  <a:pt x="157" y="1319"/>
                                </a:lnTo>
                                <a:lnTo>
                                  <a:pt x="204" y="1424"/>
                                </a:lnTo>
                                <a:lnTo>
                                  <a:pt x="157" y="1244"/>
                                </a:lnTo>
                                <a:lnTo>
                                  <a:pt x="191" y="1244"/>
                                </a:lnTo>
                                <a:lnTo>
                                  <a:pt x="152" y="1117"/>
                                </a:lnTo>
                                <a:lnTo>
                                  <a:pt x="174" y="1117"/>
                                </a:lnTo>
                                <a:lnTo>
                                  <a:pt x="152" y="1052"/>
                                </a:lnTo>
                                <a:lnTo>
                                  <a:pt x="187" y="1052"/>
                                </a:lnTo>
                                <a:lnTo>
                                  <a:pt x="263" y="1196"/>
                                </a:lnTo>
                                <a:lnTo>
                                  <a:pt x="390" y="1380"/>
                                </a:lnTo>
                                <a:lnTo>
                                  <a:pt x="513" y="1525"/>
                                </a:lnTo>
                                <a:lnTo>
                                  <a:pt x="623" y="1625"/>
                                </a:lnTo>
                                <a:lnTo>
                                  <a:pt x="360" y="1319"/>
                                </a:lnTo>
                                <a:lnTo>
                                  <a:pt x="297" y="1222"/>
                                </a:lnTo>
                                <a:lnTo>
                                  <a:pt x="204" y="1095"/>
                                </a:lnTo>
                                <a:lnTo>
                                  <a:pt x="187" y="1052"/>
                                </a:lnTo>
                                <a:lnTo>
                                  <a:pt x="161" y="919"/>
                                </a:lnTo>
                                <a:lnTo>
                                  <a:pt x="204" y="954"/>
                                </a:lnTo>
                                <a:lnTo>
                                  <a:pt x="157" y="740"/>
                                </a:lnTo>
                                <a:lnTo>
                                  <a:pt x="178" y="740"/>
                                </a:lnTo>
                                <a:lnTo>
                                  <a:pt x="152" y="591"/>
                                </a:lnTo>
                                <a:lnTo>
                                  <a:pt x="187" y="591"/>
                                </a:lnTo>
                                <a:lnTo>
                                  <a:pt x="212" y="656"/>
                                </a:lnTo>
                                <a:lnTo>
                                  <a:pt x="297" y="770"/>
                                </a:lnTo>
                                <a:lnTo>
                                  <a:pt x="539" y="1021"/>
                                </a:lnTo>
                                <a:lnTo>
                                  <a:pt x="271" y="713"/>
                                </a:lnTo>
                                <a:lnTo>
                                  <a:pt x="212" y="648"/>
                                </a:lnTo>
                                <a:lnTo>
                                  <a:pt x="204" y="591"/>
                                </a:lnTo>
                                <a:lnTo>
                                  <a:pt x="161" y="486"/>
                                </a:lnTo>
                                <a:lnTo>
                                  <a:pt x="187" y="521"/>
                                </a:lnTo>
                                <a:lnTo>
                                  <a:pt x="126" y="385"/>
                                </a:lnTo>
                                <a:lnTo>
                                  <a:pt x="152" y="424"/>
                                </a:lnTo>
                                <a:lnTo>
                                  <a:pt x="208" y="420"/>
                                </a:lnTo>
                                <a:lnTo>
                                  <a:pt x="368" y="600"/>
                                </a:lnTo>
                                <a:lnTo>
                                  <a:pt x="204" y="424"/>
                                </a:lnTo>
                                <a:lnTo>
                                  <a:pt x="152" y="289"/>
                                </a:lnTo>
                                <a:lnTo>
                                  <a:pt x="204" y="289"/>
                                </a:lnTo>
                                <a:lnTo>
                                  <a:pt x="407" y="367"/>
                                </a:lnTo>
                                <a:lnTo>
                                  <a:pt x="518" y="473"/>
                                </a:lnTo>
                                <a:lnTo>
                                  <a:pt x="259" y="319"/>
                                </a:lnTo>
                                <a:lnTo>
                                  <a:pt x="187" y="289"/>
                                </a:lnTo>
                                <a:lnTo>
                                  <a:pt x="161" y="218"/>
                                </a:lnTo>
                                <a:lnTo>
                                  <a:pt x="139" y="118"/>
                                </a:lnTo>
                                <a:lnTo>
                                  <a:pt x="80" y="0"/>
                                </a:lnTo>
                                <a:lnTo>
                                  <a:pt x="67" y="48"/>
                                </a:lnTo>
                                <a:lnTo>
                                  <a:pt x="54" y="8"/>
                                </a:lnTo>
                                <a:lnTo>
                                  <a:pt x="0" y="336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a6ffff"/>
                          </a:solidFill>
                          <a:ln w="0">
                            <a:noFill/>
                          </a:ln>
                        </p:spPr>
                        <p:txBody>
                          <a:bodyPr lIns="90000" rIns="90000" tIns="45000" bIns="45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>
                          <a:off x="671400" y="4873680"/>
                          <a:ext cx="68760" cy="10623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191" h="2951">
                              <a:moveTo>
                                <a:pt x="38" y="0"/>
                              </a:moveTo>
                              <a:lnTo>
                                <a:pt x="78" y="227"/>
                              </a:lnTo>
                              <a:lnTo>
                                <a:pt x="113" y="585"/>
                              </a:lnTo>
                              <a:lnTo>
                                <a:pt x="152" y="1079"/>
                              </a:lnTo>
                              <a:lnTo>
                                <a:pt x="191" y="1705"/>
                              </a:lnTo>
                              <a:lnTo>
                                <a:pt x="191" y="2378"/>
                              </a:lnTo>
                              <a:lnTo>
                                <a:pt x="172" y="2951"/>
                              </a:lnTo>
                              <a:lnTo>
                                <a:pt x="152" y="2951"/>
                              </a:lnTo>
                              <a:lnTo>
                                <a:pt x="172" y="2378"/>
                              </a:lnTo>
                              <a:lnTo>
                                <a:pt x="172" y="1880"/>
                              </a:lnTo>
                              <a:lnTo>
                                <a:pt x="132" y="1346"/>
                              </a:lnTo>
                              <a:lnTo>
                                <a:pt x="78" y="808"/>
                              </a:lnTo>
                              <a:lnTo>
                                <a:pt x="0" y="135"/>
                              </a:lnTo>
                              <a:lnTo>
                                <a:pt x="3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6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"/>
                        <p:cNvSpPr/>
                        <p:nvPr/>
                      </p:nvSpPr>
                      <p:spPr>
                        <a:xfrm>
                          <a:off x="336600" y="4440240"/>
                          <a:ext cx="197280" cy="9511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548" h="2642">
                              <a:moveTo>
                                <a:pt x="160" y="2642"/>
                              </a:moveTo>
                              <a:lnTo>
                                <a:pt x="117" y="2192"/>
                              </a:lnTo>
                              <a:lnTo>
                                <a:pt x="100" y="1996"/>
                              </a:lnTo>
                              <a:lnTo>
                                <a:pt x="63" y="1756"/>
                              </a:lnTo>
                              <a:lnTo>
                                <a:pt x="25" y="1524"/>
                              </a:lnTo>
                              <a:lnTo>
                                <a:pt x="8" y="1393"/>
                              </a:lnTo>
                              <a:lnTo>
                                <a:pt x="0" y="1261"/>
                              </a:lnTo>
                              <a:lnTo>
                                <a:pt x="8" y="1060"/>
                              </a:lnTo>
                              <a:lnTo>
                                <a:pt x="16" y="864"/>
                              </a:lnTo>
                              <a:lnTo>
                                <a:pt x="79" y="362"/>
                              </a:lnTo>
                              <a:lnTo>
                                <a:pt x="100" y="248"/>
                              </a:lnTo>
                              <a:lnTo>
                                <a:pt x="160" y="117"/>
                              </a:lnTo>
                              <a:lnTo>
                                <a:pt x="198" y="30"/>
                              </a:lnTo>
                              <a:lnTo>
                                <a:pt x="253" y="0"/>
                              </a:lnTo>
                              <a:lnTo>
                                <a:pt x="303" y="30"/>
                              </a:lnTo>
                              <a:lnTo>
                                <a:pt x="358" y="117"/>
                              </a:lnTo>
                              <a:lnTo>
                                <a:pt x="414" y="270"/>
                              </a:lnTo>
                              <a:lnTo>
                                <a:pt x="431" y="379"/>
                              </a:lnTo>
                              <a:lnTo>
                                <a:pt x="468" y="541"/>
                              </a:lnTo>
                              <a:lnTo>
                                <a:pt x="494" y="681"/>
                              </a:lnTo>
                              <a:lnTo>
                                <a:pt x="540" y="1371"/>
                              </a:lnTo>
                              <a:lnTo>
                                <a:pt x="548" y="1502"/>
                              </a:lnTo>
                              <a:lnTo>
                                <a:pt x="540" y="1725"/>
                              </a:lnTo>
                              <a:lnTo>
                                <a:pt x="510" y="2376"/>
                              </a:lnTo>
                              <a:lnTo>
                                <a:pt x="510" y="1743"/>
                              </a:lnTo>
                              <a:lnTo>
                                <a:pt x="494" y="1463"/>
                              </a:lnTo>
                              <a:lnTo>
                                <a:pt x="485" y="1287"/>
                              </a:lnTo>
                              <a:lnTo>
                                <a:pt x="460" y="1060"/>
                              </a:lnTo>
                              <a:lnTo>
                                <a:pt x="439" y="833"/>
                              </a:lnTo>
                              <a:lnTo>
                                <a:pt x="404" y="611"/>
                              </a:lnTo>
                              <a:lnTo>
                                <a:pt x="366" y="401"/>
                              </a:lnTo>
                              <a:lnTo>
                                <a:pt x="333" y="218"/>
                              </a:lnTo>
                              <a:lnTo>
                                <a:pt x="303" y="117"/>
                              </a:lnTo>
                              <a:lnTo>
                                <a:pt x="261" y="69"/>
                              </a:lnTo>
                              <a:lnTo>
                                <a:pt x="223" y="117"/>
                              </a:lnTo>
                              <a:lnTo>
                                <a:pt x="190" y="209"/>
                              </a:lnTo>
                              <a:lnTo>
                                <a:pt x="173" y="379"/>
                              </a:lnTo>
                              <a:lnTo>
                                <a:pt x="173" y="510"/>
                              </a:lnTo>
                              <a:lnTo>
                                <a:pt x="169" y="755"/>
                              </a:lnTo>
                              <a:lnTo>
                                <a:pt x="152" y="903"/>
                              </a:lnTo>
                              <a:lnTo>
                                <a:pt x="109" y="1139"/>
                              </a:lnTo>
                              <a:lnTo>
                                <a:pt x="100" y="1261"/>
                              </a:lnTo>
                              <a:lnTo>
                                <a:pt x="96" y="1380"/>
                              </a:lnTo>
                              <a:lnTo>
                                <a:pt x="96" y="1555"/>
                              </a:lnTo>
                              <a:lnTo>
                                <a:pt x="169" y="2153"/>
                              </a:lnTo>
                              <a:lnTo>
                                <a:pt x="160" y="26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6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9" name=""/>
                      <p:cNvGrpSpPr/>
                      <p:nvPr/>
                    </p:nvGrpSpPr>
                    <p:grpSpPr>
                      <a:xfrm>
                        <a:off x="361800" y="3448080"/>
                        <a:ext cx="327600" cy="3310200"/>
                        <a:chOff x="361800" y="3448080"/>
                        <a:chExt cx="327600" cy="3310200"/>
                      </a:xfrm>
                    </p:grpSpPr>
                    <p:sp>
                      <p:nvSpPr>
                        <p:cNvPr id="100" name=""/>
                        <p:cNvSpPr/>
                        <p:nvPr/>
                      </p:nvSpPr>
                      <p:spPr>
                        <a:xfrm>
                          <a:off x="361800" y="5924520"/>
                          <a:ext cx="198720" cy="8337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552" h="2316">
                              <a:moveTo>
                                <a:pt x="552" y="2316"/>
                              </a:moveTo>
                              <a:lnTo>
                                <a:pt x="472" y="2091"/>
                              </a:lnTo>
                              <a:lnTo>
                                <a:pt x="437" y="1954"/>
                              </a:lnTo>
                              <a:lnTo>
                                <a:pt x="419" y="1844"/>
                              </a:lnTo>
                              <a:lnTo>
                                <a:pt x="296" y="776"/>
                              </a:lnTo>
                              <a:lnTo>
                                <a:pt x="224" y="436"/>
                              </a:lnTo>
                              <a:lnTo>
                                <a:pt x="176" y="220"/>
                              </a:lnTo>
                              <a:lnTo>
                                <a:pt x="141" y="110"/>
                              </a:lnTo>
                              <a:lnTo>
                                <a:pt x="92" y="30"/>
                              </a:lnTo>
                              <a:lnTo>
                                <a:pt x="52" y="0"/>
                              </a:lnTo>
                              <a:lnTo>
                                <a:pt x="17" y="22"/>
                              </a:lnTo>
                              <a:lnTo>
                                <a:pt x="0" y="149"/>
                              </a:lnTo>
                            </a:path>
                          </a:pathLst>
                        </a:custGeom>
                        <a:ln w="12600">
                          <a:solidFill>
                            <a:srgbClr val="a6ffff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"/>
                        <p:cNvSpPr/>
                        <p:nvPr/>
                      </p:nvSpPr>
                      <p:spPr>
                        <a:xfrm>
                          <a:off x="409680" y="3448080"/>
                          <a:ext cx="279720" cy="30578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777" h="8494">
                              <a:moveTo>
                                <a:pt x="0" y="8494"/>
                              </a:moveTo>
                              <a:lnTo>
                                <a:pt x="273" y="5349"/>
                              </a:lnTo>
                              <a:lnTo>
                                <a:pt x="304" y="4842"/>
                              </a:lnTo>
                              <a:lnTo>
                                <a:pt x="374" y="4021"/>
                              </a:lnTo>
                              <a:lnTo>
                                <a:pt x="441" y="3170"/>
                              </a:lnTo>
                              <a:lnTo>
                                <a:pt x="477" y="2707"/>
                              </a:lnTo>
                              <a:lnTo>
                                <a:pt x="494" y="2218"/>
                              </a:lnTo>
                              <a:lnTo>
                                <a:pt x="516" y="1755"/>
                              </a:lnTo>
                              <a:lnTo>
                                <a:pt x="565" y="1217"/>
                              </a:lnTo>
                              <a:lnTo>
                                <a:pt x="605" y="723"/>
                              </a:lnTo>
                              <a:lnTo>
                                <a:pt x="666" y="295"/>
                              </a:lnTo>
                              <a:lnTo>
                                <a:pt x="706" y="22"/>
                              </a:lnTo>
                              <a:lnTo>
                                <a:pt x="737" y="0"/>
                              </a:lnTo>
                              <a:lnTo>
                                <a:pt x="759" y="141"/>
                              </a:lnTo>
                              <a:lnTo>
                                <a:pt x="777" y="617"/>
                              </a:lnTo>
                            </a:path>
                          </a:pathLst>
                        </a:custGeom>
                        <a:ln w="25560">
                          <a:solidFill>
                            <a:srgbClr val="a6ffff"/>
                          </a:solidFill>
                          <a:round/>
                        </a:ln>
                      </p:spPr>
                      <p:txBody>
                        <a:bodyPr lIns="102600" rIns="102600" tIns="57600" bIns="57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"/>
                        <p:cNvSpPr/>
                        <p:nvPr/>
                      </p:nvSpPr>
                      <p:spPr>
                        <a:xfrm>
                          <a:off x="458640" y="4821120"/>
                          <a:ext cx="224280" cy="11257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623" h="3127">
                              <a:moveTo>
                                <a:pt x="0" y="3127"/>
                              </a:moveTo>
                              <a:lnTo>
                                <a:pt x="119" y="2452"/>
                              </a:lnTo>
                              <a:lnTo>
                                <a:pt x="190" y="1667"/>
                              </a:lnTo>
                              <a:lnTo>
                                <a:pt x="230" y="1322"/>
                              </a:lnTo>
                              <a:lnTo>
                                <a:pt x="283" y="921"/>
                              </a:lnTo>
                              <a:lnTo>
                                <a:pt x="353" y="502"/>
                              </a:lnTo>
                              <a:lnTo>
                                <a:pt x="411" y="242"/>
                              </a:lnTo>
                              <a:lnTo>
                                <a:pt x="450" y="110"/>
                              </a:lnTo>
                              <a:lnTo>
                                <a:pt x="504" y="17"/>
                              </a:lnTo>
                              <a:lnTo>
                                <a:pt x="570" y="0"/>
                              </a:lnTo>
                              <a:lnTo>
                                <a:pt x="601" y="66"/>
                              </a:lnTo>
                              <a:lnTo>
                                <a:pt x="623" y="273"/>
                              </a:lnTo>
                            </a:path>
                          </a:pathLst>
                        </a:custGeom>
                        <a:ln w="12600">
                          <a:solidFill>
                            <a:srgbClr val="a6ffff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>
                          <a:off x="363600" y="5221440"/>
                          <a:ext cx="103680" cy="5497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fill="none" w="288" h="1527">
                              <a:moveTo>
                                <a:pt x="0" y="0"/>
                              </a:moveTo>
                              <a:lnTo>
                                <a:pt x="48" y="101"/>
                              </a:lnTo>
                              <a:lnTo>
                                <a:pt x="111" y="207"/>
                              </a:lnTo>
                              <a:lnTo>
                                <a:pt x="164" y="424"/>
                              </a:lnTo>
                              <a:lnTo>
                                <a:pt x="208" y="605"/>
                              </a:lnTo>
                              <a:lnTo>
                                <a:pt x="248" y="794"/>
                              </a:lnTo>
                              <a:lnTo>
                                <a:pt x="266" y="953"/>
                              </a:lnTo>
                              <a:lnTo>
                                <a:pt x="279" y="1107"/>
                              </a:lnTo>
                              <a:lnTo>
                                <a:pt x="288" y="1320"/>
                              </a:lnTo>
                              <a:lnTo>
                                <a:pt x="288" y="1527"/>
                              </a:lnTo>
                            </a:path>
                          </a:pathLst>
                        </a:custGeom>
                        <a:ln w="12600">
                          <a:solidFill>
                            <a:srgbClr val="a6ffff"/>
                          </a:solidFill>
                          <a:round/>
                        </a:ln>
                      </p:spPr>
                      <p:txBody>
                        <a:bodyPr lIns="96120" rIns="96120" tIns="51120" bIns="51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1539720" y="6291360"/>
                    <a:ext cx="452880" cy="282960"/>
                    <a:chOff x="1539720" y="6291360"/>
                    <a:chExt cx="452880" cy="28296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1539720" y="6302520"/>
                      <a:ext cx="103680" cy="271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88" h="755">
                          <a:moveTo>
                            <a:pt x="232" y="0"/>
                          </a:moveTo>
                          <a:lnTo>
                            <a:pt x="210" y="12"/>
                          </a:lnTo>
                          <a:lnTo>
                            <a:pt x="118" y="149"/>
                          </a:lnTo>
                          <a:lnTo>
                            <a:pt x="56" y="276"/>
                          </a:lnTo>
                          <a:lnTo>
                            <a:pt x="0" y="435"/>
                          </a:lnTo>
                          <a:lnTo>
                            <a:pt x="0" y="601"/>
                          </a:lnTo>
                          <a:lnTo>
                            <a:pt x="28" y="755"/>
                          </a:lnTo>
                          <a:lnTo>
                            <a:pt x="56" y="755"/>
                          </a:lnTo>
                          <a:lnTo>
                            <a:pt x="28" y="601"/>
                          </a:lnTo>
                          <a:lnTo>
                            <a:pt x="28" y="482"/>
                          </a:lnTo>
                          <a:lnTo>
                            <a:pt x="89" y="345"/>
                          </a:lnTo>
                          <a:lnTo>
                            <a:pt x="170" y="208"/>
                          </a:lnTo>
                          <a:lnTo>
                            <a:pt x="288" y="34"/>
                          </a:lnTo>
                          <a:lnTo>
                            <a:pt x="232" y="0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1622520" y="6291360"/>
                      <a:ext cx="370080" cy="2782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1028" h="773">
                          <a:moveTo>
                            <a:pt x="1028" y="773"/>
                          </a:moveTo>
                          <a:lnTo>
                            <a:pt x="887" y="698"/>
                          </a:lnTo>
                          <a:lnTo>
                            <a:pt x="830" y="654"/>
                          </a:lnTo>
                          <a:lnTo>
                            <a:pt x="794" y="619"/>
                          </a:lnTo>
                          <a:lnTo>
                            <a:pt x="574" y="261"/>
                          </a:lnTo>
                          <a:lnTo>
                            <a:pt x="458" y="145"/>
                          </a:lnTo>
                          <a:lnTo>
                            <a:pt x="370" y="74"/>
                          </a:lnTo>
                          <a:lnTo>
                            <a:pt x="304" y="39"/>
                          </a:lnTo>
                          <a:lnTo>
                            <a:pt x="220" y="13"/>
                          </a:lnTo>
                          <a:lnTo>
                            <a:pt x="141" y="0"/>
                          </a:lnTo>
                          <a:lnTo>
                            <a:pt x="83" y="4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ln w="12600">
                      <a:solidFill>
                        <a:srgbClr val="a6ffff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2498760" y="5829480"/>
                    <a:ext cx="798840" cy="744840"/>
                    <a:chOff x="2498760" y="5829480"/>
                    <a:chExt cx="798840" cy="744840"/>
                  </a:xfrm>
                </p:grpSpPr>
                <p:grpSp>
                  <p:nvGrpSpPr>
                    <p:cNvPr id="108" name=""/>
                    <p:cNvGrpSpPr/>
                    <p:nvPr/>
                  </p:nvGrpSpPr>
                  <p:grpSpPr>
                    <a:xfrm>
                      <a:off x="2498760" y="5832360"/>
                      <a:ext cx="798840" cy="638640"/>
                      <a:chOff x="2498760" y="5832360"/>
                      <a:chExt cx="798840" cy="638640"/>
                    </a:xfrm>
                  </p:grpSpPr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3151080" y="6205680"/>
                        <a:ext cx="138600" cy="2653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85" h="737">
                            <a:moveTo>
                              <a:pt x="78" y="0"/>
                            </a:moveTo>
                            <a:lnTo>
                              <a:pt x="153" y="55"/>
                            </a:lnTo>
                            <a:lnTo>
                              <a:pt x="232" y="144"/>
                            </a:lnTo>
                            <a:lnTo>
                              <a:pt x="307" y="268"/>
                            </a:lnTo>
                            <a:lnTo>
                              <a:pt x="385" y="426"/>
                            </a:lnTo>
                            <a:lnTo>
                              <a:pt x="385" y="592"/>
                            </a:lnTo>
                            <a:lnTo>
                              <a:pt x="348" y="737"/>
                            </a:lnTo>
                            <a:lnTo>
                              <a:pt x="307" y="737"/>
                            </a:lnTo>
                            <a:lnTo>
                              <a:pt x="348" y="592"/>
                            </a:lnTo>
                            <a:lnTo>
                              <a:pt x="348" y="469"/>
                            </a:lnTo>
                            <a:lnTo>
                              <a:pt x="269" y="336"/>
                            </a:lnTo>
                            <a:lnTo>
                              <a:pt x="153" y="200"/>
                            </a:lnTo>
                            <a:lnTo>
                              <a:pt x="0" y="34"/>
                            </a:lnTo>
                            <a:lnTo>
                              <a:pt x="78" y="0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" name=""/>
                      <p:cNvSpPr/>
                      <p:nvPr/>
                    </p:nvSpPr>
                    <p:spPr>
                      <a:xfrm>
                        <a:off x="2498760" y="6059520"/>
                        <a:ext cx="228960" cy="2638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636" h="733">
                            <a:moveTo>
                              <a:pt x="623" y="114"/>
                            </a:moveTo>
                            <a:lnTo>
                              <a:pt x="487" y="0"/>
                            </a:lnTo>
                            <a:lnTo>
                              <a:pt x="403" y="0"/>
                            </a:lnTo>
                            <a:lnTo>
                              <a:pt x="331" y="8"/>
                            </a:lnTo>
                            <a:lnTo>
                              <a:pt x="275" y="38"/>
                            </a:lnTo>
                            <a:lnTo>
                              <a:pt x="127" y="136"/>
                            </a:lnTo>
                            <a:lnTo>
                              <a:pt x="76" y="174"/>
                            </a:lnTo>
                            <a:lnTo>
                              <a:pt x="50" y="217"/>
                            </a:lnTo>
                            <a:lnTo>
                              <a:pt x="8" y="344"/>
                            </a:lnTo>
                            <a:lnTo>
                              <a:pt x="0" y="384"/>
                            </a:lnTo>
                            <a:lnTo>
                              <a:pt x="8" y="430"/>
                            </a:lnTo>
                            <a:lnTo>
                              <a:pt x="33" y="481"/>
                            </a:lnTo>
                            <a:lnTo>
                              <a:pt x="93" y="558"/>
                            </a:lnTo>
                            <a:lnTo>
                              <a:pt x="139" y="609"/>
                            </a:lnTo>
                            <a:lnTo>
                              <a:pt x="215" y="664"/>
                            </a:lnTo>
                            <a:lnTo>
                              <a:pt x="356" y="733"/>
                            </a:lnTo>
                            <a:lnTo>
                              <a:pt x="283" y="647"/>
                            </a:lnTo>
                            <a:lnTo>
                              <a:pt x="224" y="571"/>
                            </a:lnTo>
                            <a:lnTo>
                              <a:pt x="190" y="498"/>
                            </a:lnTo>
                            <a:lnTo>
                              <a:pt x="198" y="430"/>
                            </a:lnTo>
                            <a:lnTo>
                              <a:pt x="215" y="384"/>
                            </a:lnTo>
                            <a:lnTo>
                              <a:pt x="190" y="323"/>
                            </a:lnTo>
                            <a:lnTo>
                              <a:pt x="177" y="272"/>
                            </a:lnTo>
                            <a:lnTo>
                              <a:pt x="232" y="174"/>
                            </a:lnTo>
                            <a:lnTo>
                              <a:pt x="245" y="123"/>
                            </a:lnTo>
                            <a:lnTo>
                              <a:pt x="296" y="85"/>
                            </a:lnTo>
                            <a:lnTo>
                              <a:pt x="403" y="29"/>
                            </a:lnTo>
                            <a:lnTo>
                              <a:pt x="453" y="72"/>
                            </a:lnTo>
                            <a:lnTo>
                              <a:pt x="636" y="140"/>
                            </a:lnTo>
                            <a:lnTo>
                              <a:pt x="623" y="114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" name=""/>
                      <p:cNvSpPr/>
                      <p:nvPr/>
                    </p:nvSpPr>
                    <p:spPr>
                      <a:xfrm>
                        <a:off x="2930400" y="5832360"/>
                        <a:ext cx="367200" cy="378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020" h="1051">
                            <a:moveTo>
                              <a:pt x="197" y="0"/>
                            </a:moveTo>
                            <a:lnTo>
                              <a:pt x="263" y="4"/>
                            </a:lnTo>
                            <a:lnTo>
                              <a:pt x="353" y="17"/>
                            </a:lnTo>
                            <a:lnTo>
                              <a:pt x="288" y="21"/>
                            </a:lnTo>
                            <a:lnTo>
                              <a:pt x="340" y="34"/>
                            </a:lnTo>
                            <a:lnTo>
                              <a:pt x="392" y="55"/>
                            </a:lnTo>
                            <a:lnTo>
                              <a:pt x="478" y="60"/>
                            </a:lnTo>
                            <a:lnTo>
                              <a:pt x="602" y="68"/>
                            </a:lnTo>
                            <a:lnTo>
                              <a:pt x="478" y="60"/>
                            </a:lnTo>
                            <a:lnTo>
                              <a:pt x="392" y="77"/>
                            </a:lnTo>
                            <a:lnTo>
                              <a:pt x="460" y="90"/>
                            </a:lnTo>
                            <a:lnTo>
                              <a:pt x="413" y="98"/>
                            </a:lnTo>
                            <a:lnTo>
                              <a:pt x="525" y="129"/>
                            </a:lnTo>
                            <a:lnTo>
                              <a:pt x="714" y="154"/>
                            </a:lnTo>
                            <a:lnTo>
                              <a:pt x="525" y="133"/>
                            </a:lnTo>
                            <a:lnTo>
                              <a:pt x="460" y="137"/>
                            </a:lnTo>
                            <a:lnTo>
                              <a:pt x="594" y="172"/>
                            </a:lnTo>
                            <a:lnTo>
                              <a:pt x="508" y="172"/>
                            </a:lnTo>
                            <a:lnTo>
                              <a:pt x="650" y="215"/>
                            </a:lnTo>
                            <a:lnTo>
                              <a:pt x="731" y="227"/>
                            </a:lnTo>
                            <a:lnTo>
                              <a:pt x="921" y="276"/>
                            </a:lnTo>
                            <a:lnTo>
                              <a:pt x="641" y="223"/>
                            </a:lnTo>
                            <a:lnTo>
                              <a:pt x="559" y="227"/>
                            </a:lnTo>
                            <a:lnTo>
                              <a:pt x="684" y="253"/>
                            </a:lnTo>
                            <a:lnTo>
                              <a:pt x="602" y="262"/>
                            </a:lnTo>
                            <a:lnTo>
                              <a:pt x="710" y="297"/>
                            </a:lnTo>
                            <a:lnTo>
                              <a:pt x="1012" y="422"/>
                            </a:lnTo>
                            <a:lnTo>
                              <a:pt x="710" y="302"/>
                            </a:lnTo>
                            <a:lnTo>
                              <a:pt x="611" y="302"/>
                            </a:lnTo>
                            <a:lnTo>
                              <a:pt x="718" y="353"/>
                            </a:lnTo>
                            <a:lnTo>
                              <a:pt x="641" y="349"/>
                            </a:lnTo>
                            <a:lnTo>
                              <a:pt x="735" y="409"/>
                            </a:lnTo>
                            <a:lnTo>
                              <a:pt x="1012" y="521"/>
                            </a:lnTo>
                            <a:lnTo>
                              <a:pt x="731" y="413"/>
                            </a:lnTo>
                            <a:lnTo>
                              <a:pt x="641" y="401"/>
                            </a:lnTo>
                            <a:lnTo>
                              <a:pt x="710" y="439"/>
                            </a:lnTo>
                            <a:lnTo>
                              <a:pt x="650" y="431"/>
                            </a:lnTo>
                            <a:lnTo>
                              <a:pt x="735" y="495"/>
                            </a:lnTo>
                            <a:lnTo>
                              <a:pt x="1020" y="616"/>
                            </a:lnTo>
                            <a:lnTo>
                              <a:pt x="731" y="495"/>
                            </a:lnTo>
                            <a:lnTo>
                              <a:pt x="692" y="495"/>
                            </a:lnTo>
                            <a:lnTo>
                              <a:pt x="973" y="672"/>
                            </a:lnTo>
                            <a:lnTo>
                              <a:pt x="675" y="495"/>
                            </a:lnTo>
                            <a:lnTo>
                              <a:pt x="731" y="542"/>
                            </a:lnTo>
                            <a:lnTo>
                              <a:pt x="675" y="525"/>
                            </a:lnTo>
                            <a:lnTo>
                              <a:pt x="761" y="598"/>
                            </a:lnTo>
                            <a:lnTo>
                              <a:pt x="947" y="736"/>
                            </a:lnTo>
                            <a:lnTo>
                              <a:pt x="761" y="607"/>
                            </a:lnTo>
                            <a:lnTo>
                              <a:pt x="684" y="598"/>
                            </a:lnTo>
                            <a:lnTo>
                              <a:pt x="761" y="637"/>
                            </a:lnTo>
                            <a:lnTo>
                              <a:pt x="1007" y="840"/>
                            </a:lnTo>
                            <a:lnTo>
                              <a:pt x="840" y="706"/>
                            </a:lnTo>
                            <a:lnTo>
                              <a:pt x="735" y="637"/>
                            </a:lnTo>
                            <a:lnTo>
                              <a:pt x="684" y="633"/>
                            </a:lnTo>
                            <a:lnTo>
                              <a:pt x="753" y="680"/>
                            </a:lnTo>
                            <a:lnTo>
                              <a:pt x="692" y="672"/>
                            </a:lnTo>
                            <a:lnTo>
                              <a:pt x="779" y="736"/>
                            </a:lnTo>
                            <a:lnTo>
                              <a:pt x="818" y="789"/>
                            </a:lnTo>
                            <a:lnTo>
                              <a:pt x="913" y="892"/>
                            </a:lnTo>
                            <a:lnTo>
                              <a:pt x="810" y="789"/>
                            </a:lnTo>
                            <a:lnTo>
                              <a:pt x="761" y="753"/>
                            </a:lnTo>
                            <a:lnTo>
                              <a:pt x="710" y="745"/>
                            </a:lnTo>
                            <a:lnTo>
                              <a:pt x="810" y="840"/>
                            </a:lnTo>
                            <a:lnTo>
                              <a:pt x="692" y="745"/>
                            </a:lnTo>
                            <a:lnTo>
                              <a:pt x="761" y="789"/>
                            </a:lnTo>
                            <a:lnTo>
                              <a:pt x="684" y="779"/>
                            </a:lnTo>
                            <a:lnTo>
                              <a:pt x="857" y="913"/>
                            </a:lnTo>
                            <a:lnTo>
                              <a:pt x="718" y="819"/>
                            </a:lnTo>
                            <a:lnTo>
                              <a:pt x="675" y="819"/>
                            </a:lnTo>
                            <a:lnTo>
                              <a:pt x="692" y="857"/>
                            </a:lnTo>
                            <a:lnTo>
                              <a:pt x="810" y="948"/>
                            </a:lnTo>
                            <a:lnTo>
                              <a:pt x="684" y="866"/>
                            </a:lnTo>
                            <a:lnTo>
                              <a:pt x="650" y="832"/>
                            </a:lnTo>
                            <a:lnTo>
                              <a:pt x="710" y="909"/>
                            </a:lnTo>
                            <a:lnTo>
                              <a:pt x="641" y="896"/>
                            </a:lnTo>
                            <a:lnTo>
                              <a:pt x="761" y="1051"/>
                            </a:lnTo>
                            <a:lnTo>
                              <a:pt x="624" y="931"/>
                            </a:lnTo>
                            <a:lnTo>
                              <a:pt x="594" y="952"/>
                            </a:lnTo>
                            <a:lnTo>
                              <a:pt x="602" y="1017"/>
                            </a:lnTo>
                            <a:lnTo>
                              <a:pt x="585" y="1017"/>
                            </a:lnTo>
                            <a:lnTo>
                              <a:pt x="585" y="948"/>
                            </a:lnTo>
                            <a:lnTo>
                              <a:pt x="585" y="909"/>
                            </a:lnTo>
                            <a:lnTo>
                              <a:pt x="521" y="931"/>
                            </a:lnTo>
                            <a:lnTo>
                              <a:pt x="533" y="909"/>
                            </a:lnTo>
                            <a:lnTo>
                              <a:pt x="585" y="857"/>
                            </a:lnTo>
                            <a:lnTo>
                              <a:pt x="525" y="866"/>
                            </a:lnTo>
                            <a:lnTo>
                              <a:pt x="602" y="797"/>
                            </a:lnTo>
                            <a:lnTo>
                              <a:pt x="533" y="823"/>
                            </a:lnTo>
                            <a:lnTo>
                              <a:pt x="426" y="922"/>
                            </a:lnTo>
                            <a:lnTo>
                              <a:pt x="525" y="814"/>
                            </a:lnTo>
                            <a:lnTo>
                              <a:pt x="585" y="775"/>
                            </a:lnTo>
                            <a:lnTo>
                              <a:pt x="568" y="775"/>
                            </a:lnTo>
                            <a:lnTo>
                              <a:pt x="508" y="797"/>
                            </a:lnTo>
                            <a:lnTo>
                              <a:pt x="383" y="849"/>
                            </a:lnTo>
                            <a:lnTo>
                              <a:pt x="392" y="840"/>
                            </a:lnTo>
                            <a:lnTo>
                              <a:pt x="525" y="779"/>
                            </a:lnTo>
                            <a:lnTo>
                              <a:pt x="568" y="732"/>
                            </a:lnTo>
                            <a:lnTo>
                              <a:pt x="508" y="732"/>
                            </a:lnTo>
                            <a:lnTo>
                              <a:pt x="568" y="680"/>
                            </a:lnTo>
                            <a:lnTo>
                              <a:pt x="486" y="689"/>
                            </a:lnTo>
                            <a:lnTo>
                              <a:pt x="353" y="745"/>
                            </a:lnTo>
                            <a:lnTo>
                              <a:pt x="486" y="689"/>
                            </a:lnTo>
                            <a:lnTo>
                              <a:pt x="551" y="633"/>
                            </a:lnTo>
                            <a:lnTo>
                              <a:pt x="478" y="646"/>
                            </a:lnTo>
                            <a:lnTo>
                              <a:pt x="525" y="603"/>
                            </a:lnTo>
                            <a:lnTo>
                              <a:pt x="460" y="633"/>
                            </a:lnTo>
                            <a:lnTo>
                              <a:pt x="508" y="560"/>
                            </a:lnTo>
                            <a:lnTo>
                              <a:pt x="448" y="598"/>
                            </a:lnTo>
                            <a:lnTo>
                              <a:pt x="293" y="684"/>
                            </a:lnTo>
                            <a:lnTo>
                              <a:pt x="460" y="598"/>
                            </a:lnTo>
                            <a:lnTo>
                              <a:pt x="521" y="512"/>
                            </a:lnTo>
                            <a:lnTo>
                              <a:pt x="448" y="530"/>
                            </a:lnTo>
                            <a:lnTo>
                              <a:pt x="306" y="616"/>
                            </a:lnTo>
                            <a:lnTo>
                              <a:pt x="448" y="525"/>
                            </a:lnTo>
                            <a:lnTo>
                              <a:pt x="499" y="448"/>
                            </a:lnTo>
                            <a:lnTo>
                              <a:pt x="435" y="465"/>
                            </a:lnTo>
                            <a:lnTo>
                              <a:pt x="486" y="418"/>
                            </a:lnTo>
                            <a:lnTo>
                              <a:pt x="426" y="435"/>
                            </a:lnTo>
                            <a:lnTo>
                              <a:pt x="227" y="641"/>
                            </a:lnTo>
                            <a:lnTo>
                              <a:pt x="435" y="418"/>
                            </a:lnTo>
                            <a:lnTo>
                              <a:pt x="435" y="362"/>
                            </a:lnTo>
                            <a:lnTo>
                              <a:pt x="374" y="388"/>
                            </a:lnTo>
                            <a:lnTo>
                              <a:pt x="253" y="504"/>
                            </a:lnTo>
                            <a:lnTo>
                              <a:pt x="400" y="353"/>
                            </a:lnTo>
                            <a:lnTo>
                              <a:pt x="426" y="302"/>
                            </a:lnTo>
                            <a:lnTo>
                              <a:pt x="374" y="323"/>
                            </a:lnTo>
                            <a:lnTo>
                              <a:pt x="111" y="512"/>
                            </a:lnTo>
                            <a:lnTo>
                              <a:pt x="227" y="413"/>
                            </a:lnTo>
                            <a:lnTo>
                              <a:pt x="362" y="310"/>
                            </a:lnTo>
                            <a:lnTo>
                              <a:pt x="383" y="253"/>
                            </a:lnTo>
                            <a:lnTo>
                              <a:pt x="319" y="284"/>
                            </a:lnTo>
                            <a:lnTo>
                              <a:pt x="353" y="223"/>
                            </a:lnTo>
                            <a:lnTo>
                              <a:pt x="111" y="375"/>
                            </a:lnTo>
                            <a:lnTo>
                              <a:pt x="340" y="215"/>
                            </a:lnTo>
                            <a:lnTo>
                              <a:pt x="362" y="167"/>
                            </a:lnTo>
                            <a:lnTo>
                              <a:pt x="288" y="206"/>
                            </a:lnTo>
                            <a:lnTo>
                              <a:pt x="297" y="133"/>
                            </a:lnTo>
                            <a:lnTo>
                              <a:pt x="210" y="163"/>
                            </a:lnTo>
                            <a:lnTo>
                              <a:pt x="0" y="267"/>
                            </a:lnTo>
                            <a:lnTo>
                              <a:pt x="210" y="159"/>
                            </a:lnTo>
                            <a:lnTo>
                              <a:pt x="253" y="90"/>
                            </a:lnTo>
                            <a:lnTo>
                              <a:pt x="197" y="111"/>
                            </a:lnTo>
                            <a:lnTo>
                              <a:pt x="227" y="55"/>
                            </a:lnTo>
                            <a:lnTo>
                              <a:pt x="176" y="73"/>
                            </a:lnTo>
                            <a:lnTo>
                              <a:pt x="167" y="30"/>
                            </a:lnTo>
                            <a:lnTo>
                              <a:pt x="176" y="12"/>
                            </a:lnTo>
                            <a:lnTo>
                              <a:pt x="197" y="0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2687760" y="5829480"/>
                      <a:ext cx="484560" cy="744840"/>
                      <a:chOff x="2687760" y="5829480"/>
                      <a:chExt cx="484560" cy="744840"/>
                    </a:xfrm>
                  </p:grpSpPr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2703600" y="6184800"/>
                        <a:ext cx="468720" cy="3020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1302" h="839">
                            <a:moveTo>
                              <a:pt x="0" y="839"/>
                            </a:moveTo>
                            <a:lnTo>
                              <a:pt x="194" y="654"/>
                            </a:lnTo>
                            <a:lnTo>
                              <a:pt x="358" y="446"/>
                            </a:lnTo>
                            <a:lnTo>
                              <a:pt x="441" y="353"/>
                            </a:lnTo>
                            <a:lnTo>
                              <a:pt x="561" y="252"/>
                            </a:lnTo>
                            <a:lnTo>
                              <a:pt x="719" y="141"/>
                            </a:lnTo>
                            <a:lnTo>
                              <a:pt x="838" y="70"/>
                            </a:lnTo>
                            <a:lnTo>
                              <a:pt x="922" y="35"/>
                            </a:lnTo>
                            <a:lnTo>
                              <a:pt x="1042" y="8"/>
                            </a:lnTo>
                            <a:lnTo>
                              <a:pt x="1179" y="0"/>
                            </a:lnTo>
                            <a:lnTo>
                              <a:pt x="1236" y="22"/>
                            </a:lnTo>
                            <a:lnTo>
                              <a:pt x="1302" y="79"/>
                            </a:lnTo>
                          </a:path>
                        </a:pathLst>
                      </a:custGeom>
                      <a:ln w="25560">
                        <a:solidFill>
                          <a:srgbClr val="a6ffff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2687760" y="5829480"/>
                        <a:ext cx="322560" cy="7448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896" h="2069">
                            <a:moveTo>
                              <a:pt x="4" y="2069"/>
                            </a:moveTo>
                            <a:lnTo>
                              <a:pt x="0" y="1875"/>
                            </a:lnTo>
                            <a:lnTo>
                              <a:pt x="0" y="1734"/>
                            </a:lnTo>
                            <a:lnTo>
                              <a:pt x="22" y="1632"/>
                            </a:lnTo>
                            <a:lnTo>
                              <a:pt x="30" y="1504"/>
                            </a:lnTo>
                            <a:lnTo>
                              <a:pt x="30" y="1376"/>
                            </a:lnTo>
                            <a:lnTo>
                              <a:pt x="35" y="1271"/>
                            </a:lnTo>
                            <a:lnTo>
                              <a:pt x="61" y="1169"/>
                            </a:lnTo>
                            <a:lnTo>
                              <a:pt x="88" y="996"/>
                            </a:lnTo>
                            <a:lnTo>
                              <a:pt x="132" y="806"/>
                            </a:lnTo>
                            <a:lnTo>
                              <a:pt x="189" y="612"/>
                            </a:lnTo>
                            <a:lnTo>
                              <a:pt x="233" y="410"/>
                            </a:lnTo>
                            <a:lnTo>
                              <a:pt x="273" y="291"/>
                            </a:lnTo>
                            <a:lnTo>
                              <a:pt x="304" y="246"/>
                            </a:lnTo>
                            <a:lnTo>
                              <a:pt x="388" y="163"/>
                            </a:lnTo>
                            <a:lnTo>
                              <a:pt x="464" y="101"/>
                            </a:lnTo>
                            <a:lnTo>
                              <a:pt x="552" y="52"/>
                            </a:lnTo>
                            <a:lnTo>
                              <a:pt x="640" y="13"/>
                            </a:lnTo>
                            <a:lnTo>
                              <a:pt x="706" y="0"/>
                            </a:lnTo>
                            <a:lnTo>
                              <a:pt x="790" y="0"/>
                            </a:lnTo>
                            <a:lnTo>
                              <a:pt x="865" y="17"/>
                            </a:lnTo>
                            <a:lnTo>
                              <a:pt x="896" y="35"/>
                            </a:lnTo>
                          </a:path>
                        </a:pathLst>
                      </a:custGeom>
                      <a:ln w="25560">
                        <a:solidFill>
                          <a:srgbClr val="a6ffff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1233360" y="6010200"/>
                    <a:ext cx="803880" cy="675000"/>
                    <a:chOff x="1233360" y="6010200"/>
                    <a:chExt cx="803880" cy="67500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233360" y="6081840"/>
                      <a:ext cx="425880" cy="351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83" h="976">
                          <a:moveTo>
                            <a:pt x="665" y="12"/>
                          </a:moveTo>
                          <a:lnTo>
                            <a:pt x="587" y="0"/>
                          </a:lnTo>
                          <a:lnTo>
                            <a:pt x="540" y="25"/>
                          </a:lnTo>
                          <a:lnTo>
                            <a:pt x="484" y="34"/>
                          </a:lnTo>
                          <a:lnTo>
                            <a:pt x="371" y="42"/>
                          </a:lnTo>
                          <a:lnTo>
                            <a:pt x="81" y="42"/>
                          </a:lnTo>
                          <a:lnTo>
                            <a:pt x="371" y="51"/>
                          </a:lnTo>
                          <a:lnTo>
                            <a:pt x="453" y="34"/>
                          </a:lnTo>
                          <a:lnTo>
                            <a:pt x="505" y="42"/>
                          </a:lnTo>
                          <a:lnTo>
                            <a:pt x="440" y="60"/>
                          </a:lnTo>
                          <a:lnTo>
                            <a:pt x="484" y="60"/>
                          </a:lnTo>
                          <a:lnTo>
                            <a:pt x="440" y="85"/>
                          </a:lnTo>
                          <a:lnTo>
                            <a:pt x="64" y="231"/>
                          </a:lnTo>
                          <a:lnTo>
                            <a:pt x="453" y="85"/>
                          </a:lnTo>
                          <a:lnTo>
                            <a:pt x="440" y="103"/>
                          </a:lnTo>
                          <a:lnTo>
                            <a:pt x="389" y="128"/>
                          </a:lnTo>
                          <a:lnTo>
                            <a:pt x="337" y="137"/>
                          </a:lnTo>
                          <a:lnTo>
                            <a:pt x="237" y="145"/>
                          </a:lnTo>
                          <a:lnTo>
                            <a:pt x="64" y="128"/>
                          </a:lnTo>
                          <a:lnTo>
                            <a:pt x="337" y="145"/>
                          </a:lnTo>
                          <a:lnTo>
                            <a:pt x="389" y="128"/>
                          </a:lnTo>
                          <a:lnTo>
                            <a:pt x="440" y="120"/>
                          </a:lnTo>
                          <a:lnTo>
                            <a:pt x="423" y="145"/>
                          </a:lnTo>
                          <a:lnTo>
                            <a:pt x="389" y="154"/>
                          </a:lnTo>
                          <a:lnTo>
                            <a:pt x="47" y="240"/>
                          </a:lnTo>
                          <a:lnTo>
                            <a:pt x="389" y="163"/>
                          </a:lnTo>
                          <a:lnTo>
                            <a:pt x="423" y="163"/>
                          </a:lnTo>
                          <a:lnTo>
                            <a:pt x="389" y="188"/>
                          </a:lnTo>
                          <a:lnTo>
                            <a:pt x="337" y="214"/>
                          </a:lnTo>
                          <a:lnTo>
                            <a:pt x="47" y="267"/>
                          </a:lnTo>
                          <a:lnTo>
                            <a:pt x="371" y="206"/>
                          </a:lnTo>
                          <a:lnTo>
                            <a:pt x="389" y="206"/>
                          </a:lnTo>
                          <a:lnTo>
                            <a:pt x="406" y="214"/>
                          </a:lnTo>
                          <a:lnTo>
                            <a:pt x="337" y="250"/>
                          </a:lnTo>
                          <a:lnTo>
                            <a:pt x="406" y="240"/>
                          </a:lnTo>
                          <a:lnTo>
                            <a:pt x="320" y="284"/>
                          </a:lnTo>
                          <a:lnTo>
                            <a:pt x="250" y="310"/>
                          </a:lnTo>
                          <a:lnTo>
                            <a:pt x="116" y="327"/>
                          </a:lnTo>
                          <a:lnTo>
                            <a:pt x="47" y="327"/>
                          </a:lnTo>
                          <a:lnTo>
                            <a:pt x="168" y="318"/>
                          </a:lnTo>
                          <a:lnTo>
                            <a:pt x="302" y="301"/>
                          </a:lnTo>
                          <a:lnTo>
                            <a:pt x="337" y="292"/>
                          </a:lnTo>
                          <a:lnTo>
                            <a:pt x="302" y="318"/>
                          </a:lnTo>
                          <a:lnTo>
                            <a:pt x="237" y="353"/>
                          </a:lnTo>
                          <a:lnTo>
                            <a:pt x="116" y="370"/>
                          </a:lnTo>
                          <a:lnTo>
                            <a:pt x="0" y="383"/>
                          </a:lnTo>
                          <a:lnTo>
                            <a:pt x="150" y="361"/>
                          </a:lnTo>
                          <a:lnTo>
                            <a:pt x="250" y="331"/>
                          </a:lnTo>
                          <a:lnTo>
                            <a:pt x="337" y="310"/>
                          </a:lnTo>
                          <a:lnTo>
                            <a:pt x="354" y="301"/>
                          </a:lnTo>
                          <a:lnTo>
                            <a:pt x="337" y="327"/>
                          </a:lnTo>
                          <a:lnTo>
                            <a:pt x="371" y="318"/>
                          </a:lnTo>
                          <a:lnTo>
                            <a:pt x="406" y="327"/>
                          </a:lnTo>
                          <a:lnTo>
                            <a:pt x="337" y="353"/>
                          </a:lnTo>
                          <a:lnTo>
                            <a:pt x="337" y="370"/>
                          </a:lnTo>
                          <a:lnTo>
                            <a:pt x="250" y="404"/>
                          </a:lnTo>
                          <a:lnTo>
                            <a:pt x="284" y="404"/>
                          </a:lnTo>
                          <a:lnTo>
                            <a:pt x="250" y="421"/>
                          </a:lnTo>
                          <a:lnTo>
                            <a:pt x="133" y="456"/>
                          </a:lnTo>
                          <a:lnTo>
                            <a:pt x="30" y="464"/>
                          </a:lnTo>
                          <a:lnTo>
                            <a:pt x="181" y="443"/>
                          </a:lnTo>
                          <a:lnTo>
                            <a:pt x="267" y="421"/>
                          </a:lnTo>
                          <a:lnTo>
                            <a:pt x="320" y="413"/>
                          </a:lnTo>
                          <a:lnTo>
                            <a:pt x="320" y="434"/>
                          </a:lnTo>
                          <a:lnTo>
                            <a:pt x="320" y="443"/>
                          </a:lnTo>
                          <a:lnTo>
                            <a:pt x="267" y="481"/>
                          </a:lnTo>
                          <a:lnTo>
                            <a:pt x="219" y="507"/>
                          </a:lnTo>
                          <a:lnTo>
                            <a:pt x="250" y="507"/>
                          </a:lnTo>
                          <a:lnTo>
                            <a:pt x="202" y="524"/>
                          </a:lnTo>
                          <a:lnTo>
                            <a:pt x="30" y="567"/>
                          </a:lnTo>
                          <a:lnTo>
                            <a:pt x="150" y="541"/>
                          </a:lnTo>
                          <a:lnTo>
                            <a:pt x="237" y="524"/>
                          </a:lnTo>
                          <a:lnTo>
                            <a:pt x="237" y="550"/>
                          </a:lnTo>
                          <a:lnTo>
                            <a:pt x="181" y="554"/>
                          </a:lnTo>
                          <a:lnTo>
                            <a:pt x="237" y="550"/>
                          </a:lnTo>
                          <a:lnTo>
                            <a:pt x="237" y="567"/>
                          </a:lnTo>
                          <a:lnTo>
                            <a:pt x="202" y="584"/>
                          </a:lnTo>
                          <a:lnTo>
                            <a:pt x="47" y="606"/>
                          </a:lnTo>
                          <a:lnTo>
                            <a:pt x="181" y="584"/>
                          </a:lnTo>
                          <a:lnTo>
                            <a:pt x="181" y="593"/>
                          </a:lnTo>
                          <a:lnTo>
                            <a:pt x="202" y="597"/>
                          </a:lnTo>
                          <a:lnTo>
                            <a:pt x="47" y="657"/>
                          </a:lnTo>
                          <a:lnTo>
                            <a:pt x="168" y="614"/>
                          </a:lnTo>
                          <a:lnTo>
                            <a:pt x="202" y="606"/>
                          </a:lnTo>
                          <a:lnTo>
                            <a:pt x="219" y="627"/>
                          </a:lnTo>
                          <a:lnTo>
                            <a:pt x="181" y="644"/>
                          </a:lnTo>
                          <a:lnTo>
                            <a:pt x="219" y="636"/>
                          </a:lnTo>
                          <a:lnTo>
                            <a:pt x="181" y="687"/>
                          </a:lnTo>
                          <a:lnTo>
                            <a:pt x="30" y="744"/>
                          </a:lnTo>
                          <a:lnTo>
                            <a:pt x="181" y="687"/>
                          </a:lnTo>
                          <a:lnTo>
                            <a:pt x="168" y="709"/>
                          </a:lnTo>
                          <a:lnTo>
                            <a:pt x="219" y="687"/>
                          </a:lnTo>
                          <a:lnTo>
                            <a:pt x="219" y="709"/>
                          </a:lnTo>
                          <a:lnTo>
                            <a:pt x="237" y="830"/>
                          </a:lnTo>
                          <a:lnTo>
                            <a:pt x="389" y="976"/>
                          </a:lnTo>
                          <a:lnTo>
                            <a:pt x="237" y="821"/>
                          </a:lnTo>
                          <a:lnTo>
                            <a:pt x="237" y="761"/>
                          </a:lnTo>
                          <a:lnTo>
                            <a:pt x="250" y="717"/>
                          </a:lnTo>
                          <a:lnTo>
                            <a:pt x="267" y="687"/>
                          </a:lnTo>
                          <a:lnTo>
                            <a:pt x="302" y="627"/>
                          </a:lnTo>
                          <a:lnTo>
                            <a:pt x="337" y="649"/>
                          </a:lnTo>
                          <a:lnTo>
                            <a:pt x="553" y="976"/>
                          </a:lnTo>
                          <a:lnTo>
                            <a:pt x="354" y="649"/>
                          </a:lnTo>
                          <a:lnTo>
                            <a:pt x="354" y="614"/>
                          </a:lnTo>
                          <a:lnTo>
                            <a:pt x="389" y="636"/>
                          </a:lnTo>
                          <a:lnTo>
                            <a:pt x="423" y="950"/>
                          </a:lnTo>
                          <a:lnTo>
                            <a:pt x="406" y="679"/>
                          </a:lnTo>
                          <a:lnTo>
                            <a:pt x="389" y="627"/>
                          </a:lnTo>
                          <a:lnTo>
                            <a:pt x="371" y="606"/>
                          </a:lnTo>
                          <a:lnTo>
                            <a:pt x="389" y="567"/>
                          </a:lnTo>
                          <a:lnTo>
                            <a:pt x="406" y="597"/>
                          </a:lnTo>
                          <a:lnTo>
                            <a:pt x="453" y="666"/>
                          </a:lnTo>
                          <a:lnTo>
                            <a:pt x="505" y="709"/>
                          </a:lnTo>
                          <a:lnTo>
                            <a:pt x="639" y="770"/>
                          </a:lnTo>
                          <a:lnTo>
                            <a:pt x="929" y="882"/>
                          </a:lnTo>
                          <a:lnTo>
                            <a:pt x="553" y="717"/>
                          </a:lnTo>
                          <a:lnTo>
                            <a:pt x="484" y="679"/>
                          </a:lnTo>
                          <a:lnTo>
                            <a:pt x="453" y="649"/>
                          </a:lnTo>
                          <a:lnTo>
                            <a:pt x="423" y="614"/>
                          </a:lnTo>
                          <a:lnTo>
                            <a:pt x="440" y="524"/>
                          </a:lnTo>
                          <a:lnTo>
                            <a:pt x="453" y="550"/>
                          </a:lnTo>
                          <a:lnTo>
                            <a:pt x="453" y="494"/>
                          </a:lnTo>
                          <a:lnTo>
                            <a:pt x="453" y="481"/>
                          </a:lnTo>
                          <a:lnTo>
                            <a:pt x="484" y="524"/>
                          </a:lnTo>
                          <a:lnTo>
                            <a:pt x="811" y="839"/>
                          </a:lnTo>
                          <a:lnTo>
                            <a:pt x="540" y="584"/>
                          </a:lnTo>
                          <a:lnTo>
                            <a:pt x="505" y="554"/>
                          </a:lnTo>
                          <a:lnTo>
                            <a:pt x="484" y="524"/>
                          </a:lnTo>
                          <a:lnTo>
                            <a:pt x="484" y="430"/>
                          </a:lnTo>
                          <a:lnTo>
                            <a:pt x="505" y="434"/>
                          </a:lnTo>
                          <a:lnTo>
                            <a:pt x="518" y="383"/>
                          </a:lnTo>
                          <a:lnTo>
                            <a:pt x="574" y="404"/>
                          </a:lnTo>
                          <a:lnTo>
                            <a:pt x="824" y="753"/>
                          </a:lnTo>
                          <a:lnTo>
                            <a:pt x="691" y="584"/>
                          </a:lnTo>
                          <a:lnTo>
                            <a:pt x="639" y="507"/>
                          </a:lnTo>
                          <a:lnTo>
                            <a:pt x="574" y="434"/>
                          </a:lnTo>
                          <a:lnTo>
                            <a:pt x="574" y="395"/>
                          </a:lnTo>
                          <a:lnTo>
                            <a:pt x="553" y="327"/>
                          </a:lnTo>
                          <a:lnTo>
                            <a:pt x="587" y="331"/>
                          </a:lnTo>
                          <a:lnTo>
                            <a:pt x="725" y="687"/>
                          </a:lnTo>
                          <a:lnTo>
                            <a:pt x="574" y="310"/>
                          </a:lnTo>
                          <a:lnTo>
                            <a:pt x="574" y="275"/>
                          </a:lnTo>
                          <a:lnTo>
                            <a:pt x="587" y="301"/>
                          </a:lnTo>
                          <a:lnTo>
                            <a:pt x="587" y="223"/>
                          </a:lnTo>
                          <a:lnTo>
                            <a:pt x="622" y="250"/>
                          </a:lnTo>
                          <a:lnTo>
                            <a:pt x="622" y="206"/>
                          </a:lnTo>
                          <a:lnTo>
                            <a:pt x="673" y="231"/>
                          </a:lnTo>
                          <a:lnTo>
                            <a:pt x="742" y="318"/>
                          </a:lnTo>
                          <a:lnTo>
                            <a:pt x="824" y="370"/>
                          </a:lnTo>
                          <a:lnTo>
                            <a:pt x="981" y="456"/>
                          </a:lnTo>
                          <a:lnTo>
                            <a:pt x="1063" y="533"/>
                          </a:lnTo>
                          <a:lnTo>
                            <a:pt x="824" y="370"/>
                          </a:lnTo>
                          <a:lnTo>
                            <a:pt x="760" y="327"/>
                          </a:lnTo>
                          <a:lnTo>
                            <a:pt x="691" y="267"/>
                          </a:lnTo>
                          <a:lnTo>
                            <a:pt x="673" y="223"/>
                          </a:lnTo>
                          <a:lnTo>
                            <a:pt x="639" y="145"/>
                          </a:lnTo>
                          <a:lnTo>
                            <a:pt x="656" y="154"/>
                          </a:lnTo>
                          <a:lnTo>
                            <a:pt x="691" y="145"/>
                          </a:lnTo>
                          <a:lnTo>
                            <a:pt x="673" y="111"/>
                          </a:lnTo>
                          <a:lnTo>
                            <a:pt x="704" y="145"/>
                          </a:lnTo>
                          <a:lnTo>
                            <a:pt x="742" y="180"/>
                          </a:lnTo>
                          <a:lnTo>
                            <a:pt x="824" y="214"/>
                          </a:lnTo>
                          <a:lnTo>
                            <a:pt x="946" y="250"/>
                          </a:lnTo>
                          <a:lnTo>
                            <a:pt x="1183" y="331"/>
                          </a:lnTo>
                          <a:lnTo>
                            <a:pt x="794" y="206"/>
                          </a:lnTo>
                          <a:lnTo>
                            <a:pt x="742" y="171"/>
                          </a:lnTo>
                          <a:lnTo>
                            <a:pt x="725" y="154"/>
                          </a:lnTo>
                          <a:lnTo>
                            <a:pt x="725" y="68"/>
                          </a:lnTo>
                          <a:lnTo>
                            <a:pt x="760" y="94"/>
                          </a:lnTo>
                          <a:lnTo>
                            <a:pt x="811" y="137"/>
                          </a:lnTo>
                          <a:lnTo>
                            <a:pt x="912" y="206"/>
                          </a:lnTo>
                          <a:lnTo>
                            <a:pt x="1045" y="275"/>
                          </a:lnTo>
                          <a:lnTo>
                            <a:pt x="1080" y="310"/>
                          </a:lnTo>
                          <a:lnTo>
                            <a:pt x="790" y="137"/>
                          </a:lnTo>
                          <a:lnTo>
                            <a:pt x="760" y="77"/>
                          </a:lnTo>
                          <a:lnTo>
                            <a:pt x="773" y="34"/>
                          </a:lnTo>
                          <a:lnTo>
                            <a:pt x="695" y="8"/>
                          </a:lnTo>
                          <a:lnTo>
                            <a:pt x="665" y="12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476360" y="6010200"/>
                      <a:ext cx="560880" cy="6750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1558" h="1875">
                          <a:moveTo>
                            <a:pt x="1558" y="1875"/>
                          </a:moveTo>
                          <a:lnTo>
                            <a:pt x="1514" y="1725"/>
                          </a:lnTo>
                          <a:lnTo>
                            <a:pt x="1028" y="709"/>
                          </a:lnTo>
                          <a:lnTo>
                            <a:pt x="807" y="396"/>
                          </a:lnTo>
                          <a:lnTo>
                            <a:pt x="746" y="291"/>
                          </a:lnTo>
                          <a:lnTo>
                            <a:pt x="658" y="171"/>
                          </a:lnTo>
                          <a:lnTo>
                            <a:pt x="565" y="83"/>
                          </a:lnTo>
                          <a:lnTo>
                            <a:pt x="472" y="35"/>
                          </a:lnTo>
                          <a:lnTo>
                            <a:pt x="357" y="0"/>
                          </a:lnTo>
                          <a:lnTo>
                            <a:pt x="242" y="0"/>
                          </a:lnTo>
                          <a:lnTo>
                            <a:pt x="163" y="35"/>
                          </a:lnTo>
                          <a:lnTo>
                            <a:pt x="0" y="211"/>
                          </a:lnTo>
                        </a:path>
                      </a:pathLst>
                    </a:custGeom>
                    <a:ln w="25560">
                      <a:solidFill>
                        <a:srgbClr val="a6ffff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566640" y="4502160"/>
                    <a:ext cx="1167120" cy="2094120"/>
                    <a:chOff x="566640" y="4502160"/>
                    <a:chExt cx="1167120" cy="2094120"/>
                  </a:xfrm>
                </p:grpSpPr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863640" y="4502160"/>
                      <a:ext cx="563760" cy="2094120"/>
                      <a:chOff x="863640" y="4502160"/>
                      <a:chExt cx="563760" cy="209412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941400" y="4502160"/>
                        <a:ext cx="486000" cy="20941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1350" h="5817">
                            <a:moveTo>
                              <a:pt x="0" y="5817"/>
                            </a:moveTo>
                            <a:lnTo>
                              <a:pt x="485" y="3665"/>
                            </a:lnTo>
                            <a:lnTo>
                              <a:pt x="537" y="3312"/>
                            </a:lnTo>
                            <a:lnTo>
                              <a:pt x="657" y="2756"/>
                            </a:lnTo>
                            <a:lnTo>
                              <a:pt x="772" y="2173"/>
                            </a:lnTo>
                            <a:lnTo>
                              <a:pt x="830" y="1852"/>
                            </a:lnTo>
                            <a:lnTo>
                              <a:pt x="860" y="1516"/>
                            </a:lnTo>
                            <a:lnTo>
                              <a:pt x="909" y="1199"/>
                            </a:lnTo>
                            <a:lnTo>
                              <a:pt x="979" y="833"/>
                            </a:lnTo>
                            <a:lnTo>
                              <a:pt x="1054" y="493"/>
                            </a:lnTo>
                            <a:lnTo>
                              <a:pt x="1156" y="198"/>
                            </a:lnTo>
                            <a:lnTo>
                              <a:pt x="1235" y="13"/>
                            </a:lnTo>
                            <a:lnTo>
                              <a:pt x="1279" y="0"/>
                            </a:lnTo>
                            <a:lnTo>
                              <a:pt x="1323" y="92"/>
                            </a:lnTo>
                            <a:lnTo>
                              <a:pt x="1350" y="418"/>
                            </a:lnTo>
                          </a:path>
                        </a:pathLst>
                      </a:custGeom>
                      <a:ln w="25560">
                        <a:solidFill>
                          <a:srgbClr val="a6ffff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1028880" y="5437080"/>
                        <a:ext cx="384480" cy="7783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1068" h="2162">
                            <a:moveTo>
                              <a:pt x="0" y="2162"/>
                            </a:moveTo>
                            <a:lnTo>
                              <a:pt x="202" y="1695"/>
                            </a:lnTo>
                            <a:lnTo>
                              <a:pt x="330" y="1156"/>
                            </a:lnTo>
                            <a:lnTo>
                              <a:pt x="396" y="913"/>
                            </a:lnTo>
                            <a:lnTo>
                              <a:pt x="489" y="636"/>
                            </a:lnTo>
                            <a:lnTo>
                              <a:pt x="613" y="348"/>
                            </a:lnTo>
                            <a:lnTo>
                              <a:pt x="706" y="171"/>
                            </a:lnTo>
                            <a:lnTo>
                              <a:pt x="777" y="79"/>
                            </a:lnTo>
                            <a:lnTo>
                              <a:pt x="869" y="13"/>
                            </a:lnTo>
                            <a:lnTo>
                              <a:pt x="979" y="0"/>
                            </a:lnTo>
                            <a:lnTo>
                              <a:pt x="1024" y="48"/>
                            </a:lnTo>
                            <a:lnTo>
                              <a:pt x="1068" y="189"/>
                            </a:lnTo>
                          </a:path>
                        </a:pathLst>
                      </a:custGeom>
                      <a:ln w="25560">
                        <a:solidFill>
                          <a:srgbClr val="a6ffff"/>
                        </a:solidFill>
                        <a:round/>
                      </a:ln>
                    </p:spPr>
                    <p:txBody>
                      <a:bodyPr lIns="102600" rIns="102600" tIns="57600" bIns="57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863640" y="5719680"/>
                        <a:ext cx="189360" cy="3733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fill="none" w="526" h="1037">
                            <a:moveTo>
                              <a:pt x="0" y="0"/>
                            </a:moveTo>
                            <a:lnTo>
                              <a:pt x="88" y="66"/>
                            </a:lnTo>
                            <a:lnTo>
                              <a:pt x="195" y="145"/>
                            </a:lnTo>
                            <a:lnTo>
                              <a:pt x="292" y="286"/>
                            </a:lnTo>
                            <a:lnTo>
                              <a:pt x="380" y="414"/>
                            </a:lnTo>
                            <a:lnTo>
                              <a:pt x="456" y="543"/>
                            </a:lnTo>
                            <a:lnTo>
                              <a:pt x="491" y="649"/>
                            </a:lnTo>
                            <a:lnTo>
                              <a:pt x="513" y="750"/>
                            </a:lnTo>
                            <a:lnTo>
                              <a:pt x="526" y="891"/>
                            </a:lnTo>
                            <a:lnTo>
                              <a:pt x="526" y="1037"/>
                            </a:lnTo>
                          </a:path>
                        </a:pathLst>
                      </a:custGeom>
                      <a:ln w="12600">
                        <a:solidFill>
                          <a:srgbClr val="a6ffff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3" name=""/>
                    <p:cNvGrpSpPr/>
                    <p:nvPr/>
                  </p:nvGrpSpPr>
                  <p:grpSpPr>
                    <a:xfrm>
                      <a:off x="566640" y="4525920"/>
                      <a:ext cx="1167120" cy="2027880"/>
                      <a:chOff x="566640" y="4525920"/>
                      <a:chExt cx="1167120" cy="2027880"/>
                    </a:xfrm>
                  </p:grpSpPr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566640" y="5654520"/>
                        <a:ext cx="338400" cy="668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940" h="1857">
                            <a:moveTo>
                              <a:pt x="927" y="291"/>
                            </a:moveTo>
                            <a:lnTo>
                              <a:pt x="858" y="165"/>
                            </a:lnTo>
                            <a:lnTo>
                              <a:pt x="828" y="121"/>
                            </a:lnTo>
                            <a:lnTo>
                              <a:pt x="764" y="78"/>
                            </a:lnTo>
                            <a:lnTo>
                              <a:pt x="700" y="43"/>
                            </a:lnTo>
                            <a:lnTo>
                              <a:pt x="614" y="8"/>
                            </a:lnTo>
                            <a:lnTo>
                              <a:pt x="537" y="0"/>
                            </a:lnTo>
                            <a:lnTo>
                              <a:pt x="467" y="17"/>
                            </a:lnTo>
                            <a:lnTo>
                              <a:pt x="386" y="34"/>
                            </a:lnTo>
                            <a:lnTo>
                              <a:pt x="300" y="69"/>
                            </a:lnTo>
                            <a:lnTo>
                              <a:pt x="244" y="139"/>
                            </a:lnTo>
                            <a:lnTo>
                              <a:pt x="188" y="239"/>
                            </a:lnTo>
                            <a:lnTo>
                              <a:pt x="132" y="317"/>
                            </a:lnTo>
                            <a:lnTo>
                              <a:pt x="90" y="395"/>
                            </a:lnTo>
                            <a:lnTo>
                              <a:pt x="34" y="504"/>
                            </a:lnTo>
                            <a:lnTo>
                              <a:pt x="0" y="726"/>
                            </a:lnTo>
                            <a:lnTo>
                              <a:pt x="12" y="891"/>
                            </a:lnTo>
                            <a:lnTo>
                              <a:pt x="55" y="1140"/>
                            </a:lnTo>
                            <a:lnTo>
                              <a:pt x="132" y="1353"/>
                            </a:lnTo>
                            <a:lnTo>
                              <a:pt x="300" y="1857"/>
                            </a:lnTo>
                            <a:lnTo>
                              <a:pt x="235" y="1314"/>
                            </a:lnTo>
                            <a:lnTo>
                              <a:pt x="201" y="1127"/>
                            </a:lnTo>
                            <a:lnTo>
                              <a:pt x="175" y="961"/>
                            </a:lnTo>
                            <a:lnTo>
                              <a:pt x="162" y="786"/>
                            </a:lnTo>
                            <a:lnTo>
                              <a:pt x="188" y="591"/>
                            </a:lnTo>
                            <a:lnTo>
                              <a:pt x="210" y="443"/>
                            </a:lnTo>
                            <a:lnTo>
                              <a:pt x="257" y="256"/>
                            </a:lnTo>
                            <a:lnTo>
                              <a:pt x="321" y="165"/>
                            </a:lnTo>
                            <a:lnTo>
                              <a:pt x="411" y="134"/>
                            </a:lnTo>
                            <a:lnTo>
                              <a:pt x="644" y="113"/>
                            </a:lnTo>
                            <a:lnTo>
                              <a:pt x="785" y="178"/>
                            </a:lnTo>
                            <a:lnTo>
                              <a:pt x="940" y="313"/>
                            </a:lnTo>
                            <a:lnTo>
                              <a:pt x="927" y="291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809640" y="5180040"/>
                        <a:ext cx="346320" cy="65448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962" h="1818">
                            <a:moveTo>
                              <a:pt x="278" y="1818"/>
                            </a:moveTo>
                            <a:lnTo>
                              <a:pt x="210" y="1501"/>
                            </a:lnTo>
                            <a:lnTo>
                              <a:pt x="180" y="1371"/>
                            </a:lnTo>
                            <a:lnTo>
                              <a:pt x="115" y="1209"/>
                            </a:lnTo>
                            <a:lnTo>
                              <a:pt x="47" y="1048"/>
                            </a:lnTo>
                            <a:lnTo>
                              <a:pt x="8" y="957"/>
                            </a:lnTo>
                            <a:lnTo>
                              <a:pt x="0" y="865"/>
                            </a:lnTo>
                            <a:lnTo>
                              <a:pt x="17" y="726"/>
                            </a:lnTo>
                            <a:lnTo>
                              <a:pt x="30" y="592"/>
                            </a:lnTo>
                            <a:lnTo>
                              <a:pt x="133" y="252"/>
                            </a:lnTo>
                            <a:lnTo>
                              <a:pt x="180" y="169"/>
                            </a:lnTo>
                            <a:lnTo>
                              <a:pt x="270" y="78"/>
                            </a:lnTo>
                            <a:lnTo>
                              <a:pt x="347" y="21"/>
                            </a:lnTo>
                            <a:lnTo>
                              <a:pt x="442" y="0"/>
                            </a:lnTo>
                            <a:lnTo>
                              <a:pt x="524" y="39"/>
                            </a:lnTo>
                            <a:lnTo>
                              <a:pt x="623" y="78"/>
                            </a:lnTo>
                            <a:lnTo>
                              <a:pt x="721" y="186"/>
                            </a:lnTo>
                            <a:lnTo>
                              <a:pt x="756" y="260"/>
                            </a:lnTo>
                            <a:lnTo>
                              <a:pt x="816" y="373"/>
                            </a:lnTo>
                            <a:lnTo>
                              <a:pt x="867" y="466"/>
                            </a:lnTo>
                            <a:lnTo>
                              <a:pt x="953" y="939"/>
                            </a:lnTo>
                            <a:lnTo>
                              <a:pt x="962" y="1031"/>
                            </a:lnTo>
                            <a:lnTo>
                              <a:pt x="945" y="1187"/>
                            </a:lnTo>
                            <a:lnTo>
                              <a:pt x="893" y="1636"/>
                            </a:lnTo>
                            <a:lnTo>
                              <a:pt x="893" y="1196"/>
                            </a:lnTo>
                            <a:lnTo>
                              <a:pt x="867" y="1000"/>
                            </a:lnTo>
                            <a:lnTo>
                              <a:pt x="846" y="883"/>
                            </a:lnTo>
                            <a:lnTo>
                              <a:pt x="807" y="726"/>
                            </a:lnTo>
                            <a:lnTo>
                              <a:pt x="769" y="570"/>
                            </a:lnTo>
                            <a:lnTo>
                              <a:pt x="709" y="417"/>
                            </a:lnTo>
                            <a:lnTo>
                              <a:pt x="640" y="278"/>
                            </a:lnTo>
                            <a:lnTo>
                              <a:pt x="584" y="152"/>
                            </a:lnTo>
                            <a:lnTo>
                              <a:pt x="524" y="78"/>
                            </a:lnTo>
                            <a:lnTo>
                              <a:pt x="454" y="52"/>
                            </a:lnTo>
                            <a:lnTo>
                              <a:pt x="386" y="78"/>
                            </a:lnTo>
                            <a:lnTo>
                              <a:pt x="339" y="143"/>
                            </a:lnTo>
                            <a:lnTo>
                              <a:pt x="308" y="260"/>
                            </a:lnTo>
                            <a:lnTo>
                              <a:pt x="308" y="352"/>
                            </a:lnTo>
                            <a:lnTo>
                              <a:pt x="287" y="522"/>
                            </a:lnTo>
                            <a:lnTo>
                              <a:pt x="257" y="618"/>
                            </a:lnTo>
                            <a:lnTo>
                              <a:pt x="188" y="783"/>
                            </a:lnTo>
                            <a:lnTo>
                              <a:pt x="180" y="865"/>
                            </a:lnTo>
                            <a:lnTo>
                              <a:pt x="167" y="948"/>
                            </a:lnTo>
                            <a:lnTo>
                              <a:pt x="167" y="1070"/>
                            </a:lnTo>
                            <a:lnTo>
                              <a:pt x="287" y="1475"/>
                            </a:lnTo>
                            <a:lnTo>
                              <a:pt x="278" y="1818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6" name=""/>
                      <p:cNvGrpSpPr/>
                      <p:nvPr/>
                    </p:nvGrpSpPr>
                    <p:grpSpPr>
                      <a:xfrm>
                        <a:off x="1155600" y="4525920"/>
                        <a:ext cx="578160" cy="952920"/>
                        <a:chOff x="1155600" y="4525920"/>
                        <a:chExt cx="578160" cy="952920"/>
                      </a:xfrm>
                    </p:grpSpPr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>
                          <a:off x="1155600" y="4525920"/>
                          <a:ext cx="303480" cy="9482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843" h="2634">
                              <a:moveTo>
                                <a:pt x="749" y="205"/>
                              </a:moveTo>
                              <a:lnTo>
                                <a:pt x="766" y="61"/>
                              </a:lnTo>
                              <a:lnTo>
                                <a:pt x="843" y="48"/>
                              </a:lnTo>
                              <a:lnTo>
                                <a:pt x="757" y="0"/>
                              </a:lnTo>
                              <a:lnTo>
                                <a:pt x="727" y="4"/>
                              </a:lnTo>
                              <a:lnTo>
                                <a:pt x="667" y="21"/>
                              </a:lnTo>
                              <a:lnTo>
                                <a:pt x="663" y="65"/>
                              </a:lnTo>
                              <a:lnTo>
                                <a:pt x="620" y="91"/>
                              </a:lnTo>
                              <a:lnTo>
                                <a:pt x="188" y="471"/>
                              </a:lnTo>
                              <a:lnTo>
                                <a:pt x="0" y="580"/>
                              </a:lnTo>
                              <a:lnTo>
                                <a:pt x="179" y="467"/>
                              </a:lnTo>
                              <a:lnTo>
                                <a:pt x="509" y="235"/>
                              </a:lnTo>
                              <a:lnTo>
                                <a:pt x="620" y="200"/>
                              </a:lnTo>
                              <a:lnTo>
                                <a:pt x="522" y="301"/>
                              </a:lnTo>
                              <a:lnTo>
                                <a:pt x="620" y="309"/>
                              </a:lnTo>
                              <a:lnTo>
                                <a:pt x="76" y="716"/>
                              </a:lnTo>
                              <a:lnTo>
                                <a:pt x="445" y="458"/>
                              </a:lnTo>
                              <a:lnTo>
                                <a:pt x="625" y="384"/>
                              </a:lnTo>
                              <a:lnTo>
                                <a:pt x="620" y="440"/>
                              </a:lnTo>
                              <a:lnTo>
                                <a:pt x="552" y="523"/>
                              </a:lnTo>
                              <a:lnTo>
                                <a:pt x="509" y="593"/>
                              </a:lnTo>
                              <a:lnTo>
                                <a:pt x="380" y="747"/>
                              </a:lnTo>
                              <a:lnTo>
                                <a:pt x="171" y="904"/>
                              </a:lnTo>
                              <a:lnTo>
                                <a:pt x="316" y="795"/>
                              </a:lnTo>
                              <a:lnTo>
                                <a:pt x="492" y="637"/>
                              </a:lnTo>
                              <a:lnTo>
                                <a:pt x="552" y="567"/>
                              </a:lnTo>
                              <a:lnTo>
                                <a:pt x="620" y="502"/>
                              </a:lnTo>
                              <a:lnTo>
                                <a:pt x="586" y="506"/>
                              </a:lnTo>
                              <a:lnTo>
                                <a:pt x="642" y="545"/>
                              </a:lnTo>
                              <a:lnTo>
                                <a:pt x="578" y="593"/>
                              </a:lnTo>
                              <a:lnTo>
                                <a:pt x="492" y="725"/>
                              </a:lnTo>
                              <a:lnTo>
                                <a:pt x="389" y="869"/>
                              </a:lnTo>
                              <a:lnTo>
                                <a:pt x="277" y="978"/>
                              </a:lnTo>
                              <a:lnTo>
                                <a:pt x="467" y="747"/>
                              </a:lnTo>
                              <a:lnTo>
                                <a:pt x="552" y="637"/>
                              </a:lnTo>
                              <a:lnTo>
                                <a:pt x="620" y="545"/>
                              </a:lnTo>
                              <a:lnTo>
                                <a:pt x="642" y="545"/>
                              </a:lnTo>
                              <a:lnTo>
                                <a:pt x="595" y="682"/>
                              </a:lnTo>
                              <a:lnTo>
                                <a:pt x="650" y="646"/>
                              </a:lnTo>
                              <a:lnTo>
                                <a:pt x="620" y="725"/>
                              </a:lnTo>
                              <a:lnTo>
                                <a:pt x="552" y="813"/>
                              </a:lnTo>
                              <a:lnTo>
                                <a:pt x="277" y="1048"/>
                              </a:lnTo>
                              <a:lnTo>
                                <a:pt x="141" y="1162"/>
                              </a:lnTo>
                              <a:lnTo>
                                <a:pt x="552" y="843"/>
                              </a:lnTo>
                              <a:lnTo>
                                <a:pt x="599" y="795"/>
                              </a:lnTo>
                              <a:lnTo>
                                <a:pt x="642" y="725"/>
                              </a:lnTo>
                              <a:lnTo>
                                <a:pt x="591" y="878"/>
                              </a:lnTo>
                              <a:lnTo>
                                <a:pt x="672" y="817"/>
                              </a:lnTo>
                              <a:lnTo>
                                <a:pt x="599" y="1022"/>
                              </a:lnTo>
                              <a:lnTo>
                                <a:pt x="578" y="1066"/>
                              </a:lnTo>
                              <a:lnTo>
                                <a:pt x="552" y="1092"/>
                              </a:lnTo>
                              <a:lnTo>
                                <a:pt x="441" y="1205"/>
                              </a:lnTo>
                              <a:lnTo>
                                <a:pt x="320" y="1306"/>
                              </a:lnTo>
                              <a:lnTo>
                                <a:pt x="98" y="1485"/>
                              </a:lnTo>
                              <a:lnTo>
                                <a:pt x="337" y="1275"/>
                              </a:lnTo>
                              <a:lnTo>
                                <a:pt x="492" y="1162"/>
                              </a:lnTo>
                              <a:lnTo>
                                <a:pt x="586" y="1035"/>
                              </a:lnTo>
                              <a:lnTo>
                                <a:pt x="659" y="983"/>
                              </a:lnTo>
                              <a:lnTo>
                                <a:pt x="672" y="992"/>
                              </a:lnTo>
                              <a:lnTo>
                                <a:pt x="226" y="1515"/>
                              </a:lnTo>
                              <a:lnTo>
                                <a:pt x="569" y="1157"/>
                              </a:lnTo>
                              <a:lnTo>
                                <a:pt x="655" y="1140"/>
                              </a:lnTo>
                              <a:lnTo>
                                <a:pt x="556" y="1336"/>
                              </a:lnTo>
                              <a:lnTo>
                                <a:pt x="642" y="1293"/>
                              </a:lnTo>
                              <a:lnTo>
                                <a:pt x="514" y="1507"/>
                              </a:lnTo>
                              <a:lnTo>
                                <a:pt x="428" y="1642"/>
                              </a:lnTo>
                              <a:lnTo>
                                <a:pt x="277" y="1756"/>
                              </a:lnTo>
                              <a:lnTo>
                                <a:pt x="59" y="1895"/>
                              </a:lnTo>
                              <a:lnTo>
                                <a:pt x="230" y="1804"/>
                              </a:lnTo>
                              <a:lnTo>
                                <a:pt x="380" y="1694"/>
                              </a:lnTo>
                              <a:lnTo>
                                <a:pt x="445" y="1620"/>
                              </a:lnTo>
                              <a:lnTo>
                                <a:pt x="543" y="1485"/>
                              </a:lnTo>
                              <a:lnTo>
                                <a:pt x="642" y="1350"/>
                              </a:lnTo>
                              <a:lnTo>
                                <a:pt x="539" y="1542"/>
                              </a:lnTo>
                              <a:lnTo>
                                <a:pt x="620" y="1472"/>
                              </a:lnTo>
                              <a:lnTo>
                                <a:pt x="535" y="1625"/>
                              </a:lnTo>
                              <a:lnTo>
                                <a:pt x="608" y="1594"/>
                              </a:lnTo>
                              <a:lnTo>
                                <a:pt x="526" y="1773"/>
                              </a:lnTo>
                              <a:lnTo>
                                <a:pt x="620" y="1708"/>
                              </a:lnTo>
                              <a:lnTo>
                                <a:pt x="535" y="1804"/>
                              </a:lnTo>
                              <a:lnTo>
                                <a:pt x="428" y="1943"/>
                              </a:lnTo>
                              <a:lnTo>
                                <a:pt x="337" y="1984"/>
                              </a:lnTo>
                              <a:lnTo>
                                <a:pt x="72" y="2154"/>
                              </a:lnTo>
                              <a:lnTo>
                                <a:pt x="94" y="2132"/>
                              </a:lnTo>
                              <a:lnTo>
                                <a:pt x="316" y="1988"/>
                              </a:lnTo>
                              <a:lnTo>
                                <a:pt x="535" y="1852"/>
                              </a:lnTo>
                              <a:lnTo>
                                <a:pt x="599" y="1782"/>
                              </a:lnTo>
                              <a:lnTo>
                                <a:pt x="514" y="1921"/>
                              </a:lnTo>
                              <a:lnTo>
                                <a:pt x="578" y="1895"/>
                              </a:lnTo>
                              <a:lnTo>
                                <a:pt x="535" y="1965"/>
                              </a:lnTo>
                              <a:lnTo>
                                <a:pt x="514" y="2058"/>
                              </a:lnTo>
                              <a:lnTo>
                                <a:pt x="552" y="2032"/>
                              </a:lnTo>
                              <a:lnTo>
                                <a:pt x="505" y="2110"/>
                              </a:lnTo>
                              <a:lnTo>
                                <a:pt x="337" y="2246"/>
                              </a:lnTo>
                              <a:lnTo>
                                <a:pt x="230" y="2263"/>
                              </a:lnTo>
                              <a:lnTo>
                                <a:pt x="98" y="2289"/>
                              </a:lnTo>
                              <a:lnTo>
                                <a:pt x="359" y="2219"/>
                              </a:lnTo>
                              <a:lnTo>
                                <a:pt x="535" y="2101"/>
                              </a:lnTo>
                              <a:lnTo>
                                <a:pt x="578" y="2014"/>
                              </a:lnTo>
                              <a:lnTo>
                                <a:pt x="514" y="2211"/>
                              </a:lnTo>
                              <a:lnTo>
                                <a:pt x="586" y="2163"/>
                              </a:lnTo>
                              <a:lnTo>
                                <a:pt x="539" y="2267"/>
                              </a:lnTo>
                              <a:lnTo>
                                <a:pt x="467" y="2407"/>
                              </a:lnTo>
                              <a:lnTo>
                                <a:pt x="34" y="2634"/>
                              </a:lnTo>
                              <a:lnTo>
                                <a:pt x="471" y="2425"/>
                              </a:lnTo>
                              <a:lnTo>
                                <a:pt x="514" y="2355"/>
                              </a:lnTo>
                              <a:lnTo>
                                <a:pt x="539" y="2311"/>
                              </a:lnTo>
                              <a:lnTo>
                                <a:pt x="616" y="2254"/>
                              </a:lnTo>
                              <a:lnTo>
                                <a:pt x="659" y="2355"/>
                              </a:lnTo>
                              <a:lnTo>
                                <a:pt x="672" y="2163"/>
                              </a:lnTo>
                              <a:lnTo>
                                <a:pt x="749" y="20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6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>
                          <a:off x="1387440" y="4525920"/>
                          <a:ext cx="346320" cy="9529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962" h="2647">
                              <a:moveTo>
                                <a:pt x="0" y="2307"/>
                              </a:moveTo>
                              <a:lnTo>
                                <a:pt x="8" y="2193"/>
                              </a:lnTo>
                              <a:lnTo>
                                <a:pt x="72" y="2259"/>
                              </a:lnTo>
                              <a:lnTo>
                                <a:pt x="42" y="2097"/>
                              </a:lnTo>
                              <a:lnTo>
                                <a:pt x="115" y="2119"/>
                              </a:lnTo>
                              <a:lnTo>
                                <a:pt x="351" y="2647"/>
                              </a:lnTo>
                              <a:lnTo>
                                <a:pt x="133" y="2193"/>
                              </a:lnTo>
                              <a:lnTo>
                                <a:pt x="107" y="2115"/>
                              </a:lnTo>
                              <a:lnTo>
                                <a:pt x="90" y="2036"/>
                              </a:lnTo>
                              <a:lnTo>
                                <a:pt x="133" y="2054"/>
                              </a:lnTo>
                              <a:lnTo>
                                <a:pt x="244" y="2219"/>
                              </a:lnTo>
                              <a:lnTo>
                                <a:pt x="330" y="2429"/>
                              </a:lnTo>
                              <a:lnTo>
                                <a:pt x="201" y="2119"/>
                              </a:lnTo>
                              <a:lnTo>
                                <a:pt x="124" y="2032"/>
                              </a:lnTo>
                              <a:lnTo>
                                <a:pt x="115" y="1904"/>
                              </a:lnTo>
                              <a:lnTo>
                                <a:pt x="163" y="1943"/>
                              </a:lnTo>
                              <a:lnTo>
                                <a:pt x="154" y="1799"/>
                              </a:lnTo>
                              <a:lnTo>
                                <a:pt x="201" y="1847"/>
                              </a:lnTo>
                              <a:lnTo>
                                <a:pt x="420" y="2329"/>
                              </a:lnTo>
                              <a:lnTo>
                                <a:pt x="180" y="1777"/>
                              </a:lnTo>
                              <a:lnTo>
                                <a:pt x="154" y="1686"/>
                              </a:lnTo>
                              <a:lnTo>
                                <a:pt x="223" y="1738"/>
                              </a:lnTo>
                              <a:lnTo>
                                <a:pt x="394" y="2010"/>
                              </a:lnTo>
                              <a:lnTo>
                                <a:pt x="201" y="1734"/>
                              </a:lnTo>
                              <a:lnTo>
                                <a:pt x="133" y="1594"/>
                              </a:lnTo>
                              <a:lnTo>
                                <a:pt x="201" y="1642"/>
                              </a:lnTo>
                              <a:lnTo>
                                <a:pt x="154" y="1550"/>
                              </a:lnTo>
                              <a:lnTo>
                                <a:pt x="223" y="1572"/>
                              </a:lnTo>
                              <a:lnTo>
                                <a:pt x="283" y="1734"/>
                              </a:lnTo>
                              <a:lnTo>
                                <a:pt x="442" y="1808"/>
                              </a:lnTo>
                              <a:lnTo>
                                <a:pt x="266" y="1686"/>
                              </a:lnTo>
                              <a:lnTo>
                                <a:pt x="201" y="1550"/>
                              </a:lnTo>
                              <a:lnTo>
                                <a:pt x="180" y="1476"/>
                              </a:lnTo>
                              <a:lnTo>
                                <a:pt x="240" y="1550"/>
                              </a:lnTo>
                              <a:lnTo>
                                <a:pt x="201" y="1389"/>
                              </a:lnTo>
                              <a:lnTo>
                                <a:pt x="240" y="1406"/>
                              </a:lnTo>
                              <a:lnTo>
                                <a:pt x="274" y="1485"/>
                              </a:lnTo>
                              <a:lnTo>
                                <a:pt x="476" y="1590"/>
                              </a:lnTo>
                              <a:lnTo>
                                <a:pt x="343" y="1511"/>
                              </a:lnTo>
                              <a:lnTo>
                                <a:pt x="304" y="1481"/>
                              </a:lnTo>
                              <a:lnTo>
                                <a:pt x="210" y="1319"/>
                              </a:lnTo>
                              <a:lnTo>
                                <a:pt x="240" y="1350"/>
                              </a:lnTo>
                              <a:lnTo>
                                <a:pt x="223" y="1249"/>
                              </a:lnTo>
                              <a:lnTo>
                                <a:pt x="214" y="1267"/>
                              </a:lnTo>
                              <a:lnTo>
                                <a:pt x="304" y="1310"/>
                              </a:lnTo>
                              <a:lnTo>
                                <a:pt x="240" y="1201"/>
                              </a:lnTo>
                              <a:lnTo>
                                <a:pt x="308" y="1227"/>
                              </a:lnTo>
                              <a:lnTo>
                                <a:pt x="649" y="1367"/>
                              </a:lnTo>
                              <a:lnTo>
                                <a:pt x="313" y="1201"/>
                              </a:lnTo>
                              <a:lnTo>
                                <a:pt x="257" y="1114"/>
                              </a:lnTo>
                              <a:lnTo>
                                <a:pt x="339" y="1162"/>
                              </a:lnTo>
                              <a:lnTo>
                                <a:pt x="240" y="992"/>
                              </a:lnTo>
                              <a:lnTo>
                                <a:pt x="308" y="1005"/>
                              </a:lnTo>
                              <a:lnTo>
                                <a:pt x="266" y="922"/>
                              </a:lnTo>
                              <a:lnTo>
                                <a:pt x="270" y="904"/>
                              </a:lnTo>
                              <a:lnTo>
                                <a:pt x="356" y="974"/>
                              </a:lnTo>
                              <a:lnTo>
                                <a:pt x="274" y="852"/>
                              </a:lnTo>
                              <a:lnTo>
                                <a:pt x="339" y="852"/>
                              </a:lnTo>
                              <a:lnTo>
                                <a:pt x="266" y="769"/>
                              </a:lnTo>
                              <a:lnTo>
                                <a:pt x="308" y="769"/>
                              </a:lnTo>
                              <a:lnTo>
                                <a:pt x="266" y="721"/>
                              </a:lnTo>
                              <a:lnTo>
                                <a:pt x="330" y="721"/>
                              </a:lnTo>
                              <a:lnTo>
                                <a:pt x="467" y="817"/>
                              </a:lnTo>
                              <a:lnTo>
                                <a:pt x="833" y="957"/>
                              </a:lnTo>
                              <a:lnTo>
                                <a:pt x="631" y="904"/>
                              </a:lnTo>
                              <a:lnTo>
                                <a:pt x="524" y="839"/>
                              </a:lnTo>
                              <a:lnTo>
                                <a:pt x="356" y="751"/>
                              </a:lnTo>
                              <a:lnTo>
                                <a:pt x="330" y="721"/>
                              </a:lnTo>
                              <a:lnTo>
                                <a:pt x="283" y="633"/>
                              </a:lnTo>
                              <a:lnTo>
                                <a:pt x="351" y="654"/>
                              </a:lnTo>
                              <a:lnTo>
                                <a:pt x="274" y="510"/>
                              </a:lnTo>
                              <a:lnTo>
                                <a:pt x="321" y="510"/>
                              </a:lnTo>
                              <a:lnTo>
                                <a:pt x="266" y="406"/>
                              </a:lnTo>
                              <a:lnTo>
                                <a:pt x="330" y="406"/>
                              </a:lnTo>
                              <a:lnTo>
                                <a:pt x="373" y="454"/>
                              </a:lnTo>
                              <a:lnTo>
                                <a:pt x="524" y="532"/>
                              </a:lnTo>
                              <a:lnTo>
                                <a:pt x="962" y="703"/>
                              </a:lnTo>
                              <a:lnTo>
                                <a:pt x="480" y="493"/>
                              </a:lnTo>
                              <a:lnTo>
                                <a:pt x="373" y="445"/>
                              </a:lnTo>
                              <a:lnTo>
                                <a:pt x="351" y="406"/>
                              </a:lnTo>
                              <a:lnTo>
                                <a:pt x="283" y="336"/>
                              </a:lnTo>
                              <a:lnTo>
                                <a:pt x="330" y="358"/>
                              </a:lnTo>
                              <a:lnTo>
                                <a:pt x="223" y="266"/>
                              </a:lnTo>
                              <a:lnTo>
                                <a:pt x="266" y="292"/>
                              </a:lnTo>
                              <a:lnTo>
                                <a:pt x="364" y="288"/>
                              </a:lnTo>
                              <a:lnTo>
                                <a:pt x="649" y="410"/>
                              </a:lnTo>
                              <a:lnTo>
                                <a:pt x="351" y="292"/>
                              </a:lnTo>
                              <a:lnTo>
                                <a:pt x="266" y="200"/>
                              </a:lnTo>
                              <a:lnTo>
                                <a:pt x="351" y="200"/>
                              </a:lnTo>
                              <a:lnTo>
                                <a:pt x="769" y="344"/>
                              </a:lnTo>
                              <a:lnTo>
                                <a:pt x="463" y="218"/>
                              </a:lnTo>
                              <a:lnTo>
                                <a:pt x="330" y="200"/>
                              </a:lnTo>
                              <a:lnTo>
                                <a:pt x="283" y="148"/>
                              </a:lnTo>
                              <a:lnTo>
                                <a:pt x="240" y="78"/>
                              </a:lnTo>
                              <a:lnTo>
                                <a:pt x="141" y="0"/>
                              </a:lnTo>
                              <a:lnTo>
                                <a:pt x="115" y="34"/>
                              </a:lnTo>
                              <a:lnTo>
                                <a:pt x="90" y="8"/>
                              </a:lnTo>
                              <a:lnTo>
                                <a:pt x="0" y="230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6ffff"/>
                        </a:solidFill>
                        <a:ln w="0">
                          <a:noFill/>
                        </a:ln>
                      </p:spPr>
                      <p:txBody>
                        <a:bodyPr lIns="90000" rIns="90000" tIns="45000" bIns="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1395360" y="5478480"/>
                        <a:ext cx="114840" cy="7290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19" h="2025">
                            <a:moveTo>
                              <a:pt x="61" y="0"/>
                            </a:moveTo>
                            <a:lnTo>
                              <a:pt x="127" y="156"/>
                            </a:lnTo>
                            <a:lnTo>
                              <a:pt x="188" y="400"/>
                            </a:lnTo>
                            <a:lnTo>
                              <a:pt x="254" y="739"/>
                            </a:lnTo>
                            <a:lnTo>
                              <a:pt x="319" y="1171"/>
                            </a:lnTo>
                            <a:lnTo>
                              <a:pt x="319" y="1628"/>
                            </a:lnTo>
                            <a:lnTo>
                              <a:pt x="286" y="2025"/>
                            </a:lnTo>
                            <a:lnTo>
                              <a:pt x="254" y="2025"/>
                            </a:lnTo>
                            <a:lnTo>
                              <a:pt x="286" y="1628"/>
                            </a:lnTo>
                            <a:lnTo>
                              <a:pt x="286" y="1289"/>
                            </a:lnTo>
                            <a:lnTo>
                              <a:pt x="220" y="922"/>
                            </a:lnTo>
                            <a:lnTo>
                              <a:pt x="127" y="557"/>
                            </a:lnTo>
                            <a:lnTo>
                              <a:pt x="0" y="95"/>
                            </a:lnTo>
                            <a:lnTo>
                              <a:pt x="61" y="0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1012680" y="6202440"/>
                        <a:ext cx="298800" cy="35136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830" h="976">
                            <a:moveTo>
                              <a:pt x="830" y="976"/>
                            </a:moveTo>
                            <a:lnTo>
                              <a:pt x="706" y="766"/>
                            </a:lnTo>
                            <a:lnTo>
                              <a:pt x="603" y="520"/>
                            </a:lnTo>
                            <a:lnTo>
                              <a:pt x="547" y="413"/>
                            </a:lnTo>
                            <a:lnTo>
                              <a:pt x="471" y="292"/>
                            </a:lnTo>
                            <a:lnTo>
                              <a:pt x="367" y="163"/>
                            </a:lnTo>
                            <a:lnTo>
                              <a:pt x="294" y="81"/>
                            </a:lnTo>
                            <a:lnTo>
                              <a:pt x="239" y="42"/>
                            </a:lnTo>
                            <a:lnTo>
                              <a:pt x="162" y="12"/>
                            </a:lnTo>
                            <a:lnTo>
                              <a:pt x="76" y="0"/>
                            </a:lnTo>
                            <a:lnTo>
                              <a:pt x="38" y="25"/>
                            </a:lnTo>
                            <a:lnTo>
                              <a:pt x="0" y="90"/>
                            </a:lnTo>
                            <a:lnTo>
                              <a:pt x="830" y="976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1370160" y="4927680"/>
                    <a:ext cx="1124280" cy="1749600"/>
                    <a:chOff x="1370160" y="4927680"/>
                    <a:chExt cx="1124280" cy="174960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1924200" y="4933800"/>
                      <a:ext cx="265320" cy="17434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737" h="4843">
                          <a:moveTo>
                            <a:pt x="733" y="4843"/>
                          </a:moveTo>
                          <a:lnTo>
                            <a:pt x="737" y="4147"/>
                          </a:lnTo>
                          <a:lnTo>
                            <a:pt x="737" y="3825"/>
                          </a:lnTo>
                          <a:lnTo>
                            <a:pt x="719" y="3594"/>
                          </a:lnTo>
                          <a:lnTo>
                            <a:pt x="710" y="3321"/>
                          </a:lnTo>
                          <a:lnTo>
                            <a:pt x="715" y="3034"/>
                          </a:lnTo>
                          <a:lnTo>
                            <a:pt x="706" y="2801"/>
                          </a:lnTo>
                          <a:lnTo>
                            <a:pt x="688" y="2585"/>
                          </a:lnTo>
                          <a:lnTo>
                            <a:pt x="662" y="2201"/>
                          </a:lnTo>
                          <a:lnTo>
                            <a:pt x="627" y="1786"/>
                          </a:lnTo>
                          <a:lnTo>
                            <a:pt x="583" y="1363"/>
                          </a:lnTo>
                          <a:lnTo>
                            <a:pt x="543" y="912"/>
                          </a:lnTo>
                          <a:lnTo>
                            <a:pt x="512" y="643"/>
                          </a:lnTo>
                          <a:lnTo>
                            <a:pt x="486" y="537"/>
                          </a:lnTo>
                          <a:lnTo>
                            <a:pt x="415" y="357"/>
                          </a:lnTo>
                          <a:lnTo>
                            <a:pt x="352" y="224"/>
                          </a:lnTo>
                          <a:lnTo>
                            <a:pt x="282" y="114"/>
                          </a:lnTo>
                          <a:lnTo>
                            <a:pt x="207" y="26"/>
                          </a:lnTo>
                          <a:lnTo>
                            <a:pt x="154" y="4"/>
                          </a:lnTo>
                          <a:lnTo>
                            <a:pt x="83" y="0"/>
                          </a:lnTo>
                          <a:lnTo>
                            <a:pt x="30" y="30"/>
                          </a:lnTo>
                          <a:lnTo>
                            <a:pt x="0" y="79"/>
                          </a:lnTo>
                        </a:path>
                      </a:pathLst>
                    </a:custGeom>
                    <a:ln w="25560">
                      <a:solidFill>
                        <a:srgbClr val="a6ffff"/>
                      </a:solidFill>
                      <a:round/>
                    </a:ln>
                  </p:spPr>
                  <p:txBody>
                    <a:bodyPr lIns="102600" rIns="102600" tIns="57600" bIns="57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370160" y="4927680"/>
                      <a:ext cx="741600" cy="1251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060" h="3476">
                          <a:moveTo>
                            <a:pt x="1677" y="0"/>
                          </a:moveTo>
                          <a:lnTo>
                            <a:pt x="1572" y="13"/>
                          </a:lnTo>
                          <a:lnTo>
                            <a:pt x="1254" y="78"/>
                          </a:lnTo>
                          <a:lnTo>
                            <a:pt x="1524" y="56"/>
                          </a:lnTo>
                          <a:lnTo>
                            <a:pt x="1437" y="96"/>
                          </a:lnTo>
                          <a:lnTo>
                            <a:pt x="1341" y="148"/>
                          </a:lnTo>
                          <a:lnTo>
                            <a:pt x="1001" y="157"/>
                          </a:lnTo>
                          <a:lnTo>
                            <a:pt x="748" y="166"/>
                          </a:lnTo>
                          <a:lnTo>
                            <a:pt x="1001" y="170"/>
                          </a:lnTo>
                          <a:lnTo>
                            <a:pt x="1211" y="166"/>
                          </a:lnTo>
                          <a:lnTo>
                            <a:pt x="1341" y="196"/>
                          </a:lnTo>
                          <a:lnTo>
                            <a:pt x="1246" y="240"/>
                          </a:lnTo>
                          <a:lnTo>
                            <a:pt x="1311" y="258"/>
                          </a:lnTo>
                          <a:lnTo>
                            <a:pt x="1119" y="336"/>
                          </a:lnTo>
                          <a:lnTo>
                            <a:pt x="927" y="350"/>
                          </a:lnTo>
                          <a:lnTo>
                            <a:pt x="587" y="380"/>
                          </a:lnTo>
                          <a:lnTo>
                            <a:pt x="1119" y="354"/>
                          </a:lnTo>
                          <a:lnTo>
                            <a:pt x="1246" y="367"/>
                          </a:lnTo>
                          <a:lnTo>
                            <a:pt x="1023" y="459"/>
                          </a:lnTo>
                          <a:lnTo>
                            <a:pt x="1167" y="459"/>
                          </a:lnTo>
                          <a:lnTo>
                            <a:pt x="918" y="564"/>
                          </a:lnTo>
                          <a:lnTo>
                            <a:pt x="722" y="625"/>
                          </a:lnTo>
                          <a:lnTo>
                            <a:pt x="496" y="735"/>
                          </a:lnTo>
                          <a:lnTo>
                            <a:pt x="936" y="582"/>
                          </a:lnTo>
                          <a:lnTo>
                            <a:pt x="1072" y="590"/>
                          </a:lnTo>
                          <a:lnTo>
                            <a:pt x="857" y="678"/>
                          </a:lnTo>
                          <a:lnTo>
                            <a:pt x="1001" y="695"/>
                          </a:lnTo>
                          <a:lnTo>
                            <a:pt x="827" y="792"/>
                          </a:lnTo>
                          <a:lnTo>
                            <a:pt x="282" y="1016"/>
                          </a:lnTo>
                          <a:lnTo>
                            <a:pt x="827" y="814"/>
                          </a:lnTo>
                          <a:lnTo>
                            <a:pt x="983" y="814"/>
                          </a:lnTo>
                          <a:lnTo>
                            <a:pt x="809" y="941"/>
                          </a:lnTo>
                          <a:lnTo>
                            <a:pt x="936" y="937"/>
                          </a:lnTo>
                          <a:lnTo>
                            <a:pt x="774" y="1086"/>
                          </a:lnTo>
                          <a:lnTo>
                            <a:pt x="169" y="1392"/>
                          </a:lnTo>
                          <a:lnTo>
                            <a:pt x="792" y="1103"/>
                          </a:lnTo>
                          <a:lnTo>
                            <a:pt x="936" y="1055"/>
                          </a:lnTo>
                          <a:lnTo>
                            <a:pt x="827" y="1169"/>
                          </a:lnTo>
                          <a:lnTo>
                            <a:pt x="918" y="1151"/>
                          </a:lnTo>
                          <a:lnTo>
                            <a:pt x="774" y="1305"/>
                          </a:lnTo>
                          <a:lnTo>
                            <a:pt x="531" y="1506"/>
                          </a:lnTo>
                          <a:lnTo>
                            <a:pt x="0" y="1685"/>
                          </a:lnTo>
                          <a:lnTo>
                            <a:pt x="531" y="1528"/>
                          </a:lnTo>
                          <a:lnTo>
                            <a:pt x="792" y="1318"/>
                          </a:lnTo>
                          <a:lnTo>
                            <a:pt x="844" y="1318"/>
                          </a:lnTo>
                          <a:lnTo>
                            <a:pt x="378" y="1909"/>
                          </a:lnTo>
                          <a:lnTo>
                            <a:pt x="883" y="1318"/>
                          </a:lnTo>
                          <a:lnTo>
                            <a:pt x="792" y="1432"/>
                          </a:lnTo>
                          <a:lnTo>
                            <a:pt x="883" y="1392"/>
                          </a:lnTo>
                          <a:lnTo>
                            <a:pt x="735" y="1576"/>
                          </a:lnTo>
                          <a:lnTo>
                            <a:pt x="335" y="1764"/>
                          </a:lnTo>
                          <a:lnTo>
                            <a:pt x="735" y="1602"/>
                          </a:lnTo>
                          <a:lnTo>
                            <a:pt x="857" y="1576"/>
                          </a:lnTo>
                          <a:lnTo>
                            <a:pt x="735" y="1694"/>
                          </a:lnTo>
                          <a:lnTo>
                            <a:pt x="287" y="2281"/>
                          </a:lnTo>
                          <a:lnTo>
                            <a:pt x="618" y="1874"/>
                          </a:lnTo>
                          <a:lnTo>
                            <a:pt x="774" y="1694"/>
                          </a:lnTo>
                          <a:lnTo>
                            <a:pt x="857" y="1672"/>
                          </a:lnTo>
                          <a:lnTo>
                            <a:pt x="753" y="1799"/>
                          </a:lnTo>
                          <a:lnTo>
                            <a:pt x="844" y="1782"/>
                          </a:lnTo>
                          <a:lnTo>
                            <a:pt x="705" y="1935"/>
                          </a:lnTo>
                          <a:lnTo>
                            <a:pt x="635" y="2079"/>
                          </a:lnTo>
                          <a:lnTo>
                            <a:pt x="470" y="2281"/>
                          </a:lnTo>
                          <a:lnTo>
                            <a:pt x="653" y="2092"/>
                          </a:lnTo>
                          <a:lnTo>
                            <a:pt x="735" y="1992"/>
                          </a:lnTo>
                          <a:lnTo>
                            <a:pt x="827" y="1966"/>
                          </a:lnTo>
                          <a:lnTo>
                            <a:pt x="653" y="2228"/>
                          </a:lnTo>
                          <a:lnTo>
                            <a:pt x="844" y="1966"/>
                          </a:lnTo>
                          <a:lnTo>
                            <a:pt x="735" y="2092"/>
                          </a:lnTo>
                          <a:lnTo>
                            <a:pt x="857" y="2062"/>
                          </a:lnTo>
                          <a:lnTo>
                            <a:pt x="853" y="2158"/>
                          </a:lnTo>
                          <a:lnTo>
                            <a:pt x="448" y="2548"/>
                          </a:lnTo>
                          <a:lnTo>
                            <a:pt x="883" y="2171"/>
                          </a:lnTo>
                          <a:lnTo>
                            <a:pt x="844" y="2259"/>
                          </a:lnTo>
                          <a:lnTo>
                            <a:pt x="653" y="2504"/>
                          </a:lnTo>
                          <a:lnTo>
                            <a:pt x="857" y="2285"/>
                          </a:lnTo>
                          <a:lnTo>
                            <a:pt x="918" y="2206"/>
                          </a:lnTo>
                          <a:lnTo>
                            <a:pt x="827" y="2408"/>
                          </a:lnTo>
                          <a:lnTo>
                            <a:pt x="936" y="2368"/>
                          </a:lnTo>
                          <a:lnTo>
                            <a:pt x="896" y="2526"/>
                          </a:lnTo>
                          <a:lnTo>
                            <a:pt x="966" y="2456"/>
                          </a:lnTo>
                          <a:lnTo>
                            <a:pt x="1023" y="2517"/>
                          </a:lnTo>
                          <a:lnTo>
                            <a:pt x="1001" y="2684"/>
                          </a:lnTo>
                          <a:lnTo>
                            <a:pt x="548" y="3476"/>
                          </a:lnTo>
                          <a:lnTo>
                            <a:pt x="1041" y="2684"/>
                          </a:lnTo>
                          <a:lnTo>
                            <a:pt x="1041" y="2504"/>
                          </a:lnTo>
                          <a:lnTo>
                            <a:pt x="1041" y="2399"/>
                          </a:lnTo>
                          <a:lnTo>
                            <a:pt x="1146" y="2456"/>
                          </a:lnTo>
                          <a:lnTo>
                            <a:pt x="1955" y="2982"/>
                          </a:lnTo>
                          <a:lnTo>
                            <a:pt x="1102" y="2408"/>
                          </a:lnTo>
                          <a:lnTo>
                            <a:pt x="1041" y="2259"/>
                          </a:lnTo>
                          <a:lnTo>
                            <a:pt x="1119" y="2285"/>
                          </a:lnTo>
                          <a:lnTo>
                            <a:pt x="1001" y="2110"/>
                          </a:lnTo>
                          <a:lnTo>
                            <a:pt x="1102" y="2176"/>
                          </a:lnTo>
                          <a:lnTo>
                            <a:pt x="1302" y="2434"/>
                          </a:lnTo>
                          <a:lnTo>
                            <a:pt x="1119" y="2158"/>
                          </a:lnTo>
                          <a:lnTo>
                            <a:pt x="1041" y="2049"/>
                          </a:lnTo>
                          <a:lnTo>
                            <a:pt x="1058" y="2049"/>
                          </a:lnTo>
                          <a:lnTo>
                            <a:pt x="1167" y="2110"/>
                          </a:lnTo>
                          <a:lnTo>
                            <a:pt x="1254" y="2167"/>
                          </a:lnTo>
                          <a:lnTo>
                            <a:pt x="2060" y="2355"/>
                          </a:lnTo>
                          <a:lnTo>
                            <a:pt x="1224" y="2123"/>
                          </a:lnTo>
                          <a:lnTo>
                            <a:pt x="1119" y="2062"/>
                          </a:lnTo>
                          <a:lnTo>
                            <a:pt x="1058" y="1926"/>
                          </a:lnTo>
                          <a:lnTo>
                            <a:pt x="1167" y="1926"/>
                          </a:lnTo>
                          <a:lnTo>
                            <a:pt x="1058" y="1799"/>
                          </a:lnTo>
                          <a:lnTo>
                            <a:pt x="1189" y="1847"/>
                          </a:lnTo>
                          <a:lnTo>
                            <a:pt x="1555" y="1948"/>
                          </a:lnTo>
                          <a:lnTo>
                            <a:pt x="1198" y="1821"/>
                          </a:lnTo>
                          <a:lnTo>
                            <a:pt x="1085" y="1672"/>
                          </a:lnTo>
                          <a:lnTo>
                            <a:pt x="1211" y="1712"/>
                          </a:lnTo>
                          <a:lnTo>
                            <a:pt x="1119" y="1598"/>
                          </a:lnTo>
                          <a:lnTo>
                            <a:pt x="1246" y="1672"/>
                          </a:lnTo>
                          <a:lnTo>
                            <a:pt x="1167" y="1493"/>
                          </a:lnTo>
                          <a:lnTo>
                            <a:pt x="1263" y="1585"/>
                          </a:lnTo>
                          <a:lnTo>
                            <a:pt x="1555" y="1830"/>
                          </a:lnTo>
                          <a:lnTo>
                            <a:pt x="1246" y="1585"/>
                          </a:lnTo>
                          <a:lnTo>
                            <a:pt x="1146" y="1357"/>
                          </a:lnTo>
                          <a:lnTo>
                            <a:pt x="1263" y="1401"/>
                          </a:lnTo>
                          <a:lnTo>
                            <a:pt x="1655" y="1611"/>
                          </a:lnTo>
                          <a:lnTo>
                            <a:pt x="1263" y="1392"/>
                          </a:lnTo>
                          <a:lnTo>
                            <a:pt x="1180" y="1200"/>
                          </a:lnTo>
                          <a:lnTo>
                            <a:pt x="1281" y="1235"/>
                          </a:lnTo>
                          <a:lnTo>
                            <a:pt x="1198" y="1125"/>
                          </a:lnTo>
                          <a:lnTo>
                            <a:pt x="1302" y="1165"/>
                          </a:lnTo>
                          <a:lnTo>
                            <a:pt x="1624" y="1699"/>
                          </a:lnTo>
                          <a:lnTo>
                            <a:pt x="1281" y="1112"/>
                          </a:lnTo>
                          <a:lnTo>
                            <a:pt x="1281" y="963"/>
                          </a:lnTo>
                          <a:lnTo>
                            <a:pt x="1381" y="1029"/>
                          </a:lnTo>
                          <a:lnTo>
                            <a:pt x="1594" y="1335"/>
                          </a:lnTo>
                          <a:lnTo>
                            <a:pt x="1333" y="941"/>
                          </a:lnTo>
                          <a:lnTo>
                            <a:pt x="1302" y="814"/>
                          </a:lnTo>
                          <a:lnTo>
                            <a:pt x="1381" y="871"/>
                          </a:lnTo>
                          <a:lnTo>
                            <a:pt x="1633" y="1125"/>
                          </a:lnTo>
                          <a:lnTo>
                            <a:pt x="1877" y="1217"/>
                          </a:lnTo>
                          <a:lnTo>
                            <a:pt x="1624" y="1103"/>
                          </a:lnTo>
                          <a:lnTo>
                            <a:pt x="1398" y="831"/>
                          </a:lnTo>
                          <a:lnTo>
                            <a:pt x="1363" y="665"/>
                          </a:lnTo>
                          <a:lnTo>
                            <a:pt x="1468" y="743"/>
                          </a:lnTo>
                          <a:lnTo>
                            <a:pt x="1415" y="582"/>
                          </a:lnTo>
                          <a:lnTo>
                            <a:pt x="1668" y="809"/>
                          </a:lnTo>
                          <a:lnTo>
                            <a:pt x="1437" y="564"/>
                          </a:lnTo>
                          <a:lnTo>
                            <a:pt x="1398" y="446"/>
                          </a:lnTo>
                          <a:lnTo>
                            <a:pt x="1524" y="533"/>
                          </a:lnTo>
                          <a:lnTo>
                            <a:pt x="1507" y="350"/>
                          </a:lnTo>
                          <a:lnTo>
                            <a:pt x="1638" y="463"/>
                          </a:lnTo>
                          <a:lnTo>
                            <a:pt x="1977" y="752"/>
                          </a:lnTo>
                          <a:lnTo>
                            <a:pt x="1590" y="363"/>
                          </a:lnTo>
                          <a:lnTo>
                            <a:pt x="1594" y="240"/>
                          </a:lnTo>
                          <a:lnTo>
                            <a:pt x="1677" y="284"/>
                          </a:lnTo>
                          <a:lnTo>
                            <a:pt x="1624" y="148"/>
                          </a:lnTo>
                          <a:lnTo>
                            <a:pt x="1712" y="183"/>
                          </a:lnTo>
                          <a:lnTo>
                            <a:pt x="1729" y="74"/>
                          </a:lnTo>
                          <a:lnTo>
                            <a:pt x="1712" y="30"/>
                          </a:lnTo>
                          <a:lnTo>
                            <a:pt x="1677" y="0"/>
                          </a:lnTo>
                          <a:close/>
                        </a:path>
                      </a:pathLst>
                    </a:custGeom>
                    <a:solidFill>
                      <a:srgbClr val="a6ffff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4" name=""/>
                    <p:cNvGrpSpPr/>
                    <p:nvPr/>
                  </p:nvGrpSpPr>
                  <p:grpSpPr>
                    <a:xfrm>
                      <a:off x="1841400" y="5178600"/>
                      <a:ext cx="653040" cy="982800"/>
                      <a:chOff x="1841400" y="5178600"/>
                      <a:chExt cx="653040" cy="982800"/>
                    </a:xfrm>
                  </p:grpSpPr>
                  <p:sp>
                    <p:nvSpPr>
                      <p:cNvPr id="135" name=""/>
                      <p:cNvSpPr/>
                      <p:nvPr/>
                    </p:nvSpPr>
                    <p:spPr>
                      <a:xfrm>
                        <a:off x="1841400" y="5591160"/>
                        <a:ext cx="343440" cy="5702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954" h="1584">
                            <a:moveTo>
                              <a:pt x="954" y="572"/>
                            </a:moveTo>
                            <a:lnTo>
                              <a:pt x="855" y="56"/>
                            </a:lnTo>
                            <a:lnTo>
                              <a:pt x="727" y="8"/>
                            </a:lnTo>
                            <a:lnTo>
                              <a:pt x="618" y="0"/>
                            </a:lnTo>
                            <a:lnTo>
                              <a:pt x="460" y="21"/>
                            </a:lnTo>
                            <a:lnTo>
                              <a:pt x="357" y="82"/>
                            </a:lnTo>
                            <a:lnTo>
                              <a:pt x="249" y="160"/>
                            </a:lnTo>
                            <a:lnTo>
                              <a:pt x="137" y="303"/>
                            </a:lnTo>
                            <a:lnTo>
                              <a:pt x="77" y="503"/>
                            </a:lnTo>
                            <a:lnTo>
                              <a:pt x="47" y="672"/>
                            </a:lnTo>
                            <a:lnTo>
                              <a:pt x="0" y="903"/>
                            </a:lnTo>
                            <a:lnTo>
                              <a:pt x="0" y="1059"/>
                            </a:lnTo>
                            <a:lnTo>
                              <a:pt x="77" y="1267"/>
                            </a:lnTo>
                            <a:lnTo>
                              <a:pt x="218" y="1440"/>
                            </a:lnTo>
                            <a:lnTo>
                              <a:pt x="357" y="1584"/>
                            </a:lnTo>
                            <a:lnTo>
                              <a:pt x="279" y="1371"/>
                            </a:lnTo>
                            <a:lnTo>
                              <a:pt x="249" y="1167"/>
                            </a:lnTo>
                            <a:lnTo>
                              <a:pt x="267" y="959"/>
                            </a:lnTo>
                            <a:lnTo>
                              <a:pt x="279" y="776"/>
                            </a:lnTo>
                            <a:lnTo>
                              <a:pt x="305" y="589"/>
                            </a:lnTo>
                            <a:lnTo>
                              <a:pt x="357" y="425"/>
                            </a:lnTo>
                            <a:lnTo>
                              <a:pt x="369" y="294"/>
                            </a:lnTo>
                            <a:lnTo>
                              <a:pt x="434" y="164"/>
                            </a:lnTo>
                            <a:lnTo>
                              <a:pt x="575" y="65"/>
                            </a:lnTo>
                            <a:lnTo>
                              <a:pt x="696" y="73"/>
                            </a:lnTo>
                            <a:lnTo>
                              <a:pt x="821" y="355"/>
                            </a:lnTo>
                            <a:lnTo>
                              <a:pt x="915" y="425"/>
                            </a:lnTo>
                            <a:lnTo>
                              <a:pt x="954" y="572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2111400" y="5178600"/>
                        <a:ext cx="383040" cy="6973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064" h="1937">
                            <a:moveTo>
                              <a:pt x="21" y="308"/>
                            </a:moveTo>
                            <a:lnTo>
                              <a:pt x="245" y="0"/>
                            </a:lnTo>
                            <a:lnTo>
                              <a:pt x="388" y="8"/>
                            </a:lnTo>
                            <a:lnTo>
                              <a:pt x="508" y="26"/>
                            </a:lnTo>
                            <a:lnTo>
                              <a:pt x="607" y="108"/>
                            </a:lnTo>
                            <a:lnTo>
                              <a:pt x="849" y="361"/>
                            </a:lnTo>
                            <a:lnTo>
                              <a:pt x="931" y="469"/>
                            </a:lnTo>
                            <a:lnTo>
                              <a:pt x="991" y="575"/>
                            </a:lnTo>
                            <a:lnTo>
                              <a:pt x="1043" y="910"/>
                            </a:lnTo>
                            <a:lnTo>
                              <a:pt x="1064" y="1005"/>
                            </a:lnTo>
                            <a:lnTo>
                              <a:pt x="1043" y="1136"/>
                            </a:lnTo>
                            <a:lnTo>
                              <a:pt x="1008" y="1271"/>
                            </a:lnTo>
                            <a:lnTo>
                              <a:pt x="909" y="1476"/>
                            </a:lnTo>
                            <a:lnTo>
                              <a:pt x="832" y="1611"/>
                            </a:lnTo>
                            <a:lnTo>
                              <a:pt x="710" y="1759"/>
                            </a:lnTo>
                            <a:lnTo>
                              <a:pt x="465" y="1937"/>
                            </a:lnTo>
                            <a:lnTo>
                              <a:pt x="586" y="1711"/>
                            </a:lnTo>
                            <a:lnTo>
                              <a:pt x="689" y="1507"/>
                            </a:lnTo>
                            <a:lnTo>
                              <a:pt x="749" y="1314"/>
                            </a:lnTo>
                            <a:lnTo>
                              <a:pt x="728" y="1136"/>
                            </a:lnTo>
                            <a:lnTo>
                              <a:pt x="710" y="1005"/>
                            </a:lnTo>
                            <a:lnTo>
                              <a:pt x="749" y="853"/>
                            </a:lnTo>
                            <a:lnTo>
                              <a:pt x="771" y="718"/>
                            </a:lnTo>
                            <a:lnTo>
                              <a:pt x="667" y="469"/>
                            </a:lnTo>
                            <a:lnTo>
                              <a:pt x="650" y="334"/>
                            </a:lnTo>
                            <a:lnTo>
                              <a:pt x="564" y="226"/>
                            </a:lnTo>
                            <a:lnTo>
                              <a:pt x="388" y="82"/>
                            </a:lnTo>
                            <a:lnTo>
                              <a:pt x="302" y="195"/>
                            </a:lnTo>
                            <a:lnTo>
                              <a:pt x="0" y="374"/>
                            </a:lnTo>
                            <a:lnTo>
                              <a:pt x="21" y="308"/>
                            </a:lnTo>
                            <a:close/>
                          </a:path>
                        </a:pathLst>
                      </a:custGeom>
                      <a:solidFill>
                        <a:srgbClr val="a6ffff"/>
                      </a:solidFill>
                      <a:ln w="0">
                        <a:noFill/>
                      </a:ln>
                    </p:spPr>
                    <p:txBody>
                      <a:bodyPr lIns="90000" rIns="90000" tIns="45000" bIns="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2441520" y="5543640"/>
                  <a:ext cx="460800" cy="437040"/>
                  <a:chOff x="2441520" y="5543640"/>
                  <a:chExt cx="460800" cy="43704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2441520" y="5543640"/>
                    <a:ext cx="267120" cy="4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742" h="1183">
                        <a:moveTo>
                          <a:pt x="644" y="103"/>
                        </a:moveTo>
                        <a:lnTo>
                          <a:pt x="661" y="30"/>
                        </a:lnTo>
                        <a:lnTo>
                          <a:pt x="742" y="25"/>
                        </a:lnTo>
                        <a:lnTo>
                          <a:pt x="653" y="0"/>
                        </a:lnTo>
                        <a:lnTo>
                          <a:pt x="619" y="0"/>
                        </a:lnTo>
                        <a:lnTo>
                          <a:pt x="554" y="12"/>
                        </a:lnTo>
                        <a:lnTo>
                          <a:pt x="554" y="30"/>
                        </a:lnTo>
                        <a:lnTo>
                          <a:pt x="499" y="43"/>
                        </a:lnTo>
                        <a:lnTo>
                          <a:pt x="153" y="176"/>
                        </a:lnTo>
                        <a:lnTo>
                          <a:pt x="379" y="116"/>
                        </a:lnTo>
                        <a:lnTo>
                          <a:pt x="499" y="99"/>
                        </a:lnTo>
                        <a:lnTo>
                          <a:pt x="392" y="146"/>
                        </a:lnTo>
                        <a:lnTo>
                          <a:pt x="499" y="150"/>
                        </a:lnTo>
                        <a:lnTo>
                          <a:pt x="174" y="271"/>
                        </a:lnTo>
                        <a:lnTo>
                          <a:pt x="311" y="228"/>
                        </a:lnTo>
                        <a:lnTo>
                          <a:pt x="503" y="189"/>
                        </a:lnTo>
                        <a:lnTo>
                          <a:pt x="499" y="215"/>
                        </a:lnTo>
                        <a:lnTo>
                          <a:pt x="431" y="258"/>
                        </a:lnTo>
                        <a:lnTo>
                          <a:pt x="379" y="293"/>
                        </a:lnTo>
                        <a:lnTo>
                          <a:pt x="247" y="350"/>
                        </a:lnTo>
                        <a:lnTo>
                          <a:pt x="29" y="449"/>
                        </a:lnTo>
                        <a:lnTo>
                          <a:pt x="178" y="393"/>
                        </a:lnTo>
                        <a:lnTo>
                          <a:pt x="362" y="315"/>
                        </a:lnTo>
                        <a:lnTo>
                          <a:pt x="431" y="280"/>
                        </a:lnTo>
                        <a:lnTo>
                          <a:pt x="499" y="245"/>
                        </a:lnTo>
                        <a:lnTo>
                          <a:pt x="460" y="250"/>
                        </a:lnTo>
                        <a:lnTo>
                          <a:pt x="524" y="271"/>
                        </a:lnTo>
                        <a:lnTo>
                          <a:pt x="456" y="293"/>
                        </a:lnTo>
                        <a:lnTo>
                          <a:pt x="362" y="358"/>
                        </a:lnTo>
                        <a:lnTo>
                          <a:pt x="256" y="432"/>
                        </a:lnTo>
                        <a:lnTo>
                          <a:pt x="131" y="484"/>
                        </a:lnTo>
                        <a:lnTo>
                          <a:pt x="341" y="367"/>
                        </a:lnTo>
                        <a:lnTo>
                          <a:pt x="431" y="315"/>
                        </a:lnTo>
                        <a:lnTo>
                          <a:pt x="499" y="271"/>
                        </a:lnTo>
                        <a:lnTo>
                          <a:pt x="524" y="271"/>
                        </a:lnTo>
                        <a:lnTo>
                          <a:pt x="473" y="333"/>
                        </a:lnTo>
                        <a:lnTo>
                          <a:pt x="537" y="320"/>
                        </a:lnTo>
                        <a:lnTo>
                          <a:pt x="499" y="358"/>
                        </a:lnTo>
                        <a:lnTo>
                          <a:pt x="431" y="406"/>
                        </a:lnTo>
                        <a:lnTo>
                          <a:pt x="294" y="471"/>
                        </a:lnTo>
                        <a:lnTo>
                          <a:pt x="131" y="522"/>
                        </a:lnTo>
                        <a:lnTo>
                          <a:pt x="0" y="574"/>
                        </a:lnTo>
                        <a:lnTo>
                          <a:pt x="174" y="514"/>
                        </a:lnTo>
                        <a:lnTo>
                          <a:pt x="431" y="419"/>
                        </a:lnTo>
                        <a:lnTo>
                          <a:pt x="473" y="393"/>
                        </a:lnTo>
                        <a:lnTo>
                          <a:pt x="524" y="358"/>
                        </a:lnTo>
                        <a:lnTo>
                          <a:pt x="465" y="436"/>
                        </a:lnTo>
                        <a:lnTo>
                          <a:pt x="564" y="406"/>
                        </a:lnTo>
                        <a:lnTo>
                          <a:pt x="473" y="505"/>
                        </a:lnTo>
                        <a:lnTo>
                          <a:pt x="456" y="531"/>
                        </a:lnTo>
                        <a:lnTo>
                          <a:pt x="431" y="544"/>
                        </a:lnTo>
                        <a:lnTo>
                          <a:pt x="311" y="596"/>
                        </a:lnTo>
                        <a:lnTo>
                          <a:pt x="183" y="643"/>
                        </a:lnTo>
                        <a:lnTo>
                          <a:pt x="201" y="630"/>
                        </a:lnTo>
                        <a:lnTo>
                          <a:pt x="362" y="574"/>
                        </a:lnTo>
                        <a:lnTo>
                          <a:pt x="460" y="509"/>
                        </a:lnTo>
                        <a:lnTo>
                          <a:pt x="545" y="488"/>
                        </a:lnTo>
                        <a:lnTo>
                          <a:pt x="559" y="488"/>
                        </a:lnTo>
                        <a:lnTo>
                          <a:pt x="85" y="747"/>
                        </a:lnTo>
                        <a:lnTo>
                          <a:pt x="452" y="570"/>
                        </a:lnTo>
                        <a:lnTo>
                          <a:pt x="511" y="544"/>
                        </a:lnTo>
                        <a:lnTo>
                          <a:pt x="435" y="660"/>
                        </a:lnTo>
                        <a:lnTo>
                          <a:pt x="524" y="639"/>
                        </a:lnTo>
                        <a:lnTo>
                          <a:pt x="131" y="867"/>
                        </a:lnTo>
                        <a:lnTo>
                          <a:pt x="282" y="798"/>
                        </a:lnTo>
                        <a:lnTo>
                          <a:pt x="379" y="747"/>
                        </a:lnTo>
                        <a:lnTo>
                          <a:pt x="422" y="734"/>
                        </a:lnTo>
                        <a:lnTo>
                          <a:pt x="524" y="665"/>
                        </a:lnTo>
                        <a:lnTo>
                          <a:pt x="418" y="760"/>
                        </a:lnTo>
                        <a:lnTo>
                          <a:pt x="499" y="729"/>
                        </a:lnTo>
                        <a:lnTo>
                          <a:pt x="409" y="803"/>
                        </a:lnTo>
                        <a:lnTo>
                          <a:pt x="486" y="785"/>
                        </a:lnTo>
                        <a:lnTo>
                          <a:pt x="396" y="876"/>
                        </a:lnTo>
                        <a:lnTo>
                          <a:pt x="499" y="846"/>
                        </a:lnTo>
                        <a:lnTo>
                          <a:pt x="405" y="894"/>
                        </a:lnTo>
                        <a:lnTo>
                          <a:pt x="260" y="925"/>
                        </a:lnTo>
                        <a:lnTo>
                          <a:pt x="114" y="985"/>
                        </a:lnTo>
                        <a:lnTo>
                          <a:pt x="405" y="916"/>
                        </a:lnTo>
                        <a:lnTo>
                          <a:pt x="473" y="880"/>
                        </a:lnTo>
                        <a:lnTo>
                          <a:pt x="384" y="950"/>
                        </a:lnTo>
                        <a:lnTo>
                          <a:pt x="456" y="937"/>
                        </a:lnTo>
                        <a:lnTo>
                          <a:pt x="409" y="972"/>
                        </a:lnTo>
                        <a:lnTo>
                          <a:pt x="388" y="1019"/>
                        </a:lnTo>
                        <a:lnTo>
                          <a:pt x="431" y="1006"/>
                        </a:lnTo>
                        <a:lnTo>
                          <a:pt x="375" y="1045"/>
                        </a:lnTo>
                        <a:lnTo>
                          <a:pt x="93" y="1114"/>
                        </a:lnTo>
                        <a:lnTo>
                          <a:pt x="320" y="1071"/>
                        </a:lnTo>
                        <a:lnTo>
                          <a:pt x="405" y="1041"/>
                        </a:lnTo>
                        <a:lnTo>
                          <a:pt x="456" y="998"/>
                        </a:lnTo>
                        <a:lnTo>
                          <a:pt x="384" y="1084"/>
                        </a:lnTo>
                        <a:lnTo>
                          <a:pt x="460" y="1067"/>
                        </a:lnTo>
                        <a:lnTo>
                          <a:pt x="418" y="1119"/>
                        </a:lnTo>
                        <a:lnTo>
                          <a:pt x="307" y="1183"/>
                        </a:lnTo>
                        <a:lnTo>
                          <a:pt x="418" y="1132"/>
                        </a:lnTo>
                        <a:lnTo>
                          <a:pt x="490" y="1106"/>
                        </a:lnTo>
                        <a:lnTo>
                          <a:pt x="545" y="1162"/>
                        </a:lnTo>
                        <a:lnTo>
                          <a:pt x="564" y="1067"/>
                        </a:lnTo>
                        <a:lnTo>
                          <a:pt x="644" y="103"/>
                        </a:lnTo>
                        <a:close/>
                      </a:path>
                    </a:pathLst>
                  </a:custGeom>
                  <a:solidFill>
                    <a:srgbClr val="a6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631960" y="5543640"/>
                    <a:ext cx="270360" cy="437040"/>
                  </a:xfrm>
                  <a:custGeom>
                    <a:avLst/>
                    <a:gdLst/>
                    <a:ahLst/>
                    <a:rect l="0" t="0" r="r" b="b"/>
                    <a:pathLst>
                      <a:path w="751" h="1214">
                        <a:moveTo>
                          <a:pt x="0" y="1141"/>
                        </a:moveTo>
                        <a:lnTo>
                          <a:pt x="8" y="1085"/>
                        </a:lnTo>
                        <a:lnTo>
                          <a:pt x="80" y="1111"/>
                        </a:lnTo>
                        <a:lnTo>
                          <a:pt x="55" y="1042"/>
                        </a:lnTo>
                        <a:lnTo>
                          <a:pt x="123" y="1050"/>
                        </a:lnTo>
                        <a:lnTo>
                          <a:pt x="286" y="1214"/>
                        </a:lnTo>
                        <a:lnTo>
                          <a:pt x="149" y="1085"/>
                        </a:lnTo>
                        <a:lnTo>
                          <a:pt x="119" y="1046"/>
                        </a:lnTo>
                        <a:lnTo>
                          <a:pt x="97" y="1011"/>
                        </a:lnTo>
                        <a:lnTo>
                          <a:pt x="149" y="1020"/>
                        </a:lnTo>
                        <a:lnTo>
                          <a:pt x="307" y="1141"/>
                        </a:lnTo>
                        <a:lnTo>
                          <a:pt x="218" y="1050"/>
                        </a:lnTo>
                        <a:lnTo>
                          <a:pt x="132" y="1007"/>
                        </a:lnTo>
                        <a:lnTo>
                          <a:pt x="123" y="942"/>
                        </a:lnTo>
                        <a:lnTo>
                          <a:pt x="178" y="964"/>
                        </a:lnTo>
                        <a:lnTo>
                          <a:pt x="170" y="894"/>
                        </a:lnTo>
                        <a:lnTo>
                          <a:pt x="218" y="916"/>
                        </a:lnTo>
                        <a:lnTo>
                          <a:pt x="486" y="1119"/>
                        </a:lnTo>
                        <a:lnTo>
                          <a:pt x="196" y="881"/>
                        </a:lnTo>
                        <a:lnTo>
                          <a:pt x="170" y="833"/>
                        </a:lnTo>
                        <a:lnTo>
                          <a:pt x="243" y="864"/>
                        </a:lnTo>
                        <a:lnTo>
                          <a:pt x="397" y="973"/>
                        </a:lnTo>
                        <a:lnTo>
                          <a:pt x="218" y="859"/>
                        </a:lnTo>
                        <a:lnTo>
                          <a:pt x="149" y="786"/>
                        </a:lnTo>
                        <a:lnTo>
                          <a:pt x="218" y="812"/>
                        </a:lnTo>
                        <a:lnTo>
                          <a:pt x="170" y="769"/>
                        </a:lnTo>
                        <a:lnTo>
                          <a:pt x="243" y="777"/>
                        </a:lnTo>
                        <a:lnTo>
                          <a:pt x="303" y="859"/>
                        </a:lnTo>
                        <a:lnTo>
                          <a:pt x="286" y="833"/>
                        </a:lnTo>
                        <a:lnTo>
                          <a:pt x="218" y="769"/>
                        </a:lnTo>
                        <a:lnTo>
                          <a:pt x="196" y="734"/>
                        </a:lnTo>
                        <a:lnTo>
                          <a:pt x="260" y="769"/>
                        </a:lnTo>
                        <a:lnTo>
                          <a:pt x="218" y="691"/>
                        </a:lnTo>
                        <a:lnTo>
                          <a:pt x="260" y="700"/>
                        </a:lnTo>
                        <a:lnTo>
                          <a:pt x="299" y="738"/>
                        </a:lnTo>
                        <a:lnTo>
                          <a:pt x="533" y="868"/>
                        </a:lnTo>
                        <a:lnTo>
                          <a:pt x="448" y="808"/>
                        </a:lnTo>
                        <a:lnTo>
                          <a:pt x="324" y="734"/>
                        </a:lnTo>
                        <a:lnTo>
                          <a:pt x="226" y="652"/>
                        </a:lnTo>
                        <a:lnTo>
                          <a:pt x="260" y="665"/>
                        </a:lnTo>
                        <a:lnTo>
                          <a:pt x="243" y="618"/>
                        </a:lnTo>
                        <a:lnTo>
                          <a:pt x="226" y="626"/>
                        </a:lnTo>
                        <a:lnTo>
                          <a:pt x="324" y="648"/>
                        </a:lnTo>
                        <a:lnTo>
                          <a:pt x="260" y="596"/>
                        </a:lnTo>
                        <a:lnTo>
                          <a:pt x="333" y="609"/>
                        </a:lnTo>
                        <a:lnTo>
                          <a:pt x="448" y="644"/>
                        </a:lnTo>
                        <a:lnTo>
                          <a:pt x="700" y="734"/>
                        </a:lnTo>
                        <a:lnTo>
                          <a:pt x="564" y="665"/>
                        </a:lnTo>
                        <a:lnTo>
                          <a:pt x="337" y="596"/>
                        </a:lnTo>
                        <a:lnTo>
                          <a:pt x="277" y="553"/>
                        </a:lnTo>
                        <a:lnTo>
                          <a:pt x="363" y="574"/>
                        </a:lnTo>
                        <a:lnTo>
                          <a:pt x="260" y="492"/>
                        </a:lnTo>
                        <a:lnTo>
                          <a:pt x="333" y="497"/>
                        </a:lnTo>
                        <a:lnTo>
                          <a:pt x="286" y="458"/>
                        </a:lnTo>
                        <a:lnTo>
                          <a:pt x="294" y="449"/>
                        </a:lnTo>
                        <a:lnTo>
                          <a:pt x="384" y="484"/>
                        </a:lnTo>
                        <a:lnTo>
                          <a:pt x="294" y="423"/>
                        </a:lnTo>
                        <a:lnTo>
                          <a:pt x="367" y="423"/>
                        </a:lnTo>
                        <a:lnTo>
                          <a:pt x="286" y="385"/>
                        </a:lnTo>
                        <a:lnTo>
                          <a:pt x="333" y="385"/>
                        </a:lnTo>
                        <a:lnTo>
                          <a:pt x="286" y="354"/>
                        </a:lnTo>
                        <a:lnTo>
                          <a:pt x="751" y="501"/>
                        </a:lnTo>
                        <a:lnTo>
                          <a:pt x="546" y="441"/>
                        </a:lnTo>
                        <a:lnTo>
                          <a:pt x="358" y="354"/>
                        </a:lnTo>
                        <a:lnTo>
                          <a:pt x="307" y="311"/>
                        </a:lnTo>
                        <a:lnTo>
                          <a:pt x="380" y="324"/>
                        </a:lnTo>
                        <a:lnTo>
                          <a:pt x="299" y="254"/>
                        </a:lnTo>
                        <a:lnTo>
                          <a:pt x="346" y="254"/>
                        </a:lnTo>
                        <a:lnTo>
                          <a:pt x="286" y="198"/>
                        </a:lnTo>
                        <a:lnTo>
                          <a:pt x="358" y="198"/>
                        </a:lnTo>
                        <a:lnTo>
                          <a:pt x="401" y="224"/>
                        </a:lnTo>
                        <a:lnTo>
                          <a:pt x="619" y="284"/>
                        </a:lnTo>
                        <a:lnTo>
                          <a:pt x="401" y="220"/>
                        </a:lnTo>
                        <a:lnTo>
                          <a:pt x="380" y="198"/>
                        </a:lnTo>
                        <a:lnTo>
                          <a:pt x="307" y="163"/>
                        </a:lnTo>
                        <a:lnTo>
                          <a:pt x="358" y="176"/>
                        </a:lnTo>
                        <a:lnTo>
                          <a:pt x="243" y="129"/>
                        </a:lnTo>
                        <a:lnTo>
                          <a:pt x="286" y="142"/>
                        </a:lnTo>
                        <a:lnTo>
                          <a:pt x="392" y="142"/>
                        </a:lnTo>
                        <a:lnTo>
                          <a:pt x="598" y="189"/>
                        </a:lnTo>
                        <a:lnTo>
                          <a:pt x="380" y="142"/>
                        </a:lnTo>
                        <a:lnTo>
                          <a:pt x="286" y="99"/>
                        </a:lnTo>
                        <a:lnTo>
                          <a:pt x="726" y="189"/>
                        </a:lnTo>
                        <a:lnTo>
                          <a:pt x="363" y="94"/>
                        </a:lnTo>
                        <a:lnTo>
                          <a:pt x="307" y="73"/>
                        </a:lnTo>
                        <a:lnTo>
                          <a:pt x="260" y="38"/>
                        </a:lnTo>
                        <a:lnTo>
                          <a:pt x="157" y="0"/>
                        </a:lnTo>
                        <a:lnTo>
                          <a:pt x="123" y="17"/>
                        </a:lnTo>
                        <a:lnTo>
                          <a:pt x="102" y="4"/>
                        </a:lnTo>
                        <a:lnTo>
                          <a:pt x="0" y="1141"/>
                        </a:lnTo>
                        <a:close/>
                      </a:path>
                    </a:pathLst>
                  </a:custGeom>
                  <a:solidFill>
                    <a:srgbClr val="a6fff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>
                  <a:off x="2652840" y="6013440"/>
                  <a:ext cx="113040" cy="357480"/>
                </a:xfrm>
                <a:custGeom>
                  <a:avLst/>
                  <a:gdLst/>
                  <a:ahLst/>
                  <a:rect l="0" t="0" r="r" b="b"/>
                  <a:pathLst>
                    <a:path w="314" h="993">
                      <a:moveTo>
                        <a:pt x="32" y="0"/>
                      </a:moveTo>
                      <a:lnTo>
                        <a:pt x="101" y="77"/>
                      </a:lnTo>
                      <a:lnTo>
                        <a:pt x="171" y="197"/>
                      </a:lnTo>
                      <a:lnTo>
                        <a:pt x="244" y="360"/>
                      </a:lnTo>
                      <a:lnTo>
                        <a:pt x="314" y="576"/>
                      </a:lnTo>
                      <a:lnTo>
                        <a:pt x="314" y="795"/>
                      </a:lnTo>
                      <a:lnTo>
                        <a:pt x="277" y="993"/>
                      </a:lnTo>
                      <a:lnTo>
                        <a:pt x="244" y="993"/>
                      </a:lnTo>
                      <a:lnTo>
                        <a:pt x="277" y="795"/>
                      </a:lnTo>
                      <a:lnTo>
                        <a:pt x="277" y="632"/>
                      </a:lnTo>
                      <a:lnTo>
                        <a:pt x="204" y="450"/>
                      </a:lnTo>
                      <a:lnTo>
                        <a:pt x="101" y="270"/>
                      </a:lnTo>
                      <a:lnTo>
                        <a:pt x="0" y="3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a6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770120" y="5529240"/>
                <a:ext cx="903600" cy="1041840"/>
                <a:chOff x="1770120" y="5529240"/>
                <a:chExt cx="903600" cy="1041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938240" y="6224760"/>
                  <a:ext cx="321120" cy="346320"/>
                </a:xfrm>
                <a:custGeom>
                  <a:avLst/>
                  <a:gdLst/>
                  <a:ahLst/>
                  <a:rect l="0" t="0" r="r" b="b"/>
                  <a:pathLst>
                    <a:path w="892" h="962">
                      <a:moveTo>
                        <a:pt x="205" y="962"/>
                      </a:moveTo>
                      <a:lnTo>
                        <a:pt x="25" y="558"/>
                      </a:lnTo>
                      <a:lnTo>
                        <a:pt x="17" y="537"/>
                      </a:lnTo>
                      <a:lnTo>
                        <a:pt x="4" y="503"/>
                      </a:lnTo>
                      <a:lnTo>
                        <a:pt x="4" y="467"/>
                      </a:lnTo>
                      <a:lnTo>
                        <a:pt x="0" y="433"/>
                      </a:lnTo>
                      <a:lnTo>
                        <a:pt x="4" y="390"/>
                      </a:lnTo>
                      <a:lnTo>
                        <a:pt x="21" y="334"/>
                      </a:lnTo>
                      <a:lnTo>
                        <a:pt x="119" y="107"/>
                      </a:lnTo>
                      <a:lnTo>
                        <a:pt x="145" y="85"/>
                      </a:lnTo>
                      <a:lnTo>
                        <a:pt x="188" y="47"/>
                      </a:lnTo>
                      <a:lnTo>
                        <a:pt x="240" y="21"/>
                      </a:lnTo>
                      <a:lnTo>
                        <a:pt x="313" y="4"/>
                      </a:lnTo>
                      <a:lnTo>
                        <a:pt x="369" y="0"/>
                      </a:lnTo>
                      <a:lnTo>
                        <a:pt x="420" y="12"/>
                      </a:lnTo>
                      <a:lnTo>
                        <a:pt x="480" y="30"/>
                      </a:lnTo>
                      <a:lnTo>
                        <a:pt x="557" y="68"/>
                      </a:lnTo>
                      <a:lnTo>
                        <a:pt x="643" y="115"/>
                      </a:lnTo>
                      <a:lnTo>
                        <a:pt x="695" y="150"/>
                      </a:lnTo>
                      <a:lnTo>
                        <a:pt x="730" y="193"/>
                      </a:lnTo>
                      <a:lnTo>
                        <a:pt x="751" y="214"/>
                      </a:lnTo>
                      <a:lnTo>
                        <a:pt x="824" y="339"/>
                      </a:lnTo>
                      <a:lnTo>
                        <a:pt x="828" y="343"/>
                      </a:lnTo>
                      <a:lnTo>
                        <a:pt x="849" y="399"/>
                      </a:lnTo>
                      <a:lnTo>
                        <a:pt x="854" y="433"/>
                      </a:lnTo>
                      <a:lnTo>
                        <a:pt x="892" y="614"/>
                      </a:lnTo>
                      <a:lnTo>
                        <a:pt x="841" y="511"/>
                      </a:lnTo>
                      <a:lnTo>
                        <a:pt x="798" y="429"/>
                      </a:lnTo>
                      <a:lnTo>
                        <a:pt x="751" y="343"/>
                      </a:lnTo>
                      <a:lnTo>
                        <a:pt x="687" y="261"/>
                      </a:lnTo>
                      <a:lnTo>
                        <a:pt x="476" y="77"/>
                      </a:lnTo>
                      <a:lnTo>
                        <a:pt x="420" y="51"/>
                      </a:lnTo>
                      <a:lnTo>
                        <a:pt x="369" y="42"/>
                      </a:lnTo>
                      <a:lnTo>
                        <a:pt x="330" y="42"/>
                      </a:lnTo>
                      <a:lnTo>
                        <a:pt x="287" y="64"/>
                      </a:lnTo>
                      <a:lnTo>
                        <a:pt x="232" y="128"/>
                      </a:lnTo>
                      <a:lnTo>
                        <a:pt x="171" y="351"/>
                      </a:lnTo>
                      <a:lnTo>
                        <a:pt x="107" y="503"/>
                      </a:lnTo>
                      <a:lnTo>
                        <a:pt x="102" y="537"/>
                      </a:lnTo>
                      <a:lnTo>
                        <a:pt x="107" y="576"/>
                      </a:lnTo>
                      <a:lnTo>
                        <a:pt x="115" y="610"/>
                      </a:lnTo>
                      <a:lnTo>
                        <a:pt x="162" y="687"/>
                      </a:lnTo>
                      <a:lnTo>
                        <a:pt x="132" y="614"/>
                      </a:lnTo>
                      <a:lnTo>
                        <a:pt x="192" y="756"/>
                      </a:lnTo>
                      <a:lnTo>
                        <a:pt x="227" y="833"/>
                      </a:lnTo>
                      <a:lnTo>
                        <a:pt x="240" y="893"/>
                      </a:lnTo>
                      <a:lnTo>
                        <a:pt x="214" y="949"/>
                      </a:lnTo>
                      <a:lnTo>
                        <a:pt x="205" y="962"/>
                      </a:lnTo>
                      <a:close/>
                    </a:path>
                  </a:pathLst>
                </a:custGeom>
                <a:solidFill>
                  <a:srgbClr val="a6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770120" y="6102360"/>
                  <a:ext cx="357480" cy="330480"/>
                </a:xfrm>
                <a:custGeom>
                  <a:avLst/>
                  <a:gdLst/>
                  <a:ahLst/>
                  <a:rect l="0" t="0" r="r" b="b"/>
                  <a:pathLst>
                    <a:path w="993" h="918">
                      <a:moveTo>
                        <a:pt x="980" y="141"/>
                      </a:moveTo>
                      <a:lnTo>
                        <a:pt x="907" y="81"/>
                      </a:lnTo>
                      <a:lnTo>
                        <a:pt x="877" y="60"/>
                      </a:lnTo>
                      <a:lnTo>
                        <a:pt x="804" y="38"/>
                      </a:lnTo>
                      <a:lnTo>
                        <a:pt x="735" y="21"/>
                      </a:lnTo>
                      <a:lnTo>
                        <a:pt x="640" y="4"/>
                      </a:lnTo>
                      <a:lnTo>
                        <a:pt x="563" y="0"/>
                      </a:lnTo>
                      <a:lnTo>
                        <a:pt x="489" y="8"/>
                      </a:lnTo>
                      <a:lnTo>
                        <a:pt x="408" y="17"/>
                      </a:lnTo>
                      <a:lnTo>
                        <a:pt x="317" y="34"/>
                      </a:lnTo>
                      <a:lnTo>
                        <a:pt x="257" y="68"/>
                      </a:lnTo>
                      <a:lnTo>
                        <a:pt x="197" y="120"/>
                      </a:lnTo>
                      <a:lnTo>
                        <a:pt x="141" y="154"/>
                      </a:lnTo>
                      <a:lnTo>
                        <a:pt x="94" y="197"/>
                      </a:lnTo>
                      <a:lnTo>
                        <a:pt x="38" y="248"/>
                      </a:lnTo>
                      <a:lnTo>
                        <a:pt x="0" y="355"/>
                      </a:lnTo>
                      <a:lnTo>
                        <a:pt x="12" y="441"/>
                      </a:lnTo>
                      <a:lnTo>
                        <a:pt x="60" y="562"/>
                      </a:lnTo>
                      <a:lnTo>
                        <a:pt x="141" y="669"/>
                      </a:lnTo>
                      <a:lnTo>
                        <a:pt x="317" y="918"/>
                      </a:lnTo>
                      <a:lnTo>
                        <a:pt x="249" y="652"/>
                      </a:lnTo>
                      <a:lnTo>
                        <a:pt x="210" y="558"/>
                      </a:lnTo>
                      <a:lnTo>
                        <a:pt x="184" y="476"/>
                      </a:lnTo>
                      <a:lnTo>
                        <a:pt x="171" y="390"/>
                      </a:lnTo>
                      <a:lnTo>
                        <a:pt x="197" y="291"/>
                      </a:lnTo>
                      <a:lnTo>
                        <a:pt x="223" y="218"/>
                      </a:lnTo>
                      <a:lnTo>
                        <a:pt x="270" y="124"/>
                      </a:lnTo>
                      <a:lnTo>
                        <a:pt x="343" y="81"/>
                      </a:lnTo>
                      <a:lnTo>
                        <a:pt x="433" y="64"/>
                      </a:lnTo>
                      <a:lnTo>
                        <a:pt x="675" y="55"/>
                      </a:lnTo>
                      <a:lnTo>
                        <a:pt x="829" y="85"/>
                      </a:lnTo>
                      <a:lnTo>
                        <a:pt x="993" y="154"/>
                      </a:lnTo>
                      <a:lnTo>
                        <a:pt x="980" y="141"/>
                      </a:lnTo>
                      <a:close/>
                    </a:path>
                  </a:pathLst>
                </a:custGeom>
                <a:solidFill>
                  <a:srgbClr val="a6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022480" y="5865840"/>
                  <a:ext cx="371880" cy="322560"/>
                </a:xfrm>
                <a:custGeom>
                  <a:avLst/>
                  <a:gdLst/>
                  <a:ahLst/>
                  <a:rect l="0" t="0" r="r" b="b"/>
                  <a:pathLst>
                    <a:path w="1033" h="896">
                      <a:moveTo>
                        <a:pt x="301" y="896"/>
                      </a:moveTo>
                      <a:lnTo>
                        <a:pt x="227" y="741"/>
                      </a:lnTo>
                      <a:lnTo>
                        <a:pt x="197" y="677"/>
                      </a:lnTo>
                      <a:lnTo>
                        <a:pt x="124" y="596"/>
                      </a:lnTo>
                      <a:lnTo>
                        <a:pt x="51" y="514"/>
                      </a:lnTo>
                      <a:lnTo>
                        <a:pt x="8" y="472"/>
                      </a:lnTo>
                      <a:lnTo>
                        <a:pt x="0" y="424"/>
                      </a:lnTo>
                      <a:lnTo>
                        <a:pt x="17" y="355"/>
                      </a:lnTo>
                      <a:lnTo>
                        <a:pt x="30" y="286"/>
                      </a:lnTo>
                      <a:lnTo>
                        <a:pt x="146" y="124"/>
                      </a:lnTo>
                      <a:lnTo>
                        <a:pt x="197" y="81"/>
                      </a:lnTo>
                      <a:lnTo>
                        <a:pt x="293" y="38"/>
                      </a:lnTo>
                      <a:lnTo>
                        <a:pt x="375" y="8"/>
                      </a:lnTo>
                      <a:lnTo>
                        <a:pt x="478" y="0"/>
                      </a:lnTo>
                      <a:lnTo>
                        <a:pt x="564" y="21"/>
                      </a:lnTo>
                      <a:lnTo>
                        <a:pt x="671" y="38"/>
                      </a:lnTo>
                      <a:lnTo>
                        <a:pt x="774" y="94"/>
                      </a:lnTo>
                      <a:lnTo>
                        <a:pt x="814" y="128"/>
                      </a:lnTo>
                      <a:lnTo>
                        <a:pt x="879" y="184"/>
                      </a:lnTo>
                      <a:lnTo>
                        <a:pt x="934" y="227"/>
                      </a:lnTo>
                      <a:lnTo>
                        <a:pt x="1025" y="463"/>
                      </a:lnTo>
                      <a:lnTo>
                        <a:pt x="1033" y="506"/>
                      </a:lnTo>
                      <a:lnTo>
                        <a:pt x="1016" y="583"/>
                      </a:lnTo>
                      <a:lnTo>
                        <a:pt x="956" y="806"/>
                      </a:lnTo>
                      <a:lnTo>
                        <a:pt x="960" y="587"/>
                      </a:lnTo>
                      <a:lnTo>
                        <a:pt x="934" y="493"/>
                      </a:lnTo>
                      <a:lnTo>
                        <a:pt x="909" y="432"/>
                      </a:lnTo>
                      <a:lnTo>
                        <a:pt x="866" y="355"/>
                      </a:lnTo>
                      <a:lnTo>
                        <a:pt x="827" y="278"/>
                      </a:lnTo>
                      <a:lnTo>
                        <a:pt x="762" y="205"/>
                      </a:lnTo>
                      <a:lnTo>
                        <a:pt x="688" y="137"/>
                      </a:lnTo>
                      <a:lnTo>
                        <a:pt x="628" y="72"/>
                      </a:lnTo>
                      <a:lnTo>
                        <a:pt x="564" y="38"/>
                      </a:lnTo>
                      <a:lnTo>
                        <a:pt x="491" y="25"/>
                      </a:lnTo>
                      <a:lnTo>
                        <a:pt x="418" y="38"/>
                      </a:lnTo>
                      <a:lnTo>
                        <a:pt x="366" y="72"/>
                      </a:lnTo>
                      <a:lnTo>
                        <a:pt x="336" y="128"/>
                      </a:lnTo>
                      <a:lnTo>
                        <a:pt x="336" y="175"/>
                      </a:lnTo>
                      <a:lnTo>
                        <a:pt x="310" y="252"/>
                      </a:lnTo>
                      <a:lnTo>
                        <a:pt x="280" y="304"/>
                      </a:lnTo>
                      <a:lnTo>
                        <a:pt x="206" y="381"/>
                      </a:lnTo>
                      <a:lnTo>
                        <a:pt x="197" y="424"/>
                      </a:lnTo>
                      <a:lnTo>
                        <a:pt x="184" y="467"/>
                      </a:lnTo>
                      <a:lnTo>
                        <a:pt x="184" y="527"/>
                      </a:lnTo>
                      <a:lnTo>
                        <a:pt x="310" y="729"/>
                      </a:lnTo>
                      <a:lnTo>
                        <a:pt x="301" y="896"/>
                      </a:lnTo>
                      <a:close/>
                    </a:path>
                  </a:pathLst>
                </a:custGeom>
                <a:solidFill>
                  <a:srgbClr val="a6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65400" y="5529240"/>
                  <a:ext cx="508320" cy="1037160"/>
                </a:xfrm>
                <a:custGeom>
                  <a:avLst/>
                  <a:gdLst/>
                  <a:ahLst/>
                  <a:rect l="0" t="0" r="r" b="b"/>
                  <a:pathLst>
                    <a:path fill="none" w="1412" h="2881">
                      <a:moveTo>
                        <a:pt x="0" y="2881"/>
                      </a:moveTo>
                      <a:lnTo>
                        <a:pt x="507" y="1813"/>
                      </a:lnTo>
                      <a:lnTo>
                        <a:pt x="564" y="1641"/>
                      </a:lnTo>
                      <a:lnTo>
                        <a:pt x="687" y="1363"/>
                      </a:lnTo>
                      <a:lnTo>
                        <a:pt x="807" y="1081"/>
                      </a:lnTo>
                      <a:lnTo>
                        <a:pt x="869" y="922"/>
                      </a:lnTo>
                      <a:lnTo>
                        <a:pt x="900" y="755"/>
                      </a:lnTo>
                      <a:lnTo>
                        <a:pt x="944" y="595"/>
                      </a:lnTo>
                      <a:lnTo>
                        <a:pt x="1019" y="414"/>
                      </a:lnTo>
                      <a:lnTo>
                        <a:pt x="1099" y="246"/>
                      </a:lnTo>
                      <a:lnTo>
                        <a:pt x="1204" y="97"/>
                      </a:lnTo>
                      <a:lnTo>
                        <a:pt x="1288" y="8"/>
                      </a:lnTo>
                      <a:lnTo>
                        <a:pt x="1337" y="0"/>
                      </a:lnTo>
                      <a:lnTo>
                        <a:pt x="1385" y="48"/>
                      </a:lnTo>
                      <a:lnTo>
                        <a:pt x="1412" y="207"/>
                      </a:lnTo>
                    </a:path>
                  </a:pathLst>
                </a:custGeom>
                <a:ln w="25560">
                  <a:solidFill>
                    <a:srgbClr val="a6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254320" y="5991120"/>
                  <a:ext cx="406800" cy="384480"/>
                </a:xfrm>
                <a:custGeom>
                  <a:avLst/>
                  <a:gdLst/>
                  <a:ahLst/>
                  <a:rect l="0" t="0" r="r" b="b"/>
                  <a:pathLst>
                    <a:path fill="none" w="1130" h="1068">
                      <a:moveTo>
                        <a:pt x="0" y="1068"/>
                      </a:moveTo>
                      <a:lnTo>
                        <a:pt x="216" y="838"/>
                      </a:lnTo>
                      <a:lnTo>
                        <a:pt x="349" y="569"/>
                      </a:lnTo>
                      <a:lnTo>
                        <a:pt x="424" y="449"/>
                      </a:lnTo>
                      <a:lnTo>
                        <a:pt x="521" y="313"/>
                      </a:lnTo>
                      <a:lnTo>
                        <a:pt x="649" y="171"/>
                      </a:lnTo>
                      <a:lnTo>
                        <a:pt x="741" y="83"/>
                      </a:lnTo>
                      <a:lnTo>
                        <a:pt x="816" y="39"/>
                      </a:lnTo>
                      <a:lnTo>
                        <a:pt x="919" y="8"/>
                      </a:lnTo>
                      <a:lnTo>
                        <a:pt x="1029" y="0"/>
                      </a:lnTo>
                      <a:lnTo>
                        <a:pt x="1082" y="22"/>
                      </a:lnTo>
                      <a:lnTo>
                        <a:pt x="1130" y="92"/>
                      </a:lnTo>
                    </a:path>
                  </a:pathLst>
                </a:custGeom>
                <a:ln w="12600">
                  <a:solidFill>
                    <a:srgbClr val="a6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081160" y="6130800"/>
                  <a:ext cx="195480" cy="186120"/>
                </a:xfrm>
                <a:custGeom>
                  <a:avLst/>
                  <a:gdLst/>
                  <a:ahLst/>
                  <a:rect l="0" t="0" r="r" b="b"/>
                  <a:pathLst>
                    <a:path fill="none" w="543" h="517">
                      <a:moveTo>
                        <a:pt x="0" y="0"/>
                      </a:moveTo>
                      <a:lnTo>
                        <a:pt x="92" y="35"/>
                      </a:lnTo>
                      <a:lnTo>
                        <a:pt x="202" y="70"/>
                      </a:lnTo>
                      <a:lnTo>
                        <a:pt x="305" y="142"/>
                      </a:lnTo>
                      <a:lnTo>
                        <a:pt x="393" y="203"/>
                      </a:lnTo>
                      <a:lnTo>
                        <a:pt x="468" y="269"/>
                      </a:lnTo>
                      <a:lnTo>
                        <a:pt x="508" y="322"/>
                      </a:lnTo>
                      <a:lnTo>
                        <a:pt x="530" y="375"/>
                      </a:lnTo>
                      <a:lnTo>
                        <a:pt x="543" y="447"/>
                      </a:lnTo>
                      <a:lnTo>
                        <a:pt x="543" y="517"/>
                      </a:lnTo>
                    </a:path>
                  </a:pathLst>
                </a:custGeom>
                <a:ln w="12600">
                  <a:solidFill>
                    <a:srgbClr val="a6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0" y="6423120"/>
              <a:ext cx="9131760" cy="422640"/>
            </a:xfrm>
            <a:custGeom>
              <a:avLst/>
              <a:gdLst/>
              <a:ahLst/>
              <a:rect l="0" t="0" r="r" b="b"/>
              <a:pathLst>
                <a:path w="25366" h="1174">
                  <a:moveTo>
                    <a:pt x="0" y="1174"/>
                  </a:moveTo>
                  <a:lnTo>
                    <a:pt x="25366" y="1174"/>
                  </a:lnTo>
                  <a:lnTo>
                    <a:pt x="25366" y="358"/>
                  </a:lnTo>
                  <a:lnTo>
                    <a:pt x="24550" y="490"/>
                  </a:lnTo>
                  <a:lnTo>
                    <a:pt x="22482" y="578"/>
                  </a:lnTo>
                  <a:lnTo>
                    <a:pt x="20273" y="446"/>
                  </a:lnTo>
                  <a:lnTo>
                    <a:pt x="18248" y="622"/>
                  </a:lnTo>
                  <a:lnTo>
                    <a:pt x="17260" y="622"/>
                  </a:lnTo>
                  <a:lnTo>
                    <a:pt x="16696" y="578"/>
                  </a:lnTo>
                  <a:lnTo>
                    <a:pt x="15236" y="358"/>
                  </a:lnTo>
                  <a:lnTo>
                    <a:pt x="13124" y="402"/>
                  </a:lnTo>
                  <a:lnTo>
                    <a:pt x="12092" y="194"/>
                  </a:lnTo>
                  <a:lnTo>
                    <a:pt x="10725" y="224"/>
                  </a:lnTo>
                  <a:lnTo>
                    <a:pt x="9781" y="358"/>
                  </a:lnTo>
                  <a:lnTo>
                    <a:pt x="9032" y="402"/>
                  </a:lnTo>
                  <a:lnTo>
                    <a:pt x="7713" y="314"/>
                  </a:lnTo>
                  <a:lnTo>
                    <a:pt x="6351" y="224"/>
                  </a:lnTo>
                  <a:lnTo>
                    <a:pt x="4982" y="88"/>
                  </a:lnTo>
                  <a:lnTo>
                    <a:pt x="3338" y="176"/>
                  </a:lnTo>
                  <a:lnTo>
                    <a:pt x="1693" y="314"/>
                  </a:lnTo>
                  <a:lnTo>
                    <a:pt x="564" y="44"/>
                  </a:lnTo>
                  <a:lnTo>
                    <a:pt x="0" y="0"/>
                  </a:lnTo>
                  <a:lnTo>
                    <a:pt x="0" y="1174"/>
                  </a:lnTo>
                  <a:close/>
                </a:path>
              </a:pathLst>
            </a:custGeom>
            <a:gradFill rotWithShape="0">
              <a:gsLst>
                <a:gs pos="0">
                  <a:srgbClr val="a6ffff"/>
                </a:gs>
                <a:gs pos="100000">
                  <a:srgbClr val="95e5e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6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