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A64-3459-4741-9674-D3EF5A25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274-8CA2-4226-908E-74B556C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38B-B228-4B88-AE5B-B9C853AD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370-7EF7-427F-804E-53A22D2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703-EBB7-45C5-AF9B-6BC71EDA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B48-119E-46C6-8778-1B8F48D2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A10-E442-4A76-AF81-37006CD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F5B-5E73-4470-A916-81C2239E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C26-F1F7-4A1D-AB49-5C61F2B8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0D6-F0B9-4AA3-AE02-8E3265C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053-7B72-4A9C-98D1-871E186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778-CD40-4A5F-A37E-296AF52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8342-BE7F-4965-B25B-EF99085A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/Engineer 20 Installation Guide - Run Setup and select License Management and Pro/Engineer.  Write down your Hostname and PTC HostID displayed in th lower right hand corner (This program requires a NIC card).  Then Click “nex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90720" y="2209680"/>
          <a:ext cx="7010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010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2319480"/>
          <a:ext cx="77724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19480"/>
                    <a:ext cx="77724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nore this and click “O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2319480"/>
          <a:ext cx="77724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19480"/>
                    <a:ext cx="77724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95/98 users read this, take notes, then click OK.  NT users shouldn’t get this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98108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981080"/>
          <a:ext cx="815328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15328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38240" y="1981080"/>
          <a:ext cx="5265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81080"/>
                    <a:ext cx="5265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ify Installation directory path, 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38240" y="1981080"/>
          <a:ext cx="5265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81080"/>
                    <a:ext cx="5265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he Add But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“License File Path” then enter the proper path then click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40040" y="1981080"/>
          <a:ext cx="5263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981080"/>
                    <a:ext cx="5263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938240" y="1981080"/>
          <a:ext cx="5265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81080"/>
                    <a:ext cx="5265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A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 “prostart” in the Command name box then click Attach License to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 the available license to the selected license box then click 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2057400"/>
          <a:ext cx="7010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In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OK.  Once it starts to install it will take a while.  Be sure you have enough space f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95 Users should get this message.  Read it, take notes, click 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X:\ptc\flexlm as your directory where X is a valid hard disc d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1828800"/>
          <a:ext cx="69008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008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Exi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indows Explorer and go to X:\windows\startmenu\programs\Pro Engineer.  Right click on pro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he memory tab, change initial environmnt to 4096 then click a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 up a DOS window and right click on the title bar and selec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he memory tab, change initial environment to 4096 then click apply and close the DOS wind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oot your computer. Then go to Control Panel/Flexlm and click on the Setup Tab. Setup the paths to your lmgrd.exe and license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3880" y="1981080"/>
          <a:ext cx="6096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096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on the Control Tab and hit the Start button.  Then go Start/ProEngineer/ and run prostart!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it works.  Follow the damn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198108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8108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“OK” to create dire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2319480"/>
          <a:ext cx="777240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19480"/>
                    <a:ext cx="777240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 go to Kashmir/SiEGE for his wonderful keymak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ND for making a tutorial installation not even a stupid-ass could fuck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one in LN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nightsky@thepentagon.com if you want further information.  If you can contribute to the LND team by cracking or supplying software/hardware/what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your PTC HostID Matches the one you wrote down earlier.  Click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8153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zip sge-crk.zip to x:\license, run sgegen.exe.  Select the options you want, enter your appropriate Server Host ID, and make sure the daemon path is correct (i486_win95 or i486_NT with the proper drive letter).  Also change Server Name to the Hostname you wrote down. Then click “Make it” and then close the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1981080"/>
          <a:ext cx="656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656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838080" y="1752480"/>
          <a:ext cx="785016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7850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Import License and enter the path to your license.dat (e.g. c:\license\license.dat) click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1981080"/>
          <a:ext cx="78483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8483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ify information then click n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38240" y="1981080"/>
          <a:ext cx="5265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81080"/>
                    <a:ext cx="5265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In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7T23:32:48Z</dcterms:created>
  <dc:creator>Grad</dc:creator>
  <dc:description/>
  <dc:language>en-US</dc:language>
  <cp:lastModifiedBy>Grad</cp:lastModifiedBy>
  <dcterms:modified xsi:type="dcterms:W3CDTF">1998-11-08T01:49:40Z</dcterms:modified>
  <cp:revision>4</cp:revision>
  <dc:subject/>
  <dc:title>Pro/Engineer 20 Installation Guide - Run Setup and select License Management and Pro/Engineer.  Write down your PTC HostID displayed in th lower right hand corner (This program requires a NIC card).  Then Click “next”</dc:title>
</cp:coreProperties>
</file>