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200400" y="0"/>
            <a:ext cx="333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Imag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177840" y="480960"/>
            <a:ext cx="8896320" cy="5843520"/>
            <a:chOff x="177840" y="480960"/>
            <a:chExt cx="8896320" cy="5843520"/>
          </a:xfrm>
        </p:grpSpPr>
        <p:sp>
          <p:nvSpPr>
            <p:cNvPr id="41" name=""/>
            <p:cNvSpPr/>
            <p:nvPr/>
          </p:nvSpPr>
          <p:spPr>
            <a:xfrm flipV="1">
              <a:off x="5867280" y="99684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828800" y="3009960"/>
              <a:ext cx="0" cy="753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09880" y="3005280"/>
              <a:ext cx="0" cy="590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022720" y="20019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299880" y="1219320"/>
              <a:ext cx="0" cy="63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7840" y="1092240"/>
              <a:ext cx="225360" cy="115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392040" y="1036800"/>
              <a:ext cx="11984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_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enum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LaunchInf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229600" y="853920"/>
              <a:ext cx="0" cy="965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086600" y="99864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959280" y="8301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1738440" y="2246400"/>
              <a:ext cx="7035840" cy="77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mode ‘minidriver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002280" y="4175280"/>
              <a:ext cx="1800" cy="244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5760" y="1793880"/>
              <a:ext cx="8597880" cy="382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40160" y="4203720"/>
              <a:ext cx="0" cy="236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2160" y="4741920"/>
              <a:ext cx="0" cy="11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10000" y="50277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79800" y="5675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6440" y="3422520"/>
              <a:ext cx="8540640" cy="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1360" bIns="-81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27160" y="3033720"/>
              <a:ext cx="7412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sp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12760" y="357336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 sp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149480" y="4411800"/>
              <a:ext cx="1295280" cy="596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DM U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149480" y="3578400"/>
              <a:ext cx="1325520" cy="657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DM Still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iver for U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388120" y="3567240"/>
              <a:ext cx="1152360" cy="625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Sc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3516480" y="2732040"/>
              <a:ext cx="9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dFil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562640" y="2732040"/>
              <a:ext cx="98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Fil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5656320" y="2732040"/>
              <a:ext cx="1496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iceIoControl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2352600" y="2732040"/>
              <a:ext cx="1042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Fil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2076480" y="1851120"/>
              <a:ext cx="1251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ror Handl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656240" y="1851120"/>
              <a:ext cx="1351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ing (if req’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325600" y="2354400"/>
              <a:ext cx="10080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ia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7337520" y="1851120"/>
              <a:ext cx="1047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u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2928960" y="1380960"/>
              <a:ext cx="20667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AIN data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7969320" y="4437000"/>
              <a:ext cx="1066680" cy="587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ial Driv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67840" y="3030480"/>
              <a:ext cx="1440" cy="14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92960" y="4632480"/>
              <a:ext cx="26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5378400" y="4411800"/>
              <a:ext cx="1177920" cy="608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T ParCl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6816600" y="3618000"/>
              <a:ext cx="1022400" cy="584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9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M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6721560" y="4441680"/>
              <a:ext cx="1114560" cy="571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3276720" y="3576600"/>
              <a:ext cx="1308240" cy="665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DM Still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iver for SC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6520" y="4411800"/>
              <a:ext cx="1135080" cy="581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2552760" y="4570560"/>
              <a:ext cx="11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T SCSI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8360" y="5811840"/>
              <a:ext cx="650880" cy="407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92360" y="5880240"/>
              <a:ext cx="650880" cy="407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813120" y="5114880"/>
              <a:ext cx="1422360" cy="554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9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SI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417840" y="5867280"/>
              <a:ext cx="808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 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57960" y="424008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816360" y="4397400"/>
              <a:ext cx="142416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T SCSIPORT -&gt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9X SCSI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p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9720" y="42480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8440" y="5533920"/>
              <a:ext cx="165240" cy="1652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450720" y="5510160"/>
              <a:ext cx="17002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New Platform Specific Mo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8440" y="5772240"/>
              <a:ext cx="165240" cy="165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50720" y="5748480"/>
              <a:ext cx="18828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xisting Platform Specific Mo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8440" y="6000840"/>
              <a:ext cx="165240" cy="165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0720" y="5977080"/>
              <a:ext cx="1333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ross Platform Mo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7640" y="423216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87880" y="3035160"/>
              <a:ext cx="0" cy="59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2928960" y="480960"/>
              <a:ext cx="212400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AIN 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928960" y="927000"/>
              <a:ext cx="20667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AIN source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6607080" y="482760"/>
              <a:ext cx="1019160" cy="990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Imag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7765920" y="482760"/>
              <a:ext cx="1308240" cy="1047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Imag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6360" y="5281560"/>
              <a:ext cx="165240" cy="16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458640" y="5257800"/>
              <a:ext cx="1684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Vendor Supplied compon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463760" y="1111320"/>
              <a:ext cx="0" cy="690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41360" y="984240"/>
              <a:ext cx="225360" cy="115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555920" y="843120"/>
              <a:ext cx="11714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STI_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est, escap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tStat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5388120" y="480960"/>
              <a:ext cx="1019160" cy="990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CM 2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03680" y="-158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Imag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9920" y="628560"/>
            <a:ext cx="8745480" cy="5619600"/>
            <a:chOff x="169920" y="628560"/>
            <a:chExt cx="8745480" cy="5619600"/>
          </a:xfrm>
        </p:grpSpPr>
        <p:sp>
          <p:nvSpPr>
            <p:cNvPr id="109" name=""/>
            <p:cNvSpPr/>
            <p:nvPr/>
          </p:nvSpPr>
          <p:spPr>
            <a:xfrm>
              <a:off x="4889520" y="219060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8280" y="1190520"/>
              <a:ext cx="0" cy="208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5640" y="1265400"/>
              <a:ext cx="2318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" y="4687920"/>
              <a:ext cx="85788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459240" y="628560"/>
              <a:ext cx="5240160" cy="53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1960" y="3854520"/>
              <a:ext cx="0" cy="1992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708440" y="5837400"/>
              <a:ext cx="1219320" cy="396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479840" y="5075280"/>
              <a:ext cx="1600200" cy="542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DM Still Imag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SC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27400" y="3841920"/>
              <a:ext cx="0" cy="2004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617920" y="5838840"/>
              <a:ext cx="1219320" cy="396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389320" y="5076720"/>
              <a:ext cx="1600200" cy="541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DM Still Imag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U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3443400" y="1433520"/>
              <a:ext cx="1432080" cy="157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AIN AP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5254560" y="1434960"/>
              <a:ext cx="1455840" cy="1521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CM 2.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8280" y="117648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831000" y="5851440"/>
              <a:ext cx="1219320" cy="396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 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3852720"/>
              <a:ext cx="0" cy="200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99880" y="3286080"/>
              <a:ext cx="8483760" cy="542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Image D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85000" y="301608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292480" y="4064040"/>
              <a:ext cx="186048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Mode Mini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378320" y="4064040"/>
              <a:ext cx="186048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Mode Mini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6637320" y="4065480"/>
              <a:ext cx="186048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Mode Mini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320760" y="1459080"/>
              <a:ext cx="914400" cy="1521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380960" y="1467000"/>
              <a:ext cx="914400" cy="1521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4800" y="1214280"/>
              <a:ext cx="0" cy="20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78400" y="1289160"/>
              <a:ext cx="2318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7191360" y="1428840"/>
              <a:ext cx="1468440" cy="151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IS 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73080" y="300996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78120" y="30146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920" y="5929200"/>
              <a:ext cx="165240" cy="165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22200" y="5905440"/>
              <a:ext cx="1333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ross Platform Modu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7840" y="5610240"/>
              <a:ext cx="165240" cy="16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30120" y="5586480"/>
              <a:ext cx="1684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Vendor Supplied compon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233280" y="4216320"/>
              <a:ext cx="849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33280" y="481176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 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59720" y="219240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390760" y="1467000"/>
              <a:ext cx="914400" cy="1521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9400" y="30146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 Push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27040" y="1517760"/>
            <a:ext cx="8542440" cy="4508280"/>
            <a:chOff x="527040" y="1517760"/>
            <a:chExt cx="8542440" cy="4508280"/>
          </a:xfrm>
        </p:grpSpPr>
        <p:sp>
          <p:nvSpPr>
            <p:cNvPr id="148" name=""/>
            <p:cNvSpPr/>
            <p:nvPr/>
          </p:nvSpPr>
          <p:spPr>
            <a:xfrm flipH="1" flipV="1">
              <a:off x="5187960" y="1892160"/>
              <a:ext cx="1855800" cy="655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603360" y="1517760"/>
              <a:ext cx="4508640" cy="774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ush Model Aware 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5556240" y="3860640"/>
              <a:ext cx="3213000" cy="603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icrosoft Event Mon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27040" y="5479920"/>
              <a:ext cx="6718320" cy="546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till Image De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010280" y="4502160"/>
              <a:ext cx="0" cy="9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8880" y="4971960"/>
              <a:ext cx="0" cy="514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994440" y="4579920"/>
              <a:ext cx="2075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aper inserted 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other device initi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826920" y="3141720"/>
              <a:ext cx="2575080" cy="1828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Image A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(TWAIN,ISI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U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till Image D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98720" y="2281320"/>
              <a:ext cx="0" cy="874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660920" y="2584440"/>
              <a:ext cx="4127400" cy="603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ntrol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29360" y="3206880"/>
              <a:ext cx="0" cy="67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7480" y="2357280"/>
              <a:ext cx="0" cy="314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068960" y="3132000"/>
              <a:ext cx="19288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ubscribe to de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v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5977080" y="1646280"/>
              <a:ext cx="253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aunch and communica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with 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18240" y="3214800"/>
              <a:ext cx="0" cy="2246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853160" y="3246480"/>
              <a:ext cx="19112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cide policy u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ystem 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436680" y="223920"/>
            <a:ext cx="7039080" cy="2811600"/>
            <a:chOff x="436680" y="223920"/>
            <a:chExt cx="7039080" cy="2811600"/>
          </a:xfrm>
        </p:grpSpPr>
        <p:sp>
          <p:nvSpPr>
            <p:cNvPr id="165" name=""/>
            <p:cNvSpPr/>
            <p:nvPr/>
          </p:nvSpPr>
          <p:spPr>
            <a:xfrm>
              <a:off x="450720" y="614520"/>
              <a:ext cx="1465200" cy="12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880" y="10144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436680" y="668160"/>
              <a:ext cx="662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P 5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0680" y="142236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36680" y="1076400"/>
              <a:ext cx="1235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dak DC-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36680" y="1486080"/>
              <a:ext cx="153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itech ProSc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57320" y="117144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74640" y="223920"/>
              <a:ext cx="839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5480" y="1293840"/>
              <a:ext cx="2658960" cy="125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05480" y="1692360"/>
              <a:ext cx="2638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462640" y="1346040"/>
              <a:ext cx="98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otos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13400" y="2101680"/>
              <a:ext cx="2614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5462640" y="1755720"/>
              <a:ext cx="923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ctureIt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462640" y="2163600"/>
              <a:ext cx="1843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ing for Windo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4465800" y="223920"/>
              <a:ext cx="3009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ice event        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834080" y="1387440"/>
              <a:ext cx="3603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532400" y="669960"/>
              <a:ext cx="10317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fer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581800" y="682560"/>
              <a:ext cx="12812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sh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834080" y="1843200"/>
              <a:ext cx="360360" cy="253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34080" y="2236680"/>
              <a:ext cx="36036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77000" y="409680"/>
              <a:ext cx="19692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05000" y="614520"/>
              <a:ext cx="1465200" cy="12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16160" y="10126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171520" y="668160"/>
              <a:ext cx="1136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per det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44600" y="142236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2171520" y="1076400"/>
              <a:ext cx="1147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tton p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171520" y="1484280"/>
              <a:ext cx="1536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F paper det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7920" y="1168560"/>
              <a:ext cx="473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2428920" y="223920"/>
              <a:ext cx="1409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sh” ev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4660920" y="2746440"/>
              <a:ext cx="851040" cy="28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 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6423120" y="2727360"/>
              <a:ext cx="851040" cy="28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elect 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33280" y="0"/>
            <a:ext cx="8682120" cy="6661080"/>
            <a:chOff x="233280" y="0"/>
            <a:chExt cx="8682120" cy="6661080"/>
          </a:xfrm>
        </p:grpSpPr>
        <p:sp>
          <p:nvSpPr>
            <p:cNvPr id="197" name=""/>
            <p:cNvSpPr txBox="1"/>
            <p:nvPr/>
          </p:nvSpPr>
          <p:spPr>
            <a:xfrm>
              <a:off x="1469880" y="0"/>
              <a:ext cx="253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Image De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8280" y="1450800"/>
              <a:ext cx="0" cy="143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5640" y="1281240"/>
              <a:ext cx="2318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6600" y="4703760"/>
              <a:ext cx="85788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321000" y="741240"/>
              <a:ext cx="165888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89800" y="4233960"/>
              <a:ext cx="0" cy="2004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6418440" y="5521320"/>
              <a:ext cx="2373480" cy="56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deoCap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d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6362640" y="4863960"/>
              <a:ext cx="2422440" cy="541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DM Stream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3363840" y="1711440"/>
              <a:ext cx="1641600" cy="9525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AIN 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Sourc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457200" y="2901960"/>
              <a:ext cx="4529160" cy="542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Image DD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1138320" y="3708360"/>
              <a:ext cx="3014640" cy="417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Mode Minid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507960" y="1716120"/>
              <a:ext cx="1238400" cy="9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1987560" y="1724040"/>
              <a:ext cx="1238400" cy="919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78400" y="1305000"/>
              <a:ext cx="2318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30320" y="262584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68520" y="264960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6880" y="5945040"/>
              <a:ext cx="165240" cy="165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79520" y="5921280"/>
              <a:ext cx="1303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Microsoft compon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800" y="5626080"/>
              <a:ext cx="165240" cy="16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487440" y="5602320"/>
              <a:ext cx="1684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Vendor Supplied compon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233280" y="4232160"/>
              <a:ext cx="849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233280" y="482760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 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6915240" y="6264360"/>
              <a:ext cx="1219320" cy="396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224760" y="3700440"/>
              <a:ext cx="2673360" cy="542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eMovie 2.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67360" y="3897360"/>
              <a:ext cx="208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62040" y="346536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6603840" y="741240"/>
              <a:ext cx="165888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1444680"/>
              <a:ext cx="0" cy="221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4520" y="5292720"/>
              <a:ext cx="165240" cy="1652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496800" y="5268960"/>
              <a:ext cx="31035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uld a generic component but for now, vendor suppli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6308640" y="0"/>
              <a:ext cx="1884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deo De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81800" y="792000"/>
              <a:ext cx="0" cy="360864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gross</dc:creator>
  <dc:description/>
  <dc:language>en-US</dc:language>
  <cp:lastModifiedBy>Robert Gross</cp:lastModifiedBy>
  <cp:revision>0</cp:revision>
  <dc:subject/>
  <dc:title>No Slide Title</dc:title>
</cp:coreProperties>
</file>