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76320"/>
            <a:ext cx="8839080" cy="6723360"/>
            <a:chOff x="152280" y="76320"/>
            <a:chExt cx="8839080" cy="6723360"/>
          </a:xfrm>
        </p:grpSpPr>
        <p:sp>
          <p:nvSpPr>
            <p:cNvPr id="1" name=""/>
            <p:cNvSpPr/>
            <p:nvPr/>
          </p:nvSpPr>
          <p:spPr>
            <a:xfrm>
              <a:off x="152280" y="228600"/>
              <a:ext cx="8839080" cy="6324480"/>
            </a:xfrm>
            <a:prstGeom prst="rect">
              <a:avLst/>
            </a:prstGeom>
            <a:noFill/>
            <a:ln w="25560">
              <a:solidFill>
                <a:srgbClr val="fde3ba"/>
              </a:solidFill>
              <a:custDash>
                <a:ds d="49296" sp="49296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001960" y="76320"/>
              <a:ext cx="5313600" cy="6723360"/>
              <a:chOff x="2001960" y="76320"/>
              <a:chExt cx="5313600" cy="67233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400800" y="76320"/>
                <a:ext cx="914760" cy="762120"/>
                <a:chOff x="6400800" y="76320"/>
                <a:chExt cx="914760" cy="7621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532560" y="15228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400800" y="763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57b49"/>
                </a:solidFill>
                <a:ln w="12600">
                  <a:solidFill>
                    <a:srgbClr val="f57b4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01960" y="6019920"/>
                <a:ext cx="1005120" cy="779760"/>
                <a:chOff x="2001960" y="6019920"/>
                <a:chExt cx="1005120" cy="7797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224080" y="61135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01960" y="60199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f57b49"/>
                </a:solidFill>
                <a:ln w="12600">
                  <a:solidFill>
                    <a:srgbClr val="f57b4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a27c"/>
                </a:solidFill>
                <a:latin typeface="Times New Roman"/>
                <a:ea typeface="Times New Roman"/>
              </a:rPr>
              <a:t>Communicating Bad N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a27c"/>
                </a:solidFill>
                <a:latin typeface="Times New Roman"/>
                <a:ea typeface="Times New Roman"/>
              </a:rPr>
              <a:t>Our Sit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State the bad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Be clear, don’t try to obscure the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a27c"/>
                </a:solidFill>
                <a:latin typeface="Times New Roman"/>
                <a:ea typeface="Times New Roman"/>
              </a:rPr>
              <a:t>How Did This Happe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Any relevant history, facts, or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Original assumptions that are no longer va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a27c"/>
                </a:solidFill>
                <a:latin typeface="Times New Roman"/>
                <a:ea typeface="Times New Roman"/>
              </a:rPr>
              <a:t>Alternatives Conside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Present alternative courses of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Discuss pros/cons of ea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a27c"/>
                </a:solidFill>
                <a:latin typeface="Times New Roman"/>
                <a:ea typeface="Times New Roman"/>
              </a:rPr>
              <a:t>Recommendation or Dec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State the recommended course of action or d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Discuss how recommendation addresses the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Discuss how plan will address hardships resulting from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a27c"/>
                </a:solidFill>
                <a:latin typeface="Times New Roman"/>
                <a:ea typeface="Times New Roman"/>
              </a:rPr>
              <a:t>Our Vision for the 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Reaffirm y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Set expectations for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Set a time for expec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a27c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Key points to remember that will give audience confidence or improve mor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 Corporation</cp:lastModifiedBy>
  <cp:revision>0</cp:revision>
  <dc:subject/>
  <dc:title>Communicating Bad News</dc:title>
</cp:coreProperties>
</file>