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57200"/>
            <a:ext cx="9129600" cy="6019920"/>
            <a:chOff x="3240" y="457200"/>
            <a:chExt cx="912960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3240" y="4286160"/>
              <a:ext cx="9129600" cy="1524240"/>
              <a:chOff x="3240" y="4286160"/>
              <a:chExt cx="912960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324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324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648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50920" y="914400"/>
            <a:ext cx="6842160" cy="76212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de0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de0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