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76320" y="0"/>
            <a:ext cx="8997840" cy="6845400"/>
            <a:chOff x="76320" y="0"/>
            <a:chExt cx="8997840" cy="6845400"/>
          </a:xfrm>
        </p:grpSpPr>
        <p:grpSp>
          <p:nvGrpSpPr>
            <p:cNvPr id="1" name=""/>
            <p:cNvGrpSpPr/>
            <p:nvPr/>
          </p:nvGrpSpPr>
          <p:grpSpPr>
            <a:xfrm>
              <a:off x="914400" y="0"/>
              <a:ext cx="8159760" cy="6845400"/>
              <a:chOff x="914400" y="0"/>
              <a:chExt cx="8159760" cy="68454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8077320" y="0"/>
                <a:ext cx="996840" cy="6845400"/>
                <a:chOff x="8077320" y="0"/>
                <a:chExt cx="996840" cy="68454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8077320" y="0"/>
                  <a:ext cx="996840" cy="6845400"/>
                </a:xfrm>
                <a:prstGeom prst="rect">
                  <a:avLst/>
                </a:prstGeom>
                <a:solidFill>
                  <a:srgbClr val="4e4e4e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" name=""/>
                <p:cNvGrpSpPr/>
                <p:nvPr/>
              </p:nvGrpSpPr>
              <p:grpSpPr>
                <a:xfrm>
                  <a:off x="8121600" y="0"/>
                  <a:ext cx="903240" cy="6845400"/>
                  <a:chOff x="8121600" y="0"/>
                  <a:chExt cx="903240" cy="6845400"/>
                </a:xfrm>
              </p:grpSpPr>
              <p:grpSp>
                <p:nvGrpSpPr>
                  <p:cNvPr id="5" name=""/>
                  <p:cNvGrpSpPr/>
                  <p:nvPr/>
                </p:nvGrpSpPr>
                <p:grpSpPr>
                  <a:xfrm>
                    <a:off x="8121600" y="0"/>
                    <a:ext cx="644400" cy="6845400"/>
                    <a:chOff x="8121600" y="0"/>
                    <a:chExt cx="644400" cy="6845400"/>
                  </a:xfrm>
                </p:grpSpPr>
                <p:sp>
                  <p:nvSpPr>
                    <p:cNvPr id="6" name=""/>
                    <p:cNvSpPr/>
                    <p:nvPr/>
                  </p:nvSpPr>
                  <p:spPr>
                    <a:xfrm>
                      <a:off x="8121600" y="0"/>
                      <a:ext cx="171360" cy="6845400"/>
                    </a:xfrm>
                    <a:prstGeom prst="rect">
                      <a:avLst/>
                    </a:prstGeom>
                    <a:solidFill>
                      <a:srgbClr val="474747"/>
                    </a:solidFill>
                    <a:ln w="0">
                      <a:noFill/>
                    </a:ln>
                  </p:spPr>
                  <p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" name=""/>
                    <p:cNvSpPr/>
                    <p:nvPr/>
                  </p:nvSpPr>
                  <p:spPr>
                    <a:xfrm>
                      <a:off x="8594640" y="0"/>
                      <a:ext cx="171360" cy="6845400"/>
                    </a:xfrm>
                    <a:prstGeom prst="rect">
                      <a:avLst/>
                    </a:prstGeom>
                    <a:solidFill>
                      <a:srgbClr val="474747"/>
                    </a:solidFill>
                    <a:ln w="0">
                      <a:noFill/>
                    </a:ln>
                  </p:spPr>
                  <p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" name=""/>
                  <p:cNvGrpSpPr/>
                  <p:nvPr/>
                </p:nvGrpSpPr>
                <p:grpSpPr>
                  <a:xfrm>
                    <a:off x="8337600" y="0"/>
                    <a:ext cx="600120" cy="6845400"/>
                    <a:chOff x="8337600" y="0"/>
                    <a:chExt cx="600120" cy="6845400"/>
                  </a:xfrm>
                </p:grpSpPr>
                <p:sp>
                  <p:nvSpPr>
                    <p:cNvPr id="9" name=""/>
                    <p:cNvSpPr/>
                    <p:nvPr/>
                  </p:nvSpPr>
                  <p:spPr>
                    <a:xfrm>
                      <a:off x="8337600" y="0"/>
                      <a:ext cx="125280" cy="6845400"/>
                    </a:xfrm>
                    <a:prstGeom prst="rect">
                      <a:avLst/>
                    </a:prstGeom>
                    <a:solidFill>
                      <a:srgbClr val="474747"/>
                    </a:solidFill>
                    <a:ln w="0">
                      <a:noFill/>
                    </a:ln>
                  </p:spPr>
                  <p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" name=""/>
                    <p:cNvSpPr/>
                    <p:nvPr/>
                  </p:nvSpPr>
                  <p:spPr>
                    <a:xfrm>
                      <a:off x="8810640" y="0"/>
                      <a:ext cx="127080" cy="6845400"/>
                    </a:xfrm>
                    <a:prstGeom prst="rect">
                      <a:avLst/>
                    </a:prstGeom>
                    <a:solidFill>
                      <a:srgbClr val="474747"/>
                    </a:solidFill>
                    <a:ln w="0">
                      <a:noFill/>
                    </a:ln>
                  </p:spPr>
                  <p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" name=""/>
                  <p:cNvGrpSpPr/>
                  <p:nvPr/>
                </p:nvGrpSpPr>
                <p:grpSpPr>
                  <a:xfrm>
                    <a:off x="8510760" y="0"/>
                    <a:ext cx="514080" cy="6845400"/>
                    <a:chOff x="8510760" y="0"/>
                    <a:chExt cx="514080" cy="6845400"/>
                  </a:xfrm>
                </p:grpSpPr>
                <p:sp>
                  <p:nvSpPr>
                    <p:cNvPr id="12" name=""/>
                    <p:cNvSpPr/>
                    <p:nvPr/>
                  </p:nvSpPr>
                  <p:spPr>
                    <a:xfrm>
                      <a:off x="8510760" y="0"/>
                      <a:ext cx="39600" cy="6845400"/>
                    </a:xfrm>
                    <a:prstGeom prst="rect">
                      <a:avLst/>
                    </a:prstGeom>
                    <a:solidFill>
                      <a:srgbClr val="474747"/>
                    </a:solidFill>
                    <a:ln w="0">
                      <a:noFill/>
                    </a:ln>
                  </p:spPr>
                  <p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" name=""/>
                    <p:cNvSpPr/>
                    <p:nvPr/>
                  </p:nvSpPr>
                  <p:spPr>
                    <a:xfrm>
                      <a:off x="8985240" y="0"/>
                      <a:ext cx="39600" cy="6845400"/>
                    </a:xfrm>
                    <a:prstGeom prst="rect">
                      <a:avLst/>
                    </a:prstGeom>
                    <a:solidFill>
                      <a:srgbClr val="474747"/>
                    </a:solidFill>
                    <a:ln w="0">
                      <a:noFill/>
                    </a:ln>
                  </p:spPr>
                  <p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4" name=""/>
                <p:cNvGrpSpPr/>
                <p:nvPr/>
              </p:nvGrpSpPr>
              <p:grpSpPr>
                <a:xfrm>
                  <a:off x="8116920" y="270000"/>
                  <a:ext cx="662400" cy="6277320"/>
                  <a:chOff x="8116920" y="270000"/>
                  <a:chExt cx="662400" cy="6277320"/>
                </a:xfrm>
              </p:grpSpPr>
              <p:grpSp>
                <p:nvGrpSpPr>
                  <p:cNvPr id="15" name=""/>
                  <p:cNvGrpSpPr/>
                  <p:nvPr/>
                </p:nvGrpSpPr>
                <p:grpSpPr>
                  <a:xfrm>
                    <a:off x="8116920" y="270000"/>
                    <a:ext cx="662400" cy="1748160"/>
                    <a:chOff x="8116920" y="270000"/>
                    <a:chExt cx="662400" cy="1748160"/>
                  </a:xfrm>
                </p:grpSpPr>
                <p:sp>
                  <p:nvSpPr>
                    <p:cNvPr id="16" name=""/>
                    <p:cNvSpPr/>
                    <p:nvPr/>
                  </p:nvSpPr>
                  <p:spPr>
                    <a:xfrm>
                      <a:off x="8589960" y="270000"/>
                      <a:ext cx="189360" cy="81000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526" h="2250">
                          <a:moveTo>
                            <a:pt x="257" y="0"/>
                          </a:moveTo>
                          <a:lnTo>
                            <a:pt x="0" y="1138"/>
                          </a:lnTo>
                          <a:lnTo>
                            <a:pt x="257" y="2250"/>
                          </a:lnTo>
                          <a:lnTo>
                            <a:pt x="526" y="1138"/>
                          </a:lnTo>
                          <a:lnTo>
                            <a:pt x="257" y="0"/>
                          </a:lnTo>
                          <a:close/>
                        </a:path>
                      </a:pathLst>
                    </a:custGeom>
                    <a:solidFill>
                      <a:srgbClr val="474747"/>
                    </a:solidFill>
                    <a:ln w="25560">
                      <a:solidFill>
                        <a:srgbClr val="4e4e4e"/>
                      </a:solidFill>
                      <a:round/>
                    </a:ln>
                  </p:spPr>
                  <p:txBody>
                    <a:bodyPr lIns="102600" rIns="102600" tIns="57600" bIns="57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" name=""/>
                    <p:cNvSpPr/>
                    <p:nvPr/>
                  </p:nvSpPr>
                  <p:spPr>
                    <a:xfrm>
                      <a:off x="8116920" y="270000"/>
                      <a:ext cx="189360" cy="81000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526" h="2250">
                          <a:moveTo>
                            <a:pt x="257" y="0"/>
                          </a:moveTo>
                          <a:lnTo>
                            <a:pt x="0" y="1138"/>
                          </a:lnTo>
                          <a:lnTo>
                            <a:pt x="257" y="2250"/>
                          </a:lnTo>
                          <a:lnTo>
                            <a:pt x="526" y="1138"/>
                          </a:lnTo>
                          <a:lnTo>
                            <a:pt x="257" y="0"/>
                          </a:lnTo>
                          <a:close/>
                        </a:path>
                      </a:pathLst>
                    </a:custGeom>
                    <a:solidFill>
                      <a:srgbClr val="474747"/>
                    </a:solidFill>
                    <a:ln w="25560">
                      <a:solidFill>
                        <a:srgbClr val="4e4e4e"/>
                      </a:solidFill>
                      <a:round/>
                    </a:ln>
                  </p:spPr>
                  <p:txBody>
                    <a:bodyPr lIns="102600" rIns="102600" tIns="57600" bIns="57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" name=""/>
                    <p:cNvSpPr/>
                    <p:nvPr/>
                  </p:nvSpPr>
                  <p:spPr>
                    <a:xfrm>
                      <a:off x="8589960" y="1208160"/>
                      <a:ext cx="189360" cy="81000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526" h="2250">
                          <a:moveTo>
                            <a:pt x="257" y="0"/>
                          </a:moveTo>
                          <a:lnTo>
                            <a:pt x="0" y="1138"/>
                          </a:lnTo>
                          <a:lnTo>
                            <a:pt x="257" y="2250"/>
                          </a:lnTo>
                          <a:lnTo>
                            <a:pt x="526" y="1138"/>
                          </a:lnTo>
                          <a:lnTo>
                            <a:pt x="257" y="0"/>
                          </a:lnTo>
                          <a:close/>
                        </a:path>
                      </a:pathLst>
                    </a:custGeom>
                    <a:solidFill>
                      <a:srgbClr val="474747"/>
                    </a:solidFill>
                    <a:ln w="25560">
                      <a:solidFill>
                        <a:srgbClr val="4e4e4e"/>
                      </a:solidFill>
                      <a:round/>
                    </a:ln>
                  </p:spPr>
                  <p:txBody>
                    <a:bodyPr lIns="102600" rIns="102600" tIns="57600" bIns="57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" name=""/>
                    <p:cNvSpPr/>
                    <p:nvPr/>
                  </p:nvSpPr>
                  <p:spPr>
                    <a:xfrm>
                      <a:off x="8116920" y="1208160"/>
                      <a:ext cx="189360" cy="81000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526" h="2250">
                          <a:moveTo>
                            <a:pt x="257" y="0"/>
                          </a:moveTo>
                          <a:lnTo>
                            <a:pt x="0" y="1138"/>
                          </a:lnTo>
                          <a:lnTo>
                            <a:pt x="257" y="2250"/>
                          </a:lnTo>
                          <a:lnTo>
                            <a:pt x="526" y="1138"/>
                          </a:lnTo>
                          <a:lnTo>
                            <a:pt x="257" y="0"/>
                          </a:lnTo>
                          <a:close/>
                        </a:path>
                      </a:pathLst>
                    </a:custGeom>
                    <a:solidFill>
                      <a:srgbClr val="474747"/>
                    </a:solidFill>
                    <a:ln w="25560">
                      <a:solidFill>
                        <a:srgbClr val="4e4e4e"/>
                      </a:solidFill>
                      <a:round/>
                    </a:ln>
                  </p:spPr>
                  <p:txBody>
                    <a:bodyPr lIns="102600" rIns="102600" tIns="57600" bIns="57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" name=""/>
                  <p:cNvGrpSpPr/>
                  <p:nvPr/>
                </p:nvGrpSpPr>
                <p:grpSpPr>
                  <a:xfrm>
                    <a:off x="8116920" y="2536920"/>
                    <a:ext cx="662400" cy="1748160"/>
                    <a:chOff x="8116920" y="2536920"/>
                    <a:chExt cx="662400" cy="1748160"/>
                  </a:xfrm>
                </p:grpSpPr>
                <p:sp>
                  <p:nvSpPr>
                    <p:cNvPr id="21" name=""/>
                    <p:cNvSpPr/>
                    <p:nvPr/>
                  </p:nvSpPr>
                  <p:spPr>
                    <a:xfrm>
                      <a:off x="8589960" y="2536920"/>
                      <a:ext cx="189360" cy="81000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526" h="2250">
                          <a:moveTo>
                            <a:pt x="257" y="0"/>
                          </a:moveTo>
                          <a:lnTo>
                            <a:pt x="0" y="1138"/>
                          </a:lnTo>
                          <a:lnTo>
                            <a:pt x="257" y="2250"/>
                          </a:lnTo>
                          <a:lnTo>
                            <a:pt x="526" y="1138"/>
                          </a:lnTo>
                          <a:lnTo>
                            <a:pt x="257" y="0"/>
                          </a:lnTo>
                          <a:close/>
                        </a:path>
                      </a:pathLst>
                    </a:custGeom>
                    <a:solidFill>
                      <a:srgbClr val="474747"/>
                    </a:solidFill>
                    <a:ln w="25560">
                      <a:solidFill>
                        <a:srgbClr val="4e4e4e"/>
                      </a:solidFill>
                      <a:round/>
                    </a:ln>
                  </p:spPr>
                  <p:txBody>
                    <a:bodyPr lIns="102600" rIns="102600" tIns="57600" bIns="57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" name=""/>
                    <p:cNvSpPr/>
                    <p:nvPr/>
                  </p:nvSpPr>
                  <p:spPr>
                    <a:xfrm>
                      <a:off x="8116920" y="2536920"/>
                      <a:ext cx="189360" cy="81000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526" h="2250">
                          <a:moveTo>
                            <a:pt x="257" y="0"/>
                          </a:moveTo>
                          <a:lnTo>
                            <a:pt x="0" y="1138"/>
                          </a:lnTo>
                          <a:lnTo>
                            <a:pt x="257" y="2250"/>
                          </a:lnTo>
                          <a:lnTo>
                            <a:pt x="526" y="1138"/>
                          </a:lnTo>
                          <a:lnTo>
                            <a:pt x="257" y="0"/>
                          </a:lnTo>
                          <a:close/>
                        </a:path>
                      </a:pathLst>
                    </a:custGeom>
                    <a:solidFill>
                      <a:srgbClr val="474747"/>
                    </a:solidFill>
                    <a:ln w="25560">
                      <a:solidFill>
                        <a:srgbClr val="4e4e4e"/>
                      </a:solidFill>
                      <a:round/>
                    </a:ln>
                  </p:spPr>
                  <p:txBody>
                    <a:bodyPr lIns="102600" rIns="102600" tIns="57600" bIns="57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" name=""/>
                    <p:cNvSpPr/>
                    <p:nvPr/>
                  </p:nvSpPr>
                  <p:spPr>
                    <a:xfrm>
                      <a:off x="8589960" y="3475080"/>
                      <a:ext cx="189360" cy="81000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526" h="2250">
                          <a:moveTo>
                            <a:pt x="257" y="0"/>
                          </a:moveTo>
                          <a:lnTo>
                            <a:pt x="0" y="1138"/>
                          </a:lnTo>
                          <a:lnTo>
                            <a:pt x="257" y="2250"/>
                          </a:lnTo>
                          <a:lnTo>
                            <a:pt x="526" y="1138"/>
                          </a:lnTo>
                          <a:lnTo>
                            <a:pt x="257" y="0"/>
                          </a:lnTo>
                          <a:close/>
                        </a:path>
                      </a:pathLst>
                    </a:custGeom>
                    <a:solidFill>
                      <a:srgbClr val="474747"/>
                    </a:solidFill>
                    <a:ln w="25560">
                      <a:solidFill>
                        <a:srgbClr val="4e4e4e"/>
                      </a:solidFill>
                      <a:round/>
                    </a:ln>
                  </p:spPr>
                  <p:txBody>
                    <a:bodyPr lIns="102600" rIns="102600" tIns="57600" bIns="57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" name=""/>
                    <p:cNvSpPr/>
                    <p:nvPr/>
                  </p:nvSpPr>
                  <p:spPr>
                    <a:xfrm>
                      <a:off x="8116920" y="3475080"/>
                      <a:ext cx="189360" cy="81000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526" h="2250">
                          <a:moveTo>
                            <a:pt x="257" y="0"/>
                          </a:moveTo>
                          <a:lnTo>
                            <a:pt x="0" y="1138"/>
                          </a:lnTo>
                          <a:lnTo>
                            <a:pt x="257" y="2250"/>
                          </a:lnTo>
                          <a:lnTo>
                            <a:pt x="526" y="1138"/>
                          </a:lnTo>
                          <a:lnTo>
                            <a:pt x="257" y="0"/>
                          </a:lnTo>
                          <a:close/>
                        </a:path>
                      </a:pathLst>
                    </a:custGeom>
                    <a:solidFill>
                      <a:srgbClr val="474747"/>
                    </a:solidFill>
                    <a:ln w="25560">
                      <a:solidFill>
                        <a:srgbClr val="4e4e4e"/>
                      </a:solidFill>
                      <a:round/>
                    </a:ln>
                  </p:spPr>
                  <p:txBody>
                    <a:bodyPr lIns="102600" rIns="102600" tIns="57600" bIns="57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" name=""/>
                  <p:cNvGrpSpPr/>
                  <p:nvPr/>
                </p:nvGrpSpPr>
                <p:grpSpPr>
                  <a:xfrm>
                    <a:off x="8116920" y="4799160"/>
                    <a:ext cx="662400" cy="1748160"/>
                    <a:chOff x="8116920" y="4799160"/>
                    <a:chExt cx="662400" cy="1748160"/>
                  </a:xfrm>
                </p:grpSpPr>
                <p:sp>
                  <p:nvSpPr>
                    <p:cNvPr id="26" name=""/>
                    <p:cNvSpPr/>
                    <p:nvPr/>
                  </p:nvSpPr>
                  <p:spPr>
                    <a:xfrm>
                      <a:off x="8589960" y="4799160"/>
                      <a:ext cx="189360" cy="81000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526" h="2250">
                          <a:moveTo>
                            <a:pt x="257" y="0"/>
                          </a:moveTo>
                          <a:lnTo>
                            <a:pt x="0" y="1138"/>
                          </a:lnTo>
                          <a:lnTo>
                            <a:pt x="257" y="2250"/>
                          </a:lnTo>
                          <a:lnTo>
                            <a:pt x="526" y="1138"/>
                          </a:lnTo>
                          <a:lnTo>
                            <a:pt x="257" y="0"/>
                          </a:lnTo>
                          <a:close/>
                        </a:path>
                      </a:pathLst>
                    </a:custGeom>
                    <a:solidFill>
                      <a:srgbClr val="474747"/>
                    </a:solidFill>
                    <a:ln w="25560">
                      <a:solidFill>
                        <a:srgbClr val="4e4e4e"/>
                      </a:solidFill>
                      <a:round/>
                    </a:ln>
                  </p:spPr>
                  <p:txBody>
                    <a:bodyPr lIns="102600" rIns="102600" tIns="57600" bIns="57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" name=""/>
                    <p:cNvSpPr/>
                    <p:nvPr/>
                  </p:nvSpPr>
                  <p:spPr>
                    <a:xfrm>
                      <a:off x="8116920" y="4799160"/>
                      <a:ext cx="189360" cy="81000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526" h="2250">
                          <a:moveTo>
                            <a:pt x="257" y="0"/>
                          </a:moveTo>
                          <a:lnTo>
                            <a:pt x="0" y="1138"/>
                          </a:lnTo>
                          <a:lnTo>
                            <a:pt x="257" y="2250"/>
                          </a:lnTo>
                          <a:lnTo>
                            <a:pt x="526" y="1138"/>
                          </a:lnTo>
                          <a:lnTo>
                            <a:pt x="257" y="0"/>
                          </a:lnTo>
                          <a:close/>
                        </a:path>
                      </a:pathLst>
                    </a:custGeom>
                    <a:solidFill>
                      <a:srgbClr val="474747"/>
                    </a:solidFill>
                    <a:ln w="25560">
                      <a:solidFill>
                        <a:srgbClr val="4e4e4e"/>
                      </a:solidFill>
                      <a:round/>
                    </a:ln>
                  </p:spPr>
                  <p:txBody>
                    <a:bodyPr lIns="102600" rIns="102600" tIns="57600" bIns="57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" name=""/>
                    <p:cNvSpPr/>
                    <p:nvPr/>
                  </p:nvSpPr>
                  <p:spPr>
                    <a:xfrm>
                      <a:off x="8589960" y="5737320"/>
                      <a:ext cx="189360" cy="81000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526" h="2250">
                          <a:moveTo>
                            <a:pt x="257" y="0"/>
                          </a:moveTo>
                          <a:lnTo>
                            <a:pt x="0" y="1138"/>
                          </a:lnTo>
                          <a:lnTo>
                            <a:pt x="257" y="2250"/>
                          </a:lnTo>
                          <a:lnTo>
                            <a:pt x="526" y="1138"/>
                          </a:lnTo>
                          <a:lnTo>
                            <a:pt x="257" y="0"/>
                          </a:lnTo>
                          <a:close/>
                        </a:path>
                      </a:pathLst>
                    </a:custGeom>
                    <a:solidFill>
                      <a:srgbClr val="474747"/>
                    </a:solidFill>
                    <a:ln w="25560">
                      <a:solidFill>
                        <a:srgbClr val="4e4e4e"/>
                      </a:solidFill>
                      <a:round/>
                    </a:ln>
                  </p:spPr>
                  <p:txBody>
                    <a:bodyPr lIns="102600" rIns="102600" tIns="57600" bIns="57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" name=""/>
                    <p:cNvSpPr/>
                    <p:nvPr/>
                  </p:nvSpPr>
                  <p:spPr>
                    <a:xfrm>
                      <a:off x="8116920" y="5737320"/>
                      <a:ext cx="189360" cy="81000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526" h="2250">
                          <a:moveTo>
                            <a:pt x="257" y="0"/>
                          </a:moveTo>
                          <a:lnTo>
                            <a:pt x="0" y="1138"/>
                          </a:lnTo>
                          <a:lnTo>
                            <a:pt x="257" y="2250"/>
                          </a:lnTo>
                          <a:lnTo>
                            <a:pt x="526" y="1138"/>
                          </a:lnTo>
                          <a:lnTo>
                            <a:pt x="257" y="0"/>
                          </a:lnTo>
                          <a:close/>
                        </a:path>
                      </a:pathLst>
                    </a:custGeom>
                    <a:solidFill>
                      <a:srgbClr val="474747"/>
                    </a:solidFill>
                    <a:ln w="25560">
                      <a:solidFill>
                        <a:srgbClr val="4e4e4e"/>
                      </a:solidFill>
                      <a:round/>
                    </a:ln>
                  </p:spPr>
                  <p:txBody>
                    <a:bodyPr lIns="102600" rIns="102600" tIns="57600" bIns="57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30" name=""/>
              <p:cNvGrpSpPr/>
              <p:nvPr/>
            </p:nvGrpSpPr>
            <p:grpSpPr>
              <a:xfrm>
                <a:off x="6883560" y="0"/>
                <a:ext cx="995400" cy="6845400"/>
                <a:chOff x="6883560" y="0"/>
                <a:chExt cx="995400" cy="6845400"/>
              </a:xfrm>
            </p:grpSpPr>
            <p:sp>
              <p:nvSpPr>
                <p:cNvPr id="31" name=""/>
                <p:cNvSpPr/>
                <p:nvPr/>
              </p:nvSpPr>
              <p:spPr>
                <a:xfrm>
                  <a:off x="6883560" y="0"/>
                  <a:ext cx="995400" cy="6845400"/>
                </a:xfrm>
                <a:prstGeom prst="rect">
                  <a:avLst/>
                </a:prstGeom>
                <a:solidFill>
                  <a:srgbClr val="4e4e4e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2" name=""/>
                <p:cNvGrpSpPr/>
                <p:nvPr/>
              </p:nvGrpSpPr>
              <p:grpSpPr>
                <a:xfrm>
                  <a:off x="6927840" y="0"/>
                  <a:ext cx="903240" cy="6845400"/>
                  <a:chOff x="6927840" y="0"/>
                  <a:chExt cx="903240" cy="6845400"/>
                </a:xfrm>
              </p:grpSpPr>
              <p:grpSp>
                <p:nvGrpSpPr>
                  <p:cNvPr id="33" name=""/>
                  <p:cNvGrpSpPr/>
                  <p:nvPr/>
                </p:nvGrpSpPr>
                <p:grpSpPr>
                  <a:xfrm>
                    <a:off x="6927840" y="0"/>
                    <a:ext cx="646200" cy="6845400"/>
                    <a:chOff x="6927840" y="0"/>
                    <a:chExt cx="646200" cy="6845400"/>
                  </a:xfrm>
                </p:grpSpPr>
                <p:sp>
                  <p:nvSpPr>
                    <p:cNvPr id="34" name=""/>
                    <p:cNvSpPr/>
                    <p:nvPr/>
                  </p:nvSpPr>
                  <p:spPr>
                    <a:xfrm>
                      <a:off x="6927840" y="0"/>
                      <a:ext cx="171360" cy="6845400"/>
                    </a:xfrm>
                    <a:prstGeom prst="rect">
                      <a:avLst/>
                    </a:prstGeom>
                    <a:solidFill>
                      <a:srgbClr val="474747"/>
                    </a:solidFill>
                    <a:ln w="0">
                      <a:noFill/>
                    </a:ln>
                  </p:spPr>
                  <p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" name=""/>
                    <p:cNvSpPr/>
                    <p:nvPr/>
                  </p:nvSpPr>
                  <p:spPr>
                    <a:xfrm>
                      <a:off x="7402680" y="0"/>
                      <a:ext cx="171360" cy="6845400"/>
                    </a:xfrm>
                    <a:prstGeom prst="rect">
                      <a:avLst/>
                    </a:prstGeom>
                    <a:solidFill>
                      <a:srgbClr val="474747"/>
                    </a:solidFill>
                    <a:ln w="0">
                      <a:noFill/>
                    </a:ln>
                  </p:spPr>
                  <p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" name=""/>
                  <p:cNvGrpSpPr/>
                  <p:nvPr/>
                </p:nvGrpSpPr>
                <p:grpSpPr>
                  <a:xfrm>
                    <a:off x="7142040" y="0"/>
                    <a:ext cx="601560" cy="6845400"/>
                    <a:chOff x="7142040" y="0"/>
                    <a:chExt cx="601560" cy="6845400"/>
                  </a:xfrm>
                </p:grpSpPr>
                <p:sp>
                  <p:nvSpPr>
                    <p:cNvPr id="37" name=""/>
                    <p:cNvSpPr/>
                    <p:nvPr/>
                  </p:nvSpPr>
                  <p:spPr>
                    <a:xfrm>
                      <a:off x="7142040" y="0"/>
                      <a:ext cx="128520" cy="6845400"/>
                    </a:xfrm>
                    <a:prstGeom prst="rect">
                      <a:avLst/>
                    </a:prstGeom>
                    <a:solidFill>
                      <a:srgbClr val="474747"/>
                    </a:solidFill>
                    <a:ln w="0">
                      <a:noFill/>
                    </a:ln>
                  </p:spPr>
                  <p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" name=""/>
                    <p:cNvSpPr/>
                    <p:nvPr/>
                  </p:nvSpPr>
                  <p:spPr>
                    <a:xfrm>
                      <a:off x="7615080" y="0"/>
                      <a:ext cx="128520" cy="6845400"/>
                    </a:xfrm>
                    <a:prstGeom prst="rect">
                      <a:avLst/>
                    </a:prstGeom>
                    <a:solidFill>
                      <a:srgbClr val="474747"/>
                    </a:solidFill>
                    <a:ln w="0">
                      <a:noFill/>
                    </a:ln>
                  </p:spPr>
                  <p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9" name=""/>
                  <p:cNvGrpSpPr/>
                  <p:nvPr/>
                </p:nvGrpSpPr>
                <p:grpSpPr>
                  <a:xfrm>
                    <a:off x="7318440" y="0"/>
                    <a:ext cx="512640" cy="6845400"/>
                    <a:chOff x="7318440" y="0"/>
                    <a:chExt cx="512640" cy="6845400"/>
                  </a:xfrm>
                </p:grpSpPr>
                <p:sp>
                  <p:nvSpPr>
                    <p:cNvPr id="40" name=""/>
                    <p:cNvSpPr/>
                    <p:nvPr/>
                  </p:nvSpPr>
                  <p:spPr>
                    <a:xfrm>
                      <a:off x="7318440" y="0"/>
                      <a:ext cx="39600" cy="6845400"/>
                    </a:xfrm>
                    <a:prstGeom prst="rect">
                      <a:avLst/>
                    </a:prstGeom>
                    <a:solidFill>
                      <a:srgbClr val="474747"/>
                    </a:solidFill>
                    <a:ln w="0">
                      <a:noFill/>
                    </a:ln>
                  </p:spPr>
                  <p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" name=""/>
                    <p:cNvSpPr/>
                    <p:nvPr/>
                  </p:nvSpPr>
                  <p:spPr>
                    <a:xfrm>
                      <a:off x="7791480" y="0"/>
                      <a:ext cx="39600" cy="6845400"/>
                    </a:xfrm>
                    <a:prstGeom prst="rect">
                      <a:avLst/>
                    </a:prstGeom>
                    <a:solidFill>
                      <a:srgbClr val="474747"/>
                    </a:solidFill>
                    <a:ln w="0">
                      <a:noFill/>
                    </a:ln>
                  </p:spPr>
                  <p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923160" y="270000"/>
                  <a:ext cx="663840" cy="6277320"/>
                  <a:chOff x="6923160" y="270000"/>
                  <a:chExt cx="663840" cy="6277320"/>
                </a:xfrm>
              </p:grpSpPr>
              <p:grpSp>
                <p:nvGrpSpPr>
                  <p:cNvPr id="43" name=""/>
                  <p:cNvGrpSpPr/>
                  <p:nvPr/>
                </p:nvGrpSpPr>
                <p:grpSpPr>
                  <a:xfrm>
                    <a:off x="6923160" y="270000"/>
                    <a:ext cx="663840" cy="1748160"/>
                    <a:chOff x="6923160" y="270000"/>
                    <a:chExt cx="663840" cy="1748160"/>
                  </a:xfrm>
                </p:grpSpPr>
                <p:sp>
                  <p:nvSpPr>
                    <p:cNvPr id="44" name=""/>
                    <p:cNvSpPr/>
                    <p:nvPr/>
                  </p:nvSpPr>
                  <p:spPr>
                    <a:xfrm>
                      <a:off x="7397640" y="270000"/>
                      <a:ext cx="189360" cy="81000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526" h="2250">
                          <a:moveTo>
                            <a:pt x="257" y="0"/>
                          </a:moveTo>
                          <a:lnTo>
                            <a:pt x="0" y="1138"/>
                          </a:lnTo>
                          <a:lnTo>
                            <a:pt x="257" y="2250"/>
                          </a:lnTo>
                          <a:lnTo>
                            <a:pt x="526" y="1138"/>
                          </a:lnTo>
                          <a:lnTo>
                            <a:pt x="257" y="0"/>
                          </a:lnTo>
                          <a:close/>
                        </a:path>
                      </a:pathLst>
                    </a:custGeom>
                    <a:solidFill>
                      <a:srgbClr val="474747"/>
                    </a:solidFill>
                    <a:ln w="25560">
                      <a:solidFill>
                        <a:srgbClr val="4e4e4e"/>
                      </a:solidFill>
                      <a:round/>
                    </a:ln>
                  </p:spPr>
                  <p:txBody>
                    <a:bodyPr lIns="102600" rIns="102600" tIns="57600" bIns="57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" name=""/>
                    <p:cNvSpPr/>
                    <p:nvPr/>
                  </p:nvSpPr>
                  <p:spPr>
                    <a:xfrm>
                      <a:off x="6923160" y="270000"/>
                      <a:ext cx="189360" cy="81000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526" h="2250">
                          <a:moveTo>
                            <a:pt x="257" y="0"/>
                          </a:moveTo>
                          <a:lnTo>
                            <a:pt x="0" y="1138"/>
                          </a:lnTo>
                          <a:lnTo>
                            <a:pt x="257" y="2250"/>
                          </a:lnTo>
                          <a:lnTo>
                            <a:pt x="526" y="1138"/>
                          </a:lnTo>
                          <a:lnTo>
                            <a:pt x="257" y="0"/>
                          </a:lnTo>
                          <a:close/>
                        </a:path>
                      </a:pathLst>
                    </a:custGeom>
                    <a:solidFill>
                      <a:srgbClr val="474747"/>
                    </a:solidFill>
                    <a:ln w="25560">
                      <a:solidFill>
                        <a:srgbClr val="4e4e4e"/>
                      </a:solidFill>
                      <a:round/>
                    </a:ln>
                  </p:spPr>
                  <p:txBody>
                    <a:bodyPr lIns="102600" rIns="102600" tIns="57600" bIns="57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" name=""/>
                    <p:cNvSpPr/>
                    <p:nvPr/>
                  </p:nvSpPr>
                  <p:spPr>
                    <a:xfrm>
                      <a:off x="7397640" y="1208160"/>
                      <a:ext cx="189360" cy="81000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526" h="2250">
                          <a:moveTo>
                            <a:pt x="257" y="0"/>
                          </a:moveTo>
                          <a:lnTo>
                            <a:pt x="0" y="1138"/>
                          </a:lnTo>
                          <a:lnTo>
                            <a:pt x="257" y="2250"/>
                          </a:lnTo>
                          <a:lnTo>
                            <a:pt x="526" y="1138"/>
                          </a:lnTo>
                          <a:lnTo>
                            <a:pt x="257" y="0"/>
                          </a:lnTo>
                          <a:close/>
                        </a:path>
                      </a:pathLst>
                    </a:custGeom>
                    <a:solidFill>
                      <a:srgbClr val="474747"/>
                    </a:solidFill>
                    <a:ln w="25560">
                      <a:solidFill>
                        <a:srgbClr val="4e4e4e"/>
                      </a:solidFill>
                      <a:round/>
                    </a:ln>
                  </p:spPr>
                  <p:txBody>
                    <a:bodyPr lIns="102600" rIns="102600" tIns="57600" bIns="57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" name=""/>
                    <p:cNvSpPr/>
                    <p:nvPr/>
                  </p:nvSpPr>
                  <p:spPr>
                    <a:xfrm>
                      <a:off x="6923160" y="1208160"/>
                      <a:ext cx="189360" cy="81000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526" h="2250">
                          <a:moveTo>
                            <a:pt x="257" y="0"/>
                          </a:moveTo>
                          <a:lnTo>
                            <a:pt x="0" y="1138"/>
                          </a:lnTo>
                          <a:lnTo>
                            <a:pt x="257" y="2250"/>
                          </a:lnTo>
                          <a:lnTo>
                            <a:pt x="526" y="1138"/>
                          </a:lnTo>
                          <a:lnTo>
                            <a:pt x="257" y="0"/>
                          </a:lnTo>
                          <a:close/>
                        </a:path>
                      </a:pathLst>
                    </a:custGeom>
                    <a:solidFill>
                      <a:srgbClr val="474747"/>
                    </a:solidFill>
                    <a:ln w="25560">
                      <a:solidFill>
                        <a:srgbClr val="4e4e4e"/>
                      </a:solidFill>
                      <a:round/>
                    </a:ln>
                  </p:spPr>
                  <p:txBody>
                    <a:bodyPr lIns="102600" rIns="102600" tIns="57600" bIns="57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8" name=""/>
                  <p:cNvGrpSpPr/>
                  <p:nvPr/>
                </p:nvGrpSpPr>
                <p:grpSpPr>
                  <a:xfrm>
                    <a:off x="6923160" y="2536920"/>
                    <a:ext cx="663840" cy="1748160"/>
                    <a:chOff x="6923160" y="2536920"/>
                    <a:chExt cx="663840" cy="1748160"/>
                  </a:xfrm>
                </p:grpSpPr>
                <p:sp>
                  <p:nvSpPr>
                    <p:cNvPr id="49" name=""/>
                    <p:cNvSpPr/>
                    <p:nvPr/>
                  </p:nvSpPr>
                  <p:spPr>
                    <a:xfrm>
                      <a:off x="7397640" y="2536920"/>
                      <a:ext cx="189360" cy="81000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526" h="2250">
                          <a:moveTo>
                            <a:pt x="257" y="0"/>
                          </a:moveTo>
                          <a:lnTo>
                            <a:pt x="0" y="1138"/>
                          </a:lnTo>
                          <a:lnTo>
                            <a:pt x="257" y="2250"/>
                          </a:lnTo>
                          <a:lnTo>
                            <a:pt x="526" y="1138"/>
                          </a:lnTo>
                          <a:lnTo>
                            <a:pt x="257" y="0"/>
                          </a:lnTo>
                          <a:close/>
                        </a:path>
                      </a:pathLst>
                    </a:custGeom>
                    <a:solidFill>
                      <a:srgbClr val="474747"/>
                    </a:solidFill>
                    <a:ln w="25560">
                      <a:solidFill>
                        <a:srgbClr val="4e4e4e"/>
                      </a:solidFill>
                      <a:round/>
                    </a:ln>
                  </p:spPr>
                  <p:txBody>
                    <a:bodyPr lIns="102600" rIns="102600" tIns="57600" bIns="57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" name=""/>
                    <p:cNvSpPr/>
                    <p:nvPr/>
                  </p:nvSpPr>
                  <p:spPr>
                    <a:xfrm>
                      <a:off x="6923160" y="2536920"/>
                      <a:ext cx="189360" cy="81000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526" h="2250">
                          <a:moveTo>
                            <a:pt x="257" y="0"/>
                          </a:moveTo>
                          <a:lnTo>
                            <a:pt x="0" y="1138"/>
                          </a:lnTo>
                          <a:lnTo>
                            <a:pt x="257" y="2250"/>
                          </a:lnTo>
                          <a:lnTo>
                            <a:pt x="526" y="1138"/>
                          </a:lnTo>
                          <a:lnTo>
                            <a:pt x="257" y="0"/>
                          </a:lnTo>
                          <a:close/>
                        </a:path>
                      </a:pathLst>
                    </a:custGeom>
                    <a:solidFill>
                      <a:srgbClr val="474747"/>
                    </a:solidFill>
                    <a:ln w="25560">
                      <a:solidFill>
                        <a:srgbClr val="4e4e4e"/>
                      </a:solidFill>
                      <a:round/>
                    </a:ln>
                  </p:spPr>
                  <p:txBody>
                    <a:bodyPr lIns="102600" rIns="102600" tIns="57600" bIns="57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" name=""/>
                    <p:cNvSpPr/>
                    <p:nvPr/>
                  </p:nvSpPr>
                  <p:spPr>
                    <a:xfrm>
                      <a:off x="7397640" y="3475080"/>
                      <a:ext cx="189360" cy="81000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526" h="2250">
                          <a:moveTo>
                            <a:pt x="257" y="0"/>
                          </a:moveTo>
                          <a:lnTo>
                            <a:pt x="0" y="1138"/>
                          </a:lnTo>
                          <a:lnTo>
                            <a:pt x="257" y="2250"/>
                          </a:lnTo>
                          <a:lnTo>
                            <a:pt x="526" y="1138"/>
                          </a:lnTo>
                          <a:lnTo>
                            <a:pt x="257" y="0"/>
                          </a:lnTo>
                          <a:close/>
                        </a:path>
                      </a:pathLst>
                    </a:custGeom>
                    <a:solidFill>
                      <a:srgbClr val="474747"/>
                    </a:solidFill>
                    <a:ln w="25560">
                      <a:solidFill>
                        <a:srgbClr val="4e4e4e"/>
                      </a:solidFill>
                      <a:round/>
                    </a:ln>
                  </p:spPr>
                  <p:txBody>
                    <a:bodyPr lIns="102600" rIns="102600" tIns="57600" bIns="57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" name=""/>
                    <p:cNvSpPr/>
                    <p:nvPr/>
                  </p:nvSpPr>
                  <p:spPr>
                    <a:xfrm>
                      <a:off x="6923160" y="3475080"/>
                      <a:ext cx="189360" cy="81000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526" h="2250">
                          <a:moveTo>
                            <a:pt x="257" y="0"/>
                          </a:moveTo>
                          <a:lnTo>
                            <a:pt x="0" y="1138"/>
                          </a:lnTo>
                          <a:lnTo>
                            <a:pt x="257" y="2250"/>
                          </a:lnTo>
                          <a:lnTo>
                            <a:pt x="526" y="1138"/>
                          </a:lnTo>
                          <a:lnTo>
                            <a:pt x="257" y="0"/>
                          </a:lnTo>
                          <a:close/>
                        </a:path>
                      </a:pathLst>
                    </a:custGeom>
                    <a:solidFill>
                      <a:srgbClr val="474747"/>
                    </a:solidFill>
                    <a:ln w="25560">
                      <a:solidFill>
                        <a:srgbClr val="4e4e4e"/>
                      </a:solidFill>
                      <a:round/>
                    </a:ln>
                  </p:spPr>
                  <p:txBody>
                    <a:bodyPr lIns="102600" rIns="102600" tIns="57600" bIns="57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3" name=""/>
                  <p:cNvGrpSpPr/>
                  <p:nvPr/>
                </p:nvGrpSpPr>
                <p:grpSpPr>
                  <a:xfrm>
                    <a:off x="6923160" y="4799160"/>
                    <a:ext cx="663840" cy="1748160"/>
                    <a:chOff x="6923160" y="4799160"/>
                    <a:chExt cx="663840" cy="1748160"/>
                  </a:xfrm>
                </p:grpSpPr>
                <p:sp>
                  <p:nvSpPr>
                    <p:cNvPr id="54" name=""/>
                    <p:cNvSpPr/>
                    <p:nvPr/>
                  </p:nvSpPr>
                  <p:spPr>
                    <a:xfrm>
                      <a:off x="7397640" y="4799160"/>
                      <a:ext cx="189360" cy="81000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526" h="2250">
                          <a:moveTo>
                            <a:pt x="257" y="0"/>
                          </a:moveTo>
                          <a:lnTo>
                            <a:pt x="0" y="1138"/>
                          </a:lnTo>
                          <a:lnTo>
                            <a:pt x="257" y="2250"/>
                          </a:lnTo>
                          <a:lnTo>
                            <a:pt x="526" y="1138"/>
                          </a:lnTo>
                          <a:lnTo>
                            <a:pt x="257" y="0"/>
                          </a:lnTo>
                          <a:close/>
                        </a:path>
                      </a:pathLst>
                    </a:custGeom>
                    <a:solidFill>
                      <a:srgbClr val="474747"/>
                    </a:solidFill>
                    <a:ln w="25560">
                      <a:solidFill>
                        <a:srgbClr val="4e4e4e"/>
                      </a:solidFill>
                      <a:round/>
                    </a:ln>
                  </p:spPr>
                  <p:txBody>
                    <a:bodyPr lIns="102600" rIns="102600" tIns="57600" bIns="57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" name=""/>
                    <p:cNvSpPr/>
                    <p:nvPr/>
                  </p:nvSpPr>
                  <p:spPr>
                    <a:xfrm>
                      <a:off x="6923160" y="4799160"/>
                      <a:ext cx="189360" cy="81000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526" h="2250">
                          <a:moveTo>
                            <a:pt x="257" y="0"/>
                          </a:moveTo>
                          <a:lnTo>
                            <a:pt x="0" y="1138"/>
                          </a:lnTo>
                          <a:lnTo>
                            <a:pt x="257" y="2250"/>
                          </a:lnTo>
                          <a:lnTo>
                            <a:pt x="526" y="1138"/>
                          </a:lnTo>
                          <a:lnTo>
                            <a:pt x="257" y="0"/>
                          </a:lnTo>
                          <a:close/>
                        </a:path>
                      </a:pathLst>
                    </a:custGeom>
                    <a:solidFill>
                      <a:srgbClr val="474747"/>
                    </a:solidFill>
                    <a:ln w="25560">
                      <a:solidFill>
                        <a:srgbClr val="4e4e4e"/>
                      </a:solidFill>
                      <a:round/>
                    </a:ln>
                  </p:spPr>
                  <p:txBody>
                    <a:bodyPr lIns="102600" rIns="102600" tIns="57600" bIns="57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" name=""/>
                    <p:cNvSpPr/>
                    <p:nvPr/>
                  </p:nvSpPr>
                  <p:spPr>
                    <a:xfrm>
                      <a:off x="7397640" y="5737320"/>
                      <a:ext cx="189360" cy="81000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526" h="2250">
                          <a:moveTo>
                            <a:pt x="257" y="0"/>
                          </a:moveTo>
                          <a:lnTo>
                            <a:pt x="0" y="1138"/>
                          </a:lnTo>
                          <a:lnTo>
                            <a:pt x="257" y="2250"/>
                          </a:lnTo>
                          <a:lnTo>
                            <a:pt x="526" y="1138"/>
                          </a:lnTo>
                          <a:lnTo>
                            <a:pt x="257" y="0"/>
                          </a:lnTo>
                          <a:close/>
                        </a:path>
                      </a:pathLst>
                    </a:custGeom>
                    <a:solidFill>
                      <a:srgbClr val="474747"/>
                    </a:solidFill>
                    <a:ln w="25560">
                      <a:solidFill>
                        <a:srgbClr val="4e4e4e"/>
                      </a:solidFill>
                      <a:round/>
                    </a:ln>
                  </p:spPr>
                  <p:txBody>
                    <a:bodyPr lIns="102600" rIns="102600" tIns="57600" bIns="57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" name=""/>
                    <p:cNvSpPr/>
                    <p:nvPr/>
                  </p:nvSpPr>
                  <p:spPr>
                    <a:xfrm>
                      <a:off x="6923160" y="5737320"/>
                      <a:ext cx="189360" cy="81000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526" h="2250">
                          <a:moveTo>
                            <a:pt x="257" y="0"/>
                          </a:moveTo>
                          <a:lnTo>
                            <a:pt x="0" y="1138"/>
                          </a:lnTo>
                          <a:lnTo>
                            <a:pt x="257" y="2250"/>
                          </a:lnTo>
                          <a:lnTo>
                            <a:pt x="526" y="1138"/>
                          </a:lnTo>
                          <a:lnTo>
                            <a:pt x="257" y="0"/>
                          </a:lnTo>
                          <a:close/>
                        </a:path>
                      </a:pathLst>
                    </a:custGeom>
                    <a:solidFill>
                      <a:srgbClr val="474747"/>
                    </a:solidFill>
                    <a:ln w="25560">
                      <a:solidFill>
                        <a:srgbClr val="4e4e4e"/>
                      </a:solidFill>
                      <a:round/>
                    </a:ln>
                  </p:spPr>
                  <p:txBody>
                    <a:bodyPr lIns="102600" rIns="102600" tIns="57600" bIns="57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58" name=""/>
              <p:cNvGrpSpPr/>
              <p:nvPr/>
            </p:nvGrpSpPr>
            <p:grpSpPr>
              <a:xfrm>
                <a:off x="5691240" y="0"/>
                <a:ext cx="995400" cy="6845400"/>
                <a:chOff x="5691240" y="0"/>
                <a:chExt cx="995400" cy="6845400"/>
              </a:xfrm>
            </p:grpSpPr>
            <p:sp>
              <p:nvSpPr>
                <p:cNvPr id="59" name=""/>
                <p:cNvSpPr/>
                <p:nvPr/>
              </p:nvSpPr>
              <p:spPr>
                <a:xfrm>
                  <a:off x="5691240" y="0"/>
                  <a:ext cx="995400" cy="6845400"/>
                </a:xfrm>
                <a:prstGeom prst="rect">
                  <a:avLst/>
                </a:prstGeom>
                <a:solidFill>
                  <a:srgbClr val="4e4e4e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0" name=""/>
                <p:cNvGrpSpPr/>
                <p:nvPr/>
              </p:nvGrpSpPr>
              <p:grpSpPr>
                <a:xfrm>
                  <a:off x="5732640" y="0"/>
                  <a:ext cx="906120" cy="6845400"/>
                  <a:chOff x="5732640" y="0"/>
                  <a:chExt cx="906120" cy="6845400"/>
                </a:xfrm>
              </p:grpSpPr>
              <p:grpSp>
                <p:nvGrpSpPr>
                  <p:cNvPr id="61" name=""/>
                  <p:cNvGrpSpPr/>
                  <p:nvPr/>
                </p:nvGrpSpPr>
                <p:grpSpPr>
                  <a:xfrm>
                    <a:off x="5732640" y="0"/>
                    <a:ext cx="645840" cy="6845400"/>
                    <a:chOff x="5732640" y="0"/>
                    <a:chExt cx="645840" cy="6845400"/>
                  </a:xfrm>
                </p:grpSpPr>
                <p:sp>
                  <p:nvSpPr>
                    <p:cNvPr id="62" name=""/>
                    <p:cNvSpPr/>
                    <p:nvPr/>
                  </p:nvSpPr>
                  <p:spPr>
                    <a:xfrm>
                      <a:off x="5732640" y="0"/>
                      <a:ext cx="171360" cy="6845400"/>
                    </a:xfrm>
                    <a:prstGeom prst="rect">
                      <a:avLst/>
                    </a:prstGeom>
                    <a:solidFill>
                      <a:srgbClr val="474747"/>
                    </a:solidFill>
                    <a:ln w="0">
                      <a:noFill/>
                    </a:ln>
                  </p:spPr>
                  <p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3" name=""/>
                    <p:cNvSpPr/>
                    <p:nvPr/>
                  </p:nvSpPr>
                  <p:spPr>
                    <a:xfrm>
                      <a:off x="6207120" y="0"/>
                      <a:ext cx="171360" cy="6845400"/>
                    </a:xfrm>
                    <a:prstGeom prst="rect">
                      <a:avLst/>
                    </a:prstGeom>
                    <a:solidFill>
                      <a:srgbClr val="474747"/>
                    </a:solidFill>
                    <a:ln w="0">
                      <a:noFill/>
                    </a:ln>
                  </p:spPr>
                  <p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4" name=""/>
                  <p:cNvGrpSpPr/>
                  <p:nvPr/>
                </p:nvGrpSpPr>
                <p:grpSpPr>
                  <a:xfrm>
                    <a:off x="5948280" y="0"/>
                    <a:ext cx="601920" cy="6845400"/>
                    <a:chOff x="5948280" y="0"/>
                    <a:chExt cx="601920" cy="6845400"/>
                  </a:xfrm>
                </p:grpSpPr>
                <p:sp>
                  <p:nvSpPr>
                    <p:cNvPr id="65" name=""/>
                    <p:cNvSpPr/>
                    <p:nvPr/>
                  </p:nvSpPr>
                  <p:spPr>
                    <a:xfrm>
                      <a:off x="5948280" y="0"/>
                      <a:ext cx="127080" cy="6845400"/>
                    </a:xfrm>
                    <a:prstGeom prst="rect">
                      <a:avLst/>
                    </a:prstGeom>
                    <a:solidFill>
                      <a:srgbClr val="474747"/>
                    </a:solidFill>
                    <a:ln w="0">
                      <a:noFill/>
                    </a:ln>
                  </p:spPr>
                  <p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" name=""/>
                    <p:cNvSpPr/>
                    <p:nvPr/>
                  </p:nvSpPr>
                  <p:spPr>
                    <a:xfrm>
                      <a:off x="6423120" y="0"/>
                      <a:ext cx="127080" cy="6845400"/>
                    </a:xfrm>
                    <a:prstGeom prst="rect">
                      <a:avLst/>
                    </a:prstGeom>
                    <a:solidFill>
                      <a:srgbClr val="474747"/>
                    </a:solidFill>
                    <a:ln w="0">
                      <a:noFill/>
                    </a:ln>
                  </p:spPr>
                  <p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7" name=""/>
                  <p:cNvGrpSpPr/>
                  <p:nvPr/>
                </p:nvGrpSpPr>
                <p:grpSpPr>
                  <a:xfrm>
                    <a:off x="6124680" y="0"/>
                    <a:ext cx="514080" cy="6845400"/>
                    <a:chOff x="6124680" y="0"/>
                    <a:chExt cx="514080" cy="6845400"/>
                  </a:xfrm>
                </p:grpSpPr>
                <p:sp>
                  <p:nvSpPr>
                    <p:cNvPr id="68" name=""/>
                    <p:cNvSpPr/>
                    <p:nvPr/>
                  </p:nvSpPr>
                  <p:spPr>
                    <a:xfrm>
                      <a:off x="6124680" y="0"/>
                      <a:ext cx="39600" cy="6845400"/>
                    </a:xfrm>
                    <a:prstGeom prst="rect">
                      <a:avLst/>
                    </a:prstGeom>
                    <a:solidFill>
                      <a:srgbClr val="474747"/>
                    </a:solidFill>
                    <a:ln w="0">
                      <a:noFill/>
                    </a:ln>
                  </p:spPr>
                  <p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" name=""/>
                    <p:cNvSpPr/>
                    <p:nvPr/>
                  </p:nvSpPr>
                  <p:spPr>
                    <a:xfrm>
                      <a:off x="6599160" y="0"/>
                      <a:ext cx="39600" cy="6845400"/>
                    </a:xfrm>
                    <a:prstGeom prst="rect">
                      <a:avLst/>
                    </a:prstGeom>
                    <a:solidFill>
                      <a:srgbClr val="474747"/>
                    </a:solidFill>
                    <a:ln w="0">
                      <a:noFill/>
                    </a:ln>
                  </p:spPr>
                  <p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70" name=""/>
                <p:cNvGrpSpPr/>
                <p:nvPr/>
              </p:nvGrpSpPr>
              <p:grpSpPr>
                <a:xfrm>
                  <a:off x="5729400" y="270000"/>
                  <a:ext cx="662040" cy="6277320"/>
                  <a:chOff x="5729400" y="270000"/>
                  <a:chExt cx="662040" cy="6277320"/>
                </a:xfrm>
              </p:grpSpPr>
              <p:grpSp>
                <p:nvGrpSpPr>
                  <p:cNvPr id="71" name=""/>
                  <p:cNvGrpSpPr/>
                  <p:nvPr/>
                </p:nvGrpSpPr>
                <p:grpSpPr>
                  <a:xfrm>
                    <a:off x="5729400" y="270000"/>
                    <a:ext cx="662040" cy="1748160"/>
                    <a:chOff x="5729400" y="270000"/>
                    <a:chExt cx="662040" cy="1748160"/>
                  </a:xfrm>
                </p:grpSpPr>
                <p:sp>
                  <p:nvSpPr>
                    <p:cNvPr id="72" name=""/>
                    <p:cNvSpPr/>
                    <p:nvPr/>
                  </p:nvSpPr>
                  <p:spPr>
                    <a:xfrm>
                      <a:off x="6203880" y="270000"/>
                      <a:ext cx="187560" cy="81000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521" h="2250">
                          <a:moveTo>
                            <a:pt x="254" y="0"/>
                          </a:moveTo>
                          <a:lnTo>
                            <a:pt x="0" y="1138"/>
                          </a:lnTo>
                          <a:lnTo>
                            <a:pt x="254" y="2250"/>
                          </a:lnTo>
                          <a:lnTo>
                            <a:pt x="521" y="1138"/>
                          </a:lnTo>
                          <a:lnTo>
                            <a:pt x="254" y="0"/>
                          </a:lnTo>
                          <a:close/>
                        </a:path>
                      </a:pathLst>
                    </a:custGeom>
                    <a:solidFill>
                      <a:srgbClr val="474747"/>
                    </a:solidFill>
                    <a:ln w="25560">
                      <a:solidFill>
                        <a:srgbClr val="4e4e4e"/>
                      </a:solidFill>
                      <a:round/>
                    </a:ln>
                  </p:spPr>
                  <p:txBody>
                    <a:bodyPr lIns="102600" rIns="102600" tIns="57600" bIns="57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" name=""/>
                    <p:cNvSpPr/>
                    <p:nvPr/>
                  </p:nvSpPr>
                  <p:spPr>
                    <a:xfrm>
                      <a:off x="5729400" y="270000"/>
                      <a:ext cx="189360" cy="81000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526" h="2250">
                          <a:moveTo>
                            <a:pt x="257" y="0"/>
                          </a:moveTo>
                          <a:lnTo>
                            <a:pt x="0" y="1138"/>
                          </a:lnTo>
                          <a:lnTo>
                            <a:pt x="257" y="2250"/>
                          </a:lnTo>
                          <a:lnTo>
                            <a:pt x="526" y="1138"/>
                          </a:lnTo>
                          <a:lnTo>
                            <a:pt x="257" y="0"/>
                          </a:lnTo>
                          <a:close/>
                        </a:path>
                      </a:pathLst>
                    </a:custGeom>
                    <a:solidFill>
                      <a:srgbClr val="474747"/>
                    </a:solidFill>
                    <a:ln w="25560">
                      <a:solidFill>
                        <a:srgbClr val="4e4e4e"/>
                      </a:solidFill>
                      <a:round/>
                    </a:ln>
                  </p:spPr>
                  <p:txBody>
                    <a:bodyPr lIns="102600" rIns="102600" tIns="57600" bIns="57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" name=""/>
                    <p:cNvSpPr/>
                    <p:nvPr/>
                  </p:nvSpPr>
                  <p:spPr>
                    <a:xfrm>
                      <a:off x="6203880" y="1208160"/>
                      <a:ext cx="187560" cy="81000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521" h="2250">
                          <a:moveTo>
                            <a:pt x="254" y="0"/>
                          </a:moveTo>
                          <a:lnTo>
                            <a:pt x="0" y="1138"/>
                          </a:lnTo>
                          <a:lnTo>
                            <a:pt x="254" y="2250"/>
                          </a:lnTo>
                          <a:lnTo>
                            <a:pt x="521" y="1138"/>
                          </a:lnTo>
                          <a:lnTo>
                            <a:pt x="254" y="0"/>
                          </a:lnTo>
                          <a:close/>
                        </a:path>
                      </a:pathLst>
                    </a:custGeom>
                    <a:solidFill>
                      <a:srgbClr val="474747"/>
                    </a:solidFill>
                    <a:ln w="25560">
                      <a:solidFill>
                        <a:srgbClr val="4e4e4e"/>
                      </a:solidFill>
                      <a:round/>
                    </a:ln>
                  </p:spPr>
                  <p:txBody>
                    <a:bodyPr lIns="102600" rIns="102600" tIns="57600" bIns="57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5" name=""/>
                    <p:cNvSpPr/>
                    <p:nvPr/>
                  </p:nvSpPr>
                  <p:spPr>
                    <a:xfrm>
                      <a:off x="5729400" y="1208160"/>
                      <a:ext cx="189360" cy="81000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526" h="2250">
                          <a:moveTo>
                            <a:pt x="257" y="0"/>
                          </a:moveTo>
                          <a:lnTo>
                            <a:pt x="0" y="1138"/>
                          </a:lnTo>
                          <a:lnTo>
                            <a:pt x="257" y="2250"/>
                          </a:lnTo>
                          <a:lnTo>
                            <a:pt x="526" y="1138"/>
                          </a:lnTo>
                          <a:lnTo>
                            <a:pt x="257" y="0"/>
                          </a:lnTo>
                          <a:close/>
                        </a:path>
                      </a:pathLst>
                    </a:custGeom>
                    <a:solidFill>
                      <a:srgbClr val="474747"/>
                    </a:solidFill>
                    <a:ln w="25560">
                      <a:solidFill>
                        <a:srgbClr val="4e4e4e"/>
                      </a:solidFill>
                      <a:round/>
                    </a:ln>
                  </p:spPr>
                  <p:txBody>
                    <a:bodyPr lIns="102600" rIns="102600" tIns="57600" bIns="57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6" name=""/>
                  <p:cNvGrpSpPr/>
                  <p:nvPr/>
                </p:nvGrpSpPr>
                <p:grpSpPr>
                  <a:xfrm>
                    <a:off x="5729400" y="2536920"/>
                    <a:ext cx="662040" cy="1748160"/>
                    <a:chOff x="5729400" y="2536920"/>
                    <a:chExt cx="662040" cy="1748160"/>
                  </a:xfrm>
                </p:grpSpPr>
                <p:sp>
                  <p:nvSpPr>
                    <p:cNvPr id="77" name=""/>
                    <p:cNvSpPr/>
                    <p:nvPr/>
                  </p:nvSpPr>
                  <p:spPr>
                    <a:xfrm>
                      <a:off x="6203880" y="2536920"/>
                      <a:ext cx="187560" cy="81000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521" h="2250">
                          <a:moveTo>
                            <a:pt x="254" y="0"/>
                          </a:moveTo>
                          <a:lnTo>
                            <a:pt x="0" y="1138"/>
                          </a:lnTo>
                          <a:lnTo>
                            <a:pt x="254" y="2250"/>
                          </a:lnTo>
                          <a:lnTo>
                            <a:pt x="521" y="1138"/>
                          </a:lnTo>
                          <a:lnTo>
                            <a:pt x="254" y="0"/>
                          </a:lnTo>
                          <a:close/>
                        </a:path>
                      </a:pathLst>
                    </a:custGeom>
                    <a:solidFill>
                      <a:srgbClr val="474747"/>
                    </a:solidFill>
                    <a:ln w="25560">
                      <a:solidFill>
                        <a:srgbClr val="4e4e4e"/>
                      </a:solidFill>
                      <a:round/>
                    </a:ln>
                  </p:spPr>
                  <p:txBody>
                    <a:bodyPr lIns="102600" rIns="102600" tIns="57600" bIns="57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8" name=""/>
                    <p:cNvSpPr/>
                    <p:nvPr/>
                  </p:nvSpPr>
                  <p:spPr>
                    <a:xfrm>
                      <a:off x="5729400" y="2536920"/>
                      <a:ext cx="189360" cy="81000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526" h="2250">
                          <a:moveTo>
                            <a:pt x="257" y="0"/>
                          </a:moveTo>
                          <a:lnTo>
                            <a:pt x="0" y="1138"/>
                          </a:lnTo>
                          <a:lnTo>
                            <a:pt x="257" y="2250"/>
                          </a:lnTo>
                          <a:lnTo>
                            <a:pt x="526" y="1138"/>
                          </a:lnTo>
                          <a:lnTo>
                            <a:pt x="257" y="0"/>
                          </a:lnTo>
                          <a:close/>
                        </a:path>
                      </a:pathLst>
                    </a:custGeom>
                    <a:solidFill>
                      <a:srgbClr val="474747"/>
                    </a:solidFill>
                    <a:ln w="25560">
                      <a:solidFill>
                        <a:srgbClr val="4e4e4e"/>
                      </a:solidFill>
                      <a:round/>
                    </a:ln>
                  </p:spPr>
                  <p:txBody>
                    <a:bodyPr lIns="102600" rIns="102600" tIns="57600" bIns="57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" name=""/>
                    <p:cNvSpPr/>
                    <p:nvPr/>
                  </p:nvSpPr>
                  <p:spPr>
                    <a:xfrm>
                      <a:off x="6203880" y="3475080"/>
                      <a:ext cx="187560" cy="81000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521" h="2250">
                          <a:moveTo>
                            <a:pt x="254" y="0"/>
                          </a:moveTo>
                          <a:lnTo>
                            <a:pt x="0" y="1138"/>
                          </a:lnTo>
                          <a:lnTo>
                            <a:pt x="254" y="2250"/>
                          </a:lnTo>
                          <a:lnTo>
                            <a:pt x="521" y="1138"/>
                          </a:lnTo>
                          <a:lnTo>
                            <a:pt x="254" y="0"/>
                          </a:lnTo>
                          <a:close/>
                        </a:path>
                      </a:pathLst>
                    </a:custGeom>
                    <a:solidFill>
                      <a:srgbClr val="474747"/>
                    </a:solidFill>
                    <a:ln w="25560">
                      <a:solidFill>
                        <a:srgbClr val="4e4e4e"/>
                      </a:solidFill>
                      <a:round/>
                    </a:ln>
                  </p:spPr>
                  <p:txBody>
                    <a:bodyPr lIns="102600" rIns="102600" tIns="57600" bIns="57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0" name=""/>
                    <p:cNvSpPr/>
                    <p:nvPr/>
                  </p:nvSpPr>
                  <p:spPr>
                    <a:xfrm>
                      <a:off x="5729400" y="3475080"/>
                      <a:ext cx="189360" cy="81000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526" h="2250">
                          <a:moveTo>
                            <a:pt x="257" y="0"/>
                          </a:moveTo>
                          <a:lnTo>
                            <a:pt x="0" y="1138"/>
                          </a:lnTo>
                          <a:lnTo>
                            <a:pt x="257" y="2250"/>
                          </a:lnTo>
                          <a:lnTo>
                            <a:pt x="526" y="1138"/>
                          </a:lnTo>
                          <a:lnTo>
                            <a:pt x="257" y="0"/>
                          </a:lnTo>
                          <a:close/>
                        </a:path>
                      </a:pathLst>
                    </a:custGeom>
                    <a:solidFill>
                      <a:srgbClr val="474747"/>
                    </a:solidFill>
                    <a:ln w="25560">
                      <a:solidFill>
                        <a:srgbClr val="4e4e4e"/>
                      </a:solidFill>
                      <a:round/>
                    </a:ln>
                  </p:spPr>
                  <p:txBody>
                    <a:bodyPr lIns="102600" rIns="102600" tIns="57600" bIns="57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1" name=""/>
                  <p:cNvGrpSpPr/>
                  <p:nvPr/>
                </p:nvGrpSpPr>
                <p:grpSpPr>
                  <a:xfrm>
                    <a:off x="5729400" y="4799160"/>
                    <a:ext cx="662040" cy="1748160"/>
                    <a:chOff x="5729400" y="4799160"/>
                    <a:chExt cx="662040" cy="1748160"/>
                  </a:xfrm>
                </p:grpSpPr>
                <p:sp>
                  <p:nvSpPr>
                    <p:cNvPr id="82" name=""/>
                    <p:cNvSpPr/>
                    <p:nvPr/>
                  </p:nvSpPr>
                  <p:spPr>
                    <a:xfrm>
                      <a:off x="6203880" y="4799160"/>
                      <a:ext cx="187560" cy="81000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521" h="2250">
                          <a:moveTo>
                            <a:pt x="254" y="0"/>
                          </a:moveTo>
                          <a:lnTo>
                            <a:pt x="0" y="1138"/>
                          </a:lnTo>
                          <a:lnTo>
                            <a:pt x="254" y="2250"/>
                          </a:lnTo>
                          <a:lnTo>
                            <a:pt x="521" y="1138"/>
                          </a:lnTo>
                          <a:lnTo>
                            <a:pt x="254" y="0"/>
                          </a:lnTo>
                          <a:close/>
                        </a:path>
                      </a:pathLst>
                    </a:custGeom>
                    <a:solidFill>
                      <a:srgbClr val="474747"/>
                    </a:solidFill>
                    <a:ln w="25560">
                      <a:solidFill>
                        <a:srgbClr val="4e4e4e"/>
                      </a:solidFill>
                      <a:round/>
                    </a:ln>
                  </p:spPr>
                  <p:txBody>
                    <a:bodyPr lIns="102600" rIns="102600" tIns="57600" bIns="57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3" name=""/>
                    <p:cNvSpPr/>
                    <p:nvPr/>
                  </p:nvSpPr>
                  <p:spPr>
                    <a:xfrm>
                      <a:off x="5729400" y="4799160"/>
                      <a:ext cx="189360" cy="81000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526" h="2250">
                          <a:moveTo>
                            <a:pt x="257" y="0"/>
                          </a:moveTo>
                          <a:lnTo>
                            <a:pt x="0" y="1138"/>
                          </a:lnTo>
                          <a:lnTo>
                            <a:pt x="257" y="2250"/>
                          </a:lnTo>
                          <a:lnTo>
                            <a:pt x="526" y="1138"/>
                          </a:lnTo>
                          <a:lnTo>
                            <a:pt x="257" y="0"/>
                          </a:lnTo>
                          <a:close/>
                        </a:path>
                      </a:pathLst>
                    </a:custGeom>
                    <a:solidFill>
                      <a:srgbClr val="474747"/>
                    </a:solidFill>
                    <a:ln w="25560">
                      <a:solidFill>
                        <a:srgbClr val="4e4e4e"/>
                      </a:solidFill>
                      <a:round/>
                    </a:ln>
                  </p:spPr>
                  <p:txBody>
                    <a:bodyPr lIns="102600" rIns="102600" tIns="57600" bIns="57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4" name=""/>
                    <p:cNvSpPr/>
                    <p:nvPr/>
                  </p:nvSpPr>
                  <p:spPr>
                    <a:xfrm>
                      <a:off x="6203880" y="5737320"/>
                      <a:ext cx="187560" cy="81000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521" h="2250">
                          <a:moveTo>
                            <a:pt x="254" y="0"/>
                          </a:moveTo>
                          <a:lnTo>
                            <a:pt x="0" y="1138"/>
                          </a:lnTo>
                          <a:lnTo>
                            <a:pt x="254" y="2250"/>
                          </a:lnTo>
                          <a:lnTo>
                            <a:pt x="521" y="1138"/>
                          </a:lnTo>
                          <a:lnTo>
                            <a:pt x="254" y="0"/>
                          </a:lnTo>
                          <a:close/>
                        </a:path>
                      </a:pathLst>
                    </a:custGeom>
                    <a:solidFill>
                      <a:srgbClr val="474747"/>
                    </a:solidFill>
                    <a:ln w="25560">
                      <a:solidFill>
                        <a:srgbClr val="4e4e4e"/>
                      </a:solidFill>
                      <a:round/>
                    </a:ln>
                  </p:spPr>
                  <p:txBody>
                    <a:bodyPr lIns="102600" rIns="102600" tIns="57600" bIns="57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5" name=""/>
                    <p:cNvSpPr/>
                    <p:nvPr/>
                  </p:nvSpPr>
                  <p:spPr>
                    <a:xfrm>
                      <a:off x="5729400" y="5737320"/>
                      <a:ext cx="189360" cy="81000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526" h="2250">
                          <a:moveTo>
                            <a:pt x="257" y="0"/>
                          </a:moveTo>
                          <a:lnTo>
                            <a:pt x="0" y="1138"/>
                          </a:lnTo>
                          <a:lnTo>
                            <a:pt x="257" y="2250"/>
                          </a:lnTo>
                          <a:lnTo>
                            <a:pt x="526" y="1138"/>
                          </a:lnTo>
                          <a:lnTo>
                            <a:pt x="257" y="0"/>
                          </a:lnTo>
                          <a:close/>
                        </a:path>
                      </a:pathLst>
                    </a:custGeom>
                    <a:solidFill>
                      <a:srgbClr val="474747"/>
                    </a:solidFill>
                    <a:ln w="25560">
                      <a:solidFill>
                        <a:srgbClr val="4e4e4e"/>
                      </a:solidFill>
                      <a:round/>
                    </a:ln>
                  </p:spPr>
                  <p:txBody>
                    <a:bodyPr lIns="102600" rIns="102600" tIns="57600" bIns="57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86" name=""/>
              <p:cNvGrpSpPr/>
              <p:nvPr/>
            </p:nvGrpSpPr>
            <p:grpSpPr>
              <a:xfrm>
                <a:off x="4495680" y="0"/>
                <a:ext cx="996840" cy="6845400"/>
                <a:chOff x="4495680" y="0"/>
                <a:chExt cx="996840" cy="6845400"/>
              </a:xfrm>
            </p:grpSpPr>
            <p:sp>
              <p:nvSpPr>
                <p:cNvPr id="87" name=""/>
                <p:cNvSpPr/>
                <p:nvPr/>
              </p:nvSpPr>
              <p:spPr>
                <a:xfrm>
                  <a:off x="4495680" y="0"/>
                  <a:ext cx="996840" cy="6845400"/>
                </a:xfrm>
                <a:prstGeom prst="rect">
                  <a:avLst/>
                </a:prstGeom>
                <a:solidFill>
                  <a:srgbClr val="4e4e4e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8" name=""/>
                <p:cNvGrpSpPr/>
                <p:nvPr/>
              </p:nvGrpSpPr>
              <p:grpSpPr>
                <a:xfrm>
                  <a:off x="4540320" y="0"/>
                  <a:ext cx="903240" cy="6845400"/>
                  <a:chOff x="4540320" y="0"/>
                  <a:chExt cx="903240" cy="6845400"/>
                </a:xfrm>
              </p:grpSpPr>
              <p:grpSp>
                <p:nvGrpSpPr>
                  <p:cNvPr id="89" name=""/>
                  <p:cNvGrpSpPr/>
                  <p:nvPr/>
                </p:nvGrpSpPr>
                <p:grpSpPr>
                  <a:xfrm>
                    <a:off x="4540320" y="0"/>
                    <a:ext cx="644400" cy="6845400"/>
                    <a:chOff x="4540320" y="0"/>
                    <a:chExt cx="644400" cy="6845400"/>
                  </a:xfrm>
                </p:grpSpPr>
                <p:sp>
                  <p:nvSpPr>
                    <p:cNvPr id="90" name=""/>
                    <p:cNvSpPr/>
                    <p:nvPr/>
                  </p:nvSpPr>
                  <p:spPr>
                    <a:xfrm>
                      <a:off x="4540320" y="0"/>
                      <a:ext cx="171360" cy="6845400"/>
                    </a:xfrm>
                    <a:prstGeom prst="rect">
                      <a:avLst/>
                    </a:prstGeom>
                    <a:solidFill>
                      <a:srgbClr val="474747"/>
                    </a:solidFill>
                    <a:ln w="0">
                      <a:noFill/>
                    </a:ln>
                  </p:spPr>
                  <p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1" name=""/>
                    <p:cNvSpPr/>
                    <p:nvPr/>
                  </p:nvSpPr>
                  <p:spPr>
                    <a:xfrm>
                      <a:off x="5013360" y="0"/>
                      <a:ext cx="171360" cy="6845400"/>
                    </a:xfrm>
                    <a:prstGeom prst="rect">
                      <a:avLst/>
                    </a:prstGeom>
                    <a:solidFill>
                      <a:srgbClr val="474747"/>
                    </a:solidFill>
                    <a:ln w="0">
                      <a:noFill/>
                    </a:ln>
                  </p:spPr>
                  <p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2" name=""/>
                  <p:cNvGrpSpPr/>
                  <p:nvPr/>
                </p:nvGrpSpPr>
                <p:grpSpPr>
                  <a:xfrm>
                    <a:off x="4756320" y="0"/>
                    <a:ext cx="600120" cy="6845400"/>
                    <a:chOff x="4756320" y="0"/>
                    <a:chExt cx="600120" cy="6845400"/>
                  </a:xfrm>
                </p:grpSpPr>
                <p:sp>
                  <p:nvSpPr>
                    <p:cNvPr id="93" name=""/>
                    <p:cNvSpPr/>
                    <p:nvPr/>
                  </p:nvSpPr>
                  <p:spPr>
                    <a:xfrm>
                      <a:off x="4756320" y="0"/>
                      <a:ext cx="127080" cy="6845400"/>
                    </a:xfrm>
                    <a:prstGeom prst="rect">
                      <a:avLst/>
                    </a:prstGeom>
                    <a:solidFill>
                      <a:srgbClr val="474747"/>
                    </a:solidFill>
                    <a:ln w="0">
                      <a:noFill/>
                    </a:ln>
                  </p:spPr>
                  <p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4" name=""/>
                    <p:cNvSpPr/>
                    <p:nvPr/>
                  </p:nvSpPr>
                  <p:spPr>
                    <a:xfrm>
                      <a:off x="5229360" y="0"/>
                      <a:ext cx="127080" cy="6845400"/>
                    </a:xfrm>
                    <a:prstGeom prst="rect">
                      <a:avLst/>
                    </a:prstGeom>
                    <a:solidFill>
                      <a:srgbClr val="474747"/>
                    </a:solidFill>
                    <a:ln w="0">
                      <a:noFill/>
                    </a:ln>
                  </p:spPr>
                  <p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5" name=""/>
                  <p:cNvGrpSpPr/>
                  <p:nvPr/>
                </p:nvGrpSpPr>
                <p:grpSpPr>
                  <a:xfrm>
                    <a:off x="4930920" y="0"/>
                    <a:ext cx="512640" cy="6845400"/>
                    <a:chOff x="4930920" y="0"/>
                    <a:chExt cx="512640" cy="6845400"/>
                  </a:xfrm>
                </p:grpSpPr>
                <p:sp>
                  <p:nvSpPr>
                    <p:cNvPr id="96" name=""/>
                    <p:cNvSpPr/>
                    <p:nvPr/>
                  </p:nvSpPr>
                  <p:spPr>
                    <a:xfrm>
                      <a:off x="4930920" y="0"/>
                      <a:ext cx="38160" cy="6845400"/>
                    </a:xfrm>
                    <a:prstGeom prst="rect">
                      <a:avLst/>
                    </a:prstGeom>
                    <a:solidFill>
                      <a:srgbClr val="474747"/>
                    </a:solidFill>
                    <a:ln w="0">
                      <a:noFill/>
                    </a:ln>
                  </p:spPr>
                  <p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" name=""/>
                    <p:cNvSpPr/>
                    <p:nvPr/>
                  </p:nvSpPr>
                  <p:spPr>
                    <a:xfrm>
                      <a:off x="5403960" y="0"/>
                      <a:ext cx="39600" cy="6845400"/>
                    </a:xfrm>
                    <a:prstGeom prst="rect">
                      <a:avLst/>
                    </a:prstGeom>
                    <a:solidFill>
                      <a:srgbClr val="474747"/>
                    </a:solidFill>
                    <a:ln w="0">
                      <a:noFill/>
                    </a:ln>
                  </p:spPr>
                  <p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4535640" y="270000"/>
                  <a:ext cx="663840" cy="6277320"/>
                  <a:chOff x="4535640" y="270000"/>
                  <a:chExt cx="663840" cy="6277320"/>
                </a:xfrm>
              </p:grpSpPr>
              <p:grpSp>
                <p:nvGrpSpPr>
                  <p:cNvPr id="99" name=""/>
                  <p:cNvGrpSpPr/>
                  <p:nvPr/>
                </p:nvGrpSpPr>
                <p:grpSpPr>
                  <a:xfrm>
                    <a:off x="4535640" y="270000"/>
                    <a:ext cx="663840" cy="1748160"/>
                    <a:chOff x="4535640" y="270000"/>
                    <a:chExt cx="663840" cy="1748160"/>
                  </a:xfrm>
                </p:grpSpPr>
                <p:sp>
                  <p:nvSpPr>
                    <p:cNvPr id="100" name=""/>
                    <p:cNvSpPr/>
                    <p:nvPr/>
                  </p:nvSpPr>
                  <p:spPr>
                    <a:xfrm>
                      <a:off x="5008680" y="270000"/>
                      <a:ext cx="190800" cy="81000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530" h="2250">
                          <a:moveTo>
                            <a:pt x="258" y="0"/>
                          </a:moveTo>
                          <a:lnTo>
                            <a:pt x="0" y="1138"/>
                          </a:lnTo>
                          <a:lnTo>
                            <a:pt x="258" y="2250"/>
                          </a:lnTo>
                          <a:lnTo>
                            <a:pt x="530" y="1138"/>
                          </a:lnTo>
                          <a:lnTo>
                            <a:pt x="258" y="0"/>
                          </a:lnTo>
                          <a:close/>
                        </a:path>
                      </a:pathLst>
                    </a:custGeom>
                    <a:solidFill>
                      <a:srgbClr val="474747"/>
                    </a:solidFill>
                    <a:ln w="25560">
                      <a:solidFill>
                        <a:srgbClr val="4e4e4e"/>
                      </a:solidFill>
                      <a:round/>
                    </a:ln>
                  </p:spPr>
                  <p:txBody>
                    <a:bodyPr lIns="102600" rIns="102600" tIns="57600" bIns="57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1" name=""/>
                    <p:cNvSpPr/>
                    <p:nvPr/>
                  </p:nvSpPr>
                  <p:spPr>
                    <a:xfrm>
                      <a:off x="4535640" y="270000"/>
                      <a:ext cx="189360" cy="81000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526" h="2250">
                          <a:moveTo>
                            <a:pt x="257" y="0"/>
                          </a:moveTo>
                          <a:lnTo>
                            <a:pt x="0" y="1138"/>
                          </a:lnTo>
                          <a:lnTo>
                            <a:pt x="257" y="2250"/>
                          </a:lnTo>
                          <a:lnTo>
                            <a:pt x="526" y="1138"/>
                          </a:lnTo>
                          <a:lnTo>
                            <a:pt x="257" y="0"/>
                          </a:lnTo>
                          <a:close/>
                        </a:path>
                      </a:pathLst>
                    </a:custGeom>
                    <a:solidFill>
                      <a:srgbClr val="474747"/>
                    </a:solidFill>
                    <a:ln w="25560">
                      <a:solidFill>
                        <a:srgbClr val="4e4e4e"/>
                      </a:solidFill>
                      <a:round/>
                    </a:ln>
                  </p:spPr>
                  <p:txBody>
                    <a:bodyPr lIns="102600" rIns="102600" tIns="57600" bIns="57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2" name=""/>
                    <p:cNvSpPr/>
                    <p:nvPr/>
                  </p:nvSpPr>
                  <p:spPr>
                    <a:xfrm>
                      <a:off x="5008680" y="1208160"/>
                      <a:ext cx="190800" cy="81000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530" h="2250">
                          <a:moveTo>
                            <a:pt x="258" y="0"/>
                          </a:moveTo>
                          <a:lnTo>
                            <a:pt x="0" y="1138"/>
                          </a:lnTo>
                          <a:lnTo>
                            <a:pt x="258" y="2250"/>
                          </a:lnTo>
                          <a:lnTo>
                            <a:pt x="530" y="1138"/>
                          </a:lnTo>
                          <a:lnTo>
                            <a:pt x="258" y="0"/>
                          </a:lnTo>
                          <a:close/>
                        </a:path>
                      </a:pathLst>
                    </a:custGeom>
                    <a:solidFill>
                      <a:srgbClr val="474747"/>
                    </a:solidFill>
                    <a:ln w="25560">
                      <a:solidFill>
                        <a:srgbClr val="4e4e4e"/>
                      </a:solidFill>
                      <a:round/>
                    </a:ln>
                  </p:spPr>
                  <p:txBody>
                    <a:bodyPr lIns="102600" rIns="102600" tIns="57600" bIns="57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" name=""/>
                    <p:cNvSpPr/>
                    <p:nvPr/>
                  </p:nvSpPr>
                  <p:spPr>
                    <a:xfrm>
                      <a:off x="4535640" y="1208160"/>
                      <a:ext cx="189360" cy="81000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526" h="2250">
                          <a:moveTo>
                            <a:pt x="257" y="0"/>
                          </a:moveTo>
                          <a:lnTo>
                            <a:pt x="0" y="1138"/>
                          </a:lnTo>
                          <a:lnTo>
                            <a:pt x="257" y="2250"/>
                          </a:lnTo>
                          <a:lnTo>
                            <a:pt x="526" y="1138"/>
                          </a:lnTo>
                          <a:lnTo>
                            <a:pt x="257" y="0"/>
                          </a:lnTo>
                          <a:close/>
                        </a:path>
                      </a:pathLst>
                    </a:custGeom>
                    <a:solidFill>
                      <a:srgbClr val="474747"/>
                    </a:solidFill>
                    <a:ln w="25560">
                      <a:solidFill>
                        <a:srgbClr val="4e4e4e"/>
                      </a:solidFill>
                      <a:round/>
                    </a:ln>
                  </p:spPr>
                  <p:txBody>
                    <a:bodyPr lIns="102600" rIns="102600" tIns="57600" bIns="57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4" name=""/>
                  <p:cNvGrpSpPr/>
                  <p:nvPr/>
                </p:nvGrpSpPr>
                <p:grpSpPr>
                  <a:xfrm>
                    <a:off x="4535640" y="2536920"/>
                    <a:ext cx="663840" cy="1748160"/>
                    <a:chOff x="4535640" y="2536920"/>
                    <a:chExt cx="663840" cy="1748160"/>
                  </a:xfrm>
                </p:grpSpPr>
                <p:sp>
                  <p:nvSpPr>
                    <p:cNvPr id="105" name=""/>
                    <p:cNvSpPr/>
                    <p:nvPr/>
                  </p:nvSpPr>
                  <p:spPr>
                    <a:xfrm>
                      <a:off x="5008680" y="2536920"/>
                      <a:ext cx="190800" cy="81000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530" h="2250">
                          <a:moveTo>
                            <a:pt x="258" y="0"/>
                          </a:moveTo>
                          <a:lnTo>
                            <a:pt x="0" y="1138"/>
                          </a:lnTo>
                          <a:lnTo>
                            <a:pt x="258" y="2250"/>
                          </a:lnTo>
                          <a:lnTo>
                            <a:pt x="530" y="1138"/>
                          </a:lnTo>
                          <a:lnTo>
                            <a:pt x="258" y="0"/>
                          </a:lnTo>
                          <a:close/>
                        </a:path>
                      </a:pathLst>
                    </a:custGeom>
                    <a:solidFill>
                      <a:srgbClr val="474747"/>
                    </a:solidFill>
                    <a:ln w="25560">
                      <a:solidFill>
                        <a:srgbClr val="4e4e4e"/>
                      </a:solidFill>
                      <a:round/>
                    </a:ln>
                  </p:spPr>
                  <p:txBody>
                    <a:bodyPr lIns="102600" rIns="102600" tIns="57600" bIns="57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6" name=""/>
                    <p:cNvSpPr/>
                    <p:nvPr/>
                  </p:nvSpPr>
                  <p:spPr>
                    <a:xfrm>
                      <a:off x="4535640" y="2536920"/>
                      <a:ext cx="189360" cy="81000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526" h="2250">
                          <a:moveTo>
                            <a:pt x="257" y="0"/>
                          </a:moveTo>
                          <a:lnTo>
                            <a:pt x="0" y="1138"/>
                          </a:lnTo>
                          <a:lnTo>
                            <a:pt x="257" y="2250"/>
                          </a:lnTo>
                          <a:lnTo>
                            <a:pt x="526" y="1138"/>
                          </a:lnTo>
                          <a:lnTo>
                            <a:pt x="257" y="0"/>
                          </a:lnTo>
                          <a:close/>
                        </a:path>
                      </a:pathLst>
                    </a:custGeom>
                    <a:solidFill>
                      <a:srgbClr val="474747"/>
                    </a:solidFill>
                    <a:ln w="25560">
                      <a:solidFill>
                        <a:srgbClr val="4e4e4e"/>
                      </a:solidFill>
                      <a:round/>
                    </a:ln>
                  </p:spPr>
                  <p:txBody>
                    <a:bodyPr lIns="102600" rIns="102600" tIns="57600" bIns="57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7" name=""/>
                    <p:cNvSpPr/>
                    <p:nvPr/>
                  </p:nvSpPr>
                  <p:spPr>
                    <a:xfrm>
                      <a:off x="5008680" y="3475080"/>
                      <a:ext cx="190800" cy="81000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530" h="2250">
                          <a:moveTo>
                            <a:pt x="258" y="0"/>
                          </a:moveTo>
                          <a:lnTo>
                            <a:pt x="0" y="1138"/>
                          </a:lnTo>
                          <a:lnTo>
                            <a:pt x="258" y="2250"/>
                          </a:lnTo>
                          <a:lnTo>
                            <a:pt x="530" y="1138"/>
                          </a:lnTo>
                          <a:lnTo>
                            <a:pt x="258" y="0"/>
                          </a:lnTo>
                          <a:close/>
                        </a:path>
                      </a:pathLst>
                    </a:custGeom>
                    <a:solidFill>
                      <a:srgbClr val="474747"/>
                    </a:solidFill>
                    <a:ln w="25560">
                      <a:solidFill>
                        <a:srgbClr val="4e4e4e"/>
                      </a:solidFill>
                      <a:round/>
                    </a:ln>
                  </p:spPr>
                  <p:txBody>
                    <a:bodyPr lIns="102600" rIns="102600" tIns="57600" bIns="57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8" name=""/>
                    <p:cNvSpPr/>
                    <p:nvPr/>
                  </p:nvSpPr>
                  <p:spPr>
                    <a:xfrm>
                      <a:off x="4535640" y="3475080"/>
                      <a:ext cx="189360" cy="81000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526" h="2250">
                          <a:moveTo>
                            <a:pt x="257" y="0"/>
                          </a:moveTo>
                          <a:lnTo>
                            <a:pt x="0" y="1138"/>
                          </a:lnTo>
                          <a:lnTo>
                            <a:pt x="257" y="2250"/>
                          </a:lnTo>
                          <a:lnTo>
                            <a:pt x="526" y="1138"/>
                          </a:lnTo>
                          <a:lnTo>
                            <a:pt x="257" y="0"/>
                          </a:lnTo>
                          <a:close/>
                        </a:path>
                      </a:pathLst>
                    </a:custGeom>
                    <a:solidFill>
                      <a:srgbClr val="474747"/>
                    </a:solidFill>
                    <a:ln w="25560">
                      <a:solidFill>
                        <a:srgbClr val="4e4e4e"/>
                      </a:solidFill>
                      <a:round/>
                    </a:ln>
                  </p:spPr>
                  <p:txBody>
                    <a:bodyPr lIns="102600" rIns="102600" tIns="57600" bIns="57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9" name=""/>
                  <p:cNvGrpSpPr/>
                  <p:nvPr/>
                </p:nvGrpSpPr>
                <p:grpSpPr>
                  <a:xfrm>
                    <a:off x="4535640" y="4799160"/>
                    <a:ext cx="663840" cy="1748160"/>
                    <a:chOff x="4535640" y="4799160"/>
                    <a:chExt cx="663840" cy="1748160"/>
                  </a:xfrm>
                </p:grpSpPr>
                <p:sp>
                  <p:nvSpPr>
                    <p:cNvPr id="110" name=""/>
                    <p:cNvSpPr/>
                    <p:nvPr/>
                  </p:nvSpPr>
                  <p:spPr>
                    <a:xfrm>
                      <a:off x="5008680" y="4799160"/>
                      <a:ext cx="190800" cy="81000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530" h="2250">
                          <a:moveTo>
                            <a:pt x="258" y="0"/>
                          </a:moveTo>
                          <a:lnTo>
                            <a:pt x="0" y="1138"/>
                          </a:lnTo>
                          <a:lnTo>
                            <a:pt x="258" y="2250"/>
                          </a:lnTo>
                          <a:lnTo>
                            <a:pt x="530" y="1138"/>
                          </a:lnTo>
                          <a:lnTo>
                            <a:pt x="258" y="0"/>
                          </a:lnTo>
                          <a:close/>
                        </a:path>
                      </a:pathLst>
                    </a:custGeom>
                    <a:solidFill>
                      <a:srgbClr val="474747"/>
                    </a:solidFill>
                    <a:ln w="25560">
                      <a:solidFill>
                        <a:srgbClr val="4e4e4e"/>
                      </a:solidFill>
                      <a:round/>
                    </a:ln>
                  </p:spPr>
                  <p:txBody>
                    <a:bodyPr lIns="102600" rIns="102600" tIns="57600" bIns="57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1" name=""/>
                    <p:cNvSpPr/>
                    <p:nvPr/>
                  </p:nvSpPr>
                  <p:spPr>
                    <a:xfrm>
                      <a:off x="4535640" y="4799160"/>
                      <a:ext cx="189360" cy="81000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526" h="2250">
                          <a:moveTo>
                            <a:pt x="257" y="0"/>
                          </a:moveTo>
                          <a:lnTo>
                            <a:pt x="0" y="1138"/>
                          </a:lnTo>
                          <a:lnTo>
                            <a:pt x="257" y="2250"/>
                          </a:lnTo>
                          <a:lnTo>
                            <a:pt x="526" y="1138"/>
                          </a:lnTo>
                          <a:lnTo>
                            <a:pt x="257" y="0"/>
                          </a:lnTo>
                          <a:close/>
                        </a:path>
                      </a:pathLst>
                    </a:custGeom>
                    <a:solidFill>
                      <a:srgbClr val="474747"/>
                    </a:solidFill>
                    <a:ln w="25560">
                      <a:solidFill>
                        <a:srgbClr val="4e4e4e"/>
                      </a:solidFill>
                      <a:round/>
                    </a:ln>
                  </p:spPr>
                  <p:txBody>
                    <a:bodyPr lIns="102600" rIns="102600" tIns="57600" bIns="57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2" name=""/>
                    <p:cNvSpPr/>
                    <p:nvPr/>
                  </p:nvSpPr>
                  <p:spPr>
                    <a:xfrm>
                      <a:off x="5008680" y="5737320"/>
                      <a:ext cx="190800" cy="81000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530" h="2250">
                          <a:moveTo>
                            <a:pt x="258" y="0"/>
                          </a:moveTo>
                          <a:lnTo>
                            <a:pt x="0" y="1138"/>
                          </a:lnTo>
                          <a:lnTo>
                            <a:pt x="258" y="2250"/>
                          </a:lnTo>
                          <a:lnTo>
                            <a:pt x="530" y="1138"/>
                          </a:lnTo>
                          <a:lnTo>
                            <a:pt x="258" y="0"/>
                          </a:lnTo>
                          <a:close/>
                        </a:path>
                      </a:pathLst>
                    </a:custGeom>
                    <a:solidFill>
                      <a:srgbClr val="474747"/>
                    </a:solidFill>
                    <a:ln w="25560">
                      <a:solidFill>
                        <a:srgbClr val="4e4e4e"/>
                      </a:solidFill>
                      <a:round/>
                    </a:ln>
                  </p:spPr>
                  <p:txBody>
                    <a:bodyPr lIns="102600" rIns="102600" tIns="57600" bIns="57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3" name=""/>
                    <p:cNvSpPr/>
                    <p:nvPr/>
                  </p:nvSpPr>
                  <p:spPr>
                    <a:xfrm>
                      <a:off x="4535640" y="5737320"/>
                      <a:ext cx="189360" cy="81000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526" h="2250">
                          <a:moveTo>
                            <a:pt x="257" y="0"/>
                          </a:moveTo>
                          <a:lnTo>
                            <a:pt x="0" y="1138"/>
                          </a:lnTo>
                          <a:lnTo>
                            <a:pt x="257" y="2250"/>
                          </a:lnTo>
                          <a:lnTo>
                            <a:pt x="526" y="1138"/>
                          </a:lnTo>
                          <a:lnTo>
                            <a:pt x="257" y="0"/>
                          </a:lnTo>
                          <a:close/>
                        </a:path>
                      </a:pathLst>
                    </a:custGeom>
                    <a:solidFill>
                      <a:srgbClr val="474747"/>
                    </a:solidFill>
                    <a:ln w="25560">
                      <a:solidFill>
                        <a:srgbClr val="4e4e4e"/>
                      </a:solidFill>
                      <a:round/>
                    </a:ln>
                  </p:spPr>
                  <p:txBody>
                    <a:bodyPr lIns="102600" rIns="102600" tIns="57600" bIns="57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114" name=""/>
              <p:cNvGrpSpPr/>
              <p:nvPr/>
            </p:nvGrpSpPr>
            <p:grpSpPr>
              <a:xfrm>
                <a:off x="3301920" y="0"/>
                <a:ext cx="995400" cy="6845400"/>
                <a:chOff x="3301920" y="0"/>
                <a:chExt cx="995400" cy="6845400"/>
              </a:xfrm>
            </p:grpSpPr>
            <p:sp>
              <p:nvSpPr>
                <p:cNvPr id="115" name=""/>
                <p:cNvSpPr/>
                <p:nvPr/>
              </p:nvSpPr>
              <p:spPr>
                <a:xfrm>
                  <a:off x="3301920" y="0"/>
                  <a:ext cx="995400" cy="6845400"/>
                </a:xfrm>
                <a:prstGeom prst="rect">
                  <a:avLst/>
                </a:prstGeom>
                <a:solidFill>
                  <a:srgbClr val="4e4e4e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16" name=""/>
                <p:cNvGrpSpPr/>
                <p:nvPr/>
              </p:nvGrpSpPr>
              <p:grpSpPr>
                <a:xfrm>
                  <a:off x="3346560" y="0"/>
                  <a:ext cx="903240" cy="6845400"/>
                  <a:chOff x="3346560" y="0"/>
                  <a:chExt cx="903240" cy="6845400"/>
                </a:xfrm>
              </p:grpSpPr>
              <p:grpSp>
                <p:nvGrpSpPr>
                  <p:cNvPr id="117" name=""/>
                  <p:cNvGrpSpPr/>
                  <p:nvPr/>
                </p:nvGrpSpPr>
                <p:grpSpPr>
                  <a:xfrm>
                    <a:off x="3346560" y="0"/>
                    <a:ext cx="645840" cy="6845400"/>
                    <a:chOff x="3346560" y="0"/>
                    <a:chExt cx="645840" cy="6845400"/>
                  </a:xfrm>
                </p:grpSpPr>
                <p:sp>
                  <p:nvSpPr>
                    <p:cNvPr id="118" name=""/>
                    <p:cNvSpPr/>
                    <p:nvPr/>
                  </p:nvSpPr>
                  <p:spPr>
                    <a:xfrm>
                      <a:off x="3346560" y="0"/>
                      <a:ext cx="171360" cy="6845400"/>
                    </a:xfrm>
                    <a:prstGeom prst="rect">
                      <a:avLst/>
                    </a:prstGeom>
                    <a:solidFill>
                      <a:srgbClr val="474747"/>
                    </a:solidFill>
                    <a:ln w="0">
                      <a:noFill/>
                    </a:ln>
                  </p:spPr>
                  <p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9" name=""/>
                    <p:cNvSpPr/>
                    <p:nvPr/>
                  </p:nvSpPr>
                  <p:spPr>
                    <a:xfrm>
                      <a:off x="3821040" y="0"/>
                      <a:ext cx="171360" cy="6845400"/>
                    </a:xfrm>
                    <a:prstGeom prst="rect">
                      <a:avLst/>
                    </a:prstGeom>
                    <a:solidFill>
                      <a:srgbClr val="474747"/>
                    </a:solidFill>
                    <a:ln w="0">
                      <a:noFill/>
                    </a:ln>
                  </p:spPr>
                  <p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0" name=""/>
                  <p:cNvGrpSpPr/>
                  <p:nvPr/>
                </p:nvGrpSpPr>
                <p:grpSpPr>
                  <a:xfrm>
                    <a:off x="3560760" y="0"/>
                    <a:ext cx="601920" cy="6845400"/>
                    <a:chOff x="3560760" y="0"/>
                    <a:chExt cx="601920" cy="6845400"/>
                  </a:xfrm>
                </p:grpSpPr>
                <p:sp>
                  <p:nvSpPr>
                    <p:cNvPr id="121" name=""/>
                    <p:cNvSpPr/>
                    <p:nvPr/>
                  </p:nvSpPr>
                  <p:spPr>
                    <a:xfrm>
                      <a:off x="3560760" y="0"/>
                      <a:ext cx="128520" cy="6845400"/>
                    </a:xfrm>
                    <a:prstGeom prst="rect">
                      <a:avLst/>
                    </a:prstGeom>
                    <a:solidFill>
                      <a:srgbClr val="474747"/>
                    </a:solidFill>
                    <a:ln w="0">
                      <a:noFill/>
                    </a:ln>
                  </p:spPr>
                  <p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2" name=""/>
                    <p:cNvSpPr/>
                    <p:nvPr/>
                  </p:nvSpPr>
                  <p:spPr>
                    <a:xfrm>
                      <a:off x="4035600" y="0"/>
                      <a:ext cx="127080" cy="6845400"/>
                    </a:xfrm>
                    <a:prstGeom prst="rect">
                      <a:avLst/>
                    </a:prstGeom>
                    <a:solidFill>
                      <a:srgbClr val="474747"/>
                    </a:solidFill>
                    <a:ln w="0">
                      <a:noFill/>
                    </a:ln>
                  </p:spPr>
                  <p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3" name=""/>
                  <p:cNvGrpSpPr/>
                  <p:nvPr/>
                </p:nvGrpSpPr>
                <p:grpSpPr>
                  <a:xfrm>
                    <a:off x="3736800" y="0"/>
                    <a:ext cx="513000" cy="6845400"/>
                    <a:chOff x="3736800" y="0"/>
                    <a:chExt cx="513000" cy="6845400"/>
                  </a:xfrm>
                </p:grpSpPr>
                <p:sp>
                  <p:nvSpPr>
                    <p:cNvPr id="124" name=""/>
                    <p:cNvSpPr/>
                    <p:nvPr/>
                  </p:nvSpPr>
                  <p:spPr>
                    <a:xfrm>
                      <a:off x="3736800" y="0"/>
                      <a:ext cx="39600" cy="6845400"/>
                    </a:xfrm>
                    <a:prstGeom prst="rect">
                      <a:avLst/>
                    </a:prstGeom>
                    <a:solidFill>
                      <a:srgbClr val="474747"/>
                    </a:solidFill>
                    <a:ln w="0">
                      <a:noFill/>
                    </a:ln>
                  </p:spPr>
                  <p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5" name=""/>
                    <p:cNvSpPr/>
                    <p:nvPr/>
                  </p:nvSpPr>
                  <p:spPr>
                    <a:xfrm>
                      <a:off x="4211640" y="0"/>
                      <a:ext cx="38160" cy="6845400"/>
                    </a:xfrm>
                    <a:prstGeom prst="rect">
                      <a:avLst/>
                    </a:prstGeom>
                    <a:solidFill>
                      <a:srgbClr val="474747"/>
                    </a:solidFill>
                    <a:ln w="0">
                      <a:noFill/>
                    </a:ln>
                  </p:spPr>
                  <p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26" name=""/>
                <p:cNvGrpSpPr/>
                <p:nvPr/>
              </p:nvGrpSpPr>
              <p:grpSpPr>
                <a:xfrm>
                  <a:off x="3341520" y="270000"/>
                  <a:ext cx="664200" cy="6277320"/>
                  <a:chOff x="3341520" y="270000"/>
                  <a:chExt cx="664200" cy="6277320"/>
                </a:xfrm>
              </p:grpSpPr>
              <p:grpSp>
                <p:nvGrpSpPr>
                  <p:cNvPr id="127" name=""/>
                  <p:cNvGrpSpPr/>
                  <p:nvPr/>
                </p:nvGrpSpPr>
                <p:grpSpPr>
                  <a:xfrm>
                    <a:off x="3341520" y="270000"/>
                    <a:ext cx="664200" cy="1748160"/>
                    <a:chOff x="3341520" y="270000"/>
                    <a:chExt cx="664200" cy="1748160"/>
                  </a:xfrm>
                </p:grpSpPr>
                <p:sp>
                  <p:nvSpPr>
                    <p:cNvPr id="128" name=""/>
                    <p:cNvSpPr/>
                    <p:nvPr/>
                  </p:nvSpPr>
                  <p:spPr>
                    <a:xfrm>
                      <a:off x="3816360" y="270000"/>
                      <a:ext cx="189360" cy="81000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526" h="2250">
                          <a:moveTo>
                            <a:pt x="257" y="0"/>
                          </a:moveTo>
                          <a:lnTo>
                            <a:pt x="0" y="1138"/>
                          </a:lnTo>
                          <a:lnTo>
                            <a:pt x="257" y="2250"/>
                          </a:lnTo>
                          <a:lnTo>
                            <a:pt x="526" y="1138"/>
                          </a:lnTo>
                          <a:lnTo>
                            <a:pt x="257" y="0"/>
                          </a:lnTo>
                          <a:close/>
                        </a:path>
                      </a:pathLst>
                    </a:custGeom>
                    <a:solidFill>
                      <a:srgbClr val="474747"/>
                    </a:solidFill>
                    <a:ln w="25560">
                      <a:solidFill>
                        <a:srgbClr val="4e4e4e"/>
                      </a:solidFill>
                      <a:round/>
                    </a:ln>
                  </p:spPr>
                  <p:txBody>
                    <a:bodyPr lIns="102600" rIns="102600" tIns="57600" bIns="57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9" name=""/>
                    <p:cNvSpPr/>
                    <p:nvPr/>
                  </p:nvSpPr>
                  <p:spPr>
                    <a:xfrm>
                      <a:off x="3341520" y="270000"/>
                      <a:ext cx="189360" cy="81000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526" h="2250">
                          <a:moveTo>
                            <a:pt x="257" y="0"/>
                          </a:moveTo>
                          <a:lnTo>
                            <a:pt x="0" y="1138"/>
                          </a:lnTo>
                          <a:lnTo>
                            <a:pt x="257" y="2250"/>
                          </a:lnTo>
                          <a:lnTo>
                            <a:pt x="526" y="1138"/>
                          </a:lnTo>
                          <a:lnTo>
                            <a:pt x="257" y="0"/>
                          </a:lnTo>
                          <a:close/>
                        </a:path>
                      </a:pathLst>
                    </a:custGeom>
                    <a:solidFill>
                      <a:srgbClr val="474747"/>
                    </a:solidFill>
                    <a:ln w="25560">
                      <a:solidFill>
                        <a:srgbClr val="4e4e4e"/>
                      </a:solidFill>
                      <a:round/>
                    </a:ln>
                  </p:spPr>
                  <p:txBody>
                    <a:bodyPr lIns="102600" rIns="102600" tIns="57600" bIns="57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0" name=""/>
                    <p:cNvSpPr/>
                    <p:nvPr/>
                  </p:nvSpPr>
                  <p:spPr>
                    <a:xfrm>
                      <a:off x="3816360" y="1208160"/>
                      <a:ext cx="189360" cy="81000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526" h="2250">
                          <a:moveTo>
                            <a:pt x="257" y="0"/>
                          </a:moveTo>
                          <a:lnTo>
                            <a:pt x="0" y="1138"/>
                          </a:lnTo>
                          <a:lnTo>
                            <a:pt x="257" y="2250"/>
                          </a:lnTo>
                          <a:lnTo>
                            <a:pt x="526" y="1138"/>
                          </a:lnTo>
                          <a:lnTo>
                            <a:pt x="257" y="0"/>
                          </a:lnTo>
                          <a:close/>
                        </a:path>
                      </a:pathLst>
                    </a:custGeom>
                    <a:solidFill>
                      <a:srgbClr val="474747"/>
                    </a:solidFill>
                    <a:ln w="25560">
                      <a:solidFill>
                        <a:srgbClr val="4e4e4e"/>
                      </a:solidFill>
                      <a:round/>
                    </a:ln>
                  </p:spPr>
                  <p:txBody>
                    <a:bodyPr lIns="102600" rIns="102600" tIns="57600" bIns="57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1" name=""/>
                    <p:cNvSpPr/>
                    <p:nvPr/>
                  </p:nvSpPr>
                  <p:spPr>
                    <a:xfrm>
                      <a:off x="3341520" y="1208160"/>
                      <a:ext cx="189360" cy="81000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526" h="2250">
                          <a:moveTo>
                            <a:pt x="257" y="0"/>
                          </a:moveTo>
                          <a:lnTo>
                            <a:pt x="0" y="1138"/>
                          </a:lnTo>
                          <a:lnTo>
                            <a:pt x="257" y="2250"/>
                          </a:lnTo>
                          <a:lnTo>
                            <a:pt x="526" y="1138"/>
                          </a:lnTo>
                          <a:lnTo>
                            <a:pt x="257" y="0"/>
                          </a:lnTo>
                          <a:close/>
                        </a:path>
                      </a:pathLst>
                    </a:custGeom>
                    <a:solidFill>
                      <a:srgbClr val="474747"/>
                    </a:solidFill>
                    <a:ln w="25560">
                      <a:solidFill>
                        <a:srgbClr val="4e4e4e"/>
                      </a:solidFill>
                      <a:round/>
                    </a:ln>
                  </p:spPr>
                  <p:txBody>
                    <a:bodyPr lIns="102600" rIns="102600" tIns="57600" bIns="57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2" name=""/>
                  <p:cNvGrpSpPr/>
                  <p:nvPr/>
                </p:nvGrpSpPr>
                <p:grpSpPr>
                  <a:xfrm>
                    <a:off x="3341520" y="2536920"/>
                    <a:ext cx="664200" cy="1748160"/>
                    <a:chOff x="3341520" y="2536920"/>
                    <a:chExt cx="664200" cy="1748160"/>
                  </a:xfrm>
                </p:grpSpPr>
                <p:sp>
                  <p:nvSpPr>
                    <p:cNvPr id="133" name=""/>
                    <p:cNvSpPr/>
                    <p:nvPr/>
                  </p:nvSpPr>
                  <p:spPr>
                    <a:xfrm>
                      <a:off x="3816360" y="2536920"/>
                      <a:ext cx="189360" cy="81000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526" h="2250">
                          <a:moveTo>
                            <a:pt x="257" y="0"/>
                          </a:moveTo>
                          <a:lnTo>
                            <a:pt x="0" y="1138"/>
                          </a:lnTo>
                          <a:lnTo>
                            <a:pt x="257" y="2250"/>
                          </a:lnTo>
                          <a:lnTo>
                            <a:pt x="526" y="1138"/>
                          </a:lnTo>
                          <a:lnTo>
                            <a:pt x="257" y="0"/>
                          </a:lnTo>
                          <a:close/>
                        </a:path>
                      </a:pathLst>
                    </a:custGeom>
                    <a:solidFill>
                      <a:srgbClr val="474747"/>
                    </a:solidFill>
                    <a:ln w="25560">
                      <a:solidFill>
                        <a:srgbClr val="4e4e4e"/>
                      </a:solidFill>
                      <a:round/>
                    </a:ln>
                  </p:spPr>
                  <p:txBody>
                    <a:bodyPr lIns="102600" rIns="102600" tIns="57600" bIns="57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4" name=""/>
                    <p:cNvSpPr/>
                    <p:nvPr/>
                  </p:nvSpPr>
                  <p:spPr>
                    <a:xfrm>
                      <a:off x="3341520" y="2536920"/>
                      <a:ext cx="189360" cy="81000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526" h="2250">
                          <a:moveTo>
                            <a:pt x="257" y="0"/>
                          </a:moveTo>
                          <a:lnTo>
                            <a:pt x="0" y="1138"/>
                          </a:lnTo>
                          <a:lnTo>
                            <a:pt x="257" y="2250"/>
                          </a:lnTo>
                          <a:lnTo>
                            <a:pt x="526" y="1138"/>
                          </a:lnTo>
                          <a:lnTo>
                            <a:pt x="257" y="0"/>
                          </a:lnTo>
                          <a:close/>
                        </a:path>
                      </a:pathLst>
                    </a:custGeom>
                    <a:solidFill>
                      <a:srgbClr val="474747"/>
                    </a:solidFill>
                    <a:ln w="25560">
                      <a:solidFill>
                        <a:srgbClr val="4e4e4e"/>
                      </a:solidFill>
                      <a:round/>
                    </a:ln>
                  </p:spPr>
                  <p:txBody>
                    <a:bodyPr lIns="102600" rIns="102600" tIns="57600" bIns="57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5" name=""/>
                    <p:cNvSpPr/>
                    <p:nvPr/>
                  </p:nvSpPr>
                  <p:spPr>
                    <a:xfrm>
                      <a:off x="3816360" y="3475080"/>
                      <a:ext cx="189360" cy="81000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526" h="2250">
                          <a:moveTo>
                            <a:pt x="257" y="0"/>
                          </a:moveTo>
                          <a:lnTo>
                            <a:pt x="0" y="1138"/>
                          </a:lnTo>
                          <a:lnTo>
                            <a:pt x="257" y="2250"/>
                          </a:lnTo>
                          <a:lnTo>
                            <a:pt x="526" y="1138"/>
                          </a:lnTo>
                          <a:lnTo>
                            <a:pt x="257" y="0"/>
                          </a:lnTo>
                          <a:close/>
                        </a:path>
                      </a:pathLst>
                    </a:custGeom>
                    <a:solidFill>
                      <a:srgbClr val="474747"/>
                    </a:solidFill>
                    <a:ln w="25560">
                      <a:solidFill>
                        <a:srgbClr val="4e4e4e"/>
                      </a:solidFill>
                      <a:round/>
                    </a:ln>
                  </p:spPr>
                  <p:txBody>
                    <a:bodyPr lIns="102600" rIns="102600" tIns="57600" bIns="57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6" name=""/>
                    <p:cNvSpPr/>
                    <p:nvPr/>
                  </p:nvSpPr>
                  <p:spPr>
                    <a:xfrm>
                      <a:off x="3341520" y="3475080"/>
                      <a:ext cx="189360" cy="81000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526" h="2250">
                          <a:moveTo>
                            <a:pt x="257" y="0"/>
                          </a:moveTo>
                          <a:lnTo>
                            <a:pt x="0" y="1138"/>
                          </a:lnTo>
                          <a:lnTo>
                            <a:pt x="257" y="2250"/>
                          </a:lnTo>
                          <a:lnTo>
                            <a:pt x="526" y="1138"/>
                          </a:lnTo>
                          <a:lnTo>
                            <a:pt x="257" y="0"/>
                          </a:lnTo>
                          <a:close/>
                        </a:path>
                      </a:pathLst>
                    </a:custGeom>
                    <a:solidFill>
                      <a:srgbClr val="474747"/>
                    </a:solidFill>
                    <a:ln w="25560">
                      <a:solidFill>
                        <a:srgbClr val="4e4e4e"/>
                      </a:solidFill>
                      <a:round/>
                    </a:ln>
                  </p:spPr>
                  <p:txBody>
                    <a:bodyPr lIns="102600" rIns="102600" tIns="57600" bIns="57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7" name=""/>
                  <p:cNvGrpSpPr/>
                  <p:nvPr/>
                </p:nvGrpSpPr>
                <p:grpSpPr>
                  <a:xfrm>
                    <a:off x="3341520" y="4799160"/>
                    <a:ext cx="664200" cy="1748160"/>
                    <a:chOff x="3341520" y="4799160"/>
                    <a:chExt cx="664200" cy="1748160"/>
                  </a:xfrm>
                </p:grpSpPr>
                <p:sp>
                  <p:nvSpPr>
                    <p:cNvPr id="138" name=""/>
                    <p:cNvSpPr/>
                    <p:nvPr/>
                  </p:nvSpPr>
                  <p:spPr>
                    <a:xfrm>
                      <a:off x="3816360" y="4799160"/>
                      <a:ext cx="189360" cy="81000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526" h="2250">
                          <a:moveTo>
                            <a:pt x="257" y="0"/>
                          </a:moveTo>
                          <a:lnTo>
                            <a:pt x="0" y="1138"/>
                          </a:lnTo>
                          <a:lnTo>
                            <a:pt x="257" y="2250"/>
                          </a:lnTo>
                          <a:lnTo>
                            <a:pt x="526" y="1138"/>
                          </a:lnTo>
                          <a:lnTo>
                            <a:pt x="257" y="0"/>
                          </a:lnTo>
                          <a:close/>
                        </a:path>
                      </a:pathLst>
                    </a:custGeom>
                    <a:solidFill>
                      <a:srgbClr val="474747"/>
                    </a:solidFill>
                    <a:ln w="25560">
                      <a:solidFill>
                        <a:srgbClr val="4e4e4e"/>
                      </a:solidFill>
                      <a:round/>
                    </a:ln>
                  </p:spPr>
                  <p:txBody>
                    <a:bodyPr lIns="102600" rIns="102600" tIns="57600" bIns="57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9" name=""/>
                    <p:cNvSpPr/>
                    <p:nvPr/>
                  </p:nvSpPr>
                  <p:spPr>
                    <a:xfrm>
                      <a:off x="3341520" y="4799160"/>
                      <a:ext cx="189360" cy="81000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526" h="2250">
                          <a:moveTo>
                            <a:pt x="257" y="0"/>
                          </a:moveTo>
                          <a:lnTo>
                            <a:pt x="0" y="1138"/>
                          </a:lnTo>
                          <a:lnTo>
                            <a:pt x="257" y="2250"/>
                          </a:lnTo>
                          <a:lnTo>
                            <a:pt x="526" y="1138"/>
                          </a:lnTo>
                          <a:lnTo>
                            <a:pt x="257" y="0"/>
                          </a:lnTo>
                          <a:close/>
                        </a:path>
                      </a:pathLst>
                    </a:custGeom>
                    <a:solidFill>
                      <a:srgbClr val="474747"/>
                    </a:solidFill>
                    <a:ln w="25560">
                      <a:solidFill>
                        <a:srgbClr val="4e4e4e"/>
                      </a:solidFill>
                      <a:round/>
                    </a:ln>
                  </p:spPr>
                  <p:txBody>
                    <a:bodyPr lIns="102600" rIns="102600" tIns="57600" bIns="57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0" name=""/>
                    <p:cNvSpPr/>
                    <p:nvPr/>
                  </p:nvSpPr>
                  <p:spPr>
                    <a:xfrm>
                      <a:off x="3816360" y="5737320"/>
                      <a:ext cx="189360" cy="81000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526" h="2250">
                          <a:moveTo>
                            <a:pt x="257" y="0"/>
                          </a:moveTo>
                          <a:lnTo>
                            <a:pt x="0" y="1138"/>
                          </a:lnTo>
                          <a:lnTo>
                            <a:pt x="257" y="2250"/>
                          </a:lnTo>
                          <a:lnTo>
                            <a:pt x="526" y="1138"/>
                          </a:lnTo>
                          <a:lnTo>
                            <a:pt x="257" y="0"/>
                          </a:lnTo>
                          <a:close/>
                        </a:path>
                      </a:pathLst>
                    </a:custGeom>
                    <a:solidFill>
                      <a:srgbClr val="474747"/>
                    </a:solidFill>
                    <a:ln w="25560">
                      <a:solidFill>
                        <a:srgbClr val="4e4e4e"/>
                      </a:solidFill>
                      <a:round/>
                    </a:ln>
                  </p:spPr>
                  <p:txBody>
                    <a:bodyPr lIns="102600" rIns="102600" tIns="57600" bIns="57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1" name=""/>
                    <p:cNvSpPr/>
                    <p:nvPr/>
                  </p:nvSpPr>
                  <p:spPr>
                    <a:xfrm>
                      <a:off x="3341520" y="5737320"/>
                      <a:ext cx="189360" cy="81000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526" h="2250">
                          <a:moveTo>
                            <a:pt x="257" y="0"/>
                          </a:moveTo>
                          <a:lnTo>
                            <a:pt x="0" y="1138"/>
                          </a:lnTo>
                          <a:lnTo>
                            <a:pt x="257" y="2250"/>
                          </a:lnTo>
                          <a:lnTo>
                            <a:pt x="526" y="1138"/>
                          </a:lnTo>
                          <a:lnTo>
                            <a:pt x="257" y="0"/>
                          </a:lnTo>
                          <a:close/>
                        </a:path>
                      </a:pathLst>
                    </a:custGeom>
                    <a:solidFill>
                      <a:srgbClr val="474747"/>
                    </a:solidFill>
                    <a:ln w="25560">
                      <a:solidFill>
                        <a:srgbClr val="4e4e4e"/>
                      </a:solidFill>
                      <a:round/>
                    </a:ln>
                  </p:spPr>
                  <p:txBody>
                    <a:bodyPr lIns="102600" rIns="102600" tIns="57600" bIns="57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142" name=""/>
              <p:cNvGrpSpPr/>
              <p:nvPr/>
            </p:nvGrpSpPr>
            <p:grpSpPr>
              <a:xfrm>
                <a:off x="2109960" y="0"/>
                <a:ext cx="995400" cy="6845400"/>
                <a:chOff x="2109960" y="0"/>
                <a:chExt cx="995400" cy="6845400"/>
              </a:xfrm>
            </p:grpSpPr>
            <p:sp>
              <p:nvSpPr>
                <p:cNvPr id="143" name=""/>
                <p:cNvSpPr/>
                <p:nvPr/>
              </p:nvSpPr>
              <p:spPr>
                <a:xfrm>
                  <a:off x="2109960" y="0"/>
                  <a:ext cx="995400" cy="6845400"/>
                </a:xfrm>
                <a:prstGeom prst="rect">
                  <a:avLst/>
                </a:prstGeom>
                <a:solidFill>
                  <a:srgbClr val="4e4e4e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44" name=""/>
                <p:cNvGrpSpPr/>
                <p:nvPr/>
              </p:nvGrpSpPr>
              <p:grpSpPr>
                <a:xfrm>
                  <a:off x="2152800" y="0"/>
                  <a:ext cx="904680" cy="6845400"/>
                  <a:chOff x="2152800" y="0"/>
                  <a:chExt cx="904680" cy="6845400"/>
                </a:xfrm>
              </p:grpSpPr>
              <p:grpSp>
                <p:nvGrpSpPr>
                  <p:cNvPr id="145" name=""/>
                  <p:cNvGrpSpPr/>
                  <p:nvPr/>
                </p:nvGrpSpPr>
                <p:grpSpPr>
                  <a:xfrm>
                    <a:off x="2152800" y="0"/>
                    <a:ext cx="644400" cy="6845400"/>
                    <a:chOff x="2152800" y="0"/>
                    <a:chExt cx="644400" cy="6845400"/>
                  </a:xfrm>
                </p:grpSpPr>
                <p:sp>
                  <p:nvSpPr>
                    <p:cNvPr id="146" name=""/>
                    <p:cNvSpPr/>
                    <p:nvPr/>
                  </p:nvSpPr>
                  <p:spPr>
                    <a:xfrm>
                      <a:off x="2152800" y="0"/>
                      <a:ext cx="169920" cy="6845400"/>
                    </a:xfrm>
                    <a:prstGeom prst="rect">
                      <a:avLst/>
                    </a:prstGeom>
                    <a:solidFill>
                      <a:srgbClr val="474747"/>
                    </a:solidFill>
                    <a:ln w="0">
                      <a:noFill/>
                    </a:ln>
                  </p:spPr>
                  <p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7" name=""/>
                    <p:cNvSpPr/>
                    <p:nvPr/>
                  </p:nvSpPr>
                  <p:spPr>
                    <a:xfrm>
                      <a:off x="2625840" y="0"/>
                      <a:ext cx="171360" cy="6845400"/>
                    </a:xfrm>
                    <a:prstGeom prst="rect">
                      <a:avLst/>
                    </a:prstGeom>
                    <a:solidFill>
                      <a:srgbClr val="474747"/>
                    </a:solidFill>
                    <a:ln w="0">
                      <a:noFill/>
                    </a:ln>
                  </p:spPr>
                  <p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8" name=""/>
                  <p:cNvGrpSpPr/>
                  <p:nvPr/>
                </p:nvGrpSpPr>
                <p:grpSpPr>
                  <a:xfrm>
                    <a:off x="2367000" y="0"/>
                    <a:ext cx="601560" cy="6845400"/>
                    <a:chOff x="2367000" y="0"/>
                    <a:chExt cx="601560" cy="6845400"/>
                  </a:xfrm>
                </p:grpSpPr>
                <p:sp>
                  <p:nvSpPr>
                    <p:cNvPr id="149" name=""/>
                    <p:cNvSpPr/>
                    <p:nvPr/>
                  </p:nvSpPr>
                  <p:spPr>
                    <a:xfrm>
                      <a:off x="2367000" y="0"/>
                      <a:ext cx="127080" cy="6845400"/>
                    </a:xfrm>
                    <a:prstGeom prst="rect">
                      <a:avLst/>
                    </a:prstGeom>
                    <a:solidFill>
                      <a:srgbClr val="474747"/>
                    </a:solidFill>
                    <a:ln w="0">
                      <a:noFill/>
                    </a:ln>
                  </p:spPr>
                  <p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0" name=""/>
                    <p:cNvSpPr/>
                    <p:nvPr/>
                  </p:nvSpPr>
                  <p:spPr>
                    <a:xfrm>
                      <a:off x="2841480" y="0"/>
                      <a:ext cx="127080" cy="6845400"/>
                    </a:xfrm>
                    <a:prstGeom prst="rect">
                      <a:avLst/>
                    </a:prstGeom>
                    <a:solidFill>
                      <a:srgbClr val="474747"/>
                    </a:solidFill>
                    <a:ln w="0">
                      <a:noFill/>
                    </a:ln>
                  </p:spPr>
                  <p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1" name=""/>
                  <p:cNvGrpSpPr/>
                  <p:nvPr/>
                </p:nvGrpSpPr>
                <p:grpSpPr>
                  <a:xfrm>
                    <a:off x="2543040" y="0"/>
                    <a:ext cx="514440" cy="6845400"/>
                    <a:chOff x="2543040" y="0"/>
                    <a:chExt cx="514440" cy="6845400"/>
                  </a:xfrm>
                </p:grpSpPr>
                <p:sp>
                  <p:nvSpPr>
                    <p:cNvPr id="152" name=""/>
                    <p:cNvSpPr/>
                    <p:nvPr/>
                  </p:nvSpPr>
                  <p:spPr>
                    <a:xfrm>
                      <a:off x="2543040" y="0"/>
                      <a:ext cx="39600" cy="6845400"/>
                    </a:xfrm>
                    <a:prstGeom prst="rect">
                      <a:avLst/>
                    </a:prstGeom>
                    <a:solidFill>
                      <a:srgbClr val="474747"/>
                    </a:solidFill>
                    <a:ln w="0">
                      <a:noFill/>
                    </a:ln>
                  </p:spPr>
                  <p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3" name=""/>
                    <p:cNvSpPr/>
                    <p:nvPr/>
                  </p:nvSpPr>
                  <p:spPr>
                    <a:xfrm>
                      <a:off x="3017880" y="0"/>
                      <a:ext cx="39600" cy="6845400"/>
                    </a:xfrm>
                    <a:prstGeom prst="rect">
                      <a:avLst/>
                    </a:prstGeom>
                    <a:solidFill>
                      <a:srgbClr val="474747"/>
                    </a:solidFill>
                    <a:ln w="0">
                      <a:noFill/>
                    </a:ln>
                  </p:spPr>
                  <p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54" name=""/>
                <p:cNvGrpSpPr/>
                <p:nvPr/>
              </p:nvGrpSpPr>
              <p:grpSpPr>
                <a:xfrm>
                  <a:off x="2149560" y="270000"/>
                  <a:ext cx="660600" cy="6277320"/>
                  <a:chOff x="2149560" y="270000"/>
                  <a:chExt cx="660600" cy="6277320"/>
                </a:xfrm>
              </p:grpSpPr>
              <p:grpSp>
                <p:nvGrpSpPr>
                  <p:cNvPr id="155" name=""/>
                  <p:cNvGrpSpPr/>
                  <p:nvPr/>
                </p:nvGrpSpPr>
                <p:grpSpPr>
                  <a:xfrm>
                    <a:off x="2149560" y="270000"/>
                    <a:ext cx="660600" cy="1748160"/>
                    <a:chOff x="2149560" y="270000"/>
                    <a:chExt cx="660600" cy="1748160"/>
                  </a:xfrm>
                </p:grpSpPr>
                <p:sp>
                  <p:nvSpPr>
                    <p:cNvPr id="156" name=""/>
                    <p:cNvSpPr/>
                    <p:nvPr/>
                  </p:nvSpPr>
                  <p:spPr>
                    <a:xfrm>
                      <a:off x="2622600" y="270000"/>
                      <a:ext cx="187560" cy="81000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521" h="2250">
                          <a:moveTo>
                            <a:pt x="254" y="0"/>
                          </a:moveTo>
                          <a:lnTo>
                            <a:pt x="0" y="1138"/>
                          </a:lnTo>
                          <a:lnTo>
                            <a:pt x="254" y="2250"/>
                          </a:lnTo>
                          <a:lnTo>
                            <a:pt x="521" y="1138"/>
                          </a:lnTo>
                          <a:lnTo>
                            <a:pt x="254" y="0"/>
                          </a:lnTo>
                          <a:close/>
                        </a:path>
                      </a:pathLst>
                    </a:custGeom>
                    <a:solidFill>
                      <a:srgbClr val="474747"/>
                    </a:solidFill>
                    <a:ln w="25560">
                      <a:solidFill>
                        <a:srgbClr val="4e4e4e"/>
                      </a:solidFill>
                      <a:round/>
                    </a:ln>
                  </p:spPr>
                  <p:txBody>
                    <a:bodyPr lIns="102600" rIns="102600" tIns="57600" bIns="57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7" name=""/>
                    <p:cNvSpPr/>
                    <p:nvPr/>
                  </p:nvSpPr>
                  <p:spPr>
                    <a:xfrm>
                      <a:off x="2149560" y="270000"/>
                      <a:ext cx="187560" cy="81000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521" h="2250">
                          <a:moveTo>
                            <a:pt x="254" y="0"/>
                          </a:moveTo>
                          <a:lnTo>
                            <a:pt x="0" y="1138"/>
                          </a:lnTo>
                          <a:lnTo>
                            <a:pt x="254" y="2250"/>
                          </a:lnTo>
                          <a:lnTo>
                            <a:pt x="521" y="1138"/>
                          </a:lnTo>
                          <a:lnTo>
                            <a:pt x="254" y="0"/>
                          </a:lnTo>
                          <a:close/>
                        </a:path>
                      </a:pathLst>
                    </a:custGeom>
                    <a:solidFill>
                      <a:srgbClr val="474747"/>
                    </a:solidFill>
                    <a:ln w="25560">
                      <a:solidFill>
                        <a:srgbClr val="4e4e4e"/>
                      </a:solidFill>
                      <a:round/>
                    </a:ln>
                  </p:spPr>
                  <p:txBody>
                    <a:bodyPr lIns="102600" rIns="102600" tIns="57600" bIns="57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8" name=""/>
                    <p:cNvSpPr/>
                    <p:nvPr/>
                  </p:nvSpPr>
                  <p:spPr>
                    <a:xfrm>
                      <a:off x="2622600" y="1208160"/>
                      <a:ext cx="187560" cy="81000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521" h="2250">
                          <a:moveTo>
                            <a:pt x="254" y="0"/>
                          </a:moveTo>
                          <a:lnTo>
                            <a:pt x="0" y="1138"/>
                          </a:lnTo>
                          <a:lnTo>
                            <a:pt x="254" y="2250"/>
                          </a:lnTo>
                          <a:lnTo>
                            <a:pt x="521" y="1138"/>
                          </a:lnTo>
                          <a:lnTo>
                            <a:pt x="254" y="0"/>
                          </a:lnTo>
                          <a:close/>
                        </a:path>
                      </a:pathLst>
                    </a:custGeom>
                    <a:solidFill>
                      <a:srgbClr val="474747"/>
                    </a:solidFill>
                    <a:ln w="25560">
                      <a:solidFill>
                        <a:srgbClr val="4e4e4e"/>
                      </a:solidFill>
                      <a:round/>
                    </a:ln>
                  </p:spPr>
                  <p:txBody>
                    <a:bodyPr lIns="102600" rIns="102600" tIns="57600" bIns="57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9" name=""/>
                    <p:cNvSpPr/>
                    <p:nvPr/>
                  </p:nvSpPr>
                  <p:spPr>
                    <a:xfrm>
                      <a:off x="2149560" y="1208160"/>
                      <a:ext cx="187560" cy="81000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521" h="2250">
                          <a:moveTo>
                            <a:pt x="254" y="0"/>
                          </a:moveTo>
                          <a:lnTo>
                            <a:pt x="0" y="1138"/>
                          </a:lnTo>
                          <a:lnTo>
                            <a:pt x="254" y="2250"/>
                          </a:lnTo>
                          <a:lnTo>
                            <a:pt x="521" y="1138"/>
                          </a:lnTo>
                          <a:lnTo>
                            <a:pt x="254" y="0"/>
                          </a:lnTo>
                          <a:close/>
                        </a:path>
                      </a:pathLst>
                    </a:custGeom>
                    <a:solidFill>
                      <a:srgbClr val="474747"/>
                    </a:solidFill>
                    <a:ln w="25560">
                      <a:solidFill>
                        <a:srgbClr val="4e4e4e"/>
                      </a:solidFill>
                      <a:round/>
                    </a:ln>
                  </p:spPr>
                  <p:txBody>
                    <a:bodyPr lIns="102600" rIns="102600" tIns="57600" bIns="57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0" name=""/>
                  <p:cNvGrpSpPr/>
                  <p:nvPr/>
                </p:nvGrpSpPr>
                <p:grpSpPr>
                  <a:xfrm>
                    <a:off x="2149560" y="2536920"/>
                    <a:ext cx="660600" cy="1748160"/>
                    <a:chOff x="2149560" y="2536920"/>
                    <a:chExt cx="660600" cy="1748160"/>
                  </a:xfrm>
                </p:grpSpPr>
                <p:sp>
                  <p:nvSpPr>
                    <p:cNvPr id="161" name=""/>
                    <p:cNvSpPr/>
                    <p:nvPr/>
                  </p:nvSpPr>
                  <p:spPr>
                    <a:xfrm>
                      <a:off x="2622600" y="2536920"/>
                      <a:ext cx="187560" cy="81000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521" h="2250">
                          <a:moveTo>
                            <a:pt x="254" y="0"/>
                          </a:moveTo>
                          <a:lnTo>
                            <a:pt x="0" y="1138"/>
                          </a:lnTo>
                          <a:lnTo>
                            <a:pt x="254" y="2250"/>
                          </a:lnTo>
                          <a:lnTo>
                            <a:pt x="521" y="1138"/>
                          </a:lnTo>
                          <a:lnTo>
                            <a:pt x="254" y="0"/>
                          </a:lnTo>
                          <a:close/>
                        </a:path>
                      </a:pathLst>
                    </a:custGeom>
                    <a:solidFill>
                      <a:srgbClr val="474747"/>
                    </a:solidFill>
                    <a:ln w="25560">
                      <a:solidFill>
                        <a:srgbClr val="4e4e4e"/>
                      </a:solidFill>
                      <a:round/>
                    </a:ln>
                  </p:spPr>
                  <p:txBody>
                    <a:bodyPr lIns="102600" rIns="102600" tIns="57600" bIns="57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2" name=""/>
                    <p:cNvSpPr/>
                    <p:nvPr/>
                  </p:nvSpPr>
                  <p:spPr>
                    <a:xfrm>
                      <a:off x="2149560" y="2536920"/>
                      <a:ext cx="187560" cy="81000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521" h="2250">
                          <a:moveTo>
                            <a:pt x="254" y="0"/>
                          </a:moveTo>
                          <a:lnTo>
                            <a:pt x="0" y="1138"/>
                          </a:lnTo>
                          <a:lnTo>
                            <a:pt x="254" y="2250"/>
                          </a:lnTo>
                          <a:lnTo>
                            <a:pt x="521" y="1138"/>
                          </a:lnTo>
                          <a:lnTo>
                            <a:pt x="254" y="0"/>
                          </a:lnTo>
                          <a:close/>
                        </a:path>
                      </a:pathLst>
                    </a:custGeom>
                    <a:solidFill>
                      <a:srgbClr val="474747"/>
                    </a:solidFill>
                    <a:ln w="25560">
                      <a:solidFill>
                        <a:srgbClr val="4e4e4e"/>
                      </a:solidFill>
                      <a:round/>
                    </a:ln>
                  </p:spPr>
                  <p:txBody>
                    <a:bodyPr lIns="102600" rIns="102600" tIns="57600" bIns="57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" name=""/>
                    <p:cNvSpPr/>
                    <p:nvPr/>
                  </p:nvSpPr>
                  <p:spPr>
                    <a:xfrm>
                      <a:off x="2622600" y="3475080"/>
                      <a:ext cx="187560" cy="81000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521" h="2250">
                          <a:moveTo>
                            <a:pt x="254" y="0"/>
                          </a:moveTo>
                          <a:lnTo>
                            <a:pt x="0" y="1138"/>
                          </a:lnTo>
                          <a:lnTo>
                            <a:pt x="254" y="2250"/>
                          </a:lnTo>
                          <a:lnTo>
                            <a:pt x="521" y="1138"/>
                          </a:lnTo>
                          <a:lnTo>
                            <a:pt x="254" y="0"/>
                          </a:lnTo>
                          <a:close/>
                        </a:path>
                      </a:pathLst>
                    </a:custGeom>
                    <a:solidFill>
                      <a:srgbClr val="474747"/>
                    </a:solidFill>
                    <a:ln w="25560">
                      <a:solidFill>
                        <a:srgbClr val="4e4e4e"/>
                      </a:solidFill>
                      <a:round/>
                    </a:ln>
                  </p:spPr>
                  <p:txBody>
                    <a:bodyPr lIns="102600" rIns="102600" tIns="57600" bIns="57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4" name=""/>
                    <p:cNvSpPr/>
                    <p:nvPr/>
                  </p:nvSpPr>
                  <p:spPr>
                    <a:xfrm>
                      <a:off x="2149560" y="3475080"/>
                      <a:ext cx="187560" cy="81000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521" h="2250">
                          <a:moveTo>
                            <a:pt x="254" y="0"/>
                          </a:moveTo>
                          <a:lnTo>
                            <a:pt x="0" y="1138"/>
                          </a:lnTo>
                          <a:lnTo>
                            <a:pt x="254" y="2250"/>
                          </a:lnTo>
                          <a:lnTo>
                            <a:pt x="521" y="1138"/>
                          </a:lnTo>
                          <a:lnTo>
                            <a:pt x="254" y="0"/>
                          </a:lnTo>
                          <a:close/>
                        </a:path>
                      </a:pathLst>
                    </a:custGeom>
                    <a:solidFill>
                      <a:srgbClr val="474747"/>
                    </a:solidFill>
                    <a:ln w="25560">
                      <a:solidFill>
                        <a:srgbClr val="4e4e4e"/>
                      </a:solidFill>
                      <a:round/>
                    </a:ln>
                  </p:spPr>
                  <p:txBody>
                    <a:bodyPr lIns="102600" rIns="102600" tIns="57600" bIns="57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5" name=""/>
                  <p:cNvGrpSpPr/>
                  <p:nvPr/>
                </p:nvGrpSpPr>
                <p:grpSpPr>
                  <a:xfrm>
                    <a:off x="2149560" y="4799160"/>
                    <a:ext cx="660600" cy="1748160"/>
                    <a:chOff x="2149560" y="4799160"/>
                    <a:chExt cx="660600" cy="1748160"/>
                  </a:xfrm>
                </p:grpSpPr>
                <p:sp>
                  <p:nvSpPr>
                    <p:cNvPr id="166" name=""/>
                    <p:cNvSpPr/>
                    <p:nvPr/>
                  </p:nvSpPr>
                  <p:spPr>
                    <a:xfrm>
                      <a:off x="2622600" y="4799160"/>
                      <a:ext cx="187560" cy="81000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521" h="2250">
                          <a:moveTo>
                            <a:pt x="254" y="0"/>
                          </a:moveTo>
                          <a:lnTo>
                            <a:pt x="0" y="1138"/>
                          </a:lnTo>
                          <a:lnTo>
                            <a:pt x="254" y="2250"/>
                          </a:lnTo>
                          <a:lnTo>
                            <a:pt x="521" y="1138"/>
                          </a:lnTo>
                          <a:lnTo>
                            <a:pt x="254" y="0"/>
                          </a:lnTo>
                          <a:close/>
                        </a:path>
                      </a:pathLst>
                    </a:custGeom>
                    <a:solidFill>
                      <a:srgbClr val="474747"/>
                    </a:solidFill>
                    <a:ln w="25560">
                      <a:solidFill>
                        <a:srgbClr val="4e4e4e"/>
                      </a:solidFill>
                      <a:round/>
                    </a:ln>
                  </p:spPr>
                  <p:txBody>
                    <a:bodyPr lIns="102600" rIns="102600" tIns="57600" bIns="57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" name=""/>
                    <p:cNvSpPr/>
                    <p:nvPr/>
                  </p:nvSpPr>
                  <p:spPr>
                    <a:xfrm>
                      <a:off x="2149560" y="4799160"/>
                      <a:ext cx="187560" cy="81000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521" h="2250">
                          <a:moveTo>
                            <a:pt x="254" y="0"/>
                          </a:moveTo>
                          <a:lnTo>
                            <a:pt x="0" y="1138"/>
                          </a:lnTo>
                          <a:lnTo>
                            <a:pt x="254" y="2250"/>
                          </a:lnTo>
                          <a:lnTo>
                            <a:pt x="521" y="1138"/>
                          </a:lnTo>
                          <a:lnTo>
                            <a:pt x="254" y="0"/>
                          </a:lnTo>
                          <a:close/>
                        </a:path>
                      </a:pathLst>
                    </a:custGeom>
                    <a:solidFill>
                      <a:srgbClr val="474747"/>
                    </a:solidFill>
                    <a:ln w="25560">
                      <a:solidFill>
                        <a:srgbClr val="4e4e4e"/>
                      </a:solidFill>
                      <a:round/>
                    </a:ln>
                  </p:spPr>
                  <p:txBody>
                    <a:bodyPr lIns="102600" rIns="102600" tIns="57600" bIns="57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8" name=""/>
                    <p:cNvSpPr/>
                    <p:nvPr/>
                  </p:nvSpPr>
                  <p:spPr>
                    <a:xfrm>
                      <a:off x="2622600" y="5737320"/>
                      <a:ext cx="187560" cy="81000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521" h="2250">
                          <a:moveTo>
                            <a:pt x="254" y="0"/>
                          </a:moveTo>
                          <a:lnTo>
                            <a:pt x="0" y="1138"/>
                          </a:lnTo>
                          <a:lnTo>
                            <a:pt x="254" y="2250"/>
                          </a:lnTo>
                          <a:lnTo>
                            <a:pt x="521" y="1138"/>
                          </a:lnTo>
                          <a:lnTo>
                            <a:pt x="254" y="0"/>
                          </a:lnTo>
                          <a:close/>
                        </a:path>
                      </a:pathLst>
                    </a:custGeom>
                    <a:solidFill>
                      <a:srgbClr val="474747"/>
                    </a:solidFill>
                    <a:ln w="25560">
                      <a:solidFill>
                        <a:srgbClr val="4e4e4e"/>
                      </a:solidFill>
                      <a:round/>
                    </a:ln>
                  </p:spPr>
                  <p:txBody>
                    <a:bodyPr lIns="102600" rIns="102600" tIns="57600" bIns="57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" name=""/>
                    <p:cNvSpPr/>
                    <p:nvPr/>
                  </p:nvSpPr>
                  <p:spPr>
                    <a:xfrm>
                      <a:off x="2149560" y="5737320"/>
                      <a:ext cx="187560" cy="81000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521" h="2250">
                          <a:moveTo>
                            <a:pt x="254" y="0"/>
                          </a:moveTo>
                          <a:lnTo>
                            <a:pt x="0" y="1138"/>
                          </a:lnTo>
                          <a:lnTo>
                            <a:pt x="254" y="2250"/>
                          </a:lnTo>
                          <a:lnTo>
                            <a:pt x="521" y="1138"/>
                          </a:lnTo>
                          <a:lnTo>
                            <a:pt x="254" y="0"/>
                          </a:lnTo>
                          <a:close/>
                        </a:path>
                      </a:pathLst>
                    </a:custGeom>
                    <a:solidFill>
                      <a:srgbClr val="474747"/>
                    </a:solidFill>
                    <a:ln w="25560">
                      <a:solidFill>
                        <a:srgbClr val="4e4e4e"/>
                      </a:solidFill>
                      <a:round/>
                    </a:ln>
                  </p:spPr>
                  <p:txBody>
                    <a:bodyPr lIns="102600" rIns="102600" tIns="57600" bIns="57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170" name=""/>
              <p:cNvGrpSpPr/>
              <p:nvPr/>
            </p:nvGrpSpPr>
            <p:grpSpPr>
              <a:xfrm>
                <a:off x="914400" y="0"/>
                <a:ext cx="996840" cy="6845400"/>
                <a:chOff x="914400" y="0"/>
                <a:chExt cx="996840" cy="6845400"/>
              </a:xfrm>
            </p:grpSpPr>
            <p:sp>
              <p:nvSpPr>
                <p:cNvPr id="171" name=""/>
                <p:cNvSpPr/>
                <p:nvPr/>
              </p:nvSpPr>
              <p:spPr>
                <a:xfrm>
                  <a:off x="914400" y="0"/>
                  <a:ext cx="996840" cy="6845400"/>
                </a:xfrm>
                <a:prstGeom prst="rect">
                  <a:avLst/>
                </a:prstGeom>
                <a:solidFill>
                  <a:srgbClr val="4e4e4e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72" name=""/>
                <p:cNvGrpSpPr/>
                <p:nvPr/>
              </p:nvGrpSpPr>
              <p:grpSpPr>
                <a:xfrm>
                  <a:off x="958680" y="0"/>
                  <a:ext cx="903240" cy="6845400"/>
                  <a:chOff x="958680" y="0"/>
                  <a:chExt cx="903240" cy="6845400"/>
                </a:xfrm>
              </p:grpSpPr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958680" y="0"/>
                    <a:ext cx="644760" cy="6845400"/>
                    <a:chOff x="958680" y="0"/>
                    <a:chExt cx="644760" cy="684540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958680" y="0"/>
                      <a:ext cx="171360" cy="6845400"/>
                    </a:xfrm>
                    <a:prstGeom prst="rect">
                      <a:avLst/>
                    </a:prstGeom>
                    <a:solidFill>
                      <a:srgbClr val="474747"/>
                    </a:solidFill>
                    <a:ln w="0">
                      <a:noFill/>
                    </a:ln>
                  </p:spPr>
                  <p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5" name=""/>
                    <p:cNvSpPr/>
                    <p:nvPr/>
                  </p:nvSpPr>
                  <p:spPr>
                    <a:xfrm>
                      <a:off x="1433520" y="0"/>
                      <a:ext cx="169920" cy="6845400"/>
                    </a:xfrm>
                    <a:prstGeom prst="rect">
                      <a:avLst/>
                    </a:prstGeom>
                    <a:solidFill>
                      <a:srgbClr val="474747"/>
                    </a:solidFill>
                    <a:ln w="0">
                      <a:noFill/>
                    </a:ln>
                  </p:spPr>
                  <p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76" name=""/>
                  <p:cNvGrpSpPr/>
                  <p:nvPr/>
                </p:nvGrpSpPr>
                <p:grpSpPr>
                  <a:xfrm>
                    <a:off x="1174680" y="0"/>
                    <a:ext cx="600120" cy="6845400"/>
                    <a:chOff x="1174680" y="0"/>
                    <a:chExt cx="600120" cy="6845400"/>
                  </a:xfrm>
                </p:grpSpPr>
                <p:sp>
                  <p:nvSpPr>
                    <p:cNvPr id="177" name=""/>
                    <p:cNvSpPr/>
                    <p:nvPr/>
                  </p:nvSpPr>
                  <p:spPr>
                    <a:xfrm>
                      <a:off x="1174680" y="0"/>
                      <a:ext cx="127080" cy="6845400"/>
                    </a:xfrm>
                    <a:prstGeom prst="rect">
                      <a:avLst/>
                    </a:prstGeom>
                    <a:solidFill>
                      <a:srgbClr val="474747"/>
                    </a:solidFill>
                    <a:ln w="0">
                      <a:noFill/>
                    </a:ln>
                  </p:spPr>
                  <p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8" name=""/>
                    <p:cNvSpPr/>
                    <p:nvPr/>
                  </p:nvSpPr>
                  <p:spPr>
                    <a:xfrm>
                      <a:off x="1647720" y="0"/>
                      <a:ext cx="127080" cy="6845400"/>
                    </a:xfrm>
                    <a:prstGeom prst="rect">
                      <a:avLst/>
                    </a:prstGeom>
                    <a:solidFill>
                      <a:srgbClr val="474747"/>
                    </a:solidFill>
                    <a:ln w="0">
                      <a:noFill/>
                    </a:ln>
                  </p:spPr>
                  <p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79" name=""/>
                  <p:cNvGrpSpPr/>
                  <p:nvPr/>
                </p:nvGrpSpPr>
                <p:grpSpPr>
                  <a:xfrm>
                    <a:off x="1349280" y="0"/>
                    <a:ext cx="512640" cy="6845400"/>
                    <a:chOff x="1349280" y="0"/>
                    <a:chExt cx="512640" cy="6845400"/>
                  </a:xfrm>
                </p:grpSpPr>
                <p:sp>
                  <p:nvSpPr>
                    <p:cNvPr id="180" name=""/>
                    <p:cNvSpPr/>
                    <p:nvPr/>
                  </p:nvSpPr>
                  <p:spPr>
                    <a:xfrm>
                      <a:off x="1349280" y="0"/>
                      <a:ext cx="39600" cy="6845400"/>
                    </a:xfrm>
                    <a:prstGeom prst="rect">
                      <a:avLst/>
                    </a:prstGeom>
                    <a:solidFill>
                      <a:srgbClr val="474747"/>
                    </a:solidFill>
                    <a:ln w="0">
                      <a:noFill/>
                    </a:ln>
                  </p:spPr>
                  <p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1" name=""/>
                    <p:cNvSpPr/>
                    <p:nvPr/>
                  </p:nvSpPr>
                  <p:spPr>
                    <a:xfrm>
                      <a:off x="1822320" y="0"/>
                      <a:ext cx="39600" cy="6845400"/>
                    </a:xfrm>
                    <a:prstGeom prst="rect">
                      <a:avLst/>
                    </a:prstGeom>
                    <a:solidFill>
                      <a:srgbClr val="474747"/>
                    </a:solidFill>
                    <a:ln w="0">
                      <a:noFill/>
                    </a:ln>
                  </p:spPr>
                  <p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82" name=""/>
                <p:cNvGrpSpPr/>
                <p:nvPr/>
              </p:nvGrpSpPr>
              <p:grpSpPr>
                <a:xfrm>
                  <a:off x="954000" y="270000"/>
                  <a:ext cx="663840" cy="6277320"/>
                  <a:chOff x="954000" y="270000"/>
                  <a:chExt cx="663840" cy="6277320"/>
                </a:xfrm>
              </p:grpSpPr>
              <p:grpSp>
                <p:nvGrpSpPr>
                  <p:cNvPr id="183" name=""/>
                  <p:cNvGrpSpPr/>
                  <p:nvPr/>
                </p:nvGrpSpPr>
                <p:grpSpPr>
                  <a:xfrm>
                    <a:off x="954000" y="270000"/>
                    <a:ext cx="663840" cy="1748160"/>
                    <a:chOff x="954000" y="270000"/>
                    <a:chExt cx="663840" cy="1748160"/>
                  </a:xfrm>
                </p:grpSpPr>
                <p:sp>
                  <p:nvSpPr>
                    <p:cNvPr id="184" name=""/>
                    <p:cNvSpPr/>
                    <p:nvPr/>
                  </p:nvSpPr>
                  <p:spPr>
                    <a:xfrm>
                      <a:off x="1427040" y="270000"/>
                      <a:ext cx="190800" cy="81000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530" h="2250">
                          <a:moveTo>
                            <a:pt x="258" y="0"/>
                          </a:moveTo>
                          <a:lnTo>
                            <a:pt x="0" y="1138"/>
                          </a:lnTo>
                          <a:lnTo>
                            <a:pt x="258" y="2250"/>
                          </a:lnTo>
                          <a:lnTo>
                            <a:pt x="530" y="1138"/>
                          </a:lnTo>
                          <a:lnTo>
                            <a:pt x="258" y="0"/>
                          </a:lnTo>
                          <a:close/>
                        </a:path>
                      </a:pathLst>
                    </a:custGeom>
                    <a:solidFill>
                      <a:srgbClr val="474747"/>
                    </a:solidFill>
                    <a:ln w="25560">
                      <a:solidFill>
                        <a:srgbClr val="4e4e4e"/>
                      </a:solidFill>
                      <a:round/>
                    </a:ln>
                  </p:spPr>
                  <p:txBody>
                    <a:bodyPr lIns="102600" rIns="102600" tIns="57600" bIns="57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5" name=""/>
                    <p:cNvSpPr/>
                    <p:nvPr/>
                  </p:nvSpPr>
                  <p:spPr>
                    <a:xfrm>
                      <a:off x="954000" y="270000"/>
                      <a:ext cx="189360" cy="81000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526" h="2250">
                          <a:moveTo>
                            <a:pt x="257" y="0"/>
                          </a:moveTo>
                          <a:lnTo>
                            <a:pt x="0" y="1138"/>
                          </a:lnTo>
                          <a:lnTo>
                            <a:pt x="257" y="2250"/>
                          </a:lnTo>
                          <a:lnTo>
                            <a:pt x="526" y="1138"/>
                          </a:lnTo>
                          <a:lnTo>
                            <a:pt x="257" y="0"/>
                          </a:lnTo>
                          <a:close/>
                        </a:path>
                      </a:pathLst>
                    </a:custGeom>
                    <a:solidFill>
                      <a:srgbClr val="474747"/>
                    </a:solidFill>
                    <a:ln w="25560">
                      <a:solidFill>
                        <a:srgbClr val="4e4e4e"/>
                      </a:solidFill>
                      <a:round/>
                    </a:ln>
                  </p:spPr>
                  <p:txBody>
                    <a:bodyPr lIns="102600" rIns="102600" tIns="57600" bIns="57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6" name=""/>
                    <p:cNvSpPr/>
                    <p:nvPr/>
                  </p:nvSpPr>
                  <p:spPr>
                    <a:xfrm>
                      <a:off x="1427040" y="1208160"/>
                      <a:ext cx="190800" cy="81000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530" h="2250">
                          <a:moveTo>
                            <a:pt x="258" y="0"/>
                          </a:moveTo>
                          <a:lnTo>
                            <a:pt x="0" y="1138"/>
                          </a:lnTo>
                          <a:lnTo>
                            <a:pt x="258" y="2250"/>
                          </a:lnTo>
                          <a:lnTo>
                            <a:pt x="530" y="1138"/>
                          </a:lnTo>
                          <a:lnTo>
                            <a:pt x="258" y="0"/>
                          </a:lnTo>
                          <a:close/>
                        </a:path>
                      </a:pathLst>
                    </a:custGeom>
                    <a:solidFill>
                      <a:srgbClr val="474747"/>
                    </a:solidFill>
                    <a:ln w="25560">
                      <a:solidFill>
                        <a:srgbClr val="4e4e4e"/>
                      </a:solidFill>
                      <a:round/>
                    </a:ln>
                  </p:spPr>
                  <p:txBody>
                    <a:bodyPr lIns="102600" rIns="102600" tIns="57600" bIns="57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7" name=""/>
                    <p:cNvSpPr/>
                    <p:nvPr/>
                  </p:nvSpPr>
                  <p:spPr>
                    <a:xfrm>
                      <a:off x="954000" y="1208160"/>
                      <a:ext cx="189360" cy="81000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526" h="2250">
                          <a:moveTo>
                            <a:pt x="257" y="0"/>
                          </a:moveTo>
                          <a:lnTo>
                            <a:pt x="0" y="1138"/>
                          </a:lnTo>
                          <a:lnTo>
                            <a:pt x="257" y="2250"/>
                          </a:lnTo>
                          <a:lnTo>
                            <a:pt x="526" y="1138"/>
                          </a:lnTo>
                          <a:lnTo>
                            <a:pt x="257" y="0"/>
                          </a:lnTo>
                          <a:close/>
                        </a:path>
                      </a:pathLst>
                    </a:custGeom>
                    <a:solidFill>
                      <a:srgbClr val="474747"/>
                    </a:solidFill>
                    <a:ln w="25560">
                      <a:solidFill>
                        <a:srgbClr val="4e4e4e"/>
                      </a:solidFill>
                      <a:round/>
                    </a:ln>
                  </p:spPr>
                  <p:txBody>
                    <a:bodyPr lIns="102600" rIns="102600" tIns="57600" bIns="57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8" name=""/>
                  <p:cNvGrpSpPr/>
                  <p:nvPr/>
                </p:nvGrpSpPr>
                <p:grpSpPr>
                  <a:xfrm>
                    <a:off x="954000" y="2536920"/>
                    <a:ext cx="663840" cy="1748160"/>
                    <a:chOff x="954000" y="2536920"/>
                    <a:chExt cx="663840" cy="1748160"/>
                  </a:xfrm>
                </p:grpSpPr>
                <p:sp>
                  <p:nvSpPr>
                    <p:cNvPr id="189" name=""/>
                    <p:cNvSpPr/>
                    <p:nvPr/>
                  </p:nvSpPr>
                  <p:spPr>
                    <a:xfrm>
                      <a:off x="1427040" y="2536920"/>
                      <a:ext cx="190800" cy="81000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530" h="2250">
                          <a:moveTo>
                            <a:pt x="258" y="0"/>
                          </a:moveTo>
                          <a:lnTo>
                            <a:pt x="0" y="1138"/>
                          </a:lnTo>
                          <a:lnTo>
                            <a:pt x="258" y="2250"/>
                          </a:lnTo>
                          <a:lnTo>
                            <a:pt x="530" y="1138"/>
                          </a:lnTo>
                          <a:lnTo>
                            <a:pt x="258" y="0"/>
                          </a:lnTo>
                          <a:close/>
                        </a:path>
                      </a:pathLst>
                    </a:custGeom>
                    <a:solidFill>
                      <a:srgbClr val="474747"/>
                    </a:solidFill>
                    <a:ln w="25560">
                      <a:solidFill>
                        <a:srgbClr val="4e4e4e"/>
                      </a:solidFill>
                      <a:round/>
                    </a:ln>
                  </p:spPr>
                  <p:txBody>
                    <a:bodyPr lIns="102600" rIns="102600" tIns="57600" bIns="57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0" name=""/>
                    <p:cNvSpPr/>
                    <p:nvPr/>
                  </p:nvSpPr>
                  <p:spPr>
                    <a:xfrm>
                      <a:off x="954000" y="2536920"/>
                      <a:ext cx="189360" cy="81000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526" h="2250">
                          <a:moveTo>
                            <a:pt x="257" y="0"/>
                          </a:moveTo>
                          <a:lnTo>
                            <a:pt x="0" y="1138"/>
                          </a:lnTo>
                          <a:lnTo>
                            <a:pt x="257" y="2250"/>
                          </a:lnTo>
                          <a:lnTo>
                            <a:pt x="526" y="1138"/>
                          </a:lnTo>
                          <a:lnTo>
                            <a:pt x="257" y="0"/>
                          </a:lnTo>
                          <a:close/>
                        </a:path>
                      </a:pathLst>
                    </a:custGeom>
                    <a:solidFill>
                      <a:srgbClr val="474747"/>
                    </a:solidFill>
                    <a:ln w="25560">
                      <a:solidFill>
                        <a:srgbClr val="4e4e4e"/>
                      </a:solidFill>
                      <a:round/>
                    </a:ln>
                  </p:spPr>
                  <p:txBody>
                    <a:bodyPr lIns="102600" rIns="102600" tIns="57600" bIns="57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>
                      <a:off x="1427040" y="3475080"/>
                      <a:ext cx="190800" cy="81000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530" h="2250">
                          <a:moveTo>
                            <a:pt x="258" y="0"/>
                          </a:moveTo>
                          <a:lnTo>
                            <a:pt x="0" y="1138"/>
                          </a:lnTo>
                          <a:lnTo>
                            <a:pt x="258" y="2250"/>
                          </a:lnTo>
                          <a:lnTo>
                            <a:pt x="530" y="1138"/>
                          </a:lnTo>
                          <a:lnTo>
                            <a:pt x="258" y="0"/>
                          </a:lnTo>
                          <a:close/>
                        </a:path>
                      </a:pathLst>
                    </a:custGeom>
                    <a:solidFill>
                      <a:srgbClr val="474747"/>
                    </a:solidFill>
                    <a:ln w="25560">
                      <a:solidFill>
                        <a:srgbClr val="4e4e4e"/>
                      </a:solidFill>
                      <a:round/>
                    </a:ln>
                  </p:spPr>
                  <p:txBody>
                    <a:bodyPr lIns="102600" rIns="102600" tIns="57600" bIns="57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2" name=""/>
                    <p:cNvSpPr/>
                    <p:nvPr/>
                  </p:nvSpPr>
                  <p:spPr>
                    <a:xfrm>
                      <a:off x="954000" y="3475080"/>
                      <a:ext cx="189360" cy="81000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526" h="2250">
                          <a:moveTo>
                            <a:pt x="257" y="0"/>
                          </a:moveTo>
                          <a:lnTo>
                            <a:pt x="0" y="1138"/>
                          </a:lnTo>
                          <a:lnTo>
                            <a:pt x="257" y="2250"/>
                          </a:lnTo>
                          <a:lnTo>
                            <a:pt x="526" y="1138"/>
                          </a:lnTo>
                          <a:lnTo>
                            <a:pt x="257" y="0"/>
                          </a:lnTo>
                          <a:close/>
                        </a:path>
                      </a:pathLst>
                    </a:custGeom>
                    <a:solidFill>
                      <a:srgbClr val="474747"/>
                    </a:solidFill>
                    <a:ln w="25560">
                      <a:solidFill>
                        <a:srgbClr val="4e4e4e"/>
                      </a:solidFill>
                      <a:round/>
                    </a:ln>
                  </p:spPr>
                  <p:txBody>
                    <a:bodyPr lIns="102600" rIns="102600" tIns="57600" bIns="57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3" name=""/>
                  <p:cNvGrpSpPr/>
                  <p:nvPr/>
                </p:nvGrpSpPr>
                <p:grpSpPr>
                  <a:xfrm>
                    <a:off x="954000" y="4799160"/>
                    <a:ext cx="663840" cy="1748160"/>
                    <a:chOff x="954000" y="4799160"/>
                    <a:chExt cx="663840" cy="1748160"/>
                  </a:xfrm>
                </p:grpSpPr>
                <p:sp>
                  <p:nvSpPr>
                    <p:cNvPr id="194" name=""/>
                    <p:cNvSpPr/>
                    <p:nvPr/>
                  </p:nvSpPr>
                  <p:spPr>
                    <a:xfrm>
                      <a:off x="1427040" y="4799160"/>
                      <a:ext cx="190800" cy="81000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530" h="2250">
                          <a:moveTo>
                            <a:pt x="258" y="0"/>
                          </a:moveTo>
                          <a:lnTo>
                            <a:pt x="0" y="1138"/>
                          </a:lnTo>
                          <a:lnTo>
                            <a:pt x="258" y="2250"/>
                          </a:lnTo>
                          <a:lnTo>
                            <a:pt x="530" y="1138"/>
                          </a:lnTo>
                          <a:lnTo>
                            <a:pt x="258" y="0"/>
                          </a:lnTo>
                          <a:close/>
                        </a:path>
                      </a:pathLst>
                    </a:custGeom>
                    <a:solidFill>
                      <a:srgbClr val="474747"/>
                    </a:solidFill>
                    <a:ln w="25560">
                      <a:solidFill>
                        <a:srgbClr val="4e4e4e"/>
                      </a:solidFill>
                      <a:round/>
                    </a:ln>
                  </p:spPr>
                  <p:txBody>
                    <a:bodyPr lIns="102600" rIns="102600" tIns="57600" bIns="57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5" name=""/>
                    <p:cNvSpPr/>
                    <p:nvPr/>
                  </p:nvSpPr>
                  <p:spPr>
                    <a:xfrm>
                      <a:off x="954000" y="4799160"/>
                      <a:ext cx="189360" cy="81000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526" h="2250">
                          <a:moveTo>
                            <a:pt x="257" y="0"/>
                          </a:moveTo>
                          <a:lnTo>
                            <a:pt x="0" y="1138"/>
                          </a:lnTo>
                          <a:lnTo>
                            <a:pt x="257" y="2250"/>
                          </a:lnTo>
                          <a:lnTo>
                            <a:pt x="526" y="1138"/>
                          </a:lnTo>
                          <a:lnTo>
                            <a:pt x="257" y="0"/>
                          </a:lnTo>
                          <a:close/>
                        </a:path>
                      </a:pathLst>
                    </a:custGeom>
                    <a:solidFill>
                      <a:srgbClr val="474747"/>
                    </a:solidFill>
                    <a:ln w="25560">
                      <a:solidFill>
                        <a:srgbClr val="4e4e4e"/>
                      </a:solidFill>
                      <a:round/>
                    </a:ln>
                  </p:spPr>
                  <p:txBody>
                    <a:bodyPr lIns="102600" rIns="102600" tIns="57600" bIns="57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6" name=""/>
                    <p:cNvSpPr/>
                    <p:nvPr/>
                  </p:nvSpPr>
                  <p:spPr>
                    <a:xfrm>
                      <a:off x="1427040" y="5737320"/>
                      <a:ext cx="190800" cy="81000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530" h="2250">
                          <a:moveTo>
                            <a:pt x="258" y="0"/>
                          </a:moveTo>
                          <a:lnTo>
                            <a:pt x="0" y="1138"/>
                          </a:lnTo>
                          <a:lnTo>
                            <a:pt x="258" y="2250"/>
                          </a:lnTo>
                          <a:lnTo>
                            <a:pt x="530" y="1138"/>
                          </a:lnTo>
                          <a:lnTo>
                            <a:pt x="258" y="0"/>
                          </a:lnTo>
                          <a:close/>
                        </a:path>
                      </a:pathLst>
                    </a:custGeom>
                    <a:solidFill>
                      <a:srgbClr val="474747"/>
                    </a:solidFill>
                    <a:ln w="25560">
                      <a:solidFill>
                        <a:srgbClr val="4e4e4e"/>
                      </a:solidFill>
                      <a:round/>
                    </a:ln>
                  </p:spPr>
                  <p:txBody>
                    <a:bodyPr lIns="102600" rIns="102600" tIns="57600" bIns="57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>
                      <a:off x="954000" y="5737320"/>
                      <a:ext cx="189360" cy="81000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526" h="2250">
                          <a:moveTo>
                            <a:pt x="257" y="0"/>
                          </a:moveTo>
                          <a:lnTo>
                            <a:pt x="0" y="1138"/>
                          </a:lnTo>
                          <a:lnTo>
                            <a:pt x="257" y="2250"/>
                          </a:lnTo>
                          <a:lnTo>
                            <a:pt x="526" y="1138"/>
                          </a:lnTo>
                          <a:lnTo>
                            <a:pt x="257" y="0"/>
                          </a:lnTo>
                          <a:close/>
                        </a:path>
                      </a:pathLst>
                    </a:custGeom>
                    <a:solidFill>
                      <a:srgbClr val="474747"/>
                    </a:solidFill>
                    <a:ln w="25560">
                      <a:solidFill>
                        <a:srgbClr val="4e4e4e"/>
                      </a:solidFill>
                      <a:round/>
                    </a:ln>
                  </p:spPr>
                  <p:txBody>
                    <a:bodyPr lIns="102600" rIns="102600" tIns="57600" bIns="57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  <p:grpSp>
          <p:nvGrpSpPr>
            <p:cNvPr id="198" name=""/>
            <p:cNvGrpSpPr/>
            <p:nvPr/>
          </p:nvGrpSpPr>
          <p:grpSpPr>
            <a:xfrm>
              <a:off x="76320" y="0"/>
              <a:ext cx="708120" cy="6845400"/>
              <a:chOff x="76320" y="0"/>
              <a:chExt cx="708120" cy="6845400"/>
            </a:xfrm>
          </p:grpSpPr>
          <p:grpSp>
            <p:nvGrpSpPr>
              <p:cNvPr id="199" name=""/>
              <p:cNvGrpSpPr/>
              <p:nvPr/>
            </p:nvGrpSpPr>
            <p:grpSpPr>
              <a:xfrm>
                <a:off x="76320" y="0"/>
                <a:ext cx="708120" cy="6845400"/>
                <a:chOff x="76320" y="0"/>
                <a:chExt cx="708120" cy="6845400"/>
              </a:xfrm>
            </p:grpSpPr>
            <p:sp>
              <p:nvSpPr>
                <p:cNvPr id="200" name=""/>
                <p:cNvSpPr/>
                <p:nvPr/>
              </p:nvSpPr>
              <p:spPr>
                <a:xfrm>
                  <a:off x="76320" y="0"/>
                  <a:ext cx="708120" cy="6845400"/>
                </a:xfrm>
                <a:prstGeom prst="rect">
                  <a:avLst/>
                </a:prstGeom>
                <a:solidFill>
                  <a:srgbClr val="ffd492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01" name=""/>
                <p:cNvGrpSpPr/>
                <p:nvPr/>
              </p:nvGrpSpPr>
              <p:grpSpPr>
                <a:xfrm>
                  <a:off x="109440" y="0"/>
                  <a:ext cx="640080" cy="6845400"/>
                  <a:chOff x="109440" y="0"/>
                  <a:chExt cx="640080" cy="6845400"/>
                </a:xfrm>
              </p:grpSpPr>
              <p:grpSp>
                <p:nvGrpSpPr>
                  <p:cNvPr id="202" name=""/>
                  <p:cNvGrpSpPr/>
                  <p:nvPr/>
                </p:nvGrpSpPr>
                <p:grpSpPr>
                  <a:xfrm>
                    <a:off x="109440" y="0"/>
                    <a:ext cx="640080" cy="6845400"/>
                    <a:chOff x="109440" y="0"/>
                    <a:chExt cx="640080" cy="6845400"/>
                  </a:xfrm>
                </p:grpSpPr>
                <p:grpSp>
                  <p:nvGrpSpPr>
                    <p:cNvPr id="203" name=""/>
                    <p:cNvGrpSpPr/>
                    <p:nvPr/>
                  </p:nvGrpSpPr>
                  <p:grpSpPr>
                    <a:xfrm>
                      <a:off x="109440" y="0"/>
                      <a:ext cx="468720" cy="6845400"/>
                      <a:chOff x="109440" y="0"/>
                      <a:chExt cx="468720" cy="6845400"/>
                    </a:xfrm>
                  </p:grpSpPr>
                  <p:sp>
                    <p:nvSpPr>
                      <p:cNvPr id="204" name=""/>
                      <p:cNvSpPr/>
                      <p:nvPr/>
                    </p:nvSpPr>
                    <p:spPr>
                      <a:xfrm>
                        <a:off x="109440" y="0"/>
                        <a:ext cx="131760" cy="6845400"/>
                      </a:xfrm>
                      <a:prstGeom prst="rect">
                        <a:avLst/>
                      </a:prstGeom>
                      <a:solidFill>
                        <a:srgbClr val="f78d61"/>
                      </a:solidFill>
                      <a:ln w="0">
                        <a:noFill/>
                      </a:ln>
                    </p:spPr>
                    <p:txBody>
                      <a:bodyPr lIns="90000" rIns="90000" tIns="45000" bIns="450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05" name=""/>
                      <p:cNvSpPr/>
                      <p:nvPr/>
                    </p:nvSpPr>
                    <p:spPr>
                      <a:xfrm>
                        <a:off x="447840" y="0"/>
                        <a:ext cx="130320" cy="6845400"/>
                      </a:xfrm>
                      <a:prstGeom prst="rect">
                        <a:avLst/>
                      </a:prstGeom>
                      <a:solidFill>
                        <a:srgbClr val="f78d61"/>
                      </a:solidFill>
                      <a:ln w="0">
                        <a:noFill/>
                      </a:ln>
                    </p:spPr>
                    <p:txBody>
                      <a:bodyPr lIns="90000" rIns="90000" tIns="45000" bIns="450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206" name=""/>
                    <p:cNvSpPr/>
                    <p:nvPr/>
                  </p:nvSpPr>
                  <p:spPr>
                    <a:xfrm>
                      <a:off x="274680" y="0"/>
                      <a:ext cx="73080" cy="6845400"/>
                    </a:xfrm>
                    <a:prstGeom prst="rect">
                      <a:avLst/>
                    </a:prstGeom>
                    <a:solidFill>
                      <a:srgbClr val="00b7a5"/>
                    </a:solidFill>
                    <a:ln w="0">
                      <a:noFill/>
                    </a:ln>
                  </p:spPr>
                  <p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207" name=""/>
                    <p:cNvGrpSpPr/>
                    <p:nvPr/>
                  </p:nvGrpSpPr>
                  <p:grpSpPr>
                    <a:xfrm>
                      <a:off x="384120" y="0"/>
                      <a:ext cx="365400" cy="6845400"/>
                      <a:chOff x="384120" y="0"/>
                      <a:chExt cx="365400" cy="6845400"/>
                    </a:xfrm>
                  </p:grpSpPr>
                  <p:sp>
                    <p:nvSpPr>
                      <p:cNvPr id="208" name=""/>
                      <p:cNvSpPr/>
                      <p:nvPr/>
                    </p:nvSpPr>
                    <p:spPr>
                      <a:xfrm>
                        <a:off x="384120" y="0"/>
                        <a:ext cx="30240" cy="6845400"/>
                      </a:xfrm>
                      <a:prstGeom prst="rect">
                        <a:avLst/>
                      </a:prstGeom>
                      <a:solidFill>
                        <a:srgbClr val="be81ec"/>
                      </a:solidFill>
                      <a:ln w="0">
                        <a:noFill/>
                      </a:ln>
                    </p:spPr>
                    <p:txBody>
                      <a:bodyPr lIns="90000" rIns="90000" tIns="45000" bIns="450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09" name=""/>
                      <p:cNvSpPr/>
                      <p:nvPr/>
                    </p:nvSpPr>
                    <p:spPr>
                      <a:xfrm>
                        <a:off x="719280" y="0"/>
                        <a:ext cx="30240" cy="6845400"/>
                      </a:xfrm>
                      <a:prstGeom prst="rect">
                        <a:avLst/>
                      </a:prstGeom>
                      <a:solidFill>
                        <a:srgbClr val="be81ec"/>
                      </a:solidFill>
                      <a:ln w="0">
                        <a:noFill/>
                      </a:ln>
                    </p:spPr>
                    <p:txBody>
                      <a:bodyPr lIns="90000" rIns="90000" tIns="45000" bIns="450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210" name=""/>
                  <p:cNvSpPr/>
                  <p:nvPr/>
                </p:nvSpPr>
                <p:spPr>
                  <a:xfrm>
                    <a:off x="612720" y="0"/>
                    <a:ext cx="73080" cy="6845400"/>
                  </a:xfrm>
                  <a:prstGeom prst="rect">
                    <a:avLst/>
                  </a:prstGeom>
                  <a:solidFill>
                    <a:srgbClr val="00b7a5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11" name=""/>
              <p:cNvGrpSpPr/>
              <p:nvPr/>
            </p:nvGrpSpPr>
            <p:grpSpPr>
              <a:xfrm>
                <a:off x="106200" y="270000"/>
                <a:ext cx="483120" cy="6277320"/>
                <a:chOff x="106200" y="270000"/>
                <a:chExt cx="483120" cy="6277320"/>
              </a:xfrm>
            </p:grpSpPr>
            <p:grpSp>
              <p:nvGrpSpPr>
                <p:cNvPr id="212" name=""/>
                <p:cNvGrpSpPr/>
                <p:nvPr/>
              </p:nvGrpSpPr>
              <p:grpSpPr>
                <a:xfrm>
                  <a:off x="106200" y="2536920"/>
                  <a:ext cx="483120" cy="1748160"/>
                  <a:chOff x="106200" y="2536920"/>
                  <a:chExt cx="483120" cy="1748160"/>
                </a:xfrm>
              </p:grpSpPr>
              <p:sp>
                <p:nvSpPr>
                  <p:cNvPr id="213" name=""/>
                  <p:cNvSpPr/>
                  <p:nvPr/>
                </p:nvSpPr>
                <p:spPr>
                  <a:xfrm>
                    <a:off x="444600" y="2536920"/>
                    <a:ext cx="144720" cy="810000"/>
                  </a:xfrm>
                  <a:custGeom>
                    <a:avLst/>
                    <a:gdLst/>
                    <a:ahLst/>
                    <a:rect l="0" t="0" r="r" b="b"/>
                    <a:pathLst>
                      <a:path w="402" h="2250">
                        <a:moveTo>
                          <a:pt x="195" y="0"/>
                        </a:moveTo>
                        <a:lnTo>
                          <a:pt x="0" y="1138"/>
                        </a:lnTo>
                        <a:lnTo>
                          <a:pt x="195" y="2250"/>
                        </a:lnTo>
                        <a:lnTo>
                          <a:pt x="402" y="1138"/>
                        </a:lnTo>
                        <a:lnTo>
                          <a:pt x="195" y="0"/>
                        </a:lnTo>
                        <a:close/>
                      </a:path>
                    </a:pathLst>
                  </a:custGeom>
                  <a:solidFill>
                    <a:srgbClr val="00b7a5"/>
                  </a:solidFill>
                  <a:ln w="25560">
                    <a:solidFill>
                      <a:srgbClr val="ffd492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"/>
                  <p:cNvSpPr/>
                  <p:nvPr/>
                </p:nvSpPr>
                <p:spPr>
                  <a:xfrm>
                    <a:off x="106200" y="2536920"/>
                    <a:ext cx="144720" cy="810000"/>
                  </a:xfrm>
                  <a:custGeom>
                    <a:avLst/>
                    <a:gdLst/>
                    <a:ahLst/>
                    <a:rect l="0" t="0" r="r" b="b"/>
                    <a:pathLst>
                      <a:path w="402" h="2250">
                        <a:moveTo>
                          <a:pt x="195" y="0"/>
                        </a:moveTo>
                        <a:lnTo>
                          <a:pt x="0" y="1138"/>
                        </a:lnTo>
                        <a:lnTo>
                          <a:pt x="195" y="2250"/>
                        </a:lnTo>
                        <a:lnTo>
                          <a:pt x="402" y="1138"/>
                        </a:lnTo>
                        <a:lnTo>
                          <a:pt x="195" y="0"/>
                        </a:lnTo>
                        <a:close/>
                      </a:path>
                    </a:pathLst>
                  </a:custGeom>
                  <a:solidFill>
                    <a:srgbClr val="00b7a5"/>
                  </a:solidFill>
                  <a:ln w="25560">
                    <a:solidFill>
                      <a:srgbClr val="ffd492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444600" y="3475080"/>
                    <a:ext cx="144720" cy="810000"/>
                  </a:xfrm>
                  <a:custGeom>
                    <a:avLst/>
                    <a:gdLst/>
                    <a:ahLst/>
                    <a:rect l="0" t="0" r="r" b="b"/>
                    <a:pathLst>
                      <a:path w="402" h="2250">
                        <a:moveTo>
                          <a:pt x="195" y="0"/>
                        </a:moveTo>
                        <a:lnTo>
                          <a:pt x="0" y="1138"/>
                        </a:lnTo>
                        <a:lnTo>
                          <a:pt x="195" y="2250"/>
                        </a:lnTo>
                        <a:lnTo>
                          <a:pt x="402" y="1138"/>
                        </a:lnTo>
                        <a:lnTo>
                          <a:pt x="195" y="0"/>
                        </a:lnTo>
                        <a:close/>
                      </a:path>
                    </a:pathLst>
                  </a:custGeom>
                  <a:solidFill>
                    <a:srgbClr val="00b7a5"/>
                  </a:solidFill>
                  <a:ln w="25560">
                    <a:solidFill>
                      <a:srgbClr val="ffd492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"/>
                  <p:cNvSpPr/>
                  <p:nvPr/>
                </p:nvSpPr>
                <p:spPr>
                  <a:xfrm>
                    <a:off x="106200" y="3475080"/>
                    <a:ext cx="144720" cy="810000"/>
                  </a:xfrm>
                  <a:custGeom>
                    <a:avLst/>
                    <a:gdLst/>
                    <a:ahLst/>
                    <a:rect l="0" t="0" r="r" b="b"/>
                    <a:pathLst>
                      <a:path w="402" h="2250">
                        <a:moveTo>
                          <a:pt x="195" y="0"/>
                        </a:moveTo>
                        <a:lnTo>
                          <a:pt x="0" y="1138"/>
                        </a:lnTo>
                        <a:lnTo>
                          <a:pt x="195" y="2250"/>
                        </a:lnTo>
                        <a:lnTo>
                          <a:pt x="402" y="1138"/>
                        </a:lnTo>
                        <a:lnTo>
                          <a:pt x="195" y="0"/>
                        </a:lnTo>
                        <a:close/>
                      </a:path>
                    </a:pathLst>
                  </a:custGeom>
                  <a:solidFill>
                    <a:srgbClr val="00b7a5"/>
                  </a:solidFill>
                  <a:ln w="25560">
                    <a:solidFill>
                      <a:srgbClr val="ffd492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7" name=""/>
                <p:cNvGrpSpPr/>
                <p:nvPr/>
              </p:nvGrpSpPr>
              <p:grpSpPr>
                <a:xfrm>
                  <a:off x="106200" y="4799160"/>
                  <a:ext cx="483120" cy="1748160"/>
                  <a:chOff x="106200" y="4799160"/>
                  <a:chExt cx="483120" cy="1748160"/>
                </a:xfrm>
              </p:grpSpPr>
              <p:sp>
                <p:nvSpPr>
                  <p:cNvPr id="218" name=""/>
                  <p:cNvSpPr/>
                  <p:nvPr/>
                </p:nvSpPr>
                <p:spPr>
                  <a:xfrm>
                    <a:off x="444600" y="4799160"/>
                    <a:ext cx="144720" cy="810000"/>
                  </a:xfrm>
                  <a:custGeom>
                    <a:avLst/>
                    <a:gdLst/>
                    <a:ahLst/>
                    <a:rect l="0" t="0" r="r" b="b"/>
                    <a:pathLst>
                      <a:path w="402" h="2250">
                        <a:moveTo>
                          <a:pt x="195" y="0"/>
                        </a:moveTo>
                        <a:lnTo>
                          <a:pt x="0" y="1138"/>
                        </a:lnTo>
                        <a:lnTo>
                          <a:pt x="195" y="2250"/>
                        </a:lnTo>
                        <a:lnTo>
                          <a:pt x="402" y="1138"/>
                        </a:lnTo>
                        <a:lnTo>
                          <a:pt x="195" y="0"/>
                        </a:lnTo>
                        <a:close/>
                      </a:path>
                    </a:pathLst>
                  </a:custGeom>
                  <a:solidFill>
                    <a:srgbClr val="00b7a5"/>
                  </a:solidFill>
                  <a:ln w="25560">
                    <a:solidFill>
                      <a:srgbClr val="ffd492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9" name=""/>
                  <p:cNvSpPr/>
                  <p:nvPr/>
                </p:nvSpPr>
                <p:spPr>
                  <a:xfrm>
                    <a:off x="106200" y="4799160"/>
                    <a:ext cx="144720" cy="810000"/>
                  </a:xfrm>
                  <a:custGeom>
                    <a:avLst/>
                    <a:gdLst/>
                    <a:ahLst/>
                    <a:rect l="0" t="0" r="r" b="b"/>
                    <a:pathLst>
                      <a:path w="402" h="2250">
                        <a:moveTo>
                          <a:pt x="195" y="0"/>
                        </a:moveTo>
                        <a:lnTo>
                          <a:pt x="0" y="1138"/>
                        </a:lnTo>
                        <a:lnTo>
                          <a:pt x="195" y="2250"/>
                        </a:lnTo>
                        <a:lnTo>
                          <a:pt x="402" y="1138"/>
                        </a:lnTo>
                        <a:lnTo>
                          <a:pt x="195" y="0"/>
                        </a:lnTo>
                        <a:close/>
                      </a:path>
                    </a:pathLst>
                  </a:custGeom>
                  <a:solidFill>
                    <a:srgbClr val="00b7a5"/>
                  </a:solidFill>
                  <a:ln w="25560">
                    <a:solidFill>
                      <a:srgbClr val="ffd492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0" name=""/>
                  <p:cNvSpPr/>
                  <p:nvPr/>
                </p:nvSpPr>
                <p:spPr>
                  <a:xfrm>
                    <a:off x="444600" y="5737320"/>
                    <a:ext cx="144720" cy="810000"/>
                  </a:xfrm>
                  <a:custGeom>
                    <a:avLst/>
                    <a:gdLst/>
                    <a:ahLst/>
                    <a:rect l="0" t="0" r="r" b="b"/>
                    <a:pathLst>
                      <a:path w="402" h="2250">
                        <a:moveTo>
                          <a:pt x="195" y="0"/>
                        </a:moveTo>
                        <a:lnTo>
                          <a:pt x="0" y="1138"/>
                        </a:lnTo>
                        <a:lnTo>
                          <a:pt x="195" y="2250"/>
                        </a:lnTo>
                        <a:lnTo>
                          <a:pt x="402" y="1138"/>
                        </a:lnTo>
                        <a:lnTo>
                          <a:pt x="195" y="0"/>
                        </a:lnTo>
                        <a:close/>
                      </a:path>
                    </a:pathLst>
                  </a:custGeom>
                  <a:solidFill>
                    <a:srgbClr val="00b7a5"/>
                  </a:solidFill>
                  <a:ln w="25560">
                    <a:solidFill>
                      <a:srgbClr val="ffd492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"/>
                  <p:cNvSpPr/>
                  <p:nvPr/>
                </p:nvSpPr>
                <p:spPr>
                  <a:xfrm>
                    <a:off x="106200" y="5737320"/>
                    <a:ext cx="144720" cy="810000"/>
                  </a:xfrm>
                  <a:custGeom>
                    <a:avLst/>
                    <a:gdLst/>
                    <a:ahLst/>
                    <a:rect l="0" t="0" r="r" b="b"/>
                    <a:pathLst>
                      <a:path w="402" h="2250">
                        <a:moveTo>
                          <a:pt x="195" y="0"/>
                        </a:moveTo>
                        <a:lnTo>
                          <a:pt x="0" y="1138"/>
                        </a:lnTo>
                        <a:lnTo>
                          <a:pt x="195" y="2250"/>
                        </a:lnTo>
                        <a:lnTo>
                          <a:pt x="402" y="1138"/>
                        </a:lnTo>
                        <a:lnTo>
                          <a:pt x="195" y="0"/>
                        </a:lnTo>
                        <a:close/>
                      </a:path>
                    </a:pathLst>
                  </a:custGeom>
                  <a:solidFill>
                    <a:srgbClr val="00b7a5"/>
                  </a:solidFill>
                  <a:ln w="25560">
                    <a:solidFill>
                      <a:srgbClr val="ffd492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2" name=""/>
                <p:cNvGrpSpPr/>
                <p:nvPr/>
              </p:nvGrpSpPr>
              <p:grpSpPr>
                <a:xfrm>
                  <a:off x="106200" y="270000"/>
                  <a:ext cx="483120" cy="1748160"/>
                  <a:chOff x="106200" y="270000"/>
                  <a:chExt cx="483120" cy="1748160"/>
                </a:xfrm>
              </p:grpSpPr>
              <p:sp>
                <p:nvSpPr>
                  <p:cNvPr id="223" name=""/>
                  <p:cNvSpPr/>
                  <p:nvPr/>
                </p:nvSpPr>
                <p:spPr>
                  <a:xfrm>
                    <a:off x="444600" y="1208160"/>
                    <a:ext cx="144720" cy="810000"/>
                  </a:xfrm>
                  <a:custGeom>
                    <a:avLst/>
                    <a:gdLst/>
                    <a:ahLst/>
                    <a:rect l="0" t="0" r="r" b="b"/>
                    <a:pathLst>
                      <a:path w="402" h="2250">
                        <a:moveTo>
                          <a:pt x="195" y="0"/>
                        </a:moveTo>
                        <a:lnTo>
                          <a:pt x="0" y="1138"/>
                        </a:lnTo>
                        <a:lnTo>
                          <a:pt x="195" y="2250"/>
                        </a:lnTo>
                        <a:lnTo>
                          <a:pt x="402" y="1138"/>
                        </a:lnTo>
                        <a:lnTo>
                          <a:pt x="195" y="0"/>
                        </a:lnTo>
                        <a:close/>
                      </a:path>
                    </a:pathLst>
                  </a:custGeom>
                  <a:solidFill>
                    <a:srgbClr val="00b7a5"/>
                  </a:solidFill>
                  <a:ln w="25560">
                    <a:solidFill>
                      <a:srgbClr val="ffd492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106200" y="1208160"/>
                    <a:ext cx="144720" cy="810000"/>
                  </a:xfrm>
                  <a:custGeom>
                    <a:avLst/>
                    <a:gdLst/>
                    <a:ahLst/>
                    <a:rect l="0" t="0" r="r" b="b"/>
                    <a:pathLst>
                      <a:path w="402" h="2250">
                        <a:moveTo>
                          <a:pt x="195" y="0"/>
                        </a:moveTo>
                        <a:lnTo>
                          <a:pt x="0" y="1138"/>
                        </a:lnTo>
                        <a:lnTo>
                          <a:pt x="195" y="2250"/>
                        </a:lnTo>
                        <a:lnTo>
                          <a:pt x="402" y="1138"/>
                        </a:lnTo>
                        <a:lnTo>
                          <a:pt x="195" y="0"/>
                        </a:lnTo>
                        <a:close/>
                      </a:path>
                    </a:pathLst>
                  </a:custGeom>
                  <a:solidFill>
                    <a:srgbClr val="00b7a5"/>
                  </a:solidFill>
                  <a:ln w="25560">
                    <a:solidFill>
                      <a:srgbClr val="ffd492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" name=""/>
                  <p:cNvSpPr/>
                  <p:nvPr/>
                </p:nvSpPr>
                <p:spPr>
                  <a:xfrm>
                    <a:off x="444600" y="270000"/>
                    <a:ext cx="144720" cy="810000"/>
                  </a:xfrm>
                  <a:custGeom>
                    <a:avLst/>
                    <a:gdLst/>
                    <a:ahLst/>
                    <a:rect l="0" t="0" r="r" b="b"/>
                    <a:pathLst>
                      <a:path w="402" h="2250">
                        <a:moveTo>
                          <a:pt x="195" y="0"/>
                        </a:moveTo>
                        <a:lnTo>
                          <a:pt x="0" y="1138"/>
                        </a:lnTo>
                        <a:lnTo>
                          <a:pt x="195" y="2250"/>
                        </a:lnTo>
                        <a:lnTo>
                          <a:pt x="402" y="1138"/>
                        </a:lnTo>
                        <a:lnTo>
                          <a:pt x="195" y="0"/>
                        </a:lnTo>
                        <a:close/>
                      </a:path>
                    </a:pathLst>
                  </a:custGeom>
                  <a:solidFill>
                    <a:srgbClr val="00b7a5"/>
                  </a:solidFill>
                  <a:ln w="25560">
                    <a:solidFill>
                      <a:srgbClr val="ffd492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6" name=""/>
                  <p:cNvSpPr/>
                  <p:nvPr/>
                </p:nvSpPr>
                <p:spPr>
                  <a:xfrm>
                    <a:off x="106200" y="270000"/>
                    <a:ext cx="144720" cy="810000"/>
                  </a:xfrm>
                  <a:custGeom>
                    <a:avLst/>
                    <a:gdLst/>
                    <a:ahLst/>
                    <a:rect l="0" t="0" r="r" b="b"/>
                    <a:pathLst>
                      <a:path w="402" h="2250">
                        <a:moveTo>
                          <a:pt x="195" y="0"/>
                        </a:moveTo>
                        <a:lnTo>
                          <a:pt x="0" y="1138"/>
                        </a:lnTo>
                        <a:lnTo>
                          <a:pt x="195" y="2250"/>
                        </a:lnTo>
                        <a:lnTo>
                          <a:pt x="402" y="1138"/>
                        </a:lnTo>
                        <a:lnTo>
                          <a:pt x="195" y="0"/>
                        </a:lnTo>
                        <a:close/>
                      </a:path>
                    </a:pathLst>
                  </a:custGeom>
                  <a:solidFill>
                    <a:srgbClr val="00b7a5"/>
                  </a:solidFill>
                  <a:ln w="25560">
                    <a:solidFill>
                      <a:srgbClr val="ffd492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10476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78d61"/>
                </a:solidFill>
                <a:latin typeface="Book Antiqua"/>
                <a:ea typeface="Book Antiqua"/>
              </a:rPr>
              <a:t>Lorem Ips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1047600" y="1981080"/>
            <a:ext cx="777240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b7a5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Delor sit amet consectetuer adipiscing elit sed dia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78d61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Nonummy nibh euism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b7a5"/>
              </a:buClr>
              <a:buSzPct val="6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Book Antiqua"/>
              </a:rPr>
              <a:t>Tincidunt 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b7a5"/>
              </a:buClr>
              <a:buSzPct val="6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Book Antiqua"/>
              </a:rPr>
              <a:t>Laoreet dolo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78d61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Magna aliqu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b7a5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Exerci tation ullamcorper suscipit lobortis nisl ut aliquip ex ea 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rosoft Corporation</dc:creator>
  <dc:description/>
  <dc:language>en-US</dc:language>
  <cp:lastModifiedBy>Microsoft Corporation</cp:lastModifiedBy>
  <cp:revision>0</cp:revision>
  <dc:subject/>
  <dc:title>Lorem Ipsum</dc:title>
</cp:coreProperties>
</file>