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1520" y="152280"/>
            <a:ext cx="8940960" cy="6515280"/>
            <a:chOff x="101520" y="152280"/>
            <a:chExt cx="8940960" cy="6515280"/>
          </a:xfrm>
        </p:grpSpPr>
        <p:grpSp>
          <p:nvGrpSpPr>
            <p:cNvPr id="1" name=""/>
            <p:cNvGrpSpPr/>
            <p:nvPr/>
          </p:nvGrpSpPr>
          <p:grpSpPr>
            <a:xfrm>
              <a:off x="101520" y="152280"/>
              <a:ext cx="8940960" cy="552600"/>
              <a:chOff x="101520" y="152280"/>
              <a:chExt cx="8940960" cy="552600"/>
            </a:xfrm>
          </p:grpSpPr>
          <p:sp>
            <p:nvSpPr>
              <p:cNvPr id="2" name=""/>
              <p:cNvSpPr/>
              <p:nvPr/>
            </p:nvSpPr>
            <p:spPr>
              <a:xfrm>
                <a:off x="101520" y="152280"/>
                <a:ext cx="8940960" cy="28584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50000">
                    <a:srgbClr val="000000"/>
                  </a:gs>
                  <a:gs pos="100000">
                    <a:srgbClr val="e3be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54160" y="552600"/>
                <a:ext cx="8636040" cy="152280"/>
              </a:xfrm>
              <a:prstGeom prst="rect">
                <a:avLst/>
              </a:prstGeom>
              <a:gradFill rotWithShape="0">
                <a:gsLst>
                  <a:gs pos="0">
                    <a:srgbClr val="fcd1c1"/>
                  </a:gs>
                  <a:gs pos="50000">
                    <a:srgbClr val="4b3e39"/>
                  </a:gs>
                  <a:gs pos="100000">
                    <a:srgbClr val="fcd1c1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01520" y="6458040"/>
              <a:ext cx="8940960" cy="209520"/>
              <a:chOff x="101520" y="6458040"/>
              <a:chExt cx="8940960" cy="209520"/>
            </a:xfrm>
          </p:grpSpPr>
          <p:sp>
            <p:nvSpPr>
              <p:cNvPr id="5" name=""/>
              <p:cNvSpPr/>
              <p:nvPr/>
            </p:nvSpPr>
            <p:spPr>
              <a:xfrm>
                <a:off x="101520" y="6572160"/>
                <a:ext cx="8940960" cy="95400"/>
              </a:xfrm>
              <a:prstGeom prst="rect">
                <a:avLst/>
              </a:prstGeom>
              <a:solidFill>
                <a:srgbClr val="e3b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3600" y="6458040"/>
                <a:ext cx="8416800" cy="38160"/>
              </a:xfrm>
              <a:prstGeom prst="rect">
                <a:avLst/>
              </a:prstGeom>
              <a:solidFill>
                <a:srgbClr val="fcd1c1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7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cd1c1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e3be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e3be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