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6400" cy="6172560"/>
              <a:chOff x="390600" y="324000"/>
              <a:chExt cx="8366400" cy="617256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172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8840" cy="5459760"/>
              </a:xfrm>
              <a:custGeom>
                <a:avLst/>
                <a:gdLst/>
                <a:ahLst/>
                <a:rect l="0" t="0" r="r" b="b"/>
                <a:pathLst>
                  <a:path w="6219" h="15166">
                    <a:moveTo>
                      <a:pt x="0" y="0"/>
                    </a:moveTo>
                    <a:lnTo>
                      <a:pt x="222" y="95"/>
                    </a:lnTo>
                    <a:lnTo>
                      <a:pt x="399" y="143"/>
                    </a:lnTo>
                    <a:lnTo>
                      <a:pt x="577" y="95"/>
                    </a:lnTo>
                    <a:lnTo>
                      <a:pt x="755" y="239"/>
                    </a:lnTo>
                    <a:lnTo>
                      <a:pt x="932" y="335"/>
                    </a:lnTo>
                    <a:lnTo>
                      <a:pt x="1110" y="431"/>
                    </a:lnTo>
                    <a:lnTo>
                      <a:pt x="1287" y="623"/>
                    </a:lnTo>
                    <a:lnTo>
                      <a:pt x="1465" y="767"/>
                    </a:lnTo>
                    <a:lnTo>
                      <a:pt x="1510" y="959"/>
                    </a:lnTo>
                    <a:lnTo>
                      <a:pt x="1510" y="1151"/>
                    </a:lnTo>
                    <a:lnTo>
                      <a:pt x="1688" y="1343"/>
                    </a:lnTo>
                    <a:lnTo>
                      <a:pt x="1821" y="1535"/>
                    </a:lnTo>
                    <a:lnTo>
                      <a:pt x="1821" y="1775"/>
                    </a:lnTo>
                    <a:lnTo>
                      <a:pt x="1955" y="1967"/>
                    </a:lnTo>
                    <a:lnTo>
                      <a:pt x="2043" y="2159"/>
                    </a:lnTo>
                    <a:lnTo>
                      <a:pt x="1999" y="2543"/>
                    </a:lnTo>
                    <a:lnTo>
                      <a:pt x="1999" y="2735"/>
                    </a:lnTo>
                    <a:lnTo>
                      <a:pt x="2088" y="2927"/>
                    </a:lnTo>
                    <a:lnTo>
                      <a:pt x="2132" y="3119"/>
                    </a:lnTo>
                    <a:lnTo>
                      <a:pt x="2177" y="3311"/>
                    </a:lnTo>
                    <a:lnTo>
                      <a:pt x="2177" y="3503"/>
                    </a:lnTo>
                    <a:lnTo>
                      <a:pt x="2177" y="3695"/>
                    </a:lnTo>
                    <a:lnTo>
                      <a:pt x="2177" y="3887"/>
                    </a:lnTo>
                    <a:lnTo>
                      <a:pt x="2177" y="4079"/>
                    </a:lnTo>
                    <a:lnTo>
                      <a:pt x="2221" y="4271"/>
                    </a:lnTo>
                    <a:lnTo>
                      <a:pt x="2132" y="4463"/>
                    </a:lnTo>
                    <a:lnTo>
                      <a:pt x="2088" y="4655"/>
                    </a:lnTo>
                    <a:lnTo>
                      <a:pt x="2088" y="4847"/>
                    </a:lnTo>
                    <a:lnTo>
                      <a:pt x="2088" y="5039"/>
                    </a:lnTo>
                    <a:lnTo>
                      <a:pt x="2132" y="5230"/>
                    </a:lnTo>
                    <a:lnTo>
                      <a:pt x="2132" y="5422"/>
                    </a:lnTo>
                    <a:lnTo>
                      <a:pt x="2043" y="5662"/>
                    </a:lnTo>
                    <a:lnTo>
                      <a:pt x="1999" y="5854"/>
                    </a:lnTo>
                    <a:lnTo>
                      <a:pt x="1999" y="6094"/>
                    </a:lnTo>
                    <a:lnTo>
                      <a:pt x="1910" y="6286"/>
                    </a:lnTo>
                    <a:lnTo>
                      <a:pt x="1777" y="6478"/>
                    </a:lnTo>
                    <a:lnTo>
                      <a:pt x="1688" y="6670"/>
                    </a:lnTo>
                    <a:lnTo>
                      <a:pt x="1688" y="6862"/>
                    </a:lnTo>
                    <a:lnTo>
                      <a:pt x="1688" y="7054"/>
                    </a:lnTo>
                    <a:lnTo>
                      <a:pt x="1599" y="7246"/>
                    </a:lnTo>
                    <a:lnTo>
                      <a:pt x="1554" y="7438"/>
                    </a:lnTo>
                    <a:lnTo>
                      <a:pt x="1599" y="7631"/>
                    </a:lnTo>
                    <a:lnTo>
                      <a:pt x="1688" y="7871"/>
                    </a:lnTo>
                    <a:lnTo>
                      <a:pt x="1955" y="7919"/>
                    </a:lnTo>
                    <a:lnTo>
                      <a:pt x="2043" y="8159"/>
                    </a:lnTo>
                    <a:lnTo>
                      <a:pt x="2132" y="8351"/>
                    </a:lnTo>
                    <a:lnTo>
                      <a:pt x="2177" y="8543"/>
                    </a:lnTo>
                    <a:lnTo>
                      <a:pt x="2177" y="8735"/>
                    </a:lnTo>
                    <a:lnTo>
                      <a:pt x="2310" y="8927"/>
                    </a:lnTo>
                    <a:lnTo>
                      <a:pt x="2310" y="9119"/>
                    </a:lnTo>
                    <a:lnTo>
                      <a:pt x="2399" y="9359"/>
                    </a:lnTo>
                    <a:lnTo>
                      <a:pt x="2576" y="9503"/>
                    </a:lnTo>
                    <a:lnTo>
                      <a:pt x="2710" y="9695"/>
                    </a:lnTo>
                    <a:lnTo>
                      <a:pt x="2754" y="10031"/>
                    </a:lnTo>
                    <a:lnTo>
                      <a:pt x="3021" y="10079"/>
                    </a:lnTo>
                    <a:lnTo>
                      <a:pt x="3109" y="10366"/>
                    </a:lnTo>
                    <a:lnTo>
                      <a:pt x="3287" y="10558"/>
                    </a:lnTo>
                    <a:lnTo>
                      <a:pt x="3465" y="10750"/>
                    </a:lnTo>
                    <a:lnTo>
                      <a:pt x="3687" y="10894"/>
                    </a:lnTo>
                    <a:lnTo>
                      <a:pt x="3864" y="11086"/>
                    </a:lnTo>
                    <a:lnTo>
                      <a:pt x="3953" y="11326"/>
                    </a:lnTo>
                    <a:lnTo>
                      <a:pt x="4175" y="11518"/>
                    </a:lnTo>
                    <a:lnTo>
                      <a:pt x="4397" y="11614"/>
                    </a:lnTo>
                    <a:lnTo>
                      <a:pt x="4531" y="11806"/>
                    </a:lnTo>
                    <a:lnTo>
                      <a:pt x="4754" y="11998"/>
                    </a:lnTo>
                    <a:lnTo>
                      <a:pt x="4887" y="12190"/>
                    </a:lnTo>
                    <a:lnTo>
                      <a:pt x="4976" y="12382"/>
                    </a:lnTo>
                    <a:lnTo>
                      <a:pt x="5109" y="12574"/>
                    </a:lnTo>
                    <a:lnTo>
                      <a:pt x="5242" y="12814"/>
                    </a:lnTo>
                    <a:lnTo>
                      <a:pt x="5420" y="13006"/>
                    </a:lnTo>
                    <a:lnTo>
                      <a:pt x="5597" y="13246"/>
                    </a:lnTo>
                    <a:lnTo>
                      <a:pt x="5642" y="13486"/>
                    </a:lnTo>
                    <a:lnTo>
                      <a:pt x="5686" y="13726"/>
                    </a:lnTo>
                    <a:lnTo>
                      <a:pt x="5819" y="13918"/>
                    </a:lnTo>
                    <a:lnTo>
                      <a:pt x="5953" y="14158"/>
                    </a:lnTo>
                    <a:lnTo>
                      <a:pt x="5997" y="14398"/>
                    </a:lnTo>
                    <a:lnTo>
                      <a:pt x="6042" y="14590"/>
                    </a:lnTo>
                    <a:lnTo>
                      <a:pt x="6130" y="14782"/>
                    </a:lnTo>
                    <a:lnTo>
                      <a:pt x="6175" y="14974"/>
                    </a:lnTo>
                    <a:lnTo>
                      <a:pt x="6175" y="15166"/>
                    </a:lnTo>
                    <a:lnTo>
                      <a:pt x="6175" y="14638"/>
                    </a:lnTo>
                    <a:lnTo>
                      <a:pt x="6219" y="14254"/>
                    </a:lnTo>
                    <a:lnTo>
                      <a:pt x="6219" y="13870"/>
                    </a:lnTo>
                    <a:lnTo>
                      <a:pt x="6219" y="13678"/>
                    </a:lnTo>
                    <a:lnTo>
                      <a:pt x="6086" y="13486"/>
                    </a:lnTo>
                    <a:lnTo>
                      <a:pt x="5908" y="13486"/>
                    </a:lnTo>
                    <a:lnTo>
                      <a:pt x="5775" y="13150"/>
                    </a:lnTo>
                    <a:lnTo>
                      <a:pt x="5731" y="12958"/>
                    </a:lnTo>
                    <a:lnTo>
                      <a:pt x="5553" y="12622"/>
                    </a:lnTo>
                    <a:lnTo>
                      <a:pt x="5464" y="12430"/>
                    </a:lnTo>
                    <a:lnTo>
                      <a:pt x="5198" y="12142"/>
                    </a:lnTo>
                    <a:lnTo>
                      <a:pt x="4842" y="11998"/>
                    </a:lnTo>
                    <a:lnTo>
                      <a:pt x="4575" y="11998"/>
                    </a:lnTo>
                    <a:lnTo>
                      <a:pt x="4442" y="11374"/>
                    </a:lnTo>
                    <a:lnTo>
                      <a:pt x="4397" y="11086"/>
                    </a:lnTo>
                    <a:lnTo>
                      <a:pt x="4264" y="10894"/>
                    </a:lnTo>
                    <a:lnTo>
                      <a:pt x="3909" y="10846"/>
                    </a:lnTo>
                    <a:lnTo>
                      <a:pt x="3553" y="10798"/>
                    </a:lnTo>
                    <a:lnTo>
                      <a:pt x="3376" y="10750"/>
                    </a:lnTo>
                    <a:lnTo>
                      <a:pt x="3331" y="10366"/>
                    </a:lnTo>
                    <a:lnTo>
                      <a:pt x="3243" y="10175"/>
                    </a:lnTo>
                    <a:lnTo>
                      <a:pt x="3154" y="9935"/>
                    </a:lnTo>
                    <a:lnTo>
                      <a:pt x="2976" y="9743"/>
                    </a:lnTo>
                    <a:lnTo>
                      <a:pt x="2798" y="9647"/>
                    </a:lnTo>
                    <a:lnTo>
                      <a:pt x="2443" y="9263"/>
                    </a:lnTo>
                    <a:lnTo>
                      <a:pt x="2354" y="9071"/>
                    </a:lnTo>
                    <a:lnTo>
                      <a:pt x="2354" y="8639"/>
                    </a:lnTo>
                    <a:lnTo>
                      <a:pt x="2310" y="8351"/>
                    </a:lnTo>
                    <a:lnTo>
                      <a:pt x="2177" y="8111"/>
                    </a:lnTo>
                    <a:lnTo>
                      <a:pt x="1955" y="7871"/>
                    </a:lnTo>
                    <a:lnTo>
                      <a:pt x="1821" y="7679"/>
                    </a:lnTo>
                    <a:lnTo>
                      <a:pt x="1733" y="7438"/>
                    </a:lnTo>
                    <a:lnTo>
                      <a:pt x="1777" y="7198"/>
                    </a:lnTo>
                    <a:lnTo>
                      <a:pt x="1777" y="7006"/>
                    </a:lnTo>
                    <a:lnTo>
                      <a:pt x="1821" y="6814"/>
                    </a:lnTo>
                    <a:lnTo>
                      <a:pt x="1910" y="6574"/>
                    </a:lnTo>
                    <a:lnTo>
                      <a:pt x="1910" y="6382"/>
                    </a:lnTo>
                    <a:lnTo>
                      <a:pt x="2043" y="6142"/>
                    </a:lnTo>
                    <a:lnTo>
                      <a:pt x="2132" y="5950"/>
                    </a:lnTo>
                    <a:lnTo>
                      <a:pt x="2177" y="5710"/>
                    </a:lnTo>
                    <a:lnTo>
                      <a:pt x="2177" y="5518"/>
                    </a:lnTo>
                    <a:lnTo>
                      <a:pt x="2132" y="5326"/>
                    </a:lnTo>
                    <a:lnTo>
                      <a:pt x="2177" y="5134"/>
                    </a:lnTo>
                    <a:lnTo>
                      <a:pt x="2310" y="4703"/>
                    </a:lnTo>
                    <a:lnTo>
                      <a:pt x="2310" y="4511"/>
                    </a:lnTo>
                    <a:lnTo>
                      <a:pt x="2310" y="4127"/>
                    </a:lnTo>
                    <a:lnTo>
                      <a:pt x="2310" y="3839"/>
                    </a:lnTo>
                    <a:lnTo>
                      <a:pt x="2266" y="3551"/>
                    </a:lnTo>
                    <a:lnTo>
                      <a:pt x="2310" y="3359"/>
                    </a:lnTo>
                    <a:lnTo>
                      <a:pt x="2399" y="3119"/>
                    </a:lnTo>
                    <a:lnTo>
                      <a:pt x="2354" y="2831"/>
                    </a:lnTo>
                    <a:lnTo>
                      <a:pt x="2310" y="2639"/>
                    </a:lnTo>
                    <a:lnTo>
                      <a:pt x="2266" y="2447"/>
                    </a:lnTo>
                    <a:lnTo>
                      <a:pt x="2443" y="2303"/>
                    </a:lnTo>
                    <a:lnTo>
                      <a:pt x="2576" y="2111"/>
                    </a:lnTo>
                    <a:lnTo>
                      <a:pt x="2621" y="1919"/>
                    </a:lnTo>
                    <a:lnTo>
                      <a:pt x="2932" y="1727"/>
                    </a:lnTo>
                    <a:lnTo>
                      <a:pt x="3198" y="1343"/>
                    </a:lnTo>
                    <a:lnTo>
                      <a:pt x="3465" y="1055"/>
                    </a:lnTo>
                    <a:lnTo>
                      <a:pt x="3642" y="959"/>
                    </a:lnTo>
                    <a:lnTo>
                      <a:pt x="3776" y="767"/>
                    </a:lnTo>
                    <a:lnTo>
                      <a:pt x="3776" y="575"/>
                    </a:lnTo>
                    <a:lnTo>
                      <a:pt x="3864" y="335"/>
                    </a:lnTo>
                    <a:lnTo>
                      <a:pt x="4042" y="191"/>
                    </a:lnTo>
                    <a:lnTo>
                      <a:pt x="4220" y="0"/>
                    </a:lnTo>
                    <a:lnTo>
                      <a:pt x="4042" y="47"/>
                    </a:lnTo>
                    <a:lnTo>
                      <a:pt x="3776" y="95"/>
                    </a:lnTo>
                    <a:lnTo>
                      <a:pt x="3509" y="191"/>
                    </a:lnTo>
                    <a:lnTo>
                      <a:pt x="3376" y="383"/>
                    </a:lnTo>
                    <a:lnTo>
                      <a:pt x="3420" y="575"/>
                    </a:lnTo>
                    <a:lnTo>
                      <a:pt x="3331" y="767"/>
                    </a:lnTo>
                    <a:lnTo>
                      <a:pt x="3331" y="959"/>
                    </a:lnTo>
                    <a:lnTo>
                      <a:pt x="3642" y="1007"/>
                    </a:lnTo>
                    <a:lnTo>
                      <a:pt x="3465" y="1199"/>
                    </a:lnTo>
                    <a:lnTo>
                      <a:pt x="3287" y="1343"/>
                    </a:lnTo>
                    <a:lnTo>
                      <a:pt x="3109" y="1535"/>
                    </a:lnTo>
                    <a:lnTo>
                      <a:pt x="2932" y="1871"/>
                    </a:lnTo>
                    <a:lnTo>
                      <a:pt x="2754" y="1919"/>
                    </a:lnTo>
                    <a:lnTo>
                      <a:pt x="2576" y="2063"/>
                    </a:lnTo>
                    <a:lnTo>
                      <a:pt x="2399" y="2111"/>
                    </a:lnTo>
                    <a:lnTo>
                      <a:pt x="2354" y="2303"/>
                    </a:lnTo>
                    <a:lnTo>
                      <a:pt x="2354" y="2495"/>
                    </a:lnTo>
                    <a:lnTo>
                      <a:pt x="2177" y="2735"/>
                    </a:lnTo>
                    <a:lnTo>
                      <a:pt x="2132" y="2927"/>
                    </a:lnTo>
                    <a:lnTo>
                      <a:pt x="2132" y="3119"/>
                    </a:lnTo>
                    <a:lnTo>
                      <a:pt x="2132" y="2735"/>
                    </a:lnTo>
                    <a:lnTo>
                      <a:pt x="2088" y="2255"/>
                    </a:lnTo>
                    <a:lnTo>
                      <a:pt x="2043" y="1967"/>
                    </a:lnTo>
                    <a:lnTo>
                      <a:pt x="1999" y="1775"/>
                    </a:lnTo>
                    <a:lnTo>
                      <a:pt x="1955" y="1535"/>
                    </a:lnTo>
                    <a:lnTo>
                      <a:pt x="1821" y="1343"/>
                    </a:lnTo>
                    <a:lnTo>
                      <a:pt x="1688" y="1151"/>
                    </a:lnTo>
                    <a:lnTo>
                      <a:pt x="1688" y="959"/>
                    </a:lnTo>
                    <a:lnTo>
                      <a:pt x="1554" y="767"/>
                    </a:lnTo>
                    <a:lnTo>
                      <a:pt x="1376" y="623"/>
                    </a:lnTo>
                    <a:lnTo>
                      <a:pt x="1332" y="431"/>
                    </a:lnTo>
                    <a:lnTo>
                      <a:pt x="1154" y="335"/>
                    </a:lnTo>
                    <a:lnTo>
                      <a:pt x="977" y="335"/>
                    </a:lnTo>
                    <a:lnTo>
                      <a:pt x="799" y="143"/>
                    </a:lnTo>
                    <a:lnTo>
                      <a:pt x="621" y="47"/>
                    </a:lnTo>
                    <a:lnTo>
                      <a:pt x="444" y="0"/>
                    </a:lnTo>
                    <a:lnTo>
                      <a:pt x="266" y="47"/>
                    </a:lnTo>
                    <a:lnTo>
                      <a:pt x="8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8320" cy="776520"/>
              </a:xfrm>
              <a:custGeom>
                <a:avLst/>
                <a:gdLst/>
                <a:ahLst/>
                <a:rect l="0" t="0" r="r" b="b"/>
                <a:pathLst>
                  <a:path w="8662" h="2157">
                    <a:moveTo>
                      <a:pt x="0" y="0"/>
                    </a:moveTo>
                    <a:lnTo>
                      <a:pt x="177" y="191"/>
                    </a:lnTo>
                    <a:lnTo>
                      <a:pt x="355" y="287"/>
                    </a:lnTo>
                    <a:lnTo>
                      <a:pt x="621" y="287"/>
                    </a:lnTo>
                    <a:lnTo>
                      <a:pt x="799" y="335"/>
                    </a:lnTo>
                    <a:lnTo>
                      <a:pt x="1021" y="335"/>
                    </a:lnTo>
                    <a:lnTo>
                      <a:pt x="1199" y="479"/>
                    </a:lnTo>
                    <a:lnTo>
                      <a:pt x="1598" y="575"/>
                    </a:lnTo>
                    <a:lnTo>
                      <a:pt x="1954" y="575"/>
                    </a:lnTo>
                    <a:lnTo>
                      <a:pt x="2221" y="575"/>
                    </a:lnTo>
                    <a:lnTo>
                      <a:pt x="2399" y="575"/>
                    </a:lnTo>
                    <a:lnTo>
                      <a:pt x="2665" y="622"/>
                    </a:lnTo>
                    <a:lnTo>
                      <a:pt x="2932" y="670"/>
                    </a:lnTo>
                    <a:lnTo>
                      <a:pt x="3109" y="862"/>
                    </a:lnTo>
                    <a:lnTo>
                      <a:pt x="3198" y="1054"/>
                    </a:lnTo>
                    <a:lnTo>
                      <a:pt x="3376" y="1103"/>
                    </a:lnTo>
                    <a:lnTo>
                      <a:pt x="3598" y="1103"/>
                    </a:lnTo>
                    <a:lnTo>
                      <a:pt x="3998" y="1151"/>
                    </a:lnTo>
                    <a:lnTo>
                      <a:pt x="4264" y="1103"/>
                    </a:lnTo>
                    <a:lnTo>
                      <a:pt x="4442" y="1151"/>
                    </a:lnTo>
                    <a:lnTo>
                      <a:pt x="4708" y="1151"/>
                    </a:lnTo>
                    <a:lnTo>
                      <a:pt x="5064" y="1103"/>
                    </a:lnTo>
                    <a:lnTo>
                      <a:pt x="5241" y="1151"/>
                    </a:lnTo>
                    <a:lnTo>
                      <a:pt x="5375" y="1342"/>
                    </a:lnTo>
                    <a:lnTo>
                      <a:pt x="5552" y="1438"/>
                    </a:lnTo>
                    <a:lnTo>
                      <a:pt x="5730" y="1390"/>
                    </a:lnTo>
                    <a:lnTo>
                      <a:pt x="5908" y="1534"/>
                    </a:lnTo>
                    <a:lnTo>
                      <a:pt x="6085" y="1678"/>
                    </a:lnTo>
                    <a:lnTo>
                      <a:pt x="6263" y="1774"/>
                    </a:lnTo>
                    <a:lnTo>
                      <a:pt x="6441" y="1869"/>
                    </a:lnTo>
                    <a:lnTo>
                      <a:pt x="6619" y="1965"/>
                    </a:lnTo>
                    <a:lnTo>
                      <a:pt x="6797" y="1965"/>
                    </a:lnTo>
                    <a:lnTo>
                      <a:pt x="7152" y="1965"/>
                    </a:lnTo>
                    <a:lnTo>
                      <a:pt x="7330" y="1965"/>
                    </a:lnTo>
                    <a:lnTo>
                      <a:pt x="7552" y="2013"/>
                    </a:lnTo>
                    <a:lnTo>
                      <a:pt x="7730" y="2013"/>
                    </a:lnTo>
                    <a:lnTo>
                      <a:pt x="8129" y="2013"/>
                    </a:lnTo>
                    <a:lnTo>
                      <a:pt x="8307" y="2061"/>
                    </a:lnTo>
                    <a:lnTo>
                      <a:pt x="8485" y="2157"/>
                    </a:lnTo>
                    <a:lnTo>
                      <a:pt x="8662" y="2157"/>
                    </a:lnTo>
                    <a:lnTo>
                      <a:pt x="8440" y="2061"/>
                    </a:lnTo>
                    <a:lnTo>
                      <a:pt x="8218" y="2061"/>
                    </a:lnTo>
                    <a:lnTo>
                      <a:pt x="8040" y="1965"/>
                    </a:lnTo>
                    <a:lnTo>
                      <a:pt x="7863" y="1965"/>
                    </a:lnTo>
                    <a:lnTo>
                      <a:pt x="7685" y="1965"/>
                    </a:lnTo>
                    <a:lnTo>
                      <a:pt x="7463" y="1965"/>
                    </a:lnTo>
                    <a:lnTo>
                      <a:pt x="7285" y="1821"/>
                    </a:lnTo>
                    <a:lnTo>
                      <a:pt x="7108" y="1774"/>
                    </a:lnTo>
                    <a:lnTo>
                      <a:pt x="6930" y="1774"/>
                    </a:lnTo>
                    <a:lnTo>
                      <a:pt x="6752" y="1821"/>
                    </a:lnTo>
                    <a:lnTo>
                      <a:pt x="6575" y="1774"/>
                    </a:lnTo>
                    <a:lnTo>
                      <a:pt x="6396" y="1630"/>
                    </a:lnTo>
                    <a:lnTo>
                      <a:pt x="6218" y="1534"/>
                    </a:lnTo>
                    <a:lnTo>
                      <a:pt x="6041" y="1534"/>
                    </a:lnTo>
                    <a:lnTo>
                      <a:pt x="5863" y="1342"/>
                    </a:lnTo>
                    <a:lnTo>
                      <a:pt x="5685" y="1198"/>
                    </a:lnTo>
                    <a:lnTo>
                      <a:pt x="5508" y="1151"/>
                    </a:lnTo>
                    <a:lnTo>
                      <a:pt x="5330" y="1246"/>
                    </a:lnTo>
                    <a:lnTo>
                      <a:pt x="4975" y="862"/>
                    </a:lnTo>
                    <a:lnTo>
                      <a:pt x="4620" y="575"/>
                    </a:lnTo>
                    <a:lnTo>
                      <a:pt x="4442" y="527"/>
                    </a:lnTo>
                    <a:lnTo>
                      <a:pt x="4087" y="575"/>
                    </a:lnTo>
                    <a:lnTo>
                      <a:pt x="4042" y="814"/>
                    </a:lnTo>
                    <a:lnTo>
                      <a:pt x="3909" y="1006"/>
                    </a:lnTo>
                    <a:lnTo>
                      <a:pt x="3731" y="1054"/>
                    </a:lnTo>
                    <a:lnTo>
                      <a:pt x="3554" y="1006"/>
                    </a:lnTo>
                    <a:lnTo>
                      <a:pt x="3376" y="910"/>
                    </a:lnTo>
                    <a:lnTo>
                      <a:pt x="3198" y="862"/>
                    </a:lnTo>
                    <a:lnTo>
                      <a:pt x="2976" y="670"/>
                    </a:lnTo>
                    <a:lnTo>
                      <a:pt x="2754" y="670"/>
                    </a:lnTo>
                    <a:lnTo>
                      <a:pt x="2577" y="622"/>
                    </a:lnTo>
                    <a:lnTo>
                      <a:pt x="2399" y="479"/>
                    </a:lnTo>
                    <a:lnTo>
                      <a:pt x="2131" y="479"/>
                    </a:lnTo>
                    <a:lnTo>
                      <a:pt x="1954" y="479"/>
                    </a:lnTo>
                    <a:lnTo>
                      <a:pt x="1776" y="479"/>
                    </a:lnTo>
                    <a:lnTo>
                      <a:pt x="1554" y="335"/>
                    </a:lnTo>
                    <a:lnTo>
                      <a:pt x="1376" y="287"/>
                    </a:lnTo>
                    <a:lnTo>
                      <a:pt x="1154" y="383"/>
                    </a:lnTo>
                    <a:lnTo>
                      <a:pt x="977" y="383"/>
                    </a:lnTo>
                    <a:lnTo>
                      <a:pt x="799" y="191"/>
                    </a:lnTo>
                    <a:lnTo>
                      <a:pt x="621" y="143"/>
                    </a:lnTo>
                    <a:lnTo>
                      <a:pt x="444" y="143"/>
                    </a:lnTo>
                    <a:lnTo>
                      <a:pt x="266" y="191"/>
                    </a:lnTo>
                    <a:lnTo>
                      <a:pt x="8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3120" cy="2799000"/>
              </a:xfrm>
              <a:custGeom>
                <a:avLst/>
                <a:gdLst/>
                <a:ahLst/>
                <a:rect l="0" t="0" r="r" b="b"/>
                <a:pathLst>
                  <a:path w="4592" h="7775">
                    <a:moveTo>
                      <a:pt x="4577" y="0"/>
                    </a:moveTo>
                    <a:lnTo>
                      <a:pt x="4311" y="335"/>
                    </a:lnTo>
                    <a:lnTo>
                      <a:pt x="4133" y="479"/>
                    </a:lnTo>
                    <a:lnTo>
                      <a:pt x="4000" y="671"/>
                    </a:lnTo>
                    <a:lnTo>
                      <a:pt x="3822" y="575"/>
                    </a:lnTo>
                    <a:lnTo>
                      <a:pt x="3644" y="575"/>
                    </a:lnTo>
                    <a:lnTo>
                      <a:pt x="3467" y="575"/>
                    </a:lnTo>
                    <a:lnTo>
                      <a:pt x="3288" y="671"/>
                    </a:lnTo>
                    <a:lnTo>
                      <a:pt x="3199" y="863"/>
                    </a:lnTo>
                    <a:lnTo>
                      <a:pt x="3021" y="1007"/>
                    </a:lnTo>
                    <a:lnTo>
                      <a:pt x="2844" y="1007"/>
                    </a:lnTo>
                    <a:lnTo>
                      <a:pt x="2666" y="1103"/>
                    </a:lnTo>
                    <a:lnTo>
                      <a:pt x="2488" y="1247"/>
                    </a:lnTo>
                    <a:lnTo>
                      <a:pt x="2311" y="1247"/>
                    </a:lnTo>
                    <a:lnTo>
                      <a:pt x="2133" y="1343"/>
                    </a:lnTo>
                    <a:lnTo>
                      <a:pt x="1955" y="1535"/>
                    </a:lnTo>
                    <a:lnTo>
                      <a:pt x="1822" y="1727"/>
                    </a:lnTo>
                    <a:lnTo>
                      <a:pt x="1689" y="1919"/>
                    </a:lnTo>
                    <a:lnTo>
                      <a:pt x="1511" y="1967"/>
                    </a:lnTo>
                    <a:lnTo>
                      <a:pt x="1511" y="2255"/>
                    </a:lnTo>
                    <a:lnTo>
                      <a:pt x="1467" y="2447"/>
                    </a:lnTo>
                    <a:lnTo>
                      <a:pt x="1333" y="2639"/>
                    </a:lnTo>
                    <a:lnTo>
                      <a:pt x="1156" y="2687"/>
                    </a:lnTo>
                    <a:lnTo>
                      <a:pt x="977" y="2639"/>
                    </a:lnTo>
                    <a:lnTo>
                      <a:pt x="799" y="2687"/>
                    </a:lnTo>
                    <a:lnTo>
                      <a:pt x="621" y="2879"/>
                    </a:lnTo>
                    <a:lnTo>
                      <a:pt x="444" y="2927"/>
                    </a:lnTo>
                    <a:lnTo>
                      <a:pt x="266" y="2879"/>
                    </a:lnTo>
                    <a:lnTo>
                      <a:pt x="88" y="2927"/>
                    </a:lnTo>
                    <a:lnTo>
                      <a:pt x="0" y="3119"/>
                    </a:lnTo>
                    <a:lnTo>
                      <a:pt x="177" y="3215"/>
                    </a:lnTo>
                    <a:lnTo>
                      <a:pt x="355" y="3215"/>
                    </a:lnTo>
                    <a:lnTo>
                      <a:pt x="533" y="3407"/>
                    </a:lnTo>
                    <a:lnTo>
                      <a:pt x="621" y="3599"/>
                    </a:lnTo>
                    <a:lnTo>
                      <a:pt x="799" y="3599"/>
                    </a:lnTo>
                    <a:lnTo>
                      <a:pt x="977" y="3599"/>
                    </a:lnTo>
                    <a:lnTo>
                      <a:pt x="1156" y="3647"/>
                    </a:lnTo>
                    <a:lnTo>
                      <a:pt x="1333" y="3791"/>
                    </a:lnTo>
                    <a:lnTo>
                      <a:pt x="1511" y="3984"/>
                    </a:lnTo>
                    <a:lnTo>
                      <a:pt x="1689" y="4032"/>
                    </a:lnTo>
                    <a:lnTo>
                      <a:pt x="1866" y="4032"/>
                    </a:lnTo>
                    <a:lnTo>
                      <a:pt x="2044" y="4032"/>
                    </a:lnTo>
                    <a:lnTo>
                      <a:pt x="2222" y="4080"/>
                    </a:lnTo>
                    <a:lnTo>
                      <a:pt x="2311" y="3888"/>
                    </a:lnTo>
                    <a:lnTo>
                      <a:pt x="2399" y="3695"/>
                    </a:lnTo>
                    <a:lnTo>
                      <a:pt x="2577" y="3599"/>
                    </a:lnTo>
                    <a:lnTo>
                      <a:pt x="2710" y="3407"/>
                    </a:lnTo>
                    <a:lnTo>
                      <a:pt x="2888" y="3455"/>
                    </a:lnTo>
                    <a:lnTo>
                      <a:pt x="2977" y="3647"/>
                    </a:lnTo>
                    <a:lnTo>
                      <a:pt x="3110" y="3839"/>
                    </a:lnTo>
                    <a:lnTo>
                      <a:pt x="3155" y="4032"/>
                    </a:lnTo>
                    <a:lnTo>
                      <a:pt x="3243" y="4224"/>
                    </a:lnTo>
                    <a:lnTo>
                      <a:pt x="3421" y="4608"/>
                    </a:lnTo>
                    <a:lnTo>
                      <a:pt x="3511" y="4799"/>
                    </a:lnTo>
                    <a:lnTo>
                      <a:pt x="3511" y="4991"/>
                    </a:lnTo>
                    <a:lnTo>
                      <a:pt x="3733" y="5231"/>
                    </a:lnTo>
                    <a:lnTo>
                      <a:pt x="3866" y="5423"/>
                    </a:lnTo>
                    <a:lnTo>
                      <a:pt x="3866" y="5615"/>
                    </a:lnTo>
                    <a:lnTo>
                      <a:pt x="3911" y="5807"/>
                    </a:lnTo>
                    <a:lnTo>
                      <a:pt x="4000" y="5999"/>
                    </a:lnTo>
                    <a:lnTo>
                      <a:pt x="4044" y="6191"/>
                    </a:lnTo>
                    <a:lnTo>
                      <a:pt x="4044" y="6383"/>
                    </a:lnTo>
                    <a:lnTo>
                      <a:pt x="4044" y="6575"/>
                    </a:lnTo>
                    <a:lnTo>
                      <a:pt x="4222" y="6767"/>
                    </a:lnTo>
                    <a:lnTo>
                      <a:pt x="4311" y="6959"/>
                    </a:lnTo>
                    <a:lnTo>
                      <a:pt x="4311" y="7151"/>
                    </a:lnTo>
                    <a:lnTo>
                      <a:pt x="4488" y="7343"/>
                    </a:lnTo>
                    <a:lnTo>
                      <a:pt x="4488" y="7535"/>
                    </a:lnTo>
                    <a:lnTo>
                      <a:pt x="4577" y="7711"/>
                    </a:lnTo>
                    <a:lnTo>
                      <a:pt x="4592" y="7775"/>
                    </a:lnTo>
                    <a:lnTo>
                      <a:pt x="4577" y="0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49000" cy="2225880"/>
              </a:xfrm>
              <a:custGeom>
                <a:avLst/>
                <a:gdLst/>
                <a:ahLst/>
                <a:rect l="0" t="0" r="r" b="b"/>
                <a:pathLst>
                  <a:path w="21525" h="6183">
                    <a:moveTo>
                      <a:pt x="0" y="0"/>
                    </a:moveTo>
                    <a:lnTo>
                      <a:pt x="177" y="95"/>
                    </a:lnTo>
                    <a:lnTo>
                      <a:pt x="355" y="143"/>
                    </a:lnTo>
                    <a:lnTo>
                      <a:pt x="533" y="47"/>
                    </a:lnTo>
                    <a:lnTo>
                      <a:pt x="667" y="239"/>
                    </a:lnTo>
                    <a:lnTo>
                      <a:pt x="844" y="335"/>
                    </a:lnTo>
                    <a:lnTo>
                      <a:pt x="978" y="527"/>
                    </a:lnTo>
                    <a:lnTo>
                      <a:pt x="1067" y="718"/>
                    </a:lnTo>
                    <a:lnTo>
                      <a:pt x="1111" y="910"/>
                    </a:lnTo>
                    <a:lnTo>
                      <a:pt x="1245" y="1102"/>
                    </a:lnTo>
                    <a:lnTo>
                      <a:pt x="1423" y="1198"/>
                    </a:lnTo>
                    <a:lnTo>
                      <a:pt x="1600" y="1198"/>
                    </a:lnTo>
                    <a:lnTo>
                      <a:pt x="1778" y="1102"/>
                    </a:lnTo>
                    <a:lnTo>
                      <a:pt x="2134" y="1102"/>
                    </a:lnTo>
                    <a:lnTo>
                      <a:pt x="2312" y="1150"/>
                    </a:lnTo>
                    <a:lnTo>
                      <a:pt x="2490" y="1341"/>
                    </a:lnTo>
                    <a:lnTo>
                      <a:pt x="2623" y="1533"/>
                    </a:lnTo>
                    <a:lnTo>
                      <a:pt x="2801" y="1677"/>
                    </a:lnTo>
                    <a:lnTo>
                      <a:pt x="2935" y="1869"/>
                    </a:lnTo>
                    <a:lnTo>
                      <a:pt x="3024" y="2060"/>
                    </a:lnTo>
                    <a:lnTo>
                      <a:pt x="3024" y="2252"/>
                    </a:lnTo>
                    <a:lnTo>
                      <a:pt x="3024" y="2444"/>
                    </a:lnTo>
                    <a:lnTo>
                      <a:pt x="3112" y="2683"/>
                    </a:lnTo>
                    <a:lnTo>
                      <a:pt x="3201" y="2923"/>
                    </a:lnTo>
                    <a:lnTo>
                      <a:pt x="3379" y="3116"/>
                    </a:lnTo>
                    <a:lnTo>
                      <a:pt x="3557" y="3164"/>
                    </a:lnTo>
                    <a:lnTo>
                      <a:pt x="3735" y="2971"/>
                    </a:lnTo>
                    <a:lnTo>
                      <a:pt x="3913" y="2875"/>
                    </a:lnTo>
                    <a:lnTo>
                      <a:pt x="4002" y="3067"/>
                    </a:lnTo>
                    <a:lnTo>
                      <a:pt x="4046" y="3259"/>
                    </a:lnTo>
                    <a:lnTo>
                      <a:pt x="3957" y="3451"/>
                    </a:lnTo>
                    <a:lnTo>
                      <a:pt x="3913" y="3643"/>
                    </a:lnTo>
                    <a:lnTo>
                      <a:pt x="4091" y="3835"/>
                    </a:lnTo>
                    <a:lnTo>
                      <a:pt x="4269" y="3739"/>
                    </a:lnTo>
                    <a:lnTo>
                      <a:pt x="4447" y="3595"/>
                    </a:lnTo>
                    <a:lnTo>
                      <a:pt x="4624" y="3643"/>
                    </a:lnTo>
                    <a:lnTo>
                      <a:pt x="4802" y="3739"/>
                    </a:lnTo>
                    <a:lnTo>
                      <a:pt x="4980" y="3739"/>
                    </a:lnTo>
                    <a:lnTo>
                      <a:pt x="5158" y="3787"/>
                    </a:lnTo>
                    <a:lnTo>
                      <a:pt x="5336" y="3835"/>
                    </a:lnTo>
                    <a:lnTo>
                      <a:pt x="5380" y="3643"/>
                    </a:lnTo>
                    <a:lnTo>
                      <a:pt x="5559" y="3595"/>
                    </a:lnTo>
                    <a:lnTo>
                      <a:pt x="5737" y="3643"/>
                    </a:lnTo>
                    <a:lnTo>
                      <a:pt x="5915" y="3595"/>
                    </a:lnTo>
                    <a:lnTo>
                      <a:pt x="5871" y="3403"/>
                    </a:lnTo>
                    <a:lnTo>
                      <a:pt x="5871" y="3212"/>
                    </a:lnTo>
                    <a:lnTo>
                      <a:pt x="6049" y="3067"/>
                    </a:lnTo>
                    <a:lnTo>
                      <a:pt x="6137" y="2875"/>
                    </a:lnTo>
                    <a:lnTo>
                      <a:pt x="6093" y="2683"/>
                    </a:lnTo>
                    <a:lnTo>
                      <a:pt x="6226" y="2492"/>
                    </a:lnTo>
                    <a:lnTo>
                      <a:pt x="6226" y="2300"/>
                    </a:lnTo>
                    <a:lnTo>
                      <a:pt x="6049" y="2204"/>
                    </a:lnTo>
                    <a:lnTo>
                      <a:pt x="5871" y="1964"/>
                    </a:lnTo>
                    <a:lnTo>
                      <a:pt x="5737" y="1773"/>
                    </a:lnTo>
                    <a:lnTo>
                      <a:pt x="5693" y="1581"/>
                    </a:lnTo>
                    <a:lnTo>
                      <a:pt x="5693" y="1389"/>
                    </a:lnTo>
                    <a:lnTo>
                      <a:pt x="5737" y="1198"/>
                    </a:lnTo>
                    <a:lnTo>
                      <a:pt x="5915" y="1006"/>
                    </a:lnTo>
                    <a:lnTo>
                      <a:pt x="6049" y="814"/>
                    </a:lnTo>
                    <a:lnTo>
                      <a:pt x="6226" y="718"/>
                    </a:lnTo>
                    <a:lnTo>
                      <a:pt x="6360" y="910"/>
                    </a:lnTo>
                    <a:lnTo>
                      <a:pt x="6538" y="958"/>
                    </a:lnTo>
                    <a:lnTo>
                      <a:pt x="6716" y="910"/>
                    </a:lnTo>
                    <a:lnTo>
                      <a:pt x="6893" y="910"/>
                    </a:lnTo>
                    <a:lnTo>
                      <a:pt x="7071" y="910"/>
                    </a:lnTo>
                    <a:lnTo>
                      <a:pt x="7294" y="862"/>
                    </a:lnTo>
                    <a:lnTo>
                      <a:pt x="7472" y="814"/>
                    </a:lnTo>
                    <a:lnTo>
                      <a:pt x="7649" y="814"/>
                    </a:lnTo>
                    <a:lnTo>
                      <a:pt x="7827" y="910"/>
                    </a:lnTo>
                    <a:lnTo>
                      <a:pt x="7872" y="1102"/>
                    </a:lnTo>
                    <a:lnTo>
                      <a:pt x="8050" y="1102"/>
                    </a:lnTo>
                    <a:lnTo>
                      <a:pt x="8228" y="1246"/>
                    </a:lnTo>
                    <a:lnTo>
                      <a:pt x="8405" y="1389"/>
                    </a:lnTo>
                    <a:lnTo>
                      <a:pt x="8583" y="1293"/>
                    </a:lnTo>
                    <a:lnTo>
                      <a:pt x="8672" y="1102"/>
                    </a:lnTo>
                    <a:lnTo>
                      <a:pt x="8717" y="910"/>
                    </a:lnTo>
                    <a:lnTo>
                      <a:pt x="8806" y="718"/>
                    </a:lnTo>
                    <a:lnTo>
                      <a:pt x="8984" y="670"/>
                    </a:lnTo>
                    <a:lnTo>
                      <a:pt x="9028" y="862"/>
                    </a:lnTo>
                    <a:lnTo>
                      <a:pt x="9206" y="958"/>
                    </a:lnTo>
                    <a:lnTo>
                      <a:pt x="9384" y="958"/>
                    </a:lnTo>
                    <a:lnTo>
                      <a:pt x="9428" y="766"/>
                    </a:lnTo>
                    <a:lnTo>
                      <a:pt x="9428" y="575"/>
                    </a:lnTo>
                    <a:lnTo>
                      <a:pt x="9606" y="527"/>
                    </a:lnTo>
                    <a:lnTo>
                      <a:pt x="9784" y="527"/>
                    </a:lnTo>
                    <a:lnTo>
                      <a:pt x="9962" y="718"/>
                    </a:lnTo>
                    <a:lnTo>
                      <a:pt x="10140" y="862"/>
                    </a:lnTo>
                    <a:lnTo>
                      <a:pt x="10318" y="862"/>
                    </a:lnTo>
                    <a:lnTo>
                      <a:pt x="10496" y="958"/>
                    </a:lnTo>
                    <a:lnTo>
                      <a:pt x="10673" y="1150"/>
                    </a:lnTo>
                    <a:lnTo>
                      <a:pt x="10807" y="1341"/>
                    </a:lnTo>
                    <a:lnTo>
                      <a:pt x="10985" y="1485"/>
                    </a:lnTo>
                    <a:lnTo>
                      <a:pt x="11163" y="1533"/>
                    </a:lnTo>
                    <a:lnTo>
                      <a:pt x="11341" y="1533"/>
                    </a:lnTo>
                    <a:lnTo>
                      <a:pt x="11518" y="1533"/>
                    </a:lnTo>
                    <a:lnTo>
                      <a:pt x="11696" y="1581"/>
                    </a:lnTo>
                    <a:lnTo>
                      <a:pt x="11874" y="1629"/>
                    </a:lnTo>
                    <a:lnTo>
                      <a:pt x="12052" y="1725"/>
                    </a:lnTo>
                    <a:lnTo>
                      <a:pt x="12230" y="1917"/>
                    </a:lnTo>
                    <a:lnTo>
                      <a:pt x="12274" y="2108"/>
                    </a:lnTo>
                    <a:lnTo>
                      <a:pt x="12363" y="2300"/>
                    </a:lnTo>
                    <a:lnTo>
                      <a:pt x="12586" y="2492"/>
                    </a:lnTo>
                    <a:lnTo>
                      <a:pt x="12764" y="2540"/>
                    </a:lnTo>
                    <a:lnTo>
                      <a:pt x="12986" y="2540"/>
                    </a:lnTo>
                    <a:lnTo>
                      <a:pt x="13164" y="2540"/>
                    </a:lnTo>
                    <a:lnTo>
                      <a:pt x="13342" y="2540"/>
                    </a:lnTo>
                    <a:lnTo>
                      <a:pt x="13520" y="2540"/>
                    </a:lnTo>
                    <a:lnTo>
                      <a:pt x="13697" y="2587"/>
                    </a:lnTo>
                    <a:lnTo>
                      <a:pt x="13875" y="2683"/>
                    </a:lnTo>
                    <a:lnTo>
                      <a:pt x="14009" y="2875"/>
                    </a:lnTo>
                    <a:lnTo>
                      <a:pt x="14187" y="3019"/>
                    </a:lnTo>
                    <a:lnTo>
                      <a:pt x="14365" y="3067"/>
                    </a:lnTo>
                    <a:lnTo>
                      <a:pt x="14542" y="3212"/>
                    </a:lnTo>
                    <a:lnTo>
                      <a:pt x="14720" y="3403"/>
                    </a:lnTo>
                    <a:lnTo>
                      <a:pt x="14898" y="3403"/>
                    </a:lnTo>
                    <a:lnTo>
                      <a:pt x="15076" y="3403"/>
                    </a:lnTo>
                    <a:lnTo>
                      <a:pt x="15298" y="3355"/>
                    </a:lnTo>
                    <a:lnTo>
                      <a:pt x="15476" y="3355"/>
                    </a:lnTo>
                    <a:lnTo>
                      <a:pt x="15610" y="3164"/>
                    </a:lnTo>
                    <a:lnTo>
                      <a:pt x="15788" y="3116"/>
                    </a:lnTo>
                    <a:lnTo>
                      <a:pt x="15966" y="3116"/>
                    </a:lnTo>
                    <a:lnTo>
                      <a:pt x="16143" y="3116"/>
                    </a:lnTo>
                    <a:lnTo>
                      <a:pt x="16322" y="3307"/>
                    </a:lnTo>
                    <a:lnTo>
                      <a:pt x="16500" y="3403"/>
                    </a:lnTo>
                    <a:lnTo>
                      <a:pt x="16678" y="3403"/>
                    </a:lnTo>
                    <a:lnTo>
                      <a:pt x="16856" y="3355"/>
                    </a:lnTo>
                    <a:lnTo>
                      <a:pt x="17034" y="3259"/>
                    </a:lnTo>
                    <a:lnTo>
                      <a:pt x="17212" y="3164"/>
                    </a:lnTo>
                    <a:lnTo>
                      <a:pt x="17390" y="3116"/>
                    </a:lnTo>
                    <a:lnTo>
                      <a:pt x="17567" y="3116"/>
                    </a:lnTo>
                    <a:lnTo>
                      <a:pt x="17790" y="3116"/>
                    </a:lnTo>
                    <a:lnTo>
                      <a:pt x="17968" y="3067"/>
                    </a:lnTo>
                    <a:lnTo>
                      <a:pt x="18146" y="3067"/>
                    </a:lnTo>
                    <a:lnTo>
                      <a:pt x="18323" y="3067"/>
                    </a:lnTo>
                    <a:lnTo>
                      <a:pt x="18501" y="3067"/>
                    </a:lnTo>
                    <a:lnTo>
                      <a:pt x="18679" y="3164"/>
                    </a:lnTo>
                    <a:lnTo>
                      <a:pt x="18857" y="3307"/>
                    </a:lnTo>
                    <a:lnTo>
                      <a:pt x="19035" y="3403"/>
                    </a:lnTo>
                    <a:lnTo>
                      <a:pt x="19213" y="3451"/>
                    </a:lnTo>
                    <a:lnTo>
                      <a:pt x="19391" y="3451"/>
                    </a:lnTo>
                    <a:lnTo>
                      <a:pt x="19569" y="3451"/>
                    </a:lnTo>
                    <a:lnTo>
                      <a:pt x="19747" y="3451"/>
                    </a:lnTo>
                    <a:lnTo>
                      <a:pt x="19924" y="3451"/>
                    </a:lnTo>
                    <a:lnTo>
                      <a:pt x="20102" y="3451"/>
                    </a:lnTo>
                    <a:lnTo>
                      <a:pt x="20280" y="3451"/>
                    </a:lnTo>
                    <a:lnTo>
                      <a:pt x="20458" y="3451"/>
                    </a:lnTo>
                    <a:lnTo>
                      <a:pt x="20636" y="3403"/>
                    </a:lnTo>
                    <a:lnTo>
                      <a:pt x="20814" y="3355"/>
                    </a:lnTo>
                    <a:lnTo>
                      <a:pt x="20992" y="3355"/>
                    </a:lnTo>
                    <a:lnTo>
                      <a:pt x="21170" y="3355"/>
                    </a:lnTo>
                    <a:lnTo>
                      <a:pt x="21347" y="3403"/>
                    </a:lnTo>
                    <a:lnTo>
                      <a:pt x="21525" y="3403"/>
                    </a:lnTo>
                    <a:lnTo>
                      <a:pt x="21347" y="3595"/>
                    </a:lnTo>
                    <a:lnTo>
                      <a:pt x="21170" y="3643"/>
                    </a:lnTo>
                    <a:lnTo>
                      <a:pt x="20992" y="3739"/>
                    </a:lnTo>
                    <a:lnTo>
                      <a:pt x="20814" y="3882"/>
                    </a:lnTo>
                    <a:lnTo>
                      <a:pt x="20636" y="3930"/>
                    </a:lnTo>
                    <a:lnTo>
                      <a:pt x="20414" y="4026"/>
                    </a:lnTo>
                    <a:lnTo>
                      <a:pt x="20058" y="4074"/>
                    </a:lnTo>
                    <a:lnTo>
                      <a:pt x="19835" y="4074"/>
                    </a:lnTo>
                    <a:lnTo>
                      <a:pt x="19658" y="4122"/>
                    </a:lnTo>
                    <a:lnTo>
                      <a:pt x="19480" y="4266"/>
                    </a:lnTo>
                    <a:lnTo>
                      <a:pt x="19302" y="4314"/>
                    </a:lnTo>
                    <a:lnTo>
                      <a:pt x="19124" y="4314"/>
                    </a:lnTo>
                    <a:lnTo>
                      <a:pt x="18946" y="4314"/>
                    </a:lnTo>
                    <a:lnTo>
                      <a:pt x="18724" y="4314"/>
                    </a:lnTo>
                    <a:lnTo>
                      <a:pt x="18546" y="4410"/>
                    </a:lnTo>
                    <a:lnTo>
                      <a:pt x="18546" y="4745"/>
                    </a:lnTo>
                    <a:lnTo>
                      <a:pt x="18590" y="4937"/>
                    </a:lnTo>
                    <a:lnTo>
                      <a:pt x="18857" y="4985"/>
                    </a:lnTo>
                    <a:lnTo>
                      <a:pt x="19035" y="5081"/>
                    </a:lnTo>
                    <a:lnTo>
                      <a:pt x="18857" y="5320"/>
                    </a:lnTo>
                    <a:lnTo>
                      <a:pt x="18679" y="5416"/>
                    </a:lnTo>
                    <a:lnTo>
                      <a:pt x="18501" y="5512"/>
                    </a:lnTo>
                    <a:lnTo>
                      <a:pt x="18368" y="5704"/>
                    </a:lnTo>
                    <a:lnTo>
                      <a:pt x="18190" y="5895"/>
                    </a:lnTo>
                    <a:lnTo>
                      <a:pt x="17968" y="5895"/>
                    </a:lnTo>
                    <a:lnTo>
                      <a:pt x="17745" y="5895"/>
                    </a:lnTo>
                    <a:lnTo>
                      <a:pt x="17523" y="5895"/>
                    </a:lnTo>
                    <a:lnTo>
                      <a:pt x="17345" y="5895"/>
                    </a:lnTo>
                    <a:lnTo>
                      <a:pt x="16945" y="5895"/>
                    </a:lnTo>
                    <a:lnTo>
                      <a:pt x="16456" y="5800"/>
                    </a:lnTo>
                    <a:lnTo>
                      <a:pt x="16278" y="5704"/>
                    </a:lnTo>
                    <a:lnTo>
                      <a:pt x="16099" y="5464"/>
                    </a:lnTo>
                    <a:lnTo>
                      <a:pt x="15966" y="5224"/>
                    </a:lnTo>
                    <a:lnTo>
                      <a:pt x="15877" y="5033"/>
                    </a:lnTo>
                    <a:lnTo>
                      <a:pt x="15654" y="4889"/>
                    </a:lnTo>
                    <a:lnTo>
                      <a:pt x="15387" y="4793"/>
                    </a:lnTo>
                    <a:lnTo>
                      <a:pt x="15210" y="4601"/>
                    </a:lnTo>
                    <a:lnTo>
                      <a:pt x="15032" y="4458"/>
                    </a:lnTo>
                    <a:lnTo>
                      <a:pt x="14854" y="4362"/>
                    </a:lnTo>
                    <a:lnTo>
                      <a:pt x="14676" y="4314"/>
                    </a:lnTo>
                    <a:lnTo>
                      <a:pt x="14365" y="4266"/>
                    </a:lnTo>
                    <a:lnTo>
                      <a:pt x="14187" y="4266"/>
                    </a:lnTo>
                    <a:lnTo>
                      <a:pt x="14009" y="4314"/>
                    </a:lnTo>
                    <a:lnTo>
                      <a:pt x="13831" y="4314"/>
                    </a:lnTo>
                    <a:lnTo>
                      <a:pt x="13697" y="4122"/>
                    </a:lnTo>
                    <a:lnTo>
                      <a:pt x="13564" y="3930"/>
                    </a:lnTo>
                    <a:lnTo>
                      <a:pt x="13208" y="3835"/>
                    </a:lnTo>
                    <a:lnTo>
                      <a:pt x="13030" y="3787"/>
                    </a:lnTo>
                    <a:lnTo>
                      <a:pt x="12808" y="3691"/>
                    </a:lnTo>
                    <a:lnTo>
                      <a:pt x="12452" y="3643"/>
                    </a:lnTo>
                    <a:lnTo>
                      <a:pt x="12274" y="3595"/>
                    </a:lnTo>
                    <a:lnTo>
                      <a:pt x="12097" y="3643"/>
                    </a:lnTo>
                    <a:lnTo>
                      <a:pt x="11919" y="3739"/>
                    </a:lnTo>
                    <a:lnTo>
                      <a:pt x="11741" y="3835"/>
                    </a:lnTo>
                    <a:lnTo>
                      <a:pt x="11518" y="3882"/>
                    </a:lnTo>
                    <a:lnTo>
                      <a:pt x="11296" y="3930"/>
                    </a:lnTo>
                    <a:lnTo>
                      <a:pt x="11074" y="3978"/>
                    </a:lnTo>
                    <a:lnTo>
                      <a:pt x="10896" y="4074"/>
                    </a:lnTo>
                    <a:lnTo>
                      <a:pt x="10718" y="4074"/>
                    </a:lnTo>
                    <a:lnTo>
                      <a:pt x="10540" y="4026"/>
                    </a:lnTo>
                    <a:lnTo>
                      <a:pt x="10362" y="3978"/>
                    </a:lnTo>
                    <a:lnTo>
                      <a:pt x="10051" y="3835"/>
                    </a:lnTo>
                    <a:lnTo>
                      <a:pt x="9873" y="3787"/>
                    </a:lnTo>
                    <a:lnTo>
                      <a:pt x="9695" y="3691"/>
                    </a:lnTo>
                    <a:lnTo>
                      <a:pt x="9517" y="3595"/>
                    </a:lnTo>
                    <a:lnTo>
                      <a:pt x="9339" y="3451"/>
                    </a:lnTo>
                    <a:lnTo>
                      <a:pt x="9117" y="3403"/>
                    </a:lnTo>
                    <a:lnTo>
                      <a:pt x="8939" y="3403"/>
                    </a:lnTo>
                    <a:lnTo>
                      <a:pt x="8761" y="3499"/>
                    </a:lnTo>
                    <a:lnTo>
                      <a:pt x="8583" y="3595"/>
                    </a:lnTo>
                    <a:lnTo>
                      <a:pt x="8494" y="3787"/>
                    </a:lnTo>
                    <a:lnTo>
                      <a:pt x="8494" y="3978"/>
                    </a:lnTo>
                    <a:lnTo>
                      <a:pt x="8494" y="4170"/>
                    </a:lnTo>
                    <a:lnTo>
                      <a:pt x="8361" y="4362"/>
                    </a:lnTo>
                    <a:lnTo>
                      <a:pt x="8272" y="4553"/>
                    </a:lnTo>
                    <a:lnTo>
                      <a:pt x="8272" y="4745"/>
                    </a:lnTo>
                    <a:lnTo>
                      <a:pt x="8361" y="4937"/>
                    </a:lnTo>
                    <a:lnTo>
                      <a:pt x="8450" y="5129"/>
                    </a:lnTo>
                    <a:lnTo>
                      <a:pt x="8450" y="5320"/>
                    </a:lnTo>
                    <a:lnTo>
                      <a:pt x="8450" y="5704"/>
                    </a:lnTo>
                    <a:lnTo>
                      <a:pt x="8405" y="5895"/>
                    </a:lnTo>
                    <a:lnTo>
                      <a:pt x="8228" y="5991"/>
                    </a:lnTo>
                    <a:lnTo>
                      <a:pt x="7961" y="5991"/>
                    </a:lnTo>
                    <a:lnTo>
                      <a:pt x="7738" y="6087"/>
                    </a:lnTo>
                    <a:lnTo>
                      <a:pt x="7561" y="6087"/>
                    </a:lnTo>
                    <a:lnTo>
                      <a:pt x="7383" y="6135"/>
                    </a:lnTo>
                    <a:lnTo>
                      <a:pt x="7205" y="6135"/>
                    </a:lnTo>
                    <a:lnTo>
                      <a:pt x="7027" y="6183"/>
                    </a:lnTo>
                    <a:lnTo>
                      <a:pt x="6849" y="6039"/>
                    </a:lnTo>
                    <a:lnTo>
                      <a:pt x="6671" y="5943"/>
                    </a:lnTo>
                    <a:lnTo>
                      <a:pt x="6493" y="5943"/>
                    </a:lnTo>
                    <a:lnTo>
                      <a:pt x="6315" y="5943"/>
                    </a:lnTo>
                    <a:lnTo>
                      <a:pt x="6093" y="5847"/>
                    </a:lnTo>
                    <a:lnTo>
                      <a:pt x="5915" y="5752"/>
                    </a:lnTo>
                    <a:lnTo>
                      <a:pt x="5737" y="5608"/>
                    </a:lnTo>
                    <a:lnTo>
                      <a:pt x="5559" y="5512"/>
                    </a:lnTo>
                    <a:lnTo>
                      <a:pt x="5380" y="5464"/>
                    </a:lnTo>
                    <a:lnTo>
                      <a:pt x="5203" y="5464"/>
                    </a:lnTo>
                    <a:lnTo>
                      <a:pt x="5025" y="5464"/>
                    </a:lnTo>
                    <a:lnTo>
                      <a:pt x="4847" y="5416"/>
                    </a:lnTo>
                    <a:lnTo>
                      <a:pt x="4669" y="5416"/>
                    </a:lnTo>
                    <a:lnTo>
                      <a:pt x="4491" y="5368"/>
                    </a:lnTo>
                    <a:lnTo>
                      <a:pt x="4313" y="5368"/>
                    </a:lnTo>
                    <a:lnTo>
                      <a:pt x="4135" y="5416"/>
                    </a:lnTo>
                    <a:lnTo>
                      <a:pt x="3957" y="5512"/>
                    </a:lnTo>
                    <a:lnTo>
                      <a:pt x="3780" y="5656"/>
                    </a:lnTo>
                    <a:lnTo>
                      <a:pt x="3602" y="5800"/>
                    </a:lnTo>
                    <a:lnTo>
                      <a:pt x="3424" y="5895"/>
                    </a:lnTo>
                    <a:lnTo>
                      <a:pt x="3246" y="6039"/>
                    </a:lnTo>
                    <a:lnTo>
                      <a:pt x="3068" y="6087"/>
                    </a:lnTo>
                    <a:lnTo>
                      <a:pt x="2890" y="5895"/>
                    </a:lnTo>
                    <a:lnTo>
                      <a:pt x="2846" y="5704"/>
                    </a:lnTo>
                    <a:lnTo>
                      <a:pt x="2757" y="5512"/>
                    </a:lnTo>
                    <a:lnTo>
                      <a:pt x="2757" y="5320"/>
                    </a:lnTo>
                    <a:lnTo>
                      <a:pt x="2712" y="5129"/>
                    </a:lnTo>
                    <a:lnTo>
                      <a:pt x="2623" y="4937"/>
                    </a:lnTo>
                    <a:lnTo>
                      <a:pt x="2445" y="4841"/>
                    </a:lnTo>
                    <a:lnTo>
                      <a:pt x="2223" y="4793"/>
                    </a:lnTo>
                    <a:lnTo>
                      <a:pt x="2045" y="4745"/>
                    </a:lnTo>
                    <a:lnTo>
                      <a:pt x="1867" y="4601"/>
                    </a:lnTo>
                    <a:lnTo>
                      <a:pt x="1734" y="4410"/>
                    </a:lnTo>
                    <a:lnTo>
                      <a:pt x="1689" y="4218"/>
                    </a:lnTo>
                    <a:lnTo>
                      <a:pt x="1645" y="3978"/>
                    </a:lnTo>
                    <a:lnTo>
                      <a:pt x="1556" y="3787"/>
                    </a:lnTo>
                    <a:lnTo>
                      <a:pt x="1378" y="3691"/>
                    </a:lnTo>
                    <a:lnTo>
                      <a:pt x="1200" y="3547"/>
                    </a:lnTo>
                    <a:lnTo>
                      <a:pt x="1022" y="3451"/>
                    </a:lnTo>
                    <a:lnTo>
                      <a:pt x="800" y="3451"/>
                    </a:lnTo>
                    <a:lnTo>
                      <a:pt x="622" y="3451"/>
                    </a:lnTo>
                    <a:lnTo>
                      <a:pt x="578" y="3259"/>
                    </a:lnTo>
                    <a:lnTo>
                      <a:pt x="533" y="3067"/>
                    </a:lnTo>
                    <a:lnTo>
                      <a:pt x="533" y="2827"/>
                    </a:lnTo>
                    <a:lnTo>
                      <a:pt x="533" y="2635"/>
                    </a:lnTo>
                    <a:lnTo>
                      <a:pt x="533" y="2444"/>
                    </a:lnTo>
                    <a:lnTo>
                      <a:pt x="533" y="2252"/>
                    </a:lnTo>
                    <a:lnTo>
                      <a:pt x="533" y="2060"/>
                    </a:lnTo>
                    <a:lnTo>
                      <a:pt x="355" y="2012"/>
                    </a:lnTo>
                    <a:lnTo>
                      <a:pt x="266" y="1821"/>
                    </a:lnTo>
                    <a:lnTo>
                      <a:pt x="266" y="1629"/>
                    </a:lnTo>
                    <a:lnTo>
                      <a:pt x="266" y="1437"/>
                    </a:lnTo>
                    <a:lnTo>
                      <a:pt x="266" y="1246"/>
                    </a:lnTo>
                    <a:lnTo>
                      <a:pt x="222" y="1054"/>
                    </a:lnTo>
                    <a:lnTo>
                      <a:pt x="266" y="862"/>
                    </a:lnTo>
                    <a:lnTo>
                      <a:pt x="400" y="670"/>
                    </a:lnTo>
                    <a:lnTo>
                      <a:pt x="400" y="479"/>
                    </a:lnTo>
                    <a:lnTo>
                      <a:pt x="266" y="287"/>
                    </a:lnTo>
                    <a:lnTo>
                      <a:pt x="88" y="191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5040" cy="5162760"/>
              </a:xfrm>
              <a:custGeom>
                <a:avLst/>
                <a:gdLst/>
                <a:ahLst/>
                <a:rect l="0" t="0" r="r" b="b"/>
                <a:pathLst>
                  <a:path w="22014" h="14341">
                    <a:moveTo>
                      <a:pt x="5469" y="10648"/>
                    </a:moveTo>
                    <a:lnTo>
                      <a:pt x="5247" y="10744"/>
                    </a:lnTo>
                    <a:lnTo>
                      <a:pt x="5069" y="10840"/>
                    </a:lnTo>
                    <a:lnTo>
                      <a:pt x="5025" y="11032"/>
                    </a:lnTo>
                    <a:lnTo>
                      <a:pt x="5025" y="11223"/>
                    </a:lnTo>
                    <a:lnTo>
                      <a:pt x="4936" y="11415"/>
                    </a:lnTo>
                    <a:lnTo>
                      <a:pt x="4758" y="11511"/>
                    </a:lnTo>
                    <a:lnTo>
                      <a:pt x="4580" y="11559"/>
                    </a:lnTo>
                    <a:lnTo>
                      <a:pt x="4402" y="11655"/>
                    </a:lnTo>
                    <a:lnTo>
                      <a:pt x="4269" y="11847"/>
                    </a:lnTo>
                    <a:lnTo>
                      <a:pt x="4269" y="12039"/>
                    </a:lnTo>
                    <a:lnTo>
                      <a:pt x="4224" y="12279"/>
                    </a:lnTo>
                    <a:lnTo>
                      <a:pt x="4224" y="12470"/>
                    </a:lnTo>
                    <a:lnTo>
                      <a:pt x="4269" y="12662"/>
                    </a:lnTo>
                    <a:lnTo>
                      <a:pt x="4269" y="12854"/>
                    </a:lnTo>
                    <a:lnTo>
                      <a:pt x="4135" y="13046"/>
                    </a:lnTo>
                    <a:lnTo>
                      <a:pt x="3913" y="13142"/>
                    </a:lnTo>
                    <a:lnTo>
                      <a:pt x="3735" y="13286"/>
                    </a:lnTo>
                    <a:lnTo>
                      <a:pt x="3557" y="13430"/>
                    </a:lnTo>
                    <a:lnTo>
                      <a:pt x="3379" y="13430"/>
                    </a:lnTo>
                    <a:lnTo>
                      <a:pt x="3157" y="13430"/>
                    </a:lnTo>
                    <a:lnTo>
                      <a:pt x="2979" y="13478"/>
                    </a:lnTo>
                    <a:lnTo>
                      <a:pt x="2935" y="13669"/>
                    </a:lnTo>
                    <a:lnTo>
                      <a:pt x="2935" y="13909"/>
                    </a:lnTo>
                    <a:lnTo>
                      <a:pt x="2846" y="14101"/>
                    </a:lnTo>
                    <a:lnTo>
                      <a:pt x="2623" y="14293"/>
                    </a:lnTo>
                    <a:lnTo>
                      <a:pt x="2445" y="14341"/>
                    </a:lnTo>
                    <a:lnTo>
                      <a:pt x="2312" y="14149"/>
                    </a:lnTo>
                    <a:lnTo>
                      <a:pt x="2223" y="13957"/>
                    </a:lnTo>
                    <a:lnTo>
                      <a:pt x="2090" y="13765"/>
                    </a:lnTo>
                    <a:lnTo>
                      <a:pt x="2134" y="13574"/>
                    </a:lnTo>
                    <a:lnTo>
                      <a:pt x="2134" y="13382"/>
                    </a:lnTo>
                    <a:lnTo>
                      <a:pt x="1956" y="13286"/>
                    </a:lnTo>
                    <a:lnTo>
                      <a:pt x="1778" y="13286"/>
                    </a:lnTo>
                    <a:lnTo>
                      <a:pt x="1600" y="13334"/>
                    </a:lnTo>
                    <a:lnTo>
                      <a:pt x="1423" y="13430"/>
                    </a:lnTo>
                    <a:lnTo>
                      <a:pt x="1245" y="13526"/>
                    </a:lnTo>
                    <a:lnTo>
                      <a:pt x="1067" y="13574"/>
                    </a:lnTo>
                    <a:lnTo>
                      <a:pt x="889" y="13526"/>
                    </a:lnTo>
                    <a:lnTo>
                      <a:pt x="711" y="13526"/>
                    </a:lnTo>
                    <a:lnTo>
                      <a:pt x="533" y="13334"/>
                    </a:lnTo>
                    <a:lnTo>
                      <a:pt x="533" y="13142"/>
                    </a:lnTo>
                    <a:lnTo>
                      <a:pt x="400" y="12950"/>
                    </a:lnTo>
                    <a:lnTo>
                      <a:pt x="177" y="12854"/>
                    </a:lnTo>
                    <a:lnTo>
                      <a:pt x="0" y="12614"/>
                    </a:lnTo>
                    <a:lnTo>
                      <a:pt x="133" y="12422"/>
                    </a:lnTo>
                    <a:lnTo>
                      <a:pt x="311" y="12470"/>
                    </a:lnTo>
                    <a:lnTo>
                      <a:pt x="400" y="12662"/>
                    </a:lnTo>
                    <a:lnTo>
                      <a:pt x="622" y="12758"/>
                    </a:lnTo>
                    <a:lnTo>
                      <a:pt x="800" y="12758"/>
                    </a:lnTo>
                    <a:lnTo>
                      <a:pt x="889" y="12950"/>
                    </a:lnTo>
                    <a:lnTo>
                      <a:pt x="1111" y="13094"/>
                    </a:lnTo>
                    <a:lnTo>
                      <a:pt x="1289" y="12950"/>
                    </a:lnTo>
                    <a:lnTo>
                      <a:pt x="1334" y="12758"/>
                    </a:lnTo>
                    <a:lnTo>
                      <a:pt x="1334" y="12566"/>
                    </a:lnTo>
                    <a:lnTo>
                      <a:pt x="1512" y="12518"/>
                    </a:lnTo>
                    <a:lnTo>
                      <a:pt x="1689" y="12614"/>
                    </a:lnTo>
                    <a:lnTo>
                      <a:pt x="1867" y="12470"/>
                    </a:lnTo>
                    <a:lnTo>
                      <a:pt x="2045" y="12327"/>
                    </a:lnTo>
                    <a:lnTo>
                      <a:pt x="2223" y="12470"/>
                    </a:lnTo>
                    <a:lnTo>
                      <a:pt x="2445" y="12614"/>
                    </a:lnTo>
                    <a:lnTo>
                      <a:pt x="2623" y="12662"/>
                    </a:lnTo>
                    <a:lnTo>
                      <a:pt x="2846" y="12710"/>
                    </a:lnTo>
                    <a:lnTo>
                      <a:pt x="2890" y="12518"/>
                    </a:lnTo>
                    <a:lnTo>
                      <a:pt x="2846" y="12327"/>
                    </a:lnTo>
                    <a:lnTo>
                      <a:pt x="3024" y="12231"/>
                    </a:lnTo>
                    <a:lnTo>
                      <a:pt x="3024" y="12039"/>
                    </a:lnTo>
                    <a:lnTo>
                      <a:pt x="3201" y="11943"/>
                    </a:lnTo>
                    <a:lnTo>
                      <a:pt x="3379" y="11943"/>
                    </a:lnTo>
                    <a:lnTo>
                      <a:pt x="3557" y="11943"/>
                    </a:lnTo>
                    <a:lnTo>
                      <a:pt x="3735" y="11847"/>
                    </a:lnTo>
                    <a:lnTo>
                      <a:pt x="3913" y="11751"/>
                    </a:lnTo>
                    <a:lnTo>
                      <a:pt x="4046" y="11559"/>
                    </a:lnTo>
                    <a:lnTo>
                      <a:pt x="4224" y="11463"/>
                    </a:lnTo>
                    <a:lnTo>
                      <a:pt x="4402" y="11463"/>
                    </a:lnTo>
                    <a:lnTo>
                      <a:pt x="4491" y="11271"/>
                    </a:lnTo>
                    <a:lnTo>
                      <a:pt x="4625" y="11080"/>
                    </a:lnTo>
                    <a:lnTo>
                      <a:pt x="4580" y="10888"/>
                    </a:lnTo>
                    <a:lnTo>
                      <a:pt x="4402" y="10792"/>
                    </a:lnTo>
                    <a:lnTo>
                      <a:pt x="4224" y="10792"/>
                    </a:lnTo>
                    <a:lnTo>
                      <a:pt x="4046" y="10696"/>
                    </a:lnTo>
                    <a:lnTo>
                      <a:pt x="3869" y="10600"/>
                    </a:lnTo>
                    <a:lnTo>
                      <a:pt x="3691" y="10648"/>
                    </a:lnTo>
                    <a:lnTo>
                      <a:pt x="3513" y="10600"/>
                    </a:lnTo>
                    <a:lnTo>
                      <a:pt x="3424" y="10408"/>
                    </a:lnTo>
                    <a:lnTo>
                      <a:pt x="3513" y="10216"/>
                    </a:lnTo>
                    <a:lnTo>
                      <a:pt x="3557" y="10024"/>
                    </a:lnTo>
                    <a:lnTo>
                      <a:pt x="3157" y="9881"/>
                    </a:lnTo>
                    <a:lnTo>
                      <a:pt x="2979" y="9833"/>
                    </a:lnTo>
                    <a:lnTo>
                      <a:pt x="2846" y="9641"/>
                    </a:lnTo>
                    <a:lnTo>
                      <a:pt x="2668" y="9545"/>
                    </a:lnTo>
                    <a:lnTo>
                      <a:pt x="2490" y="9497"/>
                    </a:lnTo>
                    <a:lnTo>
                      <a:pt x="2312" y="9401"/>
                    </a:lnTo>
                    <a:lnTo>
                      <a:pt x="2134" y="9305"/>
                    </a:lnTo>
                    <a:lnTo>
                      <a:pt x="1956" y="9305"/>
                    </a:lnTo>
                    <a:lnTo>
                      <a:pt x="1778" y="9257"/>
                    </a:lnTo>
                    <a:lnTo>
                      <a:pt x="1600" y="9257"/>
                    </a:lnTo>
                    <a:lnTo>
                      <a:pt x="1512" y="9065"/>
                    </a:lnTo>
                    <a:lnTo>
                      <a:pt x="1512" y="8873"/>
                    </a:lnTo>
                    <a:lnTo>
                      <a:pt x="1334" y="8825"/>
                    </a:lnTo>
                    <a:lnTo>
                      <a:pt x="1245" y="8634"/>
                    </a:lnTo>
                    <a:lnTo>
                      <a:pt x="1067" y="8442"/>
                    </a:lnTo>
                    <a:lnTo>
                      <a:pt x="978" y="8250"/>
                    </a:lnTo>
                    <a:lnTo>
                      <a:pt x="1067" y="8058"/>
                    </a:lnTo>
                    <a:lnTo>
                      <a:pt x="1245" y="8058"/>
                    </a:lnTo>
                    <a:lnTo>
                      <a:pt x="1378" y="8250"/>
                    </a:lnTo>
                    <a:lnTo>
                      <a:pt x="1556" y="8394"/>
                    </a:lnTo>
                    <a:lnTo>
                      <a:pt x="1734" y="8490"/>
                    </a:lnTo>
                    <a:lnTo>
                      <a:pt x="1778" y="8681"/>
                    </a:lnTo>
                    <a:lnTo>
                      <a:pt x="1956" y="8873"/>
                    </a:lnTo>
                    <a:lnTo>
                      <a:pt x="2134" y="8921"/>
                    </a:lnTo>
                    <a:lnTo>
                      <a:pt x="2312" y="9113"/>
                    </a:lnTo>
                    <a:lnTo>
                      <a:pt x="2445" y="9305"/>
                    </a:lnTo>
                    <a:lnTo>
                      <a:pt x="2623" y="9353"/>
                    </a:lnTo>
                    <a:lnTo>
                      <a:pt x="2801" y="9353"/>
                    </a:lnTo>
                    <a:lnTo>
                      <a:pt x="2979" y="9353"/>
                    </a:lnTo>
                    <a:lnTo>
                      <a:pt x="3157" y="9257"/>
                    </a:lnTo>
                    <a:lnTo>
                      <a:pt x="3335" y="9113"/>
                    </a:lnTo>
                    <a:lnTo>
                      <a:pt x="3513" y="9065"/>
                    </a:lnTo>
                    <a:lnTo>
                      <a:pt x="3691" y="9161"/>
                    </a:lnTo>
                    <a:lnTo>
                      <a:pt x="3869" y="9305"/>
                    </a:lnTo>
                    <a:lnTo>
                      <a:pt x="4046" y="9305"/>
                    </a:lnTo>
                    <a:lnTo>
                      <a:pt x="4224" y="9305"/>
                    </a:lnTo>
                    <a:lnTo>
                      <a:pt x="4402" y="9353"/>
                    </a:lnTo>
                    <a:lnTo>
                      <a:pt x="4536" y="9545"/>
                    </a:lnTo>
                    <a:lnTo>
                      <a:pt x="4713" y="9545"/>
                    </a:lnTo>
                    <a:lnTo>
                      <a:pt x="4891" y="9497"/>
                    </a:lnTo>
                    <a:lnTo>
                      <a:pt x="5069" y="9449"/>
                    </a:lnTo>
                    <a:lnTo>
                      <a:pt x="5247" y="9449"/>
                    </a:lnTo>
                    <a:lnTo>
                      <a:pt x="5247" y="9641"/>
                    </a:lnTo>
                    <a:lnTo>
                      <a:pt x="5203" y="9833"/>
                    </a:lnTo>
                    <a:lnTo>
                      <a:pt x="5158" y="10024"/>
                    </a:lnTo>
                    <a:lnTo>
                      <a:pt x="5203" y="10216"/>
                    </a:lnTo>
                    <a:lnTo>
                      <a:pt x="5381" y="10360"/>
                    </a:lnTo>
                    <a:lnTo>
                      <a:pt x="5558" y="10552"/>
                    </a:lnTo>
                    <a:lnTo>
                      <a:pt x="5736" y="10600"/>
                    </a:lnTo>
                    <a:lnTo>
                      <a:pt x="5825" y="10408"/>
                    </a:lnTo>
                    <a:lnTo>
                      <a:pt x="5825" y="10216"/>
                    </a:lnTo>
                    <a:lnTo>
                      <a:pt x="5736" y="10024"/>
                    </a:lnTo>
                    <a:lnTo>
                      <a:pt x="5692" y="9833"/>
                    </a:lnTo>
                    <a:lnTo>
                      <a:pt x="5825" y="9641"/>
                    </a:lnTo>
                    <a:lnTo>
                      <a:pt x="6003" y="9545"/>
                    </a:lnTo>
                    <a:lnTo>
                      <a:pt x="6181" y="9545"/>
                    </a:lnTo>
                    <a:lnTo>
                      <a:pt x="6181" y="9353"/>
                    </a:lnTo>
                    <a:lnTo>
                      <a:pt x="6137" y="9161"/>
                    </a:lnTo>
                    <a:lnTo>
                      <a:pt x="6359" y="9113"/>
                    </a:lnTo>
                    <a:lnTo>
                      <a:pt x="6537" y="9113"/>
                    </a:lnTo>
                    <a:lnTo>
                      <a:pt x="6715" y="9161"/>
                    </a:lnTo>
                    <a:lnTo>
                      <a:pt x="6848" y="8969"/>
                    </a:lnTo>
                    <a:lnTo>
                      <a:pt x="6848" y="8777"/>
                    </a:lnTo>
                    <a:lnTo>
                      <a:pt x="6848" y="8586"/>
                    </a:lnTo>
                    <a:lnTo>
                      <a:pt x="7026" y="8442"/>
                    </a:lnTo>
                    <a:lnTo>
                      <a:pt x="7248" y="8442"/>
                    </a:lnTo>
                    <a:lnTo>
                      <a:pt x="7471" y="8394"/>
                    </a:lnTo>
                    <a:lnTo>
                      <a:pt x="7693" y="8394"/>
                    </a:lnTo>
                    <a:lnTo>
                      <a:pt x="7871" y="8394"/>
                    </a:lnTo>
                    <a:lnTo>
                      <a:pt x="8049" y="8298"/>
                    </a:lnTo>
                    <a:lnTo>
                      <a:pt x="8227" y="8298"/>
                    </a:lnTo>
                    <a:lnTo>
                      <a:pt x="8360" y="8106"/>
                    </a:lnTo>
                    <a:lnTo>
                      <a:pt x="8360" y="7914"/>
                    </a:lnTo>
                    <a:lnTo>
                      <a:pt x="8316" y="7722"/>
                    </a:lnTo>
                    <a:lnTo>
                      <a:pt x="8316" y="7530"/>
                    </a:lnTo>
                    <a:lnTo>
                      <a:pt x="8360" y="7339"/>
                    </a:lnTo>
                    <a:lnTo>
                      <a:pt x="8316" y="7146"/>
                    </a:lnTo>
                    <a:lnTo>
                      <a:pt x="8316" y="6954"/>
                    </a:lnTo>
                    <a:lnTo>
                      <a:pt x="8494" y="6858"/>
                    </a:lnTo>
                    <a:lnTo>
                      <a:pt x="8716" y="6858"/>
                    </a:lnTo>
                    <a:lnTo>
                      <a:pt x="8894" y="6858"/>
                    </a:lnTo>
                    <a:lnTo>
                      <a:pt x="8894" y="6666"/>
                    </a:lnTo>
                    <a:lnTo>
                      <a:pt x="9027" y="6474"/>
                    </a:lnTo>
                    <a:lnTo>
                      <a:pt x="9250" y="6330"/>
                    </a:lnTo>
                    <a:lnTo>
                      <a:pt x="9294" y="6139"/>
                    </a:lnTo>
                    <a:lnTo>
                      <a:pt x="9294" y="5947"/>
                    </a:lnTo>
                    <a:lnTo>
                      <a:pt x="9472" y="5803"/>
                    </a:lnTo>
                    <a:lnTo>
                      <a:pt x="9650" y="5755"/>
                    </a:lnTo>
                    <a:lnTo>
                      <a:pt x="9605" y="5947"/>
                    </a:lnTo>
                    <a:lnTo>
                      <a:pt x="9561" y="6139"/>
                    </a:lnTo>
                    <a:lnTo>
                      <a:pt x="9472" y="6330"/>
                    </a:lnTo>
                    <a:lnTo>
                      <a:pt x="9472" y="6522"/>
                    </a:lnTo>
                    <a:lnTo>
                      <a:pt x="9472" y="6714"/>
                    </a:lnTo>
                    <a:lnTo>
                      <a:pt x="9427" y="6906"/>
                    </a:lnTo>
                    <a:lnTo>
                      <a:pt x="9605" y="6858"/>
                    </a:lnTo>
                    <a:lnTo>
                      <a:pt x="9739" y="6666"/>
                    </a:lnTo>
                    <a:lnTo>
                      <a:pt x="9917" y="6810"/>
                    </a:lnTo>
                    <a:lnTo>
                      <a:pt x="10095" y="6906"/>
                    </a:lnTo>
                    <a:lnTo>
                      <a:pt x="10139" y="6714"/>
                    </a:lnTo>
                    <a:lnTo>
                      <a:pt x="10317" y="6618"/>
                    </a:lnTo>
                    <a:lnTo>
                      <a:pt x="10406" y="6426"/>
                    </a:lnTo>
                    <a:lnTo>
                      <a:pt x="10361" y="6234"/>
                    </a:lnTo>
                    <a:lnTo>
                      <a:pt x="10361" y="6043"/>
                    </a:lnTo>
                    <a:lnTo>
                      <a:pt x="10183" y="5995"/>
                    </a:lnTo>
                    <a:lnTo>
                      <a:pt x="10050" y="5803"/>
                    </a:lnTo>
                    <a:lnTo>
                      <a:pt x="10050" y="5563"/>
                    </a:lnTo>
                    <a:lnTo>
                      <a:pt x="10050" y="5371"/>
                    </a:lnTo>
                    <a:lnTo>
                      <a:pt x="10095" y="5179"/>
                    </a:lnTo>
                    <a:lnTo>
                      <a:pt x="10095" y="4987"/>
                    </a:lnTo>
                    <a:lnTo>
                      <a:pt x="10050" y="4796"/>
                    </a:lnTo>
                    <a:lnTo>
                      <a:pt x="9872" y="4748"/>
                    </a:lnTo>
                    <a:lnTo>
                      <a:pt x="9694" y="4844"/>
                    </a:lnTo>
                    <a:lnTo>
                      <a:pt x="9516" y="4796"/>
                    </a:lnTo>
                    <a:lnTo>
                      <a:pt x="9338" y="4604"/>
                    </a:lnTo>
                    <a:lnTo>
                      <a:pt x="9250" y="4412"/>
                    </a:lnTo>
                    <a:lnTo>
                      <a:pt x="9294" y="4220"/>
                    </a:lnTo>
                    <a:lnTo>
                      <a:pt x="9250" y="4028"/>
                    </a:lnTo>
                    <a:lnTo>
                      <a:pt x="9161" y="3836"/>
                    </a:lnTo>
                    <a:lnTo>
                      <a:pt x="9116" y="3645"/>
                    </a:lnTo>
                    <a:lnTo>
                      <a:pt x="9161" y="3453"/>
                    </a:lnTo>
                    <a:lnTo>
                      <a:pt x="9161" y="3261"/>
                    </a:lnTo>
                    <a:lnTo>
                      <a:pt x="9161" y="3069"/>
                    </a:lnTo>
                    <a:lnTo>
                      <a:pt x="9161" y="2877"/>
                    </a:lnTo>
                    <a:lnTo>
                      <a:pt x="9294" y="2685"/>
                    </a:lnTo>
                    <a:lnTo>
                      <a:pt x="9383" y="2493"/>
                    </a:lnTo>
                    <a:lnTo>
                      <a:pt x="9383" y="2302"/>
                    </a:lnTo>
                    <a:lnTo>
                      <a:pt x="9294" y="2110"/>
                    </a:lnTo>
                    <a:lnTo>
                      <a:pt x="9116" y="2014"/>
                    </a:lnTo>
                    <a:lnTo>
                      <a:pt x="8938" y="1870"/>
                    </a:lnTo>
                    <a:lnTo>
                      <a:pt x="8760" y="1774"/>
                    </a:lnTo>
                    <a:lnTo>
                      <a:pt x="8582" y="1774"/>
                    </a:lnTo>
                    <a:lnTo>
                      <a:pt x="8405" y="1774"/>
                    </a:lnTo>
                    <a:lnTo>
                      <a:pt x="8271" y="1582"/>
                    </a:lnTo>
                    <a:lnTo>
                      <a:pt x="8405" y="1390"/>
                    </a:lnTo>
                    <a:lnTo>
                      <a:pt x="8360" y="1199"/>
                    </a:lnTo>
                    <a:lnTo>
                      <a:pt x="8405" y="1007"/>
                    </a:lnTo>
                    <a:lnTo>
                      <a:pt x="8494" y="815"/>
                    </a:lnTo>
                    <a:lnTo>
                      <a:pt x="8271" y="767"/>
                    </a:lnTo>
                    <a:lnTo>
                      <a:pt x="8093" y="767"/>
                    </a:lnTo>
                    <a:lnTo>
                      <a:pt x="7871" y="719"/>
                    </a:lnTo>
                    <a:lnTo>
                      <a:pt x="7738" y="527"/>
                    </a:lnTo>
                    <a:lnTo>
                      <a:pt x="7560" y="335"/>
                    </a:lnTo>
                    <a:lnTo>
                      <a:pt x="7382" y="287"/>
                    </a:lnTo>
                    <a:lnTo>
                      <a:pt x="7204" y="239"/>
                    </a:lnTo>
                    <a:lnTo>
                      <a:pt x="7248" y="47"/>
                    </a:lnTo>
                    <a:lnTo>
                      <a:pt x="7426" y="0"/>
                    </a:lnTo>
                    <a:lnTo>
                      <a:pt x="7649" y="0"/>
                    </a:lnTo>
                    <a:lnTo>
                      <a:pt x="7738" y="191"/>
                    </a:lnTo>
                    <a:lnTo>
                      <a:pt x="7960" y="287"/>
                    </a:lnTo>
                    <a:lnTo>
                      <a:pt x="8138" y="287"/>
                    </a:lnTo>
                    <a:lnTo>
                      <a:pt x="8316" y="335"/>
                    </a:lnTo>
                    <a:lnTo>
                      <a:pt x="8538" y="383"/>
                    </a:lnTo>
                    <a:lnTo>
                      <a:pt x="8671" y="575"/>
                    </a:lnTo>
                    <a:lnTo>
                      <a:pt x="8671" y="767"/>
                    </a:lnTo>
                    <a:lnTo>
                      <a:pt x="8849" y="815"/>
                    </a:lnTo>
                    <a:lnTo>
                      <a:pt x="8983" y="1007"/>
                    </a:lnTo>
                    <a:lnTo>
                      <a:pt x="9161" y="1007"/>
                    </a:lnTo>
                    <a:lnTo>
                      <a:pt x="9383" y="911"/>
                    </a:lnTo>
                    <a:lnTo>
                      <a:pt x="9605" y="863"/>
                    </a:lnTo>
                    <a:lnTo>
                      <a:pt x="9783" y="959"/>
                    </a:lnTo>
                    <a:lnTo>
                      <a:pt x="9783" y="1151"/>
                    </a:lnTo>
                    <a:lnTo>
                      <a:pt x="9694" y="1342"/>
                    </a:lnTo>
                    <a:lnTo>
                      <a:pt x="9694" y="1534"/>
                    </a:lnTo>
                    <a:lnTo>
                      <a:pt x="9828" y="1726"/>
                    </a:lnTo>
                    <a:lnTo>
                      <a:pt x="10006" y="1726"/>
                    </a:lnTo>
                    <a:lnTo>
                      <a:pt x="10183" y="1774"/>
                    </a:lnTo>
                    <a:lnTo>
                      <a:pt x="10361" y="1966"/>
                    </a:lnTo>
                    <a:lnTo>
                      <a:pt x="10139" y="2158"/>
                    </a:lnTo>
                    <a:lnTo>
                      <a:pt x="9961" y="2206"/>
                    </a:lnTo>
                    <a:lnTo>
                      <a:pt x="9872" y="2398"/>
                    </a:lnTo>
                    <a:lnTo>
                      <a:pt x="9872" y="2589"/>
                    </a:lnTo>
                    <a:lnTo>
                      <a:pt x="9783" y="2781"/>
                    </a:lnTo>
                    <a:lnTo>
                      <a:pt x="9650" y="2973"/>
                    </a:lnTo>
                    <a:lnTo>
                      <a:pt x="9472" y="3069"/>
                    </a:lnTo>
                    <a:lnTo>
                      <a:pt x="9294" y="3165"/>
                    </a:lnTo>
                    <a:lnTo>
                      <a:pt x="9250" y="3357"/>
                    </a:lnTo>
                    <a:lnTo>
                      <a:pt x="9250" y="3549"/>
                    </a:lnTo>
                    <a:lnTo>
                      <a:pt x="9294" y="3740"/>
                    </a:lnTo>
                    <a:lnTo>
                      <a:pt x="9472" y="3788"/>
                    </a:lnTo>
                    <a:lnTo>
                      <a:pt x="9650" y="3788"/>
                    </a:lnTo>
                    <a:lnTo>
                      <a:pt x="9828" y="3740"/>
                    </a:lnTo>
                    <a:lnTo>
                      <a:pt x="10006" y="3884"/>
                    </a:lnTo>
                    <a:lnTo>
                      <a:pt x="10183" y="4028"/>
                    </a:lnTo>
                    <a:lnTo>
                      <a:pt x="10361" y="3932"/>
                    </a:lnTo>
                    <a:lnTo>
                      <a:pt x="10406" y="3740"/>
                    </a:lnTo>
                    <a:lnTo>
                      <a:pt x="10406" y="3549"/>
                    </a:lnTo>
                    <a:lnTo>
                      <a:pt x="10406" y="3357"/>
                    </a:lnTo>
                    <a:lnTo>
                      <a:pt x="10406" y="3165"/>
                    </a:lnTo>
                    <a:lnTo>
                      <a:pt x="10584" y="3117"/>
                    </a:lnTo>
                    <a:lnTo>
                      <a:pt x="10762" y="3165"/>
                    </a:lnTo>
                    <a:lnTo>
                      <a:pt x="10939" y="3261"/>
                    </a:lnTo>
                    <a:lnTo>
                      <a:pt x="11118" y="3309"/>
                    </a:lnTo>
                    <a:lnTo>
                      <a:pt x="11296" y="3117"/>
                    </a:lnTo>
                    <a:lnTo>
                      <a:pt x="11341" y="2925"/>
                    </a:lnTo>
                    <a:lnTo>
                      <a:pt x="11341" y="2733"/>
                    </a:lnTo>
                    <a:lnTo>
                      <a:pt x="11163" y="2589"/>
                    </a:lnTo>
                    <a:lnTo>
                      <a:pt x="10984" y="2589"/>
                    </a:lnTo>
                    <a:lnTo>
                      <a:pt x="10806" y="2493"/>
                    </a:lnTo>
                    <a:lnTo>
                      <a:pt x="10717" y="2302"/>
                    </a:lnTo>
                    <a:lnTo>
                      <a:pt x="10717" y="2110"/>
                    </a:lnTo>
                    <a:lnTo>
                      <a:pt x="10717" y="1870"/>
                    </a:lnTo>
                    <a:lnTo>
                      <a:pt x="10628" y="1630"/>
                    </a:lnTo>
                    <a:lnTo>
                      <a:pt x="10584" y="1438"/>
                    </a:lnTo>
                    <a:lnTo>
                      <a:pt x="10762" y="1342"/>
                    </a:lnTo>
                    <a:lnTo>
                      <a:pt x="10939" y="1342"/>
                    </a:lnTo>
                    <a:lnTo>
                      <a:pt x="11118" y="1342"/>
                    </a:lnTo>
                    <a:lnTo>
                      <a:pt x="11296" y="1342"/>
                    </a:lnTo>
                    <a:lnTo>
                      <a:pt x="11474" y="1390"/>
                    </a:lnTo>
                    <a:lnTo>
                      <a:pt x="11652" y="1199"/>
                    </a:lnTo>
                    <a:lnTo>
                      <a:pt x="11785" y="1007"/>
                    </a:lnTo>
                    <a:lnTo>
                      <a:pt x="11963" y="911"/>
                    </a:lnTo>
                    <a:lnTo>
                      <a:pt x="12141" y="863"/>
                    </a:lnTo>
                    <a:lnTo>
                      <a:pt x="12319" y="719"/>
                    </a:lnTo>
                    <a:lnTo>
                      <a:pt x="12497" y="623"/>
                    </a:lnTo>
                    <a:lnTo>
                      <a:pt x="12675" y="719"/>
                    </a:lnTo>
                    <a:lnTo>
                      <a:pt x="12853" y="863"/>
                    </a:lnTo>
                    <a:lnTo>
                      <a:pt x="13031" y="815"/>
                    </a:lnTo>
                    <a:lnTo>
                      <a:pt x="13208" y="767"/>
                    </a:lnTo>
                    <a:lnTo>
                      <a:pt x="13386" y="719"/>
                    </a:lnTo>
                    <a:lnTo>
                      <a:pt x="13564" y="863"/>
                    </a:lnTo>
                    <a:lnTo>
                      <a:pt x="13742" y="959"/>
                    </a:lnTo>
                    <a:lnTo>
                      <a:pt x="13965" y="911"/>
                    </a:lnTo>
                    <a:lnTo>
                      <a:pt x="14142" y="863"/>
                    </a:lnTo>
                    <a:lnTo>
                      <a:pt x="14320" y="959"/>
                    </a:lnTo>
                    <a:lnTo>
                      <a:pt x="14409" y="1151"/>
                    </a:lnTo>
                    <a:lnTo>
                      <a:pt x="14409" y="1342"/>
                    </a:lnTo>
                    <a:lnTo>
                      <a:pt x="14365" y="1534"/>
                    </a:lnTo>
                    <a:lnTo>
                      <a:pt x="14231" y="1726"/>
                    </a:lnTo>
                    <a:lnTo>
                      <a:pt x="14142" y="1918"/>
                    </a:lnTo>
                    <a:lnTo>
                      <a:pt x="14098" y="2110"/>
                    </a:lnTo>
                    <a:lnTo>
                      <a:pt x="13920" y="2254"/>
                    </a:lnTo>
                    <a:lnTo>
                      <a:pt x="14142" y="2398"/>
                    </a:lnTo>
                    <a:lnTo>
                      <a:pt x="14320" y="2446"/>
                    </a:lnTo>
                    <a:lnTo>
                      <a:pt x="14498" y="2493"/>
                    </a:lnTo>
                    <a:lnTo>
                      <a:pt x="14632" y="2685"/>
                    </a:lnTo>
                    <a:lnTo>
                      <a:pt x="14765" y="2877"/>
                    </a:lnTo>
                    <a:lnTo>
                      <a:pt x="14587" y="2973"/>
                    </a:lnTo>
                    <a:lnTo>
                      <a:pt x="14409" y="2973"/>
                    </a:lnTo>
                    <a:lnTo>
                      <a:pt x="14231" y="2973"/>
                    </a:lnTo>
                    <a:lnTo>
                      <a:pt x="14053" y="3117"/>
                    </a:lnTo>
                    <a:lnTo>
                      <a:pt x="14009" y="3309"/>
                    </a:lnTo>
                    <a:lnTo>
                      <a:pt x="13831" y="3453"/>
                    </a:lnTo>
                    <a:lnTo>
                      <a:pt x="13609" y="3453"/>
                    </a:lnTo>
                    <a:lnTo>
                      <a:pt x="13431" y="3453"/>
                    </a:lnTo>
                    <a:lnTo>
                      <a:pt x="13208" y="3453"/>
                    </a:lnTo>
                    <a:lnTo>
                      <a:pt x="13031" y="3453"/>
                    </a:lnTo>
                    <a:lnTo>
                      <a:pt x="12853" y="3453"/>
                    </a:lnTo>
                    <a:lnTo>
                      <a:pt x="12630" y="3453"/>
                    </a:lnTo>
                    <a:lnTo>
                      <a:pt x="12452" y="3453"/>
                    </a:lnTo>
                    <a:lnTo>
                      <a:pt x="12275" y="3453"/>
                    </a:lnTo>
                    <a:lnTo>
                      <a:pt x="12097" y="3549"/>
                    </a:lnTo>
                    <a:lnTo>
                      <a:pt x="12052" y="3740"/>
                    </a:lnTo>
                    <a:lnTo>
                      <a:pt x="12275" y="3884"/>
                    </a:lnTo>
                    <a:lnTo>
                      <a:pt x="12452" y="3884"/>
                    </a:lnTo>
                    <a:lnTo>
                      <a:pt x="12630" y="3836"/>
                    </a:lnTo>
                    <a:lnTo>
                      <a:pt x="12719" y="4028"/>
                    </a:lnTo>
                    <a:lnTo>
                      <a:pt x="12764" y="4220"/>
                    </a:lnTo>
                    <a:lnTo>
                      <a:pt x="12764" y="4460"/>
                    </a:lnTo>
                    <a:lnTo>
                      <a:pt x="12808" y="4652"/>
                    </a:lnTo>
                    <a:lnTo>
                      <a:pt x="13120" y="4652"/>
                    </a:lnTo>
                    <a:lnTo>
                      <a:pt x="13297" y="4604"/>
                    </a:lnTo>
                    <a:lnTo>
                      <a:pt x="13475" y="4556"/>
                    </a:lnTo>
                    <a:lnTo>
                      <a:pt x="13653" y="4652"/>
                    </a:lnTo>
                    <a:lnTo>
                      <a:pt x="13831" y="4652"/>
                    </a:lnTo>
                    <a:lnTo>
                      <a:pt x="13965" y="4460"/>
                    </a:lnTo>
                    <a:lnTo>
                      <a:pt x="14142" y="4364"/>
                    </a:lnTo>
                    <a:lnTo>
                      <a:pt x="14320" y="4268"/>
                    </a:lnTo>
                    <a:lnTo>
                      <a:pt x="14498" y="4172"/>
                    </a:lnTo>
                    <a:lnTo>
                      <a:pt x="14721" y="4220"/>
                    </a:lnTo>
                    <a:lnTo>
                      <a:pt x="14898" y="4412"/>
                    </a:lnTo>
                    <a:lnTo>
                      <a:pt x="15076" y="4556"/>
                    </a:lnTo>
                    <a:lnTo>
                      <a:pt x="15254" y="4556"/>
                    </a:lnTo>
                    <a:lnTo>
                      <a:pt x="15432" y="4556"/>
                    </a:lnTo>
                    <a:lnTo>
                      <a:pt x="15610" y="4460"/>
                    </a:lnTo>
                    <a:lnTo>
                      <a:pt x="15788" y="4412"/>
                    </a:lnTo>
                    <a:lnTo>
                      <a:pt x="15966" y="4412"/>
                    </a:lnTo>
                    <a:lnTo>
                      <a:pt x="16144" y="4460"/>
                    </a:lnTo>
                    <a:lnTo>
                      <a:pt x="16233" y="4700"/>
                    </a:lnTo>
                    <a:lnTo>
                      <a:pt x="16277" y="4892"/>
                    </a:lnTo>
                    <a:lnTo>
                      <a:pt x="16277" y="5083"/>
                    </a:lnTo>
                    <a:lnTo>
                      <a:pt x="16233" y="5275"/>
                    </a:lnTo>
                    <a:lnTo>
                      <a:pt x="16366" y="5467"/>
                    </a:lnTo>
                    <a:lnTo>
                      <a:pt x="16499" y="5659"/>
                    </a:lnTo>
                    <a:lnTo>
                      <a:pt x="16499" y="5851"/>
                    </a:lnTo>
                    <a:lnTo>
                      <a:pt x="16499" y="6091"/>
                    </a:lnTo>
                    <a:lnTo>
                      <a:pt x="16544" y="6282"/>
                    </a:lnTo>
                    <a:lnTo>
                      <a:pt x="16544" y="6474"/>
                    </a:lnTo>
                    <a:lnTo>
                      <a:pt x="16321" y="6570"/>
                    </a:lnTo>
                    <a:lnTo>
                      <a:pt x="16055" y="6618"/>
                    </a:lnTo>
                    <a:lnTo>
                      <a:pt x="15921" y="6810"/>
                    </a:lnTo>
                    <a:lnTo>
                      <a:pt x="15921" y="7002"/>
                    </a:lnTo>
                    <a:lnTo>
                      <a:pt x="15966" y="7195"/>
                    </a:lnTo>
                    <a:lnTo>
                      <a:pt x="16144" y="7339"/>
                    </a:lnTo>
                    <a:lnTo>
                      <a:pt x="16321" y="7434"/>
                    </a:lnTo>
                    <a:lnTo>
                      <a:pt x="16499" y="7387"/>
                    </a:lnTo>
                    <a:lnTo>
                      <a:pt x="16677" y="7291"/>
                    </a:lnTo>
                    <a:lnTo>
                      <a:pt x="16855" y="7339"/>
                    </a:lnTo>
                    <a:lnTo>
                      <a:pt x="16944" y="7530"/>
                    </a:lnTo>
                    <a:lnTo>
                      <a:pt x="16989" y="7722"/>
                    </a:lnTo>
                    <a:lnTo>
                      <a:pt x="16855" y="7914"/>
                    </a:lnTo>
                    <a:lnTo>
                      <a:pt x="16855" y="8106"/>
                    </a:lnTo>
                    <a:lnTo>
                      <a:pt x="16900" y="8346"/>
                    </a:lnTo>
                    <a:lnTo>
                      <a:pt x="17078" y="8394"/>
                    </a:lnTo>
                    <a:lnTo>
                      <a:pt x="17166" y="8586"/>
                    </a:lnTo>
                    <a:lnTo>
                      <a:pt x="17389" y="8681"/>
                    </a:lnTo>
                    <a:lnTo>
                      <a:pt x="17611" y="8681"/>
                    </a:lnTo>
                    <a:lnTo>
                      <a:pt x="17834" y="8634"/>
                    </a:lnTo>
                    <a:lnTo>
                      <a:pt x="18011" y="8634"/>
                    </a:lnTo>
                    <a:lnTo>
                      <a:pt x="18189" y="8634"/>
                    </a:lnTo>
                    <a:lnTo>
                      <a:pt x="18234" y="8442"/>
                    </a:lnTo>
                    <a:lnTo>
                      <a:pt x="18234" y="8250"/>
                    </a:lnTo>
                    <a:lnTo>
                      <a:pt x="18412" y="8058"/>
                    </a:lnTo>
                    <a:lnTo>
                      <a:pt x="18412" y="7866"/>
                    </a:lnTo>
                    <a:lnTo>
                      <a:pt x="18590" y="7722"/>
                    </a:lnTo>
                    <a:lnTo>
                      <a:pt x="18767" y="7578"/>
                    </a:lnTo>
                    <a:lnTo>
                      <a:pt x="18767" y="7387"/>
                    </a:lnTo>
                    <a:lnTo>
                      <a:pt x="18767" y="7195"/>
                    </a:lnTo>
                    <a:lnTo>
                      <a:pt x="18856" y="7002"/>
                    </a:lnTo>
                    <a:lnTo>
                      <a:pt x="19034" y="6906"/>
                    </a:lnTo>
                    <a:lnTo>
                      <a:pt x="19168" y="7146"/>
                    </a:lnTo>
                    <a:lnTo>
                      <a:pt x="19346" y="7291"/>
                    </a:lnTo>
                    <a:lnTo>
                      <a:pt x="19523" y="7243"/>
                    </a:lnTo>
                    <a:lnTo>
                      <a:pt x="19701" y="7195"/>
                    </a:lnTo>
                    <a:lnTo>
                      <a:pt x="19879" y="7243"/>
                    </a:lnTo>
                    <a:lnTo>
                      <a:pt x="20057" y="7339"/>
                    </a:lnTo>
                    <a:lnTo>
                      <a:pt x="20235" y="7195"/>
                    </a:lnTo>
                    <a:lnTo>
                      <a:pt x="20235" y="7002"/>
                    </a:lnTo>
                    <a:lnTo>
                      <a:pt x="20279" y="6810"/>
                    </a:lnTo>
                    <a:lnTo>
                      <a:pt x="20457" y="6714"/>
                    </a:lnTo>
                    <a:lnTo>
                      <a:pt x="20635" y="6714"/>
                    </a:lnTo>
                    <a:lnTo>
                      <a:pt x="20724" y="6522"/>
                    </a:lnTo>
                    <a:lnTo>
                      <a:pt x="20724" y="6330"/>
                    </a:lnTo>
                    <a:lnTo>
                      <a:pt x="20813" y="6139"/>
                    </a:lnTo>
                    <a:lnTo>
                      <a:pt x="20991" y="5995"/>
                    </a:lnTo>
                    <a:lnTo>
                      <a:pt x="21169" y="5947"/>
                    </a:lnTo>
                    <a:lnTo>
                      <a:pt x="21347" y="5947"/>
                    </a:lnTo>
                    <a:lnTo>
                      <a:pt x="21525" y="5803"/>
                    </a:lnTo>
                    <a:lnTo>
                      <a:pt x="21703" y="5755"/>
                    </a:lnTo>
                    <a:lnTo>
                      <a:pt x="21880" y="5755"/>
                    </a:lnTo>
                    <a:lnTo>
                      <a:pt x="22014" y="5995"/>
                    </a:lnTo>
                    <a:lnTo>
                      <a:pt x="22014" y="6187"/>
                    </a:lnTo>
                    <a:lnTo>
                      <a:pt x="22014" y="6378"/>
                    </a:lnTo>
                    <a:lnTo>
                      <a:pt x="22014" y="6570"/>
                    </a:lnTo>
                    <a:lnTo>
                      <a:pt x="22014" y="6762"/>
                    </a:lnTo>
                    <a:lnTo>
                      <a:pt x="21880" y="6954"/>
                    </a:lnTo>
                    <a:lnTo>
                      <a:pt x="21703" y="6906"/>
                    </a:lnTo>
                    <a:lnTo>
                      <a:pt x="21525" y="6810"/>
                    </a:lnTo>
                    <a:lnTo>
                      <a:pt x="21347" y="6858"/>
                    </a:lnTo>
                    <a:lnTo>
                      <a:pt x="21213" y="7050"/>
                    </a:lnTo>
                    <a:lnTo>
                      <a:pt x="21035" y="7195"/>
                    </a:lnTo>
                    <a:lnTo>
                      <a:pt x="20947" y="7387"/>
                    </a:lnTo>
                    <a:lnTo>
                      <a:pt x="20947" y="7578"/>
                    </a:lnTo>
                    <a:lnTo>
                      <a:pt x="20858" y="7770"/>
                    </a:lnTo>
                    <a:lnTo>
                      <a:pt x="20724" y="7962"/>
                    </a:lnTo>
                    <a:lnTo>
                      <a:pt x="20546" y="8154"/>
                    </a:lnTo>
                    <a:lnTo>
                      <a:pt x="20457" y="8346"/>
                    </a:lnTo>
                    <a:lnTo>
                      <a:pt x="20457" y="8538"/>
                    </a:lnTo>
                    <a:lnTo>
                      <a:pt x="20279" y="8538"/>
                    </a:lnTo>
                    <a:lnTo>
                      <a:pt x="20191" y="8777"/>
                    </a:lnTo>
                    <a:lnTo>
                      <a:pt x="20191" y="8969"/>
                    </a:lnTo>
                    <a:lnTo>
                      <a:pt x="20191" y="9161"/>
                    </a:lnTo>
                    <a:lnTo>
                      <a:pt x="20102" y="9353"/>
                    </a:lnTo>
                    <a:lnTo>
                      <a:pt x="19924" y="9401"/>
                    </a:lnTo>
                    <a:lnTo>
                      <a:pt x="19746" y="9401"/>
                    </a:lnTo>
                    <a:lnTo>
                      <a:pt x="19568" y="9449"/>
                    </a:lnTo>
                    <a:lnTo>
                      <a:pt x="19479" y="9641"/>
                    </a:lnTo>
                    <a:lnTo>
                      <a:pt x="19301" y="9785"/>
                    </a:lnTo>
                    <a:lnTo>
                      <a:pt x="19301" y="9976"/>
                    </a:lnTo>
                    <a:lnTo>
                      <a:pt x="19301" y="10216"/>
                    </a:lnTo>
                    <a:lnTo>
                      <a:pt x="19168" y="10408"/>
                    </a:lnTo>
                    <a:lnTo>
                      <a:pt x="18990" y="10648"/>
                    </a:lnTo>
                    <a:lnTo>
                      <a:pt x="18990" y="10888"/>
                    </a:lnTo>
                    <a:lnTo>
                      <a:pt x="18812" y="10984"/>
                    </a:lnTo>
                    <a:lnTo>
                      <a:pt x="18456" y="10984"/>
                    </a:lnTo>
                    <a:lnTo>
                      <a:pt x="18278" y="10984"/>
                    </a:lnTo>
                    <a:lnTo>
                      <a:pt x="18100" y="11032"/>
                    </a:lnTo>
                    <a:lnTo>
                      <a:pt x="17922" y="11080"/>
                    </a:lnTo>
                    <a:lnTo>
                      <a:pt x="17745" y="10984"/>
                    </a:lnTo>
                    <a:lnTo>
                      <a:pt x="17567" y="10840"/>
                    </a:lnTo>
                    <a:lnTo>
                      <a:pt x="17389" y="10840"/>
                    </a:lnTo>
                    <a:lnTo>
                      <a:pt x="17211" y="10840"/>
                    </a:lnTo>
                    <a:lnTo>
                      <a:pt x="16989" y="10936"/>
                    </a:lnTo>
                    <a:lnTo>
                      <a:pt x="16811" y="10888"/>
                    </a:lnTo>
                    <a:lnTo>
                      <a:pt x="16633" y="10840"/>
                    </a:lnTo>
                    <a:lnTo>
                      <a:pt x="16499" y="11223"/>
                    </a:lnTo>
                    <a:lnTo>
                      <a:pt x="16321" y="11367"/>
                    </a:lnTo>
                    <a:lnTo>
                      <a:pt x="16144" y="11367"/>
                    </a:lnTo>
                    <a:lnTo>
                      <a:pt x="16099" y="11175"/>
                    </a:lnTo>
                    <a:lnTo>
                      <a:pt x="16144" y="10984"/>
                    </a:lnTo>
                    <a:lnTo>
                      <a:pt x="16144" y="10792"/>
                    </a:lnTo>
                    <a:lnTo>
                      <a:pt x="16144" y="10600"/>
                    </a:lnTo>
                    <a:lnTo>
                      <a:pt x="15743" y="10408"/>
                    </a:lnTo>
                    <a:lnTo>
                      <a:pt x="15699" y="10216"/>
                    </a:lnTo>
                    <a:lnTo>
                      <a:pt x="15743" y="10024"/>
                    </a:lnTo>
                    <a:lnTo>
                      <a:pt x="15832" y="9833"/>
                    </a:lnTo>
                    <a:lnTo>
                      <a:pt x="15877" y="9593"/>
                    </a:lnTo>
                    <a:lnTo>
                      <a:pt x="15877" y="9353"/>
                    </a:lnTo>
                    <a:lnTo>
                      <a:pt x="15832" y="9161"/>
                    </a:lnTo>
                    <a:lnTo>
                      <a:pt x="15788" y="8921"/>
                    </a:lnTo>
                    <a:lnTo>
                      <a:pt x="15788" y="8729"/>
                    </a:lnTo>
                    <a:lnTo>
                      <a:pt x="15654" y="8538"/>
                    </a:lnTo>
                    <a:lnTo>
                      <a:pt x="15565" y="8346"/>
                    </a:lnTo>
                    <a:lnTo>
                      <a:pt x="15654" y="8154"/>
                    </a:lnTo>
                    <a:lnTo>
                      <a:pt x="15743" y="7962"/>
                    </a:lnTo>
                    <a:lnTo>
                      <a:pt x="15788" y="7770"/>
                    </a:lnTo>
                    <a:lnTo>
                      <a:pt x="15743" y="7387"/>
                    </a:lnTo>
                    <a:lnTo>
                      <a:pt x="15743" y="7195"/>
                    </a:lnTo>
                    <a:lnTo>
                      <a:pt x="15699" y="6954"/>
                    </a:lnTo>
                    <a:lnTo>
                      <a:pt x="15521" y="6810"/>
                    </a:lnTo>
                    <a:lnTo>
                      <a:pt x="15299" y="6906"/>
                    </a:lnTo>
                    <a:lnTo>
                      <a:pt x="15121" y="7002"/>
                    </a:lnTo>
                    <a:lnTo>
                      <a:pt x="14943" y="7002"/>
                    </a:lnTo>
                    <a:lnTo>
                      <a:pt x="14765" y="6906"/>
                    </a:lnTo>
                    <a:lnTo>
                      <a:pt x="14587" y="6810"/>
                    </a:lnTo>
                    <a:lnTo>
                      <a:pt x="14409" y="6954"/>
                    </a:lnTo>
                    <a:lnTo>
                      <a:pt x="14276" y="7146"/>
                    </a:lnTo>
                    <a:lnTo>
                      <a:pt x="14098" y="7195"/>
                    </a:lnTo>
                    <a:lnTo>
                      <a:pt x="13876" y="7098"/>
                    </a:lnTo>
                    <a:lnTo>
                      <a:pt x="13698" y="7050"/>
                    </a:lnTo>
                    <a:lnTo>
                      <a:pt x="13520" y="7243"/>
                    </a:lnTo>
                    <a:lnTo>
                      <a:pt x="13431" y="7434"/>
                    </a:lnTo>
                    <a:lnTo>
                      <a:pt x="13342" y="7626"/>
                    </a:lnTo>
                    <a:lnTo>
                      <a:pt x="13253" y="7818"/>
                    </a:lnTo>
                    <a:lnTo>
                      <a:pt x="13208" y="8010"/>
                    </a:lnTo>
                    <a:lnTo>
                      <a:pt x="12986" y="8010"/>
                    </a:lnTo>
                    <a:lnTo>
                      <a:pt x="12808" y="8010"/>
                    </a:lnTo>
                    <a:lnTo>
                      <a:pt x="12764" y="7818"/>
                    </a:lnTo>
                    <a:lnTo>
                      <a:pt x="12808" y="7626"/>
                    </a:lnTo>
                    <a:lnTo>
                      <a:pt x="12808" y="7434"/>
                    </a:lnTo>
                    <a:lnTo>
                      <a:pt x="12630" y="7387"/>
                    </a:lnTo>
                    <a:lnTo>
                      <a:pt x="12452" y="7339"/>
                    </a:lnTo>
                    <a:lnTo>
                      <a:pt x="12408" y="7098"/>
                    </a:lnTo>
                    <a:lnTo>
                      <a:pt x="12452" y="6906"/>
                    </a:lnTo>
                    <a:lnTo>
                      <a:pt x="12452" y="6666"/>
                    </a:lnTo>
                    <a:lnTo>
                      <a:pt x="12452" y="6474"/>
                    </a:lnTo>
                    <a:lnTo>
                      <a:pt x="12497" y="6282"/>
                    </a:lnTo>
                    <a:lnTo>
                      <a:pt x="12497" y="6091"/>
                    </a:lnTo>
                    <a:lnTo>
                      <a:pt x="12319" y="5995"/>
                    </a:lnTo>
                    <a:lnTo>
                      <a:pt x="12141" y="5899"/>
                    </a:lnTo>
                    <a:lnTo>
                      <a:pt x="11919" y="5899"/>
                    </a:lnTo>
                    <a:lnTo>
                      <a:pt x="11741" y="5899"/>
                    </a:lnTo>
                    <a:lnTo>
                      <a:pt x="11563" y="5755"/>
                    </a:lnTo>
                    <a:lnTo>
                      <a:pt x="11385" y="5707"/>
                    </a:lnTo>
                    <a:lnTo>
                      <a:pt x="11118" y="5707"/>
                    </a:lnTo>
                    <a:lnTo>
                      <a:pt x="10984" y="5899"/>
                    </a:lnTo>
                    <a:lnTo>
                      <a:pt x="10806" y="6091"/>
                    </a:lnTo>
                    <a:lnTo>
                      <a:pt x="10806" y="6282"/>
                    </a:lnTo>
                    <a:lnTo>
                      <a:pt x="10806" y="6474"/>
                    </a:lnTo>
                    <a:lnTo>
                      <a:pt x="10628" y="6666"/>
                    </a:lnTo>
                    <a:lnTo>
                      <a:pt x="10584" y="6858"/>
                    </a:lnTo>
                    <a:lnTo>
                      <a:pt x="10406" y="6906"/>
                    </a:lnTo>
                    <a:lnTo>
                      <a:pt x="10228" y="6858"/>
                    </a:lnTo>
                    <a:lnTo>
                      <a:pt x="10050" y="6954"/>
                    </a:lnTo>
                    <a:lnTo>
                      <a:pt x="9872" y="7050"/>
                    </a:lnTo>
                    <a:lnTo>
                      <a:pt x="9828" y="7291"/>
                    </a:lnTo>
                    <a:lnTo>
                      <a:pt x="9872" y="7482"/>
                    </a:lnTo>
                    <a:lnTo>
                      <a:pt x="9872" y="7674"/>
                    </a:lnTo>
                    <a:lnTo>
                      <a:pt x="9783" y="7866"/>
                    </a:lnTo>
                    <a:lnTo>
                      <a:pt x="9650" y="8058"/>
                    </a:lnTo>
                    <a:lnTo>
                      <a:pt x="9605" y="8250"/>
                    </a:lnTo>
                    <a:lnTo>
                      <a:pt x="9561" y="8442"/>
                    </a:lnTo>
                    <a:lnTo>
                      <a:pt x="9561" y="8634"/>
                    </a:lnTo>
                    <a:lnTo>
                      <a:pt x="9516" y="8825"/>
                    </a:lnTo>
                    <a:lnTo>
                      <a:pt x="9383" y="9017"/>
                    </a:lnTo>
                    <a:lnTo>
                      <a:pt x="9205" y="9209"/>
                    </a:lnTo>
                    <a:lnTo>
                      <a:pt x="9027" y="9209"/>
                    </a:lnTo>
                    <a:lnTo>
                      <a:pt x="8849" y="9161"/>
                    </a:lnTo>
                    <a:lnTo>
                      <a:pt x="8671" y="9257"/>
                    </a:lnTo>
                    <a:lnTo>
                      <a:pt x="8494" y="9449"/>
                    </a:lnTo>
                    <a:lnTo>
                      <a:pt x="8360" y="9689"/>
                    </a:lnTo>
                    <a:lnTo>
                      <a:pt x="8360" y="9881"/>
                    </a:lnTo>
                    <a:lnTo>
                      <a:pt x="8360" y="10072"/>
                    </a:lnTo>
                    <a:lnTo>
                      <a:pt x="8360" y="10264"/>
                    </a:lnTo>
                    <a:lnTo>
                      <a:pt x="8316" y="10456"/>
                    </a:lnTo>
                    <a:lnTo>
                      <a:pt x="8449" y="10648"/>
                    </a:lnTo>
                    <a:lnTo>
                      <a:pt x="8627" y="10792"/>
                    </a:lnTo>
                    <a:lnTo>
                      <a:pt x="8671" y="10984"/>
                    </a:lnTo>
                    <a:lnTo>
                      <a:pt x="8582" y="11175"/>
                    </a:lnTo>
                    <a:lnTo>
                      <a:pt x="8494" y="11415"/>
                    </a:lnTo>
                    <a:lnTo>
                      <a:pt x="8271" y="11511"/>
                    </a:lnTo>
                    <a:lnTo>
                      <a:pt x="8093" y="11511"/>
                    </a:lnTo>
                    <a:lnTo>
                      <a:pt x="7915" y="11655"/>
                    </a:lnTo>
                    <a:lnTo>
                      <a:pt x="7738" y="11655"/>
                    </a:lnTo>
                    <a:lnTo>
                      <a:pt x="7560" y="11655"/>
                    </a:lnTo>
                    <a:lnTo>
                      <a:pt x="7382" y="11559"/>
                    </a:lnTo>
                    <a:lnTo>
                      <a:pt x="7204" y="11559"/>
                    </a:lnTo>
                    <a:lnTo>
                      <a:pt x="7026" y="11655"/>
                    </a:lnTo>
                    <a:lnTo>
                      <a:pt x="6848" y="11415"/>
                    </a:lnTo>
                    <a:lnTo>
                      <a:pt x="6804" y="11223"/>
                    </a:lnTo>
                    <a:lnTo>
                      <a:pt x="6581" y="11223"/>
                    </a:lnTo>
                    <a:lnTo>
                      <a:pt x="6492" y="11032"/>
                    </a:lnTo>
                    <a:lnTo>
                      <a:pt x="6314" y="10888"/>
                    </a:lnTo>
                    <a:lnTo>
                      <a:pt x="6137" y="10744"/>
                    </a:lnTo>
                    <a:lnTo>
                      <a:pt x="5959" y="10744"/>
                    </a:lnTo>
                    <a:lnTo>
                      <a:pt x="5781" y="10696"/>
                    </a:lnTo>
                    <a:lnTo>
                      <a:pt x="5603" y="10648"/>
                    </a:lnTo>
                    <a:lnTo>
                      <a:pt x="5381" y="10840"/>
                    </a:lnTo>
                    <a:lnTo>
                      <a:pt x="5469" y="10648"/>
                    </a:lnTo>
                    <a:close/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5600" cy="959040"/>
              </a:xfrm>
              <a:custGeom>
                <a:avLst/>
                <a:gdLst/>
                <a:ahLst/>
                <a:rect l="0" t="0" r="r" b="b"/>
                <a:pathLst>
                  <a:path w="2960" h="2664">
                    <a:moveTo>
                      <a:pt x="591" y="0"/>
                    </a:moveTo>
                    <a:lnTo>
                      <a:pt x="680" y="192"/>
                    </a:lnTo>
                    <a:lnTo>
                      <a:pt x="739" y="320"/>
                    </a:lnTo>
                    <a:lnTo>
                      <a:pt x="739" y="449"/>
                    </a:lnTo>
                    <a:lnTo>
                      <a:pt x="739" y="577"/>
                    </a:lnTo>
                    <a:lnTo>
                      <a:pt x="770" y="705"/>
                    </a:lnTo>
                    <a:lnTo>
                      <a:pt x="799" y="834"/>
                    </a:lnTo>
                    <a:lnTo>
                      <a:pt x="888" y="994"/>
                    </a:lnTo>
                    <a:lnTo>
                      <a:pt x="888" y="1155"/>
                    </a:lnTo>
                    <a:lnTo>
                      <a:pt x="918" y="1283"/>
                    </a:lnTo>
                    <a:lnTo>
                      <a:pt x="947" y="1412"/>
                    </a:lnTo>
                    <a:lnTo>
                      <a:pt x="977" y="1541"/>
                    </a:lnTo>
                    <a:lnTo>
                      <a:pt x="977" y="1701"/>
                    </a:lnTo>
                    <a:lnTo>
                      <a:pt x="1007" y="1830"/>
                    </a:lnTo>
                    <a:lnTo>
                      <a:pt x="1007" y="1958"/>
                    </a:lnTo>
                    <a:lnTo>
                      <a:pt x="977" y="2086"/>
                    </a:lnTo>
                    <a:lnTo>
                      <a:pt x="1007" y="2215"/>
                    </a:lnTo>
                    <a:lnTo>
                      <a:pt x="888" y="2311"/>
                    </a:lnTo>
                    <a:lnTo>
                      <a:pt x="770" y="2183"/>
                    </a:lnTo>
                    <a:lnTo>
                      <a:pt x="710" y="2054"/>
                    </a:lnTo>
                    <a:lnTo>
                      <a:pt x="591" y="1926"/>
                    </a:lnTo>
                    <a:lnTo>
                      <a:pt x="473" y="1926"/>
                    </a:lnTo>
                    <a:lnTo>
                      <a:pt x="355" y="1926"/>
                    </a:lnTo>
                    <a:lnTo>
                      <a:pt x="236" y="1862"/>
                    </a:lnTo>
                    <a:lnTo>
                      <a:pt x="118" y="1798"/>
                    </a:lnTo>
                    <a:lnTo>
                      <a:pt x="0" y="1798"/>
                    </a:lnTo>
                    <a:lnTo>
                      <a:pt x="118" y="1862"/>
                    </a:lnTo>
                    <a:lnTo>
                      <a:pt x="236" y="1990"/>
                    </a:lnTo>
                    <a:lnTo>
                      <a:pt x="355" y="1990"/>
                    </a:lnTo>
                    <a:lnTo>
                      <a:pt x="473" y="2022"/>
                    </a:lnTo>
                    <a:lnTo>
                      <a:pt x="591" y="2022"/>
                    </a:lnTo>
                    <a:lnTo>
                      <a:pt x="650" y="2151"/>
                    </a:lnTo>
                    <a:lnTo>
                      <a:pt x="739" y="2279"/>
                    </a:lnTo>
                    <a:lnTo>
                      <a:pt x="799" y="2407"/>
                    </a:lnTo>
                    <a:lnTo>
                      <a:pt x="918" y="2407"/>
                    </a:lnTo>
                    <a:lnTo>
                      <a:pt x="1036" y="2343"/>
                    </a:lnTo>
                    <a:lnTo>
                      <a:pt x="1154" y="2311"/>
                    </a:lnTo>
                    <a:lnTo>
                      <a:pt x="1273" y="2407"/>
                    </a:lnTo>
                    <a:lnTo>
                      <a:pt x="1391" y="2471"/>
                    </a:lnTo>
                    <a:lnTo>
                      <a:pt x="1510" y="2568"/>
                    </a:lnTo>
                    <a:lnTo>
                      <a:pt x="1628" y="2632"/>
                    </a:lnTo>
                    <a:lnTo>
                      <a:pt x="1746" y="2632"/>
                    </a:lnTo>
                    <a:lnTo>
                      <a:pt x="1894" y="2632"/>
                    </a:lnTo>
                    <a:lnTo>
                      <a:pt x="2131" y="2664"/>
                    </a:lnTo>
                    <a:lnTo>
                      <a:pt x="2250" y="2664"/>
                    </a:lnTo>
                    <a:lnTo>
                      <a:pt x="2398" y="2600"/>
                    </a:lnTo>
                    <a:lnTo>
                      <a:pt x="2517" y="2600"/>
                    </a:lnTo>
                    <a:lnTo>
                      <a:pt x="2665" y="2568"/>
                    </a:lnTo>
                    <a:lnTo>
                      <a:pt x="2812" y="2536"/>
                    </a:lnTo>
                    <a:lnTo>
                      <a:pt x="2960" y="2504"/>
                    </a:lnTo>
                    <a:lnTo>
                      <a:pt x="2783" y="2504"/>
                    </a:lnTo>
                    <a:lnTo>
                      <a:pt x="2665" y="2504"/>
                    </a:lnTo>
                    <a:lnTo>
                      <a:pt x="2487" y="2536"/>
                    </a:lnTo>
                    <a:lnTo>
                      <a:pt x="2369" y="2536"/>
                    </a:lnTo>
                    <a:lnTo>
                      <a:pt x="2250" y="2536"/>
                    </a:lnTo>
                    <a:lnTo>
                      <a:pt x="2131" y="2536"/>
                    </a:lnTo>
                    <a:lnTo>
                      <a:pt x="2013" y="2536"/>
                    </a:lnTo>
                    <a:lnTo>
                      <a:pt x="1894" y="2536"/>
                    </a:lnTo>
                    <a:lnTo>
                      <a:pt x="1776" y="2536"/>
                    </a:lnTo>
                    <a:lnTo>
                      <a:pt x="1657" y="2504"/>
                    </a:lnTo>
                    <a:lnTo>
                      <a:pt x="1539" y="2407"/>
                    </a:lnTo>
                    <a:lnTo>
                      <a:pt x="1421" y="2311"/>
                    </a:lnTo>
                    <a:lnTo>
                      <a:pt x="1302" y="2311"/>
                    </a:lnTo>
                    <a:lnTo>
                      <a:pt x="1184" y="2247"/>
                    </a:lnTo>
                    <a:lnTo>
                      <a:pt x="1095" y="2118"/>
                    </a:lnTo>
                    <a:lnTo>
                      <a:pt x="1125" y="1990"/>
                    </a:lnTo>
                    <a:lnTo>
                      <a:pt x="1125" y="1862"/>
                    </a:lnTo>
                    <a:lnTo>
                      <a:pt x="1125" y="1733"/>
                    </a:lnTo>
                    <a:lnTo>
                      <a:pt x="1125" y="1605"/>
                    </a:lnTo>
                    <a:lnTo>
                      <a:pt x="1095" y="1445"/>
                    </a:lnTo>
                    <a:lnTo>
                      <a:pt x="1095" y="1315"/>
                    </a:lnTo>
                    <a:lnTo>
                      <a:pt x="1066" y="1187"/>
                    </a:lnTo>
                    <a:lnTo>
                      <a:pt x="1007" y="1058"/>
                    </a:lnTo>
                    <a:lnTo>
                      <a:pt x="1007" y="930"/>
                    </a:lnTo>
                    <a:lnTo>
                      <a:pt x="977" y="770"/>
                    </a:lnTo>
                    <a:lnTo>
                      <a:pt x="888" y="641"/>
                    </a:lnTo>
                    <a:lnTo>
                      <a:pt x="710" y="609"/>
                    </a:lnTo>
                    <a:lnTo>
                      <a:pt x="621" y="481"/>
                    </a:lnTo>
                    <a:lnTo>
                      <a:pt x="710" y="352"/>
                    </a:lnTo>
                    <a:lnTo>
                      <a:pt x="710" y="224"/>
                    </a:lnTo>
                    <a:lnTo>
                      <a:pt x="621" y="96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2160" cy="4030920"/>
              </a:xfrm>
              <a:custGeom>
                <a:avLst/>
                <a:gdLst/>
                <a:ahLst/>
                <a:rect l="0" t="0" r="r" b="b"/>
                <a:pathLst>
                  <a:path w="5006" h="11197">
                    <a:moveTo>
                      <a:pt x="4798" y="0"/>
                    </a:moveTo>
                    <a:lnTo>
                      <a:pt x="4917" y="127"/>
                    </a:lnTo>
                    <a:lnTo>
                      <a:pt x="4976" y="255"/>
                    </a:lnTo>
                    <a:lnTo>
                      <a:pt x="4946" y="383"/>
                    </a:lnTo>
                    <a:lnTo>
                      <a:pt x="4887" y="511"/>
                    </a:lnTo>
                    <a:lnTo>
                      <a:pt x="4828" y="639"/>
                    </a:lnTo>
                    <a:lnTo>
                      <a:pt x="4798" y="799"/>
                    </a:lnTo>
                    <a:lnTo>
                      <a:pt x="4828" y="927"/>
                    </a:lnTo>
                    <a:lnTo>
                      <a:pt x="4769" y="1055"/>
                    </a:lnTo>
                    <a:lnTo>
                      <a:pt x="4650" y="1151"/>
                    </a:lnTo>
                    <a:lnTo>
                      <a:pt x="4650" y="1279"/>
                    </a:lnTo>
                    <a:lnTo>
                      <a:pt x="4650" y="1407"/>
                    </a:lnTo>
                    <a:lnTo>
                      <a:pt x="4472" y="1407"/>
                    </a:lnTo>
                    <a:lnTo>
                      <a:pt x="4502" y="1535"/>
                    </a:lnTo>
                    <a:lnTo>
                      <a:pt x="4502" y="1663"/>
                    </a:lnTo>
                    <a:lnTo>
                      <a:pt x="4561" y="1791"/>
                    </a:lnTo>
                    <a:lnTo>
                      <a:pt x="4621" y="1919"/>
                    </a:lnTo>
                    <a:lnTo>
                      <a:pt x="4709" y="2047"/>
                    </a:lnTo>
                    <a:lnTo>
                      <a:pt x="4739" y="2175"/>
                    </a:lnTo>
                    <a:lnTo>
                      <a:pt x="4739" y="2303"/>
                    </a:lnTo>
                    <a:lnTo>
                      <a:pt x="4739" y="2431"/>
                    </a:lnTo>
                    <a:lnTo>
                      <a:pt x="4650" y="2559"/>
                    </a:lnTo>
                    <a:lnTo>
                      <a:pt x="4650" y="2687"/>
                    </a:lnTo>
                    <a:lnTo>
                      <a:pt x="4650" y="2815"/>
                    </a:lnTo>
                    <a:lnTo>
                      <a:pt x="4621" y="2943"/>
                    </a:lnTo>
                    <a:lnTo>
                      <a:pt x="4621" y="3070"/>
                    </a:lnTo>
                    <a:lnTo>
                      <a:pt x="4591" y="3198"/>
                    </a:lnTo>
                    <a:lnTo>
                      <a:pt x="4532" y="3326"/>
                    </a:lnTo>
                    <a:lnTo>
                      <a:pt x="4502" y="3454"/>
                    </a:lnTo>
                    <a:lnTo>
                      <a:pt x="4324" y="3550"/>
                    </a:lnTo>
                    <a:lnTo>
                      <a:pt x="4206" y="3678"/>
                    </a:lnTo>
                    <a:lnTo>
                      <a:pt x="4176" y="3806"/>
                    </a:lnTo>
                    <a:lnTo>
                      <a:pt x="4147" y="3934"/>
                    </a:lnTo>
                    <a:lnTo>
                      <a:pt x="4087" y="4062"/>
                    </a:lnTo>
                    <a:lnTo>
                      <a:pt x="4058" y="4190"/>
                    </a:lnTo>
                    <a:lnTo>
                      <a:pt x="4028" y="4318"/>
                    </a:lnTo>
                    <a:lnTo>
                      <a:pt x="3999" y="4446"/>
                    </a:lnTo>
                    <a:lnTo>
                      <a:pt x="3880" y="4574"/>
                    </a:lnTo>
                    <a:lnTo>
                      <a:pt x="3851" y="4702"/>
                    </a:lnTo>
                    <a:lnTo>
                      <a:pt x="3791" y="4862"/>
                    </a:lnTo>
                    <a:lnTo>
                      <a:pt x="3762" y="4990"/>
                    </a:lnTo>
                    <a:lnTo>
                      <a:pt x="3702" y="5118"/>
                    </a:lnTo>
                    <a:lnTo>
                      <a:pt x="3643" y="5246"/>
                    </a:lnTo>
                    <a:lnTo>
                      <a:pt x="3584" y="5374"/>
                    </a:lnTo>
                    <a:lnTo>
                      <a:pt x="3495" y="5502"/>
                    </a:lnTo>
                    <a:lnTo>
                      <a:pt x="3406" y="5631"/>
                    </a:lnTo>
                    <a:lnTo>
                      <a:pt x="3288" y="5727"/>
                    </a:lnTo>
                    <a:lnTo>
                      <a:pt x="3169" y="5791"/>
                    </a:lnTo>
                    <a:lnTo>
                      <a:pt x="3051" y="5823"/>
                    </a:lnTo>
                    <a:lnTo>
                      <a:pt x="2932" y="5855"/>
                    </a:lnTo>
                    <a:lnTo>
                      <a:pt x="2814" y="5855"/>
                    </a:lnTo>
                    <a:lnTo>
                      <a:pt x="2696" y="5823"/>
                    </a:lnTo>
                    <a:lnTo>
                      <a:pt x="2577" y="5823"/>
                    </a:lnTo>
                    <a:lnTo>
                      <a:pt x="2458" y="5823"/>
                    </a:lnTo>
                    <a:lnTo>
                      <a:pt x="2339" y="5823"/>
                    </a:lnTo>
                    <a:lnTo>
                      <a:pt x="2221" y="5823"/>
                    </a:lnTo>
                    <a:lnTo>
                      <a:pt x="2102" y="5823"/>
                    </a:lnTo>
                    <a:lnTo>
                      <a:pt x="1984" y="5823"/>
                    </a:lnTo>
                    <a:lnTo>
                      <a:pt x="1865" y="5951"/>
                    </a:lnTo>
                    <a:lnTo>
                      <a:pt x="1747" y="6015"/>
                    </a:lnTo>
                    <a:lnTo>
                      <a:pt x="1658" y="5887"/>
                    </a:lnTo>
                    <a:lnTo>
                      <a:pt x="1569" y="5759"/>
                    </a:lnTo>
                    <a:lnTo>
                      <a:pt x="1480" y="5631"/>
                    </a:lnTo>
                    <a:lnTo>
                      <a:pt x="1391" y="5502"/>
                    </a:lnTo>
                    <a:lnTo>
                      <a:pt x="1273" y="5438"/>
                    </a:lnTo>
                    <a:lnTo>
                      <a:pt x="1155" y="5374"/>
                    </a:lnTo>
                    <a:lnTo>
                      <a:pt x="1036" y="5246"/>
                    </a:lnTo>
                    <a:lnTo>
                      <a:pt x="918" y="5182"/>
                    </a:lnTo>
                    <a:lnTo>
                      <a:pt x="799" y="5150"/>
                    </a:lnTo>
                    <a:lnTo>
                      <a:pt x="681" y="5150"/>
                    </a:lnTo>
                    <a:lnTo>
                      <a:pt x="562" y="5182"/>
                    </a:lnTo>
                    <a:lnTo>
                      <a:pt x="444" y="5182"/>
                    </a:lnTo>
                    <a:lnTo>
                      <a:pt x="325" y="5182"/>
                    </a:lnTo>
                    <a:lnTo>
                      <a:pt x="177" y="5150"/>
                    </a:lnTo>
                    <a:lnTo>
                      <a:pt x="59" y="5118"/>
                    </a:lnTo>
                    <a:lnTo>
                      <a:pt x="177" y="5214"/>
                    </a:lnTo>
                    <a:lnTo>
                      <a:pt x="325" y="5278"/>
                    </a:lnTo>
                    <a:lnTo>
                      <a:pt x="444" y="5278"/>
                    </a:lnTo>
                    <a:lnTo>
                      <a:pt x="473" y="5406"/>
                    </a:lnTo>
                    <a:lnTo>
                      <a:pt x="621" y="5470"/>
                    </a:lnTo>
                    <a:lnTo>
                      <a:pt x="740" y="5534"/>
                    </a:lnTo>
                    <a:lnTo>
                      <a:pt x="858" y="5599"/>
                    </a:lnTo>
                    <a:lnTo>
                      <a:pt x="977" y="5727"/>
                    </a:lnTo>
                    <a:lnTo>
                      <a:pt x="1036" y="5855"/>
                    </a:lnTo>
                    <a:lnTo>
                      <a:pt x="1184" y="5951"/>
                    </a:lnTo>
                    <a:lnTo>
                      <a:pt x="1303" y="5951"/>
                    </a:lnTo>
                    <a:lnTo>
                      <a:pt x="1421" y="6015"/>
                    </a:lnTo>
                    <a:lnTo>
                      <a:pt x="1540" y="6110"/>
                    </a:lnTo>
                    <a:lnTo>
                      <a:pt x="1628" y="6238"/>
                    </a:lnTo>
                    <a:lnTo>
                      <a:pt x="1658" y="6366"/>
                    </a:lnTo>
                    <a:lnTo>
                      <a:pt x="1628" y="6494"/>
                    </a:lnTo>
                    <a:lnTo>
                      <a:pt x="1569" y="6750"/>
                    </a:lnTo>
                    <a:lnTo>
                      <a:pt x="1569" y="6878"/>
                    </a:lnTo>
                    <a:lnTo>
                      <a:pt x="1569" y="7198"/>
                    </a:lnTo>
                    <a:lnTo>
                      <a:pt x="1569" y="7326"/>
                    </a:lnTo>
                    <a:lnTo>
                      <a:pt x="1540" y="7454"/>
                    </a:lnTo>
                    <a:lnTo>
                      <a:pt x="1421" y="7582"/>
                    </a:lnTo>
                    <a:lnTo>
                      <a:pt x="1362" y="7710"/>
                    </a:lnTo>
                    <a:lnTo>
                      <a:pt x="1362" y="7870"/>
                    </a:lnTo>
                    <a:lnTo>
                      <a:pt x="1303" y="8030"/>
                    </a:lnTo>
                    <a:lnTo>
                      <a:pt x="1214" y="8190"/>
                    </a:lnTo>
                    <a:lnTo>
                      <a:pt x="1155" y="8318"/>
                    </a:lnTo>
                    <a:lnTo>
                      <a:pt x="1125" y="8446"/>
                    </a:lnTo>
                    <a:lnTo>
                      <a:pt x="1036" y="8606"/>
                    </a:lnTo>
                    <a:lnTo>
                      <a:pt x="947" y="8766"/>
                    </a:lnTo>
                    <a:lnTo>
                      <a:pt x="858" y="8926"/>
                    </a:lnTo>
                    <a:lnTo>
                      <a:pt x="770" y="9053"/>
                    </a:lnTo>
                    <a:lnTo>
                      <a:pt x="740" y="9181"/>
                    </a:lnTo>
                    <a:lnTo>
                      <a:pt x="710" y="9309"/>
                    </a:lnTo>
                    <a:lnTo>
                      <a:pt x="681" y="9469"/>
                    </a:lnTo>
                    <a:lnTo>
                      <a:pt x="651" y="9629"/>
                    </a:lnTo>
                    <a:lnTo>
                      <a:pt x="592" y="9757"/>
                    </a:lnTo>
                    <a:lnTo>
                      <a:pt x="533" y="9885"/>
                    </a:lnTo>
                    <a:lnTo>
                      <a:pt x="473" y="10013"/>
                    </a:lnTo>
                    <a:lnTo>
                      <a:pt x="385" y="10141"/>
                    </a:lnTo>
                    <a:lnTo>
                      <a:pt x="296" y="10269"/>
                    </a:lnTo>
                    <a:lnTo>
                      <a:pt x="266" y="10397"/>
                    </a:lnTo>
                    <a:lnTo>
                      <a:pt x="207" y="10525"/>
                    </a:lnTo>
                    <a:lnTo>
                      <a:pt x="177" y="10653"/>
                    </a:lnTo>
                    <a:lnTo>
                      <a:pt x="118" y="10813"/>
                    </a:lnTo>
                    <a:lnTo>
                      <a:pt x="88" y="10941"/>
                    </a:lnTo>
                    <a:lnTo>
                      <a:pt x="59" y="11069"/>
                    </a:lnTo>
                    <a:lnTo>
                      <a:pt x="0" y="11197"/>
                    </a:lnTo>
                    <a:lnTo>
                      <a:pt x="88" y="11069"/>
                    </a:lnTo>
                    <a:lnTo>
                      <a:pt x="148" y="10941"/>
                    </a:lnTo>
                    <a:lnTo>
                      <a:pt x="236" y="10781"/>
                    </a:lnTo>
                    <a:lnTo>
                      <a:pt x="296" y="10653"/>
                    </a:lnTo>
                    <a:lnTo>
                      <a:pt x="355" y="10525"/>
                    </a:lnTo>
                    <a:lnTo>
                      <a:pt x="414" y="10397"/>
                    </a:lnTo>
                    <a:lnTo>
                      <a:pt x="473" y="10269"/>
                    </a:lnTo>
                    <a:lnTo>
                      <a:pt x="562" y="10141"/>
                    </a:lnTo>
                    <a:lnTo>
                      <a:pt x="651" y="10013"/>
                    </a:lnTo>
                    <a:lnTo>
                      <a:pt x="740" y="9885"/>
                    </a:lnTo>
                    <a:lnTo>
                      <a:pt x="770" y="9757"/>
                    </a:lnTo>
                    <a:lnTo>
                      <a:pt x="829" y="9597"/>
                    </a:lnTo>
                    <a:lnTo>
                      <a:pt x="888" y="9469"/>
                    </a:lnTo>
                    <a:lnTo>
                      <a:pt x="947" y="9341"/>
                    </a:lnTo>
                    <a:lnTo>
                      <a:pt x="977" y="9085"/>
                    </a:lnTo>
                    <a:lnTo>
                      <a:pt x="1036" y="8958"/>
                    </a:lnTo>
                    <a:lnTo>
                      <a:pt x="1066" y="8830"/>
                    </a:lnTo>
                    <a:lnTo>
                      <a:pt x="1184" y="8702"/>
                    </a:lnTo>
                    <a:lnTo>
                      <a:pt x="1303" y="8606"/>
                    </a:lnTo>
                    <a:lnTo>
                      <a:pt x="1362" y="8478"/>
                    </a:lnTo>
                    <a:lnTo>
                      <a:pt x="1391" y="8318"/>
                    </a:lnTo>
                    <a:lnTo>
                      <a:pt x="1451" y="8190"/>
                    </a:lnTo>
                    <a:lnTo>
                      <a:pt x="1569" y="8062"/>
                    </a:lnTo>
                    <a:lnTo>
                      <a:pt x="1688" y="7902"/>
                    </a:lnTo>
                    <a:lnTo>
                      <a:pt x="1776" y="7774"/>
                    </a:lnTo>
                    <a:lnTo>
                      <a:pt x="1836" y="7646"/>
                    </a:lnTo>
                    <a:lnTo>
                      <a:pt x="1865" y="7518"/>
                    </a:lnTo>
                    <a:lnTo>
                      <a:pt x="1895" y="7358"/>
                    </a:lnTo>
                    <a:lnTo>
                      <a:pt x="1895" y="7230"/>
                    </a:lnTo>
                    <a:lnTo>
                      <a:pt x="1895" y="7102"/>
                    </a:lnTo>
                    <a:lnTo>
                      <a:pt x="1865" y="6974"/>
                    </a:lnTo>
                    <a:lnTo>
                      <a:pt x="1865" y="6846"/>
                    </a:lnTo>
                    <a:lnTo>
                      <a:pt x="1865" y="6718"/>
                    </a:lnTo>
                    <a:lnTo>
                      <a:pt x="1865" y="6590"/>
                    </a:lnTo>
                    <a:lnTo>
                      <a:pt x="1954" y="6462"/>
                    </a:lnTo>
                    <a:lnTo>
                      <a:pt x="2073" y="6430"/>
                    </a:lnTo>
                    <a:lnTo>
                      <a:pt x="2191" y="6366"/>
                    </a:lnTo>
                    <a:lnTo>
                      <a:pt x="2310" y="6334"/>
                    </a:lnTo>
                    <a:lnTo>
                      <a:pt x="2577" y="6302"/>
                    </a:lnTo>
                    <a:lnTo>
                      <a:pt x="2725" y="6238"/>
                    </a:lnTo>
                    <a:lnTo>
                      <a:pt x="2873" y="6206"/>
                    </a:lnTo>
                    <a:lnTo>
                      <a:pt x="2992" y="6142"/>
                    </a:lnTo>
                    <a:lnTo>
                      <a:pt x="3169" y="6142"/>
                    </a:lnTo>
                    <a:lnTo>
                      <a:pt x="3377" y="6078"/>
                    </a:lnTo>
                    <a:lnTo>
                      <a:pt x="3495" y="6015"/>
                    </a:lnTo>
                    <a:lnTo>
                      <a:pt x="3614" y="5951"/>
                    </a:lnTo>
                    <a:lnTo>
                      <a:pt x="3732" y="5823"/>
                    </a:lnTo>
                    <a:lnTo>
                      <a:pt x="3762" y="5663"/>
                    </a:lnTo>
                    <a:lnTo>
                      <a:pt x="3821" y="5534"/>
                    </a:lnTo>
                    <a:lnTo>
                      <a:pt x="3821" y="5342"/>
                    </a:lnTo>
                    <a:lnTo>
                      <a:pt x="3880" y="5118"/>
                    </a:lnTo>
                    <a:lnTo>
                      <a:pt x="3939" y="4862"/>
                    </a:lnTo>
                    <a:lnTo>
                      <a:pt x="3999" y="4734"/>
                    </a:lnTo>
                    <a:lnTo>
                      <a:pt x="4176" y="4670"/>
                    </a:lnTo>
                    <a:lnTo>
                      <a:pt x="4295" y="4574"/>
                    </a:lnTo>
                    <a:lnTo>
                      <a:pt x="4413" y="4446"/>
                    </a:lnTo>
                    <a:lnTo>
                      <a:pt x="4472" y="4318"/>
                    </a:lnTo>
                    <a:lnTo>
                      <a:pt x="4502" y="4190"/>
                    </a:lnTo>
                    <a:lnTo>
                      <a:pt x="4561" y="4030"/>
                    </a:lnTo>
                    <a:lnTo>
                      <a:pt x="4591" y="3902"/>
                    </a:lnTo>
                    <a:lnTo>
                      <a:pt x="4621" y="3774"/>
                    </a:lnTo>
                    <a:lnTo>
                      <a:pt x="4650" y="3614"/>
                    </a:lnTo>
                    <a:lnTo>
                      <a:pt x="4680" y="3486"/>
                    </a:lnTo>
                    <a:lnTo>
                      <a:pt x="4739" y="3358"/>
                    </a:lnTo>
                    <a:lnTo>
                      <a:pt x="4798" y="3230"/>
                    </a:lnTo>
                    <a:lnTo>
                      <a:pt x="4828" y="3102"/>
                    </a:lnTo>
                    <a:lnTo>
                      <a:pt x="4887" y="2975"/>
                    </a:lnTo>
                    <a:lnTo>
                      <a:pt x="4887" y="2847"/>
                    </a:lnTo>
                    <a:lnTo>
                      <a:pt x="4917" y="2719"/>
                    </a:lnTo>
                    <a:lnTo>
                      <a:pt x="4917" y="2591"/>
                    </a:lnTo>
                    <a:lnTo>
                      <a:pt x="4917" y="2431"/>
                    </a:lnTo>
                    <a:lnTo>
                      <a:pt x="4887" y="2303"/>
                    </a:lnTo>
                    <a:lnTo>
                      <a:pt x="4887" y="2175"/>
                    </a:lnTo>
                    <a:lnTo>
                      <a:pt x="4857" y="2047"/>
                    </a:lnTo>
                    <a:lnTo>
                      <a:pt x="4798" y="1919"/>
                    </a:lnTo>
                    <a:lnTo>
                      <a:pt x="4769" y="1791"/>
                    </a:lnTo>
                    <a:lnTo>
                      <a:pt x="4769" y="1663"/>
                    </a:lnTo>
                    <a:lnTo>
                      <a:pt x="4769" y="1535"/>
                    </a:lnTo>
                    <a:lnTo>
                      <a:pt x="4769" y="1407"/>
                    </a:lnTo>
                    <a:lnTo>
                      <a:pt x="4769" y="1279"/>
                    </a:lnTo>
                    <a:lnTo>
                      <a:pt x="4798" y="1151"/>
                    </a:lnTo>
                    <a:lnTo>
                      <a:pt x="4828" y="1023"/>
                    </a:lnTo>
                    <a:lnTo>
                      <a:pt x="4887" y="895"/>
                    </a:lnTo>
                    <a:lnTo>
                      <a:pt x="4976" y="735"/>
                    </a:lnTo>
                    <a:lnTo>
                      <a:pt x="5006" y="607"/>
                    </a:lnTo>
                    <a:lnTo>
                      <a:pt x="5006" y="479"/>
                    </a:lnTo>
                    <a:lnTo>
                      <a:pt x="4976" y="351"/>
                    </a:lnTo>
                    <a:lnTo>
                      <a:pt x="4946" y="223"/>
                    </a:lnTo>
                    <a:lnTo>
                      <a:pt x="4798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38840" cy="668520"/>
              </a:xfrm>
              <a:custGeom>
                <a:avLst/>
                <a:gdLst/>
                <a:ahLst/>
                <a:rect l="0" t="0" r="r" b="b"/>
                <a:pathLst>
                  <a:path w="8719" h="1857">
                    <a:moveTo>
                      <a:pt x="177" y="320"/>
                    </a:moveTo>
                    <a:lnTo>
                      <a:pt x="385" y="288"/>
                    </a:lnTo>
                    <a:lnTo>
                      <a:pt x="563" y="256"/>
                    </a:lnTo>
                    <a:lnTo>
                      <a:pt x="741" y="224"/>
                    </a:lnTo>
                    <a:lnTo>
                      <a:pt x="859" y="224"/>
                    </a:lnTo>
                    <a:lnTo>
                      <a:pt x="978" y="192"/>
                    </a:lnTo>
                    <a:lnTo>
                      <a:pt x="1097" y="128"/>
                    </a:lnTo>
                    <a:lnTo>
                      <a:pt x="1215" y="128"/>
                    </a:lnTo>
                    <a:lnTo>
                      <a:pt x="1364" y="96"/>
                    </a:lnTo>
                    <a:lnTo>
                      <a:pt x="1630" y="32"/>
                    </a:lnTo>
                    <a:lnTo>
                      <a:pt x="1779" y="32"/>
                    </a:lnTo>
                    <a:lnTo>
                      <a:pt x="1986" y="0"/>
                    </a:lnTo>
                    <a:lnTo>
                      <a:pt x="2105" y="0"/>
                    </a:lnTo>
                    <a:lnTo>
                      <a:pt x="2223" y="0"/>
                    </a:lnTo>
                    <a:lnTo>
                      <a:pt x="2342" y="96"/>
                    </a:lnTo>
                    <a:lnTo>
                      <a:pt x="2461" y="96"/>
                    </a:lnTo>
                    <a:lnTo>
                      <a:pt x="2579" y="160"/>
                    </a:lnTo>
                    <a:lnTo>
                      <a:pt x="2787" y="224"/>
                    </a:lnTo>
                    <a:lnTo>
                      <a:pt x="2935" y="288"/>
                    </a:lnTo>
                    <a:lnTo>
                      <a:pt x="3054" y="352"/>
                    </a:lnTo>
                    <a:lnTo>
                      <a:pt x="3172" y="352"/>
                    </a:lnTo>
                    <a:lnTo>
                      <a:pt x="3291" y="384"/>
                    </a:lnTo>
                    <a:lnTo>
                      <a:pt x="3410" y="384"/>
                    </a:lnTo>
                    <a:lnTo>
                      <a:pt x="3528" y="416"/>
                    </a:lnTo>
                    <a:lnTo>
                      <a:pt x="3676" y="480"/>
                    </a:lnTo>
                    <a:lnTo>
                      <a:pt x="3825" y="576"/>
                    </a:lnTo>
                    <a:lnTo>
                      <a:pt x="3943" y="608"/>
                    </a:lnTo>
                    <a:lnTo>
                      <a:pt x="4062" y="608"/>
                    </a:lnTo>
                    <a:lnTo>
                      <a:pt x="4210" y="608"/>
                    </a:lnTo>
                    <a:lnTo>
                      <a:pt x="4329" y="640"/>
                    </a:lnTo>
                    <a:lnTo>
                      <a:pt x="4448" y="640"/>
                    </a:lnTo>
                    <a:lnTo>
                      <a:pt x="4567" y="736"/>
                    </a:lnTo>
                    <a:lnTo>
                      <a:pt x="4804" y="832"/>
                    </a:lnTo>
                    <a:lnTo>
                      <a:pt x="5071" y="832"/>
                    </a:lnTo>
                    <a:lnTo>
                      <a:pt x="5190" y="832"/>
                    </a:lnTo>
                    <a:lnTo>
                      <a:pt x="5427" y="864"/>
                    </a:lnTo>
                    <a:lnTo>
                      <a:pt x="5546" y="928"/>
                    </a:lnTo>
                    <a:lnTo>
                      <a:pt x="5694" y="993"/>
                    </a:lnTo>
                    <a:lnTo>
                      <a:pt x="5813" y="1057"/>
                    </a:lnTo>
                    <a:lnTo>
                      <a:pt x="5961" y="1121"/>
                    </a:lnTo>
                    <a:lnTo>
                      <a:pt x="6109" y="1121"/>
                    </a:lnTo>
                    <a:lnTo>
                      <a:pt x="6317" y="1153"/>
                    </a:lnTo>
                    <a:lnTo>
                      <a:pt x="6435" y="1185"/>
                    </a:lnTo>
                    <a:lnTo>
                      <a:pt x="6583" y="1217"/>
                    </a:lnTo>
                    <a:lnTo>
                      <a:pt x="6761" y="1249"/>
                    </a:lnTo>
                    <a:lnTo>
                      <a:pt x="6969" y="1281"/>
                    </a:lnTo>
                    <a:lnTo>
                      <a:pt x="7088" y="1281"/>
                    </a:lnTo>
                    <a:lnTo>
                      <a:pt x="7206" y="1345"/>
                    </a:lnTo>
                    <a:lnTo>
                      <a:pt x="7354" y="1377"/>
                    </a:lnTo>
                    <a:lnTo>
                      <a:pt x="7473" y="1441"/>
                    </a:lnTo>
                    <a:lnTo>
                      <a:pt x="7592" y="1505"/>
                    </a:lnTo>
                    <a:lnTo>
                      <a:pt x="7710" y="1569"/>
                    </a:lnTo>
                    <a:lnTo>
                      <a:pt x="7859" y="1697"/>
                    </a:lnTo>
                    <a:lnTo>
                      <a:pt x="7977" y="1729"/>
                    </a:lnTo>
                    <a:lnTo>
                      <a:pt x="8125" y="1729"/>
                    </a:lnTo>
                    <a:lnTo>
                      <a:pt x="8244" y="1729"/>
                    </a:lnTo>
                    <a:lnTo>
                      <a:pt x="8481" y="1729"/>
                    </a:lnTo>
                    <a:lnTo>
                      <a:pt x="8600" y="1761"/>
                    </a:lnTo>
                    <a:lnTo>
                      <a:pt x="8719" y="1793"/>
                    </a:lnTo>
                    <a:lnTo>
                      <a:pt x="8600" y="1825"/>
                    </a:lnTo>
                    <a:lnTo>
                      <a:pt x="8481" y="1857"/>
                    </a:lnTo>
                    <a:lnTo>
                      <a:pt x="8303" y="1857"/>
                    </a:lnTo>
                    <a:lnTo>
                      <a:pt x="8185" y="1857"/>
                    </a:lnTo>
                    <a:lnTo>
                      <a:pt x="8066" y="1825"/>
                    </a:lnTo>
                    <a:lnTo>
                      <a:pt x="7948" y="1825"/>
                    </a:lnTo>
                    <a:lnTo>
                      <a:pt x="7829" y="1825"/>
                    </a:lnTo>
                    <a:lnTo>
                      <a:pt x="7681" y="1729"/>
                    </a:lnTo>
                    <a:lnTo>
                      <a:pt x="7592" y="1601"/>
                    </a:lnTo>
                    <a:lnTo>
                      <a:pt x="7473" y="1569"/>
                    </a:lnTo>
                    <a:lnTo>
                      <a:pt x="7325" y="1505"/>
                    </a:lnTo>
                    <a:lnTo>
                      <a:pt x="7177" y="1441"/>
                    </a:lnTo>
                    <a:lnTo>
                      <a:pt x="7028" y="1409"/>
                    </a:lnTo>
                    <a:lnTo>
                      <a:pt x="6880" y="1377"/>
                    </a:lnTo>
                    <a:lnTo>
                      <a:pt x="6761" y="1345"/>
                    </a:lnTo>
                    <a:lnTo>
                      <a:pt x="6643" y="1313"/>
                    </a:lnTo>
                    <a:lnTo>
                      <a:pt x="6524" y="1281"/>
                    </a:lnTo>
                    <a:lnTo>
                      <a:pt x="6317" y="1249"/>
                    </a:lnTo>
                    <a:lnTo>
                      <a:pt x="6198" y="1217"/>
                    </a:lnTo>
                    <a:lnTo>
                      <a:pt x="6079" y="1185"/>
                    </a:lnTo>
                    <a:lnTo>
                      <a:pt x="5961" y="1185"/>
                    </a:lnTo>
                    <a:lnTo>
                      <a:pt x="5842" y="1185"/>
                    </a:lnTo>
                    <a:lnTo>
                      <a:pt x="5724" y="1153"/>
                    </a:lnTo>
                    <a:lnTo>
                      <a:pt x="5575" y="1057"/>
                    </a:lnTo>
                    <a:lnTo>
                      <a:pt x="5427" y="961"/>
                    </a:lnTo>
                    <a:lnTo>
                      <a:pt x="5279" y="896"/>
                    </a:lnTo>
                    <a:lnTo>
                      <a:pt x="5160" y="864"/>
                    </a:lnTo>
                    <a:lnTo>
                      <a:pt x="5012" y="864"/>
                    </a:lnTo>
                    <a:lnTo>
                      <a:pt x="4893" y="896"/>
                    </a:lnTo>
                    <a:lnTo>
                      <a:pt x="4775" y="896"/>
                    </a:lnTo>
                    <a:lnTo>
                      <a:pt x="4656" y="896"/>
                    </a:lnTo>
                    <a:lnTo>
                      <a:pt x="4537" y="864"/>
                    </a:lnTo>
                    <a:lnTo>
                      <a:pt x="4419" y="800"/>
                    </a:lnTo>
                    <a:lnTo>
                      <a:pt x="4299" y="736"/>
                    </a:lnTo>
                    <a:lnTo>
                      <a:pt x="4181" y="672"/>
                    </a:lnTo>
                    <a:lnTo>
                      <a:pt x="3943" y="672"/>
                    </a:lnTo>
                    <a:lnTo>
                      <a:pt x="3825" y="672"/>
                    </a:lnTo>
                    <a:lnTo>
                      <a:pt x="3706" y="608"/>
                    </a:lnTo>
                    <a:lnTo>
                      <a:pt x="3588" y="512"/>
                    </a:lnTo>
                    <a:lnTo>
                      <a:pt x="3469" y="448"/>
                    </a:lnTo>
                    <a:lnTo>
                      <a:pt x="3350" y="448"/>
                    </a:lnTo>
                    <a:lnTo>
                      <a:pt x="3202" y="416"/>
                    </a:lnTo>
                    <a:lnTo>
                      <a:pt x="3083" y="352"/>
                    </a:lnTo>
                    <a:lnTo>
                      <a:pt x="2965" y="288"/>
                    </a:lnTo>
                    <a:lnTo>
                      <a:pt x="2846" y="256"/>
                    </a:lnTo>
                    <a:lnTo>
                      <a:pt x="2698" y="224"/>
                    </a:lnTo>
                    <a:lnTo>
                      <a:pt x="2579" y="192"/>
                    </a:lnTo>
                    <a:lnTo>
                      <a:pt x="2461" y="160"/>
                    </a:lnTo>
                    <a:lnTo>
                      <a:pt x="2342" y="128"/>
                    </a:lnTo>
                    <a:lnTo>
                      <a:pt x="2194" y="96"/>
                    </a:lnTo>
                    <a:lnTo>
                      <a:pt x="2046" y="64"/>
                    </a:lnTo>
                    <a:lnTo>
                      <a:pt x="1897" y="64"/>
                    </a:lnTo>
                    <a:lnTo>
                      <a:pt x="1660" y="64"/>
                    </a:lnTo>
                    <a:lnTo>
                      <a:pt x="1512" y="64"/>
                    </a:lnTo>
                    <a:lnTo>
                      <a:pt x="1393" y="64"/>
                    </a:lnTo>
                    <a:lnTo>
                      <a:pt x="1275" y="128"/>
                    </a:lnTo>
                    <a:lnTo>
                      <a:pt x="1156" y="160"/>
                    </a:lnTo>
                    <a:lnTo>
                      <a:pt x="1037" y="192"/>
                    </a:lnTo>
                    <a:lnTo>
                      <a:pt x="889" y="256"/>
                    </a:lnTo>
                    <a:lnTo>
                      <a:pt x="741" y="320"/>
                    </a:lnTo>
                    <a:lnTo>
                      <a:pt x="593" y="384"/>
                    </a:lnTo>
                    <a:lnTo>
                      <a:pt x="474" y="416"/>
                    </a:lnTo>
                    <a:lnTo>
                      <a:pt x="355" y="416"/>
                    </a:lnTo>
                    <a:lnTo>
                      <a:pt x="237" y="416"/>
                    </a:lnTo>
                    <a:lnTo>
                      <a:pt x="118" y="352"/>
                    </a:lnTo>
                    <a:lnTo>
                      <a:pt x="0" y="288"/>
                    </a:lnTo>
                    <a:lnTo>
                      <a:pt x="118" y="320"/>
                    </a:lnTo>
                    <a:lnTo>
                      <a:pt x="177" y="32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899080" cy="1395720"/>
              </a:xfrm>
              <a:custGeom>
                <a:avLst/>
                <a:gdLst/>
                <a:ahLst/>
                <a:rect l="0" t="0" r="r" b="b"/>
                <a:pathLst>
                  <a:path w="8053" h="3877">
                    <a:moveTo>
                      <a:pt x="0" y="3813"/>
                    </a:moveTo>
                    <a:lnTo>
                      <a:pt x="118" y="3813"/>
                    </a:lnTo>
                    <a:lnTo>
                      <a:pt x="296" y="3781"/>
                    </a:lnTo>
                    <a:lnTo>
                      <a:pt x="444" y="3749"/>
                    </a:lnTo>
                    <a:lnTo>
                      <a:pt x="562" y="3716"/>
                    </a:lnTo>
                    <a:lnTo>
                      <a:pt x="680" y="3588"/>
                    </a:lnTo>
                    <a:lnTo>
                      <a:pt x="947" y="3524"/>
                    </a:lnTo>
                    <a:lnTo>
                      <a:pt x="1154" y="3460"/>
                    </a:lnTo>
                    <a:lnTo>
                      <a:pt x="1272" y="3364"/>
                    </a:lnTo>
                    <a:lnTo>
                      <a:pt x="1420" y="3204"/>
                    </a:lnTo>
                    <a:lnTo>
                      <a:pt x="1539" y="3108"/>
                    </a:lnTo>
                    <a:lnTo>
                      <a:pt x="1657" y="3076"/>
                    </a:lnTo>
                    <a:lnTo>
                      <a:pt x="1776" y="3012"/>
                    </a:lnTo>
                    <a:lnTo>
                      <a:pt x="1894" y="2916"/>
                    </a:lnTo>
                    <a:lnTo>
                      <a:pt x="2042" y="2787"/>
                    </a:lnTo>
                    <a:lnTo>
                      <a:pt x="2190" y="2755"/>
                    </a:lnTo>
                    <a:lnTo>
                      <a:pt x="2368" y="2723"/>
                    </a:lnTo>
                    <a:lnTo>
                      <a:pt x="2545" y="2691"/>
                    </a:lnTo>
                    <a:lnTo>
                      <a:pt x="2723" y="2659"/>
                    </a:lnTo>
                    <a:lnTo>
                      <a:pt x="2871" y="2595"/>
                    </a:lnTo>
                    <a:lnTo>
                      <a:pt x="2989" y="2563"/>
                    </a:lnTo>
                    <a:lnTo>
                      <a:pt x="3108" y="2467"/>
                    </a:lnTo>
                    <a:lnTo>
                      <a:pt x="3226" y="2339"/>
                    </a:lnTo>
                    <a:lnTo>
                      <a:pt x="3374" y="2211"/>
                    </a:lnTo>
                    <a:lnTo>
                      <a:pt x="3493" y="2115"/>
                    </a:lnTo>
                    <a:lnTo>
                      <a:pt x="3700" y="2051"/>
                    </a:lnTo>
                    <a:lnTo>
                      <a:pt x="3789" y="1922"/>
                    </a:lnTo>
                    <a:lnTo>
                      <a:pt x="3907" y="1793"/>
                    </a:lnTo>
                    <a:lnTo>
                      <a:pt x="3966" y="1633"/>
                    </a:lnTo>
                    <a:lnTo>
                      <a:pt x="4027" y="1505"/>
                    </a:lnTo>
                    <a:lnTo>
                      <a:pt x="4115" y="1377"/>
                    </a:lnTo>
                    <a:lnTo>
                      <a:pt x="4263" y="1249"/>
                    </a:lnTo>
                    <a:lnTo>
                      <a:pt x="4411" y="1153"/>
                    </a:lnTo>
                    <a:lnTo>
                      <a:pt x="4530" y="1057"/>
                    </a:lnTo>
                    <a:lnTo>
                      <a:pt x="4678" y="961"/>
                    </a:lnTo>
                    <a:lnTo>
                      <a:pt x="4826" y="896"/>
                    </a:lnTo>
                    <a:lnTo>
                      <a:pt x="4944" y="832"/>
                    </a:lnTo>
                    <a:lnTo>
                      <a:pt x="5181" y="768"/>
                    </a:lnTo>
                    <a:lnTo>
                      <a:pt x="5300" y="800"/>
                    </a:lnTo>
                    <a:lnTo>
                      <a:pt x="5477" y="768"/>
                    </a:lnTo>
                    <a:lnTo>
                      <a:pt x="5744" y="736"/>
                    </a:lnTo>
                    <a:lnTo>
                      <a:pt x="5892" y="640"/>
                    </a:lnTo>
                    <a:lnTo>
                      <a:pt x="6010" y="576"/>
                    </a:lnTo>
                    <a:lnTo>
                      <a:pt x="6128" y="544"/>
                    </a:lnTo>
                    <a:lnTo>
                      <a:pt x="6247" y="512"/>
                    </a:lnTo>
                    <a:lnTo>
                      <a:pt x="6365" y="480"/>
                    </a:lnTo>
                    <a:lnTo>
                      <a:pt x="6484" y="448"/>
                    </a:lnTo>
                    <a:lnTo>
                      <a:pt x="6602" y="416"/>
                    </a:lnTo>
                    <a:lnTo>
                      <a:pt x="6720" y="416"/>
                    </a:lnTo>
                    <a:lnTo>
                      <a:pt x="6987" y="416"/>
                    </a:lnTo>
                    <a:lnTo>
                      <a:pt x="7105" y="384"/>
                    </a:lnTo>
                    <a:lnTo>
                      <a:pt x="7224" y="320"/>
                    </a:lnTo>
                    <a:lnTo>
                      <a:pt x="7372" y="256"/>
                    </a:lnTo>
                    <a:lnTo>
                      <a:pt x="7490" y="192"/>
                    </a:lnTo>
                    <a:lnTo>
                      <a:pt x="7638" y="160"/>
                    </a:lnTo>
                    <a:lnTo>
                      <a:pt x="7786" y="96"/>
                    </a:lnTo>
                    <a:lnTo>
                      <a:pt x="7934" y="64"/>
                    </a:lnTo>
                    <a:lnTo>
                      <a:pt x="8053" y="0"/>
                    </a:lnTo>
                    <a:lnTo>
                      <a:pt x="7905" y="0"/>
                    </a:lnTo>
                    <a:lnTo>
                      <a:pt x="7786" y="96"/>
                    </a:lnTo>
                    <a:lnTo>
                      <a:pt x="7638" y="224"/>
                    </a:lnTo>
                    <a:lnTo>
                      <a:pt x="7520" y="352"/>
                    </a:lnTo>
                    <a:lnTo>
                      <a:pt x="7401" y="448"/>
                    </a:lnTo>
                    <a:lnTo>
                      <a:pt x="7165" y="448"/>
                    </a:lnTo>
                    <a:lnTo>
                      <a:pt x="7046" y="480"/>
                    </a:lnTo>
                    <a:lnTo>
                      <a:pt x="6898" y="512"/>
                    </a:lnTo>
                    <a:lnTo>
                      <a:pt x="6750" y="576"/>
                    </a:lnTo>
                    <a:lnTo>
                      <a:pt x="6543" y="608"/>
                    </a:lnTo>
                    <a:lnTo>
                      <a:pt x="6424" y="640"/>
                    </a:lnTo>
                    <a:lnTo>
                      <a:pt x="6306" y="640"/>
                    </a:lnTo>
                    <a:lnTo>
                      <a:pt x="6158" y="704"/>
                    </a:lnTo>
                    <a:lnTo>
                      <a:pt x="6040" y="704"/>
                    </a:lnTo>
                    <a:lnTo>
                      <a:pt x="5862" y="736"/>
                    </a:lnTo>
                    <a:lnTo>
                      <a:pt x="5744" y="768"/>
                    </a:lnTo>
                    <a:lnTo>
                      <a:pt x="5625" y="832"/>
                    </a:lnTo>
                    <a:lnTo>
                      <a:pt x="5477" y="896"/>
                    </a:lnTo>
                    <a:lnTo>
                      <a:pt x="5329" y="961"/>
                    </a:lnTo>
                    <a:lnTo>
                      <a:pt x="5181" y="961"/>
                    </a:lnTo>
                    <a:lnTo>
                      <a:pt x="5063" y="993"/>
                    </a:lnTo>
                    <a:lnTo>
                      <a:pt x="4944" y="1057"/>
                    </a:lnTo>
                    <a:lnTo>
                      <a:pt x="4826" y="1089"/>
                    </a:lnTo>
                    <a:lnTo>
                      <a:pt x="4707" y="1153"/>
                    </a:lnTo>
                    <a:lnTo>
                      <a:pt x="4589" y="1217"/>
                    </a:lnTo>
                    <a:lnTo>
                      <a:pt x="4471" y="1313"/>
                    </a:lnTo>
                    <a:lnTo>
                      <a:pt x="4352" y="1377"/>
                    </a:lnTo>
                    <a:lnTo>
                      <a:pt x="4234" y="1441"/>
                    </a:lnTo>
                    <a:lnTo>
                      <a:pt x="4115" y="1505"/>
                    </a:lnTo>
                    <a:lnTo>
                      <a:pt x="4027" y="1633"/>
                    </a:lnTo>
                    <a:lnTo>
                      <a:pt x="3937" y="1761"/>
                    </a:lnTo>
                    <a:lnTo>
                      <a:pt x="3907" y="1955"/>
                    </a:lnTo>
                    <a:lnTo>
                      <a:pt x="3818" y="2083"/>
                    </a:lnTo>
                    <a:lnTo>
                      <a:pt x="3730" y="2243"/>
                    </a:lnTo>
                    <a:lnTo>
                      <a:pt x="3611" y="2339"/>
                    </a:lnTo>
                    <a:lnTo>
                      <a:pt x="3493" y="2403"/>
                    </a:lnTo>
                    <a:lnTo>
                      <a:pt x="3345" y="2467"/>
                    </a:lnTo>
                    <a:lnTo>
                      <a:pt x="3226" y="2499"/>
                    </a:lnTo>
                    <a:lnTo>
                      <a:pt x="3108" y="2563"/>
                    </a:lnTo>
                    <a:lnTo>
                      <a:pt x="2930" y="2595"/>
                    </a:lnTo>
                    <a:lnTo>
                      <a:pt x="2812" y="2627"/>
                    </a:lnTo>
                    <a:lnTo>
                      <a:pt x="2605" y="2691"/>
                    </a:lnTo>
                    <a:lnTo>
                      <a:pt x="2486" y="2787"/>
                    </a:lnTo>
                    <a:lnTo>
                      <a:pt x="2368" y="2852"/>
                    </a:lnTo>
                    <a:lnTo>
                      <a:pt x="2220" y="2884"/>
                    </a:lnTo>
                    <a:lnTo>
                      <a:pt x="2101" y="2884"/>
                    </a:lnTo>
                    <a:lnTo>
                      <a:pt x="1924" y="2916"/>
                    </a:lnTo>
                    <a:lnTo>
                      <a:pt x="1776" y="2980"/>
                    </a:lnTo>
                    <a:lnTo>
                      <a:pt x="1657" y="3076"/>
                    </a:lnTo>
                    <a:lnTo>
                      <a:pt x="1568" y="3236"/>
                    </a:lnTo>
                    <a:lnTo>
                      <a:pt x="1450" y="3332"/>
                    </a:lnTo>
                    <a:lnTo>
                      <a:pt x="1332" y="3428"/>
                    </a:lnTo>
                    <a:lnTo>
                      <a:pt x="1154" y="3460"/>
                    </a:lnTo>
                    <a:lnTo>
                      <a:pt x="917" y="3524"/>
                    </a:lnTo>
                    <a:lnTo>
                      <a:pt x="799" y="3620"/>
                    </a:lnTo>
                    <a:lnTo>
                      <a:pt x="680" y="3684"/>
                    </a:lnTo>
                    <a:lnTo>
                      <a:pt x="562" y="3781"/>
                    </a:lnTo>
                    <a:lnTo>
                      <a:pt x="444" y="3845"/>
                    </a:lnTo>
                    <a:lnTo>
                      <a:pt x="325" y="3877"/>
                    </a:lnTo>
                    <a:lnTo>
                      <a:pt x="207" y="3877"/>
                    </a:lnTo>
                    <a:lnTo>
                      <a:pt x="59" y="3845"/>
                    </a:lnTo>
                    <a:lnTo>
                      <a:pt x="0" y="3813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7760" cy="5494680"/>
              </a:xfrm>
              <a:custGeom>
                <a:avLst/>
                <a:gdLst/>
                <a:ahLst/>
                <a:rect l="0" t="0" r="r" b="b"/>
                <a:pathLst>
                  <a:path w="21216" h="15263">
                    <a:moveTo>
                      <a:pt x="444" y="0"/>
                    </a:moveTo>
                    <a:lnTo>
                      <a:pt x="622" y="191"/>
                    </a:lnTo>
                    <a:lnTo>
                      <a:pt x="800" y="335"/>
                    </a:lnTo>
                    <a:lnTo>
                      <a:pt x="978" y="479"/>
                    </a:lnTo>
                    <a:lnTo>
                      <a:pt x="1156" y="623"/>
                    </a:lnTo>
                    <a:lnTo>
                      <a:pt x="1245" y="815"/>
                    </a:lnTo>
                    <a:lnTo>
                      <a:pt x="1423" y="959"/>
                    </a:lnTo>
                    <a:lnTo>
                      <a:pt x="1601" y="1151"/>
                    </a:lnTo>
                    <a:lnTo>
                      <a:pt x="1779" y="1343"/>
                    </a:lnTo>
                    <a:lnTo>
                      <a:pt x="1956" y="1535"/>
                    </a:lnTo>
                    <a:lnTo>
                      <a:pt x="2134" y="1631"/>
                    </a:lnTo>
                    <a:lnTo>
                      <a:pt x="2312" y="1823"/>
                    </a:lnTo>
                    <a:lnTo>
                      <a:pt x="2490" y="1919"/>
                    </a:lnTo>
                    <a:lnTo>
                      <a:pt x="2668" y="1967"/>
                    </a:lnTo>
                    <a:lnTo>
                      <a:pt x="2846" y="2111"/>
                    </a:lnTo>
                    <a:lnTo>
                      <a:pt x="3024" y="2207"/>
                    </a:lnTo>
                    <a:lnTo>
                      <a:pt x="3157" y="2399"/>
                    </a:lnTo>
                    <a:lnTo>
                      <a:pt x="3335" y="2495"/>
                    </a:lnTo>
                    <a:lnTo>
                      <a:pt x="3513" y="2591"/>
                    </a:lnTo>
                    <a:lnTo>
                      <a:pt x="3602" y="2927"/>
                    </a:lnTo>
                    <a:lnTo>
                      <a:pt x="3736" y="3119"/>
                    </a:lnTo>
                    <a:lnTo>
                      <a:pt x="3913" y="3215"/>
                    </a:lnTo>
                    <a:lnTo>
                      <a:pt x="4091" y="3359"/>
                    </a:lnTo>
                    <a:lnTo>
                      <a:pt x="4225" y="3551"/>
                    </a:lnTo>
                    <a:lnTo>
                      <a:pt x="4403" y="3551"/>
                    </a:lnTo>
                    <a:lnTo>
                      <a:pt x="4536" y="3743"/>
                    </a:lnTo>
                    <a:lnTo>
                      <a:pt x="4714" y="3839"/>
                    </a:lnTo>
                    <a:lnTo>
                      <a:pt x="4892" y="3935"/>
                    </a:lnTo>
                    <a:lnTo>
                      <a:pt x="5070" y="4079"/>
                    </a:lnTo>
                    <a:lnTo>
                      <a:pt x="5248" y="4079"/>
                    </a:lnTo>
                    <a:lnTo>
                      <a:pt x="5426" y="4175"/>
                    </a:lnTo>
                    <a:lnTo>
                      <a:pt x="5648" y="4271"/>
                    </a:lnTo>
                    <a:lnTo>
                      <a:pt x="5826" y="4463"/>
                    </a:lnTo>
                    <a:lnTo>
                      <a:pt x="6004" y="4511"/>
                    </a:lnTo>
                    <a:lnTo>
                      <a:pt x="6182" y="4703"/>
                    </a:lnTo>
                    <a:lnTo>
                      <a:pt x="6271" y="4943"/>
                    </a:lnTo>
                    <a:lnTo>
                      <a:pt x="6493" y="5135"/>
                    </a:lnTo>
                    <a:lnTo>
                      <a:pt x="6715" y="5279"/>
                    </a:lnTo>
                    <a:lnTo>
                      <a:pt x="6938" y="5471"/>
                    </a:lnTo>
                    <a:lnTo>
                      <a:pt x="7116" y="5519"/>
                    </a:lnTo>
                    <a:lnTo>
                      <a:pt x="7338" y="5663"/>
                    </a:lnTo>
                    <a:lnTo>
                      <a:pt x="7516" y="5855"/>
                    </a:lnTo>
                    <a:lnTo>
                      <a:pt x="7916" y="5951"/>
                    </a:lnTo>
                    <a:lnTo>
                      <a:pt x="8094" y="6095"/>
                    </a:lnTo>
                    <a:lnTo>
                      <a:pt x="8183" y="6335"/>
                    </a:lnTo>
                    <a:lnTo>
                      <a:pt x="8228" y="6671"/>
                    </a:lnTo>
                    <a:lnTo>
                      <a:pt x="8450" y="6863"/>
                    </a:lnTo>
                    <a:lnTo>
                      <a:pt x="8672" y="6911"/>
                    </a:lnTo>
                    <a:lnTo>
                      <a:pt x="8895" y="6959"/>
                    </a:lnTo>
                    <a:lnTo>
                      <a:pt x="9073" y="7103"/>
                    </a:lnTo>
                    <a:lnTo>
                      <a:pt x="9251" y="7247"/>
                    </a:lnTo>
                    <a:lnTo>
                      <a:pt x="9428" y="7343"/>
                    </a:lnTo>
                    <a:lnTo>
                      <a:pt x="9695" y="7343"/>
                    </a:lnTo>
                    <a:lnTo>
                      <a:pt x="9873" y="7391"/>
                    </a:lnTo>
                    <a:lnTo>
                      <a:pt x="10051" y="7439"/>
                    </a:lnTo>
                    <a:lnTo>
                      <a:pt x="10140" y="7823"/>
                    </a:lnTo>
                    <a:lnTo>
                      <a:pt x="10229" y="8015"/>
                    </a:lnTo>
                    <a:lnTo>
                      <a:pt x="10451" y="8207"/>
                    </a:lnTo>
                    <a:lnTo>
                      <a:pt x="10630" y="8303"/>
                    </a:lnTo>
                    <a:lnTo>
                      <a:pt x="10675" y="8495"/>
                    </a:lnTo>
                    <a:lnTo>
                      <a:pt x="10719" y="8687"/>
                    </a:lnTo>
                    <a:lnTo>
                      <a:pt x="10808" y="8879"/>
                    </a:lnTo>
                    <a:lnTo>
                      <a:pt x="10942" y="9119"/>
                    </a:lnTo>
                    <a:lnTo>
                      <a:pt x="11075" y="9359"/>
                    </a:lnTo>
                    <a:lnTo>
                      <a:pt x="11120" y="9551"/>
                    </a:lnTo>
                    <a:lnTo>
                      <a:pt x="11164" y="9743"/>
                    </a:lnTo>
                    <a:lnTo>
                      <a:pt x="11253" y="9935"/>
                    </a:lnTo>
                    <a:lnTo>
                      <a:pt x="11475" y="10127"/>
                    </a:lnTo>
                    <a:lnTo>
                      <a:pt x="11653" y="10223"/>
                    </a:lnTo>
                    <a:lnTo>
                      <a:pt x="11787" y="10415"/>
                    </a:lnTo>
                    <a:lnTo>
                      <a:pt x="11609" y="10415"/>
                    </a:lnTo>
                    <a:lnTo>
                      <a:pt x="11431" y="10415"/>
                    </a:lnTo>
                    <a:lnTo>
                      <a:pt x="11209" y="10367"/>
                    </a:lnTo>
                    <a:lnTo>
                      <a:pt x="11031" y="10319"/>
                    </a:lnTo>
                    <a:lnTo>
                      <a:pt x="10853" y="10319"/>
                    </a:lnTo>
                    <a:lnTo>
                      <a:pt x="10675" y="10319"/>
                    </a:lnTo>
                    <a:lnTo>
                      <a:pt x="10496" y="10175"/>
                    </a:lnTo>
                    <a:lnTo>
                      <a:pt x="10274" y="10127"/>
                    </a:lnTo>
                    <a:lnTo>
                      <a:pt x="10096" y="10127"/>
                    </a:lnTo>
                    <a:lnTo>
                      <a:pt x="9918" y="10223"/>
                    </a:lnTo>
                    <a:lnTo>
                      <a:pt x="9740" y="10271"/>
                    </a:lnTo>
                    <a:lnTo>
                      <a:pt x="9562" y="10271"/>
                    </a:lnTo>
                    <a:lnTo>
                      <a:pt x="9384" y="10271"/>
                    </a:lnTo>
                    <a:lnTo>
                      <a:pt x="9206" y="10271"/>
                    </a:lnTo>
                    <a:lnTo>
                      <a:pt x="9028" y="10271"/>
                    </a:lnTo>
                    <a:lnTo>
                      <a:pt x="8850" y="10271"/>
                    </a:lnTo>
                    <a:lnTo>
                      <a:pt x="8628" y="10319"/>
                    </a:lnTo>
                    <a:lnTo>
                      <a:pt x="8406" y="10319"/>
                    </a:lnTo>
                    <a:lnTo>
                      <a:pt x="8228" y="10223"/>
                    </a:lnTo>
                    <a:lnTo>
                      <a:pt x="8005" y="10175"/>
                    </a:lnTo>
                    <a:lnTo>
                      <a:pt x="7694" y="10223"/>
                    </a:lnTo>
                    <a:lnTo>
                      <a:pt x="7516" y="10319"/>
                    </a:lnTo>
                    <a:lnTo>
                      <a:pt x="7338" y="10415"/>
                    </a:lnTo>
                    <a:lnTo>
                      <a:pt x="7160" y="10463"/>
                    </a:lnTo>
                    <a:lnTo>
                      <a:pt x="6982" y="10463"/>
                    </a:lnTo>
                    <a:lnTo>
                      <a:pt x="6804" y="10463"/>
                    </a:lnTo>
                    <a:lnTo>
                      <a:pt x="6493" y="10463"/>
                    </a:lnTo>
                    <a:lnTo>
                      <a:pt x="6315" y="10463"/>
                    </a:lnTo>
                    <a:lnTo>
                      <a:pt x="5959" y="10463"/>
                    </a:lnTo>
                    <a:lnTo>
                      <a:pt x="5781" y="10463"/>
                    </a:lnTo>
                    <a:lnTo>
                      <a:pt x="5604" y="10511"/>
                    </a:lnTo>
                    <a:lnTo>
                      <a:pt x="5426" y="10607"/>
                    </a:lnTo>
                    <a:lnTo>
                      <a:pt x="5248" y="10607"/>
                    </a:lnTo>
                    <a:lnTo>
                      <a:pt x="5070" y="10607"/>
                    </a:lnTo>
                    <a:lnTo>
                      <a:pt x="4892" y="10607"/>
                    </a:lnTo>
                    <a:lnTo>
                      <a:pt x="4714" y="10607"/>
                    </a:lnTo>
                    <a:lnTo>
                      <a:pt x="4536" y="10607"/>
                    </a:lnTo>
                    <a:lnTo>
                      <a:pt x="4358" y="10559"/>
                    </a:lnTo>
                    <a:lnTo>
                      <a:pt x="4180" y="10415"/>
                    </a:lnTo>
                    <a:lnTo>
                      <a:pt x="4047" y="10223"/>
                    </a:lnTo>
                    <a:lnTo>
                      <a:pt x="3869" y="10079"/>
                    </a:lnTo>
                    <a:lnTo>
                      <a:pt x="3691" y="10031"/>
                    </a:lnTo>
                    <a:lnTo>
                      <a:pt x="3513" y="9935"/>
                    </a:lnTo>
                    <a:lnTo>
                      <a:pt x="3246" y="9887"/>
                    </a:lnTo>
                    <a:lnTo>
                      <a:pt x="3068" y="9791"/>
                    </a:lnTo>
                    <a:lnTo>
                      <a:pt x="2890" y="9791"/>
                    </a:lnTo>
                    <a:lnTo>
                      <a:pt x="2713" y="9695"/>
                    </a:lnTo>
                    <a:lnTo>
                      <a:pt x="2490" y="9455"/>
                    </a:lnTo>
                    <a:lnTo>
                      <a:pt x="2312" y="9359"/>
                    </a:lnTo>
                    <a:lnTo>
                      <a:pt x="2090" y="9359"/>
                    </a:lnTo>
                    <a:lnTo>
                      <a:pt x="1912" y="9263"/>
                    </a:lnTo>
                    <a:lnTo>
                      <a:pt x="1690" y="9071"/>
                    </a:lnTo>
                    <a:lnTo>
                      <a:pt x="1378" y="8879"/>
                    </a:lnTo>
                    <a:lnTo>
                      <a:pt x="1200" y="8735"/>
                    </a:lnTo>
                    <a:lnTo>
                      <a:pt x="1022" y="8687"/>
                    </a:lnTo>
                    <a:lnTo>
                      <a:pt x="845" y="8543"/>
                    </a:lnTo>
                    <a:lnTo>
                      <a:pt x="711" y="8351"/>
                    </a:lnTo>
                    <a:lnTo>
                      <a:pt x="533" y="8111"/>
                    </a:lnTo>
                    <a:lnTo>
                      <a:pt x="311" y="7871"/>
                    </a:lnTo>
                    <a:lnTo>
                      <a:pt x="133" y="7728"/>
                    </a:lnTo>
                    <a:lnTo>
                      <a:pt x="222" y="7919"/>
                    </a:lnTo>
                    <a:lnTo>
                      <a:pt x="400" y="8063"/>
                    </a:lnTo>
                    <a:lnTo>
                      <a:pt x="533" y="8255"/>
                    </a:lnTo>
                    <a:lnTo>
                      <a:pt x="667" y="8447"/>
                    </a:lnTo>
                    <a:lnTo>
                      <a:pt x="845" y="8639"/>
                    </a:lnTo>
                    <a:lnTo>
                      <a:pt x="1022" y="8735"/>
                    </a:lnTo>
                    <a:lnTo>
                      <a:pt x="1245" y="8879"/>
                    </a:lnTo>
                    <a:lnTo>
                      <a:pt x="1423" y="8975"/>
                    </a:lnTo>
                    <a:lnTo>
                      <a:pt x="1601" y="9119"/>
                    </a:lnTo>
                    <a:lnTo>
                      <a:pt x="1779" y="9215"/>
                    </a:lnTo>
                    <a:lnTo>
                      <a:pt x="1956" y="9311"/>
                    </a:lnTo>
                    <a:lnTo>
                      <a:pt x="2134" y="9359"/>
                    </a:lnTo>
                    <a:lnTo>
                      <a:pt x="2312" y="9503"/>
                    </a:lnTo>
                    <a:lnTo>
                      <a:pt x="2490" y="9647"/>
                    </a:lnTo>
                    <a:lnTo>
                      <a:pt x="2713" y="9839"/>
                    </a:lnTo>
                    <a:lnTo>
                      <a:pt x="2890" y="9839"/>
                    </a:lnTo>
                    <a:lnTo>
                      <a:pt x="3068" y="9839"/>
                    </a:lnTo>
                    <a:lnTo>
                      <a:pt x="3246" y="10031"/>
                    </a:lnTo>
                    <a:lnTo>
                      <a:pt x="3469" y="10079"/>
                    </a:lnTo>
                    <a:lnTo>
                      <a:pt x="3647" y="10127"/>
                    </a:lnTo>
                    <a:lnTo>
                      <a:pt x="4002" y="10271"/>
                    </a:lnTo>
                    <a:lnTo>
                      <a:pt x="4180" y="10463"/>
                    </a:lnTo>
                    <a:lnTo>
                      <a:pt x="4403" y="10703"/>
                    </a:lnTo>
                    <a:lnTo>
                      <a:pt x="4136" y="10751"/>
                    </a:lnTo>
                    <a:lnTo>
                      <a:pt x="3913" y="10607"/>
                    </a:lnTo>
                    <a:lnTo>
                      <a:pt x="3736" y="10559"/>
                    </a:lnTo>
                    <a:lnTo>
                      <a:pt x="3558" y="10607"/>
                    </a:lnTo>
                    <a:lnTo>
                      <a:pt x="3380" y="10703"/>
                    </a:lnTo>
                    <a:lnTo>
                      <a:pt x="3157" y="10703"/>
                    </a:lnTo>
                    <a:lnTo>
                      <a:pt x="2802" y="10655"/>
                    </a:lnTo>
                    <a:lnTo>
                      <a:pt x="2624" y="10559"/>
                    </a:lnTo>
                    <a:lnTo>
                      <a:pt x="2446" y="10607"/>
                    </a:lnTo>
                    <a:lnTo>
                      <a:pt x="2268" y="10703"/>
                    </a:lnTo>
                    <a:lnTo>
                      <a:pt x="2090" y="10751"/>
                    </a:lnTo>
                    <a:lnTo>
                      <a:pt x="1779" y="10895"/>
                    </a:lnTo>
                    <a:lnTo>
                      <a:pt x="1645" y="11231"/>
                    </a:lnTo>
                    <a:lnTo>
                      <a:pt x="1467" y="11327"/>
                    </a:lnTo>
                    <a:lnTo>
                      <a:pt x="1289" y="11375"/>
                    </a:lnTo>
                    <a:lnTo>
                      <a:pt x="1111" y="11327"/>
                    </a:lnTo>
                    <a:lnTo>
                      <a:pt x="934" y="11327"/>
                    </a:lnTo>
                    <a:lnTo>
                      <a:pt x="756" y="11327"/>
                    </a:lnTo>
                    <a:lnTo>
                      <a:pt x="533" y="11327"/>
                    </a:lnTo>
                    <a:lnTo>
                      <a:pt x="355" y="11327"/>
                    </a:lnTo>
                    <a:lnTo>
                      <a:pt x="177" y="11327"/>
                    </a:lnTo>
                    <a:lnTo>
                      <a:pt x="0" y="11327"/>
                    </a:lnTo>
                    <a:lnTo>
                      <a:pt x="311" y="11327"/>
                    </a:lnTo>
                    <a:lnTo>
                      <a:pt x="578" y="11327"/>
                    </a:lnTo>
                    <a:lnTo>
                      <a:pt x="756" y="11423"/>
                    </a:lnTo>
                    <a:lnTo>
                      <a:pt x="934" y="11519"/>
                    </a:lnTo>
                    <a:lnTo>
                      <a:pt x="1111" y="11519"/>
                    </a:lnTo>
                    <a:lnTo>
                      <a:pt x="1289" y="11519"/>
                    </a:lnTo>
                    <a:lnTo>
                      <a:pt x="1467" y="11423"/>
                    </a:lnTo>
                    <a:lnTo>
                      <a:pt x="1645" y="11231"/>
                    </a:lnTo>
                    <a:lnTo>
                      <a:pt x="1868" y="11039"/>
                    </a:lnTo>
                    <a:lnTo>
                      <a:pt x="2045" y="10943"/>
                    </a:lnTo>
                    <a:lnTo>
                      <a:pt x="2223" y="10799"/>
                    </a:lnTo>
                    <a:lnTo>
                      <a:pt x="2446" y="10751"/>
                    </a:lnTo>
                    <a:lnTo>
                      <a:pt x="2624" y="10751"/>
                    </a:lnTo>
                    <a:lnTo>
                      <a:pt x="2802" y="10751"/>
                    </a:lnTo>
                    <a:lnTo>
                      <a:pt x="2979" y="10751"/>
                    </a:lnTo>
                    <a:lnTo>
                      <a:pt x="3157" y="10751"/>
                    </a:lnTo>
                    <a:lnTo>
                      <a:pt x="3335" y="10751"/>
                    </a:lnTo>
                    <a:lnTo>
                      <a:pt x="3513" y="10703"/>
                    </a:lnTo>
                    <a:lnTo>
                      <a:pt x="3736" y="10655"/>
                    </a:lnTo>
                    <a:lnTo>
                      <a:pt x="3913" y="10751"/>
                    </a:lnTo>
                    <a:lnTo>
                      <a:pt x="4091" y="10799"/>
                    </a:lnTo>
                    <a:lnTo>
                      <a:pt x="4314" y="10847"/>
                    </a:lnTo>
                    <a:lnTo>
                      <a:pt x="4492" y="10847"/>
                    </a:lnTo>
                    <a:lnTo>
                      <a:pt x="4625" y="10655"/>
                    </a:lnTo>
                    <a:lnTo>
                      <a:pt x="4803" y="10607"/>
                    </a:lnTo>
                    <a:lnTo>
                      <a:pt x="4981" y="10703"/>
                    </a:lnTo>
                    <a:lnTo>
                      <a:pt x="5159" y="10847"/>
                    </a:lnTo>
                    <a:lnTo>
                      <a:pt x="5337" y="10943"/>
                    </a:lnTo>
                    <a:lnTo>
                      <a:pt x="5515" y="10943"/>
                    </a:lnTo>
                    <a:lnTo>
                      <a:pt x="5692" y="11039"/>
                    </a:lnTo>
                    <a:lnTo>
                      <a:pt x="5915" y="11135"/>
                    </a:lnTo>
                    <a:lnTo>
                      <a:pt x="6093" y="11183"/>
                    </a:lnTo>
                    <a:lnTo>
                      <a:pt x="6271" y="11231"/>
                    </a:lnTo>
                    <a:lnTo>
                      <a:pt x="6582" y="11279"/>
                    </a:lnTo>
                    <a:lnTo>
                      <a:pt x="6849" y="11327"/>
                    </a:lnTo>
                    <a:lnTo>
                      <a:pt x="7027" y="11519"/>
                    </a:lnTo>
                    <a:lnTo>
                      <a:pt x="7071" y="11711"/>
                    </a:lnTo>
                    <a:lnTo>
                      <a:pt x="7427" y="11951"/>
                    </a:lnTo>
                    <a:lnTo>
                      <a:pt x="7605" y="12095"/>
                    </a:lnTo>
                    <a:lnTo>
                      <a:pt x="7738" y="12431"/>
                    </a:lnTo>
                    <a:lnTo>
                      <a:pt x="7872" y="12623"/>
                    </a:lnTo>
                    <a:lnTo>
                      <a:pt x="7516" y="12671"/>
                    </a:lnTo>
                    <a:lnTo>
                      <a:pt x="7338" y="12815"/>
                    </a:lnTo>
                    <a:lnTo>
                      <a:pt x="7205" y="13007"/>
                    </a:lnTo>
                    <a:lnTo>
                      <a:pt x="7160" y="13247"/>
                    </a:lnTo>
                    <a:lnTo>
                      <a:pt x="6760" y="13391"/>
                    </a:lnTo>
                    <a:lnTo>
                      <a:pt x="6404" y="13439"/>
                    </a:lnTo>
                    <a:lnTo>
                      <a:pt x="6182" y="13583"/>
                    </a:lnTo>
                    <a:lnTo>
                      <a:pt x="5959" y="13823"/>
                    </a:lnTo>
                    <a:lnTo>
                      <a:pt x="5781" y="13919"/>
                    </a:lnTo>
                    <a:lnTo>
                      <a:pt x="5604" y="13967"/>
                    </a:lnTo>
                    <a:lnTo>
                      <a:pt x="5426" y="13967"/>
                    </a:lnTo>
                    <a:lnTo>
                      <a:pt x="5248" y="13967"/>
                    </a:lnTo>
                    <a:lnTo>
                      <a:pt x="5070" y="14015"/>
                    </a:lnTo>
                    <a:lnTo>
                      <a:pt x="4714" y="14063"/>
                    </a:lnTo>
                    <a:lnTo>
                      <a:pt x="4536" y="14111"/>
                    </a:lnTo>
                    <a:lnTo>
                      <a:pt x="4269" y="14159"/>
                    </a:lnTo>
                    <a:lnTo>
                      <a:pt x="4002" y="14159"/>
                    </a:lnTo>
                    <a:lnTo>
                      <a:pt x="3824" y="14159"/>
                    </a:lnTo>
                    <a:lnTo>
                      <a:pt x="3647" y="14207"/>
                    </a:lnTo>
                    <a:lnTo>
                      <a:pt x="3424" y="14303"/>
                    </a:lnTo>
                    <a:lnTo>
                      <a:pt x="3246" y="14399"/>
                    </a:lnTo>
                    <a:lnTo>
                      <a:pt x="3068" y="14495"/>
                    </a:lnTo>
                    <a:lnTo>
                      <a:pt x="2890" y="14543"/>
                    </a:lnTo>
                    <a:lnTo>
                      <a:pt x="2624" y="14543"/>
                    </a:lnTo>
                    <a:lnTo>
                      <a:pt x="2446" y="14591"/>
                    </a:lnTo>
                    <a:lnTo>
                      <a:pt x="2268" y="14591"/>
                    </a:lnTo>
                    <a:lnTo>
                      <a:pt x="2090" y="14639"/>
                    </a:lnTo>
                    <a:lnTo>
                      <a:pt x="1779" y="14639"/>
                    </a:lnTo>
                    <a:lnTo>
                      <a:pt x="1601" y="14639"/>
                    </a:lnTo>
                    <a:lnTo>
                      <a:pt x="1423" y="14639"/>
                    </a:lnTo>
                    <a:lnTo>
                      <a:pt x="1245" y="14639"/>
                    </a:lnTo>
                    <a:lnTo>
                      <a:pt x="1067" y="14639"/>
                    </a:lnTo>
                    <a:lnTo>
                      <a:pt x="889" y="14687"/>
                    </a:lnTo>
                    <a:lnTo>
                      <a:pt x="711" y="14735"/>
                    </a:lnTo>
                    <a:lnTo>
                      <a:pt x="400" y="14735"/>
                    </a:lnTo>
                    <a:lnTo>
                      <a:pt x="222" y="14783"/>
                    </a:lnTo>
                    <a:lnTo>
                      <a:pt x="44" y="14975"/>
                    </a:lnTo>
                    <a:lnTo>
                      <a:pt x="222" y="14975"/>
                    </a:lnTo>
                    <a:lnTo>
                      <a:pt x="400" y="14879"/>
                    </a:lnTo>
                    <a:lnTo>
                      <a:pt x="578" y="14783"/>
                    </a:lnTo>
                    <a:lnTo>
                      <a:pt x="756" y="14735"/>
                    </a:lnTo>
                    <a:lnTo>
                      <a:pt x="934" y="14735"/>
                    </a:lnTo>
                    <a:lnTo>
                      <a:pt x="1111" y="14687"/>
                    </a:lnTo>
                    <a:lnTo>
                      <a:pt x="1289" y="14639"/>
                    </a:lnTo>
                    <a:lnTo>
                      <a:pt x="1467" y="14591"/>
                    </a:lnTo>
                    <a:lnTo>
                      <a:pt x="1645" y="14591"/>
                    </a:lnTo>
                    <a:lnTo>
                      <a:pt x="1823" y="14591"/>
                    </a:lnTo>
                    <a:lnTo>
                      <a:pt x="2090" y="14639"/>
                    </a:lnTo>
                    <a:lnTo>
                      <a:pt x="2446" y="14639"/>
                    </a:lnTo>
                    <a:lnTo>
                      <a:pt x="2624" y="14639"/>
                    </a:lnTo>
                    <a:lnTo>
                      <a:pt x="2802" y="14639"/>
                    </a:lnTo>
                    <a:lnTo>
                      <a:pt x="2979" y="14591"/>
                    </a:lnTo>
                    <a:lnTo>
                      <a:pt x="3157" y="14591"/>
                    </a:lnTo>
                    <a:lnTo>
                      <a:pt x="3380" y="14543"/>
                    </a:lnTo>
                    <a:lnTo>
                      <a:pt x="3558" y="14399"/>
                    </a:lnTo>
                    <a:lnTo>
                      <a:pt x="3736" y="14303"/>
                    </a:lnTo>
                    <a:lnTo>
                      <a:pt x="3913" y="14303"/>
                    </a:lnTo>
                    <a:lnTo>
                      <a:pt x="4136" y="14303"/>
                    </a:lnTo>
                    <a:lnTo>
                      <a:pt x="4314" y="14207"/>
                    </a:lnTo>
                    <a:lnTo>
                      <a:pt x="4536" y="14159"/>
                    </a:lnTo>
                    <a:lnTo>
                      <a:pt x="4892" y="14159"/>
                    </a:lnTo>
                    <a:lnTo>
                      <a:pt x="5070" y="14159"/>
                    </a:lnTo>
                    <a:lnTo>
                      <a:pt x="5292" y="14111"/>
                    </a:lnTo>
                    <a:lnTo>
                      <a:pt x="5470" y="14063"/>
                    </a:lnTo>
                    <a:lnTo>
                      <a:pt x="5692" y="14111"/>
                    </a:lnTo>
                    <a:lnTo>
                      <a:pt x="5915" y="14111"/>
                    </a:lnTo>
                    <a:lnTo>
                      <a:pt x="6093" y="14015"/>
                    </a:lnTo>
                    <a:lnTo>
                      <a:pt x="6226" y="13823"/>
                    </a:lnTo>
                    <a:lnTo>
                      <a:pt x="6315" y="13631"/>
                    </a:lnTo>
                    <a:lnTo>
                      <a:pt x="6493" y="13583"/>
                    </a:lnTo>
                    <a:lnTo>
                      <a:pt x="6760" y="13535"/>
                    </a:lnTo>
                    <a:lnTo>
                      <a:pt x="6938" y="13439"/>
                    </a:lnTo>
                    <a:lnTo>
                      <a:pt x="7116" y="13295"/>
                    </a:lnTo>
                    <a:lnTo>
                      <a:pt x="7294" y="13151"/>
                    </a:lnTo>
                    <a:lnTo>
                      <a:pt x="7472" y="12959"/>
                    </a:lnTo>
                    <a:lnTo>
                      <a:pt x="7649" y="12911"/>
                    </a:lnTo>
                    <a:lnTo>
                      <a:pt x="7827" y="12767"/>
                    </a:lnTo>
                    <a:lnTo>
                      <a:pt x="8005" y="12671"/>
                    </a:lnTo>
                    <a:lnTo>
                      <a:pt x="8183" y="12623"/>
                    </a:lnTo>
                    <a:lnTo>
                      <a:pt x="8361" y="12719"/>
                    </a:lnTo>
                    <a:lnTo>
                      <a:pt x="8539" y="12767"/>
                    </a:lnTo>
                    <a:lnTo>
                      <a:pt x="8717" y="12767"/>
                    </a:lnTo>
                    <a:lnTo>
                      <a:pt x="8895" y="12815"/>
                    </a:lnTo>
                    <a:lnTo>
                      <a:pt x="9206" y="12863"/>
                    </a:lnTo>
                    <a:lnTo>
                      <a:pt x="9384" y="12863"/>
                    </a:lnTo>
                    <a:lnTo>
                      <a:pt x="9651" y="12911"/>
                    </a:lnTo>
                    <a:lnTo>
                      <a:pt x="9873" y="12959"/>
                    </a:lnTo>
                    <a:lnTo>
                      <a:pt x="10051" y="13055"/>
                    </a:lnTo>
                    <a:lnTo>
                      <a:pt x="10229" y="13151"/>
                    </a:lnTo>
                    <a:lnTo>
                      <a:pt x="10407" y="13247"/>
                    </a:lnTo>
                    <a:lnTo>
                      <a:pt x="10585" y="13295"/>
                    </a:lnTo>
                    <a:lnTo>
                      <a:pt x="10764" y="13295"/>
                    </a:lnTo>
                    <a:lnTo>
                      <a:pt x="10942" y="13391"/>
                    </a:lnTo>
                    <a:lnTo>
                      <a:pt x="11120" y="13487"/>
                    </a:lnTo>
                    <a:lnTo>
                      <a:pt x="11297" y="13631"/>
                    </a:lnTo>
                    <a:lnTo>
                      <a:pt x="11564" y="13679"/>
                    </a:lnTo>
                    <a:lnTo>
                      <a:pt x="11742" y="13679"/>
                    </a:lnTo>
                    <a:lnTo>
                      <a:pt x="11920" y="13823"/>
                    </a:lnTo>
                    <a:lnTo>
                      <a:pt x="12098" y="13919"/>
                    </a:lnTo>
                    <a:lnTo>
                      <a:pt x="12276" y="13967"/>
                    </a:lnTo>
                    <a:lnTo>
                      <a:pt x="12498" y="14063"/>
                    </a:lnTo>
                    <a:lnTo>
                      <a:pt x="12676" y="14111"/>
                    </a:lnTo>
                    <a:lnTo>
                      <a:pt x="12899" y="14111"/>
                    </a:lnTo>
                    <a:lnTo>
                      <a:pt x="13121" y="14111"/>
                    </a:lnTo>
                    <a:lnTo>
                      <a:pt x="13299" y="14111"/>
                    </a:lnTo>
                    <a:lnTo>
                      <a:pt x="13521" y="14159"/>
                    </a:lnTo>
                    <a:lnTo>
                      <a:pt x="13744" y="14303"/>
                    </a:lnTo>
                    <a:lnTo>
                      <a:pt x="13966" y="14351"/>
                    </a:lnTo>
                    <a:lnTo>
                      <a:pt x="14188" y="14351"/>
                    </a:lnTo>
                    <a:lnTo>
                      <a:pt x="14589" y="14351"/>
                    </a:lnTo>
                    <a:lnTo>
                      <a:pt x="14811" y="14351"/>
                    </a:lnTo>
                    <a:lnTo>
                      <a:pt x="14989" y="14399"/>
                    </a:lnTo>
                    <a:lnTo>
                      <a:pt x="15211" y="14543"/>
                    </a:lnTo>
                    <a:lnTo>
                      <a:pt x="15389" y="14591"/>
                    </a:lnTo>
                    <a:lnTo>
                      <a:pt x="15567" y="14639"/>
                    </a:lnTo>
                    <a:lnTo>
                      <a:pt x="15790" y="14687"/>
                    </a:lnTo>
                    <a:lnTo>
                      <a:pt x="16012" y="14687"/>
                    </a:lnTo>
                    <a:lnTo>
                      <a:pt x="16190" y="14687"/>
                    </a:lnTo>
                    <a:lnTo>
                      <a:pt x="16368" y="14735"/>
                    </a:lnTo>
                    <a:lnTo>
                      <a:pt x="16546" y="14879"/>
                    </a:lnTo>
                    <a:lnTo>
                      <a:pt x="16768" y="14879"/>
                    </a:lnTo>
                    <a:lnTo>
                      <a:pt x="16946" y="14879"/>
                    </a:lnTo>
                    <a:lnTo>
                      <a:pt x="17168" y="14879"/>
                    </a:lnTo>
                    <a:lnTo>
                      <a:pt x="17391" y="14927"/>
                    </a:lnTo>
                    <a:lnTo>
                      <a:pt x="17569" y="14927"/>
                    </a:lnTo>
                    <a:lnTo>
                      <a:pt x="17747" y="14927"/>
                    </a:lnTo>
                    <a:lnTo>
                      <a:pt x="17969" y="14927"/>
                    </a:lnTo>
                    <a:lnTo>
                      <a:pt x="18191" y="14927"/>
                    </a:lnTo>
                    <a:lnTo>
                      <a:pt x="18369" y="14927"/>
                    </a:lnTo>
                    <a:lnTo>
                      <a:pt x="18592" y="15071"/>
                    </a:lnTo>
                    <a:lnTo>
                      <a:pt x="18814" y="15215"/>
                    </a:lnTo>
                    <a:lnTo>
                      <a:pt x="18992" y="15215"/>
                    </a:lnTo>
                    <a:lnTo>
                      <a:pt x="19214" y="15215"/>
                    </a:lnTo>
                    <a:lnTo>
                      <a:pt x="19437" y="15215"/>
                    </a:lnTo>
                    <a:lnTo>
                      <a:pt x="19659" y="15215"/>
                    </a:lnTo>
                    <a:lnTo>
                      <a:pt x="19837" y="15215"/>
                    </a:lnTo>
                    <a:lnTo>
                      <a:pt x="20015" y="15215"/>
                    </a:lnTo>
                    <a:lnTo>
                      <a:pt x="20237" y="15263"/>
                    </a:lnTo>
                    <a:lnTo>
                      <a:pt x="20460" y="15263"/>
                    </a:lnTo>
                    <a:lnTo>
                      <a:pt x="20059" y="15263"/>
                    </a:lnTo>
                    <a:lnTo>
                      <a:pt x="19881" y="15263"/>
                    </a:lnTo>
                    <a:lnTo>
                      <a:pt x="19526" y="15167"/>
                    </a:lnTo>
                    <a:lnTo>
                      <a:pt x="19303" y="15119"/>
                    </a:lnTo>
                    <a:lnTo>
                      <a:pt x="18947" y="15167"/>
                    </a:lnTo>
                    <a:lnTo>
                      <a:pt x="18769" y="15215"/>
                    </a:lnTo>
                    <a:lnTo>
                      <a:pt x="18592" y="15167"/>
                    </a:lnTo>
                    <a:lnTo>
                      <a:pt x="18503" y="14975"/>
                    </a:lnTo>
                    <a:lnTo>
                      <a:pt x="18102" y="14879"/>
                    </a:lnTo>
                    <a:lnTo>
                      <a:pt x="17924" y="14879"/>
                    </a:lnTo>
                    <a:lnTo>
                      <a:pt x="17702" y="14831"/>
                    </a:lnTo>
                    <a:lnTo>
                      <a:pt x="17435" y="14783"/>
                    </a:lnTo>
                    <a:lnTo>
                      <a:pt x="17079" y="14735"/>
                    </a:lnTo>
                    <a:lnTo>
                      <a:pt x="16857" y="14687"/>
                    </a:lnTo>
                    <a:lnTo>
                      <a:pt x="16679" y="14687"/>
                    </a:lnTo>
                    <a:lnTo>
                      <a:pt x="16412" y="14735"/>
                    </a:lnTo>
                    <a:lnTo>
                      <a:pt x="15923" y="14735"/>
                    </a:lnTo>
                    <a:lnTo>
                      <a:pt x="15701" y="14543"/>
                    </a:lnTo>
                    <a:lnTo>
                      <a:pt x="15523" y="14543"/>
                    </a:lnTo>
                    <a:lnTo>
                      <a:pt x="15211" y="14495"/>
                    </a:lnTo>
                    <a:lnTo>
                      <a:pt x="14856" y="14495"/>
                    </a:lnTo>
                    <a:lnTo>
                      <a:pt x="14678" y="14399"/>
                    </a:lnTo>
                    <a:lnTo>
                      <a:pt x="14455" y="14255"/>
                    </a:lnTo>
                    <a:lnTo>
                      <a:pt x="14277" y="14159"/>
                    </a:lnTo>
                    <a:lnTo>
                      <a:pt x="14099" y="14111"/>
                    </a:lnTo>
                    <a:lnTo>
                      <a:pt x="13922" y="14111"/>
                    </a:lnTo>
                    <a:lnTo>
                      <a:pt x="13744" y="14111"/>
                    </a:lnTo>
                    <a:lnTo>
                      <a:pt x="13566" y="14063"/>
                    </a:lnTo>
                    <a:lnTo>
                      <a:pt x="13299" y="14015"/>
                    </a:lnTo>
                    <a:lnTo>
                      <a:pt x="13032" y="13967"/>
                    </a:lnTo>
                    <a:lnTo>
                      <a:pt x="12854" y="13871"/>
                    </a:lnTo>
                    <a:lnTo>
                      <a:pt x="12632" y="13775"/>
                    </a:lnTo>
                    <a:lnTo>
                      <a:pt x="12454" y="13775"/>
                    </a:lnTo>
                    <a:lnTo>
                      <a:pt x="12276" y="13775"/>
                    </a:lnTo>
                    <a:lnTo>
                      <a:pt x="12054" y="13775"/>
                    </a:lnTo>
                    <a:lnTo>
                      <a:pt x="11787" y="13775"/>
                    </a:lnTo>
                    <a:lnTo>
                      <a:pt x="11431" y="13727"/>
                    </a:lnTo>
                    <a:lnTo>
                      <a:pt x="11253" y="13487"/>
                    </a:lnTo>
                    <a:lnTo>
                      <a:pt x="11075" y="13295"/>
                    </a:lnTo>
                    <a:lnTo>
                      <a:pt x="10897" y="13295"/>
                    </a:lnTo>
                    <a:lnTo>
                      <a:pt x="10496" y="13295"/>
                    </a:lnTo>
                    <a:lnTo>
                      <a:pt x="10318" y="13151"/>
                    </a:lnTo>
                    <a:lnTo>
                      <a:pt x="10140" y="13007"/>
                    </a:lnTo>
                    <a:lnTo>
                      <a:pt x="9918" y="12815"/>
                    </a:lnTo>
                    <a:lnTo>
                      <a:pt x="9695" y="12719"/>
                    </a:lnTo>
                    <a:lnTo>
                      <a:pt x="9517" y="12719"/>
                    </a:lnTo>
                    <a:lnTo>
                      <a:pt x="9295" y="12719"/>
                    </a:lnTo>
                    <a:lnTo>
                      <a:pt x="8895" y="12719"/>
                    </a:lnTo>
                    <a:lnTo>
                      <a:pt x="8717" y="12719"/>
                    </a:lnTo>
                    <a:lnTo>
                      <a:pt x="8539" y="12623"/>
                    </a:lnTo>
                    <a:lnTo>
                      <a:pt x="8050" y="12527"/>
                    </a:lnTo>
                    <a:lnTo>
                      <a:pt x="7605" y="12383"/>
                    </a:lnTo>
                    <a:lnTo>
                      <a:pt x="7516" y="12191"/>
                    </a:lnTo>
                    <a:lnTo>
                      <a:pt x="7560" y="11999"/>
                    </a:lnTo>
                    <a:lnTo>
                      <a:pt x="7427" y="11807"/>
                    </a:lnTo>
                    <a:lnTo>
                      <a:pt x="7294" y="11615"/>
                    </a:lnTo>
                    <a:lnTo>
                      <a:pt x="7160" y="11423"/>
                    </a:lnTo>
                    <a:lnTo>
                      <a:pt x="6982" y="11279"/>
                    </a:lnTo>
                    <a:lnTo>
                      <a:pt x="6804" y="11183"/>
                    </a:lnTo>
                    <a:lnTo>
                      <a:pt x="6626" y="11135"/>
                    </a:lnTo>
                    <a:lnTo>
                      <a:pt x="6271" y="10991"/>
                    </a:lnTo>
                    <a:lnTo>
                      <a:pt x="6093" y="10991"/>
                    </a:lnTo>
                    <a:lnTo>
                      <a:pt x="5915" y="10943"/>
                    </a:lnTo>
                    <a:lnTo>
                      <a:pt x="5692" y="10895"/>
                    </a:lnTo>
                    <a:lnTo>
                      <a:pt x="5381" y="10895"/>
                    </a:lnTo>
                    <a:lnTo>
                      <a:pt x="5203" y="10799"/>
                    </a:lnTo>
                    <a:lnTo>
                      <a:pt x="5025" y="10751"/>
                    </a:lnTo>
                    <a:lnTo>
                      <a:pt x="5292" y="10703"/>
                    </a:lnTo>
                    <a:lnTo>
                      <a:pt x="5470" y="10607"/>
                    </a:lnTo>
                    <a:lnTo>
                      <a:pt x="5648" y="10559"/>
                    </a:lnTo>
                    <a:lnTo>
                      <a:pt x="5870" y="10559"/>
                    </a:lnTo>
                    <a:lnTo>
                      <a:pt x="6048" y="10559"/>
                    </a:lnTo>
                    <a:lnTo>
                      <a:pt x="6226" y="10559"/>
                    </a:lnTo>
                    <a:lnTo>
                      <a:pt x="6404" y="10559"/>
                    </a:lnTo>
                    <a:lnTo>
                      <a:pt x="6582" y="10559"/>
                    </a:lnTo>
                    <a:lnTo>
                      <a:pt x="6804" y="10559"/>
                    </a:lnTo>
                    <a:lnTo>
                      <a:pt x="6982" y="10511"/>
                    </a:lnTo>
                    <a:lnTo>
                      <a:pt x="7338" y="10511"/>
                    </a:lnTo>
                    <a:lnTo>
                      <a:pt x="7738" y="10463"/>
                    </a:lnTo>
                    <a:lnTo>
                      <a:pt x="7916" y="10367"/>
                    </a:lnTo>
                    <a:lnTo>
                      <a:pt x="8094" y="10319"/>
                    </a:lnTo>
                    <a:lnTo>
                      <a:pt x="8361" y="10319"/>
                    </a:lnTo>
                    <a:lnTo>
                      <a:pt x="8717" y="10319"/>
                    </a:lnTo>
                    <a:lnTo>
                      <a:pt x="8984" y="10271"/>
                    </a:lnTo>
                    <a:lnTo>
                      <a:pt x="9162" y="10223"/>
                    </a:lnTo>
                    <a:lnTo>
                      <a:pt x="9340" y="10223"/>
                    </a:lnTo>
                    <a:lnTo>
                      <a:pt x="9517" y="10223"/>
                    </a:lnTo>
                    <a:lnTo>
                      <a:pt x="9695" y="10319"/>
                    </a:lnTo>
                    <a:lnTo>
                      <a:pt x="9918" y="10367"/>
                    </a:lnTo>
                    <a:lnTo>
                      <a:pt x="10185" y="10367"/>
                    </a:lnTo>
                    <a:lnTo>
                      <a:pt x="10451" y="10367"/>
                    </a:lnTo>
                    <a:lnTo>
                      <a:pt x="10675" y="10367"/>
                    </a:lnTo>
                    <a:lnTo>
                      <a:pt x="10853" y="10415"/>
                    </a:lnTo>
                    <a:lnTo>
                      <a:pt x="11120" y="10415"/>
                    </a:lnTo>
                    <a:lnTo>
                      <a:pt x="11386" y="10415"/>
                    </a:lnTo>
                    <a:lnTo>
                      <a:pt x="11564" y="10559"/>
                    </a:lnTo>
                    <a:lnTo>
                      <a:pt x="11920" y="10655"/>
                    </a:lnTo>
                    <a:lnTo>
                      <a:pt x="12098" y="10703"/>
                    </a:lnTo>
                    <a:lnTo>
                      <a:pt x="12320" y="10751"/>
                    </a:lnTo>
                    <a:lnTo>
                      <a:pt x="12498" y="10751"/>
                    </a:lnTo>
                    <a:lnTo>
                      <a:pt x="12632" y="10943"/>
                    </a:lnTo>
                    <a:lnTo>
                      <a:pt x="12854" y="11135"/>
                    </a:lnTo>
                    <a:lnTo>
                      <a:pt x="13121" y="11183"/>
                    </a:lnTo>
                    <a:lnTo>
                      <a:pt x="13299" y="11231"/>
                    </a:lnTo>
                    <a:lnTo>
                      <a:pt x="13477" y="11327"/>
                    </a:lnTo>
                    <a:lnTo>
                      <a:pt x="13655" y="11519"/>
                    </a:lnTo>
                    <a:lnTo>
                      <a:pt x="13833" y="11615"/>
                    </a:lnTo>
                    <a:lnTo>
                      <a:pt x="14011" y="11663"/>
                    </a:lnTo>
                    <a:lnTo>
                      <a:pt x="14233" y="11711"/>
                    </a:lnTo>
                    <a:lnTo>
                      <a:pt x="14411" y="11711"/>
                    </a:lnTo>
                    <a:lnTo>
                      <a:pt x="14589" y="11759"/>
                    </a:lnTo>
                    <a:lnTo>
                      <a:pt x="14767" y="11903"/>
                    </a:lnTo>
                    <a:lnTo>
                      <a:pt x="14945" y="12047"/>
                    </a:lnTo>
                    <a:lnTo>
                      <a:pt x="15256" y="12095"/>
                    </a:lnTo>
                    <a:lnTo>
                      <a:pt x="15434" y="12095"/>
                    </a:lnTo>
                    <a:lnTo>
                      <a:pt x="15612" y="12191"/>
                    </a:lnTo>
                    <a:lnTo>
                      <a:pt x="15967" y="12287"/>
                    </a:lnTo>
                    <a:lnTo>
                      <a:pt x="16279" y="12335"/>
                    </a:lnTo>
                    <a:lnTo>
                      <a:pt x="16546" y="12383"/>
                    </a:lnTo>
                    <a:lnTo>
                      <a:pt x="16946" y="12575"/>
                    </a:lnTo>
                    <a:lnTo>
                      <a:pt x="17124" y="12671"/>
                    </a:lnTo>
                    <a:lnTo>
                      <a:pt x="17302" y="12863"/>
                    </a:lnTo>
                    <a:lnTo>
                      <a:pt x="17613" y="13055"/>
                    </a:lnTo>
                    <a:lnTo>
                      <a:pt x="17791" y="13151"/>
                    </a:lnTo>
                    <a:lnTo>
                      <a:pt x="17969" y="13247"/>
                    </a:lnTo>
                    <a:lnTo>
                      <a:pt x="18191" y="13343"/>
                    </a:lnTo>
                    <a:lnTo>
                      <a:pt x="18458" y="13439"/>
                    </a:lnTo>
                    <a:lnTo>
                      <a:pt x="18681" y="13583"/>
                    </a:lnTo>
                    <a:lnTo>
                      <a:pt x="18858" y="13679"/>
                    </a:lnTo>
                    <a:lnTo>
                      <a:pt x="19036" y="13823"/>
                    </a:lnTo>
                    <a:lnTo>
                      <a:pt x="19214" y="13967"/>
                    </a:lnTo>
                    <a:lnTo>
                      <a:pt x="19526" y="14015"/>
                    </a:lnTo>
                    <a:lnTo>
                      <a:pt x="19703" y="14063"/>
                    </a:lnTo>
                    <a:lnTo>
                      <a:pt x="19926" y="14159"/>
                    </a:lnTo>
                    <a:lnTo>
                      <a:pt x="20148" y="14303"/>
                    </a:lnTo>
                    <a:lnTo>
                      <a:pt x="20326" y="14495"/>
                    </a:lnTo>
                    <a:lnTo>
                      <a:pt x="20504" y="14543"/>
                    </a:lnTo>
                    <a:lnTo>
                      <a:pt x="20682" y="14591"/>
                    </a:lnTo>
                    <a:lnTo>
                      <a:pt x="20860" y="14735"/>
                    </a:lnTo>
                    <a:lnTo>
                      <a:pt x="21038" y="14879"/>
                    </a:lnTo>
                    <a:lnTo>
                      <a:pt x="21216" y="14927"/>
                    </a:lnTo>
                    <a:lnTo>
                      <a:pt x="21038" y="14831"/>
                    </a:lnTo>
                    <a:lnTo>
                      <a:pt x="20815" y="14639"/>
                    </a:lnTo>
                    <a:lnTo>
                      <a:pt x="20682" y="14447"/>
                    </a:lnTo>
                    <a:lnTo>
                      <a:pt x="20504" y="14399"/>
                    </a:lnTo>
                    <a:lnTo>
                      <a:pt x="20282" y="14255"/>
                    </a:lnTo>
                    <a:lnTo>
                      <a:pt x="20059" y="14063"/>
                    </a:lnTo>
                    <a:lnTo>
                      <a:pt x="19881" y="13871"/>
                    </a:lnTo>
                    <a:lnTo>
                      <a:pt x="19703" y="13823"/>
                    </a:lnTo>
                    <a:lnTo>
                      <a:pt x="19526" y="13823"/>
                    </a:lnTo>
                    <a:lnTo>
                      <a:pt x="19348" y="13727"/>
                    </a:lnTo>
                    <a:lnTo>
                      <a:pt x="19170" y="13631"/>
                    </a:lnTo>
                    <a:lnTo>
                      <a:pt x="18858" y="13439"/>
                    </a:lnTo>
                    <a:lnTo>
                      <a:pt x="18681" y="13343"/>
                    </a:lnTo>
                    <a:lnTo>
                      <a:pt x="18503" y="13295"/>
                    </a:lnTo>
                    <a:lnTo>
                      <a:pt x="18280" y="13247"/>
                    </a:lnTo>
                    <a:lnTo>
                      <a:pt x="18102" y="13055"/>
                    </a:lnTo>
                    <a:lnTo>
                      <a:pt x="17880" y="13055"/>
                    </a:lnTo>
                    <a:lnTo>
                      <a:pt x="17658" y="12815"/>
                    </a:lnTo>
                    <a:lnTo>
                      <a:pt x="17480" y="12623"/>
                    </a:lnTo>
                    <a:lnTo>
                      <a:pt x="17302" y="12527"/>
                    </a:lnTo>
                    <a:lnTo>
                      <a:pt x="17124" y="12431"/>
                    </a:lnTo>
                    <a:lnTo>
                      <a:pt x="16857" y="12383"/>
                    </a:lnTo>
                    <a:lnTo>
                      <a:pt x="16679" y="12287"/>
                    </a:lnTo>
                    <a:lnTo>
                      <a:pt x="16501" y="12191"/>
                    </a:lnTo>
                    <a:lnTo>
                      <a:pt x="16323" y="12191"/>
                    </a:lnTo>
                    <a:lnTo>
                      <a:pt x="16145" y="12191"/>
                    </a:lnTo>
                    <a:lnTo>
                      <a:pt x="15923" y="12047"/>
                    </a:lnTo>
                    <a:lnTo>
                      <a:pt x="15745" y="11903"/>
                    </a:lnTo>
                    <a:lnTo>
                      <a:pt x="15567" y="11903"/>
                    </a:lnTo>
                    <a:lnTo>
                      <a:pt x="15389" y="11807"/>
                    </a:lnTo>
                    <a:lnTo>
                      <a:pt x="15167" y="11711"/>
                    </a:lnTo>
                    <a:lnTo>
                      <a:pt x="14900" y="11663"/>
                    </a:lnTo>
                    <a:lnTo>
                      <a:pt x="14722" y="11663"/>
                    </a:lnTo>
                    <a:lnTo>
                      <a:pt x="14455" y="11615"/>
                    </a:lnTo>
                    <a:lnTo>
                      <a:pt x="14233" y="11567"/>
                    </a:lnTo>
                    <a:lnTo>
                      <a:pt x="14055" y="11471"/>
                    </a:lnTo>
                    <a:lnTo>
                      <a:pt x="13833" y="11279"/>
                    </a:lnTo>
                    <a:lnTo>
                      <a:pt x="13610" y="11087"/>
                    </a:lnTo>
                    <a:lnTo>
                      <a:pt x="13388" y="10943"/>
                    </a:lnTo>
                    <a:lnTo>
                      <a:pt x="13210" y="10847"/>
                    </a:lnTo>
                    <a:lnTo>
                      <a:pt x="12988" y="10751"/>
                    </a:lnTo>
                    <a:lnTo>
                      <a:pt x="12632" y="10655"/>
                    </a:lnTo>
                    <a:lnTo>
                      <a:pt x="12454" y="10559"/>
                    </a:lnTo>
                    <a:lnTo>
                      <a:pt x="12054" y="10415"/>
                    </a:lnTo>
                    <a:lnTo>
                      <a:pt x="11876" y="10319"/>
                    </a:lnTo>
                    <a:lnTo>
                      <a:pt x="11787" y="10127"/>
                    </a:lnTo>
                    <a:lnTo>
                      <a:pt x="11653" y="9935"/>
                    </a:lnTo>
                    <a:lnTo>
                      <a:pt x="11475" y="9839"/>
                    </a:lnTo>
                    <a:lnTo>
                      <a:pt x="11342" y="9599"/>
                    </a:lnTo>
                    <a:lnTo>
                      <a:pt x="11120" y="9407"/>
                    </a:lnTo>
                    <a:lnTo>
                      <a:pt x="11075" y="9215"/>
                    </a:lnTo>
                    <a:lnTo>
                      <a:pt x="11031" y="9023"/>
                    </a:lnTo>
                    <a:lnTo>
                      <a:pt x="10942" y="8831"/>
                    </a:lnTo>
                    <a:lnTo>
                      <a:pt x="10853" y="8639"/>
                    </a:lnTo>
                    <a:lnTo>
                      <a:pt x="10764" y="8447"/>
                    </a:lnTo>
                    <a:lnTo>
                      <a:pt x="10719" y="8255"/>
                    </a:lnTo>
                    <a:lnTo>
                      <a:pt x="10630" y="8063"/>
                    </a:lnTo>
                    <a:lnTo>
                      <a:pt x="10540" y="7871"/>
                    </a:lnTo>
                    <a:lnTo>
                      <a:pt x="10362" y="7728"/>
                    </a:lnTo>
                    <a:lnTo>
                      <a:pt x="10274" y="7535"/>
                    </a:lnTo>
                    <a:lnTo>
                      <a:pt x="10140" y="7343"/>
                    </a:lnTo>
                    <a:lnTo>
                      <a:pt x="9962" y="7247"/>
                    </a:lnTo>
                    <a:lnTo>
                      <a:pt x="9740" y="7151"/>
                    </a:lnTo>
                    <a:lnTo>
                      <a:pt x="9562" y="7055"/>
                    </a:lnTo>
                    <a:lnTo>
                      <a:pt x="9340" y="7007"/>
                    </a:lnTo>
                    <a:lnTo>
                      <a:pt x="9162" y="6959"/>
                    </a:lnTo>
                    <a:lnTo>
                      <a:pt x="8984" y="6863"/>
                    </a:lnTo>
                    <a:lnTo>
                      <a:pt x="8806" y="6671"/>
                    </a:lnTo>
                    <a:lnTo>
                      <a:pt x="8628" y="6479"/>
                    </a:lnTo>
                    <a:lnTo>
                      <a:pt x="8450" y="6335"/>
                    </a:lnTo>
                    <a:lnTo>
                      <a:pt x="8272" y="6287"/>
                    </a:lnTo>
                    <a:lnTo>
                      <a:pt x="8139" y="6047"/>
                    </a:lnTo>
                    <a:lnTo>
                      <a:pt x="7961" y="5903"/>
                    </a:lnTo>
                    <a:lnTo>
                      <a:pt x="7783" y="5807"/>
                    </a:lnTo>
                    <a:lnTo>
                      <a:pt x="7605" y="5711"/>
                    </a:lnTo>
                    <a:lnTo>
                      <a:pt x="7427" y="5519"/>
                    </a:lnTo>
                    <a:lnTo>
                      <a:pt x="7249" y="5375"/>
                    </a:lnTo>
                    <a:lnTo>
                      <a:pt x="7071" y="5327"/>
                    </a:lnTo>
                    <a:lnTo>
                      <a:pt x="6893" y="5231"/>
                    </a:lnTo>
                    <a:lnTo>
                      <a:pt x="6715" y="5039"/>
                    </a:lnTo>
                    <a:lnTo>
                      <a:pt x="6582" y="4847"/>
                    </a:lnTo>
                    <a:lnTo>
                      <a:pt x="6404" y="4703"/>
                    </a:lnTo>
                    <a:lnTo>
                      <a:pt x="6182" y="4463"/>
                    </a:lnTo>
                    <a:lnTo>
                      <a:pt x="6004" y="4271"/>
                    </a:lnTo>
                    <a:lnTo>
                      <a:pt x="5826" y="4175"/>
                    </a:lnTo>
                    <a:lnTo>
                      <a:pt x="5648" y="4175"/>
                    </a:lnTo>
                    <a:lnTo>
                      <a:pt x="5426" y="4031"/>
                    </a:lnTo>
                    <a:lnTo>
                      <a:pt x="5203" y="3887"/>
                    </a:lnTo>
                    <a:lnTo>
                      <a:pt x="5025" y="3791"/>
                    </a:lnTo>
                    <a:lnTo>
                      <a:pt x="4847" y="3647"/>
                    </a:lnTo>
                    <a:lnTo>
                      <a:pt x="4670" y="3551"/>
                    </a:lnTo>
                    <a:lnTo>
                      <a:pt x="4492" y="3455"/>
                    </a:lnTo>
                    <a:lnTo>
                      <a:pt x="4314" y="3311"/>
                    </a:lnTo>
                    <a:lnTo>
                      <a:pt x="4136" y="3263"/>
                    </a:lnTo>
                    <a:lnTo>
                      <a:pt x="3958" y="3167"/>
                    </a:lnTo>
                    <a:lnTo>
                      <a:pt x="3824" y="2975"/>
                    </a:lnTo>
                    <a:lnTo>
                      <a:pt x="3736" y="2783"/>
                    </a:lnTo>
                    <a:lnTo>
                      <a:pt x="3602" y="2591"/>
                    </a:lnTo>
                    <a:lnTo>
                      <a:pt x="3469" y="2399"/>
                    </a:lnTo>
                    <a:lnTo>
                      <a:pt x="3335" y="2207"/>
                    </a:lnTo>
                    <a:lnTo>
                      <a:pt x="3157" y="2063"/>
                    </a:lnTo>
                    <a:lnTo>
                      <a:pt x="2979" y="1919"/>
                    </a:lnTo>
                    <a:lnTo>
                      <a:pt x="2802" y="1775"/>
                    </a:lnTo>
                    <a:lnTo>
                      <a:pt x="2624" y="1727"/>
                    </a:lnTo>
                    <a:lnTo>
                      <a:pt x="2446" y="1679"/>
                    </a:lnTo>
                    <a:lnTo>
                      <a:pt x="2268" y="1583"/>
                    </a:lnTo>
                    <a:lnTo>
                      <a:pt x="2090" y="1535"/>
                    </a:lnTo>
                    <a:lnTo>
                      <a:pt x="1912" y="1439"/>
                    </a:lnTo>
                    <a:lnTo>
                      <a:pt x="1779" y="1247"/>
                    </a:lnTo>
                    <a:lnTo>
                      <a:pt x="1690" y="1055"/>
                    </a:lnTo>
                    <a:lnTo>
                      <a:pt x="1556" y="863"/>
                    </a:lnTo>
                    <a:lnTo>
                      <a:pt x="1378" y="719"/>
                    </a:lnTo>
                    <a:lnTo>
                      <a:pt x="1245" y="527"/>
                    </a:lnTo>
                    <a:lnTo>
                      <a:pt x="1067" y="383"/>
                    </a:lnTo>
                    <a:lnTo>
                      <a:pt x="889" y="287"/>
                    </a:lnTo>
                    <a:lnTo>
                      <a:pt x="711" y="191"/>
                    </a:lnTo>
                    <a:lnTo>
                      <a:pt x="533" y="47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6400" cy="184680"/>
              </a:xfrm>
              <a:custGeom>
                <a:avLst/>
                <a:gdLst/>
                <a:ahLst/>
                <a:rect l="0" t="0" r="r" b="b"/>
                <a:pathLst>
                  <a:path w="23240" h="513">
                    <a:moveTo>
                      <a:pt x="0" y="0"/>
                    </a:moveTo>
                    <a:lnTo>
                      <a:pt x="474" y="513"/>
                    </a:lnTo>
                    <a:lnTo>
                      <a:pt x="22765" y="513"/>
                    </a:lnTo>
                    <a:lnTo>
                      <a:pt x="232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8480" cy="6172560"/>
              </a:xfrm>
              <a:custGeom>
                <a:avLst/>
                <a:gdLst/>
                <a:ahLst/>
                <a:rect l="0" t="0" r="r" b="b"/>
                <a:pathLst>
                  <a:path w="468" h="17146">
                    <a:moveTo>
                      <a:pt x="0" y="0"/>
                    </a:moveTo>
                    <a:lnTo>
                      <a:pt x="0" y="17146"/>
                    </a:lnTo>
                    <a:lnTo>
                      <a:pt x="468" y="16635"/>
                    </a:lnTo>
                    <a:lnTo>
                      <a:pt x="468" y="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8480" cy="6172560"/>
              </a:xfrm>
              <a:custGeom>
                <a:avLst/>
                <a:gdLst/>
                <a:ahLst/>
                <a:rect l="0" t="0" r="r" b="b"/>
                <a:pathLst>
                  <a:path w="468" h="17146">
                    <a:moveTo>
                      <a:pt x="0" y="511"/>
                    </a:moveTo>
                    <a:lnTo>
                      <a:pt x="0" y="16635"/>
                    </a:lnTo>
                    <a:lnTo>
                      <a:pt x="468" y="17146"/>
                    </a:lnTo>
                    <a:lnTo>
                      <a:pt x="468" y="0"/>
                    </a:lnTo>
                    <a:lnTo>
                      <a:pt x="0" y="511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6400" cy="184680"/>
              </a:xfrm>
              <a:custGeom>
                <a:avLst/>
                <a:gdLst/>
                <a:ahLst/>
                <a:rect l="0" t="0" r="r" b="b"/>
                <a:pathLst>
                  <a:path w="23240" h="513">
                    <a:moveTo>
                      <a:pt x="474" y="0"/>
                    </a:moveTo>
                    <a:lnTo>
                      <a:pt x="22765" y="0"/>
                    </a:lnTo>
                    <a:lnTo>
                      <a:pt x="23240" y="513"/>
                    </a:lnTo>
                    <a:lnTo>
                      <a:pt x="0" y="513"/>
                    </a:lnTo>
                    <a:lnTo>
                      <a:pt x="474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5640" cy="2972160"/>
              </a:xfrm>
              <a:custGeom>
                <a:avLst/>
                <a:gdLst/>
                <a:ahLst/>
                <a:rect l="0" t="0" r="r" b="b"/>
                <a:pathLst>
                  <a:path w="349" h="8256">
                    <a:moveTo>
                      <a:pt x="0" y="0"/>
                    </a:moveTo>
                    <a:lnTo>
                      <a:pt x="174" y="223"/>
                    </a:lnTo>
                    <a:lnTo>
                      <a:pt x="204" y="351"/>
                    </a:lnTo>
                    <a:lnTo>
                      <a:pt x="204" y="479"/>
                    </a:lnTo>
                    <a:lnTo>
                      <a:pt x="145" y="607"/>
                    </a:lnTo>
                    <a:lnTo>
                      <a:pt x="116" y="735"/>
                    </a:lnTo>
                    <a:lnTo>
                      <a:pt x="145" y="863"/>
                    </a:lnTo>
                    <a:lnTo>
                      <a:pt x="174" y="991"/>
                    </a:lnTo>
                    <a:lnTo>
                      <a:pt x="233" y="1119"/>
                    </a:lnTo>
                    <a:lnTo>
                      <a:pt x="233" y="1247"/>
                    </a:lnTo>
                    <a:lnTo>
                      <a:pt x="233" y="1375"/>
                    </a:lnTo>
                    <a:lnTo>
                      <a:pt x="204" y="1503"/>
                    </a:lnTo>
                    <a:lnTo>
                      <a:pt x="145" y="1631"/>
                    </a:lnTo>
                    <a:lnTo>
                      <a:pt x="145" y="1791"/>
                    </a:lnTo>
                    <a:lnTo>
                      <a:pt x="174" y="1919"/>
                    </a:lnTo>
                    <a:lnTo>
                      <a:pt x="204" y="2047"/>
                    </a:lnTo>
                    <a:lnTo>
                      <a:pt x="233" y="2208"/>
                    </a:lnTo>
                    <a:lnTo>
                      <a:pt x="204" y="2336"/>
                    </a:lnTo>
                    <a:lnTo>
                      <a:pt x="174" y="2464"/>
                    </a:lnTo>
                    <a:lnTo>
                      <a:pt x="145" y="2592"/>
                    </a:lnTo>
                    <a:lnTo>
                      <a:pt x="174" y="2720"/>
                    </a:lnTo>
                    <a:lnTo>
                      <a:pt x="204" y="2848"/>
                    </a:lnTo>
                    <a:lnTo>
                      <a:pt x="233" y="2976"/>
                    </a:lnTo>
                    <a:lnTo>
                      <a:pt x="262" y="3104"/>
                    </a:lnTo>
                    <a:lnTo>
                      <a:pt x="291" y="3232"/>
                    </a:lnTo>
                    <a:lnTo>
                      <a:pt x="291" y="3392"/>
                    </a:lnTo>
                    <a:lnTo>
                      <a:pt x="291" y="3520"/>
                    </a:lnTo>
                    <a:lnTo>
                      <a:pt x="233" y="3680"/>
                    </a:lnTo>
                    <a:lnTo>
                      <a:pt x="145" y="3808"/>
                    </a:lnTo>
                    <a:lnTo>
                      <a:pt x="87" y="3936"/>
                    </a:lnTo>
                    <a:lnTo>
                      <a:pt x="58" y="4064"/>
                    </a:lnTo>
                    <a:lnTo>
                      <a:pt x="87" y="4224"/>
                    </a:lnTo>
                    <a:lnTo>
                      <a:pt x="145" y="4352"/>
                    </a:lnTo>
                    <a:lnTo>
                      <a:pt x="204" y="4480"/>
                    </a:lnTo>
                    <a:lnTo>
                      <a:pt x="262" y="4640"/>
                    </a:lnTo>
                    <a:lnTo>
                      <a:pt x="262" y="4800"/>
                    </a:lnTo>
                    <a:lnTo>
                      <a:pt x="233" y="4960"/>
                    </a:lnTo>
                    <a:lnTo>
                      <a:pt x="204" y="5088"/>
                    </a:lnTo>
                    <a:lnTo>
                      <a:pt x="204" y="5248"/>
                    </a:lnTo>
                    <a:lnTo>
                      <a:pt x="233" y="5376"/>
                    </a:lnTo>
                    <a:lnTo>
                      <a:pt x="233" y="5504"/>
                    </a:lnTo>
                    <a:lnTo>
                      <a:pt x="262" y="5632"/>
                    </a:lnTo>
                    <a:lnTo>
                      <a:pt x="233" y="5792"/>
                    </a:lnTo>
                    <a:lnTo>
                      <a:pt x="233" y="5920"/>
                    </a:lnTo>
                    <a:lnTo>
                      <a:pt x="233" y="6080"/>
                    </a:lnTo>
                    <a:lnTo>
                      <a:pt x="233" y="6209"/>
                    </a:lnTo>
                    <a:lnTo>
                      <a:pt x="233" y="6465"/>
                    </a:lnTo>
                    <a:lnTo>
                      <a:pt x="233" y="6721"/>
                    </a:lnTo>
                    <a:lnTo>
                      <a:pt x="233" y="6849"/>
                    </a:lnTo>
                    <a:lnTo>
                      <a:pt x="233" y="6977"/>
                    </a:lnTo>
                    <a:lnTo>
                      <a:pt x="233" y="7105"/>
                    </a:lnTo>
                    <a:lnTo>
                      <a:pt x="233" y="7233"/>
                    </a:lnTo>
                    <a:lnTo>
                      <a:pt x="233" y="7361"/>
                    </a:lnTo>
                    <a:lnTo>
                      <a:pt x="291" y="7489"/>
                    </a:lnTo>
                    <a:lnTo>
                      <a:pt x="291" y="7617"/>
                    </a:lnTo>
                    <a:lnTo>
                      <a:pt x="233" y="7745"/>
                    </a:lnTo>
                    <a:lnTo>
                      <a:pt x="204" y="7873"/>
                    </a:lnTo>
                    <a:lnTo>
                      <a:pt x="262" y="8001"/>
                    </a:lnTo>
                    <a:lnTo>
                      <a:pt x="291" y="8129"/>
                    </a:lnTo>
                    <a:lnTo>
                      <a:pt x="291" y="8256"/>
                    </a:lnTo>
                    <a:lnTo>
                      <a:pt x="233" y="8129"/>
                    </a:lnTo>
                    <a:lnTo>
                      <a:pt x="174" y="8001"/>
                    </a:lnTo>
                    <a:lnTo>
                      <a:pt x="145" y="7873"/>
                    </a:lnTo>
                    <a:lnTo>
                      <a:pt x="204" y="7745"/>
                    </a:lnTo>
                    <a:lnTo>
                      <a:pt x="262" y="7617"/>
                    </a:lnTo>
                    <a:lnTo>
                      <a:pt x="233" y="7489"/>
                    </a:lnTo>
                    <a:lnTo>
                      <a:pt x="204" y="7361"/>
                    </a:lnTo>
                    <a:lnTo>
                      <a:pt x="233" y="7233"/>
                    </a:lnTo>
                    <a:lnTo>
                      <a:pt x="233" y="7105"/>
                    </a:lnTo>
                    <a:lnTo>
                      <a:pt x="233" y="6977"/>
                    </a:lnTo>
                    <a:lnTo>
                      <a:pt x="204" y="6849"/>
                    </a:lnTo>
                    <a:lnTo>
                      <a:pt x="204" y="6721"/>
                    </a:lnTo>
                    <a:lnTo>
                      <a:pt x="204" y="6593"/>
                    </a:lnTo>
                    <a:lnTo>
                      <a:pt x="233" y="6433"/>
                    </a:lnTo>
                    <a:lnTo>
                      <a:pt x="233" y="6305"/>
                    </a:lnTo>
                    <a:lnTo>
                      <a:pt x="233" y="6144"/>
                    </a:lnTo>
                    <a:lnTo>
                      <a:pt x="204" y="6016"/>
                    </a:lnTo>
                    <a:lnTo>
                      <a:pt x="204" y="5856"/>
                    </a:lnTo>
                    <a:lnTo>
                      <a:pt x="233" y="5728"/>
                    </a:lnTo>
                    <a:lnTo>
                      <a:pt x="233" y="5568"/>
                    </a:lnTo>
                    <a:lnTo>
                      <a:pt x="204" y="5440"/>
                    </a:lnTo>
                    <a:lnTo>
                      <a:pt x="174" y="5312"/>
                    </a:lnTo>
                    <a:lnTo>
                      <a:pt x="145" y="5184"/>
                    </a:lnTo>
                    <a:lnTo>
                      <a:pt x="174" y="5024"/>
                    </a:lnTo>
                    <a:lnTo>
                      <a:pt x="233" y="4896"/>
                    </a:lnTo>
                    <a:lnTo>
                      <a:pt x="291" y="4768"/>
                    </a:lnTo>
                    <a:lnTo>
                      <a:pt x="262" y="4640"/>
                    </a:lnTo>
                    <a:lnTo>
                      <a:pt x="174" y="4512"/>
                    </a:lnTo>
                    <a:lnTo>
                      <a:pt x="58" y="4416"/>
                    </a:lnTo>
                    <a:lnTo>
                      <a:pt x="29" y="4288"/>
                    </a:lnTo>
                    <a:lnTo>
                      <a:pt x="145" y="4160"/>
                    </a:lnTo>
                    <a:lnTo>
                      <a:pt x="233" y="4000"/>
                    </a:lnTo>
                    <a:lnTo>
                      <a:pt x="233" y="3872"/>
                    </a:lnTo>
                    <a:lnTo>
                      <a:pt x="233" y="3712"/>
                    </a:lnTo>
                    <a:lnTo>
                      <a:pt x="233" y="3584"/>
                    </a:lnTo>
                    <a:lnTo>
                      <a:pt x="262" y="3456"/>
                    </a:lnTo>
                    <a:lnTo>
                      <a:pt x="262" y="3328"/>
                    </a:lnTo>
                    <a:lnTo>
                      <a:pt x="233" y="3200"/>
                    </a:lnTo>
                    <a:lnTo>
                      <a:pt x="233" y="3072"/>
                    </a:lnTo>
                    <a:lnTo>
                      <a:pt x="174" y="2944"/>
                    </a:lnTo>
                    <a:lnTo>
                      <a:pt x="174" y="2816"/>
                    </a:lnTo>
                    <a:lnTo>
                      <a:pt x="174" y="2688"/>
                    </a:lnTo>
                    <a:lnTo>
                      <a:pt x="262" y="2560"/>
                    </a:lnTo>
                    <a:lnTo>
                      <a:pt x="320" y="2432"/>
                    </a:lnTo>
                    <a:lnTo>
                      <a:pt x="349" y="2272"/>
                    </a:lnTo>
                    <a:lnTo>
                      <a:pt x="349" y="2144"/>
                    </a:lnTo>
                    <a:lnTo>
                      <a:pt x="262" y="2015"/>
                    </a:lnTo>
                    <a:lnTo>
                      <a:pt x="233" y="1887"/>
                    </a:lnTo>
                    <a:lnTo>
                      <a:pt x="233" y="1759"/>
                    </a:lnTo>
                    <a:lnTo>
                      <a:pt x="233" y="1631"/>
                    </a:lnTo>
                    <a:lnTo>
                      <a:pt x="204" y="1503"/>
                    </a:lnTo>
                    <a:lnTo>
                      <a:pt x="145" y="1375"/>
                    </a:lnTo>
                    <a:lnTo>
                      <a:pt x="145" y="1247"/>
                    </a:lnTo>
                    <a:lnTo>
                      <a:pt x="116" y="1087"/>
                    </a:lnTo>
                    <a:lnTo>
                      <a:pt x="116" y="959"/>
                    </a:lnTo>
                    <a:lnTo>
                      <a:pt x="174" y="831"/>
                    </a:lnTo>
                    <a:lnTo>
                      <a:pt x="233" y="703"/>
                    </a:lnTo>
                    <a:lnTo>
                      <a:pt x="233" y="575"/>
                    </a:lnTo>
                    <a:lnTo>
                      <a:pt x="233" y="447"/>
                    </a:lnTo>
                    <a:lnTo>
                      <a:pt x="145" y="319"/>
                    </a:lnTo>
                    <a:lnTo>
                      <a:pt x="87" y="191"/>
                    </a:lnTo>
                    <a:lnTo>
                      <a:pt x="29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0600" cy="125640"/>
              </a:xfrm>
              <a:custGeom>
                <a:avLst/>
                <a:gdLst/>
                <a:ahLst/>
                <a:rect l="0" t="0" r="r" b="b"/>
                <a:pathLst>
                  <a:path w="6585" h="349">
                    <a:moveTo>
                      <a:pt x="59" y="191"/>
                    </a:moveTo>
                    <a:lnTo>
                      <a:pt x="385" y="0"/>
                    </a:lnTo>
                    <a:lnTo>
                      <a:pt x="504" y="31"/>
                    </a:lnTo>
                    <a:lnTo>
                      <a:pt x="622" y="126"/>
                    </a:lnTo>
                    <a:lnTo>
                      <a:pt x="741" y="191"/>
                    </a:lnTo>
                    <a:lnTo>
                      <a:pt x="889" y="191"/>
                    </a:lnTo>
                    <a:lnTo>
                      <a:pt x="1067" y="191"/>
                    </a:lnTo>
                    <a:lnTo>
                      <a:pt x="1186" y="191"/>
                    </a:lnTo>
                    <a:lnTo>
                      <a:pt x="1364" y="222"/>
                    </a:lnTo>
                    <a:lnTo>
                      <a:pt x="1482" y="286"/>
                    </a:lnTo>
                    <a:lnTo>
                      <a:pt x="1721" y="349"/>
                    </a:lnTo>
                    <a:lnTo>
                      <a:pt x="1958" y="349"/>
                    </a:lnTo>
                    <a:lnTo>
                      <a:pt x="2136" y="349"/>
                    </a:lnTo>
                    <a:lnTo>
                      <a:pt x="2314" y="317"/>
                    </a:lnTo>
                    <a:lnTo>
                      <a:pt x="2492" y="286"/>
                    </a:lnTo>
                    <a:lnTo>
                      <a:pt x="2699" y="286"/>
                    </a:lnTo>
                    <a:lnTo>
                      <a:pt x="2907" y="254"/>
                    </a:lnTo>
                    <a:lnTo>
                      <a:pt x="3144" y="191"/>
                    </a:lnTo>
                    <a:lnTo>
                      <a:pt x="3292" y="191"/>
                    </a:lnTo>
                    <a:lnTo>
                      <a:pt x="3411" y="191"/>
                    </a:lnTo>
                    <a:lnTo>
                      <a:pt x="3589" y="191"/>
                    </a:lnTo>
                    <a:lnTo>
                      <a:pt x="3708" y="222"/>
                    </a:lnTo>
                    <a:lnTo>
                      <a:pt x="3856" y="254"/>
                    </a:lnTo>
                    <a:lnTo>
                      <a:pt x="3974" y="254"/>
                    </a:lnTo>
                    <a:lnTo>
                      <a:pt x="4301" y="222"/>
                    </a:lnTo>
                    <a:lnTo>
                      <a:pt x="4419" y="191"/>
                    </a:lnTo>
                    <a:lnTo>
                      <a:pt x="4538" y="158"/>
                    </a:lnTo>
                    <a:lnTo>
                      <a:pt x="4716" y="158"/>
                    </a:lnTo>
                    <a:lnTo>
                      <a:pt x="4834" y="158"/>
                    </a:lnTo>
                    <a:lnTo>
                      <a:pt x="5013" y="158"/>
                    </a:lnTo>
                    <a:lnTo>
                      <a:pt x="5251" y="158"/>
                    </a:lnTo>
                    <a:lnTo>
                      <a:pt x="5429" y="158"/>
                    </a:lnTo>
                    <a:lnTo>
                      <a:pt x="5666" y="126"/>
                    </a:lnTo>
                    <a:lnTo>
                      <a:pt x="5784" y="126"/>
                    </a:lnTo>
                    <a:lnTo>
                      <a:pt x="5962" y="126"/>
                    </a:lnTo>
                    <a:lnTo>
                      <a:pt x="6081" y="126"/>
                    </a:lnTo>
                    <a:lnTo>
                      <a:pt x="6200" y="158"/>
                    </a:lnTo>
                    <a:lnTo>
                      <a:pt x="6348" y="191"/>
                    </a:lnTo>
                    <a:lnTo>
                      <a:pt x="6467" y="95"/>
                    </a:lnTo>
                    <a:lnTo>
                      <a:pt x="6585" y="63"/>
                    </a:lnTo>
                    <a:lnTo>
                      <a:pt x="6467" y="95"/>
                    </a:lnTo>
                    <a:lnTo>
                      <a:pt x="6348" y="126"/>
                    </a:lnTo>
                    <a:lnTo>
                      <a:pt x="6229" y="158"/>
                    </a:lnTo>
                    <a:lnTo>
                      <a:pt x="6111" y="158"/>
                    </a:lnTo>
                    <a:lnTo>
                      <a:pt x="5962" y="126"/>
                    </a:lnTo>
                    <a:lnTo>
                      <a:pt x="5844" y="126"/>
                    </a:lnTo>
                    <a:lnTo>
                      <a:pt x="5725" y="126"/>
                    </a:lnTo>
                    <a:lnTo>
                      <a:pt x="5458" y="191"/>
                    </a:lnTo>
                    <a:lnTo>
                      <a:pt x="5280" y="254"/>
                    </a:lnTo>
                    <a:lnTo>
                      <a:pt x="5162" y="317"/>
                    </a:lnTo>
                    <a:lnTo>
                      <a:pt x="5013" y="317"/>
                    </a:lnTo>
                    <a:lnTo>
                      <a:pt x="4894" y="286"/>
                    </a:lnTo>
                    <a:lnTo>
                      <a:pt x="4775" y="254"/>
                    </a:lnTo>
                    <a:lnTo>
                      <a:pt x="4657" y="222"/>
                    </a:lnTo>
                    <a:lnTo>
                      <a:pt x="4508" y="158"/>
                    </a:lnTo>
                    <a:lnTo>
                      <a:pt x="4241" y="158"/>
                    </a:lnTo>
                    <a:lnTo>
                      <a:pt x="4034" y="158"/>
                    </a:lnTo>
                    <a:lnTo>
                      <a:pt x="3885" y="191"/>
                    </a:lnTo>
                    <a:lnTo>
                      <a:pt x="3767" y="222"/>
                    </a:lnTo>
                    <a:lnTo>
                      <a:pt x="3648" y="254"/>
                    </a:lnTo>
                    <a:lnTo>
                      <a:pt x="3530" y="254"/>
                    </a:lnTo>
                    <a:lnTo>
                      <a:pt x="3292" y="254"/>
                    </a:lnTo>
                    <a:lnTo>
                      <a:pt x="3055" y="254"/>
                    </a:lnTo>
                    <a:lnTo>
                      <a:pt x="2907" y="254"/>
                    </a:lnTo>
                    <a:lnTo>
                      <a:pt x="2788" y="222"/>
                    </a:lnTo>
                    <a:lnTo>
                      <a:pt x="2670" y="222"/>
                    </a:lnTo>
                    <a:lnTo>
                      <a:pt x="2551" y="254"/>
                    </a:lnTo>
                    <a:lnTo>
                      <a:pt x="2432" y="254"/>
                    </a:lnTo>
                    <a:lnTo>
                      <a:pt x="2314" y="286"/>
                    </a:lnTo>
                    <a:lnTo>
                      <a:pt x="2136" y="286"/>
                    </a:lnTo>
                    <a:lnTo>
                      <a:pt x="1958" y="254"/>
                    </a:lnTo>
                    <a:lnTo>
                      <a:pt x="1839" y="254"/>
                    </a:lnTo>
                    <a:lnTo>
                      <a:pt x="1721" y="191"/>
                    </a:lnTo>
                    <a:lnTo>
                      <a:pt x="1601" y="158"/>
                    </a:lnTo>
                    <a:lnTo>
                      <a:pt x="1482" y="191"/>
                    </a:lnTo>
                    <a:lnTo>
                      <a:pt x="1364" y="254"/>
                    </a:lnTo>
                    <a:lnTo>
                      <a:pt x="1245" y="254"/>
                    </a:lnTo>
                    <a:lnTo>
                      <a:pt x="1126" y="254"/>
                    </a:lnTo>
                    <a:lnTo>
                      <a:pt x="978" y="222"/>
                    </a:lnTo>
                    <a:lnTo>
                      <a:pt x="860" y="222"/>
                    </a:lnTo>
                    <a:lnTo>
                      <a:pt x="741" y="95"/>
                    </a:lnTo>
                    <a:lnTo>
                      <a:pt x="622" y="31"/>
                    </a:lnTo>
                    <a:lnTo>
                      <a:pt x="504" y="63"/>
                    </a:lnTo>
                    <a:lnTo>
                      <a:pt x="355" y="95"/>
                    </a:lnTo>
                    <a:lnTo>
                      <a:pt x="237" y="158"/>
                    </a:lnTo>
                    <a:lnTo>
                      <a:pt x="118" y="158"/>
                    </a:lnTo>
                    <a:lnTo>
                      <a:pt x="0" y="222"/>
                    </a:lnTo>
                    <a:lnTo>
                      <a:pt x="59" y="191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2400" cy="127440"/>
              </a:xfrm>
              <a:custGeom>
                <a:avLst/>
                <a:gdLst/>
                <a:ahLst/>
                <a:rect l="0" t="0" r="r" b="b"/>
                <a:pathLst>
                  <a:path w="7590" h="354">
                    <a:moveTo>
                      <a:pt x="0" y="0"/>
                    </a:moveTo>
                    <a:lnTo>
                      <a:pt x="7590" y="0"/>
                    </a:lnTo>
                    <a:lnTo>
                      <a:pt x="7590" y="0"/>
                    </a:lnTo>
                    <a:lnTo>
                      <a:pt x="7234" y="97"/>
                    </a:lnTo>
                    <a:lnTo>
                      <a:pt x="7115" y="32"/>
                    </a:lnTo>
                    <a:lnTo>
                      <a:pt x="6997" y="0"/>
                    </a:lnTo>
                    <a:lnTo>
                      <a:pt x="6878" y="64"/>
                    </a:lnTo>
                    <a:lnTo>
                      <a:pt x="6760" y="193"/>
                    </a:lnTo>
                    <a:lnTo>
                      <a:pt x="6641" y="257"/>
                    </a:lnTo>
                    <a:lnTo>
                      <a:pt x="6522" y="322"/>
                    </a:lnTo>
                    <a:lnTo>
                      <a:pt x="6256" y="354"/>
                    </a:lnTo>
                    <a:lnTo>
                      <a:pt x="5959" y="354"/>
                    </a:lnTo>
                    <a:lnTo>
                      <a:pt x="5781" y="322"/>
                    </a:lnTo>
                    <a:lnTo>
                      <a:pt x="5663" y="290"/>
                    </a:lnTo>
                    <a:lnTo>
                      <a:pt x="5514" y="322"/>
                    </a:lnTo>
                    <a:lnTo>
                      <a:pt x="5396" y="322"/>
                    </a:lnTo>
                    <a:lnTo>
                      <a:pt x="5159" y="322"/>
                    </a:lnTo>
                    <a:lnTo>
                      <a:pt x="4951" y="290"/>
                    </a:lnTo>
                    <a:lnTo>
                      <a:pt x="4833" y="290"/>
                    </a:lnTo>
                    <a:lnTo>
                      <a:pt x="4655" y="257"/>
                    </a:lnTo>
                    <a:lnTo>
                      <a:pt x="4536" y="257"/>
                    </a:lnTo>
                    <a:lnTo>
                      <a:pt x="4418" y="161"/>
                    </a:lnTo>
                    <a:lnTo>
                      <a:pt x="4269" y="64"/>
                    </a:lnTo>
                    <a:lnTo>
                      <a:pt x="4121" y="64"/>
                    </a:lnTo>
                    <a:lnTo>
                      <a:pt x="4003" y="64"/>
                    </a:lnTo>
                    <a:lnTo>
                      <a:pt x="3884" y="64"/>
                    </a:lnTo>
                    <a:lnTo>
                      <a:pt x="3735" y="129"/>
                    </a:lnTo>
                    <a:lnTo>
                      <a:pt x="3468" y="193"/>
                    </a:lnTo>
                    <a:lnTo>
                      <a:pt x="3320" y="225"/>
                    </a:lnTo>
                    <a:lnTo>
                      <a:pt x="3201" y="225"/>
                    </a:lnTo>
                    <a:lnTo>
                      <a:pt x="3023" y="193"/>
                    </a:lnTo>
                    <a:lnTo>
                      <a:pt x="2905" y="129"/>
                    </a:lnTo>
                    <a:lnTo>
                      <a:pt x="2786" y="97"/>
                    </a:lnTo>
                    <a:lnTo>
                      <a:pt x="2638" y="97"/>
                    </a:lnTo>
                    <a:lnTo>
                      <a:pt x="2490" y="97"/>
                    </a:lnTo>
                    <a:lnTo>
                      <a:pt x="2341" y="129"/>
                    </a:lnTo>
                    <a:lnTo>
                      <a:pt x="2104" y="129"/>
                    </a:lnTo>
                    <a:lnTo>
                      <a:pt x="1926" y="161"/>
                    </a:lnTo>
                    <a:lnTo>
                      <a:pt x="1778" y="193"/>
                    </a:lnTo>
                    <a:lnTo>
                      <a:pt x="1660" y="193"/>
                    </a:lnTo>
                    <a:lnTo>
                      <a:pt x="1511" y="193"/>
                    </a:lnTo>
                    <a:lnTo>
                      <a:pt x="1245" y="193"/>
                    </a:lnTo>
                    <a:lnTo>
                      <a:pt x="1007" y="129"/>
                    </a:lnTo>
                    <a:lnTo>
                      <a:pt x="859" y="97"/>
                    </a:lnTo>
                    <a:lnTo>
                      <a:pt x="741" y="97"/>
                    </a:lnTo>
                    <a:lnTo>
                      <a:pt x="622" y="64"/>
                    </a:lnTo>
                    <a:lnTo>
                      <a:pt x="503" y="32"/>
                    </a:lnTo>
                    <a:lnTo>
                      <a:pt x="385" y="32"/>
                    </a:lnTo>
                    <a:lnTo>
                      <a:pt x="266" y="64"/>
                    </a:lnTo>
                    <a:lnTo>
                      <a:pt x="148" y="97"/>
                    </a:lnTo>
                    <a:lnTo>
                      <a:pt x="29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5640" cy="2167200"/>
              </a:xfrm>
              <a:custGeom>
                <a:avLst/>
                <a:gdLst/>
                <a:ahLst/>
                <a:rect l="0" t="0" r="r" b="b"/>
                <a:pathLst>
                  <a:path w="349" h="6020">
                    <a:moveTo>
                      <a:pt x="0" y="0"/>
                    </a:moveTo>
                    <a:lnTo>
                      <a:pt x="145" y="480"/>
                    </a:lnTo>
                    <a:lnTo>
                      <a:pt x="233" y="608"/>
                    </a:lnTo>
                    <a:lnTo>
                      <a:pt x="262" y="736"/>
                    </a:lnTo>
                    <a:lnTo>
                      <a:pt x="291" y="864"/>
                    </a:lnTo>
                    <a:lnTo>
                      <a:pt x="262" y="1024"/>
                    </a:lnTo>
                    <a:lnTo>
                      <a:pt x="204" y="1184"/>
                    </a:lnTo>
                    <a:lnTo>
                      <a:pt x="174" y="1312"/>
                    </a:lnTo>
                    <a:lnTo>
                      <a:pt x="145" y="1472"/>
                    </a:lnTo>
                    <a:lnTo>
                      <a:pt x="145" y="1600"/>
                    </a:lnTo>
                    <a:lnTo>
                      <a:pt x="145" y="1728"/>
                    </a:lnTo>
                    <a:lnTo>
                      <a:pt x="174" y="1857"/>
                    </a:lnTo>
                    <a:lnTo>
                      <a:pt x="174" y="2017"/>
                    </a:lnTo>
                    <a:lnTo>
                      <a:pt x="233" y="2177"/>
                    </a:lnTo>
                    <a:lnTo>
                      <a:pt x="233" y="2305"/>
                    </a:lnTo>
                    <a:lnTo>
                      <a:pt x="233" y="2561"/>
                    </a:lnTo>
                    <a:lnTo>
                      <a:pt x="233" y="2689"/>
                    </a:lnTo>
                    <a:lnTo>
                      <a:pt x="233" y="2881"/>
                    </a:lnTo>
                    <a:lnTo>
                      <a:pt x="233" y="3074"/>
                    </a:lnTo>
                    <a:lnTo>
                      <a:pt x="262" y="3266"/>
                    </a:lnTo>
                    <a:lnTo>
                      <a:pt x="291" y="3394"/>
                    </a:lnTo>
                    <a:lnTo>
                      <a:pt x="291" y="3522"/>
                    </a:lnTo>
                    <a:lnTo>
                      <a:pt x="262" y="3683"/>
                    </a:lnTo>
                    <a:lnTo>
                      <a:pt x="204" y="3843"/>
                    </a:lnTo>
                    <a:lnTo>
                      <a:pt x="233" y="3971"/>
                    </a:lnTo>
                    <a:lnTo>
                      <a:pt x="291" y="4099"/>
                    </a:lnTo>
                    <a:lnTo>
                      <a:pt x="291" y="4227"/>
                    </a:lnTo>
                    <a:lnTo>
                      <a:pt x="262" y="4483"/>
                    </a:lnTo>
                    <a:lnTo>
                      <a:pt x="233" y="4675"/>
                    </a:lnTo>
                    <a:lnTo>
                      <a:pt x="233" y="4803"/>
                    </a:lnTo>
                    <a:lnTo>
                      <a:pt x="262" y="4931"/>
                    </a:lnTo>
                    <a:lnTo>
                      <a:pt x="320" y="5059"/>
                    </a:lnTo>
                    <a:lnTo>
                      <a:pt x="320" y="5187"/>
                    </a:lnTo>
                    <a:lnTo>
                      <a:pt x="262" y="5347"/>
                    </a:lnTo>
                    <a:lnTo>
                      <a:pt x="204" y="5475"/>
                    </a:lnTo>
                    <a:lnTo>
                      <a:pt x="233" y="5636"/>
                    </a:lnTo>
                    <a:lnTo>
                      <a:pt x="291" y="5764"/>
                    </a:lnTo>
                    <a:lnTo>
                      <a:pt x="320" y="5892"/>
                    </a:lnTo>
                    <a:lnTo>
                      <a:pt x="349" y="6020"/>
                    </a:lnTo>
                    <a:lnTo>
                      <a:pt x="262" y="5732"/>
                    </a:lnTo>
                    <a:lnTo>
                      <a:pt x="174" y="5604"/>
                    </a:lnTo>
                    <a:lnTo>
                      <a:pt x="145" y="5475"/>
                    </a:lnTo>
                    <a:lnTo>
                      <a:pt x="145" y="5219"/>
                    </a:lnTo>
                    <a:lnTo>
                      <a:pt x="204" y="5091"/>
                    </a:lnTo>
                    <a:lnTo>
                      <a:pt x="262" y="4963"/>
                    </a:lnTo>
                    <a:lnTo>
                      <a:pt x="262" y="4803"/>
                    </a:lnTo>
                    <a:lnTo>
                      <a:pt x="262" y="4675"/>
                    </a:lnTo>
                    <a:lnTo>
                      <a:pt x="262" y="4547"/>
                    </a:lnTo>
                    <a:lnTo>
                      <a:pt x="291" y="4387"/>
                    </a:lnTo>
                    <a:lnTo>
                      <a:pt x="291" y="4259"/>
                    </a:lnTo>
                    <a:lnTo>
                      <a:pt x="291" y="4067"/>
                    </a:lnTo>
                    <a:lnTo>
                      <a:pt x="291" y="3811"/>
                    </a:lnTo>
                    <a:lnTo>
                      <a:pt x="174" y="3683"/>
                    </a:lnTo>
                    <a:lnTo>
                      <a:pt x="116" y="3522"/>
                    </a:lnTo>
                    <a:lnTo>
                      <a:pt x="116" y="3394"/>
                    </a:lnTo>
                    <a:lnTo>
                      <a:pt x="116" y="3202"/>
                    </a:lnTo>
                    <a:lnTo>
                      <a:pt x="116" y="3009"/>
                    </a:lnTo>
                    <a:lnTo>
                      <a:pt x="116" y="2817"/>
                    </a:lnTo>
                    <a:lnTo>
                      <a:pt x="116" y="2689"/>
                    </a:lnTo>
                    <a:lnTo>
                      <a:pt x="116" y="2561"/>
                    </a:lnTo>
                    <a:lnTo>
                      <a:pt x="116" y="2433"/>
                    </a:lnTo>
                    <a:lnTo>
                      <a:pt x="174" y="2305"/>
                    </a:lnTo>
                    <a:lnTo>
                      <a:pt x="204" y="2145"/>
                    </a:lnTo>
                    <a:lnTo>
                      <a:pt x="204" y="1985"/>
                    </a:lnTo>
                    <a:lnTo>
                      <a:pt x="204" y="1857"/>
                    </a:lnTo>
                    <a:lnTo>
                      <a:pt x="204" y="1728"/>
                    </a:lnTo>
                    <a:lnTo>
                      <a:pt x="204" y="1536"/>
                    </a:lnTo>
                    <a:lnTo>
                      <a:pt x="204" y="1408"/>
                    </a:lnTo>
                    <a:lnTo>
                      <a:pt x="204" y="1280"/>
                    </a:lnTo>
                    <a:lnTo>
                      <a:pt x="204" y="1120"/>
                    </a:lnTo>
                    <a:lnTo>
                      <a:pt x="204" y="992"/>
                    </a:lnTo>
                    <a:lnTo>
                      <a:pt x="233" y="864"/>
                    </a:lnTo>
                    <a:lnTo>
                      <a:pt x="262" y="704"/>
                    </a:lnTo>
                    <a:lnTo>
                      <a:pt x="204" y="576"/>
                    </a:lnTo>
                    <a:lnTo>
                      <a:pt x="116" y="448"/>
                    </a:lnTo>
                    <a:lnTo>
                      <a:pt x="58" y="320"/>
                    </a:lnTo>
                    <a:lnTo>
                      <a:pt x="58" y="192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8480" cy="3387960"/>
              </a:xfrm>
              <a:custGeom>
                <a:avLst/>
                <a:gdLst/>
                <a:ahLst/>
                <a:rect l="0" t="0" r="r" b="b"/>
                <a:pathLst>
                  <a:path w="468" h="9411">
                    <a:moveTo>
                      <a:pt x="0" y="0"/>
                    </a:moveTo>
                    <a:lnTo>
                      <a:pt x="468" y="512"/>
                    </a:lnTo>
                    <a:lnTo>
                      <a:pt x="468" y="4353"/>
                    </a:lnTo>
                    <a:lnTo>
                      <a:pt x="233" y="4609"/>
                    </a:lnTo>
                    <a:lnTo>
                      <a:pt x="233" y="5122"/>
                    </a:lnTo>
                    <a:lnTo>
                      <a:pt x="293" y="5378"/>
                    </a:lnTo>
                    <a:lnTo>
                      <a:pt x="175" y="5634"/>
                    </a:lnTo>
                    <a:lnTo>
                      <a:pt x="175" y="5890"/>
                    </a:lnTo>
                    <a:lnTo>
                      <a:pt x="116" y="6146"/>
                    </a:lnTo>
                    <a:lnTo>
                      <a:pt x="175" y="6402"/>
                    </a:lnTo>
                    <a:lnTo>
                      <a:pt x="233" y="6658"/>
                    </a:lnTo>
                    <a:lnTo>
                      <a:pt x="233" y="6914"/>
                    </a:lnTo>
                    <a:lnTo>
                      <a:pt x="293" y="7170"/>
                    </a:lnTo>
                    <a:lnTo>
                      <a:pt x="175" y="7426"/>
                    </a:lnTo>
                    <a:lnTo>
                      <a:pt x="116" y="7682"/>
                    </a:lnTo>
                    <a:lnTo>
                      <a:pt x="116" y="7938"/>
                    </a:lnTo>
                    <a:lnTo>
                      <a:pt x="175" y="8259"/>
                    </a:lnTo>
                    <a:lnTo>
                      <a:pt x="175" y="8579"/>
                    </a:lnTo>
                    <a:lnTo>
                      <a:pt x="116" y="8899"/>
                    </a:lnTo>
                    <a:lnTo>
                      <a:pt x="175" y="9155"/>
                    </a:lnTo>
                    <a:lnTo>
                      <a:pt x="233" y="9411"/>
                    </a:lnTo>
                    <a:lnTo>
                      <a:pt x="58" y="9091"/>
                    </a:lnTo>
                    <a:lnTo>
                      <a:pt x="58" y="8707"/>
                    </a:lnTo>
                    <a:lnTo>
                      <a:pt x="58" y="8451"/>
                    </a:lnTo>
                    <a:lnTo>
                      <a:pt x="116" y="8195"/>
                    </a:lnTo>
                    <a:lnTo>
                      <a:pt x="175" y="7938"/>
                    </a:lnTo>
                    <a:lnTo>
                      <a:pt x="175" y="7426"/>
                    </a:lnTo>
                    <a:lnTo>
                      <a:pt x="175" y="7042"/>
                    </a:lnTo>
                    <a:lnTo>
                      <a:pt x="175" y="6786"/>
                    </a:lnTo>
                    <a:lnTo>
                      <a:pt x="175" y="6530"/>
                    </a:lnTo>
                    <a:lnTo>
                      <a:pt x="233" y="6274"/>
                    </a:lnTo>
                    <a:lnTo>
                      <a:pt x="233" y="5954"/>
                    </a:lnTo>
                    <a:lnTo>
                      <a:pt x="233" y="5698"/>
                    </a:lnTo>
                    <a:lnTo>
                      <a:pt x="175" y="5442"/>
                    </a:lnTo>
                    <a:lnTo>
                      <a:pt x="175" y="5186"/>
                    </a:lnTo>
                    <a:lnTo>
                      <a:pt x="233" y="4930"/>
                    </a:lnTo>
                    <a:lnTo>
                      <a:pt x="293" y="4673"/>
                    </a:lnTo>
                    <a:lnTo>
                      <a:pt x="293" y="4353"/>
                    </a:lnTo>
                    <a:lnTo>
                      <a:pt x="293" y="4097"/>
                    </a:lnTo>
                    <a:lnTo>
                      <a:pt x="293" y="3840"/>
                    </a:lnTo>
                    <a:lnTo>
                      <a:pt x="293" y="3520"/>
                    </a:lnTo>
                    <a:lnTo>
                      <a:pt x="293" y="3200"/>
                    </a:lnTo>
                    <a:lnTo>
                      <a:pt x="293" y="2944"/>
                    </a:lnTo>
                    <a:lnTo>
                      <a:pt x="293" y="2432"/>
                    </a:lnTo>
                    <a:lnTo>
                      <a:pt x="233" y="2176"/>
                    </a:lnTo>
                    <a:lnTo>
                      <a:pt x="233" y="1920"/>
                    </a:lnTo>
                    <a:lnTo>
                      <a:pt x="233" y="1664"/>
                    </a:lnTo>
                    <a:lnTo>
                      <a:pt x="233" y="1408"/>
                    </a:lnTo>
                    <a:lnTo>
                      <a:pt x="233" y="1152"/>
                    </a:lnTo>
                    <a:lnTo>
                      <a:pt x="233" y="896"/>
                    </a:lnTo>
                    <a:lnTo>
                      <a:pt x="233" y="640"/>
                    </a:lnTo>
                    <a:lnTo>
                      <a:pt x="116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6520" cy="2696040"/>
              </a:xfrm>
              <a:custGeom>
                <a:avLst/>
                <a:gdLst/>
                <a:ahLst/>
                <a:rect l="0" t="0" r="r" b="b"/>
                <a:pathLst>
                  <a:path w="407" h="7489">
                    <a:moveTo>
                      <a:pt x="407" y="0"/>
                    </a:moveTo>
                    <a:lnTo>
                      <a:pt x="349" y="319"/>
                    </a:lnTo>
                    <a:lnTo>
                      <a:pt x="349" y="575"/>
                    </a:lnTo>
                    <a:lnTo>
                      <a:pt x="290" y="831"/>
                    </a:lnTo>
                    <a:lnTo>
                      <a:pt x="116" y="1087"/>
                    </a:lnTo>
                    <a:lnTo>
                      <a:pt x="116" y="1343"/>
                    </a:lnTo>
                    <a:lnTo>
                      <a:pt x="116" y="1599"/>
                    </a:lnTo>
                    <a:lnTo>
                      <a:pt x="174" y="1855"/>
                    </a:lnTo>
                    <a:lnTo>
                      <a:pt x="232" y="2112"/>
                    </a:lnTo>
                    <a:lnTo>
                      <a:pt x="232" y="2368"/>
                    </a:lnTo>
                    <a:lnTo>
                      <a:pt x="174" y="2688"/>
                    </a:lnTo>
                    <a:lnTo>
                      <a:pt x="174" y="2944"/>
                    </a:lnTo>
                    <a:lnTo>
                      <a:pt x="174" y="3200"/>
                    </a:lnTo>
                    <a:lnTo>
                      <a:pt x="174" y="3456"/>
                    </a:lnTo>
                    <a:lnTo>
                      <a:pt x="57" y="3776"/>
                    </a:lnTo>
                    <a:lnTo>
                      <a:pt x="0" y="4032"/>
                    </a:lnTo>
                    <a:lnTo>
                      <a:pt x="0" y="4288"/>
                    </a:lnTo>
                    <a:lnTo>
                      <a:pt x="116" y="4544"/>
                    </a:lnTo>
                    <a:lnTo>
                      <a:pt x="116" y="4864"/>
                    </a:lnTo>
                    <a:lnTo>
                      <a:pt x="57" y="5184"/>
                    </a:lnTo>
                    <a:lnTo>
                      <a:pt x="57" y="5440"/>
                    </a:lnTo>
                    <a:lnTo>
                      <a:pt x="57" y="5697"/>
                    </a:lnTo>
                    <a:lnTo>
                      <a:pt x="57" y="5953"/>
                    </a:lnTo>
                    <a:lnTo>
                      <a:pt x="0" y="6209"/>
                    </a:lnTo>
                    <a:lnTo>
                      <a:pt x="0" y="6465"/>
                    </a:lnTo>
                    <a:lnTo>
                      <a:pt x="57" y="6721"/>
                    </a:lnTo>
                    <a:lnTo>
                      <a:pt x="232" y="6977"/>
                    </a:lnTo>
                    <a:lnTo>
                      <a:pt x="232" y="7233"/>
                    </a:lnTo>
                    <a:lnTo>
                      <a:pt x="116" y="7489"/>
                    </a:lnTo>
                    <a:lnTo>
                      <a:pt x="232" y="7233"/>
                    </a:lnTo>
                    <a:lnTo>
                      <a:pt x="174" y="6913"/>
                    </a:lnTo>
                    <a:lnTo>
                      <a:pt x="116" y="6657"/>
                    </a:lnTo>
                    <a:lnTo>
                      <a:pt x="116" y="6337"/>
                    </a:lnTo>
                    <a:lnTo>
                      <a:pt x="116" y="6081"/>
                    </a:lnTo>
                    <a:lnTo>
                      <a:pt x="116" y="5825"/>
                    </a:lnTo>
                    <a:lnTo>
                      <a:pt x="116" y="5568"/>
                    </a:lnTo>
                    <a:lnTo>
                      <a:pt x="116" y="5312"/>
                    </a:lnTo>
                    <a:lnTo>
                      <a:pt x="232" y="5056"/>
                    </a:lnTo>
                    <a:lnTo>
                      <a:pt x="290" y="4800"/>
                    </a:lnTo>
                    <a:lnTo>
                      <a:pt x="174" y="4544"/>
                    </a:lnTo>
                    <a:lnTo>
                      <a:pt x="57" y="4288"/>
                    </a:lnTo>
                    <a:lnTo>
                      <a:pt x="57" y="4032"/>
                    </a:lnTo>
                    <a:lnTo>
                      <a:pt x="116" y="3776"/>
                    </a:lnTo>
                    <a:lnTo>
                      <a:pt x="174" y="3520"/>
                    </a:lnTo>
                    <a:lnTo>
                      <a:pt x="174" y="3264"/>
                    </a:lnTo>
                    <a:lnTo>
                      <a:pt x="232" y="3008"/>
                    </a:lnTo>
                    <a:lnTo>
                      <a:pt x="290" y="2752"/>
                    </a:lnTo>
                    <a:lnTo>
                      <a:pt x="290" y="2496"/>
                    </a:lnTo>
                    <a:lnTo>
                      <a:pt x="232" y="2240"/>
                    </a:lnTo>
                    <a:lnTo>
                      <a:pt x="174" y="1984"/>
                    </a:lnTo>
                    <a:lnTo>
                      <a:pt x="116" y="1727"/>
                    </a:lnTo>
                    <a:lnTo>
                      <a:pt x="116" y="1471"/>
                    </a:lnTo>
                    <a:lnTo>
                      <a:pt x="116" y="1215"/>
                    </a:lnTo>
                    <a:lnTo>
                      <a:pt x="290" y="959"/>
                    </a:lnTo>
                    <a:lnTo>
                      <a:pt x="290" y="703"/>
                    </a:lnTo>
                    <a:lnTo>
                      <a:pt x="290" y="447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0400" cy="184680"/>
              </a:xfrm>
              <a:custGeom>
                <a:avLst/>
                <a:gdLst/>
                <a:ahLst/>
                <a:rect l="0" t="0" r="r" b="b"/>
                <a:pathLst>
                  <a:path w="11140" h="513">
                    <a:moveTo>
                      <a:pt x="0" y="513"/>
                    </a:moveTo>
                    <a:lnTo>
                      <a:pt x="355" y="320"/>
                    </a:lnTo>
                    <a:lnTo>
                      <a:pt x="592" y="256"/>
                    </a:lnTo>
                    <a:lnTo>
                      <a:pt x="829" y="192"/>
                    </a:lnTo>
                    <a:lnTo>
                      <a:pt x="1066" y="192"/>
                    </a:lnTo>
                    <a:lnTo>
                      <a:pt x="1303" y="256"/>
                    </a:lnTo>
                    <a:lnTo>
                      <a:pt x="1599" y="384"/>
                    </a:lnTo>
                    <a:lnTo>
                      <a:pt x="1836" y="384"/>
                    </a:lnTo>
                    <a:lnTo>
                      <a:pt x="2073" y="384"/>
                    </a:lnTo>
                    <a:lnTo>
                      <a:pt x="2310" y="384"/>
                    </a:lnTo>
                    <a:lnTo>
                      <a:pt x="2606" y="384"/>
                    </a:lnTo>
                    <a:lnTo>
                      <a:pt x="2844" y="320"/>
                    </a:lnTo>
                    <a:lnTo>
                      <a:pt x="3318" y="256"/>
                    </a:lnTo>
                    <a:lnTo>
                      <a:pt x="3674" y="256"/>
                    </a:lnTo>
                    <a:lnTo>
                      <a:pt x="3911" y="192"/>
                    </a:lnTo>
                    <a:lnTo>
                      <a:pt x="4148" y="192"/>
                    </a:lnTo>
                    <a:lnTo>
                      <a:pt x="4444" y="256"/>
                    </a:lnTo>
                    <a:lnTo>
                      <a:pt x="4681" y="256"/>
                    </a:lnTo>
                    <a:lnTo>
                      <a:pt x="4918" y="256"/>
                    </a:lnTo>
                    <a:lnTo>
                      <a:pt x="5333" y="256"/>
                    </a:lnTo>
                    <a:lnTo>
                      <a:pt x="5629" y="192"/>
                    </a:lnTo>
                    <a:lnTo>
                      <a:pt x="5925" y="192"/>
                    </a:lnTo>
                    <a:lnTo>
                      <a:pt x="6162" y="192"/>
                    </a:lnTo>
                    <a:lnTo>
                      <a:pt x="6399" y="192"/>
                    </a:lnTo>
                    <a:lnTo>
                      <a:pt x="6636" y="127"/>
                    </a:lnTo>
                    <a:lnTo>
                      <a:pt x="6873" y="0"/>
                    </a:lnTo>
                    <a:lnTo>
                      <a:pt x="10903" y="0"/>
                    </a:lnTo>
                    <a:lnTo>
                      <a:pt x="10903" y="0"/>
                    </a:lnTo>
                    <a:lnTo>
                      <a:pt x="11140" y="127"/>
                    </a:lnTo>
                    <a:lnTo>
                      <a:pt x="10903" y="256"/>
                    </a:lnTo>
                    <a:lnTo>
                      <a:pt x="10666" y="256"/>
                    </a:lnTo>
                    <a:lnTo>
                      <a:pt x="10370" y="256"/>
                    </a:lnTo>
                    <a:lnTo>
                      <a:pt x="10133" y="256"/>
                    </a:lnTo>
                    <a:lnTo>
                      <a:pt x="9896" y="256"/>
                    </a:lnTo>
                    <a:lnTo>
                      <a:pt x="9600" y="449"/>
                    </a:lnTo>
                    <a:lnTo>
                      <a:pt x="9363" y="320"/>
                    </a:lnTo>
                    <a:lnTo>
                      <a:pt x="9126" y="320"/>
                    </a:lnTo>
                    <a:lnTo>
                      <a:pt x="8889" y="384"/>
                    </a:lnTo>
                    <a:lnTo>
                      <a:pt x="8533" y="384"/>
                    </a:lnTo>
                    <a:lnTo>
                      <a:pt x="8236" y="320"/>
                    </a:lnTo>
                    <a:lnTo>
                      <a:pt x="7999" y="256"/>
                    </a:lnTo>
                    <a:lnTo>
                      <a:pt x="7762" y="256"/>
                    </a:lnTo>
                    <a:lnTo>
                      <a:pt x="7525" y="256"/>
                    </a:lnTo>
                    <a:lnTo>
                      <a:pt x="7229" y="256"/>
                    </a:lnTo>
                    <a:lnTo>
                      <a:pt x="6992" y="256"/>
                    </a:lnTo>
                    <a:lnTo>
                      <a:pt x="6755" y="320"/>
                    </a:lnTo>
                    <a:lnTo>
                      <a:pt x="6518" y="320"/>
                    </a:lnTo>
                    <a:lnTo>
                      <a:pt x="6281" y="320"/>
                    </a:lnTo>
                    <a:lnTo>
                      <a:pt x="6044" y="256"/>
                    </a:lnTo>
                    <a:lnTo>
                      <a:pt x="5807" y="256"/>
                    </a:lnTo>
                    <a:lnTo>
                      <a:pt x="5274" y="256"/>
                    </a:lnTo>
                    <a:lnTo>
                      <a:pt x="4800" y="320"/>
                    </a:lnTo>
                    <a:lnTo>
                      <a:pt x="4563" y="320"/>
                    </a:lnTo>
                    <a:lnTo>
                      <a:pt x="4266" y="320"/>
                    </a:lnTo>
                    <a:lnTo>
                      <a:pt x="4029" y="384"/>
                    </a:lnTo>
                    <a:lnTo>
                      <a:pt x="3733" y="384"/>
                    </a:lnTo>
                    <a:lnTo>
                      <a:pt x="3437" y="320"/>
                    </a:lnTo>
                    <a:lnTo>
                      <a:pt x="3200" y="320"/>
                    </a:lnTo>
                    <a:lnTo>
                      <a:pt x="2904" y="320"/>
                    </a:lnTo>
                    <a:lnTo>
                      <a:pt x="2606" y="320"/>
                    </a:lnTo>
                    <a:lnTo>
                      <a:pt x="2310" y="320"/>
                    </a:lnTo>
                    <a:lnTo>
                      <a:pt x="2073" y="320"/>
                    </a:lnTo>
                    <a:lnTo>
                      <a:pt x="1836" y="320"/>
                    </a:lnTo>
                    <a:lnTo>
                      <a:pt x="1599" y="320"/>
                    </a:lnTo>
                    <a:lnTo>
                      <a:pt x="1362" y="192"/>
                    </a:lnTo>
                    <a:lnTo>
                      <a:pt x="1125" y="192"/>
                    </a:lnTo>
                    <a:lnTo>
                      <a:pt x="888" y="192"/>
                    </a:lnTo>
                    <a:lnTo>
                      <a:pt x="651" y="320"/>
                    </a:lnTo>
                    <a:lnTo>
                      <a:pt x="414" y="320"/>
                    </a:lnTo>
                    <a:lnTo>
                      <a:pt x="0" y="513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7560" cy="117720"/>
              </a:xfrm>
              <a:custGeom>
                <a:avLst/>
                <a:gdLst/>
                <a:ahLst/>
                <a:rect l="0" t="0" r="r" b="b"/>
                <a:pathLst>
                  <a:path w="7771" h="327">
                    <a:moveTo>
                      <a:pt x="830" y="0"/>
                    </a:moveTo>
                    <a:lnTo>
                      <a:pt x="1601" y="327"/>
                    </a:lnTo>
                    <a:lnTo>
                      <a:pt x="1958" y="327"/>
                    </a:lnTo>
                    <a:lnTo>
                      <a:pt x="2492" y="327"/>
                    </a:lnTo>
                    <a:lnTo>
                      <a:pt x="2729" y="327"/>
                    </a:lnTo>
                    <a:lnTo>
                      <a:pt x="3085" y="262"/>
                    </a:lnTo>
                    <a:lnTo>
                      <a:pt x="3322" y="262"/>
                    </a:lnTo>
                    <a:lnTo>
                      <a:pt x="3559" y="196"/>
                    </a:lnTo>
                    <a:lnTo>
                      <a:pt x="3856" y="196"/>
                    </a:lnTo>
                    <a:lnTo>
                      <a:pt x="4093" y="196"/>
                    </a:lnTo>
                    <a:lnTo>
                      <a:pt x="4390" y="327"/>
                    </a:lnTo>
                    <a:lnTo>
                      <a:pt x="4864" y="327"/>
                    </a:lnTo>
                    <a:lnTo>
                      <a:pt x="5101" y="327"/>
                    </a:lnTo>
                    <a:lnTo>
                      <a:pt x="5339" y="327"/>
                    </a:lnTo>
                    <a:lnTo>
                      <a:pt x="5873" y="327"/>
                    </a:lnTo>
                    <a:lnTo>
                      <a:pt x="6170" y="262"/>
                    </a:lnTo>
                    <a:lnTo>
                      <a:pt x="6407" y="196"/>
                    </a:lnTo>
                    <a:lnTo>
                      <a:pt x="6644" y="196"/>
                    </a:lnTo>
                    <a:lnTo>
                      <a:pt x="6882" y="130"/>
                    </a:lnTo>
                    <a:lnTo>
                      <a:pt x="7297" y="130"/>
                    </a:lnTo>
                    <a:lnTo>
                      <a:pt x="7534" y="130"/>
                    </a:lnTo>
                    <a:lnTo>
                      <a:pt x="7771" y="130"/>
                    </a:lnTo>
                    <a:lnTo>
                      <a:pt x="7534" y="130"/>
                    </a:lnTo>
                    <a:lnTo>
                      <a:pt x="7297" y="196"/>
                    </a:lnTo>
                    <a:lnTo>
                      <a:pt x="7060" y="327"/>
                    </a:lnTo>
                    <a:lnTo>
                      <a:pt x="6822" y="327"/>
                    </a:lnTo>
                    <a:lnTo>
                      <a:pt x="6585" y="327"/>
                    </a:lnTo>
                    <a:lnTo>
                      <a:pt x="6289" y="262"/>
                    </a:lnTo>
                    <a:lnTo>
                      <a:pt x="6051" y="262"/>
                    </a:lnTo>
                    <a:lnTo>
                      <a:pt x="5517" y="262"/>
                    </a:lnTo>
                    <a:lnTo>
                      <a:pt x="5220" y="262"/>
                    </a:lnTo>
                    <a:lnTo>
                      <a:pt x="4923" y="262"/>
                    </a:lnTo>
                    <a:lnTo>
                      <a:pt x="4449" y="262"/>
                    </a:lnTo>
                    <a:lnTo>
                      <a:pt x="4212" y="262"/>
                    </a:lnTo>
                    <a:lnTo>
                      <a:pt x="3915" y="262"/>
                    </a:lnTo>
                    <a:lnTo>
                      <a:pt x="3619" y="327"/>
                    </a:lnTo>
                    <a:lnTo>
                      <a:pt x="3381" y="327"/>
                    </a:lnTo>
                    <a:lnTo>
                      <a:pt x="3085" y="262"/>
                    </a:lnTo>
                    <a:lnTo>
                      <a:pt x="2847" y="196"/>
                    </a:lnTo>
                    <a:lnTo>
                      <a:pt x="2610" y="196"/>
                    </a:lnTo>
                    <a:lnTo>
                      <a:pt x="2373" y="196"/>
                    </a:lnTo>
                    <a:lnTo>
                      <a:pt x="2136" y="262"/>
                    </a:lnTo>
                    <a:lnTo>
                      <a:pt x="1897" y="262"/>
                    </a:lnTo>
                    <a:lnTo>
                      <a:pt x="1660" y="130"/>
                    </a:lnTo>
                    <a:lnTo>
                      <a:pt x="1423" y="65"/>
                    </a:lnTo>
                    <a:lnTo>
                      <a:pt x="1186" y="65"/>
                    </a:lnTo>
                    <a:lnTo>
                      <a:pt x="948" y="65"/>
                    </a:lnTo>
                    <a:lnTo>
                      <a:pt x="711" y="65"/>
                    </a:lnTo>
                    <a:lnTo>
                      <a:pt x="474" y="130"/>
                    </a:lnTo>
                    <a:lnTo>
                      <a:pt x="237" y="196"/>
                    </a:lnTo>
                    <a:lnTo>
                      <a:pt x="0" y="262"/>
                    </a:lnTo>
                    <a:lnTo>
                      <a:pt x="237" y="262"/>
                    </a:lnTo>
                    <a:lnTo>
                      <a:pt x="474" y="130"/>
                    </a:lnTo>
                    <a:lnTo>
                      <a:pt x="711" y="130"/>
                    </a:lnTo>
                    <a:lnTo>
                      <a:pt x="83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793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