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76320"/>
            <a:ext cx="8991720" cy="6553440"/>
            <a:chOff x="76320" y="76320"/>
            <a:chExt cx="8991720" cy="6553440"/>
          </a:xfrm>
        </p:grpSpPr>
        <p:grpSp>
          <p:nvGrpSpPr>
            <p:cNvPr id="1" name=""/>
            <p:cNvGrpSpPr/>
            <p:nvPr/>
          </p:nvGrpSpPr>
          <p:grpSpPr>
            <a:xfrm>
              <a:off x="76320" y="76320"/>
              <a:ext cx="457560" cy="6553440"/>
              <a:chOff x="76320" y="76320"/>
              <a:chExt cx="457560" cy="6553440"/>
            </a:xfrm>
          </p:grpSpPr>
          <p:sp>
            <p:nvSpPr>
              <p:cNvPr id="2" name=""/>
              <p:cNvSpPr/>
              <p:nvPr/>
            </p:nvSpPr>
            <p:spPr>
              <a:xfrm>
                <a:off x="76320" y="76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5405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6320" y="533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3365fb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990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968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1447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ff500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051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362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5405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19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3365fb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276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968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733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ff500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41911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4648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5405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5105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3365fb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5562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968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6019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ff500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610480" y="76320"/>
              <a:ext cx="457560" cy="6553440"/>
              <a:chOff x="8610480" y="76320"/>
              <a:chExt cx="457560" cy="6553440"/>
            </a:xfrm>
          </p:grpSpPr>
          <p:sp>
            <p:nvSpPr>
              <p:cNvPr id="17" name=""/>
              <p:cNvSpPr/>
              <p:nvPr/>
            </p:nvSpPr>
            <p:spPr>
              <a:xfrm>
                <a:off x="8610480" y="76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5405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10480" y="533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3365fb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610480" y="990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968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10480" y="1447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ff500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610480" y="19051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610480" y="2362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5405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10480" y="2819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3365fb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610480" y="3276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968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610480" y="3733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ff500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610480" y="41911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610480" y="4648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5405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610480" y="5105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3365fb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610480" y="5562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968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610480" y="6019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ff500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9688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9688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9688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9688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