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97840" cy="6845400"/>
            <a:chOff x="0" y="0"/>
            <a:chExt cx="899784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838080" y="0"/>
              <a:ext cx="8159760" cy="6845400"/>
              <a:chOff x="838080" y="0"/>
              <a:chExt cx="8159760" cy="68454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001000" y="0"/>
                <a:ext cx="996840" cy="6845400"/>
                <a:chOff x="8001000" y="0"/>
                <a:chExt cx="996840" cy="68454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800100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8045280" y="0"/>
                  <a:ext cx="903240" cy="6845400"/>
                  <a:chOff x="8045280" y="0"/>
                  <a:chExt cx="903240" cy="6845400"/>
                </a:xfrm>
              </p:grpSpPr>
              <p:grpSp>
                <p:nvGrpSpPr>
                  <p:cNvPr id="5" name=""/>
                  <p:cNvGrpSpPr/>
                  <p:nvPr/>
                </p:nvGrpSpPr>
                <p:grpSpPr>
                  <a:xfrm>
                    <a:off x="8045280" y="0"/>
                    <a:ext cx="644760" cy="6845400"/>
                    <a:chOff x="8045280" y="0"/>
                    <a:chExt cx="644760" cy="6845400"/>
                  </a:xfrm>
                </p:grpSpPr>
                <p:sp>
                  <p:nvSpPr>
                    <p:cNvPr id="6" name=""/>
                    <p:cNvSpPr/>
                    <p:nvPr/>
                  </p:nvSpPr>
                  <p:spPr>
                    <a:xfrm>
                      <a:off x="80452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" name=""/>
                    <p:cNvSpPr/>
                    <p:nvPr/>
                  </p:nvSpPr>
                  <p:spPr>
                    <a:xfrm>
                      <a:off x="8518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8261280" y="0"/>
                    <a:ext cx="600120" cy="6845400"/>
                    <a:chOff x="8261280" y="0"/>
                    <a:chExt cx="600120" cy="684540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826128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" name=""/>
                    <p:cNvSpPr/>
                    <p:nvPr/>
                  </p:nvSpPr>
                  <p:spPr>
                    <a:xfrm>
                      <a:off x="87343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8434440" y="0"/>
                    <a:ext cx="514080" cy="6845400"/>
                    <a:chOff x="8434440" y="0"/>
                    <a:chExt cx="514080" cy="684540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8434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89089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8040600" y="270000"/>
                  <a:ext cx="662400" cy="6277320"/>
                  <a:chOff x="8040600" y="270000"/>
                  <a:chExt cx="662400" cy="6277320"/>
                </a:xfrm>
              </p:grpSpPr>
              <p:grpSp>
                <p:nvGrpSpPr>
                  <p:cNvPr id="15" name=""/>
                  <p:cNvGrpSpPr/>
                  <p:nvPr/>
                </p:nvGrpSpPr>
                <p:grpSpPr>
                  <a:xfrm>
                    <a:off x="8040600" y="270000"/>
                    <a:ext cx="662400" cy="1747800"/>
                    <a:chOff x="8040600" y="270000"/>
                    <a:chExt cx="662400" cy="1747800"/>
                  </a:xfrm>
                </p:grpSpPr>
                <p:sp>
                  <p:nvSpPr>
                    <p:cNvPr id="16" name=""/>
                    <p:cNvSpPr/>
                    <p:nvPr/>
                  </p:nvSpPr>
                  <p:spPr>
                    <a:xfrm>
                      <a:off x="85136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"/>
                    <p:cNvSpPr/>
                    <p:nvPr/>
                  </p:nvSpPr>
                  <p:spPr>
                    <a:xfrm>
                      <a:off x="804060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"/>
                    <p:cNvSpPr/>
                    <p:nvPr/>
                  </p:nvSpPr>
                  <p:spPr>
                    <a:xfrm>
                      <a:off x="851364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>
                      <a:off x="804060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8040600" y="2536920"/>
                    <a:ext cx="662400" cy="1748160"/>
                    <a:chOff x="8040600" y="2536920"/>
                    <a:chExt cx="662400" cy="174816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>
                      <a:off x="85136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>
                      <a:off x="804060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85136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804060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8040600" y="4799160"/>
                    <a:ext cx="662400" cy="1748160"/>
                    <a:chOff x="8040600" y="4799160"/>
                    <a:chExt cx="662400" cy="174816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85136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804060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85136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>
                      <a:off x="804060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6807240" y="0"/>
                <a:ext cx="995400" cy="6845400"/>
                <a:chOff x="6807240" y="0"/>
                <a:chExt cx="995400" cy="68454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680724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" name=""/>
                <p:cNvGrpSpPr/>
                <p:nvPr/>
              </p:nvGrpSpPr>
              <p:grpSpPr>
                <a:xfrm>
                  <a:off x="6851520" y="0"/>
                  <a:ext cx="903240" cy="6845400"/>
                  <a:chOff x="6851520" y="0"/>
                  <a:chExt cx="903240" cy="6845400"/>
                </a:xfrm>
              </p:grpSpPr>
              <p:grpSp>
                <p:nvGrpSpPr>
                  <p:cNvPr id="33" name=""/>
                  <p:cNvGrpSpPr/>
                  <p:nvPr/>
                </p:nvGrpSpPr>
                <p:grpSpPr>
                  <a:xfrm>
                    <a:off x="6851520" y="0"/>
                    <a:ext cx="646200" cy="6845400"/>
                    <a:chOff x="6851520" y="0"/>
                    <a:chExt cx="646200" cy="68454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8515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326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" name=""/>
                  <p:cNvGrpSpPr/>
                  <p:nvPr/>
                </p:nvGrpSpPr>
                <p:grpSpPr>
                  <a:xfrm>
                    <a:off x="7066080" y="0"/>
                    <a:ext cx="601560" cy="6845400"/>
                    <a:chOff x="7066080" y="0"/>
                    <a:chExt cx="601560" cy="6845400"/>
                  </a:xfrm>
                </p:grpSpPr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06608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753912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"/>
                  <p:cNvGrpSpPr/>
                  <p:nvPr/>
                </p:nvGrpSpPr>
                <p:grpSpPr>
                  <a:xfrm>
                    <a:off x="7242120" y="0"/>
                    <a:ext cx="512640" cy="6845400"/>
                    <a:chOff x="7242120" y="0"/>
                    <a:chExt cx="512640" cy="6845400"/>
                  </a:xfrm>
                </p:grpSpPr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72421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7715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846840" y="270000"/>
                  <a:ext cx="664200" cy="6277320"/>
                  <a:chOff x="6846840" y="270000"/>
                  <a:chExt cx="664200" cy="6277320"/>
                </a:xfrm>
              </p:grpSpPr>
              <p:grpSp>
                <p:nvGrpSpPr>
                  <p:cNvPr id="43" name=""/>
                  <p:cNvGrpSpPr/>
                  <p:nvPr/>
                </p:nvGrpSpPr>
                <p:grpSpPr>
                  <a:xfrm>
                    <a:off x="6846840" y="270000"/>
                    <a:ext cx="664200" cy="1747800"/>
                    <a:chOff x="6846840" y="270000"/>
                    <a:chExt cx="664200" cy="1747800"/>
                  </a:xfrm>
                </p:grpSpPr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732168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68468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32168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684684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" name=""/>
                  <p:cNvGrpSpPr/>
                  <p:nvPr/>
                </p:nvGrpSpPr>
                <p:grpSpPr>
                  <a:xfrm>
                    <a:off x="6846840" y="2536920"/>
                    <a:ext cx="664200" cy="1748160"/>
                    <a:chOff x="6846840" y="2536920"/>
                    <a:chExt cx="664200" cy="174816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732168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68468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732168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68468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6846840" y="4799160"/>
                    <a:ext cx="664200" cy="1748160"/>
                    <a:chOff x="6846840" y="4799160"/>
                    <a:chExt cx="664200" cy="174816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732168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68468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732168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68468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5614920" y="0"/>
                <a:ext cx="995400" cy="6845400"/>
                <a:chOff x="5614920" y="0"/>
                <a:chExt cx="995400" cy="68454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61492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5656320" y="0"/>
                  <a:ext cx="906480" cy="6845400"/>
                  <a:chOff x="5656320" y="0"/>
                  <a:chExt cx="906480" cy="684540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5656320" y="0"/>
                    <a:ext cx="645840" cy="6845400"/>
                    <a:chOff x="5656320" y="0"/>
                    <a:chExt cx="645840" cy="684540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5656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61308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5872320" y="0"/>
                    <a:ext cx="601560" cy="6845400"/>
                    <a:chOff x="5872320" y="0"/>
                    <a:chExt cx="601560" cy="684540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8723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63468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"/>
                  <p:cNvGrpSpPr/>
                  <p:nvPr/>
                </p:nvGrpSpPr>
                <p:grpSpPr>
                  <a:xfrm>
                    <a:off x="6048360" y="0"/>
                    <a:ext cx="514440" cy="6845400"/>
                    <a:chOff x="6048360" y="0"/>
                    <a:chExt cx="514440" cy="684540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0483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652320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5653080" y="270000"/>
                  <a:ext cx="662400" cy="6277320"/>
                  <a:chOff x="5653080" y="270000"/>
                  <a:chExt cx="662400" cy="62773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5653080" y="270000"/>
                    <a:ext cx="662400" cy="1747800"/>
                    <a:chOff x="5653080" y="270000"/>
                    <a:chExt cx="662400" cy="17478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12792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65308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127920" y="1206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565308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5653080" y="2536920"/>
                    <a:ext cx="662400" cy="1748160"/>
                    <a:chOff x="5653080" y="2536920"/>
                    <a:chExt cx="662400" cy="174816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12792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565308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12792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565308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5653080" y="4799160"/>
                    <a:ext cx="662400" cy="1748160"/>
                    <a:chOff x="5653080" y="4799160"/>
                    <a:chExt cx="662400" cy="17481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12792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565308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12792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65308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4419720" y="0"/>
                <a:ext cx="996840" cy="6845400"/>
                <a:chOff x="4419720" y="0"/>
                <a:chExt cx="996840" cy="68454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41972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4464000" y="0"/>
                  <a:ext cx="903240" cy="6845400"/>
                  <a:chOff x="4464000" y="0"/>
                  <a:chExt cx="903240" cy="68454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4464000" y="0"/>
                    <a:ext cx="644400" cy="6845400"/>
                    <a:chOff x="4464000" y="0"/>
                    <a:chExt cx="644400" cy="684540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4640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4937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4680000" y="0"/>
                    <a:ext cx="600120" cy="6845400"/>
                    <a:chOff x="4680000" y="0"/>
                    <a:chExt cx="600120" cy="6845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680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51530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4854600" y="0"/>
                    <a:ext cx="512640" cy="6845400"/>
                    <a:chOff x="4854600" y="0"/>
                    <a:chExt cx="512640" cy="684540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485460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53276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4459320" y="270000"/>
                  <a:ext cx="663840" cy="6277320"/>
                  <a:chOff x="4459320" y="270000"/>
                  <a:chExt cx="663840" cy="6277320"/>
                </a:xfrm>
              </p:grpSpPr>
              <p:grpSp>
                <p:nvGrpSpPr>
                  <p:cNvPr id="99" name=""/>
                  <p:cNvGrpSpPr/>
                  <p:nvPr/>
                </p:nvGrpSpPr>
                <p:grpSpPr>
                  <a:xfrm>
                    <a:off x="4459320" y="270000"/>
                    <a:ext cx="663840" cy="1747800"/>
                    <a:chOff x="4459320" y="270000"/>
                    <a:chExt cx="663840" cy="174780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93236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45932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932360" y="12063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45932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459320" y="2536920"/>
                    <a:ext cx="663840" cy="1748160"/>
                    <a:chOff x="4459320" y="2536920"/>
                    <a:chExt cx="663840" cy="1748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93236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45932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932360" y="347508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45932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4459320" y="4799160"/>
                    <a:ext cx="663840" cy="1748160"/>
                    <a:chOff x="4459320" y="4799160"/>
                    <a:chExt cx="663840" cy="174816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932360" y="4799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45932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93236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45932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225960" y="0"/>
                <a:ext cx="995400" cy="6845400"/>
                <a:chOff x="3225960" y="0"/>
                <a:chExt cx="995400" cy="6845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2596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3270240" y="0"/>
                  <a:ext cx="903240" cy="6845400"/>
                  <a:chOff x="3270240" y="0"/>
                  <a:chExt cx="903240" cy="684540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270240" y="0"/>
                    <a:ext cx="646200" cy="6845400"/>
                    <a:chOff x="3270240" y="0"/>
                    <a:chExt cx="646200" cy="684540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2702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450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484440" y="0"/>
                    <a:ext cx="601920" cy="6845400"/>
                    <a:chOff x="3484440" y="0"/>
                    <a:chExt cx="601920" cy="68454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48444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959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660840" y="0"/>
                    <a:ext cx="512640" cy="6845400"/>
                    <a:chOff x="3660840" y="0"/>
                    <a:chExt cx="512640" cy="68454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608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3532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265560" y="270000"/>
                  <a:ext cx="663840" cy="6277320"/>
                  <a:chOff x="3265560" y="270000"/>
                  <a:chExt cx="663840" cy="627732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265560" y="270000"/>
                    <a:ext cx="663840" cy="1747800"/>
                    <a:chOff x="3265560" y="270000"/>
                    <a:chExt cx="663840" cy="17478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7400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26556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74004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26556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265560" y="2536920"/>
                    <a:ext cx="663840" cy="1748160"/>
                    <a:chOff x="3265560" y="2536920"/>
                    <a:chExt cx="663840" cy="174816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7400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26556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7400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326556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265560" y="4799160"/>
                    <a:ext cx="663840" cy="1748160"/>
                    <a:chOff x="3265560" y="4799160"/>
                    <a:chExt cx="663840" cy="17481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7400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326556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7400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6556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2033640" y="0"/>
                <a:ext cx="995400" cy="6845400"/>
                <a:chOff x="2033640" y="0"/>
                <a:chExt cx="995400" cy="6845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3364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076480" y="0"/>
                  <a:ext cx="904680" cy="6845400"/>
                  <a:chOff x="2076480" y="0"/>
                  <a:chExt cx="904680" cy="684540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076480" y="0"/>
                    <a:ext cx="644400" cy="6845400"/>
                    <a:chOff x="2076480" y="0"/>
                    <a:chExt cx="644400" cy="68454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7648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5495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290680" y="0"/>
                    <a:ext cx="601920" cy="6845400"/>
                    <a:chOff x="2290680" y="0"/>
                    <a:chExt cx="601920" cy="684540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290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7655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467080" y="0"/>
                    <a:ext cx="514080" cy="6845400"/>
                    <a:chOff x="2467080" y="0"/>
                    <a:chExt cx="514080" cy="68454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4670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9415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2073240" y="270000"/>
                  <a:ext cx="660600" cy="6277320"/>
                  <a:chOff x="2073240" y="270000"/>
                  <a:chExt cx="660600" cy="62773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073240" y="270000"/>
                    <a:ext cx="660600" cy="1747800"/>
                    <a:chOff x="2073240" y="270000"/>
                    <a:chExt cx="660600" cy="17478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54628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07324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546280" y="1206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073240" y="1206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073240" y="2536920"/>
                    <a:ext cx="660600" cy="1748160"/>
                    <a:chOff x="2073240" y="2536920"/>
                    <a:chExt cx="660600" cy="1748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4628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07324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54628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07324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073240" y="4799160"/>
                    <a:ext cx="660600" cy="1748160"/>
                    <a:chOff x="2073240" y="4799160"/>
                    <a:chExt cx="660600" cy="1748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54628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07324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54628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07324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838080" y="0"/>
                <a:ext cx="996840" cy="6845400"/>
                <a:chOff x="838080" y="0"/>
                <a:chExt cx="996840" cy="6845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808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882720" y="0"/>
                  <a:ext cx="903240" cy="6845400"/>
                  <a:chOff x="882720" y="0"/>
                  <a:chExt cx="903240" cy="684540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882720" y="0"/>
                    <a:ext cx="644400" cy="6845400"/>
                    <a:chOff x="882720" y="0"/>
                    <a:chExt cx="644400" cy="684540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827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35720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1098720" y="0"/>
                    <a:ext cx="600120" cy="6845400"/>
                    <a:chOff x="1098720" y="0"/>
                    <a:chExt cx="600120" cy="68454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098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57176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273320" y="0"/>
                    <a:ext cx="512640" cy="6845400"/>
                    <a:chOff x="1273320" y="0"/>
                    <a:chExt cx="512640" cy="684540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2733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7463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878040" y="270000"/>
                  <a:ext cx="663840" cy="6277320"/>
                  <a:chOff x="878040" y="270000"/>
                  <a:chExt cx="663840" cy="62773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878040" y="270000"/>
                    <a:ext cx="663840" cy="1747800"/>
                    <a:chOff x="878040" y="270000"/>
                    <a:chExt cx="663840" cy="174780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35108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780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351080" y="12063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78040" y="1206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8040" y="2536920"/>
                    <a:ext cx="663840" cy="1748160"/>
                    <a:chOff x="878040" y="2536920"/>
                    <a:chExt cx="663840" cy="174816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135108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780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351080" y="347508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780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878040" y="4799160"/>
                    <a:ext cx="663840" cy="1748160"/>
                    <a:chOff x="878040" y="4799160"/>
                    <a:chExt cx="663840" cy="17481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351080" y="4799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780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35108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780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0" y="0"/>
              <a:ext cx="708120" cy="6845400"/>
              <a:chOff x="0" y="0"/>
              <a:chExt cx="708120" cy="6845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0" y="0"/>
                <a:ext cx="708120" cy="6845400"/>
                <a:chOff x="0" y="0"/>
                <a:chExt cx="708120" cy="68454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0"/>
                  <a:ext cx="708120" cy="6845400"/>
                </a:xfrm>
                <a:prstGeom prst="rect">
                  <a:avLst/>
                </a:prstGeom>
                <a:solidFill>
                  <a:srgbClr val="ffc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3480" y="0"/>
                  <a:ext cx="642960" cy="6845400"/>
                  <a:chOff x="33480" y="0"/>
                  <a:chExt cx="642960" cy="684540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33480" y="0"/>
                    <a:ext cx="639720" cy="6845400"/>
                    <a:chOff x="33480" y="0"/>
                    <a:chExt cx="639720" cy="684540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33480" y="0"/>
                      <a:ext cx="639720" cy="6845400"/>
                      <a:chOff x="33480" y="0"/>
                      <a:chExt cx="639720" cy="6845400"/>
                    </a:xfrm>
                  </p:grpSpPr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480" y="0"/>
                        <a:ext cx="468360" cy="6845400"/>
                        <a:chOff x="33480" y="0"/>
                        <a:chExt cx="468360" cy="684540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480" y="0"/>
                          <a:ext cx="131760" cy="6845400"/>
                        </a:xfrm>
                        <a:prstGeom prst="rect">
                          <a:avLst/>
                        </a:prstGeom>
                        <a:solidFill>
                          <a:srgbClr val="ff8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520" y="0"/>
                          <a:ext cx="130320" cy="6845400"/>
                        </a:xfrm>
                        <a:prstGeom prst="rect">
                          <a:avLst/>
                        </a:prstGeom>
                        <a:solidFill>
                          <a:srgbClr val="ff8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198360" y="0"/>
                        <a:ext cx="73080" cy="6845400"/>
                      </a:xfrm>
                      <a:prstGeom prst="rect">
                        <a:avLst/>
                      </a:prstGeom>
                      <a:solidFill>
                        <a:srgbClr val="40ff4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8" name=""/>
                      <p:cNvGrpSpPr/>
                      <p:nvPr/>
                    </p:nvGrpSpPr>
                    <p:grpSpPr>
                      <a:xfrm>
                        <a:off x="307800" y="0"/>
                        <a:ext cx="365400" cy="6845400"/>
                        <a:chOff x="307800" y="0"/>
                        <a:chExt cx="365400" cy="6845400"/>
                      </a:xfrm>
                    </p:grpSpPr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307800" y="0"/>
                          <a:ext cx="30240" cy="6845400"/>
                        </a:xfrm>
                        <a:prstGeom prst="rect">
                          <a:avLst/>
                        </a:pr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642960" y="0"/>
                          <a:ext cx="30240" cy="6845400"/>
                        </a:xfrm>
                        <a:prstGeom prst="rect">
                          <a:avLst/>
                        </a:pr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536400" y="0"/>
                      <a:ext cx="73080" cy="6845400"/>
                    </a:xfrm>
                    <a:prstGeom prst="rect">
                      <a:avLst/>
                    </a:prstGeom>
                    <a:solidFill>
                      <a:srgbClr val="40ff4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11040" y="0"/>
                    <a:ext cx="365400" cy="6845400"/>
                    <a:chOff x="311040" y="0"/>
                    <a:chExt cx="365400" cy="684540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11040" y="0"/>
                      <a:ext cx="30240" cy="6845400"/>
                    </a:xfrm>
                    <a:prstGeom prst="rect">
                      <a:avLst/>
                    </a:prstGeom>
                    <a:solidFill>
                      <a:srgbClr val="a000a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646200" y="0"/>
                      <a:ext cx="30240" cy="6845400"/>
                    </a:xfrm>
                    <a:prstGeom prst="rect">
                      <a:avLst/>
                    </a:prstGeom>
                    <a:solidFill>
                      <a:srgbClr val="a000a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0240" y="270000"/>
                <a:ext cx="482760" cy="6277320"/>
                <a:chOff x="30240" y="270000"/>
                <a:chExt cx="482760" cy="627732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30240" y="2536920"/>
                  <a:ext cx="482760" cy="1748160"/>
                  <a:chOff x="30240" y="2536920"/>
                  <a:chExt cx="482760" cy="17481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6828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024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68280" y="347508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240" y="347508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30240" y="4799160"/>
                  <a:ext cx="482760" cy="1748160"/>
                  <a:chOff x="30240" y="4799160"/>
                  <a:chExt cx="482760" cy="17481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368280" y="4799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0240" y="4799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6828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024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30240" y="270000"/>
                  <a:ext cx="482760" cy="1747800"/>
                  <a:chOff x="30240" y="270000"/>
                  <a:chExt cx="482760" cy="1747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68280" y="12063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0240" y="12063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6828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024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c000"/>
                  </a:solidFill>
                  <a:ln w="25560">
                    <a:solidFill>
                      <a:srgbClr val="ffc08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0476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47600" y="1981080"/>
            <a:ext cx="77914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ff4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ff4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