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29600" cy="6845400"/>
            <a:chOff x="0" y="0"/>
            <a:chExt cx="9129600" cy="6845400"/>
          </a:xfrm>
        </p:grpSpPr>
        <p:sp>
          <p:nvSpPr>
            <p:cNvPr id="1" name=""/>
            <p:cNvSpPr/>
            <p:nvPr/>
          </p:nvSpPr>
          <p:spPr>
            <a:xfrm>
              <a:off x="309600" y="255600"/>
              <a:ext cx="7734240" cy="6242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29600" cy="6845400"/>
              <a:chOff x="0" y="0"/>
              <a:chExt cx="9129600" cy="684540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0" y="260280"/>
                <a:ext cx="309600" cy="5759640"/>
                <a:chOff x="0" y="260280"/>
                <a:chExt cx="309600" cy="575964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0" y="260280"/>
                  <a:ext cx="309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739800"/>
                  <a:ext cx="309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22200"/>
                  <a:ext cx="309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701720"/>
                  <a:ext cx="309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2181240"/>
                  <a:ext cx="309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660760"/>
                  <a:ext cx="309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3141720"/>
                  <a:ext cx="309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3619440"/>
                  <a:ext cx="309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4098960"/>
                  <a:ext cx="309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4579920"/>
                  <a:ext cx="309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5057640"/>
                  <a:ext cx="309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5540400"/>
                  <a:ext cx="309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6019920"/>
                  <a:ext cx="309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" name=""/>
              <p:cNvGrpSpPr/>
              <p:nvPr/>
            </p:nvGrpSpPr>
            <p:grpSpPr>
              <a:xfrm>
                <a:off x="309600" y="0"/>
                <a:ext cx="7318440" cy="257040"/>
                <a:chOff x="309600" y="0"/>
                <a:chExt cx="7318440" cy="257040"/>
              </a:xfrm>
            </p:grpSpPr>
            <p:sp>
              <p:nvSpPr>
                <p:cNvPr id="18" name=""/>
                <p:cNvSpPr/>
                <p:nvPr/>
              </p:nvSpPr>
              <p:spPr>
                <a:xfrm>
                  <a:off x="7227720" y="0"/>
                  <a:ext cx="0" cy="257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6821640" y="0"/>
                  <a:ext cx="0" cy="257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6413400" y="0"/>
                  <a:ext cx="0" cy="257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6006960" y="0"/>
                  <a:ext cx="0" cy="257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5599080" y="0"/>
                  <a:ext cx="0" cy="257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192640" y="0"/>
                  <a:ext cx="0" cy="257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4786200" y="0"/>
                  <a:ext cx="0" cy="257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4379760" y="0"/>
                  <a:ext cx="0" cy="257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3970440" y="0"/>
                  <a:ext cx="0" cy="257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3564000" y="0"/>
                  <a:ext cx="0" cy="257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3156120" y="0"/>
                  <a:ext cx="0" cy="257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2749680" y="0"/>
                  <a:ext cx="0" cy="257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2343240" y="0"/>
                  <a:ext cx="0" cy="257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936800" y="0"/>
                  <a:ext cx="0" cy="257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1528920" y="0"/>
                  <a:ext cx="0" cy="257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122480" y="0"/>
                  <a:ext cx="0" cy="257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716040" y="0"/>
                  <a:ext cx="0" cy="257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9600" y="0"/>
                  <a:ext cx="0" cy="257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628040" y="0"/>
                  <a:ext cx="0" cy="257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" name=""/>
              <p:cNvGrpSpPr/>
              <p:nvPr/>
            </p:nvGrpSpPr>
            <p:grpSpPr>
              <a:xfrm>
                <a:off x="0" y="6496200"/>
                <a:ext cx="9129600" cy="349200"/>
                <a:chOff x="0" y="6496200"/>
                <a:chExt cx="9129600" cy="349200"/>
              </a:xfrm>
            </p:grpSpPr>
            <p:sp>
              <p:nvSpPr>
                <p:cNvPr id="38" name=""/>
                <p:cNvSpPr/>
                <p:nvPr/>
              </p:nvSpPr>
              <p:spPr>
                <a:xfrm>
                  <a:off x="0" y="6497640"/>
                  <a:ext cx="9129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7227720" y="6496200"/>
                  <a:ext cx="0" cy="34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821640" y="6496200"/>
                  <a:ext cx="0" cy="34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6413400" y="6496200"/>
                  <a:ext cx="0" cy="34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6006960" y="6496200"/>
                  <a:ext cx="0" cy="34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599080" y="6496200"/>
                  <a:ext cx="0" cy="34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192640" y="6496200"/>
                  <a:ext cx="0" cy="34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4786200" y="6496200"/>
                  <a:ext cx="0" cy="34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4379760" y="6496200"/>
                  <a:ext cx="0" cy="34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3970440" y="6496200"/>
                  <a:ext cx="0" cy="34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3564000" y="6496200"/>
                  <a:ext cx="0" cy="34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156120" y="6496200"/>
                  <a:ext cx="0" cy="34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749680" y="6496200"/>
                  <a:ext cx="0" cy="34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2343240" y="6496200"/>
                  <a:ext cx="0" cy="34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1936800" y="6496200"/>
                  <a:ext cx="0" cy="34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528920" y="6496200"/>
                  <a:ext cx="0" cy="34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122480" y="6496200"/>
                  <a:ext cx="0" cy="34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716040" y="6496200"/>
                  <a:ext cx="0" cy="34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309600" y="6496200"/>
                  <a:ext cx="0" cy="34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7628040" y="6496200"/>
                  <a:ext cx="0" cy="34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8043840" y="0"/>
                <a:ext cx="1085760" cy="6842160"/>
                <a:chOff x="8043840" y="0"/>
                <a:chExt cx="1085760" cy="6842160"/>
              </a:xfrm>
            </p:grpSpPr>
            <p:grpSp>
              <p:nvGrpSpPr>
                <p:cNvPr id="59" name=""/>
                <p:cNvGrpSpPr/>
                <p:nvPr/>
              </p:nvGrpSpPr>
              <p:grpSpPr>
                <a:xfrm>
                  <a:off x="8043840" y="0"/>
                  <a:ext cx="1085760" cy="6842160"/>
                  <a:chOff x="8043840" y="0"/>
                  <a:chExt cx="1085760" cy="684216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>
                    <a:off x="8856720" y="0"/>
                    <a:ext cx="0" cy="6842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8450280" y="0"/>
                    <a:ext cx="0" cy="6842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8043840" y="0"/>
                    <a:ext cx="0" cy="6842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8047080" y="260280"/>
                    <a:ext cx="1082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8047080" y="739800"/>
                    <a:ext cx="1082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8047080" y="1219320"/>
                    <a:ext cx="1082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8047080" y="1700280"/>
                    <a:ext cx="1082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8047080" y="2179800"/>
                    <a:ext cx="1082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8047080" y="2658960"/>
                    <a:ext cx="1082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047080" y="3138480"/>
                    <a:ext cx="1082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8047080" y="3619440"/>
                    <a:ext cx="1082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8047080" y="4098960"/>
                    <a:ext cx="1082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047080" y="4579920"/>
                    <a:ext cx="1082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8047080" y="5059440"/>
                    <a:ext cx="1082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8047080" y="5538960"/>
                    <a:ext cx="1082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8047080" y="6018120"/>
                    <a:ext cx="1082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8047080" y="6497640"/>
                    <a:ext cx="1082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8043840" y="262080"/>
                  <a:ext cx="812880" cy="6235560"/>
                  <a:chOff x="8043840" y="262080"/>
                  <a:chExt cx="812880" cy="623556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>
                    <a:off x="8043840" y="6018120"/>
                    <a:ext cx="406440" cy="479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ffff"/>
                      </a:gs>
                      <a:gs pos="100000">
                        <a:srgbClr val="004c4c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8450280" y="5538960"/>
                    <a:ext cx="406440" cy="479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ff"/>
                      </a:gs>
                      <a:gs pos="100000">
                        <a:srgbClr val="00004c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8043840" y="5538960"/>
                    <a:ext cx="406440" cy="479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4c004c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8450280" y="4579920"/>
                    <a:ext cx="406440" cy="479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ffff"/>
                      </a:gs>
                      <a:gs pos="100000">
                        <a:srgbClr val="004c4c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8450280" y="4098960"/>
                    <a:ext cx="406440" cy="480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4c004c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8043840" y="4098960"/>
                    <a:ext cx="406440" cy="480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ff"/>
                      </a:gs>
                      <a:gs pos="100000">
                        <a:srgbClr val="00004c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8450280" y="3619440"/>
                    <a:ext cx="406440" cy="479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ff"/>
                      </a:gs>
                      <a:gs pos="100000">
                        <a:srgbClr val="00004c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043840" y="3139920"/>
                    <a:ext cx="406440" cy="479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4c004c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043840" y="2652840"/>
                    <a:ext cx="406440" cy="479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ffff"/>
                      </a:gs>
                      <a:gs pos="100000">
                        <a:srgbClr val="004c4c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450280" y="2181240"/>
                    <a:ext cx="406440" cy="479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4c004c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8450280" y="1697040"/>
                    <a:ext cx="406440" cy="479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ffff"/>
                      </a:gs>
                      <a:gs pos="100000">
                        <a:srgbClr val="004c4c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8043840" y="1697040"/>
                    <a:ext cx="406440" cy="479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ff"/>
                      </a:gs>
                      <a:gs pos="100000">
                        <a:srgbClr val="00004c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8450280" y="731880"/>
                    <a:ext cx="406440" cy="479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4c004c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8450280" y="262080"/>
                    <a:ext cx="406440" cy="479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ff"/>
                      </a:gs>
                      <a:gs pos="100000">
                        <a:srgbClr val="00004c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8043840" y="262080"/>
                    <a:ext cx="406440" cy="479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ffff"/>
                      </a:gs>
                      <a:gs pos="100000">
                        <a:srgbClr val="004c4c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08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