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9840" y="79200"/>
            <a:ext cx="8955000" cy="6640560"/>
            <a:chOff x="69840" y="79200"/>
            <a:chExt cx="8955000" cy="6640560"/>
          </a:xfrm>
        </p:grpSpPr>
        <p:grpSp>
          <p:nvGrpSpPr>
            <p:cNvPr id="1" name=""/>
            <p:cNvGrpSpPr/>
            <p:nvPr/>
          </p:nvGrpSpPr>
          <p:grpSpPr>
            <a:xfrm>
              <a:off x="69840" y="79200"/>
              <a:ext cx="8955000" cy="6640560"/>
              <a:chOff x="69840" y="79200"/>
              <a:chExt cx="8955000" cy="664056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69840" y="79200"/>
                <a:ext cx="1098720" cy="1621080"/>
                <a:chOff x="69840" y="79200"/>
                <a:chExt cx="1098720" cy="162108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69840" y="79200"/>
                  <a:ext cx="1098720" cy="108000"/>
                  <a:chOff x="69840" y="79200"/>
                  <a:chExt cx="1098720" cy="10800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6984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270000" y="7920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471600" y="7920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67140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" name=""/>
                  <p:cNvSpPr/>
                  <p:nvPr/>
                </p:nvSpPr>
                <p:spPr>
                  <a:xfrm>
                    <a:off x="87156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107316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" name=""/>
                <p:cNvGrpSpPr/>
                <p:nvPr/>
              </p:nvGrpSpPr>
              <p:grpSpPr>
                <a:xfrm>
                  <a:off x="69840" y="291960"/>
                  <a:ext cx="1098720" cy="108000"/>
                  <a:chOff x="69840" y="291960"/>
                  <a:chExt cx="1098720" cy="10800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>
                    <a:off x="69840" y="29196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270000" y="29196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471600" y="29196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671400" y="29196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871560" y="29196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1073160" y="29196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" name=""/>
                <p:cNvGrpSpPr/>
                <p:nvPr/>
              </p:nvGrpSpPr>
              <p:grpSpPr>
                <a:xfrm>
                  <a:off x="69840" y="509760"/>
                  <a:ext cx="1098720" cy="108000"/>
                  <a:chOff x="69840" y="509760"/>
                  <a:chExt cx="1098720" cy="108000"/>
                </a:xfrm>
              </p:grpSpPr>
              <p:sp>
                <p:nvSpPr>
                  <p:cNvPr id="18" name=""/>
                  <p:cNvSpPr/>
                  <p:nvPr/>
                </p:nvSpPr>
                <p:spPr>
                  <a:xfrm>
                    <a:off x="69840" y="50976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270000" y="50976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471600" y="50976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671400" y="50976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871560" y="50976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1073160" y="50976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69840" y="727200"/>
                  <a:ext cx="1098720" cy="108000"/>
                  <a:chOff x="69840" y="727200"/>
                  <a:chExt cx="1098720" cy="10800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>
                    <a:off x="6984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270000" y="727200"/>
                    <a:ext cx="936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471600" y="727200"/>
                    <a:ext cx="936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67140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87156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107316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" name=""/>
                <p:cNvGrpSpPr/>
                <p:nvPr/>
              </p:nvGrpSpPr>
              <p:grpSpPr>
                <a:xfrm>
                  <a:off x="69840" y="941400"/>
                  <a:ext cx="1098720" cy="108000"/>
                  <a:chOff x="69840" y="941400"/>
                  <a:chExt cx="1098720" cy="108000"/>
                </a:xfrm>
              </p:grpSpPr>
              <p:sp>
                <p:nvSpPr>
                  <p:cNvPr id="32" name=""/>
                  <p:cNvSpPr/>
                  <p:nvPr/>
                </p:nvSpPr>
                <p:spPr>
                  <a:xfrm>
                    <a:off x="6984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270000" y="94140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71600" y="94140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67140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87156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107316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" name=""/>
                <p:cNvGrpSpPr/>
                <p:nvPr/>
              </p:nvGrpSpPr>
              <p:grpSpPr>
                <a:xfrm>
                  <a:off x="69840" y="1158840"/>
                  <a:ext cx="1098720" cy="108000"/>
                  <a:chOff x="69840" y="1158840"/>
                  <a:chExt cx="1098720" cy="108000"/>
                </a:xfrm>
              </p:grpSpPr>
              <p:sp>
                <p:nvSpPr>
                  <p:cNvPr id="39" name=""/>
                  <p:cNvSpPr/>
                  <p:nvPr/>
                </p:nvSpPr>
                <p:spPr>
                  <a:xfrm>
                    <a:off x="6984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270000" y="11588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71600" y="11588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67140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87156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107316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9840" y="1374840"/>
                  <a:ext cx="1098720" cy="108000"/>
                  <a:chOff x="69840" y="1374840"/>
                  <a:chExt cx="1098720" cy="1080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>
                    <a:off x="6984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270000" y="137484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471600" y="137484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67140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87156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107316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" name=""/>
                <p:cNvGrpSpPr/>
                <p:nvPr/>
              </p:nvGrpSpPr>
              <p:grpSpPr>
                <a:xfrm>
                  <a:off x="69840" y="1592280"/>
                  <a:ext cx="1098720" cy="108000"/>
                  <a:chOff x="69840" y="1592280"/>
                  <a:chExt cx="1098720" cy="108000"/>
                </a:xfrm>
              </p:grpSpPr>
              <p:sp>
                <p:nvSpPr>
                  <p:cNvPr id="53" name=""/>
                  <p:cNvSpPr/>
                  <p:nvPr/>
                </p:nvSpPr>
                <p:spPr>
                  <a:xfrm>
                    <a:off x="6984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70000" y="159228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471600" y="159228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67140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87156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07316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" name=""/>
              <p:cNvGrpSpPr/>
              <p:nvPr/>
            </p:nvGrpSpPr>
            <p:grpSpPr>
              <a:xfrm>
                <a:off x="7927920" y="5099040"/>
                <a:ext cx="1096920" cy="1620720"/>
                <a:chOff x="7927920" y="5099040"/>
                <a:chExt cx="1096920" cy="1620720"/>
              </a:xfrm>
            </p:grpSpPr>
            <p:grpSp>
              <p:nvGrpSpPr>
                <p:cNvPr id="60" name=""/>
                <p:cNvGrpSpPr/>
                <p:nvPr/>
              </p:nvGrpSpPr>
              <p:grpSpPr>
                <a:xfrm>
                  <a:off x="7927920" y="5099040"/>
                  <a:ext cx="1096920" cy="108000"/>
                  <a:chOff x="7927920" y="5099040"/>
                  <a:chExt cx="1096920" cy="10800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>
                    <a:off x="792792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812628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832788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852804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872964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893124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" name=""/>
                <p:cNvGrpSpPr/>
                <p:nvPr/>
              </p:nvGrpSpPr>
              <p:grpSpPr>
                <a:xfrm>
                  <a:off x="7927920" y="5311800"/>
                  <a:ext cx="1096920" cy="108000"/>
                  <a:chOff x="7927920" y="5311800"/>
                  <a:chExt cx="1096920" cy="10800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792792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812628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832788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852804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872964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893124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927920" y="5529240"/>
                  <a:ext cx="1096920" cy="108000"/>
                  <a:chOff x="7927920" y="5529240"/>
                  <a:chExt cx="1096920" cy="10800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>
                    <a:off x="792792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812628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832788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852804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872964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893124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" name=""/>
                <p:cNvGrpSpPr/>
                <p:nvPr/>
              </p:nvGrpSpPr>
              <p:grpSpPr>
                <a:xfrm>
                  <a:off x="7927920" y="5746680"/>
                  <a:ext cx="1096920" cy="108000"/>
                  <a:chOff x="7927920" y="5746680"/>
                  <a:chExt cx="1096920" cy="108000"/>
                </a:xfrm>
              </p:grpSpPr>
              <p:sp>
                <p:nvSpPr>
                  <p:cNvPr id="82" name=""/>
                  <p:cNvSpPr/>
                  <p:nvPr/>
                </p:nvSpPr>
                <p:spPr>
                  <a:xfrm>
                    <a:off x="792792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812628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832788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52804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72964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93124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7927920" y="5961240"/>
                  <a:ext cx="1096920" cy="108000"/>
                  <a:chOff x="7927920" y="5961240"/>
                  <a:chExt cx="1096920" cy="10800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7927920" y="5961240"/>
                    <a:ext cx="936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8126280" y="596124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8327880" y="596124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8528040" y="596124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8729640" y="5961240"/>
                    <a:ext cx="936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8931240" y="5961240"/>
                    <a:ext cx="936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927920" y="6178680"/>
                  <a:ext cx="1096920" cy="108000"/>
                  <a:chOff x="7927920" y="6178680"/>
                  <a:chExt cx="1096920" cy="1080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792792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812628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832788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852804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872964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893124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7927920" y="6394320"/>
                  <a:ext cx="1096920" cy="108000"/>
                  <a:chOff x="7927920" y="6394320"/>
                  <a:chExt cx="1096920" cy="10800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792792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812628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832788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852804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872964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893124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7927920" y="6611760"/>
                  <a:ext cx="1096920" cy="108000"/>
                  <a:chOff x="7927920" y="6611760"/>
                  <a:chExt cx="1096920" cy="10800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792792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812628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832788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852804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872964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893124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6" name=""/>
            <p:cNvSpPr/>
            <p:nvPr/>
          </p:nvSpPr>
          <p:spPr>
            <a:xfrm>
              <a:off x="457200" y="476280"/>
              <a:ext cx="8229600" cy="5905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