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a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98440"/>
              <a:ext cx="8382600" cy="6248880"/>
              <a:chOff x="380880" y="298440"/>
              <a:chExt cx="8382600" cy="6248880"/>
            </a:xfrm>
          </p:grpSpPr>
          <p:sp>
            <p:nvSpPr>
              <p:cNvPr id="3" name=""/>
              <p:cNvSpPr/>
              <p:nvPr/>
            </p:nvSpPr>
            <p:spPr>
              <a:xfrm>
                <a:off x="384120" y="320760"/>
                <a:ext cx="8359920" cy="6210360"/>
              </a:xfrm>
              <a:prstGeom prst="rect">
                <a:avLst/>
              </a:prstGeom>
              <a:solidFill>
                <a:srgbClr val="fbf4e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380880" y="6359400"/>
                <a:ext cx="8382240" cy="187560"/>
                <a:chOff x="380880" y="6359400"/>
                <a:chExt cx="8382240" cy="18756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380880" y="6359400"/>
                  <a:ext cx="8382240" cy="187560"/>
                </a:xfrm>
                <a:custGeom>
                  <a:avLst/>
                  <a:gdLst/>
                  <a:ahLst/>
                  <a:rect l="0" t="0" r="r" b="b"/>
                  <a:pathLst>
                    <a:path w="23284" h="521">
                      <a:moveTo>
                        <a:pt x="475" y="0"/>
                      </a:moveTo>
                      <a:lnTo>
                        <a:pt x="22809" y="0"/>
                      </a:lnTo>
                      <a:lnTo>
                        <a:pt x="23284" y="521"/>
                      </a:lnTo>
                      <a:lnTo>
                        <a:pt x="0" y="521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473120" y="6386400"/>
                  <a:ext cx="2372040" cy="124200"/>
                </a:xfrm>
                <a:custGeom>
                  <a:avLst/>
                  <a:gdLst/>
                  <a:ahLst/>
                  <a:rect l="0" t="0" r="r" b="b"/>
                  <a:pathLst>
                    <a:path w="6589" h="345">
                      <a:moveTo>
                        <a:pt x="59" y="188"/>
                      </a:moveTo>
                      <a:lnTo>
                        <a:pt x="385" y="0"/>
                      </a:lnTo>
                      <a:lnTo>
                        <a:pt x="504" y="31"/>
                      </a:lnTo>
                      <a:lnTo>
                        <a:pt x="623" y="126"/>
                      </a:lnTo>
                      <a:lnTo>
                        <a:pt x="741" y="188"/>
                      </a:lnTo>
                      <a:lnTo>
                        <a:pt x="890" y="188"/>
                      </a:lnTo>
                      <a:lnTo>
                        <a:pt x="1068" y="188"/>
                      </a:lnTo>
                      <a:lnTo>
                        <a:pt x="1187" y="188"/>
                      </a:lnTo>
                      <a:lnTo>
                        <a:pt x="1365" y="219"/>
                      </a:lnTo>
                      <a:lnTo>
                        <a:pt x="1483" y="283"/>
                      </a:lnTo>
                      <a:lnTo>
                        <a:pt x="1721" y="345"/>
                      </a:lnTo>
                      <a:lnTo>
                        <a:pt x="1958" y="345"/>
                      </a:lnTo>
                      <a:lnTo>
                        <a:pt x="2136" y="345"/>
                      </a:lnTo>
                      <a:lnTo>
                        <a:pt x="2314" y="314"/>
                      </a:lnTo>
                      <a:lnTo>
                        <a:pt x="2492" y="283"/>
                      </a:lnTo>
                      <a:lnTo>
                        <a:pt x="2700" y="283"/>
                      </a:lnTo>
                      <a:lnTo>
                        <a:pt x="2908" y="251"/>
                      </a:lnTo>
                      <a:lnTo>
                        <a:pt x="3145" y="188"/>
                      </a:lnTo>
                      <a:lnTo>
                        <a:pt x="3295" y="188"/>
                      </a:lnTo>
                      <a:lnTo>
                        <a:pt x="3413" y="188"/>
                      </a:lnTo>
                      <a:lnTo>
                        <a:pt x="3591" y="188"/>
                      </a:lnTo>
                      <a:lnTo>
                        <a:pt x="3710" y="219"/>
                      </a:lnTo>
                      <a:lnTo>
                        <a:pt x="3858" y="251"/>
                      </a:lnTo>
                      <a:lnTo>
                        <a:pt x="3977" y="251"/>
                      </a:lnTo>
                      <a:lnTo>
                        <a:pt x="4304" y="219"/>
                      </a:lnTo>
                      <a:lnTo>
                        <a:pt x="4422" y="188"/>
                      </a:lnTo>
                      <a:lnTo>
                        <a:pt x="4541" y="157"/>
                      </a:lnTo>
                      <a:lnTo>
                        <a:pt x="4719" y="157"/>
                      </a:lnTo>
                      <a:lnTo>
                        <a:pt x="4838" y="157"/>
                      </a:lnTo>
                      <a:lnTo>
                        <a:pt x="5016" y="157"/>
                      </a:lnTo>
                      <a:lnTo>
                        <a:pt x="5253" y="157"/>
                      </a:lnTo>
                      <a:lnTo>
                        <a:pt x="5431" y="157"/>
                      </a:lnTo>
                      <a:lnTo>
                        <a:pt x="5669" y="126"/>
                      </a:lnTo>
                      <a:lnTo>
                        <a:pt x="5787" y="126"/>
                      </a:lnTo>
                      <a:lnTo>
                        <a:pt x="5965" y="126"/>
                      </a:lnTo>
                      <a:lnTo>
                        <a:pt x="6084" y="126"/>
                      </a:lnTo>
                      <a:lnTo>
                        <a:pt x="6203" y="157"/>
                      </a:lnTo>
                      <a:lnTo>
                        <a:pt x="6351" y="188"/>
                      </a:lnTo>
                      <a:lnTo>
                        <a:pt x="6470" y="94"/>
                      </a:lnTo>
                      <a:lnTo>
                        <a:pt x="6589" y="62"/>
                      </a:lnTo>
                      <a:lnTo>
                        <a:pt x="6470" y="94"/>
                      </a:lnTo>
                      <a:lnTo>
                        <a:pt x="6351" y="126"/>
                      </a:lnTo>
                      <a:lnTo>
                        <a:pt x="6233" y="157"/>
                      </a:lnTo>
                      <a:lnTo>
                        <a:pt x="6114" y="157"/>
                      </a:lnTo>
                      <a:lnTo>
                        <a:pt x="5965" y="126"/>
                      </a:lnTo>
                      <a:lnTo>
                        <a:pt x="5847" y="126"/>
                      </a:lnTo>
                      <a:lnTo>
                        <a:pt x="5728" y="126"/>
                      </a:lnTo>
                      <a:lnTo>
                        <a:pt x="5461" y="188"/>
                      </a:lnTo>
                      <a:lnTo>
                        <a:pt x="5283" y="251"/>
                      </a:lnTo>
                      <a:lnTo>
                        <a:pt x="5164" y="314"/>
                      </a:lnTo>
                      <a:lnTo>
                        <a:pt x="5016" y="314"/>
                      </a:lnTo>
                      <a:lnTo>
                        <a:pt x="4897" y="283"/>
                      </a:lnTo>
                      <a:lnTo>
                        <a:pt x="4778" y="251"/>
                      </a:lnTo>
                      <a:lnTo>
                        <a:pt x="4660" y="219"/>
                      </a:lnTo>
                      <a:lnTo>
                        <a:pt x="4511" y="157"/>
                      </a:lnTo>
                      <a:lnTo>
                        <a:pt x="4244" y="157"/>
                      </a:lnTo>
                      <a:lnTo>
                        <a:pt x="4036" y="157"/>
                      </a:lnTo>
                      <a:lnTo>
                        <a:pt x="3888" y="188"/>
                      </a:lnTo>
                      <a:lnTo>
                        <a:pt x="3769" y="219"/>
                      </a:lnTo>
                      <a:lnTo>
                        <a:pt x="3651" y="251"/>
                      </a:lnTo>
                      <a:lnTo>
                        <a:pt x="3532" y="251"/>
                      </a:lnTo>
                      <a:lnTo>
                        <a:pt x="3295" y="251"/>
                      </a:lnTo>
                      <a:lnTo>
                        <a:pt x="3056" y="251"/>
                      </a:lnTo>
                      <a:lnTo>
                        <a:pt x="2908" y="251"/>
                      </a:lnTo>
                      <a:lnTo>
                        <a:pt x="2789" y="219"/>
                      </a:lnTo>
                      <a:lnTo>
                        <a:pt x="2670" y="219"/>
                      </a:lnTo>
                      <a:lnTo>
                        <a:pt x="2552" y="251"/>
                      </a:lnTo>
                      <a:lnTo>
                        <a:pt x="2433" y="251"/>
                      </a:lnTo>
                      <a:lnTo>
                        <a:pt x="2314" y="283"/>
                      </a:lnTo>
                      <a:lnTo>
                        <a:pt x="2136" y="283"/>
                      </a:lnTo>
                      <a:lnTo>
                        <a:pt x="1958" y="251"/>
                      </a:lnTo>
                      <a:lnTo>
                        <a:pt x="1839" y="251"/>
                      </a:lnTo>
                      <a:lnTo>
                        <a:pt x="1721" y="188"/>
                      </a:lnTo>
                      <a:lnTo>
                        <a:pt x="1602" y="157"/>
                      </a:lnTo>
                      <a:lnTo>
                        <a:pt x="1483" y="188"/>
                      </a:lnTo>
                      <a:lnTo>
                        <a:pt x="1365" y="251"/>
                      </a:lnTo>
                      <a:lnTo>
                        <a:pt x="1246" y="251"/>
                      </a:lnTo>
                      <a:lnTo>
                        <a:pt x="1127" y="251"/>
                      </a:lnTo>
                      <a:lnTo>
                        <a:pt x="979" y="219"/>
                      </a:lnTo>
                      <a:lnTo>
                        <a:pt x="860" y="219"/>
                      </a:lnTo>
                      <a:lnTo>
                        <a:pt x="741" y="94"/>
                      </a:lnTo>
                      <a:lnTo>
                        <a:pt x="623" y="31"/>
                      </a:lnTo>
                      <a:lnTo>
                        <a:pt x="504" y="62"/>
                      </a:lnTo>
                      <a:lnTo>
                        <a:pt x="356" y="94"/>
                      </a:lnTo>
                      <a:lnTo>
                        <a:pt x="237" y="157"/>
                      </a:lnTo>
                      <a:lnTo>
                        <a:pt x="118" y="157"/>
                      </a:lnTo>
                      <a:lnTo>
                        <a:pt x="0" y="219"/>
                      </a:lnTo>
                      <a:lnTo>
                        <a:pt x="59" y="188"/>
                      </a:lnTo>
                      <a:close/>
                    </a:path>
                  </a:pathLst>
                </a:custGeom>
                <a:solidFill>
                  <a:srgbClr val="39393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4402080" y="6359400"/>
                  <a:ext cx="2737080" cy="130680"/>
                </a:xfrm>
                <a:custGeom>
                  <a:avLst/>
                  <a:gdLst/>
                  <a:ahLst/>
                  <a:rect l="0" t="0" r="r" b="b"/>
                  <a:pathLst>
                    <a:path w="7603" h="363">
                      <a:moveTo>
                        <a:pt x="0" y="0"/>
                      </a:moveTo>
                      <a:lnTo>
                        <a:pt x="7603" y="0"/>
                      </a:lnTo>
                      <a:lnTo>
                        <a:pt x="7603" y="0"/>
                      </a:lnTo>
                      <a:lnTo>
                        <a:pt x="7247" y="99"/>
                      </a:lnTo>
                      <a:lnTo>
                        <a:pt x="7128" y="32"/>
                      </a:lnTo>
                      <a:lnTo>
                        <a:pt x="7009" y="0"/>
                      </a:lnTo>
                      <a:lnTo>
                        <a:pt x="6890" y="65"/>
                      </a:lnTo>
                      <a:lnTo>
                        <a:pt x="6771" y="198"/>
                      </a:lnTo>
                      <a:lnTo>
                        <a:pt x="6653" y="263"/>
                      </a:lnTo>
                      <a:lnTo>
                        <a:pt x="6534" y="330"/>
                      </a:lnTo>
                      <a:lnTo>
                        <a:pt x="6267" y="363"/>
                      </a:lnTo>
                      <a:lnTo>
                        <a:pt x="5970" y="363"/>
                      </a:lnTo>
                      <a:lnTo>
                        <a:pt x="5791" y="330"/>
                      </a:lnTo>
                      <a:lnTo>
                        <a:pt x="5673" y="297"/>
                      </a:lnTo>
                      <a:lnTo>
                        <a:pt x="5524" y="330"/>
                      </a:lnTo>
                      <a:lnTo>
                        <a:pt x="5405" y="330"/>
                      </a:lnTo>
                      <a:lnTo>
                        <a:pt x="5168" y="330"/>
                      </a:lnTo>
                      <a:lnTo>
                        <a:pt x="4960" y="297"/>
                      </a:lnTo>
                      <a:lnTo>
                        <a:pt x="4841" y="297"/>
                      </a:lnTo>
                      <a:lnTo>
                        <a:pt x="4663" y="263"/>
                      </a:lnTo>
                      <a:lnTo>
                        <a:pt x="4544" y="263"/>
                      </a:lnTo>
                      <a:lnTo>
                        <a:pt x="4425" y="165"/>
                      </a:lnTo>
                      <a:lnTo>
                        <a:pt x="4277" y="65"/>
                      </a:lnTo>
                      <a:lnTo>
                        <a:pt x="4128" y="65"/>
                      </a:lnTo>
                      <a:lnTo>
                        <a:pt x="4010" y="65"/>
                      </a:lnTo>
                      <a:lnTo>
                        <a:pt x="3891" y="65"/>
                      </a:lnTo>
                      <a:lnTo>
                        <a:pt x="3741" y="132"/>
                      </a:lnTo>
                      <a:lnTo>
                        <a:pt x="3474" y="198"/>
                      </a:lnTo>
                      <a:lnTo>
                        <a:pt x="3326" y="231"/>
                      </a:lnTo>
                      <a:lnTo>
                        <a:pt x="3207" y="231"/>
                      </a:lnTo>
                      <a:lnTo>
                        <a:pt x="3029" y="198"/>
                      </a:lnTo>
                      <a:lnTo>
                        <a:pt x="2910" y="132"/>
                      </a:lnTo>
                      <a:lnTo>
                        <a:pt x="2791" y="99"/>
                      </a:lnTo>
                      <a:lnTo>
                        <a:pt x="2643" y="99"/>
                      </a:lnTo>
                      <a:lnTo>
                        <a:pt x="2494" y="99"/>
                      </a:lnTo>
                      <a:lnTo>
                        <a:pt x="2346" y="132"/>
                      </a:lnTo>
                      <a:lnTo>
                        <a:pt x="2108" y="132"/>
                      </a:lnTo>
                      <a:lnTo>
                        <a:pt x="1930" y="165"/>
                      </a:lnTo>
                      <a:lnTo>
                        <a:pt x="1781" y="198"/>
                      </a:lnTo>
                      <a:lnTo>
                        <a:pt x="1663" y="198"/>
                      </a:lnTo>
                      <a:lnTo>
                        <a:pt x="1514" y="198"/>
                      </a:lnTo>
                      <a:lnTo>
                        <a:pt x="1247" y="198"/>
                      </a:lnTo>
                      <a:lnTo>
                        <a:pt x="1009" y="132"/>
                      </a:lnTo>
                      <a:lnTo>
                        <a:pt x="861" y="99"/>
                      </a:lnTo>
                      <a:lnTo>
                        <a:pt x="742" y="99"/>
                      </a:lnTo>
                      <a:lnTo>
                        <a:pt x="623" y="65"/>
                      </a:lnTo>
                      <a:lnTo>
                        <a:pt x="504" y="32"/>
                      </a:lnTo>
                      <a:lnTo>
                        <a:pt x="386" y="32"/>
                      </a:lnTo>
                      <a:lnTo>
                        <a:pt x="267" y="65"/>
                      </a:lnTo>
                      <a:lnTo>
                        <a:pt x="148" y="99"/>
                      </a:lnTo>
                      <a:lnTo>
                        <a:pt x="29" y="1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1313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380880" y="298440"/>
                <a:ext cx="173520" cy="6248880"/>
                <a:chOff x="380880" y="298440"/>
                <a:chExt cx="173520" cy="624888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380880" y="298440"/>
                  <a:ext cx="173520" cy="3427920"/>
                </a:xfrm>
                <a:custGeom>
                  <a:avLst/>
                  <a:gdLst/>
                  <a:ahLst/>
                  <a:rect l="0" t="0" r="r" b="b"/>
                  <a:pathLst>
                    <a:path w="482" h="9522">
                      <a:moveTo>
                        <a:pt x="0" y="0"/>
                      </a:moveTo>
                      <a:lnTo>
                        <a:pt x="482" y="518"/>
                      </a:lnTo>
                      <a:lnTo>
                        <a:pt x="482" y="4405"/>
                      </a:lnTo>
                      <a:lnTo>
                        <a:pt x="241" y="4664"/>
                      </a:lnTo>
                      <a:lnTo>
                        <a:pt x="241" y="5182"/>
                      </a:lnTo>
                      <a:lnTo>
                        <a:pt x="301" y="5441"/>
                      </a:lnTo>
                      <a:lnTo>
                        <a:pt x="181" y="5700"/>
                      </a:lnTo>
                      <a:lnTo>
                        <a:pt x="181" y="5959"/>
                      </a:lnTo>
                      <a:lnTo>
                        <a:pt x="121" y="6218"/>
                      </a:lnTo>
                      <a:lnTo>
                        <a:pt x="181" y="6477"/>
                      </a:lnTo>
                      <a:lnTo>
                        <a:pt x="241" y="6736"/>
                      </a:lnTo>
                      <a:lnTo>
                        <a:pt x="241" y="6995"/>
                      </a:lnTo>
                      <a:lnTo>
                        <a:pt x="301" y="7255"/>
                      </a:lnTo>
                      <a:lnTo>
                        <a:pt x="181" y="7514"/>
                      </a:lnTo>
                      <a:lnTo>
                        <a:pt x="121" y="7773"/>
                      </a:lnTo>
                      <a:lnTo>
                        <a:pt x="121" y="8032"/>
                      </a:lnTo>
                      <a:lnTo>
                        <a:pt x="181" y="8356"/>
                      </a:lnTo>
                      <a:lnTo>
                        <a:pt x="181" y="8680"/>
                      </a:lnTo>
                      <a:lnTo>
                        <a:pt x="121" y="9004"/>
                      </a:lnTo>
                      <a:lnTo>
                        <a:pt x="181" y="9263"/>
                      </a:lnTo>
                      <a:lnTo>
                        <a:pt x="241" y="9522"/>
                      </a:lnTo>
                      <a:lnTo>
                        <a:pt x="60" y="9198"/>
                      </a:lnTo>
                      <a:lnTo>
                        <a:pt x="60" y="8810"/>
                      </a:lnTo>
                      <a:lnTo>
                        <a:pt x="60" y="8551"/>
                      </a:lnTo>
                      <a:lnTo>
                        <a:pt x="121" y="8292"/>
                      </a:lnTo>
                      <a:lnTo>
                        <a:pt x="181" y="8032"/>
                      </a:lnTo>
                      <a:lnTo>
                        <a:pt x="181" y="7514"/>
                      </a:lnTo>
                      <a:lnTo>
                        <a:pt x="181" y="7125"/>
                      </a:lnTo>
                      <a:lnTo>
                        <a:pt x="181" y="6866"/>
                      </a:lnTo>
                      <a:lnTo>
                        <a:pt x="181" y="6607"/>
                      </a:lnTo>
                      <a:lnTo>
                        <a:pt x="241" y="6348"/>
                      </a:lnTo>
                      <a:lnTo>
                        <a:pt x="241" y="6024"/>
                      </a:lnTo>
                      <a:lnTo>
                        <a:pt x="241" y="5765"/>
                      </a:lnTo>
                      <a:lnTo>
                        <a:pt x="181" y="5506"/>
                      </a:lnTo>
                      <a:lnTo>
                        <a:pt x="181" y="5247"/>
                      </a:lnTo>
                      <a:lnTo>
                        <a:pt x="241" y="4987"/>
                      </a:lnTo>
                      <a:lnTo>
                        <a:pt x="301" y="4728"/>
                      </a:lnTo>
                      <a:lnTo>
                        <a:pt x="301" y="4405"/>
                      </a:lnTo>
                      <a:lnTo>
                        <a:pt x="301" y="4146"/>
                      </a:lnTo>
                      <a:lnTo>
                        <a:pt x="301" y="3886"/>
                      </a:lnTo>
                      <a:lnTo>
                        <a:pt x="301" y="3563"/>
                      </a:lnTo>
                      <a:lnTo>
                        <a:pt x="301" y="3239"/>
                      </a:lnTo>
                      <a:lnTo>
                        <a:pt x="301" y="2980"/>
                      </a:lnTo>
                      <a:lnTo>
                        <a:pt x="301" y="2462"/>
                      </a:lnTo>
                      <a:lnTo>
                        <a:pt x="241" y="2202"/>
                      </a:lnTo>
                      <a:lnTo>
                        <a:pt x="241" y="1942"/>
                      </a:lnTo>
                      <a:lnTo>
                        <a:pt x="241" y="1683"/>
                      </a:lnTo>
                      <a:lnTo>
                        <a:pt x="241" y="1424"/>
                      </a:lnTo>
                      <a:lnTo>
                        <a:pt x="241" y="1165"/>
                      </a:lnTo>
                      <a:lnTo>
                        <a:pt x="241" y="906"/>
                      </a:lnTo>
                      <a:lnTo>
                        <a:pt x="241" y="647"/>
                      </a:lnTo>
                      <a:lnTo>
                        <a:pt x="121" y="3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a9a9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80880" y="298440"/>
                  <a:ext cx="173520" cy="6248880"/>
                </a:xfrm>
                <a:custGeom>
                  <a:avLst/>
                  <a:gdLst/>
                  <a:ahLst/>
                  <a:rect l="0" t="0" r="r" b="b"/>
                  <a:pathLst>
                    <a:path w="482" h="17358">
                      <a:moveTo>
                        <a:pt x="0" y="0"/>
                      </a:moveTo>
                      <a:lnTo>
                        <a:pt x="0" y="17358"/>
                      </a:lnTo>
                      <a:lnTo>
                        <a:pt x="482" y="16840"/>
                      </a:lnTo>
                      <a:lnTo>
                        <a:pt x="482" y="5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6440" y="673200"/>
                  <a:ext cx="147960" cy="2727720"/>
                </a:xfrm>
                <a:custGeom>
                  <a:avLst/>
                  <a:gdLst/>
                  <a:ahLst/>
                  <a:rect l="0" t="0" r="r" b="b"/>
                  <a:pathLst>
                    <a:path w="411" h="7577">
                      <a:moveTo>
                        <a:pt x="411" y="0"/>
                      </a:moveTo>
                      <a:lnTo>
                        <a:pt x="352" y="323"/>
                      </a:lnTo>
                      <a:lnTo>
                        <a:pt x="352" y="582"/>
                      </a:lnTo>
                      <a:lnTo>
                        <a:pt x="293" y="841"/>
                      </a:lnTo>
                      <a:lnTo>
                        <a:pt x="117" y="1100"/>
                      </a:lnTo>
                      <a:lnTo>
                        <a:pt x="117" y="1359"/>
                      </a:lnTo>
                      <a:lnTo>
                        <a:pt x="117" y="1618"/>
                      </a:lnTo>
                      <a:lnTo>
                        <a:pt x="175" y="1877"/>
                      </a:lnTo>
                      <a:lnTo>
                        <a:pt x="235" y="2137"/>
                      </a:lnTo>
                      <a:lnTo>
                        <a:pt x="235" y="2396"/>
                      </a:lnTo>
                      <a:lnTo>
                        <a:pt x="175" y="2720"/>
                      </a:lnTo>
                      <a:lnTo>
                        <a:pt x="175" y="2979"/>
                      </a:lnTo>
                      <a:lnTo>
                        <a:pt x="175" y="3238"/>
                      </a:lnTo>
                      <a:lnTo>
                        <a:pt x="175" y="3497"/>
                      </a:lnTo>
                      <a:lnTo>
                        <a:pt x="58" y="3821"/>
                      </a:lnTo>
                      <a:lnTo>
                        <a:pt x="0" y="4080"/>
                      </a:lnTo>
                      <a:lnTo>
                        <a:pt x="0" y="4339"/>
                      </a:lnTo>
                      <a:lnTo>
                        <a:pt x="117" y="4598"/>
                      </a:lnTo>
                      <a:lnTo>
                        <a:pt x="117" y="4922"/>
                      </a:lnTo>
                      <a:lnTo>
                        <a:pt x="58" y="5245"/>
                      </a:lnTo>
                      <a:lnTo>
                        <a:pt x="58" y="5504"/>
                      </a:lnTo>
                      <a:lnTo>
                        <a:pt x="58" y="5764"/>
                      </a:lnTo>
                      <a:lnTo>
                        <a:pt x="58" y="6023"/>
                      </a:lnTo>
                      <a:lnTo>
                        <a:pt x="0" y="6282"/>
                      </a:lnTo>
                      <a:lnTo>
                        <a:pt x="0" y="6541"/>
                      </a:lnTo>
                      <a:lnTo>
                        <a:pt x="58" y="6800"/>
                      </a:lnTo>
                      <a:lnTo>
                        <a:pt x="235" y="7059"/>
                      </a:lnTo>
                      <a:lnTo>
                        <a:pt x="235" y="7318"/>
                      </a:lnTo>
                      <a:lnTo>
                        <a:pt x="117" y="7577"/>
                      </a:lnTo>
                      <a:lnTo>
                        <a:pt x="235" y="7318"/>
                      </a:lnTo>
                      <a:lnTo>
                        <a:pt x="175" y="6995"/>
                      </a:lnTo>
                      <a:lnTo>
                        <a:pt x="117" y="6736"/>
                      </a:lnTo>
                      <a:lnTo>
                        <a:pt x="117" y="6412"/>
                      </a:lnTo>
                      <a:lnTo>
                        <a:pt x="117" y="6153"/>
                      </a:lnTo>
                      <a:lnTo>
                        <a:pt x="117" y="5894"/>
                      </a:lnTo>
                      <a:lnTo>
                        <a:pt x="117" y="5634"/>
                      </a:lnTo>
                      <a:lnTo>
                        <a:pt x="117" y="5375"/>
                      </a:lnTo>
                      <a:lnTo>
                        <a:pt x="235" y="5116"/>
                      </a:lnTo>
                      <a:lnTo>
                        <a:pt x="293" y="4857"/>
                      </a:lnTo>
                      <a:lnTo>
                        <a:pt x="175" y="4598"/>
                      </a:lnTo>
                      <a:lnTo>
                        <a:pt x="58" y="4339"/>
                      </a:lnTo>
                      <a:lnTo>
                        <a:pt x="58" y="4080"/>
                      </a:lnTo>
                      <a:lnTo>
                        <a:pt x="117" y="3821"/>
                      </a:lnTo>
                      <a:lnTo>
                        <a:pt x="175" y="3562"/>
                      </a:lnTo>
                      <a:lnTo>
                        <a:pt x="175" y="3303"/>
                      </a:lnTo>
                      <a:lnTo>
                        <a:pt x="235" y="3044"/>
                      </a:lnTo>
                      <a:lnTo>
                        <a:pt x="293" y="2785"/>
                      </a:lnTo>
                      <a:lnTo>
                        <a:pt x="293" y="2526"/>
                      </a:lnTo>
                      <a:lnTo>
                        <a:pt x="235" y="2267"/>
                      </a:lnTo>
                      <a:lnTo>
                        <a:pt x="175" y="2008"/>
                      </a:lnTo>
                      <a:lnTo>
                        <a:pt x="117" y="1748"/>
                      </a:lnTo>
                      <a:lnTo>
                        <a:pt x="117" y="1489"/>
                      </a:lnTo>
                      <a:lnTo>
                        <a:pt x="117" y="1230"/>
                      </a:lnTo>
                      <a:lnTo>
                        <a:pt x="293" y="971"/>
                      </a:lnTo>
                      <a:lnTo>
                        <a:pt x="293" y="712"/>
                      </a:lnTo>
                      <a:lnTo>
                        <a:pt x="293" y="453"/>
                      </a:lnTo>
                      <a:lnTo>
                        <a:pt x="411" y="0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"/>
              <p:cNvGrpSpPr/>
              <p:nvPr/>
            </p:nvGrpSpPr>
            <p:grpSpPr>
              <a:xfrm>
                <a:off x="380880" y="298440"/>
                <a:ext cx="8382240" cy="187560"/>
                <a:chOff x="380880" y="298440"/>
                <a:chExt cx="8382240" cy="18756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380880" y="298440"/>
                  <a:ext cx="8382240" cy="187560"/>
                </a:xfrm>
                <a:custGeom>
                  <a:avLst/>
                  <a:gdLst/>
                  <a:ahLst/>
                  <a:rect l="0" t="0" r="r" b="b"/>
                  <a:pathLst>
                    <a:path w="23284" h="521">
                      <a:moveTo>
                        <a:pt x="0" y="0"/>
                      </a:moveTo>
                      <a:lnTo>
                        <a:pt x="475" y="521"/>
                      </a:lnTo>
                      <a:lnTo>
                        <a:pt x="22809" y="521"/>
                      </a:lnTo>
                      <a:lnTo>
                        <a:pt x="2328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833480" y="298440"/>
                  <a:ext cx="4019760" cy="187560"/>
                </a:xfrm>
                <a:custGeom>
                  <a:avLst/>
                  <a:gdLst/>
                  <a:ahLst/>
                  <a:rect l="0" t="0" r="r" b="b"/>
                  <a:pathLst>
                    <a:path w="11166" h="521">
                      <a:moveTo>
                        <a:pt x="0" y="521"/>
                      </a:moveTo>
                      <a:lnTo>
                        <a:pt x="356" y="326"/>
                      </a:lnTo>
                      <a:lnTo>
                        <a:pt x="593" y="261"/>
                      </a:lnTo>
                      <a:lnTo>
                        <a:pt x="831" y="195"/>
                      </a:lnTo>
                      <a:lnTo>
                        <a:pt x="1069" y="195"/>
                      </a:lnTo>
                      <a:lnTo>
                        <a:pt x="1306" y="261"/>
                      </a:lnTo>
                      <a:lnTo>
                        <a:pt x="1603" y="391"/>
                      </a:lnTo>
                      <a:lnTo>
                        <a:pt x="1841" y="391"/>
                      </a:lnTo>
                      <a:lnTo>
                        <a:pt x="2078" y="391"/>
                      </a:lnTo>
                      <a:lnTo>
                        <a:pt x="2316" y="391"/>
                      </a:lnTo>
                      <a:lnTo>
                        <a:pt x="2613" y="391"/>
                      </a:lnTo>
                      <a:lnTo>
                        <a:pt x="2850" y="326"/>
                      </a:lnTo>
                      <a:lnTo>
                        <a:pt x="3325" y="261"/>
                      </a:lnTo>
                      <a:lnTo>
                        <a:pt x="3682" y="261"/>
                      </a:lnTo>
                      <a:lnTo>
                        <a:pt x="3919" y="195"/>
                      </a:lnTo>
                      <a:lnTo>
                        <a:pt x="4157" y="195"/>
                      </a:lnTo>
                      <a:lnTo>
                        <a:pt x="4454" y="261"/>
                      </a:lnTo>
                      <a:lnTo>
                        <a:pt x="4691" y="261"/>
                      </a:lnTo>
                      <a:lnTo>
                        <a:pt x="4929" y="261"/>
                      </a:lnTo>
                      <a:lnTo>
                        <a:pt x="5345" y="261"/>
                      </a:lnTo>
                      <a:lnTo>
                        <a:pt x="5643" y="195"/>
                      </a:lnTo>
                      <a:lnTo>
                        <a:pt x="5940" y="195"/>
                      </a:lnTo>
                      <a:lnTo>
                        <a:pt x="6177" y="195"/>
                      </a:lnTo>
                      <a:lnTo>
                        <a:pt x="6415" y="195"/>
                      </a:lnTo>
                      <a:lnTo>
                        <a:pt x="6652" y="130"/>
                      </a:lnTo>
                      <a:lnTo>
                        <a:pt x="6890" y="0"/>
                      </a:lnTo>
                      <a:lnTo>
                        <a:pt x="10928" y="0"/>
                      </a:lnTo>
                      <a:lnTo>
                        <a:pt x="10928" y="0"/>
                      </a:lnTo>
                      <a:lnTo>
                        <a:pt x="11166" y="130"/>
                      </a:lnTo>
                      <a:lnTo>
                        <a:pt x="10928" y="261"/>
                      </a:lnTo>
                      <a:lnTo>
                        <a:pt x="10691" y="261"/>
                      </a:lnTo>
                      <a:lnTo>
                        <a:pt x="10394" y="261"/>
                      </a:lnTo>
                      <a:lnTo>
                        <a:pt x="10156" y="261"/>
                      </a:lnTo>
                      <a:lnTo>
                        <a:pt x="9919" y="261"/>
                      </a:lnTo>
                      <a:lnTo>
                        <a:pt x="9622" y="456"/>
                      </a:lnTo>
                      <a:lnTo>
                        <a:pt x="9384" y="326"/>
                      </a:lnTo>
                      <a:lnTo>
                        <a:pt x="9147" y="326"/>
                      </a:lnTo>
                      <a:lnTo>
                        <a:pt x="8909" y="391"/>
                      </a:lnTo>
                      <a:lnTo>
                        <a:pt x="8553" y="391"/>
                      </a:lnTo>
                      <a:lnTo>
                        <a:pt x="8256" y="326"/>
                      </a:lnTo>
                      <a:lnTo>
                        <a:pt x="8018" y="261"/>
                      </a:lnTo>
                      <a:lnTo>
                        <a:pt x="7781" y="261"/>
                      </a:lnTo>
                      <a:lnTo>
                        <a:pt x="7543" y="261"/>
                      </a:lnTo>
                      <a:lnTo>
                        <a:pt x="7246" y="261"/>
                      </a:lnTo>
                      <a:lnTo>
                        <a:pt x="7009" y="261"/>
                      </a:lnTo>
                      <a:lnTo>
                        <a:pt x="6771" y="326"/>
                      </a:lnTo>
                      <a:lnTo>
                        <a:pt x="6533" y="326"/>
                      </a:lnTo>
                      <a:lnTo>
                        <a:pt x="6296" y="326"/>
                      </a:lnTo>
                      <a:lnTo>
                        <a:pt x="6058" y="261"/>
                      </a:lnTo>
                      <a:lnTo>
                        <a:pt x="5821" y="261"/>
                      </a:lnTo>
                      <a:lnTo>
                        <a:pt x="5285" y="261"/>
                      </a:lnTo>
                      <a:lnTo>
                        <a:pt x="4810" y="326"/>
                      </a:lnTo>
                      <a:lnTo>
                        <a:pt x="4573" y="326"/>
                      </a:lnTo>
                      <a:lnTo>
                        <a:pt x="4276" y="326"/>
                      </a:lnTo>
                      <a:lnTo>
                        <a:pt x="4038" y="391"/>
                      </a:lnTo>
                      <a:lnTo>
                        <a:pt x="3741" y="391"/>
                      </a:lnTo>
                      <a:lnTo>
                        <a:pt x="3444" y="326"/>
                      </a:lnTo>
                      <a:lnTo>
                        <a:pt x="3207" y="326"/>
                      </a:lnTo>
                      <a:lnTo>
                        <a:pt x="2910" y="326"/>
                      </a:lnTo>
                      <a:lnTo>
                        <a:pt x="2613" y="326"/>
                      </a:lnTo>
                      <a:lnTo>
                        <a:pt x="2316" y="326"/>
                      </a:lnTo>
                      <a:lnTo>
                        <a:pt x="2078" y="326"/>
                      </a:lnTo>
                      <a:lnTo>
                        <a:pt x="1841" y="326"/>
                      </a:lnTo>
                      <a:lnTo>
                        <a:pt x="1603" y="326"/>
                      </a:lnTo>
                      <a:lnTo>
                        <a:pt x="1365" y="195"/>
                      </a:lnTo>
                      <a:lnTo>
                        <a:pt x="1128" y="195"/>
                      </a:lnTo>
                      <a:lnTo>
                        <a:pt x="890" y="195"/>
                      </a:lnTo>
                      <a:lnTo>
                        <a:pt x="653" y="326"/>
                      </a:lnTo>
                      <a:lnTo>
                        <a:pt x="415" y="326"/>
                      </a:lnTo>
                      <a:lnTo>
                        <a:pt x="0" y="521"/>
                      </a:lnTo>
                      <a:close/>
                    </a:path>
                  </a:pathLst>
                </a:custGeom>
                <a:solidFill>
                  <a:srgbClr val="b9b9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4873680" y="298440"/>
                  <a:ext cx="2799000" cy="119520"/>
                </a:xfrm>
                <a:custGeom>
                  <a:avLst/>
                  <a:gdLst/>
                  <a:ahLst/>
                  <a:rect l="0" t="0" r="r" b="b"/>
                  <a:pathLst>
                    <a:path w="7775" h="332">
                      <a:moveTo>
                        <a:pt x="830" y="0"/>
                      </a:moveTo>
                      <a:lnTo>
                        <a:pt x="1602" y="332"/>
                      </a:lnTo>
                      <a:lnTo>
                        <a:pt x="1958" y="332"/>
                      </a:lnTo>
                      <a:lnTo>
                        <a:pt x="2492" y="332"/>
                      </a:lnTo>
                      <a:lnTo>
                        <a:pt x="2729" y="332"/>
                      </a:lnTo>
                      <a:lnTo>
                        <a:pt x="3085" y="266"/>
                      </a:lnTo>
                      <a:lnTo>
                        <a:pt x="3323" y="266"/>
                      </a:lnTo>
                      <a:lnTo>
                        <a:pt x="3560" y="199"/>
                      </a:lnTo>
                      <a:lnTo>
                        <a:pt x="3857" y="199"/>
                      </a:lnTo>
                      <a:lnTo>
                        <a:pt x="4095" y="199"/>
                      </a:lnTo>
                      <a:lnTo>
                        <a:pt x="4392" y="332"/>
                      </a:lnTo>
                      <a:lnTo>
                        <a:pt x="4867" y="332"/>
                      </a:lnTo>
                      <a:lnTo>
                        <a:pt x="5104" y="332"/>
                      </a:lnTo>
                      <a:lnTo>
                        <a:pt x="5342" y="332"/>
                      </a:lnTo>
                      <a:lnTo>
                        <a:pt x="5876" y="332"/>
                      </a:lnTo>
                      <a:lnTo>
                        <a:pt x="6172" y="266"/>
                      </a:lnTo>
                      <a:lnTo>
                        <a:pt x="6410" y="199"/>
                      </a:lnTo>
                      <a:lnTo>
                        <a:pt x="6647" y="199"/>
                      </a:lnTo>
                      <a:lnTo>
                        <a:pt x="6885" y="133"/>
                      </a:lnTo>
                      <a:lnTo>
                        <a:pt x="7300" y="133"/>
                      </a:lnTo>
                      <a:lnTo>
                        <a:pt x="7537" y="133"/>
                      </a:lnTo>
                      <a:lnTo>
                        <a:pt x="7775" y="133"/>
                      </a:lnTo>
                      <a:lnTo>
                        <a:pt x="7537" y="133"/>
                      </a:lnTo>
                      <a:lnTo>
                        <a:pt x="7300" y="199"/>
                      </a:lnTo>
                      <a:lnTo>
                        <a:pt x="7063" y="332"/>
                      </a:lnTo>
                      <a:lnTo>
                        <a:pt x="6825" y="332"/>
                      </a:lnTo>
                      <a:lnTo>
                        <a:pt x="6588" y="332"/>
                      </a:lnTo>
                      <a:lnTo>
                        <a:pt x="6291" y="266"/>
                      </a:lnTo>
                      <a:lnTo>
                        <a:pt x="6054" y="266"/>
                      </a:lnTo>
                      <a:lnTo>
                        <a:pt x="5520" y="266"/>
                      </a:lnTo>
                      <a:lnTo>
                        <a:pt x="5223" y="266"/>
                      </a:lnTo>
                      <a:lnTo>
                        <a:pt x="4926" y="266"/>
                      </a:lnTo>
                      <a:lnTo>
                        <a:pt x="4451" y="266"/>
                      </a:lnTo>
                      <a:lnTo>
                        <a:pt x="4214" y="266"/>
                      </a:lnTo>
                      <a:lnTo>
                        <a:pt x="3917" y="266"/>
                      </a:lnTo>
                      <a:lnTo>
                        <a:pt x="3620" y="332"/>
                      </a:lnTo>
                      <a:lnTo>
                        <a:pt x="3382" y="332"/>
                      </a:lnTo>
                      <a:lnTo>
                        <a:pt x="3085" y="266"/>
                      </a:lnTo>
                      <a:lnTo>
                        <a:pt x="2848" y="199"/>
                      </a:lnTo>
                      <a:lnTo>
                        <a:pt x="2611" y="199"/>
                      </a:lnTo>
                      <a:lnTo>
                        <a:pt x="2373" y="199"/>
                      </a:lnTo>
                      <a:lnTo>
                        <a:pt x="2136" y="266"/>
                      </a:lnTo>
                      <a:lnTo>
                        <a:pt x="1899" y="266"/>
                      </a:lnTo>
                      <a:lnTo>
                        <a:pt x="1661" y="133"/>
                      </a:lnTo>
                      <a:lnTo>
                        <a:pt x="1424" y="66"/>
                      </a:lnTo>
                      <a:lnTo>
                        <a:pt x="1186" y="66"/>
                      </a:lnTo>
                      <a:lnTo>
                        <a:pt x="949" y="66"/>
                      </a:lnTo>
                      <a:lnTo>
                        <a:pt x="712" y="66"/>
                      </a:lnTo>
                      <a:lnTo>
                        <a:pt x="474" y="133"/>
                      </a:lnTo>
                      <a:lnTo>
                        <a:pt x="237" y="199"/>
                      </a:lnTo>
                      <a:lnTo>
                        <a:pt x="0" y="266"/>
                      </a:lnTo>
                      <a:lnTo>
                        <a:pt x="237" y="266"/>
                      </a:lnTo>
                      <a:lnTo>
                        <a:pt x="474" y="133"/>
                      </a:lnTo>
                      <a:lnTo>
                        <a:pt x="712" y="133"/>
                      </a:lnTo>
                      <a:lnTo>
                        <a:pt x="830" y="0"/>
                      </a:lnTo>
                      <a:close/>
                    </a:path>
                  </a:pathLst>
                </a:custGeom>
                <a:solidFill>
                  <a:srgbClr val="6d6d6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8589960" y="298440"/>
                <a:ext cx="173520" cy="6248880"/>
                <a:chOff x="8589960" y="298440"/>
                <a:chExt cx="173520" cy="624888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8589960" y="298440"/>
                  <a:ext cx="173520" cy="6248880"/>
                </a:xfrm>
                <a:custGeom>
                  <a:avLst/>
                  <a:gdLst/>
                  <a:ahLst/>
                  <a:rect l="0" t="0" r="r" b="b"/>
                  <a:pathLst>
                    <a:path w="482" h="17358">
                      <a:moveTo>
                        <a:pt x="0" y="518"/>
                      </a:moveTo>
                      <a:lnTo>
                        <a:pt x="0" y="16840"/>
                      </a:lnTo>
                      <a:lnTo>
                        <a:pt x="482" y="17358"/>
                      </a:lnTo>
                      <a:lnTo>
                        <a:pt x="482" y="0"/>
                      </a:lnTo>
                      <a:lnTo>
                        <a:pt x="0" y="51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589960" y="3189240"/>
                  <a:ext cx="130680" cy="2190960"/>
                </a:xfrm>
                <a:custGeom>
                  <a:avLst/>
                  <a:gdLst/>
                  <a:ahLst/>
                  <a:rect l="0" t="0" r="r" b="b"/>
                  <a:pathLst>
                    <a:path w="363" h="6086">
                      <a:moveTo>
                        <a:pt x="0" y="0"/>
                      </a:moveTo>
                      <a:lnTo>
                        <a:pt x="151" y="485"/>
                      </a:lnTo>
                      <a:lnTo>
                        <a:pt x="242" y="615"/>
                      </a:lnTo>
                      <a:lnTo>
                        <a:pt x="273" y="744"/>
                      </a:lnTo>
                      <a:lnTo>
                        <a:pt x="303" y="873"/>
                      </a:lnTo>
                      <a:lnTo>
                        <a:pt x="273" y="1035"/>
                      </a:lnTo>
                      <a:lnTo>
                        <a:pt x="211" y="1197"/>
                      </a:lnTo>
                      <a:lnTo>
                        <a:pt x="181" y="1327"/>
                      </a:lnTo>
                      <a:lnTo>
                        <a:pt x="151" y="1488"/>
                      </a:lnTo>
                      <a:lnTo>
                        <a:pt x="151" y="1618"/>
                      </a:lnTo>
                      <a:lnTo>
                        <a:pt x="151" y="1747"/>
                      </a:lnTo>
                      <a:lnTo>
                        <a:pt x="181" y="1877"/>
                      </a:lnTo>
                      <a:lnTo>
                        <a:pt x="181" y="2039"/>
                      </a:lnTo>
                      <a:lnTo>
                        <a:pt x="242" y="2201"/>
                      </a:lnTo>
                      <a:lnTo>
                        <a:pt x="242" y="2330"/>
                      </a:lnTo>
                      <a:lnTo>
                        <a:pt x="242" y="2589"/>
                      </a:lnTo>
                      <a:lnTo>
                        <a:pt x="242" y="2719"/>
                      </a:lnTo>
                      <a:lnTo>
                        <a:pt x="242" y="2913"/>
                      </a:lnTo>
                      <a:lnTo>
                        <a:pt x="242" y="3108"/>
                      </a:lnTo>
                      <a:lnTo>
                        <a:pt x="273" y="3302"/>
                      </a:lnTo>
                      <a:lnTo>
                        <a:pt x="303" y="3432"/>
                      </a:lnTo>
                      <a:lnTo>
                        <a:pt x="303" y="3561"/>
                      </a:lnTo>
                      <a:lnTo>
                        <a:pt x="273" y="3723"/>
                      </a:lnTo>
                      <a:lnTo>
                        <a:pt x="211" y="3885"/>
                      </a:lnTo>
                      <a:lnTo>
                        <a:pt x="242" y="4014"/>
                      </a:lnTo>
                      <a:lnTo>
                        <a:pt x="303" y="4144"/>
                      </a:lnTo>
                      <a:lnTo>
                        <a:pt x="303" y="4273"/>
                      </a:lnTo>
                      <a:lnTo>
                        <a:pt x="273" y="4532"/>
                      </a:lnTo>
                      <a:lnTo>
                        <a:pt x="242" y="4726"/>
                      </a:lnTo>
                      <a:lnTo>
                        <a:pt x="242" y="4856"/>
                      </a:lnTo>
                      <a:lnTo>
                        <a:pt x="273" y="4985"/>
                      </a:lnTo>
                      <a:lnTo>
                        <a:pt x="333" y="5115"/>
                      </a:lnTo>
                      <a:lnTo>
                        <a:pt x="333" y="5244"/>
                      </a:lnTo>
                      <a:lnTo>
                        <a:pt x="273" y="5406"/>
                      </a:lnTo>
                      <a:lnTo>
                        <a:pt x="211" y="5536"/>
                      </a:lnTo>
                      <a:lnTo>
                        <a:pt x="242" y="5697"/>
                      </a:lnTo>
                      <a:lnTo>
                        <a:pt x="303" y="5827"/>
                      </a:lnTo>
                      <a:lnTo>
                        <a:pt x="333" y="5956"/>
                      </a:lnTo>
                      <a:lnTo>
                        <a:pt x="363" y="6086"/>
                      </a:lnTo>
                      <a:lnTo>
                        <a:pt x="273" y="5795"/>
                      </a:lnTo>
                      <a:lnTo>
                        <a:pt x="181" y="5665"/>
                      </a:lnTo>
                      <a:lnTo>
                        <a:pt x="151" y="5536"/>
                      </a:lnTo>
                      <a:lnTo>
                        <a:pt x="151" y="5277"/>
                      </a:lnTo>
                      <a:lnTo>
                        <a:pt x="211" y="5147"/>
                      </a:lnTo>
                      <a:lnTo>
                        <a:pt x="273" y="5018"/>
                      </a:lnTo>
                      <a:lnTo>
                        <a:pt x="273" y="4856"/>
                      </a:lnTo>
                      <a:lnTo>
                        <a:pt x="273" y="4726"/>
                      </a:lnTo>
                      <a:lnTo>
                        <a:pt x="273" y="4597"/>
                      </a:lnTo>
                      <a:lnTo>
                        <a:pt x="303" y="4435"/>
                      </a:lnTo>
                      <a:lnTo>
                        <a:pt x="303" y="4306"/>
                      </a:lnTo>
                      <a:lnTo>
                        <a:pt x="303" y="4111"/>
                      </a:lnTo>
                      <a:lnTo>
                        <a:pt x="303" y="3852"/>
                      </a:lnTo>
                      <a:lnTo>
                        <a:pt x="181" y="3723"/>
                      </a:lnTo>
                      <a:lnTo>
                        <a:pt x="121" y="3561"/>
                      </a:lnTo>
                      <a:lnTo>
                        <a:pt x="121" y="3432"/>
                      </a:lnTo>
                      <a:lnTo>
                        <a:pt x="121" y="3237"/>
                      </a:lnTo>
                      <a:lnTo>
                        <a:pt x="121" y="3042"/>
                      </a:lnTo>
                      <a:lnTo>
                        <a:pt x="121" y="2848"/>
                      </a:lnTo>
                      <a:lnTo>
                        <a:pt x="121" y="2719"/>
                      </a:lnTo>
                      <a:lnTo>
                        <a:pt x="121" y="2589"/>
                      </a:lnTo>
                      <a:lnTo>
                        <a:pt x="121" y="2460"/>
                      </a:lnTo>
                      <a:lnTo>
                        <a:pt x="181" y="2330"/>
                      </a:lnTo>
                      <a:lnTo>
                        <a:pt x="211" y="2168"/>
                      </a:lnTo>
                      <a:lnTo>
                        <a:pt x="211" y="2006"/>
                      </a:lnTo>
                      <a:lnTo>
                        <a:pt x="211" y="1877"/>
                      </a:lnTo>
                      <a:lnTo>
                        <a:pt x="211" y="1747"/>
                      </a:lnTo>
                      <a:lnTo>
                        <a:pt x="211" y="1553"/>
                      </a:lnTo>
                      <a:lnTo>
                        <a:pt x="211" y="1424"/>
                      </a:lnTo>
                      <a:lnTo>
                        <a:pt x="211" y="1294"/>
                      </a:lnTo>
                      <a:lnTo>
                        <a:pt x="211" y="1132"/>
                      </a:lnTo>
                      <a:lnTo>
                        <a:pt x="211" y="1003"/>
                      </a:lnTo>
                      <a:lnTo>
                        <a:pt x="242" y="873"/>
                      </a:lnTo>
                      <a:lnTo>
                        <a:pt x="273" y="712"/>
                      </a:lnTo>
                      <a:lnTo>
                        <a:pt x="211" y="582"/>
                      </a:lnTo>
                      <a:lnTo>
                        <a:pt x="121" y="453"/>
                      </a:lnTo>
                      <a:lnTo>
                        <a:pt x="60" y="323"/>
                      </a:lnTo>
                      <a:lnTo>
                        <a:pt x="60" y="194"/>
                      </a:lnTo>
                      <a:lnTo>
                        <a:pt x="30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a9a9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589960" y="485640"/>
                  <a:ext cx="130680" cy="3007080"/>
                </a:xfrm>
                <a:custGeom>
                  <a:avLst/>
                  <a:gdLst/>
                  <a:ahLst/>
                  <a:rect l="0" t="0" r="r" b="b"/>
                  <a:pathLst>
                    <a:path w="363" h="8353">
                      <a:moveTo>
                        <a:pt x="0" y="0"/>
                      </a:moveTo>
                      <a:lnTo>
                        <a:pt x="181" y="226"/>
                      </a:lnTo>
                      <a:lnTo>
                        <a:pt x="211" y="356"/>
                      </a:lnTo>
                      <a:lnTo>
                        <a:pt x="211" y="485"/>
                      </a:lnTo>
                      <a:lnTo>
                        <a:pt x="151" y="615"/>
                      </a:lnTo>
                      <a:lnTo>
                        <a:pt x="121" y="744"/>
                      </a:lnTo>
                      <a:lnTo>
                        <a:pt x="151" y="874"/>
                      </a:lnTo>
                      <a:lnTo>
                        <a:pt x="181" y="1003"/>
                      </a:lnTo>
                      <a:lnTo>
                        <a:pt x="242" y="1133"/>
                      </a:lnTo>
                      <a:lnTo>
                        <a:pt x="242" y="1262"/>
                      </a:lnTo>
                      <a:lnTo>
                        <a:pt x="242" y="1392"/>
                      </a:lnTo>
                      <a:lnTo>
                        <a:pt x="211" y="1521"/>
                      </a:lnTo>
                      <a:lnTo>
                        <a:pt x="151" y="1650"/>
                      </a:lnTo>
                      <a:lnTo>
                        <a:pt x="151" y="1812"/>
                      </a:lnTo>
                      <a:lnTo>
                        <a:pt x="181" y="1942"/>
                      </a:lnTo>
                      <a:lnTo>
                        <a:pt x="211" y="2071"/>
                      </a:lnTo>
                      <a:lnTo>
                        <a:pt x="242" y="2233"/>
                      </a:lnTo>
                      <a:lnTo>
                        <a:pt x="211" y="2363"/>
                      </a:lnTo>
                      <a:lnTo>
                        <a:pt x="181" y="2492"/>
                      </a:lnTo>
                      <a:lnTo>
                        <a:pt x="151" y="2622"/>
                      </a:lnTo>
                      <a:lnTo>
                        <a:pt x="181" y="2751"/>
                      </a:lnTo>
                      <a:lnTo>
                        <a:pt x="211" y="2881"/>
                      </a:lnTo>
                      <a:lnTo>
                        <a:pt x="242" y="3010"/>
                      </a:lnTo>
                      <a:lnTo>
                        <a:pt x="273" y="3140"/>
                      </a:lnTo>
                      <a:lnTo>
                        <a:pt x="303" y="3269"/>
                      </a:lnTo>
                      <a:lnTo>
                        <a:pt x="303" y="3431"/>
                      </a:lnTo>
                      <a:lnTo>
                        <a:pt x="303" y="3560"/>
                      </a:lnTo>
                      <a:lnTo>
                        <a:pt x="242" y="3722"/>
                      </a:lnTo>
                      <a:lnTo>
                        <a:pt x="151" y="3852"/>
                      </a:lnTo>
                      <a:lnTo>
                        <a:pt x="90" y="3981"/>
                      </a:lnTo>
                      <a:lnTo>
                        <a:pt x="60" y="4111"/>
                      </a:lnTo>
                      <a:lnTo>
                        <a:pt x="90" y="4274"/>
                      </a:lnTo>
                      <a:lnTo>
                        <a:pt x="151" y="4403"/>
                      </a:lnTo>
                      <a:lnTo>
                        <a:pt x="211" y="4533"/>
                      </a:lnTo>
                      <a:lnTo>
                        <a:pt x="273" y="4694"/>
                      </a:lnTo>
                      <a:lnTo>
                        <a:pt x="273" y="4856"/>
                      </a:lnTo>
                      <a:lnTo>
                        <a:pt x="242" y="5018"/>
                      </a:lnTo>
                      <a:lnTo>
                        <a:pt x="211" y="5148"/>
                      </a:lnTo>
                      <a:lnTo>
                        <a:pt x="211" y="5310"/>
                      </a:lnTo>
                      <a:lnTo>
                        <a:pt x="242" y="5439"/>
                      </a:lnTo>
                      <a:lnTo>
                        <a:pt x="242" y="5569"/>
                      </a:lnTo>
                      <a:lnTo>
                        <a:pt x="273" y="5698"/>
                      </a:lnTo>
                      <a:lnTo>
                        <a:pt x="242" y="5860"/>
                      </a:lnTo>
                      <a:lnTo>
                        <a:pt x="242" y="5989"/>
                      </a:lnTo>
                      <a:lnTo>
                        <a:pt x="242" y="6151"/>
                      </a:lnTo>
                      <a:lnTo>
                        <a:pt x="242" y="6281"/>
                      </a:lnTo>
                      <a:lnTo>
                        <a:pt x="242" y="6540"/>
                      </a:lnTo>
                      <a:lnTo>
                        <a:pt x="242" y="6799"/>
                      </a:lnTo>
                      <a:lnTo>
                        <a:pt x="242" y="6928"/>
                      </a:lnTo>
                      <a:lnTo>
                        <a:pt x="242" y="7058"/>
                      </a:lnTo>
                      <a:lnTo>
                        <a:pt x="242" y="7187"/>
                      </a:lnTo>
                      <a:lnTo>
                        <a:pt x="242" y="7317"/>
                      </a:lnTo>
                      <a:lnTo>
                        <a:pt x="242" y="7446"/>
                      </a:lnTo>
                      <a:lnTo>
                        <a:pt x="303" y="7576"/>
                      </a:lnTo>
                      <a:lnTo>
                        <a:pt x="303" y="7705"/>
                      </a:lnTo>
                      <a:lnTo>
                        <a:pt x="242" y="7835"/>
                      </a:lnTo>
                      <a:lnTo>
                        <a:pt x="211" y="7964"/>
                      </a:lnTo>
                      <a:lnTo>
                        <a:pt x="273" y="8094"/>
                      </a:lnTo>
                      <a:lnTo>
                        <a:pt x="303" y="8223"/>
                      </a:lnTo>
                      <a:lnTo>
                        <a:pt x="303" y="8353"/>
                      </a:lnTo>
                      <a:lnTo>
                        <a:pt x="242" y="8223"/>
                      </a:lnTo>
                      <a:lnTo>
                        <a:pt x="181" y="8094"/>
                      </a:lnTo>
                      <a:lnTo>
                        <a:pt x="151" y="7964"/>
                      </a:lnTo>
                      <a:lnTo>
                        <a:pt x="211" y="7835"/>
                      </a:lnTo>
                      <a:lnTo>
                        <a:pt x="273" y="7705"/>
                      </a:lnTo>
                      <a:lnTo>
                        <a:pt x="242" y="7576"/>
                      </a:lnTo>
                      <a:lnTo>
                        <a:pt x="211" y="7446"/>
                      </a:lnTo>
                      <a:lnTo>
                        <a:pt x="242" y="7317"/>
                      </a:lnTo>
                      <a:lnTo>
                        <a:pt x="242" y="7187"/>
                      </a:lnTo>
                      <a:lnTo>
                        <a:pt x="242" y="7058"/>
                      </a:lnTo>
                      <a:lnTo>
                        <a:pt x="211" y="6928"/>
                      </a:lnTo>
                      <a:lnTo>
                        <a:pt x="211" y="6799"/>
                      </a:lnTo>
                      <a:lnTo>
                        <a:pt x="211" y="6669"/>
                      </a:lnTo>
                      <a:lnTo>
                        <a:pt x="242" y="6507"/>
                      </a:lnTo>
                      <a:lnTo>
                        <a:pt x="242" y="6378"/>
                      </a:lnTo>
                      <a:lnTo>
                        <a:pt x="242" y="6216"/>
                      </a:lnTo>
                      <a:lnTo>
                        <a:pt x="211" y="6086"/>
                      </a:lnTo>
                      <a:lnTo>
                        <a:pt x="211" y="5925"/>
                      </a:lnTo>
                      <a:lnTo>
                        <a:pt x="242" y="5795"/>
                      </a:lnTo>
                      <a:lnTo>
                        <a:pt x="242" y="5633"/>
                      </a:lnTo>
                      <a:lnTo>
                        <a:pt x="211" y="5504"/>
                      </a:lnTo>
                      <a:lnTo>
                        <a:pt x="181" y="5374"/>
                      </a:lnTo>
                      <a:lnTo>
                        <a:pt x="151" y="5245"/>
                      </a:lnTo>
                      <a:lnTo>
                        <a:pt x="181" y="5083"/>
                      </a:lnTo>
                      <a:lnTo>
                        <a:pt x="242" y="4953"/>
                      </a:lnTo>
                      <a:lnTo>
                        <a:pt x="303" y="4824"/>
                      </a:lnTo>
                      <a:lnTo>
                        <a:pt x="273" y="4694"/>
                      </a:lnTo>
                      <a:lnTo>
                        <a:pt x="181" y="4565"/>
                      </a:lnTo>
                      <a:lnTo>
                        <a:pt x="60" y="4468"/>
                      </a:lnTo>
                      <a:lnTo>
                        <a:pt x="30" y="4338"/>
                      </a:lnTo>
                      <a:lnTo>
                        <a:pt x="151" y="4209"/>
                      </a:lnTo>
                      <a:lnTo>
                        <a:pt x="242" y="4046"/>
                      </a:lnTo>
                      <a:lnTo>
                        <a:pt x="242" y="3917"/>
                      </a:lnTo>
                      <a:lnTo>
                        <a:pt x="242" y="3755"/>
                      </a:lnTo>
                      <a:lnTo>
                        <a:pt x="242" y="3625"/>
                      </a:lnTo>
                      <a:lnTo>
                        <a:pt x="273" y="3496"/>
                      </a:lnTo>
                      <a:lnTo>
                        <a:pt x="273" y="3366"/>
                      </a:lnTo>
                      <a:lnTo>
                        <a:pt x="242" y="3237"/>
                      </a:lnTo>
                      <a:lnTo>
                        <a:pt x="242" y="3107"/>
                      </a:lnTo>
                      <a:lnTo>
                        <a:pt x="181" y="2978"/>
                      </a:lnTo>
                      <a:lnTo>
                        <a:pt x="181" y="2848"/>
                      </a:lnTo>
                      <a:lnTo>
                        <a:pt x="181" y="2719"/>
                      </a:lnTo>
                      <a:lnTo>
                        <a:pt x="273" y="2589"/>
                      </a:lnTo>
                      <a:lnTo>
                        <a:pt x="333" y="2460"/>
                      </a:lnTo>
                      <a:lnTo>
                        <a:pt x="363" y="2298"/>
                      </a:lnTo>
                      <a:lnTo>
                        <a:pt x="363" y="2168"/>
                      </a:lnTo>
                      <a:lnTo>
                        <a:pt x="273" y="2039"/>
                      </a:lnTo>
                      <a:lnTo>
                        <a:pt x="242" y="1909"/>
                      </a:lnTo>
                      <a:lnTo>
                        <a:pt x="242" y="1780"/>
                      </a:lnTo>
                      <a:lnTo>
                        <a:pt x="242" y="1650"/>
                      </a:lnTo>
                      <a:lnTo>
                        <a:pt x="211" y="1521"/>
                      </a:lnTo>
                      <a:lnTo>
                        <a:pt x="151" y="1392"/>
                      </a:lnTo>
                      <a:lnTo>
                        <a:pt x="151" y="1262"/>
                      </a:lnTo>
                      <a:lnTo>
                        <a:pt x="121" y="1100"/>
                      </a:lnTo>
                      <a:lnTo>
                        <a:pt x="121" y="971"/>
                      </a:lnTo>
                      <a:lnTo>
                        <a:pt x="181" y="841"/>
                      </a:lnTo>
                      <a:lnTo>
                        <a:pt x="242" y="712"/>
                      </a:lnTo>
                      <a:lnTo>
                        <a:pt x="242" y="582"/>
                      </a:lnTo>
                      <a:lnTo>
                        <a:pt x="242" y="453"/>
                      </a:lnTo>
                      <a:lnTo>
                        <a:pt x="151" y="323"/>
                      </a:lnTo>
                      <a:lnTo>
                        <a:pt x="90" y="194"/>
                      </a:lnTo>
                      <a:lnTo>
                        <a:pt x="30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" name=""/>
            <p:cNvGrpSpPr/>
            <p:nvPr/>
          </p:nvGrpSpPr>
          <p:grpSpPr>
            <a:xfrm>
              <a:off x="0" y="0"/>
              <a:ext cx="2057400" cy="2057400"/>
              <a:chOff x="0" y="0"/>
              <a:chExt cx="2057400" cy="2057400"/>
            </a:xfrm>
          </p:grpSpPr>
          <p:sp>
            <p:nvSpPr>
              <p:cNvPr id="21" name=""/>
              <p:cNvSpPr/>
              <p:nvPr/>
            </p:nvSpPr>
            <p:spPr>
              <a:xfrm>
                <a:off x="0" y="0"/>
                <a:ext cx="2057400" cy="205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0"/>
                <a:ext cx="1905120" cy="1905120"/>
              </a:xfrm>
              <a:prstGeom prst="rect">
                <a:avLst/>
              </a:prstGeom>
              <a:solidFill>
                <a:srgbClr val="ff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79320" y="6476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