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797440"/>
            <a:ext cx="9131760" cy="1048320"/>
            <a:chOff x="0" y="5797440"/>
            <a:chExt cx="9131760" cy="1048320"/>
          </a:xfrm>
        </p:grpSpPr>
        <p:sp>
          <p:nvSpPr>
            <p:cNvPr id="1" name=""/>
            <p:cNvSpPr/>
            <p:nvPr/>
          </p:nvSpPr>
          <p:spPr>
            <a:xfrm>
              <a:off x="0" y="5835600"/>
              <a:ext cx="9131400" cy="1009800"/>
            </a:xfrm>
            <a:prstGeom prst="rect">
              <a:avLst/>
            </a:prstGeom>
            <a:gradFill rotWithShape="0">
              <a:gsLst>
                <a:gs pos="0">
                  <a:srgbClr val="c1ceff"/>
                </a:gs>
                <a:gs pos="100000">
                  <a:srgbClr val="737b9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797440"/>
              <a:ext cx="9131760" cy="1048320"/>
              <a:chOff x="0" y="5797440"/>
              <a:chExt cx="9131760" cy="104832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858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39068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9556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0044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50532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8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19112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8960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196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4356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866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1056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59720" y="6064200"/>
                <a:ext cx="572040" cy="781560"/>
              </a:xfrm>
              <a:custGeom>
                <a:avLst/>
                <a:gdLst/>
                <a:ahLst/>
                <a:rect l="0" t="0" r="r" b="b"/>
                <a:pathLst>
                  <a:path w="1589" h="2171">
                    <a:moveTo>
                      <a:pt x="0" y="2171"/>
                    </a:moveTo>
                    <a:lnTo>
                      <a:pt x="1589" y="0"/>
                    </a:lnTo>
                    <a:lnTo>
                      <a:pt x="1589" y="529"/>
                    </a:lnTo>
                    <a:lnTo>
                      <a:pt x="424" y="2171"/>
                    </a:lnTo>
                    <a:lnTo>
                      <a:pt x="0" y="2171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7146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