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31400" cy="6845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0" t="0" r="100000" b="10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380880"/>
                <a:ext cx="8750160" cy="646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6477120" y="4267080"/>
              <a:ext cx="2285640" cy="2286000"/>
              <a:chOff x="6477120" y="4267080"/>
              <a:chExt cx="2285640" cy="2286000"/>
            </a:xfrm>
          </p:grpSpPr>
          <p:sp>
            <p:nvSpPr>
              <p:cNvPr id="5" name=""/>
              <p:cNvSpPr/>
              <p:nvPr/>
            </p:nvSpPr>
            <p:spPr>
              <a:xfrm>
                <a:off x="8610480" y="64008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305920" y="6400800"/>
                <a:ext cx="152280" cy="152280"/>
              </a:xfrm>
              <a:prstGeom prst="rect">
                <a:avLst/>
              </a:prstGeom>
              <a:solidFill>
                <a:srgbClr val="ff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01000" y="64008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96080" y="6400800"/>
                <a:ext cx="152280" cy="152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391520" y="6400800"/>
                <a:ext cx="152280" cy="1522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086600" y="6400800"/>
                <a:ext cx="15228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781680" y="6400800"/>
                <a:ext cx="152280" cy="1522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477120" y="6400800"/>
                <a:ext cx="152280" cy="152280"/>
              </a:xfrm>
              <a:prstGeom prst="rect">
                <a:avLst/>
              </a:prstGeom>
              <a:solidFill>
                <a:srgbClr val="a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610480" y="6095880"/>
                <a:ext cx="152280" cy="152280"/>
              </a:xfrm>
              <a:prstGeom prst="rect">
                <a:avLst/>
              </a:prstGeom>
              <a:solidFill>
                <a:srgbClr val="ff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610480" y="579132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10480" y="5486400"/>
                <a:ext cx="152280" cy="152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610480" y="5181480"/>
                <a:ext cx="152280" cy="1522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610480" y="4876920"/>
                <a:ext cx="15228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10480" y="4572000"/>
                <a:ext cx="152280" cy="1522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610480" y="4267080"/>
                <a:ext cx="152280" cy="152280"/>
              </a:xfrm>
              <a:prstGeom prst="rect">
                <a:avLst/>
              </a:prstGeom>
              <a:solidFill>
                <a:srgbClr val="a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