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2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44360" cy="6612120"/>
            </a:xfrm>
            <a:custGeom>
              <a:avLst/>
              <a:gdLst/>
              <a:ahLst/>
              <a:rect l="0" t="0" r="r" b="b"/>
              <a:pathLst>
                <a:path w="25401" h="18367">
                  <a:moveTo>
                    <a:pt x="25401" y="17150"/>
                  </a:moveTo>
                  <a:lnTo>
                    <a:pt x="3" y="17146"/>
                  </a:lnTo>
                  <a:lnTo>
                    <a:pt x="3" y="17410"/>
                  </a:lnTo>
                  <a:lnTo>
                    <a:pt x="25401" y="17410"/>
                  </a:lnTo>
                  <a:lnTo>
                    <a:pt x="25401" y="17622"/>
                  </a:lnTo>
                  <a:lnTo>
                    <a:pt x="3" y="17626"/>
                  </a:lnTo>
                  <a:lnTo>
                    <a:pt x="3" y="17886"/>
                  </a:lnTo>
                  <a:lnTo>
                    <a:pt x="25401" y="17886"/>
                  </a:lnTo>
                  <a:lnTo>
                    <a:pt x="25401" y="18102"/>
                  </a:lnTo>
                  <a:lnTo>
                    <a:pt x="3" y="18098"/>
                  </a:lnTo>
                  <a:lnTo>
                    <a:pt x="3" y="18367"/>
                  </a:lnTo>
                  <a:lnTo>
                    <a:pt x="25401" y="18367"/>
                  </a:lnTo>
                  <a:lnTo>
                    <a:pt x="25401" y="0"/>
                  </a:lnTo>
                  <a:lnTo>
                    <a:pt x="3" y="0"/>
                  </a:lnTo>
                  <a:lnTo>
                    <a:pt x="3" y="268"/>
                  </a:lnTo>
                  <a:lnTo>
                    <a:pt x="25401" y="264"/>
                  </a:lnTo>
                  <a:lnTo>
                    <a:pt x="25401" y="476"/>
                  </a:lnTo>
                  <a:lnTo>
                    <a:pt x="3" y="476"/>
                  </a:lnTo>
                  <a:lnTo>
                    <a:pt x="3" y="740"/>
                  </a:lnTo>
                  <a:lnTo>
                    <a:pt x="25401" y="745"/>
                  </a:lnTo>
                  <a:lnTo>
                    <a:pt x="25401" y="952"/>
                  </a:lnTo>
                  <a:lnTo>
                    <a:pt x="3" y="952"/>
                  </a:lnTo>
                  <a:lnTo>
                    <a:pt x="3" y="1217"/>
                  </a:lnTo>
                  <a:lnTo>
                    <a:pt x="25401" y="1221"/>
                  </a:lnTo>
                  <a:lnTo>
                    <a:pt x="25401" y="1428"/>
                  </a:lnTo>
                  <a:lnTo>
                    <a:pt x="3" y="1428"/>
                  </a:lnTo>
                  <a:lnTo>
                    <a:pt x="3" y="1693"/>
                  </a:lnTo>
                  <a:lnTo>
                    <a:pt x="25401" y="1693"/>
                  </a:lnTo>
                  <a:lnTo>
                    <a:pt x="25401" y="1905"/>
                  </a:lnTo>
                  <a:lnTo>
                    <a:pt x="3" y="1905"/>
                  </a:lnTo>
                  <a:lnTo>
                    <a:pt x="3" y="2169"/>
                  </a:lnTo>
                  <a:lnTo>
                    <a:pt x="25401" y="2173"/>
                  </a:lnTo>
                  <a:lnTo>
                    <a:pt x="25401" y="2381"/>
                  </a:lnTo>
                  <a:lnTo>
                    <a:pt x="3" y="2381"/>
                  </a:lnTo>
                  <a:lnTo>
                    <a:pt x="3" y="2645"/>
                  </a:lnTo>
                  <a:lnTo>
                    <a:pt x="25401" y="2645"/>
                  </a:lnTo>
                  <a:lnTo>
                    <a:pt x="25401" y="2857"/>
                  </a:lnTo>
                  <a:lnTo>
                    <a:pt x="3" y="2857"/>
                  </a:lnTo>
                  <a:lnTo>
                    <a:pt x="3" y="3122"/>
                  </a:lnTo>
                  <a:lnTo>
                    <a:pt x="25401" y="3126"/>
                  </a:lnTo>
                  <a:lnTo>
                    <a:pt x="25401" y="3333"/>
                  </a:lnTo>
                  <a:lnTo>
                    <a:pt x="3" y="3333"/>
                  </a:lnTo>
                  <a:lnTo>
                    <a:pt x="3" y="3598"/>
                  </a:lnTo>
                  <a:lnTo>
                    <a:pt x="25401" y="3602"/>
                  </a:lnTo>
                  <a:lnTo>
                    <a:pt x="25401" y="3814"/>
                  </a:lnTo>
                  <a:lnTo>
                    <a:pt x="3" y="3810"/>
                  </a:lnTo>
                  <a:lnTo>
                    <a:pt x="3" y="4078"/>
                  </a:lnTo>
                  <a:lnTo>
                    <a:pt x="25401" y="4078"/>
                  </a:lnTo>
                  <a:lnTo>
                    <a:pt x="25401" y="4290"/>
                  </a:lnTo>
                  <a:lnTo>
                    <a:pt x="3" y="4286"/>
                  </a:lnTo>
                  <a:lnTo>
                    <a:pt x="3" y="4550"/>
                  </a:lnTo>
                  <a:lnTo>
                    <a:pt x="25401" y="4555"/>
                  </a:lnTo>
                  <a:lnTo>
                    <a:pt x="25401" y="4762"/>
                  </a:lnTo>
                  <a:lnTo>
                    <a:pt x="3" y="4762"/>
                  </a:lnTo>
                  <a:lnTo>
                    <a:pt x="3" y="5027"/>
                  </a:lnTo>
                  <a:lnTo>
                    <a:pt x="25401" y="5027"/>
                  </a:lnTo>
                  <a:lnTo>
                    <a:pt x="25401" y="5238"/>
                  </a:lnTo>
                  <a:lnTo>
                    <a:pt x="3" y="5238"/>
                  </a:lnTo>
                  <a:lnTo>
                    <a:pt x="3" y="5503"/>
                  </a:lnTo>
                  <a:lnTo>
                    <a:pt x="25401" y="5503"/>
                  </a:lnTo>
                  <a:lnTo>
                    <a:pt x="25401" y="5715"/>
                  </a:lnTo>
                  <a:lnTo>
                    <a:pt x="3" y="5719"/>
                  </a:lnTo>
                  <a:lnTo>
                    <a:pt x="3" y="5983"/>
                  </a:lnTo>
                  <a:lnTo>
                    <a:pt x="25401" y="5979"/>
                  </a:lnTo>
                  <a:lnTo>
                    <a:pt x="25401" y="6191"/>
                  </a:lnTo>
                  <a:lnTo>
                    <a:pt x="3" y="6191"/>
                  </a:lnTo>
                  <a:lnTo>
                    <a:pt x="3" y="6460"/>
                  </a:lnTo>
                  <a:lnTo>
                    <a:pt x="25401" y="6455"/>
                  </a:lnTo>
                  <a:lnTo>
                    <a:pt x="25401" y="6667"/>
                  </a:lnTo>
                  <a:lnTo>
                    <a:pt x="3" y="6667"/>
                  </a:lnTo>
                  <a:lnTo>
                    <a:pt x="3" y="6932"/>
                  </a:lnTo>
                  <a:lnTo>
                    <a:pt x="25401" y="6932"/>
                  </a:lnTo>
                  <a:lnTo>
                    <a:pt x="25401" y="7143"/>
                  </a:lnTo>
                  <a:lnTo>
                    <a:pt x="3" y="7143"/>
                  </a:lnTo>
                  <a:lnTo>
                    <a:pt x="3" y="7408"/>
                  </a:lnTo>
                  <a:lnTo>
                    <a:pt x="25401" y="7412"/>
                  </a:lnTo>
                  <a:lnTo>
                    <a:pt x="25401" y="7620"/>
                  </a:lnTo>
                  <a:lnTo>
                    <a:pt x="3" y="7620"/>
                  </a:lnTo>
                  <a:lnTo>
                    <a:pt x="3" y="7888"/>
                  </a:lnTo>
                  <a:lnTo>
                    <a:pt x="25401" y="7888"/>
                  </a:lnTo>
                  <a:lnTo>
                    <a:pt x="25401" y="8096"/>
                  </a:lnTo>
                  <a:lnTo>
                    <a:pt x="3" y="8096"/>
                  </a:lnTo>
                  <a:lnTo>
                    <a:pt x="3" y="8360"/>
                  </a:lnTo>
                  <a:lnTo>
                    <a:pt x="25401" y="8360"/>
                  </a:lnTo>
                  <a:lnTo>
                    <a:pt x="25401" y="8572"/>
                  </a:lnTo>
                  <a:lnTo>
                    <a:pt x="3" y="8572"/>
                  </a:lnTo>
                  <a:lnTo>
                    <a:pt x="3" y="8841"/>
                  </a:lnTo>
                  <a:lnTo>
                    <a:pt x="25401" y="8837"/>
                  </a:lnTo>
                  <a:lnTo>
                    <a:pt x="25401" y="9048"/>
                  </a:lnTo>
                  <a:lnTo>
                    <a:pt x="3" y="9048"/>
                  </a:lnTo>
                  <a:lnTo>
                    <a:pt x="3" y="9318"/>
                  </a:lnTo>
                  <a:lnTo>
                    <a:pt x="25401" y="9314"/>
                  </a:lnTo>
                  <a:lnTo>
                    <a:pt x="25401" y="9530"/>
                  </a:lnTo>
                  <a:lnTo>
                    <a:pt x="3" y="9526"/>
                  </a:lnTo>
                  <a:lnTo>
                    <a:pt x="3" y="9790"/>
                  </a:lnTo>
                  <a:lnTo>
                    <a:pt x="25401" y="9790"/>
                  </a:lnTo>
                  <a:lnTo>
                    <a:pt x="25401" y="10002"/>
                  </a:lnTo>
                  <a:lnTo>
                    <a:pt x="3" y="10002"/>
                  </a:lnTo>
                  <a:lnTo>
                    <a:pt x="3" y="10266"/>
                  </a:lnTo>
                  <a:lnTo>
                    <a:pt x="25401" y="10266"/>
                  </a:lnTo>
                  <a:lnTo>
                    <a:pt x="25401" y="10478"/>
                  </a:lnTo>
                  <a:lnTo>
                    <a:pt x="3" y="10478"/>
                  </a:lnTo>
                  <a:lnTo>
                    <a:pt x="3" y="10747"/>
                  </a:lnTo>
                  <a:lnTo>
                    <a:pt x="25401" y="10743"/>
                  </a:lnTo>
                  <a:lnTo>
                    <a:pt x="25401" y="10954"/>
                  </a:lnTo>
                  <a:lnTo>
                    <a:pt x="3" y="10954"/>
                  </a:lnTo>
                  <a:lnTo>
                    <a:pt x="3" y="11223"/>
                  </a:lnTo>
                  <a:lnTo>
                    <a:pt x="25401" y="11223"/>
                  </a:lnTo>
                  <a:lnTo>
                    <a:pt x="25401" y="11431"/>
                  </a:lnTo>
                  <a:lnTo>
                    <a:pt x="3" y="11431"/>
                  </a:lnTo>
                  <a:lnTo>
                    <a:pt x="3" y="11695"/>
                  </a:lnTo>
                  <a:lnTo>
                    <a:pt x="25401" y="11695"/>
                  </a:lnTo>
                  <a:lnTo>
                    <a:pt x="25401" y="11907"/>
                  </a:lnTo>
                  <a:lnTo>
                    <a:pt x="3" y="11907"/>
                  </a:lnTo>
                  <a:lnTo>
                    <a:pt x="3" y="12176"/>
                  </a:lnTo>
                  <a:lnTo>
                    <a:pt x="25401" y="12171"/>
                  </a:lnTo>
                  <a:lnTo>
                    <a:pt x="25401" y="12383"/>
                  </a:lnTo>
                  <a:lnTo>
                    <a:pt x="3" y="12383"/>
                  </a:lnTo>
                  <a:lnTo>
                    <a:pt x="3" y="12648"/>
                  </a:lnTo>
                  <a:lnTo>
                    <a:pt x="25401" y="12648"/>
                  </a:lnTo>
                  <a:lnTo>
                    <a:pt x="25401" y="12864"/>
                  </a:lnTo>
                  <a:lnTo>
                    <a:pt x="0" y="12864"/>
                  </a:lnTo>
                  <a:lnTo>
                    <a:pt x="3" y="13128"/>
                  </a:lnTo>
                  <a:lnTo>
                    <a:pt x="25401" y="13124"/>
                  </a:lnTo>
                  <a:lnTo>
                    <a:pt x="25401" y="13336"/>
                  </a:lnTo>
                  <a:lnTo>
                    <a:pt x="3" y="13336"/>
                  </a:lnTo>
                  <a:lnTo>
                    <a:pt x="3" y="13600"/>
                  </a:lnTo>
                  <a:lnTo>
                    <a:pt x="25401" y="13600"/>
                  </a:lnTo>
                  <a:lnTo>
                    <a:pt x="25401" y="13812"/>
                  </a:lnTo>
                  <a:lnTo>
                    <a:pt x="3" y="13812"/>
                  </a:lnTo>
                  <a:lnTo>
                    <a:pt x="3" y="14076"/>
                  </a:lnTo>
                  <a:lnTo>
                    <a:pt x="25401" y="14076"/>
                  </a:lnTo>
                  <a:lnTo>
                    <a:pt x="25401" y="14288"/>
                  </a:lnTo>
                  <a:lnTo>
                    <a:pt x="3" y="14288"/>
                  </a:lnTo>
                  <a:lnTo>
                    <a:pt x="3" y="14557"/>
                  </a:lnTo>
                  <a:lnTo>
                    <a:pt x="25401" y="14553"/>
                  </a:lnTo>
                  <a:lnTo>
                    <a:pt x="25401" y="14764"/>
                  </a:lnTo>
                  <a:lnTo>
                    <a:pt x="3" y="14764"/>
                  </a:lnTo>
                  <a:lnTo>
                    <a:pt x="3" y="15029"/>
                  </a:lnTo>
                  <a:lnTo>
                    <a:pt x="25401" y="15033"/>
                  </a:lnTo>
                  <a:lnTo>
                    <a:pt x="25401" y="15245"/>
                  </a:lnTo>
                  <a:lnTo>
                    <a:pt x="3" y="15241"/>
                  </a:lnTo>
                  <a:lnTo>
                    <a:pt x="3" y="15509"/>
                  </a:lnTo>
                  <a:lnTo>
                    <a:pt x="25401" y="15505"/>
                  </a:lnTo>
                  <a:lnTo>
                    <a:pt x="25401" y="15721"/>
                  </a:lnTo>
                  <a:lnTo>
                    <a:pt x="3" y="15721"/>
                  </a:lnTo>
                  <a:lnTo>
                    <a:pt x="3" y="15981"/>
                  </a:lnTo>
                  <a:lnTo>
                    <a:pt x="25401" y="15986"/>
                  </a:lnTo>
                  <a:lnTo>
                    <a:pt x="25401" y="16197"/>
                  </a:lnTo>
                  <a:lnTo>
                    <a:pt x="3" y="16193"/>
                  </a:lnTo>
                  <a:lnTo>
                    <a:pt x="3" y="16462"/>
                  </a:lnTo>
                  <a:lnTo>
                    <a:pt x="25401" y="16462"/>
                  </a:lnTo>
                  <a:lnTo>
                    <a:pt x="25401" y="16674"/>
                  </a:lnTo>
                  <a:lnTo>
                    <a:pt x="3" y="16674"/>
                  </a:lnTo>
                  <a:lnTo>
                    <a:pt x="3" y="16938"/>
                  </a:lnTo>
                  <a:lnTo>
                    <a:pt x="25401" y="16938"/>
                  </a:lnTo>
                  <a:lnTo>
                    <a:pt x="25401" y="1715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