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69840" y="291960"/>
                  <a:ext cx="1098720" cy="108000"/>
                  <a:chOff x="69840" y="291960"/>
                  <a:chExt cx="1098720" cy="1080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69840" y="291960"/>
                    <a:ext cx="954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0000" y="291960"/>
                    <a:ext cx="936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1600" y="291960"/>
                    <a:ext cx="936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1400" y="291960"/>
                    <a:ext cx="954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1560" y="291960"/>
                    <a:ext cx="954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3160" y="291960"/>
                    <a:ext cx="954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8000"/>
                  <a:chOff x="69840" y="509760"/>
                  <a:chExt cx="1098720" cy="10800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a1a1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8000"/>
                  <a:chOff x="7927920" y="5961240"/>
                  <a:chExt cx="1096920" cy="10800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80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23232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57200" y="476280"/>
              <a:ext cx="8229600" cy="590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