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35680"/>
            <a:chOff x="0" y="0"/>
            <a:chExt cx="9132840" cy="6835680"/>
          </a:xfrm>
        </p:grpSpPr>
        <p:sp>
          <p:nvSpPr>
            <p:cNvPr id="1" name=""/>
            <p:cNvSpPr/>
            <p:nvPr/>
          </p:nvSpPr>
          <p:spPr>
            <a:xfrm>
              <a:off x="11160" y="0"/>
              <a:ext cx="9121680" cy="683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304920"/>
              <a:ext cx="8381880" cy="624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1981080" cy="1981080"/>
              <a:chOff x="0" y="0"/>
              <a:chExt cx="1981080" cy="198108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1981080" cy="198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1841400" cy="182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ecece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620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