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94480" y="6442200"/>
            <a:ext cx="150984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271440" y="6570720"/>
            <a:ext cx="430524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9000"/>
              </a:lnSpc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: The Engine of Change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1994 Microsoft Corp.  Slide </a:t>
            </a:r>
            <a:fld id="{B3D77662-C251-4857-AE74-44A761770272}" type="slidenum"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23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1650960"/>
            <a:ext cx="7772400" cy="4214880"/>
            <a:chOff x="685800" y="1650960"/>
            <a:chExt cx="7772400" cy="4214880"/>
          </a:xfrm>
        </p:grpSpPr>
        <p:sp>
          <p:nvSpPr>
            <p:cNvPr id="129" name=""/>
            <p:cNvSpPr txBox="1"/>
            <p:nvPr/>
          </p:nvSpPr>
          <p:spPr>
            <a:xfrm>
              <a:off x="685800" y="165096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5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‘</a:t>
              </a:r>
              <a:r>
                <a:rPr b="0" i="1" lang="en-US" sz="5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The Engine of Change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5000" y="1936800"/>
              <a:ext cx="7074000" cy="12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928800" y="2901960"/>
              <a:ext cx="7286760" cy="205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0" i="1" lang="en-US" sz="4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Microsoft Database Directions</a:t>
              </a:r>
              <a:br>
                <a:rPr sz="4400"/>
              </a:br>
              <a:r>
                <a:rPr b="0" i="1" lang="en-US" sz="4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for Distributed Comput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841480" y="4795920"/>
              <a:ext cx="3460680" cy="1069920"/>
              <a:chOff x="2841480" y="4795920"/>
              <a:chExt cx="3460680" cy="1069920"/>
            </a:xfrm>
          </p:grpSpPr>
          <p:pic>
            <p:nvPicPr>
              <p:cNvPr id="1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79800" y="4795920"/>
                <a:ext cx="31114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 txBox="1"/>
              <p:nvPr/>
            </p:nvSpPr>
            <p:spPr>
              <a:xfrm>
                <a:off x="2841480" y="5286240"/>
                <a:ext cx="3460680" cy="5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Making it Easie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New Microsoft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1800" y="1886040"/>
            <a:ext cx="8421840" cy="4529160"/>
            <a:chOff x="361800" y="1886040"/>
            <a:chExt cx="8421840" cy="4529160"/>
          </a:xfrm>
        </p:grpSpPr>
        <p:sp>
          <p:nvSpPr>
            <p:cNvPr id="165" name=""/>
            <p:cNvSpPr txBox="1"/>
            <p:nvPr/>
          </p:nvSpPr>
          <p:spPr>
            <a:xfrm>
              <a:off x="361800" y="3700440"/>
              <a:ext cx="286704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80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6180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8296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08296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sk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468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78468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40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48640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2628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22628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3165480" y="3700440"/>
              <a:ext cx="279252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Us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931000" y="3700440"/>
              <a:ext cx="285264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ganiz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72960" y="4368960"/>
              <a:ext cx="8399520" cy="1079640"/>
            </a:xfrm>
            <a:prstGeom prst="rect">
              <a:avLst/>
            </a:prstGeom>
            <a:gradFill rotWithShape="0">
              <a:gsLst>
                <a:gs pos="0">
                  <a:srgbClr val="00695f"/>
                </a:gs>
                <a:gs pos="100000">
                  <a:srgbClr val="009688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lution Provid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39680" y="5616720"/>
              <a:ext cx="7169040" cy="7984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039680" y="5616720"/>
              <a:ext cx="7169040" cy="79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961"/>
                </a:spcBef>
                <a:spcAft>
                  <a:spcPts val="961"/>
                </a:spcAf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stomer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Business Systems Division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Building the technical foundation to make distributed computing a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88840" y="2540160"/>
            <a:ext cx="7721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open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breed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 integ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, more intellig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3520" y="5229360"/>
            <a:ext cx="681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68320" y="630360"/>
            <a:ext cx="77486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pport For Standard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To Benefit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, X.400/X.500, Kerberos, SNMP,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velop new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, DCE RPC, SQL Access (ODBC), LS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 our products to be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, CMC, MAPI, NCP, NF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 our protocols and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455840" y="1587600"/>
            <a:ext cx="6418440" cy="4572000"/>
            <a:chOff x="1455840" y="1587600"/>
            <a:chExt cx="6418440" cy="4572000"/>
          </a:xfrm>
        </p:grpSpPr>
        <p:sp>
          <p:nvSpPr>
            <p:cNvPr id="187" name=""/>
            <p:cNvSpPr txBox="1"/>
            <p:nvPr/>
          </p:nvSpPr>
          <p:spPr>
            <a:xfrm>
              <a:off x="1455840" y="5048280"/>
              <a:ext cx="6418440" cy="1111320"/>
            </a:xfrm>
            <a:prstGeom prst="rect">
              <a:avLst/>
            </a:prstGeom>
            <a:gradFill rotWithShape="0">
              <a:gsLst>
                <a:gs pos="0">
                  <a:srgbClr val="009688"/>
                </a:gs>
                <a:gs pos="100000">
                  <a:srgbClr val="00695f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460520" y="4246560"/>
              <a:ext cx="138744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Q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455840" y="2397240"/>
              <a:ext cx="6418440" cy="1112760"/>
            </a:xfrm>
            <a:prstGeom prst="rect">
              <a:avLst/>
            </a:prstGeom>
            <a:gradFill rotWithShape="0">
              <a:gsLst>
                <a:gs pos="0">
                  <a:srgbClr val="d4a45a"/>
                </a:gs>
                <a:gs pos="100000">
                  <a:srgbClr val="94723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for Workgroups, Windows 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station, Macintos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OS/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UNIX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455840" y="1587600"/>
              <a:ext cx="6418440" cy="1111320"/>
            </a:xfrm>
            <a:prstGeom prst="rect">
              <a:avLst/>
            </a:prstGeom>
            <a:gradFill rotWithShape="0">
              <a:gsLst>
                <a:gs pos="0">
                  <a:srgbClr val="f35b1b"/>
                </a:gs>
                <a:gs pos="100000">
                  <a:srgbClr val="aa3f12"/>
                </a:gs>
              </a:gsLst>
              <a:path path="rect">
                <a:fillToRect l="100000" t="100000" r="0" b="0"/>
              </a:path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usiness Solu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517840" y="4246560"/>
              <a:ext cx="135396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575160" y="4246560"/>
              <a:ext cx="206856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V app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369040" y="4246560"/>
              <a:ext cx="140004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407280" y="4245120"/>
              <a:ext cx="1467000" cy="10987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243320" y="3586320"/>
              <a:ext cx="572040" cy="800280"/>
              <a:chOff x="4243320" y="3586320"/>
              <a:chExt cx="572040" cy="800280"/>
            </a:xfrm>
          </p:grpSpPr>
          <p:sp>
            <p:nvSpPr>
              <p:cNvPr id="196" name=""/>
              <p:cNvSpPr/>
              <p:nvPr/>
            </p:nvSpPr>
            <p:spPr>
              <a:xfrm>
                <a:off x="4243320" y="3957480"/>
                <a:ext cx="572040" cy="429120"/>
              </a:xfrm>
              <a:custGeom>
                <a:avLst/>
                <a:gdLst/>
                <a:ahLst/>
                <a:rect l="0" t="0" r="r" b="b"/>
                <a:pathLst>
                  <a:path w="1589" h="1192">
                    <a:moveTo>
                      <a:pt x="529" y="0"/>
                    </a:moveTo>
                    <a:lnTo>
                      <a:pt x="1058" y="0"/>
                    </a:lnTo>
                    <a:lnTo>
                      <a:pt x="1058" y="834"/>
                    </a:lnTo>
                    <a:lnTo>
                      <a:pt x="1589" y="834"/>
                    </a:lnTo>
                    <a:lnTo>
                      <a:pt x="794" y="1192"/>
                    </a:lnTo>
                    <a:lnTo>
                      <a:pt x="0" y="834"/>
                    </a:lnTo>
                    <a:lnTo>
                      <a:pt x="529" y="834"/>
                    </a:lnTo>
                    <a:lnTo>
                      <a:pt x="5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f4ea"/>
                  </a:gs>
                  <a:gs pos="50000">
                    <a:srgbClr val="7edbd2"/>
                  </a:gs>
                  <a:gs pos="100000">
                    <a:srgbClr val="8cf4ea"/>
                  </a:gs>
                </a:gsLst>
                <a:lin ang="5400000"/>
              </a:gra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43320" y="3586320"/>
                <a:ext cx="572040" cy="427320"/>
              </a:xfrm>
              <a:custGeom>
                <a:avLst/>
                <a:gdLst/>
                <a:ahLst/>
                <a:rect l="0" t="0" r="r" b="b"/>
                <a:pathLst>
                  <a:path w="1589" h="1187">
                    <a:moveTo>
                      <a:pt x="529" y="1187"/>
                    </a:moveTo>
                    <a:lnTo>
                      <a:pt x="1058" y="1187"/>
                    </a:lnTo>
                    <a:lnTo>
                      <a:pt x="1058" y="355"/>
                    </a:lnTo>
                    <a:lnTo>
                      <a:pt x="1589" y="355"/>
                    </a:lnTo>
                    <a:lnTo>
                      <a:pt x="794" y="0"/>
                    </a:lnTo>
                    <a:lnTo>
                      <a:pt x="0" y="355"/>
                    </a:lnTo>
                    <a:lnTo>
                      <a:pt x="529" y="355"/>
                    </a:lnTo>
                    <a:lnTo>
                      <a:pt x="529" y="1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f4ea"/>
                  </a:gs>
                  <a:gs pos="50000">
                    <a:srgbClr val="7edbd2"/>
                  </a:gs>
                  <a:gs pos="100000">
                    <a:srgbClr val="8cf4ea"/>
                  </a:gs>
                </a:gsLst>
                <a:lin ang="5400000"/>
              </a:gra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Solutions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08400" y="1692360"/>
            <a:ext cx="39625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T&amp;T/NCR    Compu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ndersen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Computer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TE Vantag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PeopleSoft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Wall Data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Standard &amp; P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Ziff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Unisys   Re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Ideas Commerc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3280" y="1692360"/>
            <a:ext cx="508644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merican Management System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Delphi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Booz, Allen, &amp;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Digital Equipmen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rumman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TE Federal System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IBM Consult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Platinum Software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Quickstart   SHL Systemhouse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olution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311560" y="1959120"/>
            <a:ext cx="4708800" cy="4411800"/>
            <a:chOff x="2311560" y="1959120"/>
            <a:chExt cx="4708800" cy="4411800"/>
          </a:xfrm>
        </p:grpSpPr>
        <p:sp>
          <p:nvSpPr>
            <p:cNvPr id="203" name=""/>
            <p:cNvSpPr/>
            <p:nvPr/>
          </p:nvSpPr>
          <p:spPr>
            <a:xfrm>
              <a:off x="6940440" y="3997440"/>
              <a:ext cx="79560" cy="862200"/>
            </a:xfrm>
            <a:custGeom>
              <a:avLst/>
              <a:gdLst/>
              <a:ahLst/>
              <a:rect l="0" t="0" r="r" b="b"/>
              <a:pathLst>
                <a:path w="221" h="2395">
                  <a:moveTo>
                    <a:pt x="221" y="0"/>
                  </a:moveTo>
                  <a:lnTo>
                    <a:pt x="221" y="97"/>
                  </a:lnTo>
                  <a:lnTo>
                    <a:pt x="217" y="194"/>
                  </a:lnTo>
                  <a:lnTo>
                    <a:pt x="212" y="295"/>
                  </a:lnTo>
                  <a:lnTo>
                    <a:pt x="208" y="392"/>
                  </a:lnTo>
                  <a:lnTo>
                    <a:pt x="199" y="493"/>
                  </a:lnTo>
                  <a:lnTo>
                    <a:pt x="186" y="590"/>
                  </a:lnTo>
                  <a:lnTo>
                    <a:pt x="172" y="687"/>
                  </a:lnTo>
                  <a:lnTo>
                    <a:pt x="159" y="784"/>
                  </a:lnTo>
                  <a:lnTo>
                    <a:pt x="142" y="886"/>
                  </a:lnTo>
                  <a:lnTo>
                    <a:pt x="124" y="978"/>
                  </a:lnTo>
                  <a:lnTo>
                    <a:pt x="101" y="1080"/>
                  </a:lnTo>
                  <a:lnTo>
                    <a:pt x="79" y="1172"/>
                  </a:lnTo>
                  <a:lnTo>
                    <a:pt x="52" y="1271"/>
                  </a:lnTo>
                  <a:lnTo>
                    <a:pt x="26" y="1368"/>
                  </a:lnTo>
                  <a:lnTo>
                    <a:pt x="0" y="1465"/>
                  </a:lnTo>
                  <a:lnTo>
                    <a:pt x="0" y="2395"/>
                  </a:lnTo>
                  <a:lnTo>
                    <a:pt x="26" y="2302"/>
                  </a:lnTo>
                  <a:lnTo>
                    <a:pt x="52" y="2205"/>
                  </a:lnTo>
                  <a:lnTo>
                    <a:pt x="79" y="2108"/>
                  </a:lnTo>
                  <a:lnTo>
                    <a:pt x="101" y="2011"/>
                  </a:lnTo>
                  <a:lnTo>
                    <a:pt x="124" y="1914"/>
                  </a:lnTo>
                  <a:lnTo>
                    <a:pt x="142" y="1817"/>
                  </a:lnTo>
                  <a:lnTo>
                    <a:pt x="159" y="1720"/>
                  </a:lnTo>
                  <a:lnTo>
                    <a:pt x="172" y="1623"/>
                  </a:lnTo>
                  <a:lnTo>
                    <a:pt x="186" y="1522"/>
                  </a:lnTo>
                  <a:lnTo>
                    <a:pt x="199" y="1425"/>
                  </a:lnTo>
                  <a:lnTo>
                    <a:pt x="208" y="1328"/>
                  </a:lnTo>
                  <a:lnTo>
                    <a:pt x="212" y="1231"/>
                  </a:lnTo>
                  <a:lnTo>
                    <a:pt x="217" y="1128"/>
                  </a:lnTo>
                  <a:lnTo>
                    <a:pt x="221" y="1031"/>
                  </a:lnTo>
                  <a:lnTo>
                    <a:pt x="221" y="93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7f63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1560" y="3997440"/>
              <a:ext cx="689400" cy="1776600"/>
            </a:xfrm>
            <a:custGeom>
              <a:avLst/>
              <a:gdLst/>
              <a:ahLst/>
              <a:rect l="0" t="0" r="r" b="b"/>
              <a:pathLst>
                <a:path w="1915" h="4935">
                  <a:moveTo>
                    <a:pt x="1915" y="4000"/>
                  </a:moveTo>
                  <a:lnTo>
                    <a:pt x="1836" y="3930"/>
                  </a:lnTo>
                  <a:lnTo>
                    <a:pt x="1757" y="3859"/>
                  </a:lnTo>
                  <a:lnTo>
                    <a:pt x="1677" y="3788"/>
                  </a:lnTo>
                  <a:lnTo>
                    <a:pt x="1602" y="3713"/>
                  </a:lnTo>
                  <a:lnTo>
                    <a:pt x="1532" y="3639"/>
                  </a:lnTo>
                  <a:lnTo>
                    <a:pt x="1457" y="3559"/>
                  </a:lnTo>
                  <a:lnTo>
                    <a:pt x="1385" y="3484"/>
                  </a:lnTo>
                  <a:lnTo>
                    <a:pt x="1315" y="3405"/>
                  </a:lnTo>
                  <a:lnTo>
                    <a:pt x="1248" y="3325"/>
                  </a:lnTo>
                  <a:lnTo>
                    <a:pt x="1182" y="3246"/>
                  </a:lnTo>
                  <a:lnTo>
                    <a:pt x="1116" y="3162"/>
                  </a:lnTo>
                  <a:lnTo>
                    <a:pt x="1054" y="3083"/>
                  </a:lnTo>
                  <a:lnTo>
                    <a:pt x="993" y="2999"/>
                  </a:lnTo>
                  <a:lnTo>
                    <a:pt x="931" y="2915"/>
                  </a:lnTo>
                  <a:lnTo>
                    <a:pt x="874" y="2827"/>
                  </a:lnTo>
                  <a:lnTo>
                    <a:pt x="816" y="2743"/>
                  </a:lnTo>
                  <a:lnTo>
                    <a:pt x="763" y="2655"/>
                  </a:lnTo>
                  <a:lnTo>
                    <a:pt x="710" y="2567"/>
                  </a:lnTo>
                  <a:lnTo>
                    <a:pt x="658" y="2479"/>
                  </a:lnTo>
                  <a:lnTo>
                    <a:pt x="609" y="2390"/>
                  </a:lnTo>
                  <a:lnTo>
                    <a:pt x="565" y="2301"/>
                  </a:lnTo>
                  <a:lnTo>
                    <a:pt x="521" y="2209"/>
                  </a:lnTo>
                  <a:lnTo>
                    <a:pt x="471" y="2121"/>
                  </a:lnTo>
                  <a:lnTo>
                    <a:pt x="432" y="2028"/>
                  </a:lnTo>
                  <a:lnTo>
                    <a:pt x="392" y="1935"/>
                  </a:lnTo>
                  <a:lnTo>
                    <a:pt x="352" y="1843"/>
                  </a:lnTo>
                  <a:lnTo>
                    <a:pt x="317" y="1746"/>
                  </a:lnTo>
                  <a:lnTo>
                    <a:pt x="282" y="1653"/>
                  </a:lnTo>
                  <a:lnTo>
                    <a:pt x="251" y="1556"/>
                  </a:lnTo>
                  <a:lnTo>
                    <a:pt x="220" y="1464"/>
                  </a:lnTo>
                  <a:lnTo>
                    <a:pt x="194" y="1367"/>
                  </a:lnTo>
                  <a:lnTo>
                    <a:pt x="167" y="1270"/>
                  </a:lnTo>
                  <a:lnTo>
                    <a:pt x="141" y="1172"/>
                  </a:lnTo>
                  <a:lnTo>
                    <a:pt x="119" y="1080"/>
                  </a:lnTo>
                  <a:lnTo>
                    <a:pt x="97" y="978"/>
                  </a:lnTo>
                  <a:lnTo>
                    <a:pt x="79" y="886"/>
                  </a:lnTo>
                  <a:lnTo>
                    <a:pt x="61" y="784"/>
                  </a:lnTo>
                  <a:lnTo>
                    <a:pt x="48" y="687"/>
                  </a:lnTo>
                  <a:lnTo>
                    <a:pt x="35" y="590"/>
                  </a:lnTo>
                  <a:lnTo>
                    <a:pt x="22" y="493"/>
                  </a:lnTo>
                  <a:lnTo>
                    <a:pt x="13" y="392"/>
                  </a:lnTo>
                  <a:lnTo>
                    <a:pt x="8" y="295"/>
                  </a:lnTo>
                  <a:lnTo>
                    <a:pt x="4" y="194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930"/>
                  </a:lnTo>
                  <a:lnTo>
                    <a:pt x="0" y="1031"/>
                  </a:lnTo>
                  <a:lnTo>
                    <a:pt x="4" y="1128"/>
                  </a:lnTo>
                  <a:lnTo>
                    <a:pt x="8" y="1230"/>
                  </a:lnTo>
                  <a:lnTo>
                    <a:pt x="13" y="1327"/>
                  </a:lnTo>
                  <a:lnTo>
                    <a:pt x="22" y="1424"/>
                  </a:lnTo>
                  <a:lnTo>
                    <a:pt x="35" y="1521"/>
                  </a:lnTo>
                  <a:lnTo>
                    <a:pt x="48" y="1622"/>
                  </a:lnTo>
                  <a:lnTo>
                    <a:pt x="61" y="1719"/>
                  </a:lnTo>
                  <a:lnTo>
                    <a:pt x="79" y="1816"/>
                  </a:lnTo>
                  <a:lnTo>
                    <a:pt x="97" y="1913"/>
                  </a:lnTo>
                  <a:lnTo>
                    <a:pt x="119" y="2010"/>
                  </a:lnTo>
                  <a:lnTo>
                    <a:pt x="141" y="2107"/>
                  </a:lnTo>
                  <a:lnTo>
                    <a:pt x="167" y="2204"/>
                  </a:lnTo>
                  <a:lnTo>
                    <a:pt x="194" y="2301"/>
                  </a:lnTo>
                  <a:lnTo>
                    <a:pt x="220" y="2394"/>
                  </a:lnTo>
                  <a:lnTo>
                    <a:pt x="251" y="2492"/>
                  </a:lnTo>
                  <a:lnTo>
                    <a:pt x="282" y="2585"/>
                  </a:lnTo>
                  <a:lnTo>
                    <a:pt x="317" y="2682"/>
                  </a:lnTo>
                  <a:lnTo>
                    <a:pt x="352" y="2774"/>
                  </a:lnTo>
                  <a:lnTo>
                    <a:pt x="392" y="2867"/>
                  </a:lnTo>
                  <a:lnTo>
                    <a:pt x="432" y="2959"/>
                  </a:lnTo>
                  <a:lnTo>
                    <a:pt x="471" y="3052"/>
                  </a:lnTo>
                  <a:lnTo>
                    <a:pt x="521" y="3145"/>
                  </a:lnTo>
                  <a:lnTo>
                    <a:pt x="565" y="3233"/>
                  </a:lnTo>
                  <a:lnTo>
                    <a:pt x="609" y="3325"/>
                  </a:lnTo>
                  <a:lnTo>
                    <a:pt x="658" y="3414"/>
                  </a:lnTo>
                  <a:lnTo>
                    <a:pt x="710" y="3502"/>
                  </a:lnTo>
                  <a:lnTo>
                    <a:pt x="763" y="3590"/>
                  </a:lnTo>
                  <a:lnTo>
                    <a:pt x="816" y="3674"/>
                  </a:lnTo>
                  <a:lnTo>
                    <a:pt x="874" y="3762"/>
                  </a:lnTo>
                  <a:lnTo>
                    <a:pt x="931" y="3846"/>
                  </a:lnTo>
                  <a:lnTo>
                    <a:pt x="993" y="3930"/>
                  </a:lnTo>
                  <a:lnTo>
                    <a:pt x="1054" y="4013"/>
                  </a:lnTo>
                  <a:lnTo>
                    <a:pt x="1116" y="4097"/>
                  </a:lnTo>
                  <a:lnTo>
                    <a:pt x="1182" y="4181"/>
                  </a:lnTo>
                  <a:lnTo>
                    <a:pt x="1248" y="4260"/>
                  </a:lnTo>
                  <a:lnTo>
                    <a:pt x="1315" y="4340"/>
                  </a:lnTo>
                  <a:lnTo>
                    <a:pt x="1385" y="4415"/>
                  </a:lnTo>
                  <a:lnTo>
                    <a:pt x="1457" y="4494"/>
                  </a:lnTo>
                  <a:lnTo>
                    <a:pt x="1532" y="4569"/>
                  </a:lnTo>
                  <a:lnTo>
                    <a:pt x="1602" y="4644"/>
                  </a:lnTo>
                  <a:lnTo>
                    <a:pt x="1677" y="4719"/>
                  </a:lnTo>
                  <a:lnTo>
                    <a:pt x="1757" y="4794"/>
                  </a:lnTo>
                  <a:lnTo>
                    <a:pt x="1836" y="4864"/>
                  </a:lnTo>
                  <a:lnTo>
                    <a:pt x="1915" y="4935"/>
                  </a:lnTo>
                  <a:lnTo>
                    <a:pt x="1915" y="4000"/>
                  </a:lnTo>
                  <a:close/>
                </a:path>
              </a:pathLst>
            </a:custGeom>
            <a:solidFill>
              <a:srgbClr val="19327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5440" y="4524480"/>
              <a:ext cx="1665720" cy="1776600"/>
            </a:xfrm>
            <a:custGeom>
              <a:avLst/>
              <a:gdLst/>
              <a:ahLst/>
              <a:rect l="0" t="0" r="r" b="b"/>
              <a:pathLst>
                <a:path w="4627" h="4935">
                  <a:moveTo>
                    <a:pt x="4627" y="0"/>
                  </a:moveTo>
                  <a:lnTo>
                    <a:pt x="4596" y="92"/>
                  </a:lnTo>
                  <a:lnTo>
                    <a:pt x="4566" y="189"/>
                  </a:lnTo>
                  <a:lnTo>
                    <a:pt x="4526" y="282"/>
                  </a:lnTo>
                  <a:lnTo>
                    <a:pt x="4491" y="379"/>
                  </a:lnTo>
                  <a:lnTo>
                    <a:pt x="4455" y="471"/>
                  </a:lnTo>
                  <a:lnTo>
                    <a:pt x="4416" y="564"/>
                  </a:lnTo>
                  <a:lnTo>
                    <a:pt x="4372" y="657"/>
                  </a:lnTo>
                  <a:lnTo>
                    <a:pt x="4327" y="745"/>
                  </a:lnTo>
                  <a:lnTo>
                    <a:pt x="4283" y="837"/>
                  </a:lnTo>
                  <a:lnTo>
                    <a:pt x="4235" y="926"/>
                  </a:lnTo>
                  <a:lnTo>
                    <a:pt x="4186" y="1014"/>
                  </a:lnTo>
                  <a:lnTo>
                    <a:pt x="4138" y="1102"/>
                  </a:lnTo>
                  <a:lnTo>
                    <a:pt x="4085" y="1190"/>
                  </a:lnTo>
                  <a:lnTo>
                    <a:pt x="4032" y="1278"/>
                  </a:lnTo>
                  <a:lnTo>
                    <a:pt x="3970" y="1362"/>
                  </a:lnTo>
                  <a:lnTo>
                    <a:pt x="3913" y="1450"/>
                  </a:lnTo>
                  <a:lnTo>
                    <a:pt x="3856" y="1534"/>
                  </a:lnTo>
                  <a:lnTo>
                    <a:pt x="3794" y="1618"/>
                  </a:lnTo>
                  <a:lnTo>
                    <a:pt x="3732" y="1697"/>
                  </a:lnTo>
                  <a:lnTo>
                    <a:pt x="3666" y="1781"/>
                  </a:lnTo>
                  <a:lnTo>
                    <a:pt x="3600" y="1860"/>
                  </a:lnTo>
                  <a:lnTo>
                    <a:pt x="3534" y="1940"/>
                  </a:lnTo>
                  <a:lnTo>
                    <a:pt x="3462" y="2019"/>
                  </a:lnTo>
                  <a:lnTo>
                    <a:pt x="3392" y="2094"/>
                  </a:lnTo>
                  <a:lnTo>
                    <a:pt x="3317" y="2173"/>
                  </a:lnTo>
                  <a:lnTo>
                    <a:pt x="3242" y="2248"/>
                  </a:lnTo>
                  <a:lnTo>
                    <a:pt x="3167" y="2323"/>
                  </a:lnTo>
                  <a:lnTo>
                    <a:pt x="3092" y="2394"/>
                  </a:lnTo>
                  <a:lnTo>
                    <a:pt x="3012" y="2465"/>
                  </a:lnTo>
                  <a:lnTo>
                    <a:pt x="2933" y="2536"/>
                  </a:lnTo>
                  <a:lnTo>
                    <a:pt x="2849" y="2607"/>
                  </a:lnTo>
                  <a:lnTo>
                    <a:pt x="2765" y="2677"/>
                  </a:lnTo>
                  <a:lnTo>
                    <a:pt x="2686" y="2743"/>
                  </a:lnTo>
                  <a:lnTo>
                    <a:pt x="2598" y="2805"/>
                  </a:lnTo>
                  <a:lnTo>
                    <a:pt x="2510" y="2871"/>
                  </a:lnTo>
                  <a:lnTo>
                    <a:pt x="2421" y="2933"/>
                  </a:lnTo>
                  <a:lnTo>
                    <a:pt x="2333" y="2995"/>
                  </a:lnTo>
                  <a:lnTo>
                    <a:pt x="2241" y="3056"/>
                  </a:lnTo>
                  <a:lnTo>
                    <a:pt x="2152" y="3114"/>
                  </a:lnTo>
                  <a:lnTo>
                    <a:pt x="2060" y="3171"/>
                  </a:lnTo>
                  <a:lnTo>
                    <a:pt x="1967" y="3228"/>
                  </a:lnTo>
                  <a:lnTo>
                    <a:pt x="1870" y="3281"/>
                  </a:lnTo>
                  <a:lnTo>
                    <a:pt x="1773" y="3334"/>
                  </a:lnTo>
                  <a:lnTo>
                    <a:pt x="1676" y="3387"/>
                  </a:lnTo>
                  <a:lnTo>
                    <a:pt x="1575" y="3436"/>
                  </a:lnTo>
                  <a:lnTo>
                    <a:pt x="1478" y="3484"/>
                  </a:lnTo>
                  <a:lnTo>
                    <a:pt x="1376" y="3533"/>
                  </a:lnTo>
                  <a:lnTo>
                    <a:pt x="1275" y="3577"/>
                  </a:lnTo>
                  <a:lnTo>
                    <a:pt x="1173" y="3625"/>
                  </a:lnTo>
                  <a:lnTo>
                    <a:pt x="1071" y="3665"/>
                  </a:lnTo>
                  <a:lnTo>
                    <a:pt x="965" y="3705"/>
                  </a:lnTo>
                  <a:lnTo>
                    <a:pt x="859" y="3744"/>
                  </a:lnTo>
                  <a:lnTo>
                    <a:pt x="758" y="3784"/>
                  </a:lnTo>
                  <a:lnTo>
                    <a:pt x="648" y="3819"/>
                  </a:lnTo>
                  <a:lnTo>
                    <a:pt x="542" y="3855"/>
                  </a:lnTo>
                  <a:lnTo>
                    <a:pt x="436" y="3885"/>
                  </a:lnTo>
                  <a:lnTo>
                    <a:pt x="326" y="3916"/>
                  </a:lnTo>
                  <a:lnTo>
                    <a:pt x="220" y="3947"/>
                  </a:lnTo>
                  <a:lnTo>
                    <a:pt x="110" y="3978"/>
                  </a:lnTo>
                  <a:lnTo>
                    <a:pt x="0" y="4005"/>
                  </a:lnTo>
                  <a:lnTo>
                    <a:pt x="0" y="4935"/>
                  </a:lnTo>
                  <a:lnTo>
                    <a:pt x="110" y="4909"/>
                  </a:lnTo>
                  <a:lnTo>
                    <a:pt x="220" y="4882"/>
                  </a:lnTo>
                  <a:lnTo>
                    <a:pt x="326" y="4851"/>
                  </a:lnTo>
                  <a:lnTo>
                    <a:pt x="436" y="4820"/>
                  </a:lnTo>
                  <a:lnTo>
                    <a:pt x="542" y="4785"/>
                  </a:lnTo>
                  <a:lnTo>
                    <a:pt x="648" y="4754"/>
                  </a:lnTo>
                  <a:lnTo>
                    <a:pt x="758" y="4719"/>
                  </a:lnTo>
                  <a:lnTo>
                    <a:pt x="859" y="4679"/>
                  </a:lnTo>
                  <a:lnTo>
                    <a:pt x="965" y="4640"/>
                  </a:lnTo>
                  <a:lnTo>
                    <a:pt x="1071" y="4600"/>
                  </a:lnTo>
                  <a:lnTo>
                    <a:pt x="1173" y="4556"/>
                  </a:lnTo>
                  <a:lnTo>
                    <a:pt x="1275" y="4512"/>
                  </a:lnTo>
                  <a:lnTo>
                    <a:pt x="1376" y="4463"/>
                  </a:lnTo>
                  <a:lnTo>
                    <a:pt x="1478" y="4419"/>
                  </a:lnTo>
                  <a:lnTo>
                    <a:pt x="1575" y="4371"/>
                  </a:lnTo>
                  <a:lnTo>
                    <a:pt x="1676" y="4322"/>
                  </a:lnTo>
                  <a:lnTo>
                    <a:pt x="1773" y="4269"/>
                  </a:lnTo>
                  <a:lnTo>
                    <a:pt x="1870" y="4216"/>
                  </a:lnTo>
                  <a:lnTo>
                    <a:pt x="1967" y="4163"/>
                  </a:lnTo>
                  <a:lnTo>
                    <a:pt x="2060" y="4106"/>
                  </a:lnTo>
                  <a:lnTo>
                    <a:pt x="2152" y="4049"/>
                  </a:lnTo>
                  <a:lnTo>
                    <a:pt x="2241" y="3987"/>
                  </a:lnTo>
                  <a:lnTo>
                    <a:pt x="2333" y="3930"/>
                  </a:lnTo>
                  <a:lnTo>
                    <a:pt x="2421" y="3868"/>
                  </a:lnTo>
                  <a:lnTo>
                    <a:pt x="2510" y="3806"/>
                  </a:lnTo>
                  <a:lnTo>
                    <a:pt x="2598" y="3740"/>
                  </a:lnTo>
                  <a:lnTo>
                    <a:pt x="2686" y="3674"/>
                  </a:lnTo>
                  <a:lnTo>
                    <a:pt x="2765" y="3608"/>
                  </a:lnTo>
                  <a:lnTo>
                    <a:pt x="2849" y="3537"/>
                  </a:lnTo>
                  <a:lnTo>
                    <a:pt x="2933" y="3471"/>
                  </a:lnTo>
                  <a:lnTo>
                    <a:pt x="3012" y="3400"/>
                  </a:lnTo>
                  <a:lnTo>
                    <a:pt x="3092" y="3330"/>
                  </a:lnTo>
                  <a:lnTo>
                    <a:pt x="3167" y="3255"/>
                  </a:lnTo>
                  <a:lnTo>
                    <a:pt x="3242" y="3180"/>
                  </a:lnTo>
                  <a:lnTo>
                    <a:pt x="3317" y="3105"/>
                  </a:lnTo>
                  <a:lnTo>
                    <a:pt x="3392" y="3030"/>
                  </a:lnTo>
                  <a:lnTo>
                    <a:pt x="3462" y="2951"/>
                  </a:lnTo>
                  <a:lnTo>
                    <a:pt x="3534" y="2876"/>
                  </a:lnTo>
                  <a:lnTo>
                    <a:pt x="3600" y="2796"/>
                  </a:lnTo>
                  <a:lnTo>
                    <a:pt x="3666" y="2717"/>
                  </a:lnTo>
                  <a:lnTo>
                    <a:pt x="3732" y="2633"/>
                  </a:lnTo>
                  <a:lnTo>
                    <a:pt x="3794" y="2549"/>
                  </a:lnTo>
                  <a:lnTo>
                    <a:pt x="3856" y="2465"/>
                  </a:lnTo>
                  <a:lnTo>
                    <a:pt x="3913" y="2381"/>
                  </a:lnTo>
                  <a:lnTo>
                    <a:pt x="3970" y="2297"/>
                  </a:lnTo>
                  <a:lnTo>
                    <a:pt x="4032" y="2209"/>
                  </a:lnTo>
                  <a:lnTo>
                    <a:pt x="4085" y="2125"/>
                  </a:lnTo>
                  <a:lnTo>
                    <a:pt x="4138" y="2037"/>
                  </a:lnTo>
                  <a:lnTo>
                    <a:pt x="4186" y="1949"/>
                  </a:lnTo>
                  <a:lnTo>
                    <a:pt x="4235" y="1860"/>
                  </a:lnTo>
                  <a:lnTo>
                    <a:pt x="4283" y="1768"/>
                  </a:lnTo>
                  <a:lnTo>
                    <a:pt x="4327" y="1680"/>
                  </a:lnTo>
                  <a:lnTo>
                    <a:pt x="4372" y="1587"/>
                  </a:lnTo>
                  <a:lnTo>
                    <a:pt x="4416" y="1494"/>
                  </a:lnTo>
                  <a:lnTo>
                    <a:pt x="4455" y="1402"/>
                  </a:lnTo>
                  <a:lnTo>
                    <a:pt x="4491" y="1309"/>
                  </a:lnTo>
                  <a:lnTo>
                    <a:pt x="4526" y="1217"/>
                  </a:lnTo>
                  <a:lnTo>
                    <a:pt x="4566" y="1120"/>
                  </a:lnTo>
                  <a:lnTo>
                    <a:pt x="4596" y="1027"/>
                  </a:lnTo>
                  <a:lnTo>
                    <a:pt x="4627" y="930"/>
                  </a:lnTo>
                  <a:lnTo>
                    <a:pt x="4627" y="0"/>
                  </a:lnTo>
                  <a:close/>
                </a:path>
              </a:pathLst>
            </a:custGeom>
            <a:solidFill>
              <a:srgbClr val="0a69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00240" y="5437080"/>
              <a:ext cx="2275200" cy="933840"/>
            </a:xfrm>
            <a:custGeom>
              <a:avLst/>
              <a:gdLst/>
              <a:ahLst/>
              <a:rect l="0" t="0" r="r" b="b"/>
              <a:pathLst>
                <a:path w="6320" h="2594">
                  <a:moveTo>
                    <a:pt x="6320" y="1469"/>
                  </a:moveTo>
                  <a:lnTo>
                    <a:pt x="6209" y="1491"/>
                  </a:lnTo>
                  <a:lnTo>
                    <a:pt x="6099" y="1513"/>
                  </a:lnTo>
                  <a:lnTo>
                    <a:pt x="5984" y="1535"/>
                  </a:lnTo>
                  <a:lnTo>
                    <a:pt x="5874" y="1557"/>
                  </a:lnTo>
                  <a:lnTo>
                    <a:pt x="5760" y="1575"/>
                  </a:lnTo>
                  <a:lnTo>
                    <a:pt x="5649" y="1588"/>
                  </a:lnTo>
                  <a:lnTo>
                    <a:pt x="5535" y="1606"/>
                  </a:lnTo>
                  <a:lnTo>
                    <a:pt x="5424" y="1619"/>
                  </a:lnTo>
                  <a:lnTo>
                    <a:pt x="5310" y="1628"/>
                  </a:lnTo>
                  <a:lnTo>
                    <a:pt x="5195" y="1641"/>
                  </a:lnTo>
                  <a:lnTo>
                    <a:pt x="5081" y="1645"/>
                  </a:lnTo>
                  <a:lnTo>
                    <a:pt x="4966" y="1654"/>
                  </a:lnTo>
                  <a:lnTo>
                    <a:pt x="4856" y="1659"/>
                  </a:lnTo>
                  <a:lnTo>
                    <a:pt x="4741" y="1659"/>
                  </a:lnTo>
                  <a:lnTo>
                    <a:pt x="4626" y="1659"/>
                  </a:lnTo>
                  <a:lnTo>
                    <a:pt x="4512" y="1659"/>
                  </a:lnTo>
                  <a:lnTo>
                    <a:pt x="4397" y="1659"/>
                  </a:lnTo>
                  <a:lnTo>
                    <a:pt x="4282" y="1654"/>
                  </a:lnTo>
                  <a:lnTo>
                    <a:pt x="4168" y="1645"/>
                  </a:lnTo>
                  <a:lnTo>
                    <a:pt x="4053" y="1641"/>
                  </a:lnTo>
                  <a:lnTo>
                    <a:pt x="3943" y="1628"/>
                  </a:lnTo>
                  <a:lnTo>
                    <a:pt x="3828" y="1619"/>
                  </a:lnTo>
                  <a:lnTo>
                    <a:pt x="3713" y="1606"/>
                  </a:lnTo>
                  <a:lnTo>
                    <a:pt x="3603" y="1588"/>
                  </a:lnTo>
                  <a:lnTo>
                    <a:pt x="3489" y="1575"/>
                  </a:lnTo>
                  <a:lnTo>
                    <a:pt x="3378" y="1557"/>
                  </a:lnTo>
                  <a:lnTo>
                    <a:pt x="3268" y="1535"/>
                  </a:lnTo>
                  <a:lnTo>
                    <a:pt x="3152" y="1513"/>
                  </a:lnTo>
                  <a:lnTo>
                    <a:pt x="3042" y="1491"/>
                  </a:lnTo>
                  <a:lnTo>
                    <a:pt x="2932" y="1469"/>
                  </a:lnTo>
                  <a:lnTo>
                    <a:pt x="2822" y="1442"/>
                  </a:lnTo>
                  <a:lnTo>
                    <a:pt x="2711" y="1412"/>
                  </a:lnTo>
                  <a:lnTo>
                    <a:pt x="2606" y="1381"/>
                  </a:lnTo>
                  <a:lnTo>
                    <a:pt x="2495" y="1350"/>
                  </a:lnTo>
                  <a:lnTo>
                    <a:pt x="2390" y="1319"/>
                  </a:lnTo>
                  <a:lnTo>
                    <a:pt x="2279" y="1284"/>
                  </a:lnTo>
                  <a:lnTo>
                    <a:pt x="2173" y="1248"/>
                  </a:lnTo>
                  <a:lnTo>
                    <a:pt x="2068" y="1209"/>
                  </a:lnTo>
                  <a:lnTo>
                    <a:pt x="1962" y="1169"/>
                  </a:lnTo>
                  <a:lnTo>
                    <a:pt x="1860" y="1129"/>
                  </a:lnTo>
                  <a:lnTo>
                    <a:pt x="1759" y="1090"/>
                  </a:lnTo>
                  <a:lnTo>
                    <a:pt x="1653" y="1041"/>
                  </a:lnTo>
                  <a:lnTo>
                    <a:pt x="1556" y="997"/>
                  </a:lnTo>
                  <a:lnTo>
                    <a:pt x="1455" y="949"/>
                  </a:lnTo>
                  <a:lnTo>
                    <a:pt x="1353" y="900"/>
                  </a:lnTo>
                  <a:lnTo>
                    <a:pt x="1256" y="852"/>
                  </a:lnTo>
                  <a:lnTo>
                    <a:pt x="1159" y="799"/>
                  </a:lnTo>
                  <a:lnTo>
                    <a:pt x="1062" y="746"/>
                  </a:lnTo>
                  <a:lnTo>
                    <a:pt x="965" y="693"/>
                  </a:lnTo>
                  <a:lnTo>
                    <a:pt x="873" y="635"/>
                  </a:lnTo>
                  <a:lnTo>
                    <a:pt x="780" y="577"/>
                  </a:lnTo>
                  <a:lnTo>
                    <a:pt x="687" y="520"/>
                  </a:lnTo>
                  <a:lnTo>
                    <a:pt x="599" y="458"/>
                  </a:lnTo>
                  <a:lnTo>
                    <a:pt x="507" y="396"/>
                  </a:lnTo>
                  <a:lnTo>
                    <a:pt x="418" y="335"/>
                  </a:lnTo>
                  <a:lnTo>
                    <a:pt x="335" y="268"/>
                  </a:lnTo>
                  <a:lnTo>
                    <a:pt x="246" y="207"/>
                  </a:lnTo>
                  <a:lnTo>
                    <a:pt x="163" y="141"/>
                  </a:lnTo>
                  <a:lnTo>
                    <a:pt x="79" y="70"/>
                  </a:lnTo>
                  <a:lnTo>
                    <a:pt x="0" y="0"/>
                  </a:lnTo>
                  <a:lnTo>
                    <a:pt x="0" y="935"/>
                  </a:lnTo>
                  <a:lnTo>
                    <a:pt x="79" y="1002"/>
                  </a:lnTo>
                  <a:lnTo>
                    <a:pt x="163" y="1072"/>
                  </a:lnTo>
                  <a:lnTo>
                    <a:pt x="246" y="1138"/>
                  </a:lnTo>
                  <a:lnTo>
                    <a:pt x="335" y="1204"/>
                  </a:lnTo>
                  <a:lnTo>
                    <a:pt x="418" y="1271"/>
                  </a:lnTo>
                  <a:lnTo>
                    <a:pt x="507" y="1332"/>
                  </a:lnTo>
                  <a:lnTo>
                    <a:pt x="599" y="1394"/>
                  </a:lnTo>
                  <a:lnTo>
                    <a:pt x="687" y="1451"/>
                  </a:lnTo>
                  <a:lnTo>
                    <a:pt x="780" y="1513"/>
                  </a:lnTo>
                  <a:lnTo>
                    <a:pt x="873" y="1570"/>
                  </a:lnTo>
                  <a:lnTo>
                    <a:pt x="965" y="1628"/>
                  </a:lnTo>
                  <a:lnTo>
                    <a:pt x="1062" y="1681"/>
                  </a:lnTo>
                  <a:lnTo>
                    <a:pt x="1159" y="1734"/>
                  </a:lnTo>
                  <a:lnTo>
                    <a:pt x="1256" y="1786"/>
                  </a:lnTo>
                  <a:lnTo>
                    <a:pt x="1353" y="1835"/>
                  </a:lnTo>
                  <a:lnTo>
                    <a:pt x="1455" y="1883"/>
                  </a:lnTo>
                  <a:lnTo>
                    <a:pt x="1556" y="1928"/>
                  </a:lnTo>
                  <a:lnTo>
                    <a:pt x="1653" y="1977"/>
                  </a:lnTo>
                  <a:lnTo>
                    <a:pt x="1759" y="2021"/>
                  </a:lnTo>
                  <a:lnTo>
                    <a:pt x="1860" y="2065"/>
                  </a:lnTo>
                  <a:lnTo>
                    <a:pt x="1962" y="2105"/>
                  </a:lnTo>
                  <a:lnTo>
                    <a:pt x="2068" y="2145"/>
                  </a:lnTo>
                  <a:lnTo>
                    <a:pt x="2173" y="2184"/>
                  </a:lnTo>
                  <a:lnTo>
                    <a:pt x="2279" y="2220"/>
                  </a:lnTo>
                  <a:lnTo>
                    <a:pt x="2390" y="2250"/>
                  </a:lnTo>
                  <a:lnTo>
                    <a:pt x="2495" y="2286"/>
                  </a:lnTo>
                  <a:lnTo>
                    <a:pt x="2606" y="2317"/>
                  </a:lnTo>
                  <a:lnTo>
                    <a:pt x="2711" y="2347"/>
                  </a:lnTo>
                  <a:lnTo>
                    <a:pt x="2822" y="2374"/>
                  </a:lnTo>
                  <a:lnTo>
                    <a:pt x="2932" y="2400"/>
                  </a:lnTo>
                  <a:lnTo>
                    <a:pt x="3042" y="2427"/>
                  </a:lnTo>
                  <a:lnTo>
                    <a:pt x="3152" y="2449"/>
                  </a:lnTo>
                  <a:lnTo>
                    <a:pt x="3268" y="2471"/>
                  </a:lnTo>
                  <a:lnTo>
                    <a:pt x="3378" y="2489"/>
                  </a:lnTo>
                  <a:lnTo>
                    <a:pt x="3489" y="2506"/>
                  </a:lnTo>
                  <a:lnTo>
                    <a:pt x="3603" y="2524"/>
                  </a:lnTo>
                  <a:lnTo>
                    <a:pt x="3713" y="2542"/>
                  </a:lnTo>
                  <a:lnTo>
                    <a:pt x="3828" y="2550"/>
                  </a:lnTo>
                  <a:lnTo>
                    <a:pt x="3943" y="2564"/>
                  </a:lnTo>
                  <a:lnTo>
                    <a:pt x="4053" y="2572"/>
                  </a:lnTo>
                  <a:lnTo>
                    <a:pt x="4168" y="2581"/>
                  </a:lnTo>
                  <a:lnTo>
                    <a:pt x="4282" y="2586"/>
                  </a:lnTo>
                  <a:lnTo>
                    <a:pt x="4397" y="2590"/>
                  </a:lnTo>
                  <a:lnTo>
                    <a:pt x="4512" y="2594"/>
                  </a:lnTo>
                  <a:lnTo>
                    <a:pt x="4626" y="2594"/>
                  </a:lnTo>
                  <a:lnTo>
                    <a:pt x="4741" y="2594"/>
                  </a:lnTo>
                  <a:lnTo>
                    <a:pt x="4856" y="2590"/>
                  </a:lnTo>
                  <a:lnTo>
                    <a:pt x="4966" y="2586"/>
                  </a:lnTo>
                  <a:lnTo>
                    <a:pt x="5081" y="2581"/>
                  </a:lnTo>
                  <a:lnTo>
                    <a:pt x="5195" y="2572"/>
                  </a:lnTo>
                  <a:lnTo>
                    <a:pt x="5310" y="2564"/>
                  </a:lnTo>
                  <a:lnTo>
                    <a:pt x="5424" y="2550"/>
                  </a:lnTo>
                  <a:lnTo>
                    <a:pt x="5535" y="2542"/>
                  </a:lnTo>
                  <a:lnTo>
                    <a:pt x="5649" y="2524"/>
                  </a:lnTo>
                  <a:lnTo>
                    <a:pt x="5760" y="2506"/>
                  </a:lnTo>
                  <a:lnTo>
                    <a:pt x="5874" y="2489"/>
                  </a:lnTo>
                  <a:lnTo>
                    <a:pt x="5984" y="2471"/>
                  </a:lnTo>
                  <a:lnTo>
                    <a:pt x="6099" y="2449"/>
                  </a:lnTo>
                  <a:lnTo>
                    <a:pt x="6209" y="2427"/>
                  </a:lnTo>
                  <a:lnTo>
                    <a:pt x="6320" y="2400"/>
                  </a:lnTo>
                  <a:lnTo>
                    <a:pt x="6320" y="1469"/>
                  </a:lnTo>
                  <a:close/>
                </a:path>
              </a:pathLst>
            </a:custGeom>
            <a:solidFill>
              <a:srgbClr val="5b307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65600" y="2556000"/>
              <a:ext cx="2354760" cy="1968840"/>
            </a:xfrm>
            <a:custGeom>
              <a:avLst/>
              <a:gdLst/>
              <a:ahLst/>
              <a:rect l="0" t="0" r="r" b="b"/>
              <a:pathLst>
                <a:path w="6541" h="5469">
                  <a:moveTo>
                    <a:pt x="4626" y="0"/>
                  </a:moveTo>
                  <a:lnTo>
                    <a:pt x="4706" y="70"/>
                  </a:lnTo>
                  <a:lnTo>
                    <a:pt x="4785" y="141"/>
                  </a:lnTo>
                  <a:lnTo>
                    <a:pt x="4860" y="216"/>
                  </a:lnTo>
                  <a:lnTo>
                    <a:pt x="4936" y="291"/>
                  </a:lnTo>
                  <a:lnTo>
                    <a:pt x="5011" y="361"/>
                  </a:lnTo>
                  <a:lnTo>
                    <a:pt x="5086" y="440"/>
                  </a:lnTo>
                  <a:lnTo>
                    <a:pt x="5156" y="515"/>
                  </a:lnTo>
                  <a:lnTo>
                    <a:pt x="5227" y="595"/>
                  </a:lnTo>
                  <a:lnTo>
                    <a:pt x="5293" y="674"/>
                  </a:lnTo>
                  <a:lnTo>
                    <a:pt x="5359" y="754"/>
                  </a:lnTo>
                  <a:lnTo>
                    <a:pt x="5425" y="837"/>
                  </a:lnTo>
                  <a:lnTo>
                    <a:pt x="5487" y="917"/>
                  </a:lnTo>
                  <a:lnTo>
                    <a:pt x="5549" y="1005"/>
                  </a:lnTo>
                  <a:lnTo>
                    <a:pt x="5606" y="1084"/>
                  </a:lnTo>
                  <a:lnTo>
                    <a:pt x="5664" y="1172"/>
                  </a:lnTo>
                  <a:lnTo>
                    <a:pt x="5725" y="1256"/>
                  </a:lnTo>
                  <a:lnTo>
                    <a:pt x="5778" y="1344"/>
                  </a:lnTo>
                  <a:lnTo>
                    <a:pt x="5831" y="1433"/>
                  </a:lnTo>
                  <a:lnTo>
                    <a:pt x="5880" y="1521"/>
                  </a:lnTo>
                  <a:lnTo>
                    <a:pt x="5928" y="1609"/>
                  </a:lnTo>
                  <a:lnTo>
                    <a:pt x="5977" y="1697"/>
                  </a:lnTo>
                  <a:lnTo>
                    <a:pt x="6021" y="1790"/>
                  </a:lnTo>
                  <a:lnTo>
                    <a:pt x="6065" y="1882"/>
                  </a:lnTo>
                  <a:lnTo>
                    <a:pt x="6109" y="1975"/>
                  </a:lnTo>
                  <a:lnTo>
                    <a:pt x="6149" y="2063"/>
                  </a:lnTo>
                  <a:lnTo>
                    <a:pt x="6184" y="2160"/>
                  </a:lnTo>
                  <a:lnTo>
                    <a:pt x="6219" y="2253"/>
                  </a:lnTo>
                  <a:lnTo>
                    <a:pt x="6259" y="2345"/>
                  </a:lnTo>
                  <a:lnTo>
                    <a:pt x="6290" y="2442"/>
                  </a:lnTo>
                  <a:lnTo>
                    <a:pt x="6321" y="2535"/>
                  </a:lnTo>
                  <a:lnTo>
                    <a:pt x="6347" y="2632"/>
                  </a:lnTo>
                  <a:lnTo>
                    <a:pt x="6374" y="2729"/>
                  </a:lnTo>
                  <a:lnTo>
                    <a:pt x="6400" y="2827"/>
                  </a:lnTo>
                  <a:lnTo>
                    <a:pt x="6422" y="2924"/>
                  </a:lnTo>
                  <a:lnTo>
                    <a:pt x="6444" y="3021"/>
                  </a:lnTo>
                  <a:lnTo>
                    <a:pt x="6462" y="3118"/>
                  </a:lnTo>
                  <a:lnTo>
                    <a:pt x="6479" y="3215"/>
                  </a:lnTo>
                  <a:lnTo>
                    <a:pt x="6493" y="3312"/>
                  </a:lnTo>
                  <a:lnTo>
                    <a:pt x="6506" y="3414"/>
                  </a:lnTo>
                  <a:lnTo>
                    <a:pt x="6519" y="3511"/>
                  </a:lnTo>
                  <a:lnTo>
                    <a:pt x="6528" y="3608"/>
                  </a:lnTo>
                  <a:lnTo>
                    <a:pt x="6532" y="3705"/>
                  </a:lnTo>
                  <a:lnTo>
                    <a:pt x="6537" y="3806"/>
                  </a:lnTo>
                  <a:lnTo>
                    <a:pt x="6541" y="3903"/>
                  </a:lnTo>
                  <a:lnTo>
                    <a:pt x="6541" y="4005"/>
                  </a:lnTo>
                  <a:lnTo>
                    <a:pt x="6541" y="4102"/>
                  </a:lnTo>
                  <a:lnTo>
                    <a:pt x="6537" y="4199"/>
                  </a:lnTo>
                  <a:lnTo>
                    <a:pt x="6532" y="4300"/>
                  </a:lnTo>
                  <a:lnTo>
                    <a:pt x="6528" y="4397"/>
                  </a:lnTo>
                  <a:lnTo>
                    <a:pt x="6519" y="4498"/>
                  </a:lnTo>
                  <a:lnTo>
                    <a:pt x="6506" y="4595"/>
                  </a:lnTo>
                  <a:lnTo>
                    <a:pt x="6493" y="4692"/>
                  </a:lnTo>
                  <a:lnTo>
                    <a:pt x="6479" y="4789"/>
                  </a:lnTo>
                  <a:lnTo>
                    <a:pt x="6462" y="4891"/>
                  </a:lnTo>
                  <a:lnTo>
                    <a:pt x="6444" y="4983"/>
                  </a:lnTo>
                  <a:lnTo>
                    <a:pt x="6422" y="5085"/>
                  </a:lnTo>
                  <a:lnTo>
                    <a:pt x="6400" y="5178"/>
                  </a:lnTo>
                  <a:lnTo>
                    <a:pt x="6374" y="5275"/>
                  </a:lnTo>
                  <a:lnTo>
                    <a:pt x="6347" y="5372"/>
                  </a:lnTo>
                  <a:lnTo>
                    <a:pt x="6321" y="5469"/>
                  </a:lnTo>
                  <a:lnTo>
                    <a:pt x="0" y="4005"/>
                  </a:lnTo>
                  <a:lnTo>
                    <a:pt x="4626" y="0"/>
                  </a:lnTo>
                  <a:close/>
                </a:path>
              </a:pathLst>
            </a:custGeom>
            <a:gradFill rotWithShape="0">
              <a:gsLst>
                <a:gs pos="0">
                  <a:srgbClr val="cb7c02"/>
                </a:gs>
                <a:gs pos="100000">
                  <a:srgbClr val="fe9b03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5600" y="3997440"/>
              <a:ext cx="2275200" cy="1968840"/>
            </a:xfrm>
            <a:custGeom>
              <a:avLst/>
              <a:gdLst/>
              <a:ahLst/>
              <a:rect l="0" t="0" r="r" b="b"/>
              <a:pathLst>
                <a:path w="6320" h="5469">
                  <a:moveTo>
                    <a:pt x="6320" y="1464"/>
                  </a:moveTo>
                  <a:lnTo>
                    <a:pt x="6289" y="1556"/>
                  </a:lnTo>
                  <a:lnTo>
                    <a:pt x="6258" y="1653"/>
                  </a:lnTo>
                  <a:lnTo>
                    <a:pt x="6218" y="1746"/>
                  </a:lnTo>
                  <a:lnTo>
                    <a:pt x="6183" y="1843"/>
                  </a:lnTo>
                  <a:lnTo>
                    <a:pt x="6148" y="1935"/>
                  </a:lnTo>
                  <a:lnTo>
                    <a:pt x="6108" y="2028"/>
                  </a:lnTo>
                  <a:lnTo>
                    <a:pt x="6064" y="2121"/>
                  </a:lnTo>
                  <a:lnTo>
                    <a:pt x="6020" y="2209"/>
                  </a:lnTo>
                  <a:lnTo>
                    <a:pt x="5976" y="2301"/>
                  </a:lnTo>
                  <a:lnTo>
                    <a:pt x="5927" y="2390"/>
                  </a:lnTo>
                  <a:lnTo>
                    <a:pt x="5879" y="2478"/>
                  </a:lnTo>
                  <a:lnTo>
                    <a:pt x="5830" y="2566"/>
                  </a:lnTo>
                  <a:lnTo>
                    <a:pt x="5777" y="2654"/>
                  </a:lnTo>
                  <a:lnTo>
                    <a:pt x="5724" y="2743"/>
                  </a:lnTo>
                  <a:lnTo>
                    <a:pt x="5663" y="2827"/>
                  </a:lnTo>
                  <a:lnTo>
                    <a:pt x="5605" y="2915"/>
                  </a:lnTo>
                  <a:lnTo>
                    <a:pt x="5548" y="2999"/>
                  </a:lnTo>
                  <a:lnTo>
                    <a:pt x="5486" y="3083"/>
                  </a:lnTo>
                  <a:lnTo>
                    <a:pt x="5424" y="3162"/>
                  </a:lnTo>
                  <a:lnTo>
                    <a:pt x="5358" y="3246"/>
                  </a:lnTo>
                  <a:lnTo>
                    <a:pt x="5292" y="3325"/>
                  </a:lnTo>
                  <a:lnTo>
                    <a:pt x="5226" y="3405"/>
                  </a:lnTo>
                  <a:lnTo>
                    <a:pt x="5155" y="3484"/>
                  </a:lnTo>
                  <a:lnTo>
                    <a:pt x="5085" y="3559"/>
                  </a:lnTo>
                  <a:lnTo>
                    <a:pt x="5010" y="3639"/>
                  </a:lnTo>
                  <a:lnTo>
                    <a:pt x="4935" y="3713"/>
                  </a:lnTo>
                  <a:lnTo>
                    <a:pt x="4860" y="3788"/>
                  </a:lnTo>
                  <a:lnTo>
                    <a:pt x="4785" y="3859"/>
                  </a:lnTo>
                  <a:lnTo>
                    <a:pt x="4706" y="3930"/>
                  </a:lnTo>
                  <a:lnTo>
                    <a:pt x="4626" y="4000"/>
                  </a:lnTo>
                  <a:lnTo>
                    <a:pt x="4543" y="4071"/>
                  </a:lnTo>
                  <a:lnTo>
                    <a:pt x="4459" y="4141"/>
                  </a:lnTo>
                  <a:lnTo>
                    <a:pt x="4379" y="4207"/>
                  </a:lnTo>
                  <a:lnTo>
                    <a:pt x="4291" y="4269"/>
                  </a:lnTo>
                  <a:lnTo>
                    <a:pt x="4203" y="4335"/>
                  </a:lnTo>
                  <a:lnTo>
                    <a:pt x="4115" y="4397"/>
                  </a:lnTo>
                  <a:lnTo>
                    <a:pt x="4027" y="4459"/>
                  </a:lnTo>
                  <a:lnTo>
                    <a:pt x="3934" y="4520"/>
                  </a:lnTo>
                  <a:lnTo>
                    <a:pt x="3846" y="4578"/>
                  </a:lnTo>
                  <a:lnTo>
                    <a:pt x="3753" y="4635"/>
                  </a:lnTo>
                  <a:lnTo>
                    <a:pt x="3661" y="4692"/>
                  </a:lnTo>
                  <a:lnTo>
                    <a:pt x="3564" y="4745"/>
                  </a:lnTo>
                  <a:lnTo>
                    <a:pt x="3467" y="4798"/>
                  </a:lnTo>
                  <a:lnTo>
                    <a:pt x="3370" y="4851"/>
                  </a:lnTo>
                  <a:lnTo>
                    <a:pt x="3268" y="4900"/>
                  </a:lnTo>
                  <a:lnTo>
                    <a:pt x="3171" y="4948"/>
                  </a:lnTo>
                  <a:lnTo>
                    <a:pt x="3069" y="4997"/>
                  </a:lnTo>
                  <a:lnTo>
                    <a:pt x="2967" y="5041"/>
                  </a:lnTo>
                  <a:lnTo>
                    <a:pt x="2866" y="5089"/>
                  </a:lnTo>
                  <a:lnTo>
                    <a:pt x="2764" y="5129"/>
                  </a:lnTo>
                  <a:lnTo>
                    <a:pt x="2659" y="5169"/>
                  </a:lnTo>
                  <a:lnTo>
                    <a:pt x="2553" y="5208"/>
                  </a:lnTo>
                  <a:lnTo>
                    <a:pt x="2451" y="5248"/>
                  </a:lnTo>
                  <a:lnTo>
                    <a:pt x="2341" y="5283"/>
                  </a:lnTo>
                  <a:lnTo>
                    <a:pt x="2235" y="5319"/>
                  </a:lnTo>
                  <a:lnTo>
                    <a:pt x="2129" y="5349"/>
                  </a:lnTo>
                  <a:lnTo>
                    <a:pt x="2019" y="5380"/>
                  </a:lnTo>
                  <a:lnTo>
                    <a:pt x="1913" y="5411"/>
                  </a:lnTo>
                  <a:lnTo>
                    <a:pt x="1803" y="5442"/>
                  </a:lnTo>
                  <a:lnTo>
                    <a:pt x="1693" y="5469"/>
                  </a:lnTo>
                  <a:lnTo>
                    <a:pt x="0" y="0"/>
                  </a:lnTo>
                  <a:lnTo>
                    <a:pt x="6320" y="1464"/>
                  </a:lnTo>
                  <a:close/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6057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0240" y="3997440"/>
              <a:ext cx="2275200" cy="2037240"/>
            </a:xfrm>
            <a:custGeom>
              <a:avLst/>
              <a:gdLst/>
              <a:ahLst/>
              <a:rect l="0" t="0" r="r" b="b"/>
              <a:pathLst>
                <a:path w="6320" h="5659">
                  <a:moveTo>
                    <a:pt x="6320" y="5470"/>
                  </a:moveTo>
                  <a:lnTo>
                    <a:pt x="6209" y="5492"/>
                  </a:lnTo>
                  <a:lnTo>
                    <a:pt x="6099" y="5514"/>
                  </a:lnTo>
                  <a:lnTo>
                    <a:pt x="5984" y="5536"/>
                  </a:lnTo>
                  <a:lnTo>
                    <a:pt x="5874" y="5558"/>
                  </a:lnTo>
                  <a:lnTo>
                    <a:pt x="5760" y="5575"/>
                  </a:lnTo>
                  <a:lnTo>
                    <a:pt x="5649" y="5589"/>
                  </a:lnTo>
                  <a:lnTo>
                    <a:pt x="5535" y="5606"/>
                  </a:lnTo>
                  <a:lnTo>
                    <a:pt x="5424" y="5619"/>
                  </a:lnTo>
                  <a:lnTo>
                    <a:pt x="5310" y="5628"/>
                  </a:lnTo>
                  <a:lnTo>
                    <a:pt x="5195" y="5642"/>
                  </a:lnTo>
                  <a:lnTo>
                    <a:pt x="5081" y="5646"/>
                  </a:lnTo>
                  <a:lnTo>
                    <a:pt x="4966" y="5655"/>
                  </a:lnTo>
                  <a:lnTo>
                    <a:pt x="4856" y="5659"/>
                  </a:lnTo>
                  <a:lnTo>
                    <a:pt x="4741" y="5659"/>
                  </a:lnTo>
                  <a:lnTo>
                    <a:pt x="4626" y="5659"/>
                  </a:lnTo>
                  <a:lnTo>
                    <a:pt x="4512" y="5659"/>
                  </a:lnTo>
                  <a:lnTo>
                    <a:pt x="4397" y="5659"/>
                  </a:lnTo>
                  <a:lnTo>
                    <a:pt x="4282" y="5655"/>
                  </a:lnTo>
                  <a:lnTo>
                    <a:pt x="4168" y="5646"/>
                  </a:lnTo>
                  <a:lnTo>
                    <a:pt x="4053" y="5642"/>
                  </a:lnTo>
                  <a:lnTo>
                    <a:pt x="3943" y="5628"/>
                  </a:lnTo>
                  <a:lnTo>
                    <a:pt x="3828" y="5619"/>
                  </a:lnTo>
                  <a:lnTo>
                    <a:pt x="3713" y="5606"/>
                  </a:lnTo>
                  <a:lnTo>
                    <a:pt x="3603" y="5589"/>
                  </a:lnTo>
                  <a:lnTo>
                    <a:pt x="3489" y="5575"/>
                  </a:lnTo>
                  <a:lnTo>
                    <a:pt x="3378" y="5558"/>
                  </a:lnTo>
                  <a:lnTo>
                    <a:pt x="3268" y="5536"/>
                  </a:lnTo>
                  <a:lnTo>
                    <a:pt x="3152" y="5514"/>
                  </a:lnTo>
                  <a:lnTo>
                    <a:pt x="3042" y="5492"/>
                  </a:lnTo>
                  <a:lnTo>
                    <a:pt x="2932" y="5470"/>
                  </a:lnTo>
                  <a:lnTo>
                    <a:pt x="2822" y="5443"/>
                  </a:lnTo>
                  <a:lnTo>
                    <a:pt x="2711" y="5412"/>
                  </a:lnTo>
                  <a:lnTo>
                    <a:pt x="2606" y="5381"/>
                  </a:lnTo>
                  <a:lnTo>
                    <a:pt x="2495" y="5350"/>
                  </a:lnTo>
                  <a:lnTo>
                    <a:pt x="2390" y="5320"/>
                  </a:lnTo>
                  <a:lnTo>
                    <a:pt x="2279" y="5284"/>
                  </a:lnTo>
                  <a:lnTo>
                    <a:pt x="2173" y="5249"/>
                  </a:lnTo>
                  <a:lnTo>
                    <a:pt x="2068" y="5209"/>
                  </a:lnTo>
                  <a:lnTo>
                    <a:pt x="1962" y="5170"/>
                  </a:lnTo>
                  <a:lnTo>
                    <a:pt x="1860" y="5130"/>
                  </a:lnTo>
                  <a:lnTo>
                    <a:pt x="1759" y="5090"/>
                  </a:lnTo>
                  <a:lnTo>
                    <a:pt x="1653" y="5042"/>
                  </a:lnTo>
                  <a:lnTo>
                    <a:pt x="1556" y="4998"/>
                  </a:lnTo>
                  <a:lnTo>
                    <a:pt x="1455" y="4949"/>
                  </a:lnTo>
                  <a:lnTo>
                    <a:pt x="1353" y="4901"/>
                  </a:lnTo>
                  <a:lnTo>
                    <a:pt x="1256" y="4852"/>
                  </a:lnTo>
                  <a:lnTo>
                    <a:pt x="1159" y="4799"/>
                  </a:lnTo>
                  <a:lnTo>
                    <a:pt x="1062" y="4746"/>
                  </a:lnTo>
                  <a:lnTo>
                    <a:pt x="965" y="4693"/>
                  </a:lnTo>
                  <a:lnTo>
                    <a:pt x="873" y="4636"/>
                  </a:lnTo>
                  <a:lnTo>
                    <a:pt x="780" y="4579"/>
                  </a:lnTo>
                  <a:lnTo>
                    <a:pt x="687" y="4521"/>
                  </a:lnTo>
                  <a:lnTo>
                    <a:pt x="599" y="4460"/>
                  </a:lnTo>
                  <a:lnTo>
                    <a:pt x="507" y="4398"/>
                  </a:lnTo>
                  <a:lnTo>
                    <a:pt x="418" y="4336"/>
                  </a:lnTo>
                  <a:lnTo>
                    <a:pt x="335" y="4270"/>
                  </a:lnTo>
                  <a:lnTo>
                    <a:pt x="246" y="4207"/>
                  </a:lnTo>
                  <a:lnTo>
                    <a:pt x="163" y="4141"/>
                  </a:lnTo>
                  <a:lnTo>
                    <a:pt x="79" y="4071"/>
                  </a:lnTo>
                  <a:lnTo>
                    <a:pt x="0" y="4000"/>
                  </a:lnTo>
                  <a:lnTo>
                    <a:pt x="4626" y="0"/>
                  </a:lnTo>
                  <a:lnTo>
                    <a:pt x="6320" y="5470"/>
                  </a:lnTo>
                  <a:close/>
                </a:path>
              </a:pathLst>
            </a:custGeom>
            <a:gradFill rotWithShape="0">
              <a:gsLst>
                <a:gs pos="0">
                  <a:srgbClr val="d4a45a"/>
                </a:gs>
                <a:gs pos="100000">
                  <a:srgbClr val="a9834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1560" y="3468600"/>
              <a:ext cx="2354760" cy="1968840"/>
            </a:xfrm>
            <a:custGeom>
              <a:avLst/>
              <a:gdLst/>
              <a:ahLst/>
              <a:rect l="0" t="0" r="r" b="b"/>
              <a:pathLst>
                <a:path w="6541" h="5469">
                  <a:moveTo>
                    <a:pt x="1914" y="5469"/>
                  </a:moveTo>
                  <a:lnTo>
                    <a:pt x="1835" y="5398"/>
                  </a:lnTo>
                  <a:lnTo>
                    <a:pt x="1756" y="5327"/>
                  </a:lnTo>
                  <a:lnTo>
                    <a:pt x="1676" y="5257"/>
                  </a:lnTo>
                  <a:lnTo>
                    <a:pt x="1600" y="5182"/>
                  </a:lnTo>
                  <a:lnTo>
                    <a:pt x="1530" y="5107"/>
                  </a:lnTo>
                  <a:lnTo>
                    <a:pt x="1455" y="5028"/>
                  </a:lnTo>
                  <a:lnTo>
                    <a:pt x="1384" y="4953"/>
                  </a:lnTo>
                  <a:lnTo>
                    <a:pt x="1314" y="4873"/>
                  </a:lnTo>
                  <a:lnTo>
                    <a:pt x="1247" y="4794"/>
                  </a:lnTo>
                  <a:lnTo>
                    <a:pt x="1181" y="4714"/>
                  </a:lnTo>
                  <a:lnTo>
                    <a:pt x="1115" y="4631"/>
                  </a:lnTo>
                  <a:lnTo>
                    <a:pt x="1053" y="4551"/>
                  </a:lnTo>
                  <a:lnTo>
                    <a:pt x="992" y="4468"/>
                  </a:lnTo>
                  <a:lnTo>
                    <a:pt x="930" y="4384"/>
                  </a:lnTo>
                  <a:lnTo>
                    <a:pt x="873" y="4296"/>
                  </a:lnTo>
                  <a:lnTo>
                    <a:pt x="815" y="4212"/>
                  </a:lnTo>
                  <a:lnTo>
                    <a:pt x="762" y="4124"/>
                  </a:lnTo>
                  <a:lnTo>
                    <a:pt x="709" y="4035"/>
                  </a:lnTo>
                  <a:lnTo>
                    <a:pt x="657" y="3947"/>
                  </a:lnTo>
                  <a:lnTo>
                    <a:pt x="608" y="3859"/>
                  </a:lnTo>
                  <a:lnTo>
                    <a:pt x="564" y="3771"/>
                  </a:lnTo>
                  <a:lnTo>
                    <a:pt x="520" y="3678"/>
                  </a:lnTo>
                  <a:lnTo>
                    <a:pt x="471" y="3590"/>
                  </a:lnTo>
                  <a:lnTo>
                    <a:pt x="432" y="3497"/>
                  </a:lnTo>
                  <a:lnTo>
                    <a:pt x="392" y="3405"/>
                  </a:lnTo>
                  <a:lnTo>
                    <a:pt x="352" y="3312"/>
                  </a:lnTo>
                  <a:lnTo>
                    <a:pt x="317" y="3215"/>
                  </a:lnTo>
                  <a:lnTo>
                    <a:pt x="282" y="3123"/>
                  </a:lnTo>
                  <a:lnTo>
                    <a:pt x="251" y="3026"/>
                  </a:lnTo>
                  <a:lnTo>
                    <a:pt x="220" y="2933"/>
                  </a:lnTo>
                  <a:lnTo>
                    <a:pt x="194" y="2836"/>
                  </a:lnTo>
                  <a:lnTo>
                    <a:pt x="167" y="2739"/>
                  </a:lnTo>
                  <a:lnTo>
                    <a:pt x="141" y="2641"/>
                  </a:lnTo>
                  <a:lnTo>
                    <a:pt x="119" y="2548"/>
                  </a:lnTo>
                  <a:lnTo>
                    <a:pt x="97" y="2447"/>
                  </a:lnTo>
                  <a:lnTo>
                    <a:pt x="79" y="2354"/>
                  </a:lnTo>
                  <a:lnTo>
                    <a:pt x="61" y="2253"/>
                  </a:lnTo>
                  <a:lnTo>
                    <a:pt x="48" y="2156"/>
                  </a:lnTo>
                  <a:lnTo>
                    <a:pt x="35" y="2059"/>
                  </a:lnTo>
                  <a:lnTo>
                    <a:pt x="22" y="1962"/>
                  </a:lnTo>
                  <a:lnTo>
                    <a:pt x="13" y="1860"/>
                  </a:lnTo>
                  <a:lnTo>
                    <a:pt x="8" y="1763"/>
                  </a:lnTo>
                  <a:lnTo>
                    <a:pt x="4" y="1662"/>
                  </a:lnTo>
                  <a:lnTo>
                    <a:pt x="0" y="1565"/>
                  </a:lnTo>
                  <a:lnTo>
                    <a:pt x="0" y="1468"/>
                  </a:lnTo>
                  <a:lnTo>
                    <a:pt x="0" y="1367"/>
                  </a:lnTo>
                  <a:lnTo>
                    <a:pt x="4" y="1270"/>
                  </a:lnTo>
                  <a:lnTo>
                    <a:pt x="8" y="1168"/>
                  </a:lnTo>
                  <a:lnTo>
                    <a:pt x="13" y="1071"/>
                  </a:lnTo>
                  <a:lnTo>
                    <a:pt x="22" y="974"/>
                  </a:lnTo>
                  <a:lnTo>
                    <a:pt x="35" y="877"/>
                  </a:lnTo>
                  <a:lnTo>
                    <a:pt x="48" y="776"/>
                  </a:lnTo>
                  <a:lnTo>
                    <a:pt x="61" y="679"/>
                  </a:lnTo>
                  <a:lnTo>
                    <a:pt x="79" y="582"/>
                  </a:lnTo>
                  <a:lnTo>
                    <a:pt x="97" y="485"/>
                  </a:lnTo>
                  <a:lnTo>
                    <a:pt x="119" y="388"/>
                  </a:lnTo>
                  <a:lnTo>
                    <a:pt x="141" y="291"/>
                  </a:lnTo>
                  <a:lnTo>
                    <a:pt x="167" y="194"/>
                  </a:lnTo>
                  <a:lnTo>
                    <a:pt x="194" y="97"/>
                  </a:lnTo>
                  <a:lnTo>
                    <a:pt x="220" y="0"/>
                  </a:lnTo>
                  <a:lnTo>
                    <a:pt x="6541" y="1468"/>
                  </a:lnTo>
                  <a:lnTo>
                    <a:pt x="1914" y="5469"/>
                  </a:lnTo>
                  <a:close/>
                </a:path>
              </a:pathLst>
            </a:custGeom>
            <a:gradFill rotWithShape="0">
              <a:gsLst>
                <a:gs pos="0">
                  <a:srgbClr val="0000ce"/>
                </a:gs>
                <a:gs pos="100000">
                  <a:srgbClr val="0000a4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90760" y="2028960"/>
              <a:ext cx="2275200" cy="1968840"/>
            </a:xfrm>
            <a:custGeom>
              <a:avLst/>
              <a:gdLst/>
              <a:ahLst/>
              <a:rect l="0" t="0" r="r" b="b"/>
              <a:pathLst>
                <a:path w="6320" h="5469">
                  <a:moveTo>
                    <a:pt x="0" y="4000"/>
                  </a:moveTo>
                  <a:lnTo>
                    <a:pt x="30" y="3908"/>
                  </a:lnTo>
                  <a:lnTo>
                    <a:pt x="61" y="3811"/>
                  </a:lnTo>
                  <a:lnTo>
                    <a:pt x="97" y="3718"/>
                  </a:lnTo>
                  <a:lnTo>
                    <a:pt x="132" y="3625"/>
                  </a:lnTo>
                  <a:lnTo>
                    <a:pt x="171" y="3528"/>
                  </a:lnTo>
                  <a:lnTo>
                    <a:pt x="211" y="3440"/>
                  </a:lnTo>
                  <a:lnTo>
                    <a:pt x="251" y="3347"/>
                  </a:lnTo>
                  <a:lnTo>
                    <a:pt x="299" y="3255"/>
                  </a:lnTo>
                  <a:lnTo>
                    <a:pt x="343" y="3162"/>
                  </a:lnTo>
                  <a:lnTo>
                    <a:pt x="388" y="3074"/>
                  </a:lnTo>
                  <a:lnTo>
                    <a:pt x="436" y="2986"/>
                  </a:lnTo>
                  <a:lnTo>
                    <a:pt x="489" y="2898"/>
                  </a:lnTo>
                  <a:lnTo>
                    <a:pt x="542" y="2809"/>
                  </a:lnTo>
                  <a:lnTo>
                    <a:pt x="595" y="2720"/>
                  </a:lnTo>
                  <a:lnTo>
                    <a:pt x="652" y="2637"/>
                  </a:lnTo>
                  <a:lnTo>
                    <a:pt x="709" y="2548"/>
                  </a:lnTo>
                  <a:lnTo>
                    <a:pt x="771" y="2469"/>
                  </a:lnTo>
                  <a:lnTo>
                    <a:pt x="833" y="2381"/>
                  </a:lnTo>
                  <a:lnTo>
                    <a:pt x="895" y="2301"/>
                  </a:lnTo>
                  <a:lnTo>
                    <a:pt x="961" y="2218"/>
                  </a:lnTo>
                  <a:lnTo>
                    <a:pt x="1027" y="2138"/>
                  </a:lnTo>
                  <a:lnTo>
                    <a:pt x="1093" y="2059"/>
                  </a:lnTo>
                  <a:lnTo>
                    <a:pt x="1164" y="1979"/>
                  </a:lnTo>
                  <a:lnTo>
                    <a:pt x="1234" y="1905"/>
                  </a:lnTo>
                  <a:lnTo>
                    <a:pt x="1309" y="1825"/>
                  </a:lnTo>
                  <a:lnTo>
                    <a:pt x="1380" y="1755"/>
                  </a:lnTo>
                  <a:lnTo>
                    <a:pt x="1455" y="1680"/>
                  </a:lnTo>
                  <a:lnTo>
                    <a:pt x="1534" y="1605"/>
                  </a:lnTo>
                  <a:lnTo>
                    <a:pt x="1613" y="1534"/>
                  </a:lnTo>
                  <a:lnTo>
                    <a:pt x="1693" y="1464"/>
                  </a:lnTo>
                  <a:lnTo>
                    <a:pt x="1772" y="1393"/>
                  </a:lnTo>
                  <a:lnTo>
                    <a:pt x="1856" y="1327"/>
                  </a:lnTo>
                  <a:lnTo>
                    <a:pt x="1940" y="1261"/>
                  </a:lnTo>
                  <a:lnTo>
                    <a:pt x="2028" y="1195"/>
                  </a:lnTo>
                  <a:lnTo>
                    <a:pt x="2112" y="1128"/>
                  </a:lnTo>
                  <a:lnTo>
                    <a:pt x="2200" y="1067"/>
                  </a:lnTo>
                  <a:lnTo>
                    <a:pt x="2293" y="1005"/>
                  </a:lnTo>
                  <a:lnTo>
                    <a:pt x="2381" y="943"/>
                  </a:lnTo>
                  <a:lnTo>
                    <a:pt x="2473" y="886"/>
                  </a:lnTo>
                  <a:lnTo>
                    <a:pt x="2566" y="829"/>
                  </a:lnTo>
                  <a:lnTo>
                    <a:pt x="2659" y="771"/>
                  </a:lnTo>
                  <a:lnTo>
                    <a:pt x="2756" y="718"/>
                  </a:lnTo>
                  <a:lnTo>
                    <a:pt x="2853" y="665"/>
                  </a:lnTo>
                  <a:lnTo>
                    <a:pt x="2950" y="612"/>
                  </a:lnTo>
                  <a:lnTo>
                    <a:pt x="3047" y="564"/>
                  </a:lnTo>
                  <a:lnTo>
                    <a:pt x="3148" y="515"/>
                  </a:lnTo>
                  <a:lnTo>
                    <a:pt x="3250" y="467"/>
                  </a:lnTo>
                  <a:lnTo>
                    <a:pt x="3347" y="423"/>
                  </a:lnTo>
                  <a:lnTo>
                    <a:pt x="3453" y="379"/>
                  </a:lnTo>
                  <a:lnTo>
                    <a:pt x="3555" y="335"/>
                  </a:lnTo>
                  <a:lnTo>
                    <a:pt x="3656" y="295"/>
                  </a:lnTo>
                  <a:lnTo>
                    <a:pt x="3762" y="255"/>
                  </a:lnTo>
                  <a:lnTo>
                    <a:pt x="3868" y="216"/>
                  </a:lnTo>
                  <a:lnTo>
                    <a:pt x="3974" y="180"/>
                  </a:lnTo>
                  <a:lnTo>
                    <a:pt x="4084" y="145"/>
                  </a:lnTo>
                  <a:lnTo>
                    <a:pt x="4190" y="114"/>
                  </a:lnTo>
                  <a:lnTo>
                    <a:pt x="4300" y="83"/>
                  </a:lnTo>
                  <a:lnTo>
                    <a:pt x="4406" y="52"/>
                  </a:lnTo>
                  <a:lnTo>
                    <a:pt x="4516" y="22"/>
                  </a:lnTo>
                  <a:lnTo>
                    <a:pt x="4626" y="0"/>
                  </a:lnTo>
                  <a:lnTo>
                    <a:pt x="6320" y="5469"/>
                  </a:lnTo>
                  <a:lnTo>
                    <a:pt x="0" y="4000"/>
                  </a:lnTo>
                  <a:close/>
                </a:path>
              </a:pathLst>
            </a:custGeom>
            <a:gradFill rotWithShape="0">
              <a:gsLst>
                <a:gs pos="0">
                  <a:srgbClr val="00423c"/>
                </a:gs>
                <a:gs pos="100000">
                  <a:srgbClr val="00dfca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6120" y="1959120"/>
              <a:ext cx="2275200" cy="2038680"/>
            </a:xfrm>
            <a:custGeom>
              <a:avLst/>
              <a:gdLst/>
              <a:ahLst/>
              <a:rect l="0" t="0" r="r" b="b"/>
              <a:pathLst>
                <a:path w="6320" h="5663">
                  <a:moveTo>
                    <a:pt x="0" y="194"/>
                  </a:moveTo>
                  <a:lnTo>
                    <a:pt x="110" y="167"/>
                  </a:lnTo>
                  <a:lnTo>
                    <a:pt x="220" y="145"/>
                  </a:lnTo>
                  <a:lnTo>
                    <a:pt x="335" y="123"/>
                  </a:lnTo>
                  <a:lnTo>
                    <a:pt x="445" y="105"/>
                  </a:lnTo>
                  <a:lnTo>
                    <a:pt x="555" y="88"/>
                  </a:lnTo>
                  <a:lnTo>
                    <a:pt x="670" y="66"/>
                  </a:lnTo>
                  <a:lnTo>
                    <a:pt x="780" y="52"/>
                  </a:lnTo>
                  <a:lnTo>
                    <a:pt x="895" y="39"/>
                  </a:lnTo>
                  <a:lnTo>
                    <a:pt x="1009" y="30"/>
                  </a:lnTo>
                  <a:lnTo>
                    <a:pt x="1120" y="22"/>
                  </a:lnTo>
                  <a:lnTo>
                    <a:pt x="1234" y="13"/>
                  </a:lnTo>
                  <a:lnTo>
                    <a:pt x="1349" y="8"/>
                  </a:lnTo>
                  <a:lnTo>
                    <a:pt x="1464" y="4"/>
                  </a:lnTo>
                  <a:lnTo>
                    <a:pt x="1578" y="0"/>
                  </a:lnTo>
                  <a:lnTo>
                    <a:pt x="1693" y="0"/>
                  </a:lnTo>
                  <a:lnTo>
                    <a:pt x="1807" y="0"/>
                  </a:lnTo>
                  <a:lnTo>
                    <a:pt x="1922" y="4"/>
                  </a:lnTo>
                  <a:lnTo>
                    <a:pt x="2032" y="8"/>
                  </a:lnTo>
                  <a:lnTo>
                    <a:pt x="2147" y="13"/>
                  </a:lnTo>
                  <a:lnTo>
                    <a:pt x="2262" y="22"/>
                  </a:lnTo>
                  <a:lnTo>
                    <a:pt x="2376" y="30"/>
                  </a:lnTo>
                  <a:lnTo>
                    <a:pt x="2491" y="39"/>
                  </a:lnTo>
                  <a:lnTo>
                    <a:pt x="2601" y="52"/>
                  </a:lnTo>
                  <a:lnTo>
                    <a:pt x="2716" y="66"/>
                  </a:lnTo>
                  <a:lnTo>
                    <a:pt x="2826" y="88"/>
                  </a:lnTo>
                  <a:lnTo>
                    <a:pt x="2941" y="105"/>
                  </a:lnTo>
                  <a:lnTo>
                    <a:pt x="3051" y="123"/>
                  </a:lnTo>
                  <a:lnTo>
                    <a:pt x="3167" y="145"/>
                  </a:lnTo>
                  <a:lnTo>
                    <a:pt x="3277" y="167"/>
                  </a:lnTo>
                  <a:lnTo>
                    <a:pt x="3387" y="194"/>
                  </a:lnTo>
                  <a:lnTo>
                    <a:pt x="3497" y="216"/>
                  </a:lnTo>
                  <a:lnTo>
                    <a:pt x="3608" y="246"/>
                  </a:lnTo>
                  <a:lnTo>
                    <a:pt x="3713" y="277"/>
                  </a:lnTo>
                  <a:lnTo>
                    <a:pt x="3824" y="308"/>
                  </a:lnTo>
                  <a:lnTo>
                    <a:pt x="3930" y="339"/>
                  </a:lnTo>
                  <a:lnTo>
                    <a:pt x="4035" y="374"/>
                  </a:lnTo>
                  <a:lnTo>
                    <a:pt x="4146" y="410"/>
                  </a:lnTo>
                  <a:lnTo>
                    <a:pt x="4247" y="449"/>
                  </a:lnTo>
                  <a:lnTo>
                    <a:pt x="4353" y="489"/>
                  </a:lnTo>
                  <a:lnTo>
                    <a:pt x="4459" y="529"/>
                  </a:lnTo>
                  <a:lnTo>
                    <a:pt x="4560" y="573"/>
                  </a:lnTo>
                  <a:lnTo>
                    <a:pt x="4662" y="617"/>
                  </a:lnTo>
                  <a:lnTo>
                    <a:pt x="4763" y="661"/>
                  </a:lnTo>
                  <a:lnTo>
                    <a:pt x="4864" y="709"/>
                  </a:lnTo>
                  <a:lnTo>
                    <a:pt x="4961" y="758"/>
                  </a:lnTo>
                  <a:lnTo>
                    <a:pt x="5063" y="806"/>
                  </a:lnTo>
                  <a:lnTo>
                    <a:pt x="5160" y="859"/>
                  </a:lnTo>
                  <a:lnTo>
                    <a:pt x="5257" y="912"/>
                  </a:lnTo>
                  <a:lnTo>
                    <a:pt x="5354" y="965"/>
                  </a:lnTo>
                  <a:lnTo>
                    <a:pt x="5447" y="1023"/>
                  </a:lnTo>
                  <a:lnTo>
                    <a:pt x="5539" y="1080"/>
                  </a:lnTo>
                  <a:lnTo>
                    <a:pt x="5627" y="1137"/>
                  </a:lnTo>
                  <a:lnTo>
                    <a:pt x="5720" y="1199"/>
                  </a:lnTo>
                  <a:lnTo>
                    <a:pt x="5808" y="1261"/>
                  </a:lnTo>
                  <a:lnTo>
                    <a:pt x="5896" y="1322"/>
                  </a:lnTo>
                  <a:lnTo>
                    <a:pt x="5984" y="1389"/>
                  </a:lnTo>
                  <a:lnTo>
                    <a:pt x="6073" y="1455"/>
                  </a:lnTo>
                  <a:lnTo>
                    <a:pt x="6152" y="1521"/>
                  </a:lnTo>
                  <a:lnTo>
                    <a:pt x="6236" y="1587"/>
                  </a:lnTo>
                  <a:lnTo>
                    <a:pt x="6320" y="1658"/>
                  </a:lnTo>
                  <a:lnTo>
                    <a:pt x="1693" y="5663"/>
                  </a:lnTo>
                  <a:lnTo>
                    <a:pt x="0" y="194"/>
                  </a:lnTo>
                  <a:close/>
                </a:path>
              </a:pathLst>
            </a:custGeom>
            <a:gradFill rotWithShape="0">
              <a:gsLst>
                <a:gs pos="0">
                  <a:srgbClr val="56009f"/>
                </a:gs>
                <a:gs pos="100000">
                  <a:srgbClr val="7b00e4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697280" y="2381400"/>
              <a:ext cx="9176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EMs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797200" y="2649600"/>
              <a:ext cx="12700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g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610240" y="3168720"/>
              <a:ext cx="117144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ining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vi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490840" y="4210200"/>
              <a:ext cx="1114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ell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5240160" y="461340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vi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424320" y="4836960"/>
              <a:ext cx="17431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sult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elop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786120" y="3168720"/>
              <a:ext cx="1657440" cy="165744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stom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36680" y="1494000"/>
            <a:ext cx="8631360" cy="4469040"/>
            <a:chOff x="436680" y="1494000"/>
            <a:chExt cx="8631360" cy="4469040"/>
          </a:xfrm>
        </p:grpSpPr>
        <p:sp>
          <p:nvSpPr>
            <p:cNvPr id="221" name=""/>
            <p:cNvSpPr/>
            <p:nvPr/>
          </p:nvSpPr>
          <p:spPr>
            <a:xfrm>
              <a:off x="4792680" y="27558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80" y="0"/>
                  </a:moveTo>
                  <a:lnTo>
                    <a:pt x="80" y="58"/>
                  </a:lnTo>
                  <a:lnTo>
                    <a:pt x="49" y="67"/>
                  </a:lnTo>
                  <a:lnTo>
                    <a:pt x="0" y="8"/>
                  </a:lnTo>
                  <a:lnTo>
                    <a:pt x="26" y="0"/>
                  </a:lnTo>
                  <a:lnTo>
                    <a:pt x="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2651040"/>
              <a:ext cx="14760" cy="54360"/>
            </a:xfrm>
            <a:custGeom>
              <a:avLst/>
              <a:gdLst/>
              <a:ahLst/>
              <a:rect l="0" t="0" r="r" b="b"/>
              <a:pathLst>
                <a:path w="41" h="151">
                  <a:moveTo>
                    <a:pt x="41" y="0"/>
                  </a:moveTo>
                  <a:lnTo>
                    <a:pt x="0" y="44"/>
                  </a:lnTo>
                  <a:lnTo>
                    <a:pt x="8" y="151"/>
                  </a:lnTo>
                  <a:lnTo>
                    <a:pt x="36" y="145"/>
                  </a:lnTo>
                  <a:lnTo>
                    <a:pt x="41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8329680" y="5224320"/>
              <a:ext cx="738360" cy="429120"/>
              <a:chOff x="8329680" y="5224320"/>
              <a:chExt cx="738360" cy="429120"/>
            </a:xfrm>
          </p:grpSpPr>
          <p:sp>
            <p:nvSpPr>
              <p:cNvPr id="224" name=""/>
              <p:cNvSpPr/>
              <p:nvPr/>
            </p:nvSpPr>
            <p:spPr>
              <a:xfrm>
                <a:off x="8974080" y="5224320"/>
                <a:ext cx="93960" cy="252720"/>
              </a:xfrm>
              <a:custGeom>
                <a:avLst/>
                <a:gdLst/>
                <a:ahLst/>
                <a:rect l="0" t="0" r="r" b="b"/>
                <a:pathLst>
                  <a:path w="261" h="702">
                    <a:moveTo>
                      <a:pt x="80" y="8"/>
                    </a:moveTo>
                    <a:lnTo>
                      <a:pt x="105" y="0"/>
                    </a:lnTo>
                    <a:lnTo>
                      <a:pt x="155" y="86"/>
                    </a:lnTo>
                    <a:lnTo>
                      <a:pt x="149" y="294"/>
                    </a:lnTo>
                    <a:lnTo>
                      <a:pt x="180" y="294"/>
                    </a:lnTo>
                    <a:lnTo>
                      <a:pt x="193" y="337"/>
                    </a:lnTo>
                    <a:lnTo>
                      <a:pt x="199" y="355"/>
                    </a:lnTo>
                    <a:lnTo>
                      <a:pt x="217" y="399"/>
                    </a:lnTo>
                    <a:lnTo>
                      <a:pt x="236" y="381"/>
                    </a:lnTo>
                    <a:lnTo>
                      <a:pt x="248" y="346"/>
                    </a:lnTo>
                    <a:lnTo>
                      <a:pt x="261" y="355"/>
                    </a:lnTo>
                    <a:lnTo>
                      <a:pt x="242" y="407"/>
                    </a:lnTo>
                    <a:lnTo>
                      <a:pt x="236" y="433"/>
                    </a:lnTo>
                    <a:lnTo>
                      <a:pt x="224" y="494"/>
                    </a:lnTo>
                    <a:lnTo>
                      <a:pt x="199" y="511"/>
                    </a:lnTo>
                    <a:lnTo>
                      <a:pt x="174" y="529"/>
                    </a:lnTo>
                    <a:lnTo>
                      <a:pt x="149" y="572"/>
                    </a:lnTo>
                    <a:lnTo>
                      <a:pt x="137" y="598"/>
                    </a:lnTo>
                    <a:lnTo>
                      <a:pt x="149" y="615"/>
                    </a:lnTo>
                    <a:lnTo>
                      <a:pt x="155" y="658"/>
                    </a:lnTo>
                    <a:lnTo>
                      <a:pt x="131" y="676"/>
                    </a:lnTo>
                    <a:lnTo>
                      <a:pt x="105" y="693"/>
                    </a:lnTo>
                    <a:lnTo>
                      <a:pt x="80" y="702"/>
                    </a:lnTo>
                    <a:lnTo>
                      <a:pt x="61" y="693"/>
                    </a:lnTo>
                    <a:lnTo>
                      <a:pt x="37" y="676"/>
                    </a:lnTo>
                    <a:lnTo>
                      <a:pt x="18" y="658"/>
                    </a:lnTo>
                    <a:lnTo>
                      <a:pt x="37" y="632"/>
                    </a:lnTo>
                    <a:lnTo>
                      <a:pt x="61" y="615"/>
                    </a:lnTo>
                    <a:lnTo>
                      <a:pt x="80" y="580"/>
                    </a:lnTo>
                    <a:lnTo>
                      <a:pt x="80" y="563"/>
                    </a:lnTo>
                    <a:lnTo>
                      <a:pt x="61" y="529"/>
                    </a:lnTo>
                    <a:lnTo>
                      <a:pt x="37" y="503"/>
                    </a:lnTo>
                    <a:lnTo>
                      <a:pt x="18" y="503"/>
                    </a:lnTo>
                    <a:lnTo>
                      <a:pt x="0" y="494"/>
                    </a:lnTo>
                    <a:lnTo>
                      <a:pt x="0" y="477"/>
                    </a:lnTo>
                    <a:lnTo>
                      <a:pt x="0" y="442"/>
                    </a:lnTo>
                    <a:lnTo>
                      <a:pt x="18" y="442"/>
                    </a:lnTo>
                    <a:lnTo>
                      <a:pt x="37" y="433"/>
                    </a:lnTo>
                    <a:lnTo>
                      <a:pt x="61" y="407"/>
                    </a:lnTo>
                    <a:lnTo>
                      <a:pt x="68" y="399"/>
                    </a:lnTo>
                    <a:lnTo>
                      <a:pt x="86" y="294"/>
                    </a:lnTo>
                    <a:lnTo>
                      <a:pt x="68" y="276"/>
                    </a:lnTo>
                    <a:lnTo>
                      <a:pt x="55" y="242"/>
                    </a:lnTo>
                    <a:lnTo>
                      <a:pt x="43" y="190"/>
                    </a:lnTo>
                    <a:lnTo>
                      <a:pt x="55" y="138"/>
                    </a:lnTo>
                    <a:lnTo>
                      <a:pt x="61" y="103"/>
                    </a:lnTo>
                    <a:lnTo>
                      <a:pt x="8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740800" y="5450040"/>
                <a:ext cx="197280" cy="203400"/>
              </a:xfrm>
              <a:custGeom>
                <a:avLst/>
                <a:gdLst/>
                <a:ahLst/>
                <a:rect l="0" t="0" r="r" b="b"/>
                <a:pathLst>
                  <a:path w="548" h="565">
                    <a:moveTo>
                      <a:pt x="381" y="0"/>
                    </a:moveTo>
                    <a:lnTo>
                      <a:pt x="458" y="0"/>
                    </a:lnTo>
                    <a:lnTo>
                      <a:pt x="548" y="162"/>
                    </a:lnTo>
                    <a:lnTo>
                      <a:pt x="451" y="283"/>
                    </a:lnTo>
                    <a:lnTo>
                      <a:pt x="451" y="343"/>
                    </a:lnTo>
                    <a:lnTo>
                      <a:pt x="431" y="360"/>
                    </a:lnTo>
                    <a:lnTo>
                      <a:pt x="354" y="360"/>
                    </a:lnTo>
                    <a:lnTo>
                      <a:pt x="284" y="420"/>
                    </a:lnTo>
                    <a:lnTo>
                      <a:pt x="222" y="505"/>
                    </a:lnTo>
                    <a:lnTo>
                      <a:pt x="180" y="565"/>
                    </a:lnTo>
                    <a:lnTo>
                      <a:pt x="180" y="505"/>
                    </a:lnTo>
                    <a:lnTo>
                      <a:pt x="96" y="531"/>
                    </a:lnTo>
                    <a:lnTo>
                      <a:pt x="48" y="531"/>
                    </a:lnTo>
                    <a:lnTo>
                      <a:pt x="0" y="531"/>
                    </a:lnTo>
                    <a:lnTo>
                      <a:pt x="83" y="420"/>
                    </a:lnTo>
                    <a:lnTo>
                      <a:pt x="110" y="385"/>
                    </a:lnTo>
                    <a:lnTo>
                      <a:pt x="131" y="385"/>
                    </a:lnTo>
                    <a:lnTo>
                      <a:pt x="201" y="291"/>
                    </a:lnTo>
                    <a:lnTo>
                      <a:pt x="222" y="291"/>
                    </a:lnTo>
                    <a:lnTo>
                      <a:pt x="257" y="265"/>
                    </a:lnTo>
                    <a:lnTo>
                      <a:pt x="284" y="265"/>
                    </a:lnTo>
                    <a:lnTo>
                      <a:pt x="277" y="188"/>
                    </a:lnTo>
                    <a:lnTo>
                      <a:pt x="284" y="188"/>
                    </a:lnTo>
                    <a:lnTo>
                      <a:pt x="326" y="153"/>
                    </a:lnTo>
                    <a:lnTo>
                      <a:pt x="326" y="171"/>
                    </a:lnTo>
                    <a:lnTo>
                      <a:pt x="402" y="111"/>
                    </a:lnTo>
                    <a:lnTo>
                      <a:pt x="3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29680" y="5465880"/>
                <a:ext cx="60840" cy="95760"/>
              </a:xfrm>
              <a:custGeom>
                <a:avLst/>
                <a:gdLst/>
                <a:ahLst/>
                <a:rect l="0" t="0" r="r" b="b"/>
                <a:pathLst>
                  <a:path w="169" h="266">
                    <a:moveTo>
                      <a:pt x="0" y="0"/>
                    </a:moveTo>
                    <a:lnTo>
                      <a:pt x="39" y="0"/>
                    </a:lnTo>
                    <a:lnTo>
                      <a:pt x="79" y="29"/>
                    </a:lnTo>
                    <a:lnTo>
                      <a:pt x="169" y="29"/>
                    </a:lnTo>
                    <a:lnTo>
                      <a:pt x="152" y="81"/>
                    </a:lnTo>
                    <a:lnTo>
                      <a:pt x="169" y="118"/>
                    </a:lnTo>
                    <a:lnTo>
                      <a:pt x="141" y="118"/>
                    </a:lnTo>
                    <a:lnTo>
                      <a:pt x="130" y="133"/>
                    </a:lnTo>
                    <a:lnTo>
                      <a:pt x="112" y="140"/>
                    </a:lnTo>
                    <a:lnTo>
                      <a:pt x="130" y="266"/>
                    </a:lnTo>
                    <a:lnTo>
                      <a:pt x="79" y="251"/>
                    </a:lnTo>
                    <a:lnTo>
                      <a:pt x="27" y="215"/>
                    </a:lnTo>
                    <a:lnTo>
                      <a:pt x="27" y="133"/>
                    </a:lnTo>
                    <a:lnTo>
                      <a:pt x="27" y="111"/>
                    </a:lnTo>
                    <a:lnTo>
                      <a:pt x="0" y="8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8481960" y="4152960"/>
              <a:ext cx="117720" cy="105120"/>
            </a:xfrm>
            <a:custGeom>
              <a:avLst/>
              <a:gdLst/>
              <a:ahLst/>
              <a:rect l="0" t="0" r="r" b="b"/>
              <a:pathLst>
                <a:path w="327" h="292">
                  <a:moveTo>
                    <a:pt x="65" y="114"/>
                  </a:moveTo>
                  <a:lnTo>
                    <a:pt x="0" y="238"/>
                  </a:lnTo>
                  <a:lnTo>
                    <a:pt x="19" y="284"/>
                  </a:lnTo>
                  <a:lnTo>
                    <a:pt x="117" y="292"/>
                  </a:lnTo>
                  <a:lnTo>
                    <a:pt x="190" y="292"/>
                  </a:lnTo>
                  <a:lnTo>
                    <a:pt x="229" y="253"/>
                  </a:lnTo>
                  <a:lnTo>
                    <a:pt x="242" y="200"/>
                  </a:lnTo>
                  <a:lnTo>
                    <a:pt x="327" y="200"/>
                  </a:lnTo>
                  <a:lnTo>
                    <a:pt x="307" y="122"/>
                  </a:lnTo>
                  <a:lnTo>
                    <a:pt x="307" y="61"/>
                  </a:lnTo>
                  <a:lnTo>
                    <a:pt x="235" y="0"/>
                  </a:lnTo>
                  <a:lnTo>
                    <a:pt x="216" y="91"/>
                  </a:lnTo>
                  <a:lnTo>
                    <a:pt x="262" y="137"/>
                  </a:lnTo>
                  <a:lnTo>
                    <a:pt x="183" y="137"/>
                  </a:lnTo>
                  <a:lnTo>
                    <a:pt x="156" y="169"/>
                  </a:lnTo>
                  <a:lnTo>
                    <a:pt x="65" y="114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972120" y="2160720"/>
              <a:ext cx="1589760" cy="3213360"/>
              <a:chOff x="6972120" y="2160720"/>
              <a:chExt cx="1589760" cy="3213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7230960" y="2494080"/>
                <a:ext cx="340200" cy="940320"/>
                <a:chOff x="7230960" y="2494080"/>
                <a:chExt cx="340200" cy="9403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230960" y="3365640"/>
                  <a:ext cx="62280" cy="68760"/>
                </a:xfrm>
                <a:custGeom>
                  <a:avLst/>
                  <a:gdLst/>
                  <a:ahLst/>
                  <a:rect l="0" t="0" r="r" b="b"/>
                  <a:pathLst>
                    <a:path w="173" h="191">
                      <a:moveTo>
                        <a:pt x="0" y="144"/>
                      </a:moveTo>
                      <a:lnTo>
                        <a:pt x="28" y="191"/>
                      </a:lnTo>
                      <a:lnTo>
                        <a:pt x="69" y="178"/>
                      </a:lnTo>
                      <a:lnTo>
                        <a:pt x="127" y="191"/>
                      </a:lnTo>
                      <a:lnTo>
                        <a:pt x="168" y="191"/>
                      </a:lnTo>
                      <a:lnTo>
                        <a:pt x="173" y="129"/>
                      </a:lnTo>
                      <a:lnTo>
                        <a:pt x="156" y="75"/>
                      </a:lnTo>
                      <a:lnTo>
                        <a:pt x="133" y="27"/>
                      </a:lnTo>
                      <a:lnTo>
                        <a:pt x="104" y="27"/>
                      </a:lnTo>
                      <a:lnTo>
                        <a:pt x="86" y="0"/>
                      </a:lnTo>
                      <a:lnTo>
                        <a:pt x="46" y="0"/>
                      </a:lnTo>
                      <a:lnTo>
                        <a:pt x="46" y="55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62800" y="3192480"/>
                  <a:ext cx="59040" cy="93960"/>
                </a:xfrm>
                <a:custGeom>
                  <a:avLst/>
                  <a:gdLst/>
                  <a:ahLst/>
                  <a:rect l="0" t="0" r="r" b="b"/>
                  <a:pathLst>
                    <a:path w="164" h="261">
                      <a:moveTo>
                        <a:pt x="33" y="0"/>
                      </a:moveTo>
                      <a:lnTo>
                        <a:pt x="96" y="14"/>
                      </a:lnTo>
                      <a:lnTo>
                        <a:pt x="136" y="81"/>
                      </a:lnTo>
                      <a:lnTo>
                        <a:pt x="164" y="126"/>
                      </a:lnTo>
                      <a:lnTo>
                        <a:pt x="141" y="157"/>
                      </a:lnTo>
                      <a:lnTo>
                        <a:pt x="164" y="194"/>
                      </a:lnTo>
                      <a:lnTo>
                        <a:pt x="147" y="238"/>
                      </a:lnTo>
                      <a:lnTo>
                        <a:pt x="124" y="261"/>
                      </a:lnTo>
                      <a:lnTo>
                        <a:pt x="73" y="261"/>
                      </a:lnTo>
                      <a:lnTo>
                        <a:pt x="39" y="261"/>
                      </a:lnTo>
                      <a:lnTo>
                        <a:pt x="22" y="231"/>
                      </a:lnTo>
                      <a:lnTo>
                        <a:pt x="0" y="186"/>
                      </a:lnTo>
                      <a:lnTo>
                        <a:pt x="0" y="157"/>
                      </a:lnTo>
                      <a:lnTo>
                        <a:pt x="0" y="9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40480" y="2494080"/>
                  <a:ext cx="130680" cy="86040"/>
                </a:xfrm>
                <a:custGeom>
                  <a:avLst/>
                  <a:gdLst/>
                  <a:ahLst/>
                  <a:rect l="0" t="0" r="r" b="b"/>
                  <a:pathLst>
                    <a:path w="363" h="239">
                      <a:moveTo>
                        <a:pt x="53" y="0"/>
                      </a:moveTo>
                      <a:lnTo>
                        <a:pt x="101" y="29"/>
                      </a:lnTo>
                      <a:lnTo>
                        <a:pt x="148" y="22"/>
                      </a:lnTo>
                      <a:lnTo>
                        <a:pt x="221" y="29"/>
                      </a:lnTo>
                      <a:lnTo>
                        <a:pt x="268" y="29"/>
                      </a:lnTo>
                      <a:lnTo>
                        <a:pt x="296" y="52"/>
                      </a:lnTo>
                      <a:lnTo>
                        <a:pt x="336" y="104"/>
                      </a:lnTo>
                      <a:lnTo>
                        <a:pt x="363" y="120"/>
                      </a:lnTo>
                      <a:lnTo>
                        <a:pt x="276" y="142"/>
                      </a:lnTo>
                      <a:lnTo>
                        <a:pt x="248" y="164"/>
                      </a:lnTo>
                      <a:lnTo>
                        <a:pt x="276" y="201"/>
                      </a:lnTo>
                      <a:lnTo>
                        <a:pt x="276" y="239"/>
                      </a:lnTo>
                      <a:lnTo>
                        <a:pt x="201" y="201"/>
                      </a:lnTo>
                      <a:lnTo>
                        <a:pt x="141" y="187"/>
                      </a:lnTo>
                      <a:lnTo>
                        <a:pt x="101" y="187"/>
                      </a:lnTo>
                      <a:lnTo>
                        <a:pt x="101" y="239"/>
                      </a:lnTo>
                      <a:lnTo>
                        <a:pt x="53" y="239"/>
                      </a:lnTo>
                      <a:lnTo>
                        <a:pt x="46" y="201"/>
                      </a:lnTo>
                      <a:lnTo>
                        <a:pt x="33" y="142"/>
                      </a:lnTo>
                      <a:lnTo>
                        <a:pt x="0" y="134"/>
                      </a:lnTo>
                      <a:lnTo>
                        <a:pt x="33" y="104"/>
                      </a:lnTo>
                      <a:lnTo>
                        <a:pt x="66" y="8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570800" y="4459320"/>
                <a:ext cx="991080" cy="914760"/>
              </a:xfrm>
              <a:custGeom>
                <a:avLst/>
                <a:gdLst/>
                <a:ahLst/>
                <a:rect l="0" t="0" r="r" b="b"/>
                <a:pathLst>
                  <a:path w="2753" h="2541">
                    <a:moveTo>
                      <a:pt x="1978" y="0"/>
                    </a:moveTo>
                    <a:lnTo>
                      <a:pt x="2122" y="0"/>
                    </a:lnTo>
                    <a:lnTo>
                      <a:pt x="2122" y="206"/>
                    </a:lnTo>
                    <a:lnTo>
                      <a:pt x="2182" y="272"/>
                    </a:lnTo>
                    <a:lnTo>
                      <a:pt x="2204" y="310"/>
                    </a:lnTo>
                    <a:lnTo>
                      <a:pt x="2227" y="310"/>
                    </a:lnTo>
                    <a:lnTo>
                      <a:pt x="2249" y="338"/>
                    </a:lnTo>
                    <a:lnTo>
                      <a:pt x="2264" y="545"/>
                    </a:lnTo>
                    <a:lnTo>
                      <a:pt x="2340" y="677"/>
                    </a:lnTo>
                    <a:lnTo>
                      <a:pt x="2467" y="865"/>
                    </a:lnTo>
                    <a:lnTo>
                      <a:pt x="2467" y="903"/>
                    </a:lnTo>
                    <a:lnTo>
                      <a:pt x="2603" y="1072"/>
                    </a:lnTo>
                    <a:lnTo>
                      <a:pt x="2603" y="1091"/>
                    </a:lnTo>
                    <a:lnTo>
                      <a:pt x="2738" y="1222"/>
                    </a:lnTo>
                    <a:lnTo>
                      <a:pt x="2753" y="1459"/>
                    </a:lnTo>
                    <a:lnTo>
                      <a:pt x="2738" y="1666"/>
                    </a:lnTo>
                    <a:lnTo>
                      <a:pt x="2686" y="1769"/>
                    </a:lnTo>
                    <a:lnTo>
                      <a:pt x="2640" y="1816"/>
                    </a:lnTo>
                    <a:lnTo>
                      <a:pt x="2618" y="1929"/>
                    </a:lnTo>
                    <a:lnTo>
                      <a:pt x="2573" y="2023"/>
                    </a:lnTo>
                    <a:lnTo>
                      <a:pt x="2535" y="2042"/>
                    </a:lnTo>
                    <a:lnTo>
                      <a:pt x="2550" y="2089"/>
                    </a:lnTo>
                    <a:lnTo>
                      <a:pt x="2483" y="2155"/>
                    </a:lnTo>
                    <a:lnTo>
                      <a:pt x="2467" y="2277"/>
                    </a:lnTo>
                    <a:lnTo>
                      <a:pt x="2452" y="2362"/>
                    </a:lnTo>
                    <a:lnTo>
                      <a:pt x="2415" y="2381"/>
                    </a:lnTo>
                    <a:lnTo>
                      <a:pt x="2400" y="2428"/>
                    </a:lnTo>
                    <a:lnTo>
                      <a:pt x="2370" y="2475"/>
                    </a:lnTo>
                    <a:lnTo>
                      <a:pt x="2317" y="2475"/>
                    </a:lnTo>
                    <a:lnTo>
                      <a:pt x="2264" y="2503"/>
                    </a:lnTo>
                    <a:lnTo>
                      <a:pt x="2212" y="2541"/>
                    </a:lnTo>
                    <a:lnTo>
                      <a:pt x="2129" y="2446"/>
                    </a:lnTo>
                    <a:lnTo>
                      <a:pt x="2060" y="2475"/>
                    </a:lnTo>
                    <a:lnTo>
                      <a:pt x="2030" y="2475"/>
                    </a:lnTo>
                    <a:lnTo>
                      <a:pt x="1910" y="2493"/>
                    </a:lnTo>
                    <a:lnTo>
                      <a:pt x="1850" y="2428"/>
                    </a:lnTo>
                    <a:lnTo>
                      <a:pt x="1790" y="2324"/>
                    </a:lnTo>
                    <a:lnTo>
                      <a:pt x="1767" y="2343"/>
                    </a:lnTo>
                    <a:lnTo>
                      <a:pt x="1737" y="2268"/>
                    </a:lnTo>
                    <a:lnTo>
                      <a:pt x="1715" y="2211"/>
                    </a:lnTo>
                    <a:lnTo>
                      <a:pt x="1707" y="2192"/>
                    </a:lnTo>
                    <a:lnTo>
                      <a:pt x="1707" y="2089"/>
                    </a:lnTo>
                    <a:lnTo>
                      <a:pt x="1707" y="2023"/>
                    </a:lnTo>
                    <a:lnTo>
                      <a:pt x="1685" y="1985"/>
                    </a:lnTo>
                    <a:lnTo>
                      <a:pt x="1624" y="2004"/>
                    </a:lnTo>
                    <a:lnTo>
                      <a:pt x="1587" y="2023"/>
                    </a:lnTo>
                    <a:lnTo>
                      <a:pt x="1534" y="2023"/>
                    </a:lnTo>
                    <a:lnTo>
                      <a:pt x="1519" y="2023"/>
                    </a:lnTo>
                    <a:lnTo>
                      <a:pt x="1489" y="2023"/>
                    </a:lnTo>
                    <a:lnTo>
                      <a:pt x="1444" y="1957"/>
                    </a:lnTo>
                    <a:lnTo>
                      <a:pt x="1399" y="1891"/>
                    </a:lnTo>
                    <a:lnTo>
                      <a:pt x="1391" y="1891"/>
                    </a:lnTo>
                    <a:lnTo>
                      <a:pt x="1331" y="1891"/>
                    </a:lnTo>
                    <a:lnTo>
                      <a:pt x="1316" y="1854"/>
                    </a:lnTo>
                    <a:lnTo>
                      <a:pt x="1264" y="1891"/>
                    </a:lnTo>
                    <a:lnTo>
                      <a:pt x="1233" y="1891"/>
                    </a:lnTo>
                    <a:lnTo>
                      <a:pt x="1166" y="1891"/>
                    </a:lnTo>
                    <a:lnTo>
                      <a:pt x="1143" y="1854"/>
                    </a:lnTo>
                    <a:lnTo>
                      <a:pt x="1121" y="1891"/>
                    </a:lnTo>
                    <a:lnTo>
                      <a:pt x="1038" y="1901"/>
                    </a:lnTo>
                    <a:lnTo>
                      <a:pt x="1030" y="1891"/>
                    </a:lnTo>
                    <a:lnTo>
                      <a:pt x="993" y="1929"/>
                    </a:lnTo>
                    <a:lnTo>
                      <a:pt x="948" y="1985"/>
                    </a:lnTo>
                    <a:lnTo>
                      <a:pt x="903" y="1985"/>
                    </a:lnTo>
                    <a:lnTo>
                      <a:pt x="858" y="2042"/>
                    </a:lnTo>
                    <a:lnTo>
                      <a:pt x="790" y="2042"/>
                    </a:lnTo>
                    <a:lnTo>
                      <a:pt x="722" y="2042"/>
                    </a:lnTo>
                    <a:lnTo>
                      <a:pt x="661" y="2089"/>
                    </a:lnTo>
                    <a:lnTo>
                      <a:pt x="631" y="2136"/>
                    </a:lnTo>
                    <a:lnTo>
                      <a:pt x="601" y="2127"/>
                    </a:lnTo>
                    <a:lnTo>
                      <a:pt x="586" y="2164"/>
                    </a:lnTo>
                    <a:lnTo>
                      <a:pt x="541" y="2174"/>
                    </a:lnTo>
                    <a:lnTo>
                      <a:pt x="503" y="2211"/>
                    </a:lnTo>
                    <a:lnTo>
                      <a:pt x="368" y="2211"/>
                    </a:lnTo>
                    <a:lnTo>
                      <a:pt x="315" y="2155"/>
                    </a:lnTo>
                    <a:lnTo>
                      <a:pt x="308" y="2127"/>
                    </a:lnTo>
                    <a:lnTo>
                      <a:pt x="300" y="2155"/>
                    </a:lnTo>
                    <a:lnTo>
                      <a:pt x="270" y="2089"/>
                    </a:lnTo>
                    <a:lnTo>
                      <a:pt x="278" y="1967"/>
                    </a:lnTo>
                    <a:lnTo>
                      <a:pt x="300" y="1891"/>
                    </a:lnTo>
                    <a:lnTo>
                      <a:pt x="270" y="1816"/>
                    </a:lnTo>
                    <a:lnTo>
                      <a:pt x="248" y="1769"/>
                    </a:lnTo>
                    <a:lnTo>
                      <a:pt x="248" y="1694"/>
                    </a:lnTo>
                    <a:lnTo>
                      <a:pt x="195" y="1647"/>
                    </a:lnTo>
                    <a:lnTo>
                      <a:pt x="180" y="1647"/>
                    </a:lnTo>
                    <a:lnTo>
                      <a:pt x="172" y="1619"/>
                    </a:lnTo>
                    <a:lnTo>
                      <a:pt x="120" y="1525"/>
                    </a:lnTo>
                    <a:lnTo>
                      <a:pt x="45" y="1308"/>
                    </a:lnTo>
                    <a:lnTo>
                      <a:pt x="30" y="1147"/>
                    </a:lnTo>
                    <a:lnTo>
                      <a:pt x="30" y="1072"/>
                    </a:lnTo>
                    <a:lnTo>
                      <a:pt x="0" y="1034"/>
                    </a:lnTo>
                    <a:lnTo>
                      <a:pt x="7" y="940"/>
                    </a:lnTo>
                    <a:lnTo>
                      <a:pt x="30" y="912"/>
                    </a:lnTo>
                    <a:lnTo>
                      <a:pt x="120" y="809"/>
                    </a:lnTo>
                    <a:lnTo>
                      <a:pt x="202" y="809"/>
                    </a:lnTo>
                    <a:lnTo>
                      <a:pt x="233" y="837"/>
                    </a:lnTo>
                    <a:lnTo>
                      <a:pt x="338" y="837"/>
                    </a:lnTo>
                    <a:lnTo>
                      <a:pt x="353" y="809"/>
                    </a:lnTo>
                    <a:lnTo>
                      <a:pt x="368" y="809"/>
                    </a:lnTo>
                    <a:lnTo>
                      <a:pt x="413" y="780"/>
                    </a:lnTo>
                    <a:lnTo>
                      <a:pt x="436" y="780"/>
                    </a:lnTo>
                    <a:lnTo>
                      <a:pt x="466" y="771"/>
                    </a:lnTo>
                    <a:lnTo>
                      <a:pt x="451" y="733"/>
                    </a:lnTo>
                    <a:lnTo>
                      <a:pt x="473" y="667"/>
                    </a:lnTo>
                    <a:lnTo>
                      <a:pt x="503" y="639"/>
                    </a:lnTo>
                    <a:lnTo>
                      <a:pt x="488" y="611"/>
                    </a:lnTo>
                    <a:lnTo>
                      <a:pt x="503" y="583"/>
                    </a:lnTo>
                    <a:lnTo>
                      <a:pt x="488" y="573"/>
                    </a:lnTo>
                    <a:lnTo>
                      <a:pt x="541" y="508"/>
                    </a:lnTo>
                    <a:lnTo>
                      <a:pt x="608" y="498"/>
                    </a:lnTo>
                    <a:lnTo>
                      <a:pt x="684" y="376"/>
                    </a:lnTo>
                    <a:lnTo>
                      <a:pt x="775" y="272"/>
                    </a:lnTo>
                    <a:lnTo>
                      <a:pt x="820" y="272"/>
                    </a:lnTo>
                    <a:lnTo>
                      <a:pt x="843" y="235"/>
                    </a:lnTo>
                    <a:lnTo>
                      <a:pt x="880" y="235"/>
                    </a:lnTo>
                    <a:lnTo>
                      <a:pt x="955" y="329"/>
                    </a:lnTo>
                    <a:lnTo>
                      <a:pt x="985" y="338"/>
                    </a:lnTo>
                    <a:lnTo>
                      <a:pt x="1008" y="310"/>
                    </a:lnTo>
                    <a:lnTo>
                      <a:pt x="1046" y="235"/>
                    </a:lnTo>
                    <a:lnTo>
                      <a:pt x="1083" y="225"/>
                    </a:lnTo>
                    <a:lnTo>
                      <a:pt x="1121" y="141"/>
                    </a:lnTo>
                    <a:lnTo>
                      <a:pt x="1151" y="141"/>
                    </a:lnTo>
                    <a:lnTo>
                      <a:pt x="1196" y="122"/>
                    </a:lnTo>
                    <a:lnTo>
                      <a:pt x="1233" y="65"/>
                    </a:lnTo>
                    <a:lnTo>
                      <a:pt x="1264" y="65"/>
                    </a:lnTo>
                    <a:lnTo>
                      <a:pt x="1309" y="37"/>
                    </a:lnTo>
                    <a:lnTo>
                      <a:pt x="1354" y="37"/>
                    </a:lnTo>
                    <a:lnTo>
                      <a:pt x="1414" y="37"/>
                    </a:lnTo>
                    <a:lnTo>
                      <a:pt x="1489" y="37"/>
                    </a:lnTo>
                    <a:lnTo>
                      <a:pt x="1534" y="103"/>
                    </a:lnTo>
                    <a:lnTo>
                      <a:pt x="1549" y="131"/>
                    </a:lnTo>
                    <a:lnTo>
                      <a:pt x="1557" y="141"/>
                    </a:lnTo>
                    <a:lnTo>
                      <a:pt x="1572" y="197"/>
                    </a:lnTo>
                    <a:lnTo>
                      <a:pt x="1557" y="206"/>
                    </a:lnTo>
                    <a:lnTo>
                      <a:pt x="1557" y="272"/>
                    </a:lnTo>
                    <a:lnTo>
                      <a:pt x="1549" y="310"/>
                    </a:lnTo>
                    <a:lnTo>
                      <a:pt x="1670" y="413"/>
                    </a:lnTo>
                    <a:lnTo>
                      <a:pt x="1707" y="470"/>
                    </a:lnTo>
                    <a:lnTo>
                      <a:pt x="1760" y="479"/>
                    </a:lnTo>
                    <a:lnTo>
                      <a:pt x="1797" y="508"/>
                    </a:lnTo>
                    <a:lnTo>
                      <a:pt x="1842" y="545"/>
                    </a:lnTo>
                    <a:lnTo>
                      <a:pt x="1895" y="498"/>
                    </a:lnTo>
                    <a:lnTo>
                      <a:pt x="1925" y="413"/>
                    </a:lnTo>
                    <a:lnTo>
                      <a:pt x="1940" y="338"/>
                    </a:lnTo>
                    <a:lnTo>
                      <a:pt x="1955" y="197"/>
                    </a:lnTo>
                    <a:lnTo>
                      <a:pt x="1978" y="141"/>
                    </a:lnTo>
                    <a:lnTo>
                      <a:pt x="19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32840" y="4262400"/>
                <a:ext cx="536760" cy="100440"/>
              </a:xfrm>
              <a:custGeom>
                <a:avLst/>
                <a:gdLst/>
                <a:ahLst/>
                <a:rect l="0" t="0" r="r" b="b"/>
                <a:pathLst>
                  <a:path w="1491" h="279">
                    <a:moveTo>
                      <a:pt x="0" y="0"/>
                    </a:moveTo>
                    <a:lnTo>
                      <a:pt x="103" y="38"/>
                    </a:lnTo>
                    <a:lnTo>
                      <a:pt x="207" y="38"/>
                    </a:lnTo>
                    <a:lnTo>
                      <a:pt x="289" y="38"/>
                    </a:lnTo>
                    <a:lnTo>
                      <a:pt x="348" y="38"/>
                    </a:lnTo>
                    <a:lnTo>
                      <a:pt x="400" y="46"/>
                    </a:lnTo>
                    <a:lnTo>
                      <a:pt x="459" y="69"/>
                    </a:lnTo>
                    <a:lnTo>
                      <a:pt x="504" y="132"/>
                    </a:lnTo>
                    <a:lnTo>
                      <a:pt x="533" y="155"/>
                    </a:lnTo>
                    <a:lnTo>
                      <a:pt x="585" y="155"/>
                    </a:lnTo>
                    <a:lnTo>
                      <a:pt x="659" y="155"/>
                    </a:lnTo>
                    <a:lnTo>
                      <a:pt x="726" y="186"/>
                    </a:lnTo>
                    <a:lnTo>
                      <a:pt x="772" y="210"/>
                    </a:lnTo>
                    <a:lnTo>
                      <a:pt x="801" y="210"/>
                    </a:lnTo>
                    <a:lnTo>
                      <a:pt x="809" y="155"/>
                    </a:lnTo>
                    <a:lnTo>
                      <a:pt x="831" y="132"/>
                    </a:lnTo>
                    <a:lnTo>
                      <a:pt x="935" y="155"/>
                    </a:lnTo>
                    <a:lnTo>
                      <a:pt x="1009" y="155"/>
                    </a:lnTo>
                    <a:lnTo>
                      <a:pt x="1091" y="155"/>
                    </a:lnTo>
                    <a:lnTo>
                      <a:pt x="1142" y="178"/>
                    </a:lnTo>
                    <a:lnTo>
                      <a:pt x="1172" y="193"/>
                    </a:lnTo>
                    <a:lnTo>
                      <a:pt x="1231" y="186"/>
                    </a:lnTo>
                    <a:lnTo>
                      <a:pt x="1276" y="178"/>
                    </a:lnTo>
                    <a:lnTo>
                      <a:pt x="1306" y="155"/>
                    </a:lnTo>
                    <a:lnTo>
                      <a:pt x="1358" y="155"/>
                    </a:lnTo>
                    <a:lnTo>
                      <a:pt x="1409" y="132"/>
                    </a:lnTo>
                    <a:lnTo>
                      <a:pt x="1461" y="124"/>
                    </a:lnTo>
                    <a:lnTo>
                      <a:pt x="1491" y="124"/>
                    </a:lnTo>
                    <a:lnTo>
                      <a:pt x="1476" y="178"/>
                    </a:lnTo>
                    <a:lnTo>
                      <a:pt x="1461" y="210"/>
                    </a:lnTo>
                    <a:lnTo>
                      <a:pt x="1439" y="225"/>
                    </a:lnTo>
                    <a:lnTo>
                      <a:pt x="1409" y="225"/>
                    </a:lnTo>
                    <a:lnTo>
                      <a:pt x="1395" y="225"/>
                    </a:lnTo>
                    <a:lnTo>
                      <a:pt x="1343" y="241"/>
                    </a:lnTo>
                    <a:lnTo>
                      <a:pt x="1313" y="264"/>
                    </a:lnTo>
                    <a:lnTo>
                      <a:pt x="1298" y="264"/>
                    </a:lnTo>
                    <a:lnTo>
                      <a:pt x="1254" y="248"/>
                    </a:lnTo>
                    <a:lnTo>
                      <a:pt x="1224" y="264"/>
                    </a:lnTo>
                    <a:lnTo>
                      <a:pt x="1194" y="264"/>
                    </a:lnTo>
                    <a:lnTo>
                      <a:pt x="1165" y="264"/>
                    </a:lnTo>
                    <a:lnTo>
                      <a:pt x="1142" y="279"/>
                    </a:lnTo>
                    <a:lnTo>
                      <a:pt x="1091" y="279"/>
                    </a:lnTo>
                    <a:lnTo>
                      <a:pt x="1061" y="264"/>
                    </a:lnTo>
                    <a:lnTo>
                      <a:pt x="1016" y="225"/>
                    </a:lnTo>
                    <a:lnTo>
                      <a:pt x="987" y="264"/>
                    </a:lnTo>
                    <a:lnTo>
                      <a:pt x="957" y="279"/>
                    </a:lnTo>
                    <a:lnTo>
                      <a:pt x="927" y="279"/>
                    </a:lnTo>
                    <a:lnTo>
                      <a:pt x="876" y="225"/>
                    </a:lnTo>
                    <a:lnTo>
                      <a:pt x="861" y="241"/>
                    </a:lnTo>
                    <a:lnTo>
                      <a:pt x="824" y="241"/>
                    </a:lnTo>
                    <a:lnTo>
                      <a:pt x="794" y="264"/>
                    </a:lnTo>
                    <a:lnTo>
                      <a:pt x="749" y="264"/>
                    </a:lnTo>
                    <a:lnTo>
                      <a:pt x="697" y="264"/>
                    </a:lnTo>
                    <a:lnTo>
                      <a:pt x="674" y="248"/>
                    </a:lnTo>
                    <a:lnTo>
                      <a:pt x="645" y="225"/>
                    </a:lnTo>
                    <a:lnTo>
                      <a:pt x="593" y="241"/>
                    </a:lnTo>
                    <a:lnTo>
                      <a:pt x="556" y="264"/>
                    </a:lnTo>
                    <a:lnTo>
                      <a:pt x="526" y="264"/>
                    </a:lnTo>
                    <a:lnTo>
                      <a:pt x="459" y="248"/>
                    </a:lnTo>
                    <a:lnTo>
                      <a:pt x="407" y="218"/>
                    </a:lnTo>
                    <a:lnTo>
                      <a:pt x="363" y="218"/>
                    </a:lnTo>
                    <a:lnTo>
                      <a:pt x="266" y="193"/>
                    </a:lnTo>
                    <a:lnTo>
                      <a:pt x="207" y="178"/>
                    </a:lnTo>
                    <a:lnTo>
                      <a:pt x="163" y="178"/>
                    </a:lnTo>
                    <a:lnTo>
                      <a:pt x="103" y="155"/>
                    </a:lnTo>
                    <a:lnTo>
                      <a:pt x="51" y="124"/>
                    </a:lnTo>
                    <a:lnTo>
                      <a:pt x="22" y="124"/>
                    </a:lnTo>
                    <a:lnTo>
                      <a:pt x="0" y="109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5960" y="4010040"/>
                <a:ext cx="233640" cy="221040"/>
              </a:xfrm>
              <a:custGeom>
                <a:avLst/>
                <a:gdLst/>
                <a:ahLst/>
                <a:rect l="0" t="0" r="r" b="b"/>
                <a:pathLst>
                  <a:path w="649" h="614">
                    <a:moveTo>
                      <a:pt x="169" y="0"/>
                    </a:moveTo>
                    <a:lnTo>
                      <a:pt x="317" y="17"/>
                    </a:lnTo>
                    <a:lnTo>
                      <a:pt x="473" y="17"/>
                    </a:lnTo>
                    <a:lnTo>
                      <a:pt x="550" y="0"/>
                    </a:lnTo>
                    <a:lnTo>
                      <a:pt x="649" y="51"/>
                    </a:lnTo>
                    <a:lnTo>
                      <a:pt x="592" y="77"/>
                    </a:lnTo>
                    <a:lnTo>
                      <a:pt x="550" y="103"/>
                    </a:lnTo>
                    <a:lnTo>
                      <a:pt x="508" y="112"/>
                    </a:lnTo>
                    <a:lnTo>
                      <a:pt x="501" y="138"/>
                    </a:lnTo>
                    <a:lnTo>
                      <a:pt x="501" y="173"/>
                    </a:lnTo>
                    <a:lnTo>
                      <a:pt x="501" y="182"/>
                    </a:lnTo>
                    <a:lnTo>
                      <a:pt x="466" y="208"/>
                    </a:lnTo>
                    <a:lnTo>
                      <a:pt x="423" y="208"/>
                    </a:lnTo>
                    <a:lnTo>
                      <a:pt x="402" y="208"/>
                    </a:lnTo>
                    <a:lnTo>
                      <a:pt x="367" y="208"/>
                    </a:lnTo>
                    <a:lnTo>
                      <a:pt x="346" y="182"/>
                    </a:lnTo>
                    <a:lnTo>
                      <a:pt x="317" y="146"/>
                    </a:lnTo>
                    <a:lnTo>
                      <a:pt x="288" y="112"/>
                    </a:lnTo>
                    <a:lnTo>
                      <a:pt x="225" y="112"/>
                    </a:lnTo>
                    <a:lnTo>
                      <a:pt x="218" y="112"/>
                    </a:lnTo>
                    <a:lnTo>
                      <a:pt x="190" y="182"/>
                    </a:lnTo>
                    <a:lnTo>
                      <a:pt x="197" y="208"/>
                    </a:lnTo>
                    <a:lnTo>
                      <a:pt x="197" y="242"/>
                    </a:lnTo>
                    <a:lnTo>
                      <a:pt x="218" y="268"/>
                    </a:lnTo>
                    <a:lnTo>
                      <a:pt x="246" y="268"/>
                    </a:lnTo>
                    <a:lnTo>
                      <a:pt x="288" y="234"/>
                    </a:lnTo>
                    <a:lnTo>
                      <a:pt x="317" y="234"/>
                    </a:lnTo>
                    <a:lnTo>
                      <a:pt x="339" y="259"/>
                    </a:lnTo>
                    <a:lnTo>
                      <a:pt x="339" y="268"/>
                    </a:lnTo>
                    <a:lnTo>
                      <a:pt x="324" y="303"/>
                    </a:lnTo>
                    <a:lnTo>
                      <a:pt x="317" y="311"/>
                    </a:lnTo>
                    <a:lnTo>
                      <a:pt x="317" y="337"/>
                    </a:lnTo>
                    <a:lnTo>
                      <a:pt x="317" y="372"/>
                    </a:lnTo>
                    <a:lnTo>
                      <a:pt x="324" y="406"/>
                    </a:lnTo>
                    <a:lnTo>
                      <a:pt x="353" y="432"/>
                    </a:lnTo>
                    <a:lnTo>
                      <a:pt x="367" y="424"/>
                    </a:lnTo>
                    <a:lnTo>
                      <a:pt x="367" y="458"/>
                    </a:lnTo>
                    <a:lnTo>
                      <a:pt x="346" y="494"/>
                    </a:lnTo>
                    <a:lnTo>
                      <a:pt x="339" y="519"/>
                    </a:lnTo>
                    <a:lnTo>
                      <a:pt x="324" y="580"/>
                    </a:lnTo>
                    <a:lnTo>
                      <a:pt x="295" y="589"/>
                    </a:lnTo>
                    <a:lnTo>
                      <a:pt x="274" y="589"/>
                    </a:lnTo>
                    <a:lnTo>
                      <a:pt x="253" y="589"/>
                    </a:lnTo>
                    <a:lnTo>
                      <a:pt x="253" y="545"/>
                    </a:lnTo>
                    <a:lnTo>
                      <a:pt x="246" y="485"/>
                    </a:lnTo>
                    <a:lnTo>
                      <a:pt x="218" y="458"/>
                    </a:lnTo>
                    <a:lnTo>
                      <a:pt x="218" y="432"/>
                    </a:lnTo>
                    <a:lnTo>
                      <a:pt x="218" y="389"/>
                    </a:lnTo>
                    <a:lnTo>
                      <a:pt x="190" y="354"/>
                    </a:lnTo>
                    <a:lnTo>
                      <a:pt x="140" y="389"/>
                    </a:lnTo>
                    <a:lnTo>
                      <a:pt x="119" y="354"/>
                    </a:lnTo>
                    <a:lnTo>
                      <a:pt x="91" y="398"/>
                    </a:lnTo>
                    <a:lnTo>
                      <a:pt x="119" y="424"/>
                    </a:lnTo>
                    <a:lnTo>
                      <a:pt x="162" y="424"/>
                    </a:lnTo>
                    <a:lnTo>
                      <a:pt x="169" y="449"/>
                    </a:lnTo>
                    <a:lnTo>
                      <a:pt x="190" y="485"/>
                    </a:lnTo>
                    <a:lnTo>
                      <a:pt x="190" y="511"/>
                    </a:lnTo>
                    <a:lnTo>
                      <a:pt x="169" y="545"/>
                    </a:lnTo>
                    <a:lnTo>
                      <a:pt x="140" y="606"/>
                    </a:lnTo>
                    <a:lnTo>
                      <a:pt x="119" y="614"/>
                    </a:lnTo>
                    <a:lnTo>
                      <a:pt x="119" y="580"/>
                    </a:lnTo>
                    <a:lnTo>
                      <a:pt x="119" y="545"/>
                    </a:lnTo>
                    <a:lnTo>
                      <a:pt x="126" y="511"/>
                    </a:lnTo>
                    <a:lnTo>
                      <a:pt x="91" y="485"/>
                    </a:lnTo>
                    <a:lnTo>
                      <a:pt x="63" y="458"/>
                    </a:lnTo>
                    <a:lnTo>
                      <a:pt x="49" y="424"/>
                    </a:lnTo>
                    <a:lnTo>
                      <a:pt x="0" y="424"/>
                    </a:lnTo>
                    <a:lnTo>
                      <a:pt x="14" y="354"/>
                    </a:lnTo>
                    <a:lnTo>
                      <a:pt x="49" y="329"/>
                    </a:lnTo>
                    <a:lnTo>
                      <a:pt x="70" y="294"/>
                    </a:lnTo>
                    <a:lnTo>
                      <a:pt x="91" y="242"/>
                    </a:lnTo>
                    <a:lnTo>
                      <a:pt x="91" y="199"/>
                    </a:lnTo>
                    <a:lnTo>
                      <a:pt x="91" y="146"/>
                    </a:lnTo>
                    <a:lnTo>
                      <a:pt x="112" y="120"/>
                    </a:lnTo>
                    <a:lnTo>
                      <a:pt x="119" y="112"/>
                    </a:lnTo>
                    <a:lnTo>
                      <a:pt x="91" y="77"/>
                    </a:lnTo>
                    <a:lnTo>
                      <a:pt x="1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70640" y="3894120"/>
                <a:ext cx="257400" cy="321120"/>
              </a:xfrm>
              <a:custGeom>
                <a:avLst/>
                <a:gdLst/>
                <a:ahLst/>
                <a:rect l="0" t="0" r="r" b="b"/>
                <a:pathLst>
                  <a:path w="715" h="892">
                    <a:moveTo>
                      <a:pt x="0" y="312"/>
                    </a:moveTo>
                    <a:lnTo>
                      <a:pt x="135" y="160"/>
                    </a:lnTo>
                    <a:lnTo>
                      <a:pt x="228" y="97"/>
                    </a:lnTo>
                    <a:lnTo>
                      <a:pt x="257" y="62"/>
                    </a:lnTo>
                    <a:lnTo>
                      <a:pt x="365" y="0"/>
                    </a:lnTo>
                    <a:lnTo>
                      <a:pt x="443" y="124"/>
                    </a:lnTo>
                    <a:lnTo>
                      <a:pt x="493" y="80"/>
                    </a:lnTo>
                    <a:lnTo>
                      <a:pt x="522" y="53"/>
                    </a:lnTo>
                    <a:lnTo>
                      <a:pt x="572" y="0"/>
                    </a:lnTo>
                    <a:lnTo>
                      <a:pt x="615" y="0"/>
                    </a:lnTo>
                    <a:lnTo>
                      <a:pt x="615" y="62"/>
                    </a:lnTo>
                    <a:lnTo>
                      <a:pt x="615" y="89"/>
                    </a:lnTo>
                    <a:lnTo>
                      <a:pt x="593" y="124"/>
                    </a:lnTo>
                    <a:lnTo>
                      <a:pt x="593" y="160"/>
                    </a:lnTo>
                    <a:lnTo>
                      <a:pt x="665" y="286"/>
                    </a:lnTo>
                    <a:lnTo>
                      <a:pt x="679" y="348"/>
                    </a:lnTo>
                    <a:lnTo>
                      <a:pt x="701" y="348"/>
                    </a:lnTo>
                    <a:lnTo>
                      <a:pt x="715" y="401"/>
                    </a:lnTo>
                    <a:lnTo>
                      <a:pt x="679" y="437"/>
                    </a:lnTo>
                    <a:lnTo>
                      <a:pt x="665" y="410"/>
                    </a:lnTo>
                    <a:lnTo>
                      <a:pt x="615" y="446"/>
                    </a:lnTo>
                    <a:lnTo>
                      <a:pt x="615" y="517"/>
                    </a:lnTo>
                    <a:lnTo>
                      <a:pt x="551" y="571"/>
                    </a:lnTo>
                    <a:lnTo>
                      <a:pt x="551" y="705"/>
                    </a:lnTo>
                    <a:lnTo>
                      <a:pt x="551" y="776"/>
                    </a:lnTo>
                    <a:lnTo>
                      <a:pt x="522" y="821"/>
                    </a:lnTo>
                    <a:lnTo>
                      <a:pt x="493" y="892"/>
                    </a:lnTo>
                    <a:lnTo>
                      <a:pt x="465" y="857"/>
                    </a:lnTo>
                    <a:lnTo>
                      <a:pt x="422" y="839"/>
                    </a:lnTo>
                    <a:lnTo>
                      <a:pt x="386" y="821"/>
                    </a:lnTo>
                    <a:lnTo>
                      <a:pt x="342" y="768"/>
                    </a:lnTo>
                    <a:lnTo>
                      <a:pt x="235" y="768"/>
                    </a:lnTo>
                    <a:lnTo>
                      <a:pt x="150" y="741"/>
                    </a:lnTo>
                    <a:lnTo>
                      <a:pt x="85" y="660"/>
                    </a:lnTo>
                    <a:lnTo>
                      <a:pt x="50" y="606"/>
                    </a:lnTo>
                    <a:lnTo>
                      <a:pt x="21" y="571"/>
                    </a:lnTo>
                    <a:lnTo>
                      <a:pt x="21" y="482"/>
                    </a:lnTo>
                    <a:lnTo>
                      <a:pt x="0" y="3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69320" y="4092480"/>
                <a:ext cx="513000" cy="294120"/>
              </a:xfrm>
              <a:custGeom>
                <a:avLst/>
                <a:gdLst/>
                <a:ahLst/>
                <a:rect l="0" t="0" r="r" b="b"/>
                <a:pathLst>
                  <a:path w="1425" h="817">
                    <a:moveTo>
                      <a:pt x="0" y="0"/>
                    </a:moveTo>
                    <a:lnTo>
                      <a:pt x="132" y="0"/>
                    </a:lnTo>
                    <a:lnTo>
                      <a:pt x="228" y="8"/>
                    </a:lnTo>
                    <a:lnTo>
                      <a:pt x="273" y="125"/>
                    </a:lnTo>
                    <a:lnTo>
                      <a:pt x="280" y="170"/>
                    </a:lnTo>
                    <a:lnTo>
                      <a:pt x="295" y="197"/>
                    </a:lnTo>
                    <a:lnTo>
                      <a:pt x="332" y="152"/>
                    </a:lnTo>
                    <a:lnTo>
                      <a:pt x="383" y="152"/>
                    </a:lnTo>
                    <a:lnTo>
                      <a:pt x="428" y="197"/>
                    </a:lnTo>
                    <a:lnTo>
                      <a:pt x="435" y="188"/>
                    </a:lnTo>
                    <a:lnTo>
                      <a:pt x="479" y="125"/>
                    </a:lnTo>
                    <a:lnTo>
                      <a:pt x="487" y="125"/>
                    </a:lnTo>
                    <a:lnTo>
                      <a:pt x="531" y="98"/>
                    </a:lnTo>
                    <a:lnTo>
                      <a:pt x="575" y="98"/>
                    </a:lnTo>
                    <a:lnTo>
                      <a:pt x="693" y="152"/>
                    </a:lnTo>
                    <a:lnTo>
                      <a:pt x="761" y="152"/>
                    </a:lnTo>
                    <a:lnTo>
                      <a:pt x="812" y="225"/>
                    </a:lnTo>
                    <a:lnTo>
                      <a:pt x="864" y="225"/>
                    </a:lnTo>
                    <a:lnTo>
                      <a:pt x="916" y="260"/>
                    </a:lnTo>
                    <a:lnTo>
                      <a:pt x="960" y="269"/>
                    </a:lnTo>
                    <a:lnTo>
                      <a:pt x="1063" y="314"/>
                    </a:lnTo>
                    <a:lnTo>
                      <a:pt x="1107" y="386"/>
                    </a:lnTo>
                    <a:lnTo>
                      <a:pt x="1130" y="422"/>
                    </a:lnTo>
                    <a:lnTo>
                      <a:pt x="1122" y="449"/>
                    </a:lnTo>
                    <a:lnTo>
                      <a:pt x="1159" y="476"/>
                    </a:lnTo>
                    <a:lnTo>
                      <a:pt x="1196" y="485"/>
                    </a:lnTo>
                    <a:lnTo>
                      <a:pt x="1211" y="494"/>
                    </a:lnTo>
                    <a:lnTo>
                      <a:pt x="1255" y="511"/>
                    </a:lnTo>
                    <a:lnTo>
                      <a:pt x="1329" y="574"/>
                    </a:lnTo>
                    <a:lnTo>
                      <a:pt x="1329" y="610"/>
                    </a:lnTo>
                    <a:lnTo>
                      <a:pt x="1358" y="647"/>
                    </a:lnTo>
                    <a:lnTo>
                      <a:pt x="1366" y="674"/>
                    </a:lnTo>
                    <a:lnTo>
                      <a:pt x="1425" y="737"/>
                    </a:lnTo>
                    <a:lnTo>
                      <a:pt x="1366" y="817"/>
                    </a:lnTo>
                    <a:lnTo>
                      <a:pt x="1358" y="817"/>
                    </a:lnTo>
                    <a:lnTo>
                      <a:pt x="1314" y="817"/>
                    </a:lnTo>
                    <a:lnTo>
                      <a:pt x="1292" y="781"/>
                    </a:lnTo>
                    <a:lnTo>
                      <a:pt x="1277" y="781"/>
                    </a:lnTo>
                    <a:lnTo>
                      <a:pt x="1233" y="781"/>
                    </a:lnTo>
                    <a:lnTo>
                      <a:pt x="1122" y="638"/>
                    </a:lnTo>
                    <a:lnTo>
                      <a:pt x="1048" y="647"/>
                    </a:lnTo>
                    <a:lnTo>
                      <a:pt x="975" y="638"/>
                    </a:lnTo>
                    <a:lnTo>
                      <a:pt x="960" y="656"/>
                    </a:lnTo>
                    <a:lnTo>
                      <a:pt x="930" y="683"/>
                    </a:lnTo>
                    <a:lnTo>
                      <a:pt x="930" y="674"/>
                    </a:lnTo>
                    <a:lnTo>
                      <a:pt x="908" y="719"/>
                    </a:lnTo>
                    <a:lnTo>
                      <a:pt x="842" y="781"/>
                    </a:lnTo>
                    <a:lnTo>
                      <a:pt x="798" y="746"/>
                    </a:lnTo>
                    <a:lnTo>
                      <a:pt x="761" y="737"/>
                    </a:lnTo>
                    <a:lnTo>
                      <a:pt x="708" y="737"/>
                    </a:lnTo>
                    <a:lnTo>
                      <a:pt x="678" y="719"/>
                    </a:lnTo>
                    <a:lnTo>
                      <a:pt x="649" y="737"/>
                    </a:lnTo>
                    <a:lnTo>
                      <a:pt x="619" y="638"/>
                    </a:lnTo>
                    <a:lnTo>
                      <a:pt x="568" y="547"/>
                    </a:lnTo>
                    <a:lnTo>
                      <a:pt x="494" y="449"/>
                    </a:lnTo>
                    <a:lnTo>
                      <a:pt x="464" y="386"/>
                    </a:lnTo>
                    <a:lnTo>
                      <a:pt x="428" y="323"/>
                    </a:lnTo>
                    <a:lnTo>
                      <a:pt x="332" y="323"/>
                    </a:lnTo>
                    <a:lnTo>
                      <a:pt x="265" y="350"/>
                    </a:lnTo>
                    <a:lnTo>
                      <a:pt x="214" y="314"/>
                    </a:lnTo>
                    <a:lnTo>
                      <a:pt x="132" y="287"/>
                    </a:lnTo>
                    <a:lnTo>
                      <a:pt x="88" y="260"/>
                    </a:lnTo>
                    <a:lnTo>
                      <a:pt x="88" y="134"/>
                    </a:lnTo>
                    <a:lnTo>
                      <a:pt x="95" y="8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972120" y="3867120"/>
                <a:ext cx="306720" cy="389160"/>
              </a:xfrm>
              <a:custGeom>
                <a:avLst/>
                <a:gdLst/>
                <a:ahLst/>
                <a:rect l="0" t="0" r="r" b="b"/>
                <a:pathLst>
                  <a:path w="852" h="1081">
                    <a:moveTo>
                      <a:pt x="0" y="36"/>
                    </a:moveTo>
                    <a:lnTo>
                      <a:pt x="86" y="0"/>
                    </a:lnTo>
                    <a:lnTo>
                      <a:pt x="187" y="36"/>
                    </a:lnTo>
                    <a:lnTo>
                      <a:pt x="201" y="90"/>
                    </a:lnTo>
                    <a:lnTo>
                      <a:pt x="201" y="127"/>
                    </a:lnTo>
                    <a:lnTo>
                      <a:pt x="238" y="136"/>
                    </a:lnTo>
                    <a:lnTo>
                      <a:pt x="238" y="154"/>
                    </a:lnTo>
                    <a:lnTo>
                      <a:pt x="259" y="163"/>
                    </a:lnTo>
                    <a:lnTo>
                      <a:pt x="259" y="199"/>
                    </a:lnTo>
                    <a:lnTo>
                      <a:pt x="346" y="299"/>
                    </a:lnTo>
                    <a:lnTo>
                      <a:pt x="367" y="299"/>
                    </a:lnTo>
                    <a:lnTo>
                      <a:pt x="389" y="335"/>
                    </a:lnTo>
                    <a:lnTo>
                      <a:pt x="411" y="372"/>
                    </a:lnTo>
                    <a:lnTo>
                      <a:pt x="425" y="372"/>
                    </a:lnTo>
                    <a:lnTo>
                      <a:pt x="491" y="417"/>
                    </a:lnTo>
                    <a:lnTo>
                      <a:pt x="628" y="426"/>
                    </a:lnTo>
                    <a:lnTo>
                      <a:pt x="642" y="563"/>
                    </a:lnTo>
                    <a:lnTo>
                      <a:pt x="657" y="591"/>
                    </a:lnTo>
                    <a:lnTo>
                      <a:pt x="650" y="645"/>
                    </a:lnTo>
                    <a:lnTo>
                      <a:pt x="729" y="700"/>
                    </a:lnTo>
                    <a:lnTo>
                      <a:pt x="808" y="727"/>
                    </a:lnTo>
                    <a:lnTo>
                      <a:pt x="808" y="945"/>
                    </a:lnTo>
                    <a:lnTo>
                      <a:pt x="852" y="1054"/>
                    </a:lnTo>
                    <a:lnTo>
                      <a:pt x="816" y="1072"/>
                    </a:lnTo>
                    <a:lnTo>
                      <a:pt x="779" y="1081"/>
                    </a:lnTo>
                    <a:lnTo>
                      <a:pt x="772" y="1017"/>
                    </a:lnTo>
                    <a:lnTo>
                      <a:pt x="678" y="1081"/>
                    </a:lnTo>
                    <a:lnTo>
                      <a:pt x="642" y="981"/>
                    </a:lnTo>
                    <a:lnTo>
                      <a:pt x="606" y="890"/>
                    </a:lnTo>
                    <a:lnTo>
                      <a:pt x="513" y="790"/>
                    </a:lnTo>
                    <a:lnTo>
                      <a:pt x="477" y="790"/>
                    </a:lnTo>
                    <a:lnTo>
                      <a:pt x="389" y="718"/>
                    </a:lnTo>
                    <a:lnTo>
                      <a:pt x="382" y="663"/>
                    </a:lnTo>
                    <a:lnTo>
                      <a:pt x="382" y="627"/>
                    </a:lnTo>
                    <a:lnTo>
                      <a:pt x="317" y="463"/>
                    </a:lnTo>
                    <a:lnTo>
                      <a:pt x="281" y="372"/>
                    </a:lnTo>
                    <a:lnTo>
                      <a:pt x="187" y="290"/>
                    </a:lnTo>
                    <a:lnTo>
                      <a:pt x="79" y="154"/>
                    </a:lnTo>
                    <a:lnTo>
                      <a:pt x="0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48480" y="3413160"/>
                <a:ext cx="298800" cy="441720"/>
              </a:xfrm>
              <a:custGeom>
                <a:avLst/>
                <a:gdLst/>
                <a:ahLst/>
                <a:rect l="0" t="0" r="r" b="b"/>
                <a:pathLst>
                  <a:path w="830" h="1227">
                    <a:moveTo>
                      <a:pt x="57" y="0"/>
                    </a:moveTo>
                    <a:lnTo>
                      <a:pt x="136" y="0"/>
                    </a:lnTo>
                    <a:lnTo>
                      <a:pt x="209" y="128"/>
                    </a:lnTo>
                    <a:lnTo>
                      <a:pt x="187" y="247"/>
                    </a:lnTo>
                    <a:lnTo>
                      <a:pt x="237" y="292"/>
                    </a:lnTo>
                    <a:lnTo>
                      <a:pt x="259" y="366"/>
                    </a:lnTo>
                    <a:lnTo>
                      <a:pt x="317" y="403"/>
                    </a:lnTo>
                    <a:lnTo>
                      <a:pt x="374" y="412"/>
                    </a:lnTo>
                    <a:lnTo>
                      <a:pt x="476" y="476"/>
                    </a:lnTo>
                    <a:lnTo>
                      <a:pt x="534" y="559"/>
                    </a:lnTo>
                    <a:lnTo>
                      <a:pt x="548" y="559"/>
                    </a:lnTo>
                    <a:lnTo>
                      <a:pt x="628" y="604"/>
                    </a:lnTo>
                    <a:lnTo>
                      <a:pt x="628" y="760"/>
                    </a:lnTo>
                    <a:lnTo>
                      <a:pt x="657" y="833"/>
                    </a:lnTo>
                    <a:lnTo>
                      <a:pt x="678" y="870"/>
                    </a:lnTo>
                    <a:lnTo>
                      <a:pt x="707" y="906"/>
                    </a:lnTo>
                    <a:lnTo>
                      <a:pt x="736" y="962"/>
                    </a:lnTo>
                    <a:lnTo>
                      <a:pt x="743" y="1017"/>
                    </a:lnTo>
                    <a:lnTo>
                      <a:pt x="830" y="1063"/>
                    </a:lnTo>
                    <a:lnTo>
                      <a:pt x="815" y="1127"/>
                    </a:lnTo>
                    <a:lnTo>
                      <a:pt x="743" y="1136"/>
                    </a:lnTo>
                    <a:lnTo>
                      <a:pt x="714" y="1099"/>
                    </a:lnTo>
                    <a:lnTo>
                      <a:pt x="678" y="1099"/>
                    </a:lnTo>
                    <a:lnTo>
                      <a:pt x="678" y="1227"/>
                    </a:lnTo>
                    <a:lnTo>
                      <a:pt x="635" y="1227"/>
                    </a:lnTo>
                    <a:lnTo>
                      <a:pt x="584" y="1163"/>
                    </a:lnTo>
                    <a:lnTo>
                      <a:pt x="556" y="1127"/>
                    </a:lnTo>
                    <a:lnTo>
                      <a:pt x="556" y="1063"/>
                    </a:lnTo>
                    <a:lnTo>
                      <a:pt x="498" y="1063"/>
                    </a:lnTo>
                    <a:lnTo>
                      <a:pt x="469" y="1127"/>
                    </a:lnTo>
                    <a:lnTo>
                      <a:pt x="447" y="1063"/>
                    </a:lnTo>
                    <a:lnTo>
                      <a:pt x="426" y="990"/>
                    </a:lnTo>
                    <a:lnTo>
                      <a:pt x="520" y="962"/>
                    </a:lnTo>
                    <a:lnTo>
                      <a:pt x="570" y="971"/>
                    </a:lnTo>
                    <a:lnTo>
                      <a:pt x="570" y="851"/>
                    </a:lnTo>
                    <a:lnTo>
                      <a:pt x="527" y="824"/>
                    </a:lnTo>
                    <a:lnTo>
                      <a:pt x="498" y="723"/>
                    </a:lnTo>
                    <a:lnTo>
                      <a:pt x="476" y="595"/>
                    </a:lnTo>
                    <a:lnTo>
                      <a:pt x="389" y="568"/>
                    </a:lnTo>
                    <a:lnTo>
                      <a:pt x="346" y="504"/>
                    </a:lnTo>
                    <a:lnTo>
                      <a:pt x="288" y="476"/>
                    </a:lnTo>
                    <a:lnTo>
                      <a:pt x="317" y="577"/>
                    </a:lnTo>
                    <a:lnTo>
                      <a:pt x="237" y="632"/>
                    </a:lnTo>
                    <a:lnTo>
                      <a:pt x="187" y="522"/>
                    </a:lnTo>
                    <a:lnTo>
                      <a:pt x="158" y="476"/>
                    </a:lnTo>
                    <a:lnTo>
                      <a:pt x="158" y="412"/>
                    </a:lnTo>
                    <a:lnTo>
                      <a:pt x="93" y="330"/>
                    </a:lnTo>
                    <a:lnTo>
                      <a:pt x="28" y="292"/>
                    </a:lnTo>
                    <a:lnTo>
                      <a:pt x="0" y="237"/>
                    </a:lnTo>
                    <a:lnTo>
                      <a:pt x="14" y="192"/>
                    </a:lnTo>
                    <a:lnTo>
                      <a:pt x="64" y="228"/>
                    </a:lnTo>
                    <a:lnTo>
                      <a:pt x="79" y="164"/>
                    </a:lnTo>
                    <a:lnTo>
                      <a:pt x="64" y="100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0440" y="2631960"/>
                <a:ext cx="206640" cy="362160"/>
              </a:xfrm>
              <a:custGeom>
                <a:avLst/>
                <a:gdLst/>
                <a:ahLst/>
                <a:rect l="0" t="0" r="r" b="b"/>
                <a:pathLst>
                  <a:path w="574" h="1006">
                    <a:moveTo>
                      <a:pt x="124" y="0"/>
                    </a:moveTo>
                    <a:lnTo>
                      <a:pt x="227" y="53"/>
                    </a:lnTo>
                    <a:lnTo>
                      <a:pt x="304" y="134"/>
                    </a:lnTo>
                    <a:lnTo>
                      <a:pt x="346" y="215"/>
                    </a:lnTo>
                    <a:lnTo>
                      <a:pt x="373" y="215"/>
                    </a:lnTo>
                    <a:lnTo>
                      <a:pt x="373" y="269"/>
                    </a:lnTo>
                    <a:lnTo>
                      <a:pt x="408" y="323"/>
                    </a:lnTo>
                    <a:lnTo>
                      <a:pt x="449" y="377"/>
                    </a:lnTo>
                    <a:lnTo>
                      <a:pt x="525" y="484"/>
                    </a:lnTo>
                    <a:lnTo>
                      <a:pt x="574" y="629"/>
                    </a:lnTo>
                    <a:lnTo>
                      <a:pt x="477" y="620"/>
                    </a:lnTo>
                    <a:lnTo>
                      <a:pt x="401" y="593"/>
                    </a:lnTo>
                    <a:lnTo>
                      <a:pt x="456" y="692"/>
                    </a:lnTo>
                    <a:lnTo>
                      <a:pt x="456" y="755"/>
                    </a:lnTo>
                    <a:lnTo>
                      <a:pt x="456" y="808"/>
                    </a:lnTo>
                    <a:lnTo>
                      <a:pt x="422" y="790"/>
                    </a:lnTo>
                    <a:lnTo>
                      <a:pt x="380" y="746"/>
                    </a:lnTo>
                    <a:lnTo>
                      <a:pt x="325" y="665"/>
                    </a:lnTo>
                    <a:lnTo>
                      <a:pt x="283" y="647"/>
                    </a:lnTo>
                    <a:lnTo>
                      <a:pt x="221" y="665"/>
                    </a:lnTo>
                    <a:lnTo>
                      <a:pt x="179" y="692"/>
                    </a:lnTo>
                    <a:lnTo>
                      <a:pt x="200" y="746"/>
                    </a:lnTo>
                    <a:lnTo>
                      <a:pt x="262" y="790"/>
                    </a:lnTo>
                    <a:lnTo>
                      <a:pt x="325" y="817"/>
                    </a:lnTo>
                    <a:lnTo>
                      <a:pt x="353" y="889"/>
                    </a:lnTo>
                    <a:lnTo>
                      <a:pt x="346" y="979"/>
                    </a:lnTo>
                    <a:lnTo>
                      <a:pt x="346" y="1006"/>
                    </a:lnTo>
                    <a:lnTo>
                      <a:pt x="325" y="1006"/>
                    </a:lnTo>
                    <a:lnTo>
                      <a:pt x="283" y="979"/>
                    </a:lnTo>
                    <a:lnTo>
                      <a:pt x="262" y="970"/>
                    </a:lnTo>
                    <a:lnTo>
                      <a:pt x="248" y="952"/>
                    </a:lnTo>
                    <a:lnTo>
                      <a:pt x="221" y="988"/>
                    </a:lnTo>
                    <a:lnTo>
                      <a:pt x="179" y="1006"/>
                    </a:lnTo>
                    <a:lnTo>
                      <a:pt x="158" y="970"/>
                    </a:lnTo>
                    <a:lnTo>
                      <a:pt x="158" y="880"/>
                    </a:lnTo>
                    <a:lnTo>
                      <a:pt x="151" y="826"/>
                    </a:lnTo>
                    <a:lnTo>
                      <a:pt x="110" y="790"/>
                    </a:lnTo>
                    <a:lnTo>
                      <a:pt x="62" y="853"/>
                    </a:lnTo>
                    <a:lnTo>
                      <a:pt x="6" y="853"/>
                    </a:lnTo>
                    <a:lnTo>
                      <a:pt x="0" y="808"/>
                    </a:lnTo>
                    <a:lnTo>
                      <a:pt x="6" y="701"/>
                    </a:lnTo>
                    <a:lnTo>
                      <a:pt x="55" y="656"/>
                    </a:lnTo>
                    <a:lnTo>
                      <a:pt x="48" y="502"/>
                    </a:lnTo>
                    <a:lnTo>
                      <a:pt x="48" y="457"/>
                    </a:lnTo>
                    <a:lnTo>
                      <a:pt x="82" y="439"/>
                    </a:lnTo>
                    <a:lnTo>
                      <a:pt x="131" y="484"/>
                    </a:lnTo>
                    <a:lnTo>
                      <a:pt x="200" y="521"/>
                    </a:lnTo>
                    <a:lnTo>
                      <a:pt x="200" y="430"/>
                    </a:lnTo>
                    <a:lnTo>
                      <a:pt x="158" y="403"/>
                    </a:lnTo>
                    <a:lnTo>
                      <a:pt x="158" y="377"/>
                    </a:lnTo>
                    <a:lnTo>
                      <a:pt x="172" y="377"/>
                    </a:lnTo>
                    <a:lnTo>
                      <a:pt x="186" y="377"/>
                    </a:lnTo>
                    <a:lnTo>
                      <a:pt x="200" y="377"/>
                    </a:lnTo>
                    <a:lnTo>
                      <a:pt x="221" y="377"/>
                    </a:lnTo>
                    <a:lnTo>
                      <a:pt x="248" y="341"/>
                    </a:lnTo>
                    <a:lnTo>
                      <a:pt x="234" y="323"/>
                    </a:lnTo>
                    <a:lnTo>
                      <a:pt x="207" y="242"/>
                    </a:lnTo>
                    <a:lnTo>
                      <a:pt x="158" y="179"/>
                    </a:lnTo>
                    <a:lnTo>
                      <a:pt x="110" y="143"/>
                    </a:lnTo>
                    <a:lnTo>
                      <a:pt x="75" y="98"/>
                    </a:lnTo>
                    <a:lnTo>
                      <a:pt x="1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13680" y="2160720"/>
                <a:ext cx="227520" cy="290880"/>
              </a:xfrm>
              <a:custGeom>
                <a:avLst/>
                <a:gdLst/>
                <a:ahLst/>
                <a:rect l="0" t="0" r="r" b="b"/>
                <a:pathLst>
                  <a:path w="632" h="808">
                    <a:moveTo>
                      <a:pt x="0" y="0"/>
                    </a:moveTo>
                    <a:lnTo>
                      <a:pt x="49" y="0"/>
                    </a:lnTo>
                    <a:lnTo>
                      <a:pt x="77" y="61"/>
                    </a:lnTo>
                    <a:lnTo>
                      <a:pt x="169" y="140"/>
                    </a:lnTo>
                    <a:lnTo>
                      <a:pt x="204" y="237"/>
                    </a:lnTo>
                    <a:lnTo>
                      <a:pt x="267" y="246"/>
                    </a:lnTo>
                    <a:lnTo>
                      <a:pt x="309" y="255"/>
                    </a:lnTo>
                    <a:lnTo>
                      <a:pt x="351" y="308"/>
                    </a:lnTo>
                    <a:lnTo>
                      <a:pt x="400" y="308"/>
                    </a:lnTo>
                    <a:lnTo>
                      <a:pt x="449" y="343"/>
                    </a:lnTo>
                    <a:lnTo>
                      <a:pt x="499" y="395"/>
                    </a:lnTo>
                    <a:lnTo>
                      <a:pt x="548" y="439"/>
                    </a:lnTo>
                    <a:lnTo>
                      <a:pt x="534" y="465"/>
                    </a:lnTo>
                    <a:lnTo>
                      <a:pt x="506" y="474"/>
                    </a:lnTo>
                    <a:lnTo>
                      <a:pt x="478" y="474"/>
                    </a:lnTo>
                    <a:lnTo>
                      <a:pt x="470" y="500"/>
                    </a:lnTo>
                    <a:lnTo>
                      <a:pt x="527" y="562"/>
                    </a:lnTo>
                    <a:lnTo>
                      <a:pt x="562" y="616"/>
                    </a:lnTo>
                    <a:lnTo>
                      <a:pt x="632" y="686"/>
                    </a:lnTo>
                    <a:lnTo>
                      <a:pt x="597" y="747"/>
                    </a:lnTo>
                    <a:lnTo>
                      <a:pt x="555" y="756"/>
                    </a:lnTo>
                    <a:lnTo>
                      <a:pt x="555" y="808"/>
                    </a:lnTo>
                    <a:lnTo>
                      <a:pt x="499" y="808"/>
                    </a:lnTo>
                    <a:lnTo>
                      <a:pt x="478" y="773"/>
                    </a:lnTo>
                    <a:lnTo>
                      <a:pt x="421" y="712"/>
                    </a:lnTo>
                    <a:lnTo>
                      <a:pt x="379" y="633"/>
                    </a:lnTo>
                    <a:lnTo>
                      <a:pt x="323" y="509"/>
                    </a:lnTo>
                    <a:lnTo>
                      <a:pt x="246" y="439"/>
                    </a:lnTo>
                    <a:lnTo>
                      <a:pt x="176" y="308"/>
                    </a:lnTo>
                    <a:lnTo>
                      <a:pt x="126" y="272"/>
                    </a:lnTo>
                    <a:lnTo>
                      <a:pt x="91" y="246"/>
                    </a:lnTo>
                    <a:lnTo>
                      <a:pt x="70" y="175"/>
                    </a:lnTo>
                    <a:lnTo>
                      <a:pt x="14" y="114"/>
                    </a:lnTo>
                    <a:lnTo>
                      <a:pt x="14" y="8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889440" y="2813040"/>
              <a:ext cx="1821240" cy="2411640"/>
            </a:xfrm>
            <a:custGeom>
              <a:avLst/>
              <a:gdLst/>
              <a:ahLst/>
              <a:rect l="0" t="0" r="r" b="b"/>
              <a:pathLst>
                <a:path w="5059" h="6699">
                  <a:moveTo>
                    <a:pt x="3795" y="794"/>
                  </a:moveTo>
                  <a:lnTo>
                    <a:pt x="3879" y="1081"/>
                  </a:lnTo>
                  <a:lnTo>
                    <a:pt x="4046" y="1511"/>
                  </a:lnTo>
                  <a:lnTo>
                    <a:pt x="4343" y="2200"/>
                  </a:lnTo>
                  <a:lnTo>
                    <a:pt x="4473" y="2277"/>
                  </a:lnTo>
                  <a:lnTo>
                    <a:pt x="4534" y="2487"/>
                  </a:lnTo>
                  <a:lnTo>
                    <a:pt x="4785" y="2478"/>
                  </a:lnTo>
                  <a:lnTo>
                    <a:pt x="4953" y="2411"/>
                  </a:lnTo>
                  <a:lnTo>
                    <a:pt x="5059" y="2411"/>
                  </a:lnTo>
                  <a:lnTo>
                    <a:pt x="5052" y="2669"/>
                  </a:lnTo>
                  <a:lnTo>
                    <a:pt x="5029" y="2822"/>
                  </a:lnTo>
                  <a:lnTo>
                    <a:pt x="4572" y="3417"/>
                  </a:lnTo>
                  <a:lnTo>
                    <a:pt x="4153" y="4039"/>
                  </a:lnTo>
                  <a:lnTo>
                    <a:pt x="4153" y="4287"/>
                  </a:lnTo>
                  <a:lnTo>
                    <a:pt x="4282" y="4460"/>
                  </a:lnTo>
                  <a:lnTo>
                    <a:pt x="4214" y="4584"/>
                  </a:lnTo>
                  <a:lnTo>
                    <a:pt x="4260" y="4775"/>
                  </a:lnTo>
                  <a:lnTo>
                    <a:pt x="4214" y="4909"/>
                  </a:lnTo>
                  <a:lnTo>
                    <a:pt x="4123" y="5015"/>
                  </a:lnTo>
                  <a:lnTo>
                    <a:pt x="4046" y="5015"/>
                  </a:lnTo>
                  <a:lnTo>
                    <a:pt x="3902" y="5216"/>
                  </a:lnTo>
                  <a:lnTo>
                    <a:pt x="3771" y="5455"/>
                  </a:lnTo>
                  <a:lnTo>
                    <a:pt x="3795" y="5694"/>
                  </a:lnTo>
                  <a:lnTo>
                    <a:pt x="3680" y="5809"/>
                  </a:lnTo>
                  <a:lnTo>
                    <a:pt x="3550" y="6067"/>
                  </a:lnTo>
                  <a:lnTo>
                    <a:pt x="3413" y="6316"/>
                  </a:lnTo>
                  <a:lnTo>
                    <a:pt x="3337" y="6393"/>
                  </a:lnTo>
                  <a:lnTo>
                    <a:pt x="3276" y="6421"/>
                  </a:lnTo>
                  <a:lnTo>
                    <a:pt x="3162" y="6584"/>
                  </a:lnTo>
                  <a:lnTo>
                    <a:pt x="2964" y="6670"/>
                  </a:lnTo>
                  <a:lnTo>
                    <a:pt x="2728" y="6699"/>
                  </a:lnTo>
                  <a:lnTo>
                    <a:pt x="2606" y="6584"/>
                  </a:lnTo>
                  <a:lnTo>
                    <a:pt x="2568" y="6488"/>
                  </a:lnTo>
                  <a:lnTo>
                    <a:pt x="2552" y="6345"/>
                  </a:lnTo>
                  <a:lnTo>
                    <a:pt x="2469" y="6278"/>
                  </a:lnTo>
                  <a:lnTo>
                    <a:pt x="2377" y="6029"/>
                  </a:lnTo>
                  <a:lnTo>
                    <a:pt x="2362" y="5895"/>
                  </a:lnTo>
                  <a:lnTo>
                    <a:pt x="2347" y="5732"/>
                  </a:lnTo>
                  <a:lnTo>
                    <a:pt x="2309" y="5627"/>
                  </a:lnTo>
                  <a:lnTo>
                    <a:pt x="2309" y="5560"/>
                  </a:lnTo>
                  <a:lnTo>
                    <a:pt x="2232" y="5445"/>
                  </a:lnTo>
                  <a:lnTo>
                    <a:pt x="2141" y="5350"/>
                  </a:lnTo>
                  <a:lnTo>
                    <a:pt x="2080" y="5187"/>
                  </a:lnTo>
                  <a:lnTo>
                    <a:pt x="2050" y="5082"/>
                  </a:lnTo>
                  <a:lnTo>
                    <a:pt x="2065" y="4890"/>
                  </a:lnTo>
                  <a:lnTo>
                    <a:pt x="2171" y="4622"/>
                  </a:lnTo>
                  <a:lnTo>
                    <a:pt x="2210" y="4307"/>
                  </a:lnTo>
                  <a:lnTo>
                    <a:pt x="2118" y="3972"/>
                  </a:lnTo>
                  <a:lnTo>
                    <a:pt x="1981" y="3838"/>
                  </a:lnTo>
                  <a:lnTo>
                    <a:pt x="1890" y="3637"/>
                  </a:lnTo>
                  <a:lnTo>
                    <a:pt x="1928" y="3350"/>
                  </a:lnTo>
                  <a:lnTo>
                    <a:pt x="1867" y="3148"/>
                  </a:lnTo>
                  <a:lnTo>
                    <a:pt x="1707" y="3119"/>
                  </a:lnTo>
                  <a:lnTo>
                    <a:pt x="1539" y="2947"/>
                  </a:lnTo>
                  <a:lnTo>
                    <a:pt x="1326" y="2870"/>
                  </a:lnTo>
                  <a:lnTo>
                    <a:pt x="1104" y="3004"/>
                  </a:lnTo>
                  <a:lnTo>
                    <a:pt x="548" y="2966"/>
                  </a:lnTo>
                  <a:lnTo>
                    <a:pt x="251" y="2602"/>
                  </a:lnTo>
                  <a:lnTo>
                    <a:pt x="0" y="2133"/>
                  </a:lnTo>
                  <a:lnTo>
                    <a:pt x="45" y="1961"/>
                  </a:lnTo>
                  <a:lnTo>
                    <a:pt x="159" y="1808"/>
                  </a:lnTo>
                  <a:lnTo>
                    <a:pt x="190" y="1483"/>
                  </a:lnTo>
                  <a:lnTo>
                    <a:pt x="281" y="1243"/>
                  </a:lnTo>
                  <a:lnTo>
                    <a:pt x="495" y="976"/>
                  </a:lnTo>
                  <a:lnTo>
                    <a:pt x="716" y="851"/>
                  </a:lnTo>
                  <a:lnTo>
                    <a:pt x="929" y="583"/>
                  </a:lnTo>
                  <a:lnTo>
                    <a:pt x="967" y="468"/>
                  </a:lnTo>
                  <a:lnTo>
                    <a:pt x="1241" y="172"/>
                  </a:lnTo>
                  <a:lnTo>
                    <a:pt x="1417" y="296"/>
                  </a:lnTo>
                  <a:lnTo>
                    <a:pt x="1539" y="296"/>
                  </a:lnTo>
                  <a:lnTo>
                    <a:pt x="1699" y="124"/>
                  </a:lnTo>
                  <a:lnTo>
                    <a:pt x="1867" y="105"/>
                  </a:lnTo>
                  <a:lnTo>
                    <a:pt x="1981" y="143"/>
                  </a:lnTo>
                  <a:lnTo>
                    <a:pt x="2088" y="19"/>
                  </a:lnTo>
                  <a:lnTo>
                    <a:pt x="2240" y="0"/>
                  </a:lnTo>
                  <a:lnTo>
                    <a:pt x="2278" y="210"/>
                  </a:lnTo>
                  <a:lnTo>
                    <a:pt x="2362" y="382"/>
                  </a:lnTo>
                  <a:lnTo>
                    <a:pt x="2636" y="555"/>
                  </a:lnTo>
                  <a:lnTo>
                    <a:pt x="2842" y="593"/>
                  </a:lnTo>
                  <a:lnTo>
                    <a:pt x="2857" y="411"/>
                  </a:lnTo>
                  <a:lnTo>
                    <a:pt x="3025" y="411"/>
                  </a:lnTo>
                  <a:lnTo>
                    <a:pt x="3223" y="516"/>
                  </a:lnTo>
                  <a:lnTo>
                    <a:pt x="3436" y="583"/>
                  </a:lnTo>
                  <a:lnTo>
                    <a:pt x="3626" y="516"/>
                  </a:lnTo>
                  <a:lnTo>
                    <a:pt x="3795" y="794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016520" y="1503360"/>
              <a:ext cx="794160" cy="800640"/>
              <a:chOff x="4016520" y="1503360"/>
              <a:chExt cx="794160" cy="8006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4340160" y="2021040"/>
                <a:ext cx="227160" cy="282960"/>
                <a:chOff x="4340160" y="2021040"/>
                <a:chExt cx="227160" cy="282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40160" y="2136600"/>
                  <a:ext cx="95760" cy="146520"/>
                </a:xfrm>
                <a:custGeom>
                  <a:avLst/>
                  <a:gdLst/>
                  <a:ahLst/>
                  <a:rect l="0" t="0" r="r" b="b"/>
                  <a:pathLst>
                    <a:path w="266" h="407">
                      <a:moveTo>
                        <a:pt x="61" y="138"/>
                      </a:moveTo>
                      <a:lnTo>
                        <a:pt x="87" y="89"/>
                      </a:lnTo>
                      <a:lnTo>
                        <a:pt x="136" y="89"/>
                      </a:lnTo>
                      <a:lnTo>
                        <a:pt x="197" y="0"/>
                      </a:lnTo>
                      <a:lnTo>
                        <a:pt x="223" y="56"/>
                      </a:lnTo>
                      <a:lnTo>
                        <a:pt x="248" y="56"/>
                      </a:lnTo>
                      <a:lnTo>
                        <a:pt x="266" y="89"/>
                      </a:lnTo>
                      <a:lnTo>
                        <a:pt x="248" y="138"/>
                      </a:lnTo>
                      <a:lnTo>
                        <a:pt x="223" y="138"/>
                      </a:lnTo>
                      <a:lnTo>
                        <a:pt x="223" y="187"/>
                      </a:lnTo>
                      <a:lnTo>
                        <a:pt x="223" y="195"/>
                      </a:lnTo>
                      <a:lnTo>
                        <a:pt x="205" y="228"/>
                      </a:lnTo>
                      <a:lnTo>
                        <a:pt x="223" y="260"/>
                      </a:lnTo>
                      <a:lnTo>
                        <a:pt x="197" y="293"/>
                      </a:lnTo>
                      <a:lnTo>
                        <a:pt x="173" y="318"/>
                      </a:lnTo>
                      <a:lnTo>
                        <a:pt x="154" y="318"/>
                      </a:lnTo>
                      <a:lnTo>
                        <a:pt x="148" y="318"/>
                      </a:lnTo>
                      <a:lnTo>
                        <a:pt x="148" y="350"/>
                      </a:lnTo>
                      <a:lnTo>
                        <a:pt x="111" y="367"/>
                      </a:lnTo>
                      <a:lnTo>
                        <a:pt x="111" y="350"/>
                      </a:lnTo>
                      <a:lnTo>
                        <a:pt x="74" y="375"/>
                      </a:lnTo>
                      <a:lnTo>
                        <a:pt x="61" y="375"/>
                      </a:lnTo>
                      <a:lnTo>
                        <a:pt x="36" y="407"/>
                      </a:lnTo>
                      <a:lnTo>
                        <a:pt x="24" y="407"/>
                      </a:lnTo>
                      <a:lnTo>
                        <a:pt x="18" y="383"/>
                      </a:lnTo>
                      <a:lnTo>
                        <a:pt x="6" y="350"/>
                      </a:lnTo>
                      <a:lnTo>
                        <a:pt x="0" y="342"/>
                      </a:lnTo>
                      <a:lnTo>
                        <a:pt x="0" y="310"/>
                      </a:lnTo>
                      <a:lnTo>
                        <a:pt x="24" y="284"/>
                      </a:lnTo>
                      <a:lnTo>
                        <a:pt x="43" y="276"/>
                      </a:lnTo>
                      <a:lnTo>
                        <a:pt x="49" y="228"/>
                      </a:lnTo>
                      <a:lnTo>
                        <a:pt x="74" y="228"/>
                      </a:lnTo>
                      <a:lnTo>
                        <a:pt x="93" y="260"/>
                      </a:lnTo>
                      <a:lnTo>
                        <a:pt x="111" y="228"/>
                      </a:lnTo>
                      <a:lnTo>
                        <a:pt x="93" y="228"/>
                      </a:lnTo>
                      <a:lnTo>
                        <a:pt x="61" y="13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449600" y="2021040"/>
                  <a:ext cx="117720" cy="282960"/>
                </a:xfrm>
                <a:custGeom>
                  <a:avLst/>
                  <a:gdLst/>
                  <a:ahLst/>
                  <a:rect l="0" t="0" r="r" b="b"/>
                  <a:pathLst>
                    <a:path w="327" h="786">
                      <a:moveTo>
                        <a:pt x="95" y="113"/>
                      </a:moveTo>
                      <a:lnTo>
                        <a:pt x="134" y="87"/>
                      </a:lnTo>
                      <a:lnTo>
                        <a:pt x="180" y="95"/>
                      </a:lnTo>
                      <a:lnTo>
                        <a:pt x="199" y="69"/>
                      </a:lnTo>
                      <a:lnTo>
                        <a:pt x="212" y="52"/>
                      </a:lnTo>
                      <a:lnTo>
                        <a:pt x="224" y="52"/>
                      </a:lnTo>
                      <a:lnTo>
                        <a:pt x="244" y="34"/>
                      </a:lnTo>
                      <a:lnTo>
                        <a:pt x="256" y="26"/>
                      </a:lnTo>
                      <a:lnTo>
                        <a:pt x="295" y="0"/>
                      </a:lnTo>
                      <a:lnTo>
                        <a:pt x="327" y="17"/>
                      </a:lnTo>
                      <a:lnTo>
                        <a:pt x="320" y="52"/>
                      </a:lnTo>
                      <a:lnTo>
                        <a:pt x="314" y="69"/>
                      </a:lnTo>
                      <a:lnTo>
                        <a:pt x="295" y="87"/>
                      </a:lnTo>
                      <a:lnTo>
                        <a:pt x="276" y="95"/>
                      </a:lnTo>
                      <a:lnTo>
                        <a:pt x="231" y="113"/>
                      </a:lnTo>
                      <a:lnTo>
                        <a:pt x="231" y="156"/>
                      </a:lnTo>
                      <a:lnTo>
                        <a:pt x="244" y="183"/>
                      </a:lnTo>
                      <a:lnTo>
                        <a:pt x="282" y="156"/>
                      </a:lnTo>
                      <a:lnTo>
                        <a:pt x="320" y="122"/>
                      </a:lnTo>
                      <a:lnTo>
                        <a:pt x="327" y="156"/>
                      </a:lnTo>
                      <a:lnTo>
                        <a:pt x="327" y="210"/>
                      </a:lnTo>
                      <a:lnTo>
                        <a:pt x="295" y="219"/>
                      </a:lnTo>
                      <a:lnTo>
                        <a:pt x="276" y="219"/>
                      </a:lnTo>
                      <a:lnTo>
                        <a:pt x="250" y="253"/>
                      </a:lnTo>
                      <a:lnTo>
                        <a:pt x="244" y="271"/>
                      </a:lnTo>
                      <a:lnTo>
                        <a:pt x="244" y="288"/>
                      </a:lnTo>
                      <a:lnTo>
                        <a:pt x="256" y="332"/>
                      </a:lnTo>
                      <a:lnTo>
                        <a:pt x="282" y="367"/>
                      </a:lnTo>
                      <a:lnTo>
                        <a:pt x="295" y="402"/>
                      </a:lnTo>
                      <a:lnTo>
                        <a:pt x="314" y="437"/>
                      </a:lnTo>
                      <a:lnTo>
                        <a:pt x="314" y="463"/>
                      </a:lnTo>
                      <a:lnTo>
                        <a:pt x="327" y="506"/>
                      </a:lnTo>
                      <a:lnTo>
                        <a:pt x="327" y="585"/>
                      </a:lnTo>
                      <a:lnTo>
                        <a:pt x="314" y="621"/>
                      </a:lnTo>
                      <a:lnTo>
                        <a:pt x="282" y="656"/>
                      </a:lnTo>
                      <a:lnTo>
                        <a:pt x="276" y="664"/>
                      </a:lnTo>
                      <a:lnTo>
                        <a:pt x="295" y="690"/>
                      </a:lnTo>
                      <a:lnTo>
                        <a:pt x="314" y="743"/>
                      </a:lnTo>
                      <a:lnTo>
                        <a:pt x="256" y="743"/>
                      </a:lnTo>
                      <a:lnTo>
                        <a:pt x="224" y="743"/>
                      </a:lnTo>
                      <a:lnTo>
                        <a:pt x="212" y="725"/>
                      </a:lnTo>
                      <a:lnTo>
                        <a:pt x="180" y="725"/>
                      </a:lnTo>
                      <a:lnTo>
                        <a:pt x="153" y="743"/>
                      </a:lnTo>
                      <a:lnTo>
                        <a:pt x="134" y="752"/>
                      </a:lnTo>
                      <a:lnTo>
                        <a:pt x="95" y="752"/>
                      </a:lnTo>
                      <a:lnTo>
                        <a:pt x="83" y="778"/>
                      </a:lnTo>
                      <a:lnTo>
                        <a:pt x="51" y="786"/>
                      </a:lnTo>
                      <a:lnTo>
                        <a:pt x="44" y="786"/>
                      </a:lnTo>
                      <a:lnTo>
                        <a:pt x="38" y="752"/>
                      </a:lnTo>
                      <a:lnTo>
                        <a:pt x="19" y="743"/>
                      </a:lnTo>
                      <a:lnTo>
                        <a:pt x="0" y="743"/>
                      </a:lnTo>
                      <a:lnTo>
                        <a:pt x="0" y="690"/>
                      </a:lnTo>
                      <a:lnTo>
                        <a:pt x="19" y="656"/>
                      </a:lnTo>
                      <a:lnTo>
                        <a:pt x="38" y="656"/>
                      </a:lnTo>
                      <a:lnTo>
                        <a:pt x="51" y="656"/>
                      </a:lnTo>
                      <a:lnTo>
                        <a:pt x="83" y="656"/>
                      </a:lnTo>
                      <a:lnTo>
                        <a:pt x="83" y="629"/>
                      </a:lnTo>
                      <a:lnTo>
                        <a:pt x="51" y="621"/>
                      </a:lnTo>
                      <a:lnTo>
                        <a:pt x="51" y="595"/>
                      </a:lnTo>
                      <a:lnTo>
                        <a:pt x="51" y="567"/>
                      </a:lnTo>
                      <a:lnTo>
                        <a:pt x="83" y="567"/>
                      </a:lnTo>
                      <a:lnTo>
                        <a:pt x="89" y="533"/>
                      </a:lnTo>
                      <a:lnTo>
                        <a:pt x="108" y="533"/>
                      </a:lnTo>
                      <a:lnTo>
                        <a:pt x="134" y="533"/>
                      </a:lnTo>
                      <a:lnTo>
                        <a:pt x="153" y="524"/>
                      </a:lnTo>
                      <a:lnTo>
                        <a:pt x="153" y="437"/>
                      </a:lnTo>
                      <a:lnTo>
                        <a:pt x="167" y="402"/>
                      </a:lnTo>
                      <a:lnTo>
                        <a:pt x="167" y="367"/>
                      </a:lnTo>
                      <a:lnTo>
                        <a:pt x="134" y="349"/>
                      </a:lnTo>
                      <a:lnTo>
                        <a:pt x="140" y="306"/>
                      </a:lnTo>
                      <a:lnTo>
                        <a:pt x="95" y="280"/>
                      </a:lnTo>
                      <a:lnTo>
                        <a:pt x="70" y="280"/>
                      </a:lnTo>
                      <a:lnTo>
                        <a:pt x="108" y="219"/>
                      </a:lnTo>
                      <a:lnTo>
                        <a:pt x="95" y="1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016520" y="1503360"/>
                <a:ext cx="794160" cy="495720"/>
              </a:xfrm>
              <a:custGeom>
                <a:avLst/>
                <a:gdLst/>
                <a:ahLst/>
                <a:rect l="0" t="0" r="r" b="b"/>
                <a:pathLst>
                  <a:path w="2206" h="1377">
                    <a:moveTo>
                      <a:pt x="0" y="1377"/>
                    </a:moveTo>
                    <a:lnTo>
                      <a:pt x="142" y="1331"/>
                    </a:lnTo>
                    <a:lnTo>
                      <a:pt x="172" y="1295"/>
                    </a:lnTo>
                    <a:lnTo>
                      <a:pt x="217" y="1231"/>
                    </a:lnTo>
                    <a:lnTo>
                      <a:pt x="224" y="1212"/>
                    </a:lnTo>
                    <a:lnTo>
                      <a:pt x="269" y="1212"/>
                    </a:lnTo>
                    <a:lnTo>
                      <a:pt x="299" y="1185"/>
                    </a:lnTo>
                    <a:lnTo>
                      <a:pt x="329" y="1185"/>
                    </a:lnTo>
                    <a:lnTo>
                      <a:pt x="359" y="1185"/>
                    </a:lnTo>
                    <a:lnTo>
                      <a:pt x="382" y="1185"/>
                    </a:lnTo>
                    <a:lnTo>
                      <a:pt x="404" y="1185"/>
                    </a:lnTo>
                    <a:lnTo>
                      <a:pt x="442" y="1148"/>
                    </a:lnTo>
                    <a:lnTo>
                      <a:pt x="464" y="1121"/>
                    </a:lnTo>
                    <a:lnTo>
                      <a:pt x="494" y="1084"/>
                    </a:lnTo>
                    <a:lnTo>
                      <a:pt x="524" y="1084"/>
                    </a:lnTo>
                    <a:lnTo>
                      <a:pt x="555" y="1047"/>
                    </a:lnTo>
                    <a:lnTo>
                      <a:pt x="593" y="1028"/>
                    </a:lnTo>
                    <a:lnTo>
                      <a:pt x="608" y="1028"/>
                    </a:lnTo>
                    <a:lnTo>
                      <a:pt x="653" y="1000"/>
                    </a:lnTo>
                    <a:lnTo>
                      <a:pt x="683" y="982"/>
                    </a:lnTo>
                    <a:lnTo>
                      <a:pt x="713" y="954"/>
                    </a:lnTo>
                    <a:lnTo>
                      <a:pt x="758" y="964"/>
                    </a:lnTo>
                    <a:lnTo>
                      <a:pt x="818" y="982"/>
                    </a:lnTo>
                    <a:lnTo>
                      <a:pt x="893" y="982"/>
                    </a:lnTo>
                    <a:lnTo>
                      <a:pt x="960" y="954"/>
                    </a:lnTo>
                    <a:lnTo>
                      <a:pt x="1005" y="936"/>
                    </a:lnTo>
                    <a:lnTo>
                      <a:pt x="1028" y="890"/>
                    </a:lnTo>
                    <a:lnTo>
                      <a:pt x="1050" y="854"/>
                    </a:lnTo>
                    <a:lnTo>
                      <a:pt x="1110" y="789"/>
                    </a:lnTo>
                    <a:lnTo>
                      <a:pt x="1140" y="771"/>
                    </a:lnTo>
                    <a:lnTo>
                      <a:pt x="1140" y="725"/>
                    </a:lnTo>
                    <a:lnTo>
                      <a:pt x="1170" y="698"/>
                    </a:lnTo>
                    <a:lnTo>
                      <a:pt x="1200" y="670"/>
                    </a:lnTo>
                    <a:lnTo>
                      <a:pt x="1215" y="652"/>
                    </a:lnTo>
                    <a:lnTo>
                      <a:pt x="1230" y="633"/>
                    </a:lnTo>
                    <a:lnTo>
                      <a:pt x="1328" y="569"/>
                    </a:lnTo>
                    <a:lnTo>
                      <a:pt x="1328" y="633"/>
                    </a:lnTo>
                    <a:lnTo>
                      <a:pt x="1298" y="661"/>
                    </a:lnTo>
                    <a:lnTo>
                      <a:pt x="1328" y="688"/>
                    </a:lnTo>
                    <a:lnTo>
                      <a:pt x="1365" y="698"/>
                    </a:lnTo>
                    <a:lnTo>
                      <a:pt x="1403" y="698"/>
                    </a:lnTo>
                    <a:lnTo>
                      <a:pt x="1433" y="670"/>
                    </a:lnTo>
                    <a:lnTo>
                      <a:pt x="1463" y="633"/>
                    </a:lnTo>
                    <a:lnTo>
                      <a:pt x="1463" y="597"/>
                    </a:lnTo>
                    <a:lnTo>
                      <a:pt x="1493" y="569"/>
                    </a:lnTo>
                    <a:lnTo>
                      <a:pt x="1493" y="532"/>
                    </a:lnTo>
                    <a:lnTo>
                      <a:pt x="1515" y="505"/>
                    </a:lnTo>
                    <a:lnTo>
                      <a:pt x="1538" y="487"/>
                    </a:lnTo>
                    <a:lnTo>
                      <a:pt x="1568" y="487"/>
                    </a:lnTo>
                    <a:lnTo>
                      <a:pt x="1635" y="487"/>
                    </a:lnTo>
                    <a:lnTo>
                      <a:pt x="1711" y="441"/>
                    </a:lnTo>
                    <a:lnTo>
                      <a:pt x="1771" y="386"/>
                    </a:lnTo>
                    <a:lnTo>
                      <a:pt x="1831" y="358"/>
                    </a:lnTo>
                    <a:lnTo>
                      <a:pt x="1906" y="321"/>
                    </a:lnTo>
                    <a:lnTo>
                      <a:pt x="1936" y="238"/>
                    </a:lnTo>
                    <a:lnTo>
                      <a:pt x="2034" y="137"/>
                    </a:lnTo>
                    <a:lnTo>
                      <a:pt x="2094" y="100"/>
                    </a:lnTo>
                    <a:lnTo>
                      <a:pt x="2131" y="64"/>
                    </a:lnTo>
                    <a:lnTo>
                      <a:pt x="2206" y="9"/>
                    </a:lnTo>
                    <a:lnTo>
                      <a:pt x="2101" y="0"/>
                    </a:lnTo>
                    <a:lnTo>
                      <a:pt x="1996" y="0"/>
                    </a:lnTo>
                    <a:lnTo>
                      <a:pt x="1914" y="27"/>
                    </a:lnTo>
                    <a:lnTo>
                      <a:pt x="1861" y="64"/>
                    </a:lnTo>
                    <a:lnTo>
                      <a:pt x="1771" y="91"/>
                    </a:lnTo>
                    <a:lnTo>
                      <a:pt x="1689" y="91"/>
                    </a:lnTo>
                    <a:lnTo>
                      <a:pt x="1628" y="119"/>
                    </a:lnTo>
                    <a:lnTo>
                      <a:pt x="1538" y="155"/>
                    </a:lnTo>
                    <a:lnTo>
                      <a:pt x="1463" y="174"/>
                    </a:lnTo>
                    <a:lnTo>
                      <a:pt x="1403" y="229"/>
                    </a:lnTo>
                    <a:lnTo>
                      <a:pt x="1328" y="256"/>
                    </a:lnTo>
                    <a:lnTo>
                      <a:pt x="1230" y="265"/>
                    </a:lnTo>
                    <a:lnTo>
                      <a:pt x="1163" y="321"/>
                    </a:lnTo>
                    <a:lnTo>
                      <a:pt x="1095" y="358"/>
                    </a:lnTo>
                    <a:lnTo>
                      <a:pt x="1050" y="422"/>
                    </a:lnTo>
                    <a:lnTo>
                      <a:pt x="1005" y="459"/>
                    </a:lnTo>
                    <a:lnTo>
                      <a:pt x="960" y="487"/>
                    </a:lnTo>
                    <a:lnTo>
                      <a:pt x="870" y="532"/>
                    </a:lnTo>
                    <a:lnTo>
                      <a:pt x="788" y="597"/>
                    </a:lnTo>
                    <a:lnTo>
                      <a:pt x="683" y="670"/>
                    </a:lnTo>
                    <a:lnTo>
                      <a:pt x="593" y="762"/>
                    </a:lnTo>
                    <a:lnTo>
                      <a:pt x="517" y="826"/>
                    </a:lnTo>
                    <a:lnTo>
                      <a:pt x="457" y="881"/>
                    </a:lnTo>
                    <a:lnTo>
                      <a:pt x="382" y="954"/>
                    </a:lnTo>
                    <a:lnTo>
                      <a:pt x="329" y="1019"/>
                    </a:lnTo>
                    <a:lnTo>
                      <a:pt x="269" y="1084"/>
                    </a:lnTo>
                    <a:lnTo>
                      <a:pt x="194" y="1121"/>
                    </a:lnTo>
                    <a:lnTo>
                      <a:pt x="142" y="1157"/>
                    </a:lnTo>
                    <a:lnTo>
                      <a:pt x="0" y="13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462640" y="4475160"/>
              <a:ext cx="221040" cy="493920"/>
            </a:xfrm>
            <a:custGeom>
              <a:avLst/>
              <a:gdLst/>
              <a:ahLst/>
              <a:rect l="0" t="0" r="r" b="b"/>
              <a:pathLst>
                <a:path w="614" h="1372">
                  <a:moveTo>
                    <a:pt x="119" y="429"/>
                  </a:moveTo>
                  <a:lnTo>
                    <a:pt x="105" y="714"/>
                  </a:lnTo>
                  <a:lnTo>
                    <a:pt x="49" y="878"/>
                  </a:lnTo>
                  <a:lnTo>
                    <a:pt x="0" y="1043"/>
                  </a:lnTo>
                  <a:lnTo>
                    <a:pt x="0" y="1152"/>
                  </a:lnTo>
                  <a:lnTo>
                    <a:pt x="21" y="1244"/>
                  </a:lnTo>
                  <a:lnTo>
                    <a:pt x="77" y="1335"/>
                  </a:lnTo>
                  <a:lnTo>
                    <a:pt x="119" y="1344"/>
                  </a:lnTo>
                  <a:lnTo>
                    <a:pt x="155" y="1344"/>
                  </a:lnTo>
                  <a:lnTo>
                    <a:pt x="198" y="1372"/>
                  </a:lnTo>
                  <a:lnTo>
                    <a:pt x="233" y="1299"/>
                  </a:lnTo>
                  <a:lnTo>
                    <a:pt x="254" y="1107"/>
                  </a:lnTo>
                  <a:lnTo>
                    <a:pt x="325" y="1006"/>
                  </a:lnTo>
                  <a:lnTo>
                    <a:pt x="332" y="814"/>
                  </a:lnTo>
                  <a:lnTo>
                    <a:pt x="360" y="750"/>
                  </a:lnTo>
                  <a:lnTo>
                    <a:pt x="402" y="685"/>
                  </a:lnTo>
                  <a:lnTo>
                    <a:pt x="423" y="557"/>
                  </a:lnTo>
                  <a:lnTo>
                    <a:pt x="474" y="493"/>
                  </a:lnTo>
                  <a:lnTo>
                    <a:pt x="488" y="420"/>
                  </a:lnTo>
                  <a:lnTo>
                    <a:pt x="530" y="383"/>
                  </a:lnTo>
                  <a:lnTo>
                    <a:pt x="530" y="356"/>
                  </a:lnTo>
                  <a:lnTo>
                    <a:pt x="600" y="283"/>
                  </a:lnTo>
                  <a:lnTo>
                    <a:pt x="607" y="164"/>
                  </a:lnTo>
                  <a:lnTo>
                    <a:pt x="614" y="100"/>
                  </a:lnTo>
                  <a:lnTo>
                    <a:pt x="551" y="82"/>
                  </a:lnTo>
                  <a:lnTo>
                    <a:pt x="523" y="0"/>
                  </a:lnTo>
                  <a:lnTo>
                    <a:pt x="474" y="82"/>
                  </a:lnTo>
                  <a:lnTo>
                    <a:pt x="423" y="182"/>
                  </a:lnTo>
                  <a:lnTo>
                    <a:pt x="360" y="265"/>
                  </a:lnTo>
                  <a:lnTo>
                    <a:pt x="325" y="347"/>
                  </a:lnTo>
                  <a:lnTo>
                    <a:pt x="296" y="347"/>
                  </a:lnTo>
                  <a:lnTo>
                    <a:pt x="254" y="383"/>
                  </a:lnTo>
                  <a:lnTo>
                    <a:pt x="233" y="420"/>
                  </a:lnTo>
                  <a:lnTo>
                    <a:pt x="119" y="429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0840" y="1550880"/>
              <a:ext cx="3289680" cy="2402280"/>
            </a:xfrm>
            <a:custGeom>
              <a:avLst/>
              <a:gdLst/>
              <a:ahLst/>
              <a:rect l="0" t="0" r="r" b="b"/>
              <a:pathLst>
                <a:path w="9138" h="6673">
                  <a:moveTo>
                    <a:pt x="0" y="2987"/>
                  </a:moveTo>
                  <a:lnTo>
                    <a:pt x="99" y="2901"/>
                  </a:lnTo>
                  <a:lnTo>
                    <a:pt x="137" y="2834"/>
                  </a:lnTo>
                  <a:lnTo>
                    <a:pt x="260" y="2834"/>
                  </a:lnTo>
                  <a:lnTo>
                    <a:pt x="359" y="2843"/>
                  </a:lnTo>
                  <a:lnTo>
                    <a:pt x="459" y="2796"/>
                  </a:lnTo>
                  <a:lnTo>
                    <a:pt x="536" y="2776"/>
                  </a:lnTo>
                  <a:lnTo>
                    <a:pt x="543" y="2662"/>
                  </a:lnTo>
                  <a:lnTo>
                    <a:pt x="605" y="2595"/>
                  </a:lnTo>
                  <a:lnTo>
                    <a:pt x="482" y="2489"/>
                  </a:lnTo>
                  <a:lnTo>
                    <a:pt x="459" y="2422"/>
                  </a:lnTo>
                  <a:lnTo>
                    <a:pt x="467" y="2317"/>
                  </a:lnTo>
                  <a:lnTo>
                    <a:pt x="551" y="2317"/>
                  </a:lnTo>
                  <a:lnTo>
                    <a:pt x="620" y="2298"/>
                  </a:lnTo>
                  <a:lnTo>
                    <a:pt x="628" y="2317"/>
                  </a:lnTo>
                  <a:lnTo>
                    <a:pt x="689" y="2250"/>
                  </a:lnTo>
                  <a:lnTo>
                    <a:pt x="765" y="2221"/>
                  </a:lnTo>
                  <a:lnTo>
                    <a:pt x="788" y="2221"/>
                  </a:lnTo>
                  <a:lnTo>
                    <a:pt x="827" y="2154"/>
                  </a:lnTo>
                  <a:lnTo>
                    <a:pt x="873" y="2145"/>
                  </a:lnTo>
                  <a:lnTo>
                    <a:pt x="911" y="2020"/>
                  </a:lnTo>
                  <a:lnTo>
                    <a:pt x="965" y="2049"/>
                  </a:lnTo>
                  <a:lnTo>
                    <a:pt x="1033" y="1982"/>
                  </a:lnTo>
                  <a:lnTo>
                    <a:pt x="1110" y="1915"/>
                  </a:lnTo>
                  <a:lnTo>
                    <a:pt x="1179" y="1877"/>
                  </a:lnTo>
                  <a:lnTo>
                    <a:pt x="1240" y="1877"/>
                  </a:lnTo>
                  <a:lnTo>
                    <a:pt x="1279" y="1877"/>
                  </a:lnTo>
                  <a:lnTo>
                    <a:pt x="1248" y="1771"/>
                  </a:lnTo>
                  <a:lnTo>
                    <a:pt x="1233" y="1704"/>
                  </a:lnTo>
                  <a:lnTo>
                    <a:pt x="1210" y="1521"/>
                  </a:lnTo>
                  <a:lnTo>
                    <a:pt x="1317" y="1502"/>
                  </a:lnTo>
                  <a:lnTo>
                    <a:pt x="1370" y="1493"/>
                  </a:lnTo>
                  <a:lnTo>
                    <a:pt x="1347" y="1560"/>
                  </a:lnTo>
                  <a:lnTo>
                    <a:pt x="1386" y="1598"/>
                  </a:lnTo>
                  <a:lnTo>
                    <a:pt x="1416" y="1676"/>
                  </a:lnTo>
                  <a:lnTo>
                    <a:pt x="1439" y="1714"/>
                  </a:lnTo>
                  <a:lnTo>
                    <a:pt x="1554" y="1704"/>
                  </a:lnTo>
                  <a:lnTo>
                    <a:pt x="1677" y="1541"/>
                  </a:lnTo>
                  <a:lnTo>
                    <a:pt x="1746" y="1483"/>
                  </a:lnTo>
                  <a:lnTo>
                    <a:pt x="1784" y="1416"/>
                  </a:lnTo>
                  <a:lnTo>
                    <a:pt x="1822" y="1359"/>
                  </a:lnTo>
                  <a:lnTo>
                    <a:pt x="1884" y="1263"/>
                  </a:lnTo>
                  <a:lnTo>
                    <a:pt x="1922" y="1311"/>
                  </a:lnTo>
                  <a:lnTo>
                    <a:pt x="1922" y="1253"/>
                  </a:lnTo>
                  <a:lnTo>
                    <a:pt x="1952" y="1244"/>
                  </a:lnTo>
                  <a:lnTo>
                    <a:pt x="2014" y="1244"/>
                  </a:lnTo>
                  <a:lnTo>
                    <a:pt x="2144" y="1368"/>
                  </a:lnTo>
                  <a:lnTo>
                    <a:pt x="2121" y="1005"/>
                  </a:lnTo>
                  <a:lnTo>
                    <a:pt x="2014" y="1158"/>
                  </a:lnTo>
                  <a:lnTo>
                    <a:pt x="1930" y="1158"/>
                  </a:lnTo>
                  <a:lnTo>
                    <a:pt x="1907" y="1072"/>
                  </a:lnTo>
                  <a:lnTo>
                    <a:pt x="1907" y="1005"/>
                  </a:lnTo>
                  <a:lnTo>
                    <a:pt x="1884" y="966"/>
                  </a:lnTo>
                  <a:lnTo>
                    <a:pt x="1952" y="899"/>
                  </a:lnTo>
                  <a:lnTo>
                    <a:pt x="1983" y="832"/>
                  </a:lnTo>
                  <a:lnTo>
                    <a:pt x="2037" y="813"/>
                  </a:lnTo>
                  <a:lnTo>
                    <a:pt x="2067" y="804"/>
                  </a:lnTo>
                  <a:lnTo>
                    <a:pt x="2090" y="737"/>
                  </a:lnTo>
                  <a:lnTo>
                    <a:pt x="2121" y="737"/>
                  </a:lnTo>
                  <a:lnTo>
                    <a:pt x="2159" y="737"/>
                  </a:lnTo>
                  <a:lnTo>
                    <a:pt x="2090" y="641"/>
                  </a:lnTo>
                  <a:lnTo>
                    <a:pt x="2014" y="670"/>
                  </a:lnTo>
                  <a:lnTo>
                    <a:pt x="1968" y="670"/>
                  </a:lnTo>
                  <a:lnTo>
                    <a:pt x="1922" y="631"/>
                  </a:lnTo>
                  <a:lnTo>
                    <a:pt x="1922" y="679"/>
                  </a:lnTo>
                  <a:lnTo>
                    <a:pt x="1884" y="765"/>
                  </a:lnTo>
                  <a:lnTo>
                    <a:pt x="1822" y="851"/>
                  </a:lnTo>
                  <a:lnTo>
                    <a:pt x="1761" y="899"/>
                  </a:lnTo>
                  <a:lnTo>
                    <a:pt x="1730" y="899"/>
                  </a:lnTo>
                  <a:lnTo>
                    <a:pt x="1707" y="966"/>
                  </a:lnTo>
                  <a:lnTo>
                    <a:pt x="1707" y="1005"/>
                  </a:lnTo>
                  <a:lnTo>
                    <a:pt x="1677" y="1043"/>
                  </a:lnTo>
                  <a:lnTo>
                    <a:pt x="1715" y="1158"/>
                  </a:lnTo>
                  <a:lnTo>
                    <a:pt x="1746" y="1244"/>
                  </a:lnTo>
                  <a:lnTo>
                    <a:pt x="1692" y="1320"/>
                  </a:lnTo>
                  <a:lnTo>
                    <a:pt x="1631" y="1368"/>
                  </a:lnTo>
                  <a:lnTo>
                    <a:pt x="1608" y="1483"/>
                  </a:lnTo>
                  <a:lnTo>
                    <a:pt x="1577" y="1541"/>
                  </a:lnTo>
                  <a:lnTo>
                    <a:pt x="1547" y="1541"/>
                  </a:lnTo>
                  <a:lnTo>
                    <a:pt x="1508" y="1560"/>
                  </a:lnTo>
                  <a:lnTo>
                    <a:pt x="1439" y="1589"/>
                  </a:lnTo>
                  <a:lnTo>
                    <a:pt x="1416" y="1569"/>
                  </a:lnTo>
                  <a:lnTo>
                    <a:pt x="1416" y="1521"/>
                  </a:lnTo>
                  <a:lnTo>
                    <a:pt x="1416" y="1426"/>
                  </a:lnTo>
                  <a:lnTo>
                    <a:pt x="1386" y="1426"/>
                  </a:lnTo>
                  <a:lnTo>
                    <a:pt x="1355" y="1387"/>
                  </a:lnTo>
                  <a:lnTo>
                    <a:pt x="1370" y="1320"/>
                  </a:lnTo>
                  <a:lnTo>
                    <a:pt x="1378" y="1263"/>
                  </a:lnTo>
                  <a:lnTo>
                    <a:pt x="1370" y="1253"/>
                  </a:lnTo>
                  <a:lnTo>
                    <a:pt x="1332" y="1263"/>
                  </a:lnTo>
                  <a:lnTo>
                    <a:pt x="1317" y="1263"/>
                  </a:lnTo>
                  <a:lnTo>
                    <a:pt x="1279" y="1263"/>
                  </a:lnTo>
                  <a:lnTo>
                    <a:pt x="1271" y="1253"/>
                  </a:lnTo>
                  <a:lnTo>
                    <a:pt x="1233" y="1292"/>
                  </a:lnTo>
                  <a:lnTo>
                    <a:pt x="1194" y="1349"/>
                  </a:lnTo>
                  <a:lnTo>
                    <a:pt x="1156" y="1397"/>
                  </a:lnTo>
                  <a:lnTo>
                    <a:pt x="1049" y="1387"/>
                  </a:lnTo>
                  <a:lnTo>
                    <a:pt x="987" y="1368"/>
                  </a:lnTo>
                  <a:lnTo>
                    <a:pt x="957" y="1330"/>
                  </a:lnTo>
                  <a:lnTo>
                    <a:pt x="957" y="1292"/>
                  </a:lnTo>
                  <a:lnTo>
                    <a:pt x="980" y="1253"/>
                  </a:lnTo>
                  <a:lnTo>
                    <a:pt x="1010" y="1244"/>
                  </a:lnTo>
                  <a:lnTo>
                    <a:pt x="1033" y="1186"/>
                  </a:lnTo>
                  <a:lnTo>
                    <a:pt x="980" y="1196"/>
                  </a:lnTo>
                  <a:lnTo>
                    <a:pt x="957" y="1148"/>
                  </a:lnTo>
                  <a:lnTo>
                    <a:pt x="957" y="1119"/>
                  </a:lnTo>
                  <a:lnTo>
                    <a:pt x="1033" y="1110"/>
                  </a:lnTo>
                  <a:lnTo>
                    <a:pt x="1110" y="1091"/>
                  </a:lnTo>
                  <a:lnTo>
                    <a:pt x="1064" y="1072"/>
                  </a:lnTo>
                  <a:lnTo>
                    <a:pt x="980" y="1081"/>
                  </a:lnTo>
                  <a:lnTo>
                    <a:pt x="980" y="1024"/>
                  </a:lnTo>
                  <a:lnTo>
                    <a:pt x="1018" y="966"/>
                  </a:lnTo>
                  <a:lnTo>
                    <a:pt x="1095" y="938"/>
                  </a:lnTo>
                  <a:lnTo>
                    <a:pt x="1110" y="899"/>
                  </a:lnTo>
                  <a:lnTo>
                    <a:pt x="1156" y="871"/>
                  </a:lnTo>
                  <a:lnTo>
                    <a:pt x="1210" y="851"/>
                  </a:lnTo>
                  <a:lnTo>
                    <a:pt x="1248" y="871"/>
                  </a:lnTo>
                  <a:lnTo>
                    <a:pt x="1279" y="899"/>
                  </a:lnTo>
                  <a:lnTo>
                    <a:pt x="1324" y="851"/>
                  </a:lnTo>
                  <a:lnTo>
                    <a:pt x="1279" y="851"/>
                  </a:lnTo>
                  <a:lnTo>
                    <a:pt x="1279" y="775"/>
                  </a:lnTo>
                  <a:lnTo>
                    <a:pt x="1386" y="679"/>
                  </a:lnTo>
                  <a:lnTo>
                    <a:pt x="1439" y="622"/>
                  </a:lnTo>
                  <a:lnTo>
                    <a:pt x="1470" y="603"/>
                  </a:lnTo>
                  <a:lnTo>
                    <a:pt x="1470" y="574"/>
                  </a:lnTo>
                  <a:lnTo>
                    <a:pt x="1539" y="497"/>
                  </a:lnTo>
                  <a:lnTo>
                    <a:pt x="1577" y="402"/>
                  </a:lnTo>
                  <a:lnTo>
                    <a:pt x="1646" y="363"/>
                  </a:lnTo>
                  <a:lnTo>
                    <a:pt x="1600" y="325"/>
                  </a:lnTo>
                  <a:lnTo>
                    <a:pt x="1738" y="229"/>
                  </a:lnTo>
                  <a:lnTo>
                    <a:pt x="1784" y="229"/>
                  </a:lnTo>
                  <a:lnTo>
                    <a:pt x="1784" y="181"/>
                  </a:lnTo>
                  <a:lnTo>
                    <a:pt x="1899" y="181"/>
                  </a:lnTo>
                  <a:lnTo>
                    <a:pt x="2106" y="9"/>
                  </a:lnTo>
                  <a:lnTo>
                    <a:pt x="2144" y="0"/>
                  </a:lnTo>
                  <a:lnTo>
                    <a:pt x="2106" y="124"/>
                  </a:lnTo>
                  <a:lnTo>
                    <a:pt x="2152" y="47"/>
                  </a:lnTo>
                  <a:lnTo>
                    <a:pt x="2213" y="38"/>
                  </a:lnTo>
                  <a:lnTo>
                    <a:pt x="2198" y="86"/>
                  </a:lnTo>
                  <a:lnTo>
                    <a:pt x="2375" y="19"/>
                  </a:lnTo>
                  <a:lnTo>
                    <a:pt x="2459" y="57"/>
                  </a:lnTo>
                  <a:lnTo>
                    <a:pt x="2336" y="143"/>
                  </a:lnTo>
                  <a:lnTo>
                    <a:pt x="2375" y="181"/>
                  </a:lnTo>
                  <a:lnTo>
                    <a:pt x="2543" y="181"/>
                  </a:lnTo>
                  <a:lnTo>
                    <a:pt x="2788" y="277"/>
                  </a:lnTo>
                  <a:lnTo>
                    <a:pt x="2765" y="382"/>
                  </a:lnTo>
                  <a:lnTo>
                    <a:pt x="2673" y="469"/>
                  </a:lnTo>
                  <a:lnTo>
                    <a:pt x="2520" y="507"/>
                  </a:lnTo>
                  <a:lnTo>
                    <a:pt x="2490" y="631"/>
                  </a:lnTo>
                  <a:lnTo>
                    <a:pt x="2505" y="737"/>
                  </a:lnTo>
                  <a:lnTo>
                    <a:pt x="2543" y="765"/>
                  </a:lnTo>
                  <a:lnTo>
                    <a:pt x="2543" y="813"/>
                  </a:lnTo>
                  <a:lnTo>
                    <a:pt x="2566" y="832"/>
                  </a:lnTo>
                  <a:lnTo>
                    <a:pt x="2612" y="851"/>
                  </a:lnTo>
                  <a:lnTo>
                    <a:pt x="2620" y="909"/>
                  </a:lnTo>
                  <a:lnTo>
                    <a:pt x="2658" y="976"/>
                  </a:lnTo>
                  <a:lnTo>
                    <a:pt x="2658" y="1024"/>
                  </a:lnTo>
                  <a:lnTo>
                    <a:pt x="2712" y="1024"/>
                  </a:lnTo>
                  <a:lnTo>
                    <a:pt x="2735" y="1043"/>
                  </a:lnTo>
                  <a:lnTo>
                    <a:pt x="2765" y="1072"/>
                  </a:lnTo>
                  <a:lnTo>
                    <a:pt x="2796" y="1024"/>
                  </a:lnTo>
                  <a:lnTo>
                    <a:pt x="2819" y="966"/>
                  </a:lnTo>
                  <a:lnTo>
                    <a:pt x="2842" y="947"/>
                  </a:lnTo>
                  <a:lnTo>
                    <a:pt x="2873" y="947"/>
                  </a:lnTo>
                  <a:lnTo>
                    <a:pt x="2926" y="899"/>
                  </a:lnTo>
                  <a:lnTo>
                    <a:pt x="2926" y="842"/>
                  </a:lnTo>
                  <a:lnTo>
                    <a:pt x="2957" y="804"/>
                  </a:lnTo>
                  <a:lnTo>
                    <a:pt x="2957" y="775"/>
                  </a:lnTo>
                  <a:lnTo>
                    <a:pt x="3056" y="737"/>
                  </a:lnTo>
                  <a:lnTo>
                    <a:pt x="3141" y="698"/>
                  </a:lnTo>
                  <a:lnTo>
                    <a:pt x="3248" y="670"/>
                  </a:lnTo>
                  <a:lnTo>
                    <a:pt x="3370" y="679"/>
                  </a:lnTo>
                  <a:lnTo>
                    <a:pt x="3501" y="679"/>
                  </a:lnTo>
                  <a:lnTo>
                    <a:pt x="3700" y="679"/>
                  </a:lnTo>
                  <a:lnTo>
                    <a:pt x="3746" y="430"/>
                  </a:lnTo>
                  <a:lnTo>
                    <a:pt x="3861" y="449"/>
                  </a:lnTo>
                  <a:lnTo>
                    <a:pt x="3945" y="641"/>
                  </a:lnTo>
                  <a:lnTo>
                    <a:pt x="3952" y="469"/>
                  </a:lnTo>
                  <a:lnTo>
                    <a:pt x="4328" y="19"/>
                  </a:lnTo>
                  <a:lnTo>
                    <a:pt x="4489" y="19"/>
                  </a:lnTo>
                  <a:lnTo>
                    <a:pt x="4626" y="124"/>
                  </a:lnTo>
                  <a:lnTo>
                    <a:pt x="4795" y="114"/>
                  </a:lnTo>
                  <a:lnTo>
                    <a:pt x="5025" y="277"/>
                  </a:lnTo>
                  <a:lnTo>
                    <a:pt x="5300" y="363"/>
                  </a:lnTo>
                  <a:lnTo>
                    <a:pt x="5484" y="354"/>
                  </a:lnTo>
                  <a:lnTo>
                    <a:pt x="5737" y="449"/>
                  </a:lnTo>
                  <a:lnTo>
                    <a:pt x="5936" y="449"/>
                  </a:lnTo>
                  <a:lnTo>
                    <a:pt x="6043" y="382"/>
                  </a:lnTo>
                  <a:lnTo>
                    <a:pt x="6281" y="382"/>
                  </a:lnTo>
                  <a:lnTo>
                    <a:pt x="6403" y="449"/>
                  </a:lnTo>
                  <a:lnTo>
                    <a:pt x="6710" y="449"/>
                  </a:lnTo>
                  <a:lnTo>
                    <a:pt x="6979" y="603"/>
                  </a:lnTo>
                  <a:lnTo>
                    <a:pt x="7476" y="574"/>
                  </a:lnTo>
                  <a:lnTo>
                    <a:pt x="8250" y="641"/>
                  </a:lnTo>
                  <a:lnTo>
                    <a:pt x="8618" y="842"/>
                  </a:lnTo>
                  <a:lnTo>
                    <a:pt x="8947" y="947"/>
                  </a:lnTo>
                  <a:lnTo>
                    <a:pt x="9138" y="1072"/>
                  </a:lnTo>
                  <a:lnTo>
                    <a:pt x="9077" y="1091"/>
                  </a:lnTo>
                  <a:lnTo>
                    <a:pt x="8947" y="1024"/>
                  </a:lnTo>
                  <a:lnTo>
                    <a:pt x="8618" y="976"/>
                  </a:lnTo>
                  <a:lnTo>
                    <a:pt x="8694" y="1072"/>
                  </a:lnTo>
                  <a:lnTo>
                    <a:pt x="8855" y="1110"/>
                  </a:lnTo>
                  <a:lnTo>
                    <a:pt x="8809" y="1244"/>
                  </a:lnTo>
                  <a:lnTo>
                    <a:pt x="8648" y="1330"/>
                  </a:lnTo>
                  <a:lnTo>
                    <a:pt x="8610" y="1464"/>
                  </a:lnTo>
                  <a:lnTo>
                    <a:pt x="8809" y="1589"/>
                  </a:lnTo>
                  <a:lnTo>
                    <a:pt x="8947" y="1762"/>
                  </a:lnTo>
                  <a:lnTo>
                    <a:pt x="9024" y="1982"/>
                  </a:lnTo>
                  <a:lnTo>
                    <a:pt x="8939" y="2011"/>
                  </a:lnTo>
                  <a:lnTo>
                    <a:pt x="8733" y="1944"/>
                  </a:lnTo>
                  <a:lnTo>
                    <a:pt x="8526" y="1771"/>
                  </a:lnTo>
                  <a:lnTo>
                    <a:pt x="8441" y="1676"/>
                  </a:lnTo>
                  <a:lnTo>
                    <a:pt x="8396" y="1541"/>
                  </a:lnTo>
                  <a:lnTo>
                    <a:pt x="8334" y="1359"/>
                  </a:lnTo>
                  <a:lnTo>
                    <a:pt x="8258" y="1292"/>
                  </a:lnTo>
                  <a:lnTo>
                    <a:pt x="8173" y="1292"/>
                  </a:lnTo>
                  <a:lnTo>
                    <a:pt x="8112" y="1311"/>
                  </a:lnTo>
                  <a:lnTo>
                    <a:pt x="8196" y="1464"/>
                  </a:lnTo>
                  <a:lnTo>
                    <a:pt x="7982" y="1483"/>
                  </a:lnTo>
                  <a:lnTo>
                    <a:pt x="7898" y="1397"/>
                  </a:lnTo>
                  <a:lnTo>
                    <a:pt x="7729" y="1426"/>
                  </a:lnTo>
                  <a:lnTo>
                    <a:pt x="7591" y="1560"/>
                  </a:lnTo>
                  <a:lnTo>
                    <a:pt x="7591" y="1608"/>
                  </a:lnTo>
                  <a:lnTo>
                    <a:pt x="7653" y="1733"/>
                  </a:lnTo>
                  <a:lnTo>
                    <a:pt x="7852" y="1762"/>
                  </a:lnTo>
                  <a:lnTo>
                    <a:pt x="8013" y="1877"/>
                  </a:lnTo>
                  <a:lnTo>
                    <a:pt x="8304" y="2221"/>
                  </a:lnTo>
                  <a:lnTo>
                    <a:pt x="8419" y="2451"/>
                  </a:lnTo>
                  <a:lnTo>
                    <a:pt x="8426" y="2681"/>
                  </a:lnTo>
                  <a:lnTo>
                    <a:pt x="8403" y="2872"/>
                  </a:lnTo>
                  <a:lnTo>
                    <a:pt x="8334" y="2872"/>
                  </a:lnTo>
                  <a:lnTo>
                    <a:pt x="8258" y="2805"/>
                  </a:lnTo>
                  <a:lnTo>
                    <a:pt x="8150" y="2901"/>
                  </a:lnTo>
                  <a:lnTo>
                    <a:pt x="8043" y="2987"/>
                  </a:lnTo>
                  <a:lnTo>
                    <a:pt x="8036" y="3140"/>
                  </a:lnTo>
                  <a:lnTo>
                    <a:pt x="8143" y="3293"/>
                  </a:lnTo>
                  <a:lnTo>
                    <a:pt x="8082" y="3427"/>
                  </a:lnTo>
                  <a:lnTo>
                    <a:pt x="8043" y="3657"/>
                  </a:lnTo>
                  <a:lnTo>
                    <a:pt x="8196" y="3810"/>
                  </a:lnTo>
                  <a:lnTo>
                    <a:pt x="8342" y="3839"/>
                  </a:lnTo>
                  <a:lnTo>
                    <a:pt x="8510" y="4002"/>
                  </a:lnTo>
                  <a:lnTo>
                    <a:pt x="8648" y="4212"/>
                  </a:lnTo>
                  <a:lnTo>
                    <a:pt x="8664" y="4528"/>
                  </a:lnTo>
                  <a:lnTo>
                    <a:pt x="8618" y="4672"/>
                  </a:lnTo>
                  <a:lnTo>
                    <a:pt x="8457" y="4787"/>
                  </a:lnTo>
                  <a:lnTo>
                    <a:pt x="8281" y="4844"/>
                  </a:lnTo>
                  <a:lnTo>
                    <a:pt x="8166" y="4949"/>
                  </a:lnTo>
                  <a:lnTo>
                    <a:pt x="8089" y="4911"/>
                  </a:lnTo>
                  <a:lnTo>
                    <a:pt x="8043" y="4949"/>
                  </a:lnTo>
                  <a:lnTo>
                    <a:pt x="8028" y="5190"/>
                  </a:lnTo>
                  <a:lnTo>
                    <a:pt x="8066" y="5305"/>
                  </a:lnTo>
                  <a:lnTo>
                    <a:pt x="8250" y="5448"/>
                  </a:lnTo>
                  <a:lnTo>
                    <a:pt x="8311" y="5620"/>
                  </a:lnTo>
                  <a:lnTo>
                    <a:pt x="8388" y="5716"/>
                  </a:lnTo>
                  <a:lnTo>
                    <a:pt x="8373" y="5879"/>
                  </a:lnTo>
                  <a:lnTo>
                    <a:pt x="8250" y="5994"/>
                  </a:lnTo>
                  <a:lnTo>
                    <a:pt x="8120" y="5994"/>
                  </a:lnTo>
                  <a:lnTo>
                    <a:pt x="7921" y="5821"/>
                  </a:lnTo>
                  <a:lnTo>
                    <a:pt x="7768" y="5726"/>
                  </a:lnTo>
                  <a:lnTo>
                    <a:pt x="7729" y="5707"/>
                  </a:lnTo>
                  <a:lnTo>
                    <a:pt x="7668" y="5812"/>
                  </a:lnTo>
                  <a:lnTo>
                    <a:pt x="7683" y="5955"/>
                  </a:lnTo>
                  <a:lnTo>
                    <a:pt x="7737" y="6070"/>
                  </a:lnTo>
                  <a:lnTo>
                    <a:pt x="7760" y="6233"/>
                  </a:lnTo>
                  <a:lnTo>
                    <a:pt x="7890" y="6300"/>
                  </a:lnTo>
                  <a:lnTo>
                    <a:pt x="7852" y="6405"/>
                  </a:lnTo>
                  <a:lnTo>
                    <a:pt x="7867" y="6539"/>
                  </a:lnTo>
                  <a:lnTo>
                    <a:pt x="7898" y="6673"/>
                  </a:lnTo>
                  <a:lnTo>
                    <a:pt x="7813" y="6645"/>
                  </a:lnTo>
                  <a:lnTo>
                    <a:pt x="7729" y="6511"/>
                  </a:lnTo>
                  <a:lnTo>
                    <a:pt x="7737" y="6338"/>
                  </a:lnTo>
                  <a:lnTo>
                    <a:pt x="7699" y="6291"/>
                  </a:lnTo>
                  <a:lnTo>
                    <a:pt x="7668" y="6099"/>
                  </a:lnTo>
                  <a:lnTo>
                    <a:pt x="7622" y="6051"/>
                  </a:lnTo>
                  <a:lnTo>
                    <a:pt x="7599" y="5783"/>
                  </a:lnTo>
                  <a:lnTo>
                    <a:pt x="7545" y="5620"/>
                  </a:lnTo>
                  <a:lnTo>
                    <a:pt x="7438" y="5467"/>
                  </a:lnTo>
                  <a:lnTo>
                    <a:pt x="7262" y="5400"/>
                  </a:lnTo>
                  <a:lnTo>
                    <a:pt x="7124" y="5257"/>
                  </a:lnTo>
                  <a:lnTo>
                    <a:pt x="7071" y="5161"/>
                  </a:lnTo>
                  <a:lnTo>
                    <a:pt x="6979" y="5037"/>
                  </a:lnTo>
                  <a:lnTo>
                    <a:pt x="6840" y="4777"/>
                  </a:lnTo>
                  <a:lnTo>
                    <a:pt x="6710" y="4806"/>
                  </a:lnTo>
                  <a:lnTo>
                    <a:pt x="6541" y="4921"/>
                  </a:lnTo>
                  <a:lnTo>
                    <a:pt x="6472" y="5027"/>
                  </a:lnTo>
                  <a:lnTo>
                    <a:pt x="6319" y="5228"/>
                  </a:lnTo>
                  <a:lnTo>
                    <a:pt x="6227" y="5439"/>
                  </a:lnTo>
                  <a:lnTo>
                    <a:pt x="6173" y="5506"/>
                  </a:lnTo>
                  <a:lnTo>
                    <a:pt x="6227" y="5745"/>
                  </a:lnTo>
                  <a:lnTo>
                    <a:pt x="6204" y="5994"/>
                  </a:lnTo>
                  <a:lnTo>
                    <a:pt x="6089" y="6157"/>
                  </a:lnTo>
                  <a:lnTo>
                    <a:pt x="5990" y="6166"/>
                  </a:lnTo>
                  <a:lnTo>
                    <a:pt x="5844" y="5841"/>
                  </a:lnTo>
                  <a:lnTo>
                    <a:pt x="5729" y="5601"/>
                  </a:lnTo>
                  <a:lnTo>
                    <a:pt x="5469" y="5123"/>
                  </a:lnTo>
                  <a:lnTo>
                    <a:pt x="5454" y="4949"/>
                  </a:lnTo>
                  <a:lnTo>
                    <a:pt x="5400" y="4873"/>
                  </a:lnTo>
                  <a:lnTo>
                    <a:pt x="5369" y="4978"/>
                  </a:lnTo>
                  <a:lnTo>
                    <a:pt x="5155" y="4720"/>
                  </a:lnTo>
                  <a:lnTo>
                    <a:pt x="4856" y="4528"/>
                  </a:lnTo>
                  <a:lnTo>
                    <a:pt x="4665" y="4566"/>
                  </a:lnTo>
                  <a:lnTo>
                    <a:pt x="4412" y="4538"/>
                  </a:lnTo>
                  <a:lnTo>
                    <a:pt x="4274" y="4394"/>
                  </a:lnTo>
                  <a:lnTo>
                    <a:pt x="4136" y="4432"/>
                  </a:lnTo>
                  <a:lnTo>
                    <a:pt x="3945" y="4365"/>
                  </a:lnTo>
                  <a:lnTo>
                    <a:pt x="3531" y="3849"/>
                  </a:lnTo>
                  <a:lnTo>
                    <a:pt x="3539" y="4059"/>
                  </a:lnTo>
                  <a:lnTo>
                    <a:pt x="3669" y="4356"/>
                  </a:lnTo>
                  <a:lnTo>
                    <a:pt x="3807" y="4538"/>
                  </a:lnTo>
                  <a:lnTo>
                    <a:pt x="3968" y="4634"/>
                  </a:lnTo>
                  <a:lnTo>
                    <a:pt x="4129" y="4566"/>
                  </a:lnTo>
                  <a:lnTo>
                    <a:pt x="4266" y="4566"/>
                  </a:lnTo>
                  <a:lnTo>
                    <a:pt x="4435" y="4748"/>
                  </a:lnTo>
                  <a:lnTo>
                    <a:pt x="4527" y="4873"/>
                  </a:lnTo>
                  <a:lnTo>
                    <a:pt x="4519" y="4949"/>
                  </a:lnTo>
                  <a:lnTo>
                    <a:pt x="4220" y="5343"/>
                  </a:lnTo>
                  <a:lnTo>
                    <a:pt x="4029" y="5477"/>
                  </a:lnTo>
                  <a:lnTo>
                    <a:pt x="3608" y="5687"/>
                  </a:lnTo>
                  <a:lnTo>
                    <a:pt x="3485" y="5726"/>
                  </a:lnTo>
                  <a:lnTo>
                    <a:pt x="3401" y="5687"/>
                  </a:lnTo>
                  <a:lnTo>
                    <a:pt x="3386" y="5601"/>
                  </a:lnTo>
                  <a:lnTo>
                    <a:pt x="3370" y="5477"/>
                  </a:lnTo>
                  <a:lnTo>
                    <a:pt x="3340" y="5372"/>
                  </a:lnTo>
                  <a:lnTo>
                    <a:pt x="3278" y="5276"/>
                  </a:lnTo>
                  <a:lnTo>
                    <a:pt x="3225" y="5190"/>
                  </a:lnTo>
                  <a:lnTo>
                    <a:pt x="3164" y="5084"/>
                  </a:lnTo>
                  <a:lnTo>
                    <a:pt x="3110" y="5017"/>
                  </a:lnTo>
                  <a:lnTo>
                    <a:pt x="3087" y="4921"/>
                  </a:lnTo>
                  <a:lnTo>
                    <a:pt x="3026" y="4825"/>
                  </a:lnTo>
                  <a:lnTo>
                    <a:pt x="2926" y="4634"/>
                  </a:lnTo>
                  <a:lnTo>
                    <a:pt x="2873" y="4538"/>
                  </a:lnTo>
                  <a:lnTo>
                    <a:pt x="2819" y="4442"/>
                  </a:lnTo>
                  <a:lnTo>
                    <a:pt x="2704" y="4260"/>
                  </a:lnTo>
                  <a:lnTo>
                    <a:pt x="2643" y="4174"/>
                  </a:lnTo>
                  <a:lnTo>
                    <a:pt x="2597" y="4107"/>
                  </a:lnTo>
                  <a:lnTo>
                    <a:pt x="2536" y="3983"/>
                  </a:lnTo>
                  <a:lnTo>
                    <a:pt x="2712" y="3849"/>
                  </a:lnTo>
                  <a:lnTo>
                    <a:pt x="2788" y="3590"/>
                  </a:lnTo>
                  <a:lnTo>
                    <a:pt x="2627" y="3523"/>
                  </a:lnTo>
                  <a:lnTo>
                    <a:pt x="2398" y="3542"/>
                  </a:lnTo>
                  <a:lnTo>
                    <a:pt x="2336" y="3533"/>
                  </a:lnTo>
                  <a:lnTo>
                    <a:pt x="2313" y="3533"/>
                  </a:lnTo>
                  <a:lnTo>
                    <a:pt x="2282" y="3533"/>
                  </a:lnTo>
                  <a:lnTo>
                    <a:pt x="2259" y="3533"/>
                  </a:lnTo>
                  <a:lnTo>
                    <a:pt x="2244" y="3466"/>
                  </a:lnTo>
                  <a:lnTo>
                    <a:pt x="2236" y="3427"/>
                  </a:lnTo>
                  <a:lnTo>
                    <a:pt x="2236" y="3351"/>
                  </a:lnTo>
                  <a:lnTo>
                    <a:pt x="2182" y="3313"/>
                  </a:lnTo>
                  <a:lnTo>
                    <a:pt x="2182" y="3255"/>
                  </a:lnTo>
                  <a:lnTo>
                    <a:pt x="2152" y="3246"/>
                  </a:lnTo>
                  <a:lnTo>
                    <a:pt x="2129" y="3198"/>
                  </a:lnTo>
                  <a:lnTo>
                    <a:pt x="2121" y="3159"/>
                  </a:lnTo>
                  <a:lnTo>
                    <a:pt x="2106" y="3121"/>
                  </a:lnTo>
                  <a:lnTo>
                    <a:pt x="2090" y="3092"/>
                  </a:lnTo>
                  <a:lnTo>
                    <a:pt x="2044" y="3092"/>
                  </a:lnTo>
                  <a:lnTo>
                    <a:pt x="1991" y="3092"/>
                  </a:lnTo>
                  <a:lnTo>
                    <a:pt x="1983" y="3092"/>
                  </a:lnTo>
                  <a:lnTo>
                    <a:pt x="1968" y="3140"/>
                  </a:lnTo>
                  <a:lnTo>
                    <a:pt x="1968" y="3198"/>
                  </a:lnTo>
                  <a:lnTo>
                    <a:pt x="1968" y="3255"/>
                  </a:lnTo>
                  <a:lnTo>
                    <a:pt x="1968" y="3322"/>
                  </a:lnTo>
                  <a:lnTo>
                    <a:pt x="1968" y="3370"/>
                  </a:lnTo>
                  <a:lnTo>
                    <a:pt x="1937" y="3389"/>
                  </a:lnTo>
                  <a:lnTo>
                    <a:pt x="1907" y="3427"/>
                  </a:lnTo>
                  <a:lnTo>
                    <a:pt x="1868" y="3370"/>
                  </a:lnTo>
                  <a:lnTo>
                    <a:pt x="1822" y="3284"/>
                  </a:lnTo>
                  <a:lnTo>
                    <a:pt x="1822" y="3188"/>
                  </a:lnTo>
                  <a:lnTo>
                    <a:pt x="1784" y="3054"/>
                  </a:lnTo>
                  <a:lnTo>
                    <a:pt x="1746" y="2968"/>
                  </a:lnTo>
                  <a:lnTo>
                    <a:pt x="1692" y="2920"/>
                  </a:lnTo>
                  <a:lnTo>
                    <a:pt x="1631" y="2872"/>
                  </a:lnTo>
                  <a:lnTo>
                    <a:pt x="1600" y="2796"/>
                  </a:lnTo>
                  <a:lnTo>
                    <a:pt x="1570" y="2738"/>
                  </a:lnTo>
                  <a:lnTo>
                    <a:pt x="1524" y="2729"/>
                  </a:lnTo>
                  <a:lnTo>
                    <a:pt x="1508" y="2709"/>
                  </a:lnTo>
                  <a:lnTo>
                    <a:pt x="1455" y="2709"/>
                  </a:lnTo>
                  <a:lnTo>
                    <a:pt x="1416" y="2748"/>
                  </a:lnTo>
                  <a:lnTo>
                    <a:pt x="1386" y="2796"/>
                  </a:lnTo>
                  <a:lnTo>
                    <a:pt x="1462" y="2853"/>
                  </a:lnTo>
                  <a:lnTo>
                    <a:pt x="1516" y="2920"/>
                  </a:lnTo>
                  <a:lnTo>
                    <a:pt x="1577" y="3006"/>
                  </a:lnTo>
                  <a:lnTo>
                    <a:pt x="1608" y="3054"/>
                  </a:lnTo>
                  <a:lnTo>
                    <a:pt x="1677" y="3092"/>
                  </a:lnTo>
                  <a:lnTo>
                    <a:pt x="1715" y="3159"/>
                  </a:lnTo>
                  <a:lnTo>
                    <a:pt x="1677" y="3226"/>
                  </a:lnTo>
                  <a:lnTo>
                    <a:pt x="1646" y="3198"/>
                  </a:lnTo>
                  <a:lnTo>
                    <a:pt x="1646" y="3159"/>
                  </a:lnTo>
                  <a:lnTo>
                    <a:pt x="1631" y="3255"/>
                  </a:lnTo>
                  <a:lnTo>
                    <a:pt x="1623" y="3332"/>
                  </a:lnTo>
                  <a:lnTo>
                    <a:pt x="1570" y="3360"/>
                  </a:lnTo>
                  <a:lnTo>
                    <a:pt x="1593" y="3255"/>
                  </a:lnTo>
                  <a:lnTo>
                    <a:pt x="1577" y="3198"/>
                  </a:lnTo>
                  <a:lnTo>
                    <a:pt x="1539" y="3159"/>
                  </a:lnTo>
                  <a:lnTo>
                    <a:pt x="1508" y="3140"/>
                  </a:lnTo>
                  <a:lnTo>
                    <a:pt x="1470" y="3112"/>
                  </a:lnTo>
                  <a:lnTo>
                    <a:pt x="1416" y="3083"/>
                  </a:lnTo>
                  <a:lnTo>
                    <a:pt x="1386" y="3025"/>
                  </a:lnTo>
                  <a:lnTo>
                    <a:pt x="1355" y="2987"/>
                  </a:lnTo>
                  <a:lnTo>
                    <a:pt x="1317" y="2949"/>
                  </a:lnTo>
                  <a:lnTo>
                    <a:pt x="1279" y="2901"/>
                  </a:lnTo>
                  <a:lnTo>
                    <a:pt x="1279" y="2843"/>
                  </a:lnTo>
                  <a:lnTo>
                    <a:pt x="1248" y="2834"/>
                  </a:lnTo>
                  <a:lnTo>
                    <a:pt x="1210" y="2776"/>
                  </a:lnTo>
                  <a:lnTo>
                    <a:pt x="1156" y="2776"/>
                  </a:lnTo>
                  <a:lnTo>
                    <a:pt x="1072" y="2796"/>
                  </a:lnTo>
                  <a:lnTo>
                    <a:pt x="1018" y="2776"/>
                  </a:lnTo>
                  <a:lnTo>
                    <a:pt x="896" y="2796"/>
                  </a:lnTo>
                  <a:lnTo>
                    <a:pt x="819" y="2805"/>
                  </a:lnTo>
                  <a:lnTo>
                    <a:pt x="788" y="2834"/>
                  </a:lnTo>
                  <a:lnTo>
                    <a:pt x="788" y="2901"/>
                  </a:lnTo>
                  <a:lnTo>
                    <a:pt x="788" y="2968"/>
                  </a:lnTo>
                  <a:lnTo>
                    <a:pt x="735" y="3025"/>
                  </a:lnTo>
                  <a:lnTo>
                    <a:pt x="704" y="3073"/>
                  </a:lnTo>
                  <a:lnTo>
                    <a:pt x="681" y="3092"/>
                  </a:lnTo>
                  <a:lnTo>
                    <a:pt x="650" y="3140"/>
                  </a:lnTo>
                  <a:lnTo>
                    <a:pt x="635" y="3188"/>
                  </a:lnTo>
                  <a:lnTo>
                    <a:pt x="673" y="3217"/>
                  </a:lnTo>
                  <a:lnTo>
                    <a:pt x="673" y="3284"/>
                  </a:lnTo>
                  <a:lnTo>
                    <a:pt x="650" y="3313"/>
                  </a:lnTo>
                  <a:lnTo>
                    <a:pt x="635" y="3360"/>
                  </a:lnTo>
                  <a:lnTo>
                    <a:pt x="605" y="3427"/>
                  </a:lnTo>
                  <a:lnTo>
                    <a:pt x="566" y="3399"/>
                  </a:lnTo>
                  <a:lnTo>
                    <a:pt x="543" y="3418"/>
                  </a:lnTo>
                  <a:lnTo>
                    <a:pt x="520" y="3437"/>
                  </a:lnTo>
                  <a:lnTo>
                    <a:pt x="467" y="3456"/>
                  </a:lnTo>
                  <a:lnTo>
                    <a:pt x="413" y="3523"/>
                  </a:lnTo>
                  <a:lnTo>
                    <a:pt x="359" y="3533"/>
                  </a:lnTo>
                  <a:lnTo>
                    <a:pt x="314" y="3533"/>
                  </a:lnTo>
                  <a:lnTo>
                    <a:pt x="268" y="3533"/>
                  </a:lnTo>
                  <a:lnTo>
                    <a:pt x="160" y="3542"/>
                  </a:lnTo>
                  <a:lnTo>
                    <a:pt x="107" y="3542"/>
                  </a:lnTo>
                  <a:lnTo>
                    <a:pt x="76" y="3466"/>
                  </a:lnTo>
                  <a:lnTo>
                    <a:pt x="68" y="3389"/>
                  </a:lnTo>
                  <a:lnTo>
                    <a:pt x="45" y="3313"/>
                  </a:lnTo>
                  <a:lnTo>
                    <a:pt x="45" y="3217"/>
                  </a:lnTo>
                  <a:lnTo>
                    <a:pt x="45" y="3121"/>
                  </a:lnTo>
                  <a:lnTo>
                    <a:pt x="0" y="2987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6680" y="1690560"/>
              <a:ext cx="1932480" cy="2076840"/>
            </a:xfrm>
            <a:custGeom>
              <a:avLst/>
              <a:gdLst/>
              <a:ahLst/>
              <a:rect l="0" t="0" r="r" b="b"/>
              <a:pathLst>
                <a:path w="5368" h="5769">
                  <a:moveTo>
                    <a:pt x="0" y="1483"/>
                  </a:moveTo>
                  <a:lnTo>
                    <a:pt x="251" y="1281"/>
                  </a:lnTo>
                  <a:lnTo>
                    <a:pt x="396" y="1205"/>
                  </a:lnTo>
                  <a:lnTo>
                    <a:pt x="419" y="1090"/>
                  </a:lnTo>
                  <a:lnTo>
                    <a:pt x="304" y="1004"/>
                  </a:lnTo>
                  <a:lnTo>
                    <a:pt x="289" y="860"/>
                  </a:lnTo>
                  <a:lnTo>
                    <a:pt x="343" y="832"/>
                  </a:lnTo>
                  <a:lnTo>
                    <a:pt x="335" y="755"/>
                  </a:lnTo>
                  <a:lnTo>
                    <a:pt x="525" y="726"/>
                  </a:lnTo>
                  <a:lnTo>
                    <a:pt x="586" y="631"/>
                  </a:lnTo>
                  <a:lnTo>
                    <a:pt x="602" y="516"/>
                  </a:lnTo>
                  <a:lnTo>
                    <a:pt x="754" y="487"/>
                  </a:lnTo>
                  <a:lnTo>
                    <a:pt x="777" y="401"/>
                  </a:lnTo>
                  <a:lnTo>
                    <a:pt x="609" y="344"/>
                  </a:lnTo>
                  <a:lnTo>
                    <a:pt x="693" y="286"/>
                  </a:lnTo>
                  <a:lnTo>
                    <a:pt x="945" y="286"/>
                  </a:lnTo>
                  <a:lnTo>
                    <a:pt x="1021" y="200"/>
                  </a:lnTo>
                  <a:lnTo>
                    <a:pt x="1135" y="181"/>
                  </a:lnTo>
                  <a:lnTo>
                    <a:pt x="1204" y="114"/>
                  </a:lnTo>
                  <a:lnTo>
                    <a:pt x="1288" y="239"/>
                  </a:lnTo>
                  <a:lnTo>
                    <a:pt x="1594" y="229"/>
                  </a:lnTo>
                  <a:lnTo>
                    <a:pt x="1754" y="344"/>
                  </a:lnTo>
                  <a:lnTo>
                    <a:pt x="2234" y="306"/>
                  </a:lnTo>
                  <a:lnTo>
                    <a:pt x="2303" y="248"/>
                  </a:lnTo>
                  <a:lnTo>
                    <a:pt x="2486" y="344"/>
                  </a:lnTo>
                  <a:lnTo>
                    <a:pt x="2676" y="449"/>
                  </a:lnTo>
                  <a:lnTo>
                    <a:pt x="2775" y="411"/>
                  </a:lnTo>
                  <a:lnTo>
                    <a:pt x="2829" y="344"/>
                  </a:lnTo>
                  <a:lnTo>
                    <a:pt x="2989" y="401"/>
                  </a:lnTo>
                  <a:lnTo>
                    <a:pt x="2882" y="306"/>
                  </a:lnTo>
                  <a:lnTo>
                    <a:pt x="2783" y="315"/>
                  </a:lnTo>
                  <a:lnTo>
                    <a:pt x="2623" y="344"/>
                  </a:lnTo>
                  <a:lnTo>
                    <a:pt x="2562" y="239"/>
                  </a:lnTo>
                  <a:lnTo>
                    <a:pt x="2478" y="181"/>
                  </a:lnTo>
                  <a:lnTo>
                    <a:pt x="2478" y="95"/>
                  </a:lnTo>
                  <a:lnTo>
                    <a:pt x="2486" y="9"/>
                  </a:lnTo>
                  <a:lnTo>
                    <a:pt x="2577" y="0"/>
                  </a:lnTo>
                  <a:lnTo>
                    <a:pt x="2661" y="76"/>
                  </a:lnTo>
                  <a:lnTo>
                    <a:pt x="2676" y="28"/>
                  </a:lnTo>
                  <a:lnTo>
                    <a:pt x="2760" y="0"/>
                  </a:lnTo>
                  <a:lnTo>
                    <a:pt x="2852" y="57"/>
                  </a:lnTo>
                  <a:lnTo>
                    <a:pt x="2897" y="9"/>
                  </a:lnTo>
                  <a:lnTo>
                    <a:pt x="2943" y="76"/>
                  </a:lnTo>
                  <a:lnTo>
                    <a:pt x="2951" y="162"/>
                  </a:lnTo>
                  <a:lnTo>
                    <a:pt x="3088" y="229"/>
                  </a:lnTo>
                  <a:lnTo>
                    <a:pt x="3027" y="286"/>
                  </a:lnTo>
                  <a:lnTo>
                    <a:pt x="3027" y="373"/>
                  </a:lnTo>
                  <a:lnTo>
                    <a:pt x="3263" y="401"/>
                  </a:lnTo>
                  <a:lnTo>
                    <a:pt x="3324" y="286"/>
                  </a:lnTo>
                  <a:lnTo>
                    <a:pt x="3278" y="229"/>
                  </a:lnTo>
                  <a:lnTo>
                    <a:pt x="3172" y="239"/>
                  </a:lnTo>
                  <a:lnTo>
                    <a:pt x="3195" y="114"/>
                  </a:lnTo>
                  <a:lnTo>
                    <a:pt x="3400" y="181"/>
                  </a:lnTo>
                  <a:lnTo>
                    <a:pt x="3446" y="277"/>
                  </a:lnTo>
                  <a:lnTo>
                    <a:pt x="3621" y="277"/>
                  </a:lnTo>
                  <a:lnTo>
                    <a:pt x="3766" y="382"/>
                  </a:lnTo>
                  <a:lnTo>
                    <a:pt x="3850" y="344"/>
                  </a:lnTo>
                  <a:lnTo>
                    <a:pt x="3934" y="449"/>
                  </a:lnTo>
                  <a:lnTo>
                    <a:pt x="3850" y="554"/>
                  </a:lnTo>
                  <a:lnTo>
                    <a:pt x="3766" y="478"/>
                  </a:lnTo>
                  <a:lnTo>
                    <a:pt x="3721" y="506"/>
                  </a:lnTo>
                  <a:lnTo>
                    <a:pt x="3652" y="573"/>
                  </a:lnTo>
                  <a:lnTo>
                    <a:pt x="3545" y="650"/>
                  </a:lnTo>
                  <a:lnTo>
                    <a:pt x="3606" y="726"/>
                  </a:lnTo>
                  <a:lnTo>
                    <a:pt x="3499" y="746"/>
                  </a:lnTo>
                  <a:lnTo>
                    <a:pt x="3431" y="870"/>
                  </a:lnTo>
                  <a:lnTo>
                    <a:pt x="3332" y="1023"/>
                  </a:lnTo>
                  <a:lnTo>
                    <a:pt x="3469" y="1166"/>
                  </a:lnTo>
                  <a:lnTo>
                    <a:pt x="3553" y="1320"/>
                  </a:lnTo>
                  <a:lnTo>
                    <a:pt x="3743" y="1348"/>
                  </a:lnTo>
                  <a:lnTo>
                    <a:pt x="3911" y="1320"/>
                  </a:lnTo>
                  <a:lnTo>
                    <a:pt x="3987" y="1386"/>
                  </a:lnTo>
                  <a:lnTo>
                    <a:pt x="3934" y="1445"/>
                  </a:lnTo>
                  <a:lnTo>
                    <a:pt x="3904" y="1521"/>
                  </a:lnTo>
                  <a:lnTo>
                    <a:pt x="3980" y="1655"/>
                  </a:lnTo>
                  <a:lnTo>
                    <a:pt x="3995" y="1789"/>
                  </a:lnTo>
                  <a:lnTo>
                    <a:pt x="4095" y="1827"/>
                  </a:lnTo>
                  <a:lnTo>
                    <a:pt x="4225" y="1722"/>
                  </a:lnTo>
                  <a:lnTo>
                    <a:pt x="4187" y="1588"/>
                  </a:lnTo>
                  <a:lnTo>
                    <a:pt x="4072" y="1483"/>
                  </a:lnTo>
                  <a:lnTo>
                    <a:pt x="4202" y="1348"/>
                  </a:lnTo>
                  <a:lnTo>
                    <a:pt x="4095" y="1109"/>
                  </a:lnTo>
                  <a:lnTo>
                    <a:pt x="3995" y="1023"/>
                  </a:lnTo>
                  <a:lnTo>
                    <a:pt x="4072" y="937"/>
                  </a:lnTo>
                  <a:lnTo>
                    <a:pt x="4049" y="832"/>
                  </a:lnTo>
                  <a:lnTo>
                    <a:pt x="4118" y="746"/>
                  </a:lnTo>
                  <a:lnTo>
                    <a:pt x="4225" y="832"/>
                  </a:lnTo>
                  <a:lnTo>
                    <a:pt x="4453" y="1100"/>
                  </a:lnTo>
                  <a:lnTo>
                    <a:pt x="4591" y="1128"/>
                  </a:lnTo>
                  <a:lnTo>
                    <a:pt x="4621" y="1071"/>
                  </a:lnTo>
                  <a:lnTo>
                    <a:pt x="4591" y="918"/>
                  </a:lnTo>
                  <a:lnTo>
                    <a:pt x="4682" y="937"/>
                  </a:lnTo>
                  <a:lnTo>
                    <a:pt x="4812" y="1109"/>
                  </a:lnTo>
                  <a:lnTo>
                    <a:pt x="4835" y="1195"/>
                  </a:lnTo>
                  <a:lnTo>
                    <a:pt x="4926" y="1243"/>
                  </a:lnTo>
                  <a:lnTo>
                    <a:pt x="5094" y="1339"/>
                  </a:lnTo>
                  <a:lnTo>
                    <a:pt x="5170" y="1454"/>
                  </a:lnTo>
                  <a:lnTo>
                    <a:pt x="5300" y="1550"/>
                  </a:lnTo>
                  <a:lnTo>
                    <a:pt x="5361" y="1588"/>
                  </a:lnTo>
                  <a:lnTo>
                    <a:pt x="5368" y="1655"/>
                  </a:lnTo>
                  <a:lnTo>
                    <a:pt x="5277" y="1713"/>
                  </a:lnTo>
                  <a:lnTo>
                    <a:pt x="5223" y="1655"/>
                  </a:lnTo>
                  <a:lnTo>
                    <a:pt x="5162" y="1655"/>
                  </a:lnTo>
                  <a:lnTo>
                    <a:pt x="5139" y="1799"/>
                  </a:lnTo>
                  <a:lnTo>
                    <a:pt x="5063" y="1827"/>
                  </a:lnTo>
                  <a:lnTo>
                    <a:pt x="4979" y="1761"/>
                  </a:lnTo>
                  <a:lnTo>
                    <a:pt x="4789" y="1761"/>
                  </a:lnTo>
                  <a:lnTo>
                    <a:pt x="4758" y="1923"/>
                  </a:lnTo>
                  <a:lnTo>
                    <a:pt x="4812" y="2009"/>
                  </a:lnTo>
                  <a:lnTo>
                    <a:pt x="4896" y="1952"/>
                  </a:lnTo>
                  <a:lnTo>
                    <a:pt x="4956" y="1923"/>
                  </a:lnTo>
                  <a:lnTo>
                    <a:pt x="5025" y="2000"/>
                  </a:lnTo>
                  <a:lnTo>
                    <a:pt x="4926" y="2095"/>
                  </a:lnTo>
                  <a:lnTo>
                    <a:pt x="5025" y="2201"/>
                  </a:lnTo>
                  <a:lnTo>
                    <a:pt x="5162" y="2239"/>
                  </a:lnTo>
                  <a:lnTo>
                    <a:pt x="5139" y="2306"/>
                  </a:lnTo>
                  <a:lnTo>
                    <a:pt x="5109" y="2315"/>
                  </a:lnTo>
                  <a:lnTo>
                    <a:pt x="4979" y="2660"/>
                  </a:lnTo>
                  <a:lnTo>
                    <a:pt x="4979" y="2440"/>
                  </a:lnTo>
                  <a:lnTo>
                    <a:pt x="5048" y="2334"/>
                  </a:lnTo>
                  <a:lnTo>
                    <a:pt x="4979" y="2267"/>
                  </a:lnTo>
                  <a:lnTo>
                    <a:pt x="4911" y="2334"/>
                  </a:lnTo>
                  <a:lnTo>
                    <a:pt x="4949" y="2401"/>
                  </a:lnTo>
                  <a:lnTo>
                    <a:pt x="4896" y="2449"/>
                  </a:lnTo>
                  <a:lnTo>
                    <a:pt x="4819" y="2507"/>
                  </a:lnTo>
                  <a:lnTo>
                    <a:pt x="4835" y="2631"/>
                  </a:lnTo>
                  <a:lnTo>
                    <a:pt x="4758" y="2698"/>
                  </a:lnTo>
                  <a:lnTo>
                    <a:pt x="4636" y="2727"/>
                  </a:lnTo>
                  <a:lnTo>
                    <a:pt x="4682" y="2803"/>
                  </a:lnTo>
                  <a:lnTo>
                    <a:pt x="4636" y="2899"/>
                  </a:lnTo>
                  <a:lnTo>
                    <a:pt x="4682" y="2975"/>
                  </a:lnTo>
                  <a:lnTo>
                    <a:pt x="4613" y="3138"/>
                  </a:lnTo>
                  <a:lnTo>
                    <a:pt x="4591" y="3272"/>
                  </a:lnTo>
                  <a:lnTo>
                    <a:pt x="4484" y="3368"/>
                  </a:lnTo>
                  <a:lnTo>
                    <a:pt x="4362" y="3588"/>
                  </a:lnTo>
                  <a:lnTo>
                    <a:pt x="4362" y="3721"/>
                  </a:lnTo>
                  <a:lnTo>
                    <a:pt x="4392" y="3865"/>
                  </a:lnTo>
                  <a:lnTo>
                    <a:pt x="4453" y="4037"/>
                  </a:lnTo>
                  <a:lnTo>
                    <a:pt x="4476" y="4181"/>
                  </a:lnTo>
                  <a:lnTo>
                    <a:pt x="4423" y="4248"/>
                  </a:lnTo>
                  <a:lnTo>
                    <a:pt x="4362" y="4209"/>
                  </a:lnTo>
                  <a:lnTo>
                    <a:pt x="4362" y="4133"/>
                  </a:lnTo>
                  <a:lnTo>
                    <a:pt x="4324" y="3932"/>
                  </a:lnTo>
                  <a:lnTo>
                    <a:pt x="4263" y="3894"/>
                  </a:lnTo>
                  <a:lnTo>
                    <a:pt x="4240" y="3798"/>
                  </a:lnTo>
                  <a:lnTo>
                    <a:pt x="4179" y="3798"/>
                  </a:lnTo>
                  <a:lnTo>
                    <a:pt x="4095" y="3721"/>
                  </a:lnTo>
                  <a:lnTo>
                    <a:pt x="4018" y="3750"/>
                  </a:lnTo>
                  <a:lnTo>
                    <a:pt x="3934" y="3693"/>
                  </a:lnTo>
                  <a:lnTo>
                    <a:pt x="3850" y="3750"/>
                  </a:lnTo>
                  <a:lnTo>
                    <a:pt x="3690" y="3712"/>
                  </a:lnTo>
                  <a:lnTo>
                    <a:pt x="3797" y="3855"/>
                  </a:lnTo>
                  <a:lnTo>
                    <a:pt x="3652" y="3836"/>
                  </a:lnTo>
                  <a:lnTo>
                    <a:pt x="3553" y="3721"/>
                  </a:lnTo>
                  <a:lnTo>
                    <a:pt x="3385" y="3721"/>
                  </a:lnTo>
                  <a:lnTo>
                    <a:pt x="3431" y="3894"/>
                  </a:lnTo>
                  <a:lnTo>
                    <a:pt x="3294" y="3855"/>
                  </a:lnTo>
                  <a:lnTo>
                    <a:pt x="3240" y="4037"/>
                  </a:lnTo>
                  <a:lnTo>
                    <a:pt x="3278" y="4104"/>
                  </a:lnTo>
                  <a:lnTo>
                    <a:pt x="3240" y="4286"/>
                  </a:lnTo>
                  <a:lnTo>
                    <a:pt x="3294" y="4526"/>
                  </a:lnTo>
                  <a:lnTo>
                    <a:pt x="3355" y="4669"/>
                  </a:lnTo>
                  <a:lnTo>
                    <a:pt x="3431" y="4813"/>
                  </a:lnTo>
                  <a:lnTo>
                    <a:pt x="3652" y="4803"/>
                  </a:lnTo>
                  <a:lnTo>
                    <a:pt x="3743" y="4794"/>
                  </a:lnTo>
                  <a:lnTo>
                    <a:pt x="3766" y="4669"/>
                  </a:lnTo>
                  <a:lnTo>
                    <a:pt x="3713" y="4593"/>
                  </a:lnTo>
                  <a:lnTo>
                    <a:pt x="3721" y="4526"/>
                  </a:lnTo>
                  <a:lnTo>
                    <a:pt x="3858" y="4535"/>
                  </a:lnTo>
                  <a:lnTo>
                    <a:pt x="4010" y="4516"/>
                  </a:lnTo>
                  <a:lnTo>
                    <a:pt x="4010" y="4593"/>
                  </a:lnTo>
                  <a:lnTo>
                    <a:pt x="3964" y="4727"/>
                  </a:lnTo>
                  <a:lnTo>
                    <a:pt x="3904" y="4832"/>
                  </a:lnTo>
                  <a:lnTo>
                    <a:pt x="3881" y="4975"/>
                  </a:lnTo>
                  <a:lnTo>
                    <a:pt x="3980" y="5042"/>
                  </a:lnTo>
                  <a:lnTo>
                    <a:pt x="4095" y="5033"/>
                  </a:lnTo>
                  <a:lnTo>
                    <a:pt x="4179" y="5052"/>
                  </a:lnTo>
                  <a:lnTo>
                    <a:pt x="4240" y="5052"/>
                  </a:lnTo>
                  <a:lnTo>
                    <a:pt x="4263" y="5138"/>
                  </a:lnTo>
                  <a:lnTo>
                    <a:pt x="4209" y="5291"/>
                  </a:lnTo>
                  <a:lnTo>
                    <a:pt x="4255" y="5358"/>
                  </a:lnTo>
                  <a:lnTo>
                    <a:pt x="4263" y="5530"/>
                  </a:lnTo>
                  <a:lnTo>
                    <a:pt x="4362" y="5655"/>
                  </a:lnTo>
                  <a:lnTo>
                    <a:pt x="4453" y="5674"/>
                  </a:lnTo>
                  <a:lnTo>
                    <a:pt x="4537" y="5655"/>
                  </a:lnTo>
                  <a:lnTo>
                    <a:pt x="4568" y="5664"/>
                  </a:lnTo>
                  <a:lnTo>
                    <a:pt x="4705" y="5664"/>
                  </a:lnTo>
                  <a:lnTo>
                    <a:pt x="4819" y="5674"/>
                  </a:lnTo>
                  <a:lnTo>
                    <a:pt x="4865" y="5597"/>
                  </a:lnTo>
                  <a:lnTo>
                    <a:pt x="4758" y="5731"/>
                  </a:lnTo>
                  <a:lnTo>
                    <a:pt x="4682" y="5722"/>
                  </a:lnTo>
                  <a:lnTo>
                    <a:pt x="4598" y="5731"/>
                  </a:lnTo>
                  <a:lnTo>
                    <a:pt x="4453" y="5769"/>
                  </a:lnTo>
                  <a:lnTo>
                    <a:pt x="4339" y="5702"/>
                  </a:lnTo>
                  <a:lnTo>
                    <a:pt x="4225" y="5655"/>
                  </a:lnTo>
                  <a:lnTo>
                    <a:pt x="4171" y="5664"/>
                  </a:lnTo>
                  <a:lnTo>
                    <a:pt x="4179" y="5588"/>
                  </a:lnTo>
                  <a:lnTo>
                    <a:pt x="4171" y="5463"/>
                  </a:lnTo>
                  <a:lnTo>
                    <a:pt x="4065" y="5358"/>
                  </a:lnTo>
                  <a:lnTo>
                    <a:pt x="3858" y="5310"/>
                  </a:lnTo>
                  <a:lnTo>
                    <a:pt x="3827" y="5253"/>
                  </a:lnTo>
                  <a:lnTo>
                    <a:pt x="3766" y="5272"/>
                  </a:lnTo>
                  <a:lnTo>
                    <a:pt x="3705" y="5215"/>
                  </a:lnTo>
                  <a:lnTo>
                    <a:pt x="3629" y="5157"/>
                  </a:lnTo>
                  <a:lnTo>
                    <a:pt x="3522" y="5033"/>
                  </a:lnTo>
                  <a:lnTo>
                    <a:pt x="3408" y="4975"/>
                  </a:lnTo>
                  <a:lnTo>
                    <a:pt x="3347" y="5052"/>
                  </a:lnTo>
                  <a:lnTo>
                    <a:pt x="3271" y="5004"/>
                  </a:lnTo>
                  <a:lnTo>
                    <a:pt x="3172" y="5004"/>
                  </a:lnTo>
                  <a:lnTo>
                    <a:pt x="2996" y="4947"/>
                  </a:lnTo>
                  <a:lnTo>
                    <a:pt x="2661" y="4689"/>
                  </a:lnTo>
                  <a:lnTo>
                    <a:pt x="2638" y="4430"/>
                  </a:lnTo>
                  <a:lnTo>
                    <a:pt x="2608" y="4344"/>
                  </a:lnTo>
                  <a:lnTo>
                    <a:pt x="2554" y="4248"/>
                  </a:lnTo>
                  <a:lnTo>
                    <a:pt x="2478" y="4114"/>
                  </a:lnTo>
                  <a:lnTo>
                    <a:pt x="2127" y="3616"/>
                  </a:lnTo>
                  <a:lnTo>
                    <a:pt x="2127" y="3798"/>
                  </a:lnTo>
                  <a:lnTo>
                    <a:pt x="2348" y="4142"/>
                  </a:lnTo>
                  <a:lnTo>
                    <a:pt x="2440" y="4411"/>
                  </a:lnTo>
                  <a:lnTo>
                    <a:pt x="2303" y="4354"/>
                  </a:lnTo>
                  <a:lnTo>
                    <a:pt x="2265" y="4181"/>
                  </a:lnTo>
                  <a:lnTo>
                    <a:pt x="2097" y="4085"/>
                  </a:lnTo>
                  <a:lnTo>
                    <a:pt x="2204" y="4037"/>
                  </a:lnTo>
                  <a:lnTo>
                    <a:pt x="1960" y="3836"/>
                  </a:lnTo>
                  <a:lnTo>
                    <a:pt x="2059" y="3721"/>
                  </a:lnTo>
                  <a:lnTo>
                    <a:pt x="1982" y="3521"/>
                  </a:lnTo>
                  <a:lnTo>
                    <a:pt x="1700" y="3090"/>
                  </a:lnTo>
                  <a:lnTo>
                    <a:pt x="1662" y="2851"/>
                  </a:lnTo>
                  <a:lnTo>
                    <a:pt x="1678" y="2631"/>
                  </a:lnTo>
                  <a:lnTo>
                    <a:pt x="1754" y="2449"/>
                  </a:lnTo>
                  <a:lnTo>
                    <a:pt x="1754" y="2239"/>
                  </a:lnTo>
                  <a:lnTo>
                    <a:pt x="1700" y="2105"/>
                  </a:lnTo>
                  <a:lnTo>
                    <a:pt x="1853" y="2067"/>
                  </a:lnTo>
                  <a:lnTo>
                    <a:pt x="1662" y="1827"/>
                  </a:lnTo>
                  <a:lnTo>
                    <a:pt x="1678" y="1713"/>
                  </a:lnTo>
                  <a:lnTo>
                    <a:pt x="1594" y="1550"/>
                  </a:lnTo>
                  <a:lnTo>
                    <a:pt x="1624" y="1454"/>
                  </a:lnTo>
                  <a:lnTo>
                    <a:pt x="1563" y="1406"/>
                  </a:lnTo>
                  <a:lnTo>
                    <a:pt x="1563" y="1310"/>
                  </a:lnTo>
                  <a:lnTo>
                    <a:pt x="1495" y="1214"/>
                  </a:lnTo>
                  <a:lnTo>
                    <a:pt x="1563" y="1147"/>
                  </a:lnTo>
                  <a:lnTo>
                    <a:pt x="1487" y="1109"/>
                  </a:lnTo>
                  <a:lnTo>
                    <a:pt x="1388" y="1176"/>
                  </a:lnTo>
                  <a:lnTo>
                    <a:pt x="1295" y="1023"/>
                  </a:lnTo>
                  <a:lnTo>
                    <a:pt x="1166" y="975"/>
                  </a:lnTo>
                  <a:lnTo>
                    <a:pt x="1013" y="975"/>
                  </a:lnTo>
                  <a:lnTo>
                    <a:pt x="907" y="1109"/>
                  </a:lnTo>
                  <a:lnTo>
                    <a:pt x="853" y="1090"/>
                  </a:lnTo>
                  <a:lnTo>
                    <a:pt x="937" y="899"/>
                  </a:lnTo>
                  <a:lnTo>
                    <a:pt x="853" y="937"/>
                  </a:lnTo>
                  <a:lnTo>
                    <a:pt x="693" y="1109"/>
                  </a:lnTo>
                  <a:lnTo>
                    <a:pt x="518" y="1281"/>
                  </a:lnTo>
                  <a:lnTo>
                    <a:pt x="365" y="1339"/>
                  </a:lnTo>
                  <a:lnTo>
                    <a:pt x="91" y="1483"/>
                  </a:lnTo>
                  <a:lnTo>
                    <a:pt x="0" y="1483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3480" y="1494000"/>
              <a:ext cx="652680" cy="525960"/>
            </a:xfrm>
            <a:custGeom>
              <a:avLst/>
              <a:gdLst/>
              <a:ahLst/>
              <a:rect l="0" t="0" r="r" b="b"/>
              <a:pathLst>
                <a:path w="1813" h="1461">
                  <a:moveTo>
                    <a:pt x="0" y="286"/>
                  </a:moveTo>
                  <a:lnTo>
                    <a:pt x="37" y="184"/>
                  </a:lnTo>
                  <a:lnTo>
                    <a:pt x="37" y="101"/>
                  </a:lnTo>
                  <a:lnTo>
                    <a:pt x="89" y="0"/>
                  </a:lnTo>
                  <a:lnTo>
                    <a:pt x="419" y="55"/>
                  </a:lnTo>
                  <a:lnTo>
                    <a:pt x="982" y="184"/>
                  </a:lnTo>
                  <a:lnTo>
                    <a:pt x="1214" y="295"/>
                  </a:lnTo>
                  <a:lnTo>
                    <a:pt x="1498" y="398"/>
                  </a:lnTo>
                  <a:lnTo>
                    <a:pt x="1656" y="582"/>
                  </a:lnTo>
                  <a:lnTo>
                    <a:pt x="1813" y="693"/>
                  </a:lnTo>
                  <a:lnTo>
                    <a:pt x="1745" y="758"/>
                  </a:lnTo>
                  <a:lnTo>
                    <a:pt x="1745" y="850"/>
                  </a:lnTo>
                  <a:lnTo>
                    <a:pt x="1686" y="860"/>
                  </a:lnTo>
                  <a:lnTo>
                    <a:pt x="1641" y="952"/>
                  </a:lnTo>
                  <a:lnTo>
                    <a:pt x="1686" y="1026"/>
                  </a:lnTo>
                  <a:lnTo>
                    <a:pt x="1686" y="1081"/>
                  </a:lnTo>
                  <a:lnTo>
                    <a:pt x="1626" y="1184"/>
                  </a:lnTo>
                  <a:lnTo>
                    <a:pt x="1633" y="1249"/>
                  </a:lnTo>
                  <a:lnTo>
                    <a:pt x="1738" y="1350"/>
                  </a:lnTo>
                  <a:lnTo>
                    <a:pt x="1738" y="1415"/>
                  </a:lnTo>
                  <a:lnTo>
                    <a:pt x="1716" y="1452"/>
                  </a:lnTo>
                  <a:lnTo>
                    <a:pt x="1603" y="1461"/>
                  </a:lnTo>
                  <a:lnTo>
                    <a:pt x="1543" y="1424"/>
                  </a:lnTo>
                  <a:lnTo>
                    <a:pt x="1461" y="1332"/>
                  </a:lnTo>
                  <a:lnTo>
                    <a:pt x="1431" y="1332"/>
                  </a:lnTo>
                  <a:lnTo>
                    <a:pt x="1386" y="1267"/>
                  </a:lnTo>
                  <a:lnTo>
                    <a:pt x="1334" y="1165"/>
                  </a:lnTo>
                  <a:lnTo>
                    <a:pt x="1296" y="1119"/>
                  </a:lnTo>
                  <a:lnTo>
                    <a:pt x="1191" y="1063"/>
                  </a:lnTo>
                  <a:lnTo>
                    <a:pt x="1094" y="1017"/>
                  </a:lnTo>
                  <a:lnTo>
                    <a:pt x="959" y="915"/>
                  </a:lnTo>
                  <a:lnTo>
                    <a:pt x="914" y="823"/>
                  </a:lnTo>
                  <a:lnTo>
                    <a:pt x="922" y="767"/>
                  </a:lnTo>
                  <a:lnTo>
                    <a:pt x="974" y="721"/>
                  </a:lnTo>
                  <a:lnTo>
                    <a:pt x="929" y="638"/>
                  </a:lnTo>
                  <a:lnTo>
                    <a:pt x="876" y="693"/>
                  </a:lnTo>
                  <a:lnTo>
                    <a:pt x="793" y="582"/>
                  </a:lnTo>
                  <a:lnTo>
                    <a:pt x="778" y="638"/>
                  </a:lnTo>
                  <a:lnTo>
                    <a:pt x="711" y="638"/>
                  </a:lnTo>
                  <a:lnTo>
                    <a:pt x="689" y="601"/>
                  </a:lnTo>
                  <a:lnTo>
                    <a:pt x="689" y="536"/>
                  </a:lnTo>
                  <a:lnTo>
                    <a:pt x="659" y="490"/>
                  </a:lnTo>
                  <a:lnTo>
                    <a:pt x="606" y="499"/>
                  </a:lnTo>
                  <a:lnTo>
                    <a:pt x="546" y="388"/>
                  </a:lnTo>
                  <a:lnTo>
                    <a:pt x="509" y="370"/>
                  </a:lnTo>
                  <a:lnTo>
                    <a:pt x="411" y="323"/>
                  </a:lnTo>
                  <a:lnTo>
                    <a:pt x="269" y="351"/>
                  </a:lnTo>
                  <a:lnTo>
                    <a:pt x="119" y="323"/>
                  </a:lnTo>
                  <a:lnTo>
                    <a:pt x="0" y="286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0280" y="1687680"/>
              <a:ext cx="405000" cy="257400"/>
            </a:xfrm>
            <a:custGeom>
              <a:avLst/>
              <a:gdLst/>
              <a:ahLst/>
              <a:rect l="0" t="0" r="r" b="b"/>
              <a:pathLst>
                <a:path w="1125" h="715">
                  <a:moveTo>
                    <a:pt x="29" y="0"/>
                  </a:moveTo>
                  <a:lnTo>
                    <a:pt x="0" y="44"/>
                  </a:lnTo>
                  <a:lnTo>
                    <a:pt x="0" y="114"/>
                  </a:lnTo>
                  <a:lnTo>
                    <a:pt x="73" y="194"/>
                  </a:lnTo>
                  <a:lnTo>
                    <a:pt x="109" y="176"/>
                  </a:lnTo>
                  <a:lnTo>
                    <a:pt x="146" y="202"/>
                  </a:lnTo>
                  <a:lnTo>
                    <a:pt x="197" y="220"/>
                  </a:lnTo>
                  <a:lnTo>
                    <a:pt x="211" y="167"/>
                  </a:lnTo>
                  <a:lnTo>
                    <a:pt x="335" y="176"/>
                  </a:lnTo>
                  <a:lnTo>
                    <a:pt x="343" y="220"/>
                  </a:lnTo>
                  <a:lnTo>
                    <a:pt x="394" y="238"/>
                  </a:lnTo>
                  <a:lnTo>
                    <a:pt x="489" y="229"/>
                  </a:lnTo>
                  <a:lnTo>
                    <a:pt x="518" y="264"/>
                  </a:lnTo>
                  <a:lnTo>
                    <a:pt x="554" y="273"/>
                  </a:lnTo>
                  <a:lnTo>
                    <a:pt x="599" y="352"/>
                  </a:lnTo>
                  <a:lnTo>
                    <a:pt x="599" y="424"/>
                  </a:lnTo>
                  <a:lnTo>
                    <a:pt x="570" y="433"/>
                  </a:lnTo>
                  <a:lnTo>
                    <a:pt x="577" y="477"/>
                  </a:lnTo>
                  <a:lnTo>
                    <a:pt x="540" y="521"/>
                  </a:lnTo>
                  <a:lnTo>
                    <a:pt x="540" y="591"/>
                  </a:lnTo>
                  <a:lnTo>
                    <a:pt x="607" y="591"/>
                  </a:lnTo>
                  <a:lnTo>
                    <a:pt x="650" y="574"/>
                  </a:lnTo>
                  <a:lnTo>
                    <a:pt x="672" y="538"/>
                  </a:lnTo>
                  <a:lnTo>
                    <a:pt x="687" y="574"/>
                  </a:lnTo>
                  <a:lnTo>
                    <a:pt x="731" y="547"/>
                  </a:lnTo>
                  <a:lnTo>
                    <a:pt x="818" y="591"/>
                  </a:lnTo>
                  <a:lnTo>
                    <a:pt x="869" y="653"/>
                  </a:lnTo>
                  <a:lnTo>
                    <a:pt x="891" y="653"/>
                  </a:lnTo>
                  <a:lnTo>
                    <a:pt x="891" y="697"/>
                  </a:lnTo>
                  <a:lnTo>
                    <a:pt x="950" y="715"/>
                  </a:lnTo>
                  <a:lnTo>
                    <a:pt x="1023" y="715"/>
                  </a:lnTo>
                  <a:lnTo>
                    <a:pt x="972" y="680"/>
                  </a:lnTo>
                  <a:lnTo>
                    <a:pt x="994" y="644"/>
                  </a:lnTo>
                  <a:lnTo>
                    <a:pt x="1045" y="680"/>
                  </a:lnTo>
                  <a:lnTo>
                    <a:pt x="1096" y="680"/>
                  </a:lnTo>
                  <a:lnTo>
                    <a:pt x="1103" y="636"/>
                  </a:lnTo>
                  <a:lnTo>
                    <a:pt x="1052" y="591"/>
                  </a:lnTo>
                  <a:lnTo>
                    <a:pt x="1015" y="591"/>
                  </a:lnTo>
                  <a:lnTo>
                    <a:pt x="950" y="521"/>
                  </a:lnTo>
                  <a:lnTo>
                    <a:pt x="1015" y="521"/>
                  </a:lnTo>
                  <a:lnTo>
                    <a:pt x="1052" y="574"/>
                  </a:lnTo>
                  <a:lnTo>
                    <a:pt x="1125" y="574"/>
                  </a:lnTo>
                  <a:lnTo>
                    <a:pt x="1103" y="512"/>
                  </a:lnTo>
                  <a:lnTo>
                    <a:pt x="1045" y="450"/>
                  </a:lnTo>
                  <a:lnTo>
                    <a:pt x="994" y="433"/>
                  </a:lnTo>
                  <a:lnTo>
                    <a:pt x="921" y="380"/>
                  </a:lnTo>
                  <a:lnTo>
                    <a:pt x="840" y="362"/>
                  </a:lnTo>
                  <a:lnTo>
                    <a:pt x="760" y="326"/>
                  </a:lnTo>
                  <a:lnTo>
                    <a:pt x="709" y="238"/>
                  </a:lnTo>
                  <a:lnTo>
                    <a:pt x="672" y="114"/>
                  </a:lnTo>
                  <a:lnTo>
                    <a:pt x="607" y="114"/>
                  </a:lnTo>
                  <a:lnTo>
                    <a:pt x="599" y="97"/>
                  </a:lnTo>
                  <a:lnTo>
                    <a:pt x="554" y="105"/>
                  </a:lnTo>
                  <a:lnTo>
                    <a:pt x="503" y="61"/>
                  </a:lnTo>
                  <a:lnTo>
                    <a:pt x="416" y="35"/>
                  </a:lnTo>
                  <a:lnTo>
                    <a:pt x="372" y="61"/>
                  </a:lnTo>
                  <a:lnTo>
                    <a:pt x="284" y="35"/>
                  </a:lnTo>
                  <a:lnTo>
                    <a:pt x="226" y="35"/>
                  </a:lnTo>
                  <a:lnTo>
                    <a:pt x="211" y="8"/>
                  </a:lnTo>
                  <a:lnTo>
                    <a:pt x="175" y="0"/>
                  </a:lnTo>
                  <a:lnTo>
                    <a:pt x="146" y="8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38240" y="3279600"/>
              <a:ext cx="286200" cy="92520"/>
            </a:xfrm>
            <a:custGeom>
              <a:avLst/>
              <a:gdLst/>
              <a:ahLst/>
              <a:rect l="0" t="0" r="r" b="b"/>
              <a:pathLst>
                <a:path w="795" h="257">
                  <a:moveTo>
                    <a:pt x="0" y="132"/>
                  </a:moveTo>
                  <a:lnTo>
                    <a:pt x="78" y="43"/>
                  </a:lnTo>
                  <a:lnTo>
                    <a:pt x="107" y="43"/>
                  </a:lnTo>
                  <a:lnTo>
                    <a:pt x="157" y="7"/>
                  </a:lnTo>
                  <a:lnTo>
                    <a:pt x="222" y="7"/>
                  </a:lnTo>
                  <a:lnTo>
                    <a:pt x="236" y="0"/>
                  </a:lnTo>
                  <a:lnTo>
                    <a:pt x="258" y="0"/>
                  </a:lnTo>
                  <a:lnTo>
                    <a:pt x="337" y="43"/>
                  </a:lnTo>
                  <a:lnTo>
                    <a:pt x="365" y="74"/>
                  </a:lnTo>
                  <a:lnTo>
                    <a:pt x="387" y="51"/>
                  </a:lnTo>
                  <a:lnTo>
                    <a:pt x="437" y="95"/>
                  </a:lnTo>
                  <a:lnTo>
                    <a:pt x="480" y="95"/>
                  </a:lnTo>
                  <a:lnTo>
                    <a:pt x="523" y="125"/>
                  </a:lnTo>
                  <a:lnTo>
                    <a:pt x="565" y="132"/>
                  </a:lnTo>
                  <a:lnTo>
                    <a:pt x="565" y="176"/>
                  </a:lnTo>
                  <a:lnTo>
                    <a:pt x="667" y="176"/>
                  </a:lnTo>
                  <a:lnTo>
                    <a:pt x="695" y="206"/>
                  </a:lnTo>
                  <a:lnTo>
                    <a:pt x="752" y="206"/>
                  </a:lnTo>
                  <a:lnTo>
                    <a:pt x="795" y="257"/>
                  </a:lnTo>
                  <a:lnTo>
                    <a:pt x="774" y="257"/>
                  </a:lnTo>
                  <a:lnTo>
                    <a:pt x="752" y="243"/>
                  </a:lnTo>
                  <a:lnTo>
                    <a:pt x="745" y="235"/>
                  </a:lnTo>
                  <a:lnTo>
                    <a:pt x="695" y="243"/>
                  </a:lnTo>
                  <a:lnTo>
                    <a:pt x="667" y="257"/>
                  </a:lnTo>
                  <a:lnTo>
                    <a:pt x="638" y="257"/>
                  </a:lnTo>
                  <a:lnTo>
                    <a:pt x="558" y="257"/>
                  </a:lnTo>
                  <a:lnTo>
                    <a:pt x="523" y="257"/>
                  </a:lnTo>
                  <a:lnTo>
                    <a:pt x="523" y="235"/>
                  </a:lnTo>
                  <a:lnTo>
                    <a:pt x="437" y="176"/>
                  </a:lnTo>
                  <a:lnTo>
                    <a:pt x="437" y="132"/>
                  </a:lnTo>
                  <a:lnTo>
                    <a:pt x="365" y="132"/>
                  </a:lnTo>
                  <a:lnTo>
                    <a:pt x="329" y="125"/>
                  </a:lnTo>
                  <a:lnTo>
                    <a:pt x="308" y="132"/>
                  </a:lnTo>
                  <a:lnTo>
                    <a:pt x="287" y="110"/>
                  </a:lnTo>
                  <a:lnTo>
                    <a:pt x="258" y="110"/>
                  </a:lnTo>
                  <a:lnTo>
                    <a:pt x="258" y="58"/>
                  </a:lnTo>
                  <a:lnTo>
                    <a:pt x="236" y="43"/>
                  </a:lnTo>
                  <a:lnTo>
                    <a:pt x="171" y="51"/>
                  </a:lnTo>
                  <a:lnTo>
                    <a:pt x="121" y="110"/>
                  </a:lnTo>
                  <a:lnTo>
                    <a:pt x="71" y="125"/>
                  </a:lnTo>
                  <a:lnTo>
                    <a:pt x="0" y="132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9680" y="33703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171"/>
                  </a:moveTo>
                  <a:lnTo>
                    <a:pt x="41" y="178"/>
                  </a:lnTo>
                  <a:lnTo>
                    <a:pt x="138" y="171"/>
                  </a:lnTo>
                  <a:lnTo>
                    <a:pt x="193" y="207"/>
                  </a:lnTo>
                  <a:lnTo>
                    <a:pt x="241" y="221"/>
                  </a:lnTo>
                  <a:lnTo>
                    <a:pt x="282" y="171"/>
                  </a:lnTo>
                  <a:lnTo>
                    <a:pt x="261" y="150"/>
                  </a:lnTo>
                  <a:lnTo>
                    <a:pt x="289" y="143"/>
                  </a:lnTo>
                  <a:lnTo>
                    <a:pt x="358" y="171"/>
                  </a:lnTo>
                  <a:lnTo>
                    <a:pt x="407" y="171"/>
                  </a:lnTo>
                  <a:lnTo>
                    <a:pt x="407" y="143"/>
                  </a:lnTo>
                  <a:lnTo>
                    <a:pt x="434" y="143"/>
                  </a:lnTo>
                  <a:lnTo>
                    <a:pt x="482" y="114"/>
                  </a:lnTo>
                  <a:lnTo>
                    <a:pt x="441" y="114"/>
                  </a:lnTo>
                  <a:lnTo>
                    <a:pt x="441" y="64"/>
                  </a:lnTo>
                  <a:lnTo>
                    <a:pt x="441" y="28"/>
                  </a:lnTo>
                  <a:lnTo>
                    <a:pt x="386" y="21"/>
                  </a:lnTo>
                  <a:lnTo>
                    <a:pt x="337" y="28"/>
                  </a:lnTo>
                  <a:lnTo>
                    <a:pt x="282" y="28"/>
                  </a:lnTo>
                  <a:lnTo>
                    <a:pt x="220" y="21"/>
                  </a:lnTo>
                  <a:lnTo>
                    <a:pt x="165" y="0"/>
                  </a:lnTo>
                  <a:lnTo>
                    <a:pt x="138" y="21"/>
                  </a:lnTo>
                  <a:lnTo>
                    <a:pt x="138" y="64"/>
                  </a:lnTo>
                  <a:lnTo>
                    <a:pt x="89" y="64"/>
                  </a:lnTo>
                  <a:lnTo>
                    <a:pt x="68" y="114"/>
                  </a:lnTo>
                  <a:lnTo>
                    <a:pt x="41" y="129"/>
                  </a:lnTo>
                  <a:lnTo>
                    <a:pt x="0" y="171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87640" y="3689280"/>
              <a:ext cx="1219680" cy="2273760"/>
            </a:xfrm>
            <a:custGeom>
              <a:avLst/>
              <a:gdLst/>
              <a:ahLst/>
              <a:rect l="0" t="0" r="r" b="b"/>
              <a:pathLst>
                <a:path w="3388" h="6316">
                  <a:moveTo>
                    <a:pt x="265" y="277"/>
                  </a:moveTo>
                  <a:lnTo>
                    <a:pt x="295" y="210"/>
                  </a:lnTo>
                  <a:lnTo>
                    <a:pt x="378" y="105"/>
                  </a:lnTo>
                  <a:lnTo>
                    <a:pt x="507" y="38"/>
                  </a:lnTo>
                  <a:lnTo>
                    <a:pt x="575" y="0"/>
                  </a:lnTo>
                  <a:lnTo>
                    <a:pt x="628" y="9"/>
                  </a:lnTo>
                  <a:lnTo>
                    <a:pt x="621" y="66"/>
                  </a:lnTo>
                  <a:lnTo>
                    <a:pt x="545" y="114"/>
                  </a:lnTo>
                  <a:lnTo>
                    <a:pt x="522" y="220"/>
                  </a:lnTo>
                  <a:lnTo>
                    <a:pt x="545" y="287"/>
                  </a:lnTo>
                  <a:lnTo>
                    <a:pt x="598" y="287"/>
                  </a:lnTo>
                  <a:lnTo>
                    <a:pt x="628" y="210"/>
                  </a:lnTo>
                  <a:lnTo>
                    <a:pt x="651" y="114"/>
                  </a:lnTo>
                  <a:lnTo>
                    <a:pt x="704" y="133"/>
                  </a:lnTo>
                  <a:lnTo>
                    <a:pt x="742" y="191"/>
                  </a:lnTo>
                  <a:lnTo>
                    <a:pt x="818" y="181"/>
                  </a:lnTo>
                  <a:lnTo>
                    <a:pt x="879" y="220"/>
                  </a:lnTo>
                  <a:lnTo>
                    <a:pt x="902" y="258"/>
                  </a:lnTo>
                  <a:lnTo>
                    <a:pt x="1016" y="248"/>
                  </a:lnTo>
                  <a:lnTo>
                    <a:pt x="1266" y="220"/>
                  </a:lnTo>
                  <a:lnTo>
                    <a:pt x="1364" y="392"/>
                  </a:lnTo>
                  <a:lnTo>
                    <a:pt x="1508" y="459"/>
                  </a:lnTo>
                  <a:lnTo>
                    <a:pt x="1501" y="526"/>
                  </a:lnTo>
                  <a:lnTo>
                    <a:pt x="1584" y="497"/>
                  </a:lnTo>
                  <a:lnTo>
                    <a:pt x="1645" y="497"/>
                  </a:lnTo>
                  <a:lnTo>
                    <a:pt x="1728" y="564"/>
                  </a:lnTo>
                  <a:lnTo>
                    <a:pt x="1842" y="554"/>
                  </a:lnTo>
                  <a:lnTo>
                    <a:pt x="1940" y="564"/>
                  </a:lnTo>
                  <a:lnTo>
                    <a:pt x="2076" y="698"/>
                  </a:lnTo>
                  <a:lnTo>
                    <a:pt x="2243" y="870"/>
                  </a:lnTo>
                  <a:lnTo>
                    <a:pt x="2319" y="1071"/>
                  </a:lnTo>
                  <a:lnTo>
                    <a:pt x="2251" y="1205"/>
                  </a:lnTo>
                  <a:lnTo>
                    <a:pt x="2455" y="1243"/>
                  </a:lnTo>
                  <a:lnTo>
                    <a:pt x="2767" y="1329"/>
                  </a:lnTo>
                  <a:lnTo>
                    <a:pt x="3093" y="1396"/>
                  </a:lnTo>
                  <a:lnTo>
                    <a:pt x="3290" y="1569"/>
                  </a:lnTo>
                  <a:lnTo>
                    <a:pt x="3388" y="1723"/>
                  </a:lnTo>
                  <a:lnTo>
                    <a:pt x="3388" y="1914"/>
                  </a:lnTo>
                  <a:lnTo>
                    <a:pt x="3305" y="2086"/>
                  </a:lnTo>
                  <a:lnTo>
                    <a:pt x="3221" y="2182"/>
                  </a:lnTo>
                  <a:lnTo>
                    <a:pt x="3153" y="2258"/>
                  </a:lnTo>
                  <a:lnTo>
                    <a:pt x="3093" y="2392"/>
                  </a:lnTo>
                  <a:lnTo>
                    <a:pt x="3085" y="2498"/>
                  </a:lnTo>
                  <a:lnTo>
                    <a:pt x="3093" y="2632"/>
                  </a:lnTo>
                  <a:lnTo>
                    <a:pt x="3055" y="2794"/>
                  </a:lnTo>
                  <a:lnTo>
                    <a:pt x="3017" y="2823"/>
                  </a:lnTo>
                  <a:lnTo>
                    <a:pt x="2987" y="2909"/>
                  </a:lnTo>
                  <a:lnTo>
                    <a:pt x="2926" y="2976"/>
                  </a:lnTo>
                  <a:lnTo>
                    <a:pt x="2918" y="3043"/>
                  </a:lnTo>
                  <a:lnTo>
                    <a:pt x="2850" y="3120"/>
                  </a:lnTo>
                  <a:lnTo>
                    <a:pt x="2737" y="3254"/>
                  </a:lnTo>
                  <a:lnTo>
                    <a:pt x="2631" y="3311"/>
                  </a:lnTo>
                  <a:lnTo>
                    <a:pt x="2570" y="3292"/>
                  </a:lnTo>
                  <a:lnTo>
                    <a:pt x="2440" y="3387"/>
                  </a:lnTo>
                  <a:lnTo>
                    <a:pt x="2326" y="3521"/>
                  </a:lnTo>
                  <a:lnTo>
                    <a:pt x="2281" y="3598"/>
                  </a:lnTo>
                  <a:lnTo>
                    <a:pt x="2281" y="3675"/>
                  </a:lnTo>
                  <a:lnTo>
                    <a:pt x="2326" y="3770"/>
                  </a:lnTo>
                  <a:lnTo>
                    <a:pt x="2251" y="3866"/>
                  </a:lnTo>
                  <a:lnTo>
                    <a:pt x="2251" y="3933"/>
                  </a:lnTo>
                  <a:lnTo>
                    <a:pt x="2160" y="4038"/>
                  </a:lnTo>
                  <a:lnTo>
                    <a:pt x="2099" y="4076"/>
                  </a:lnTo>
                  <a:lnTo>
                    <a:pt x="2031" y="4172"/>
                  </a:lnTo>
                  <a:lnTo>
                    <a:pt x="2008" y="4277"/>
                  </a:lnTo>
                  <a:lnTo>
                    <a:pt x="1917" y="4383"/>
                  </a:lnTo>
                  <a:lnTo>
                    <a:pt x="1895" y="4363"/>
                  </a:lnTo>
                  <a:lnTo>
                    <a:pt x="1826" y="4363"/>
                  </a:lnTo>
                  <a:lnTo>
                    <a:pt x="1736" y="4411"/>
                  </a:lnTo>
                  <a:lnTo>
                    <a:pt x="1804" y="4459"/>
                  </a:lnTo>
                  <a:lnTo>
                    <a:pt x="1804" y="4564"/>
                  </a:lnTo>
                  <a:lnTo>
                    <a:pt x="1804" y="4631"/>
                  </a:lnTo>
                  <a:lnTo>
                    <a:pt x="1758" y="4698"/>
                  </a:lnTo>
                  <a:lnTo>
                    <a:pt x="1645" y="4727"/>
                  </a:lnTo>
                  <a:lnTo>
                    <a:pt x="1561" y="4757"/>
                  </a:lnTo>
                  <a:lnTo>
                    <a:pt x="1516" y="4814"/>
                  </a:lnTo>
                  <a:lnTo>
                    <a:pt x="1516" y="4919"/>
                  </a:lnTo>
                  <a:lnTo>
                    <a:pt x="1425" y="4938"/>
                  </a:lnTo>
                  <a:lnTo>
                    <a:pt x="1342" y="4919"/>
                  </a:lnTo>
                  <a:lnTo>
                    <a:pt x="1319" y="4977"/>
                  </a:lnTo>
                  <a:lnTo>
                    <a:pt x="1364" y="5025"/>
                  </a:lnTo>
                  <a:lnTo>
                    <a:pt x="1342" y="5159"/>
                  </a:lnTo>
                  <a:lnTo>
                    <a:pt x="1296" y="5292"/>
                  </a:lnTo>
                  <a:lnTo>
                    <a:pt x="1190" y="5292"/>
                  </a:lnTo>
                  <a:lnTo>
                    <a:pt x="1152" y="5359"/>
                  </a:lnTo>
                  <a:lnTo>
                    <a:pt x="1160" y="5465"/>
                  </a:lnTo>
                  <a:lnTo>
                    <a:pt x="1235" y="5465"/>
                  </a:lnTo>
                  <a:lnTo>
                    <a:pt x="1266" y="5522"/>
                  </a:lnTo>
                  <a:lnTo>
                    <a:pt x="1243" y="5627"/>
                  </a:lnTo>
                  <a:lnTo>
                    <a:pt x="1182" y="5627"/>
                  </a:lnTo>
                  <a:lnTo>
                    <a:pt x="1099" y="5675"/>
                  </a:lnTo>
                  <a:lnTo>
                    <a:pt x="1069" y="5752"/>
                  </a:lnTo>
                  <a:lnTo>
                    <a:pt x="1069" y="5886"/>
                  </a:lnTo>
                  <a:lnTo>
                    <a:pt x="1008" y="5943"/>
                  </a:lnTo>
                  <a:lnTo>
                    <a:pt x="1205" y="6154"/>
                  </a:lnTo>
                  <a:lnTo>
                    <a:pt x="1266" y="6249"/>
                  </a:lnTo>
                  <a:lnTo>
                    <a:pt x="1235" y="6316"/>
                  </a:lnTo>
                  <a:lnTo>
                    <a:pt x="1152" y="6268"/>
                  </a:lnTo>
                  <a:lnTo>
                    <a:pt x="1069" y="6192"/>
                  </a:lnTo>
                  <a:lnTo>
                    <a:pt x="963" y="6125"/>
                  </a:lnTo>
                  <a:lnTo>
                    <a:pt x="864" y="6020"/>
                  </a:lnTo>
                  <a:lnTo>
                    <a:pt x="787" y="5914"/>
                  </a:lnTo>
                  <a:lnTo>
                    <a:pt x="787" y="5800"/>
                  </a:lnTo>
                  <a:lnTo>
                    <a:pt x="795" y="5713"/>
                  </a:lnTo>
                  <a:lnTo>
                    <a:pt x="787" y="5044"/>
                  </a:lnTo>
                  <a:lnTo>
                    <a:pt x="765" y="4919"/>
                  </a:lnTo>
                  <a:lnTo>
                    <a:pt x="704" y="4776"/>
                  </a:lnTo>
                  <a:lnTo>
                    <a:pt x="704" y="4670"/>
                  </a:lnTo>
                  <a:lnTo>
                    <a:pt x="742" y="4536"/>
                  </a:lnTo>
                  <a:lnTo>
                    <a:pt x="787" y="4363"/>
                  </a:lnTo>
                  <a:lnTo>
                    <a:pt x="765" y="4191"/>
                  </a:lnTo>
                  <a:lnTo>
                    <a:pt x="757" y="4134"/>
                  </a:lnTo>
                  <a:lnTo>
                    <a:pt x="757" y="4048"/>
                  </a:lnTo>
                  <a:lnTo>
                    <a:pt x="780" y="4000"/>
                  </a:lnTo>
                  <a:lnTo>
                    <a:pt x="787" y="3808"/>
                  </a:lnTo>
                  <a:lnTo>
                    <a:pt x="780" y="3722"/>
                  </a:lnTo>
                  <a:lnTo>
                    <a:pt x="810" y="3493"/>
                  </a:lnTo>
                  <a:lnTo>
                    <a:pt x="780" y="3292"/>
                  </a:lnTo>
                  <a:lnTo>
                    <a:pt x="795" y="3206"/>
                  </a:lnTo>
                  <a:lnTo>
                    <a:pt x="840" y="2995"/>
                  </a:lnTo>
                  <a:lnTo>
                    <a:pt x="795" y="2871"/>
                  </a:lnTo>
                  <a:lnTo>
                    <a:pt x="712" y="2775"/>
                  </a:lnTo>
                  <a:lnTo>
                    <a:pt x="704" y="2689"/>
                  </a:lnTo>
                  <a:lnTo>
                    <a:pt x="598" y="2584"/>
                  </a:lnTo>
                  <a:lnTo>
                    <a:pt x="507" y="2526"/>
                  </a:lnTo>
                  <a:lnTo>
                    <a:pt x="371" y="2498"/>
                  </a:lnTo>
                  <a:lnTo>
                    <a:pt x="295" y="2345"/>
                  </a:lnTo>
                  <a:lnTo>
                    <a:pt x="212" y="2220"/>
                  </a:lnTo>
                  <a:lnTo>
                    <a:pt x="196" y="2086"/>
                  </a:lnTo>
                  <a:lnTo>
                    <a:pt x="189" y="2000"/>
                  </a:lnTo>
                  <a:lnTo>
                    <a:pt x="166" y="1914"/>
                  </a:lnTo>
                  <a:lnTo>
                    <a:pt x="113" y="1838"/>
                  </a:lnTo>
                  <a:lnTo>
                    <a:pt x="53" y="1799"/>
                  </a:lnTo>
                  <a:lnTo>
                    <a:pt x="0" y="1723"/>
                  </a:lnTo>
                  <a:lnTo>
                    <a:pt x="53" y="1637"/>
                  </a:lnTo>
                  <a:lnTo>
                    <a:pt x="53" y="1463"/>
                  </a:lnTo>
                  <a:lnTo>
                    <a:pt x="30" y="1377"/>
                  </a:lnTo>
                  <a:lnTo>
                    <a:pt x="0" y="1272"/>
                  </a:lnTo>
                  <a:lnTo>
                    <a:pt x="30" y="1148"/>
                  </a:lnTo>
                  <a:lnTo>
                    <a:pt x="159" y="803"/>
                  </a:lnTo>
                  <a:lnTo>
                    <a:pt x="166" y="669"/>
                  </a:lnTo>
                  <a:lnTo>
                    <a:pt x="242" y="526"/>
                  </a:lnTo>
                  <a:lnTo>
                    <a:pt x="242" y="430"/>
                  </a:lnTo>
                  <a:lnTo>
                    <a:pt x="265" y="277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Database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among the world’s largest database and tools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500 people engaged in database-relate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breed products on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esktop and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3 million customers use Microsoft database product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68320" y="630360"/>
            <a:ext cx="77486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Today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New DBMS platform for the 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88840" y="2075040"/>
            <a:ext cx="80438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 to the wid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industry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duct of the Year”  - Info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10 Best Products of 1993” - PC Mag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’s strategy is compelling...” - Seyb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ith Windows NT ‘Dayton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customer accept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245360" y="2025720"/>
            <a:ext cx="1363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hallenges to Enterprise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lient-Server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ay to manage distributed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iferation of securit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es with reliabilit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still too hard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data on the deskt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89960" y="3854520"/>
            <a:ext cx="887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esponding to Customers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‘95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2392200"/>
            <a:ext cx="73342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dat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-wide system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d desktop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paralle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to very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adherence 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04880" y="13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5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5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90680" y="4308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Allch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ce Presid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ystems Divis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22200" y="2571840"/>
            <a:ext cx="7074000" cy="20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Database Directions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Distribute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High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eplication for Highly Available Systems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not extra-cost add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resili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and intuitive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site “publishes” a list of replicatio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nts “subscribe” to publish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tools for centrally managing replicate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83560" y="1533600"/>
            <a:ext cx="189396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69920" y="5049720"/>
            <a:ext cx="4970520" cy="100332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0600" y="3519360"/>
            <a:ext cx="1552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5960" y="44146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70120" y="53150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‘95’ Product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7360" y="2481120"/>
            <a:ext cx="1552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69920" y="410220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30640" y="4102200"/>
            <a:ext cx="1190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487760" y="410220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-tio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69920" y="3151080"/>
            <a:ext cx="1217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0640" y="3151080"/>
            <a:ext cx="1190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87760" y="315108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748480" y="4102200"/>
            <a:ext cx="11923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48480" y="3151080"/>
            <a:ext cx="11923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969920" y="2200320"/>
            <a:ext cx="4970520" cy="100332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and Visual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66000" y="51721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66000" y="42577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66000" y="33433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66000" y="24289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46680" y="2190600"/>
            <a:ext cx="4191120" cy="3862800"/>
            <a:chOff x="5746680" y="2190600"/>
            <a:chExt cx="4191120" cy="3862800"/>
          </a:xfrm>
        </p:grpSpPr>
        <p:sp>
          <p:nvSpPr>
            <p:cNvPr id="293" name=""/>
            <p:cNvSpPr/>
            <p:nvPr/>
          </p:nvSpPr>
          <p:spPr>
            <a:xfrm>
              <a:off x="7458120" y="2190600"/>
              <a:ext cx="1125720" cy="3862800"/>
            </a:xfrm>
            <a:custGeom>
              <a:avLst/>
              <a:gdLst/>
              <a:ahLst/>
              <a:rect l="0" t="0" r="r" b="b"/>
              <a:pathLst>
                <a:path w="3127" h="10730">
                  <a:moveTo>
                    <a:pt x="0" y="10730"/>
                  </a:moveTo>
                  <a:lnTo>
                    <a:pt x="2502" y="10730"/>
                  </a:lnTo>
                  <a:lnTo>
                    <a:pt x="3127" y="8585"/>
                  </a:lnTo>
                  <a:lnTo>
                    <a:pt x="3127" y="0"/>
                  </a:lnTo>
                  <a:lnTo>
                    <a:pt x="2502" y="2145"/>
                  </a:lnTo>
                  <a:lnTo>
                    <a:pt x="2502" y="10730"/>
                  </a:lnTo>
                  <a:lnTo>
                    <a:pt x="2502" y="2145"/>
                  </a:lnTo>
                  <a:lnTo>
                    <a:pt x="0" y="2145"/>
                  </a:lnTo>
                  <a:lnTo>
                    <a:pt x="625" y="0"/>
                  </a:lnTo>
                  <a:lnTo>
                    <a:pt x="3127" y="0"/>
                  </a:lnTo>
                  <a:lnTo>
                    <a:pt x="625" y="0"/>
                  </a:lnTo>
                  <a:lnTo>
                    <a:pt x="0" y="2145"/>
                  </a:lnTo>
                  <a:lnTo>
                    <a:pt x="0" y="10730"/>
                  </a:lnTo>
                  <a:close/>
                </a:path>
              </a:pathLst>
            </a:custGeom>
            <a:gradFill rotWithShape="0">
              <a:gsLst>
                <a:gs pos="0">
                  <a:srgbClr val="007d6e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00968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746680" y="4105440"/>
              <a:ext cx="4191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prise 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Enterprise Administratio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9280" y="2214720"/>
            <a:ext cx="7934040" cy="3790800"/>
            <a:chOff x="719280" y="2214720"/>
            <a:chExt cx="7934040" cy="3790800"/>
          </a:xfrm>
        </p:grpSpPr>
        <p:sp>
          <p:nvSpPr>
            <p:cNvPr id="297" name=""/>
            <p:cNvSpPr/>
            <p:nvPr/>
          </p:nvSpPr>
          <p:spPr>
            <a:xfrm>
              <a:off x="719280" y="2214720"/>
              <a:ext cx="2900520" cy="124308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8640" y="3538440"/>
              <a:ext cx="2890800" cy="115740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9280" y="4791240"/>
              <a:ext cx="2900520" cy="121428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1936800" y="239868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1432080" y="243684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1041480" y="256068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3770280" y="2581200"/>
              <a:ext cx="4883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Workbench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ministration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770280" y="3771720"/>
              <a:ext cx="4327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‘</a:t>
              </a: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OLE SQL’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Object interfac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770280" y="4838760"/>
              <a:ext cx="45054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QL Serve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Engine / Catalo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20840" y="3767040"/>
              <a:ext cx="1511280" cy="71136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1480" y="3979800"/>
              <a:ext cx="804960" cy="357120"/>
            </a:xfrm>
            <a:prstGeom prst="ellipse">
              <a:avLst/>
            </a:prstGeom>
            <a:gradFill rotWithShape="0">
              <a:gsLst>
                <a:gs pos="0">
                  <a:srgbClr val="e5e500"/>
                </a:gs>
                <a:gs pos="50000">
                  <a:srgbClr val="ffff00"/>
                </a:gs>
                <a:gs pos="100000">
                  <a:srgbClr val="e5e500"/>
                </a:gs>
              </a:gsLst>
              <a:lin ang="5400000"/>
            </a:gra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09760" y="3908520"/>
              <a:ext cx="803160" cy="357120"/>
            </a:xfrm>
            <a:prstGeom prst="ellipse">
              <a:avLst/>
            </a:prstGeom>
            <a:gradFill rotWithShape="0">
              <a:gsLst>
                <a:gs pos="0">
                  <a:srgbClr val="00e500"/>
                </a:gs>
                <a:gs pos="50000">
                  <a:srgbClr val="00ff00"/>
                </a:gs>
                <a:gs pos="100000">
                  <a:srgbClr val="00e500"/>
                </a:gs>
              </a:gsLst>
              <a:lin ang="5400000"/>
            </a:gradFill>
            <a:ln w="12600">
              <a:solidFill>
                <a:srgbClr val="d4a45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770280" y="5372280"/>
              <a:ext cx="4354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QL Monitor++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Schedu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353960" y="5038560"/>
              <a:ext cx="1477800" cy="720720"/>
              <a:chOff x="1353960" y="5038560"/>
              <a:chExt cx="1477800" cy="72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1353960" y="5038560"/>
                <a:ext cx="1477800" cy="720720"/>
              </a:xfrm>
              <a:prstGeom prst="round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000" y="5470560"/>
                <a:ext cx="35244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22640" y="5470560"/>
                <a:ext cx="35100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4880" y="5110200"/>
                <a:ext cx="35244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20720" y="5259240"/>
                <a:ext cx="26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20720" y="525924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28760" y="525924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03360" y="525924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engine for “lights out”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ttended backup/restore; data migration, tuning, batch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erver restart/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paging and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ing downtime to a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618240" y="1104840"/>
            <a:ext cx="23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Replic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68320" y="630360"/>
            <a:ext cx="79786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arallel DBMS Performance 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New parallel table sca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88840" y="2075040"/>
            <a:ext cx="77216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: Symmetric Server Architec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queries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query operations spread across C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read-ahead via multipl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performance for query-intensiv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43800" y="1824120"/>
            <a:ext cx="1330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68320" y="630360"/>
            <a:ext cx="7748640" cy="20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calability For Large Database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High speed parall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backup an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dump and load to multiple devices concurrentl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d back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ssed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-only media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publishing” on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-clas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put clocked at a rate of 20GB per h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DBM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tandards Support and Rich Desktop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tive referential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types that exceed ANSI standards for scale and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upport for desktop data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-based cursors with backward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ment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to Microsoft APIs transparently gain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Enhanced Database Mess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 interface for mai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startmail; xp_sendmail; xp_stop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can be mailed to SQL Ser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” OLE deskto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results can now be sent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 worksheet attach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999120" y="4575240"/>
            <a:ext cx="995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OL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63800" y="5105520"/>
            <a:ext cx="4900680" cy="86364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78000" y="3090960"/>
            <a:ext cx="3187800" cy="5317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Q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359160" y="2160720"/>
            <a:ext cx="4408560" cy="85716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532e52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/ Visu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92520" y="3090960"/>
            <a:ext cx="3171960" cy="5317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78000" y="2160720"/>
            <a:ext cx="1946160" cy="85716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532e52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78000" y="1762200"/>
            <a:ext cx="6486480" cy="3373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 (V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75080" y="4041720"/>
            <a:ext cx="721080" cy="532080"/>
          </a:xfrm>
          <a:custGeom>
            <a:avLst/>
            <a:gdLst/>
            <a:ahLst/>
            <a:rect l="0" t="0" r="r" b="b"/>
            <a:pathLst>
              <a:path w="2003" h="1478">
                <a:moveTo>
                  <a:pt x="400" y="0"/>
                </a:moveTo>
                <a:lnTo>
                  <a:pt x="1602" y="0"/>
                </a:lnTo>
                <a:lnTo>
                  <a:pt x="1602" y="1035"/>
                </a:lnTo>
                <a:lnTo>
                  <a:pt x="2003" y="1035"/>
                </a:lnTo>
                <a:lnTo>
                  <a:pt x="1002" y="1478"/>
                </a:lnTo>
                <a:lnTo>
                  <a:pt x="0" y="1035"/>
                </a:lnTo>
                <a:lnTo>
                  <a:pt x="400" y="1035"/>
                </a:lnTo>
                <a:lnTo>
                  <a:pt x="400" y="0"/>
                </a:lnTo>
                <a:close/>
              </a:path>
            </a:pathLst>
          </a:custGeom>
          <a:gradFill rotWithShape="0">
            <a:gsLst>
              <a:gs pos="0">
                <a:srgbClr val="d073c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46680" y="4041720"/>
            <a:ext cx="721080" cy="532080"/>
          </a:xfrm>
          <a:custGeom>
            <a:avLst/>
            <a:gdLst/>
            <a:ahLst/>
            <a:rect l="0" t="0" r="r" b="b"/>
            <a:pathLst>
              <a:path w="2003" h="1478">
                <a:moveTo>
                  <a:pt x="400" y="0"/>
                </a:moveTo>
                <a:lnTo>
                  <a:pt x="1602" y="0"/>
                </a:lnTo>
                <a:lnTo>
                  <a:pt x="1602" y="1035"/>
                </a:lnTo>
                <a:lnTo>
                  <a:pt x="2003" y="1035"/>
                </a:lnTo>
                <a:lnTo>
                  <a:pt x="1002" y="1478"/>
                </a:lnTo>
                <a:lnTo>
                  <a:pt x="0" y="1035"/>
                </a:lnTo>
                <a:lnTo>
                  <a:pt x="400" y="1035"/>
                </a:lnTo>
                <a:lnTo>
                  <a:pt x="400" y="0"/>
                </a:lnTo>
                <a:close/>
              </a:path>
            </a:pathLst>
          </a:custGeom>
          <a:gradFill rotWithShape="0">
            <a:gsLst>
              <a:gs pos="0">
                <a:srgbClr val="d073c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097000" y="3732120"/>
            <a:ext cx="1676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8960" y="3732120"/>
            <a:ext cx="1676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78000" y="5105520"/>
            <a:ext cx="1512720" cy="86364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78000" y="4686120"/>
            <a:ext cx="6486480" cy="33732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3e223d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 (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ntegr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Microsof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68320" y="630360"/>
            <a:ext cx="8169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Technology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3352680"/>
            <a:ext cx="223992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-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phase 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R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05120" y="3352680"/>
            <a:ext cx="28353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ad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A extende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 SQ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engine cur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3720" y="1603440"/>
            <a:ext cx="1882800" cy="121608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0508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0348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60216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3720" y="25938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605040" y="26226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Dayto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0052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68320" y="630360"/>
            <a:ext cx="8169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Technology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520" y="3352680"/>
            <a:ext cx="223992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-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phase 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R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05120" y="3352680"/>
            <a:ext cx="28353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ad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A extende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 SQ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engine cur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647040" y="3352680"/>
            <a:ext cx="242100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query/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jo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, row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-92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ro security,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 data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3720" y="1555920"/>
            <a:ext cx="1882800" cy="121608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0508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0348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60216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316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8156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1984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3720" y="25938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605040" y="26226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Dayto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24520" y="257508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Cair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0052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3100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icrosoft Database Directions for Distribut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79800" y="2773440"/>
            <a:ext cx="537696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icrosoft Database Directions for Distribut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9800" y="2773440"/>
            <a:ext cx="537696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Systems: The D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cost, no lock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close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 IBM” styl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Systems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4960" y="23702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eploy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machines = more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limited,  managemen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find info; data integ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aining, leveraging install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vendor is the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1080" y="2382840"/>
            <a:ext cx="745164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Lower cost, no lock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High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Better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Information close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Rapi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d IBM” styl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Means Busines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aking it easy for organizations large and small to get real business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30440" y="2878200"/>
            <a:ext cx="69804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haps You’ve Heard Of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40000" y="2075040"/>
            <a:ext cx="37846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/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08640" y="2075040"/>
            <a:ext cx="37846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ll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e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Step db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etTal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Sx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7021440" y="4071960"/>
              <a:ext cx="2109960" cy="27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565440" y="3922560"/>
              <a:ext cx="21495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360" y="3863880"/>
              <a:ext cx="2471760" cy="29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781440" y="7920"/>
              <a:ext cx="197964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063880" cy="27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7124760" y="7920"/>
              <a:ext cx="199692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5459400" y="1878120"/>
              <a:ext cx="201132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8"/>
            <a:stretch/>
          </p:blipFill>
          <p:spPr>
            <a:xfrm>
              <a:off x="2009880" y="1933560"/>
              <a:ext cx="2038320" cy="273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Allchin</dc:creator>
  <dc:description>800x600 res.</dc:description>
  <dc:language>en-US</dc:language>
  <cp:lastModifiedBy>TSG windows World</cp:lastModifiedBy>
  <cp:revision>0</cp:revision>
  <dc:subject>INTEROP</dc:subject>
  <dc:title>The Future Of Distributed Computing</dc:title>
</cp:coreProperties>
</file>